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2800440" y="2319480"/>
            <a:ext cx="6343560" cy="347652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-39600" y="5133960"/>
            <a:ext cx="9248760" cy="174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9"/>
          <p:cNvSpPr/>
          <p:nvPr/>
        </p:nvSpPr>
        <p:spPr>
          <a:xfrm>
            <a:off x="133200" y="139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方正大黑简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9767" r="0" b="35192"/>
          <a:stretch/>
        </p:blipFill>
        <p:spPr>
          <a:xfrm>
            <a:off x="0" y="584820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5219640" y="4933800"/>
            <a:ext cx="4094280" cy="224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78258" t="0" r="4537" b="0"/>
          <a:stretch/>
        </p:blipFill>
        <p:spPr>
          <a:xfrm>
            <a:off x="7570800" y="0"/>
            <a:ext cx="15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3"/>
          <a:srcRect l="51467" t="3459" r="22337" b="0"/>
          <a:stretch/>
        </p:blipFill>
        <p:spPr>
          <a:xfrm>
            <a:off x="7539120" y="3540240"/>
            <a:ext cx="1649160" cy="3332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20" y="6431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6040" y="784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儿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501480" y="385920"/>
            <a:ext cx="37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501480" y="385920"/>
            <a:ext cx="37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6:3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7:1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