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5B0-C6AC-437D-B17A-688EBCD7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93A5-49BE-4103-BAD5-C25991D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FE0-8D80-4EC5-B30B-8C9371F2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9DF-2F82-4303-8534-B12FC95F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2E6-C32F-45CF-A75B-D0CB6C03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33D-479F-42F6-A0BF-1699396A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899-FD5D-44BD-B721-9F7E430A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24F-DBB5-4898-8F4B-359EC021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D5C-A9E5-42D6-ACBF-F99D0743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9BB-31D2-4698-8FDD-8CBE7EB6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149-3DA0-4118-B22C-4AC21626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3B3-AE4E-42F0-B850-391416F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0EC6-90CA-4BA3-98AA-86DBCC272FF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9530-4AC1-4738-8EAC-05EA6DD2D3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9280" y="4344480"/>
            <a:ext cx="77724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汉仪大黑简"/>
                <a:ea typeface="汉仪大黑简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42920" y="6330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3160" y="698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飞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9280" y="1290240"/>
            <a:ext cx="82296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ceff"/>
                </a:solidFill>
                <a:latin typeface="Calibri"/>
              </a:rPr>
              <a:t>Slide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9280" y="190188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212840" y="49561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69680" y="527040"/>
            <a:ext cx="70167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ceff"/>
                </a:solidFill>
                <a:latin typeface="Calibri"/>
              </a:rPr>
              <a:t>Slid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69680" y="1290240"/>
            <a:ext cx="701676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0" y="6622920"/>
            <a:ext cx="7779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090-29AD-4E8B-A0E5-FB39C015C0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57:39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