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16AA-0976-4E01-90D9-9E6ED7392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F9B2-08BE-425E-AF74-B7FE6B644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61F299-EC6C-4162-BBA1-D7D434FBA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973F9E-C692-4D6C-8DA5-19A1964AC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250920" y="259920"/>
            <a:ext cx="770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49CB9B-2B4F-432E-935B-2FF1FF7C7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4619BB-55C2-4C4B-964B-97AE4BB4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BACA2D-B73E-4E69-A465-2501653E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1787AA-98BA-4002-B948-7D4E3059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F9785F-11AB-46DB-9925-37558D944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5AC64B-1F68-4E20-B6DF-AC6E95876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75FDC0-11FB-4BAC-AA2F-48597646D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152FE7-2009-4D86-B285-BE4B07361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0603-B30F-40F1-9A3D-C773F80EE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D66778-B196-468D-AC95-66C430FE7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37AAC1-218B-4B1F-A82D-686B5B437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902AF1-020E-4271-84F0-952A68A00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8831D0-A08B-4D56-A6D1-A1BD82335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250920" y="259920"/>
            <a:ext cx="770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674958-75CA-41BD-9762-0828FC8B6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791EF7-439E-4057-85B3-14C5FFC2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8EF805-D3A4-4380-A107-8476A750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02A876-F45E-49C8-9DD8-4BB83861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489A95-9879-4680-AE94-ABC92BDBF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6FB7D1-4C78-47BF-9806-57659C55E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5A68-6669-403C-ACC7-23AE63308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C92047-A776-46AF-B944-EFE1B421C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1B2C96-467B-4F4A-8165-E8EDA9C13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B2FF82-54DD-4304-BABE-1F82FEBB4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AABBEE-D41F-4BEE-8956-1363F3C38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927BE0-24DF-4A04-B745-014022E69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C74629-A999-4CC2-BC6A-D651C0327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250920" y="259920"/>
            <a:ext cx="770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F5FFA3-018D-465F-B44E-FBF14235C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21F5D5-B2F6-4AEE-BD56-AA51A428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13931F-5C32-4641-8448-815A99BF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CC9C3C-4689-4B1A-8138-E05D17B5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10C7E-7D22-4F4E-BD6E-903FA852F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7E5627-0670-480A-8B62-726039BC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CE552C-E7A7-4B7A-BEB0-73550B8F3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563303-F1DE-4D33-B78E-1BA106B6C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B51AB4-AB98-4D19-B2BB-EEEE2E636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D8631A-A7E4-4AF8-9E92-7861DCB3D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242DE3-0FA0-4241-BBE8-8147257FF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F33613-EFEE-4D4F-81AC-7836E96BE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9D9262-F01E-4469-990F-410B36A30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250920" y="259920"/>
            <a:ext cx="770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33F195-A563-4D90-ABED-E6512CAE1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9583EF-5424-4994-80BD-480A47CE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ECBC0-6345-470C-B1B0-416237BAB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100C5E-0711-4744-A1EB-E25E7CF1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5A6B14-0031-4638-9C9C-381EFB53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89964B-BCDD-442F-A459-DD043F97D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65437B-2B69-4048-B829-D507FA54C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494D49-CE20-42DD-84CB-1C5FD33CB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8F0B8-1F2C-47DB-9866-750243F54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00085-2B2D-41AF-997E-6CF301DC6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2EE52-AC76-475C-B83B-F05311B60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50920" y="259920"/>
            <a:ext cx="770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C56E0-225C-46E3-8AB2-8E84795E1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5B14D-BACF-45FD-A897-193D200F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F77F-D2C4-4759-93A0-D3F5C7FBD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C3790-1253-4C45-8BAD-39A35AB3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77545-846E-4A7F-A295-D0C5F5D9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A8EB9-1419-4CF4-9929-288085519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B8C9B-3801-44D0-BD44-CC7CAC829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CFF88-3D70-4BC9-99A6-05075D8A8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4D96E-64D3-4B4A-8630-C9F1BE651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D22F0-658C-4703-B76E-B655AC480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6847A-4F45-46EC-9A86-C0EACDE1E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C0075-C3C9-4E54-A887-4699AC1BD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8812D-A00F-4A9C-9264-C6924E00D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DBCE-2AEB-401E-A26C-655BA8995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50920" y="259920"/>
            <a:ext cx="770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1486E-617A-4392-8659-81231492B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1F1FE-74EE-4A52-B041-F10FD4FAE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D2AC0-AA86-4476-9EF8-BCBDAB2A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A252C-4702-4062-B122-F1FC33F1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E1A1D-BF20-45AA-877A-D19E8F83C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9CB4F-4797-469C-9991-3AACC9420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49988-AB68-40E5-89D0-BEBA6C781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F1EFA-6D16-4C78-8251-83967B694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86E6F-9B0C-4742-A9F8-58FB5AD01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FEBEB-206C-47F7-8040-DFD270E81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AE95-8305-4F4A-A945-4A2CF76B8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D5296-7ADC-4AAC-83C5-84730664A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6FB22-90B0-455B-AC84-EE0163BD6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250920" y="259920"/>
            <a:ext cx="770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36BE6-880D-4A93-A2D7-8908CF43C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CB698-1547-429E-B615-37A1DED0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E5A0B-7C57-4150-A844-5B1C392D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4E439-B672-4DE6-89BF-48AD4D3F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F8313-F51B-4E27-BFFB-3B86C0319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7684A-EF8B-489F-88B0-C051DFB55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2E801-9953-4B21-8C27-70B18E125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A7A20-ADB6-45C8-ADEB-448AE44FD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1BBC-A521-4EFE-92F7-82AE255C2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D8237-AF2F-4E74-A718-464728F04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0C960-B071-4855-ABF2-C4B2C87DB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935ED-0760-4199-A051-06FCB9D7D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97BE8-BECF-4B6E-AF98-2DBC601B6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250920" y="259920"/>
            <a:ext cx="770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C71E0-1345-4F08-8B57-83E768834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2266A-2C19-4CE9-8DBF-CAF808FE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35850-6B73-4D5F-8F40-B211DA2E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04E3E-4BF1-4306-A1F4-8B134858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72046-B3D9-400F-B6E7-4C758AB9F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1CA83-61BD-4776-8261-E95B07604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0920" y="259920"/>
            <a:ext cx="770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1122-D684-4564-92C9-1B20B36F7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BEF60-F72E-4966-B83E-73636639B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7188E-4243-42DB-8402-843FE15D7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D6880F-A903-4327-B9FA-E1A6F1845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71D15-A7D4-4091-8E7D-7C72FB6CB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20566-4D96-438E-B474-E6FD799C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268693-33D4-485A-88E0-B95FA1DEA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250920" y="259920"/>
            <a:ext cx="770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8A6B88-BFAB-4EF3-9276-44B8D3231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43E67-CDDD-45C8-90D5-ED780C65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BD4B3-F4A9-4881-9C69-3DDBE668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AD3D7-7198-4D2D-816F-4D7717D7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C844-1520-4714-8B7A-29DA4790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90627-29F7-4B16-9A11-688F5E5E6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09D3B-17D1-413B-9F1B-C2CC1441A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7B002B-E4EB-49C5-8260-432998A14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1DDAF-F43B-4F7A-9247-CA81489DD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C23A6F-B573-40B9-BF24-9B4575FB2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B78042-406E-4272-BC9B-8E0218370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2A98C7-AF45-4A3C-B3CD-9CAB1E80D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BD061-AFE9-474A-A677-7C75F5DBA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250920" y="259920"/>
            <a:ext cx="770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919AE-72C4-43F1-9BE1-88B38EC39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C0676-8ABF-46B6-9108-A92C3E7D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9A1E-6396-4902-BDB1-6D05651C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FC5565-80F8-43CA-9CC7-BA2890BD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72E46-CED2-41B4-8CF6-C01B1418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B1982C-644E-4DC5-80F9-070B38B5C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34C4C8-F31C-4EA5-B4D0-7BAE203BC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439AA-29E5-4B1B-BAA4-25EFFF3F5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53E0A5-D782-48ED-AF49-40D922816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E0D384-5D62-4FA3-B87B-D71AF05A0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4D7BF7-968A-4CF7-BDDE-E09775845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842AEB-72F0-4267-B3F0-C5633AE6D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ABBB49-F8F9-48DC-87FD-552FC0E3E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603E-D2AA-44E6-8948-7C9A6A2F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50920" y="259920"/>
            <a:ext cx="770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347387-3528-4A3B-B31F-6DEE8246D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ED6637-FAF8-4DB2-8630-CF096699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A4906B-50C1-491B-A9BF-A84E2B9B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F37369-533F-4E3E-A6D7-12FDEDDF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B652B5-BE55-4137-8B1B-D58EBBE44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54A8AA-574B-42C5-90F3-33D2F524B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F73147-19BF-48A4-8EB0-BA1FD16ED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519587-C044-4B28-BBD5-39C9BC573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6ABA94-8FA1-423F-A73C-4DB120FA3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DD3E38-9F4E-4F07-9590-E96E33907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cc33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c3300"/>
                </a:solidFill>
                <a:latin typeface="Times New Roman"/>
              </a:rPr>
              <a:t>素彩网</a:t>
            </a:r>
            <a:r>
              <a:rPr b="0" lang="en-US" sz="1400" spc="-1" strike="noStrike">
                <a:solidFill>
                  <a:srgbClr val="cc3300"/>
                </a:solidFill>
                <a:latin typeface="Times New Roman"/>
              </a:rPr>
              <a:t>http://www.sc115.com-ppt</a:t>
            </a:r>
            <a:r>
              <a:rPr b="0" lang="zh-CN" sz="1400" spc="-1" strike="noStrike">
                <a:solidFill>
                  <a:srgbClr val="cc3300"/>
                </a:solidFill>
                <a:latin typeface="Times New Roman"/>
              </a:rPr>
              <a:t>模板免费下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17158-CEFA-4A6F-BC9C-F8ECFAB8011F}" type="slidenum">
              <a:rPr b="0" lang="en-US" sz="1400" spc="-1" strike="noStrike">
                <a:solidFill>
                  <a:srgbClr val="cc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7" descr="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1C21E-CC0A-4B80-8859-03D135FDE331}" type="slidenum">
              <a:rPr b="0" lang="en-US" sz="1400" spc="-1" strike="noStrike">
                <a:solidFill>
                  <a:srgbClr val="cc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7" descr="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53920-FB63-48A5-9E48-5F3DB1AA651F}" type="slidenum">
              <a:rPr b="0" lang="en-US" sz="1400" spc="-1" strike="noStrike">
                <a:solidFill>
                  <a:srgbClr val="cc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7" descr="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ADC05-06D0-45A2-BE67-0C4F5DE9779A}" type="slidenum">
              <a:rPr b="0" lang="en-US" sz="1400" spc="-1" strike="noStrike">
                <a:solidFill>
                  <a:srgbClr val="cc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素彩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sc115.com-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免费下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5FCF4-9543-4255-8CED-73DBDCC76F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867D6-7495-4090-A9FE-E8379FD31F98}" type="slidenum">
              <a:rPr b="0" lang="en-US" sz="1400" spc="-1" strike="noStrike">
                <a:solidFill>
                  <a:srgbClr val="cc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7" descr="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A9CCD-1F15-445D-A622-33DBC6235E57}" type="slidenum">
              <a:rPr b="0" lang="en-US" sz="1400" spc="-1" strike="noStrike">
                <a:solidFill>
                  <a:srgbClr val="cc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7" descr="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95FED-A241-4720-9D8D-60E1366F79DC}" type="slidenum">
              <a:rPr b="0" lang="en-US" sz="1400" spc="-1" strike="noStrike">
                <a:solidFill>
                  <a:srgbClr val="cc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7" descr="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26255-4188-49E8-B494-8592C37CF051}" type="slidenum">
              <a:rPr b="0" lang="en-US" sz="1400" spc="-1" strike="noStrike">
                <a:solidFill>
                  <a:srgbClr val="cc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7" descr="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064B7-04DC-40E3-8365-4786DFAAD025}" type="slidenum">
              <a:rPr b="0" lang="en-US" sz="1400" spc="-1" strike="noStrike">
                <a:solidFill>
                  <a:srgbClr val="cc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7" descr="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F492C-26BC-41F2-B689-F2F55A2529A9}" type="slidenum">
              <a:rPr b="0" lang="en-US" sz="1400" spc="-1" strike="noStrike">
                <a:solidFill>
                  <a:srgbClr val="cc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910E6-EE2D-44B4-BBCB-DEE6E5630B52}" type="slidenum">
              <a:rPr b="0" lang="en-US" sz="1400" spc="-1" strike="noStrike">
                <a:solidFill>
                  <a:srgbClr val="cc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26560" y="4437000"/>
            <a:ext cx="701676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1116000" y="5445000"/>
            <a:ext cx="64008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6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0800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985840" y="4428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感恩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971640" y="5661000"/>
            <a:ext cx="49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1" lang="en-US" sz="14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4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1" lang="en-US" sz="14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1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EFA12-EA3C-4B1A-9206-4D2BE09CDE7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3T13:08:28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9:11:07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