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4C3-A736-43AF-B761-6BAC74B7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1C8-1FD2-4B5A-B7B9-0E26C99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93C-1B66-4999-B24E-BBD8E590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23A-3685-4B60-B22F-AE2EBAC0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8DD-D541-4CA8-A7EA-07011BD8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1D36-0CF1-4C16-8FFF-03311A51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3B13-E891-4179-BD0C-3CC4D44E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558-AB62-45CD-A845-7B95569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CE40-6D34-4FB8-B243-2BE53501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D68-3218-4AB9-9954-D5E680D2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040-F7D0-49CE-A79B-807AC802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C01-96B0-4E8E-A3F8-075B159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C90-DD12-4BE4-92B4-C51CBD4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077-748A-47A9-8762-D0892F0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EAF-9489-4918-B16B-3D5313DA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ABE-A5DC-4822-A264-4FD6B5E2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C1E-A914-4008-9A49-DF2607B8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10A-1E68-48E9-88CC-57418D4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820-96FC-4A2D-A7A8-BC0DBE5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6DA-7748-4A29-A10D-FD14BC14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343-4AD1-4DF3-A6E2-55F08B5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D87-DEA6-4ED4-AF2B-BC40318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D95-27AC-4890-B912-56E9549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2AD-A039-436F-9601-DA1A1B6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4869-177C-4930-85BC-A30D63CC9C5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DC0-A902-4DF6-97EF-78FCB57D7EAA}" type="slidenum">
              <a: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公司商务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62720" y="61189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9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9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5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9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0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0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0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1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5791320" y="3301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1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33148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333540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33526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34448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37324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9" name="Group 41"/>
          <p:cNvGrpSpPr/>
          <p:nvPr/>
        </p:nvGrpSpPr>
        <p:grpSpPr>
          <a:xfrm>
            <a:off x="1477800" y="3352680"/>
            <a:ext cx="1371240" cy="1441080"/>
            <a:chOff x="1477800" y="3352680"/>
            <a:chExt cx="1371240" cy="1441080"/>
          </a:xfrm>
        </p:grpSpPr>
        <p:sp>
          <p:nvSpPr>
            <p:cNvPr id="330" name="Oval 42"/>
            <p:cNvSpPr/>
            <p:nvPr/>
          </p:nvSpPr>
          <p:spPr>
            <a:xfrm>
              <a:off x="14778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1" name="Oval 43"/>
            <p:cNvSpPr/>
            <p:nvPr/>
          </p:nvSpPr>
          <p:spPr>
            <a:xfrm>
              <a:off x="149544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2" name="Oval 44"/>
            <p:cNvSpPr/>
            <p:nvPr/>
          </p:nvSpPr>
          <p:spPr>
            <a:xfrm>
              <a:off x="150876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3" name="Oval 45"/>
            <p:cNvSpPr/>
            <p:nvPr/>
          </p:nvSpPr>
          <p:spPr>
            <a:xfrm>
              <a:off x="158040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4" name="Text Box 46"/>
            <p:cNvSpPr/>
            <p:nvPr/>
          </p:nvSpPr>
          <p:spPr>
            <a:xfrm>
              <a:off x="17582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35" name="Oval 47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6" name="Oval 48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7" name="Oval 49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8" name="Oval 50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9" name="Oval 51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1" name="Oval 53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2" name="Oval 54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70720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5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5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6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6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7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73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4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63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5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76" name="Group 44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77" name="Oval 31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008864"/>
                </a:gs>
                <a:gs pos="100000">
                  <a:srgbClr val="00d69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83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95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96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7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8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9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0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01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07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08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9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0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1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2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13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5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6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7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8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0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2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3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4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5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0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2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35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38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39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0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1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2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43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44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49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0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53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8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9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460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2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3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4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66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67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0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73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4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5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6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7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78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79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1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2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84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85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88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2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3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96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97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500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2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3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4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5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6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7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8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09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0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2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513" name="AutoShape 89"/>
          <p:cNvCxnSpPr>
            <a:stCxn id="509" idx="3"/>
            <a:endCxn id="510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4" name="AutoShape 90"/>
          <p:cNvCxnSpPr>
            <a:stCxn id="510" idx="3"/>
            <a:endCxn id="511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5" name="AutoShape 91"/>
          <p:cNvCxnSpPr>
            <a:stCxn id="511" idx="3"/>
            <a:endCxn id="512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sp>
        <p:nvSpPr>
          <p:cNvPr id="516" name="Text Box 7"/>
          <p:cNvSpPr/>
          <p:nvPr/>
        </p:nvSpPr>
        <p:spPr>
          <a:xfrm>
            <a:off x="0" y="6523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4da6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d69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3bb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349"/>
              </a:gs>
              <a:gs pos="100000">
                <a:srgbClr val="00d69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44d76"/>
              </a:gs>
              <a:gs pos="100000">
                <a:srgbClr val="4da6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 w="5760">
                      <a:solidFill>
                        <a:srgbClr val="d1d1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529" name="Group 5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0" name="Rectangle 6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531" name="Group 6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2" name="Oval 6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3" name="Freeform 6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4" name="Text Box 6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5" name="Group 6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36" name="Group 6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37" name="Oval 6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8" name="Freeform 6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9" name="Text Box 6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0" name="Group 7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1" name="Group 7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2" name="Oval 7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3" name="Freeform 7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4" name="Text Box 7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5" name="Group 7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46" name="Group 7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47" name="Oval 7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8" name="Freeform 7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9" name="Text Box 7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2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552" name="Oval 3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404604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3" name="Freeform 14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4" name="Arc 15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722560" y="3432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3335400" y="4606920"/>
            <a:ext cx="5274720" cy="1308240"/>
            <a:chOff x="3335400" y="4606920"/>
            <a:chExt cx="5274720" cy="1308240"/>
          </a:xfrm>
        </p:grpSpPr>
        <p:sp>
          <p:nvSpPr>
            <p:cNvPr id="573" name="Freeform 4"/>
            <p:cNvSpPr/>
            <p:nvPr/>
          </p:nvSpPr>
          <p:spPr>
            <a:xfrm>
              <a:off x="7679880" y="46069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3756960" y="46069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3335400" y="51606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3849840" y="3824280"/>
            <a:ext cx="4179240" cy="1181160"/>
            <a:chOff x="3849840" y="3824280"/>
            <a:chExt cx="4179240" cy="1181160"/>
          </a:xfrm>
        </p:grpSpPr>
        <p:sp>
          <p:nvSpPr>
            <p:cNvPr id="577" name="Freeform 8"/>
            <p:cNvSpPr/>
            <p:nvPr/>
          </p:nvSpPr>
          <p:spPr>
            <a:xfrm>
              <a:off x="7206840" y="38242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4261680" y="38242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3849840" y="42382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0" name="Group 11"/>
          <p:cNvGrpSpPr/>
          <p:nvPr/>
        </p:nvGrpSpPr>
        <p:grpSpPr>
          <a:xfrm>
            <a:off x="4343400" y="3044880"/>
            <a:ext cx="3108240" cy="1027080"/>
            <a:chOff x="4343400" y="3044880"/>
            <a:chExt cx="3108240" cy="1027080"/>
          </a:xfrm>
        </p:grpSpPr>
        <p:sp>
          <p:nvSpPr>
            <p:cNvPr id="581" name="Freeform 12"/>
            <p:cNvSpPr/>
            <p:nvPr/>
          </p:nvSpPr>
          <p:spPr>
            <a:xfrm>
              <a:off x="6731640" y="30448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4762080" y="30448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4343400" y="33206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4" name="Group 15"/>
          <p:cNvGrpSpPr/>
          <p:nvPr/>
        </p:nvGrpSpPr>
        <p:grpSpPr>
          <a:xfrm>
            <a:off x="4844880" y="2257560"/>
            <a:ext cx="2025360" cy="893520"/>
            <a:chOff x="4844880" y="2257560"/>
            <a:chExt cx="2025360" cy="893520"/>
          </a:xfrm>
        </p:grpSpPr>
        <p:sp>
          <p:nvSpPr>
            <p:cNvPr id="585" name="Freeform 16"/>
            <p:cNvSpPr/>
            <p:nvPr/>
          </p:nvSpPr>
          <p:spPr>
            <a:xfrm>
              <a:off x="6250680" y="2257560"/>
              <a:ext cx="619560" cy="89352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5271480" y="22575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4844880" y="2390040"/>
              <a:ext cx="1831320" cy="76068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5342040" y="1469880"/>
            <a:ext cx="948960" cy="757440"/>
            <a:chOff x="5342040" y="1469880"/>
            <a:chExt cx="948960" cy="757440"/>
          </a:xfrm>
        </p:grpSpPr>
        <p:sp>
          <p:nvSpPr>
            <p:cNvPr id="589" name="Freeform 20"/>
            <p:cNvSpPr/>
            <p:nvPr/>
          </p:nvSpPr>
          <p:spPr>
            <a:xfrm>
              <a:off x="5766480" y="1469880"/>
              <a:ext cx="524520" cy="7574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5342040" y="1469880"/>
              <a:ext cx="850320" cy="75744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1294920" y="1560600"/>
            <a:ext cx="4419720" cy="4328640"/>
            <a:chOff x="1294920" y="1560600"/>
            <a:chExt cx="4419720" cy="4328640"/>
          </a:xfrm>
        </p:grpSpPr>
        <p:sp>
          <p:nvSpPr>
            <p:cNvPr id="592" name="Line 23"/>
            <p:cNvSpPr/>
            <p:nvPr/>
          </p:nvSpPr>
          <p:spPr>
            <a:xfrm flipH="1">
              <a:off x="1295280" y="5888160"/>
              <a:ext cx="195768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H="1">
              <a:off x="1294920" y="5015160"/>
              <a:ext cx="252612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1294920" y="4110840"/>
              <a:ext cx="296604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 flipH="1">
              <a:off x="1294920" y="3221280"/>
              <a:ext cx="3472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1294920" y="2325960"/>
              <a:ext cx="3976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 flipH="1">
              <a:off x="1295280" y="1560600"/>
              <a:ext cx="441936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98" name="Line 29"/>
          <p:cNvSpPr/>
          <p:nvPr/>
        </p:nvSpPr>
        <p:spPr>
          <a:xfrm>
            <a:off x="1582560" y="1447920"/>
            <a:ext cx="1800" cy="752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99" name="Line 30"/>
          <p:cNvSpPr/>
          <p:nvPr/>
        </p:nvSpPr>
        <p:spPr>
          <a:xfrm>
            <a:off x="1582560" y="2247840"/>
            <a:ext cx="1800" cy="887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1582560" y="318276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1" name="Line 32"/>
          <p:cNvSpPr/>
          <p:nvPr/>
        </p:nvSpPr>
        <p:spPr>
          <a:xfrm>
            <a:off x="1582560" y="411948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2" name="Line 33"/>
          <p:cNvSpPr/>
          <p:nvPr/>
        </p:nvSpPr>
        <p:spPr>
          <a:xfrm>
            <a:off x="1582560" y="5051520"/>
            <a:ext cx="1800" cy="8208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3" name="Text Box 34"/>
          <p:cNvSpPr/>
          <p:nvPr/>
        </p:nvSpPr>
        <p:spPr>
          <a:xfrm>
            <a:off x="163584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4" name="Text Box 35"/>
          <p:cNvSpPr/>
          <p:nvPr/>
        </p:nvSpPr>
        <p:spPr>
          <a:xfrm>
            <a:off x="163584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163584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163584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163584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5482440" y="184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9" name="Text Box 40"/>
          <p:cNvSpPr/>
          <p:nvPr/>
        </p:nvSpPr>
        <p:spPr>
          <a:xfrm>
            <a:off x="5482440" y="2682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0" name="Text Box 41"/>
          <p:cNvSpPr/>
          <p:nvPr/>
        </p:nvSpPr>
        <p:spPr>
          <a:xfrm>
            <a:off x="5482440" y="3597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1" name="Text Box 42"/>
          <p:cNvSpPr/>
          <p:nvPr/>
        </p:nvSpPr>
        <p:spPr>
          <a:xfrm>
            <a:off x="5482440" y="4511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5482440" y="5425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98" name="Group 4"/>
            <p:cNvGrpSpPr/>
            <p:nvPr/>
          </p:nvGrpSpPr>
          <p:grpSpPr>
            <a:xfrm>
              <a:off x="2004840" y="2771640"/>
              <a:ext cx="609840" cy="609480"/>
              <a:chOff x="2004840" y="2771640"/>
              <a:chExt cx="609840" cy="60948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044800" y="281124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208440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208764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13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08" name="Line 14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135520" y="285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12" name="Group 18"/>
            <p:cNvGrpSpPr/>
            <p:nvPr/>
          </p:nvGrpSpPr>
          <p:grpSpPr>
            <a:xfrm>
              <a:off x="2023920" y="4572000"/>
              <a:ext cx="609840" cy="609480"/>
              <a:chOff x="2023920" y="4572000"/>
              <a:chExt cx="609840" cy="609480"/>
            </a:xfrm>
          </p:grpSpPr>
          <p:sp>
            <p:nvSpPr>
              <p:cNvPr id="113" name="Oval 19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4" name="Oval 20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5" name="Oval 21"/>
              <p:cNvSpPr/>
              <p:nvPr/>
            </p:nvSpPr>
            <p:spPr>
              <a:xfrm>
                <a:off x="2063880" y="46116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6" name="Oval 22"/>
              <p:cNvSpPr/>
              <p:nvPr/>
            </p:nvSpPr>
            <p:spPr>
              <a:xfrm>
                <a:off x="210348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7" name="Oval 23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4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5"/>
              <p:cNvSpPr/>
              <p:nvPr/>
            </p:nvSpPr>
            <p:spPr>
              <a:xfrm>
                <a:off x="210672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6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7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2" name="Line 28"/>
            <p:cNvSpPr/>
            <p:nvPr/>
          </p:nvSpPr>
          <p:spPr>
            <a:xfrm>
              <a:off x="2514600" y="5140080"/>
              <a:ext cx="480060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2743200" y="460656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216396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5" name="Group 76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26" name="Line 47"/>
            <p:cNvSpPr/>
            <p:nvPr/>
          </p:nvSpPr>
          <p:spPr>
            <a:xfrm>
              <a:off x="2514600" y="2419200"/>
              <a:ext cx="480060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48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28" name="Group 62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29" name="Group 61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30" name="Text Box 50"/>
                <p:cNvSpPr/>
                <p:nvPr/>
              </p:nvSpPr>
              <p:spPr>
                <a:xfrm>
                  <a:off x="21067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1" name="Oval 51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2" name="Oval 52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3" name="Oval 53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4"/>
                <p:cNvSpPr/>
                <p:nvPr/>
              </p:nvSpPr>
              <p:spPr>
                <a:xfrm>
                  <a:off x="2019240" y="19432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5"/>
                <p:cNvSpPr/>
                <p:nvPr/>
              </p:nvSpPr>
              <p:spPr>
                <a:xfrm>
                  <a:off x="2038320" y="19620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6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7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8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9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60"/>
              <p:cNvSpPr/>
              <p:nvPr/>
            </p:nvSpPr>
            <p:spPr>
              <a:xfrm>
                <a:off x="21070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77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42" name="Line 32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4" name="Group 63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45" name="Group 64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46" name="Text Box 65"/>
                <p:cNvSpPr/>
                <p:nvPr/>
              </p:nvSpPr>
              <p:spPr>
                <a:xfrm>
                  <a:off x="210672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6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8" name="Oval 67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8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9"/>
                <p:cNvSpPr/>
                <p:nvPr/>
              </p:nvSpPr>
              <p:spPr>
                <a:xfrm>
                  <a:off x="2019240" y="37530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70"/>
                <p:cNvSpPr/>
                <p:nvPr/>
              </p:nvSpPr>
              <p:spPr>
                <a:xfrm>
                  <a:off x="2038320" y="37717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71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72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3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4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75"/>
              <p:cNvSpPr/>
              <p:nvPr/>
            </p:nvSpPr>
            <p:spPr>
              <a:xfrm>
                <a:off x="210708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WordArt 3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bb2"/>
                    </a:gs>
                    <a:gs pos="100000">
                      <a:srgbClr val="00d69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bb2"/>
                  </a:gs>
                  <a:gs pos="100000">
                    <a:srgbClr val="00d69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72"/>
              </a:gs>
              <a:gs pos="100000">
                <a:srgbClr val="aeaed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aec1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6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7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d69e"/>
                  </a:gs>
                  <a:gs pos="100000">
                    <a:srgbClr val="0068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7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eedd4"/>
                  </a:gs>
                  <a:gs pos="100000">
                    <a:srgbClr val="00d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7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1b52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003bb2">
                    <a:alpha val="0"/>
                  </a:srgbClr>
                </a:gs>
                <a:gs pos="100000">
                  <a:srgbClr val="a6bb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002f8d"/>
                </a:gs>
                <a:gs pos="100000">
                  <a:srgbClr val="003bb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bb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17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79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1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2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5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86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87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8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9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0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94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95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6349"/>
              </a:gs>
              <a:gs pos="50000">
                <a:srgbClr val="00d69e"/>
              </a:gs>
              <a:gs pos="100000">
                <a:srgbClr val="0063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97000" y="64641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230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1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d69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7456"/>
                </a:gs>
                <a:gs pos="50000">
                  <a:srgbClr val="00d69e"/>
                </a:gs>
                <a:gs pos="100000">
                  <a:srgbClr val="00745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40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14:18Z</dcterms:modified>
  <cp:revision>16</cp:revision>
  <dc:subject/>
  <dc:title>www.pptbz.com</dc:title>
</cp:coreProperties>
</file>