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media/image11.jpeg" ContentType="image/jpeg"/>
  <Override PartName="/ppt/media/image5.jpeg" ContentType="image/jpeg"/>
  <Override PartName="/ppt/media/image6.gif" ContentType="image/gif"/>
  <Override PartName="/ppt/media/image10.jpeg" ContentType="image/jpeg"/>
  <Override PartName="/ppt/media/image7.gif" ContentType="image/gif"/>
  <Override PartName="/ppt/media/image8.jpeg" ContentType="image/jpe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B6BF-060C-423F-A7BE-8DECA3D33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65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17360"/>
            <a:ext cx="822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116600"/>
            <a:ext cx="822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CA36-3CD8-49A0-8FDB-FC072F5C0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65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1736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1736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11660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11660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0973-11E0-485D-8806-F074DCF85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65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1736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91736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91736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11660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11660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11660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B438-CF0C-4DD0-91E2-98C05E74F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3C643-4754-48ED-9585-B2B92F511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65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17360"/>
            <a:ext cx="822960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E085A-8B1D-422B-B0A8-C0876EBF8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65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17360"/>
            <a:ext cx="822960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8D4C2-973E-4A9D-AFE7-3F29ECB2E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65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17360"/>
            <a:ext cx="401580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17360"/>
            <a:ext cx="401580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23230-B9F2-40B8-9B81-CB1B9C6C2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65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B7483-E277-44CD-9376-4266B46BA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6560" y="1125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A92B0-2120-4534-AC0C-F6042079E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65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1736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17360"/>
            <a:ext cx="401580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11660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5C327-1B60-4BF2-8C90-27198E6AE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65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917360"/>
            <a:ext cx="822960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2D04-78D0-42F0-95BD-E93C4BC68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65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17360"/>
            <a:ext cx="401580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1736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11660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CBF0B-B759-4032-8423-413DFB710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65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1736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1736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16600"/>
            <a:ext cx="822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6E245-9D8B-4DBD-AAF3-83F839F68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65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17360"/>
            <a:ext cx="822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116600"/>
            <a:ext cx="822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CC38F-C712-4F34-BD05-4AE0BB24D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65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1736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1736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11660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11660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5D363-C17B-4C14-B9FA-53BFDA478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65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1736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1736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1736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11660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11660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11660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0E65B-B8D6-4581-944E-2683C01BC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32D00-DA21-4F6B-B8B4-DF350FE6D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65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917360"/>
            <a:ext cx="822960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E6161-3752-41DF-AD68-1949B3CE2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65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17360"/>
            <a:ext cx="822960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169EE-FF58-4F10-AE9C-9908C76FE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65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17360"/>
            <a:ext cx="401580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17360"/>
            <a:ext cx="401580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FB60D-27FF-4F93-B862-894BA984D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65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AC2CE-2D2C-4728-ADA2-B56A0375B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65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17360"/>
            <a:ext cx="822960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BBE2-A485-4A54-BA53-0F3B056BD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66560" y="1125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87EA9-4487-4AA1-8D0A-8972C074E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65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1736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917360"/>
            <a:ext cx="401580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11660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8F0C8-5E64-435F-8FF1-F0FA8A1A6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65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17360"/>
            <a:ext cx="401580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91736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411660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B1BF7-4B4E-4774-9203-B6F691B31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65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1736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91736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116600"/>
            <a:ext cx="822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9B195-2171-42DC-B900-9312A68F8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65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17360"/>
            <a:ext cx="822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4116600"/>
            <a:ext cx="822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10D42-3B50-4A01-9DFB-E3EB055A5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65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1736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91736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1660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411660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FD3E8-4248-4BDC-B3F7-E46E83C34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65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1736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91736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91736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411660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411660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411660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C210B-83EE-4C02-B0E8-FFF7B582B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65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17360"/>
            <a:ext cx="401580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917360"/>
            <a:ext cx="401580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0030-6170-445D-A3E0-C0B627D7C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65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C800-C826-48E7-8EB0-EFE298601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6560" y="1125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CA6B-1426-4F0F-AC20-B25929DB6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65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1736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17360"/>
            <a:ext cx="401580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11660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E2BE-9B54-447E-A4C2-46AB36924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65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17360"/>
            <a:ext cx="401580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1736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11660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3D96-FDB5-474D-A025-3B4393B00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65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1736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1736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16600"/>
            <a:ext cx="822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7DBF-9853-4F98-9B59-25C6070D0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BB32E-0C57-420C-8A34-1A469066CE4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65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917360"/>
            <a:ext cx="822960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C4DB2-2369-4C4A-A1D0-EFC3313FD6D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24405-6011-4308-A461-ECA264DB538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964880" y="170172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搞笑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93920-6481-457C-BAAC-62643216A12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65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66"/>
                </a:solidFill>
                <a:latin typeface="Arial"/>
                <a:ea typeface="迷你简稚艺"/>
              </a:rPr>
              <a:t>还好我是个胖子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12360" y="2204640"/>
            <a:ext cx="8217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还好我是个胖子，无聊的时候可以捏捏肚子。。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还好我是个胖子，起床的时候可以捏捏肚子。。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还好我是个胖子，寂寞的时候可以捏捏肚子。。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还好我是个胖子，上课的时候可以捏捏肚子。。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还好我是个胖子，难过的时候可以捏捏肚子。。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692360" y="189000"/>
            <a:ext cx="1149120" cy="114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1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66"/>
                </a:solidFill>
                <a:latin typeface="Arial"/>
                <a:ea typeface="迷你简稚艺"/>
              </a:rPr>
              <a:t>每个人心中，都有一只妖孽哇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55640" y="2204640"/>
            <a:ext cx="597852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天晚上在家里上网，旺旺突然跳了出来窗口来对我说：“亲，我怀孕了”哥顿时一惊，心说自己没闯什么祸吧？ 正发愣，那人又说：“明天去医院检查。” 心想你丫到底是谁，难道还要我陪你去检查，想讹我不成？正琢磨着，那人又说：“只能后天给你发货了” 靠，原来下午在丫那里买过东西。。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81080" y="2565360"/>
            <a:ext cx="266364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65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迷你简毡笔黑"/>
              </a:rPr>
              <a:t>小明一岁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8280" y="1917360"/>
            <a:ext cx="814572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99"/>
              </a:buClr>
              <a:buFont typeface="迷你简毡笔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迷你简毡笔黑"/>
                <a:ea typeface="迷你简毡笔黑"/>
              </a:rPr>
              <a:t>小明一岁时，他第一次喊爷爷，于是爷爷死了。没多久他第一次喊妈妈，于是妈妈死了。再后来，他喊爸爸，于是隔壁的王木匠死了</a:t>
            </a:r>
            <a:r>
              <a:rPr b="0" lang="en-US" sz="2400" spc="-1" strike="noStrike">
                <a:solidFill>
                  <a:srgbClr val="009999"/>
                </a:solidFill>
                <a:latin typeface="迷你简毡笔黑"/>
                <a:ea typeface="迷你简毡笔黑"/>
              </a:rPr>
              <a:t>.</a:t>
            </a:r>
            <a:r>
              <a:rPr b="0" lang="zh-CN" sz="2400" spc="-1" strike="noStrike">
                <a:solidFill>
                  <a:srgbClr val="009999"/>
                </a:solidFill>
                <a:latin typeface="迷你简毡笔黑"/>
                <a:ea typeface="迷你简毡笔黑"/>
              </a:rPr>
              <a:t>一位清华博士指出，这个笑话有</a:t>
            </a:r>
            <a:r>
              <a:rPr b="0" lang="en-US" sz="2400" spc="-1" strike="noStrike">
                <a:solidFill>
                  <a:srgbClr val="009999"/>
                </a:solidFill>
                <a:latin typeface="迷你简毡笔黑"/>
                <a:ea typeface="迷你简毡笔黑"/>
              </a:rPr>
              <a:t>bug</a:t>
            </a:r>
            <a:r>
              <a:rPr b="0" lang="zh-CN" sz="2400" spc="-1" strike="noStrike">
                <a:solidFill>
                  <a:srgbClr val="009999"/>
                </a:solidFill>
                <a:latin typeface="迷你简毡笔黑"/>
                <a:ea typeface="迷你简毡笔黑"/>
              </a:rPr>
              <a:t>，喊爷爷时应该是隔壁王木匠的爹死掉</a:t>
            </a:r>
            <a:r>
              <a:rPr b="0" lang="en-US" sz="2400" spc="-1" strike="noStrike">
                <a:solidFill>
                  <a:srgbClr val="009999"/>
                </a:solidFill>
                <a:latin typeface="迷你简毡笔黑"/>
                <a:ea typeface="迷你简毡笔黑"/>
              </a:rPr>
              <a:t>.</a:t>
            </a:r>
            <a:r>
              <a:rPr b="0" lang="zh-CN" sz="2400" spc="-1" strike="noStrike">
                <a:solidFill>
                  <a:srgbClr val="009999"/>
                </a:solidFill>
                <a:latin typeface="迷你简毡笔黑"/>
                <a:ea typeface="迷你简毡笔黑"/>
              </a:rPr>
              <a:t>而一位交大的同学指出：隔壁木匠的母亲知道这不是个</a:t>
            </a:r>
            <a:r>
              <a:rPr b="0" lang="en-US" sz="2400" spc="-1" strike="noStrike">
                <a:solidFill>
                  <a:srgbClr val="009999"/>
                </a:solidFill>
                <a:latin typeface="迷你简毡笔黑"/>
                <a:ea typeface="迷你简毡笔黑"/>
              </a:rPr>
              <a:t>bug</a:t>
            </a:r>
            <a:r>
              <a:rPr b="0" lang="zh-CN" sz="2400" spc="-1" strike="noStrike">
                <a:solidFill>
                  <a:srgbClr val="009999"/>
                </a:solidFill>
                <a:latin typeface="迷你简毡笔黑"/>
                <a:ea typeface="迷你简毡笔黑"/>
              </a:rPr>
              <a:t>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221440" y="3860640"/>
            <a:ext cx="1530360" cy="14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00000" y="1917360"/>
            <a:ext cx="68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迷你简毡笔黑"/>
                <a:ea typeface="迷你简毡笔黑"/>
              </a:rPr>
              <a:t>有多少人跟我一样，喜欢“挖鼻屎”这个表情？有的请转发！！！ </a:t>
            </a:r>
            <a:r>
              <a:rPr b="1" lang="en-US" sz="3600" spc="-1" strike="noStrike">
                <a:solidFill>
                  <a:srgbClr val="000000"/>
                </a:solidFill>
                <a:latin typeface="迷你简毡笔黑"/>
                <a:ea typeface="迷你简毡笔黑"/>
              </a:rPr>
              <a:t>[</a:t>
            </a:r>
            <a:r>
              <a:rPr b="1" lang="zh-CN" sz="3600" spc="-1" strike="noStrike">
                <a:solidFill>
                  <a:srgbClr val="000000"/>
                </a:solidFill>
                <a:latin typeface="迷你简毡笔黑"/>
                <a:ea typeface="迷你简毡笔黑"/>
              </a:rPr>
              <a:t>挖鼻屎</a:t>
            </a:r>
            <a:r>
              <a:rPr b="1" lang="en-US" sz="3600" spc="-1" strike="noStrike">
                <a:solidFill>
                  <a:srgbClr val="000000"/>
                </a:solidFill>
                <a:latin typeface="迷你简毡笔黑"/>
                <a:ea typeface="迷你简毡笔黑"/>
              </a:rPr>
              <a:t>]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997440" y="3349800"/>
            <a:ext cx="1149120" cy="106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8360" y="1412640"/>
            <a:ext cx="252108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迷你简毡笔黑"/>
                <a:ea typeface="迷你简毡笔黑"/>
              </a:rPr>
              <a:t>把图向左旋转</a:t>
            </a:r>
            <a:r>
              <a:rPr b="1" lang="en-US" sz="2400" spc="-1" strike="noStrike">
                <a:solidFill>
                  <a:srgbClr val="000000"/>
                </a:solidFill>
                <a:latin typeface="迷你简毡笔黑"/>
                <a:ea typeface="迷你简毡笔黑"/>
              </a:rPr>
              <a:t>90</a:t>
            </a:r>
            <a:r>
              <a:rPr b="1" lang="zh-CN" sz="2400" spc="-1" strike="noStrike">
                <a:solidFill>
                  <a:srgbClr val="000000"/>
                </a:solidFill>
                <a:latin typeface="迷你简毡笔黑"/>
                <a:ea typeface="迷你简毡笔黑"/>
              </a:rPr>
              <a:t>度，有意外发生哦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564000" y="1628640"/>
            <a:ext cx="272088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41" dur="1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2" dur="1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3" dur="1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699">
                                      <p:cBhvr>
                                        <p:cTn id="4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699">
                                      <p:cBhvr>
                                        <p:cTn id="4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65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迷你简毡笔黑"/>
                <a:ea typeface="迷你简毡笔黑"/>
              </a:rPr>
              <a:t>80</a:t>
            </a:r>
            <a:r>
              <a:rPr b="1" lang="zh-CN" sz="2400" spc="-1" strike="noStrike">
                <a:solidFill>
                  <a:srgbClr val="ffffff"/>
                </a:solidFill>
                <a:latin typeface="迷你简毡笔黑"/>
                <a:ea typeface="迷你简毡笔黑"/>
              </a:rPr>
              <a:t>后的</a:t>
            </a:r>
            <a:r>
              <a:rPr b="1" lang="en-US" sz="2400" spc="-1" strike="noStrike">
                <a:solidFill>
                  <a:srgbClr val="ffffff"/>
                </a:solidFill>
                <a:latin typeface="迷你简毡笔黑"/>
                <a:ea typeface="迷你简毡笔黑"/>
              </a:rPr>
              <a:t>10</a:t>
            </a:r>
            <a:r>
              <a:rPr b="1" lang="zh-CN" sz="2400" spc="-1" strike="noStrike">
                <a:solidFill>
                  <a:srgbClr val="ffffff"/>
                </a:solidFill>
                <a:latin typeface="迷你简毡笔黑"/>
                <a:ea typeface="迷你简毡笔黑"/>
              </a:rPr>
              <a:t>个小悲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17360"/>
            <a:ext cx="822960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每天凌晨才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觉不够睡钱不够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手机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4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时开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平时起不来，周末睡不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狂想去远方旅游，却只能在近郊瞎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怀疑自己抑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感觉自己亚健康，只能亚下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想些不着边际的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知道自己是成熟还是世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以前认为特鄙视的事变得能接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29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91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3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34">
                                          <p:stCondLst>
                                            <p:cond delay="334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2">
                                          <p:stCondLst>
                                            <p:cond delay="83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" dur="14" fill="hold">
                                          <p:stCondLst>
                                            <p:cond delay="324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" dur="82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14" fill="hold">
                                          <p:stCondLst>
                                            <p:cond delay="658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" dur="82" fill="hold">
                                          <p:stCondLst>
                                            <p:cond delay="672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14" fill="hold">
                                          <p:stCondLst>
                                            <p:cond delay="822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" dur="82" fill="hold">
                                          <p:stCondLst>
                                            <p:cond delay="836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14" fill="hold">
                                          <p:stCondLst>
                                            <p:cond delay="906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" dur="82" fill="hold">
                                          <p:stCondLst>
                                            <p:cond delay="918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29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91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3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34">
                                          <p:stCondLst>
                                            <p:cond delay="334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82">
                                          <p:stCondLst>
                                            <p:cond delay="83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" dur="14" fill="hold">
                                          <p:stCondLst>
                                            <p:cond delay="324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" dur="82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14" fill="hold">
                                          <p:stCondLst>
                                            <p:cond delay="658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" dur="82" fill="hold">
                                          <p:stCondLst>
                                            <p:cond delay="672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14" fill="hold">
                                          <p:stCondLst>
                                            <p:cond delay="822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" dur="82" fill="hold">
                                          <p:stCondLst>
                                            <p:cond delay="836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14" fill="hold">
                                          <p:stCondLst>
                                            <p:cond delay="906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" dur="82" fill="hold">
                                          <p:stCondLst>
                                            <p:cond delay="918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29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91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3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334">
                                          <p:stCondLst>
                                            <p:cond delay="334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82">
                                          <p:stCondLst>
                                            <p:cond delay="83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" dur="14" fill="hold">
                                          <p:stCondLst>
                                            <p:cond delay="324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" dur="82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14" fill="hold">
                                          <p:stCondLst>
                                            <p:cond delay="658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" dur="82" fill="hold">
                                          <p:stCondLst>
                                            <p:cond delay="672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14" fill="hold">
                                          <p:stCondLst>
                                            <p:cond delay="822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" dur="82" fill="hold">
                                          <p:stCondLst>
                                            <p:cond delay="836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14" fill="hold">
                                          <p:stCondLst>
                                            <p:cond delay="906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" dur="82" fill="hold">
                                          <p:stCondLst>
                                            <p:cond delay="918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29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91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33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34">
                                          <p:stCondLst>
                                            <p:cond delay="334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82">
                                          <p:stCondLst>
                                            <p:cond delay="83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" dur="14" fill="hold">
                                          <p:stCondLst>
                                            <p:cond delay="324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0" dur="82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14" fill="hold">
                                          <p:stCondLst>
                                            <p:cond delay="658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2" dur="82" fill="hold">
                                          <p:stCondLst>
                                            <p:cond delay="672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14" fill="hold">
                                          <p:stCondLst>
                                            <p:cond delay="822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4" dur="82" fill="hold">
                                          <p:stCondLst>
                                            <p:cond delay="836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14" fill="hold">
                                          <p:stCondLst>
                                            <p:cond delay="906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6" dur="82" fill="hold">
                                          <p:stCondLst>
                                            <p:cond delay="918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29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91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3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34">
                                          <p:stCondLst>
                                            <p:cond delay="334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2">
                                          <p:stCondLst>
                                            <p:cond delay="83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5" dur="14" fill="hold">
                                          <p:stCondLst>
                                            <p:cond delay="324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6" dur="82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14" fill="hold">
                                          <p:stCondLst>
                                            <p:cond delay="658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8" dur="82" fill="hold">
                                          <p:stCondLst>
                                            <p:cond delay="672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14" fill="hold">
                                          <p:stCondLst>
                                            <p:cond delay="822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0" dur="82" fill="hold">
                                          <p:stCondLst>
                                            <p:cond delay="836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14" fill="hold">
                                          <p:stCondLst>
                                            <p:cond delay="906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2" dur="82" fill="hold">
                                          <p:stCondLst>
                                            <p:cond delay="918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29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91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3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334">
                                          <p:stCondLst>
                                            <p:cond delay="334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2">
                                          <p:stCondLst>
                                            <p:cond delay="83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1" dur="14" fill="hold">
                                          <p:stCondLst>
                                            <p:cond delay="324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2" dur="82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14" fill="hold">
                                          <p:stCondLst>
                                            <p:cond delay="658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4" dur="82" fill="hold">
                                          <p:stCondLst>
                                            <p:cond delay="672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14" fill="hold">
                                          <p:stCondLst>
                                            <p:cond delay="822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6" dur="82" fill="hold">
                                          <p:stCondLst>
                                            <p:cond delay="836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14" fill="hold">
                                          <p:stCondLst>
                                            <p:cond delay="906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8" dur="82" fill="hold">
                                          <p:stCondLst>
                                            <p:cond delay="918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29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91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33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334">
                                          <p:stCondLst>
                                            <p:cond delay="334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2">
                                          <p:stCondLst>
                                            <p:cond delay="83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7" dur="14" fill="hold">
                                          <p:stCondLst>
                                            <p:cond delay="324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8" dur="82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14" fill="hold">
                                          <p:stCondLst>
                                            <p:cond delay="658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0" dur="82" fill="hold">
                                          <p:stCondLst>
                                            <p:cond delay="672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14" fill="hold">
                                          <p:stCondLst>
                                            <p:cond delay="822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2" dur="82" fill="hold">
                                          <p:stCondLst>
                                            <p:cond delay="836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14" fill="hold">
                                          <p:stCondLst>
                                            <p:cond delay="906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4" dur="82" fill="hold">
                                          <p:stCondLst>
                                            <p:cond delay="918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29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91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33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334">
                                          <p:stCondLst>
                                            <p:cond delay="334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82">
                                          <p:stCondLst>
                                            <p:cond delay="83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3" dur="14" fill="hold">
                                          <p:stCondLst>
                                            <p:cond delay="324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4" dur="82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14" fill="hold">
                                          <p:stCondLst>
                                            <p:cond delay="658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6" dur="82" fill="hold">
                                          <p:stCondLst>
                                            <p:cond delay="672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14" fill="hold">
                                          <p:stCondLst>
                                            <p:cond delay="822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8" dur="82" fill="hold">
                                          <p:stCondLst>
                                            <p:cond delay="836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14" fill="hold">
                                          <p:stCondLst>
                                            <p:cond delay="906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0" dur="82" fill="hold">
                                          <p:stCondLst>
                                            <p:cond delay="918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29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91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33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334">
                                          <p:stCondLst>
                                            <p:cond delay="334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82">
                                          <p:stCondLst>
                                            <p:cond delay="83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9" dur="14" fill="hold">
                                          <p:stCondLst>
                                            <p:cond delay="324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0" dur="82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14" fill="hold">
                                          <p:stCondLst>
                                            <p:cond delay="658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2" dur="82" fill="hold">
                                          <p:stCondLst>
                                            <p:cond delay="672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14" fill="hold">
                                          <p:stCondLst>
                                            <p:cond delay="822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4" dur="82" fill="hold">
                                          <p:stCondLst>
                                            <p:cond delay="836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14" fill="hold">
                                          <p:stCondLst>
                                            <p:cond delay="906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6" dur="82" fill="hold">
                                          <p:stCondLst>
                                            <p:cond delay="918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29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91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33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34">
                                          <p:stCondLst>
                                            <p:cond delay="334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82">
                                          <p:stCondLst>
                                            <p:cond delay="83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5" dur="14" fill="hold">
                                          <p:stCondLst>
                                            <p:cond delay="324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6" dur="82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14" fill="hold">
                                          <p:stCondLst>
                                            <p:cond delay="658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8" dur="82" fill="hold">
                                          <p:stCondLst>
                                            <p:cond delay="672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14" fill="hold">
                                          <p:stCondLst>
                                            <p:cond delay="822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0" dur="82" fill="hold">
                                          <p:stCondLst>
                                            <p:cond delay="836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14" fill="hold">
                                          <p:stCondLst>
                                            <p:cond delay="906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2" dur="82" fill="hold">
                                          <p:stCondLst>
                                            <p:cond delay="918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276360" y="1773360"/>
            <a:ext cx="511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9999"/>
              </a:buClr>
              <a:buFont typeface="迷你简毡笔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9999"/>
                </a:solidFill>
                <a:latin typeface="迷你简毡笔黑"/>
                <a:ea typeface="迷你简毡笔黑"/>
              </a:rPr>
              <a:t>偶像剧里的故事多么让人憧憬，但是，这年头，能在宿舍楼下默默等着你，给你送上温热的早饭午饭晚饭，不管严寒酷暑刮风下雨总会很耐心的男人，只会是</a:t>
            </a:r>
            <a:r>
              <a:rPr b="0" lang="en-US" sz="2000" spc="-1" strike="noStrike">
                <a:solidFill>
                  <a:srgbClr val="009999"/>
                </a:solidFill>
                <a:latin typeface="迷你简毡笔黑"/>
                <a:ea typeface="迷你简毡笔黑"/>
              </a:rPr>
              <a:t>——</a:t>
            </a:r>
            <a:r>
              <a:rPr b="0" lang="zh-CN" sz="2000" spc="-1" strike="noStrike">
                <a:solidFill>
                  <a:srgbClr val="009999"/>
                </a:solidFill>
                <a:latin typeface="迷你简毡笔黑"/>
                <a:ea typeface="迷你简毡笔黑"/>
              </a:rPr>
              <a:t>送外卖的。。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044720" y="1773360"/>
            <a:ext cx="2138040" cy="22302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79280" y="508644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4350"/>
                            </p:stCondLst>
                            <p:childTnLst>
                              <p:par>
                                <p:cTn id="22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708000" y="1844640"/>
            <a:ext cx="496908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方正少儿_GBK"/>
                <a:ea typeface="方正少儿_GBK"/>
              </a:rPr>
              <a:t> </a:t>
            </a:r>
            <a:r>
              <a:rPr b="0" lang="zh-CN" sz="2400" spc="-1" strike="noStrike">
                <a:solidFill>
                  <a:srgbClr val="336699"/>
                </a:solidFill>
                <a:latin typeface="方正少儿_GBK"/>
                <a:ea typeface="方正少儿_GBK"/>
              </a:rPr>
              <a:t>两头牛在一起吃草，青牛问黑牛：“喂你的草是什么味道？”黑牛道：“草莓味！”青牛靠过来吃了一口，愤怒地喊到“你骗我！”黑牛轻蔑地看他一眼，回道：“笨蛋，我说草没味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12720" y="2205000"/>
            <a:ext cx="3260880" cy="30258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 rot="5400000">
            <a:off x="2363400" y="2325600"/>
            <a:ext cx="1729080" cy="334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幼圆"/>
              </a:rPr>
              <a:t>草莓味儿？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幼圆"/>
              <a:ea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3360"/>
                            </p:stCondLst>
                            <p:childTnLst>
                              <p:par>
                                <p:cTn id="23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3T13:42:04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0:27:18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NXTAG2">
    <vt:lpwstr>0008003407000000000001024140</vt:lpwstr>
  </property>
</Properties>
</file>