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78414-61F3-4223-928A-A34B9FF73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353160"/>
            <a:ext cx="8381520" cy="51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11444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2231280"/>
            <a:ext cx="411444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EF210-2382-41B4-B270-5C9F7F57D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353160"/>
            <a:ext cx="8381520" cy="51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200772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89400" y="838080"/>
            <a:ext cx="200772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2231280"/>
            <a:ext cx="200772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489400" y="2231280"/>
            <a:ext cx="200772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A9FE0-6B36-4970-AC2E-71974581D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353160"/>
            <a:ext cx="8381520" cy="51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132444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771920" y="838080"/>
            <a:ext cx="132444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162960" y="838080"/>
            <a:ext cx="132444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2231280"/>
            <a:ext cx="132444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771920" y="2231280"/>
            <a:ext cx="132444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162960" y="2231280"/>
            <a:ext cx="132444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2B98F-9C2C-4071-B845-5E5584862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18118-1A71-4BEB-B064-0412F10FF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353160"/>
            <a:ext cx="8381520" cy="51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80880" y="838080"/>
            <a:ext cx="4114440" cy="266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BB812-6DDC-4255-A0E5-EB5391DE9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353160"/>
            <a:ext cx="8381520" cy="51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114440" cy="266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92CFF-5504-4ACA-8517-757B490BF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353160"/>
            <a:ext cx="8381520" cy="51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2007720" cy="266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489400" y="838080"/>
            <a:ext cx="2007720" cy="266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7579B-A74D-4E4C-99C9-85A10E006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353160"/>
            <a:ext cx="8381520" cy="51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A9585-26CE-40A3-8EFF-66EB7A86B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80880" y="380880"/>
            <a:ext cx="8381520" cy="21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C495A-9C23-4A55-8EFF-04615527F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353160"/>
            <a:ext cx="8381520" cy="51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200772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489400" y="838080"/>
            <a:ext cx="2007720" cy="266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80880" y="2231280"/>
            <a:ext cx="200772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6E893-CE1C-4DC4-AAAA-284B4824F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353160"/>
            <a:ext cx="8381520" cy="51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838080"/>
            <a:ext cx="4114440" cy="266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DCD4E-7B14-404A-9CA7-7E2617633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353160"/>
            <a:ext cx="8381520" cy="51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2007720" cy="266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489400" y="838080"/>
            <a:ext cx="200772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489400" y="2231280"/>
            <a:ext cx="200772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735AC-9000-4464-BB72-57B474CAF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880" y="353160"/>
            <a:ext cx="8381520" cy="51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200772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489400" y="838080"/>
            <a:ext cx="200772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880" y="2231280"/>
            <a:ext cx="411444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AA01C-36C1-4371-BE5D-5505C7F83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880" y="353160"/>
            <a:ext cx="8381520" cy="51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11444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0880" y="2231280"/>
            <a:ext cx="411444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7CA5E-5866-4702-AF77-DFE9AF61D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353160"/>
            <a:ext cx="8381520" cy="51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200772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489400" y="838080"/>
            <a:ext cx="200772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880" y="2231280"/>
            <a:ext cx="200772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489400" y="2231280"/>
            <a:ext cx="200772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AA1B8-07BA-4722-8FB3-51B5F6F9E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353160"/>
            <a:ext cx="8381520" cy="51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132444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771920" y="838080"/>
            <a:ext cx="132444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162960" y="838080"/>
            <a:ext cx="132444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80880" y="2231280"/>
            <a:ext cx="132444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1771920" y="2231280"/>
            <a:ext cx="132444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162960" y="2231280"/>
            <a:ext cx="132444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11486-18D9-4831-8DE2-AB80DE45E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0602A8-44F9-494E-A2DE-D40253A24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353160"/>
            <a:ext cx="8381520" cy="51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838080"/>
            <a:ext cx="4114440" cy="266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4A4ABE-3BE0-4980-961E-833154342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353160"/>
            <a:ext cx="8381520" cy="51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114440" cy="266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C740F8-1986-42CB-84B5-A3A17EC2E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353160"/>
            <a:ext cx="8381520" cy="51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2007720" cy="266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2489400" y="838080"/>
            <a:ext cx="2007720" cy="266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3BB65B-1A26-4EEA-B63E-312D5F02A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353160"/>
            <a:ext cx="8381520" cy="51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7BF182-FB97-44BA-832A-BC9E131A0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353160"/>
            <a:ext cx="8381520" cy="51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114440" cy="266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5C66F-1EE2-4610-9FCA-ACA106D81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380880"/>
            <a:ext cx="8381520" cy="21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F8EC9E-C86B-4533-A493-0979AB6E2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353160"/>
            <a:ext cx="8381520" cy="51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200772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489400" y="838080"/>
            <a:ext cx="2007720" cy="266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2231280"/>
            <a:ext cx="200772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14F1DD-56E6-4F53-81DB-690F8386B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353160"/>
            <a:ext cx="8381520" cy="51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2007720" cy="266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2489400" y="838080"/>
            <a:ext cx="200772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2489400" y="2231280"/>
            <a:ext cx="200772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F9EA47-60C9-40B4-A8B7-85DBCFF76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353160"/>
            <a:ext cx="8381520" cy="51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200772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2489400" y="838080"/>
            <a:ext cx="200772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2231280"/>
            <a:ext cx="411444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EB8234-E022-4106-9CCB-2220A7880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353160"/>
            <a:ext cx="8381520" cy="51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11444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2231280"/>
            <a:ext cx="411444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939934-BE24-439A-8212-3BA4FCC42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353160"/>
            <a:ext cx="8381520" cy="51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200772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2489400" y="838080"/>
            <a:ext cx="200772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2231280"/>
            <a:ext cx="200772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2489400" y="2231280"/>
            <a:ext cx="200772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3153C4-6138-4F8F-BDB2-93D9CA18A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353160"/>
            <a:ext cx="8381520" cy="51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132444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1771920" y="838080"/>
            <a:ext cx="132444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162960" y="838080"/>
            <a:ext cx="132444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2231280"/>
            <a:ext cx="132444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1771920" y="2231280"/>
            <a:ext cx="132444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3162960" y="2231280"/>
            <a:ext cx="132444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E35AA9-9A1B-4502-93BF-AC5FF3B11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0719CF-DD18-49DB-9966-7D941B43A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80880" y="353160"/>
            <a:ext cx="8381520" cy="51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380880" y="838080"/>
            <a:ext cx="4114440" cy="266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D685FB-CF62-4E6F-A79D-748C439DF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80880" y="353160"/>
            <a:ext cx="8381520" cy="51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114440" cy="266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7B2B8F-E812-440C-9B2F-3D6183D47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353160"/>
            <a:ext cx="8381520" cy="51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2007720" cy="266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489400" y="838080"/>
            <a:ext cx="2007720" cy="266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21C4D-9B11-446B-BD2D-EF0FF536E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880" y="353160"/>
            <a:ext cx="8381520" cy="51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2007720" cy="266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2489400" y="838080"/>
            <a:ext cx="2007720" cy="266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3FF8B3-661A-44E2-A6FB-6F97DB02B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0880" y="353160"/>
            <a:ext cx="8381520" cy="51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D33F01-9FBE-4D2F-B547-37F53FD13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380880" y="380880"/>
            <a:ext cx="8381520" cy="21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F76E6F-DE66-452F-847A-6EDED1EA0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80880" y="353160"/>
            <a:ext cx="8381520" cy="51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200772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2489400" y="838080"/>
            <a:ext cx="2007720" cy="266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380880" y="2231280"/>
            <a:ext cx="200772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EA3C79-3250-41E3-84E0-EE749EE46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80880" y="353160"/>
            <a:ext cx="8381520" cy="51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2007720" cy="266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2489400" y="838080"/>
            <a:ext cx="200772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489400" y="2231280"/>
            <a:ext cx="200772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94A0AC-DE95-49AD-9B5E-BCEBB8AA4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80880" y="353160"/>
            <a:ext cx="8381520" cy="51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200772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489400" y="838080"/>
            <a:ext cx="200772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380880" y="2231280"/>
            <a:ext cx="411444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22B176-88E1-4C8C-8A10-794F94B57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353160"/>
            <a:ext cx="8381520" cy="51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11444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80880" y="2231280"/>
            <a:ext cx="411444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202F03-C5E9-40D6-B411-FD951AA65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80880" y="353160"/>
            <a:ext cx="8381520" cy="51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200772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2489400" y="838080"/>
            <a:ext cx="200772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380880" y="2231280"/>
            <a:ext cx="200772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489400" y="2231280"/>
            <a:ext cx="200772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34A080-3975-4933-8C93-A74AA3114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353160"/>
            <a:ext cx="8381520" cy="51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132444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1771920" y="838080"/>
            <a:ext cx="132444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162960" y="838080"/>
            <a:ext cx="132444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380880" y="2231280"/>
            <a:ext cx="132444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1771920" y="2231280"/>
            <a:ext cx="132444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3162960" y="2231280"/>
            <a:ext cx="132444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9E02C3-66DF-4A8D-B622-6F0B3DD30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353160"/>
            <a:ext cx="8381520" cy="51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A54CF-67AC-4A61-AAD1-396AB3E5A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380880"/>
            <a:ext cx="8381520" cy="21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19D8F-3E5B-436C-BB1C-6A0AC035D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353160"/>
            <a:ext cx="8381520" cy="51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200772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489400" y="838080"/>
            <a:ext cx="2007720" cy="266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2231280"/>
            <a:ext cx="200772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5A674-164A-4931-9E9A-C8C193161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353160"/>
            <a:ext cx="8381520" cy="51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2007720" cy="266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489400" y="838080"/>
            <a:ext cx="200772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489400" y="2231280"/>
            <a:ext cx="200772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BE9F2-ED91-4CDF-8088-91642AD01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353160"/>
            <a:ext cx="8381520" cy="51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200772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489400" y="838080"/>
            <a:ext cx="200772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2231280"/>
            <a:ext cx="411444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6C874-F933-4AC4-A606-1309FC917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3640" cy="552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800" spc="-1" strike="noStrike">
                <a:solidFill>
                  <a:srgbClr val="ffffff"/>
                </a:solidFill>
                <a:latin typeface="Impact"/>
              </a:rPr>
              <a:t>单击此处编辑母版标题样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0" y="6689880"/>
            <a:ext cx="2133360" cy="1677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689880"/>
            <a:ext cx="2895120" cy="1677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10280" y="6689880"/>
            <a:ext cx="2133360" cy="1677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800" spc="-1" strike="noStrike">
                <a:solidFill>
                  <a:srgbClr val="ffffff"/>
                </a:solidFill>
                <a:latin typeface="Arial Black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8E9E0E4-91E5-44AD-8FF7-3055A61B6498}" type="slidenum">
              <a:rPr b="0" lang="en-US" sz="800" spc="-1" strike="noStrike">
                <a:solidFill>
                  <a:srgbClr val="ffffff"/>
                </a:solidFill>
                <a:latin typeface="Arial Black"/>
                <a:ea typeface="宋体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64000" indent="-3240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296000" indent="-288000"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3" marL="1728000" indent="-216000"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2160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592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3024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38152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zh-CN" sz="3600" spc="-1" strike="noStrike">
                <a:solidFill>
                  <a:srgbClr val="000000"/>
                </a:solidFill>
                <a:latin typeface="Impact"/>
              </a:rPr>
              <a:t>单击此处编辑母版标题样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80880" y="838080"/>
            <a:ext cx="8381520" cy="54860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单击此处编辑母版文本样式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第二级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1143000"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ahoma"/>
              </a:rPr>
              <a:t>第三级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1600200"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</a:rPr>
              <a:t>第四级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057400"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</a:rPr>
              <a:t>第五级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0" y="6661080"/>
            <a:ext cx="2133360" cy="196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689880"/>
            <a:ext cx="2895120" cy="1677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010280" y="6689880"/>
            <a:ext cx="2133360" cy="1360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1" lang="en-US" sz="8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CA0ED14-5A4E-4582-B093-37246349FABA}" type="slidenum">
              <a:rPr b="1" lang="en-US" sz="800" spc="-1" strike="noStrike">
                <a:solidFill>
                  <a:srgbClr val="ffffff"/>
                </a:solidFill>
                <a:latin typeface="Tahoma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38152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zh-CN" sz="3600" spc="-1" strike="noStrike">
                <a:solidFill>
                  <a:srgbClr val="000000"/>
                </a:solidFill>
                <a:latin typeface="Impact"/>
              </a:rPr>
              <a:t>单击此处编辑母版标题样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80880" y="838080"/>
            <a:ext cx="4114440" cy="54860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单击此处编辑母版文本样式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第二级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1143000"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ahoma"/>
              </a:rPr>
              <a:t>第三级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1600200"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</a:rPr>
              <a:t>第四级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057400"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</a:rPr>
              <a:t>第五级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body"/>
          </p:nvPr>
        </p:nvSpPr>
        <p:spPr>
          <a:xfrm>
            <a:off x="4648320" y="838080"/>
            <a:ext cx="4114440" cy="54860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单击此处编辑母版文本样式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第二级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1143000"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ahoma"/>
              </a:rPr>
              <a:t>第三级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1600200"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</a:rPr>
              <a:t>第四级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057400"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</a:rPr>
              <a:t>第五级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dt" idx="7"/>
          </p:nvPr>
        </p:nvSpPr>
        <p:spPr>
          <a:xfrm>
            <a:off x="0" y="6661080"/>
            <a:ext cx="2133360" cy="196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8"/>
          </p:nvPr>
        </p:nvSpPr>
        <p:spPr>
          <a:xfrm>
            <a:off x="3124080" y="6689880"/>
            <a:ext cx="2895120" cy="1677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9"/>
          </p:nvPr>
        </p:nvSpPr>
        <p:spPr>
          <a:xfrm>
            <a:off x="7010280" y="6689880"/>
            <a:ext cx="2133360" cy="1360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1" lang="en-US" sz="8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4FA3204-1E30-4615-B7F7-09454CD6A283}" type="slidenum">
              <a:rPr b="1" lang="en-US" sz="800" spc="-1" strike="noStrike">
                <a:solidFill>
                  <a:srgbClr val="ffffff"/>
                </a:solidFill>
                <a:latin typeface="Tahoma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38152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zh-CN" sz="3600" spc="-1" strike="noStrike">
                <a:solidFill>
                  <a:srgbClr val="000000"/>
                </a:solidFill>
                <a:latin typeface="Impact"/>
              </a:rPr>
              <a:t>单击此处编辑母版标题样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380880" y="838080"/>
            <a:ext cx="4114440" cy="2666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单击此处编辑母版文本样式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第二级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1143000"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ahoma"/>
              </a:rPr>
              <a:t>第三级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1600200"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</a:rPr>
              <a:t>第四级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057400"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</a:rPr>
              <a:t>第五级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body"/>
          </p:nvPr>
        </p:nvSpPr>
        <p:spPr>
          <a:xfrm>
            <a:off x="4648320" y="838080"/>
            <a:ext cx="4114440" cy="2666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单击此处编辑母版文本样式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第二级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1143000"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ahoma"/>
              </a:rPr>
              <a:t>第三级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1600200"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</a:rPr>
              <a:t>第四级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057400"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</a:rPr>
              <a:t>第五级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380880" y="3657600"/>
            <a:ext cx="4114440" cy="2666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单击此处编辑母版文本样式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第二级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1143000"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ahoma"/>
              </a:rPr>
              <a:t>第三级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1600200"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</a:rPr>
              <a:t>第四级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057400"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</a:rPr>
              <a:t>第五级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body"/>
          </p:nvPr>
        </p:nvSpPr>
        <p:spPr>
          <a:xfrm>
            <a:off x="4648320" y="3657600"/>
            <a:ext cx="4114440" cy="2666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单击此处编辑母版文本样式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第二级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1143000"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ahoma"/>
              </a:rPr>
              <a:t>第三级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1600200"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</a:rPr>
              <a:t>第四级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057400"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</a:rPr>
              <a:t>第五级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dt" idx="10"/>
          </p:nvPr>
        </p:nvSpPr>
        <p:spPr>
          <a:xfrm>
            <a:off x="0" y="6661080"/>
            <a:ext cx="2133360" cy="196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 type="ftr" idx="11"/>
          </p:nvPr>
        </p:nvSpPr>
        <p:spPr>
          <a:xfrm>
            <a:off x="3124080" y="6689880"/>
            <a:ext cx="2895120" cy="1677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8"/>
          <p:cNvSpPr>
            <a:spLocks noGrp="1"/>
          </p:cNvSpPr>
          <p:nvPr>
            <p:ph type="sldNum" idx="12"/>
          </p:nvPr>
        </p:nvSpPr>
        <p:spPr>
          <a:xfrm>
            <a:off x="7010280" y="6689880"/>
            <a:ext cx="2133360" cy="1360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1" lang="en-US" sz="8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E84979A-3983-4F80-82A8-96F866148C0C}" type="slidenum">
              <a:rPr b="1" lang="en-US" sz="800" spc="-1" strike="noStrike">
                <a:solidFill>
                  <a:srgbClr val="ffffff"/>
                </a:solidFill>
                <a:latin typeface="Tahoma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4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43000" y="685800"/>
            <a:ext cx="6705360" cy="16761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6000" spc="-1" strike="noStrike">
                <a:solidFill>
                  <a:srgbClr val="ffffff"/>
                </a:solidFill>
                <a:latin typeface="Impact"/>
                <a:ea typeface="宋体"/>
              </a:rPr>
              <a:t>Industry Old Pip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2590920" y="2209680"/>
            <a:ext cx="3885840" cy="380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Impact"/>
                <a:ea typeface="宋体"/>
              </a:rPr>
              <a:t>Your Subtitle Goes He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矩形 6"/>
          <p:cNvSpPr/>
          <p:nvPr/>
        </p:nvSpPr>
        <p:spPr>
          <a:xfrm>
            <a:off x="1839960" y="3357720"/>
            <a:ext cx="5784120" cy="7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4000" spc="49" strike="noStrike">
                <a:solidFill>
                  <a:srgbClr val="fdfdfe"/>
                </a:solidFill>
                <a:latin typeface="Arial"/>
              </a:rPr>
              <a:t>红色背景老工业管道工商业</a:t>
            </a:r>
            <a:r>
              <a:rPr b="1" lang="en-US" sz="4000" spc="49" strike="noStrike">
                <a:solidFill>
                  <a:srgbClr val="fdfdfe"/>
                </a:solidFill>
                <a:latin typeface="Arial"/>
              </a:rPr>
              <a:t>PPT</a:t>
            </a:r>
            <a:r>
              <a:rPr b="1" lang="zh-CN" sz="4000" spc="49" strike="noStrike">
                <a:solidFill>
                  <a:srgbClr val="fdfdfe"/>
                </a:solidFill>
                <a:latin typeface="Arial"/>
              </a:rPr>
              <a:t>模板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矩形 12"/>
          <p:cNvSpPr/>
          <p:nvPr/>
        </p:nvSpPr>
        <p:spPr>
          <a:xfrm>
            <a:off x="209160" y="655308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971800" y="1295280"/>
            <a:ext cx="3733560" cy="4186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宋体"/>
              </a:rPr>
              <a:t>Your Topic Goes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276720" y="1752480"/>
            <a:ext cx="5638320" cy="3657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Impact"/>
                <a:ea typeface="宋体"/>
              </a:rPr>
              <a:t>Your subtopic goes her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981080" y="152280"/>
            <a:ext cx="540972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  <a:ea typeface="宋体"/>
              </a:rPr>
              <a:t>Transitional P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6320" y="533520"/>
            <a:ext cx="3047760" cy="5331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2400" spc="-1" strike="noStrike">
                <a:solidFill>
                  <a:srgbClr val="ff9933"/>
                </a:solidFill>
                <a:latin typeface="Impact"/>
                <a:ea typeface="宋体"/>
              </a:rPr>
              <a:t>Your Topic Goes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5790960" cy="3657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Impact"/>
                <a:ea typeface="宋体"/>
              </a:rPr>
              <a:t>Your subtopic goes he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 Box 4"/>
          <p:cNvSpPr/>
          <p:nvPr/>
        </p:nvSpPr>
        <p:spPr>
          <a:xfrm>
            <a:off x="152280" y="944640"/>
            <a:ext cx="2437920" cy="9266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  <a:ea typeface="宋体"/>
              </a:rPr>
              <a:t>Backdrop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- These are full sized backdrops, just double click them and size it up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8"/>
          <p:cNvSpPr/>
          <p:nvPr/>
        </p:nvSpPr>
        <p:spPr>
          <a:xfrm>
            <a:off x="2438280" y="2286000"/>
            <a:ext cx="6477120" cy="36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56"/>
          <p:cNvSpPr/>
          <p:nvPr/>
        </p:nvSpPr>
        <p:spPr>
          <a:xfrm>
            <a:off x="228600" y="2209680"/>
            <a:ext cx="2437920" cy="9266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  <a:ea typeface="宋体"/>
              </a:rPr>
              <a:t>Image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- Most of these .gifs, .jpgs, and .png images can be scaled up to fit your need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57"/>
          <p:cNvSpPr/>
          <p:nvPr/>
        </p:nvSpPr>
        <p:spPr>
          <a:xfrm>
            <a:off x="2668680" y="639720"/>
            <a:ext cx="1238760" cy="272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Title Backdr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58"/>
          <p:cNvSpPr/>
          <p:nvPr/>
        </p:nvSpPr>
        <p:spPr>
          <a:xfrm>
            <a:off x="4268880" y="639720"/>
            <a:ext cx="1293480" cy="272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Slide Backdr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59"/>
          <p:cNvSpPr/>
          <p:nvPr/>
        </p:nvSpPr>
        <p:spPr>
          <a:xfrm>
            <a:off x="5867280" y="639720"/>
            <a:ext cx="1275480" cy="272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Print Backdr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60"/>
          <p:cNvSpPr/>
          <p:nvPr/>
        </p:nvSpPr>
        <p:spPr>
          <a:xfrm>
            <a:off x="7201440" y="639720"/>
            <a:ext cx="1785960" cy="272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Transitional Backdr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102" descr="industry_old_pipes_qx"/>
          <p:cNvPicPr/>
          <p:nvPr/>
        </p:nvPicPr>
        <p:blipFill>
          <a:blip r:embed="rId1"/>
          <a:stretch/>
        </p:blipFill>
        <p:spPr>
          <a:xfrm>
            <a:off x="2514600" y="914400"/>
            <a:ext cx="1544400" cy="1158480"/>
          </a:xfrm>
          <a:prstGeom prst="rect">
            <a:avLst/>
          </a:prstGeom>
          <a:ln w="6350">
            <a:solidFill>
              <a:srgbClr val="000000"/>
            </a:solidFill>
            <a:miter/>
          </a:ln>
        </p:spPr>
      </p:pic>
      <p:pic>
        <p:nvPicPr>
          <p:cNvPr id="185" name="Picture 103" descr="industry_old_pipes_sld_sld"/>
          <p:cNvPicPr/>
          <p:nvPr/>
        </p:nvPicPr>
        <p:blipFill>
          <a:blip r:embed="rId2"/>
          <a:stretch/>
        </p:blipFill>
        <p:spPr>
          <a:xfrm>
            <a:off x="4114800" y="914400"/>
            <a:ext cx="1544400" cy="1158480"/>
          </a:xfrm>
          <a:prstGeom prst="rect">
            <a:avLst/>
          </a:prstGeom>
          <a:ln w="6350">
            <a:solidFill>
              <a:srgbClr val="000000"/>
            </a:solidFill>
            <a:miter/>
          </a:ln>
        </p:spPr>
      </p:pic>
      <p:pic>
        <p:nvPicPr>
          <p:cNvPr id="186" name="Picture 104" descr="industry_old_pipes_prt"/>
          <p:cNvPicPr/>
          <p:nvPr/>
        </p:nvPicPr>
        <p:blipFill>
          <a:blip r:embed="rId3"/>
          <a:stretch/>
        </p:blipFill>
        <p:spPr>
          <a:xfrm>
            <a:off x="5715000" y="914400"/>
            <a:ext cx="1544400" cy="1158480"/>
          </a:xfrm>
          <a:prstGeom prst="rect">
            <a:avLst/>
          </a:prstGeom>
          <a:ln w="6350">
            <a:solidFill>
              <a:srgbClr val="000000"/>
            </a:solidFill>
            <a:miter/>
          </a:ln>
        </p:spPr>
      </p:pic>
      <p:pic>
        <p:nvPicPr>
          <p:cNvPr id="187" name="Picture 105" descr="industry_old_pipes_trs"/>
          <p:cNvPicPr/>
          <p:nvPr/>
        </p:nvPicPr>
        <p:blipFill>
          <a:blip r:embed="rId4"/>
          <a:stretch/>
        </p:blipFill>
        <p:spPr>
          <a:xfrm>
            <a:off x="7315200" y="914400"/>
            <a:ext cx="1544400" cy="1158480"/>
          </a:xfrm>
          <a:prstGeom prst="rect">
            <a:avLst/>
          </a:prstGeom>
          <a:ln w="635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PPT192041342187">
  <a:themeElements>
    <a:clrScheme name="industry_old_pipes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PPT192041342187">
  <a:themeElements>
    <a:clrScheme name="industry_old_pipes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PPT192041342187">
  <a:themeElements>
    <a:clrScheme name="industry_old_pipes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PPT192041342187">
  <a:themeElements>
    <a:clrScheme name="industry_old_pipes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PPT192041342187</Template>
  <TotalTime>10</TotalTime>
  <Application>LibreOffice/7.4.7.2$Linux_X86_64 LibreOffice_project/40$Build-2</Application>
  <AppVersion>15.0000</AppVersion>
  <Words>90</Words>
  <Paragraphs>17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04T05:17:50Z</dcterms:created>
  <dc:creator>ppt宝藏</dc:creator>
  <dc:description/>
  <dc:language>en-US</dc:language>
  <cp:lastModifiedBy>a</cp:lastModifiedBy>
  <dcterms:modified xsi:type="dcterms:W3CDTF">2015-07-25T12:32:52Z</dcterms:modified>
  <cp:revision>2</cp:revision>
  <dc:subject/>
  <dc:title>www.pptbz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4:3)</vt:lpwstr>
  </property>
  <property fmtid="{D5CDD505-2E9C-101B-9397-08002B2CF9AE}" pid="3" name="Slides">
    <vt:r8>5</vt:r8>
  </property>
</Properties>
</file>