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071-3CB7-4190-AA73-851B18D9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B6C-0B9B-4222-9917-1D7B567B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998-1579-4017-9CBD-4D6360C7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E47-0638-4947-ABF3-65D04EB8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403-701B-4C3D-8A9F-16269B36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DF6-3BE3-4901-8DC3-D7C17B86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5E9-DAAA-426C-BB75-8A1BC9D0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45B-4F03-4E9C-A9AF-41437E0A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08A-1D04-4FC3-9546-A5D1BEE8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0B5-4B15-43D0-8C3E-FD14ED48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5D5-D722-4CBD-B334-046D28A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701-B65F-4C9A-89AD-C05D47C3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D20E15-2BE3-4005-967F-6B6B12B7CD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digital-1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2">
            <a:hlinkClick r:id="rId2"/>
          </p:cNvPr>
          <p:cNvSpPr/>
          <p:nvPr/>
        </p:nvSpPr>
        <p:spPr>
          <a:xfrm>
            <a:off x="740520" y="-218304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红色简约欧美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digital-10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2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digital-11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digital-2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digital-3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digital-4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9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digital-5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digital-6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digital-7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5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085760" y="63036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digital-8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digital-9-1024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0" name="矩形 2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29</Words>
  <Paragraphs>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7T15:41:36Z</dcterms:created>
  <dc:creator>www.pptbz.com</dc:creator>
  <dc:description/>
  <dc:language>en-US</dc:language>
  <cp:lastModifiedBy>a</cp:lastModifiedBy>
  <dcterms:modified xsi:type="dcterms:W3CDTF">2015-07-25T12:24:06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