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BDB-C430-4361-98A0-FA8AAA90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E80-ECA5-4EFD-9147-C34F8B0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D35-E3D3-4DF0-ADF0-351BF2F2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4AF-F069-413C-93A8-C6766D4E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94C-DD95-422A-A0A9-EE2AC714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604-C48F-478C-96D4-E5332E0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1665-954E-42F2-AC7F-C6D0E3A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CB0-6441-4E73-B212-F050A91B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3DA-C294-44DF-B0EB-4FD39C48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48C9-E741-4244-9B1B-420A52D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A3F8-702C-4E69-B6A4-B1D486F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69F-0861-4838-BD07-D3F07780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B8C-5179-4883-9CC9-F09CCE80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8360-8E2F-4768-8230-1956166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6EBF-FD9F-432C-813B-12D17C26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2AB0-D235-4705-BD81-B2EE0368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C4B1-34E9-42F7-ABE3-5FAB2F51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1F20-A0A4-41D1-AEA3-B144A15F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894F-14E8-4907-AF9A-7E83216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AB9F-B983-45E0-9E35-99E6778D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C599-A911-49D2-9C6F-8F69C52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568A-CDC7-40CC-98DC-C8E25762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1F6-1BE5-4E6C-AF30-24DC7CF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56F5-4BDA-4AA9-9848-3B1E1C9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B9A2-5673-42A6-9F7A-65C6A08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2C9B-2E42-4BDD-AA86-B8CDC47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4F66-BD35-43F9-BD65-6439332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2457-B62D-4B3D-8687-7FDBCF72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FE2E-7E84-4ADC-9F3A-72875AC3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A841-936F-4E59-A8C9-6181B454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FE1-1E67-4E1E-843C-BDA8CAE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2CA-16C1-4A57-8F20-20C2473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DF5-BC9E-40A8-B446-4362D50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4FE-E58D-45F9-8186-B2CE28E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1F4-B808-4E69-88F5-B770C37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E7A-CEFD-4FC0-B3DC-1858D5CD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42AC3C-B934-4A58-A553-270FAE288B12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ED5A8C-F860-4524-A9C8-50FBE692FB57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3036DD-4094-47F2-9CD2-7907FB78FC58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0" y="0"/>
            <a:ext cx="9143640" cy="6181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8" name="任意多边形 7"/>
          <p:cNvSpPr/>
          <p:nvPr/>
        </p:nvSpPr>
        <p:spPr>
          <a:xfrm rot="18991200">
            <a:off x="12960" y="239400"/>
            <a:ext cx="1046880" cy="138960"/>
          </a:xfrm>
          <a:custGeom>
            <a:avLst/>
            <a:gdLst>
              <a:gd name="textAreaLeft" fmla="*/ 0 w 1046880"/>
              <a:gd name="textAreaRight" fmla="*/ 1047240 w 1046880"/>
              <a:gd name="textAreaTop" fmla="*/ 0 h 138960"/>
              <a:gd name="textAreaBottom" fmla="*/ 139320 h 13896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任意多边形 13"/>
          <p:cNvSpPr/>
          <p:nvPr/>
        </p:nvSpPr>
        <p:spPr>
          <a:xfrm rot="18991200">
            <a:off x="1715760" y="1404000"/>
            <a:ext cx="7160040" cy="1224360"/>
          </a:xfrm>
          <a:custGeom>
            <a:avLst/>
            <a:gdLst>
              <a:gd name="textAreaLeft" fmla="*/ 0 w 7160040"/>
              <a:gd name="textAreaRight" fmla="*/ 7160400 w 7160040"/>
              <a:gd name="textAreaTop" fmla="*/ 0 h 1224360"/>
              <a:gd name="textAreaBottom" fmla="*/ 1224720 h 1224360"/>
            </a:gdLst>
            <a:ahLst/>
            <a:rect l="textAreaLeft" t="textAreaTop" r="textAreaRight" b="textAreaBottom"/>
            <a:pathLst>
              <a:path w="7160457" h="1224801">
                <a:moveTo>
                  <a:pt x="5868996" y="0"/>
                </a:moveTo>
                <a:lnTo>
                  <a:pt x="7160457" y="1224801"/>
                </a:lnTo>
                <a:lnTo>
                  <a:pt x="1278775" y="1224800"/>
                </a:lnTo>
                <a:lnTo>
                  <a:pt x="0" y="12032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8" name="任意多边形 18"/>
          <p:cNvSpPr/>
          <p:nvPr/>
        </p:nvSpPr>
        <p:spPr>
          <a:xfrm rot="18991200">
            <a:off x="2619720" y="3171240"/>
            <a:ext cx="5443560" cy="724680"/>
          </a:xfrm>
          <a:custGeom>
            <a:avLst/>
            <a:gdLst>
              <a:gd name="textAreaLeft" fmla="*/ 0 w 5443560"/>
              <a:gd name="textAreaRight" fmla="*/ 5443920 w 5443560"/>
              <a:gd name="textAreaTop" fmla="*/ 0 h 724680"/>
              <a:gd name="textAreaBottom" fmla="*/ 725040 h 72468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9" name="任意多边形 19"/>
          <p:cNvSpPr/>
          <p:nvPr/>
        </p:nvSpPr>
        <p:spPr>
          <a:xfrm rot="18991200">
            <a:off x="4375080" y="4299480"/>
            <a:ext cx="2311200" cy="30744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0" name="文本框 21"/>
          <p:cNvSpPr/>
          <p:nvPr/>
        </p:nvSpPr>
        <p:spPr>
          <a:xfrm rot="18981600">
            <a:off x="3215160" y="1642680"/>
            <a:ext cx="4245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简约橙色背景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2"/>
          <p:cNvSpPr/>
          <p:nvPr/>
        </p:nvSpPr>
        <p:spPr>
          <a:xfrm rot="18981600">
            <a:off x="4577400" y="3058200"/>
            <a:ext cx="20098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添加幻灯片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3"/>
          <p:cNvSpPr/>
          <p:nvPr/>
        </p:nvSpPr>
        <p:spPr>
          <a:xfrm rot="18981600">
            <a:off x="6495120" y="2541600"/>
            <a:ext cx="1689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50000"/>
                  </a:schemeClr>
                </a:solidFill>
                <a:latin typeface="微软雅黑"/>
                <a:ea typeface="微软雅黑"/>
              </a:rPr>
              <a:t>此处添加公司名称或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7"/>
          <p:cNvGrpSpPr/>
          <p:nvPr/>
        </p:nvGrpSpPr>
        <p:grpSpPr>
          <a:xfrm>
            <a:off x="565920" y="479880"/>
            <a:ext cx="882360" cy="906480"/>
            <a:chOff x="565920" y="479880"/>
            <a:chExt cx="882360" cy="906480"/>
          </a:xfrm>
        </p:grpSpPr>
        <p:sp>
          <p:nvSpPr>
            <p:cNvPr id="134" name="矩形 25"/>
            <p:cNvSpPr/>
            <p:nvPr/>
          </p:nvSpPr>
          <p:spPr>
            <a:xfrm>
              <a:off x="565920" y="479880"/>
              <a:ext cx="882360" cy="882360"/>
            </a:xfrm>
            <a:prstGeom prst="rect">
              <a:avLst/>
            </a:prstGeom>
            <a:noFill/>
            <a:ln>
              <a:solidFill>
                <a:srgbClr val="0a0a0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pic>
          <p:nvPicPr>
            <p:cNvPr id="135" name="图片 26" descr=""/>
            <p:cNvPicPr/>
            <p:nvPr/>
          </p:nvPicPr>
          <p:blipFill>
            <a:blip r:embed="rId1"/>
            <a:stretch/>
          </p:blipFill>
          <p:spPr>
            <a:xfrm>
              <a:off x="653760" y="539280"/>
              <a:ext cx="706680" cy="84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12"/>
          <p:cNvSpPr/>
          <p:nvPr/>
        </p:nvSpPr>
        <p:spPr>
          <a:xfrm>
            <a:off x="254160" y="46350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a0a0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a0a0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a0a0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2"/>
          <p:cNvSpPr/>
          <p:nvPr/>
        </p:nvSpPr>
        <p:spPr>
          <a:xfrm rot="18991200">
            <a:off x="-366840" y="901440"/>
            <a:ext cx="3936960" cy="52380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8" name="文本框 3"/>
          <p:cNvSpPr/>
          <p:nvPr/>
        </p:nvSpPr>
        <p:spPr>
          <a:xfrm rot="18981600">
            <a:off x="735480" y="1479240"/>
            <a:ext cx="546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 rot="18981600">
            <a:off x="1073520" y="757080"/>
            <a:ext cx="14277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 rot="18991200">
            <a:off x="-218160" y="2357280"/>
            <a:ext cx="2311200" cy="30744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1" name="组合 24"/>
          <p:cNvGrpSpPr/>
          <p:nvPr/>
        </p:nvGrpSpPr>
        <p:grpSpPr>
          <a:xfrm>
            <a:off x="4146840" y="757440"/>
            <a:ext cx="3337560" cy="699120"/>
            <a:chOff x="4146840" y="757440"/>
            <a:chExt cx="3337560" cy="699120"/>
          </a:xfrm>
        </p:grpSpPr>
        <p:sp>
          <p:nvSpPr>
            <p:cNvPr id="142" name="文本框 8"/>
            <p:cNvSpPr/>
            <p:nvPr/>
          </p:nvSpPr>
          <p:spPr>
            <a:xfrm>
              <a:off x="5474520" y="87192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11"/>
            <p:cNvGrpSpPr/>
            <p:nvPr/>
          </p:nvGrpSpPr>
          <p:grpSpPr>
            <a:xfrm>
              <a:off x="4146840" y="757440"/>
              <a:ext cx="701280" cy="699120"/>
              <a:chOff x="4146840" y="757440"/>
              <a:chExt cx="701280" cy="699120"/>
            </a:xfrm>
          </p:grpSpPr>
          <p:sp>
            <p:nvSpPr>
              <p:cNvPr id="144" name="任意多边形 9"/>
              <p:cNvSpPr/>
              <p:nvPr/>
            </p:nvSpPr>
            <p:spPr>
              <a:xfrm rot="18991200">
                <a:off x="4366800" y="109044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45" name="文本框 10"/>
              <p:cNvSpPr/>
              <p:nvPr/>
            </p:nvSpPr>
            <p:spPr>
              <a:xfrm>
                <a:off x="4146840" y="75744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25"/>
          <p:cNvGrpSpPr/>
          <p:nvPr/>
        </p:nvGrpSpPr>
        <p:grpSpPr>
          <a:xfrm>
            <a:off x="3551400" y="1682280"/>
            <a:ext cx="3337200" cy="699120"/>
            <a:chOff x="3551400" y="1682280"/>
            <a:chExt cx="3337200" cy="699120"/>
          </a:xfrm>
        </p:grpSpPr>
        <p:sp>
          <p:nvSpPr>
            <p:cNvPr id="147" name="文本框 12"/>
            <p:cNvSpPr/>
            <p:nvPr/>
          </p:nvSpPr>
          <p:spPr>
            <a:xfrm>
              <a:off x="4878720" y="179676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3"/>
            <p:cNvGrpSpPr/>
            <p:nvPr/>
          </p:nvGrpSpPr>
          <p:grpSpPr>
            <a:xfrm>
              <a:off x="3551400" y="1682280"/>
              <a:ext cx="700920" cy="699120"/>
              <a:chOff x="3551400" y="1682280"/>
              <a:chExt cx="700920" cy="699120"/>
            </a:xfrm>
          </p:grpSpPr>
          <p:sp>
            <p:nvSpPr>
              <p:cNvPr id="149" name="任意多边形 14"/>
              <p:cNvSpPr/>
              <p:nvPr/>
            </p:nvSpPr>
            <p:spPr>
              <a:xfrm rot="18991200">
                <a:off x="3771000" y="201528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50" name="文本框 15"/>
              <p:cNvSpPr/>
              <p:nvPr/>
            </p:nvSpPr>
            <p:spPr>
              <a:xfrm>
                <a:off x="3551400" y="168228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组合 26"/>
          <p:cNvGrpSpPr/>
          <p:nvPr/>
        </p:nvGrpSpPr>
        <p:grpSpPr>
          <a:xfrm>
            <a:off x="2955600" y="2607120"/>
            <a:ext cx="3337560" cy="699120"/>
            <a:chOff x="2955600" y="2607120"/>
            <a:chExt cx="3337560" cy="699120"/>
          </a:xfrm>
        </p:grpSpPr>
        <p:sp>
          <p:nvSpPr>
            <p:cNvPr id="152" name="文本框 16"/>
            <p:cNvSpPr/>
            <p:nvPr/>
          </p:nvSpPr>
          <p:spPr>
            <a:xfrm>
              <a:off x="4283280" y="272160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17"/>
            <p:cNvGrpSpPr/>
            <p:nvPr/>
          </p:nvGrpSpPr>
          <p:grpSpPr>
            <a:xfrm>
              <a:off x="2955600" y="2607120"/>
              <a:ext cx="701280" cy="699120"/>
              <a:chOff x="2955600" y="2607120"/>
              <a:chExt cx="701280" cy="699120"/>
            </a:xfrm>
          </p:grpSpPr>
          <p:sp>
            <p:nvSpPr>
              <p:cNvPr id="154" name="任意多边形 18"/>
              <p:cNvSpPr/>
              <p:nvPr/>
            </p:nvSpPr>
            <p:spPr>
              <a:xfrm rot="18991200">
                <a:off x="3175560" y="294012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55" name="文本框 19"/>
              <p:cNvSpPr/>
              <p:nvPr/>
            </p:nvSpPr>
            <p:spPr>
              <a:xfrm>
                <a:off x="2955600" y="260712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27"/>
          <p:cNvGrpSpPr/>
          <p:nvPr/>
        </p:nvGrpSpPr>
        <p:grpSpPr>
          <a:xfrm>
            <a:off x="2360160" y="3532320"/>
            <a:ext cx="3337200" cy="699120"/>
            <a:chOff x="2360160" y="3532320"/>
            <a:chExt cx="3337200" cy="699120"/>
          </a:xfrm>
        </p:grpSpPr>
        <p:sp>
          <p:nvSpPr>
            <p:cNvPr id="157" name="文本框 20"/>
            <p:cNvSpPr/>
            <p:nvPr/>
          </p:nvSpPr>
          <p:spPr>
            <a:xfrm>
              <a:off x="3687480" y="364644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21"/>
            <p:cNvGrpSpPr/>
            <p:nvPr/>
          </p:nvGrpSpPr>
          <p:grpSpPr>
            <a:xfrm>
              <a:off x="2360160" y="3532320"/>
              <a:ext cx="700920" cy="699120"/>
              <a:chOff x="2360160" y="3532320"/>
              <a:chExt cx="700920" cy="699120"/>
            </a:xfrm>
          </p:grpSpPr>
          <p:sp>
            <p:nvSpPr>
              <p:cNvPr id="159" name="任意多边形 22"/>
              <p:cNvSpPr/>
              <p:nvPr/>
            </p:nvSpPr>
            <p:spPr>
              <a:xfrm rot="18991200">
                <a:off x="2579760" y="386532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0" name="文本框 23"/>
              <p:cNvSpPr/>
              <p:nvPr/>
            </p:nvSpPr>
            <p:spPr>
              <a:xfrm>
                <a:off x="2360160" y="353232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>
            <a:off x="331560" y="2612520"/>
            <a:ext cx="8420040" cy="356760"/>
          </a:xfrm>
          <a:custGeom>
            <a:avLst/>
            <a:gdLst>
              <a:gd name="textAreaLeft" fmla="*/ 0 w 8420040"/>
              <a:gd name="textAreaRight" fmla="*/ 8420400 w 842004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7709727" h="357051">
                <a:moveTo>
                  <a:pt x="0" y="0"/>
                </a:moveTo>
                <a:lnTo>
                  <a:pt x="7531202" y="0"/>
                </a:lnTo>
                <a:lnTo>
                  <a:pt x="7709727" y="178526"/>
                </a:lnTo>
                <a:lnTo>
                  <a:pt x="7531202" y="357051"/>
                </a:lnTo>
                <a:lnTo>
                  <a:pt x="0" y="357051"/>
                </a:lnTo>
                <a:lnTo>
                  <a:pt x="178525" y="178526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63" name="组合 3"/>
          <p:cNvGrpSpPr/>
          <p:nvPr/>
        </p:nvGrpSpPr>
        <p:grpSpPr>
          <a:xfrm>
            <a:off x="908640" y="2246760"/>
            <a:ext cx="1088280" cy="1088280"/>
            <a:chOff x="908640" y="2246760"/>
            <a:chExt cx="1088280" cy="1088280"/>
          </a:xfrm>
        </p:grpSpPr>
        <p:grpSp>
          <p:nvGrpSpPr>
            <p:cNvPr id="164" name="组合 4"/>
            <p:cNvGrpSpPr/>
            <p:nvPr/>
          </p:nvGrpSpPr>
          <p:grpSpPr>
            <a:xfrm>
              <a:off x="908640" y="2246760"/>
              <a:ext cx="1088280" cy="1088280"/>
              <a:chOff x="908640" y="2246760"/>
              <a:chExt cx="1088280" cy="1088280"/>
            </a:xfrm>
          </p:grpSpPr>
          <p:sp>
            <p:nvSpPr>
              <p:cNvPr id="165" name="椭圆 7"/>
              <p:cNvSpPr/>
              <p:nvPr/>
            </p:nvSpPr>
            <p:spPr>
              <a:xfrm>
                <a:off x="90864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6" name="椭圆 8"/>
              <p:cNvSpPr/>
              <p:nvPr/>
            </p:nvSpPr>
            <p:spPr>
              <a:xfrm>
                <a:off x="100440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67" name="文本框 5"/>
            <p:cNvSpPr/>
            <p:nvPr/>
          </p:nvSpPr>
          <p:spPr>
            <a:xfrm>
              <a:off x="13057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"/>
            <p:cNvSpPr/>
            <p:nvPr/>
          </p:nvSpPr>
          <p:spPr>
            <a:xfrm>
              <a:off x="127836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9"/>
          <p:cNvGrpSpPr/>
          <p:nvPr/>
        </p:nvGrpSpPr>
        <p:grpSpPr>
          <a:xfrm>
            <a:off x="2458440" y="2246760"/>
            <a:ext cx="1088280" cy="1088280"/>
            <a:chOff x="2458440" y="2246760"/>
            <a:chExt cx="1088280" cy="1088280"/>
          </a:xfrm>
        </p:grpSpPr>
        <p:grpSp>
          <p:nvGrpSpPr>
            <p:cNvPr id="170" name="组合 10"/>
            <p:cNvGrpSpPr/>
            <p:nvPr/>
          </p:nvGrpSpPr>
          <p:grpSpPr>
            <a:xfrm>
              <a:off x="2458440" y="2246760"/>
              <a:ext cx="1088280" cy="1088280"/>
              <a:chOff x="2458440" y="2246760"/>
              <a:chExt cx="1088280" cy="1088280"/>
            </a:xfrm>
          </p:grpSpPr>
          <p:sp>
            <p:nvSpPr>
              <p:cNvPr id="171" name="椭圆 13"/>
              <p:cNvSpPr/>
              <p:nvPr/>
            </p:nvSpPr>
            <p:spPr>
              <a:xfrm>
                <a:off x="245844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椭圆 14"/>
              <p:cNvSpPr/>
              <p:nvPr/>
            </p:nvSpPr>
            <p:spPr>
              <a:xfrm>
                <a:off x="2554200" y="2342520"/>
                <a:ext cx="896760" cy="896760"/>
              </a:xfrm>
              <a:prstGeom prst="ellipse">
                <a:avLst/>
              </a:prstGeom>
              <a:solidFill>
                <a:schemeClr val="accent2"/>
              </a:solidFill>
              <a:ln w="38100">
                <a:solidFill>
                  <a:srgbClr val="ffc000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3" name="文本框 11"/>
            <p:cNvSpPr/>
            <p:nvPr/>
          </p:nvSpPr>
          <p:spPr>
            <a:xfrm>
              <a:off x="285768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83032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5"/>
          <p:cNvGrpSpPr/>
          <p:nvPr/>
        </p:nvGrpSpPr>
        <p:grpSpPr>
          <a:xfrm>
            <a:off x="4007880" y="2246760"/>
            <a:ext cx="1088280" cy="1088280"/>
            <a:chOff x="4007880" y="2246760"/>
            <a:chExt cx="1088280" cy="1088280"/>
          </a:xfrm>
        </p:grpSpPr>
        <p:grpSp>
          <p:nvGrpSpPr>
            <p:cNvPr id="176" name="组合 16"/>
            <p:cNvGrpSpPr/>
            <p:nvPr/>
          </p:nvGrpSpPr>
          <p:grpSpPr>
            <a:xfrm>
              <a:off x="4007880" y="2246760"/>
              <a:ext cx="1088280" cy="1088280"/>
              <a:chOff x="4007880" y="2246760"/>
              <a:chExt cx="1088280" cy="1088280"/>
            </a:xfrm>
          </p:grpSpPr>
          <p:sp>
            <p:nvSpPr>
              <p:cNvPr id="177" name="椭圆 19"/>
              <p:cNvSpPr/>
              <p:nvPr/>
            </p:nvSpPr>
            <p:spPr>
              <a:xfrm>
                <a:off x="40078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8" name="椭圆 20"/>
              <p:cNvSpPr/>
              <p:nvPr/>
            </p:nvSpPr>
            <p:spPr>
              <a:xfrm>
                <a:off x="410400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9" name="文本框 17"/>
            <p:cNvSpPr/>
            <p:nvPr/>
          </p:nvSpPr>
          <p:spPr>
            <a:xfrm>
              <a:off x="44053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8"/>
            <p:cNvSpPr/>
            <p:nvPr/>
          </p:nvSpPr>
          <p:spPr>
            <a:xfrm>
              <a:off x="437796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1"/>
          <p:cNvGrpSpPr/>
          <p:nvPr/>
        </p:nvGrpSpPr>
        <p:grpSpPr>
          <a:xfrm>
            <a:off x="5557680" y="2246760"/>
            <a:ext cx="1088280" cy="1088280"/>
            <a:chOff x="5557680" y="2246760"/>
            <a:chExt cx="1088280" cy="1088280"/>
          </a:xfrm>
        </p:grpSpPr>
        <p:grpSp>
          <p:nvGrpSpPr>
            <p:cNvPr id="182" name="组合 22"/>
            <p:cNvGrpSpPr/>
            <p:nvPr/>
          </p:nvGrpSpPr>
          <p:grpSpPr>
            <a:xfrm>
              <a:off x="5557680" y="2246760"/>
              <a:ext cx="1088280" cy="1088280"/>
              <a:chOff x="5557680" y="2246760"/>
              <a:chExt cx="1088280" cy="1088280"/>
            </a:xfrm>
          </p:grpSpPr>
          <p:sp>
            <p:nvSpPr>
              <p:cNvPr id="183" name="椭圆 25"/>
              <p:cNvSpPr/>
              <p:nvPr/>
            </p:nvSpPr>
            <p:spPr>
              <a:xfrm>
                <a:off x="55576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4" name="椭圆 26"/>
              <p:cNvSpPr/>
              <p:nvPr/>
            </p:nvSpPr>
            <p:spPr>
              <a:xfrm>
                <a:off x="5653440" y="2342520"/>
                <a:ext cx="896760" cy="896760"/>
              </a:xfrm>
              <a:prstGeom prst="ellipse">
                <a:avLst/>
              </a:prstGeom>
              <a:solidFill>
                <a:schemeClr val="accent2"/>
              </a:solidFill>
              <a:ln w="38100">
                <a:solidFill>
                  <a:srgbClr val="ffc000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85" name="文本框 23"/>
            <p:cNvSpPr/>
            <p:nvPr/>
          </p:nvSpPr>
          <p:spPr>
            <a:xfrm>
              <a:off x="595728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24"/>
            <p:cNvSpPr/>
            <p:nvPr/>
          </p:nvSpPr>
          <p:spPr>
            <a:xfrm>
              <a:off x="592992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7"/>
          <p:cNvGrpSpPr/>
          <p:nvPr/>
        </p:nvGrpSpPr>
        <p:grpSpPr>
          <a:xfrm>
            <a:off x="7107480" y="2246760"/>
            <a:ext cx="1088280" cy="1088280"/>
            <a:chOff x="7107480" y="2246760"/>
            <a:chExt cx="1088280" cy="1088280"/>
          </a:xfrm>
        </p:grpSpPr>
        <p:grpSp>
          <p:nvGrpSpPr>
            <p:cNvPr id="188" name="组合 28"/>
            <p:cNvGrpSpPr/>
            <p:nvPr/>
          </p:nvGrpSpPr>
          <p:grpSpPr>
            <a:xfrm>
              <a:off x="7107480" y="2246760"/>
              <a:ext cx="1088280" cy="1088280"/>
              <a:chOff x="7107480" y="2246760"/>
              <a:chExt cx="1088280" cy="1088280"/>
            </a:xfrm>
          </p:grpSpPr>
          <p:sp>
            <p:nvSpPr>
              <p:cNvPr id="189" name="椭圆 31"/>
              <p:cNvSpPr/>
              <p:nvPr/>
            </p:nvSpPr>
            <p:spPr>
              <a:xfrm>
                <a:off x="71074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90" name="椭圆 32"/>
              <p:cNvSpPr/>
              <p:nvPr/>
            </p:nvSpPr>
            <p:spPr>
              <a:xfrm>
                <a:off x="720324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91" name="文本框 29"/>
            <p:cNvSpPr/>
            <p:nvPr/>
          </p:nvSpPr>
          <p:spPr>
            <a:xfrm>
              <a:off x="75049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30"/>
            <p:cNvSpPr/>
            <p:nvPr/>
          </p:nvSpPr>
          <p:spPr>
            <a:xfrm>
              <a:off x="747720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3"/>
          <p:cNvGrpSpPr/>
          <p:nvPr/>
        </p:nvGrpSpPr>
        <p:grpSpPr>
          <a:xfrm>
            <a:off x="567000" y="1047600"/>
            <a:ext cx="1771560" cy="808200"/>
            <a:chOff x="567000" y="1047600"/>
            <a:chExt cx="1771560" cy="808200"/>
          </a:xfrm>
        </p:grpSpPr>
        <p:sp>
          <p:nvSpPr>
            <p:cNvPr id="194" name="TextBox 81"/>
            <p:cNvSpPr/>
            <p:nvPr/>
          </p:nvSpPr>
          <p:spPr>
            <a:xfrm>
              <a:off x="56700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82"/>
            <p:cNvSpPr/>
            <p:nvPr/>
          </p:nvSpPr>
          <p:spPr>
            <a:xfrm>
              <a:off x="64692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36"/>
          <p:cNvGrpSpPr/>
          <p:nvPr/>
        </p:nvGrpSpPr>
        <p:grpSpPr>
          <a:xfrm>
            <a:off x="3666240" y="1047600"/>
            <a:ext cx="1771560" cy="808200"/>
            <a:chOff x="3666240" y="1047600"/>
            <a:chExt cx="1771560" cy="808200"/>
          </a:xfrm>
        </p:grpSpPr>
        <p:sp>
          <p:nvSpPr>
            <p:cNvPr id="197" name="TextBox 81"/>
            <p:cNvSpPr/>
            <p:nvPr/>
          </p:nvSpPr>
          <p:spPr>
            <a:xfrm>
              <a:off x="366624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82"/>
            <p:cNvSpPr/>
            <p:nvPr/>
          </p:nvSpPr>
          <p:spPr>
            <a:xfrm>
              <a:off x="374616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39"/>
          <p:cNvGrpSpPr/>
          <p:nvPr/>
        </p:nvGrpSpPr>
        <p:grpSpPr>
          <a:xfrm>
            <a:off x="6765840" y="1047600"/>
            <a:ext cx="1771560" cy="808200"/>
            <a:chOff x="6765840" y="1047600"/>
            <a:chExt cx="1771560" cy="808200"/>
          </a:xfrm>
        </p:grpSpPr>
        <p:sp>
          <p:nvSpPr>
            <p:cNvPr id="200" name="TextBox 81"/>
            <p:cNvSpPr/>
            <p:nvPr/>
          </p:nvSpPr>
          <p:spPr>
            <a:xfrm>
              <a:off x="676584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82"/>
            <p:cNvSpPr/>
            <p:nvPr/>
          </p:nvSpPr>
          <p:spPr>
            <a:xfrm>
              <a:off x="684576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2116800" y="3587760"/>
            <a:ext cx="1771560" cy="808200"/>
            <a:chOff x="2116800" y="3587760"/>
            <a:chExt cx="1771560" cy="808200"/>
          </a:xfrm>
        </p:grpSpPr>
        <p:sp>
          <p:nvSpPr>
            <p:cNvPr id="203" name="TextBox 81"/>
            <p:cNvSpPr/>
            <p:nvPr/>
          </p:nvSpPr>
          <p:spPr>
            <a:xfrm>
              <a:off x="2116800" y="358776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82"/>
            <p:cNvSpPr/>
            <p:nvPr/>
          </p:nvSpPr>
          <p:spPr>
            <a:xfrm>
              <a:off x="2196360" y="382680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5"/>
          <p:cNvGrpSpPr/>
          <p:nvPr/>
        </p:nvGrpSpPr>
        <p:grpSpPr>
          <a:xfrm>
            <a:off x="5216040" y="3587760"/>
            <a:ext cx="1771560" cy="808200"/>
            <a:chOff x="5216040" y="3587760"/>
            <a:chExt cx="1771560" cy="808200"/>
          </a:xfrm>
        </p:grpSpPr>
        <p:sp>
          <p:nvSpPr>
            <p:cNvPr id="206" name="TextBox 81"/>
            <p:cNvSpPr/>
            <p:nvPr/>
          </p:nvSpPr>
          <p:spPr>
            <a:xfrm>
              <a:off x="5216040" y="358776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82"/>
            <p:cNvSpPr/>
            <p:nvPr/>
          </p:nvSpPr>
          <p:spPr>
            <a:xfrm>
              <a:off x="5295960" y="382680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4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" descr=""/>
          <p:cNvPicPr/>
          <p:nvPr/>
        </p:nvPicPr>
        <p:blipFill>
          <a:blip r:embed="rId1"/>
          <a:stretch/>
        </p:blipFill>
        <p:spPr>
          <a:xfrm>
            <a:off x="4665600" y="84636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6" descr=""/>
          <p:cNvPicPr/>
          <p:nvPr/>
        </p:nvPicPr>
        <p:blipFill>
          <a:blip r:embed="rId2"/>
          <a:stretch/>
        </p:blipFill>
        <p:spPr>
          <a:xfrm>
            <a:off x="1908000" y="273132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7" descr=""/>
          <p:cNvPicPr/>
          <p:nvPr/>
        </p:nvPicPr>
        <p:blipFill>
          <a:blip r:embed="rId3"/>
          <a:stretch/>
        </p:blipFill>
        <p:spPr>
          <a:xfrm>
            <a:off x="1908000" y="84636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8" descr=""/>
          <p:cNvPicPr/>
          <p:nvPr/>
        </p:nvPicPr>
        <p:blipFill>
          <a:blip r:embed="rId4"/>
          <a:stretch/>
        </p:blipFill>
        <p:spPr>
          <a:xfrm>
            <a:off x="4665600" y="2731320"/>
            <a:ext cx="2569680" cy="171324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9"/>
          <p:cNvGrpSpPr/>
          <p:nvPr/>
        </p:nvGrpSpPr>
        <p:grpSpPr>
          <a:xfrm>
            <a:off x="3757680" y="1830960"/>
            <a:ext cx="1628640" cy="1628640"/>
            <a:chOff x="3757680" y="1830960"/>
            <a:chExt cx="1628640" cy="1628640"/>
          </a:xfrm>
        </p:grpSpPr>
        <p:sp>
          <p:nvSpPr>
            <p:cNvPr id="214" name="矩形 10"/>
            <p:cNvSpPr/>
            <p:nvPr/>
          </p:nvSpPr>
          <p:spPr>
            <a:xfrm rot="2700000">
              <a:off x="3996000" y="2069280"/>
              <a:ext cx="1151640" cy="1151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5" name="矩形 11"/>
            <p:cNvSpPr/>
            <p:nvPr/>
          </p:nvSpPr>
          <p:spPr>
            <a:xfrm rot="2700000">
              <a:off x="4122000" y="2195280"/>
              <a:ext cx="899640" cy="899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6" name="文本框 12"/>
            <p:cNvSpPr/>
            <p:nvPr/>
          </p:nvSpPr>
          <p:spPr>
            <a:xfrm>
              <a:off x="4271760" y="25149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关键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13"/>
          <p:cNvSpPr/>
          <p:nvPr/>
        </p:nvSpPr>
        <p:spPr>
          <a:xfrm>
            <a:off x="1526760" y="4610520"/>
            <a:ext cx="6089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4"/>
          <p:cNvGrpSpPr/>
          <p:nvPr/>
        </p:nvGrpSpPr>
        <p:grpSpPr>
          <a:xfrm>
            <a:off x="7422840" y="835920"/>
            <a:ext cx="1296000" cy="570240"/>
            <a:chOff x="7422840" y="835920"/>
            <a:chExt cx="1296000" cy="570240"/>
          </a:xfrm>
        </p:grpSpPr>
        <p:sp>
          <p:nvSpPr>
            <p:cNvPr id="219" name="文本框 15"/>
            <p:cNvSpPr/>
            <p:nvPr/>
          </p:nvSpPr>
          <p:spPr>
            <a:xfrm>
              <a:off x="7423200" y="84600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直接连接符 16"/>
            <p:cNvCxnSpPr/>
            <p:nvPr/>
          </p:nvCxnSpPr>
          <p:spPr>
            <a:xfrm>
              <a:off x="7422840" y="83592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1" name="组合 17"/>
          <p:cNvGrpSpPr/>
          <p:nvPr/>
        </p:nvGrpSpPr>
        <p:grpSpPr>
          <a:xfrm>
            <a:off x="7400160" y="2731320"/>
            <a:ext cx="1296000" cy="570240"/>
            <a:chOff x="7400160" y="2731320"/>
            <a:chExt cx="1296000" cy="570240"/>
          </a:xfrm>
        </p:grpSpPr>
        <p:sp>
          <p:nvSpPr>
            <p:cNvPr id="222" name="文本框 18"/>
            <p:cNvSpPr/>
            <p:nvPr/>
          </p:nvSpPr>
          <p:spPr>
            <a:xfrm>
              <a:off x="7400160" y="274140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直接连接符 19"/>
            <p:cNvCxnSpPr/>
            <p:nvPr/>
          </p:nvCxnSpPr>
          <p:spPr>
            <a:xfrm>
              <a:off x="7400160" y="273132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4" name="组合 20"/>
          <p:cNvGrpSpPr/>
          <p:nvPr/>
        </p:nvGrpSpPr>
        <p:grpSpPr>
          <a:xfrm>
            <a:off x="447480" y="846000"/>
            <a:ext cx="1296000" cy="570240"/>
            <a:chOff x="447480" y="846000"/>
            <a:chExt cx="1296000" cy="570240"/>
          </a:xfrm>
        </p:grpSpPr>
        <p:sp>
          <p:nvSpPr>
            <p:cNvPr id="225" name="文本框 21"/>
            <p:cNvSpPr/>
            <p:nvPr/>
          </p:nvSpPr>
          <p:spPr>
            <a:xfrm>
              <a:off x="447840" y="85608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直接连接符 22"/>
            <p:cNvCxnSpPr/>
            <p:nvPr/>
          </p:nvCxnSpPr>
          <p:spPr>
            <a:xfrm>
              <a:off x="447480" y="84600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7" name="组合 23"/>
          <p:cNvGrpSpPr/>
          <p:nvPr/>
        </p:nvGrpSpPr>
        <p:grpSpPr>
          <a:xfrm>
            <a:off x="424800" y="2741040"/>
            <a:ext cx="1296000" cy="570600"/>
            <a:chOff x="424800" y="2741040"/>
            <a:chExt cx="1296000" cy="570600"/>
          </a:xfrm>
        </p:grpSpPr>
        <p:sp>
          <p:nvSpPr>
            <p:cNvPr id="228" name="文本框 24"/>
            <p:cNvSpPr/>
            <p:nvPr/>
          </p:nvSpPr>
          <p:spPr>
            <a:xfrm>
              <a:off x="424800" y="275148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直接连接符 25"/>
            <p:cNvCxnSpPr/>
            <p:nvPr/>
          </p:nvCxnSpPr>
          <p:spPr>
            <a:xfrm>
              <a:off x="424800" y="274104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48"/>
          <p:cNvSpPr/>
          <p:nvPr/>
        </p:nvSpPr>
        <p:spPr>
          <a:xfrm>
            <a:off x="3300480" y="1454040"/>
            <a:ext cx="2490480" cy="2490480"/>
          </a:xfrm>
          <a:custGeom>
            <a:avLst/>
            <a:gdLst>
              <a:gd name="textAreaLeft" fmla="*/ 0 w 2490480"/>
              <a:gd name="textAreaRight" fmla="*/ 2490840 w 2490480"/>
              <a:gd name="textAreaTop" fmla="*/ 0 h 2490480"/>
              <a:gd name="textAreaBottom" fmla="*/ 2490840 h 2490480"/>
            </a:gdLst>
            <a:ahLst/>
            <a:rect l="textAreaLeft" t="textAreaTop" r="textAreaRight" b="textAreaBottom"/>
            <a:pathLst>
              <a:path w="2490788" h="2490788">
                <a:moveTo>
                  <a:pt x="1245393" y="116680"/>
                </a:moveTo>
                <a:cubicBezTo>
                  <a:pt x="622022" y="116680"/>
                  <a:pt x="116680" y="622022"/>
                  <a:pt x="116680" y="1245393"/>
                </a:cubicBezTo>
                <a:cubicBezTo>
                  <a:pt x="116680" y="1868764"/>
                  <a:pt x="622022" y="2374106"/>
                  <a:pt x="1245393" y="2374106"/>
                </a:cubicBezTo>
                <a:cubicBezTo>
                  <a:pt x="1868764" y="2374106"/>
                  <a:pt x="2374106" y="1868764"/>
                  <a:pt x="2374106" y="1245393"/>
                </a:cubicBezTo>
                <a:cubicBezTo>
                  <a:pt x="2374106" y="622022"/>
                  <a:pt x="1868764" y="116680"/>
                  <a:pt x="1245393" y="116680"/>
                </a:cubicBezTo>
                <a:close/>
                <a:moveTo>
                  <a:pt x="1245394" y="0"/>
                </a:moveTo>
                <a:cubicBezTo>
                  <a:pt x="1933206" y="0"/>
                  <a:pt x="2490788" y="557582"/>
                  <a:pt x="2490788" y="1245394"/>
                </a:cubicBezTo>
                <a:cubicBezTo>
                  <a:pt x="2490788" y="1933206"/>
                  <a:pt x="1933206" y="2490788"/>
                  <a:pt x="1245394" y="2490788"/>
                </a:cubicBezTo>
                <a:cubicBezTo>
                  <a:pt x="557582" y="2490788"/>
                  <a:pt x="0" y="1933206"/>
                  <a:pt x="0" y="1245394"/>
                </a:cubicBezTo>
                <a:cubicBezTo>
                  <a:pt x="0" y="557582"/>
                  <a:pt x="557582" y="0"/>
                  <a:pt x="1245394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32" name="组合 49"/>
          <p:cNvGrpSpPr/>
          <p:nvPr/>
        </p:nvGrpSpPr>
        <p:grpSpPr>
          <a:xfrm>
            <a:off x="4077720" y="1125720"/>
            <a:ext cx="935640" cy="935640"/>
            <a:chOff x="4077720" y="1125720"/>
            <a:chExt cx="935640" cy="935640"/>
          </a:xfrm>
        </p:grpSpPr>
        <p:grpSp>
          <p:nvGrpSpPr>
            <p:cNvPr id="233" name="组合 50"/>
            <p:cNvGrpSpPr/>
            <p:nvPr/>
          </p:nvGrpSpPr>
          <p:grpSpPr>
            <a:xfrm>
              <a:off x="4077720" y="1125720"/>
              <a:ext cx="935640" cy="935640"/>
              <a:chOff x="4077720" y="1125720"/>
              <a:chExt cx="935640" cy="935640"/>
            </a:xfrm>
          </p:grpSpPr>
          <p:sp>
            <p:nvSpPr>
              <p:cNvPr id="234" name="椭圆 52"/>
              <p:cNvSpPr/>
              <p:nvPr/>
            </p:nvSpPr>
            <p:spPr>
              <a:xfrm>
                <a:off x="4077720" y="112572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5" name="椭圆 53"/>
              <p:cNvSpPr/>
              <p:nvPr/>
            </p:nvSpPr>
            <p:spPr>
              <a:xfrm>
                <a:off x="4149720" y="119772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6" name="文本框 51"/>
            <p:cNvSpPr/>
            <p:nvPr/>
          </p:nvSpPr>
          <p:spPr>
            <a:xfrm>
              <a:off x="4443840" y="129852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54"/>
          <p:cNvGrpSpPr/>
          <p:nvPr/>
        </p:nvGrpSpPr>
        <p:grpSpPr>
          <a:xfrm>
            <a:off x="3141720" y="2849760"/>
            <a:ext cx="935640" cy="935640"/>
            <a:chOff x="3141720" y="2849760"/>
            <a:chExt cx="935640" cy="935640"/>
          </a:xfrm>
        </p:grpSpPr>
        <p:grpSp>
          <p:nvGrpSpPr>
            <p:cNvPr id="238" name="组合 55"/>
            <p:cNvGrpSpPr/>
            <p:nvPr/>
          </p:nvGrpSpPr>
          <p:grpSpPr>
            <a:xfrm>
              <a:off x="3141720" y="2849760"/>
              <a:ext cx="935640" cy="935640"/>
              <a:chOff x="3141720" y="2849760"/>
              <a:chExt cx="935640" cy="935640"/>
            </a:xfrm>
          </p:grpSpPr>
          <p:sp>
            <p:nvSpPr>
              <p:cNvPr id="239" name="椭圆 57"/>
              <p:cNvSpPr/>
              <p:nvPr/>
            </p:nvSpPr>
            <p:spPr>
              <a:xfrm>
                <a:off x="3141720" y="284976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0" name="椭圆 58"/>
              <p:cNvSpPr/>
              <p:nvPr/>
            </p:nvSpPr>
            <p:spPr>
              <a:xfrm>
                <a:off x="3213720" y="292176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41" name="文本框 56"/>
            <p:cNvSpPr/>
            <p:nvPr/>
          </p:nvSpPr>
          <p:spPr>
            <a:xfrm>
              <a:off x="3507840" y="305604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9"/>
          <p:cNvGrpSpPr/>
          <p:nvPr/>
        </p:nvGrpSpPr>
        <p:grpSpPr>
          <a:xfrm>
            <a:off x="5013720" y="2849760"/>
            <a:ext cx="935640" cy="935640"/>
            <a:chOff x="5013720" y="2849760"/>
            <a:chExt cx="935640" cy="935640"/>
          </a:xfrm>
        </p:grpSpPr>
        <p:grpSp>
          <p:nvGrpSpPr>
            <p:cNvPr id="243" name="组合 60"/>
            <p:cNvGrpSpPr/>
            <p:nvPr/>
          </p:nvGrpSpPr>
          <p:grpSpPr>
            <a:xfrm>
              <a:off x="5013720" y="2849760"/>
              <a:ext cx="935640" cy="935640"/>
              <a:chOff x="5013720" y="2849760"/>
              <a:chExt cx="935640" cy="935640"/>
            </a:xfrm>
          </p:grpSpPr>
          <p:sp>
            <p:nvSpPr>
              <p:cNvPr id="244" name="椭圆 62"/>
              <p:cNvSpPr/>
              <p:nvPr/>
            </p:nvSpPr>
            <p:spPr>
              <a:xfrm>
                <a:off x="5013720" y="284976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5" name="椭圆 63"/>
              <p:cNvSpPr/>
              <p:nvPr/>
            </p:nvSpPr>
            <p:spPr>
              <a:xfrm>
                <a:off x="5085720" y="292176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46" name="文本框 61"/>
            <p:cNvSpPr/>
            <p:nvPr/>
          </p:nvSpPr>
          <p:spPr>
            <a:xfrm>
              <a:off x="5379840" y="305604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矩形 64"/>
          <p:cNvSpPr/>
          <p:nvPr/>
        </p:nvSpPr>
        <p:spPr>
          <a:xfrm>
            <a:off x="3764160" y="2469960"/>
            <a:ext cx="156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a0a0a"/>
                </a:solidFill>
                <a:latin typeface="微软雅黑"/>
                <a:ea typeface="微软雅黑"/>
              </a:rPr>
              <a:t>此处添加关键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65"/>
          <p:cNvGrpSpPr/>
          <p:nvPr/>
        </p:nvGrpSpPr>
        <p:grpSpPr>
          <a:xfrm>
            <a:off x="543240" y="2609640"/>
            <a:ext cx="2307240" cy="603000"/>
            <a:chOff x="543240" y="2609640"/>
            <a:chExt cx="2307240" cy="603000"/>
          </a:xfrm>
        </p:grpSpPr>
        <p:sp>
          <p:nvSpPr>
            <p:cNvPr id="249" name="TextBox 81"/>
            <p:cNvSpPr/>
            <p:nvPr/>
          </p:nvSpPr>
          <p:spPr>
            <a:xfrm>
              <a:off x="543240" y="2609640"/>
              <a:ext cx="2307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82"/>
            <p:cNvSpPr/>
            <p:nvPr/>
          </p:nvSpPr>
          <p:spPr>
            <a:xfrm>
              <a:off x="623160" y="2883240"/>
              <a:ext cx="2227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68"/>
          <p:cNvGrpSpPr/>
          <p:nvPr/>
        </p:nvGrpSpPr>
        <p:grpSpPr>
          <a:xfrm>
            <a:off x="6240960" y="2609640"/>
            <a:ext cx="2307240" cy="603000"/>
            <a:chOff x="6240960" y="2609640"/>
            <a:chExt cx="2307240" cy="603000"/>
          </a:xfrm>
        </p:grpSpPr>
        <p:sp>
          <p:nvSpPr>
            <p:cNvPr id="252" name="TextBox 81"/>
            <p:cNvSpPr/>
            <p:nvPr/>
          </p:nvSpPr>
          <p:spPr>
            <a:xfrm>
              <a:off x="6240960" y="2609640"/>
              <a:ext cx="2307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82"/>
            <p:cNvSpPr/>
            <p:nvPr/>
          </p:nvSpPr>
          <p:spPr>
            <a:xfrm>
              <a:off x="6320520" y="2883240"/>
              <a:ext cx="2227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71"/>
          <p:cNvGrpSpPr/>
          <p:nvPr/>
        </p:nvGrpSpPr>
        <p:grpSpPr>
          <a:xfrm>
            <a:off x="5586840" y="829800"/>
            <a:ext cx="2961360" cy="603000"/>
            <a:chOff x="5586840" y="829800"/>
            <a:chExt cx="2961360" cy="603000"/>
          </a:xfrm>
        </p:grpSpPr>
        <p:sp>
          <p:nvSpPr>
            <p:cNvPr id="255" name="TextBox 81"/>
            <p:cNvSpPr/>
            <p:nvPr/>
          </p:nvSpPr>
          <p:spPr>
            <a:xfrm>
              <a:off x="5586840" y="829800"/>
              <a:ext cx="2199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82"/>
            <p:cNvSpPr/>
            <p:nvPr/>
          </p:nvSpPr>
          <p:spPr>
            <a:xfrm>
              <a:off x="5663160" y="1103400"/>
              <a:ext cx="28850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74"/>
          <p:cNvSpPr/>
          <p:nvPr/>
        </p:nvSpPr>
        <p:spPr>
          <a:xfrm>
            <a:off x="1526760" y="4175280"/>
            <a:ext cx="6089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任意多边形 13"/>
          <p:cNvSpPr/>
          <p:nvPr/>
        </p:nvSpPr>
        <p:spPr>
          <a:xfrm rot="18991200">
            <a:off x="1715760" y="1404000"/>
            <a:ext cx="7160040" cy="1224360"/>
          </a:xfrm>
          <a:custGeom>
            <a:avLst/>
            <a:gdLst>
              <a:gd name="textAreaLeft" fmla="*/ 0 w 7160040"/>
              <a:gd name="textAreaRight" fmla="*/ 7160400 w 7160040"/>
              <a:gd name="textAreaTop" fmla="*/ 0 h 1224360"/>
              <a:gd name="textAreaBottom" fmla="*/ 1224720 h 1224360"/>
            </a:gdLst>
            <a:ahLst/>
            <a:rect l="textAreaLeft" t="textAreaTop" r="textAreaRight" b="textAreaBottom"/>
            <a:pathLst>
              <a:path w="7160457" h="1224801">
                <a:moveTo>
                  <a:pt x="5868996" y="0"/>
                </a:moveTo>
                <a:lnTo>
                  <a:pt x="7160457" y="1224801"/>
                </a:lnTo>
                <a:lnTo>
                  <a:pt x="1278775" y="1224800"/>
                </a:lnTo>
                <a:lnTo>
                  <a:pt x="0" y="12032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59" name="任意多边形 18"/>
          <p:cNvSpPr/>
          <p:nvPr/>
        </p:nvSpPr>
        <p:spPr>
          <a:xfrm rot="18991200">
            <a:off x="2744640" y="3666240"/>
            <a:ext cx="4076280" cy="542520"/>
          </a:xfrm>
          <a:custGeom>
            <a:avLst/>
            <a:gdLst>
              <a:gd name="textAreaLeft" fmla="*/ 0 w 4076280"/>
              <a:gd name="textAreaRight" fmla="*/ 4076640 w 407628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0" name="文本框 21"/>
          <p:cNvSpPr/>
          <p:nvPr/>
        </p:nvSpPr>
        <p:spPr>
          <a:xfrm rot="18981600">
            <a:off x="4377240" y="1716480"/>
            <a:ext cx="1629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599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 rot="18981600">
            <a:off x="4178520" y="3616560"/>
            <a:ext cx="15220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处添加公司或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60</TotalTime>
  <Application>LibreOffice/7.4.7.2$Linux_X86_64 LibreOffice_project/40$Build-2</Application>
  <AppVersion>15.0000</AppVersion>
  <Words>468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3:08:07Z</dcterms:created>
  <dc:creator>www.pptbz.com</dc:creator>
  <dc:description/>
  <dc:language>en-US</dc:language>
  <cp:lastModifiedBy>a</cp:lastModifiedBy>
  <dcterms:modified xsi:type="dcterms:W3CDTF">2015-07-25T12:27:4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