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商务绿红\未标题-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BC0238D7C4B44b61901A439D144B4024#&#9;#Picture 6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253E5F567C444e229252379B5BF19A83#&#9;#Picture 4"/>
          <p:cNvPicPr/>
          <p:nvPr/>
        </p:nvPicPr>
        <p:blipFill>
          <a:blip r:embed="rId2"/>
          <a:srcRect l="74415" t="0" r="0" b="0"/>
          <a:stretch/>
        </p:blipFill>
        <p:spPr>
          <a:xfrm>
            <a:off x="6804000" y="0"/>
            <a:ext cx="2340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-333360" y="407880"/>
            <a:ext cx="72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致商务动态效果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0" y="0"/>
            <a:ext cx="419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6FFE015C6FAC441d83C06E4DB04EB1BA#&#9;#Picture 5"/>
          <p:cNvPicPr/>
          <p:nvPr/>
        </p:nvPicPr>
        <p:blipFill>
          <a:blip r:embed="rId3"/>
          <a:srcRect l="69900" t="19261" r="22502" b="70192"/>
          <a:stretch/>
        </p:blipFill>
        <p:spPr>
          <a:xfrm>
            <a:off x="6391440" y="990720"/>
            <a:ext cx="69516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D535F29BFA1B4a9cB892BA51CDA4E0DA#&#9;#Picture 5"/>
          <p:cNvPicPr/>
          <p:nvPr/>
        </p:nvPicPr>
        <p:blipFill>
          <a:blip r:embed="rId4"/>
          <a:srcRect l="69900" t="19261" r="22502" b="70192"/>
          <a:stretch/>
        </p:blipFill>
        <p:spPr>
          <a:xfrm>
            <a:off x="7126200" y="3067200"/>
            <a:ext cx="69552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AB64755D31764e2dA40809DC0A73D229#&#9;#Picture 5"/>
          <p:cNvPicPr/>
          <p:nvPr/>
        </p:nvPicPr>
        <p:blipFill>
          <a:blip r:embed="rId5"/>
          <a:srcRect l="69900" t="19261" r="22502" b="70192"/>
          <a:stretch/>
        </p:blipFill>
        <p:spPr>
          <a:xfrm>
            <a:off x="108000" y="3324240"/>
            <a:ext cx="525240" cy="40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8FD70934E8343ca9720EF08F553C7F0#&#9;#Picture 5"/>
          <p:cNvPicPr/>
          <p:nvPr/>
        </p:nvPicPr>
        <p:blipFill>
          <a:blip r:embed="rId6"/>
          <a:srcRect l="69900" t="19261" r="22502" b="70192"/>
          <a:stretch/>
        </p:blipFill>
        <p:spPr>
          <a:xfrm>
            <a:off x="-255600" y="1611360"/>
            <a:ext cx="565200" cy="442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A0693EC77411436cA8684FF1DBDF6024#&#9;#Picture 5"/>
          <p:cNvPicPr/>
          <p:nvPr/>
        </p:nvPicPr>
        <p:blipFill>
          <a:blip r:embed="rId7"/>
          <a:srcRect l="69900" t="19261" r="22502" b="70192"/>
          <a:stretch/>
        </p:blipFill>
        <p:spPr>
          <a:xfrm>
            <a:off x="8442360" y="3300480"/>
            <a:ext cx="466560" cy="363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46CE692E82A4232883884F2686EE58D#&#9;#Picture 5"/>
          <p:cNvPicPr/>
          <p:nvPr/>
        </p:nvPicPr>
        <p:blipFill>
          <a:blip r:embed="rId8"/>
          <a:srcRect l="69900" t="19261" r="22502" b="70192"/>
          <a:stretch/>
        </p:blipFill>
        <p:spPr>
          <a:xfrm>
            <a:off x="6773760" y="1666800"/>
            <a:ext cx="486000" cy="37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8CE977A6AC9E4f49A4E254FB74668CF5#&#9;#Picture 2"/>
          <p:cNvPicPr/>
          <p:nvPr/>
        </p:nvPicPr>
        <p:blipFill>
          <a:blip r:embed="rId9"/>
          <a:srcRect l="42398" t="26295" r="43701" b="53338"/>
          <a:stretch/>
        </p:blipFill>
        <p:spPr>
          <a:xfrm>
            <a:off x="5580000" y="1352520"/>
            <a:ext cx="1271520" cy="1047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6E6E6266DA044b8eB35FFF2CBBA76942#&#9;#Picture 2"/>
          <p:cNvPicPr/>
          <p:nvPr/>
        </p:nvPicPr>
        <p:blipFill>
          <a:blip r:embed="rId10"/>
          <a:srcRect l="56322" t="25672" r="25892" b="53961"/>
          <a:stretch/>
        </p:blipFill>
        <p:spPr>
          <a:xfrm>
            <a:off x="5148360" y="1352520"/>
            <a:ext cx="1625400" cy="1047960"/>
          </a:xfrm>
          <a:prstGeom prst="rect">
            <a:avLst/>
          </a:prstGeom>
          <a:ln w="0">
            <a:noFill/>
          </a:ln>
        </p:spPr>
      </p:pic>
      <p:sp>
        <p:nvSpPr>
          <p:cNvPr id="89" name="矩形 12"/>
          <p:cNvSpPr/>
          <p:nvPr/>
        </p:nvSpPr>
        <p:spPr>
          <a:xfrm>
            <a:off x="625320" y="4883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6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7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" dur="7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1875 -4.81481E-006 E">
                                      <p:cBhvr>
                                        <p:cTn id="23" dur="7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E:\新模板\商务绿红\未标题-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E:\新模板\商务绿红\未标题-5.png"/>
          <p:cNvPicPr/>
          <p:nvPr/>
        </p:nvPicPr>
        <p:blipFill>
          <a:blip r:embed="rId2"/>
          <a:srcRect l="74415" t="0" r="0" b="0"/>
          <a:stretch/>
        </p:blipFill>
        <p:spPr>
          <a:xfrm>
            <a:off x="6804000" y="0"/>
            <a:ext cx="2340000" cy="5143680"/>
          </a:xfrm>
          <a:prstGeom prst="rect">
            <a:avLst/>
          </a:prstGeom>
          <a:ln w="0">
            <a:noFill/>
          </a:ln>
        </p:spPr>
      </p:pic>
      <p:sp>
        <p:nvSpPr>
          <p:cNvPr id="304" name="矩形 18"/>
          <p:cNvSpPr/>
          <p:nvPr/>
        </p:nvSpPr>
        <p:spPr>
          <a:xfrm>
            <a:off x="0" y="0"/>
            <a:ext cx="419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5" descr="E:\新模板\商务绿红\未标题-6.png"/>
          <p:cNvPicPr/>
          <p:nvPr/>
        </p:nvPicPr>
        <p:blipFill>
          <a:blip r:embed="rId3"/>
          <a:srcRect l="69900" t="19261" r="22502" b="70192"/>
          <a:stretch/>
        </p:blipFill>
        <p:spPr>
          <a:xfrm>
            <a:off x="6391440" y="990720"/>
            <a:ext cx="69516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E:\新模板\商务绿红\未标题-6.png"/>
          <p:cNvPicPr/>
          <p:nvPr/>
        </p:nvPicPr>
        <p:blipFill>
          <a:blip r:embed="rId4"/>
          <a:srcRect l="69900" t="19261" r="22502" b="70192"/>
          <a:stretch/>
        </p:blipFill>
        <p:spPr>
          <a:xfrm>
            <a:off x="7126200" y="3067200"/>
            <a:ext cx="69552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E:\新模板\商务绿红\未标题-6.png"/>
          <p:cNvPicPr/>
          <p:nvPr/>
        </p:nvPicPr>
        <p:blipFill>
          <a:blip r:embed="rId5"/>
          <a:srcRect l="69900" t="19261" r="22502" b="70192"/>
          <a:stretch/>
        </p:blipFill>
        <p:spPr>
          <a:xfrm>
            <a:off x="108000" y="3324240"/>
            <a:ext cx="525240" cy="409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E:\新模板\商务绿红\未标题-6.png"/>
          <p:cNvPicPr/>
          <p:nvPr/>
        </p:nvPicPr>
        <p:blipFill>
          <a:blip r:embed="rId6"/>
          <a:srcRect l="69900" t="19261" r="22502" b="70192"/>
          <a:stretch/>
        </p:blipFill>
        <p:spPr>
          <a:xfrm>
            <a:off x="-255600" y="1611360"/>
            <a:ext cx="565200" cy="442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E:\新模板\商务绿红\未标题-6.png"/>
          <p:cNvPicPr/>
          <p:nvPr/>
        </p:nvPicPr>
        <p:blipFill>
          <a:blip r:embed="rId7"/>
          <a:srcRect l="69900" t="19261" r="22502" b="70192"/>
          <a:stretch/>
        </p:blipFill>
        <p:spPr>
          <a:xfrm>
            <a:off x="8442360" y="3300480"/>
            <a:ext cx="466560" cy="363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E:\新模板\商务绿红\未标题-6.png"/>
          <p:cNvPicPr/>
          <p:nvPr/>
        </p:nvPicPr>
        <p:blipFill>
          <a:blip r:embed="rId8"/>
          <a:srcRect l="69900" t="19261" r="22502" b="70192"/>
          <a:stretch/>
        </p:blipFill>
        <p:spPr>
          <a:xfrm>
            <a:off x="6773760" y="1666800"/>
            <a:ext cx="486000" cy="379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E:\新模板\商务绿红\未标题-7.png"/>
          <p:cNvPicPr/>
          <p:nvPr/>
        </p:nvPicPr>
        <p:blipFill>
          <a:blip r:embed="rId9"/>
          <a:srcRect l="42398" t="26295" r="43701" b="53338"/>
          <a:stretch/>
        </p:blipFill>
        <p:spPr>
          <a:xfrm>
            <a:off x="5580000" y="1352520"/>
            <a:ext cx="1271520" cy="10479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8"/>
          <p:cNvSpPr/>
          <p:nvPr/>
        </p:nvSpPr>
        <p:spPr>
          <a:xfrm>
            <a:off x="1006920" y="3219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52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7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57" dur="7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1875 -4.81481E-006 E">
                                      <p:cBhvr>
                                        <p:cTn id="359" dur="7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09640" y="141912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914400" y="1276200"/>
            <a:ext cx="7315200" cy="23781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081080" y="163512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瀚合网络科技有限公司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的核心业务主要为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1290600" y="941400"/>
            <a:ext cx="6562800" cy="546120"/>
            <a:chOff x="1290600" y="941400"/>
            <a:chExt cx="6562800" cy="546120"/>
          </a:xfrm>
        </p:grpSpPr>
        <p:sp>
          <p:nvSpPr>
            <p:cNvPr id="96" name="AutoShape 3"/>
            <p:cNvSpPr/>
            <p:nvPr/>
          </p:nvSpPr>
          <p:spPr>
            <a:xfrm>
              <a:off x="1290600" y="113328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3"/>
            <p:cNvSpPr/>
            <p:nvPr/>
          </p:nvSpPr>
          <p:spPr>
            <a:xfrm>
              <a:off x="1354680" y="941400"/>
              <a:ext cx="6434280" cy="4827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3151440" y="102672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1290600" y="1812960"/>
            <a:ext cx="6562800" cy="546120"/>
            <a:chOff x="1290600" y="1812960"/>
            <a:chExt cx="6562800" cy="546120"/>
          </a:xfrm>
        </p:grpSpPr>
        <p:grpSp>
          <p:nvGrpSpPr>
            <p:cNvPr id="100" name="Group 8"/>
            <p:cNvGrpSpPr/>
            <p:nvPr/>
          </p:nvGrpSpPr>
          <p:grpSpPr>
            <a:xfrm>
              <a:off x="1290600" y="1812960"/>
              <a:ext cx="6562800" cy="546120"/>
              <a:chOff x="1290600" y="1812960"/>
              <a:chExt cx="6562800" cy="546120"/>
            </a:xfrm>
          </p:grpSpPr>
          <p:sp>
            <p:nvSpPr>
              <p:cNvPr id="101" name="AutoShape 3"/>
              <p:cNvSpPr/>
              <p:nvPr/>
            </p:nvSpPr>
            <p:spPr>
              <a:xfrm>
                <a:off x="1290600" y="200484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AutoShape 3"/>
              <p:cNvSpPr/>
              <p:nvPr/>
            </p:nvSpPr>
            <p:spPr>
              <a:xfrm>
                <a:off x="1355400" y="181296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Rectangle 13"/>
            <p:cNvSpPr/>
            <p:nvPr/>
          </p:nvSpPr>
          <p:spPr>
            <a:xfrm>
              <a:off x="3151440" y="18982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2"/>
          <p:cNvGrpSpPr/>
          <p:nvPr/>
        </p:nvGrpSpPr>
        <p:grpSpPr>
          <a:xfrm>
            <a:off x="1290600" y="2685960"/>
            <a:ext cx="6562800" cy="546120"/>
            <a:chOff x="1290600" y="2685960"/>
            <a:chExt cx="6562800" cy="546120"/>
          </a:xfrm>
        </p:grpSpPr>
        <p:sp>
          <p:nvSpPr>
            <p:cNvPr id="105" name="AutoShape 3"/>
            <p:cNvSpPr/>
            <p:nvPr/>
          </p:nvSpPr>
          <p:spPr>
            <a:xfrm>
              <a:off x="1290600" y="28778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3"/>
            <p:cNvSpPr/>
            <p:nvPr/>
          </p:nvSpPr>
          <p:spPr>
            <a:xfrm>
              <a:off x="1354680" y="2685960"/>
              <a:ext cx="6434280" cy="4827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151440" y="27712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6"/>
          <p:cNvGrpSpPr/>
          <p:nvPr/>
        </p:nvGrpSpPr>
        <p:grpSpPr>
          <a:xfrm>
            <a:off x="1290600" y="3557520"/>
            <a:ext cx="6562800" cy="546120"/>
            <a:chOff x="1290600" y="3557520"/>
            <a:chExt cx="6562800" cy="546120"/>
          </a:xfrm>
        </p:grpSpPr>
        <p:grpSp>
          <p:nvGrpSpPr>
            <p:cNvPr id="109" name="Group 17"/>
            <p:cNvGrpSpPr/>
            <p:nvPr/>
          </p:nvGrpSpPr>
          <p:grpSpPr>
            <a:xfrm>
              <a:off x="1290600" y="3557520"/>
              <a:ext cx="6562800" cy="546120"/>
              <a:chOff x="1290600" y="3557520"/>
              <a:chExt cx="6562800" cy="546120"/>
            </a:xfrm>
          </p:grpSpPr>
          <p:sp>
            <p:nvSpPr>
              <p:cNvPr id="110" name="AutoShape 3"/>
              <p:cNvSpPr/>
              <p:nvPr/>
            </p:nvSpPr>
            <p:spPr>
              <a:xfrm>
                <a:off x="1290600" y="37494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AutoShape 3"/>
              <p:cNvSpPr/>
              <p:nvPr/>
            </p:nvSpPr>
            <p:spPr>
              <a:xfrm>
                <a:off x="1355400" y="35575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2" name="Rectangle 13"/>
            <p:cNvSpPr/>
            <p:nvPr/>
          </p:nvSpPr>
          <p:spPr>
            <a:xfrm>
              <a:off x="3151440" y="364284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290600" y="207648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1355760" y="1884240"/>
            <a:ext cx="6432480" cy="4827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151080" y="19699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357200" y="771480"/>
            <a:ext cx="1036800" cy="1036800"/>
            <a:chOff x="1357200" y="771480"/>
            <a:chExt cx="1036800" cy="1036800"/>
          </a:xfrm>
        </p:grpSpPr>
        <p:sp>
          <p:nvSpPr>
            <p:cNvPr id="119" name="空心弧 42"/>
            <p:cNvSpPr/>
            <p:nvPr/>
          </p:nvSpPr>
          <p:spPr>
            <a:xfrm>
              <a:off x="1357200" y="771480"/>
              <a:ext cx="1036800" cy="103680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1036799" y="519147"/>
                  </a:moveTo>
                  <a:cubicBezTo>
                    <a:pt x="1036387" y="805329"/>
                    <a:pt x="804148" y="1037039"/>
                    <a:pt x="517966" y="1036800"/>
                  </a:cubicBezTo>
                  <a:cubicBezTo>
                    <a:pt x="231784" y="1036561"/>
                    <a:pt x="-67" y="804462"/>
                    <a:pt x="-1" y="518280"/>
                  </a:cubicBezTo>
                  <a:cubicBezTo>
                    <a:pt x="65" y="232098"/>
                    <a:pt x="232024" y="107"/>
                    <a:pt x="518206" y="0"/>
                  </a:cubicBezTo>
                  <a:cubicBezTo>
                    <a:pt x="518239" y="87022"/>
                    <a:pt x="518271" y="174044"/>
                    <a:pt x="518304" y="261066"/>
                  </a:cubicBezTo>
                  <a:cubicBezTo>
                    <a:pt x="376243" y="261119"/>
                    <a:pt x="261099" y="376279"/>
                    <a:pt x="261066" y="518340"/>
                  </a:cubicBezTo>
                  <a:cubicBezTo>
                    <a:pt x="261033" y="660401"/>
                    <a:pt x="376124" y="775615"/>
                    <a:pt x="518185" y="775733"/>
                  </a:cubicBezTo>
                  <a:cubicBezTo>
                    <a:pt x="660246" y="775852"/>
                    <a:pt x="775529" y="660831"/>
                    <a:pt x="775734" y="518770"/>
                  </a:cubicBezTo>
                  <a:lnTo>
                    <a:pt x="1036799" y="51914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空心弧 43"/>
            <p:cNvSpPr/>
            <p:nvPr/>
          </p:nvSpPr>
          <p:spPr>
            <a:xfrm>
              <a:off x="1357200" y="771480"/>
              <a:ext cx="1036800" cy="103680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cubicBezTo>
                    <a:pt x="805457" y="683"/>
                    <a:pt x="1036800" y="232578"/>
                    <a:pt x="1036800" y="518400"/>
                  </a:cubicBezTo>
                  <a:lnTo>
                    <a:pt x="777600" y="518400"/>
                  </a:lnTo>
                  <a:cubicBezTo>
                    <a:pt x="777600" y="375489"/>
                    <a:pt x="661929" y="259542"/>
                    <a:pt x="519018" y="259201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1589040" y="11224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7"/>
          <p:cNvGrpSpPr/>
          <p:nvPr/>
        </p:nvGrpSpPr>
        <p:grpSpPr>
          <a:xfrm>
            <a:off x="3154320" y="771480"/>
            <a:ext cx="1036800" cy="1036800"/>
            <a:chOff x="3154320" y="771480"/>
            <a:chExt cx="1036800" cy="1036800"/>
          </a:xfrm>
        </p:grpSpPr>
        <p:sp>
          <p:nvSpPr>
            <p:cNvPr id="123" name="空心弧 46"/>
            <p:cNvSpPr/>
            <p:nvPr/>
          </p:nvSpPr>
          <p:spPr>
            <a:xfrm>
              <a:off x="3154320" y="771480"/>
              <a:ext cx="1036800" cy="103680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7906" y="1036800"/>
                  </a:moveTo>
                  <a:cubicBezTo>
                    <a:pt x="231736" y="1036527"/>
                    <a:pt x="-83" y="804420"/>
                    <a:pt x="0" y="518250"/>
                  </a:cubicBezTo>
                  <a:cubicBezTo>
                    <a:pt x="83" y="232080"/>
                    <a:pt x="232036" y="107"/>
                    <a:pt x="518207" y="0"/>
                  </a:cubicBezTo>
                  <a:cubicBezTo>
                    <a:pt x="518239" y="87022"/>
                    <a:pt x="518272" y="174044"/>
                    <a:pt x="518304" y="261066"/>
                  </a:cubicBezTo>
                  <a:cubicBezTo>
                    <a:pt x="376249" y="261119"/>
                    <a:pt x="261107" y="376270"/>
                    <a:pt x="261066" y="518325"/>
                  </a:cubicBezTo>
                  <a:cubicBezTo>
                    <a:pt x="261025" y="660380"/>
                    <a:pt x="376100" y="775598"/>
                    <a:pt x="518155" y="775733"/>
                  </a:cubicBezTo>
                  <a:lnTo>
                    <a:pt x="517906" y="1036800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空心弧 47"/>
            <p:cNvSpPr/>
            <p:nvPr/>
          </p:nvSpPr>
          <p:spPr>
            <a:xfrm>
              <a:off x="3154320" y="771480"/>
              <a:ext cx="1036800" cy="103680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cubicBezTo>
                    <a:pt x="805350" y="682"/>
                    <a:pt x="1036648" y="232410"/>
                    <a:pt x="1036800" y="518124"/>
                  </a:cubicBezTo>
                  <a:cubicBezTo>
                    <a:pt x="1036952" y="803838"/>
                    <a:pt x="805899" y="1035811"/>
                    <a:pt x="520186" y="1036796"/>
                  </a:cubicBezTo>
                  <a:cubicBezTo>
                    <a:pt x="519885" y="949343"/>
                    <a:pt x="519583" y="861889"/>
                    <a:pt x="519282" y="774436"/>
                  </a:cubicBezTo>
                  <a:cubicBezTo>
                    <a:pt x="660396" y="773950"/>
                    <a:pt x="774513" y="659378"/>
                    <a:pt x="774438" y="518264"/>
                  </a:cubicBezTo>
                  <a:cubicBezTo>
                    <a:pt x="774363" y="377150"/>
                    <a:pt x="660125" y="262699"/>
                    <a:pt x="519011" y="262363"/>
                  </a:cubicBezTo>
                  <a:cubicBezTo>
                    <a:pt x="519219" y="174909"/>
                    <a:pt x="519428" y="87455"/>
                    <a:pt x="519636" y="1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3386160" y="11224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4952880" y="771480"/>
            <a:ext cx="1036800" cy="1036800"/>
            <a:chOff x="4952880" y="771480"/>
            <a:chExt cx="1036800" cy="1036800"/>
          </a:xfrm>
        </p:grpSpPr>
        <p:sp>
          <p:nvSpPr>
            <p:cNvPr id="127" name="空心弧 50"/>
            <p:cNvSpPr/>
            <p:nvPr/>
          </p:nvSpPr>
          <p:spPr>
            <a:xfrm>
              <a:off x="4952880" y="771480"/>
              <a:ext cx="1036800" cy="103680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1" y="519499"/>
                  </a:moveTo>
                  <a:cubicBezTo>
                    <a:pt x="-291" y="381854"/>
                    <a:pt x="54171" y="249744"/>
                    <a:pt x="151379" y="152293"/>
                  </a:cubicBezTo>
                  <a:cubicBezTo>
                    <a:pt x="248587" y="54842"/>
                    <a:pt x="380561" y="51"/>
                    <a:pt x="518207" y="0"/>
                  </a:cubicBezTo>
                  <a:cubicBezTo>
                    <a:pt x="518239" y="87022"/>
                    <a:pt x="518272" y="174044"/>
                    <a:pt x="518304" y="261066"/>
                  </a:cubicBezTo>
                  <a:cubicBezTo>
                    <a:pt x="449977" y="261091"/>
                    <a:pt x="384465" y="288290"/>
                    <a:pt x="336211" y="336664"/>
                  </a:cubicBezTo>
                  <a:cubicBezTo>
                    <a:pt x="287957" y="385039"/>
                    <a:pt x="260922" y="450618"/>
                    <a:pt x="261067" y="518945"/>
                  </a:cubicBezTo>
                  <a:lnTo>
                    <a:pt x="1" y="519499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空心弧 51"/>
            <p:cNvSpPr/>
            <p:nvPr/>
          </p:nvSpPr>
          <p:spPr>
            <a:xfrm>
              <a:off x="4952880" y="771480"/>
              <a:ext cx="1036800" cy="103680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cubicBezTo>
                    <a:pt x="805779" y="683"/>
                    <a:pt x="1037254" y="233081"/>
                    <a:pt x="1036799" y="519224"/>
                  </a:cubicBezTo>
                  <a:cubicBezTo>
                    <a:pt x="1036344" y="805367"/>
                    <a:pt x="804131" y="1037027"/>
                    <a:pt x="517988" y="1036800"/>
                  </a:cubicBezTo>
                  <a:cubicBezTo>
                    <a:pt x="231845" y="1036573"/>
                    <a:pt x="0" y="804544"/>
                    <a:pt x="0" y="518400"/>
                  </a:cubicBezTo>
                  <a:lnTo>
                    <a:pt x="260963" y="518400"/>
                  </a:lnTo>
                  <a:cubicBezTo>
                    <a:pt x="260963" y="660499"/>
                    <a:pt x="376097" y="775724"/>
                    <a:pt x="518195" y="775837"/>
                  </a:cubicBezTo>
                  <a:cubicBezTo>
                    <a:pt x="660294" y="775950"/>
                    <a:pt x="775610" y="660908"/>
                    <a:pt x="775836" y="518809"/>
                  </a:cubicBezTo>
                  <a:cubicBezTo>
                    <a:pt x="776062" y="376711"/>
                    <a:pt x="661111" y="261302"/>
                    <a:pt x="519013" y="260963"/>
                  </a:cubicBezTo>
                  <a:cubicBezTo>
                    <a:pt x="519221" y="173976"/>
                    <a:pt x="519428" y="86988"/>
                    <a:pt x="519636" y="1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184720" y="11224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6750000" y="771480"/>
            <a:ext cx="1036800" cy="1036800"/>
            <a:chOff x="6750000" y="771480"/>
            <a:chExt cx="1036800" cy="1036800"/>
          </a:xfrm>
        </p:grpSpPr>
        <p:sp>
          <p:nvSpPr>
            <p:cNvPr id="131" name="同心圆 54"/>
            <p:cNvSpPr/>
            <p:nvPr/>
          </p:nvSpPr>
          <p:spPr>
            <a:xfrm>
              <a:off x="6750000" y="771480"/>
              <a:ext cx="1036800" cy="103680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0" y="518400"/>
                  </a:moveTo>
                  <a:cubicBezTo>
                    <a:pt x="0" y="232096"/>
                    <a:pt x="232096" y="0"/>
                    <a:pt x="518400" y="0"/>
                  </a:cubicBezTo>
                  <a:cubicBezTo>
                    <a:pt x="804704" y="0"/>
                    <a:pt x="1036800" y="232096"/>
                    <a:pt x="1036800" y="518400"/>
                  </a:cubicBezTo>
                  <a:cubicBezTo>
                    <a:pt x="1036800" y="804704"/>
                    <a:pt x="804704" y="1036800"/>
                    <a:pt x="518400" y="1036800"/>
                  </a:cubicBezTo>
                  <a:cubicBezTo>
                    <a:pt x="232096" y="1036800"/>
                    <a:pt x="0" y="804704"/>
                    <a:pt x="0" y="518400"/>
                  </a:cubicBezTo>
                  <a:close/>
                  <a:moveTo>
                    <a:pt x="259200" y="518400"/>
                  </a:moveTo>
                  <a:cubicBezTo>
                    <a:pt x="259200" y="661552"/>
                    <a:pt x="375248" y="777600"/>
                    <a:pt x="518400" y="777600"/>
                  </a:cubicBezTo>
                  <a:cubicBezTo>
                    <a:pt x="661552" y="777600"/>
                    <a:pt x="777600" y="661552"/>
                    <a:pt x="777600" y="518400"/>
                  </a:cubicBezTo>
                  <a:cubicBezTo>
                    <a:pt x="777600" y="375248"/>
                    <a:pt x="661552" y="259200"/>
                    <a:pt x="518400" y="259200"/>
                  </a:cubicBezTo>
                  <a:cubicBezTo>
                    <a:pt x="375248" y="259200"/>
                    <a:pt x="259200" y="375248"/>
                    <a:pt x="259200" y="518400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6981840" y="11224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18"/>
          <p:cNvGrpSpPr/>
          <p:nvPr/>
        </p:nvGrpSpPr>
        <p:grpSpPr>
          <a:xfrm>
            <a:off x="1616040" y="1854360"/>
            <a:ext cx="519120" cy="347400"/>
            <a:chOff x="1616040" y="1854360"/>
            <a:chExt cx="519120" cy="347400"/>
          </a:xfrm>
        </p:grpSpPr>
        <p:sp>
          <p:nvSpPr>
            <p:cNvPr id="134" name="燕尾形 57"/>
            <p:cNvSpPr/>
            <p:nvPr/>
          </p:nvSpPr>
          <p:spPr>
            <a:xfrm rot="5400000">
              <a:off x="1778040" y="1692360"/>
              <a:ext cx="195120" cy="519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燕尾形 58"/>
            <p:cNvSpPr/>
            <p:nvPr/>
          </p:nvSpPr>
          <p:spPr>
            <a:xfrm rot="5400000">
              <a:off x="1778040" y="1844640"/>
              <a:ext cx="195120" cy="519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3414600" y="1854360"/>
            <a:ext cx="517680" cy="347400"/>
            <a:chOff x="3414600" y="1854360"/>
            <a:chExt cx="517680" cy="347400"/>
          </a:xfrm>
        </p:grpSpPr>
        <p:sp>
          <p:nvSpPr>
            <p:cNvPr id="137" name="燕尾形 60"/>
            <p:cNvSpPr/>
            <p:nvPr/>
          </p:nvSpPr>
          <p:spPr>
            <a:xfrm rot="5400000">
              <a:off x="3575880" y="1693080"/>
              <a:ext cx="195120" cy="517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燕尾形 61"/>
            <p:cNvSpPr/>
            <p:nvPr/>
          </p:nvSpPr>
          <p:spPr>
            <a:xfrm rot="5400000">
              <a:off x="3575880" y="1845360"/>
              <a:ext cx="195120" cy="517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5211720" y="1854360"/>
            <a:ext cx="517680" cy="347400"/>
            <a:chOff x="5211720" y="1854360"/>
            <a:chExt cx="517680" cy="347400"/>
          </a:xfrm>
        </p:grpSpPr>
        <p:sp>
          <p:nvSpPr>
            <p:cNvPr id="140" name="燕尾形 63"/>
            <p:cNvSpPr/>
            <p:nvPr/>
          </p:nvSpPr>
          <p:spPr>
            <a:xfrm rot="5400000">
              <a:off x="5373000" y="1693080"/>
              <a:ext cx="195120" cy="517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燕尾形 64"/>
            <p:cNvSpPr/>
            <p:nvPr/>
          </p:nvSpPr>
          <p:spPr>
            <a:xfrm rot="5400000">
              <a:off x="5373000" y="1845360"/>
              <a:ext cx="195120" cy="517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7"/>
          <p:cNvGrpSpPr/>
          <p:nvPr/>
        </p:nvGrpSpPr>
        <p:grpSpPr>
          <a:xfrm>
            <a:off x="7008840" y="1854360"/>
            <a:ext cx="519120" cy="347400"/>
            <a:chOff x="7008840" y="1854360"/>
            <a:chExt cx="519120" cy="347400"/>
          </a:xfrm>
        </p:grpSpPr>
        <p:sp>
          <p:nvSpPr>
            <p:cNvPr id="143" name="燕尾形 66"/>
            <p:cNvSpPr/>
            <p:nvPr/>
          </p:nvSpPr>
          <p:spPr>
            <a:xfrm rot="5400000">
              <a:off x="7170840" y="1692360"/>
              <a:ext cx="195120" cy="519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燕尾形 67"/>
            <p:cNvSpPr/>
            <p:nvPr/>
          </p:nvSpPr>
          <p:spPr>
            <a:xfrm rot="5400000">
              <a:off x="7170840" y="1844640"/>
              <a:ext cx="195120" cy="519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0"/>
          <p:cNvGrpSpPr/>
          <p:nvPr/>
        </p:nvGrpSpPr>
        <p:grpSpPr>
          <a:xfrm>
            <a:off x="1033560" y="2295360"/>
            <a:ext cx="1684080" cy="2428920"/>
            <a:chOff x="1033560" y="2295360"/>
            <a:chExt cx="1684080" cy="2428920"/>
          </a:xfrm>
        </p:grpSpPr>
        <p:sp>
          <p:nvSpPr>
            <p:cNvPr id="146" name="矩形 69"/>
            <p:cNvSpPr/>
            <p:nvPr/>
          </p:nvSpPr>
          <p:spPr>
            <a:xfrm>
              <a:off x="1033560" y="22953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Box 146"/>
            <p:cNvSpPr/>
            <p:nvPr/>
          </p:nvSpPr>
          <p:spPr>
            <a:xfrm>
              <a:off x="1055520" y="29588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直接连接符 71"/>
            <p:cNvSpPr/>
            <p:nvPr/>
          </p:nvSpPr>
          <p:spPr>
            <a:xfrm>
              <a:off x="1098360" y="28303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146"/>
            <p:cNvSpPr/>
            <p:nvPr/>
          </p:nvSpPr>
          <p:spPr>
            <a:xfrm>
              <a:off x="1065240" y="2422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35"/>
          <p:cNvGrpSpPr/>
          <p:nvPr/>
        </p:nvGrpSpPr>
        <p:grpSpPr>
          <a:xfrm>
            <a:off x="2830680" y="2295360"/>
            <a:ext cx="1684080" cy="2428920"/>
            <a:chOff x="2830680" y="2295360"/>
            <a:chExt cx="1684080" cy="2428920"/>
          </a:xfrm>
        </p:grpSpPr>
        <p:sp>
          <p:nvSpPr>
            <p:cNvPr id="151" name="矩形 74"/>
            <p:cNvSpPr/>
            <p:nvPr/>
          </p:nvSpPr>
          <p:spPr>
            <a:xfrm>
              <a:off x="2830680" y="22953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2852640" y="29588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76"/>
            <p:cNvSpPr/>
            <p:nvPr/>
          </p:nvSpPr>
          <p:spPr>
            <a:xfrm>
              <a:off x="2895480" y="28303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46"/>
            <p:cNvSpPr/>
            <p:nvPr/>
          </p:nvSpPr>
          <p:spPr>
            <a:xfrm>
              <a:off x="2862360" y="2422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4629240" y="2295360"/>
            <a:ext cx="1684080" cy="2428920"/>
            <a:chOff x="4629240" y="2295360"/>
            <a:chExt cx="1684080" cy="2428920"/>
          </a:xfrm>
        </p:grpSpPr>
        <p:sp>
          <p:nvSpPr>
            <p:cNvPr id="156" name="矩形 79"/>
            <p:cNvSpPr/>
            <p:nvPr/>
          </p:nvSpPr>
          <p:spPr>
            <a:xfrm>
              <a:off x="4629240" y="22953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46"/>
            <p:cNvSpPr/>
            <p:nvPr/>
          </p:nvSpPr>
          <p:spPr>
            <a:xfrm>
              <a:off x="4651200" y="29588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直接连接符 81"/>
            <p:cNvSpPr/>
            <p:nvPr/>
          </p:nvSpPr>
          <p:spPr>
            <a:xfrm>
              <a:off x="4694040" y="28303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Box 146"/>
            <p:cNvSpPr/>
            <p:nvPr/>
          </p:nvSpPr>
          <p:spPr>
            <a:xfrm>
              <a:off x="4660920" y="2422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45"/>
          <p:cNvGrpSpPr/>
          <p:nvPr/>
        </p:nvGrpSpPr>
        <p:grpSpPr>
          <a:xfrm>
            <a:off x="6426360" y="2295360"/>
            <a:ext cx="1684080" cy="2428920"/>
            <a:chOff x="6426360" y="2295360"/>
            <a:chExt cx="1684080" cy="2428920"/>
          </a:xfrm>
        </p:grpSpPr>
        <p:sp>
          <p:nvSpPr>
            <p:cNvPr id="161" name="矩形 84"/>
            <p:cNvSpPr/>
            <p:nvPr/>
          </p:nvSpPr>
          <p:spPr>
            <a:xfrm>
              <a:off x="6426360" y="22953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46"/>
            <p:cNvSpPr/>
            <p:nvPr/>
          </p:nvSpPr>
          <p:spPr>
            <a:xfrm>
              <a:off x="6448320" y="29588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直接连接符 86"/>
            <p:cNvSpPr/>
            <p:nvPr/>
          </p:nvSpPr>
          <p:spPr>
            <a:xfrm>
              <a:off x="6491160" y="28303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146"/>
            <p:cNvSpPr/>
            <p:nvPr/>
          </p:nvSpPr>
          <p:spPr>
            <a:xfrm>
              <a:off x="6458040" y="2422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1019160" y="1050840"/>
            <a:ext cx="2754360" cy="2754360"/>
            <a:chOff x="1019160" y="1050840"/>
            <a:chExt cx="2754360" cy="2754360"/>
          </a:xfrm>
        </p:grpSpPr>
        <p:grpSp>
          <p:nvGrpSpPr>
            <p:cNvPr id="167" name="Group 4"/>
            <p:cNvGrpSpPr/>
            <p:nvPr/>
          </p:nvGrpSpPr>
          <p:grpSpPr>
            <a:xfrm>
              <a:off x="1019160" y="1050840"/>
              <a:ext cx="2754360" cy="2754360"/>
              <a:chOff x="1019160" y="1050840"/>
              <a:chExt cx="2754360" cy="2754360"/>
            </a:xfrm>
          </p:grpSpPr>
          <p:sp>
            <p:nvSpPr>
              <p:cNvPr id="168" name="椭圆 30"/>
              <p:cNvSpPr/>
              <p:nvPr/>
            </p:nvSpPr>
            <p:spPr>
              <a:xfrm>
                <a:off x="1019160" y="10508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椭圆 31"/>
              <p:cNvSpPr/>
              <p:nvPr/>
            </p:nvSpPr>
            <p:spPr>
              <a:xfrm>
                <a:off x="1230120" y="12618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Rectangle 13"/>
            <p:cNvSpPr/>
            <p:nvPr/>
          </p:nvSpPr>
          <p:spPr>
            <a:xfrm>
              <a:off x="1709640" y="20746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Group 8"/>
          <p:cNvGrpSpPr/>
          <p:nvPr/>
        </p:nvGrpSpPr>
        <p:grpSpPr>
          <a:xfrm>
            <a:off x="3346560" y="1071720"/>
            <a:ext cx="4371840" cy="388800"/>
            <a:chOff x="3346560" y="1071720"/>
            <a:chExt cx="4371840" cy="388800"/>
          </a:xfrm>
        </p:grpSpPr>
        <p:sp>
          <p:nvSpPr>
            <p:cNvPr id="172" name="矩形 6"/>
            <p:cNvSpPr/>
            <p:nvPr/>
          </p:nvSpPr>
          <p:spPr>
            <a:xfrm>
              <a:off x="3346560" y="1071720"/>
              <a:ext cx="4371840" cy="3888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Box 146"/>
            <p:cNvSpPr/>
            <p:nvPr/>
          </p:nvSpPr>
          <p:spPr>
            <a:xfrm>
              <a:off x="3539160" y="1096560"/>
              <a:ext cx="19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Box 146"/>
          <p:cNvSpPr/>
          <p:nvPr/>
        </p:nvSpPr>
        <p:spPr>
          <a:xfrm>
            <a:off x="3686040" y="15127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12"/>
          <p:cNvGrpSpPr/>
          <p:nvPr/>
        </p:nvGrpSpPr>
        <p:grpSpPr>
          <a:xfrm>
            <a:off x="3989520" y="2236680"/>
            <a:ext cx="3728880" cy="389160"/>
            <a:chOff x="3989520" y="2236680"/>
            <a:chExt cx="3728880" cy="389160"/>
          </a:xfrm>
        </p:grpSpPr>
        <p:sp>
          <p:nvSpPr>
            <p:cNvPr id="176" name="矩形 37"/>
            <p:cNvSpPr/>
            <p:nvPr/>
          </p:nvSpPr>
          <p:spPr>
            <a:xfrm>
              <a:off x="3989520" y="2236680"/>
              <a:ext cx="372888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146"/>
            <p:cNvSpPr/>
            <p:nvPr/>
          </p:nvSpPr>
          <p:spPr>
            <a:xfrm>
              <a:off x="4245120" y="2261520"/>
              <a:ext cx="19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TextBox 146"/>
          <p:cNvSpPr/>
          <p:nvPr/>
        </p:nvSpPr>
        <p:spPr>
          <a:xfrm>
            <a:off x="4054320" y="2674800"/>
            <a:ext cx="36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6"/>
          <p:cNvGrpSpPr/>
          <p:nvPr/>
        </p:nvGrpSpPr>
        <p:grpSpPr>
          <a:xfrm>
            <a:off x="3346560" y="3408480"/>
            <a:ext cx="4371840" cy="388800"/>
            <a:chOff x="3346560" y="3408480"/>
            <a:chExt cx="4371840" cy="388800"/>
          </a:xfrm>
        </p:grpSpPr>
        <p:sp>
          <p:nvSpPr>
            <p:cNvPr id="180" name="矩形 41"/>
            <p:cNvSpPr/>
            <p:nvPr/>
          </p:nvSpPr>
          <p:spPr>
            <a:xfrm>
              <a:off x="3346560" y="3408480"/>
              <a:ext cx="437184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146"/>
            <p:cNvSpPr/>
            <p:nvPr/>
          </p:nvSpPr>
          <p:spPr>
            <a:xfrm>
              <a:off x="3539160" y="3433320"/>
              <a:ext cx="19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TextBox 146"/>
          <p:cNvSpPr/>
          <p:nvPr/>
        </p:nvSpPr>
        <p:spPr>
          <a:xfrm>
            <a:off x="3540240" y="3854520"/>
            <a:ext cx="40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20"/>
          <p:cNvGrpSpPr/>
          <p:nvPr/>
        </p:nvGrpSpPr>
        <p:grpSpPr>
          <a:xfrm>
            <a:off x="2670120" y="892080"/>
            <a:ext cx="747720" cy="741600"/>
            <a:chOff x="2670120" y="892080"/>
            <a:chExt cx="747720" cy="741600"/>
          </a:xfrm>
        </p:grpSpPr>
        <p:grpSp>
          <p:nvGrpSpPr>
            <p:cNvPr id="184" name="Group 21"/>
            <p:cNvGrpSpPr/>
            <p:nvPr/>
          </p:nvGrpSpPr>
          <p:grpSpPr>
            <a:xfrm>
              <a:off x="2673000" y="892080"/>
              <a:ext cx="741600" cy="741600"/>
              <a:chOff x="2673000" y="892080"/>
              <a:chExt cx="741600" cy="741600"/>
            </a:xfrm>
          </p:grpSpPr>
          <p:sp>
            <p:nvSpPr>
              <p:cNvPr id="185" name="椭圆 11"/>
              <p:cNvSpPr/>
              <p:nvPr/>
            </p:nvSpPr>
            <p:spPr>
              <a:xfrm>
                <a:off x="2673000" y="892080"/>
                <a:ext cx="741600" cy="74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2719440" y="938520"/>
                <a:ext cx="648720" cy="648720"/>
              </a:xfrm>
              <a:prstGeom prst="ellipse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Rectangle 13"/>
            <p:cNvSpPr/>
            <p:nvPr/>
          </p:nvSpPr>
          <p:spPr>
            <a:xfrm>
              <a:off x="2670120" y="10627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25"/>
          <p:cNvGrpSpPr/>
          <p:nvPr/>
        </p:nvGrpSpPr>
        <p:grpSpPr>
          <a:xfrm>
            <a:off x="3378240" y="2058840"/>
            <a:ext cx="747720" cy="739800"/>
            <a:chOff x="3378240" y="2058840"/>
            <a:chExt cx="747720" cy="739800"/>
          </a:xfrm>
        </p:grpSpPr>
        <p:grpSp>
          <p:nvGrpSpPr>
            <p:cNvPr id="189" name="Group 26"/>
            <p:cNvGrpSpPr/>
            <p:nvPr/>
          </p:nvGrpSpPr>
          <p:grpSpPr>
            <a:xfrm>
              <a:off x="3381840" y="2058840"/>
              <a:ext cx="740520" cy="739800"/>
              <a:chOff x="3381840" y="2058840"/>
              <a:chExt cx="740520" cy="739800"/>
            </a:xfrm>
          </p:grpSpPr>
          <p:sp>
            <p:nvSpPr>
              <p:cNvPr id="190" name="椭圆 8"/>
              <p:cNvSpPr/>
              <p:nvPr/>
            </p:nvSpPr>
            <p:spPr>
              <a:xfrm>
                <a:off x="3381840" y="2058840"/>
                <a:ext cx="74052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椭圆 53"/>
              <p:cNvSpPr/>
              <p:nvPr/>
            </p:nvSpPr>
            <p:spPr>
              <a:xfrm>
                <a:off x="3427200" y="2104560"/>
                <a:ext cx="64944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Rectangle 13"/>
            <p:cNvSpPr/>
            <p:nvPr/>
          </p:nvSpPr>
          <p:spPr>
            <a:xfrm>
              <a:off x="3378240" y="22287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30"/>
          <p:cNvGrpSpPr/>
          <p:nvPr/>
        </p:nvGrpSpPr>
        <p:grpSpPr>
          <a:xfrm>
            <a:off x="2670120" y="3233880"/>
            <a:ext cx="747720" cy="739800"/>
            <a:chOff x="2670120" y="3233880"/>
            <a:chExt cx="747720" cy="739800"/>
          </a:xfrm>
        </p:grpSpPr>
        <p:grpSp>
          <p:nvGrpSpPr>
            <p:cNvPr id="194" name="Group 31"/>
            <p:cNvGrpSpPr/>
            <p:nvPr/>
          </p:nvGrpSpPr>
          <p:grpSpPr>
            <a:xfrm>
              <a:off x="2673360" y="3233880"/>
              <a:ext cx="740880" cy="739800"/>
              <a:chOff x="2673360" y="3233880"/>
              <a:chExt cx="740880" cy="739800"/>
            </a:xfrm>
          </p:grpSpPr>
          <p:sp>
            <p:nvSpPr>
              <p:cNvPr id="195" name="椭圆 14"/>
              <p:cNvSpPr/>
              <p:nvPr/>
            </p:nvSpPr>
            <p:spPr>
              <a:xfrm>
                <a:off x="2673360" y="3233880"/>
                <a:ext cx="74088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椭圆 58"/>
              <p:cNvSpPr/>
              <p:nvPr/>
            </p:nvSpPr>
            <p:spPr>
              <a:xfrm>
                <a:off x="2718720" y="3279600"/>
                <a:ext cx="6498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Rectangle 13"/>
            <p:cNvSpPr/>
            <p:nvPr/>
          </p:nvSpPr>
          <p:spPr>
            <a:xfrm>
              <a:off x="2670120" y="3403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6"/>
          <p:cNvSpPr/>
          <p:nvPr/>
        </p:nvSpPr>
        <p:spPr>
          <a:xfrm>
            <a:off x="328680" y="47689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69"/>
          <p:cNvSpPr/>
          <p:nvPr/>
        </p:nvSpPr>
        <p:spPr>
          <a:xfrm>
            <a:off x="473040" y="958680"/>
            <a:ext cx="7740720" cy="360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606600" y="1187280"/>
            <a:ext cx="630000" cy="3353760"/>
            <a:chOff x="606600" y="1187280"/>
            <a:chExt cx="630000" cy="3353760"/>
          </a:xfrm>
        </p:grpSpPr>
        <p:grpSp>
          <p:nvGrpSpPr>
            <p:cNvPr id="202" name="Group 5"/>
            <p:cNvGrpSpPr/>
            <p:nvPr/>
          </p:nvGrpSpPr>
          <p:grpSpPr>
            <a:xfrm>
              <a:off x="606600" y="1187280"/>
              <a:ext cx="539640" cy="3353760"/>
              <a:chOff x="606600" y="1187280"/>
              <a:chExt cx="539640" cy="3353760"/>
            </a:xfrm>
          </p:grpSpPr>
          <p:sp>
            <p:nvSpPr>
              <p:cNvPr id="203" name="Rectangle 12"/>
              <p:cNvSpPr/>
              <p:nvPr/>
            </p:nvSpPr>
            <p:spPr>
              <a:xfrm>
                <a:off x="606600" y="16952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Rectangle 12"/>
              <p:cNvSpPr/>
              <p:nvPr/>
            </p:nvSpPr>
            <p:spPr>
              <a:xfrm>
                <a:off x="606600" y="194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Rectangle 12"/>
              <p:cNvSpPr/>
              <p:nvPr/>
            </p:nvSpPr>
            <p:spPr>
              <a:xfrm>
                <a:off x="606600" y="22032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606600" y="14410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606600" y="1187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606600" y="2457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606600" y="2711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606600" y="29638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606600" y="3217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606600" y="3471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606600" y="3726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606600" y="3979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606600" y="4233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6" name="直接连接符 72"/>
            <p:cNvSpPr/>
            <p:nvPr/>
          </p:nvSpPr>
          <p:spPr>
            <a:xfrm flipV="1">
              <a:off x="1128960" y="1326600"/>
              <a:ext cx="0" cy="306108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73"/>
            <p:cNvSpPr/>
            <p:nvPr/>
          </p:nvSpPr>
          <p:spPr>
            <a:xfrm>
              <a:off x="1128960" y="15825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74"/>
            <p:cNvSpPr/>
            <p:nvPr/>
          </p:nvSpPr>
          <p:spPr>
            <a:xfrm>
              <a:off x="1128960" y="2857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75"/>
            <p:cNvSpPr/>
            <p:nvPr/>
          </p:nvSpPr>
          <p:spPr>
            <a:xfrm>
              <a:off x="1128960" y="43815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76"/>
            <p:cNvSpPr/>
            <p:nvPr/>
          </p:nvSpPr>
          <p:spPr>
            <a:xfrm>
              <a:off x="1128960" y="13330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77"/>
            <p:cNvSpPr/>
            <p:nvPr/>
          </p:nvSpPr>
          <p:spPr>
            <a:xfrm>
              <a:off x="1128960" y="26017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78"/>
            <p:cNvSpPr/>
            <p:nvPr/>
          </p:nvSpPr>
          <p:spPr>
            <a:xfrm>
              <a:off x="1128960" y="18363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79"/>
            <p:cNvSpPr/>
            <p:nvPr/>
          </p:nvSpPr>
          <p:spPr>
            <a:xfrm>
              <a:off x="1128960" y="20919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80"/>
            <p:cNvSpPr/>
            <p:nvPr/>
          </p:nvSpPr>
          <p:spPr>
            <a:xfrm>
              <a:off x="1128960" y="33685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81"/>
            <p:cNvSpPr/>
            <p:nvPr/>
          </p:nvSpPr>
          <p:spPr>
            <a:xfrm>
              <a:off x="1128960" y="31129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直接连接符 82"/>
            <p:cNvSpPr/>
            <p:nvPr/>
          </p:nvSpPr>
          <p:spPr>
            <a:xfrm>
              <a:off x="1128960" y="41338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直接连接符 83"/>
            <p:cNvSpPr/>
            <p:nvPr/>
          </p:nvSpPr>
          <p:spPr>
            <a:xfrm>
              <a:off x="1128960" y="36226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直接连接符 84"/>
            <p:cNvSpPr/>
            <p:nvPr/>
          </p:nvSpPr>
          <p:spPr>
            <a:xfrm>
              <a:off x="1128960" y="38782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32"/>
          <p:cNvGrpSpPr/>
          <p:nvPr/>
        </p:nvGrpSpPr>
        <p:grpSpPr>
          <a:xfrm>
            <a:off x="1128600" y="2347920"/>
            <a:ext cx="6661440" cy="321120"/>
            <a:chOff x="1128600" y="2347920"/>
            <a:chExt cx="6661440" cy="321120"/>
          </a:xfrm>
        </p:grpSpPr>
        <p:grpSp>
          <p:nvGrpSpPr>
            <p:cNvPr id="230" name="Group 33"/>
            <p:cNvGrpSpPr/>
            <p:nvPr/>
          </p:nvGrpSpPr>
          <p:grpSpPr>
            <a:xfrm>
              <a:off x="1146600" y="2361960"/>
              <a:ext cx="6612120" cy="307080"/>
              <a:chOff x="1146600" y="2361960"/>
              <a:chExt cx="6612120" cy="307080"/>
            </a:xfrm>
          </p:grpSpPr>
          <p:sp>
            <p:nvSpPr>
              <p:cNvPr id="231" name="Rectangle 12"/>
              <p:cNvSpPr/>
              <p:nvPr/>
            </p:nvSpPr>
            <p:spPr>
              <a:xfrm>
                <a:off x="280908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364104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Rectangle 12"/>
              <p:cNvSpPr/>
              <p:nvPr/>
            </p:nvSpPr>
            <p:spPr>
              <a:xfrm>
                <a:off x="447156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Rectangle 12"/>
              <p:cNvSpPr/>
              <p:nvPr/>
            </p:nvSpPr>
            <p:spPr>
              <a:xfrm>
                <a:off x="530388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Rectangle 12"/>
              <p:cNvSpPr/>
              <p:nvPr/>
            </p:nvSpPr>
            <p:spPr>
              <a:xfrm>
                <a:off x="6135840" y="236196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Rectangle 12"/>
              <p:cNvSpPr/>
              <p:nvPr/>
            </p:nvSpPr>
            <p:spPr>
              <a:xfrm>
                <a:off x="696636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114660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Rectangle 12"/>
              <p:cNvSpPr/>
              <p:nvPr/>
            </p:nvSpPr>
            <p:spPr>
              <a:xfrm>
                <a:off x="1978560" y="236196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直接连接符 100"/>
            <p:cNvSpPr/>
            <p:nvPr/>
          </p:nvSpPr>
          <p:spPr>
            <a:xfrm>
              <a:off x="612468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直接连接符 101"/>
            <p:cNvSpPr/>
            <p:nvPr/>
          </p:nvSpPr>
          <p:spPr>
            <a:xfrm flipV="1">
              <a:off x="279396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直接连接符 102"/>
            <p:cNvSpPr/>
            <p:nvPr/>
          </p:nvSpPr>
          <p:spPr>
            <a:xfrm>
              <a:off x="362592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直接连接符 103"/>
            <p:cNvSpPr/>
            <p:nvPr/>
          </p:nvSpPr>
          <p:spPr>
            <a:xfrm>
              <a:off x="445932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直接连接符 104"/>
            <p:cNvSpPr/>
            <p:nvPr/>
          </p:nvSpPr>
          <p:spPr>
            <a:xfrm flipV="1">
              <a:off x="196020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直接连接符 105"/>
            <p:cNvSpPr/>
            <p:nvPr/>
          </p:nvSpPr>
          <p:spPr>
            <a:xfrm>
              <a:off x="1128600" y="2347920"/>
              <a:ext cx="66614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直接连接符 106"/>
            <p:cNvSpPr/>
            <p:nvPr/>
          </p:nvSpPr>
          <p:spPr>
            <a:xfrm>
              <a:off x="778392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直接连接符 107"/>
            <p:cNvSpPr/>
            <p:nvPr/>
          </p:nvSpPr>
          <p:spPr>
            <a:xfrm>
              <a:off x="529128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直接连接符 108"/>
            <p:cNvSpPr/>
            <p:nvPr/>
          </p:nvSpPr>
          <p:spPr>
            <a:xfrm>
              <a:off x="695664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TextBox 146"/>
          <p:cNvSpPr/>
          <p:nvPr/>
        </p:nvSpPr>
        <p:spPr>
          <a:xfrm>
            <a:off x="473040" y="52704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46"/>
          <p:cNvSpPr/>
          <p:nvPr/>
        </p:nvSpPr>
        <p:spPr>
          <a:xfrm>
            <a:off x="473040" y="464508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Group 53"/>
          <p:cNvGrpSpPr/>
          <p:nvPr/>
        </p:nvGrpSpPr>
        <p:grpSpPr>
          <a:xfrm>
            <a:off x="1235160" y="1012680"/>
            <a:ext cx="6448320" cy="3317400"/>
            <a:chOff x="1235160" y="1012680"/>
            <a:chExt cx="6448320" cy="3317400"/>
          </a:xfrm>
        </p:grpSpPr>
        <p:sp>
          <p:nvSpPr>
            <p:cNvPr id="251" name="任意多边形 120"/>
            <p:cNvSpPr/>
            <p:nvPr/>
          </p:nvSpPr>
          <p:spPr>
            <a:xfrm>
              <a:off x="1549440" y="1353960"/>
              <a:ext cx="2717640" cy="992160"/>
            </a:xfrm>
            <a:custGeom>
              <a:avLst/>
              <a:gdLst>
                <a:gd name="textAreaLeft" fmla="*/ 0 w 2717640"/>
                <a:gd name="textAreaRight" fmla="*/ 2718000 w 271764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任意多边形 121"/>
            <p:cNvSpPr/>
            <p:nvPr/>
          </p:nvSpPr>
          <p:spPr>
            <a:xfrm>
              <a:off x="4267080" y="2346120"/>
              <a:ext cx="3114720" cy="1644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50"/>
            <p:cNvSpPr/>
            <p:nvPr/>
          </p:nvSpPr>
          <p:spPr>
            <a:xfrm>
              <a:off x="1472760" y="127908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23"/>
            <p:cNvSpPr/>
            <p:nvPr/>
          </p:nvSpPr>
          <p:spPr>
            <a:xfrm>
              <a:off x="5635800" y="28098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52"/>
            <p:cNvSpPr/>
            <p:nvPr/>
          </p:nvSpPr>
          <p:spPr>
            <a:xfrm>
              <a:off x="2305440" y="14706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53"/>
            <p:cNvSpPr/>
            <p:nvPr/>
          </p:nvSpPr>
          <p:spPr>
            <a:xfrm>
              <a:off x="3138120" y="185148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26"/>
            <p:cNvSpPr/>
            <p:nvPr/>
          </p:nvSpPr>
          <p:spPr>
            <a:xfrm>
              <a:off x="4803840" y="332100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27"/>
            <p:cNvSpPr/>
            <p:nvPr/>
          </p:nvSpPr>
          <p:spPr>
            <a:xfrm>
              <a:off x="6469200" y="304632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28"/>
            <p:cNvSpPr/>
            <p:nvPr/>
          </p:nvSpPr>
          <p:spPr>
            <a:xfrm>
              <a:off x="7301160" y="39150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4575240" y="34513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5400720" y="2930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Box 146"/>
            <p:cNvSpPr/>
            <p:nvPr/>
          </p:nvSpPr>
          <p:spPr>
            <a:xfrm>
              <a:off x="6581880" y="29815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Box 146"/>
            <p:cNvSpPr/>
            <p:nvPr/>
          </p:nvSpPr>
          <p:spPr>
            <a:xfrm>
              <a:off x="7064640" y="40230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Box 146"/>
            <p:cNvSpPr/>
            <p:nvPr/>
          </p:nvSpPr>
          <p:spPr>
            <a:xfrm>
              <a:off x="3737160" y="16858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Box 146"/>
            <p:cNvSpPr/>
            <p:nvPr/>
          </p:nvSpPr>
          <p:spPr>
            <a:xfrm>
              <a:off x="2911680" y="15858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146"/>
            <p:cNvSpPr/>
            <p:nvPr/>
          </p:nvSpPr>
          <p:spPr>
            <a:xfrm>
              <a:off x="2073240" y="11905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Box 146"/>
            <p:cNvSpPr/>
            <p:nvPr/>
          </p:nvSpPr>
          <p:spPr>
            <a:xfrm>
              <a:off x="1235160" y="10126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75"/>
            <p:cNvSpPr/>
            <p:nvPr/>
          </p:nvSpPr>
          <p:spPr>
            <a:xfrm>
              <a:off x="3970800" y="19584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5102280" y="1752480"/>
            <a:ext cx="3552840" cy="2366640"/>
            <a:chOff x="5102280" y="1752480"/>
            <a:chExt cx="3552840" cy="2366640"/>
          </a:xfrm>
        </p:grpSpPr>
        <p:sp>
          <p:nvSpPr>
            <p:cNvPr id="271" name="任意多边形 26"/>
            <p:cNvSpPr/>
            <p:nvPr/>
          </p:nvSpPr>
          <p:spPr>
            <a:xfrm flipH="1">
              <a:off x="5102280" y="175248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任意多边形 27"/>
            <p:cNvSpPr/>
            <p:nvPr/>
          </p:nvSpPr>
          <p:spPr>
            <a:xfrm flipH="1" flipV="1">
              <a:off x="5102280" y="386640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直接连接符 28"/>
            <p:cNvSpPr/>
            <p:nvPr/>
          </p:nvSpPr>
          <p:spPr>
            <a:xfrm>
              <a:off x="5644440" y="255636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直接连接符 29"/>
            <p:cNvSpPr/>
            <p:nvPr/>
          </p:nvSpPr>
          <p:spPr>
            <a:xfrm flipV="1">
              <a:off x="5644440" y="334548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146"/>
            <p:cNvSpPr/>
            <p:nvPr/>
          </p:nvSpPr>
          <p:spPr>
            <a:xfrm>
              <a:off x="6274080" y="1834560"/>
              <a:ext cx="238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TextBox 146"/>
            <p:cNvSpPr/>
            <p:nvPr/>
          </p:nvSpPr>
          <p:spPr>
            <a:xfrm>
              <a:off x="6273720" y="2458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TextBox 146"/>
            <p:cNvSpPr/>
            <p:nvPr/>
          </p:nvSpPr>
          <p:spPr>
            <a:xfrm>
              <a:off x="6273720" y="3190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extBox 146"/>
            <p:cNvSpPr/>
            <p:nvPr/>
          </p:nvSpPr>
          <p:spPr>
            <a:xfrm>
              <a:off x="6273720" y="37242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Group 12"/>
          <p:cNvGrpSpPr/>
          <p:nvPr/>
        </p:nvGrpSpPr>
        <p:grpSpPr>
          <a:xfrm>
            <a:off x="297000" y="1868400"/>
            <a:ext cx="3562200" cy="2206440"/>
            <a:chOff x="297000" y="1868400"/>
            <a:chExt cx="3562200" cy="2206440"/>
          </a:xfrm>
        </p:grpSpPr>
        <p:sp>
          <p:nvSpPr>
            <p:cNvPr id="280" name="任意多边形 35"/>
            <p:cNvSpPr/>
            <p:nvPr/>
          </p:nvSpPr>
          <p:spPr>
            <a:xfrm>
              <a:off x="2671920" y="1868400"/>
              <a:ext cx="1187280" cy="2523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任意多边形 36"/>
            <p:cNvSpPr/>
            <p:nvPr/>
          </p:nvSpPr>
          <p:spPr>
            <a:xfrm flipV="1">
              <a:off x="2671920" y="3822120"/>
              <a:ext cx="1187280" cy="2523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直接连接符 37"/>
            <p:cNvSpPr/>
            <p:nvPr/>
          </p:nvSpPr>
          <p:spPr>
            <a:xfrm>
              <a:off x="2671920" y="312408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Box 146"/>
            <p:cNvSpPr/>
            <p:nvPr/>
          </p:nvSpPr>
          <p:spPr>
            <a:xfrm>
              <a:off x="297000" y="36658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Box 146"/>
            <p:cNvSpPr/>
            <p:nvPr/>
          </p:nvSpPr>
          <p:spPr>
            <a:xfrm>
              <a:off x="297000" y="297036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146"/>
            <p:cNvSpPr/>
            <p:nvPr/>
          </p:nvSpPr>
          <p:spPr>
            <a:xfrm>
              <a:off x="297000" y="19522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19"/>
          <p:cNvGrpSpPr/>
          <p:nvPr/>
        </p:nvGrpSpPr>
        <p:grpSpPr>
          <a:xfrm>
            <a:off x="3017880" y="1428840"/>
            <a:ext cx="2987640" cy="2987640"/>
            <a:chOff x="3017880" y="1428840"/>
            <a:chExt cx="2987640" cy="2987640"/>
          </a:xfrm>
        </p:grpSpPr>
        <p:sp>
          <p:nvSpPr>
            <p:cNvPr id="287" name="饼形 42"/>
            <p:cNvSpPr/>
            <p:nvPr/>
          </p:nvSpPr>
          <p:spPr>
            <a:xfrm>
              <a:off x="3162240" y="1573200"/>
              <a:ext cx="2698920" cy="2698920"/>
            </a:xfrm>
            <a:custGeom>
              <a:avLst/>
              <a:gdLst>
                <a:gd name="textAreaLeft" fmla="*/ 0 w 2698920"/>
                <a:gd name="textAreaRight" fmla="*/ 2699280 w 2698920"/>
                <a:gd name="textAreaTop" fmla="*/ 0 h 2698920"/>
                <a:gd name="textAreaBottom" fmla="*/ 269928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527783" y="691562"/>
                  </a:moveTo>
                  <a:cubicBezTo>
                    <a:pt x="2639646" y="891884"/>
                    <a:pt x="2698589" y="1117418"/>
                    <a:pt x="2699042" y="1346857"/>
                  </a:cubicBezTo>
                  <a:lnTo>
                    <a:pt x="1349522" y="1349522"/>
                  </a:lnTo>
                  <a:lnTo>
                    <a:pt x="2527783" y="691562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饼形 43"/>
            <p:cNvSpPr/>
            <p:nvPr/>
          </p:nvSpPr>
          <p:spPr>
            <a:xfrm>
              <a:off x="3162240" y="1573200"/>
              <a:ext cx="2698920" cy="2698920"/>
            </a:xfrm>
            <a:custGeom>
              <a:avLst/>
              <a:gdLst>
                <a:gd name="textAreaLeft" fmla="*/ 0 w 2698920"/>
                <a:gd name="textAreaRight" fmla="*/ 2699280 w 2698920"/>
                <a:gd name="textAreaTop" fmla="*/ 0 h 2698920"/>
                <a:gd name="textAreaBottom" fmla="*/ 269928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699042" y="1347119"/>
                  </a:moveTo>
                  <a:cubicBezTo>
                    <a:pt x="2699612" y="1667111"/>
                    <a:pt x="2586458" y="1976894"/>
                    <a:pt x="2379774" y="2221182"/>
                  </a:cubicBezTo>
                  <a:lnTo>
                    <a:pt x="1349522" y="1349522"/>
                  </a:lnTo>
                  <a:lnTo>
                    <a:pt x="2699042" y="134711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饼形 44"/>
            <p:cNvSpPr/>
            <p:nvPr/>
          </p:nvSpPr>
          <p:spPr>
            <a:xfrm>
              <a:off x="3162240" y="1573200"/>
              <a:ext cx="2698920" cy="2698920"/>
            </a:xfrm>
            <a:custGeom>
              <a:avLst/>
              <a:gdLst>
                <a:gd name="textAreaLeft" fmla="*/ 0 w 2698920"/>
                <a:gd name="textAreaRight" fmla="*/ 2699280 w 2698920"/>
                <a:gd name="textAreaTop" fmla="*/ 0 h 2698920"/>
                <a:gd name="textAreaBottom" fmla="*/ 269928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379824" y="2221123"/>
                  </a:moveTo>
                  <a:cubicBezTo>
                    <a:pt x="2121297" y="2526723"/>
                    <a:pt x="1740445" y="2701786"/>
                    <a:pt x="1340171" y="2699012"/>
                  </a:cubicBezTo>
                  <a:lnTo>
                    <a:pt x="1349522" y="1349522"/>
                  </a:lnTo>
                  <a:lnTo>
                    <a:pt x="2379824" y="2221123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饼形 45"/>
            <p:cNvSpPr/>
            <p:nvPr/>
          </p:nvSpPr>
          <p:spPr>
            <a:xfrm>
              <a:off x="3162240" y="1573200"/>
              <a:ext cx="2698920" cy="2698920"/>
            </a:xfrm>
            <a:custGeom>
              <a:avLst/>
              <a:gdLst>
                <a:gd name="textAreaLeft" fmla="*/ 0 w 2698920"/>
                <a:gd name="textAreaRight" fmla="*/ 2699280 w 2698920"/>
                <a:gd name="textAreaTop" fmla="*/ 0 h 2698920"/>
                <a:gd name="textAreaBottom" fmla="*/ 269928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1343308" y="2699030"/>
                  </a:moveTo>
                  <a:cubicBezTo>
                    <a:pt x="917998" y="2697072"/>
                    <a:pt x="518497" y="2494730"/>
                    <a:pt x="265268" y="2153017"/>
                  </a:cubicBezTo>
                  <a:lnTo>
                    <a:pt x="1349522" y="1349522"/>
                  </a:lnTo>
                  <a:cubicBezTo>
                    <a:pt x="1347451" y="1799358"/>
                    <a:pt x="1345379" y="2249194"/>
                    <a:pt x="1343308" y="2699030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饼形 46"/>
            <p:cNvSpPr/>
            <p:nvPr/>
          </p:nvSpPr>
          <p:spPr>
            <a:xfrm>
              <a:off x="3162240" y="1573200"/>
              <a:ext cx="2698920" cy="2698920"/>
            </a:xfrm>
            <a:custGeom>
              <a:avLst/>
              <a:gdLst>
                <a:gd name="textAreaLeft" fmla="*/ 0 w 2698920"/>
                <a:gd name="textAreaRight" fmla="*/ 2699280 w 2698920"/>
                <a:gd name="textAreaTop" fmla="*/ 0 h 2698920"/>
                <a:gd name="textAreaBottom" fmla="*/ 269928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68985" y="2158008"/>
                  </a:moveTo>
                  <a:cubicBezTo>
                    <a:pt x="11570" y="1813974"/>
                    <a:pt x="-66633" y="1367921"/>
                    <a:pt x="58395" y="956837"/>
                  </a:cubicBezTo>
                  <a:lnTo>
                    <a:pt x="1349522" y="1349522"/>
                  </a:lnTo>
                  <a:lnTo>
                    <a:pt x="268985" y="2158008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饼形 47"/>
            <p:cNvSpPr/>
            <p:nvPr/>
          </p:nvSpPr>
          <p:spPr>
            <a:xfrm>
              <a:off x="3162240" y="1573200"/>
              <a:ext cx="2698920" cy="2698920"/>
            </a:xfrm>
            <a:custGeom>
              <a:avLst/>
              <a:gdLst>
                <a:gd name="textAreaLeft" fmla="*/ 0 w 2698920"/>
                <a:gd name="textAreaRight" fmla="*/ 2699280 w 2698920"/>
                <a:gd name="textAreaTop" fmla="*/ 0 h 2698920"/>
                <a:gd name="textAreaBottom" fmla="*/ 269928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60010" y="951567"/>
                  </a:moveTo>
                  <a:cubicBezTo>
                    <a:pt x="234591" y="385864"/>
                    <a:pt x="757493" y="0"/>
                    <a:pt x="1349522" y="0"/>
                  </a:cubicBezTo>
                  <a:lnTo>
                    <a:pt x="1349522" y="1349522"/>
                  </a:lnTo>
                  <a:lnTo>
                    <a:pt x="60010" y="951567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饼形 48"/>
            <p:cNvSpPr/>
            <p:nvPr/>
          </p:nvSpPr>
          <p:spPr>
            <a:xfrm>
              <a:off x="3162240" y="1573200"/>
              <a:ext cx="2698920" cy="2698920"/>
            </a:xfrm>
            <a:custGeom>
              <a:avLst/>
              <a:gdLst>
                <a:gd name="textAreaLeft" fmla="*/ 0 w 2698920"/>
                <a:gd name="textAreaRight" fmla="*/ 2699280 w 2698920"/>
                <a:gd name="textAreaTop" fmla="*/ 0 h 2698920"/>
                <a:gd name="textAreaBottom" fmla="*/ 269928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1348282" y="1"/>
                  </a:moveTo>
                  <a:cubicBezTo>
                    <a:pt x="1839184" y="-450"/>
                    <a:pt x="2291612" y="265705"/>
                    <a:pt x="2529699" y="695006"/>
                  </a:cubicBezTo>
                  <a:lnTo>
                    <a:pt x="1349522" y="1349522"/>
                  </a:lnTo>
                  <a:cubicBezTo>
                    <a:pt x="1349109" y="899682"/>
                    <a:pt x="1348695" y="449841"/>
                    <a:pt x="1348282" y="1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椭圆 49"/>
            <p:cNvSpPr/>
            <p:nvPr/>
          </p:nvSpPr>
          <p:spPr>
            <a:xfrm>
              <a:off x="3017880" y="1428840"/>
              <a:ext cx="298764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Box 146"/>
          <p:cNvSpPr/>
          <p:nvPr/>
        </p:nvSpPr>
        <p:spPr>
          <a:xfrm>
            <a:off x="2887560" y="78588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407880" y="395280"/>
            <a:ext cx="299556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298" name="Group 4"/>
          <p:cNvGrpSpPr/>
          <p:nvPr/>
        </p:nvGrpSpPr>
        <p:grpSpPr>
          <a:xfrm>
            <a:off x="3600360" y="2754360"/>
            <a:ext cx="4643640" cy="2120760"/>
            <a:chOff x="3600360" y="2754360"/>
            <a:chExt cx="4643640" cy="2120760"/>
          </a:xfrm>
        </p:grpSpPr>
        <p:sp>
          <p:nvSpPr>
            <p:cNvPr id="299" name="矩形 8"/>
            <p:cNvSpPr/>
            <p:nvPr/>
          </p:nvSpPr>
          <p:spPr>
            <a:xfrm>
              <a:off x="3600360" y="2754360"/>
              <a:ext cx="4643640" cy="21207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3742920" y="2825640"/>
              <a:ext cx="43581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瀚合网络科技有限公司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目前的核心业务主要为： 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TextBox 146"/>
          <p:cNvSpPr/>
          <p:nvPr/>
        </p:nvSpPr>
        <p:spPr>
          <a:xfrm>
            <a:off x="3529080" y="232560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4:07:13Z</dcterms:created>
  <dc:creator>ppt宝藏</dc:creator>
  <dc:description/>
  <dc:language>en-US</dc:language>
  <cp:lastModifiedBy>a</cp:lastModifiedBy>
  <cp:lastPrinted>1899-12-30T00:00:00Z</cp:lastPrinted>
  <dcterms:modified xsi:type="dcterms:W3CDTF">2015-07-25T06:12:11Z</dcterms:modified>
  <cp:revision>1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