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448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80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448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80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7520" y="28080"/>
            <a:ext cx="83059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448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180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448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180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7520" y="28080"/>
            <a:ext cx="83059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20" y="28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520" y="28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5327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卡通人与电脑金融</a:t>
            </a:r>
            <a:r>
              <a:rPr b="0" lang="en-US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7520" y="28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502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王玉清</cp:lastModifiedBy>
  <cp:lastPrinted>1899-12-30T00:00:00Z</cp:lastPrinted>
  <dcterms:modified xsi:type="dcterms:W3CDTF">2016-02-15T03:54:43Z</dcterms:modified>
  <cp:revision>33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