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0824-C81A-49CE-BCA7-92204295A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4824-A715-462C-9AE6-BE1D6D7B7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6661-B918-462F-B238-566E46C84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7AA7-82DC-432A-9700-B632E64F2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4ABD8-7D49-469D-8E24-4349AF119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AAA0B-96B9-4553-A517-82F321002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C5D6B-69F2-46AB-8878-12E907C6D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8800B-A700-4343-88A7-3C2DBC4C5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E1D96-B77D-49DE-BE71-0D8F9C2D3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47ECC-BBCE-4D32-A0BE-AA8E85125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82E0C-1E8A-4584-A1C1-FA1EEC0C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6E10-6C52-4E2C-A0DB-4A64B0870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53F61-FFD3-494F-9388-D4AC148E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B3309-A77C-481B-AD18-25558335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42BB0-AF8F-4752-A27A-AF0AC9790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3A511-2181-4410-9F6D-9639C5BD5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76D8B-CBF3-4CA6-A7FC-5C72509E0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2BDF-4B6F-49AC-9C56-605558942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BC82-42B9-4C1A-B9BD-6EA89ADF0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0679-9F6C-4B20-A106-FEE136291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C4D0-1C03-4DDA-8ABB-A29C8E17D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B4C7-D8C2-4F03-A4D4-D6B53D4F9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9327-711A-47D8-9510-4D9C5BD4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BDFF-D634-47E2-960A-C939A807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83DC9-86B0-4023-BEBB-EE94167785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CF95B-61A7-493B-9E67-AAE6297A7331}" type="slidenum">
              <a: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162920" y="457200"/>
            <a:ext cx="1388880" cy="3492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9"/>
          <p:cNvSpPr/>
          <p:nvPr/>
        </p:nvSpPr>
        <p:spPr>
          <a:xfrm>
            <a:off x="1752480" y="3429000"/>
            <a:ext cx="713592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蓝色地球商务</a:t>
            </a:r>
            <a:r>
              <a:rPr b="0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457200" y="457200"/>
            <a:ext cx="822960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533520" y="1371600"/>
            <a:ext cx="792468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配色方案修改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配色方案在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格式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--&gt;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幻灯片设计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--&gt;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配色方案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--&gt;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编辑配色方案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下调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LOGO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的添加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添加修改在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视图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--&gt;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母版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--&gt;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幻灯片母版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下调整。直接选择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图片删除或修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括标题和文本格式的设置在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视图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--&gt;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母版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--&gt;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幻灯片母版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下调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默认设置：第一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PPT www.1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首页主标题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3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号（中文黑体英文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Aria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加粗；副标题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号（中文黑体英文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Aria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加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内页标题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号（中文黑体英文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Aria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加粗；内页内容文字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号（宋体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917640" y="431640"/>
            <a:ext cx="185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黑体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462480" y="3200040"/>
            <a:ext cx="4386240" cy="870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感谢您的关注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5-07-25T08:55:39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