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914C-44A4-4EDF-B1A9-6F8CF35A0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459D-30BA-4E85-9814-CF0B4833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2B824-8491-4DDD-B048-BF748BA8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E699C-3682-4D78-AE80-1B0BDB2F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A994C4-A220-443B-B4EB-47ECD2EA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B7D84E-BD07-4B3F-9485-FF17884A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7DD6DA-ED6A-438D-80E1-11850408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F8D5D-7882-4E67-8707-2A60C0CA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1E443-578C-426E-B1CE-9469ED19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868D7-30C1-40DC-9385-FDCBBBE94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27B5B-9F7B-4307-BA6C-52021DA88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FB039-1E59-4098-9B1E-9843F32AC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25C9-B61A-43FC-8E13-B51EA081E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AD3114-088E-422D-9EE5-2666455E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04F30-A0BD-44A3-8038-A7C0DCE0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DCF83C-F300-425D-A265-2F244A43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9E69B-E982-439B-882E-1407C2FD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3621F7-75FC-4EF5-BD53-D90A234D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3B2474-6564-4040-9A4D-F3A94EE9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F5E87B-4702-4A84-9D45-E0D6D349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624B40-0E13-498B-80DA-4E6211B3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76FD4A-BD67-4180-AB55-6D6185AA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95052C-CE6C-4B6A-AC56-F8F5ED8A6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9B2F-51F7-457F-8DFB-3222E751D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3251EE-3096-49F6-8581-4071A4B86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2A0D0-1F7A-487B-88B4-BDFBE4272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FD341-EE10-435B-8BB7-9FD951F8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7A3BC-EE7E-4871-924D-97163F91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F44D9-99B9-4832-A49C-A9998742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385A3-EFAF-4E8B-A414-7582BBDA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2DC31-BD0F-4668-B549-5090488F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D5228-B0E6-4494-BC05-08823F06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58656-E148-4941-A27B-4727CB92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005C6-4435-4CD2-8E4B-569809AF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2ABE-CA91-4DE6-9C81-516FD0B63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CB9AD-E630-4A9E-8513-931C3C23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4D90C-1A2B-4260-AFA0-23AD4ACC0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C4D96-C83C-4915-B208-FA715040F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C07B5E-9CEE-430E-9BB0-E0155B786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6A1946-CE09-439E-8E8E-7DE7D314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BAF153-1840-4811-85F3-344AC24D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6BBE10-F59B-46BC-A884-526D0F64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DDF8BE-F3D5-495C-BF43-36AFDCB1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64EE1E-A382-4EB5-8321-377EF4CE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6A2B73-5B35-4128-90EC-BD1B5AE5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DAFD-63A8-4D1F-9D8B-AEB961E8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7EA51F-70CD-4391-A3DF-017E6A27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4C98E0-D7DD-4033-8838-6BD76850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A21A06-D91E-43A9-8ABF-AC384F1B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7FC052-A6AD-4C7A-8E62-2DBBBBD81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E08A47-9432-40C6-95D2-5AA1BE73D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40D6D8-5112-4745-896D-1C9A67279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434051-BF72-455F-9E34-ACE16BB1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FA60E4-6F44-40EC-B319-F912254E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CAAF7F-CAE7-4A62-B641-C69D8A26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3D7E47-6D5B-4CF4-903C-AFCDC9A2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5AD0-2717-4F70-AD60-E7FFBC1A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BCD546-6890-40A8-A98F-C9BDE684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FB0130-D368-4886-946A-89C469B0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BB400B-C214-4A48-BB86-A0D1BF56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D71354-3B61-4C3A-B6F1-CB6F293F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C7289D-0FEF-4384-9689-76021FAF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6A6854-3236-4D11-96F0-EB410D52A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48480D-19DE-495E-AF22-3C0777655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06AA-A242-4F6F-9B5F-7E366CE7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3446-201A-4B0D-8695-DBD8CD07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C714-B8BF-464A-BA51-7FD068CD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06FC-03B6-4B78-97C2-F7DA004C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C5C7-C824-43A0-B01F-D34AAE46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8121-65BC-4F4C-A2EB-7F3DB7A9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122D-6ED2-48FE-96A1-367D547C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080B-C6FF-4C7A-9353-8F69DEFA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9F09-2C49-46B9-BA0F-EAA329663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CFD1-05DA-4741-8EB5-4AA8C52F2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9A583-88C7-45C0-B578-D554666B7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41C2C-E6DF-40D0-A01B-3D016CAD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23CBD-39AC-4FEA-AA52-23204D39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2B23B-35A8-419A-B858-CA66A19B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EB685-ED3D-45C2-B607-A346E4B9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5934-452B-40E2-8131-B9C1ED90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55642-D8A7-42F8-AC01-0D2BFF42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75008-57D8-4F9D-941B-D5AF9200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15BD1-A9BB-4F6A-BFE4-ECFB192C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5C9E0-3947-4646-8003-A3F9925B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E1F71-3789-4346-A75E-118FFAB2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364B8-7BF1-44F7-B6D1-6F2391777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CEF2D-867F-48A6-8B1B-A5C23CA2E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DC1F9-9B67-4C42-BE87-AD6B11072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82AD3-43B9-416C-A40F-45A059F1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056BC-0460-4921-9BFA-E972EB24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79A0-465E-49D7-AB34-D5552704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63A87-16FD-4CAD-905F-8FD8EAE0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30FD5-08FC-4348-BED4-35F47282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14142-8D51-4D1E-8C84-53D3A2E9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4FC1E-3D38-4C97-8B1A-3E46E253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9A36A-E564-45F0-B076-5AE07DEE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125C3-50D9-4C21-8901-A78404AE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BB43D-A056-4A88-AAD4-076A2B47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71BDB-5291-4873-816C-C84A1827E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6DACC-2451-4677-A6B6-5F5FEB150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244EF-1824-4111-8994-C61499471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8942-D560-4E86-B499-D49BACD8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AA441-559D-4FDE-ABCE-20EDBCC2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F80FF-0160-4D4C-A483-DFB7733B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5299A-4C0E-498E-8A56-18E86E8E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A5C94-1844-4BDF-9E54-21D10C77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9E696-2D2F-45DA-80EE-20E840BA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7DA66-CCEF-471F-9BBE-20A395CD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B7811-FA16-4188-B1DC-CD2AA237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795C0-1DD6-445C-8039-233E1124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D2B82-296E-4022-B14A-01CA0F4D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34769-AFBD-4723-AB6D-C2B346494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ADF8-47FE-4220-9223-46F85755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57179-351F-4744-81DF-769D278EE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4E61F-A7DE-4D66-B04F-6EBB94AC9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E842B-298D-4C58-B371-69FC8B24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33C29-5F15-47B2-BF1B-D99FBF9A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25E97-271D-4093-AB6B-D9ECFD73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333FB-A7A8-4B44-9B9D-BA2C111A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4A343-6101-444E-BFFA-2A92B635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52E37-1D34-495C-B628-1B4F1088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06AA4-360E-4101-99FC-60776CA3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64F61-1E83-4DF8-A5A4-50770167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697E-0172-4685-B3A8-FA0C8630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DFACB-4518-4A66-A3B6-4C9E9676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E4D3F-2273-433E-A93A-78A9AEA2E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080A0-A45F-4D21-B59A-951143B8A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60D5F-DF6C-4E31-80E8-18DFC87F4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C7E61-BC73-41F0-BF26-54421C83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DE2A8-4CA0-4972-8C62-D5750EDE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EA264-BAF0-416E-AA68-D2C3EFE3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D1EC2-D995-491F-81E7-D1DC8198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88B00-DB21-42B1-B443-B09EF42E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476FD-66FA-433B-8A22-E2199EEF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A122-5066-4C2C-BFE6-8EADF3C6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C91F0-4763-495B-B545-5B58C66D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002A5-6B61-44A2-BBA1-46A5D7BF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61C8E-4CA4-4F8B-9091-53140436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762D8-D775-4F93-BB8C-98E4137D6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C0F40-DE7A-4408-BC4E-3D864565D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1D15E-296C-43B5-BCA6-7E6432F00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8391C-024A-453D-99B0-55580E4E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B6346-2422-40B1-B407-6177708C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90213-137A-485C-B639-3110A37C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9D496-FFA0-4304-BECA-631E0AC5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497D-6965-40CA-AD45-E6B88BF0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C4A76-9086-43C9-AB04-F534743E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E5B11-99F0-4EE7-9CC6-CFBA60D2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7B893-00BE-4D8B-B7A5-415A1839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DCA7A-0DD5-4D0C-96BD-B6F46E44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A8850-052C-49AD-BE0D-E068D2D1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9C31E-69E9-4846-95B5-5F2D14981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A42F9-7EDB-4B70-902A-E6423D3C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C1730-5449-46E4-9DE9-EBD04A61E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39FA1-8BE5-4CC9-BE34-21725CCB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7C56F-03CF-4314-9887-2AA154BB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D965-B133-4912-BEA4-D1E2F12ECF3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8F04-2154-478F-9AD7-8A94096E156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C510-1F76-4F36-9355-C198B638CCD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BD2B-FBF9-457E-858F-FEDC7F22B1F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59E0-5188-4B27-9320-7C732C6FA28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388C-82DF-4E5D-AF0F-BCB93F159FE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5422-3996-4A3C-B321-37EB4F13731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7989-F2B8-45CB-954A-B19B66D7882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E18C-8F1D-4902-A70C-964F3F44520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0A30-B1DD-4A4F-BAF2-BA8BE8C14A0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9D1E-FB61-4FF5-881C-DDC94E8988C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1351-EB96-478D-99B6-A8E2BE36EDE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742C-990C-42AE-984A-9405C85ED6D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5DC1-F21E-4FE4-A48D-4F3F60CA77C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7418-EB72-466B-A19D-89968A6D12C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4FD1-54DD-42AA-BAEE-3CB718EDFB5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78D0-8862-4C3B-99B2-74CBFF782A8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2074-D1C8-4546-A0F9-CE0A19767EE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05D5-B37E-4C71-86B8-4D5BA6F6516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BE0F-0A6A-4C7C-9976-A6BAD45F04F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9F7D-86C7-4513-A674-BC071B46D0C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8BDB-068E-4A13-8651-93C5C80FDC2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871C-D71F-451E-B0D1-29536575EF4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FDAF-C6DA-45AB-B644-834087975FE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2B0B-ADBC-4504-B7CB-4C2B21E73C0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61AF-0331-4F10-BA86-B949CDBAC1A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6"/>
          <p:cNvSpPr/>
          <p:nvPr/>
        </p:nvSpPr>
        <p:spPr>
          <a:xfrm>
            <a:off x="8317080" y="537840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右大括号 6"/>
          <p:cNvSpPr/>
          <p:nvPr/>
        </p:nvSpPr>
        <p:spPr>
          <a:xfrm>
            <a:off x="4643280" y="2071800"/>
            <a:ext cx="4500720" cy="1000080"/>
          </a:xfrm>
          <a:custGeom>
            <a:avLst/>
            <a:gdLst>
              <a:gd name="textAreaLeft" fmla="*/ 0 w 4500720"/>
              <a:gd name="textAreaRight" fmla="*/ 1625040 w 4500720"/>
              <a:gd name="textAreaTop" fmla="*/ 25920 h 1000080"/>
              <a:gd name="textAreaBottom" fmla="*/ 97416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左大括号 7"/>
          <p:cNvSpPr/>
          <p:nvPr/>
        </p:nvSpPr>
        <p:spPr>
          <a:xfrm>
            <a:off x="0" y="2071800"/>
            <a:ext cx="4643280" cy="1000080"/>
          </a:xfrm>
          <a:custGeom>
            <a:avLst/>
            <a:gdLst>
              <a:gd name="textAreaLeft" fmla="*/ 2966760 w 4643280"/>
              <a:gd name="textAreaRight" fmla="*/ 4643640 w 4643280"/>
              <a:gd name="textAreaTop" fmla="*/ 25920 h 1000080"/>
              <a:gd name="textAreaBottom" fmla="*/ 974160 h 100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1"/>
          <p:cNvSpPr/>
          <p:nvPr/>
        </p:nvSpPr>
        <p:spPr>
          <a:xfrm>
            <a:off x="1737000" y="221760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蓝色格子抽象背景商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12"/>
          <p:cNvSpPr/>
          <p:nvPr/>
        </p:nvSpPr>
        <p:spPr>
          <a:xfrm>
            <a:off x="458640" y="52084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Box 1"/>
          <p:cNvSpPr/>
          <p:nvPr/>
        </p:nvSpPr>
        <p:spPr>
          <a:xfrm>
            <a:off x="527760" y="2858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ae5f1"/>
                </a:solidFill>
                <a:latin typeface="微软雅黑"/>
                <a:ea typeface="微软雅黑"/>
              </a:rPr>
              <a:t>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组合 121"/>
          <p:cNvGrpSpPr/>
          <p:nvPr/>
        </p:nvGrpSpPr>
        <p:grpSpPr>
          <a:xfrm>
            <a:off x="1181160" y="714240"/>
            <a:ext cx="7034040" cy="4241880"/>
            <a:chOff x="1181160" y="714240"/>
            <a:chExt cx="7034040" cy="4241880"/>
          </a:xfrm>
        </p:grpSpPr>
        <p:sp>
          <p:nvSpPr>
            <p:cNvPr id="540" name="矩形 106"/>
            <p:cNvSpPr/>
            <p:nvPr/>
          </p:nvSpPr>
          <p:spPr>
            <a:xfrm>
              <a:off x="1181160" y="1439280"/>
              <a:ext cx="7034040" cy="3516840"/>
            </a:xfrm>
            <a:prstGeom prst="rect">
              <a:avLst/>
            </a:prstGeom>
            <a:solidFill>
              <a:srgbClr val="938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直接连接符 107"/>
            <p:cNvSpPr/>
            <p:nvPr/>
          </p:nvSpPr>
          <p:spPr>
            <a:xfrm>
              <a:off x="1181160" y="1369800"/>
              <a:ext cx="7034040" cy="0"/>
            </a:xfrm>
            <a:prstGeom prst="line">
              <a:avLst/>
            </a:prstGeom>
            <a:ln w="19080">
              <a:solidFill>
                <a:srgbClr val="93895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矩形 108"/>
            <p:cNvSpPr/>
            <p:nvPr/>
          </p:nvSpPr>
          <p:spPr>
            <a:xfrm>
              <a:off x="1419480" y="1608120"/>
              <a:ext cx="2086200" cy="321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矩形 109"/>
            <p:cNvSpPr/>
            <p:nvPr/>
          </p:nvSpPr>
          <p:spPr>
            <a:xfrm>
              <a:off x="3655080" y="1608120"/>
              <a:ext cx="2086200" cy="321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矩形 110"/>
            <p:cNvSpPr/>
            <p:nvPr/>
          </p:nvSpPr>
          <p:spPr>
            <a:xfrm>
              <a:off x="5890320" y="1608120"/>
              <a:ext cx="2086200" cy="321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矩形 111"/>
            <p:cNvSpPr/>
            <p:nvPr/>
          </p:nvSpPr>
          <p:spPr>
            <a:xfrm>
              <a:off x="1568520" y="1700280"/>
              <a:ext cx="1788120" cy="1847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矩形 112"/>
            <p:cNvSpPr/>
            <p:nvPr/>
          </p:nvSpPr>
          <p:spPr>
            <a:xfrm>
              <a:off x="3804120" y="1700280"/>
              <a:ext cx="1788120" cy="1847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矩形 113"/>
            <p:cNvSpPr/>
            <p:nvPr/>
          </p:nvSpPr>
          <p:spPr>
            <a:xfrm>
              <a:off x="6039360" y="1700280"/>
              <a:ext cx="1788120" cy="18478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Box 114"/>
            <p:cNvSpPr/>
            <p:nvPr/>
          </p:nvSpPr>
          <p:spPr>
            <a:xfrm>
              <a:off x="1478880" y="4095000"/>
              <a:ext cx="193716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您的内容打在这里，或者通过复制您的文本后，在此框中选择粘贴，并选择只保留文字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Box 115"/>
            <p:cNvSpPr/>
            <p:nvPr/>
          </p:nvSpPr>
          <p:spPr>
            <a:xfrm>
              <a:off x="1714680" y="377100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38953"/>
                  </a:solidFill>
                  <a:latin typeface="微软雅黑"/>
                  <a:ea typeface="微软雅黑"/>
                </a:rPr>
                <a:t>您的小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Box 116"/>
            <p:cNvSpPr/>
            <p:nvPr/>
          </p:nvSpPr>
          <p:spPr>
            <a:xfrm>
              <a:off x="3713760" y="4095000"/>
              <a:ext cx="193716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您的内容打在这里，或者通过复制您的文本后，在此框中选择粘贴，并选择只保留文字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Box 117"/>
            <p:cNvSpPr/>
            <p:nvPr/>
          </p:nvSpPr>
          <p:spPr>
            <a:xfrm>
              <a:off x="3949560" y="377100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38953"/>
                  </a:solidFill>
                  <a:latin typeface="微软雅黑"/>
                  <a:ea typeface="微软雅黑"/>
                </a:rPr>
                <a:t>您的小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Box 118"/>
            <p:cNvSpPr/>
            <p:nvPr/>
          </p:nvSpPr>
          <p:spPr>
            <a:xfrm>
              <a:off x="5950080" y="4095000"/>
              <a:ext cx="193716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您的内容打在这里，或者通过复制您的文本后，在此框中选择粘贴，并选择只保留文字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Box 119"/>
            <p:cNvSpPr/>
            <p:nvPr/>
          </p:nvSpPr>
          <p:spPr>
            <a:xfrm>
              <a:off x="6185880" y="377100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38953"/>
                  </a:solidFill>
                  <a:latin typeface="微软雅黑"/>
                  <a:ea typeface="微软雅黑"/>
                </a:rPr>
                <a:t>您的小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120"/>
            <p:cNvSpPr/>
            <p:nvPr/>
          </p:nvSpPr>
          <p:spPr>
            <a:xfrm>
              <a:off x="1848960" y="714240"/>
              <a:ext cx="213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38953"/>
                  </a:solidFill>
                  <a:latin typeface="微软雅黑"/>
                  <a:ea typeface="微软雅黑"/>
                </a:rPr>
                <a:t>您的标题写在这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Box 1"/>
          <p:cNvSpPr/>
          <p:nvPr/>
        </p:nvSpPr>
        <p:spPr>
          <a:xfrm>
            <a:off x="527760" y="2858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ae5f1"/>
                </a:solidFill>
                <a:latin typeface="微软雅黑"/>
                <a:ea typeface="微软雅黑"/>
              </a:rPr>
              <a:t>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组合 64"/>
          <p:cNvGrpSpPr/>
          <p:nvPr/>
        </p:nvGrpSpPr>
        <p:grpSpPr>
          <a:xfrm>
            <a:off x="1000080" y="1000080"/>
            <a:ext cx="7143840" cy="3823560"/>
            <a:chOff x="1000080" y="1000080"/>
            <a:chExt cx="7143840" cy="3823560"/>
          </a:xfrm>
        </p:grpSpPr>
        <p:grpSp>
          <p:nvGrpSpPr>
            <p:cNvPr id="557" name="Group 8"/>
            <p:cNvGrpSpPr/>
            <p:nvPr/>
          </p:nvGrpSpPr>
          <p:grpSpPr>
            <a:xfrm>
              <a:off x="4282560" y="1000080"/>
              <a:ext cx="2072520" cy="2703600"/>
              <a:chOff x="4282560" y="1000080"/>
              <a:chExt cx="2072520" cy="2703600"/>
            </a:xfrm>
          </p:grpSpPr>
          <p:sp>
            <p:nvSpPr>
              <p:cNvPr id="558" name="Freeform 44"/>
              <p:cNvSpPr/>
              <p:nvPr/>
            </p:nvSpPr>
            <p:spPr>
              <a:xfrm>
                <a:off x="4317480" y="1028520"/>
                <a:ext cx="2002320" cy="393120"/>
              </a:xfrm>
              <a:custGeom>
                <a:avLst/>
                <a:gdLst>
                  <a:gd name="textAreaLeft" fmla="*/ 0 w 2002320"/>
                  <a:gd name="textAreaRight" fmla="*/ 2002680 w 2002320"/>
                  <a:gd name="textAreaTop" fmla="*/ 0 h 393120"/>
                  <a:gd name="textAreaBottom" fmla="*/ 393480 h 393120"/>
                </a:gdLst>
                <a:ahLst/>
                <a:rect l="textAreaLeft" t="textAreaTop" r="textAreaRight" b="textAreaBottom"/>
                <a:pathLst>
                  <a:path w="1492" h="296">
                    <a:moveTo>
                      <a:pt x="1492" y="77"/>
                    </a:moveTo>
                    <a:lnTo>
                      <a:pt x="1276" y="0"/>
                    </a:lnTo>
                    <a:lnTo>
                      <a:pt x="0" y="180"/>
                    </a:lnTo>
                    <a:lnTo>
                      <a:pt x="129" y="296"/>
                    </a:lnTo>
                    <a:lnTo>
                      <a:pt x="1492" y="7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8d8"/>
                  </a:gs>
                  <a:gs pos="100000">
                    <a:srgbClr val="f2f2f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10"/>
              <p:cNvSpPr/>
              <p:nvPr/>
            </p:nvSpPr>
            <p:spPr>
              <a:xfrm>
                <a:off x="4282560" y="1235880"/>
                <a:ext cx="425880" cy="2467800"/>
              </a:xfrm>
              <a:custGeom>
                <a:avLst/>
                <a:gdLst>
                  <a:gd name="textAreaLeft" fmla="*/ 0 w 425880"/>
                  <a:gd name="textAreaRight" fmla="*/ 426240 w 425880"/>
                  <a:gd name="textAreaTop" fmla="*/ 0 h 2467800"/>
                  <a:gd name="textAreaBottom" fmla="*/ 2468160 h 2467800"/>
                </a:gdLst>
                <a:ahLst/>
                <a:rect l="textAreaLeft" t="textAreaTop" r="textAreaRight" b="textAreaBottom"/>
                <a:pathLst>
                  <a:path w="317" h="1856">
                    <a:moveTo>
                      <a:pt x="0" y="0"/>
                    </a:moveTo>
                    <a:lnTo>
                      <a:pt x="0" y="1722"/>
                    </a:lnTo>
                    <a:lnTo>
                      <a:pt x="3" y="1730"/>
                    </a:lnTo>
                    <a:lnTo>
                      <a:pt x="10" y="1748"/>
                    </a:lnTo>
                    <a:lnTo>
                      <a:pt x="26" y="1771"/>
                    </a:lnTo>
                    <a:lnTo>
                      <a:pt x="39" y="1786"/>
                    </a:lnTo>
                    <a:lnTo>
                      <a:pt x="54" y="1799"/>
                    </a:lnTo>
                    <a:lnTo>
                      <a:pt x="72" y="1812"/>
                    </a:lnTo>
                    <a:lnTo>
                      <a:pt x="93" y="1825"/>
                    </a:lnTo>
                    <a:lnTo>
                      <a:pt x="119" y="1835"/>
                    </a:lnTo>
                    <a:lnTo>
                      <a:pt x="149" y="1846"/>
                    </a:lnTo>
                    <a:lnTo>
                      <a:pt x="183" y="1851"/>
                    </a:lnTo>
                    <a:lnTo>
                      <a:pt x="224" y="1856"/>
                    </a:lnTo>
                    <a:lnTo>
                      <a:pt x="268" y="1853"/>
                    </a:lnTo>
                    <a:lnTo>
                      <a:pt x="317" y="1851"/>
                    </a:lnTo>
                    <a:lnTo>
                      <a:pt x="317" y="82"/>
                    </a:lnTo>
                    <a:lnTo>
                      <a:pt x="289" y="88"/>
                    </a:lnTo>
                    <a:lnTo>
                      <a:pt x="255" y="93"/>
                    </a:lnTo>
                    <a:lnTo>
                      <a:pt x="214" y="93"/>
                    </a:lnTo>
                    <a:lnTo>
                      <a:pt x="188" y="90"/>
                    </a:lnTo>
                    <a:lnTo>
                      <a:pt x="165" y="88"/>
                    </a:lnTo>
                    <a:lnTo>
                      <a:pt x="137" y="80"/>
                    </a:lnTo>
                    <a:lnTo>
                      <a:pt x="111" y="72"/>
                    </a:lnTo>
                    <a:lnTo>
                      <a:pt x="82" y="59"/>
                    </a:lnTo>
                    <a:lnTo>
                      <a:pt x="57" y="44"/>
                    </a:lnTo>
                    <a:lnTo>
                      <a:pt x="28" y="2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f3f3f"/>
                  </a:gs>
                  <a:gs pos="100000">
                    <a:srgbClr val="3f3f3f"/>
                  </a:gs>
                </a:gsLst>
                <a:lin ang="0"/>
              </a:gradFill>
              <a:ln w="9360">
                <a:solidFill>
                  <a:srgbClr val="3f3f3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11"/>
              <p:cNvSpPr/>
              <p:nvPr/>
            </p:nvSpPr>
            <p:spPr>
              <a:xfrm>
                <a:off x="4708440" y="1126080"/>
                <a:ext cx="1646640" cy="2570760"/>
              </a:xfrm>
              <a:custGeom>
                <a:avLst/>
                <a:gdLst>
                  <a:gd name="textAreaLeft" fmla="*/ 0 w 1646640"/>
                  <a:gd name="textAreaRight" fmla="*/ 1647000 w 1646640"/>
                  <a:gd name="textAreaTop" fmla="*/ 0 h 2570760"/>
                  <a:gd name="textAreaBottom" fmla="*/ 2571120 h 2570760"/>
                </a:gdLst>
                <a:ahLst/>
                <a:rect l="textAreaLeft" t="textAreaTop" r="textAreaRight" b="textAreaBottom"/>
                <a:pathLst>
                  <a:path w="1227" h="1934">
                    <a:moveTo>
                      <a:pt x="0" y="165"/>
                    </a:moveTo>
                    <a:lnTo>
                      <a:pt x="1227" y="0"/>
                    </a:lnTo>
                    <a:lnTo>
                      <a:pt x="1227" y="1686"/>
                    </a:lnTo>
                    <a:lnTo>
                      <a:pt x="0" y="1934"/>
                    </a:lnTo>
                    <a:lnTo>
                      <a:pt x="0" y="1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f3f3f"/>
                  </a:gs>
                  <a:gs pos="100000">
                    <a:srgbClr val="3f3f3f"/>
                  </a:gs>
                </a:gsLst>
                <a:lin ang="19200000"/>
              </a:gradFill>
              <a:ln w="9360">
                <a:solidFill>
                  <a:srgbClr val="26262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12"/>
              <p:cNvSpPr/>
              <p:nvPr/>
            </p:nvSpPr>
            <p:spPr>
              <a:xfrm>
                <a:off x="4282560" y="1000080"/>
                <a:ext cx="1748520" cy="267120"/>
              </a:xfrm>
              <a:custGeom>
                <a:avLst/>
                <a:gdLst>
                  <a:gd name="textAreaLeft" fmla="*/ 0 w 1748520"/>
                  <a:gd name="textAreaRight" fmla="*/ 1748880 w 174852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1302" h="201">
                    <a:moveTo>
                      <a:pt x="0" y="178"/>
                    </a:moveTo>
                    <a:lnTo>
                      <a:pt x="1302" y="0"/>
                    </a:lnTo>
                    <a:lnTo>
                      <a:pt x="1302" y="21"/>
                    </a:lnTo>
                    <a:lnTo>
                      <a:pt x="26" y="201"/>
                    </a:lnTo>
                    <a:lnTo>
                      <a:pt x="0" y="17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f3f3f"/>
                  </a:gs>
                  <a:gs pos="100000">
                    <a:srgbClr val="3f3f3f"/>
                  </a:gs>
                </a:gsLst>
                <a:lin ang="0"/>
              </a:gradFill>
              <a:ln w="9360">
                <a:solidFill>
                  <a:srgbClr val="3f3f3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2" name="Picture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6015600" y="1010520"/>
                <a:ext cx="30600" cy="30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3" name="Group 8"/>
            <p:cNvGrpSpPr/>
            <p:nvPr/>
          </p:nvGrpSpPr>
          <p:grpSpPr>
            <a:xfrm>
              <a:off x="4581000" y="1120680"/>
              <a:ext cx="2144160" cy="2795760"/>
              <a:chOff x="4581000" y="1120680"/>
              <a:chExt cx="2144160" cy="2795760"/>
            </a:xfrm>
          </p:grpSpPr>
          <p:sp>
            <p:nvSpPr>
              <p:cNvPr id="564" name="Freeform 9"/>
              <p:cNvSpPr/>
              <p:nvPr/>
            </p:nvSpPr>
            <p:spPr>
              <a:xfrm>
                <a:off x="4617360" y="1149120"/>
                <a:ext cx="2071080" cy="406800"/>
              </a:xfrm>
              <a:custGeom>
                <a:avLst/>
                <a:gdLst>
                  <a:gd name="textAreaLeft" fmla="*/ 0 w 2071080"/>
                  <a:gd name="textAreaRight" fmla="*/ 2071440 w 2071080"/>
                  <a:gd name="textAreaTop" fmla="*/ 0 h 406800"/>
                  <a:gd name="textAreaBottom" fmla="*/ 407160 h 406800"/>
                </a:gdLst>
                <a:ahLst/>
                <a:rect l="textAreaLeft" t="textAreaTop" r="textAreaRight" b="textAreaBottom"/>
                <a:pathLst>
                  <a:path w="1492" h="296">
                    <a:moveTo>
                      <a:pt x="1492" y="77"/>
                    </a:moveTo>
                    <a:lnTo>
                      <a:pt x="1276" y="0"/>
                    </a:lnTo>
                    <a:lnTo>
                      <a:pt x="0" y="180"/>
                    </a:lnTo>
                    <a:lnTo>
                      <a:pt x="129" y="296"/>
                    </a:lnTo>
                    <a:lnTo>
                      <a:pt x="1492" y="7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8d8"/>
                  </a:gs>
                  <a:gs pos="100000">
                    <a:srgbClr val="f2f2f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10"/>
              <p:cNvSpPr/>
              <p:nvPr/>
            </p:nvSpPr>
            <p:spPr>
              <a:xfrm>
                <a:off x="4581000" y="1365120"/>
                <a:ext cx="440280" cy="2551320"/>
              </a:xfrm>
              <a:custGeom>
                <a:avLst/>
                <a:gdLst>
                  <a:gd name="textAreaLeft" fmla="*/ 0 w 440280"/>
                  <a:gd name="textAreaRight" fmla="*/ 440640 w 440280"/>
                  <a:gd name="textAreaTop" fmla="*/ 0 h 2551320"/>
                  <a:gd name="textAreaBottom" fmla="*/ 2551680 h 2551320"/>
                </a:gdLst>
                <a:ahLst/>
                <a:rect l="textAreaLeft" t="textAreaTop" r="textAreaRight" b="textAreaBottom"/>
                <a:pathLst>
                  <a:path w="317" h="1856">
                    <a:moveTo>
                      <a:pt x="0" y="0"/>
                    </a:moveTo>
                    <a:lnTo>
                      <a:pt x="0" y="1722"/>
                    </a:lnTo>
                    <a:lnTo>
                      <a:pt x="3" y="1730"/>
                    </a:lnTo>
                    <a:lnTo>
                      <a:pt x="10" y="1748"/>
                    </a:lnTo>
                    <a:lnTo>
                      <a:pt x="26" y="1771"/>
                    </a:lnTo>
                    <a:lnTo>
                      <a:pt x="39" y="1786"/>
                    </a:lnTo>
                    <a:lnTo>
                      <a:pt x="54" y="1799"/>
                    </a:lnTo>
                    <a:lnTo>
                      <a:pt x="72" y="1812"/>
                    </a:lnTo>
                    <a:lnTo>
                      <a:pt x="93" y="1825"/>
                    </a:lnTo>
                    <a:lnTo>
                      <a:pt x="119" y="1835"/>
                    </a:lnTo>
                    <a:lnTo>
                      <a:pt x="149" y="1846"/>
                    </a:lnTo>
                    <a:lnTo>
                      <a:pt x="183" y="1851"/>
                    </a:lnTo>
                    <a:lnTo>
                      <a:pt x="224" y="1856"/>
                    </a:lnTo>
                    <a:lnTo>
                      <a:pt x="268" y="1853"/>
                    </a:lnTo>
                    <a:lnTo>
                      <a:pt x="317" y="1851"/>
                    </a:lnTo>
                    <a:lnTo>
                      <a:pt x="317" y="82"/>
                    </a:lnTo>
                    <a:lnTo>
                      <a:pt x="289" y="88"/>
                    </a:lnTo>
                    <a:lnTo>
                      <a:pt x="255" y="93"/>
                    </a:lnTo>
                    <a:lnTo>
                      <a:pt x="214" y="93"/>
                    </a:lnTo>
                    <a:lnTo>
                      <a:pt x="188" y="90"/>
                    </a:lnTo>
                    <a:lnTo>
                      <a:pt x="165" y="88"/>
                    </a:lnTo>
                    <a:lnTo>
                      <a:pt x="137" y="80"/>
                    </a:lnTo>
                    <a:lnTo>
                      <a:pt x="111" y="72"/>
                    </a:lnTo>
                    <a:lnTo>
                      <a:pt x="82" y="59"/>
                    </a:lnTo>
                    <a:lnTo>
                      <a:pt x="57" y="44"/>
                    </a:lnTo>
                    <a:lnTo>
                      <a:pt x="28" y="2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6f0c"/>
                  </a:gs>
                  <a:gs pos="100000">
                    <a:srgbClr val="2a6f0c"/>
                  </a:gs>
                </a:gsLst>
                <a:lin ang="0"/>
              </a:gradFill>
              <a:ln w="9360">
                <a:solidFill>
                  <a:srgbClr val="2a6f0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11"/>
              <p:cNvSpPr/>
              <p:nvPr/>
            </p:nvSpPr>
            <p:spPr>
              <a:xfrm>
                <a:off x="5021280" y="1251000"/>
                <a:ext cx="1703880" cy="2658600"/>
              </a:xfrm>
              <a:custGeom>
                <a:avLst/>
                <a:gdLst>
                  <a:gd name="textAreaLeft" fmla="*/ 0 w 1703880"/>
                  <a:gd name="textAreaRight" fmla="*/ 1704240 w 1703880"/>
                  <a:gd name="textAreaTop" fmla="*/ 0 h 2658600"/>
                  <a:gd name="textAreaBottom" fmla="*/ 2658960 h 2658600"/>
                </a:gdLst>
                <a:ahLst/>
                <a:rect l="textAreaLeft" t="textAreaTop" r="textAreaRight" b="textAreaBottom"/>
                <a:pathLst>
                  <a:path w="1227" h="1934">
                    <a:moveTo>
                      <a:pt x="0" y="165"/>
                    </a:moveTo>
                    <a:lnTo>
                      <a:pt x="1227" y="0"/>
                    </a:lnTo>
                    <a:lnTo>
                      <a:pt x="1227" y="1686"/>
                    </a:lnTo>
                    <a:lnTo>
                      <a:pt x="0" y="1934"/>
                    </a:lnTo>
                    <a:lnTo>
                      <a:pt x="0" y="1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6f0c"/>
                  </a:gs>
                  <a:gs pos="100000">
                    <a:srgbClr val="2a6f0c"/>
                  </a:gs>
                </a:gsLst>
                <a:lin ang="19200000"/>
              </a:gradFill>
              <a:ln w="9360">
                <a:solidFill>
                  <a:srgbClr val="2a6f0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12"/>
              <p:cNvSpPr/>
              <p:nvPr/>
            </p:nvSpPr>
            <p:spPr>
              <a:xfrm>
                <a:off x="4581000" y="1120680"/>
                <a:ext cx="1808280" cy="276120"/>
              </a:xfrm>
              <a:custGeom>
                <a:avLst/>
                <a:gdLst>
                  <a:gd name="textAreaLeft" fmla="*/ 0 w 1808280"/>
                  <a:gd name="textAreaRight" fmla="*/ 1808640 w 180828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302" h="201">
                    <a:moveTo>
                      <a:pt x="0" y="178"/>
                    </a:moveTo>
                    <a:lnTo>
                      <a:pt x="1302" y="0"/>
                    </a:lnTo>
                    <a:lnTo>
                      <a:pt x="1302" y="21"/>
                    </a:lnTo>
                    <a:lnTo>
                      <a:pt x="26" y="201"/>
                    </a:lnTo>
                    <a:lnTo>
                      <a:pt x="0" y="17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6f0c"/>
                  </a:gs>
                  <a:gs pos="100000">
                    <a:srgbClr val="2a6f0c"/>
                  </a:gs>
                </a:gsLst>
                <a:lin ang="0"/>
              </a:gradFill>
              <a:ln w="9360">
                <a:solidFill>
                  <a:srgbClr val="2a6f0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8" name="Picture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6373800" y="1131480"/>
                <a:ext cx="31680" cy="31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9" name="Group 14"/>
            <p:cNvGrpSpPr/>
            <p:nvPr/>
          </p:nvGrpSpPr>
          <p:grpSpPr>
            <a:xfrm>
              <a:off x="4924080" y="1227960"/>
              <a:ext cx="2202480" cy="2871720"/>
              <a:chOff x="4924080" y="1227960"/>
              <a:chExt cx="2202480" cy="2871720"/>
            </a:xfrm>
          </p:grpSpPr>
          <p:sp>
            <p:nvSpPr>
              <p:cNvPr id="570" name="Freeform 9"/>
              <p:cNvSpPr/>
              <p:nvPr/>
            </p:nvSpPr>
            <p:spPr>
              <a:xfrm>
                <a:off x="4960440" y="1257480"/>
                <a:ext cx="2129400" cy="417600"/>
              </a:xfrm>
              <a:custGeom>
                <a:avLst/>
                <a:gdLst>
                  <a:gd name="textAreaLeft" fmla="*/ 0 w 2129400"/>
                  <a:gd name="textAreaRight" fmla="*/ 2129760 w 2129400"/>
                  <a:gd name="textAreaTop" fmla="*/ 0 h 417600"/>
                  <a:gd name="textAreaBottom" fmla="*/ 417960 h 417600"/>
                </a:gdLst>
                <a:ahLst/>
                <a:rect l="textAreaLeft" t="textAreaTop" r="textAreaRight" b="textAreaBottom"/>
                <a:pathLst>
                  <a:path w="1492" h="296">
                    <a:moveTo>
                      <a:pt x="1492" y="77"/>
                    </a:moveTo>
                    <a:lnTo>
                      <a:pt x="1276" y="0"/>
                    </a:lnTo>
                    <a:lnTo>
                      <a:pt x="0" y="180"/>
                    </a:lnTo>
                    <a:lnTo>
                      <a:pt x="129" y="296"/>
                    </a:lnTo>
                    <a:lnTo>
                      <a:pt x="1492" y="7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8d8"/>
                  </a:gs>
                  <a:gs pos="100000">
                    <a:srgbClr val="f2f2f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10"/>
              <p:cNvSpPr/>
              <p:nvPr/>
            </p:nvSpPr>
            <p:spPr>
              <a:xfrm>
                <a:off x="4924080" y="1479240"/>
                <a:ext cx="452160" cy="2620440"/>
              </a:xfrm>
              <a:custGeom>
                <a:avLst/>
                <a:gdLst>
                  <a:gd name="textAreaLeft" fmla="*/ 0 w 452160"/>
                  <a:gd name="textAreaRight" fmla="*/ 452520 w 452160"/>
                  <a:gd name="textAreaTop" fmla="*/ 0 h 2620440"/>
                  <a:gd name="textAreaBottom" fmla="*/ 2620800 h 2620440"/>
                </a:gdLst>
                <a:ahLst/>
                <a:rect l="textAreaLeft" t="textAreaTop" r="textAreaRight" b="textAreaBottom"/>
                <a:pathLst>
                  <a:path w="317" h="1856">
                    <a:moveTo>
                      <a:pt x="0" y="0"/>
                    </a:moveTo>
                    <a:lnTo>
                      <a:pt x="0" y="1722"/>
                    </a:lnTo>
                    <a:lnTo>
                      <a:pt x="3" y="1730"/>
                    </a:lnTo>
                    <a:lnTo>
                      <a:pt x="10" y="1748"/>
                    </a:lnTo>
                    <a:lnTo>
                      <a:pt x="26" y="1771"/>
                    </a:lnTo>
                    <a:lnTo>
                      <a:pt x="39" y="1786"/>
                    </a:lnTo>
                    <a:lnTo>
                      <a:pt x="54" y="1799"/>
                    </a:lnTo>
                    <a:lnTo>
                      <a:pt x="72" y="1812"/>
                    </a:lnTo>
                    <a:lnTo>
                      <a:pt x="93" y="1825"/>
                    </a:lnTo>
                    <a:lnTo>
                      <a:pt x="119" y="1835"/>
                    </a:lnTo>
                    <a:lnTo>
                      <a:pt x="149" y="1846"/>
                    </a:lnTo>
                    <a:lnTo>
                      <a:pt x="183" y="1851"/>
                    </a:lnTo>
                    <a:lnTo>
                      <a:pt x="224" y="1856"/>
                    </a:lnTo>
                    <a:lnTo>
                      <a:pt x="268" y="1853"/>
                    </a:lnTo>
                    <a:lnTo>
                      <a:pt x="317" y="1851"/>
                    </a:lnTo>
                    <a:lnTo>
                      <a:pt x="317" y="82"/>
                    </a:lnTo>
                    <a:lnTo>
                      <a:pt x="289" y="88"/>
                    </a:lnTo>
                    <a:lnTo>
                      <a:pt x="255" y="93"/>
                    </a:lnTo>
                    <a:lnTo>
                      <a:pt x="214" y="93"/>
                    </a:lnTo>
                    <a:lnTo>
                      <a:pt x="188" y="90"/>
                    </a:lnTo>
                    <a:lnTo>
                      <a:pt x="165" y="88"/>
                    </a:lnTo>
                    <a:lnTo>
                      <a:pt x="137" y="80"/>
                    </a:lnTo>
                    <a:lnTo>
                      <a:pt x="111" y="72"/>
                    </a:lnTo>
                    <a:lnTo>
                      <a:pt x="82" y="59"/>
                    </a:lnTo>
                    <a:lnTo>
                      <a:pt x="57" y="44"/>
                    </a:lnTo>
                    <a:lnTo>
                      <a:pt x="28" y="2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6600"/>
                  </a:gs>
                  <a:gs pos="100000">
                    <a:srgbClr val="ffc000"/>
                  </a:gs>
                </a:gsLst>
                <a:lin ang="21540000"/>
              </a:gradFill>
              <a:ln w="9360">
                <a:solidFill>
                  <a:srgbClr val="d09e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11"/>
              <p:cNvSpPr/>
              <p:nvPr/>
            </p:nvSpPr>
            <p:spPr>
              <a:xfrm>
                <a:off x="5376240" y="1361880"/>
                <a:ext cx="1750320" cy="2730600"/>
              </a:xfrm>
              <a:custGeom>
                <a:avLst/>
                <a:gdLst>
                  <a:gd name="textAreaLeft" fmla="*/ 0 w 1750320"/>
                  <a:gd name="textAreaRight" fmla="*/ 1750680 w 1750320"/>
                  <a:gd name="textAreaTop" fmla="*/ 0 h 2730600"/>
                  <a:gd name="textAreaBottom" fmla="*/ 2730960 h 2730600"/>
                </a:gdLst>
                <a:ahLst/>
                <a:rect l="textAreaLeft" t="textAreaTop" r="textAreaRight" b="textAreaBottom"/>
                <a:pathLst>
                  <a:path w="1227" h="1934">
                    <a:moveTo>
                      <a:pt x="0" y="165"/>
                    </a:moveTo>
                    <a:lnTo>
                      <a:pt x="1227" y="0"/>
                    </a:lnTo>
                    <a:lnTo>
                      <a:pt x="1227" y="1686"/>
                    </a:lnTo>
                    <a:lnTo>
                      <a:pt x="0" y="1934"/>
                    </a:lnTo>
                    <a:lnTo>
                      <a:pt x="0" y="1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9e00"/>
                  </a:gs>
                  <a:gs pos="100000">
                    <a:srgbClr val="ffc000"/>
                  </a:gs>
                </a:gsLst>
                <a:lin ang="19200000"/>
              </a:gradFill>
              <a:ln w="9360">
                <a:solidFill>
                  <a:srgbClr val="d09e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12"/>
              <p:cNvSpPr/>
              <p:nvPr/>
            </p:nvSpPr>
            <p:spPr>
              <a:xfrm>
                <a:off x="4924080" y="1227960"/>
                <a:ext cx="1857240" cy="283680"/>
              </a:xfrm>
              <a:custGeom>
                <a:avLst/>
                <a:gdLst>
                  <a:gd name="textAreaLeft" fmla="*/ 0 w 1857240"/>
                  <a:gd name="textAreaRight" fmla="*/ 1857600 w 1857240"/>
                  <a:gd name="textAreaTop" fmla="*/ 0 h 283680"/>
                  <a:gd name="textAreaBottom" fmla="*/ 284040 h 283680"/>
                </a:gdLst>
                <a:ahLst/>
                <a:rect l="textAreaLeft" t="textAreaTop" r="textAreaRight" b="textAreaBottom"/>
                <a:pathLst>
                  <a:path w="1302" h="201">
                    <a:moveTo>
                      <a:pt x="0" y="178"/>
                    </a:moveTo>
                    <a:lnTo>
                      <a:pt x="1302" y="0"/>
                    </a:lnTo>
                    <a:lnTo>
                      <a:pt x="1302" y="21"/>
                    </a:lnTo>
                    <a:lnTo>
                      <a:pt x="26" y="201"/>
                    </a:lnTo>
                    <a:lnTo>
                      <a:pt x="0" y="17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9e00"/>
                  </a:gs>
                  <a:gs pos="100000">
                    <a:srgbClr val="ffc000"/>
                  </a:gs>
                </a:gsLst>
                <a:lin ang="19200000"/>
              </a:gradFill>
              <a:ln w="9360">
                <a:solidFill>
                  <a:srgbClr val="d09e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74" name="Picture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6765840" y="1239120"/>
                <a:ext cx="32760" cy="32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5" name="Group 14"/>
            <p:cNvGrpSpPr/>
            <p:nvPr/>
          </p:nvGrpSpPr>
          <p:grpSpPr>
            <a:xfrm>
              <a:off x="5339160" y="1325520"/>
              <a:ext cx="2301480" cy="3031920"/>
              <a:chOff x="5339160" y="1325520"/>
              <a:chExt cx="2301480" cy="3031920"/>
            </a:xfrm>
          </p:grpSpPr>
          <p:sp>
            <p:nvSpPr>
              <p:cNvPr id="576" name="Freeform 9"/>
              <p:cNvSpPr/>
              <p:nvPr/>
            </p:nvSpPr>
            <p:spPr>
              <a:xfrm>
                <a:off x="5378400" y="1356480"/>
                <a:ext cx="2223000" cy="440640"/>
              </a:xfrm>
              <a:custGeom>
                <a:avLst/>
                <a:gdLst>
                  <a:gd name="textAreaLeft" fmla="*/ 0 w 2223000"/>
                  <a:gd name="textAreaRight" fmla="*/ 2223360 w 22230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92" h="296">
                    <a:moveTo>
                      <a:pt x="1492" y="77"/>
                    </a:moveTo>
                    <a:lnTo>
                      <a:pt x="1276" y="0"/>
                    </a:lnTo>
                    <a:lnTo>
                      <a:pt x="0" y="180"/>
                    </a:lnTo>
                    <a:lnTo>
                      <a:pt x="129" y="296"/>
                    </a:lnTo>
                    <a:lnTo>
                      <a:pt x="1492" y="7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8d8"/>
                  </a:gs>
                  <a:gs pos="100000">
                    <a:srgbClr val="f2f2f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10"/>
              <p:cNvSpPr/>
              <p:nvPr/>
            </p:nvSpPr>
            <p:spPr>
              <a:xfrm>
                <a:off x="5339160" y="1590840"/>
                <a:ext cx="472320" cy="2766600"/>
              </a:xfrm>
              <a:custGeom>
                <a:avLst/>
                <a:gdLst>
                  <a:gd name="textAreaLeft" fmla="*/ 0 w 472320"/>
                  <a:gd name="textAreaRight" fmla="*/ 472680 w 472320"/>
                  <a:gd name="textAreaTop" fmla="*/ 0 h 2766600"/>
                  <a:gd name="textAreaBottom" fmla="*/ 2766960 h 2766600"/>
                </a:gdLst>
                <a:ahLst/>
                <a:rect l="textAreaLeft" t="textAreaTop" r="textAreaRight" b="textAreaBottom"/>
                <a:pathLst>
                  <a:path w="317" h="1856">
                    <a:moveTo>
                      <a:pt x="0" y="0"/>
                    </a:moveTo>
                    <a:lnTo>
                      <a:pt x="0" y="1722"/>
                    </a:lnTo>
                    <a:lnTo>
                      <a:pt x="3" y="1730"/>
                    </a:lnTo>
                    <a:lnTo>
                      <a:pt x="10" y="1748"/>
                    </a:lnTo>
                    <a:lnTo>
                      <a:pt x="26" y="1771"/>
                    </a:lnTo>
                    <a:lnTo>
                      <a:pt x="39" y="1786"/>
                    </a:lnTo>
                    <a:lnTo>
                      <a:pt x="54" y="1799"/>
                    </a:lnTo>
                    <a:lnTo>
                      <a:pt x="72" y="1812"/>
                    </a:lnTo>
                    <a:lnTo>
                      <a:pt x="93" y="1825"/>
                    </a:lnTo>
                    <a:lnTo>
                      <a:pt x="119" y="1835"/>
                    </a:lnTo>
                    <a:lnTo>
                      <a:pt x="149" y="1846"/>
                    </a:lnTo>
                    <a:lnTo>
                      <a:pt x="183" y="1851"/>
                    </a:lnTo>
                    <a:lnTo>
                      <a:pt x="224" y="1856"/>
                    </a:lnTo>
                    <a:lnTo>
                      <a:pt x="268" y="1853"/>
                    </a:lnTo>
                    <a:lnTo>
                      <a:pt x="317" y="1851"/>
                    </a:lnTo>
                    <a:lnTo>
                      <a:pt x="317" y="82"/>
                    </a:lnTo>
                    <a:lnTo>
                      <a:pt x="289" y="88"/>
                    </a:lnTo>
                    <a:lnTo>
                      <a:pt x="255" y="93"/>
                    </a:lnTo>
                    <a:lnTo>
                      <a:pt x="214" y="93"/>
                    </a:lnTo>
                    <a:lnTo>
                      <a:pt x="188" y="90"/>
                    </a:lnTo>
                    <a:lnTo>
                      <a:pt x="165" y="88"/>
                    </a:lnTo>
                    <a:lnTo>
                      <a:pt x="137" y="80"/>
                    </a:lnTo>
                    <a:lnTo>
                      <a:pt x="111" y="72"/>
                    </a:lnTo>
                    <a:lnTo>
                      <a:pt x="82" y="59"/>
                    </a:lnTo>
                    <a:lnTo>
                      <a:pt x="57" y="44"/>
                    </a:lnTo>
                    <a:lnTo>
                      <a:pt x="28" y="2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d68"/>
                  </a:gs>
                  <a:gs pos="100000">
                    <a:srgbClr val="006d68"/>
                  </a:gs>
                </a:gsLst>
                <a:lin ang="21540000"/>
              </a:gradFill>
              <a:ln w="9360">
                <a:solidFill>
                  <a:srgbClr val="006d68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11"/>
              <p:cNvSpPr/>
              <p:nvPr/>
            </p:nvSpPr>
            <p:spPr>
              <a:xfrm>
                <a:off x="5811480" y="1467000"/>
                <a:ext cx="1829160" cy="2882880"/>
              </a:xfrm>
              <a:custGeom>
                <a:avLst/>
                <a:gdLst>
                  <a:gd name="textAreaLeft" fmla="*/ 0 w 1829160"/>
                  <a:gd name="textAreaRight" fmla="*/ 1829520 w 1829160"/>
                  <a:gd name="textAreaTop" fmla="*/ 0 h 2882880"/>
                  <a:gd name="textAreaBottom" fmla="*/ 2883240 h 2882880"/>
                </a:gdLst>
                <a:ahLst/>
                <a:rect l="textAreaLeft" t="textAreaTop" r="textAreaRight" b="textAreaBottom"/>
                <a:pathLst>
                  <a:path w="1227" h="1934">
                    <a:moveTo>
                      <a:pt x="0" y="165"/>
                    </a:moveTo>
                    <a:lnTo>
                      <a:pt x="1227" y="0"/>
                    </a:lnTo>
                    <a:lnTo>
                      <a:pt x="1227" y="1686"/>
                    </a:lnTo>
                    <a:lnTo>
                      <a:pt x="0" y="1934"/>
                    </a:lnTo>
                    <a:lnTo>
                      <a:pt x="0" y="1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d68"/>
                  </a:gs>
                  <a:gs pos="100000">
                    <a:srgbClr val="006d68"/>
                  </a:gs>
                </a:gsLst>
                <a:lin ang="19200000"/>
              </a:gradFill>
              <a:ln w="9360">
                <a:solidFill>
                  <a:srgbClr val="006d68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12"/>
              <p:cNvSpPr/>
              <p:nvPr/>
            </p:nvSpPr>
            <p:spPr>
              <a:xfrm>
                <a:off x="5339160" y="1325520"/>
                <a:ext cx="1940760" cy="299520"/>
              </a:xfrm>
              <a:custGeom>
                <a:avLst/>
                <a:gdLst>
                  <a:gd name="textAreaLeft" fmla="*/ 0 w 1940760"/>
                  <a:gd name="textAreaRight" fmla="*/ 1941120 w 194076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1302" h="201">
                    <a:moveTo>
                      <a:pt x="0" y="178"/>
                    </a:moveTo>
                    <a:lnTo>
                      <a:pt x="1302" y="0"/>
                    </a:lnTo>
                    <a:lnTo>
                      <a:pt x="1302" y="21"/>
                    </a:lnTo>
                    <a:lnTo>
                      <a:pt x="26" y="201"/>
                    </a:lnTo>
                    <a:lnTo>
                      <a:pt x="0" y="17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d68"/>
                  </a:gs>
                  <a:gs pos="100000">
                    <a:srgbClr val="006d68"/>
                  </a:gs>
                </a:gsLst>
                <a:lin ang="19200000"/>
              </a:gradFill>
              <a:ln w="9360">
                <a:solidFill>
                  <a:srgbClr val="006d68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7263720" y="1337400"/>
                <a:ext cx="34200" cy="34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14"/>
            <p:cNvGrpSpPr/>
            <p:nvPr/>
          </p:nvGrpSpPr>
          <p:grpSpPr>
            <a:xfrm>
              <a:off x="5748840" y="1455840"/>
              <a:ext cx="2395080" cy="3155400"/>
              <a:chOff x="5748840" y="1455840"/>
              <a:chExt cx="2395080" cy="3155400"/>
            </a:xfrm>
          </p:grpSpPr>
          <p:sp>
            <p:nvSpPr>
              <p:cNvPr id="582" name="Freeform 9"/>
              <p:cNvSpPr/>
              <p:nvPr/>
            </p:nvSpPr>
            <p:spPr>
              <a:xfrm>
                <a:off x="5789520" y="1488240"/>
                <a:ext cx="2313720" cy="459720"/>
              </a:xfrm>
              <a:custGeom>
                <a:avLst/>
                <a:gdLst>
                  <a:gd name="textAreaLeft" fmla="*/ 0 w 2313720"/>
                  <a:gd name="textAreaRight" fmla="*/ 2314080 w 2313720"/>
                  <a:gd name="textAreaTop" fmla="*/ 0 h 459720"/>
                  <a:gd name="textAreaBottom" fmla="*/ 460080 h 459720"/>
                </a:gdLst>
                <a:ahLst/>
                <a:rect l="textAreaLeft" t="textAreaTop" r="textAreaRight" b="textAreaBottom"/>
                <a:pathLst>
                  <a:path w="1492" h="296">
                    <a:moveTo>
                      <a:pt x="1492" y="77"/>
                    </a:moveTo>
                    <a:lnTo>
                      <a:pt x="1276" y="0"/>
                    </a:lnTo>
                    <a:lnTo>
                      <a:pt x="0" y="180"/>
                    </a:lnTo>
                    <a:lnTo>
                      <a:pt x="129" y="296"/>
                    </a:lnTo>
                    <a:lnTo>
                      <a:pt x="1492" y="7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8d8"/>
                  </a:gs>
                  <a:gs pos="100000">
                    <a:srgbClr val="f2f2f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10"/>
              <p:cNvSpPr/>
              <p:nvPr/>
            </p:nvSpPr>
            <p:spPr>
              <a:xfrm>
                <a:off x="5748840" y="1731960"/>
                <a:ext cx="491760" cy="287928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2879280"/>
                  <a:gd name="textAreaBottom" fmla="*/ 2879640 h 2879280"/>
                </a:gdLst>
                <a:ahLst/>
                <a:rect l="textAreaLeft" t="textAreaTop" r="textAreaRight" b="textAreaBottom"/>
                <a:pathLst>
                  <a:path w="317" h="1856">
                    <a:moveTo>
                      <a:pt x="0" y="0"/>
                    </a:moveTo>
                    <a:lnTo>
                      <a:pt x="0" y="1722"/>
                    </a:lnTo>
                    <a:lnTo>
                      <a:pt x="3" y="1730"/>
                    </a:lnTo>
                    <a:lnTo>
                      <a:pt x="10" y="1748"/>
                    </a:lnTo>
                    <a:lnTo>
                      <a:pt x="26" y="1771"/>
                    </a:lnTo>
                    <a:lnTo>
                      <a:pt x="39" y="1786"/>
                    </a:lnTo>
                    <a:lnTo>
                      <a:pt x="54" y="1799"/>
                    </a:lnTo>
                    <a:lnTo>
                      <a:pt x="72" y="1812"/>
                    </a:lnTo>
                    <a:lnTo>
                      <a:pt x="93" y="1825"/>
                    </a:lnTo>
                    <a:lnTo>
                      <a:pt x="119" y="1835"/>
                    </a:lnTo>
                    <a:lnTo>
                      <a:pt x="149" y="1846"/>
                    </a:lnTo>
                    <a:lnTo>
                      <a:pt x="183" y="1851"/>
                    </a:lnTo>
                    <a:lnTo>
                      <a:pt x="224" y="1856"/>
                    </a:lnTo>
                    <a:lnTo>
                      <a:pt x="268" y="1853"/>
                    </a:lnTo>
                    <a:lnTo>
                      <a:pt x="317" y="1851"/>
                    </a:lnTo>
                    <a:lnTo>
                      <a:pt x="317" y="82"/>
                    </a:lnTo>
                    <a:lnTo>
                      <a:pt x="289" y="88"/>
                    </a:lnTo>
                    <a:lnTo>
                      <a:pt x="255" y="93"/>
                    </a:lnTo>
                    <a:lnTo>
                      <a:pt x="214" y="93"/>
                    </a:lnTo>
                    <a:lnTo>
                      <a:pt x="188" y="90"/>
                    </a:lnTo>
                    <a:lnTo>
                      <a:pt x="165" y="88"/>
                    </a:lnTo>
                    <a:lnTo>
                      <a:pt x="137" y="80"/>
                    </a:lnTo>
                    <a:lnTo>
                      <a:pt x="111" y="72"/>
                    </a:lnTo>
                    <a:lnTo>
                      <a:pt x="82" y="59"/>
                    </a:lnTo>
                    <a:lnTo>
                      <a:pt x="57" y="44"/>
                    </a:lnTo>
                    <a:lnTo>
                      <a:pt x="28" y="2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800000"/>
                  </a:gs>
                </a:gsLst>
                <a:lin ang="21540000"/>
              </a:gradFill>
              <a:ln w="9360">
                <a:solidFill>
                  <a:srgbClr val="8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11"/>
              <p:cNvSpPr/>
              <p:nvPr/>
            </p:nvSpPr>
            <p:spPr>
              <a:xfrm>
                <a:off x="6240600" y="1603080"/>
                <a:ext cx="1903320" cy="3000600"/>
              </a:xfrm>
              <a:custGeom>
                <a:avLst/>
                <a:gdLst>
                  <a:gd name="textAreaLeft" fmla="*/ 0 w 1903320"/>
                  <a:gd name="textAreaRight" fmla="*/ 1903680 w 1903320"/>
                  <a:gd name="textAreaTop" fmla="*/ 0 h 3000600"/>
                  <a:gd name="textAreaBottom" fmla="*/ 3000960 h 3000600"/>
                </a:gdLst>
                <a:ahLst/>
                <a:rect l="textAreaLeft" t="textAreaTop" r="textAreaRight" b="textAreaBottom"/>
                <a:pathLst>
                  <a:path w="1227" h="1934">
                    <a:moveTo>
                      <a:pt x="0" y="165"/>
                    </a:moveTo>
                    <a:lnTo>
                      <a:pt x="1227" y="0"/>
                    </a:lnTo>
                    <a:lnTo>
                      <a:pt x="1227" y="1686"/>
                    </a:lnTo>
                    <a:lnTo>
                      <a:pt x="0" y="1934"/>
                    </a:lnTo>
                    <a:lnTo>
                      <a:pt x="0" y="1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800000"/>
                  </a:gs>
                </a:gsLst>
                <a:lin ang="19200000"/>
              </a:gradFill>
              <a:ln w="9360">
                <a:solidFill>
                  <a:srgbClr val="8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12"/>
              <p:cNvSpPr/>
              <p:nvPr/>
            </p:nvSpPr>
            <p:spPr>
              <a:xfrm>
                <a:off x="5748840" y="1455840"/>
                <a:ext cx="2019960" cy="311760"/>
              </a:xfrm>
              <a:custGeom>
                <a:avLst/>
                <a:gdLst>
                  <a:gd name="textAreaLeft" fmla="*/ 0 w 2019960"/>
                  <a:gd name="textAreaRight" fmla="*/ 2020320 w 2019960"/>
                  <a:gd name="textAreaTop" fmla="*/ 0 h 311760"/>
                  <a:gd name="textAreaBottom" fmla="*/ 312120 h 311760"/>
                </a:gdLst>
                <a:ahLst/>
                <a:rect l="textAreaLeft" t="textAreaTop" r="textAreaRight" b="textAreaBottom"/>
                <a:pathLst>
                  <a:path w="1302" h="201">
                    <a:moveTo>
                      <a:pt x="0" y="178"/>
                    </a:moveTo>
                    <a:lnTo>
                      <a:pt x="1302" y="0"/>
                    </a:lnTo>
                    <a:lnTo>
                      <a:pt x="1302" y="21"/>
                    </a:lnTo>
                    <a:lnTo>
                      <a:pt x="26" y="201"/>
                    </a:lnTo>
                    <a:lnTo>
                      <a:pt x="0" y="17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800000"/>
                  </a:gs>
                </a:gsLst>
                <a:lin ang="19200000"/>
              </a:gradFill>
              <a:ln w="9360">
                <a:solidFill>
                  <a:srgbClr val="006d68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6" name="Picture 13" descr=""/>
              <p:cNvPicPr/>
              <p:nvPr/>
            </p:nvPicPr>
            <p:blipFill>
              <a:blip r:embed="rId5"/>
              <a:stretch/>
            </p:blipFill>
            <p:spPr>
              <a:xfrm>
                <a:off x="7751520" y="1468080"/>
                <a:ext cx="35640" cy="3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87" name="Line 33"/>
            <p:cNvSpPr/>
            <p:nvPr/>
          </p:nvSpPr>
          <p:spPr>
            <a:xfrm flipH="1">
              <a:off x="2845440" y="1416240"/>
              <a:ext cx="153540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33"/>
            <p:cNvSpPr/>
            <p:nvPr/>
          </p:nvSpPr>
          <p:spPr>
            <a:xfrm flipH="1">
              <a:off x="3193200" y="2180160"/>
              <a:ext cx="15055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33"/>
            <p:cNvSpPr/>
            <p:nvPr/>
          </p:nvSpPr>
          <p:spPr>
            <a:xfrm flipH="1">
              <a:off x="3592080" y="2942640"/>
              <a:ext cx="1527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33"/>
            <p:cNvSpPr/>
            <p:nvPr/>
          </p:nvSpPr>
          <p:spPr>
            <a:xfrm flipH="1">
              <a:off x="4028400" y="3706200"/>
              <a:ext cx="14893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33"/>
            <p:cNvSpPr/>
            <p:nvPr/>
          </p:nvSpPr>
          <p:spPr>
            <a:xfrm flipH="1">
              <a:off x="4316400" y="4468680"/>
              <a:ext cx="161784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42"/>
            <p:cNvSpPr/>
            <p:nvPr/>
          </p:nvSpPr>
          <p:spPr>
            <a:xfrm>
              <a:off x="6271560" y="1822320"/>
              <a:ext cx="1798560" cy="13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内容打在这里，或者通过复制您的文本后，在此框中选择粘贴，并选择只保留文字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内容打在这里，或者通过复制您的文本后，在此框中选择粘贴，并选择只保留文字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Box 54"/>
            <p:cNvSpPr/>
            <p:nvPr/>
          </p:nvSpPr>
          <p:spPr>
            <a:xfrm>
              <a:off x="1802520" y="1129680"/>
              <a:ext cx="109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您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Box 55"/>
            <p:cNvSpPr/>
            <p:nvPr/>
          </p:nvSpPr>
          <p:spPr>
            <a:xfrm>
              <a:off x="1000080" y="1412280"/>
              <a:ext cx="23216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您的内容打在这里，或者通过复制您的文本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Box 56"/>
            <p:cNvSpPr/>
            <p:nvPr/>
          </p:nvSpPr>
          <p:spPr>
            <a:xfrm>
              <a:off x="2193120" y="1948320"/>
              <a:ext cx="109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您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Box 57"/>
            <p:cNvSpPr/>
            <p:nvPr/>
          </p:nvSpPr>
          <p:spPr>
            <a:xfrm>
              <a:off x="1071360" y="2230560"/>
              <a:ext cx="26406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您的内容打在这里，或者通过复制您的文本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Box 58"/>
            <p:cNvSpPr/>
            <p:nvPr/>
          </p:nvSpPr>
          <p:spPr>
            <a:xfrm>
              <a:off x="2560680" y="2727360"/>
              <a:ext cx="109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您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Box 59"/>
            <p:cNvSpPr/>
            <p:nvPr/>
          </p:nvSpPr>
          <p:spPr>
            <a:xfrm>
              <a:off x="1214280" y="3009600"/>
              <a:ext cx="28656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您的内容打在这里，或者通过复制您的文本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Box 60"/>
            <p:cNvSpPr/>
            <p:nvPr/>
          </p:nvSpPr>
          <p:spPr>
            <a:xfrm>
              <a:off x="2991600" y="3501360"/>
              <a:ext cx="109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您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Box 61"/>
            <p:cNvSpPr/>
            <p:nvPr/>
          </p:nvSpPr>
          <p:spPr>
            <a:xfrm>
              <a:off x="1285560" y="3783600"/>
              <a:ext cx="322488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您的内容打在这里，或者通过复制您的文本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Box 62"/>
            <p:cNvSpPr/>
            <p:nvPr/>
          </p:nvSpPr>
          <p:spPr>
            <a:xfrm>
              <a:off x="3299040" y="4229640"/>
              <a:ext cx="109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您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Box 63"/>
            <p:cNvSpPr/>
            <p:nvPr/>
          </p:nvSpPr>
          <p:spPr>
            <a:xfrm>
              <a:off x="1285560" y="4512240"/>
              <a:ext cx="35323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您的内容打在这里，或者通过复制您的文本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Box 1"/>
          <p:cNvSpPr/>
          <p:nvPr/>
        </p:nvSpPr>
        <p:spPr>
          <a:xfrm>
            <a:off x="527760" y="2858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ae5f1"/>
                </a:solidFill>
                <a:latin typeface="微软雅黑"/>
                <a:ea typeface="微软雅黑"/>
              </a:rPr>
              <a:t>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组合 105"/>
          <p:cNvGrpSpPr/>
          <p:nvPr/>
        </p:nvGrpSpPr>
        <p:grpSpPr>
          <a:xfrm>
            <a:off x="1708200" y="928440"/>
            <a:ext cx="6149880" cy="4308480"/>
            <a:chOff x="1708200" y="928440"/>
            <a:chExt cx="6149880" cy="4308480"/>
          </a:xfrm>
        </p:grpSpPr>
        <p:grpSp>
          <p:nvGrpSpPr>
            <p:cNvPr id="605" name="组合 41"/>
            <p:cNvGrpSpPr/>
            <p:nvPr/>
          </p:nvGrpSpPr>
          <p:grpSpPr>
            <a:xfrm>
              <a:off x="1755720" y="928440"/>
              <a:ext cx="5372640" cy="1711080"/>
              <a:chOff x="1755720" y="928440"/>
              <a:chExt cx="5372640" cy="1711080"/>
            </a:xfrm>
          </p:grpSpPr>
          <p:sp>
            <p:nvSpPr>
              <p:cNvPr id="606" name="直接连接符​​ 6"/>
              <p:cNvSpPr/>
              <p:nvPr/>
            </p:nvSpPr>
            <p:spPr>
              <a:xfrm flipV="1">
                <a:off x="2925360" y="1368720"/>
                <a:ext cx="2727720" cy="2520"/>
              </a:xfrm>
              <a:prstGeom prst="line">
                <a:avLst/>
              </a:prstGeom>
              <a:ln w="57240">
                <a:solidFill>
                  <a:srgbClr val="f796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7" name="组合 7"/>
              <p:cNvGrpSpPr/>
              <p:nvPr/>
            </p:nvGrpSpPr>
            <p:grpSpPr>
              <a:xfrm>
                <a:off x="5653080" y="928440"/>
                <a:ext cx="1475280" cy="1711080"/>
                <a:chOff x="5653080" y="928440"/>
                <a:chExt cx="1475280" cy="1711080"/>
              </a:xfrm>
            </p:grpSpPr>
            <p:sp>
              <p:nvSpPr>
                <p:cNvPr id="608" name="六边形 72"/>
                <p:cNvSpPr/>
                <p:nvPr/>
              </p:nvSpPr>
              <p:spPr>
                <a:xfrm rot="16200000">
                  <a:off x="5535000" y="1046160"/>
                  <a:ext cx="1711080" cy="1475280"/>
                </a:xfrm>
                <a:prstGeom prst="hexagon">
                  <a:avLst>
                    <a:gd name="adj" fmla="val 28034"/>
                    <a:gd name="vf" fmla="val 115470"/>
                  </a:avLst>
                </a:prstGeom>
                <a:gradFill rotWithShape="0">
                  <a:gsLst>
                    <a:gs pos="0">
                      <a:srgbClr val="fcd5b5"/>
                    </a:gs>
                    <a:gs pos="100000">
                      <a:srgbClr val="fac09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椭圆​​ 40"/>
                <p:cNvSpPr/>
                <p:nvPr/>
              </p:nvSpPr>
              <p:spPr>
                <a:xfrm rot="16200000">
                  <a:off x="5726160" y="1119600"/>
                  <a:ext cx="1328760" cy="1328760"/>
                </a:xfrm>
                <a:prstGeom prst="ellipse">
                  <a:avLst/>
                </a:prstGeom>
                <a:solidFill>
                  <a:srgbClr val="f79646"/>
                </a:solidFill>
                <a:ln w="381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0" name="TextBox 8"/>
              <p:cNvSpPr/>
              <p:nvPr/>
            </p:nvSpPr>
            <p:spPr>
              <a:xfrm>
                <a:off x="6003360" y="188820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您的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矩形​​ 9"/>
              <p:cNvSpPr/>
              <p:nvPr/>
            </p:nvSpPr>
            <p:spPr>
              <a:xfrm>
                <a:off x="1755720" y="1119240"/>
                <a:ext cx="2000520" cy="241560"/>
              </a:xfrm>
              <a:prstGeom prst="rect">
                <a:avLst/>
              </a:prstGeom>
              <a:solidFill>
                <a:srgbClr val="f79646"/>
              </a:solidFill>
              <a:ln w="57240">
                <a:solidFill>
                  <a:srgbClr val="f796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54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您的小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2" name="Group 30"/>
              <p:cNvGrpSpPr/>
              <p:nvPr/>
            </p:nvGrpSpPr>
            <p:grpSpPr>
              <a:xfrm>
                <a:off x="6167520" y="1361520"/>
                <a:ext cx="446760" cy="409320"/>
                <a:chOff x="6167520" y="1361520"/>
                <a:chExt cx="446760" cy="409320"/>
              </a:xfrm>
            </p:grpSpPr>
            <p:sp>
              <p:nvSpPr>
                <p:cNvPr id="613" name="AutoShape 31"/>
                <p:cNvSpPr/>
                <p:nvPr/>
              </p:nvSpPr>
              <p:spPr>
                <a:xfrm>
                  <a:off x="6167520" y="1445040"/>
                  <a:ext cx="446760" cy="3258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>
                    <a:alpha val="61000"/>
                  </a:srgbClr>
                </a:solidFill>
                <a:ln w="25560">
                  <a:solidFill>
                    <a:srgbClr val="ffffff">
                      <a:alpha val="87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AutoShape 32"/>
                <p:cNvSpPr/>
                <p:nvPr/>
              </p:nvSpPr>
              <p:spPr>
                <a:xfrm>
                  <a:off x="6302880" y="1361520"/>
                  <a:ext cx="164880" cy="147600"/>
                </a:xfrm>
                <a:custGeom>
                  <a:avLst/>
                  <a:gdLst>
                    <a:gd name="textAreaLeft" fmla="*/ 0 w 164880"/>
                    <a:gd name="textAreaRight" fmla="*/ 165240 w 1648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400" y="10800"/>
                      </a:moveTo>
                      <a:cubicBezTo>
                        <a:pt x="5400" y="7817"/>
                        <a:pt x="7817" y="5400"/>
                        <a:pt x="10800" y="5400"/>
                      </a:cubicBezTo>
                      <a:cubicBezTo>
                        <a:pt x="13782" y="5399"/>
                        <a:pt x="16199" y="7817"/>
                        <a:pt x="16200" y="10799"/>
                      </a:cubicBezTo>
                      <a:lnTo>
                        <a:pt x="21600" y="10800"/>
                      </a:lnTo>
                      <a:cubicBezTo>
                        <a:pt x="21600" y="4835"/>
                        <a:pt x="16764" y="0"/>
                        <a:pt x="10800" y="0"/>
                      </a:cubicBezTo>
                      <a:cubicBezTo>
                        <a:pt x="4835" y="0"/>
                        <a:pt x="0" y="4835"/>
                        <a:pt x="0" y="10800"/>
                      </a:cubicBez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5" name="组合 42"/>
            <p:cNvGrpSpPr/>
            <p:nvPr/>
          </p:nvGrpSpPr>
          <p:grpSpPr>
            <a:xfrm>
              <a:off x="2492640" y="2228400"/>
              <a:ext cx="5365440" cy="1711080"/>
              <a:chOff x="2492640" y="2228400"/>
              <a:chExt cx="5365440" cy="1711080"/>
            </a:xfrm>
          </p:grpSpPr>
          <p:sp>
            <p:nvSpPr>
              <p:cNvPr id="616" name="直接连接符​​ 10"/>
              <p:cNvSpPr/>
              <p:nvPr/>
            </p:nvSpPr>
            <p:spPr>
              <a:xfrm>
                <a:off x="2593800" y="2639880"/>
                <a:ext cx="3788640" cy="18360"/>
              </a:xfrm>
              <a:prstGeom prst="line">
                <a:avLst/>
              </a:prstGeom>
              <a:ln w="57240">
                <a:solidFill>
                  <a:srgbClr val="8064a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7" name="组合 11"/>
              <p:cNvGrpSpPr/>
              <p:nvPr/>
            </p:nvGrpSpPr>
            <p:grpSpPr>
              <a:xfrm>
                <a:off x="6382800" y="2228400"/>
                <a:ext cx="1475280" cy="1711080"/>
                <a:chOff x="6382800" y="2228400"/>
                <a:chExt cx="1475280" cy="1711080"/>
              </a:xfrm>
            </p:grpSpPr>
            <p:sp>
              <p:nvSpPr>
                <p:cNvPr id="618" name="六边形 86"/>
                <p:cNvSpPr/>
                <p:nvPr/>
              </p:nvSpPr>
              <p:spPr>
                <a:xfrm rot="16200000">
                  <a:off x="6264720" y="2346120"/>
                  <a:ext cx="1711080" cy="1475280"/>
                </a:xfrm>
                <a:prstGeom prst="hexagon">
                  <a:avLst>
                    <a:gd name="adj" fmla="val 28040"/>
                    <a:gd name="vf" fmla="val 115470"/>
                  </a:avLst>
                </a:prstGeom>
                <a:gradFill rotWithShape="0">
                  <a:gsLst>
                    <a:gs pos="0">
                      <a:srgbClr val="ccc0d9"/>
                    </a:gs>
                    <a:gs pos="100000">
                      <a:srgbClr val="ccc0d9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椭圆​​ 38"/>
                <p:cNvSpPr/>
                <p:nvPr/>
              </p:nvSpPr>
              <p:spPr>
                <a:xfrm rot="16200000">
                  <a:off x="6455160" y="2420280"/>
                  <a:ext cx="1329840" cy="1327320"/>
                </a:xfrm>
                <a:prstGeom prst="ellipse">
                  <a:avLst/>
                </a:prstGeom>
                <a:solidFill>
                  <a:srgbClr val="8064a2"/>
                </a:solidFill>
                <a:ln w="381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0" name="TextBox 12"/>
              <p:cNvSpPr/>
              <p:nvPr/>
            </p:nvSpPr>
            <p:spPr>
              <a:xfrm>
                <a:off x="6765120" y="313740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您的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矩形​​ 13"/>
              <p:cNvSpPr/>
              <p:nvPr/>
            </p:nvSpPr>
            <p:spPr>
              <a:xfrm>
                <a:off x="2492640" y="2419200"/>
                <a:ext cx="2000520" cy="241560"/>
              </a:xfrm>
              <a:prstGeom prst="rect">
                <a:avLst/>
              </a:prstGeom>
              <a:solidFill>
                <a:srgbClr val="8064a2"/>
              </a:solidFill>
              <a:ln w="57240">
                <a:solidFill>
                  <a:srgbClr val="8064a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61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您的小标题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Oval 15"/>
              <p:cNvSpPr/>
              <p:nvPr/>
            </p:nvSpPr>
            <p:spPr>
              <a:xfrm>
                <a:off x="6904080" y="2612520"/>
                <a:ext cx="456480" cy="442440"/>
              </a:xfrm>
              <a:prstGeom prst="ellipse">
                <a:avLst/>
              </a:prstGeom>
              <a:solidFill>
                <a:srgbClr val="ffffff">
                  <a:alpha val="47000"/>
                </a:srgbClr>
              </a:solidFill>
              <a:ln w="25560">
                <a:solidFill>
                  <a:srgbClr val="ffffff">
                    <a:alpha val="78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Line 16"/>
              <p:cNvSpPr/>
              <p:nvPr/>
            </p:nvSpPr>
            <p:spPr>
              <a:xfrm>
                <a:off x="7134120" y="2612520"/>
                <a:ext cx="0" cy="439560"/>
              </a:xfrm>
              <a:prstGeom prst="line">
                <a:avLst/>
              </a:prstGeom>
              <a:ln w="25560">
                <a:solidFill>
                  <a:srgbClr val="ffffff">
                    <a:alpha val="78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17"/>
              <p:cNvSpPr/>
              <p:nvPr/>
            </p:nvSpPr>
            <p:spPr>
              <a:xfrm>
                <a:off x="6904080" y="2832120"/>
                <a:ext cx="456480" cy="0"/>
              </a:xfrm>
              <a:prstGeom prst="line">
                <a:avLst/>
              </a:prstGeom>
              <a:ln w="25560">
                <a:solidFill>
                  <a:srgbClr val="ffffff">
                    <a:alpha val="78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18"/>
              <p:cNvSpPr/>
              <p:nvPr/>
            </p:nvSpPr>
            <p:spPr>
              <a:xfrm>
                <a:off x="7165080" y="2615400"/>
                <a:ext cx="94680" cy="4366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436680"/>
                  <a:gd name="textAreaBottom" fmla="*/ 437040 h 436680"/>
                </a:gdLst>
                <a:ahLst/>
                <a:rect l="textAreaLeft" t="textAreaTop" r="textAreaRight" b="textAreaBottom"/>
                <a:pathLst>
                  <a:path w="182" h="864">
                    <a:moveTo>
                      <a:pt x="0" y="0"/>
                    </a:moveTo>
                    <a:cubicBezTo>
                      <a:pt x="59" y="89"/>
                      <a:pt x="182" y="177"/>
                      <a:pt x="182" y="435"/>
                    </a:cubicBezTo>
                    <a:cubicBezTo>
                      <a:pt x="182" y="693"/>
                      <a:pt x="70" y="800"/>
                      <a:pt x="6" y="864"/>
                    </a:cubicBezTo>
                  </a:path>
                </a:pathLst>
              </a:custGeom>
              <a:noFill/>
              <a:ln w="25560">
                <a:solidFill>
                  <a:srgbClr val="ffffff">
                    <a:alpha val="78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19"/>
              <p:cNvSpPr/>
              <p:nvPr/>
            </p:nvSpPr>
            <p:spPr>
              <a:xfrm>
                <a:off x="7009920" y="2618280"/>
                <a:ext cx="102600" cy="4395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439560"/>
                  <a:gd name="textAreaBottom" fmla="*/ 439920 h 439560"/>
                </a:gdLst>
                <a:ahLst/>
                <a:rect l="textAreaLeft" t="textAreaTop" r="textAreaRight" b="textAreaBottom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25560">
                <a:solidFill>
                  <a:srgbClr val="ffffff">
                    <a:alpha val="78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20"/>
              <p:cNvSpPr/>
              <p:nvPr/>
            </p:nvSpPr>
            <p:spPr>
              <a:xfrm rot="5400000">
                <a:off x="7097040" y="2790000"/>
                <a:ext cx="57600" cy="3402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340200"/>
                  <a:gd name="textAreaBottom" fmla="*/ 340560 h 340200"/>
                </a:gdLst>
                <a:ahLst/>
                <a:rect l="textAreaLeft" t="textAreaTop" r="textAreaRight" b="textAreaBottom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25560">
                <a:solidFill>
                  <a:srgbClr val="ffffff">
                    <a:alpha val="78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21"/>
              <p:cNvSpPr/>
              <p:nvPr/>
            </p:nvSpPr>
            <p:spPr>
              <a:xfrm flipV="1" rot="16200000">
                <a:off x="7101000" y="2535840"/>
                <a:ext cx="57600" cy="3402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-360 h 340200"/>
                  <a:gd name="textAreaBottom" fmla="*/ 340200 h 340200"/>
                </a:gdLst>
                <a:ahLst/>
                <a:rect l="textAreaLeft" t="textAreaTop" r="textAreaRight" b="textAreaBottom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25560">
                <a:solidFill>
                  <a:srgbClr val="ffffff">
                    <a:alpha val="78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" name="组合 43"/>
            <p:cNvGrpSpPr/>
            <p:nvPr/>
          </p:nvGrpSpPr>
          <p:grpSpPr>
            <a:xfrm>
              <a:off x="1766880" y="3525840"/>
              <a:ext cx="5365440" cy="1711080"/>
              <a:chOff x="1766880" y="3525840"/>
              <a:chExt cx="5365440" cy="1711080"/>
            </a:xfrm>
          </p:grpSpPr>
          <p:sp>
            <p:nvSpPr>
              <p:cNvPr id="630" name="直接连接符​​ 14"/>
              <p:cNvSpPr/>
              <p:nvPr/>
            </p:nvSpPr>
            <p:spPr>
              <a:xfrm flipV="1">
                <a:off x="2927880" y="3966120"/>
                <a:ext cx="2728800" cy="2520"/>
              </a:xfrm>
              <a:prstGeom prst="line">
                <a:avLst/>
              </a:prstGeom>
              <a:ln w="57240">
                <a:solidFill>
                  <a:srgbClr val="9bbb5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1" name="组合 15"/>
              <p:cNvGrpSpPr/>
              <p:nvPr/>
            </p:nvGrpSpPr>
            <p:grpSpPr>
              <a:xfrm>
                <a:off x="5657040" y="3525840"/>
                <a:ext cx="1475280" cy="1711080"/>
                <a:chOff x="5657040" y="3525840"/>
                <a:chExt cx="1475280" cy="1711080"/>
              </a:xfrm>
            </p:grpSpPr>
            <p:sp>
              <p:nvSpPr>
                <p:cNvPr id="632" name="六边形 100"/>
                <p:cNvSpPr/>
                <p:nvPr/>
              </p:nvSpPr>
              <p:spPr>
                <a:xfrm rot="16200000">
                  <a:off x="5538960" y="3643560"/>
                  <a:ext cx="1711080" cy="1475280"/>
                </a:xfrm>
                <a:prstGeom prst="hexagon">
                  <a:avLst>
                    <a:gd name="adj" fmla="val 28040"/>
                    <a:gd name="vf" fmla="val 115470"/>
                  </a:avLst>
                </a:prstGeom>
                <a:gradFill rotWithShape="0">
                  <a:gsLst>
                    <a:gs pos="0">
                      <a:srgbClr val="eaf1dd"/>
                    </a:gs>
                    <a:gs pos="100000">
                      <a:srgbClr val="c2d59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椭圆​​ 36"/>
                <p:cNvSpPr/>
                <p:nvPr/>
              </p:nvSpPr>
              <p:spPr>
                <a:xfrm rot="16200000">
                  <a:off x="5729400" y="3717720"/>
                  <a:ext cx="1329840" cy="1327320"/>
                </a:xfrm>
                <a:prstGeom prst="ellipse">
                  <a:avLst/>
                </a:prstGeom>
                <a:solidFill>
                  <a:srgbClr val="9bbb59"/>
                </a:solidFill>
                <a:ln w="381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4" name="TextBox 16"/>
              <p:cNvSpPr/>
              <p:nvPr/>
            </p:nvSpPr>
            <p:spPr>
              <a:xfrm>
                <a:off x="6007320" y="442440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您的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矩形​​ 17"/>
              <p:cNvSpPr/>
              <p:nvPr/>
            </p:nvSpPr>
            <p:spPr>
              <a:xfrm>
                <a:off x="1766880" y="3716640"/>
                <a:ext cx="2000520" cy="241560"/>
              </a:xfrm>
              <a:prstGeom prst="rect">
                <a:avLst/>
              </a:prstGeom>
              <a:solidFill>
                <a:srgbClr val="9bbb59"/>
              </a:solidFill>
              <a:ln w="57240">
                <a:solidFill>
                  <a:srgbClr val="9bbb5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61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您的小标题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6" name="Group 22"/>
              <p:cNvGrpSpPr/>
              <p:nvPr/>
            </p:nvGrpSpPr>
            <p:grpSpPr>
              <a:xfrm>
                <a:off x="6203520" y="3956400"/>
                <a:ext cx="396720" cy="329760"/>
                <a:chOff x="6203520" y="3956400"/>
                <a:chExt cx="396720" cy="329760"/>
              </a:xfrm>
            </p:grpSpPr>
            <p:sp>
              <p:nvSpPr>
                <p:cNvPr id="637" name="AutoShape 23"/>
                <p:cNvSpPr/>
                <p:nvPr/>
              </p:nvSpPr>
              <p:spPr>
                <a:xfrm>
                  <a:off x="6284520" y="3956400"/>
                  <a:ext cx="237240" cy="230400"/>
                </a:xfrm>
                <a:prstGeom prst="roundRect">
                  <a:avLst>
                    <a:gd name="adj" fmla="val 6250"/>
                  </a:avLst>
                </a:prstGeom>
                <a:solidFill>
                  <a:srgbClr val="ffffff">
                    <a:alpha val="50000"/>
                  </a:srgbClr>
                </a:solidFill>
                <a:ln w="255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AutoShape 24"/>
                <p:cNvSpPr/>
                <p:nvPr/>
              </p:nvSpPr>
              <p:spPr>
                <a:xfrm>
                  <a:off x="6203520" y="4184280"/>
                  <a:ext cx="396720" cy="101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>
                    <a:alpha val="50000"/>
                  </a:srgbClr>
                </a:solidFill>
                <a:ln w="255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Line 25"/>
                <p:cNvSpPr/>
                <p:nvPr/>
              </p:nvSpPr>
              <p:spPr>
                <a:xfrm flipH="1">
                  <a:off x="6482880" y="4235400"/>
                  <a:ext cx="60480" cy="14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Line 26"/>
                <p:cNvSpPr/>
                <p:nvPr/>
              </p:nvSpPr>
              <p:spPr>
                <a:xfrm flipH="1">
                  <a:off x="6363720" y="4028400"/>
                  <a:ext cx="98280" cy="108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Line 27"/>
                <p:cNvSpPr/>
                <p:nvPr/>
              </p:nvSpPr>
              <p:spPr>
                <a:xfrm flipH="1">
                  <a:off x="6401520" y="4062240"/>
                  <a:ext cx="60840" cy="14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Line 28"/>
                <p:cNvSpPr/>
                <p:nvPr/>
              </p:nvSpPr>
              <p:spPr>
                <a:xfrm flipH="1">
                  <a:off x="6419160" y="4126680"/>
                  <a:ext cx="42840" cy="14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3" name="TextBox 102"/>
            <p:cNvSpPr/>
            <p:nvPr/>
          </p:nvSpPr>
          <p:spPr>
            <a:xfrm>
              <a:off x="1708200" y="1470240"/>
              <a:ext cx="29509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您的内容打在这里，或者通过复制您的文本后，在此框中选择粘贴，并选择只保留文字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Box 103"/>
            <p:cNvSpPr/>
            <p:nvPr/>
          </p:nvSpPr>
          <p:spPr>
            <a:xfrm>
              <a:off x="2464920" y="2756520"/>
              <a:ext cx="29509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您的内容打在这里，或者通过复制您的文本后，在此框中选择粘贴，并选择只保留文字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Box 104"/>
            <p:cNvSpPr/>
            <p:nvPr/>
          </p:nvSpPr>
          <p:spPr>
            <a:xfrm>
              <a:off x="1742040" y="4044960"/>
              <a:ext cx="29509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您的内容打在这里，或者通过复制您的文本后，在此框中选择粘贴，并选择只保留文字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Box 1"/>
          <p:cNvSpPr/>
          <p:nvPr/>
        </p:nvSpPr>
        <p:spPr>
          <a:xfrm>
            <a:off x="527760" y="2858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ae5f1"/>
                </a:solidFill>
                <a:latin typeface="微软雅黑"/>
                <a:ea typeface="微软雅黑"/>
              </a:rPr>
              <a:t>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组合 109"/>
          <p:cNvGrpSpPr/>
          <p:nvPr/>
        </p:nvGrpSpPr>
        <p:grpSpPr>
          <a:xfrm>
            <a:off x="1357200" y="1071720"/>
            <a:ext cx="6451200" cy="4007160"/>
            <a:chOff x="1357200" y="1071720"/>
            <a:chExt cx="6451200" cy="4007160"/>
          </a:xfrm>
        </p:grpSpPr>
        <p:sp>
          <p:nvSpPr>
            <p:cNvPr id="648" name="Oval 163"/>
            <p:cNvSpPr/>
            <p:nvPr/>
          </p:nvSpPr>
          <p:spPr>
            <a:xfrm>
              <a:off x="1357200" y="3814920"/>
              <a:ext cx="5132520" cy="896760"/>
            </a:xfrm>
            <a:prstGeom prst="ellipse">
              <a:avLst/>
            </a:prstGeom>
            <a:solidFill>
              <a:srgbClr val="ffcc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Oval 164"/>
            <p:cNvSpPr/>
            <p:nvPr/>
          </p:nvSpPr>
          <p:spPr>
            <a:xfrm>
              <a:off x="1443240" y="3907440"/>
              <a:ext cx="3500640" cy="682560"/>
            </a:xfrm>
            <a:prstGeom prst="ellipse">
              <a:avLst/>
            </a:prstGeom>
            <a:solidFill>
              <a:srgbClr val="ff99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Oval 165"/>
            <p:cNvSpPr/>
            <p:nvPr/>
          </p:nvSpPr>
          <p:spPr>
            <a:xfrm>
              <a:off x="1716120" y="3942720"/>
              <a:ext cx="1831320" cy="52416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166"/>
            <p:cNvSpPr/>
            <p:nvPr/>
          </p:nvSpPr>
          <p:spPr>
            <a:xfrm>
              <a:off x="3758400" y="40644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Picture 168" descr="볼"/>
            <p:cNvPicPr/>
            <p:nvPr/>
          </p:nvPicPr>
          <p:blipFill>
            <a:blip r:embed="rId1"/>
            <a:stretch/>
          </p:blipFill>
          <p:spPr>
            <a:xfrm>
              <a:off x="1626120" y="3855960"/>
              <a:ext cx="2057400" cy="64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3" name="Oval 175"/>
            <p:cNvSpPr/>
            <p:nvPr/>
          </p:nvSpPr>
          <p:spPr>
            <a:xfrm rot="16200000">
              <a:off x="3989160" y="2070720"/>
              <a:ext cx="1672920" cy="468360"/>
            </a:xfrm>
            <a:prstGeom prst="ellipse">
              <a:avLst/>
            </a:prstGeom>
            <a:gradFill rotWithShape="0">
              <a:gsLst>
                <a:gs pos="0">
                  <a:srgbClr val="84c468"/>
                </a:gs>
                <a:gs pos="50000">
                  <a:srgbClr val="3c5b2f"/>
                </a:gs>
                <a:gs pos="100000">
                  <a:srgbClr val="84c4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176"/>
            <p:cNvSpPr/>
            <p:nvPr/>
          </p:nvSpPr>
          <p:spPr>
            <a:xfrm rot="16200000">
              <a:off x="4367520" y="1944360"/>
              <a:ext cx="1494360" cy="734760"/>
            </a:xfrm>
            <a:prstGeom prst="rect">
              <a:avLst/>
            </a:prstGeom>
            <a:gradFill rotWithShape="0">
              <a:gsLst>
                <a:gs pos="0">
                  <a:srgbClr val="84c468"/>
                </a:gs>
                <a:gs pos="50000">
                  <a:srgbClr val="3c5b2f"/>
                </a:gs>
                <a:gs pos="100000">
                  <a:srgbClr val="84c4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AutoShape 177"/>
            <p:cNvSpPr/>
            <p:nvPr/>
          </p:nvSpPr>
          <p:spPr>
            <a:xfrm rot="16200000">
              <a:off x="4897440" y="1837800"/>
              <a:ext cx="1912680" cy="940320"/>
            </a:xfrm>
            <a:prstGeom prst="roundRect">
              <a:avLst>
                <a:gd name="adj" fmla="val 32051"/>
              </a:avLst>
            </a:prstGeom>
            <a:gradFill rotWithShape="0">
              <a:gsLst>
                <a:gs pos="0">
                  <a:srgbClr val="84c468"/>
                </a:gs>
                <a:gs pos="50000">
                  <a:srgbClr val="3c5b2f"/>
                </a:gs>
                <a:gs pos="100000">
                  <a:srgbClr val="84c4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178"/>
            <p:cNvSpPr/>
            <p:nvPr/>
          </p:nvSpPr>
          <p:spPr>
            <a:xfrm rot="16200000">
              <a:off x="5581800" y="1458720"/>
              <a:ext cx="1917720" cy="1703520"/>
            </a:xfrm>
            <a:prstGeom prst="rect">
              <a:avLst/>
            </a:prstGeom>
            <a:gradFill rotWithShape="0">
              <a:gsLst>
                <a:gs pos="0">
                  <a:srgbClr val="84c468"/>
                </a:gs>
                <a:gs pos="50000">
                  <a:srgbClr val="3c5b2f"/>
                </a:gs>
                <a:gs pos="100000">
                  <a:srgbClr val="84c4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179"/>
            <p:cNvSpPr/>
            <p:nvPr/>
          </p:nvSpPr>
          <p:spPr>
            <a:xfrm rot="16200000">
              <a:off x="6455160" y="2021400"/>
              <a:ext cx="1912680" cy="573120"/>
            </a:xfrm>
            <a:prstGeom prst="ellipse">
              <a:avLst/>
            </a:prstGeom>
            <a:gradFill rotWithShape="0">
              <a:gsLst>
                <a:gs pos="0">
                  <a:srgbClr val="84c468"/>
                </a:gs>
                <a:gs pos="50000">
                  <a:srgbClr val="3c5b2f"/>
                </a:gs>
                <a:gs pos="100000">
                  <a:srgbClr val="84c4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Arc 180"/>
            <p:cNvSpPr/>
            <p:nvPr/>
          </p:nvSpPr>
          <p:spPr>
            <a:xfrm rot="16200000">
              <a:off x="6649920" y="2176560"/>
              <a:ext cx="1671840" cy="222480"/>
            </a:xfrm>
            <a:custGeom>
              <a:avLst/>
              <a:gdLst>
                <a:gd name="textAreaLeft" fmla="*/ 0 w 1671840"/>
                <a:gd name="textAreaRight" fmla="*/ 1672200 w 167184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41445" h="21600">
                  <a:moveTo>
                    <a:pt x="41444" y="3430"/>
                  </a:moveTo>
                  <a:cubicBezTo>
                    <a:pt x="39760" y="13901"/>
                    <a:pt x="30723" y="21599"/>
                    <a:pt x="20119" y="21600"/>
                  </a:cubicBezTo>
                  <a:cubicBezTo>
                    <a:pt x="11222" y="21600"/>
                    <a:pt x="3236" y="16145"/>
                    <a:pt x="-1" y="7859"/>
                  </a:cubicBezTo>
                </a:path>
                <a:path w="41445" h="21600">
                  <a:moveTo>
                    <a:pt x="41444" y="3430"/>
                  </a:moveTo>
                  <a:cubicBezTo>
                    <a:pt x="39760" y="13901"/>
                    <a:pt x="30723" y="21599"/>
                    <a:pt x="20119" y="21600"/>
                  </a:cubicBezTo>
                  <a:cubicBezTo>
                    <a:pt x="11222" y="21600"/>
                    <a:pt x="3236" y="16145"/>
                    <a:pt x="-1" y="7859"/>
                  </a:cubicBezTo>
                  <a:lnTo>
                    <a:pt x="20119" y="0"/>
                  </a:lnTo>
                  <a:lnTo>
                    <a:pt x="41444" y="343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181"/>
            <p:cNvSpPr/>
            <p:nvPr/>
          </p:nvSpPr>
          <p:spPr>
            <a:xfrm>
              <a:off x="7142040" y="1414080"/>
              <a:ext cx="420840" cy="17632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42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182"/>
            <p:cNvSpPr/>
            <p:nvPr/>
          </p:nvSpPr>
          <p:spPr>
            <a:xfrm>
              <a:off x="5635440" y="1416600"/>
              <a:ext cx="1701000" cy="1752120"/>
            </a:xfrm>
            <a:custGeom>
              <a:avLst/>
              <a:gdLst>
                <a:gd name="textAreaLeft" fmla="*/ 0 w 1701000"/>
                <a:gd name="textAreaRight" fmla="*/ 1701360 w 1701000"/>
                <a:gd name="textAreaTop" fmla="*/ 0 h 1752120"/>
                <a:gd name="textAreaBottom" fmla="*/ 1752480 h 1752120"/>
              </a:gdLst>
              <a:ahLst/>
              <a:rect l="textAreaLeft" t="textAreaTop" r="textAreaRight" b="textAreaBottom"/>
              <a:pathLst>
                <a:path w="1398" h="1482">
                  <a:moveTo>
                    <a:pt x="804" y="0"/>
                  </a:moveTo>
                  <a:lnTo>
                    <a:pt x="1398" y="0"/>
                  </a:lnTo>
                  <a:lnTo>
                    <a:pt x="1398" y="1482"/>
                  </a:lnTo>
                  <a:lnTo>
                    <a:pt x="0" y="1482"/>
                  </a:lnTo>
                  <a:lnTo>
                    <a:pt x="80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742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183"/>
            <p:cNvSpPr/>
            <p:nvPr/>
          </p:nvSpPr>
          <p:spPr>
            <a:xfrm rot="1929000">
              <a:off x="5822640" y="1279080"/>
              <a:ext cx="592560" cy="203220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WordArt 184"/>
            <p:cNvSpPr txBox="1"/>
            <p:nvPr/>
          </p:nvSpPr>
          <p:spPr>
            <a:xfrm>
              <a:off x="6256440" y="2501640"/>
              <a:ext cx="1264320" cy="38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7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1" strike="noStrike">
                  <a:ln w="0">
                    <a:noFill/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744717"/>
                      </a:gs>
                    </a:gsLst>
                    <a:lin ang="5400000"/>
                  </a:gradFill>
                  <a:latin typeface="微软雅黑"/>
                </a:rPr>
                <a:t>您的标题</a:t>
              </a:r>
              <a:endPara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744717"/>
                    </a:gs>
                  </a:gsLst>
                  <a:lin ang="5400000"/>
                </a:gradFill>
                <a:latin typeface="微软雅黑"/>
                <a:ea typeface="微软雅黑"/>
              </a:endParaRPr>
            </a:p>
          </p:txBody>
        </p:sp>
        <p:sp>
          <p:nvSpPr>
            <p:cNvPr id="663" name="Line 185"/>
            <p:cNvSpPr/>
            <p:nvPr/>
          </p:nvSpPr>
          <p:spPr>
            <a:xfrm>
              <a:off x="5837760" y="3083760"/>
              <a:ext cx="1587960" cy="0"/>
            </a:xfrm>
            <a:prstGeom prst="line">
              <a:avLst/>
            </a:prstGeom>
            <a:ln w="19080">
              <a:solidFill>
                <a:srgbClr val="ffffff">
                  <a:alpha val="3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186"/>
            <p:cNvSpPr/>
            <p:nvPr/>
          </p:nvSpPr>
          <p:spPr>
            <a:xfrm rot="5400000">
              <a:off x="6554160" y="437760"/>
              <a:ext cx="52200" cy="19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474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187"/>
            <p:cNvSpPr/>
            <p:nvPr/>
          </p:nvSpPr>
          <p:spPr>
            <a:xfrm rot="5400000">
              <a:off x="5228640" y="1311480"/>
              <a:ext cx="76320" cy="660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474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188"/>
            <p:cNvSpPr/>
            <p:nvPr/>
          </p:nvSpPr>
          <p:spPr>
            <a:xfrm rot="5400000">
              <a:off x="6734160" y="508320"/>
              <a:ext cx="52200" cy="19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474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AutoShape 189"/>
            <p:cNvSpPr/>
            <p:nvPr/>
          </p:nvSpPr>
          <p:spPr>
            <a:xfrm flipH="1" rot="123600">
              <a:off x="3070800" y="2219760"/>
              <a:ext cx="4401360" cy="2780640"/>
            </a:xfrm>
            <a:custGeom>
              <a:avLst/>
              <a:gdLst>
                <a:gd name="textAreaLeft" fmla="*/ 360 w 4401360"/>
                <a:gd name="textAreaRight" fmla="*/ 4402080 w 4401360"/>
                <a:gd name="textAreaTop" fmla="*/ 0 h 2780640"/>
                <a:gd name="textAreaBottom" fmla="*/ 2781000 h 278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587" y="7257"/>
                  </a:moveTo>
                  <a:cubicBezTo>
                    <a:pt x="15354" y="5242"/>
                    <a:pt x="13162" y="4014"/>
                    <a:pt x="10800" y="4014"/>
                  </a:cubicBezTo>
                  <a:cubicBezTo>
                    <a:pt x="10086" y="4013"/>
                    <a:pt x="9377" y="4126"/>
                    <a:pt x="8699" y="4347"/>
                  </a:cubicBezTo>
                  <a:lnTo>
                    <a:pt x="7457" y="530"/>
                  </a:lnTo>
                  <a:cubicBezTo>
                    <a:pt x="8536" y="178"/>
                    <a:pt x="9664" y="-1"/>
                    <a:pt x="10800" y="0"/>
                  </a:cubicBezTo>
                  <a:cubicBezTo>
                    <a:pt x="14559" y="0"/>
                    <a:pt x="18048" y="1955"/>
                    <a:pt x="20011" y="5161"/>
                  </a:cubicBezTo>
                  <a:lnTo>
                    <a:pt x="22314" y="3751"/>
                  </a:lnTo>
                  <a:lnTo>
                    <a:pt x="20756" y="10224"/>
                  </a:lnTo>
                  <a:lnTo>
                    <a:pt x="14284" y="8666"/>
                  </a:lnTo>
                  <a:lnTo>
                    <a:pt x="16587" y="7257"/>
                  </a:lnTo>
                  <a:close/>
                </a:path>
              </a:pathLst>
            </a:custGeom>
            <a:solidFill>
              <a:srgbClr val="ff660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Arc 190"/>
            <p:cNvSpPr/>
            <p:nvPr/>
          </p:nvSpPr>
          <p:spPr>
            <a:xfrm rot="16200000">
              <a:off x="4165560" y="2192400"/>
              <a:ext cx="1328760" cy="211680"/>
            </a:xfrm>
            <a:custGeom>
              <a:avLst/>
              <a:gdLst>
                <a:gd name="textAreaLeft" fmla="*/ 0 w 1328760"/>
                <a:gd name="textAreaRight" fmla="*/ 1329120 w 132876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43200" h="43173">
                  <a:moveTo>
                    <a:pt x="22679" y="0"/>
                  </a:moveTo>
                  <a:cubicBezTo>
                    <a:pt x="34175" y="575"/>
                    <a:pt x="43200" y="10063"/>
                    <a:pt x="43200" y="21573"/>
                  </a:cubicBezTo>
                  <a:cubicBezTo>
                    <a:pt x="43200" y="33502"/>
                    <a:pt x="33529" y="43173"/>
                    <a:pt x="21600" y="43173"/>
                  </a:cubicBezTo>
                  <a:cubicBezTo>
                    <a:pt x="9670" y="43173"/>
                    <a:pt x="0" y="33502"/>
                    <a:pt x="0" y="21573"/>
                  </a:cubicBezTo>
                  <a:cubicBezTo>
                    <a:pt x="-1" y="16462"/>
                    <a:pt x="1812" y="11516"/>
                    <a:pt x="5114" y="7615"/>
                  </a:cubicBezTo>
                </a:path>
                <a:path w="43200" h="43173">
                  <a:moveTo>
                    <a:pt x="22679" y="0"/>
                  </a:moveTo>
                  <a:cubicBezTo>
                    <a:pt x="34175" y="575"/>
                    <a:pt x="43200" y="10063"/>
                    <a:pt x="43200" y="21573"/>
                  </a:cubicBezTo>
                  <a:cubicBezTo>
                    <a:pt x="43200" y="33502"/>
                    <a:pt x="33529" y="43173"/>
                    <a:pt x="21600" y="43173"/>
                  </a:cubicBezTo>
                  <a:cubicBezTo>
                    <a:pt x="9670" y="43173"/>
                    <a:pt x="0" y="33502"/>
                    <a:pt x="0" y="21573"/>
                  </a:cubicBezTo>
                  <a:cubicBezTo>
                    <a:pt x="-1" y="16462"/>
                    <a:pt x="1812" y="11516"/>
                    <a:pt x="5114" y="7615"/>
                  </a:cubicBezTo>
                  <a:lnTo>
                    <a:pt x="21600" y="21573"/>
                  </a:lnTo>
                  <a:lnTo>
                    <a:pt x="22679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Arc 191"/>
            <p:cNvSpPr/>
            <p:nvPr/>
          </p:nvSpPr>
          <p:spPr>
            <a:xfrm rot="16200000">
              <a:off x="4227840" y="2192400"/>
              <a:ext cx="1399320" cy="221400"/>
            </a:xfrm>
            <a:custGeom>
              <a:avLst/>
              <a:gdLst>
                <a:gd name="textAreaLeft" fmla="*/ 0 w 1399320"/>
                <a:gd name="textAreaRight" fmla="*/ 1399680 w 139932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37342" h="21600">
                  <a:moveTo>
                    <a:pt x="37341" y="10139"/>
                  </a:moveTo>
                  <a:cubicBezTo>
                    <a:pt x="33592" y="17192"/>
                    <a:pt x="26257" y="21599"/>
                    <a:pt x="18270" y="21600"/>
                  </a:cubicBezTo>
                  <a:cubicBezTo>
                    <a:pt x="10853" y="21600"/>
                    <a:pt x="3955" y="17795"/>
                    <a:pt x="-1" y="11522"/>
                  </a:cubicBezTo>
                </a:path>
                <a:path w="37342" h="21600">
                  <a:moveTo>
                    <a:pt x="37341" y="10139"/>
                  </a:moveTo>
                  <a:cubicBezTo>
                    <a:pt x="33592" y="17192"/>
                    <a:pt x="26257" y="21599"/>
                    <a:pt x="18270" y="21600"/>
                  </a:cubicBezTo>
                  <a:cubicBezTo>
                    <a:pt x="10853" y="21600"/>
                    <a:pt x="3955" y="17795"/>
                    <a:pt x="-1" y="11522"/>
                  </a:cubicBezTo>
                  <a:lnTo>
                    <a:pt x="18270" y="0"/>
                  </a:lnTo>
                  <a:lnTo>
                    <a:pt x="37341" y="10139"/>
                  </a:lnTo>
                  <a:close/>
                </a:path>
              </a:pathLst>
            </a:custGeom>
            <a:noFill/>
            <a:ln w="38160">
              <a:solidFill>
                <a:srgbClr val="ffffff">
                  <a:alpha val="69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WordArt 192"/>
            <p:cNvSpPr txBox="1"/>
            <p:nvPr/>
          </p:nvSpPr>
          <p:spPr>
            <a:xfrm rot="19933200">
              <a:off x="3410280" y="2645280"/>
              <a:ext cx="1315080" cy="354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Up">
                <a:avLst>
                  <a:gd name="adj" fmla="val 6666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ff">
                      <a:alpha val="47000"/>
                    </a:srgbClr>
                  </a:solidFill>
                  <a:latin typeface="宋体"/>
                </a:rPr>
                <a:t>文本文本文本文本文本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47000"/>
                  </a:srgbClr>
                </a:solidFill>
                <a:latin typeface="宋体"/>
                <a:ea typeface="宋体"/>
              </a:endParaRPr>
            </a:p>
          </p:txBody>
        </p:sp>
        <p:sp>
          <p:nvSpPr>
            <p:cNvPr id="671" name="Oval 193"/>
            <p:cNvSpPr/>
            <p:nvPr/>
          </p:nvSpPr>
          <p:spPr>
            <a:xfrm rot="5400000">
              <a:off x="6593400" y="1798920"/>
              <a:ext cx="103320" cy="232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474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194"/>
            <p:cNvSpPr/>
            <p:nvPr/>
          </p:nvSpPr>
          <p:spPr>
            <a:xfrm rot="5400000">
              <a:off x="5138640" y="2618640"/>
              <a:ext cx="76320" cy="660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474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95"/>
            <p:cNvSpPr/>
            <p:nvPr/>
          </p:nvSpPr>
          <p:spPr>
            <a:xfrm rot="4866600">
              <a:off x="5523480" y="1375560"/>
              <a:ext cx="322200" cy="274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474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Arc 196"/>
            <p:cNvSpPr/>
            <p:nvPr/>
          </p:nvSpPr>
          <p:spPr>
            <a:xfrm rot="16200000">
              <a:off x="4680720" y="2186640"/>
              <a:ext cx="1410120" cy="243360"/>
            </a:xfrm>
            <a:custGeom>
              <a:avLst/>
              <a:gdLst/>
              <a:ahLst/>
              <a:rect l="l" t="t" r="r" b="b"/>
              <a:pathLst>
                <a:path w="43200" h="43117">
                  <a:moveTo>
                    <a:pt x="23494" y="0"/>
                  </a:moveTo>
                  <a:cubicBezTo>
                    <a:pt x="34646" y="982"/>
                    <a:pt x="43200" y="10322"/>
                    <a:pt x="43200" y="21517"/>
                  </a:cubicBezTo>
                  <a:cubicBezTo>
                    <a:pt x="43200" y="33446"/>
                    <a:pt x="33529" y="43117"/>
                    <a:pt x="21600" y="43117"/>
                  </a:cubicBezTo>
                  <a:cubicBezTo>
                    <a:pt x="9670" y="43117"/>
                    <a:pt x="0" y="33446"/>
                    <a:pt x="0" y="21517"/>
                  </a:cubicBezTo>
                  <a:cubicBezTo>
                    <a:pt x="-1" y="15795"/>
                    <a:pt x="2269" y="10308"/>
                    <a:pt x="6311" y="6259"/>
                  </a:cubicBezTo>
                </a:path>
                <a:path w="43200" h="43117">
                  <a:moveTo>
                    <a:pt x="23494" y="0"/>
                  </a:moveTo>
                  <a:cubicBezTo>
                    <a:pt x="34646" y="982"/>
                    <a:pt x="43200" y="10322"/>
                    <a:pt x="43200" y="21517"/>
                  </a:cubicBezTo>
                  <a:cubicBezTo>
                    <a:pt x="43200" y="33446"/>
                    <a:pt x="33529" y="43117"/>
                    <a:pt x="21600" y="43117"/>
                  </a:cubicBezTo>
                  <a:cubicBezTo>
                    <a:pt x="9670" y="43117"/>
                    <a:pt x="0" y="33446"/>
                    <a:pt x="0" y="21517"/>
                  </a:cubicBezTo>
                  <a:cubicBezTo>
                    <a:pt x="-1" y="15795"/>
                    <a:pt x="2269" y="10308"/>
                    <a:pt x="6311" y="6259"/>
                  </a:cubicBezTo>
                  <a:lnTo>
                    <a:pt x="21600" y="21517"/>
                  </a:lnTo>
                  <a:lnTo>
                    <a:pt x="23494" y="0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69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97"/>
            <p:cNvSpPr/>
            <p:nvPr/>
          </p:nvSpPr>
          <p:spPr>
            <a:xfrm rot="5400000">
              <a:off x="6448320" y="927720"/>
              <a:ext cx="305280" cy="181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474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66"/>
            <p:cNvSpPr/>
            <p:nvPr/>
          </p:nvSpPr>
          <p:spPr>
            <a:xfrm>
              <a:off x="2420280" y="39978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66"/>
            <p:cNvSpPr/>
            <p:nvPr/>
          </p:nvSpPr>
          <p:spPr>
            <a:xfrm>
              <a:off x="5729040" y="41072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Box 107"/>
            <p:cNvSpPr/>
            <p:nvPr/>
          </p:nvSpPr>
          <p:spPr>
            <a:xfrm>
              <a:off x="1504080" y="1352160"/>
              <a:ext cx="278172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dae5f1"/>
                  </a:solidFill>
                  <a:latin typeface="微软雅黑"/>
                  <a:ea typeface="微软雅黑"/>
                </a:rPr>
                <a:t>您的内容打在这里或者通过复制您的文本后，在此框中选择粘贴，并选择只保留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TextBox 108"/>
            <p:cNvSpPr/>
            <p:nvPr/>
          </p:nvSpPr>
          <p:spPr>
            <a:xfrm>
              <a:off x="1563120" y="1071720"/>
              <a:ext cx="186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Box 1"/>
          <p:cNvSpPr/>
          <p:nvPr/>
        </p:nvSpPr>
        <p:spPr>
          <a:xfrm>
            <a:off x="527760" y="2858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ae5f1"/>
                </a:solidFill>
                <a:latin typeface="微软雅黑"/>
                <a:ea typeface="微软雅黑"/>
              </a:rPr>
              <a:t>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33"/>
          <p:cNvSpPr/>
          <p:nvPr/>
        </p:nvSpPr>
        <p:spPr>
          <a:xfrm>
            <a:off x="2463480" y="2728440"/>
            <a:ext cx="730800" cy="17640"/>
          </a:xfrm>
          <a:prstGeom prst="line">
            <a:avLst/>
          </a:prstGeom>
          <a:ln w="19080">
            <a:solidFill>
              <a:srgbClr val="343637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33"/>
          <p:cNvSpPr/>
          <p:nvPr/>
        </p:nvSpPr>
        <p:spPr>
          <a:xfrm flipV="1">
            <a:off x="7805880" y="2057040"/>
            <a:ext cx="160200" cy="136440"/>
          </a:xfrm>
          <a:prstGeom prst="line">
            <a:avLst/>
          </a:prstGeom>
          <a:ln w="19080">
            <a:solidFill>
              <a:srgbClr val="343637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33"/>
          <p:cNvSpPr/>
          <p:nvPr/>
        </p:nvSpPr>
        <p:spPr>
          <a:xfrm flipH="1" flipV="1">
            <a:off x="1199880" y="3250800"/>
            <a:ext cx="523800" cy="260280"/>
          </a:xfrm>
          <a:prstGeom prst="line">
            <a:avLst/>
          </a:prstGeom>
          <a:ln w="19080">
            <a:solidFill>
              <a:srgbClr val="343637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33"/>
          <p:cNvSpPr/>
          <p:nvPr/>
        </p:nvSpPr>
        <p:spPr>
          <a:xfrm>
            <a:off x="2385720" y="3373200"/>
            <a:ext cx="732240" cy="18000"/>
          </a:xfrm>
          <a:prstGeom prst="line">
            <a:avLst/>
          </a:prstGeom>
          <a:ln w="19080">
            <a:solidFill>
              <a:srgbClr val="343637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33"/>
          <p:cNvSpPr/>
          <p:nvPr/>
        </p:nvSpPr>
        <p:spPr>
          <a:xfrm>
            <a:off x="3649320" y="3388680"/>
            <a:ext cx="968040" cy="11880"/>
          </a:xfrm>
          <a:prstGeom prst="line">
            <a:avLst/>
          </a:prstGeom>
          <a:ln w="19080">
            <a:solidFill>
              <a:srgbClr val="343637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4920" bIns="-34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33"/>
          <p:cNvSpPr/>
          <p:nvPr/>
        </p:nvSpPr>
        <p:spPr>
          <a:xfrm>
            <a:off x="4941360" y="3388680"/>
            <a:ext cx="968040" cy="11880"/>
          </a:xfrm>
          <a:prstGeom prst="line">
            <a:avLst/>
          </a:prstGeom>
          <a:ln w="19080">
            <a:solidFill>
              <a:srgbClr val="343637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4920" bIns="-34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33"/>
          <p:cNvSpPr/>
          <p:nvPr/>
        </p:nvSpPr>
        <p:spPr>
          <a:xfrm>
            <a:off x="3619080" y="2594880"/>
            <a:ext cx="968040" cy="11880"/>
          </a:xfrm>
          <a:prstGeom prst="line">
            <a:avLst/>
          </a:prstGeom>
          <a:ln w="19080">
            <a:solidFill>
              <a:srgbClr val="343637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4920" bIns="-34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33"/>
          <p:cNvSpPr/>
          <p:nvPr/>
        </p:nvSpPr>
        <p:spPr>
          <a:xfrm>
            <a:off x="4887360" y="2594880"/>
            <a:ext cx="968040" cy="11880"/>
          </a:xfrm>
          <a:prstGeom prst="line">
            <a:avLst/>
          </a:prstGeom>
          <a:ln w="19080">
            <a:solidFill>
              <a:srgbClr val="343637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4920" bIns="-34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47"/>
          <p:cNvSpPr/>
          <p:nvPr/>
        </p:nvSpPr>
        <p:spPr>
          <a:xfrm>
            <a:off x="1201680" y="1743120"/>
            <a:ext cx="7380360" cy="2502000"/>
          </a:xfrm>
          <a:custGeom>
            <a:avLst/>
            <a:gdLst>
              <a:gd name="textAreaLeft" fmla="*/ 0 w 7380360"/>
              <a:gd name="textAreaRight" fmla="*/ 7380720 w 7380360"/>
              <a:gd name="textAreaTop" fmla="*/ 0 h 2502000"/>
              <a:gd name="textAreaBottom" fmla="*/ 2502000 h 2502000"/>
            </a:gdLst>
            <a:ahLst/>
            <a:rect l="textAreaLeft" t="textAreaTop" r="textAreaRight" b="textAreaBottom"/>
            <a:pathLst>
              <a:path w="3426" h="1232">
                <a:moveTo>
                  <a:pt x="3426" y="540"/>
                </a:moveTo>
                <a:lnTo>
                  <a:pt x="3426" y="540"/>
                </a:lnTo>
                <a:lnTo>
                  <a:pt x="3400" y="506"/>
                </a:lnTo>
                <a:lnTo>
                  <a:pt x="3372" y="470"/>
                </a:lnTo>
                <a:lnTo>
                  <a:pt x="3342" y="436"/>
                </a:lnTo>
                <a:lnTo>
                  <a:pt x="3308" y="404"/>
                </a:lnTo>
                <a:lnTo>
                  <a:pt x="3270" y="372"/>
                </a:lnTo>
                <a:lnTo>
                  <a:pt x="3230" y="340"/>
                </a:lnTo>
                <a:lnTo>
                  <a:pt x="3188" y="312"/>
                </a:lnTo>
                <a:lnTo>
                  <a:pt x="3142" y="284"/>
                </a:lnTo>
                <a:lnTo>
                  <a:pt x="3094" y="258"/>
                </a:lnTo>
                <a:lnTo>
                  <a:pt x="3046" y="236"/>
                </a:lnTo>
                <a:lnTo>
                  <a:pt x="2994" y="216"/>
                </a:lnTo>
                <a:lnTo>
                  <a:pt x="2940" y="198"/>
                </a:lnTo>
                <a:lnTo>
                  <a:pt x="2884" y="182"/>
                </a:lnTo>
                <a:lnTo>
                  <a:pt x="2828" y="170"/>
                </a:lnTo>
                <a:lnTo>
                  <a:pt x="2770" y="162"/>
                </a:lnTo>
                <a:lnTo>
                  <a:pt x="2710" y="158"/>
                </a:lnTo>
                <a:lnTo>
                  <a:pt x="2646" y="156"/>
                </a:lnTo>
                <a:lnTo>
                  <a:pt x="2612" y="158"/>
                </a:lnTo>
                <a:lnTo>
                  <a:pt x="2580" y="162"/>
                </a:lnTo>
                <a:lnTo>
                  <a:pt x="2550" y="168"/>
                </a:lnTo>
                <a:lnTo>
                  <a:pt x="2536" y="172"/>
                </a:lnTo>
                <a:lnTo>
                  <a:pt x="2522" y="178"/>
                </a:lnTo>
                <a:lnTo>
                  <a:pt x="2510" y="186"/>
                </a:lnTo>
                <a:lnTo>
                  <a:pt x="2498" y="194"/>
                </a:lnTo>
                <a:lnTo>
                  <a:pt x="2488" y="202"/>
                </a:lnTo>
                <a:lnTo>
                  <a:pt x="2480" y="214"/>
                </a:lnTo>
                <a:lnTo>
                  <a:pt x="2516" y="298"/>
                </a:lnTo>
                <a:lnTo>
                  <a:pt x="2534" y="342"/>
                </a:lnTo>
                <a:lnTo>
                  <a:pt x="2548" y="386"/>
                </a:lnTo>
                <a:lnTo>
                  <a:pt x="2562" y="432"/>
                </a:lnTo>
                <a:lnTo>
                  <a:pt x="2576" y="480"/>
                </a:lnTo>
                <a:lnTo>
                  <a:pt x="2586" y="528"/>
                </a:lnTo>
                <a:lnTo>
                  <a:pt x="2592" y="580"/>
                </a:lnTo>
                <a:lnTo>
                  <a:pt x="2546" y="588"/>
                </a:lnTo>
                <a:lnTo>
                  <a:pt x="2496" y="598"/>
                </a:lnTo>
                <a:lnTo>
                  <a:pt x="2412" y="606"/>
                </a:lnTo>
                <a:lnTo>
                  <a:pt x="2358" y="608"/>
                </a:lnTo>
                <a:lnTo>
                  <a:pt x="2268" y="608"/>
                </a:lnTo>
                <a:lnTo>
                  <a:pt x="2270" y="578"/>
                </a:lnTo>
                <a:lnTo>
                  <a:pt x="2268" y="546"/>
                </a:lnTo>
                <a:lnTo>
                  <a:pt x="2266" y="512"/>
                </a:lnTo>
                <a:lnTo>
                  <a:pt x="2264" y="480"/>
                </a:lnTo>
                <a:lnTo>
                  <a:pt x="2258" y="446"/>
                </a:lnTo>
                <a:lnTo>
                  <a:pt x="2252" y="414"/>
                </a:lnTo>
                <a:lnTo>
                  <a:pt x="2244" y="380"/>
                </a:lnTo>
                <a:lnTo>
                  <a:pt x="2236" y="346"/>
                </a:lnTo>
                <a:lnTo>
                  <a:pt x="2224" y="312"/>
                </a:lnTo>
                <a:lnTo>
                  <a:pt x="2212" y="278"/>
                </a:lnTo>
                <a:lnTo>
                  <a:pt x="2196" y="244"/>
                </a:lnTo>
                <a:lnTo>
                  <a:pt x="2180" y="210"/>
                </a:lnTo>
                <a:lnTo>
                  <a:pt x="2160" y="176"/>
                </a:lnTo>
                <a:lnTo>
                  <a:pt x="2140" y="144"/>
                </a:lnTo>
                <a:lnTo>
                  <a:pt x="2116" y="110"/>
                </a:lnTo>
                <a:lnTo>
                  <a:pt x="2092" y="76"/>
                </a:lnTo>
                <a:lnTo>
                  <a:pt x="2106" y="114"/>
                </a:lnTo>
                <a:lnTo>
                  <a:pt x="2122" y="160"/>
                </a:lnTo>
                <a:lnTo>
                  <a:pt x="2140" y="222"/>
                </a:lnTo>
                <a:lnTo>
                  <a:pt x="2150" y="258"/>
                </a:lnTo>
                <a:lnTo>
                  <a:pt x="2158" y="298"/>
                </a:lnTo>
                <a:lnTo>
                  <a:pt x="2166" y="342"/>
                </a:lnTo>
                <a:lnTo>
                  <a:pt x="2174" y="390"/>
                </a:lnTo>
                <a:lnTo>
                  <a:pt x="2180" y="440"/>
                </a:lnTo>
                <a:lnTo>
                  <a:pt x="2186" y="494"/>
                </a:lnTo>
                <a:lnTo>
                  <a:pt x="2188" y="550"/>
                </a:lnTo>
                <a:lnTo>
                  <a:pt x="2190" y="608"/>
                </a:lnTo>
                <a:lnTo>
                  <a:pt x="1954" y="606"/>
                </a:lnTo>
                <a:lnTo>
                  <a:pt x="1680" y="600"/>
                </a:lnTo>
                <a:lnTo>
                  <a:pt x="1680" y="564"/>
                </a:lnTo>
                <a:lnTo>
                  <a:pt x="1680" y="528"/>
                </a:lnTo>
                <a:lnTo>
                  <a:pt x="1676" y="490"/>
                </a:lnTo>
                <a:lnTo>
                  <a:pt x="1672" y="454"/>
                </a:lnTo>
                <a:lnTo>
                  <a:pt x="1668" y="416"/>
                </a:lnTo>
                <a:lnTo>
                  <a:pt x="1660" y="380"/>
                </a:lnTo>
                <a:lnTo>
                  <a:pt x="1650" y="342"/>
                </a:lnTo>
                <a:lnTo>
                  <a:pt x="1640" y="304"/>
                </a:lnTo>
                <a:lnTo>
                  <a:pt x="1628" y="266"/>
                </a:lnTo>
                <a:lnTo>
                  <a:pt x="1612" y="228"/>
                </a:lnTo>
                <a:lnTo>
                  <a:pt x="1596" y="190"/>
                </a:lnTo>
                <a:lnTo>
                  <a:pt x="1576" y="152"/>
                </a:lnTo>
                <a:lnTo>
                  <a:pt x="1556" y="114"/>
                </a:lnTo>
                <a:lnTo>
                  <a:pt x="1532" y="76"/>
                </a:lnTo>
                <a:lnTo>
                  <a:pt x="1506" y="38"/>
                </a:lnTo>
                <a:lnTo>
                  <a:pt x="1478" y="0"/>
                </a:lnTo>
                <a:lnTo>
                  <a:pt x="1482" y="10"/>
                </a:lnTo>
                <a:lnTo>
                  <a:pt x="1494" y="42"/>
                </a:lnTo>
                <a:lnTo>
                  <a:pt x="1512" y="94"/>
                </a:lnTo>
                <a:lnTo>
                  <a:pt x="1532" y="162"/>
                </a:lnTo>
                <a:lnTo>
                  <a:pt x="1544" y="204"/>
                </a:lnTo>
                <a:lnTo>
                  <a:pt x="1554" y="250"/>
                </a:lnTo>
                <a:lnTo>
                  <a:pt x="1562" y="298"/>
                </a:lnTo>
                <a:lnTo>
                  <a:pt x="1572" y="352"/>
                </a:lnTo>
                <a:lnTo>
                  <a:pt x="1578" y="408"/>
                </a:lnTo>
                <a:lnTo>
                  <a:pt x="1584" y="468"/>
                </a:lnTo>
                <a:lnTo>
                  <a:pt x="1588" y="530"/>
                </a:lnTo>
                <a:lnTo>
                  <a:pt x="1588" y="596"/>
                </a:lnTo>
                <a:lnTo>
                  <a:pt x="964" y="580"/>
                </a:lnTo>
                <a:lnTo>
                  <a:pt x="962" y="518"/>
                </a:lnTo>
                <a:lnTo>
                  <a:pt x="958" y="488"/>
                </a:lnTo>
                <a:lnTo>
                  <a:pt x="954" y="456"/>
                </a:lnTo>
                <a:lnTo>
                  <a:pt x="950" y="426"/>
                </a:lnTo>
                <a:lnTo>
                  <a:pt x="942" y="394"/>
                </a:lnTo>
                <a:lnTo>
                  <a:pt x="934" y="362"/>
                </a:lnTo>
                <a:lnTo>
                  <a:pt x="924" y="330"/>
                </a:lnTo>
                <a:lnTo>
                  <a:pt x="914" y="298"/>
                </a:lnTo>
                <a:lnTo>
                  <a:pt x="900" y="266"/>
                </a:lnTo>
                <a:lnTo>
                  <a:pt x="886" y="234"/>
                </a:lnTo>
                <a:lnTo>
                  <a:pt x="870" y="202"/>
                </a:lnTo>
                <a:lnTo>
                  <a:pt x="852" y="172"/>
                </a:lnTo>
                <a:lnTo>
                  <a:pt x="832" y="140"/>
                </a:lnTo>
                <a:lnTo>
                  <a:pt x="810" y="108"/>
                </a:lnTo>
                <a:lnTo>
                  <a:pt x="786" y="76"/>
                </a:lnTo>
                <a:lnTo>
                  <a:pt x="800" y="112"/>
                </a:lnTo>
                <a:lnTo>
                  <a:pt x="816" y="154"/>
                </a:lnTo>
                <a:lnTo>
                  <a:pt x="832" y="212"/>
                </a:lnTo>
                <a:lnTo>
                  <a:pt x="850" y="284"/>
                </a:lnTo>
                <a:lnTo>
                  <a:pt x="858" y="326"/>
                </a:lnTo>
                <a:lnTo>
                  <a:pt x="866" y="370"/>
                </a:lnTo>
                <a:lnTo>
                  <a:pt x="872" y="418"/>
                </a:lnTo>
                <a:lnTo>
                  <a:pt x="878" y="468"/>
                </a:lnTo>
                <a:lnTo>
                  <a:pt x="882" y="522"/>
                </a:lnTo>
                <a:lnTo>
                  <a:pt x="884" y="576"/>
                </a:lnTo>
                <a:lnTo>
                  <a:pt x="762" y="572"/>
                </a:lnTo>
                <a:lnTo>
                  <a:pt x="728" y="568"/>
                </a:lnTo>
                <a:lnTo>
                  <a:pt x="696" y="562"/>
                </a:lnTo>
                <a:lnTo>
                  <a:pt x="666" y="554"/>
                </a:lnTo>
                <a:lnTo>
                  <a:pt x="640" y="542"/>
                </a:lnTo>
                <a:lnTo>
                  <a:pt x="612" y="530"/>
                </a:lnTo>
                <a:lnTo>
                  <a:pt x="588" y="516"/>
                </a:lnTo>
                <a:lnTo>
                  <a:pt x="566" y="500"/>
                </a:lnTo>
                <a:lnTo>
                  <a:pt x="544" y="484"/>
                </a:lnTo>
                <a:lnTo>
                  <a:pt x="524" y="466"/>
                </a:lnTo>
                <a:lnTo>
                  <a:pt x="504" y="446"/>
                </a:lnTo>
                <a:lnTo>
                  <a:pt x="466" y="406"/>
                </a:lnTo>
                <a:lnTo>
                  <a:pt x="432" y="364"/>
                </a:lnTo>
                <a:lnTo>
                  <a:pt x="398" y="320"/>
                </a:lnTo>
                <a:lnTo>
                  <a:pt x="362" y="278"/>
                </a:lnTo>
                <a:lnTo>
                  <a:pt x="326" y="236"/>
                </a:lnTo>
                <a:lnTo>
                  <a:pt x="306" y="216"/>
                </a:lnTo>
                <a:lnTo>
                  <a:pt x="286" y="198"/>
                </a:lnTo>
                <a:lnTo>
                  <a:pt x="266" y="180"/>
                </a:lnTo>
                <a:lnTo>
                  <a:pt x="242" y="164"/>
                </a:lnTo>
                <a:lnTo>
                  <a:pt x="220" y="148"/>
                </a:lnTo>
                <a:lnTo>
                  <a:pt x="194" y="134"/>
                </a:lnTo>
                <a:lnTo>
                  <a:pt x="166" y="122"/>
                </a:lnTo>
                <a:lnTo>
                  <a:pt x="138" y="114"/>
                </a:lnTo>
                <a:lnTo>
                  <a:pt x="106" y="106"/>
                </a:lnTo>
                <a:lnTo>
                  <a:pt x="74" y="100"/>
                </a:lnTo>
                <a:lnTo>
                  <a:pt x="38" y="96"/>
                </a:lnTo>
                <a:lnTo>
                  <a:pt x="0" y="96"/>
                </a:lnTo>
                <a:lnTo>
                  <a:pt x="52" y="146"/>
                </a:lnTo>
                <a:lnTo>
                  <a:pt x="78" y="172"/>
                </a:lnTo>
                <a:lnTo>
                  <a:pt x="102" y="200"/>
                </a:lnTo>
                <a:lnTo>
                  <a:pt x="126" y="230"/>
                </a:lnTo>
                <a:lnTo>
                  <a:pt x="150" y="262"/>
                </a:lnTo>
                <a:lnTo>
                  <a:pt x="172" y="294"/>
                </a:lnTo>
                <a:lnTo>
                  <a:pt x="192" y="328"/>
                </a:lnTo>
                <a:lnTo>
                  <a:pt x="210" y="362"/>
                </a:lnTo>
                <a:lnTo>
                  <a:pt x="226" y="400"/>
                </a:lnTo>
                <a:lnTo>
                  <a:pt x="240" y="438"/>
                </a:lnTo>
                <a:lnTo>
                  <a:pt x="250" y="478"/>
                </a:lnTo>
                <a:lnTo>
                  <a:pt x="258" y="520"/>
                </a:lnTo>
                <a:lnTo>
                  <a:pt x="264" y="562"/>
                </a:lnTo>
                <a:lnTo>
                  <a:pt x="264" y="608"/>
                </a:lnTo>
                <a:lnTo>
                  <a:pt x="262" y="654"/>
                </a:lnTo>
                <a:lnTo>
                  <a:pt x="258" y="694"/>
                </a:lnTo>
                <a:lnTo>
                  <a:pt x="252" y="732"/>
                </a:lnTo>
                <a:lnTo>
                  <a:pt x="244" y="770"/>
                </a:lnTo>
                <a:lnTo>
                  <a:pt x="236" y="806"/>
                </a:lnTo>
                <a:lnTo>
                  <a:pt x="216" y="880"/>
                </a:lnTo>
                <a:lnTo>
                  <a:pt x="192" y="952"/>
                </a:lnTo>
                <a:lnTo>
                  <a:pt x="166" y="1020"/>
                </a:lnTo>
                <a:lnTo>
                  <a:pt x="138" y="1086"/>
                </a:lnTo>
                <a:lnTo>
                  <a:pt x="86" y="1212"/>
                </a:lnTo>
                <a:lnTo>
                  <a:pt x="90" y="1208"/>
                </a:lnTo>
                <a:lnTo>
                  <a:pt x="92" y="1208"/>
                </a:lnTo>
                <a:lnTo>
                  <a:pt x="90" y="1212"/>
                </a:lnTo>
                <a:lnTo>
                  <a:pt x="82" y="1222"/>
                </a:lnTo>
                <a:lnTo>
                  <a:pt x="84" y="1222"/>
                </a:lnTo>
                <a:lnTo>
                  <a:pt x="94" y="1218"/>
                </a:lnTo>
                <a:lnTo>
                  <a:pt x="100" y="1218"/>
                </a:lnTo>
                <a:lnTo>
                  <a:pt x="102" y="1216"/>
                </a:lnTo>
                <a:lnTo>
                  <a:pt x="104" y="1214"/>
                </a:lnTo>
                <a:lnTo>
                  <a:pt x="108" y="1202"/>
                </a:lnTo>
                <a:lnTo>
                  <a:pt x="142" y="1184"/>
                </a:lnTo>
                <a:lnTo>
                  <a:pt x="176" y="1164"/>
                </a:lnTo>
                <a:lnTo>
                  <a:pt x="208" y="1144"/>
                </a:lnTo>
                <a:lnTo>
                  <a:pt x="238" y="1120"/>
                </a:lnTo>
                <a:lnTo>
                  <a:pt x="268" y="1098"/>
                </a:lnTo>
                <a:lnTo>
                  <a:pt x="296" y="1072"/>
                </a:lnTo>
                <a:lnTo>
                  <a:pt x="352" y="1018"/>
                </a:lnTo>
                <a:lnTo>
                  <a:pt x="374" y="994"/>
                </a:lnTo>
                <a:lnTo>
                  <a:pt x="394" y="970"/>
                </a:lnTo>
                <a:lnTo>
                  <a:pt x="434" y="918"/>
                </a:lnTo>
                <a:lnTo>
                  <a:pt x="470" y="866"/>
                </a:lnTo>
                <a:lnTo>
                  <a:pt x="506" y="814"/>
                </a:lnTo>
                <a:lnTo>
                  <a:pt x="526" y="790"/>
                </a:lnTo>
                <a:lnTo>
                  <a:pt x="546" y="766"/>
                </a:lnTo>
                <a:lnTo>
                  <a:pt x="568" y="746"/>
                </a:lnTo>
                <a:lnTo>
                  <a:pt x="590" y="726"/>
                </a:lnTo>
                <a:lnTo>
                  <a:pt x="614" y="710"/>
                </a:lnTo>
                <a:lnTo>
                  <a:pt x="642" y="694"/>
                </a:lnTo>
                <a:lnTo>
                  <a:pt x="670" y="684"/>
                </a:lnTo>
                <a:lnTo>
                  <a:pt x="702" y="676"/>
                </a:lnTo>
                <a:lnTo>
                  <a:pt x="882" y="678"/>
                </a:lnTo>
                <a:lnTo>
                  <a:pt x="878" y="732"/>
                </a:lnTo>
                <a:lnTo>
                  <a:pt x="872" y="788"/>
                </a:lnTo>
                <a:lnTo>
                  <a:pt x="866" y="846"/>
                </a:lnTo>
                <a:lnTo>
                  <a:pt x="854" y="906"/>
                </a:lnTo>
                <a:lnTo>
                  <a:pt x="842" y="966"/>
                </a:lnTo>
                <a:lnTo>
                  <a:pt x="826" y="1028"/>
                </a:lnTo>
                <a:lnTo>
                  <a:pt x="808" y="1092"/>
                </a:lnTo>
                <a:lnTo>
                  <a:pt x="786" y="1156"/>
                </a:lnTo>
                <a:lnTo>
                  <a:pt x="808" y="1120"/>
                </a:lnTo>
                <a:lnTo>
                  <a:pt x="832" y="1076"/>
                </a:lnTo>
                <a:lnTo>
                  <a:pt x="860" y="1020"/>
                </a:lnTo>
                <a:lnTo>
                  <a:pt x="876" y="986"/>
                </a:lnTo>
                <a:lnTo>
                  <a:pt x="890" y="950"/>
                </a:lnTo>
                <a:lnTo>
                  <a:pt x="904" y="910"/>
                </a:lnTo>
                <a:lnTo>
                  <a:pt x="918" y="868"/>
                </a:lnTo>
                <a:lnTo>
                  <a:pt x="932" y="824"/>
                </a:lnTo>
                <a:lnTo>
                  <a:pt x="942" y="778"/>
                </a:lnTo>
                <a:lnTo>
                  <a:pt x="952" y="730"/>
                </a:lnTo>
                <a:lnTo>
                  <a:pt x="958" y="680"/>
                </a:lnTo>
                <a:lnTo>
                  <a:pt x="1258" y="686"/>
                </a:lnTo>
                <a:lnTo>
                  <a:pt x="1582" y="696"/>
                </a:lnTo>
                <a:lnTo>
                  <a:pt x="1586" y="696"/>
                </a:lnTo>
                <a:lnTo>
                  <a:pt x="1582" y="758"/>
                </a:lnTo>
                <a:lnTo>
                  <a:pt x="1576" y="820"/>
                </a:lnTo>
                <a:lnTo>
                  <a:pt x="1566" y="884"/>
                </a:lnTo>
                <a:lnTo>
                  <a:pt x="1556" y="952"/>
                </a:lnTo>
                <a:lnTo>
                  <a:pt x="1540" y="1020"/>
                </a:lnTo>
                <a:lnTo>
                  <a:pt x="1522" y="1088"/>
                </a:lnTo>
                <a:lnTo>
                  <a:pt x="1502" y="1160"/>
                </a:lnTo>
                <a:lnTo>
                  <a:pt x="1478" y="1232"/>
                </a:lnTo>
                <a:lnTo>
                  <a:pt x="1484" y="1222"/>
                </a:lnTo>
                <a:lnTo>
                  <a:pt x="1502" y="1192"/>
                </a:lnTo>
                <a:lnTo>
                  <a:pt x="1530" y="1144"/>
                </a:lnTo>
                <a:lnTo>
                  <a:pt x="1562" y="1080"/>
                </a:lnTo>
                <a:lnTo>
                  <a:pt x="1578" y="1042"/>
                </a:lnTo>
                <a:lnTo>
                  <a:pt x="1594" y="1002"/>
                </a:lnTo>
                <a:lnTo>
                  <a:pt x="1612" y="958"/>
                </a:lnTo>
                <a:lnTo>
                  <a:pt x="1626" y="910"/>
                </a:lnTo>
                <a:lnTo>
                  <a:pt x="1642" y="860"/>
                </a:lnTo>
                <a:lnTo>
                  <a:pt x="1654" y="808"/>
                </a:lnTo>
                <a:lnTo>
                  <a:pt x="1664" y="754"/>
                </a:lnTo>
                <a:lnTo>
                  <a:pt x="1672" y="698"/>
                </a:lnTo>
                <a:lnTo>
                  <a:pt x="1794" y="700"/>
                </a:lnTo>
                <a:lnTo>
                  <a:pt x="1922" y="702"/>
                </a:lnTo>
                <a:lnTo>
                  <a:pt x="2186" y="700"/>
                </a:lnTo>
                <a:lnTo>
                  <a:pt x="2182" y="752"/>
                </a:lnTo>
                <a:lnTo>
                  <a:pt x="2176" y="806"/>
                </a:lnTo>
                <a:lnTo>
                  <a:pt x="2168" y="862"/>
                </a:lnTo>
                <a:lnTo>
                  <a:pt x="2158" y="918"/>
                </a:lnTo>
                <a:lnTo>
                  <a:pt x="2146" y="976"/>
                </a:lnTo>
                <a:lnTo>
                  <a:pt x="2130" y="1034"/>
                </a:lnTo>
                <a:lnTo>
                  <a:pt x="2112" y="1094"/>
                </a:lnTo>
                <a:lnTo>
                  <a:pt x="2092" y="1156"/>
                </a:lnTo>
                <a:lnTo>
                  <a:pt x="2112" y="1122"/>
                </a:lnTo>
                <a:lnTo>
                  <a:pt x="2136" y="1080"/>
                </a:lnTo>
                <a:lnTo>
                  <a:pt x="2164" y="1026"/>
                </a:lnTo>
                <a:lnTo>
                  <a:pt x="2192" y="958"/>
                </a:lnTo>
                <a:lnTo>
                  <a:pt x="2206" y="922"/>
                </a:lnTo>
                <a:lnTo>
                  <a:pt x="2220" y="882"/>
                </a:lnTo>
                <a:lnTo>
                  <a:pt x="2232" y="838"/>
                </a:lnTo>
                <a:lnTo>
                  <a:pt x="2244" y="794"/>
                </a:lnTo>
                <a:lnTo>
                  <a:pt x="2254" y="748"/>
                </a:lnTo>
                <a:lnTo>
                  <a:pt x="2262" y="700"/>
                </a:lnTo>
                <a:lnTo>
                  <a:pt x="2600" y="694"/>
                </a:lnTo>
                <a:lnTo>
                  <a:pt x="2604" y="736"/>
                </a:lnTo>
                <a:lnTo>
                  <a:pt x="2606" y="782"/>
                </a:lnTo>
                <a:lnTo>
                  <a:pt x="2604" y="830"/>
                </a:lnTo>
                <a:lnTo>
                  <a:pt x="2602" y="878"/>
                </a:lnTo>
                <a:lnTo>
                  <a:pt x="2596" y="926"/>
                </a:lnTo>
                <a:lnTo>
                  <a:pt x="2590" y="976"/>
                </a:lnTo>
                <a:lnTo>
                  <a:pt x="2582" y="1022"/>
                </a:lnTo>
                <a:lnTo>
                  <a:pt x="2572" y="1068"/>
                </a:lnTo>
                <a:lnTo>
                  <a:pt x="2634" y="1070"/>
                </a:lnTo>
                <a:lnTo>
                  <a:pt x="2694" y="1066"/>
                </a:lnTo>
                <a:lnTo>
                  <a:pt x="2752" y="1060"/>
                </a:lnTo>
                <a:lnTo>
                  <a:pt x="2808" y="1050"/>
                </a:lnTo>
                <a:lnTo>
                  <a:pt x="2862" y="1038"/>
                </a:lnTo>
                <a:lnTo>
                  <a:pt x="2914" y="1022"/>
                </a:lnTo>
                <a:lnTo>
                  <a:pt x="2962" y="1004"/>
                </a:lnTo>
                <a:lnTo>
                  <a:pt x="3010" y="982"/>
                </a:lnTo>
                <a:lnTo>
                  <a:pt x="3054" y="958"/>
                </a:lnTo>
                <a:lnTo>
                  <a:pt x="3096" y="932"/>
                </a:lnTo>
                <a:lnTo>
                  <a:pt x="3136" y="904"/>
                </a:lnTo>
                <a:lnTo>
                  <a:pt x="3174" y="874"/>
                </a:lnTo>
                <a:lnTo>
                  <a:pt x="3208" y="842"/>
                </a:lnTo>
                <a:lnTo>
                  <a:pt x="3242" y="808"/>
                </a:lnTo>
                <a:lnTo>
                  <a:pt x="3272" y="772"/>
                </a:lnTo>
                <a:lnTo>
                  <a:pt x="3300" y="736"/>
                </a:lnTo>
                <a:lnTo>
                  <a:pt x="3218" y="716"/>
                </a:lnTo>
                <a:lnTo>
                  <a:pt x="3178" y="704"/>
                </a:lnTo>
                <a:lnTo>
                  <a:pt x="3140" y="692"/>
                </a:lnTo>
                <a:lnTo>
                  <a:pt x="3102" y="678"/>
                </a:lnTo>
                <a:lnTo>
                  <a:pt x="3068" y="662"/>
                </a:lnTo>
                <a:lnTo>
                  <a:pt x="3036" y="644"/>
                </a:lnTo>
                <a:lnTo>
                  <a:pt x="3006" y="624"/>
                </a:lnTo>
                <a:lnTo>
                  <a:pt x="3114" y="608"/>
                </a:lnTo>
                <a:lnTo>
                  <a:pt x="3222" y="590"/>
                </a:lnTo>
                <a:lnTo>
                  <a:pt x="3276" y="580"/>
                </a:lnTo>
                <a:lnTo>
                  <a:pt x="3326" y="570"/>
                </a:lnTo>
                <a:lnTo>
                  <a:pt x="3378" y="556"/>
                </a:lnTo>
                <a:lnTo>
                  <a:pt x="3426" y="540"/>
                </a:lnTo>
                <a:close/>
                <a:moveTo>
                  <a:pt x="2788" y="444"/>
                </a:moveTo>
                <a:lnTo>
                  <a:pt x="2788" y="444"/>
                </a:lnTo>
                <a:lnTo>
                  <a:pt x="2774" y="442"/>
                </a:lnTo>
                <a:lnTo>
                  <a:pt x="2762" y="438"/>
                </a:lnTo>
                <a:lnTo>
                  <a:pt x="2752" y="432"/>
                </a:lnTo>
                <a:lnTo>
                  <a:pt x="2742" y="424"/>
                </a:lnTo>
                <a:lnTo>
                  <a:pt x="2734" y="414"/>
                </a:lnTo>
                <a:lnTo>
                  <a:pt x="2728" y="404"/>
                </a:lnTo>
                <a:lnTo>
                  <a:pt x="2724" y="392"/>
                </a:lnTo>
                <a:lnTo>
                  <a:pt x="2722" y="378"/>
                </a:lnTo>
                <a:lnTo>
                  <a:pt x="2724" y="364"/>
                </a:lnTo>
                <a:lnTo>
                  <a:pt x="2728" y="352"/>
                </a:lnTo>
                <a:lnTo>
                  <a:pt x="2734" y="342"/>
                </a:lnTo>
                <a:lnTo>
                  <a:pt x="2742" y="332"/>
                </a:lnTo>
                <a:lnTo>
                  <a:pt x="2752" y="324"/>
                </a:lnTo>
                <a:lnTo>
                  <a:pt x="2762" y="318"/>
                </a:lnTo>
                <a:lnTo>
                  <a:pt x="2774" y="314"/>
                </a:lnTo>
                <a:lnTo>
                  <a:pt x="2788" y="312"/>
                </a:lnTo>
                <a:lnTo>
                  <a:pt x="2802" y="314"/>
                </a:lnTo>
                <a:lnTo>
                  <a:pt x="2814" y="318"/>
                </a:lnTo>
                <a:lnTo>
                  <a:pt x="2824" y="324"/>
                </a:lnTo>
                <a:lnTo>
                  <a:pt x="2834" y="332"/>
                </a:lnTo>
                <a:lnTo>
                  <a:pt x="2842" y="342"/>
                </a:lnTo>
                <a:lnTo>
                  <a:pt x="2848" y="352"/>
                </a:lnTo>
                <a:lnTo>
                  <a:pt x="2852" y="364"/>
                </a:lnTo>
                <a:lnTo>
                  <a:pt x="2854" y="378"/>
                </a:lnTo>
                <a:lnTo>
                  <a:pt x="2852" y="392"/>
                </a:lnTo>
                <a:lnTo>
                  <a:pt x="2848" y="404"/>
                </a:lnTo>
                <a:lnTo>
                  <a:pt x="2842" y="414"/>
                </a:lnTo>
                <a:lnTo>
                  <a:pt x="2834" y="424"/>
                </a:lnTo>
                <a:lnTo>
                  <a:pt x="2824" y="432"/>
                </a:lnTo>
                <a:lnTo>
                  <a:pt x="2814" y="438"/>
                </a:lnTo>
                <a:lnTo>
                  <a:pt x="2802" y="442"/>
                </a:lnTo>
                <a:lnTo>
                  <a:pt x="2788" y="444"/>
                </a:lnTo>
                <a:close/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3f3f3f"/>
              </a:gs>
            </a:gsLst>
            <a:lin ang="5400000"/>
          </a:gra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Oval 67"/>
          <p:cNvSpPr/>
          <p:nvPr/>
        </p:nvSpPr>
        <p:spPr>
          <a:xfrm>
            <a:off x="2181240" y="1471680"/>
            <a:ext cx="1176480" cy="560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0ac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102"/>
          <p:cNvSpPr/>
          <p:nvPr/>
        </p:nvSpPr>
        <p:spPr>
          <a:xfrm>
            <a:off x="2246400" y="2162160"/>
            <a:ext cx="86364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您的内容打在这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103"/>
          <p:cNvSpPr/>
          <p:nvPr/>
        </p:nvSpPr>
        <p:spPr>
          <a:xfrm>
            <a:off x="3581280" y="3413160"/>
            <a:ext cx="1006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您的内容打在这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104"/>
          <p:cNvSpPr/>
          <p:nvPr/>
        </p:nvSpPr>
        <p:spPr>
          <a:xfrm>
            <a:off x="4840200" y="3413160"/>
            <a:ext cx="1006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您的内容打在这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Box 109"/>
          <p:cNvSpPr/>
          <p:nvPr/>
        </p:nvSpPr>
        <p:spPr>
          <a:xfrm>
            <a:off x="2241720" y="3381480"/>
            <a:ext cx="8632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您的内容打在这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110"/>
          <p:cNvSpPr/>
          <p:nvPr/>
        </p:nvSpPr>
        <p:spPr>
          <a:xfrm>
            <a:off x="3619440" y="2048040"/>
            <a:ext cx="100512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您的内容打在这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111"/>
          <p:cNvSpPr/>
          <p:nvPr/>
        </p:nvSpPr>
        <p:spPr>
          <a:xfrm>
            <a:off x="4878360" y="2048040"/>
            <a:ext cx="10047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您的内容打在这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112"/>
          <p:cNvSpPr/>
          <p:nvPr/>
        </p:nvSpPr>
        <p:spPr>
          <a:xfrm>
            <a:off x="517680" y="2809800"/>
            <a:ext cx="9810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您的内容打在这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113"/>
          <p:cNvSpPr/>
          <p:nvPr/>
        </p:nvSpPr>
        <p:spPr>
          <a:xfrm>
            <a:off x="7805880" y="1531800"/>
            <a:ext cx="9810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您的内容打在这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Oval 2" descr=""/>
          <p:cNvPicPr/>
          <p:nvPr/>
        </p:nvPicPr>
        <p:blipFill>
          <a:blip r:embed="rId1"/>
          <a:stretch/>
        </p:blipFill>
        <p:spPr>
          <a:xfrm>
            <a:off x="1825560" y="1266840"/>
            <a:ext cx="1955880" cy="927000"/>
          </a:xfrm>
          <a:prstGeom prst="rect">
            <a:avLst/>
          </a:prstGeom>
          <a:ln w="0">
            <a:noFill/>
          </a:ln>
        </p:spPr>
      </p:pic>
      <p:sp>
        <p:nvSpPr>
          <p:cNvPr id="700" name="TextBox 115"/>
          <p:cNvSpPr/>
          <p:nvPr/>
        </p:nvSpPr>
        <p:spPr>
          <a:xfrm>
            <a:off x="2313000" y="1525680"/>
            <a:ext cx="9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Oval 2" descr=""/>
          <p:cNvPicPr/>
          <p:nvPr/>
        </p:nvPicPr>
        <p:blipFill>
          <a:blip r:embed="rId2"/>
          <a:stretch/>
        </p:blipFill>
        <p:spPr>
          <a:xfrm>
            <a:off x="3314880" y="1209600"/>
            <a:ext cx="1955520" cy="927000"/>
          </a:xfrm>
          <a:prstGeom prst="rect">
            <a:avLst/>
          </a:prstGeom>
          <a:ln w="0">
            <a:noFill/>
          </a:ln>
        </p:spPr>
      </p:pic>
      <p:sp>
        <p:nvSpPr>
          <p:cNvPr id="702" name="TextBox 117"/>
          <p:cNvSpPr/>
          <p:nvPr/>
        </p:nvSpPr>
        <p:spPr>
          <a:xfrm>
            <a:off x="3801960" y="1468440"/>
            <a:ext cx="95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Oval 2" descr=""/>
          <p:cNvPicPr/>
          <p:nvPr/>
        </p:nvPicPr>
        <p:blipFill>
          <a:blip r:embed="rId3"/>
          <a:stretch/>
        </p:blipFill>
        <p:spPr>
          <a:xfrm>
            <a:off x="4803840" y="1279440"/>
            <a:ext cx="1955880" cy="928800"/>
          </a:xfrm>
          <a:prstGeom prst="rect">
            <a:avLst/>
          </a:prstGeom>
          <a:ln w="0">
            <a:noFill/>
          </a:ln>
        </p:spPr>
      </p:pic>
      <p:sp>
        <p:nvSpPr>
          <p:cNvPr id="704" name="TextBox 119"/>
          <p:cNvSpPr/>
          <p:nvPr/>
        </p:nvSpPr>
        <p:spPr>
          <a:xfrm>
            <a:off x="5289480" y="1539720"/>
            <a:ext cx="96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Oval 2" descr=""/>
          <p:cNvPicPr/>
          <p:nvPr/>
        </p:nvPicPr>
        <p:blipFill>
          <a:blip r:embed="rId4"/>
          <a:stretch/>
        </p:blipFill>
        <p:spPr>
          <a:xfrm>
            <a:off x="1898640" y="3816360"/>
            <a:ext cx="1955880" cy="927000"/>
          </a:xfrm>
          <a:prstGeom prst="rect">
            <a:avLst/>
          </a:prstGeom>
          <a:ln w="0">
            <a:noFill/>
          </a:ln>
        </p:spPr>
      </p:pic>
      <p:sp>
        <p:nvSpPr>
          <p:cNvPr id="706" name="TextBox 121"/>
          <p:cNvSpPr/>
          <p:nvPr/>
        </p:nvSpPr>
        <p:spPr>
          <a:xfrm>
            <a:off x="2395440" y="4076640"/>
            <a:ext cx="96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Oval 2" descr=""/>
          <p:cNvPicPr/>
          <p:nvPr/>
        </p:nvPicPr>
        <p:blipFill>
          <a:blip r:embed="rId5"/>
          <a:stretch/>
        </p:blipFill>
        <p:spPr>
          <a:xfrm>
            <a:off x="3395520" y="3857760"/>
            <a:ext cx="1955880" cy="928440"/>
          </a:xfrm>
          <a:prstGeom prst="rect">
            <a:avLst/>
          </a:prstGeom>
          <a:ln w="0">
            <a:noFill/>
          </a:ln>
        </p:spPr>
      </p:pic>
      <p:sp>
        <p:nvSpPr>
          <p:cNvPr id="708" name="TextBox 123"/>
          <p:cNvSpPr/>
          <p:nvPr/>
        </p:nvSpPr>
        <p:spPr>
          <a:xfrm>
            <a:off x="3892680" y="4105440"/>
            <a:ext cx="96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Oval 2" descr=""/>
          <p:cNvPicPr/>
          <p:nvPr/>
        </p:nvPicPr>
        <p:blipFill>
          <a:blip r:embed="rId6"/>
          <a:stretch/>
        </p:blipFill>
        <p:spPr>
          <a:xfrm>
            <a:off x="4892760" y="3857760"/>
            <a:ext cx="1955880" cy="928440"/>
          </a:xfrm>
          <a:prstGeom prst="rect">
            <a:avLst/>
          </a:prstGeom>
          <a:ln w="0">
            <a:noFill/>
          </a:ln>
        </p:spPr>
      </p:pic>
      <p:sp>
        <p:nvSpPr>
          <p:cNvPr id="710" name="TextBox 125"/>
          <p:cNvSpPr/>
          <p:nvPr/>
        </p:nvSpPr>
        <p:spPr>
          <a:xfrm>
            <a:off x="5389560" y="4105440"/>
            <a:ext cx="96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06:51:00Z</dcterms:created>
  <dc:creator>ppt宝藏</dc:creator>
  <dc:description/>
  <cp:keywords/>
  <dc:language>en-US</dc:language>
  <cp:lastModifiedBy>a</cp:lastModifiedBy>
  <dcterms:modified xsi:type="dcterms:W3CDTF">2015-07-25T12:32:43Z</dcterms:modified>
  <cp:revision>17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64</vt:lpwstr>
  </property>
</Properties>
</file>