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BBA-42A3-49BB-9421-692F7A69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298-E09D-4DD8-8B0A-3793E78A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923-3B80-4207-9BBC-912D2CA7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A1D-F513-4BA1-AC09-422B5EB0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C37-4BC4-4843-91F2-FCF274E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29E-7D74-4212-9480-8E4B77E7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E6C-A968-4B25-8BF0-34783E5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F61-6F0D-4255-BB47-48DD588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E28-8644-4E97-AE97-9919AF4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674-01C0-4221-97F6-239F45F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19F-2EC6-4110-8E8C-B7F386A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BAC-0C2A-4497-9B2D-677014A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A01-F578-46BD-8C82-F8C8F76127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997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283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140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354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556360" y="907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498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97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42884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64840" y="35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283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498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836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636560" y="6618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354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a</cp:lastModifiedBy>
  <dcterms:modified xsi:type="dcterms:W3CDTF">2015-07-25T02:46:41Z</dcterms:modified>
  <cp:revision>38</cp:revision>
  <dc:subject/>
  <dc:title>www.pptbz.com</dc:title>
</cp:coreProperties>
</file>