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E05-A5C0-468F-BAD0-1EBE649B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223-E7BC-4367-A822-F670E532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570-F4FD-4FAA-8429-0984DF0E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967-7F01-4CA6-BCF1-44279687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F5E-BC4E-4B78-9203-91713814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481-ADEC-4E8F-BEDB-45E4D060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35A-C17C-4A9F-B110-244C1138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9A8-1C2B-4A49-B6DA-C7FDCDBD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A6D-89DA-4076-90F9-9AD71852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143-886D-482E-8FF0-D44062D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F44-F69E-457B-A422-C22C4A5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BE8-BC79-4D34-B421-EACFF7B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49C9-A9D6-42E6-A8E5-791E7E28B3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2753280" y="1928880"/>
            <a:ext cx="506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梦幻蓝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123840" y="5370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51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0077da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53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54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55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60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65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66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71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76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77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78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83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88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89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94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99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1759a9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01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02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03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08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13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14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19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3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24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25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26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31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36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37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42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6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47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53a9f7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49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50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51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56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161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162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167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1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172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173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174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175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180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4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185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186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191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5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196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197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198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03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08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09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14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8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19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053275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21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22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23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28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33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34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39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3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44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45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46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47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52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57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258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263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7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268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269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270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275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9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280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281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286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90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294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e8ac04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296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297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298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03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08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09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14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19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20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21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22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27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1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32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33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38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2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43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44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45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50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4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55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56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361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65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382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053275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385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1759a9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388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0077da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9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391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e8ac04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4"/>
          <p:cNvSpPr txBox="1"/>
          <p:nvPr/>
        </p:nvSpPr>
        <p:spPr>
          <a:xfrm>
            <a:off x="5054760" y="296532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谢谢观赏！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02" name="WordArt 5"/>
          <p:cNvSpPr txBox="1"/>
          <p:nvPr/>
        </p:nvSpPr>
        <p:spPr>
          <a:xfrm>
            <a:off x="5532480" y="3679920"/>
            <a:ext cx="172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6:17Z</dcterms:created>
  <dc:creator>ppt宝藏</dc:creator>
  <dc:description/>
  <dc:language>en-US</dc:language>
  <cp:lastModifiedBy>a</cp:lastModifiedBy>
  <dcterms:modified xsi:type="dcterms:W3CDTF">2015-07-25T02:50:43Z</dcterms:modified>
  <cp:revision>35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