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34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684360" y="2981160"/>
            <a:ext cx="799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情人节淡彩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865840" y="36450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情人节主题模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0" y="2852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图片素材来自互联网，版权归原作者所有。本模板仅供学习与参考，请勿使用于商业用途
</dc:description>
  <cp:keywords>ppt幻灯设计/ppt模板设计</cp:keywords>
  <dc:language>en-US</dc:language>
  <cp:lastModifiedBy>xinxing</cp:lastModifiedBy>
  <dcterms:modified xsi:type="dcterms:W3CDTF">2016-08-08T14:42:34Z</dcterms:modified>
  <cp:revision>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