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648-F0C2-4C76-AF0E-710C8541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9BB-4A27-4A21-B5A2-83851B0A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C9D-A5B7-4162-8430-BE7E5C74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613-1745-4BE5-BCE0-42D5C370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073-F6FC-4F05-B56F-CF7A9707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57A-407B-4D25-8D6F-39AB3EDA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B6F-33B1-4276-9F6D-DAE4572C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C3B-07D2-45F9-B34D-74384131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54B-0A61-4460-87E9-009A7EEB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1AC-4EC3-4F13-8AA1-686FAB8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8CE-C897-44B5-B36A-544274EF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ED8-388E-4880-BFB9-33420076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602B-83ED-48D0-9469-1303B98C96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3atmeeting"/>
          <p:cNvPicPr/>
          <p:nvPr/>
        </p:nvPicPr>
        <p:blipFill>
          <a:blip r:embed="rId1"/>
          <a:stretch/>
        </p:blipFill>
        <p:spPr>
          <a:xfrm>
            <a:off x="0" y="13716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3" name="Line 7"/>
          <p:cNvSpPr/>
          <p:nvPr/>
        </p:nvSpPr>
        <p:spPr>
          <a:xfrm>
            <a:off x="0" y="2286000"/>
            <a:ext cx="3657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0" y="4114800"/>
            <a:ext cx="3657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0" y="5029200"/>
            <a:ext cx="3657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137160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4114800"/>
            <a:ext cx="9144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657600" y="1371600"/>
            <a:ext cx="5486400" cy="190512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543480" y="1820880"/>
            <a:ext cx="5715000" cy="70344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Palatino Linotype"/>
                <a:ea typeface="MS PGothic"/>
              </a:rPr>
              <a:t>清爽的商业会晤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  <a:ea typeface="MS PGothic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Palatino Linotype"/>
                <a:ea typeface="MS PGothic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2514600" y="1981080"/>
            <a:ext cx="6095880" cy="76212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2514600" cy="6858000"/>
          </a:xfrm>
          <a:prstGeom prst="rect">
            <a:avLst/>
          </a:prstGeom>
          <a:solidFill>
            <a:srgbClr val="114a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83808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0" y="106668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0" y="190512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0" y="609588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0" y="525780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0" y="441972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0" y="3581280"/>
            <a:ext cx="2514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officestairs"/>
          <p:cNvPicPr/>
          <p:nvPr/>
        </p:nvPicPr>
        <p:blipFill>
          <a:blip r:embed="rId1"/>
          <a:stretch/>
        </p:blipFill>
        <p:spPr>
          <a:xfrm>
            <a:off x="0" y="304920"/>
            <a:ext cx="251460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Line 17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0:21:16Z</dcterms:created>
  <dc:creator>ppt宝藏</dc:creator>
  <dc:description/>
  <dc:language>en-US</dc:language>
  <cp:lastModifiedBy>a</cp:lastModifiedBy>
  <dcterms:modified xsi:type="dcterms:W3CDTF">2015-07-25T06:21:52Z</dcterms:modified>
  <cp:revision>7</cp:revision>
  <dc:subject/>
  <dc:title>www.pptbz.com</dc:title>
</cp:coreProperties>
</file>