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8C9-EA7F-4449-B3B3-63E146E0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F7A-3B29-41E3-8BAD-C993FBB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192-0BD3-42EF-BA3C-118CE2B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EFA-063E-42EA-8B9E-9C9984BF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77E-1CDD-4969-93EE-F64BC166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AEA-0BC1-4E21-9701-7F5CD9F0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29B-A3B5-4993-8275-70EB6DF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A98-9A4E-426C-B02A-E06B15DB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D93-DD47-44EE-BED8-D32610A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D85-5A3D-4934-BC20-7D593C3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FB8-F122-48E2-8446-F4401C1B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D42-2E0B-476A-99A7-66A5B10C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EDE-4D13-4B8C-986F-498F21DBF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3"/>
          <p:cNvSpPr/>
          <p:nvPr/>
        </p:nvSpPr>
        <p:spPr>
          <a:xfrm>
            <a:off x="-9360" y="0"/>
            <a:ext cx="3719520" cy="37209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3720960"/>
              <a:gd name="textAreaBottom" fmla="*/ 3721320 h 37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6bb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6"/>
          <p:cNvSpPr/>
          <p:nvPr/>
        </p:nvSpPr>
        <p:spPr>
          <a:xfrm>
            <a:off x="-20520" y="-27000"/>
            <a:ext cx="5892840" cy="590544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5905440"/>
              <a:gd name="textAreaBottom" fmla="*/ 5905800 h 5905440"/>
            </a:gdLst>
            <a:ahLst/>
            <a:rect l="textAreaLeft" t="textAreaTop" r="textAreaRight" b="textAreaBottom"/>
            <a:pathLst>
              <a:path w="21600" h="21600">
                <a:moveTo>
                  <a:pt x="14058" y="0"/>
                </a:moveTo>
                <a:lnTo>
                  <a:pt x="0" y="14028"/>
                </a:lnTo>
                <a:lnTo>
                  <a:pt x="0" y="21600"/>
                </a:lnTo>
                <a:lnTo>
                  <a:pt x="21600" y="48"/>
                </a:lnTo>
                <a:lnTo>
                  <a:pt x="14058" y="0"/>
                </a:lnTo>
                <a:close/>
              </a:path>
            </a:pathLst>
          </a:custGeom>
          <a:solidFill>
            <a:srgbClr val="3b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08"/>
          <p:cNvSpPr/>
          <p:nvPr/>
        </p:nvSpPr>
        <p:spPr>
          <a:xfrm>
            <a:off x="-54000" y="-39600"/>
            <a:ext cx="9207360" cy="6985080"/>
          </a:xfrm>
          <a:custGeom>
            <a:avLst/>
            <a:gdLst>
              <a:gd name="textAreaLeft" fmla="*/ 0 w 9207360"/>
              <a:gd name="textAreaRight" fmla="*/ 9207720 w 9207360"/>
              <a:gd name="textAreaTop" fmla="*/ 0 h 6985080"/>
              <a:gd name="textAreaBottom" fmla="*/ 6985440 h 6985080"/>
            </a:gdLst>
            <a:ahLst/>
            <a:rect l="textAreaLeft" t="textAreaTop" r="textAreaRight" b="textAreaBottom"/>
            <a:pathLst>
              <a:path w="21600" h="21600">
                <a:moveTo>
                  <a:pt x="14092" y="39"/>
                </a:moveTo>
                <a:lnTo>
                  <a:pt x="0" y="18615"/>
                </a:ln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14092" y="39"/>
                </a:lnTo>
                <a:close/>
              </a:path>
            </a:pathLst>
          </a:custGeom>
          <a:solidFill>
            <a:srgbClr val="db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三角箭头2 123"/>
          <p:cNvSpPr/>
          <p:nvPr/>
        </p:nvSpPr>
        <p:spPr>
          <a:xfrm>
            <a:off x="1042920" y="54936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三角箭头2 123"/>
          <p:cNvSpPr/>
          <p:nvPr/>
        </p:nvSpPr>
        <p:spPr>
          <a:xfrm>
            <a:off x="2700360" y="1486080"/>
            <a:ext cx="431640" cy="5745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97120" y="3068640"/>
            <a:ext cx="62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三色扁平时尚商务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小人3 184"/>
          <p:cNvSpPr/>
          <p:nvPr/>
        </p:nvSpPr>
        <p:spPr>
          <a:xfrm rot="10800000">
            <a:off x="7812000" y="549360"/>
            <a:ext cx="433440" cy="107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小人2 185"/>
          <p:cNvSpPr/>
          <p:nvPr/>
        </p:nvSpPr>
        <p:spPr>
          <a:xfrm>
            <a:off x="2124000" y="5157720"/>
            <a:ext cx="505080" cy="1079640"/>
          </a:xfrm>
          <a:custGeom>
            <a:avLst/>
            <a:gdLst>
              <a:gd name="textAreaLeft" fmla="*/ 0 w 505080"/>
              <a:gd name="textAreaRight" fmla="*/ 505440 w 5050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2556000" y="4076640"/>
            <a:ext cx="1295280" cy="1152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db4453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rot="10740000">
            <a:off x="6587640" y="1628280"/>
            <a:ext cx="1297080" cy="1152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db4453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65200" y="-12600"/>
            <a:ext cx="8624880" cy="6921360"/>
            <a:chOff x="565200" y="-12600"/>
            <a:chExt cx="8624880" cy="6921360"/>
          </a:xfrm>
        </p:grpSpPr>
        <p:pic>
          <p:nvPicPr>
            <p:cNvPr id="53" name="Picture 3" descr="11"/>
            <p:cNvPicPr/>
            <p:nvPr/>
          </p:nvPicPr>
          <p:blipFill>
            <a:blip r:embed="rId1"/>
            <a:stretch/>
          </p:blipFill>
          <p:spPr>
            <a:xfrm>
              <a:off x="621000" y="-1440"/>
              <a:ext cx="854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任意多边形 27"/>
            <p:cNvSpPr/>
            <p:nvPr/>
          </p:nvSpPr>
          <p:spPr>
            <a:xfrm>
              <a:off x="565200" y="-12600"/>
              <a:ext cx="5557320" cy="6921360"/>
            </a:xfrm>
            <a:custGeom>
              <a:avLst/>
              <a:gdLst>
                <a:gd name="textAreaLeft" fmla="*/ 0 w 5557320"/>
                <a:gd name="textAreaRight" fmla="*/ 5557680 w 555732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6bb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27"/>
            <p:cNvSpPr/>
            <p:nvPr/>
          </p:nvSpPr>
          <p:spPr>
            <a:xfrm>
              <a:off x="2121480" y="-12600"/>
              <a:ext cx="5537160" cy="6921360"/>
            </a:xfrm>
            <a:custGeom>
              <a:avLst/>
              <a:gdLst>
                <a:gd name="textAreaLeft" fmla="*/ 0 w 5537160"/>
                <a:gd name="textAreaRight" fmla="*/ 5537520 w 553716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bae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27"/>
            <p:cNvSpPr/>
            <p:nvPr/>
          </p:nvSpPr>
          <p:spPr>
            <a:xfrm>
              <a:off x="3621240" y="-12600"/>
              <a:ext cx="5568840" cy="6921360"/>
            </a:xfrm>
            <a:custGeom>
              <a:avLst/>
              <a:gdLst>
                <a:gd name="textAreaLeft" fmla="*/ 0 w 5568840"/>
                <a:gd name="textAreaRight" fmla="*/ 5569200 w 556884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db44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7"/>
          <p:cNvSpPr/>
          <p:nvPr/>
        </p:nvSpPr>
        <p:spPr>
          <a:xfrm>
            <a:off x="1187280" y="2060640"/>
            <a:ext cx="201636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71640" y="54936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835280" y="1079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349280" y="21337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373560" y="137952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960800" y="1366920"/>
            <a:ext cx="15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85040" y="136224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 rot="18000000">
            <a:off x="25423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 rot="18000000">
            <a:off x="39517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 rot="18000000">
            <a:off x="543780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6016680" y="620640"/>
            <a:ext cx="576360" cy="0"/>
          </a:xfrm>
          <a:prstGeom prst="line">
            <a:avLst/>
          </a:prstGeom>
          <a:ln w="93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012000" y="1496880"/>
            <a:ext cx="576000" cy="0"/>
          </a:xfrm>
          <a:prstGeom prst="line">
            <a:avLst/>
          </a:prstGeom>
          <a:ln w="93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019920" y="2330280"/>
            <a:ext cx="568080" cy="0"/>
          </a:xfrm>
          <a:prstGeom prst="line">
            <a:avLst/>
          </a:prstGeom>
          <a:ln w="93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23880" y="64371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27"/>
          <p:cNvSpPr/>
          <p:nvPr/>
        </p:nvSpPr>
        <p:spPr>
          <a:xfrm>
            <a:off x="0" y="-204840"/>
            <a:ext cx="6122880" cy="7093080"/>
          </a:xfrm>
          <a:custGeom>
            <a:avLst/>
            <a:gdLst>
              <a:gd name="textAreaLeft" fmla="*/ 0 w 6122880"/>
              <a:gd name="textAreaRight" fmla="*/ 6123240 w 612288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7"/>
          <p:cNvSpPr/>
          <p:nvPr/>
        </p:nvSpPr>
        <p:spPr>
          <a:xfrm>
            <a:off x="1714680" y="-204840"/>
            <a:ext cx="6102000" cy="7093080"/>
          </a:xfrm>
          <a:custGeom>
            <a:avLst/>
            <a:gdLst>
              <a:gd name="textAreaLeft" fmla="*/ 0 w 6102000"/>
              <a:gd name="textAreaRight" fmla="*/ 6102360 w 610200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7"/>
          <p:cNvSpPr/>
          <p:nvPr/>
        </p:nvSpPr>
        <p:spPr>
          <a:xfrm>
            <a:off x="3392640" y="-204840"/>
            <a:ext cx="6135480" cy="7093080"/>
          </a:xfrm>
          <a:custGeom>
            <a:avLst/>
            <a:gdLst>
              <a:gd name="textAreaLeft" fmla="*/ 0 w 6135480"/>
              <a:gd name="textAreaRight" fmla="*/ 6135840 w 613548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58840" y="2637000"/>
            <a:ext cx="713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hank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fo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listen</a:t>
            </a:r>
            <a:r>
              <a:rPr b="0" lang="zh-CN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5:51:43Z</dcterms:created>
  <dc:creator>www.pptbz.com</dc:creator>
  <dc:description/>
  <dc:language>en-US</dc:language>
  <cp:lastModifiedBy>a</cp:lastModifiedBy>
  <dcterms:modified xsi:type="dcterms:W3CDTF">2015-07-25T02:13:5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