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CE95-2A67-460B-A530-D482656B596A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1F09-7782-48EC-ABC1-0C012D7758D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3CF1-7F1B-4B96-B61E-07FEEAAF3168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9514-8006-4EC6-80D1-534A6AD738FA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3E17-6239-4126-B27C-9EEA2E32DCBB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DDAE-975D-4F14-9B04-2B535DE3274D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3517-F85A-412C-82A9-EFBFE5C75834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EF54-E964-4D76-9E0B-C0E3C2DA9A83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0EB4-A8F9-43A1-A72A-4DC12E0B22C9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F021-7AF0-4B04-A5E0-009AE98CBE50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F28C-F6FC-48E4-BCE2-A5CD7A7D99DC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B328-19D6-4D5C-965C-0984D225A232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3FA2-C105-43FB-ABCE-4F340363DD48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FD03-0F1C-4173-AF18-8A20CC8AAA98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357B-ADD8-44D3-AE2E-14B9E9760F49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438A-BD1E-42DC-966E-D0DD2D08A2A7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4CE1-F5D5-476C-9CF7-463C71E4C5D5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8086-221E-4515-9E28-1C71FD74AD38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8D1D-FEAF-4CA7-BCA2-101755DA0D2E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BF78-1EE7-4694-8EB6-D7FE8EBE3CE8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A8AD-BB6B-41A4-BB93-2B90732AAB87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A46F-144F-481E-8707-ACEC393F592F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6B64-99FA-44B0-96F5-B230C4470288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661C-2919-41CB-AE23-A5485F11587C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B1E2-A2D3-49E2-8407-1277F1335441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2239-BBCD-4F78-A266-0F41B2D41354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F434-662B-4DC3-A2D4-10EC4A77C54E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D4C3-1C03-42D3-B5BC-EB792960E133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27FA-8E3F-43DC-A276-E0D204A1A121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16D5-A55A-4ABE-AE4A-BECD4EF4E1A6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0596-86C1-41E6-9027-53EA437D9629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9440-0B9C-4957-9F58-0D54FF2428C9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7861-CF7E-4ACC-A3A7-3A5938246BFB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1E24-1798-43B1-8749-9243742B4630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07CD-3F18-498F-A46F-8F3351D7E668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EE5D-7C96-4BF8-8C96-E1868CA6AE58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5A8F-D8DD-46E4-AFCF-48A5370B6424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0B63-755A-4AB8-8C96-589AC1A47470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FB11-B75A-41FB-BD0B-950C3F174CE3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AB58-9298-4371-B617-DEE652BB3758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749B-D0A2-4777-BE25-71D48A03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2A4C-2D24-41F4-B758-C946C016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694FB-360E-47AE-9F90-B4E6EA93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2C6AF-DD32-4A44-AFF3-181234F6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C18B1-EEA1-45B8-9596-BACCB807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5297C-00B7-4A57-8FD5-30634C22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53FE6-0D13-453B-AF9B-D6EF7D34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AEC54-EF89-4B7B-96A5-2FD0190C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2E080-84F4-4525-8E44-105E89F7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FEF4F-89D6-48C9-A8B6-BA293DCB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DBEF1-4EBD-48B4-9CD4-01483A3F5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35ECF6-6D0D-4F95-B9DE-F8528E82D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62E0-6B27-4792-B6DD-BC9F3AC6C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4C96F1-FEEB-4250-9C29-E6E63AC0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77326-3051-41BD-925F-08886CA1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F3533-EECE-4B0E-A392-0DC429E1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7FD6F-AE1B-4E90-9761-C4FDC7DA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07D7A-6AED-43B6-92C8-994C2456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3751A-1978-4976-9DB5-D33EF3FB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8A64C-6BA1-42BA-B3C9-500B2D2B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19752-C0C9-4C0E-A632-DBCADF7D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E2D19-AED2-4025-8D92-D7A8B075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A9F9E-3F74-4CF0-B808-C6180F75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109E-C9C0-4925-B4A8-4D3DC143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FDFD9-7DB7-4D4B-9433-5A0DBB03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113B1-414E-46F1-8801-53DBD4685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5036D-B2E4-4874-B0B2-FA2FA448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C0EE6-5394-4307-ADDF-797EBB82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C7069-5158-4BF7-B4F8-C9945D16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17F05-7819-4683-8248-45FF8EC1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41E15-0F1C-4FCE-BE9B-781AFC45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1FBBA-96C6-47CB-A7F4-AA738F8F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6CB33-BB09-45C7-A4B0-70703867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EBFD2-00A9-4165-B2FA-3D0CE0C7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B8EF-4CEF-485D-8F58-0561CA461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5B1B2-7111-4896-9952-F1A2CCAA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EC88A-1641-4081-B5C5-7E773D97D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4D8A5-1D4A-4237-B7FE-4BDEF0394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AA8C1-8BEC-4448-BCF8-807B5C9D2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04E4A0-9EA2-4D15-9178-A60EB58A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E1809-899F-437B-B286-B5D3734F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3DBA8-6E2C-4CD2-982E-0056B42A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74C174-3C0B-442F-B5B8-A2951366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15209-1564-426A-A572-C8C6F1A6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F5E1A0-5BBB-434F-9156-313A2E4A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662B-0443-421E-B41E-F8631CB8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A19AC-10F3-4D4A-BD3F-9E00055A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8A0DF0-8CB8-4D9D-AA88-C34050BD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47A501-8C29-4B10-A0B5-09B09C50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BA2848-19B4-4A82-8D58-CA5FA1F5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C5C5E2-F221-463A-A730-1C093645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89A9-5924-46E5-BC79-93C8D597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9A05-431A-4147-B737-50B97D50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A972-B627-481E-BC2C-88DC4103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50D6-2E3B-4BC6-99D7-CF24872D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CB6D-9954-43E4-8F1E-70A5DF3A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9197-BEBB-48AA-8446-E732D6D8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54BC-9F6F-4440-8591-FF69E340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E9CF-174A-47AE-BF76-BEAF3608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79C7-36C7-4E32-A176-83C51779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09BC-06D1-4535-9F48-E6CDBB252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6FE3-064F-490F-9BC5-17EF9DE99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6E359-3F45-49EE-920B-360278E2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436A4-BCAF-42FE-9663-26C2273B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19B49-28D8-49F9-B609-4EDD4ECA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F1263-EA40-4CE2-A1EE-2FF3BF78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CF130-E0FC-4026-9164-95950D0B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EB27-223A-4340-BC9F-C98F5C8A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C8FEA-333A-4BD0-918D-7E44DB70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09FCD-ABF4-4B03-9CB3-CF2C841E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5E78A-1A51-4AA6-B599-E0BA0172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48025-84AD-401E-A64E-ED4DD00F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3372E-2129-4EFB-8843-A2136C6B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A12EE-2D86-4E38-9EAB-B66FAA43C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3546D-7831-44D7-BC86-48F68214D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06574-1863-4CA7-B3A9-E38E17BF1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B3103-BF1D-422C-8ABB-68FF4BA1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F0C11-300C-4804-9762-B6D594E9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B3CD-2810-4FB0-8453-651E7A98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80604-1D2C-475A-87CF-5781E0D3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362FA-135C-4752-B597-2601C69C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D369D-9840-4331-AED8-71F8DBA3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3C754-E745-471D-BE76-F00462C0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8857E-173A-4705-97A1-EF99D61C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46A65-36AD-4A13-8223-EDEA7956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36F8B-09A2-42D5-B5A3-86C2D95C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8B7A8-DEBF-4800-9E4C-9C5AE8246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275DD-99E2-40B3-8926-F5FC095CA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3A558-18A1-45BB-9642-053BA8639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22B7-77B8-4556-82E2-82AEF54F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4BF40-DD5B-47E3-A59C-09072797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2FCFE-6BEB-4AA1-A095-89E536AA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B5484-EE7A-4939-A674-F4BD537D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E8E9D-742B-40AC-A7F4-40D8B256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B2DF3-E589-42A8-9E76-E06693AC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07D36-5ECC-49EF-B5E8-10A6F8BD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F27BA-0CD8-4177-B619-1749DB6E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CEAB6-F827-438F-BC0A-E56FAD5D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D06B6-19B1-4502-A78E-B99F918B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59408-A811-47DC-B8C7-DD3A1CBF2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AECA-EF97-4AE5-ADBC-1728D60B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FD313-3C45-4B45-85F5-E3877D17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894A6-AC5E-43DA-A0AB-251E9617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B96FE-1230-4D0B-A117-0CA6103E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5C708-CCB9-4371-8202-8470AD5B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EE807-86D3-45D7-8586-B44D098F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ADACC-2816-44BF-B737-83B2DA11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D0890-F63E-4E0A-93AC-BF12760B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62239-C4BD-4275-A1DA-8C392F1C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90A8E-8517-479C-876B-7AE02063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52980-01BE-4F85-A139-D3F339C5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DDCB-6DC0-4CBB-AA8D-40859165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A6AC4-9A3B-4AE6-B9D8-109393D5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D959E-1DF5-4789-BA23-EFECAB06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05E65-8909-4DB9-BCE7-C63A91D8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C3B54-7AEA-40D3-8F0C-46B99385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D5267-47DD-410F-A0B8-2F224572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8F4FA-C425-4F12-BFBE-13004815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7B1BB-E6C4-441C-81EE-0496D804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E5404-F5CB-445E-AAA3-A1BF4276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FD3C9-008E-4F12-991A-9DF7FF43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ED5FB-992E-4F01-9C34-5D8B33E7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5EAD-3436-4B1D-B55A-3145FE35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82CBA-545D-4EDC-A6B7-85841663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5DC2E-8FF2-43D3-85D5-A77FA9B9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05F3A-792E-4447-B20F-2FB73F5C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1A7AA-826C-429B-916E-544E2032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E7386-A52E-401A-A0C2-D9742346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A35DB-2480-494A-BBCA-730DB53B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DEED3-69E5-4053-86C2-FAD1D20D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BEF20-9770-4F47-B547-B1BC8808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C1178-F2EE-4F18-9487-49498F5C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6C809-27C7-4B85-99C9-61862A9F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A854-8533-49DD-952D-EDC776F7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1814C-8E6A-4572-BA28-4FA14110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B054F-D98A-47A0-80C7-0BC961FC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7E3A4-DD2C-4E84-A6F2-D8AA08E0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C88E2-CE51-4CC6-88BC-EC4D36DD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DF360-8BB3-4CE9-93A4-BB592EAF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72E56-F5EE-4491-B080-10AEAA480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FDBD9-FF46-4AAD-AC2A-6B618412D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CC39D-023A-4888-ABD3-2DB21D0F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CA3EC-C9EF-47DC-AC9B-3EAEFC7A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BA649-E8CC-4BA0-B277-6AC1A1B0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18A5-548A-4A8E-9265-98007B00712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FB72-00AC-4E30-8C86-64EF4AEA962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A516-090D-464E-9AA9-A27B1EF0267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BE00-DB31-42E6-B2E2-CC206221B0F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7914-380E-40EE-8570-97715FA6182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1928-ABF0-4096-B7B0-714E9B9980D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4C3C-1C68-4AE5-83A6-399A72599A4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7744-0F45-4BCC-A5A9-5E6B6D987A9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06EA-0918-45C0-A9D5-0C6646B0C0D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8E6A-5CD5-4398-B14A-2F142579A68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D5A3-A0D2-420A-9A74-F839DD2DDB2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228A-A4D3-495E-92FB-227DE2E9113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B9BD-9467-46C3-8DC3-539B7351C99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02B1-2D95-4DC8-B56C-AEEF7DACA42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5E2C-3EEA-44D9-B617-E4CF9956CF2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E194-673D-46F7-B48E-04E5FDBEA97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52B6-A6B2-4454-96FF-9F9C1C765AD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42DA-2905-4141-A637-882F97DFC0C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7BA8-088E-4861-AEA5-1C04EEBF4C3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1513-B58B-4E23-9DF6-ABC34EC059F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912D-1FB9-42BC-AF37-D62B6031E4B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C170-E82F-42F2-A95D-8A96BC0AA11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635A-357A-48D0-97DC-EC8FB727F15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67C2-22AF-49BB-8C9C-BB192425935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文本框 20"/>
          <p:cNvSpPr/>
          <p:nvPr/>
        </p:nvSpPr>
        <p:spPr>
          <a:xfrm>
            <a:off x="2238480" y="2571840"/>
            <a:ext cx="877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5f6d"/>
                </a:solidFill>
                <a:latin typeface="微软雅黑"/>
                <a:ea typeface="微软雅黑"/>
              </a:rPr>
              <a:t>时尚简约大气商务类总结</a:t>
            </a:r>
            <a:r>
              <a:rPr b="0" lang="en-US" sz="4000" spc="-1" strike="noStrike">
                <a:solidFill>
                  <a:srgbClr val="f25f6d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25f6d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21"/>
          <p:cNvSpPr/>
          <p:nvPr/>
        </p:nvSpPr>
        <p:spPr>
          <a:xfrm>
            <a:off x="2589120" y="3560760"/>
            <a:ext cx="69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5f6d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1"/>
          <p:cNvSpPr/>
          <p:nvPr/>
        </p:nvSpPr>
        <p:spPr>
          <a:xfrm>
            <a:off x="4259160" y="4381560"/>
            <a:ext cx="4240440" cy="1601640"/>
          </a:xfrm>
          <a:custGeom>
            <a:avLst/>
            <a:gdLst>
              <a:gd name="textAreaLeft" fmla="*/ 0 w 4240440"/>
              <a:gd name="textAreaRight" fmla="*/ 4240800 w 4240440"/>
              <a:gd name="textAreaTop" fmla="*/ 0 h 1601640"/>
              <a:gd name="textAreaBottom" fmla="*/ 1602000 h 160164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69"/>
          <p:cNvGrpSpPr/>
          <p:nvPr/>
        </p:nvGrpSpPr>
        <p:grpSpPr>
          <a:xfrm>
            <a:off x="8450640" y="1746000"/>
            <a:ext cx="3671640" cy="4281120"/>
            <a:chOff x="8450640" y="1746000"/>
            <a:chExt cx="3671640" cy="4281120"/>
          </a:xfrm>
        </p:grpSpPr>
        <p:sp>
          <p:nvSpPr>
            <p:cNvPr id="504" name="Rounded Rectangle 70"/>
            <p:cNvSpPr/>
            <p:nvPr/>
          </p:nvSpPr>
          <p:spPr>
            <a:xfrm rot="18600000">
              <a:off x="11467440" y="1962720"/>
              <a:ext cx="681840" cy="247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Isosceles Triangle 12"/>
            <p:cNvSpPr/>
            <p:nvPr/>
          </p:nvSpPr>
          <p:spPr>
            <a:xfrm rot="13200000">
              <a:off x="8571600" y="5757480"/>
              <a:ext cx="65880" cy="2743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ounded Rectangle 72"/>
            <p:cNvSpPr/>
            <p:nvPr/>
          </p:nvSpPr>
          <p:spPr>
            <a:xfrm rot="18600000">
              <a:off x="8629920" y="4531320"/>
              <a:ext cx="1881720" cy="424080"/>
            </a:xfrm>
            <a:prstGeom prst="roundRect">
              <a:avLst>
                <a:gd name="adj" fmla="val 10718"/>
              </a:avLst>
            </a:prstGeom>
            <a:solidFill>
              <a:srgbClr val="f25f6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Isosceles Triangle 24"/>
            <p:cNvSpPr/>
            <p:nvPr/>
          </p:nvSpPr>
          <p:spPr>
            <a:xfrm rot="13200000">
              <a:off x="8584200" y="5416920"/>
              <a:ext cx="376920" cy="55368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d8d8d8"/>
                </a:gs>
                <a:gs pos="100000">
                  <a:srgbClr val="7f7f7f"/>
                </a:gs>
              </a:gsLst>
              <a:lin ang="5400000"/>
            </a:gradFill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74"/>
            <p:cNvSpPr/>
            <p:nvPr/>
          </p:nvSpPr>
          <p:spPr>
            <a:xfrm rot="18600000">
              <a:off x="9682920" y="2767680"/>
              <a:ext cx="2735640" cy="424080"/>
            </a:xfrm>
            <a:custGeom>
              <a:avLst/>
              <a:gdLst>
                <a:gd name="textAreaLeft" fmla="*/ 0 w 2735640"/>
                <a:gd name="textAreaRight" fmla="*/ 2736000 w 273564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f25f6d"/>
            </a:solidFill>
            <a:ln w="12600">
              <a:solidFill>
                <a:srgbClr val="ee0f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75"/>
            <p:cNvSpPr/>
            <p:nvPr/>
          </p:nvSpPr>
          <p:spPr>
            <a:xfrm rot="18600000">
              <a:off x="10134000" y="3832200"/>
              <a:ext cx="47160" cy="424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ounded Rectangle 76"/>
            <p:cNvSpPr/>
            <p:nvPr/>
          </p:nvSpPr>
          <p:spPr>
            <a:xfrm rot="18600000">
              <a:off x="8940600" y="5258880"/>
              <a:ext cx="47160" cy="414360"/>
            </a:xfrm>
            <a:custGeom>
              <a:avLst/>
              <a:gdLst>
                <a:gd name="textAreaLeft" fmla="*/ 5040 w 47160"/>
                <a:gd name="textAreaRight" fmla="*/ 42120 w 47160"/>
                <a:gd name="textAreaTop" fmla="*/ 5040 h 414360"/>
                <a:gd name="textAreaBottom" fmla="*/ 409320 h 414360"/>
              </a:gdLst>
              <a:ahLst/>
              <a:rect l="textAreaLeft" t="textAreaTop" r="textAreaRight" b="textAreaBottom"/>
              <a:pathLst>
                <a:path w="21600" h="188509">
                  <a:moveTo>
                    <a:pt x="7961" y="0"/>
                  </a:moveTo>
                  <a:arcTo wR="7961" hR="7961" stAng="16200000" swAng="-5400000"/>
                  <a:lnTo>
                    <a:pt x="0" y="180548"/>
                  </a:lnTo>
                  <a:arcTo wR="7961" hR="7961" stAng="10800000" swAng="-5400000"/>
                  <a:lnTo>
                    <a:pt x="13639" y="188509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ounded Rectangle 77"/>
            <p:cNvSpPr/>
            <p:nvPr/>
          </p:nvSpPr>
          <p:spPr>
            <a:xfrm rot="18600000">
              <a:off x="11725920" y="1915560"/>
              <a:ext cx="133560" cy="408600"/>
            </a:xfrm>
            <a:custGeom>
              <a:avLst/>
              <a:gdLst>
                <a:gd name="textAreaLeft" fmla="*/ 7560 w 133560"/>
                <a:gd name="textAreaRight" fmla="*/ 126000 w 133560"/>
                <a:gd name="textAreaTop" fmla="*/ 7560 h 408600"/>
                <a:gd name="textAreaBottom" fmla="*/ 401040 h 408600"/>
              </a:gdLst>
              <a:ahLst/>
              <a:rect l="textAreaLeft" t="textAreaTop" r="textAreaRight" b="textAreaBottom"/>
              <a:pathLst>
                <a:path w="21600" h="65961">
                  <a:moveTo>
                    <a:pt x="4279" y="0"/>
                  </a:moveTo>
                  <a:arcTo wR="4279" hR="4279" stAng="16200000" swAng="-5400000"/>
                  <a:lnTo>
                    <a:pt x="0" y="61682"/>
                  </a:lnTo>
                  <a:arcTo wR="4279" hR="4279" stAng="10800000" swAng="-5400000"/>
                  <a:lnTo>
                    <a:pt x="17321" y="65961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ounded Rectangle 78"/>
            <p:cNvSpPr/>
            <p:nvPr/>
          </p:nvSpPr>
          <p:spPr>
            <a:xfrm rot="18600000">
              <a:off x="10679400" y="2503440"/>
              <a:ext cx="1477800" cy="1335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Group 79"/>
            <p:cNvGrpSpPr/>
            <p:nvPr/>
          </p:nvGrpSpPr>
          <p:grpSpPr>
            <a:xfrm>
              <a:off x="11006280" y="2085120"/>
              <a:ext cx="824400" cy="970560"/>
              <a:chOff x="11006280" y="2085120"/>
              <a:chExt cx="824400" cy="970560"/>
            </a:xfrm>
          </p:grpSpPr>
          <p:sp>
            <p:nvSpPr>
              <p:cNvPr id="514" name="Straight Connector 80"/>
              <p:cNvSpPr/>
              <p:nvPr/>
            </p:nvSpPr>
            <p:spPr>
              <a:xfrm flipV="1">
                <a:off x="11040480" y="211392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Straight Connector 81"/>
              <p:cNvSpPr/>
              <p:nvPr/>
            </p:nvSpPr>
            <p:spPr>
              <a:xfrm flipV="1">
                <a:off x="11006280" y="208512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6" name="文本框 2"/>
          <p:cNvSpPr/>
          <p:nvPr/>
        </p:nvSpPr>
        <p:spPr>
          <a:xfrm>
            <a:off x="82440" y="1795320"/>
            <a:ext cx="28339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25f6d"/>
                </a:solidFill>
                <a:latin typeface="Wingdings 2"/>
                <a:ea typeface="Wingdings 2"/>
              </a:rPr>
              <a:t>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A29A-7CB3-45C8-8354-96532C3D0F6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5f6d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f25f6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5f6d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691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f25f6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>
                <a:gd name="textAreaLeft" fmla="*/ 0 w 158040"/>
                <a:gd name="textAreaRight" fmla="*/ 158040 w 15804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d8d8d8"/>
                </a:gs>
                <a:gs pos="100000">
                  <a:srgbClr val="7f7f7f"/>
                </a:gs>
              </a:gsLst>
              <a:lin ang="5400000"/>
            </a:gradFill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f25f6d"/>
            </a:solidFill>
            <a:ln w="12600">
              <a:solidFill>
                <a:srgbClr val="ee0f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0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701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3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>
              <a:gd name="textAreaLeft" fmla="*/ 0 w 1952640"/>
              <a:gd name="textAreaRight" fmla="*/ 1953000 w 195264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f2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矩形 1"/>
          <p:cNvSpPr/>
          <p:nvPr/>
        </p:nvSpPr>
        <p:spPr>
          <a:xfrm>
            <a:off x="0" y="252360"/>
            <a:ext cx="55260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29"/>
          <p:cNvSpPr/>
          <p:nvPr/>
        </p:nvSpPr>
        <p:spPr>
          <a:xfrm>
            <a:off x="773280" y="252360"/>
            <a:ext cx="18864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矩形 2"/>
          <p:cNvSpPr/>
          <p:nvPr/>
        </p:nvSpPr>
        <p:spPr>
          <a:xfrm>
            <a:off x="498960" y="220680"/>
            <a:ext cx="55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5f6d"/>
                </a:solidFill>
                <a:latin typeface="Calibri Light"/>
              </a:rPr>
              <a:t>Add your text in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文本框 23"/>
          <p:cNvSpPr/>
          <p:nvPr/>
        </p:nvSpPr>
        <p:spPr>
          <a:xfrm>
            <a:off x="700200" y="1263600"/>
            <a:ext cx="283356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f25f6d"/>
                </a:solidFill>
                <a:latin typeface="Wingdings 2"/>
                <a:ea typeface="Wingdings 2"/>
              </a:rPr>
              <a:t>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0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E3DD-2C8D-4640-A083-307D104036D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任意多边形 69"/>
          <p:cNvSpPr/>
          <p:nvPr/>
        </p:nvSpPr>
        <p:spPr>
          <a:xfrm>
            <a:off x="6340320" y="2484360"/>
            <a:ext cx="2465640" cy="2125800"/>
          </a:xfrm>
          <a:custGeom>
            <a:avLst/>
            <a:gdLst>
              <a:gd name="textAreaLeft" fmla="*/ 0 w 2465640"/>
              <a:gd name="textAreaRight" fmla="*/ 2466000 w 2465640"/>
              <a:gd name="textAreaTop" fmla="*/ 0 h 2125800"/>
              <a:gd name="textAreaBottom" fmla="*/ 2126160 h 2125800"/>
            </a:gdLst>
            <a:ahLst/>
            <a:rect l="textAreaLeft" t="textAreaTop" r="textAreaRight" b="textAreaBottom"/>
            <a:pathLst>
              <a:path w="2465294" h="2125612">
                <a:moveTo>
                  <a:pt x="2126117" y="643820"/>
                </a:moveTo>
                <a:lnTo>
                  <a:pt x="2203492" y="667839"/>
                </a:lnTo>
                <a:cubicBezTo>
                  <a:pt x="2357342" y="732912"/>
                  <a:pt x="2465294" y="885252"/>
                  <a:pt x="2465294" y="1062806"/>
                </a:cubicBezTo>
                <a:cubicBezTo>
                  <a:pt x="2465294" y="1240360"/>
                  <a:pt x="2357342" y="1392701"/>
                  <a:pt x="2203492" y="1457774"/>
                </a:cubicBezTo>
                <a:lnTo>
                  <a:pt x="2126117" y="1481792"/>
                </a:lnTo>
                <a:lnTo>
                  <a:pt x="2126117" y="643820"/>
                </a:lnTo>
                <a:close/>
                <a:moveTo>
                  <a:pt x="0" y="0"/>
                </a:moveTo>
                <a:lnTo>
                  <a:pt x="2126117" y="0"/>
                </a:lnTo>
                <a:lnTo>
                  <a:pt x="2126117" y="643820"/>
                </a:lnTo>
                <a:lnTo>
                  <a:pt x="2123030" y="642862"/>
                </a:lnTo>
                <a:cubicBezTo>
                  <a:pt x="2095125" y="637152"/>
                  <a:pt x="2066233" y="634153"/>
                  <a:pt x="2036641" y="634153"/>
                </a:cubicBezTo>
                <a:cubicBezTo>
                  <a:pt x="1799902" y="634153"/>
                  <a:pt x="1607988" y="826067"/>
                  <a:pt x="1607988" y="1062806"/>
                </a:cubicBezTo>
                <a:cubicBezTo>
                  <a:pt x="1607988" y="1299545"/>
                  <a:pt x="1799902" y="1491459"/>
                  <a:pt x="2036641" y="1491459"/>
                </a:cubicBezTo>
                <a:cubicBezTo>
                  <a:pt x="2066233" y="1491459"/>
                  <a:pt x="2095125" y="1488460"/>
                  <a:pt x="2123030" y="1482750"/>
                </a:cubicBezTo>
                <a:lnTo>
                  <a:pt x="2126117" y="1481792"/>
                </a:lnTo>
                <a:lnTo>
                  <a:pt x="2126117" y="2125612"/>
                </a:lnTo>
                <a:lnTo>
                  <a:pt x="0" y="2125612"/>
                </a:lnTo>
                <a:lnTo>
                  <a:pt x="0" y="0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任意多边形 68"/>
          <p:cNvSpPr/>
          <p:nvPr/>
        </p:nvSpPr>
        <p:spPr>
          <a:xfrm>
            <a:off x="3003480" y="2484360"/>
            <a:ext cx="2482920" cy="2125800"/>
          </a:xfrm>
          <a:custGeom>
            <a:avLst/>
            <a:gdLst>
              <a:gd name="textAreaLeft" fmla="*/ 0 w 2482920"/>
              <a:gd name="textAreaRight" fmla="*/ 2483280 w 2482920"/>
              <a:gd name="textAreaTop" fmla="*/ 0 h 2125800"/>
              <a:gd name="textAreaBottom" fmla="*/ 2126160 h 212580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组合 38"/>
          <p:cNvGrpSpPr/>
          <p:nvPr/>
        </p:nvGrpSpPr>
        <p:grpSpPr>
          <a:xfrm>
            <a:off x="1295280" y="2116080"/>
            <a:ext cx="1533600" cy="2737800"/>
            <a:chOff x="1295280" y="2116080"/>
            <a:chExt cx="1533600" cy="2737800"/>
          </a:xfrm>
        </p:grpSpPr>
        <p:sp>
          <p:nvSpPr>
            <p:cNvPr id="712" name="文本框 20"/>
            <p:cNvSpPr/>
            <p:nvPr/>
          </p:nvSpPr>
          <p:spPr>
            <a:xfrm>
              <a:off x="1333080" y="26269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文本框 40"/>
            <p:cNvSpPr/>
            <p:nvPr/>
          </p:nvSpPr>
          <p:spPr>
            <a:xfrm>
              <a:off x="1295280" y="2116080"/>
              <a:ext cx="1457640" cy="459720"/>
            </a:xfrm>
            <a:prstGeom prst="rect">
              <a:avLst/>
            </a:prstGeom>
            <a:solidFill>
              <a:srgbClr val="f25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文本框 20"/>
            <p:cNvSpPr/>
            <p:nvPr/>
          </p:nvSpPr>
          <p:spPr>
            <a:xfrm>
              <a:off x="1333080" y="29743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文本框 20"/>
            <p:cNvSpPr/>
            <p:nvPr/>
          </p:nvSpPr>
          <p:spPr>
            <a:xfrm>
              <a:off x="1333080" y="32853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文本框 20"/>
            <p:cNvSpPr/>
            <p:nvPr/>
          </p:nvSpPr>
          <p:spPr>
            <a:xfrm>
              <a:off x="1333080" y="36381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文本框 44"/>
            <p:cNvSpPr/>
            <p:nvPr/>
          </p:nvSpPr>
          <p:spPr>
            <a:xfrm>
              <a:off x="1333080" y="39387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文本框 20"/>
            <p:cNvSpPr/>
            <p:nvPr/>
          </p:nvSpPr>
          <p:spPr>
            <a:xfrm>
              <a:off x="1333080" y="421704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文本框 20"/>
            <p:cNvSpPr/>
            <p:nvPr/>
          </p:nvSpPr>
          <p:spPr>
            <a:xfrm>
              <a:off x="1333080" y="454680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组合 49"/>
          <p:cNvGrpSpPr/>
          <p:nvPr/>
        </p:nvGrpSpPr>
        <p:grpSpPr>
          <a:xfrm>
            <a:off x="9213840" y="2116080"/>
            <a:ext cx="1533600" cy="2737800"/>
            <a:chOff x="9213840" y="2116080"/>
            <a:chExt cx="1533600" cy="2737800"/>
          </a:xfrm>
        </p:grpSpPr>
        <p:sp>
          <p:nvSpPr>
            <p:cNvPr id="721" name="文本框 20"/>
            <p:cNvSpPr/>
            <p:nvPr/>
          </p:nvSpPr>
          <p:spPr>
            <a:xfrm>
              <a:off x="9251640" y="26269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文本框 51"/>
            <p:cNvSpPr/>
            <p:nvPr/>
          </p:nvSpPr>
          <p:spPr>
            <a:xfrm>
              <a:off x="9213840" y="2116080"/>
              <a:ext cx="1457640" cy="4597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文本框 20"/>
            <p:cNvSpPr/>
            <p:nvPr/>
          </p:nvSpPr>
          <p:spPr>
            <a:xfrm>
              <a:off x="9251640" y="29743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文本框 20"/>
            <p:cNvSpPr/>
            <p:nvPr/>
          </p:nvSpPr>
          <p:spPr>
            <a:xfrm>
              <a:off x="9251640" y="32853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文本框 20"/>
            <p:cNvSpPr/>
            <p:nvPr/>
          </p:nvSpPr>
          <p:spPr>
            <a:xfrm>
              <a:off x="9251640" y="36381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文本框 55"/>
            <p:cNvSpPr/>
            <p:nvPr/>
          </p:nvSpPr>
          <p:spPr>
            <a:xfrm>
              <a:off x="9251640" y="39387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文本框 20"/>
            <p:cNvSpPr/>
            <p:nvPr/>
          </p:nvSpPr>
          <p:spPr>
            <a:xfrm>
              <a:off x="9251640" y="421704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文本框 20"/>
            <p:cNvSpPr/>
            <p:nvPr/>
          </p:nvSpPr>
          <p:spPr>
            <a:xfrm>
              <a:off x="9251640" y="454680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Rectangle 8"/>
          <p:cNvSpPr/>
          <p:nvPr/>
        </p:nvSpPr>
        <p:spPr>
          <a:xfrm>
            <a:off x="3567240" y="3071880"/>
            <a:ext cx="20476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marL="114480" indent="-114480"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8"/>
          <p:cNvSpPr/>
          <p:nvPr/>
        </p:nvSpPr>
        <p:spPr>
          <a:xfrm>
            <a:off x="6211800" y="3022560"/>
            <a:ext cx="20480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marL="114480" indent="-114480"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矩形 33"/>
          <p:cNvSpPr/>
          <p:nvPr/>
        </p:nvSpPr>
        <p:spPr>
          <a:xfrm>
            <a:off x="0" y="252360"/>
            <a:ext cx="55260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矩形 34"/>
          <p:cNvSpPr/>
          <p:nvPr/>
        </p:nvSpPr>
        <p:spPr>
          <a:xfrm>
            <a:off x="773280" y="252360"/>
            <a:ext cx="18864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矩形 35"/>
          <p:cNvSpPr/>
          <p:nvPr/>
        </p:nvSpPr>
        <p:spPr>
          <a:xfrm>
            <a:off x="498960" y="220680"/>
            <a:ext cx="55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5f6d"/>
                </a:solidFill>
                <a:latin typeface="Calibri Light"/>
              </a:rPr>
              <a:t>Add your text in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1BD2-82B9-4A3E-830D-FBE872237D2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任意多边形 7"/>
          <p:cNvSpPr/>
          <p:nvPr/>
        </p:nvSpPr>
        <p:spPr>
          <a:xfrm>
            <a:off x="3021120" y="1325520"/>
            <a:ext cx="2889000" cy="2324160"/>
          </a:xfrm>
          <a:custGeom>
            <a:avLst/>
            <a:gdLst>
              <a:gd name="textAreaLeft" fmla="*/ 0 w 2889000"/>
              <a:gd name="textAreaRight" fmla="*/ 2889360 w 2889000"/>
              <a:gd name="textAreaTop" fmla="*/ 0 h 2324160"/>
              <a:gd name="textAreaBottom" fmla="*/ 2324520 h 232416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任意多边形 8"/>
          <p:cNvSpPr/>
          <p:nvPr/>
        </p:nvSpPr>
        <p:spPr>
          <a:xfrm>
            <a:off x="3021120" y="3895560"/>
            <a:ext cx="2889000" cy="2325960"/>
          </a:xfrm>
          <a:custGeom>
            <a:avLst/>
            <a:gdLst>
              <a:gd name="textAreaLeft" fmla="*/ 0 w 2889000"/>
              <a:gd name="textAreaRight" fmla="*/ 2889360 w 2889000"/>
              <a:gd name="textAreaTop" fmla="*/ 0 h 2325960"/>
              <a:gd name="textAreaBottom" fmla="*/ 2326320 h 232596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任意多边形 9"/>
          <p:cNvSpPr/>
          <p:nvPr/>
        </p:nvSpPr>
        <p:spPr>
          <a:xfrm rot="10800000">
            <a:off x="6225840" y="1325160"/>
            <a:ext cx="2917800" cy="2324160"/>
          </a:xfrm>
          <a:custGeom>
            <a:avLst/>
            <a:gdLst>
              <a:gd name="textAreaLeft" fmla="*/ 0 w 2917800"/>
              <a:gd name="textAreaRight" fmla="*/ 2918160 w 2917800"/>
              <a:gd name="textAreaTop" fmla="*/ 0 h 2324160"/>
              <a:gd name="textAreaBottom" fmla="*/ 2324520 h 232416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任意多边形 10"/>
          <p:cNvSpPr/>
          <p:nvPr/>
        </p:nvSpPr>
        <p:spPr>
          <a:xfrm rot="10800000">
            <a:off x="6225840" y="3895200"/>
            <a:ext cx="2917800" cy="2325960"/>
          </a:xfrm>
          <a:custGeom>
            <a:avLst/>
            <a:gdLst>
              <a:gd name="textAreaLeft" fmla="*/ 0 w 2917800"/>
              <a:gd name="textAreaRight" fmla="*/ 2918160 w 2917800"/>
              <a:gd name="textAreaTop" fmla="*/ 0 h 2325960"/>
              <a:gd name="textAreaBottom" fmla="*/ 2326320 h 232596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组合 11"/>
          <p:cNvGrpSpPr/>
          <p:nvPr/>
        </p:nvGrpSpPr>
        <p:grpSpPr>
          <a:xfrm>
            <a:off x="4416480" y="2041560"/>
            <a:ext cx="1495440" cy="691920"/>
            <a:chOff x="4416480" y="2041560"/>
            <a:chExt cx="1495440" cy="691920"/>
          </a:xfrm>
        </p:grpSpPr>
        <p:sp>
          <p:nvSpPr>
            <p:cNvPr id="740" name="文本框 12"/>
            <p:cNvSpPr/>
            <p:nvPr/>
          </p:nvSpPr>
          <p:spPr>
            <a:xfrm>
              <a:off x="4416480" y="242640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文本框 20"/>
            <p:cNvSpPr/>
            <p:nvPr/>
          </p:nvSpPr>
          <p:spPr>
            <a:xfrm>
              <a:off x="4416480" y="204156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组合 14"/>
          <p:cNvGrpSpPr/>
          <p:nvPr/>
        </p:nvGrpSpPr>
        <p:grpSpPr>
          <a:xfrm>
            <a:off x="6527880" y="2041560"/>
            <a:ext cx="1757160" cy="729000"/>
            <a:chOff x="6527880" y="2041560"/>
            <a:chExt cx="1757160" cy="729000"/>
          </a:xfrm>
        </p:grpSpPr>
        <p:sp>
          <p:nvSpPr>
            <p:cNvPr id="743" name="文本框 15"/>
            <p:cNvSpPr/>
            <p:nvPr/>
          </p:nvSpPr>
          <p:spPr>
            <a:xfrm>
              <a:off x="6527880" y="2463480"/>
              <a:ext cx="1757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文本框 20"/>
            <p:cNvSpPr/>
            <p:nvPr/>
          </p:nvSpPr>
          <p:spPr>
            <a:xfrm>
              <a:off x="6527880" y="2041560"/>
              <a:ext cx="1455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组合 17"/>
          <p:cNvGrpSpPr/>
          <p:nvPr/>
        </p:nvGrpSpPr>
        <p:grpSpPr>
          <a:xfrm>
            <a:off x="4321080" y="4630680"/>
            <a:ext cx="1495440" cy="691920"/>
            <a:chOff x="4321080" y="4630680"/>
            <a:chExt cx="1495440" cy="691920"/>
          </a:xfrm>
        </p:grpSpPr>
        <p:sp>
          <p:nvSpPr>
            <p:cNvPr id="746" name="文本框 18"/>
            <p:cNvSpPr/>
            <p:nvPr/>
          </p:nvSpPr>
          <p:spPr>
            <a:xfrm>
              <a:off x="4321080" y="501552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文本框 20"/>
            <p:cNvSpPr/>
            <p:nvPr/>
          </p:nvSpPr>
          <p:spPr>
            <a:xfrm>
              <a:off x="4321080" y="463068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组合 20"/>
          <p:cNvGrpSpPr/>
          <p:nvPr/>
        </p:nvGrpSpPr>
        <p:grpSpPr>
          <a:xfrm>
            <a:off x="6434280" y="4630680"/>
            <a:ext cx="1757160" cy="728280"/>
            <a:chOff x="6434280" y="4630680"/>
            <a:chExt cx="1757160" cy="728280"/>
          </a:xfrm>
        </p:grpSpPr>
        <p:sp>
          <p:nvSpPr>
            <p:cNvPr id="749" name="文本框 21"/>
            <p:cNvSpPr/>
            <p:nvPr/>
          </p:nvSpPr>
          <p:spPr>
            <a:xfrm>
              <a:off x="6434280" y="5051880"/>
              <a:ext cx="1757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文本框 20"/>
            <p:cNvSpPr/>
            <p:nvPr/>
          </p:nvSpPr>
          <p:spPr>
            <a:xfrm>
              <a:off x="6434280" y="4630680"/>
              <a:ext cx="1455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菱形 1"/>
          <p:cNvSpPr/>
          <p:nvPr/>
        </p:nvSpPr>
        <p:spPr>
          <a:xfrm>
            <a:off x="5524560" y="3308400"/>
            <a:ext cx="1066680" cy="106524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矩形 28"/>
          <p:cNvSpPr/>
          <p:nvPr/>
        </p:nvSpPr>
        <p:spPr>
          <a:xfrm>
            <a:off x="0" y="252360"/>
            <a:ext cx="55260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矩形 29"/>
          <p:cNvSpPr/>
          <p:nvPr/>
        </p:nvSpPr>
        <p:spPr>
          <a:xfrm>
            <a:off x="773280" y="252360"/>
            <a:ext cx="18864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30"/>
          <p:cNvSpPr/>
          <p:nvPr/>
        </p:nvSpPr>
        <p:spPr>
          <a:xfrm>
            <a:off x="498960" y="220680"/>
            <a:ext cx="55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5f6d"/>
                </a:solidFill>
                <a:latin typeface="Calibri Light"/>
              </a:rPr>
              <a:t>Add your text in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1"/>
          <p:cNvSpPr/>
          <p:nvPr/>
        </p:nvSpPr>
        <p:spPr>
          <a:xfrm>
            <a:off x="795240" y="1979640"/>
            <a:ext cx="192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5f6d"/>
                </a:solidFill>
                <a:latin typeface="Arial"/>
              </a:rPr>
              <a:t>This is a sample text. Insert your desired text here</a:t>
            </a:r>
            <a:r>
              <a:rPr b="0" lang="en-US" sz="1800" spc="-1" strike="noStrike">
                <a:solidFill>
                  <a:srgbClr val="ee0f6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23"/>
          <p:cNvSpPr/>
          <p:nvPr/>
        </p:nvSpPr>
        <p:spPr>
          <a:xfrm>
            <a:off x="747720" y="4551480"/>
            <a:ext cx="192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5f6d"/>
                </a:solidFill>
                <a:latin typeface="Arial"/>
              </a:rPr>
              <a:t>This is a sample text. Insert your desired text he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矩形 24"/>
          <p:cNvSpPr/>
          <p:nvPr/>
        </p:nvSpPr>
        <p:spPr>
          <a:xfrm>
            <a:off x="9460080" y="1955880"/>
            <a:ext cx="192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5f6d"/>
                </a:solidFill>
                <a:latin typeface="Arial"/>
              </a:rPr>
              <a:t>This is a sample text. Insert your desired text he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矩形 25"/>
          <p:cNvSpPr/>
          <p:nvPr/>
        </p:nvSpPr>
        <p:spPr>
          <a:xfrm>
            <a:off x="9460080" y="4584600"/>
            <a:ext cx="192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5f6d"/>
                </a:solidFill>
                <a:latin typeface="Arial"/>
              </a:rPr>
              <a:t>This is a sample text. Insert your desired text he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3158-D338-4ACF-A1C3-D50684B7338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直接连接符 7"/>
          <p:cNvSpPr/>
          <p:nvPr/>
        </p:nvSpPr>
        <p:spPr>
          <a:xfrm flipV="1">
            <a:off x="0" y="4797000"/>
            <a:ext cx="1830240" cy="148932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直接连接符 8"/>
          <p:cNvSpPr/>
          <p:nvPr/>
        </p:nvSpPr>
        <p:spPr>
          <a:xfrm flipH="1" flipV="1">
            <a:off x="1941120" y="4887720"/>
            <a:ext cx="1157400" cy="62388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直接连接符 12"/>
          <p:cNvSpPr/>
          <p:nvPr/>
        </p:nvSpPr>
        <p:spPr>
          <a:xfrm flipH="1">
            <a:off x="3207960" y="3705120"/>
            <a:ext cx="2259000" cy="180684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直接连接符 13"/>
          <p:cNvSpPr/>
          <p:nvPr/>
        </p:nvSpPr>
        <p:spPr>
          <a:xfrm flipH="1" flipV="1">
            <a:off x="5578200" y="3705120"/>
            <a:ext cx="1517400" cy="100008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接连接符 14"/>
          <p:cNvSpPr/>
          <p:nvPr/>
        </p:nvSpPr>
        <p:spPr>
          <a:xfrm flipH="1">
            <a:off x="7207200" y="2454120"/>
            <a:ext cx="1790640" cy="225108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直接连接符 15"/>
          <p:cNvSpPr/>
          <p:nvPr/>
        </p:nvSpPr>
        <p:spPr>
          <a:xfrm flipH="1">
            <a:off x="9069480" y="1476360"/>
            <a:ext cx="3122640" cy="93996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组合 28"/>
          <p:cNvGrpSpPr/>
          <p:nvPr/>
        </p:nvGrpSpPr>
        <p:grpSpPr>
          <a:xfrm>
            <a:off x="1030320" y="3274920"/>
            <a:ext cx="1881000" cy="1094040"/>
            <a:chOff x="1030320" y="3274920"/>
            <a:chExt cx="1881000" cy="1094040"/>
          </a:xfrm>
        </p:grpSpPr>
        <p:sp>
          <p:nvSpPr>
            <p:cNvPr id="767" name="文本框 29"/>
            <p:cNvSpPr/>
            <p:nvPr/>
          </p:nvSpPr>
          <p:spPr>
            <a:xfrm>
              <a:off x="1030320" y="3274920"/>
              <a:ext cx="188100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5f6d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文本框 30"/>
            <p:cNvSpPr/>
            <p:nvPr/>
          </p:nvSpPr>
          <p:spPr>
            <a:xfrm>
              <a:off x="1030320" y="4031640"/>
              <a:ext cx="162540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组合 5"/>
          <p:cNvGrpSpPr/>
          <p:nvPr/>
        </p:nvGrpSpPr>
        <p:grpSpPr>
          <a:xfrm>
            <a:off x="4670280" y="2171880"/>
            <a:ext cx="1881360" cy="1141560"/>
            <a:chOff x="4670280" y="2171880"/>
            <a:chExt cx="1881360" cy="1141560"/>
          </a:xfrm>
        </p:grpSpPr>
        <p:sp>
          <p:nvSpPr>
            <p:cNvPr id="770" name="文本框 31"/>
            <p:cNvSpPr/>
            <p:nvPr/>
          </p:nvSpPr>
          <p:spPr>
            <a:xfrm>
              <a:off x="4670280" y="217188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5f6d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文本框 35"/>
            <p:cNvSpPr/>
            <p:nvPr/>
          </p:nvSpPr>
          <p:spPr>
            <a:xfrm>
              <a:off x="4670280" y="297612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组合 9"/>
          <p:cNvGrpSpPr/>
          <p:nvPr/>
        </p:nvGrpSpPr>
        <p:grpSpPr>
          <a:xfrm>
            <a:off x="8118360" y="1028880"/>
            <a:ext cx="1908360" cy="1065240"/>
            <a:chOff x="8118360" y="1028880"/>
            <a:chExt cx="1908360" cy="1065240"/>
          </a:xfrm>
        </p:grpSpPr>
        <p:sp>
          <p:nvSpPr>
            <p:cNvPr id="773" name="文本框 32"/>
            <p:cNvSpPr/>
            <p:nvPr/>
          </p:nvSpPr>
          <p:spPr>
            <a:xfrm>
              <a:off x="8145360" y="102888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5f6d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文本框 36"/>
            <p:cNvSpPr/>
            <p:nvPr/>
          </p:nvSpPr>
          <p:spPr>
            <a:xfrm>
              <a:off x="8118360" y="175680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组合 4"/>
          <p:cNvGrpSpPr/>
          <p:nvPr/>
        </p:nvGrpSpPr>
        <p:grpSpPr>
          <a:xfrm>
            <a:off x="7350120" y="4484520"/>
            <a:ext cx="1881360" cy="1124280"/>
            <a:chOff x="7350120" y="4484520"/>
            <a:chExt cx="1881360" cy="1124280"/>
          </a:xfrm>
        </p:grpSpPr>
        <p:sp>
          <p:nvSpPr>
            <p:cNvPr id="776" name="文本框 33"/>
            <p:cNvSpPr/>
            <p:nvPr/>
          </p:nvSpPr>
          <p:spPr>
            <a:xfrm>
              <a:off x="7350120" y="448452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5f6d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文本框 37"/>
            <p:cNvSpPr/>
            <p:nvPr/>
          </p:nvSpPr>
          <p:spPr>
            <a:xfrm>
              <a:off x="7404120" y="527148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组合 1"/>
          <p:cNvGrpSpPr/>
          <p:nvPr/>
        </p:nvGrpSpPr>
        <p:grpSpPr>
          <a:xfrm>
            <a:off x="3425760" y="5043600"/>
            <a:ext cx="1879560" cy="1119600"/>
            <a:chOff x="3425760" y="5043600"/>
            <a:chExt cx="1879560" cy="1119600"/>
          </a:xfrm>
        </p:grpSpPr>
        <p:sp>
          <p:nvSpPr>
            <p:cNvPr id="779" name="文本框 34"/>
            <p:cNvSpPr/>
            <p:nvPr/>
          </p:nvSpPr>
          <p:spPr>
            <a:xfrm>
              <a:off x="3425760" y="5043600"/>
              <a:ext cx="18795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5f6d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文本框 38"/>
            <p:cNvSpPr/>
            <p:nvPr/>
          </p:nvSpPr>
          <p:spPr>
            <a:xfrm>
              <a:off x="3425760" y="5825880"/>
              <a:ext cx="162432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组合 3"/>
          <p:cNvGrpSpPr/>
          <p:nvPr/>
        </p:nvGrpSpPr>
        <p:grpSpPr>
          <a:xfrm>
            <a:off x="1596960" y="4608360"/>
            <a:ext cx="531720" cy="532080"/>
            <a:chOff x="1596960" y="4608360"/>
            <a:chExt cx="531720" cy="532080"/>
          </a:xfrm>
        </p:grpSpPr>
        <p:sp>
          <p:nvSpPr>
            <p:cNvPr id="782" name="椭圆 2"/>
            <p:cNvSpPr/>
            <p:nvPr/>
          </p:nvSpPr>
          <p:spPr>
            <a:xfrm>
              <a:off x="1596960" y="4608360"/>
              <a:ext cx="531720" cy="532080"/>
            </a:xfrm>
            <a:prstGeom prst="ellipse">
              <a:avLst/>
            </a:prstGeom>
            <a:solidFill>
              <a:srgbClr val="f25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椭圆 40"/>
            <p:cNvSpPr/>
            <p:nvPr/>
          </p:nvSpPr>
          <p:spPr>
            <a:xfrm>
              <a:off x="1726920" y="4738680"/>
              <a:ext cx="27324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组合 43"/>
          <p:cNvGrpSpPr/>
          <p:nvPr/>
        </p:nvGrpSpPr>
        <p:grpSpPr>
          <a:xfrm>
            <a:off x="2894040" y="5186520"/>
            <a:ext cx="531720" cy="529920"/>
            <a:chOff x="2894040" y="5186520"/>
            <a:chExt cx="531720" cy="529920"/>
          </a:xfrm>
        </p:grpSpPr>
        <p:sp>
          <p:nvSpPr>
            <p:cNvPr id="785" name="椭圆 44"/>
            <p:cNvSpPr/>
            <p:nvPr/>
          </p:nvSpPr>
          <p:spPr>
            <a:xfrm>
              <a:off x="2894040" y="5186520"/>
              <a:ext cx="531720" cy="529920"/>
            </a:xfrm>
            <a:prstGeom prst="ellipse">
              <a:avLst/>
            </a:prstGeom>
            <a:solidFill>
              <a:srgbClr val="f25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椭圆 45"/>
            <p:cNvSpPr/>
            <p:nvPr/>
          </p:nvSpPr>
          <p:spPr>
            <a:xfrm>
              <a:off x="3024000" y="5316480"/>
              <a:ext cx="273240" cy="27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组合 46"/>
          <p:cNvGrpSpPr/>
          <p:nvPr/>
        </p:nvGrpSpPr>
        <p:grpSpPr>
          <a:xfrm>
            <a:off x="5275440" y="3500280"/>
            <a:ext cx="529920" cy="532080"/>
            <a:chOff x="5275440" y="3500280"/>
            <a:chExt cx="529920" cy="532080"/>
          </a:xfrm>
        </p:grpSpPr>
        <p:sp>
          <p:nvSpPr>
            <p:cNvPr id="788" name="椭圆 47"/>
            <p:cNvSpPr/>
            <p:nvPr/>
          </p:nvSpPr>
          <p:spPr>
            <a:xfrm>
              <a:off x="5275440" y="3500280"/>
              <a:ext cx="529920" cy="532080"/>
            </a:xfrm>
            <a:prstGeom prst="ellipse">
              <a:avLst/>
            </a:prstGeom>
            <a:solidFill>
              <a:srgbClr val="f25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椭圆 48"/>
            <p:cNvSpPr/>
            <p:nvPr/>
          </p:nvSpPr>
          <p:spPr>
            <a:xfrm>
              <a:off x="5405040" y="3630600"/>
              <a:ext cx="27216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组合 49"/>
          <p:cNvGrpSpPr/>
          <p:nvPr/>
        </p:nvGrpSpPr>
        <p:grpSpPr>
          <a:xfrm>
            <a:off x="6900840" y="4330800"/>
            <a:ext cx="530280" cy="530280"/>
            <a:chOff x="6900840" y="4330800"/>
            <a:chExt cx="530280" cy="530280"/>
          </a:xfrm>
        </p:grpSpPr>
        <p:sp>
          <p:nvSpPr>
            <p:cNvPr id="791" name="椭圆 50"/>
            <p:cNvSpPr/>
            <p:nvPr/>
          </p:nvSpPr>
          <p:spPr>
            <a:xfrm>
              <a:off x="6900840" y="4330800"/>
              <a:ext cx="530280" cy="530280"/>
            </a:xfrm>
            <a:prstGeom prst="ellipse">
              <a:avLst/>
            </a:prstGeom>
            <a:solidFill>
              <a:srgbClr val="f25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椭圆 51"/>
            <p:cNvSpPr/>
            <p:nvPr/>
          </p:nvSpPr>
          <p:spPr>
            <a:xfrm>
              <a:off x="7030440" y="4460760"/>
              <a:ext cx="272160" cy="27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组合 52"/>
          <p:cNvGrpSpPr/>
          <p:nvPr/>
        </p:nvGrpSpPr>
        <p:grpSpPr>
          <a:xfrm>
            <a:off x="8804160" y="2151000"/>
            <a:ext cx="530280" cy="531720"/>
            <a:chOff x="8804160" y="2151000"/>
            <a:chExt cx="530280" cy="531720"/>
          </a:xfrm>
        </p:grpSpPr>
        <p:sp>
          <p:nvSpPr>
            <p:cNvPr id="794" name="椭圆 53"/>
            <p:cNvSpPr/>
            <p:nvPr/>
          </p:nvSpPr>
          <p:spPr>
            <a:xfrm>
              <a:off x="8804160" y="2151000"/>
              <a:ext cx="530280" cy="531720"/>
            </a:xfrm>
            <a:prstGeom prst="ellipse">
              <a:avLst/>
            </a:prstGeom>
            <a:solidFill>
              <a:srgbClr val="f25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椭圆 54"/>
            <p:cNvSpPr/>
            <p:nvPr/>
          </p:nvSpPr>
          <p:spPr>
            <a:xfrm>
              <a:off x="8933760" y="2281320"/>
              <a:ext cx="27216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矩形 47"/>
          <p:cNvSpPr/>
          <p:nvPr/>
        </p:nvSpPr>
        <p:spPr>
          <a:xfrm>
            <a:off x="0" y="252360"/>
            <a:ext cx="55260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8"/>
          <p:cNvSpPr/>
          <p:nvPr/>
        </p:nvSpPr>
        <p:spPr>
          <a:xfrm>
            <a:off x="773280" y="252360"/>
            <a:ext cx="18864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9"/>
          <p:cNvSpPr/>
          <p:nvPr/>
        </p:nvSpPr>
        <p:spPr>
          <a:xfrm>
            <a:off x="498960" y="220680"/>
            <a:ext cx="55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5f6d"/>
                </a:solidFill>
                <a:latin typeface="Calibri Light"/>
              </a:rPr>
              <a:t>Add your text in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A574-4599-4A7C-BC46-439CD5A2BAB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Group 24"/>
          <p:cNvGrpSpPr/>
          <p:nvPr/>
        </p:nvGrpSpPr>
        <p:grpSpPr>
          <a:xfrm>
            <a:off x="901800" y="1584000"/>
            <a:ext cx="7416360" cy="4003560"/>
            <a:chOff x="901800" y="1584000"/>
            <a:chExt cx="7416360" cy="4003560"/>
          </a:xfrm>
        </p:grpSpPr>
        <p:sp>
          <p:nvSpPr>
            <p:cNvPr id="801" name="Oval 4"/>
            <p:cNvSpPr/>
            <p:nvPr/>
          </p:nvSpPr>
          <p:spPr>
            <a:xfrm>
              <a:off x="901800" y="3510360"/>
              <a:ext cx="1361880" cy="1282320"/>
            </a:xfrm>
            <a:prstGeom prst="ellipse">
              <a:avLst/>
            </a:prstGeom>
            <a:solidFill>
              <a:srgbClr val="f25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5"/>
            <p:cNvSpPr/>
            <p:nvPr/>
          </p:nvSpPr>
          <p:spPr>
            <a:xfrm>
              <a:off x="993600" y="3597840"/>
              <a:ext cx="1179360" cy="111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6"/>
            <p:cNvSpPr/>
            <p:nvPr/>
          </p:nvSpPr>
          <p:spPr>
            <a:xfrm>
              <a:off x="3690720" y="3799080"/>
              <a:ext cx="1899720" cy="1788480"/>
            </a:xfrm>
            <a:prstGeom prst="ellipse">
              <a:avLst/>
            </a:prstGeom>
            <a:solidFill>
              <a:srgbClr val="f25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7"/>
            <p:cNvSpPr/>
            <p:nvPr/>
          </p:nvSpPr>
          <p:spPr>
            <a:xfrm>
              <a:off x="3818880" y="3922560"/>
              <a:ext cx="1645560" cy="1548360"/>
            </a:xfrm>
            <a:prstGeom prst="ellipse">
              <a:avLst/>
            </a:prstGeom>
            <a:solidFill>
              <a:srgbClr val="f25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8"/>
            <p:cNvSpPr/>
            <p:nvPr/>
          </p:nvSpPr>
          <p:spPr>
            <a:xfrm>
              <a:off x="3840480" y="2845080"/>
              <a:ext cx="799920" cy="754200"/>
            </a:xfrm>
            <a:prstGeom prst="ellipse">
              <a:avLst/>
            </a:prstGeom>
            <a:solidFill>
              <a:srgbClr val="f25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9"/>
            <p:cNvSpPr/>
            <p:nvPr/>
          </p:nvSpPr>
          <p:spPr>
            <a:xfrm>
              <a:off x="3894840" y="2897280"/>
              <a:ext cx="693000" cy="651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7" name="AutoShape 10"/>
            <p:cNvCxnSpPr>
              <a:stCxn id="801" idx="0"/>
            </p:cNvCxnSpPr>
            <p:nvPr/>
          </p:nvCxnSpPr>
          <p:spPr>
            <a:xfrm flipV="1">
              <a:off x="1582560" y="1584000"/>
              <a:ext cx="1127160" cy="19267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808" name="AutoShape 11"/>
            <p:cNvCxnSpPr>
              <a:stCxn id="801" idx="7"/>
              <a:endCxn id="805" idx="2"/>
            </p:cNvCxnSpPr>
            <p:nvPr/>
          </p:nvCxnSpPr>
          <p:spPr>
            <a:xfrm flipV="1">
              <a:off x="2063160" y="3220920"/>
              <a:ext cx="1777320" cy="4777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809" name="AutoShape 12"/>
            <p:cNvCxnSpPr>
              <a:stCxn id="801" idx="5"/>
              <a:endCxn id="803" idx="2"/>
            </p:cNvCxnSpPr>
            <p:nvPr/>
          </p:nvCxnSpPr>
          <p:spPr>
            <a:xfrm>
              <a:off x="2063160" y="4604400"/>
              <a:ext cx="1627560" cy="892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810" name="AutoShape 13"/>
            <p:cNvCxnSpPr>
              <a:stCxn id="805" idx="6"/>
              <a:endCxn id="811" idx="2"/>
            </p:cNvCxnSpPr>
            <p:nvPr/>
          </p:nvCxnSpPr>
          <p:spPr>
            <a:xfrm>
              <a:off x="4640400" y="3221280"/>
              <a:ext cx="2727000" cy="18900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812" name="AutoShape 14"/>
            <p:cNvCxnSpPr>
              <a:stCxn id="803" idx="6"/>
              <a:endCxn id="811" idx="3"/>
            </p:cNvCxnSpPr>
            <p:nvPr/>
          </p:nvCxnSpPr>
          <p:spPr>
            <a:xfrm flipV="1">
              <a:off x="5590440" y="3726000"/>
              <a:ext cx="1916640" cy="9673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813" name="AutoShape 15"/>
            <p:cNvCxnSpPr>
              <a:stCxn id="803" idx="1"/>
            </p:cNvCxnSpPr>
            <p:nvPr/>
          </p:nvCxnSpPr>
          <p:spPr>
            <a:xfrm flipH="1" flipV="1">
              <a:off x="3282120" y="2903040"/>
              <a:ext cx="686880" cy="11584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814" name="AutoShape 16"/>
            <p:cNvCxnSpPr>
              <a:stCxn id="805" idx="1"/>
            </p:cNvCxnSpPr>
            <p:nvPr/>
          </p:nvCxnSpPr>
          <p:spPr>
            <a:xfrm flipH="1" flipV="1">
              <a:off x="2134440" y="1807920"/>
              <a:ext cx="1823400" cy="114804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815" name="AutoShape 17"/>
            <p:cNvCxnSpPr>
              <a:stCxn id="816" idx="1"/>
            </p:cNvCxnSpPr>
            <p:nvPr/>
          </p:nvCxnSpPr>
          <p:spPr>
            <a:xfrm flipH="1" flipV="1">
              <a:off x="3529080" y="2356200"/>
              <a:ext cx="4023000" cy="7804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sp>
          <p:nvSpPr>
            <p:cNvPr id="811" name="Oval 22"/>
            <p:cNvSpPr/>
            <p:nvPr/>
          </p:nvSpPr>
          <p:spPr>
            <a:xfrm>
              <a:off x="7367400" y="2962080"/>
              <a:ext cx="950760" cy="895320"/>
            </a:xfrm>
            <a:prstGeom prst="ellipse">
              <a:avLst/>
            </a:prstGeom>
            <a:solidFill>
              <a:srgbClr val="f25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23"/>
            <p:cNvSpPr/>
            <p:nvPr/>
          </p:nvSpPr>
          <p:spPr>
            <a:xfrm>
              <a:off x="7431840" y="3022920"/>
              <a:ext cx="822960" cy="775800"/>
            </a:xfrm>
            <a:prstGeom prst="ellipse">
              <a:avLst/>
            </a:prstGeom>
            <a:solidFill>
              <a:srgbClr val="f25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文本框 111"/>
          <p:cNvSpPr/>
          <p:nvPr/>
        </p:nvSpPr>
        <p:spPr>
          <a:xfrm>
            <a:off x="7893000" y="4995720"/>
            <a:ext cx="4253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5f6d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文本框 113"/>
          <p:cNvSpPr/>
          <p:nvPr/>
        </p:nvSpPr>
        <p:spPr>
          <a:xfrm>
            <a:off x="7878240" y="439596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5f6d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矩形 33"/>
          <p:cNvSpPr/>
          <p:nvPr/>
        </p:nvSpPr>
        <p:spPr>
          <a:xfrm>
            <a:off x="0" y="252360"/>
            <a:ext cx="55260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34"/>
          <p:cNvSpPr/>
          <p:nvPr/>
        </p:nvSpPr>
        <p:spPr>
          <a:xfrm>
            <a:off x="773280" y="252360"/>
            <a:ext cx="18864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矩形 35"/>
          <p:cNvSpPr/>
          <p:nvPr/>
        </p:nvSpPr>
        <p:spPr>
          <a:xfrm>
            <a:off x="498960" y="220680"/>
            <a:ext cx="55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5f6d"/>
                </a:solidFill>
                <a:latin typeface="Calibri Light"/>
              </a:rPr>
              <a:t>Add your text in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6"/>
          <p:cNvSpPr/>
          <p:nvPr/>
        </p:nvSpPr>
        <p:spPr>
          <a:xfrm>
            <a:off x="1630440" y="1371600"/>
            <a:ext cx="1898640" cy="1789200"/>
          </a:xfrm>
          <a:prstGeom prst="ellipse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0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DC57-27AE-4DB1-A8CC-81704A591D0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5f6d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f25f6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5f6d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828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f25f6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>
                <a:gd name="textAreaLeft" fmla="*/ 0 w 158040"/>
                <a:gd name="textAreaRight" fmla="*/ 158040 w 15804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d8d8d8"/>
                </a:gs>
                <a:gs pos="100000">
                  <a:srgbClr val="7f7f7f"/>
                </a:gs>
              </a:gsLst>
              <a:lin ang="5400000"/>
            </a:gradFill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f25f6d"/>
            </a:solidFill>
            <a:ln w="12600">
              <a:solidFill>
                <a:srgbClr val="ee0f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7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838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0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>
              <a:gd name="textAreaLeft" fmla="*/ 0 w 1952640"/>
              <a:gd name="textAreaRight" fmla="*/ 1953000 w 195264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f2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矩形 1"/>
          <p:cNvSpPr/>
          <p:nvPr/>
        </p:nvSpPr>
        <p:spPr>
          <a:xfrm>
            <a:off x="0" y="252360"/>
            <a:ext cx="55260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矩形 29"/>
          <p:cNvSpPr/>
          <p:nvPr/>
        </p:nvSpPr>
        <p:spPr>
          <a:xfrm>
            <a:off x="773280" y="252360"/>
            <a:ext cx="18864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矩形 2"/>
          <p:cNvSpPr/>
          <p:nvPr/>
        </p:nvSpPr>
        <p:spPr>
          <a:xfrm>
            <a:off x="498960" y="220680"/>
            <a:ext cx="55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5f6d"/>
                </a:solidFill>
                <a:latin typeface="Calibri Light"/>
              </a:rPr>
              <a:t>Add your text in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文本框 23"/>
          <p:cNvSpPr/>
          <p:nvPr/>
        </p:nvSpPr>
        <p:spPr>
          <a:xfrm>
            <a:off x="700200" y="1263600"/>
            <a:ext cx="283356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f25f6d"/>
                </a:solidFill>
                <a:latin typeface="Wingdings 2"/>
                <a:ea typeface="Wingdings 2"/>
              </a:rPr>
              <a:t>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0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839A-3C8D-4C6A-85A0-16F0C813C07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Group 3"/>
          <p:cNvGrpSpPr/>
          <p:nvPr/>
        </p:nvGrpSpPr>
        <p:grpSpPr>
          <a:xfrm>
            <a:off x="2251080" y="1636560"/>
            <a:ext cx="7866000" cy="3146400"/>
            <a:chOff x="2251080" y="1636560"/>
            <a:chExt cx="7866000" cy="3146400"/>
          </a:xfrm>
        </p:grpSpPr>
        <p:sp>
          <p:nvSpPr>
            <p:cNvPr id="847" name="Freeform 4"/>
            <p:cNvSpPr/>
            <p:nvPr/>
          </p:nvSpPr>
          <p:spPr>
            <a:xfrm>
              <a:off x="2395440" y="1776240"/>
              <a:ext cx="2313000" cy="2876400"/>
            </a:xfrm>
            <a:custGeom>
              <a:avLst/>
              <a:gdLst>
                <a:gd name="textAreaLeft" fmla="*/ 0 w 2313000"/>
                <a:gd name="textAreaRight" fmla="*/ 2313360 w 2313000"/>
                <a:gd name="textAreaTop" fmla="*/ 0 h 2876400"/>
                <a:gd name="textAreaBottom" fmla="*/ 2876760 h 287640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5"/>
            <p:cNvSpPr/>
            <p:nvPr/>
          </p:nvSpPr>
          <p:spPr>
            <a:xfrm>
              <a:off x="2322360" y="2050920"/>
              <a:ext cx="61920" cy="414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6"/>
            <p:cNvSpPr/>
            <p:nvPr/>
          </p:nvSpPr>
          <p:spPr>
            <a:xfrm>
              <a:off x="2882880" y="2233440"/>
              <a:ext cx="71640" cy="4752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7"/>
            <p:cNvSpPr/>
            <p:nvPr/>
          </p:nvSpPr>
          <p:spPr>
            <a:xfrm>
              <a:off x="4309920" y="2315880"/>
              <a:ext cx="179640" cy="109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8"/>
            <p:cNvSpPr/>
            <p:nvPr/>
          </p:nvSpPr>
          <p:spPr>
            <a:xfrm>
              <a:off x="3444840" y="2885760"/>
              <a:ext cx="289080" cy="12564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9"/>
            <p:cNvSpPr/>
            <p:nvPr/>
          </p:nvSpPr>
          <p:spPr>
            <a:xfrm>
              <a:off x="3683160" y="2981160"/>
              <a:ext cx="180720" cy="604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10"/>
            <p:cNvSpPr/>
            <p:nvPr/>
          </p:nvSpPr>
          <p:spPr>
            <a:xfrm>
              <a:off x="3875040" y="3019320"/>
              <a:ext cx="68400" cy="270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1"/>
            <p:cNvSpPr/>
            <p:nvPr/>
          </p:nvSpPr>
          <p:spPr>
            <a:xfrm>
              <a:off x="3976560" y="3024000"/>
              <a:ext cx="22320" cy="381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2"/>
            <p:cNvSpPr/>
            <p:nvPr/>
          </p:nvSpPr>
          <p:spPr>
            <a:xfrm>
              <a:off x="3641760" y="1768320"/>
              <a:ext cx="328680" cy="13032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3"/>
            <p:cNvSpPr/>
            <p:nvPr/>
          </p:nvSpPr>
          <p:spPr>
            <a:xfrm>
              <a:off x="3787920" y="1707840"/>
              <a:ext cx="266400" cy="889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4"/>
            <p:cNvSpPr/>
            <p:nvPr/>
          </p:nvSpPr>
          <p:spPr>
            <a:xfrm>
              <a:off x="4162320" y="1811160"/>
              <a:ext cx="425520" cy="2826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5"/>
            <p:cNvSpPr/>
            <p:nvPr/>
          </p:nvSpPr>
          <p:spPr>
            <a:xfrm>
              <a:off x="4159080" y="1690560"/>
              <a:ext cx="81000" cy="540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6"/>
            <p:cNvSpPr/>
            <p:nvPr/>
          </p:nvSpPr>
          <p:spPr>
            <a:xfrm>
              <a:off x="4005360" y="1793880"/>
              <a:ext cx="118800" cy="619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7"/>
            <p:cNvSpPr/>
            <p:nvPr/>
          </p:nvSpPr>
          <p:spPr>
            <a:xfrm>
              <a:off x="4130640" y="1806480"/>
              <a:ext cx="98640" cy="3636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8"/>
            <p:cNvSpPr/>
            <p:nvPr/>
          </p:nvSpPr>
          <p:spPr>
            <a:xfrm>
              <a:off x="4076640" y="1752480"/>
              <a:ext cx="117720" cy="507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9"/>
            <p:cNvSpPr/>
            <p:nvPr/>
          </p:nvSpPr>
          <p:spPr>
            <a:xfrm>
              <a:off x="4027320" y="1704960"/>
              <a:ext cx="81000" cy="349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20"/>
            <p:cNvSpPr/>
            <p:nvPr/>
          </p:nvSpPr>
          <p:spPr>
            <a:xfrm>
              <a:off x="4235400" y="1709640"/>
              <a:ext cx="208080" cy="11412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21"/>
            <p:cNvSpPr/>
            <p:nvPr/>
          </p:nvSpPr>
          <p:spPr>
            <a:xfrm>
              <a:off x="2251080" y="2073240"/>
              <a:ext cx="46080" cy="219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22"/>
            <p:cNvSpPr/>
            <p:nvPr/>
          </p:nvSpPr>
          <p:spPr>
            <a:xfrm>
              <a:off x="3633840" y="2832120"/>
              <a:ext cx="28440" cy="172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23"/>
            <p:cNvSpPr/>
            <p:nvPr/>
          </p:nvSpPr>
          <p:spPr>
            <a:xfrm>
              <a:off x="3638520" y="2868480"/>
              <a:ext cx="30240" cy="172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24"/>
            <p:cNvSpPr/>
            <p:nvPr/>
          </p:nvSpPr>
          <p:spPr>
            <a:xfrm>
              <a:off x="4011480" y="3063600"/>
              <a:ext cx="27000" cy="190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25"/>
            <p:cNvSpPr/>
            <p:nvPr/>
          </p:nvSpPr>
          <p:spPr>
            <a:xfrm>
              <a:off x="4237200" y="2346120"/>
              <a:ext cx="69840" cy="270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26"/>
            <p:cNvSpPr/>
            <p:nvPr/>
          </p:nvSpPr>
          <p:spPr>
            <a:xfrm>
              <a:off x="4054320" y="2041200"/>
              <a:ext cx="69840" cy="270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27"/>
            <p:cNvSpPr/>
            <p:nvPr/>
          </p:nvSpPr>
          <p:spPr>
            <a:xfrm>
              <a:off x="4173480" y="1776240"/>
              <a:ext cx="71640" cy="270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28"/>
            <p:cNvSpPr/>
            <p:nvPr/>
          </p:nvSpPr>
          <p:spPr>
            <a:xfrm>
              <a:off x="4289400" y="1936440"/>
              <a:ext cx="68400" cy="270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29"/>
            <p:cNvSpPr/>
            <p:nvPr/>
          </p:nvSpPr>
          <p:spPr>
            <a:xfrm>
              <a:off x="4317840" y="1636560"/>
              <a:ext cx="1271880" cy="512640"/>
            </a:xfrm>
            <a:custGeom>
              <a:avLst/>
              <a:gdLst>
                <a:gd name="textAreaLeft" fmla="*/ 0 w 1271880"/>
                <a:gd name="textAreaRight" fmla="*/ 1272240 w 127188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30"/>
            <p:cNvSpPr/>
            <p:nvPr/>
          </p:nvSpPr>
          <p:spPr>
            <a:xfrm>
              <a:off x="4707000" y="1909440"/>
              <a:ext cx="71280" cy="349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31"/>
            <p:cNvSpPr/>
            <p:nvPr/>
          </p:nvSpPr>
          <p:spPr>
            <a:xfrm>
              <a:off x="5224320" y="2008080"/>
              <a:ext cx="233640" cy="7920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32"/>
            <p:cNvSpPr/>
            <p:nvPr/>
          </p:nvSpPr>
          <p:spPr>
            <a:xfrm>
              <a:off x="5408640" y="1765080"/>
              <a:ext cx="71280" cy="367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33"/>
            <p:cNvSpPr/>
            <p:nvPr/>
          </p:nvSpPr>
          <p:spPr>
            <a:xfrm>
              <a:off x="5899320" y="1717560"/>
              <a:ext cx="282240" cy="9360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34"/>
            <p:cNvSpPr/>
            <p:nvPr/>
          </p:nvSpPr>
          <p:spPr>
            <a:xfrm>
              <a:off x="6076800" y="1766880"/>
              <a:ext cx="87480" cy="316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5"/>
            <p:cNvSpPr/>
            <p:nvPr/>
          </p:nvSpPr>
          <p:spPr>
            <a:xfrm>
              <a:off x="5543640" y="2171520"/>
              <a:ext cx="198360" cy="19512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36"/>
            <p:cNvSpPr/>
            <p:nvPr/>
          </p:nvSpPr>
          <p:spPr>
            <a:xfrm>
              <a:off x="5445000" y="2241360"/>
              <a:ext cx="125640" cy="10152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37"/>
            <p:cNvSpPr/>
            <p:nvPr/>
          </p:nvSpPr>
          <p:spPr>
            <a:xfrm>
              <a:off x="8523360" y="3938400"/>
              <a:ext cx="865080" cy="735120"/>
            </a:xfrm>
            <a:custGeom>
              <a:avLst/>
              <a:gdLst>
                <a:gd name="textAreaLeft" fmla="*/ 0 w 865080"/>
                <a:gd name="textAreaRight" fmla="*/ 865440 w 865080"/>
                <a:gd name="textAreaTop" fmla="*/ 0 h 735120"/>
                <a:gd name="textAreaBottom" fmla="*/ 735120 h 7351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38"/>
            <p:cNvSpPr/>
            <p:nvPr/>
          </p:nvSpPr>
          <p:spPr>
            <a:xfrm>
              <a:off x="8791560" y="3551040"/>
              <a:ext cx="582480" cy="31104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9"/>
            <p:cNvSpPr/>
            <p:nvPr/>
          </p:nvSpPr>
          <p:spPr>
            <a:xfrm>
              <a:off x="9228240" y="469728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40"/>
            <p:cNvSpPr/>
            <p:nvPr/>
          </p:nvSpPr>
          <p:spPr>
            <a:xfrm>
              <a:off x="9475920" y="4564080"/>
              <a:ext cx="299880" cy="12528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41"/>
            <p:cNvSpPr/>
            <p:nvPr/>
          </p:nvSpPr>
          <p:spPr>
            <a:xfrm>
              <a:off x="9786960" y="4489200"/>
              <a:ext cx="189000" cy="1368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42"/>
            <p:cNvSpPr/>
            <p:nvPr/>
          </p:nvSpPr>
          <p:spPr>
            <a:xfrm>
              <a:off x="9887040" y="4429080"/>
              <a:ext cx="68040" cy="381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43"/>
            <p:cNvSpPr/>
            <p:nvPr/>
          </p:nvSpPr>
          <p:spPr>
            <a:xfrm>
              <a:off x="6740640" y="3706560"/>
              <a:ext cx="225360" cy="29844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44"/>
            <p:cNvSpPr/>
            <p:nvPr/>
          </p:nvSpPr>
          <p:spPr>
            <a:xfrm>
              <a:off x="7711920" y="3244680"/>
              <a:ext cx="90720" cy="903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45"/>
            <p:cNvSpPr/>
            <p:nvPr/>
          </p:nvSpPr>
          <p:spPr>
            <a:xfrm>
              <a:off x="8319960" y="3341520"/>
              <a:ext cx="203400" cy="2714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46"/>
            <p:cNvSpPr/>
            <p:nvPr/>
          </p:nvSpPr>
          <p:spPr>
            <a:xfrm>
              <a:off x="8148600" y="3257280"/>
              <a:ext cx="131760" cy="20340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47"/>
            <p:cNvSpPr/>
            <p:nvPr/>
          </p:nvSpPr>
          <p:spPr>
            <a:xfrm>
              <a:off x="8237520" y="3421080"/>
              <a:ext cx="73080" cy="193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48"/>
            <p:cNvSpPr/>
            <p:nvPr/>
          </p:nvSpPr>
          <p:spPr>
            <a:xfrm>
              <a:off x="8319960" y="3624120"/>
              <a:ext cx="119160" cy="7920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49"/>
            <p:cNvSpPr/>
            <p:nvPr/>
          </p:nvSpPr>
          <p:spPr>
            <a:xfrm>
              <a:off x="8510760" y="3483000"/>
              <a:ext cx="150480" cy="17280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50"/>
            <p:cNvSpPr/>
            <p:nvPr/>
          </p:nvSpPr>
          <p:spPr>
            <a:xfrm>
              <a:off x="8459640" y="2862000"/>
              <a:ext cx="39960" cy="1065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51"/>
            <p:cNvSpPr/>
            <p:nvPr/>
          </p:nvSpPr>
          <p:spPr>
            <a:xfrm>
              <a:off x="8485200" y="3038400"/>
              <a:ext cx="111240" cy="1760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52"/>
            <p:cNvSpPr/>
            <p:nvPr/>
          </p:nvSpPr>
          <p:spPr>
            <a:xfrm>
              <a:off x="8562960" y="3270240"/>
              <a:ext cx="117360" cy="1173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53"/>
            <p:cNvSpPr/>
            <p:nvPr/>
          </p:nvSpPr>
          <p:spPr>
            <a:xfrm>
              <a:off x="8702640" y="3479760"/>
              <a:ext cx="52560" cy="730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54"/>
            <p:cNvSpPr/>
            <p:nvPr/>
          </p:nvSpPr>
          <p:spPr>
            <a:xfrm>
              <a:off x="8672400" y="3601800"/>
              <a:ext cx="33480" cy="255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55"/>
            <p:cNvSpPr/>
            <p:nvPr/>
          </p:nvSpPr>
          <p:spPr>
            <a:xfrm>
              <a:off x="8721720" y="3585960"/>
              <a:ext cx="82440" cy="55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56"/>
            <p:cNvSpPr/>
            <p:nvPr/>
          </p:nvSpPr>
          <p:spPr>
            <a:xfrm>
              <a:off x="8848800" y="3690720"/>
              <a:ext cx="42840" cy="493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57"/>
            <p:cNvSpPr/>
            <p:nvPr/>
          </p:nvSpPr>
          <p:spPr>
            <a:xfrm>
              <a:off x="9336240" y="3628800"/>
              <a:ext cx="83880" cy="698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58"/>
            <p:cNvSpPr/>
            <p:nvPr/>
          </p:nvSpPr>
          <p:spPr>
            <a:xfrm>
              <a:off x="8610480" y="3716280"/>
              <a:ext cx="84240" cy="745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59"/>
            <p:cNvSpPr/>
            <p:nvPr/>
          </p:nvSpPr>
          <p:spPr>
            <a:xfrm>
              <a:off x="8521560" y="3744720"/>
              <a:ext cx="59040" cy="396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60"/>
            <p:cNvSpPr/>
            <p:nvPr/>
          </p:nvSpPr>
          <p:spPr>
            <a:xfrm>
              <a:off x="8483760" y="3700440"/>
              <a:ext cx="42840" cy="46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61"/>
            <p:cNvSpPr/>
            <p:nvPr/>
          </p:nvSpPr>
          <p:spPr>
            <a:xfrm>
              <a:off x="8545680" y="3717720"/>
              <a:ext cx="61920" cy="349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62"/>
            <p:cNvSpPr/>
            <p:nvPr/>
          </p:nvSpPr>
          <p:spPr>
            <a:xfrm>
              <a:off x="8454960" y="3224160"/>
              <a:ext cx="49320" cy="824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63"/>
            <p:cNvSpPr/>
            <p:nvPr/>
          </p:nvSpPr>
          <p:spPr>
            <a:xfrm>
              <a:off x="8548560" y="3211200"/>
              <a:ext cx="34920" cy="81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64"/>
            <p:cNvSpPr/>
            <p:nvPr/>
          </p:nvSpPr>
          <p:spPr>
            <a:xfrm>
              <a:off x="8588520" y="3186000"/>
              <a:ext cx="19080" cy="363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65"/>
            <p:cNvSpPr/>
            <p:nvPr/>
          </p:nvSpPr>
          <p:spPr>
            <a:xfrm>
              <a:off x="8607600" y="3203280"/>
              <a:ext cx="37800" cy="716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66"/>
            <p:cNvSpPr/>
            <p:nvPr/>
          </p:nvSpPr>
          <p:spPr>
            <a:xfrm>
              <a:off x="8115480" y="3306600"/>
              <a:ext cx="21960" cy="39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67"/>
            <p:cNvSpPr/>
            <p:nvPr/>
          </p:nvSpPr>
          <p:spPr>
            <a:xfrm>
              <a:off x="8097840" y="3271680"/>
              <a:ext cx="17640" cy="223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68"/>
            <p:cNvSpPr/>
            <p:nvPr/>
          </p:nvSpPr>
          <p:spPr>
            <a:xfrm>
              <a:off x="8089920" y="324468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69"/>
            <p:cNvSpPr/>
            <p:nvPr/>
          </p:nvSpPr>
          <p:spPr>
            <a:xfrm>
              <a:off x="8067600" y="3186000"/>
              <a:ext cx="20880" cy="284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70"/>
            <p:cNvSpPr/>
            <p:nvPr/>
          </p:nvSpPr>
          <p:spPr>
            <a:xfrm>
              <a:off x="8072280" y="3222360"/>
              <a:ext cx="28800" cy="20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71"/>
            <p:cNvSpPr/>
            <p:nvPr/>
          </p:nvSpPr>
          <p:spPr>
            <a:xfrm>
              <a:off x="9597960" y="4147920"/>
              <a:ext cx="82800" cy="8892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72"/>
            <p:cNvSpPr/>
            <p:nvPr/>
          </p:nvSpPr>
          <p:spPr>
            <a:xfrm>
              <a:off x="10020240" y="4074840"/>
              <a:ext cx="96840" cy="684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73"/>
            <p:cNvSpPr/>
            <p:nvPr/>
          </p:nvSpPr>
          <p:spPr>
            <a:xfrm>
              <a:off x="9728280" y="4038480"/>
              <a:ext cx="31680" cy="334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74"/>
            <p:cNvSpPr/>
            <p:nvPr/>
          </p:nvSpPr>
          <p:spPr>
            <a:xfrm>
              <a:off x="9713880" y="4005000"/>
              <a:ext cx="36720" cy="255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75"/>
            <p:cNvSpPr/>
            <p:nvPr/>
          </p:nvSpPr>
          <p:spPr>
            <a:xfrm>
              <a:off x="9434520" y="3717720"/>
              <a:ext cx="42840" cy="493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76"/>
            <p:cNvSpPr/>
            <p:nvPr/>
          </p:nvSpPr>
          <p:spPr>
            <a:xfrm>
              <a:off x="9496440" y="3781440"/>
              <a:ext cx="47520" cy="48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77"/>
            <p:cNvSpPr/>
            <p:nvPr/>
          </p:nvSpPr>
          <p:spPr>
            <a:xfrm>
              <a:off x="9545760" y="3875040"/>
              <a:ext cx="50760" cy="41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78"/>
            <p:cNvSpPr/>
            <p:nvPr/>
          </p:nvSpPr>
          <p:spPr>
            <a:xfrm>
              <a:off x="9607680" y="3859200"/>
              <a:ext cx="50760" cy="39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79"/>
            <p:cNvSpPr/>
            <p:nvPr/>
          </p:nvSpPr>
          <p:spPr>
            <a:xfrm>
              <a:off x="9590040" y="3806640"/>
              <a:ext cx="47520" cy="302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80"/>
            <p:cNvSpPr/>
            <p:nvPr/>
          </p:nvSpPr>
          <p:spPr>
            <a:xfrm>
              <a:off x="9542520" y="3768480"/>
              <a:ext cx="47520" cy="525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81"/>
            <p:cNvSpPr/>
            <p:nvPr/>
          </p:nvSpPr>
          <p:spPr>
            <a:xfrm>
              <a:off x="9483840" y="3746520"/>
              <a:ext cx="42840" cy="378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82"/>
            <p:cNvSpPr/>
            <p:nvPr/>
          </p:nvSpPr>
          <p:spPr>
            <a:xfrm>
              <a:off x="9556920" y="3824280"/>
              <a:ext cx="42840" cy="378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83"/>
            <p:cNvSpPr/>
            <p:nvPr/>
          </p:nvSpPr>
          <p:spPr>
            <a:xfrm>
              <a:off x="6616800" y="1784160"/>
              <a:ext cx="257040" cy="16020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84"/>
            <p:cNvSpPr/>
            <p:nvPr/>
          </p:nvSpPr>
          <p:spPr>
            <a:xfrm>
              <a:off x="6770520" y="1939680"/>
              <a:ext cx="73080" cy="176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85"/>
            <p:cNvSpPr/>
            <p:nvPr/>
          </p:nvSpPr>
          <p:spPr>
            <a:xfrm>
              <a:off x="7143840" y="1707840"/>
              <a:ext cx="77760" cy="414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86"/>
            <p:cNvSpPr/>
            <p:nvPr/>
          </p:nvSpPr>
          <p:spPr>
            <a:xfrm>
              <a:off x="7199280" y="1726920"/>
              <a:ext cx="92160" cy="302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87"/>
            <p:cNvSpPr/>
            <p:nvPr/>
          </p:nvSpPr>
          <p:spPr>
            <a:xfrm>
              <a:off x="7297920" y="1731960"/>
              <a:ext cx="91800" cy="475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88"/>
            <p:cNvSpPr/>
            <p:nvPr/>
          </p:nvSpPr>
          <p:spPr>
            <a:xfrm>
              <a:off x="7935840" y="1771560"/>
              <a:ext cx="160560" cy="4608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89"/>
            <p:cNvSpPr/>
            <p:nvPr/>
          </p:nvSpPr>
          <p:spPr>
            <a:xfrm>
              <a:off x="8099280" y="1769760"/>
              <a:ext cx="84240" cy="367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90"/>
            <p:cNvSpPr/>
            <p:nvPr/>
          </p:nvSpPr>
          <p:spPr>
            <a:xfrm>
              <a:off x="8061480" y="1812600"/>
              <a:ext cx="66600" cy="255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91"/>
            <p:cNvSpPr/>
            <p:nvPr/>
          </p:nvSpPr>
          <p:spPr>
            <a:xfrm>
              <a:off x="8521560" y="2146320"/>
              <a:ext cx="138240" cy="16812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92"/>
            <p:cNvSpPr/>
            <p:nvPr/>
          </p:nvSpPr>
          <p:spPr>
            <a:xfrm>
              <a:off x="8632800" y="2320920"/>
              <a:ext cx="100080" cy="11592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93"/>
            <p:cNvSpPr/>
            <p:nvPr/>
          </p:nvSpPr>
          <p:spPr>
            <a:xfrm>
              <a:off x="8566200" y="2439720"/>
              <a:ext cx="200160" cy="27936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94"/>
            <p:cNvSpPr/>
            <p:nvPr/>
          </p:nvSpPr>
          <p:spPr>
            <a:xfrm>
              <a:off x="6629400" y="1692000"/>
              <a:ext cx="95400" cy="4464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95"/>
            <p:cNvSpPr/>
            <p:nvPr/>
          </p:nvSpPr>
          <p:spPr>
            <a:xfrm>
              <a:off x="6434280" y="1704960"/>
              <a:ext cx="34920" cy="33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96"/>
            <p:cNvSpPr/>
            <p:nvPr/>
          </p:nvSpPr>
          <p:spPr>
            <a:xfrm>
              <a:off x="6478560" y="1703160"/>
              <a:ext cx="66600" cy="39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97"/>
            <p:cNvSpPr/>
            <p:nvPr/>
          </p:nvSpPr>
          <p:spPr>
            <a:xfrm>
              <a:off x="6589800" y="1690560"/>
              <a:ext cx="36360" cy="23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98"/>
            <p:cNvSpPr/>
            <p:nvPr/>
          </p:nvSpPr>
          <p:spPr>
            <a:xfrm>
              <a:off x="6556320" y="1715760"/>
              <a:ext cx="27000" cy="20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99"/>
            <p:cNvSpPr/>
            <p:nvPr/>
          </p:nvSpPr>
          <p:spPr>
            <a:xfrm>
              <a:off x="8637480" y="1739880"/>
              <a:ext cx="33480" cy="48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00"/>
            <p:cNvSpPr/>
            <p:nvPr/>
          </p:nvSpPr>
          <p:spPr>
            <a:xfrm>
              <a:off x="7024680" y="3895560"/>
              <a:ext cx="55440" cy="270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01"/>
            <p:cNvSpPr/>
            <p:nvPr/>
          </p:nvSpPr>
          <p:spPr>
            <a:xfrm>
              <a:off x="7097760" y="3884400"/>
              <a:ext cx="17280" cy="223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02"/>
            <p:cNvSpPr/>
            <p:nvPr/>
          </p:nvSpPr>
          <p:spPr>
            <a:xfrm>
              <a:off x="6975360" y="3655800"/>
              <a:ext cx="15840" cy="223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03"/>
            <p:cNvSpPr/>
            <p:nvPr/>
          </p:nvSpPr>
          <p:spPr>
            <a:xfrm>
              <a:off x="7085160" y="3547800"/>
              <a:ext cx="19080" cy="288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04"/>
            <p:cNvSpPr/>
            <p:nvPr/>
          </p:nvSpPr>
          <p:spPr>
            <a:xfrm>
              <a:off x="7040520" y="3546360"/>
              <a:ext cx="20520" cy="284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05"/>
            <p:cNvSpPr/>
            <p:nvPr/>
          </p:nvSpPr>
          <p:spPr>
            <a:xfrm>
              <a:off x="7020000" y="3579840"/>
              <a:ext cx="19080" cy="219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06"/>
            <p:cNvSpPr/>
            <p:nvPr/>
          </p:nvSpPr>
          <p:spPr>
            <a:xfrm>
              <a:off x="6975360" y="3630600"/>
              <a:ext cx="15840" cy="21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07"/>
            <p:cNvSpPr/>
            <p:nvPr/>
          </p:nvSpPr>
          <p:spPr>
            <a:xfrm>
              <a:off x="7008840" y="3609720"/>
              <a:ext cx="19080" cy="223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08"/>
            <p:cNvSpPr/>
            <p:nvPr/>
          </p:nvSpPr>
          <p:spPr>
            <a:xfrm>
              <a:off x="5670720" y="2144520"/>
              <a:ext cx="18720" cy="223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09"/>
            <p:cNvSpPr/>
            <p:nvPr/>
          </p:nvSpPr>
          <p:spPr>
            <a:xfrm>
              <a:off x="5559480" y="2093760"/>
              <a:ext cx="19080" cy="223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10"/>
            <p:cNvSpPr/>
            <p:nvPr/>
          </p:nvSpPr>
          <p:spPr>
            <a:xfrm>
              <a:off x="5124600" y="1771560"/>
              <a:ext cx="3762360" cy="2440080"/>
            </a:xfrm>
            <a:custGeom>
              <a:avLst/>
              <a:gdLst>
                <a:gd name="textAreaLeft" fmla="*/ 0 w 3762360"/>
                <a:gd name="textAreaRight" fmla="*/ 3762720 w 3762360"/>
                <a:gd name="textAreaTop" fmla="*/ 0 h 2440080"/>
                <a:gd name="textAreaBottom" fmla="*/ 2440080 h 24400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4" name="AutoShape 111"/>
          <p:cNvSpPr/>
          <p:nvPr/>
        </p:nvSpPr>
        <p:spPr>
          <a:xfrm>
            <a:off x="4962600" y="3768840"/>
            <a:ext cx="2247840" cy="1292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6464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AutoShape 112"/>
          <p:cNvSpPr/>
          <p:nvPr/>
        </p:nvSpPr>
        <p:spPr>
          <a:xfrm>
            <a:off x="2467080" y="3751200"/>
            <a:ext cx="2276280" cy="13114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AutoShape 113"/>
          <p:cNvSpPr/>
          <p:nvPr/>
        </p:nvSpPr>
        <p:spPr>
          <a:xfrm>
            <a:off x="7439040" y="3722760"/>
            <a:ext cx="2276640" cy="135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44ab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192"/>
          <p:cNvSpPr/>
          <p:nvPr/>
        </p:nvSpPr>
        <p:spPr>
          <a:xfrm>
            <a:off x="2035080" y="2084400"/>
            <a:ext cx="812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任意多边形 204"/>
          <p:cNvSpPr/>
          <p:nvPr/>
        </p:nvSpPr>
        <p:spPr>
          <a:xfrm>
            <a:off x="2552760" y="4645080"/>
            <a:ext cx="1805040" cy="1395360"/>
          </a:xfrm>
          <a:custGeom>
            <a:avLst/>
            <a:gdLst>
              <a:gd name="textAreaLeft" fmla="*/ 0 w 1805040"/>
              <a:gd name="textAreaRight" fmla="*/ 1805400 w 1805040"/>
              <a:gd name="textAreaTop" fmla="*/ 0 h 1395360"/>
              <a:gd name="textAreaBottom" fmla="*/ 1395720 h 139536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任意多边形 205"/>
          <p:cNvSpPr/>
          <p:nvPr/>
        </p:nvSpPr>
        <p:spPr>
          <a:xfrm>
            <a:off x="5051520" y="4626000"/>
            <a:ext cx="1803240" cy="1396800"/>
          </a:xfrm>
          <a:custGeom>
            <a:avLst/>
            <a:gdLst>
              <a:gd name="textAreaLeft" fmla="*/ 0 w 1803240"/>
              <a:gd name="textAreaRight" fmla="*/ 1803600 w 1803240"/>
              <a:gd name="textAreaTop" fmla="*/ 0 h 1396800"/>
              <a:gd name="textAreaBottom" fmla="*/ 1397160 h 139680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4646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任意多边形 206"/>
          <p:cNvSpPr/>
          <p:nvPr/>
        </p:nvSpPr>
        <p:spPr>
          <a:xfrm>
            <a:off x="7556400" y="4626000"/>
            <a:ext cx="1803600" cy="1396800"/>
          </a:xfrm>
          <a:custGeom>
            <a:avLst/>
            <a:gdLst>
              <a:gd name="textAreaLeft" fmla="*/ 0 w 1803600"/>
              <a:gd name="textAreaRight" fmla="*/ 1803960 w 1803600"/>
              <a:gd name="textAreaTop" fmla="*/ 0 h 1396800"/>
              <a:gd name="textAreaBottom" fmla="*/ 1397160 h 139680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f44ab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08"/>
          <p:cNvGrpSpPr/>
          <p:nvPr/>
        </p:nvGrpSpPr>
        <p:grpSpPr>
          <a:xfrm>
            <a:off x="3051000" y="4975200"/>
            <a:ext cx="1495440" cy="691920"/>
            <a:chOff x="3051000" y="4975200"/>
            <a:chExt cx="1495440" cy="691920"/>
          </a:xfrm>
        </p:grpSpPr>
        <p:sp>
          <p:nvSpPr>
            <p:cNvPr id="962" name="文本框 209"/>
            <p:cNvSpPr/>
            <p:nvPr/>
          </p:nvSpPr>
          <p:spPr>
            <a:xfrm>
              <a:off x="3051000" y="536004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文本框 20"/>
            <p:cNvSpPr/>
            <p:nvPr/>
          </p:nvSpPr>
          <p:spPr>
            <a:xfrm>
              <a:off x="3051000" y="497520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组合 211"/>
          <p:cNvGrpSpPr/>
          <p:nvPr/>
        </p:nvGrpSpPr>
        <p:grpSpPr>
          <a:xfrm>
            <a:off x="5554800" y="4971960"/>
            <a:ext cx="1495440" cy="692640"/>
            <a:chOff x="5554800" y="4971960"/>
            <a:chExt cx="1495440" cy="692640"/>
          </a:xfrm>
        </p:grpSpPr>
        <p:sp>
          <p:nvSpPr>
            <p:cNvPr id="965" name="文本框 212"/>
            <p:cNvSpPr/>
            <p:nvPr/>
          </p:nvSpPr>
          <p:spPr>
            <a:xfrm>
              <a:off x="5554800" y="535752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文本框 20"/>
            <p:cNvSpPr/>
            <p:nvPr/>
          </p:nvSpPr>
          <p:spPr>
            <a:xfrm>
              <a:off x="5554800" y="497196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7" name="组合 214"/>
          <p:cNvGrpSpPr/>
          <p:nvPr/>
        </p:nvGrpSpPr>
        <p:grpSpPr>
          <a:xfrm>
            <a:off x="8058240" y="4968720"/>
            <a:ext cx="1495440" cy="692640"/>
            <a:chOff x="8058240" y="4968720"/>
            <a:chExt cx="1495440" cy="692640"/>
          </a:xfrm>
        </p:grpSpPr>
        <p:sp>
          <p:nvSpPr>
            <p:cNvPr id="968" name="文本框 215"/>
            <p:cNvSpPr/>
            <p:nvPr/>
          </p:nvSpPr>
          <p:spPr>
            <a:xfrm>
              <a:off x="8058240" y="535428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文本框 20"/>
            <p:cNvSpPr/>
            <p:nvPr/>
          </p:nvSpPr>
          <p:spPr>
            <a:xfrm>
              <a:off x="8058240" y="496872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0" name="矩形 135"/>
          <p:cNvSpPr/>
          <p:nvPr/>
        </p:nvSpPr>
        <p:spPr>
          <a:xfrm>
            <a:off x="0" y="252360"/>
            <a:ext cx="55260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矩形 136"/>
          <p:cNvSpPr/>
          <p:nvPr/>
        </p:nvSpPr>
        <p:spPr>
          <a:xfrm>
            <a:off x="773280" y="252360"/>
            <a:ext cx="18864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矩形 137"/>
          <p:cNvSpPr/>
          <p:nvPr/>
        </p:nvSpPr>
        <p:spPr>
          <a:xfrm>
            <a:off x="498960" y="220680"/>
            <a:ext cx="55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5f6d"/>
                </a:solidFill>
                <a:latin typeface="Calibri Light"/>
              </a:rPr>
              <a:t>Add your text in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0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0E78-875C-4499-88E6-43E3E68C958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任意多边形 34"/>
          <p:cNvSpPr/>
          <p:nvPr/>
        </p:nvSpPr>
        <p:spPr>
          <a:xfrm rot="1233600">
            <a:off x="3946320" y="3477960"/>
            <a:ext cx="2020680" cy="2395440"/>
          </a:xfrm>
          <a:custGeom>
            <a:avLst/>
            <a:gdLst>
              <a:gd name="textAreaLeft" fmla="*/ 0 w 2020680"/>
              <a:gd name="textAreaRight" fmla="*/ 2021040 w 2020680"/>
              <a:gd name="textAreaTop" fmla="*/ 0 h 2395440"/>
              <a:gd name="textAreaBottom" fmla="*/ 2395800 h 2395440"/>
            </a:gdLst>
            <a:ahLst/>
            <a:rect l="textAreaLeft" t="textAreaTop" r="textAreaRight" b="textAreaBottom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椭圆 35"/>
          <p:cNvSpPr/>
          <p:nvPr/>
        </p:nvSpPr>
        <p:spPr>
          <a:xfrm>
            <a:off x="3757680" y="1992240"/>
            <a:ext cx="1297080" cy="1368360"/>
          </a:xfrm>
          <a:prstGeom prst="ellipse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等腰三角形 36"/>
          <p:cNvSpPr/>
          <p:nvPr/>
        </p:nvSpPr>
        <p:spPr>
          <a:xfrm>
            <a:off x="4229280" y="3181320"/>
            <a:ext cx="355320" cy="360360"/>
          </a:xfrm>
          <a:prstGeom prst="triangle">
            <a:avLst>
              <a:gd name="adj" fmla="val 50000"/>
            </a:avLst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Box 68"/>
          <p:cNvSpPr/>
          <p:nvPr/>
        </p:nvSpPr>
        <p:spPr>
          <a:xfrm>
            <a:off x="3757680" y="2386080"/>
            <a:ext cx="129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任意多边形 38"/>
          <p:cNvSpPr/>
          <p:nvPr/>
        </p:nvSpPr>
        <p:spPr>
          <a:xfrm flipH="1" rot="21353400">
            <a:off x="5857560" y="3425400"/>
            <a:ext cx="1898640" cy="1433520"/>
          </a:xfrm>
          <a:custGeom>
            <a:avLst/>
            <a:gdLst>
              <a:gd name="textAreaLeft" fmla="*/ 360 w 1898640"/>
              <a:gd name="textAreaRight" fmla="*/ 1899360 w 1898640"/>
              <a:gd name="textAreaTop" fmla="*/ 0 h 1433520"/>
              <a:gd name="textAreaBottom" fmla="*/ 1433880 h 1433520"/>
            </a:gdLst>
            <a:ahLst/>
            <a:rect l="textAreaLeft" t="textAreaTop" r="textAreaRight" b="textAreaBottom"/>
            <a:pathLst>
              <a:path w="1945835" h="1717589">
                <a:moveTo>
                  <a:pt x="15012" y="0"/>
                </a:moveTo>
                <a:cubicBezTo>
                  <a:pt x="23250" y="41189"/>
                  <a:pt x="-7630" y="85824"/>
                  <a:pt x="1815" y="126753"/>
                </a:cubicBezTo>
                <a:cubicBezTo>
                  <a:pt x="12662" y="173757"/>
                  <a:pt x="56061" y="175584"/>
                  <a:pt x="76796" y="210064"/>
                </a:cubicBezTo>
                <a:cubicBezTo>
                  <a:pt x="97531" y="244544"/>
                  <a:pt x="68267" y="217717"/>
                  <a:pt x="126223" y="333632"/>
                </a:cubicBezTo>
                <a:cubicBezTo>
                  <a:pt x="130777" y="365510"/>
                  <a:pt x="133683" y="422692"/>
                  <a:pt x="150937" y="457200"/>
                </a:cubicBezTo>
                <a:cubicBezTo>
                  <a:pt x="157578" y="470483"/>
                  <a:pt x="167412" y="481913"/>
                  <a:pt x="175650" y="494270"/>
                </a:cubicBezTo>
                <a:cubicBezTo>
                  <a:pt x="179769" y="518983"/>
                  <a:pt x="180084" y="544641"/>
                  <a:pt x="188007" y="568410"/>
                </a:cubicBezTo>
                <a:cubicBezTo>
                  <a:pt x="192703" y="582499"/>
                  <a:pt x="207505" y="591575"/>
                  <a:pt x="212720" y="605481"/>
                </a:cubicBezTo>
                <a:cubicBezTo>
                  <a:pt x="219647" y="623954"/>
                  <a:pt x="233964" y="727523"/>
                  <a:pt x="237434" y="741405"/>
                </a:cubicBezTo>
                <a:cubicBezTo>
                  <a:pt x="251860" y="799110"/>
                  <a:pt x="267203" y="823271"/>
                  <a:pt x="286861" y="877329"/>
                </a:cubicBezTo>
                <a:cubicBezTo>
                  <a:pt x="323599" y="978356"/>
                  <a:pt x="291588" y="924820"/>
                  <a:pt x="348645" y="1000897"/>
                </a:cubicBezTo>
                <a:cubicBezTo>
                  <a:pt x="352764" y="1025610"/>
                  <a:pt x="354410" y="1050866"/>
                  <a:pt x="361002" y="1075037"/>
                </a:cubicBezTo>
                <a:cubicBezTo>
                  <a:pt x="374955" y="1126197"/>
                  <a:pt x="384308" y="1134711"/>
                  <a:pt x="410429" y="1173891"/>
                </a:cubicBezTo>
                <a:cubicBezTo>
                  <a:pt x="414548" y="1186248"/>
                  <a:pt x="416323" y="1199653"/>
                  <a:pt x="422785" y="1210962"/>
                </a:cubicBezTo>
                <a:cubicBezTo>
                  <a:pt x="433003" y="1228843"/>
                  <a:pt x="448432" y="1243253"/>
                  <a:pt x="459856" y="1260389"/>
                </a:cubicBezTo>
                <a:cubicBezTo>
                  <a:pt x="473178" y="1280373"/>
                  <a:pt x="484569" y="1301578"/>
                  <a:pt x="496926" y="1322173"/>
                </a:cubicBezTo>
                <a:cubicBezTo>
                  <a:pt x="519484" y="1412402"/>
                  <a:pt x="491139" y="1335051"/>
                  <a:pt x="546353" y="1408670"/>
                </a:cubicBezTo>
                <a:cubicBezTo>
                  <a:pt x="604051" y="1485601"/>
                  <a:pt x="564130" y="1449470"/>
                  <a:pt x="608137" y="1519881"/>
                </a:cubicBezTo>
                <a:cubicBezTo>
                  <a:pt x="630927" y="1556345"/>
                  <a:pt x="690465" y="1624193"/>
                  <a:pt x="719347" y="1643448"/>
                </a:cubicBezTo>
                <a:cubicBezTo>
                  <a:pt x="731704" y="1651686"/>
                  <a:pt x="742768" y="1662312"/>
                  <a:pt x="756418" y="1668162"/>
                </a:cubicBezTo>
                <a:cubicBezTo>
                  <a:pt x="772028" y="1674852"/>
                  <a:pt x="789516" y="1675854"/>
                  <a:pt x="805845" y="1680519"/>
                </a:cubicBezTo>
                <a:cubicBezTo>
                  <a:pt x="818369" y="1684097"/>
                  <a:pt x="830279" y="1689716"/>
                  <a:pt x="842915" y="1692875"/>
                </a:cubicBezTo>
                <a:lnTo>
                  <a:pt x="941769" y="1717589"/>
                </a:lnTo>
                <a:cubicBezTo>
                  <a:pt x="1061218" y="1709351"/>
                  <a:pt x="1181307" y="1707726"/>
                  <a:pt x="1300115" y="1692875"/>
                </a:cubicBezTo>
                <a:cubicBezTo>
                  <a:pt x="1314851" y="1691033"/>
                  <a:pt x="1323902" y="1674803"/>
                  <a:pt x="1337185" y="1668162"/>
                </a:cubicBezTo>
                <a:cubicBezTo>
                  <a:pt x="1380908" y="1646301"/>
                  <a:pt x="1465939" y="1625905"/>
                  <a:pt x="1497823" y="1594021"/>
                </a:cubicBezTo>
                <a:cubicBezTo>
                  <a:pt x="1571062" y="1520782"/>
                  <a:pt x="1502682" y="1596977"/>
                  <a:pt x="1559607" y="1507524"/>
                </a:cubicBezTo>
                <a:cubicBezTo>
                  <a:pt x="1578630" y="1477631"/>
                  <a:pt x="1600796" y="1449859"/>
                  <a:pt x="1621391" y="1421027"/>
                </a:cubicBezTo>
                <a:cubicBezTo>
                  <a:pt x="1625510" y="1408670"/>
                  <a:pt x="1785040" y="1493466"/>
                  <a:pt x="1816118" y="1457747"/>
                </a:cubicBezTo>
                <a:cubicBezTo>
                  <a:pt x="1847196" y="1422028"/>
                  <a:pt x="1813544" y="1254022"/>
                  <a:pt x="1807862" y="1206713"/>
                </a:cubicBezTo>
                <a:cubicBezTo>
                  <a:pt x="1802181" y="1159404"/>
                  <a:pt x="1773791" y="1186248"/>
                  <a:pt x="1782029" y="1173891"/>
                </a:cubicBezTo>
                <a:cubicBezTo>
                  <a:pt x="1786148" y="1161534"/>
                  <a:pt x="1796772" y="1160295"/>
                  <a:pt x="1794385" y="1136821"/>
                </a:cubicBezTo>
                <a:cubicBezTo>
                  <a:pt x="1791998" y="1113347"/>
                  <a:pt x="1768234" y="1060867"/>
                  <a:pt x="1767709" y="1033047"/>
                </a:cubicBezTo>
                <a:cubicBezTo>
                  <a:pt x="1767184" y="1005227"/>
                  <a:pt x="1778877" y="986379"/>
                  <a:pt x="1791234" y="969903"/>
                </a:cubicBezTo>
                <a:cubicBezTo>
                  <a:pt x="1795353" y="949309"/>
                  <a:pt x="1809458" y="952458"/>
                  <a:pt x="1817137" y="921835"/>
                </a:cubicBezTo>
                <a:cubicBezTo>
                  <a:pt x="1824816" y="891212"/>
                  <a:pt x="1816056" y="863846"/>
                  <a:pt x="1837307" y="786165"/>
                </a:cubicBezTo>
                <a:cubicBezTo>
                  <a:pt x="1858558" y="708484"/>
                  <a:pt x="1935322" y="518812"/>
                  <a:pt x="1944644" y="455747"/>
                </a:cubicBezTo>
                <a:cubicBezTo>
                  <a:pt x="1953966" y="392682"/>
                  <a:pt x="1905925" y="426066"/>
                  <a:pt x="1893239" y="407773"/>
                </a:cubicBezTo>
                <a:cubicBezTo>
                  <a:pt x="1880553" y="389480"/>
                  <a:pt x="1874900" y="367235"/>
                  <a:pt x="1868526" y="345989"/>
                </a:cubicBezTo>
                <a:cubicBezTo>
                  <a:pt x="1862491" y="325872"/>
                  <a:pt x="1862811" y="304130"/>
                  <a:pt x="1856169" y="284205"/>
                </a:cubicBezTo>
                <a:cubicBezTo>
                  <a:pt x="1841207" y="239319"/>
                  <a:pt x="1835019" y="238341"/>
                  <a:pt x="1806742" y="210064"/>
                </a:cubicBezTo>
              </a:path>
            </a:pathLst>
          </a:custGeom>
          <a:noFill/>
          <a:ln w="19080">
            <a:solidFill>
              <a:srgbClr val="9c9f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任意多边形 39"/>
          <p:cNvSpPr/>
          <p:nvPr/>
        </p:nvSpPr>
        <p:spPr>
          <a:xfrm rot="1233600">
            <a:off x="7327440" y="3688920"/>
            <a:ext cx="1516320" cy="1717920"/>
          </a:xfrm>
          <a:custGeom>
            <a:avLst/>
            <a:gdLst>
              <a:gd name="textAreaLeft" fmla="*/ 0 w 1516320"/>
              <a:gd name="textAreaRight" fmla="*/ 1516680 w 1516320"/>
              <a:gd name="textAreaTop" fmla="*/ 0 h 1717920"/>
              <a:gd name="textAreaBottom" fmla="*/ 1718280 h 1717920"/>
            </a:gdLst>
            <a:ahLst/>
            <a:rect l="textAreaLeft" t="textAreaTop" r="textAreaRight" b="textAreaBottom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椭圆 40"/>
          <p:cNvSpPr/>
          <p:nvPr/>
        </p:nvSpPr>
        <p:spPr>
          <a:xfrm>
            <a:off x="6896160" y="1776240"/>
            <a:ext cx="1584360" cy="1519560"/>
          </a:xfrm>
          <a:prstGeom prst="ellipse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等腰三角形 41"/>
          <p:cNvSpPr/>
          <p:nvPr/>
        </p:nvSpPr>
        <p:spPr>
          <a:xfrm>
            <a:off x="7508880" y="3116160"/>
            <a:ext cx="355680" cy="360360"/>
          </a:xfrm>
          <a:prstGeom prst="triangle">
            <a:avLst>
              <a:gd name="adj" fmla="val 50000"/>
            </a:avLst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Box 77"/>
          <p:cNvSpPr/>
          <p:nvPr/>
        </p:nvSpPr>
        <p:spPr>
          <a:xfrm>
            <a:off x="7039080" y="22399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任意多边形 43"/>
          <p:cNvSpPr/>
          <p:nvPr/>
        </p:nvSpPr>
        <p:spPr>
          <a:xfrm flipH="1">
            <a:off x="8911440" y="3587760"/>
            <a:ext cx="1660680" cy="2381400"/>
          </a:xfrm>
          <a:custGeom>
            <a:avLst/>
            <a:gdLst>
              <a:gd name="textAreaLeft" fmla="*/ -360 w 1660680"/>
              <a:gd name="textAreaRight" fmla="*/ 1660680 w 1660680"/>
              <a:gd name="textAreaTop" fmla="*/ 0 h 2381400"/>
              <a:gd name="textAreaBottom" fmla="*/ 2381760 h 2381400"/>
            </a:gdLst>
            <a:ahLst/>
            <a:rect l="textAreaLeft" t="textAreaTop" r="textAreaRight" b="textAreaBottom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椭圆 44"/>
          <p:cNvSpPr/>
          <p:nvPr/>
        </p:nvSpPr>
        <p:spPr>
          <a:xfrm>
            <a:off x="9807480" y="2154240"/>
            <a:ext cx="1413000" cy="1523880"/>
          </a:xfrm>
          <a:prstGeom prst="ellipse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等腰三角形 45"/>
          <p:cNvSpPr/>
          <p:nvPr/>
        </p:nvSpPr>
        <p:spPr>
          <a:xfrm>
            <a:off x="10318680" y="3478320"/>
            <a:ext cx="387360" cy="401400"/>
          </a:xfrm>
          <a:prstGeom prst="triangle">
            <a:avLst>
              <a:gd name="adj" fmla="val 50000"/>
            </a:avLst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Box 81"/>
          <p:cNvSpPr/>
          <p:nvPr/>
        </p:nvSpPr>
        <p:spPr>
          <a:xfrm>
            <a:off x="9807480" y="2629080"/>
            <a:ext cx="141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椭圆 47"/>
          <p:cNvSpPr/>
          <p:nvPr/>
        </p:nvSpPr>
        <p:spPr>
          <a:xfrm>
            <a:off x="8334360" y="3048120"/>
            <a:ext cx="1152720" cy="1368360"/>
          </a:xfrm>
          <a:prstGeom prst="ellipse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等腰三角形 48"/>
          <p:cNvSpPr/>
          <p:nvPr/>
        </p:nvSpPr>
        <p:spPr>
          <a:xfrm>
            <a:off x="8753400" y="4235400"/>
            <a:ext cx="316080" cy="360360"/>
          </a:xfrm>
          <a:prstGeom prst="triangle">
            <a:avLst>
              <a:gd name="adj" fmla="val 50000"/>
            </a:avLst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椭圆 64"/>
          <p:cNvSpPr/>
          <p:nvPr/>
        </p:nvSpPr>
        <p:spPr>
          <a:xfrm>
            <a:off x="5383080" y="3181320"/>
            <a:ext cx="1224000" cy="1054080"/>
          </a:xfrm>
          <a:prstGeom prst="ellipse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等腰三角形 65"/>
          <p:cNvSpPr/>
          <p:nvPr/>
        </p:nvSpPr>
        <p:spPr>
          <a:xfrm>
            <a:off x="5853240" y="4138560"/>
            <a:ext cx="336600" cy="277920"/>
          </a:xfrm>
          <a:prstGeom prst="triangle">
            <a:avLst>
              <a:gd name="adj" fmla="val 50000"/>
            </a:avLst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Box 73"/>
          <p:cNvSpPr/>
          <p:nvPr/>
        </p:nvSpPr>
        <p:spPr>
          <a:xfrm>
            <a:off x="5383080" y="3382920"/>
            <a:ext cx="122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Box 68"/>
          <p:cNvSpPr/>
          <p:nvPr/>
        </p:nvSpPr>
        <p:spPr>
          <a:xfrm>
            <a:off x="8296200" y="34354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文本框 70"/>
          <p:cNvSpPr/>
          <p:nvPr/>
        </p:nvSpPr>
        <p:spPr>
          <a:xfrm>
            <a:off x="439560" y="4397400"/>
            <a:ext cx="3318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5f6d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文本框 71"/>
          <p:cNvSpPr/>
          <p:nvPr/>
        </p:nvSpPr>
        <p:spPr>
          <a:xfrm>
            <a:off x="424440" y="379728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5f6d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矩形 32"/>
          <p:cNvSpPr/>
          <p:nvPr/>
        </p:nvSpPr>
        <p:spPr>
          <a:xfrm>
            <a:off x="0" y="252360"/>
            <a:ext cx="55260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矩形 33"/>
          <p:cNvSpPr/>
          <p:nvPr/>
        </p:nvSpPr>
        <p:spPr>
          <a:xfrm>
            <a:off x="773280" y="252360"/>
            <a:ext cx="18864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矩形 34"/>
          <p:cNvSpPr/>
          <p:nvPr/>
        </p:nvSpPr>
        <p:spPr>
          <a:xfrm>
            <a:off x="498960" y="220680"/>
            <a:ext cx="55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5f6d"/>
                </a:solidFill>
                <a:latin typeface="Calibri Light"/>
              </a:rPr>
              <a:t>Add your text in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0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8B87-3000-4D01-B518-9D80793292A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5f6d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f25f6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5f6d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1003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f25f6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>
                <a:gd name="textAreaLeft" fmla="*/ 0 w 158040"/>
                <a:gd name="textAreaRight" fmla="*/ 158040 w 15804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d8d8d8"/>
                </a:gs>
                <a:gs pos="100000">
                  <a:srgbClr val="7f7f7f"/>
                </a:gs>
              </a:gsLst>
              <a:lin ang="5400000"/>
            </a:gradFill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f25f6d"/>
            </a:solidFill>
            <a:ln w="12600">
              <a:solidFill>
                <a:srgbClr val="ee0f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2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1013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5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>
              <a:gd name="textAreaLeft" fmla="*/ 0 w 1952640"/>
              <a:gd name="textAreaRight" fmla="*/ 1953000 w 195264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f2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1"/>
          <p:cNvSpPr/>
          <p:nvPr/>
        </p:nvSpPr>
        <p:spPr>
          <a:xfrm>
            <a:off x="0" y="252360"/>
            <a:ext cx="55260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矩形 29"/>
          <p:cNvSpPr/>
          <p:nvPr/>
        </p:nvSpPr>
        <p:spPr>
          <a:xfrm>
            <a:off x="773280" y="252360"/>
            <a:ext cx="18864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矩形 2"/>
          <p:cNvSpPr/>
          <p:nvPr/>
        </p:nvSpPr>
        <p:spPr>
          <a:xfrm>
            <a:off x="498960" y="220680"/>
            <a:ext cx="55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5f6d"/>
                </a:solidFill>
                <a:latin typeface="Calibri Light"/>
              </a:rPr>
              <a:t>Add your text in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文本框 23"/>
          <p:cNvSpPr/>
          <p:nvPr/>
        </p:nvSpPr>
        <p:spPr>
          <a:xfrm>
            <a:off x="700200" y="1263600"/>
            <a:ext cx="283356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f25f6d"/>
                </a:solidFill>
                <a:latin typeface="Wingdings 2"/>
                <a:ea typeface="Wingdings 2"/>
              </a:rPr>
              <a:t>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0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0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1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F1CD-662A-469B-96C6-90B3D7DDAB3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文本框 7"/>
          <p:cNvSpPr/>
          <p:nvPr/>
        </p:nvSpPr>
        <p:spPr>
          <a:xfrm>
            <a:off x="2454120" y="20606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文本框 8"/>
          <p:cNvSpPr/>
          <p:nvPr/>
        </p:nvSpPr>
        <p:spPr>
          <a:xfrm>
            <a:off x="2454120" y="31352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文本框 9"/>
          <p:cNvSpPr/>
          <p:nvPr/>
        </p:nvSpPr>
        <p:spPr>
          <a:xfrm>
            <a:off x="2454120" y="42530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文本框 10"/>
          <p:cNvSpPr/>
          <p:nvPr/>
        </p:nvSpPr>
        <p:spPr>
          <a:xfrm>
            <a:off x="8024760" y="203832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5f6d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文本框 11"/>
          <p:cNvSpPr/>
          <p:nvPr/>
        </p:nvSpPr>
        <p:spPr>
          <a:xfrm>
            <a:off x="8024760" y="31352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5f6d"/>
                </a:solidFill>
                <a:latin typeface="微软雅黑"/>
                <a:ea typeface="微软雅黑"/>
              </a:rPr>
              <a:t>PowerPoint presentations consist of a number of individual pages or "slides</a:t>
            </a:r>
            <a:r>
              <a:rPr b="0" lang="en-US" sz="1600" spc="-1" strike="noStrike">
                <a:solidFill>
                  <a:srgbClr val="ee0f68"/>
                </a:solidFill>
                <a:latin typeface="微软雅黑"/>
                <a:ea typeface="微软雅黑"/>
              </a:rPr>
              <a:t>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文本框 12"/>
          <p:cNvSpPr/>
          <p:nvPr/>
        </p:nvSpPr>
        <p:spPr>
          <a:xfrm>
            <a:off x="8024760" y="42530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5f6d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7" name="组合 31"/>
          <p:cNvGrpSpPr/>
          <p:nvPr/>
        </p:nvGrpSpPr>
        <p:grpSpPr>
          <a:xfrm>
            <a:off x="831960" y="1685880"/>
            <a:ext cx="1233360" cy="2981520"/>
            <a:chOff x="831960" y="1685880"/>
            <a:chExt cx="1233360" cy="2981520"/>
          </a:xfrm>
        </p:grpSpPr>
        <p:sp>
          <p:nvSpPr>
            <p:cNvPr id="1028" name="Oval 109"/>
            <p:cNvSpPr/>
            <p:nvPr/>
          </p:nvSpPr>
          <p:spPr>
            <a:xfrm>
              <a:off x="1189440" y="1685880"/>
              <a:ext cx="518400" cy="530640"/>
            </a:xfrm>
            <a:prstGeom prst="ellipse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10"/>
            <p:cNvSpPr/>
            <p:nvPr/>
          </p:nvSpPr>
          <p:spPr>
            <a:xfrm>
              <a:off x="831960" y="2270160"/>
              <a:ext cx="1233360" cy="2397240"/>
            </a:xfrm>
            <a:custGeom>
              <a:avLst/>
              <a:gdLst>
                <a:gd name="textAreaLeft" fmla="*/ 0 w 1233360"/>
                <a:gd name="textAreaRight" fmla="*/ 1233720 w 1233360"/>
                <a:gd name="textAreaTop" fmla="*/ 0 h 2397240"/>
                <a:gd name="textAreaBottom" fmla="*/ 2397600 h 2397240"/>
              </a:gdLst>
              <a:ahLst/>
              <a:rect l="textAreaLeft" t="textAreaTop" r="textAreaRight" b="textAreaBottom"/>
              <a:pathLst>
                <a:path w="87" h="168">
                  <a:moveTo>
                    <a:pt x="87" y="25"/>
                  </a:moveTo>
                  <a:cubicBezTo>
                    <a:pt x="87" y="11"/>
                    <a:pt x="75" y="0"/>
                    <a:pt x="62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2" y="0"/>
                    <a:pt x="0" y="11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78"/>
                    <a:pt x="4" y="81"/>
                    <a:pt x="8" y="81"/>
                  </a:cubicBezTo>
                  <a:cubicBezTo>
                    <a:pt x="13" y="81"/>
                    <a:pt x="16" y="78"/>
                    <a:pt x="16" y="73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0" y="46"/>
                    <a:pt x="20" y="46"/>
                    <a:pt x="20" y="46"/>
                  </a:cubicBezTo>
                  <a:cubicBezTo>
                    <a:pt x="20" y="77"/>
                    <a:pt x="20" y="77"/>
                    <a:pt x="20" y="77"/>
                  </a:cubicBezTo>
                  <a:cubicBezTo>
                    <a:pt x="20" y="81"/>
                    <a:pt x="20" y="81"/>
                    <a:pt x="20" y="81"/>
                  </a:cubicBezTo>
                  <a:cubicBezTo>
                    <a:pt x="20" y="157"/>
                    <a:pt x="20" y="157"/>
                    <a:pt x="20" y="157"/>
                  </a:cubicBezTo>
                  <a:cubicBezTo>
                    <a:pt x="20" y="163"/>
                    <a:pt x="25" y="168"/>
                    <a:pt x="31" y="168"/>
                  </a:cubicBezTo>
                  <a:cubicBezTo>
                    <a:pt x="37" y="168"/>
                    <a:pt x="41" y="163"/>
                    <a:pt x="41" y="157"/>
                  </a:cubicBezTo>
                  <a:cubicBezTo>
                    <a:pt x="41" y="81"/>
                    <a:pt x="41" y="81"/>
                    <a:pt x="41" y="81"/>
                  </a:cubicBezTo>
                  <a:cubicBezTo>
                    <a:pt x="46" y="81"/>
                    <a:pt x="46" y="81"/>
                    <a:pt x="46" y="81"/>
                  </a:cubicBezTo>
                  <a:cubicBezTo>
                    <a:pt x="46" y="157"/>
                    <a:pt x="46" y="157"/>
                    <a:pt x="46" y="157"/>
                  </a:cubicBezTo>
                  <a:cubicBezTo>
                    <a:pt x="46" y="163"/>
                    <a:pt x="50" y="168"/>
                    <a:pt x="56" y="168"/>
                  </a:cubicBezTo>
                  <a:cubicBezTo>
                    <a:pt x="62" y="168"/>
                    <a:pt x="67" y="163"/>
                    <a:pt x="67" y="157"/>
                  </a:cubicBezTo>
                  <a:cubicBezTo>
                    <a:pt x="67" y="81"/>
                    <a:pt x="67" y="81"/>
                    <a:pt x="67" y="81"/>
                  </a:cubicBezTo>
                  <a:cubicBezTo>
                    <a:pt x="67" y="77"/>
                    <a:pt x="67" y="77"/>
                    <a:pt x="67" y="77"/>
                  </a:cubicBezTo>
                  <a:cubicBezTo>
                    <a:pt x="67" y="46"/>
                    <a:pt x="67" y="46"/>
                    <a:pt x="67" y="46"/>
                  </a:cubicBezTo>
                  <a:cubicBezTo>
                    <a:pt x="67" y="28"/>
                    <a:pt x="67" y="28"/>
                    <a:pt x="67" y="28"/>
                  </a:cubicBezTo>
                  <a:cubicBezTo>
                    <a:pt x="71" y="28"/>
                    <a:pt x="71" y="28"/>
                    <a:pt x="71" y="28"/>
                  </a:cubicBezTo>
                  <a:cubicBezTo>
                    <a:pt x="71" y="45"/>
                    <a:pt x="71" y="45"/>
                    <a:pt x="71" y="45"/>
                  </a:cubicBezTo>
                  <a:cubicBezTo>
                    <a:pt x="71" y="73"/>
                    <a:pt x="71" y="73"/>
                    <a:pt x="71" y="73"/>
                  </a:cubicBezTo>
                  <a:cubicBezTo>
                    <a:pt x="71" y="78"/>
                    <a:pt x="74" y="81"/>
                    <a:pt x="79" y="81"/>
                  </a:cubicBezTo>
                  <a:cubicBezTo>
                    <a:pt x="83" y="81"/>
                    <a:pt x="87" y="78"/>
                    <a:pt x="87" y="73"/>
                  </a:cubicBezTo>
                  <a:cubicBezTo>
                    <a:pt x="87" y="25"/>
                    <a:pt x="87" y="25"/>
                    <a:pt x="87" y="25"/>
                  </a:cubicBezTo>
                  <a:cubicBezTo>
                    <a:pt x="87" y="25"/>
                    <a:pt x="87" y="25"/>
                    <a:pt x="87" y="25"/>
                  </a:cubicBez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0" name="组合 34" descr=""/>
          <p:cNvPicPr/>
          <p:nvPr/>
        </p:nvPicPr>
        <p:blipFill>
          <a:blip r:embed="rId1"/>
          <a:stretch/>
        </p:blipFill>
        <p:spPr>
          <a:xfrm>
            <a:off x="6711840" y="1689120"/>
            <a:ext cx="1305000" cy="2943360"/>
          </a:xfrm>
          <a:prstGeom prst="rect">
            <a:avLst/>
          </a:prstGeom>
          <a:ln w="0">
            <a:noFill/>
          </a:ln>
        </p:spPr>
      </p:pic>
      <p:sp>
        <p:nvSpPr>
          <p:cNvPr id="1031" name="矩形 23"/>
          <p:cNvSpPr/>
          <p:nvPr/>
        </p:nvSpPr>
        <p:spPr>
          <a:xfrm>
            <a:off x="0" y="252360"/>
            <a:ext cx="55260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24"/>
          <p:cNvSpPr/>
          <p:nvPr/>
        </p:nvSpPr>
        <p:spPr>
          <a:xfrm>
            <a:off x="773280" y="252360"/>
            <a:ext cx="18864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25"/>
          <p:cNvSpPr/>
          <p:nvPr/>
        </p:nvSpPr>
        <p:spPr>
          <a:xfrm>
            <a:off x="498960" y="220680"/>
            <a:ext cx="55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5f6d"/>
                </a:solidFill>
                <a:latin typeface="Calibri Light"/>
              </a:rPr>
              <a:t>Add your text in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0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7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2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3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空心弧 7"/>
          <p:cNvSpPr/>
          <p:nvPr/>
        </p:nvSpPr>
        <p:spPr>
          <a:xfrm>
            <a:off x="5202360" y="2303640"/>
            <a:ext cx="2322360" cy="2250720"/>
          </a:xfrm>
          <a:custGeom>
            <a:avLst/>
            <a:gdLst/>
            <a:ahLst/>
            <a:rect l="l" t="t" r="r" b="b"/>
            <a:pathLst>
              <a:path w="2322512" h="2251075">
                <a:moveTo>
                  <a:pt x="1164836" y="5"/>
                </a:moveTo>
                <a:cubicBezTo>
                  <a:pt x="1804779" y="1917"/>
                  <a:pt x="2322512" y="505275"/>
                  <a:pt x="2322512" y="1125538"/>
                </a:cubicBezTo>
                <a:lnTo>
                  <a:pt x="1759743" y="1125538"/>
                </a:lnTo>
                <a:cubicBezTo>
                  <a:pt x="1759743" y="815386"/>
                  <a:pt x="1492881" y="563699"/>
                  <a:pt x="1163046" y="562772"/>
                </a:cubicBezTo>
                <a:cubicBezTo>
                  <a:pt x="1163643" y="375183"/>
                  <a:pt x="1164239" y="187594"/>
                  <a:pt x="1164836" y="5"/>
                </a:cubicBezTo>
                <a:close/>
              </a:path>
            </a:pathLst>
          </a:cu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空心弧 8"/>
          <p:cNvSpPr/>
          <p:nvPr/>
        </p:nvSpPr>
        <p:spPr>
          <a:xfrm rot="16200000">
            <a:off x="4651560" y="2338200"/>
            <a:ext cx="2322360" cy="2252520"/>
          </a:xfrm>
          <a:custGeom>
            <a:avLst/>
            <a:gdLst/>
            <a:ahLst/>
            <a:rect l="l" t="t" r="r" b="b"/>
            <a:pathLst>
              <a:path w="2322512" h="2252663">
                <a:moveTo>
                  <a:pt x="1164838" y="5"/>
                </a:moveTo>
                <a:cubicBezTo>
                  <a:pt x="1804780" y="1920"/>
                  <a:pt x="2322512" y="505632"/>
                  <a:pt x="2322512" y="1126332"/>
                </a:cubicBezTo>
                <a:lnTo>
                  <a:pt x="1759346" y="1126332"/>
                </a:lnTo>
                <a:cubicBezTo>
                  <a:pt x="1759346" y="815962"/>
                  <a:pt x="1492662" y="564098"/>
                  <a:pt x="1163047" y="563169"/>
                </a:cubicBezTo>
                <a:lnTo>
                  <a:pt x="1164838" y="5"/>
                </a:lnTo>
                <a:close/>
              </a:path>
            </a:pathLst>
          </a:custGeom>
          <a:solidFill>
            <a:srgbClr val="f57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空心弧 9"/>
          <p:cNvSpPr/>
          <p:nvPr/>
        </p:nvSpPr>
        <p:spPr>
          <a:xfrm rot="10800000">
            <a:off x="4665600" y="3027240"/>
            <a:ext cx="2324160" cy="2252880"/>
          </a:xfrm>
          <a:custGeom>
            <a:avLst/>
            <a:gdLst/>
            <a:ahLst/>
            <a:rect l="l" t="t" r="r" b="b"/>
            <a:pathLst>
              <a:path w="2324100" h="2252662">
                <a:moveTo>
                  <a:pt x="1165632" y="5"/>
                </a:moveTo>
                <a:cubicBezTo>
                  <a:pt x="1806013" y="1918"/>
                  <a:pt x="2324100" y="505631"/>
                  <a:pt x="2324100" y="1126331"/>
                </a:cubicBezTo>
                <a:lnTo>
                  <a:pt x="1760935" y="1126331"/>
                </a:lnTo>
                <a:cubicBezTo>
                  <a:pt x="1760935" y="815961"/>
                  <a:pt x="1493895" y="564096"/>
                  <a:pt x="1163841" y="563168"/>
                </a:cubicBezTo>
                <a:lnTo>
                  <a:pt x="1165632" y="5"/>
                </a:lnTo>
                <a:close/>
              </a:path>
            </a:pathLst>
          </a:cu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空心弧 10"/>
          <p:cNvSpPr/>
          <p:nvPr/>
        </p:nvSpPr>
        <p:spPr>
          <a:xfrm rot="5400000">
            <a:off x="5236560" y="3027240"/>
            <a:ext cx="2322720" cy="2252520"/>
          </a:xfrm>
          <a:custGeom>
            <a:avLst/>
            <a:gdLst/>
            <a:ahLst/>
            <a:rect l="l" t="t" r="r" b="b"/>
            <a:pathLst>
              <a:path w="2322512" h="2252662">
                <a:moveTo>
                  <a:pt x="1164838" y="5"/>
                </a:moveTo>
                <a:cubicBezTo>
                  <a:pt x="1804780" y="1920"/>
                  <a:pt x="2322512" y="505632"/>
                  <a:pt x="2322512" y="1126331"/>
                </a:cubicBezTo>
                <a:lnTo>
                  <a:pt x="1759347" y="1126331"/>
                </a:lnTo>
                <a:cubicBezTo>
                  <a:pt x="1759347" y="815961"/>
                  <a:pt x="1492663" y="564097"/>
                  <a:pt x="1163047" y="563168"/>
                </a:cubicBezTo>
                <a:lnTo>
                  <a:pt x="1164838" y="5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组合 21"/>
          <p:cNvGrpSpPr/>
          <p:nvPr/>
        </p:nvGrpSpPr>
        <p:grpSpPr>
          <a:xfrm>
            <a:off x="2679840" y="2099880"/>
            <a:ext cx="2522520" cy="717480"/>
            <a:chOff x="2679840" y="2099880"/>
            <a:chExt cx="2522520" cy="717480"/>
          </a:xfrm>
        </p:grpSpPr>
        <p:sp>
          <p:nvSpPr>
            <p:cNvPr id="523" name="直接连接符 2"/>
            <p:cNvSpPr/>
            <p:nvPr/>
          </p:nvSpPr>
          <p:spPr>
            <a:xfrm flipH="1" flipV="1">
              <a:off x="4535640" y="2099880"/>
              <a:ext cx="666720" cy="717480"/>
            </a:xfrm>
            <a:prstGeom prst="line">
              <a:avLst/>
            </a:prstGeom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直接连接符 6"/>
            <p:cNvSpPr/>
            <p:nvPr/>
          </p:nvSpPr>
          <p:spPr>
            <a:xfrm flipH="1">
              <a:off x="2679840" y="2112840"/>
              <a:ext cx="1876320" cy="0"/>
            </a:xfrm>
            <a:prstGeom prst="line">
              <a:avLst/>
            </a:prstGeom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组合 22"/>
          <p:cNvGrpSpPr/>
          <p:nvPr/>
        </p:nvGrpSpPr>
        <p:grpSpPr>
          <a:xfrm>
            <a:off x="6989760" y="1944360"/>
            <a:ext cx="2911320" cy="873000"/>
            <a:chOff x="6989760" y="1944360"/>
            <a:chExt cx="2911320" cy="873000"/>
          </a:xfrm>
        </p:grpSpPr>
        <p:sp>
          <p:nvSpPr>
            <p:cNvPr id="526" name="直接连接符 12"/>
            <p:cNvSpPr/>
            <p:nvPr/>
          </p:nvSpPr>
          <p:spPr>
            <a:xfrm flipV="1">
              <a:off x="6989760" y="1944360"/>
              <a:ext cx="687240" cy="873000"/>
            </a:xfrm>
            <a:prstGeom prst="line">
              <a:avLst/>
            </a:prstGeom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直接连接符 14"/>
            <p:cNvSpPr/>
            <p:nvPr/>
          </p:nvSpPr>
          <p:spPr>
            <a:xfrm>
              <a:off x="7665840" y="1944720"/>
              <a:ext cx="2235240" cy="0"/>
            </a:xfrm>
            <a:prstGeom prst="line">
              <a:avLst/>
            </a:prstGeom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矩形 24"/>
          <p:cNvSpPr/>
          <p:nvPr/>
        </p:nvSpPr>
        <p:spPr>
          <a:xfrm>
            <a:off x="0" y="252360"/>
            <a:ext cx="55260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25"/>
          <p:cNvSpPr/>
          <p:nvPr/>
        </p:nvSpPr>
        <p:spPr>
          <a:xfrm>
            <a:off x="773280" y="252360"/>
            <a:ext cx="18864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26"/>
          <p:cNvSpPr/>
          <p:nvPr/>
        </p:nvSpPr>
        <p:spPr>
          <a:xfrm>
            <a:off x="498960" y="220680"/>
            <a:ext cx="55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5f6d"/>
                </a:solidFill>
                <a:latin typeface="Calibri Light"/>
              </a:rPr>
              <a:t>Add your text in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组合 39942"/>
          <p:cNvGrpSpPr/>
          <p:nvPr/>
        </p:nvGrpSpPr>
        <p:grpSpPr>
          <a:xfrm>
            <a:off x="6959520" y="4861080"/>
            <a:ext cx="2941560" cy="663480"/>
            <a:chOff x="6959520" y="4861080"/>
            <a:chExt cx="2941560" cy="663480"/>
          </a:xfrm>
        </p:grpSpPr>
        <p:sp>
          <p:nvSpPr>
            <p:cNvPr id="532" name="直接连接符 27"/>
            <p:cNvSpPr/>
            <p:nvPr/>
          </p:nvSpPr>
          <p:spPr>
            <a:xfrm>
              <a:off x="6959520" y="4861080"/>
              <a:ext cx="565200" cy="628560"/>
            </a:xfrm>
            <a:prstGeom prst="line">
              <a:avLst/>
            </a:prstGeom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直接连接符 29"/>
            <p:cNvSpPr/>
            <p:nvPr/>
          </p:nvSpPr>
          <p:spPr>
            <a:xfrm>
              <a:off x="7524720" y="5489640"/>
              <a:ext cx="2376360" cy="34920"/>
            </a:xfrm>
            <a:prstGeom prst="line">
              <a:avLst/>
            </a:prstGeom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组合 39941"/>
          <p:cNvGrpSpPr/>
          <p:nvPr/>
        </p:nvGrpSpPr>
        <p:grpSpPr>
          <a:xfrm>
            <a:off x="2695680" y="4745160"/>
            <a:ext cx="2506680" cy="779400"/>
            <a:chOff x="2695680" y="4745160"/>
            <a:chExt cx="2506680" cy="779400"/>
          </a:xfrm>
        </p:grpSpPr>
        <p:sp>
          <p:nvSpPr>
            <p:cNvPr id="535" name="直接连接符 39935"/>
            <p:cNvSpPr/>
            <p:nvPr/>
          </p:nvSpPr>
          <p:spPr>
            <a:xfrm flipH="1">
              <a:off x="4735800" y="4745160"/>
              <a:ext cx="466560" cy="779400"/>
            </a:xfrm>
            <a:prstGeom prst="line">
              <a:avLst/>
            </a:prstGeom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直接连接符 39938"/>
            <p:cNvSpPr/>
            <p:nvPr/>
          </p:nvSpPr>
          <p:spPr>
            <a:xfrm flipH="1">
              <a:off x="2695680" y="5524560"/>
              <a:ext cx="2068560" cy="0"/>
            </a:xfrm>
            <a:prstGeom prst="line">
              <a:avLst/>
            </a:prstGeom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文本框 10"/>
          <p:cNvSpPr/>
          <p:nvPr/>
        </p:nvSpPr>
        <p:spPr>
          <a:xfrm>
            <a:off x="10209240" y="1192320"/>
            <a:ext cx="1501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5f6d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10"/>
          <p:cNvSpPr/>
          <p:nvPr/>
        </p:nvSpPr>
        <p:spPr>
          <a:xfrm>
            <a:off x="10209240" y="4599000"/>
            <a:ext cx="1501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5f6d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10"/>
          <p:cNvSpPr/>
          <p:nvPr/>
        </p:nvSpPr>
        <p:spPr>
          <a:xfrm>
            <a:off x="784080" y="4843440"/>
            <a:ext cx="1501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5f6d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10"/>
          <p:cNvSpPr/>
          <p:nvPr/>
        </p:nvSpPr>
        <p:spPr>
          <a:xfrm>
            <a:off x="766800" y="1395360"/>
            <a:ext cx="15015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5f6d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39943"/>
          <p:cNvSpPr/>
          <p:nvPr/>
        </p:nvSpPr>
        <p:spPr>
          <a:xfrm>
            <a:off x="5135400" y="2579760"/>
            <a:ext cx="17179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800" spc="-1" strike="noStrike">
                <a:solidFill>
                  <a:srgbClr val="7f7f7f"/>
                </a:solidFill>
                <a:latin typeface="Webdings"/>
                <a:ea typeface="Webdings"/>
              </a:rPr>
              <a:t>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1BBE-FC5D-4830-846B-E181757F4D9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椭圆 9"/>
          <p:cNvSpPr/>
          <p:nvPr/>
        </p:nvSpPr>
        <p:spPr>
          <a:xfrm>
            <a:off x="4341960" y="2581200"/>
            <a:ext cx="3644640" cy="3645000"/>
          </a:xfrm>
          <a:prstGeom prst="ellipse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椭圆 10"/>
          <p:cNvSpPr/>
          <p:nvPr/>
        </p:nvSpPr>
        <p:spPr>
          <a:xfrm>
            <a:off x="7497720" y="1596960"/>
            <a:ext cx="1263600" cy="126360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椭圆 11"/>
          <p:cNvSpPr/>
          <p:nvPr/>
        </p:nvSpPr>
        <p:spPr>
          <a:xfrm>
            <a:off x="8427960" y="2975040"/>
            <a:ext cx="1892520" cy="189216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文本框 13"/>
          <p:cNvSpPr/>
          <p:nvPr/>
        </p:nvSpPr>
        <p:spPr>
          <a:xfrm>
            <a:off x="9476280" y="507996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5f6d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椭圆 14"/>
          <p:cNvSpPr/>
          <p:nvPr/>
        </p:nvSpPr>
        <p:spPr>
          <a:xfrm>
            <a:off x="6129360" y="1406520"/>
            <a:ext cx="816120" cy="81612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椭圆 15"/>
          <p:cNvSpPr/>
          <p:nvPr/>
        </p:nvSpPr>
        <p:spPr>
          <a:xfrm>
            <a:off x="4761000" y="1814400"/>
            <a:ext cx="652320" cy="65412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文本框 16"/>
          <p:cNvSpPr/>
          <p:nvPr/>
        </p:nvSpPr>
        <p:spPr>
          <a:xfrm>
            <a:off x="8802360" y="366696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5f6d"/>
                </a:solidFill>
                <a:latin typeface="微软雅黑"/>
                <a:ea typeface="微软雅黑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文本框 17"/>
          <p:cNvSpPr/>
          <p:nvPr/>
        </p:nvSpPr>
        <p:spPr>
          <a:xfrm>
            <a:off x="7674840" y="200664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5f6d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文本框 18"/>
          <p:cNvSpPr/>
          <p:nvPr/>
        </p:nvSpPr>
        <p:spPr>
          <a:xfrm>
            <a:off x="6193800" y="16430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5f6d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文本框 19"/>
          <p:cNvSpPr/>
          <p:nvPr/>
        </p:nvSpPr>
        <p:spPr>
          <a:xfrm>
            <a:off x="4770000" y="20080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25f6d"/>
                </a:solidFill>
                <a:latin typeface="微软雅黑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文本框 27"/>
          <p:cNvSpPr/>
          <p:nvPr/>
        </p:nvSpPr>
        <p:spPr>
          <a:xfrm>
            <a:off x="222120" y="5003640"/>
            <a:ext cx="3903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5f6d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文本框 28"/>
          <p:cNvSpPr/>
          <p:nvPr/>
        </p:nvSpPr>
        <p:spPr>
          <a:xfrm>
            <a:off x="206640" y="440388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5f6d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24"/>
          <p:cNvSpPr/>
          <p:nvPr/>
        </p:nvSpPr>
        <p:spPr>
          <a:xfrm>
            <a:off x="0" y="252360"/>
            <a:ext cx="55260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25"/>
          <p:cNvSpPr/>
          <p:nvPr/>
        </p:nvSpPr>
        <p:spPr>
          <a:xfrm>
            <a:off x="773280" y="252360"/>
            <a:ext cx="18864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26"/>
          <p:cNvSpPr/>
          <p:nvPr/>
        </p:nvSpPr>
        <p:spPr>
          <a:xfrm>
            <a:off x="498960" y="220680"/>
            <a:ext cx="55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5f6d"/>
                </a:solidFill>
                <a:latin typeface="Calibri Light"/>
              </a:rPr>
              <a:t>Add your text in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7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2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7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11"/>
          <p:cNvGrpSpPr/>
          <p:nvPr/>
        </p:nvGrpSpPr>
        <p:grpSpPr>
          <a:xfrm>
            <a:off x="5133960" y="3763800"/>
            <a:ext cx="2479680" cy="2462400"/>
            <a:chOff x="5133960" y="3763800"/>
            <a:chExt cx="2479680" cy="2462400"/>
          </a:xfrm>
        </p:grpSpPr>
        <p:sp>
          <p:nvSpPr>
            <p:cNvPr id="1051" name="Rectangle 240"/>
            <p:cNvSpPr/>
            <p:nvPr/>
          </p:nvSpPr>
          <p:spPr>
            <a:xfrm>
              <a:off x="5133960" y="3763800"/>
              <a:ext cx="2479680" cy="365760"/>
            </a:xfrm>
            <a:prstGeom prst="rect">
              <a:avLst/>
            </a:prstGeom>
            <a:solidFill>
              <a:srgbClr val="7f7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ample sub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241"/>
            <p:cNvSpPr/>
            <p:nvPr/>
          </p:nvSpPr>
          <p:spPr>
            <a:xfrm>
              <a:off x="5133960" y="4129560"/>
              <a:ext cx="2479680" cy="20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</a:rPr>
                <a:t>This is a sample text, insert your desired text here. This is a sample text, insert your desired text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Group 9"/>
          <p:cNvGrpSpPr/>
          <p:nvPr/>
        </p:nvGrpSpPr>
        <p:grpSpPr>
          <a:xfrm>
            <a:off x="2111400" y="3763800"/>
            <a:ext cx="2479680" cy="2462400"/>
            <a:chOff x="2111400" y="3763800"/>
            <a:chExt cx="2479680" cy="2462400"/>
          </a:xfrm>
        </p:grpSpPr>
        <p:sp>
          <p:nvSpPr>
            <p:cNvPr id="1054" name="Rectangle 249"/>
            <p:cNvSpPr/>
            <p:nvPr/>
          </p:nvSpPr>
          <p:spPr>
            <a:xfrm>
              <a:off x="2111400" y="3763800"/>
              <a:ext cx="2479680" cy="365760"/>
            </a:xfrm>
            <a:prstGeom prst="rect">
              <a:avLst/>
            </a:prstGeom>
            <a:solidFill>
              <a:srgbClr val="f25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ample sub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Rectangle 250"/>
            <p:cNvSpPr/>
            <p:nvPr/>
          </p:nvSpPr>
          <p:spPr>
            <a:xfrm>
              <a:off x="2111400" y="4129560"/>
              <a:ext cx="2479680" cy="20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</a:rPr>
                <a:t>This is a sample text, insert your desired text here. This is a sample text, insert your desired text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6" name="Group 8"/>
          <p:cNvGrpSpPr/>
          <p:nvPr/>
        </p:nvGrpSpPr>
        <p:grpSpPr>
          <a:xfrm>
            <a:off x="8180280" y="3763800"/>
            <a:ext cx="2479680" cy="2462400"/>
            <a:chOff x="8180280" y="3763800"/>
            <a:chExt cx="2479680" cy="2462400"/>
          </a:xfrm>
        </p:grpSpPr>
        <p:sp>
          <p:nvSpPr>
            <p:cNvPr id="1057" name="Rectangle 252"/>
            <p:cNvSpPr/>
            <p:nvPr/>
          </p:nvSpPr>
          <p:spPr>
            <a:xfrm>
              <a:off x="8180280" y="3763800"/>
              <a:ext cx="2479680" cy="365760"/>
            </a:xfrm>
            <a:prstGeom prst="rect">
              <a:avLst/>
            </a:prstGeom>
            <a:solidFill>
              <a:srgbClr val="f57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ample sub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Rectangle 253"/>
            <p:cNvSpPr/>
            <p:nvPr/>
          </p:nvSpPr>
          <p:spPr>
            <a:xfrm>
              <a:off x="8180280" y="4129560"/>
              <a:ext cx="2479680" cy="20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</a:rPr>
                <a:t>This is a sample text, insert your desired text here. This is a sample text, insert your desired text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9" name="椭圆 200"/>
          <p:cNvSpPr/>
          <p:nvPr/>
        </p:nvSpPr>
        <p:spPr>
          <a:xfrm>
            <a:off x="2413080" y="1674720"/>
            <a:ext cx="1724040" cy="1724040"/>
          </a:xfrm>
          <a:prstGeom prst="ellipse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椭圆 202"/>
          <p:cNvSpPr/>
          <p:nvPr/>
        </p:nvSpPr>
        <p:spPr>
          <a:xfrm>
            <a:off x="5438880" y="1684440"/>
            <a:ext cx="1724040" cy="1724040"/>
          </a:xfrm>
          <a:prstGeom prst="ellipse">
            <a:avLst/>
          </a:prstGeom>
          <a:solidFill>
            <a:srgbClr val="7f7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椭圆 204"/>
          <p:cNvSpPr/>
          <p:nvPr/>
        </p:nvSpPr>
        <p:spPr>
          <a:xfrm>
            <a:off x="8466120" y="1695600"/>
            <a:ext cx="1724040" cy="1724040"/>
          </a:xfrm>
          <a:prstGeom prst="ellipse">
            <a:avLst/>
          </a:prstGeom>
          <a:solidFill>
            <a:srgbClr val="f57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26"/>
          <p:cNvSpPr/>
          <p:nvPr/>
        </p:nvSpPr>
        <p:spPr>
          <a:xfrm>
            <a:off x="0" y="252360"/>
            <a:ext cx="55260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27"/>
          <p:cNvSpPr/>
          <p:nvPr/>
        </p:nvSpPr>
        <p:spPr>
          <a:xfrm>
            <a:off x="773280" y="252360"/>
            <a:ext cx="18864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28"/>
          <p:cNvSpPr/>
          <p:nvPr/>
        </p:nvSpPr>
        <p:spPr>
          <a:xfrm>
            <a:off x="498960" y="220680"/>
            <a:ext cx="55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5f6d"/>
                </a:solidFill>
                <a:latin typeface="Calibri Light"/>
              </a:rPr>
              <a:t>Add your text in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1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5E78-8092-4607-AD59-D077876C7E1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文本框 20"/>
          <p:cNvSpPr/>
          <p:nvPr/>
        </p:nvSpPr>
        <p:spPr>
          <a:xfrm>
            <a:off x="1550880" y="3065400"/>
            <a:ext cx="946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25f6d"/>
                </a:solidFill>
                <a:latin typeface="微软雅黑"/>
                <a:ea typeface="微软雅黑"/>
              </a:rPr>
              <a:t>Thank you for listen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文本框 21"/>
          <p:cNvSpPr/>
          <p:nvPr/>
        </p:nvSpPr>
        <p:spPr>
          <a:xfrm>
            <a:off x="2589120" y="4276800"/>
            <a:ext cx="69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5f6d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Oval 1"/>
          <p:cNvSpPr/>
          <p:nvPr/>
        </p:nvSpPr>
        <p:spPr>
          <a:xfrm>
            <a:off x="4259160" y="5097600"/>
            <a:ext cx="4240440" cy="1601640"/>
          </a:xfrm>
          <a:custGeom>
            <a:avLst/>
            <a:gdLst>
              <a:gd name="textAreaLeft" fmla="*/ 0 w 4240440"/>
              <a:gd name="textAreaRight" fmla="*/ 4240800 w 4240440"/>
              <a:gd name="textAreaTop" fmla="*/ 0 h 1601640"/>
              <a:gd name="textAreaBottom" fmla="*/ 1602000 h 160164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Group 69"/>
          <p:cNvGrpSpPr/>
          <p:nvPr/>
        </p:nvGrpSpPr>
        <p:grpSpPr>
          <a:xfrm>
            <a:off x="8450640" y="2462040"/>
            <a:ext cx="3671640" cy="4281120"/>
            <a:chOff x="8450640" y="2462040"/>
            <a:chExt cx="3671640" cy="4281120"/>
          </a:xfrm>
        </p:grpSpPr>
        <p:sp>
          <p:nvSpPr>
            <p:cNvPr id="1070" name="Rounded Rectangle 70"/>
            <p:cNvSpPr/>
            <p:nvPr/>
          </p:nvSpPr>
          <p:spPr>
            <a:xfrm rot="18600000">
              <a:off x="11467440" y="2678760"/>
              <a:ext cx="681840" cy="247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Isosceles Triangle 12"/>
            <p:cNvSpPr/>
            <p:nvPr/>
          </p:nvSpPr>
          <p:spPr>
            <a:xfrm rot="13200000">
              <a:off x="8571600" y="6473520"/>
              <a:ext cx="65880" cy="2743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ounded Rectangle 72"/>
            <p:cNvSpPr/>
            <p:nvPr/>
          </p:nvSpPr>
          <p:spPr>
            <a:xfrm rot="18600000">
              <a:off x="8629920" y="5247360"/>
              <a:ext cx="1881720" cy="424080"/>
            </a:xfrm>
            <a:prstGeom prst="roundRect">
              <a:avLst>
                <a:gd name="adj" fmla="val 10718"/>
              </a:avLst>
            </a:prstGeom>
            <a:solidFill>
              <a:srgbClr val="f25f6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Isosceles Triangle 24"/>
            <p:cNvSpPr/>
            <p:nvPr/>
          </p:nvSpPr>
          <p:spPr>
            <a:xfrm rot="13200000">
              <a:off x="8584200" y="6132960"/>
              <a:ext cx="376920" cy="55368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d8d8d8"/>
                </a:gs>
                <a:gs pos="100000">
                  <a:srgbClr val="7f7f7f"/>
                </a:gs>
              </a:gsLst>
              <a:lin ang="5400000"/>
            </a:gradFill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74"/>
            <p:cNvSpPr/>
            <p:nvPr/>
          </p:nvSpPr>
          <p:spPr>
            <a:xfrm rot="18600000">
              <a:off x="9682920" y="3483720"/>
              <a:ext cx="2735640" cy="424080"/>
            </a:xfrm>
            <a:custGeom>
              <a:avLst/>
              <a:gdLst>
                <a:gd name="textAreaLeft" fmla="*/ 0 w 2735640"/>
                <a:gd name="textAreaRight" fmla="*/ 2736000 w 273564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f25f6d"/>
            </a:solidFill>
            <a:ln w="12600">
              <a:solidFill>
                <a:srgbClr val="ee0f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75"/>
            <p:cNvSpPr/>
            <p:nvPr/>
          </p:nvSpPr>
          <p:spPr>
            <a:xfrm rot="18600000">
              <a:off x="10134000" y="4548240"/>
              <a:ext cx="47160" cy="424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ounded Rectangle 76"/>
            <p:cNvSpPr/>
            <p:nvPr/>
          </p:nvSpPr>
          <p:spPr>
            <a:xfrm rot="18600000">
              <a:off x="8940600" y="5974920"/>
              <a:ext cx="47160" cy="414360"/>
            </a:xfrm>
            <a:custGeom>
              <a:avLst/>
              <a:gdLst>
                <a:gd name="textAreaLeft" fmla="*/ 5040 w 47160"/>
                <a:gd name="textAreaRight" fmla="*/ 42120 w 47160"/>
                <a:gd name="textAreaTop" fmla="*/ 5040 h 414360"/>
                <a:gd name="textAreaBottom" fmla="*/ 409320 h 414360"/>
              </a:gdLst>
              <a:ahLst/>
              <a:rect l="textAreaLeft" t="textAreaTop" r="textAreaRight" b="textAreaBottom"/>
              <a:pathLst>
                <a:path w="21600" h="188509">
                  <a:moveTo>
                    <a:pt x="7961" y="0"/>
                  </a:moveTo>
                  <a:arcTo wR="7961" hR="7961" stAng="16200000" swAng="-5400000"/>
                  <a:lnTo>
                    <a:pt x="0" y="180548"/>
                  </a:lnTo>
                  <a:arcTo wR="7961" hR="7961" stAng="10800000" swAng="-5400000"/>
                  <a:lnTo>
                    <a:pt x="13639" y="188509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ounded Rectangle 77"/>
            <p:cNvSpPr/>
            <p:nvPr/>
          </p:nvSpPr>
          <p:spPr>
            <a:xfrm rot="18600000">
              <a:off x="11725920" y="2631600"/>
              <a:ext cx="133560" cy="408600"/>
            </a:xfrm>
            <a:custGeom>
              <a:avLst/>
              <a:gdLst>
                <a:gd name="textAreaLeft" fmla="*/ 7560 w 133560"/>
                <a:gd name="textAreaRight" fmla="*/ 126000 w 133560"/>
                <a:gd name="textAreaTop" fmla="*/ 7560 h 408600"/>
                <a:gd name="textAreaBottom" fmla="*/ 401040 h 408600"/>
              </a:gdLst>
              <a:ahLst/>
              <a:rect l="textAreaLeft" t="textAreaTop" r="textAreaRight" b="textAreaBottom"/>
              <a:pathLst>
                <a:path w="21600" h="65961">
                  <a:moveTo>
                    <a:pt x="4279" y="0"/>
                  </a:moveTo>
                  <a:arcTo wR="4279" hR="4279" stAng="16200000" swAng="-5400000"/>
                  <a:lnTo>
                    <a:pt x="0" y="61682"/>
                  </a:lnTo>
                  <a:arcTo wR="4279" hR="4279" stAng="10800000" swAng="-5400000"/>
                  <a:lnTo>
                    <a:pt x="17321" y="65961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ounded Rectangle 78"/>
            <p:cNvSpPr/>
            <p:nvPr/>
          </p:nvSpPr>
          <p:spPr>
            <a:xfrm rot="18600000">
              <a:off x="10679400" y="3219480"/>
              <a:ext cx="1477800" cy="1335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9" name="Group 79"/>
            <p:cNvGrpSpPr/>
            <p:nvPr/>
          </p:nvGrpSpPr>
          <p:grpSpPr>
            <a:xfrm>
              <a:off x="11006280" y="2801160"/>
              <a:ext cx="824400" cy="970560"/>
              <a:chOff x="11006280" y="2801160"/>
              <a:chExt cx="824400" cy="970560"/>
            </a:xfrm>
          </p:grpSpPr>
          <p:sp>
            <p:nvSpPr>
              <p:cNvPr id="1080" name="Straight Connector 80"/>
              <p:cNvSpPr/>
              <p:nvPr/>
            </p:nvSpPr>
            <p:spPr>
              <a:xfrm flipV="1">
                <a:off x="11040480" y="28299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Straight Connector 81"/>
              <p:cNvSpPr/>
              <p:nvPr/>
            </p:nvSpPr>
            <p:spPr>
              <a:xfrm flipV="1">
                <a:off x="11006280" y="28011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2" name="文本框 18"/>
          <p:cNvSpPr/>
          <p:nvPr/>
        </p:nvSpPr>
        <p:spPr>
          <a:xfrm>
            <a:off x="3863880" y="-488880"/>
            <a:ext cx="45626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f25f6d"/>
                </a:solidFill>
                <a:latin typeface="Wingdings 2"/>
                <a:ea typeface="Wingdings 2"/>
              </a:rPr>
              <a:t>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0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0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2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37CC-6D04-404A-AAD2-ACC6FFA9004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椭圆 16"/>
          <p:cNvSpPr/>
          <p:nvPr/>
        </p:nvSpPr>
        <p:spPr>
          <a:xfrm>
            <a:off x="4282920" y="3129120"/>
            <a:ext cx="3097440" cy="3095640"/>
          </a:xfrm>
          <a:prstGeom prst="ellipse">
            <a:avLst/>
          </a:prstGeom>
          <a:solidFill>
            <a:srgbClr val="f25f6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椭圆 18"/>
          <p:cNvSpPr/>
          <p:nvPr/>
        </p:nvSpPr>
        <p:spPr>
          <a:xfrm>
            <a:off x="7870680" y="3979800"/>
            <a:ext cx="1295640" cy="1295640"/>
          </a:xfrm>
          <a:prstGeom prst="ellipse">
            <a:avLst/>
          </a:prstGeom>
          <a:solidFill>
            <a:srgbClr val="ee0f6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椭圆 19"/>
          <p:cNvSpPr/>
          <p:nvPr/>
        </p:nvSpPr>
        <p:spPr>
          <a:xfrm>
            <a:off x="9339120" y="2152800"/>
            <a:ext cx="1944720" cy="1944360"/>
          </a:xfrm>
          <a:prstGeom prst="ellipse">
            <a:avLst/>
          </a:prstGeom>
          <a:solidFill>
            <a:srgbClr val="ee0f6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24"/>
          <p:cNvSpPr/>
          <p:nvPr/>
        </p:nvSpPr>
        <p:spPr>
          <a:xfrm>
            <a:off x="4257720" y="4575240"/>
            <a:ext cx="32115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25"/>
          <p:cNvSpPr/>
          <p:nvPr/>
        </p:nvSpPr>
        <p:spPr>
          <a:xfrm>
            <a:off x="8737560" y="3078000"/>
            <a:ext cx="3211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27"/>
          <p:cNvSpPr/>
          <p:nvPr/>
        </p:nvSpPr>
        <p:spPr>
          <a:xfrm>
            <a:off x="7746840" y="4619520"/>
            <a:ext cx="16066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29"/>
          <p:cNvSpPr/>
          <p:nvPr/>
        </p:nvSpPr>
        <p:spPr>
          <a:xfrm>
            <a:off x="5542200" y="344160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30"/>
          <p:cNvSpPr/>
          <p:nvPr/>
        </p:nvSpPr>
        <p:spPr>
          <a:xfrm>
            <a:off x="8293680" y="40863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31"/>
          <p:cNvSpPr/>
          <p:nvPr/>
        </p:nvSpPr>
        <p:spPr>
          <a:xfrm>
            <a:off x="10088640" y="2398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直接连接符 4"/>
          <p:cNvSpPr/>
          <p:nvPr/>
        </p:nvSpPr>
        <p:spPr>
          <a:xfrm flipV="1">
            <a:off x="2502000" y="1545840"/>
            <a:ext cx="1440" cy="1157400"/>
          </a:xfrm>
          <a:prstGeom prst="line">
            <a:avLst/>
          </a:prstGeom>
          <a:ln w="6480">
            <a:solidFill>
              <a:srgbClr val="f2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直接连接符 32"/>
          <p:cNvSpPr/>
          <p:nvPr/>
        </p:nvSpPr>
        <p:spPr>
          <a:xfrm flipV="1">
            <a:off x="5854680" y="1568520"/>
            <a:ext cx="1440" cy="1574640"/>
          </a:xfrm>
          <a:prstGeom prst="line">
            <a:avLst/>
          </a:prstGeom>
          <a:ln w="6480">
            <a:solidFill>
              <a:srgbClr val="f2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直接连接符 34"/>
          <p:cNvSpPr/>
          <p:nvPr/>
        </p:nvSpPr>
        <p:spPr>
          <a:xfrm flipV="1">
            <a:off x="8507520" y="1519200"/>
            <a:ext cx="1440" cy="2487600"/>
          </a:xfrm>
          <a:prstGeom prst="line">
            <a:avLst/>
          </a:prstGeom>
          <a:ln w="6480">
            <a:solidFill>
              <a:srgbClr val="f2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直接连接符 35"/>
          <p:cNvSpPr/>
          <p:nvPr/>
        </p:nvSpPr>
        <p:spPr>
          <a:xfrm flipV="1">
            <a:off x="10283760" y="1525320"/>
            <a:ext cx="1800" cy="633240"/>
          </a:xfrm>
          <a:prstGeom prst="line">
            <a:avLst/>
          </a:prstGeom>
          <a:ln w="6480">
            <a:solidFill>
              <a:srgbClr val="f2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椭圆 17"/>
          <p:cNvSpPr/>
          <p:nvPr/>
        </p:nvSpPr>
        <p:spPr>
          <a:xfrm>
            <a:off x="1374840" y="2703600"/>
            <a:ext cx="2254320" cy="2254320"/>
          </a:xfrm>
          <a:prstGeom prst="ellipse">
            <a:avLst/>
          </a:prstGeom>
          <a:solidFill>
            <a:srgbClr val="f25f6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23"/>
          <p:cNvSpPr/>
          <p:nvPr/>
        </p:nvSpPr>
        <p:spPr>
          <a:xfrm>
            <a:off x="1230480" y="3745080"/>
            <a:ext cx="26650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28"/>
          <p:cNvSpPr/>
          <p:nvPr/>
        </p:nvSpPr>
        <p:spPr>
          <a:xfrm>
            <a:off x="2260800" y="2901960"/>
            <a:ext cx="52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30"/>
          <p:cNvSpPr/>
          <p:nvPr/>
        </p:nvSpPr>
        <p:spPr>
          <a:xfrm>
            <a:off x="0" y="252360"/>
            <a:ext cx="55260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31"/>
          <p:cNvSpPr/>
          <p:nvPr/>
        </p:nvSpPr>
        <p:spPr>
          <a:xfrm>
            <a:off x="773280" y="252360"/>
            <a:ext cx="18864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32"/>
          <p:cNvSpPr/>
          <p:nvPr/>
        </p:nvSpPr>
        <p:spPr>
          <a:xfrm>
            <a:off x="498960" y="220680"/>
            <a:ext cx="55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5f6d"/>
                </a:solidFill>
                <a:latin typeface="Calibri Light"/>
              </a:rPr>
              <a:t>Add your text in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直接连接符 2"/>
          <p:cNvSpPr/>
          <p:nvPr/>
        </p:nvSpPr>
        <p:spPr>
          <a:xfrm flipV="1">
            <a:off x="1557360" y="1518840"/>
            <a:ext cx="9726480" cy="27000"/>
          </a:xfrm>
          <a:prstGeom prst="line">
            <a:avLst/>
          </a:prstGeom>
          <a:ln w="9360">
            <a:solidFill>
              <a:srgbClr val="f2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泪滴形 2"/>
          <p:cNvGrpSpPr/>
          <p:nvPr/>
        </p:nvGrpSpPr>
        <p:grpSpPr>
          <a:xfrm>
            <a:off x="4591080" y="3432240"/>
            <a:ext cx="1638360" cy="1603440"/>
            <a:chOff x="4591080" y="3432240"/>
            <a:chExt cx="1638360" cy="1603440"/>
          </a:xfrm>
        </p:grpSpPr>
        <p:pic>
          <p:nvPicPr>
            <p:cNvPr id="564" name="泪滴形 2" descr=""/>
            <p:cNvPicPr/>
            <p:nvPr/>
          </p:nvPicPr>
          <p:blipFill>
            <a:blip r:embed="rId1"/>
            <a:stretch/>
          </p:blipFill>
          <p:spPr>
            <a:xfrm>
              <a:off x="4591080" y="3432240"/>
              <a:ext cx="163836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"/>
            <p:cNvSpPr/>
            <p:nvPr/>
          </p:nvSpPr>
          <p:spPr>
            <a:xfrm rot="250800">
              <a:off x="4986000" y="3832200"/>
              <a:ext cx="80316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泪滴形 3"/>
          <p:cNvGrpSpPr/>
          <p:nvPr/>
        </p:nvGrpSpPr>
        <p:grpSpPr>
          <a:xfrm>
            <a:off x="6016680" y="3395520"/>
            <a:ext cx="1676520" cy="1603440"/>
            <a:chOff x="6016680" y="3395520"/>
            <a:chExt cx="1676520" cy="1603440"/>
          </a:xfrm>
        </p:grpSpPr>
        <p:pic>
          <p:nvPicPr>
            <p:cNvPr id="567" name="泪滴形 3" descr=""/>
            <p:cNvPicPr/>
            <p:nvPr/>
          </p:nvPicPr>
          <p:blipFill>
            <a:blip r:embed="rId2"/>
            <a:stretch/>
          </p:blipFill>
          <p:spPr>
            <a:xfrm>
              <a:off x="6016680" y="3395520"/>
              <a:ext cx="167652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 rot="15694800">
              <a:off x="6491160" y="3795120"/>
              <a:ext cx="803160" cy="80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泪滴形 4"/>
          <p:cNvGrpSpPr/>
          <p:nvPr/>
        </p:nvGrpSpPr>
        <p:grpSpPr>
          <a:xfrm>
            <a:off x="6040440" y="2030400"/>
            <a:ext cx="1676520" cy="1596960"/>
            <a:chOff x="6040440" y="2030400"/>
            <a:chExt cx="1676520" cy="1596960"/>
          </a:xfrm>
        </p:grpSpPr>
        <p:pic>
          <p:nvPicPr>
            <p:cNvPr id="570" name="泪滴形 4" descr=""/>
            <p:cNvPicPr/>
            <p:nvPr/>
          </p:nvPicPr>
          <p:blipFill>
            <a:blip r:embed="rId3"/>
            <a:stretch/>
          </p:blipFill>
          <p:spPr>
            <a:xfrm>
              <a:off x="6040440" y="2030400"/>
              <a:ext cx="167652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 rot="11317800">
              <a:off x="6518160" y="2427120"/>
              <a:ext cx="80352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泪滴形 5"/>
          <p:cNvGrpSpPr/>
          <p:nvPr/>
        </p:nvGrpSpPr>
        <p:grpSpPr>
          <a:xfrm>
            <a:off x="4572000" y="2030400"/>
            <a:ext cx="1657440" cy="1596960"/>
            <a:chOff x="4572000" y="2030400"/>
            <a:chExt cx="1657440" cy="1596960"/>
          </a:xfrm>
        </p:grpSpPr>
        <p:pic>
          <p:nvPicPr>
            <p:cNvPr id="573" name="泪滴形 5" descr=""/>
            <p:cNvPicPr/>
            <p:nvPr/>
          </p:nvPicPr>
          <p:blipFill>
            <a:blip r:embed="rId4"/>
            <a:stretch/>
          </p:blipFill>
          <p:spPr>
            <a:xfrm>
              <a:off x="4572000" y="2030400"/>
              <a:ext cx="165744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 rot="5026800">
              <a:off x="4966200" y="2428200"/>
              <a:ext cx="80316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矩形 21"/>
          <p:cNvSpPr/>
          <p:nvPr/>
        </p:nvSpPr>
        <p:spPr>
          <a:xfrm>
            <a:off x="0" y="252360"/>
            <a:ext cx="55260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22"/>
          <p:cNvSpPr/>
          <p:nvPr/>
        </p:nvSpPr>
        <p:spPr>
          <a:xfrm>
            <a:off x="773280" y="252360"/>
            <a:ext cx="18864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23"/>
          <p:cNvSpPr/>
          <p:nvPr/>
        </p:nvSpPr>
        <p:spPr>
          <a:xfrm>
            <a:off x="498960" y="220680"/>
            <a:ext cx="55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5f6d"/>
                </a:solidFill>
                <a:latin typeface="Calibri Light"/>
              </a:rPr>
              <a:t>Add your text in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Group 43"/>
          <p:cNvGrpSpPr/>
          <p:nvPr/>
        </p:nvGrpSpPr>
        <p:grpSpPr>
          <a:xfrm>
            <a:off x="773280" y="1900080"/>
            <a:ext cx="3474720" cy="1306800"/>
            <a:chOff x="773280" y="1900080"/>
            <a:chExt cx="3474720" cy="1306800"/>
          </a:xfrm>
        </p:grpSpPr>
        <p:sp>
          <p:nvSpPr>
            <p:cNvPr id="579" name="Rectangle 44"/>
            <p:cNvSpPr/>
            <p:nvPr/>
          </p:nvSpPr>
          <p:spPr>
            <a:xfrm>
              <a:off x="773280" y="1900080"/>
              <a:ext cx="2742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45"/>
            <p:cNvSpPr/>
            <p:nvPr/>
          </p:nvSpPr>
          <p:spPr>
            <a:xfrm>
              <a:off x="773280" y="2232720"/>
              <a:ext cx="347472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43"/>
          <p:cNvGrpSpPr/>
          <p:nvPr/>
        </p:nvGrpSpPr>
        <p:grpSpPr>
          <a:xfrm>
            <a:off x="8397720" y="1789200"/>
            <a:ext cx="3475080" cy="1306440"/>
            <a:chOff x="8397720" y="1789200"/>
            <a:chExt cx="3475080" cy="1306440"/>
          </a:xfrm>
        </p:grpSpPr>
        <p:sp>
          <p:nvSpPr>
            <p:cNvPr id="582" name="Rectangle 44"/>
            <p:cNvSpPr/>
            <p:nvPr/>
          </p:nvSpPr>
          <p:spPr>
            <a:xfrm>
              <a:off x="8397720" y="1789200"/>
              <a:ext cx="274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45"/>
            <p:cNvSpPr/>
            <p:nvPr/>
          </p:nvSpPr>
          <p:spPr>
            <a:xfrm>
              <a:off x="8397720" y="2121480"/>
              <a:ext cx="34750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oup 43"/>
          <p:cNvGrpSpPr/>
          <p:nvPr/>
        </p:nvGrpSpPr>
        <p:grpSpPr>
          <a:xfrm>
            <a:off x="773280" y="4051440"/>
            <a:ext cx="3474720" cy="1306440"/>
            <a:chOff x="773280" y="4051440"/>
            <a:chExt cx="3474720" cy="1306440"/>
          </a:xfrm>
        </p:grpSpPr>
        <p:sp>
          <p:nvSpPr>
            <p:cNvPr id="585" name="Rectangle 44"/>
            <p:cNvSpPr/>
            <p:nvPr/>
          </p:nvSpPr>
          <p:spPr>
            <a:xfrm>
              <a:off x="773280" y="4051440"/>
              <a:ext cx="2742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45"/>
            <p:cNvSpPr/>
            <p:nvPr/>
          </p:nvSpPr>
          <p:spPr>
            <a:xfrm>
              <a:off x="773280" y="4383720"/>
              <a:ext cx="347472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43"/>
          <p:cNvGrpSpPr/>
          <p:nvPr/>
        </p:nvGrpSpPr>
        <p:grpSpPr>
          <a:xfrm>
            <a:off x="8397720" y="4384800"/>
            <a:ext cx="3475080" cy="1306440"/>
            <a:chOff x="8397720" y="4384800"/>
            <a:chExt cx="3475080" cy="1306440"/>
          </a:xfrm>
        </p:grpSpPr>
        <p:sp>
          <p:nvSpPr>
            <p:cNvPr id="588" name="Rectangle 44"/>
            <p:cNvSpPr/>
            <p:nvPr/>
          </p:nvSpPr>
          <p:spPr>
            <a:xfrm>
              <a:off x="8397720" y="4384800"/>
              <a:ext cx="274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45"/>
            <p:cNvSpPr/>
            <p:nvPr/>
          </p:nvSpPr>
          <p:spPr>
            <a:xfrm>
              <a:off x="8397720" y="4717080"/>
              <a:ext cx="34750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Text Box 4"/>
          <p:cNvSpPr/>
          <p:nvPr/>
        </p:nvSpPr>
        <p:spPr>
          <a:xfrm>
            <a:off x="773280" y="6026040"/>
            <a:ext cx="71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5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DFDA-80A4-46D6-87E4-A9F28038514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5f6d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f25f6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5f6d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596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f25f6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>
                <a:gd name="textAreaLeft" fmla="*/ 0 w 158040"/>
                <a:gd name="textAreaRight" fmla="*/ 158040 w 15804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d8d8d8"/>
                </a:gs>
                <a:gs pos="100000">
                  <a:srgbClr val="7f7f7f"/>
                </a:gs>
              </a:gsLst>
              <a:lin ang="5400000"/>
            </a:gradFill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f25f6d"/>
            </a:solidFill>
            <a:ln w="12600">
              <a:solidFill>
                <a:srgbClr val="ee0f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606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8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>
              <a:gd name="textAreaLeft" fmla="*/ 0 w 1952640"/>
              <a:gd name="textAreaRight" fmla="*/ 1953000 w 195264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f2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1"/>
          <p:cNvSpPr/>
          <p:nvPr/>
        </p:nvSpPr>
        <p:spPr>
          <a:xfrm>
            <a:off x="0" y="252360"/>
            <a:ext cx="55260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29"/>
          <p:cNvSpPr/>
          <p:nvPr/>
        </p:nvSpPr>
        <p:spPr>
          <a:xfrm>
            <a:off x="773280" y="252360"/>
            <a:ext cx="18864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2"/>
          <p:cNvSpPr/>
          <p:nvPr/>
        </p:nvSpPr>
        <p:spPr>
          <a:xfrm>
            <a:off x="498960" y="220680"/>
            <a:ext cx="55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5f6d"/>
                </a:solidFill>
                <a:latin typeface="Calibri Light"/>
              </a:rPr>
              <a:t>Add your text in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23"/>
          <p:cNvSpPr/>
          <p:nvPr/>
        </p:nvSpPr>
        <p:spPr>
          <a:xfrm>
            <a:off x="700200" y="1263600"/>
            <a:ext cx="283356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f25f6d"/>
                </a:solidFill>
                <a:latin typeface="Wingdings 2"/>
                <a:ea typeface="Wingdings 2"/>
              </a:rPr>
              <a:t>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矩形 1"/>
          <p:cNvSpPr/>
          <p:nvPr/>
        </p:nvSpPr>
        <p:spPr>
          <a:xfrm>
            <a:off x="6905520" y="4336920"/>
            <a:ext cx="4240440" cy="2022480"/>
          </a:xfrm>
          <a:prstGeom prst="rect">
            <a:avLst/>
          </a:prstGeom>
          <a:noFill/>
          <a:ln w="25560">
            <a:solidFill>
              <a:srgbClr val="f25f6d">
                <a:alpha val="7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D1BD-F93B-46B7-8250-5C05E2806B0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40"/>
          <p:cNvGrpSpPr/>
          <p:nvPr/>
        </p:nvGrpSpPr>
        <p:grpSpPr>
          <a:xfrm>
            <a:off x="1415880" y="2425680"/>
            <a:ext cx="3476880" cy="1308240"/>
            <a:chOff x="1415880" y="2425680"/>
            <a:chExt cx="3476880" cy="1308240"/>
          </a:xfrm>
        </p:grpSpPr>
        <p:sp>
          <p:nvSpPr>
            <p:cNvPr id="616" name="Rectangle 41"/>
            <p:cNvSpPr/>
            <p:nvPr/>
          </p:nvSpPr>
          <p:spPr>
            <a:xfrm>
              <a:off x="1415880" y="2425680"/>
              <a:ext cx="2743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25f6d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42"/>
            <p:cNvSpPr/>
            <p:nvPr/>
          </p:nvSpPr>
          <p:spPr>
            <a:xfrm>
              <a:off x="1415880" y="2758680"/>
              <a:ext cx="347688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5f6d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43"/>
          <p:cNvGrpSpPr/>
          <p:nvPr/>
        </p:nvGrpSpPr>
        <p:grpSpPr>
          <a:xfrm>
            <a:off x="7346880" y="4699080"/>
            <a:ext cx="3475080" cy="1306440"/>
            <a:chOff x="7346880" y="4699080"/>
            <a:chExt cx="3475080" cy="1306440"/>
          </a:xfrm>
        </p:grpSpPr>
        <p:sp>
          <p:nvSpPr>
            <p:cNvPr id="619" name="Rectangle 44"/>
            <p:cNvSpPr/>
            <p:nvPr/>
          </p:nvSpPr>
          <p:spPr>
            <a:xfrm>
              <a:off x="7346880" y="4699080"/>
              <a:ext cx="274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25f6d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45"/>
            <p:cNvSpPr/>
            <p:nvPr/>
          </p:nvSpPr>
          <p:spPr>
            <a:xfrm>
              <a:off x="7346880" y="5031360"/>
              <a:ext cx="34750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5f6d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矩形 21"/>
          <p:cNvSpPr/>
          <p:nvPr/>
        </p:nvSpPr>
        <p:spPr>
          <a:xfrm>
            <a:off x="0" y="252360"/>
            <a:ext cx="55260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矩形 22"/>
          <p:cNvSpPr/>
          <p:nvPr/>
        </p:nvSpPr>
        <p:spPr>
          <a:xfrm>
            <a:off x="773280" y="252360"/>
            <a:ext cx="18864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23"/>
          <p:cNvSpPr/>
          <p:nvPr/>
        </p:nvSpPr>
        <p:spPr>
          <a:xfrm>
            <a:off x="498960" y="220680"/>
            <a:ext cx="55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5f6d"/>
                </a:solidFill>
                <a:latin typeface="Calibri Light"/>
              </a:rPr>
              <a:t>Add your text in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泪滴形 3"/>
          <p:cNvSpPr/>
          <p:nvPr/>
        </p:nvSpPr>
        <p:spPr>
          <a:xfrm rot="8189400">
            <a:off x="8067240" y="1693440"/>
            <a:ext cx="1955880" cy="1955880"/>
          </a:xfrm>
          <a:custGeom>
            <a:avLst/>
            <a:gdLst/>
            <a:ahLst/>
            <a:rect l="l" t="t" r="r" b="b"/>
            <a:pathLst>
              <a:path w="1955800" h="1955800">
                <a:moveTo>
                  <a:pt x="0" y="977900"/>
                </a:moveTo>
                <a:cubicBezTo>
                  <a:pt x="0" y="437821"/>
                  <a:pt x="437821" y="0"/>
                  <a:pt x="977900" y="0"/>
                </a:cubicBezTo>
                <a:lnTo>
                  <a:pt x="1955800" y="0"/>
                </a:lnTo>
                <a:lnTo>
                  <a:pt x="1955800" y="977900"/>
                </a:lnTo>
                <a:cubicBezTo>
                  <a:pt x="1955800" y="1517979"/>
                  <a:pt x="1517979" y="1955800"/>
                  <a:pt x="977900" y="1955800"/>
                </a:cubicBezTo>
                <a:cubicBezTo>
                  <a:pt x="437821" y="1955800"/>
                  <a:pt x="0" y="1517979"/>
                  <a:pt x="0" y="977900"/>
                </a:cubicBezTo>
                <a:close/>
              </a:path>
            </a:pathLst>
          </a:cu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泪滴形 17"/>
          <p:cNvSpPr/>
          <p:nvPr/>
        </p:nvSpPr>
        <p:spPr>
          <a:xfrm rot="18702000">
            <a:off x="1975680" y="4694760"/>
            <a:ext cx="1955880" cy="1957320"/>
          </a:xfrm>
          <a:custGeom>
            <a:avLst/>
            <a:gdLst/>
            <a:ahLst/>
            <a:rect l="l" t="t" r="r" b="b"/>
            <a:pathLst>
              <a:path w="1955800" h="1957388">
                <a:moveTo>
                  <a:pt x="0" y="978694"/>
                </a:moveTo>
                <a:cubicBezTo>
                  <a:pt x="0" y="438176"/>
                  <a:pt x="437821" y="0"/>
                  <a:pt x="977900" y="0"/>
                </a:cubicBezTo>
                <a:lnTo>
                  <a:pt x="1955800" y="0"/>
                </a:lnTo>
                <a:lnTo>
                  <a:pt x="1955800" y="978694"/>
                </a:lnTo>
                <a:cubicBezTo>
                  <a:pt x="1955800" y="1519212"/>
                  <a:pt x="1517979" y="1957388"/>
                  <a:pt x="977900" y="1957388"/>
                </a:cubicBezTo>
                <a:cubicBezTo>
                  <a:pt x="437821" y="1957388"/>
                  <a:pt x="0" y="1519212"/>
                  <a:pt x="0" y="978694"/>
                </a:cubicBezTo>
                <a:close/>
              </a:path>
            </a:pathLst>
          </a:cu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文本框 4"/>
          <p:cNvSpPr/>
          <p:nvPr/>
        </p:nvSpPr>
        <p:spPr>
          <a:xfrm>
            <a:off x="8761320" y="2251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文本框 19"/>
          <p:cNvSpPr/>
          <p:nvPr/>
        </p:nvSpPr>
        <p:spPr>
          <a:xfrm>
            <a:off x="2679840" y="516564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18"/>
          <p:cNvSpPr/>
          <p:nvPr/>
        </p:nvSpPr>
        <p:spPr>
          <a:xfrm>
            <a:off x="977760" y="2066760"/>
            <a:ext cx="4240440" cy="2022480"/>
          </a:xfrm>
          <a:prstGeom prst="rect">
            <a:avLst/>
          </a:prstGeom>
          <a:noFill/>
          <a:ln w="25560">
            <a:solidFill>
              <a:srgbClr val="f25f6d">
                <a:alpha val="7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7114-F072-444A-A92B-00ED95D4F41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3"/>
          <p:cNvGrpSpPr/>
          <p:nvPr/>
        </p:nvGrpSpPr>
        <p:grpSpPr>
          <a:xfrm>
            <a:off x="3706920" y="1486080"/>
            <a:ext cx="4774680" cy="4635000"/>
            <a:chOff x="3706920" y="1486080"/>
            <a:chExt cx="4774680" cy="4635000"/>
          </a:xfrm>
        </p:grpSpPr>
        <p:sp>
          <p:nvSpPr>
            <p:cNvPr id="631" name="Freeform 4"/>
            <p:cNvSpPr/>
            <p:nvPr/>
          </p:nvSpPr>
          <p:spPr>
            <a:xfrm>
              <a:off x="3993840" y="1486080"/>
              <a:ext cx="2487240" cy="2055960"/>
            </a:xfrm>
            <a:custGeom>
              <a:avLst/>
              <a:gdLst>
                <a:gd name="textAreaLeft" fmla="*/ 0 w 2487240"/>
                <a:gd name="textAreaRight" fmla="*/ 2487600 w 2487240"/>
                <a:gd name="textAreaTop" fmla="*/ 0 h 2055960"/>
                <a:gd name="textAreaBottom" fmla="*/ 2056320 h 2055960"/>
              </a:gdLst>
              <a:ahLst/>
              <a:rect l="textAreaLeft" t="textAreaTop" r="textAreaRight" b="textAreaBottom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solidFill>
              <a:srgbClr val="f25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5"/>
            <p:cNvSpPr/>
            <p:nvPr/>
          </p:nvSpPr>
          <p:spPr>
            <a:xfrm>
              <a:off x="5657760" y="4056120"/>
              <a:ext cx="2430720" cy="2064960"/>
            </a:xfrm>
            <a:custGeom>
              <a:avLst/>
              <a:gdLst>
                <a:gd name="textAreaLeft" fmla="*/ 0 w 2430720"/>
                <a:gd name="textAreaRight" fmla="*/ 2431080 w 2430720"/>
                <a:gd name="textAreaTop" fmla="*/ 0 h 2064960"/>
                <a:gd name="textAreaBottom" fmla="*/ 2065320 h 2064960"/>
              </a:gdLst>
              <a:ahLst/>
              <a:rect l="textAreaLeft" t="textAreaTop" r="textAreaRight" b="textAreaBottom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solidFill>
              <a:srgbClr val="f25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6"/>
            <p:cNvSpPr/>
            <p:nvPr/>
          </p:nvSpPr>
          <p:spPr>
            <a:xfrm>
              <a:off x="3706920" y="3304440"/>
              <a:ext cx="2188440" cy="2455920"/>
            </a:xfrm>
            <a:custGeom>
              <a:avLst/>
              <a:gdLst>
                <a:gd name="textAreaLeft" fmla="*/ 0 w 2188440"/>
                <a:gd name="textAreaRight" fmla="*/ 2188800 w 2188440"/>
                <a:gd name="textAreaTop" fmla="*/ 0 h 2455920"/>
                <a:gd name="textAreaBottom" fmla="*/ 2456280 h 2455920"/>
              </a:gdLst>
              <a:ahLst/>
              <a:rect l="textAreaLeft" t="textAreaTop" r="textAreaRight" b="textAreaBottom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7"/>
            <p:cNvSpPr/>
            <p:nvPr/>
          </p:nvSpPr>
          <p:spPr>
            <a:xfrm>
              <a:off x="6262560" y="1810080"/>
              <a:ext cx="2219040" cy="2433240"/>
            </a:xfrm>
            <a:custGeom>
              <a:avLst/>
              <a:gdLst>
                <a:gd name="textAreaLeft" fmla="*/ 0 w 2219040"/>
                <a:gd name="textAreaRight" fmla="*/ 2219400 w 2219040"/>
                <a:gd name="textAreaTop" fmla="*/ 0 h 2433240"/>
                <a:gd name="textAreaBottom" fmla="*/ 2433600 h 2433240"/>
              </a:gdLst>
              <a:ahLst/>
              <a:rect l="textAreaLeft" t="textAreaTop" r="textAreaRight" b="textAreaBottom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文本框 20"/>
          <p:cNvSpPr/>
          <p:nvPr/>
        </p:nvSpPr>
        <p:spPr>
          <a:xfrm>
            <a:off x="2116080" y="1809720"/>
            <a:ext cx="1878120" cy="39888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21"/>
          <p:cNvSpPr/>
          <p:nvPr/>
        </p:nvSpPr>
        <p:spPr>
          <a:xfrm>
            <a:off x="2116080" y="225432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文本框 22"/>
          <p:cNvSpPr/>
          <p:nvPr/>
        </p:nvSpPr>
        <p:spPr>
          <a:xfrm>
            <a:off x="8143920" y="1809720"/>
            <a:ext cx="1878120" cy="39888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23"/>
          <p:cNvSpPr/>
          <p:nvPr/>
        </p:nvSpPr>
        <p:spPr>
          <a:xfrm>
            <a:off x="8143920" y="225432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文本框 24"/>
          <p:cNvSpPr/>
          <p:nvPr/>
        </p:nvSpPr>
        <p:spPr>
          <a:xfrm>
            <a:off x="8143920" y="5384880"/>
            <a:ext cx="1878120" cy="39888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25"/>
          <p:cNvSpPr/>
          <p:nvPr/>
        </p:nvSpPr>
        <p:spPr>
          <a:xfrm>
            <a:off x="8143920" y="582768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26"/>
          <p:cNvSpPr/>
          <p:nvPr/>
        </p:nvSpPr>
        <p:spPr>
          <a:xfrm>
            <a:off x="2116080" y="5384880"/>
            <a:ext cx="1878120" cy="39888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矩形 27"/>
          <p:cNvSpPr/>
          <p:nvPr/>
        </p:nvSpPr>
        <p:spPr>
          <a:xfrm>
            <a:off x="2116080" y="582768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矩形 24"/>
          <p:cNvSpPr/>
          <p:nvPr/>
        </p:nvSpPr>
        <p:spPr>
          <a:xfrm>
            <a:off x="0" y="252360"/>
            <a:ext cx="55260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25"/>
          <p:cNvSpPr/>
          <p:nvPr/>
        </p:nvSpPr>
        <p:spPr>
          <a:xfrm>
            <a:off x="773280" y="252360"/>
            <a:ext cx="18864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矩形 26"/>
          <p:cNvSpPr/>
          <p:nvPr/>
        </p:nvSpPr>
        <p:spPr>
          <a:xfrm>
            <a:off x="498960" y="220680"/>
            <a:ext cx="55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5f6d"/>
                </a:solidFill>
                <a:latin typeface="Calibri Light"/>
              </a:rPr>
              <a:t>Add your text in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F92C-947C-4C4C-8E27-1F4D151C68D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Group 40"/>
          <p:cNvGrpSpPr/>
          <p:nvPr/>
        </p:nvGrpSpPr>
        <p:grpSpPr>
          <a:xfrm>
            <a:off x="358920" y="3197160"/>
            <a:ext cx="3476520" cy="1306440"/>
            <a:chOff x="358920" y="3197160"/>
            <a:chExt cx="3476520" cy="1306440"/>
          </a:xfrm>
        </p:grpSpPr>
        <p:sp>
          <p:nvSpPr>
            <p:cNvPr id="648" name="Rectangle 41"/>
            <p:cNvSpPr/>
            <p:nvPr/>
          </p:nvSpPr>
          <p:spPr>
            <a:xfrm>
              <a:off x="358920" y="3197160"/>
              <a:ext cx="2743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f7f7f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42"/>
            <p:cNvSpPr/>
            <p:nvPr/>
          </p:nvSpPr>
          <p:spPr>
            <a:xfrm>
              <a:off x="358920" y="3529440"/>
              <a:ext cx="347652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43"/>
          <p:cNvGrpSpPr/>
          <p:nvPr/>
        </p:nvGrpSpPr>
        <p:grpSpPr>
          <a:xfrm>
            <a:off x="8248680" y="4767120"/>
            <a:ext cx="3475080" cy="1306800"/>
            <a:chOff x="8248680" y="4767120"/>
            <a:chExt cx="3475080" cy="1306800"/>
          </a:xfrm>
        </p:grpSpPr>
        <p:sp>
          <p:nvSpPr>
            <p:cNvPr id="651" name="Rectangle 44"/>
            <p:cNvSpPr/>
            <p:nvPr/>
          </p:nvSpPr>
          <p:spPr>
            <a:xfrm>
              <a:off x="8248680" y="4767120"/>
              <a:ext cx="274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45"/>
            <p:cNvSpPr/>
            <p:nvPr/>
          </p:nvSpPr>
          <p:spPr>
            <a:xfrm>
              <a:off x="8248680" y="5099760"/>
              <a:ext cx="34750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Title 29"/>
          <p:cNvSpPr/>
          <p:nvPr/>
        </p:nvSpPr>
        <p:spPr>
          <a:xfrm>
            <a:off x="5160960" y="3227400"/>
            <a:ext cx="23828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e0f68"/>
                </a:solidFill>
                <a:latin typeface="Calibri Light"/>
              </a:rPr>
              <a:t>88</a:t>
            </a:r>
            <a:r>
              <a:rPr b="1" lang="en-US" sz="5400" spc="-1" strike="noStrike">
                <a:solidFill>
                  <a:srgbClr val="ee0f68"/>
                </a:solidFill>
                <a:latin typeface="Calibri Light"/>
              </a:rPr>
              <a:t>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21"/>
          <p:cNvSpPr/>
          <p:nvPr/>
        </p:nvSpPr>
        <p:spPr>
          <a:xfrm>
            <a:off x="0" y="252360"/>
            <a:ext cx="55260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22"/>
          <p:cNvSpPr/>
          <p:nvPr/>
        </p:nvSpPr>
        <p:spPr>
          <a:xfrm>
            <a:off x="773280" y="252360"/>
            <a:ext cx="18864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23"/>
          <p:cNvSpPr/>
          <p:nvPr/>
        </p:nvSpPr>
        <p:spPr>
          <a:xfrm>
            <a:off x="498960" y="220680"/>
            <a:ext cx="55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5f6d"/>
                </a:solidFill>
                <a:latin typeface="Calibri Light"/>
              </a:rPr>
              <a:t>Add your text in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同心圆 1"/>
          <p:cNvSpPr/>
          <p:nvPr/>
        </p:nvSpPr>
        <p:spPr>
          <a:xfrm>
            <a:off x="4649760" y="1844640"/>
            <a:ext cx="3405240" cy="3405240"/>
          </a:xfrm>
          <a:custGeom>
            <a:avLst/>
            <a:gdLst/>
            <a:ahLst/>
            <a:rect l="l" t="t" r="r" b="b"/>
            <a:pathLst>
              <a:path w="3405187" h="3405188">
                <a:moveTo>
                  <a:pt x="0" y="1702594"/>
                </a:moveTo>
                <a:cubicBezTo>
                  <a:pt x="0" y="762277"/>
                  <a:pt x="762277" y="0"/>
                  <a:pt x="1702594" y="0"/>
                </a:cubicBezTo>
                <a:cubicBezTo>
                  <a:pt x="2642911" y="0"/>
                  <a:pt x="3405188" y="762277"/>
                  <a:pt x="3405188" y="1702594"/>
                </a:cubicBezTo>
                <a:cubicBezTo>
                  <a:pt x="3405188" y="2642911"/>
                  <a:pt x="2642911" y="3405188"/>
                  <a:pt x="1702594" y="3405188"/>
                </a:cubicBezTo>
                <a:cubicBezTo>
                  <a:pt x="762277" y="3405188"/>
                  <a:pt x="0" y="2642911"/>
                  <a:pt x="0" y="1702594"/>
                </a:cubicBezTo>
                <a:close/>
                <a:moveTo>
                  <a:pt x="851297" y="1702594"/>
                </a:moveTo>
                <a:cubicBezTo>
                  <a:pt x="851297" y="2172752"/>
                  <a:pt x="1232436" y="2553891"/>
                  <a:pt x="1702594" y="2553891"/>
                </a:cubicBezTo>
                <a:cubicBezTo>
                  <a:pt x="2172752" y="2553891"/>
                  <a:pt x="2553891" y="2172752"/>
                  <a:pt x="2553891" y="1702594"/>
                </a:cubicBezTo>
                <a:cubicBezTo>
                  <a:pt x="2553891" y="1232436"/>
                  <a:pt x="2172752" y="851297"/>
                  <a:pt x="1702594" y="851297"/>
                </a:cubicBezTo>
                <a:cubicBezTo>
                  <a:pt x="1232436" y="851297"/>
                  <a:pt x="851297" y="1232436"/>
                  <a:pt x="851297" y="1702594"/>
                </a:cubicBezTo>
                <a:close/>
              </a:path>
            </a:pathLst>
          </a:cu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空心弧 4"/>
          <p:cNvSpPr/>
          <p:nvPr/>
        </p:nvSpPr>
        <p:spPr>
          <a:xfrm>
            <a:off x="4508640" y="1844640"/>
            <a:ext cx="3562200" cy="3422520"/>
          </a:xfrm>
          <a:custGeom>
            <a:avLst/>
            <a:gdLst/>
            <a:ahLst/>
            <a:rect l="l" t="t" r="r" b="b"/>
            <a:pathLst>
              <a:path w="3562350" h="3422650">
                <a:moveTo>
                  <a:pt x="2994711" y="458647"/>
                </a:moveTo>
                <a:cubicBezTo>
                  <a:pt x="3356726" y="782384"/>
                  <a:pt x="3562350" y="1236159"/>
                  <a:pt x="3562350" y="1711325"/>
                </a:cubicBezTo>
                <a:lnTo>
                  <a:pt x="2706688" y="1711325"/>
                </a:lnTo>
                <a:cubicBezTo>
                  <a:pt x="2706688" y="1468036"/>
                  <a:pt x="2594669" y="1236250"/>
                  <a:pt x="2398648" y="1073936"/>
                </a:cubicBezTo>
                <a:lnTo>
                  <a:pt x="2994711" y="458647"/>
                </a:lnTo>
                <a:close/>
              </a:path>
            </a:pathLst>
          </a:custGeom>
          <a:solidFill>
            <a:srgbClr val="e7132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泪滴形 2"/>
          <p:cNvGrpSpPr/>
          <p:nvPr/>
        </p:nvGrpSpPr>
        <p:grpSpPr>
          <a:xfrm>
            <a:off x="4591080" y="3432240"/>
            <a:ext cx="1638360" cy="1603440"/>
            <a:chOff x="4591080" y="3432240"/>
            <a:chExt cx="1638360" cy="1603440"/>
          </a:xfrm>
        </p:grpSpPr>
        <p:pic>
          <p:nvPicPr>
            <p:cNvPr id="660" name="泪滴形 2" descr=""/>
            <p:cNvPicPr/>
            <p:nvPr/>
          </p:nvPicPr>
          <p:blipFill>
            <a:blip r:embed="rId1"/>
            <a:stretch/>
          </p:blipFill>
          <p:spPr>
            <a:xfrm>
              <a:off x="4591080" y="3432240"/>
              <a:ext cx="163836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 rot="250800">
              <a:off x="4986000" y="3832200"/>
              <a:ext cx="80316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泪滴形 3"/>
          <p:cNvGrpSpPr/>
          <p:nvPr/>
        </p:nvGrpSpPr>
        <p:grpSpPr>
          <a:xfrm>
            <a:off x="6016680" y="3395520"/>
            <a:ext cx="1676520" cy="1603440"/>
            <a:chOff x="6016680" y="3395520"/>
            <a:chExt cx="1676520" cy="1603440"/>
          </a:xfrm>
        </p:grpSpPr>
        <p:pic>
          <p:nvPicPr>
            <p:cNvPr id="663" name="泪滴形 3" descr=""/>
            <p:cNvPicPr/>
            <p:nvPr/>
          </p:nvPicPr>
          <p:blipFill>
            <a:blip r:embed="rId2"/>
            <a:stretch/>
          </p:blipFill>
          <p:spPr>
            <a:xfrm>
              <a:off x="6016680" y="3395520"/>
              <a:ext cx="167652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 rot="15694800">
              <a:off x="6491160" y="3795120"/>
              <a:ext cx="803160" cy="80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泪滴形 4"/>
          <p:cNvGrpSpPr/>
          <p:nvPr/>
        </p:nvGrpSpPr>
        <p:grpSpPr>
          <a:xfrm>
            <a:off x="6040440" y="2030400"/>
            <a:ext cx="1676520" cy="1596960"/>
            <a:chOff x="6040440" y="2030400"/>
            <a:chExt cx="1676520" cy="1596960"/>
          </a:xfrm>
        </p:grpSpPr>
        <p:pic>
          <p:nvPicPr>
            <p:cNvPr id="666" name="泪滴形 4" descr=""/>
            <p:cNvPicPr/>
            <p:nvPr/>
          </p:nvPicPr>
          <p:blipFill>
            <a:blip r:embed="rId3"/>
            <a:stretch/>
          </p:blipFill>
          <p:spPr>
            <a:xfrm>
              <a:off x="6040440" y="2030400"/>
              <a:ext cx="167652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 rot="11317800">
              <a:off x="6518160" y="2427120"/>
              <a:ext cx="80352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泪滴形 5"/>
          <p:cNvGrpSpPr/>
          <p:nvPr/>
        </p:nvGrpSpPr>
        <p:grpSpPr>
          <a:xfrm>
            <a:off x="4572000" y="2030400"/>
            <a:ext cx="1657440" cy="1596960"/>
            <a:chOff x="4572000" y="2030400"/>
            <a:chExt cx="1657440" cy="1596960"/>
          </a:xfrm>
        </p:grpSpPr>
        <p:pic>
          <p:nvPicPr>
            <p:cNvPr id="669" name="泪滴形 5" descr=""/>
            <p:cNvPicPr/>
            <p:nvPr/>
          </p:nvPicPr>
          <p:blipFill>
            <a:blip r:embed="rId4"/>
            <a:stretch/>
          </p:blipFill>
          <p:spPr>
            <a:xfrm>
              <a:off x="4572000" y="2030400"/>
              <a:ext cx="165744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"/>
            <p:cNvSpPr/>
            <p:nvPr/>
          </p:nvSpPr>
          <p:spPr>
            <a:xfrm rot="5026800">
              <a:off x="4966200" y="2428200"/>
              <a:ext cx="80316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矩形 21"/>
          <p:cNvSpPr/>
          <p:nvPr/>
        </p:nvSpPr>
        <p:spPr>
          <a:xfrm>
            <a:off x="0" y="252360"/>
            <a:ext cx="55260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矩形 22"/>
          <p:cNvSpPr/>
          <p:nvPr/>
        </p:nvSpPr>
        <p:spPr>
          <a:xfrm>
            <a:off x="773280" y="252360"/>
            <a:ext cx="18864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矩形 23"/>
          <p:cNvSpPr/>
          <p:nvPr/>
        </p:nvSpPr>
        <p:spPr>
          <a:xfrm>
            <a:off x="498960" y="220680"/>
            <a:ext cx="55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5f6d"/>
                </a:solidFill>
                <a:latin typeface="Calibri Light"/>
              </a:rPr>
              <a:t>Add your text in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Group 43"/>
          <p:cNvGrpSpPr/>
          <p:nvPr/>
        </p:nvGrpSpPr>
        <p:grpSpPr>
          <a:xfrm>
            <a:off x="773280" y="1900080"/>
            <a:ext cx="3474720" cy="1306800"/>
            <a:chOff x="773280" y="1900080"/>
            <a:chExt cx="3474720" cy="1306800"/>
          </a:xfrm>
        </p:grpSpPr>
        <p:sp>
          <p:nvSpPr>
            <p:cNvPr id="675" name="Rectangle 44"/>
            <p:cNvSpPr/>
            <p:nvPr/>
          </p:nvSpPr>
          <p:spPr>
            <a:xfrm>
              <a:off x="773280" y="1900080"/>
              <a:ext cx="2742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45"/>
            <p:cNvSpPr/>
            <p:nvPr/>
          </p:nvSpPr>
          <p:spPr>
            <a:xfrm>
              <a:off x="773280" y="2232720"/>
              <a:ext cx="347472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Group 43"/>
          <p:cNvGrpSpPr/>
          <p:nvPr/>
        </p:nvGrpSpPr>
        <p:grpSpPr>
          <a:xfrm>
            <a:off x="8397720" y="1789200"/>
            <a:ext cx="3475080" cy="1306440"/>
            <a:chOff x="8397720" y="1789200"/>
            <a:chExt cx="3475080" cy="1306440"/>
          </a:xfrm>
        </p:grpSpPr>
        <p:sp>
          <p:nvSpPr>
            <p:cNvPr id="678" name="Rectangle 44"/>
            <p:cNvSpPr/>
            <p:nvPr/>
          </p:nvSpPr>
          <p:spPr>
            <a:xfrm>
              <a:off x="8397720" y="1789200"/>
              <a:ext cx="274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45"/>
            <p:cNvSpPr/>
            <p:nvPr/>
          </p:nvSpPr>
          <p:spPr>
            <a:xfrm>
              <a:off x="8397720" y="2121480"/>
              <a:ext cx="34750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43"/>
          <p:cNvGrpSpPr/>
          <p:nvPr/>
        </p:nvGrpSpPr>
        <p:grpSpPr>
          <a:xfrm>
            <a:off x="773280" y="4051440"/>
            <a:ext cx="3474720" cy="1306440"/>
            <a:chOff x="773280" y="4051440"/>
            <a:chExt cx="3474720" cy="1306440"/>
          </a:xfrm>
        </p:grpSpPr>
        <p:sp>
          <p:nvSpPr>
            <p:cNvPr id="681" name="Rectangle 44"/>
            <p:cNvSpPr/>
            <p:nvPr/>
          </p:nvSpPr>
          <p:spPr>
            <a:xfrm>
              <a:off x="773280" y="4051440"/>
              <a:ext cx="2742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45"/>
            <p:cNvSpPr/>
            <p:nvPr/>
          </p:nvSpPr>
          <p:spPr>
            <a:xfrm>
              <a:off x="773280" y="4383720"/>
              <a:ext cx="347472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Group 43"/>
          <p:cNvGrpSpPr/>
          <p:nvPr/>
        </p:nvGrpSpPr>
        <p:grpSpPr>
          <a:xfrm>
            <a:off x="8397720" y="4384800"/>
            <a:ext cx="3475080" cy="1306440"/>
            <a:chOff x="8397720" y="4384800"/>
            <a:chExt cx="3475080" cy="1306440"/>
          </a:xfrm>
        </p:grpSpPr>
        <p:sp>
          <p:nvSpPr>
            <p:cNvPr id="684" name="Rectangle 44"/>
            <p:cNvSpPr/>
            <p:nvPr/>
          </p:nvSpPr>
          <p:spPr>
            <a:xfrm>
              <a:off x="8397720" y="4384800"/>
              <a:ext cx="274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45"/>
            <p:cNvSpPr/>
            <p:nvPr/>
          </p:nvSpPr>
          <p:spPr>
            <a:xfrm>
              <a:off x="8397720" y="4717080"/>
              <a:ext cx="34750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12:47:00Z</dcterms:created>
  <dc:creator>www.pptbz.com</dc:creator>
  <dc:description/>
  <cp:keywords/>
  <dc:language>en-US</dc:language>
  <cp:lastModifiedBy>a</cp:lastModifiedBy>
  <dcterms:modified xsi:type="dcterms:W3CDTF">2015-07-25T02:33:16Z</dcterms:modified>
  <cp:revision>80</cp:revision>
  <dc:subject/>
  <dc:title>深蓝极简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