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BE5-0D17-48D1-B919-CA851B48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813-3B64-4E53-8483-5E682802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8C8-1A35-4E50-A9F5-51BF5A22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6DF-0E3E-40B4-A3A6-19E5B4F7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7CAB-2141-46B2-8DBC-19B5377B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20C6-2445-4C63-B0D6-9815E996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622D-B7A9-4420-B1AF-3A7FEF8D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330F-AF2D-465C-B292-5C5A23EC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CB8D-6B93-4813-A6EE-350036E6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1FB6-157A-4FF0-A76C-4D86D462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4BB7-8579-4CA3-BF7D-25F004F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2CA-EA87-47F0-87AF-C295B5C9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6E09-BC44-4B51-AB8E-305EE17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5E2D-9AB2-47AE-A450-77B6BED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177D-8157-426A-ACBB-6F548ED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5914-BCF6-46A8-86A8-E94019D2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D4D-CC12-41FA-B8D6-0D61A17D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974-FEED-42F8-A78B-2B36B3C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DBC-894B-4BE3-8F4E-74177C55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58C-B3E2-4BE8-BDF0-60FB5E01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7D0-9E25-47F1-9A7E-8BFDE514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A3A-4271-427E-AD0F-31FAC7A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E52-FC54-4B95-A27E-B651754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152-72B1-4508-9A03-AABF112D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604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79BE-6B5B-4555-AB99-AECD87564A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2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d528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958C-072B-41E2-90B8-441456858357}" type="slidenum">
              <a:rPr b="0" lang="zh-CN" sz="1400" spc="-1" strike="noStrike">
                <a:solidFill>
                  <a:srgbClr val="1d528d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8062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微软官方模板之商务谈判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副标题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日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752480" y="228600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752480" y="304812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84e03"/>
              </a:gs>
              <a:gs pos="50000">
                <a:srgbClr val="bfa907"/>
              </a:gs>
              <a:gs pos="100000">
                <a:srgbClr val="584e0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1752480" y="380988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3c68"/>
              </a:gs>
              <a:gs pos="50000">
                <a:srgbClr val="6e81e0"/>
              </a:gs>
              <a:gs pos="100000">
                <a:srgbClr val="333c68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52480" y="457200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 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循环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5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4f4f4"/>
              </a:gs>
              <a:gs pos="100000">
                <a:srgbClr val="cacaca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a1c3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3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bfa907"/>
              </a:gs>
              <a:gs pos="100000">
                <a:srgbClr val="443c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1640160" y="3657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23180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7163640" y="241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37372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552760" y="5348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循环名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28" name="AutoShape 28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29" name="Text Box 29"/>
          <p:cNvSpPr/>
          <p:nvPr/>
        </p:nvSpPr>
        <p:spPr>
          <a:xfrm>
            <a:off x="101484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Verdana"/>
                <a:ea typeface="宋体"/>
              </a:rPr>
              <a:t>添加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流程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bfa907"/>
              </a:gs>
              <a:gs pos="100000">
                <a:srgbClr val="584e0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47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fa907"/>
              </a:gs>
              <a:gs pos="100000">
                <a:srgbClr val="584e0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框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63118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559400" y="32767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81952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0540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1111680" y="1782000"/>
            <a:ext cx="6437160" cy="1388160"/>
            <a:chOff x="1111680" y="1782000"/>
            <a:chExt cx="6437160" cy="1388160"/>
          </a:xfrm>
        </p:grpSpPr>
        <p:sp>
          <p:nvSpPr>
            <p:cNvPr id="143" name="Rectangle 10"/>
            <p:cNvSpPr/>
            <p:nvPr/>
          </p:nvSpPr>
          <p:spPr>
            <a:xfrm rot="3418800">
              <a:off x="1321920" y="20073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4" name="Group 11"/>
            <p:cNvGrpSpPr/>
            <p:nvPr/>
          </p:nvGrpSpPr>
          <p:grpSpPr>
            <a:xfrm>
              <a:off x="2286360" y="2179080"/>
              <a:ext cx="931680" cy="131760"/>
              <a:chOff x="2286360" y="2179080"/>
              <a:chExt cx="931680" cy="131760"/>
            </a:xfrm>
          </p:grpSpPr>
          <p:sp>
            <p:nvSpPr>
              <p:cNvPr id="145" name="Oval 12"/>
              <p:cNvSpPr/>
              <p:nvPr/>
            </p:nvSpPr>
            <p:spPr>
              <a:xfrm>
                <a:off x="228636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6" name="Rectangle 13"/>
              <p:cNvSpPr/>
              <p:nvPr/>
            </p:nvSpPr>
            <p:spPr>
              <a:xfrm>
                <a:off x="237564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7" name="Oval 14"/>
              <p:cNvSpPr/>
              <p:nvPr/>
            </p:nvSpPr>
            <p:spPr>
              <a:xfrm>
                <a:off x="3076920" y="21812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8" name="Oval 15"/>
              <p:cNvSpPr/>
              <p:nvPr/>
            </p:nvSpPr>
            <p:spPr>
              <a:xfrm>
                <a:off x="3154680" y="22222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9" name="Rectangle 16"/>
            <p:cNvSpPr/>
            <p:nvPr/>
          </p:nvSpPr>
          <p:spPr>
            <a:xfrm rot="3418800">
              <a:off x="3042000" y="19407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bfa907"/>
                </a:gs>
                <a:gs pos="100000">
                  <a:srgbClr val="584e0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0" name="Group 17"/>
            <p:cNvGrpSpPr/>
            <p:nvPr/>
          </p:nvGrpSpPr>
          <p:grpSpPr>
            <a:xfrm>
              <a:off x="4007880" y="2179080"/>
              <a:ext cx="931680" cy="131760"/>
              <a:chOff x="4007880" y="2179080"/>
              <a:chExt cx="931680" cy="131760"/>
            </a:xfrm>
          </p:grpSpPr>
          <p:sp>
            <p:nvSpPr>
              <p:cNvPr id="151" name="Oval 18"/>
              <p:cNvSpPr/>
              <p:nvPr/>
            </p:nvSpPr>
            <p:spPr>
              <a:xfrm>
                <a:off x="40078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2" name="Rectangle 19"/>
              <p:cNvSpPr/>
              <p:nvPr/>
            </p:nvSpPr>
            <p:spPr>
              <a:xfrm>
                <a:off x="40971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3" name="Oval 20"/>
              <p:cNvSpPr/>
              <p:nvPr/>
            </p:nvSpPr>
            <p:spPr>
              <a:xfrm>
                <a:off x="4798440" y="21812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4" name="Oval 21"/>
              <p:cNvSpPr/>
              <p:nvPr/>
            </p:nvSpPr>
            <p:spPr>
              <a:xfrm>
                <a:off x="4874400" y="22222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5" name="Rectangle 22"/>
            <p:cNvSpPr/>
            <p:nvPr/>
          </p:nvSpPr>
          <p:spPr>
            <a:xfrm rot="3418800">
              <a:off x="4692240" y="19407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729040" y="2179080"/>
              <a:ext cx="1218240" cy="131760"/>
              <a:chOff x="5729040" y="2179080"/>
              <a:chExt cx="1218240" cy="131760"/>
            </a:xfrm>
          </p:grpSpPr>
          <p:sp>
            <p:nvSpPr>
              <p:cNvPr id="157" name="Oval 24"/>
              <p:cNvSpPr/>
              <p:nvPr/>
            </p:nvSpPr>
            <p:spPr>
              <a:xfrm>
                <a:off x="572904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4568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9" name="Oval 26"/>
              <p:cNvSpPr/>
              <p:nvPr/>
            </p:nvSpPr>
            <p:spPr>
              <a:xfrm>
                <a:off x="6762600" y="21812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0" name="Oval 27"/>
              <p:cNvSpPr/>
              <p:nvPr/>
            </p:nvSpPr>
            <p:spPr>
              <a:xfrm>
                <a:off x="6861960" y="22222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1" name="Rectangle 28"/>
            <p:cNvSpPr/>
            <p:nvPr/>
          </p:nvSpPr>
          <p:spPr>
            <a:xfrm rot="3418800">
              <a:off x="6413760" y="1941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bfa907"/>
                </a:gs>
                <a:gs pos="100000">
                  <a:srgbClr val="584e0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2" name="Rectangle 30"/>
          <p:cNvSpPr/>
          <p:nvPr/>
        </p:nvSpPr>
        <p:spPr>
          <a:xfrm>
            <a:off x="159804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335052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32"/>
          <p:cNvSpPr/>
          <p:nvPr/>
        </p:nvSpPr>
        <p:spPr>
          <a:xfrm>
            <a:off x="495072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670356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160452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335700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510948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86232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528d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838160"/>
          <a:ext cx="7620120" cy="7212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5000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54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3c68"/>
                        </a:gs>
                        <a:gs pos="50000">
                          <a:srgbClr val="6e81e0"/>
                        </a:gs>
                        <a:gs pos="100000">
                          <a:srgbClr val="333c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三维饼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Arc 8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Arc 9"/>
          <p:cNvSpPr/>
          <p:nvPr/>
        </p:nvSpPr>
        <p:spPr>
          <a:xfrm rot="20601600">
            <a:off x="4167360" y="2268360"/>
            <a:ext cx="2849400" cy="1538640"/>
          </a:xfrm>
          <a:prstGeom prst="pi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Arc 10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Arc 11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Arc 12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Freeform 13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Freeform 14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3" name="Group 15"/>
          <p:cNvGrpSpPr/>
          <p:nvPr/>
        </p:nvGrpSpPr>
        <p:grpSpPr>
          <a:xfrm>
            <a:off x="3988800" y="2935440"/>
            <a:ext cx="3251880" cy="2231640"/>
            <a:chOff x="3988800" y="2935440"/>
            <a:chExt cx="3251880" cy="2231640"/>
          </a:xfrm>
        </p:grpSpPr>
        <p:sp>
          <p:nvSpPr>
            <p:cNvPr id="184" name="Arc 16"/>
            <p:cNvSpPr/>
            <p:nvPr/>
          </p:nvSpPr>
          <p:spPr>
            <a:xfrm rot="20712600">
              <a:off x="4102200" y="329040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87" name="Group 24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188" name="Freeform 19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Arc 20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>
                <a:gd name="textAreaLeft" fmla="*/ 0 w 2905200"/>
                <a:gd name="textAreaRight" fmla="*/ 2905200 w 290520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1" name="Oval 22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5871600" y="2725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271400" y="2268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442600" y="3030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2214000" y="4325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3966480" y="4554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5947920" y="37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36"/>
          <p:cNvGrpSpPr/>
          <p:nvPr/>
        </p:nvGrpSpPr>
        <p:grpSpPr>
          <a:xfrm>
            <a:off x="838080" y="4267080"/>
            <a:ext cx="1513080" cy="1511280"/>
            <a:chOff x="838080" y="4267080"/>
            <a:chExt cx="1513080" cy="1511280"/>
          </a:xfrm>
        </p:grpSpPr>
        <p:sp>
          <p:nvSpPr>
            <p:cNvPr id="200" name="Oval 37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81e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Oval 38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d2c352"/>
                </a:gs>
                <a:gs pos="100000">
                  <a:srgbClr val="bfa9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39"/>
            <p:cNvSpPr/>
            <p:nvPr/>
          </p:nvSpPr>
          <p:spPr>
            <a:xfrm>
              <a:off x="936000" y="43650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3c4679"/>
                </a:gs>
                <a:gs pos="50000">
                  <a:srgbClr val="6e81e0"/>
                </a:gs>
                <a:gs pos="100000">
                  <a:srgbClr val="3c46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40"/>
            <p:cNvSpPr/>
            <p:nvPr/>
          </p:nvSpPr>
          <p:spPr>
            <a:xfrm>
              <a:off x="936000" y="43650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bfa907"/>
                </a:gs>
                <a:gs pos="100000">
                  <a:srgbClr val="5d52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Oval 41"/>
            <p:cNvSpPr/>
            <p:nvPr/>
          </p:nvSpPr>
          <p:spPr>
            <a:xfrm>
              <a:off x="1002960" y="4431600"/>
              <a:ext cx="1182240" cy="1180800"/>
            </a:xfrm>
            <a:prstGeom prst="ellipse">
              <a:avLst/>
            </a:prstGeom>
            <a:gradFill rotWithShape="0">
              <a:gsLst>
                <a:gs pos="0">
                  <a:srgbClr val="584e03"/>
                </a:gs>
                <a:gs pos="100000">
                  <a:srgbClr val="bfa9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市场分析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1463760" y="25560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acaca"/>
              </a:gs>
              <a:gs pos="100000">
                <a:srgbClr val="edede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4486320" y="4280040"/>
            <a:ext cx="1512720" cy="1511280"/>
            <a:chOff x="4486320" y="4280040"/>
            <a:chExt cx="1512720" cy="1511280"/>
          </a:xfrm>
        </p:grpSpPr>
        <p:sp>
          <p:nvSpPr>
            <p:cNvPr id="208" name="Oval 7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dc5e2"/>
                </a:gs>
                <a:gs pos="100000">
                  <a:srgbClr val="00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458424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458424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a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Oval 11"/>
            <p:cNvSpPr/>
            <p:nvPr/>
          </p:nvSpPr>
          <p:spPr>
            <a:xfrm>
              <a:off x="4651200" y="444456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3" name="Group 18"/>
          <p:cNvGrpSpPr/>
          <p:nvPr/>
        </p:nvGrpSpPr>
        <p:grpSpPr>
          <a:xfrm>
            <a:off x="6359400" y="4280040"/>
            <a:ext cx="1513080" cy="1511280"/>
            <a:chOff x="6359400" y="4280040"/>
            <a:chExt cx="1513080" cy="1511280"/>
          </a:xfrm>
        </p:grpSpPr>
        <p:sp>
          <p:nvSpPr>
            <p:cNvPr id="214" name="Oval 19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Oval 20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55bbb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Oval 21"/>
            <p:cNvSpPr/>
            <p:nvPr/>
          </p:nvSpPr>
          <p:spPr>
            <a:xfrm>
              <a:off x="6457320" y="437796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Oval 22"/>
            <p:cNvSpPr/>
            <p:nvPr/>
          </p:nvSpPr>
          <p:spPr>
            <a:xfrm>
              <a:off x="6457320" y="437796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a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Oval 23"/>
            <p:cNvSpPr/>
            <p:nvPr/>
          </p:nvSpPr>
          <p:spPr>
            <a:xfrm>
              <a:off x="6524280" y="4444560"/>
              <a:ext cx="1182240" cy="118080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9" name="Group 24"/>
          <p:cNvGrpSpPr/>
          <p:nvPr/>
        </p:nvGrpSpPr>
        <p:grpSpPr>
          <a:xfrm>
            <a:off x="2687760" y="4280040"/>
            <a:ext cx="1512720" cy="1511280"/>
            <a:chOff x="2687760" y="4280040"/>
            <a:chExt cx="1512720" cy="1511280"/>
          </a:xfrm>
        </p:grpSpPr>
        <p:sp>
          <p:nvSpPr>
            <p:cNvPr id="220" name="Oval 25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81e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9aa7e9"/>
                </a:gs>
                <a:gs pos="100000">
                  <a:srgbClr val="6e81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7"/>
            <p:cNvSpPr/>
            <p:nvPr/>
          </p:nvSpPr>
          <p:spPr>
            <a:xfrm>
              <a:off x="278568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3c4679"/>
                </a:gs>
                <a:gs pos="50000">
                  <a:srgbClr val="6e81e0"/>
                </a:gs>
                <a:gs pos="100000">
                  <a:srgbClr val="3c46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278568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6e81e0"/>
                </a:gs>
                <a:gs pos="100000">
                  <a:srgbClr val="353f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9"/>
            <p:cNvSpPr/>
            <p:nvPr/>
          </p:nvSpPr>
          <p:spPr>
            <a:xfrm>
              <a:off x="2852640" y="444456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333c68"/>
                </a:gs>
                <a:gs pos="100000">
                  <a:srgbClr val="6e81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AutoShape 31"/>
          <p:cNvSpPr/>
          <p:nvPr/>
        </p:nvSpPr>
        <p:spPr>
          <a:xfrm>
            <a:off x="1905120" y="19177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50000">
                <a:srgbClr val="dce0f7"/>
              </a:gs>
              <a:gs pos="100000">
                <a:srgbClr val="6e81e0"/>
              </a:gs>
            </a:gsLst>
            <a:lin ang="0"/>
          </a:gradFill>
          <a:ln w="1908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标题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Rectangle 32"/>
          <p:cNvSpPr/>
          <p:nvPr/>
        </p:nvSpPr>
        <p:spPr>
          <a:xfrm>
            <a:off x="13759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50335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32047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6938280" y="488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3:32:09Z</dcterms:created>
  <dc:creator>ppt宝藏</dc:creator>
  <dc:description/>
  <dc:language>en-US</dc:language>
  <cp:lastModifiedBy>a</cp:lastModifiedBy>
  <dcterms:modified xsi:type="dcterms:W3CDTF">2015-07-25T06:33:59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2052</vt:lpwstr>
  </property>
</Properties>
</file>