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9E8-81B0-4732-A669-2EE9A57508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EE4-7DF3-4673-A1AB-8E23438E13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5FA-423C-47BB-B205-65DBA72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31E-C10E-4871-87F2-D3E27AAF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2A3-2DC3-44A5-8F9D-1A55EF74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EE7-E064-4CCB-A13C-28BB1A09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7A-7C44-4FB3-972D-EF33666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48D-02F9-4157-9D6D-F9DAACB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8FA-035E-4476-B846-39BC8B8B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BEE-B550-4CD9-B0AC-5AEA89A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BD1-74C0-4ED4-B9D2-B2E8991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857-067E-4623-8F47-F92E1CD2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175-D92A-4424-AA09-3E66543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812-DA03-41E2-9434-F3627F9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F4A7-9278-4EB7-9EA5-AE43BBE8B1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3"/>
          <p:cNvSpPr/>
          <p:nvPr/>
        </p:nvSpPr>
        <p:spPr>
          <a:xfrm>
            <a:off x="0" y="0"/>
            <a:ext cx="12192120" cy="7245360"/>
          </a:xfrm>
          <a:prstGeom prst="roundRect">
            <a:avLst>
              <a:gd name="adj" fmla="val 0"/>
            </a:avLst>
          </a:prstGeom>
          <a:solidFill>
            <a:srgbClr val="e6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9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50" name="椭圆 79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54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55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56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57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60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4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15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6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7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8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9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0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1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22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23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24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25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6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27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28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0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4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37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8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39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43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44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47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52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62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65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66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74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77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81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84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72"/>
          <p:cNvGrpSpPr/>
          <p:nvPr/>
        </p:nvGrpSpPr>
        <p:grpSpPr>
          <a:xfrm>
            <a:off x="-600120" y="135000"/>
            <a:ext cx="15865560" cy="6497640"/>
            <a:chOff x="-600120" y="135000"/>
            <a:chExt cx="15865560" cy="6497640"/>
          </a:xfrm>
        </p:grpSpPr>
        <p:pic>
          <p:nvPicPr>
            <p:cNvPr id="89" name="文本框 8" descr=""/>
            <p:cNvPicPr/>
            <p:nvPr/>
          </p:nvPicPr>
          <p:blipFill>
            <a:blip r:embed="rId1"/>
            <a:stretch/>
          </p:blipFill>
          <p:spPr>
            <a:xfrm>
              <a:off x="3127680" y="135000"/>
              <a:ext cx="6627240" cy="18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文本框 11" descr=""/>
            <p:cNvPicPr/>
            <p:nvPr/>
          </p:nvPicPr>
          <p:blipFill>
            <a:blip r:embed="rId2"/>
            <a:stretch/>
          </p:blipFill>
          <p:spPr>
            <a:xfrm>
              <a:off x="7575840" y="1147320"/>
              <a:ext cx="444816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椭圆 6"/>
            <p:cNvSpPr/>
            <p:nvPr/>
          </p:nvSpPr>
          <p:spPr>
            <a:xfrm>
              <a:off x="3853080" y="1304640"/>
              <a:ext cx="4750560" cy="4526640"/>
            </a:xfrm>
            <a:prstGeom prst="ellips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8"/>
            <p:cNvSpPr/>
            <p:nvPr/>
          </p:nvSpPr>
          <p:spPr>
            <a:xfrm>
              <a:off x="5027400" y="27640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eeede2"/>
                  </a:solidFill>
                  <a:latin typeface="方正粗宋简体"/>
                  <a:ea typeface="方正粗宋简体"/>
                </a:rPr>
                <a:t>同级管理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9"/>
            <p:cNvSpPr/>
            <p:nvPr/>
          </p:nvSpPr>
          <p:spPr>
            <a:xfrm>
              <a:off x="4301640" y="3795480"/>
              <a:ext cx="3945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eeede2"/>
                  </a:solidFill>
                  <a:latin typeface="微软雅黑"/>
                  <a:ea typeface="微软雅黑"/>
                </a:rPr>
                <a:t>移动互联网时代的管理变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文本框 8" descr=""/>
            <p:cNvPicPr/>
            <p:nvPr/>
          </p:nvPicPr>
          <p:blipFill>
            <a:blip r:embed="rId3"/>
            <a:stretch/>
          </p:blipFill>
          <p:spPr>
            <a:xfrm>
              <a:off x="-600120" y="5231520"/>
              <a:ext cx="641700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文本框 11" descr=""/>
            <p:cNvPicPr/>
            <p:nvPr/>
          </p:nvPicPr>
          <p:blipFill>
            <a:blip r:embed="rId4"/>
            <a:stretch/>
          </p:blipFill>
          <p:spPr>
            <a:xfrm>
              <a:off x="2473200" y="5826240"/>
              <a:ext cx="428580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文本框 8" descr=""/>
            <p:cNvPicPr/>
            <p:nvPr/>
          </p:nvPicPr>
          <p:blipFill>
            <a:blip r:embed="rId5"/>
            <a:stretch/>
          </p:blipFill>
          <p:spPr>
            <a:xfrm>
              <a:off x="8854560" y="4138920"/>
              <a:ext cx="641088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文本框 13" descr=""/>
            <p:cNvPicPr/>
            <p:nvPr/>
          </p:nvPicPr>
          <p:blipFill>
            <a:blip r:embed="rId6"/>
            <a:stretch/>
          </p:blipFill>
          <p:spPr>
            <a:xfrm>
              <a:off x="10907280" y="4848120"/>
              <a:ext cx="428580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矩形 86"/>
          <p:cNvSpPr/>
          <p:nvPr/>
        </p:nvSpPr>
        <p:spPr>
          <a:xfrm>
            <a:off x="5307120" y="45496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[</a:t>
            </a:r>
            <a:r>
              <a:rPr b="0" lang="zh-CN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美</a:t>
            </a:r>
            <a:r>
              <a:rPr b="0" lang="en-US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] </a:t>
            </a:r>
            <a:r>
              <a:rPr b="0" lang="zh-CN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米拉 </a:t>
            </a:r>
            <a:r>
              <a:rPr b="0" lang="en-US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N.</a:t>
            </a:r>
            <a:r>
              <a:rPr b="0" lang="zh-CN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贝克     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7"/>
          <p:cNvSpPr/>
          <p:nvPr/>
        </p:nvSpPr>
        <p:spPr>
          <a:xfrm>
            <a:off x="5611680" y="494028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eede2"/>
                </a:solidFill>
                <a:latin typeface="微软雅黑 Light"/>
                <a:ea typeface="微软雅黑 Light"/>
              </a:rPr>
              <a:t>水蓦    读书笔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8"/>
          <p:cNvSpPr/>
          <p:nvPr/>
        </p:nvSpPr>
        <p:spPr>
          <a:xfrm>
            <a:off x="6582240" y="455940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eede2"/>
                </a:solidFill>
                <a:latin typeface="Arial"/>
              </a:rPr>
              <a:t>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9"/>
          <p:cNvSpPr/>
          <p:nvPr/>
        </p:nvSpPr>
        <p:spPr>
          <a:xfrm>
            <a:off x="5787720" y="4956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eede2"/>
                </a:solidFill>
                <a:latin typeface="Arial"/>
              </a:rPr>
              <a:t>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2763000" y="36180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移动互联网时代的管理变革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组合 110" descr=""/>
          <p:cNvPicPr/>
          <p:nvPr/>
        </p:nvPicPr>
        <p:blipFill>
          <a:blip r:embed="rId1"/>
          <a:stretch/>
        </p:blipFill>
        <p:spPr>
          <a:xfrm>
            <a:off x="274680" y="-1511280"/>
            <a:ext cx="11936520" cy="8869320"/>
          </a:xfrm>
          <a:prstGeom prst="rect">
            <a:avLst/>
          </a:prstGeom>
          <a:ln w="0">
            <a:noFill/>
          </a:ln>
        </p:spPr>
      </p:pic>
      <p:sp>
        <p:nvSpPr>
          <p:cNvPr id="1289" name="文本框 827"/>
          <p:cNvSpPr/>
          <p:nvPr/>
        </p:nvSpPr>
        <p:spPr>
          <a:xfrm>
            <a:off x="1415880" y="70812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ede2"/>
                </a:solidFill>
                <a:latin typeface="方正粗宋简体"/>
                <a:ea typeface="方正粗宋简体"/>
              </a:rPr>
              <a:t>“</a:t>
            </a:r>
            <a:r>
              <a:rPr b="0" lang="zh-CN" sz="3600" spc="-1" strike="noStrike">
                <a:solidFill>
                  <a:srgbClr val="eeede2"/>
                </a:solidFill>
                <a:latin typeface="方正粗宋简体"/>
                <a:ea typeface="方正粗宋简体"/>
              </a:rPr>
              <a:t>同级管理”的三个关键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组合 1"/>
          <p:cNvGrpSpPr/>
          <p:nvPr/>
        </p:nvGrpSpPr>
        <p:grpSpPr>
          <a:xfrm>
            <a:off x="957240" y="3946680"/>
            <a:ext cx="2741760" cy="3154320"/>
            <a:chOff x="957240" y="3946680"/>
            <a:chExt cx="2741760" cy="3154320"/>
          </a:xfrm>
        </p:grpSpPr>
        <p:pic>
          <p:nvPicPr>
            <p:cNvPr id="1291" name="文本框 46" descr=""/>
            <p:cNvPicPr/>
            <p:nvPr/>
          </p:nvPicPr>
          <p:blipFill>
            <a:blip r:embed="rId2"/>
            <a:stretch/>
          </p:blipFill>
          <p:spPr>
            <a:xfrm>
              <a:off x="957240" y="3946680"/>
              <a:ext cx="274176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五边形 44"/>
            <p:cNvSpPr/>
            <p:nvPr/>
          </p:nvSpPr>
          <p:spPr>
            <a:xfrm>
              <a:off x="1578240" y="5064480"/>
              <a:ext cx="1756440" cy="477360"/>
            </a:xfrm>
            <a:custGeom>
              <a:avLst/>
              <a:gdLst>
                <a:gd name="textAreaLeft" fmla="*/ 0 w 1756440"/>
                <a:gd name="textAreaRight" fmla="*/ 1756800 w 175644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28" y="0"/>
                  </a:lnTo>
                  <a:lnTo>
                    <a:pt x="21600" y="10800"/>
                  </a:lnTo>
                  <a:lnTo>
                    <a:pt x="184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矩形 2"/>
            <p:cNvSpPr/>
            <p:nvPr/>
          </p:nvSpPr>
          <p:spPr>
            <a:xfrm>
              <a:off x="1725840" y="51159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节点社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组合 48"/>
          <p:cNvGrpSpPr/>
          <p:nvPr/>
        </p:nvGrpSpPr>
        <p:grpSpPr>
          <a:xfrm>
            <a:off x="4719600" y="3946680"/>
            <a:ext cx="2741760" cy="3154320"/>
            <a:chOff x="4719600" y="3946680"/>
            <a:chExt cx="2741760" cy="3154320"/>
          </a:xfrm>
        </p:grpSpPr>
        <p:pic>
          <p:nvPicPr>
            <p:cNvPr id="1295" name="文本框 51" descr=""/>
            <p:cNvPicPr/>
            <p:nvPr/>
          </p:nvPicPr>
          <p:blipFill>
            <a:blip r:embed="rId3"/>
            <a:stretch/>
          </p:blipFill>
          <p:spPr>
            <a:xfrm>
              <a:off x="4719600" y="3946680"/>
              <a:ext cx="274176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6" name="五边形 49"/>
            <p:cNvSpPr/>
            <p:nvPr/>
          </p:nvSpPr>
          <p:spPr>
            <a:xfrm>
              <a:off x="5247720" y="5064480"/>
              <a:ext cx="1756440" cy="477360"/>
            </a:xfrm>
            <a:custGeom>
              <a:avLst/>
              <a:gdLst>
                <a:gd name="textAreaLeft" fmla="*/ 0 w 1756440"/>
                <a:gd name="textAreaRight" fmla="*/ 1756800 w 175644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28" y="0"/>
                  </a:lnTo>
                  <a:lnTo>
                    <a:pt x="21600" y="10800"/>
                  </a:lnTo>
                  <a:lnTo>
                    <a:pt x="184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矩形 2"/>
            <p:cNvSpPr/>
            <p:nvPr/>
          </p:nvSpPr>
          <p:spPr>
            <a:xfrm>
              <a:off x="5571000" y="51159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等能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组合 52"/>
          <p:cNvGrpSpPr/>
          <p:nvPr/>
        </p:nvGrpSpPr>
        <p:grpSpPr>
          <a:xfrm>
            <a:off x="8483760" y="3946680"/>
            <a:ext cx="2739960" cy="3154320"/>
            <a:chOff x="8483760" y="3946680"/>
            <a:chExt cx="2739960" cy="3154320"/>
          </a:xfrm>
        </p:grpSpPr>
        <p:pic>
          <p:nvPicPr>
            <p:cNvPr id="1299" name="文本框 55" descr=""/>
            <p:cNvPicPr/>
            <p:nvPr/>
          </p:nvPicPr>
          <p:blipFill>
            <a:blip r:embed="rId4"/>
            <a:stretch/>
          </p:blipFill>
          <p:spPr>
            <a:xfrm>
              <a:off x="8483760" y="3946680"/>
              <a:ext cx="273996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五边形 53"/>
            <p:cNvSpPr/>
            <p:nvPr/>
          </p:nvSpPr>
          <p:spPr>
            <a:xfrm>
              <a:off x="9075600" y="5064480"/>
              <a:ext cx="1754280" cy="4773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28" y="0"/>
                  </a:lnTo>
                  <a:lnTo>
                    <a:pt x="21600" y="10800"/>
                  </a:lnTo>
                  <a:lnTo>
                    <a:pt x="184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矩形 2"/>
            <p:cNvSpPr/>
            <p:nvPr/>
          </p:nvSpPr>
          <p:spPr>
            <a:xfrm>
              <a:off x="9222120" y="51159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关联动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2" name="组合 56" descr=""/>
          <p:cNvPicPr/>
          <p:nvPr/>
        </p:nvPicPr>
        <p:blipFill>
          <a:blip r:embed="rId5"/>
          <a:stretch/>
        </p:blipFill>
        <p:spPr>
          <a:xfrm>
            <a:off x="4979880" y="2444760"/>
            <a:ext cx="22320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88"/>
          <p:cNvGrpSpPr/>
          <p:nvPr/>
        </p:nvGrpSpPr>
        <p:grpSpPr>
          <a:xfrm>
            <a:off x="8630640" y="2031480"/>
            <a:ext cx="2721600" cy="2379240"/>
            <a:chOff x="8630640" y="2031480"/>
            <a:chExt cx="2721600" cy="2379240"/>
          </a:xfrm>
        </p:grpSpPr>
        <p:sp>
          <p:nvSpPr>
            <p:cNvPr id="1304" name="任意多边形 89"/>
            <p:cNvSpPr/>
            <p:nvPr/>
          </p:nvSpPr>
          <p:spPr>
            <a:xfrm rot="1377600">
              <a:off x="8942040" y="2261880"/>
              <a:ext cx="1571760" cy="1918080"/>
            </a:xfrm>
            <a:custGeom>
              <a:avLst/>
              <a:gdLst/>
              <a:ahLst/>
              <a:rect l="l" t="t" r="r" b="b"/>
              <a:pathLst>
                <a:path w="3223362" h="3929717">
                  <a:moveTo>
                    <a:pt x="1066420" y="0"/>
                  </a:moveTo>
                  <a:lnTo>
                    <a:pt x="1065390" y="43891"/>
                  </a:lnTo>
                  <a:cubicBezTo>
                    <a:pt x="1062224" y="750613"/>
                    <a:pt x="1235402" y="1283956"/>
                    <a:pt x="1509030" y="1315471"/>
                  </a:cubicBezTo>
                  <a:cubicBezTo>
                    <a:pt x="1761609" y="1344561"/>
                    <a:pt x="2028044" y="937796"/>
                    <a:pt x="2191478" y="333175"/>
                  </a:cubicBezTo>
                  <a:lnTo>
                    <a:pt x="2256679" y="47829"/>
                  </a:lnTo>
                  <a:lnTo>
                    <a:pt x="2379904" y="124583"/>
                  </a:lnTo>
                  <a:cubicBezTo>
                    <a:pt x="2505504" y="212806"/>
                    <a:pt x="2621021" y="321988"/>
                    <a:pt x="2723645" y="448502"/>
                  </a:cubicBezTo>
                  <a:lnTo>
                    <a:pt x="2791716" y="544193"/>
                  </a:lnTo>
                  <a:lnTo>
                    <a:pt x="2635461" y="631769"/>
                  </a:lnTo>
                  <a:cubicBezTo>
                    <a:pt x="2101576" y="959249"/>
                    <a:pt x="1786576" y="1329682"/>
                    <a:pt x="1885790" y="1563774"/>
                  </a:cubicBezTo>
                  <a:cubicBezTo>
                    <a:pt x="1985005" y="1797867"/>
                    <a:pt x="2470255" y="1829134"/>
                    <a:pt x="3076864" y="1673242"/>
                  </a:cubicBezTo>
                  <a:lnTo>
                    <a:pt x="3202830" y="1635528"/>
                  </a:lnTo>
                  <a:lnTo>
                    <a:pt x="3207726" y="1665550"/>
                  </a:lnTo>
                  <a:cubicBezTo>
                    <a:pt x="3218033" y="1760785"/>
                    <a:pt x="3223362" y="1858083"/>
                    <a:pt x="3223362" y="1956990"/>
                  </a:cubicBezTo>
                  <a:cubicBezTo>
                    <a:pt x="3223362" y="2064889"/>
                    <a:pt x="3217020" y="2170873"/>
                    <a:pt x="3204792" y="2274352"/>
                  </a:cubicBezTo>
                  <a:lnTo>
                    <a:pt x="3188955" y="2363203"/>
                  </a:lnTo>
                  <a:lnTo>
                    <a:pt x="2996868" y="2238620"/>
                  </a:lnTo>
                  <a:cubicBezTo>
                    <a:pt x="2458390" y="1918748"/>
                    <a:pt x="1983867" y="1812572"/>
                    <a:pt x="1822942" y="2009411"/>
                  </a:cubicBezTo>
                  <a:cubicBezTo>
                    <a:pt x="1621786" y="2255460"/>
                    <a:pt x="1982039" y="2887621"/>
                    <a:pt x="2635813" y="3462713"/>
                  </a:cubicBezTo>
                  <a:lnTo>
                    <a:pt x="2685617" y="3504945"/>
                  </a:lnTo>
                  <a:lnTo>
                    <a:pt x="2636860" y="3565049"/>
                  </a:lnTo>
                  <a:cubicBezTo>
                    <a:pt x="2517463" y="3692456"/>
                    <a:pt x="2383634" y="3798062"/>
                    <a:pt x="2239020" y="3877151"/>
                  </a:cubicBezTo>
                  <a:lnTo>
                    <a:pt x="2127945" y="3929717"/>
                  </a:lnTo>
                  <a:lnTo>
                    <a:pt x="2122908" y="3871429"/>
                  </a:lnTo>
                  <a:cubicBezTo>
                    <a:pt x="2048708" y="3168605"/>
                    <a:pt x="1818199" y="2657419"/>
                    <a:pt x="1542766" y="2656041"/>
                  </a:cubicBezTo>
                  <a:cubicBezTo>
                    <a:pt x="1288519" y="2654769"/>
                    <a:pt x="1068203" y="3088250"/>
                    <a:pt x="971924" y="3707126"/>
                  </a:cubicBezTo>
                  <a:lnTo>
                    <a:pt x="954381" y="3859027"/>
                  </a:lnTo>
                  <a:lnTo>
                    <a:pt x="930624" y="3846259"/>
                  </a:lnTo>
                  <a:cubicBezTo>
                    <a:pt x="806496" y="3771320"/>
                    <a:pt x="690975" y="3676531"/>
                    <a:pt x="586502" y="3565049"/>
                  </a:cubicBezTo>
                  <a:lnTo>
                    <a:pt x="580177" y="3557616"/>
                  </a:lnTo>
                  <a:lnTo>
                    <a:pt x="602406" y="3536833"/>
                  </a:lnTo>
                  <a:cubicBezTo>
                    <a:pt x="1042705" y="3091398"/>
                    <a:pt x="1260193" y="2656490"/>
                    <a:pt x="1107977" y="2452841"/>
                  </a:cubicBezTo>
                  <a:cubicBezTo>
                    <a:pt x="981129" y="2283134"/>
                    <a:pt x="627565" y="2314188"/>
                    <a:pt x="193862" y="2500644"/>
                  </a:cubicBezTo>
                  <a:lnTo>
                    <a:pt x="69333" y="2560973"/>
                  </a:lnTo>
                  <a:lnTo>
                    <a:pt x="32744" y="2376974"/>
                  </a:lnTo>
                  <a:cubicBezTo>
                    <a:pt x="11275" y="2241315"/>
                    <a:pt x="0" y="2100855"/>
                    <a:pt x="0" y="1956990"/>
                  </a:cubicBezTo>
                  <a:lnTo>
                    <a:pt x="4460" y="1816499"/>
                  </a:lnTo>
                  <a:lnTo>
                    <a:pt x="13631" y="1821085"/>
                  </a:lnTo>
                  <a:cubicBezTo>
                    <a:pt x="584417" y="2078920"/>
                    <a:pt x="1067820" y="2131524"/>
                    <a:pt x="1205794" y="1917969"/>
                  </a:cubicBezTo>
                  <a:cubicBezTo>
                    <a:pt x="1366763" y="1668821"/>
                    <a:pt x="1004229" y="1139954"/>
                    <a:pt x="374812" y="665159"/>
                  </a:cubicBezTo>
                  <a:lnTo>
                    <a:pt x="356640" y="651969"/>
                  </a:lnTo>
                  <a:lnTo>
                    <a:pt x="399367" y="583788"/>
                  </a:lnTo>
                  <a:cubicBezTo>
                    <a:pt x="544411" y="369876"/>
                    <a:pt x="722776" y="194681"/>
                    <a:pt x="923984" y="71755"/>
                  </a:cubicBezTo>
                  <a:lnTo>
                    <a:pt x="1066420" y="0"/>
                  </a:lnTo>
                  <a:close/>
                </a:path>
              </a:pathLst>
            </a:custGeom>
            <a:noFill/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椭圆 90"/>
            <p:cNvSpPr/>
            <p:nvPr/>
          </p:nvSpPr>
          <p:spPr>
            <a:xfrm rot="1853400">
              <a:off x="9606960" y="3079800"/>
              <a:ext cx="142560" cy="261720"/>
            </a:xfrm>
            <a:prstGeom prst="ellipse">
              <a:avLst/>
            </a:prstGeom>
            <a:noFill/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椭圆 91"/>
            <p:cNvSpPr/>
            <p:nvPr/>
          </p:nvSpPr>
          <p:spPr>
            <a:xfrm rot="19395000">
              <a:off x="9783360" y="3288960"/>
              <a:ext cx="122040" cy="2714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椭圆 92"/>
            <p:cNvSpPr/>
            <p:nvPr/>
          </p:nvSpPr>
          <p:spPr>
            <a:xfrm rot="19395000">
              <a:off x="9937440" y="3484440"/>
              <a:ext cx="123840" cy="2696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椭圆 93"/>
            <p:cNvSpPr/>
            <p:nvPr/>
          </p:nvSpPr>
          <p:spPr>
            <a:xfrm rot="19395000">
              <a:off x="10080360" y="3670200"/>
              <a:ext cx="122040" cy="2714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椭圆 94"/>
            <p:cNvSpPr/>
            <p:nvPr/>
          </p:nvSpPr>
          <p:spPr>
            <a:xfrm rot="18202800">
              <a:off x="10255320" y="3823920"/>
              <a:ext cx="122040" cy="2714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椭圆 95"/>
            <p:cNvSpPr/>
            <p:nvPr/>
          </p:nvSpPr>
          <p:spPr>
            <a:xfrm rot="18202800">
              <a:off x="10439280" y="3944520"/>
              <a:ext cx="122040" cy="2714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椭圆 96"/>
            <p:cNvSpPr/>
            <p:nvPr/>
          </p:nvSpPr>
          <p:spPr>
            <a:xfrm rot="16200000">
              <a:off x="10671120" y="4005000"/>
              <a:ext cx="122040" cy="2714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椭圆 97"/>
            <p:cNvSpPr/>
            <p:nvPr/>
          </p:nvSpPr>
          <p:spPr>
            <a:xfrm rot="16200000">
              <a:off x="10922760" y="3996360"/>
              <a:ext cx="122040" cy="2696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椭圆 98"/>
            <p:cNvSpPr/>
            <p:nvPr/>
          </p:nvSpPr>
          <p:spPr>
            <a:xfrm rot="16200000">
              <a:off x="11156400" y="4006080"/>
              <a:ext cx="122040" cy="2696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组合 403"/>
          <p:cNvGrpSpPr/>
          <p:nvPr/>
        </p:nvGrpSpPr>
        <p:grpSpPr>
          <a:xfrm>
            <a:off x="458640" y="2436840"/>
            <a:ext cx="3594240" cy="1858680"/>
            <a:chOff x="458640" y="2436840"/>
            <a:chExt cx="3594240" cy="1858680"/>
          </a:xfrm>
        </p:grpSpPr>
        <p:sp>
          <p:nvSpPr>
            <p:cNvPr id="1315" name="任意多边形 100"/>
            <p:cNvSpPr/>
            <p:nvPr/>
          </p:nvSpPr>
          <p:spPr>
            <a:xfrm>
              <a:off x="2092320" y="3170160"/>
              <a:ext cx="309600" cy="3157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组合 406"/>
            <p:cNvGrpSpPr/>
            <p:nvPr/>
          </p:nvGrpSpPr>
          <p:grpSpPr>
            <a:xfrm>
              <a:off x="1783440" y="2885760"/>
              <a:ext cx="931680" cy="930960"/>
              <a:chOff x="1783440" y="2885760"/>
              <a:chExt cx="931680" cy="930960"/>
            </a:xfrm>
          </p:grpSpPr>
          <p:grpSp>
            <p:nvGrpSpPr>
              <p:cNvPr id="1317" name="组合 659"/>
              <p:cNvGrpSpPr/>
              <p:nvPr/>
            </p:nvGrpSpPr>
            <p:grpSpPr>
              <a:xfrm>
                <a:off x="1783440" y="2885760"/>
                <a:ext cx="931320" cy="930960"/>
                <a:chOff x="1783440" y="2885760"/>
                <a:chExt cx="931320" cy="930960"/>
              </a:xfrm>
            </p:grpSpPr>
            <p:grpSp>
              <p:nvGrpSpPr>
                <p:cNvPr id="1318" name="组合 667"/>
                <p:cNvGrpSpPr/>
                <p:nvPr/>
              </p:nvGrpSpPr>
              <p:grpSpPr>
                <a:xfrm>
                  <a:off x="1783440" y="2885760"/>
                  <a:ext cx="930960" cy="930600"/>
                  <a:chOff x="1783440" y="2885760"/>
                  <a:chExt cx="930960" cy="930600"/>
                </a:xfrm>
              </p:grpSpPr>
              <p:sp>
                <p:nvSpPr>
                  <p:cNvPr id="1319" name="空心弧 355"/>
                  <p:cNvSpPr/>
                  <p:nvPr/>
                </p:nvSpPr>
                <p:spPr>
                  <a:xfrm rot="208200">
                    <a:off x="1919520" y="3021120"/>
                    <a:ext cx="659160" cy="65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351" h="3202219">
                        <a:moveTo>
                          <a:pt x="0" y="1601110"/>
                        </a:moveTo>
                        <a:cubicBezTo>
                          <a:pt x="0" y="1205404"/>
                          <a:pt x="146585" y="823715"/>
                          <a:pt x="411480" y="529668"/>
                        </a:cubicBezTo>
                        <a:lnTo>
                          <a:pt x="509937" y="618302"/>
                        </a:lnTo>
                        <a:cubicBezTo>
                          <a:pt x="266942" y="888022"/>
                          <a:pt x="132475" y="1238137"/>
                          <a:pt x="132475" y="1601110"/>
                        </a:cubicBezTo>
                        <a:lnTo>
                          <a:pt x="0" y="160111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空心弧 356"/>
                  <p:cNvSpPr/>
                  <p:nvPr/>
                </p:nvSpPr>
                <p:spPr>
                  <a:xfrm rot="2908800">
                    <a:off x="1918800" y="3021480"/>
                    <a:ext cx="65952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219" h="3203351">
                        <a:moveTo>
                          <a:pt x="0" y="1601676"/>
                        </a:moveTo>
                        <a:cubicBezTo>
                          <a:pt x="0" y="1206024"/>
                          <a:pt x="146390" y="824374"/>
                          <a:pt x="410958" y="530274"/>
                        </a:cubicBezTo>
                        <a:lnTo>
                          <a:pt x="509415" y="618907"/>
                        </a:lnTo>
                        <a:cubicBezTo>
                          <a:pt x="266747" y="888679"/>
                          <a:pt x="132475" y="1238756"/>
                          <a:pt x="132475" y="1601675"/>
                        </a:cubicBezTo>
                        <a:lnTo>
                          <a:pt x="0" y="16016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组合 668"/>
                <p:cNvGrpSpPr/>
                <p:nvPr/>
              </p:nvGrpSpPr>
              <p:grpSpPr>
                <a:xfrm>
                  <a:off x="1784160" y="2886120"/>
                  <a:ext cx="930600" cy="930600"/>
                  <a:chOff x="1784160" y="2886120"/>
                  <a:chExt cx="930600" cy="930600"/>
                </a:xfrm>
              </p:grpSpPr>
              <p:sp>
                <p:nvSpPr>
                  <p:cNvPr id="1322" name="空心弧 353"/>
                  <p:cNvSpPr/>
                  <p:nvPr/>
                </p:nvSpPr>
                <p:spPr>
                  <a:xfrm rot="5608800">
                    <a:off x="1919160" y="3021480"/>
                    <a:ext cx="65952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219" h="3203351">
                        <a:moveTo>
                          <a:pt x="0" y="1601676"/>
                        </a:moveTo>
                        <a:cubicBezTo>
                          <a:pt x="0" y="1206024"/>
                          <a:pt x="146390" y="824374"/>
                          <a:pt x="410958" y="530274"/>
                        </a:cubicBezTo>
                        <a:lnTo>
                          <a:pt x="509415" y="618907"/>
                        </a:lnTo>
                        <a:cubicBezTo>
                          <a:pt x="266747" y="888679"/>
                          <a:pt x="132475" y="1238756"/>
                          <a:pt x="132475" y="1601675"/>
                        </a:cubicBezTo>
                        <a:lnTo>
                          <a:pt x="0" y="16016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空心弧 354"/>
                  <p:cNvSpPr/>
                  <p:nvPr/>
                </p:nvSpPr>
                <p:spPr>
                  <a:xfrm rot="8308800">
                    <a:off x="1919520" y="3021480"/>
                    <a:ext cx="659160" cy="65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351" h="3202219">
                        <a:moveTo>
                          <a:pt x="0" y="1601110"/>
                        </a:moveTo>
                        <a:cubicBezTo>
                          <a:pt x="0" y="1205404"/>
                          <a:pt x="146585" y="823715"/>
                          <a:pt x="411480" y="529668"/>
                        </a:cubicBezTo>
                        <a:lnTo>
                          <a:pt x="509937" y="618302"/>
                        </a:lnTo>
                        <a:cubicBezTo>
                          <a:pt x="266942" y="888022"/>
                          <a:pt x="132475" y="1238137"/>
                          <a:pt x="132475" y="1601110"/>
                        </a:cubicBezTo>
                        <a:lnTo>
                          <a:pt x="0" y="160111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4" name="组合 660"/>
              <p:cNvGrpSpPr/>
              <p:nvPr/>
            </p:nvGrpSpPr>
            <p:grpSpPr>
              <a:xfrm>
                <a:off x="1783800" y="2885760"/>
                <a:ext cx="931320" cy="930960"/>
                <a:chOff x="1783800" y="2885760"/>
                <a:chExt cx="931320" cy="930960"/>
              </a:xfrm>
            </p:grpSpPr>
            <p:grpSp>
              <p:nvGrpSpPr>
                <p:cNvPr id="1325" name="组合 661"/>
                <p:cNvGrpSpPr/>
                <p:nvPr/>
              </p:nvGrpSpPr>
              <p:grpSpPr>
                <a:xfrm>
                  <a:off x="1784520" y="2886120"/>
                  <a:ext cx="930600" cy="930600"/>
                  <a:chOff x="1784520" y="2886120"/>
                  <a:chExt cx="930600" cy="930600"/>
                </a:xfrm>
              </p:grpSpPr>
              <p:sp>
                <p:nvSpPr>
                  <p:cNvPr id="1326" name="空心弧 349"/>
                  <p:cNvSpPr/>
                  <p:nvPr/>
                </p:nvSpPr>
                <p:spPr>
                  <a:xfrm rot="11008800">
                    <a:off x="1919520" y="3021480"/>
                    <a:ext cx="659160" cy="65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351" h="3202219">
                        <a:moveTo>
                          <a:pt x="0" y="1601110"/>
                        </a:moveTo>
                        <a:cubicBezTo>
                          <a:pt x="0" y="1205404"/>
                          <a:pt x="146585" y="823715"/>
                          <a:pt x="411480" y="529668"/>
                        </a:cubicBezTo>
                        <a:lnTo>
                          <a:pt x="509937" y="618302"/>
                        </a:lnTo>
                        <a:cubicBezTo>
                          <a:pt x="266942" y="888022"/>
                          <a:pt x="132475" y="1238137"/>
                          <a:pt x="132475" y="1601110"/>
                        </a:cubicBezTo>
                        <a:lnTo>
                          <a:pt x="0" y="160111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空心弧 350"/>
                  <p:cNvSpPr/>
                  <p:nvPr/>
                </p:nvSpPr>
                <p:spPr>
                  <a:xfrm rot="13708800">
                    <a:off x="1919880" y="3021480"/>
                    <a:ext cx="65952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219" h="3203351">
                        <a:moveTo>
                          <a:pt x="0" y="1601676"/>
                        </a:moveTo>
                        <a:cubicBezTo>
                          <a:pt x="0" y="1206024"/>
                          <a:pt x="146390" y="824374"/>
                          <a:pt x="410958" y="530274"/>
                        </a:cubicBezTo>
                        <a:lnTo>
                          <a:pt x="509415" y="618907"/>
                        </a:lnTo>
                        <a:cubicBezTo>
                          <a:pt x="266747" y="888679"/>
                          <a:pt x="132475" y="1238756"/>
                          <a:pt x="132475" y="1601675"/>
                        </a:cubicBezTo>
                        <a:lnTo>
                          <a:pt x="0" y="16016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组合 662"/>
                <p:cNvGrpSpPr/>
                <p:nvPr/>
              </p:nvGrpSpPr>
              <p:grpSpPr>
                <a:xfrm>
                  <a:off x="1783800" y="2885760"/>
                  <a:ext cx="930600" cy="930960"/>
                  <a:chOff x="1783800" y="2885760"/>
                  <a:chExt cx="930600" cy="930960"/>
                </a:xfrm>
              </p:grpSpPr>
              <p:sp>
                <p:nvSpPr>
                  <p:cNvPr id="1329" name="空心弧 347"/>
                  <p:cNvSpPr/>
                  <p:nvPr/>
                </p:nvSpPr>
                <p:spPr>
                  <a:xfrm rot="16408800">
                    <a:off x="1919520" y="3021480"/>
                    <a:ext cx="659520" cy="65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219" h="3203351">
                        <a:moveTo>
                          <a:pt x="0" y="1601676"/>
                        </a:moveTo>
                        <a:cubicBezTo>
                          <a:pt x="0" y="1206024"/>
                          <a:pt x="146390" y="824374"/>
                          <a:pt x="410958" y="530274"/>
                        </a:cubicBezTo>
                        <a:lnTo>
                          <a:pt x="509415" y="618907"/>
                        </a:lnTo>
                        <a:cubicBezTo>
                          <a:pt x="266747" y="888679"/>
                          <a:pt x="132475" y="1238756"/>
                          <a:pt x="132475" y="1601675"/>
                        </a:cubicBezTo>
                        <a:lnTo>
                          <a:pt x="0" y="16016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空心弧 348"/>
                  <p:cNvSpPr/>
                  <p:nvPr/>
                </p:nvSpPr>
                <p:spPr>
                  <a:xfrm rot="19108800">
                    <a:off x="1919520" y="3021120"/>
                    <a:ext cx="659160" cy="65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351" h="3202219">
                        <a:moveTo>
                          <a:pt x="0" y="1601110"/>
                        </a:moveTo>
                        <a:cubicBezTo>
                          <a:pt x="0" y="1205404"/>
                          <a:pt x="146585" y="823715"/>
                          <a:pt x="411480" y="529668"/>
                        </a:cubicBezTo>
                        <a:lnTo>
                          <a:pt x="509937" y="618302"/>
                        </a:lnTo>
                        <a:cubicBezTo>
                          <a:pt x="266942" y="888022"/>
                          <a:pt x="132475" y="1238137"/>
                          <a:pt x="132475" y="1601110"/>
                        </a:cubicBezTo>
                        <a:lnTo>
                          <a:pt x="0" y="160111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31" name="组合 407"/>
            <p:cNvGrpSpPr/>
            <p:nvPr/>
          </p:nvGrpSpPr>
          <p:grpSpPr>
            <a:xfrm>
              <a:off x="2813400" y="2784960"/>
              <a:ext cx="437040" cy="437040"/>
              <a:chOff x="2813400" y="2784960"/>
              <a:chExt cx="437040" cy="437040"/>
            </a:xfrm>
          </p:grpSpPr>
          <p:grpSp>
            <p:nvGrpSpPr>
              <p:cNvPr id="1332" name="组合 645"/>
              <p:cNvGrpSpPr/>
              <p:nvPr/>
            </p:nvGrpSpPr>
            <p:grpSpPr>
              <a:xfrm>
                <a:off x="2813400" y="2784960"/>
                <a:ext cx="437040" cy="437040"/>
                <a:chOff x="2813400" y="2784960"/>
                <a:chExt cx="437040" cy="437040"/>
              </a:xfrm>
            </p:grpSpPr>
            <p:grpSp>
              <p:nvGrpSpPr>
                <p:cNvPr id="1333" name="组合 653"/>
                <p:cNvGrpSpPr/>
                <p:nvPr/>
              </p:nvGrpSpPr>
              <p:grpSpPr>
                <a:xfrm>
                  <a:off x="2813400" y="2784960"/>
                  <a:ext cx="437040" cy="437040"/>
                  <a:chOff x="2813400" y="2784960"/>
                  <a:chExt cx="437040" cy="437040"/>
                </a:xfrm>
              </p:grpSpPr>
              <p:sp>
                <p:nvSpPr>
                  <p:cNvPr id="1334" name="空心弧 341"/>
                  <p:cNvSpPr/>
                  <p:nvPr/>
                </p:nvSpPr>
                <p:spPr>
                  <a:xfrm rot="208200">
                    <a:off x="2877120" y="284868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69" h="3194923">
                        <a:moveTo>
                          <a:pt x="0" y="1597462"/>
                        </a:moveTo>
                        <a:cubicBezTo>
                          <a:pt x="0" y="1202656"/>
                          <a:pt x="146253" y="821836"/>
                          <a:pt x="410547" y="528458"/>
                        </a:cubicBezTo>
                        <a:lnTo>
                          <a:pt x="508780" y="616890"/>
                        </a:lnTo>
                        <a:cubicBezTo>
                          <a:pt x="266336" y="885995"/>
                          <a:pt x="132173" y="1235314"/>
                          <a:pt x="132173" y="1597462"/>
                        </a:cubicBezTo>
                        <a:lnTo>
                          <a:pt x="0" y="15974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空心弧 342"/>
                  <p:cNvSpPr/>
                  <p:nvPr/>
                </p:nvSpPr>
                <p:spPr>
                  <a:xfrm rot="2908800">
                    <a:off x="2877120" y="284832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23" h="3196069">
                        <a:moveTo>
                          <a:pt x="0" y="1598035"/>
                        </a:moveTo>
                        <a:cubicBezTo>
                          <a:pt x="0" y="1203284"/>
                          <a:pt x="146055" y="822502"/>
                          <a:pt x="410019" y="529072"/>
                        </a:cubicBezTo>
                        <a:lnTo>
                          <a:pt x="508252" y="617503"/>
                        </a:lnTo>
                        <a:cubicBezTo>
                          <a:pt x="266139" y="886662"/>
                          <a:pt x="132174" y="1235942"/>
                          <a:pt x="132174" y="1598035"/>
                        </a:cubicBezTo>
                        <a:lnTo>
                          <a:pt x="0" y="159803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组合 654"/>
                <p:cNvGrpSpPr/>
                <p:nvPr/>
              </p:nvGrpSpPr>
              <p:grpSpPr>
                <a:xfrm>
                  <a:off x="2813400" y="2784960"/>
                  <a:ext cx="437040" cy="437040"/>
                  <a:chOff x="2813400" y="2784960"/>
                  <a:chExt cx="437040" cy="437040"/>
                </a:xfrm>
              </p:grpSpPr>
              <p:sp>
                <p:nvSpPr>
                  <p:cNvPr id="1337" name="空心弧 339"/>
                  <p:cNvSpPr/>
                  <p:nvPr/>
                </p:nvSpPr>
                <p:spPr>
                  <a:xfrm rot="5608800">
                    <a:off x="2876760" y="284868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23" h="3196069">
                        <a:moveTo>
                          <a:pt x="0" y="1598035"/>
                        </a:moveTo>
                        <a:cubicBezTo>
                          <a:pt x="0" y="1203284"/>
                          <a:pt x="146055" y="822502"/>
                          <a:pt x="410019" y="529072"/>
                        </a:cubicBezTo>
                        <a:lnTo>
                          <a:pt x="508252" y="617503"/>
                        </a:lnTo>
                        <a:cubicBezTo>
                          <a:pt x="266139" y="886662"/>
                          <a:pt x="132174" y="1235942"/>
                          <a:pt x="132174" y="1598035"/>
                        </a:cubicBezTo>
                        <a:lnTo>
                          <a:pt x="0" y="159803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空心弧 340"/>
                  <p:cNvSpPr/>
                  <p:nvPr/>
                </p:nvSpPr>
                <p:spPr>
                  <a:xfrm rot="8308800">
                    <a:off x="2877120" y="284868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69" h="3194923">
                        <a:moveTo>
                          <a:pt x="0" y="1597462"/>
                        </a:moveTo>
                        <a:cubicBezTo>
                          <a:pt x="0" y="1202656"/>
                          <a:pt x="146253" y="821836"/>
                          <a:pt x="410547" y="528458"/>
                        </a:cubicBezTo>
                        <a:lnTo>
                          <a:pt x="508780" y="616890"/>
                        </a:lnTo>
                        <a:cubicBezTo>
                          <a:pt x="266336" y="885995"/>
                          <a:pt x="132173" y="1235314"/>
                          <a:pt x="132173" y="1597462"/>
                        </a:cubicBezTo>
                        <a:lnTo>
                          <a:pt x="0" y="15974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9" name="组合 646"/>
              <p:cNvGrpSpPr/>
              <p:nvPr/>
            </p:nvGrpSpPr>
            <p:grpSpPr>
              <a:xfrm>
                <a:off x="2813400" y="2784960"/>
                <a:ext cx="437040" cy="437040"/>
                <a:chOff x="2813400" y="2784960"/>
                <a:chExt cx="437040" cy="437040"/>
              </a:xfrm>
            </p:grpSpPr>
            <p:grpSp>
              <p:nvGrpSpPr>
                <p:cNvPr id="1340" name="组合 647"/>
                <p:cNvGrpSpPr/>
                <p:nvPr/>
              </p:nvGrpSpPr>
              <p:grpSpPr>
                <a:xfrm>
                  <a:off x="2813400" y="2784960"/>
                  <a:ext cx="437040" cy="437040"/>
                  <a:chOff x="2813400" y="2784960"/>
                  <a:chExt cx="437040" cy="437040"/>
                </a:xfrm>
              </p:grpSpPr>
              <p:sp>
                <p:nvSpPr>
                  <p:cNvPr id="1341" name="空心弧 335"/>
                  <p:cNvSpPr/>
                  <p:nvPr/>
                </p:nvSpPr>
                <p:spPr>
                  <a:xfrm rot="11008800">
                    <a:off x="2876760" y="284832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69" h="3194923">
                        <a:moveTo>
                          <a:pt x="0" y="1597462"/>
                        </a:moveTo>
                        <a:cubicBezTo>
                          <a:pt x="0" y="1202656"/>
                          <a:pt x="146253" y="821836"/>
                          <a:pt x="410547" y="528458"/>
                        </a:cubicBezTo>
                        <a:lnTo>
                          <a:pt x="508780" y="616890"/>
                        </a:lnTo>
                        <a:cubicBezTo>
                          <a:pt x="266336" y="885995"/>
                          <a:pt x="132173" y="1235314"/>
                          <a:pt x="132173" y="1597462"/>
                        </a:cubicBezTo>
                        <a:lnTo>
                          <a:pt x="0" y="15974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空心弧 336"/>
                  <p:cNvSpPr/>
                  <p:nvPr/>
                </p:nvSpPr>
                <p:spPr>
                  <a:xfrm rot="13708800">
                    <a:off x="2876760" y="284868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23" h="3196069">
                        <a:moveTo>
                          <a:pt x="0" y="1598035"/>
                        </a:moveTo>
                        <a:cubicBezTo>
                          <a:pt x="0" y="1203284"/>
                          <a:pt x="146055" y="822502"/>
                          <a:pt x="410019" y="529072"/>
                        </a:cubicBezTo>
                        <a:lnTo>
                          <a:pt x="508252" y="617503"/>
                        </a:lnTo>
                        <a:cubicBezTo>
                          <a:pt x="266139" y="886662"/>
                          <a:pt x="132174" y="1235942"/>
                          <a:pt x="132174" y="1598035"/>
                        </a:cubicBezTo>
                        <a:lnTo>
                          <a:pt x="0" y="159803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组合 648"/>
                <p:cNvGrpSpPr/>
                <p:nvPr/>
              </p:nvGrpSpPr>
              <p:grpSpPr>
                <a:xfrm>
                  <a:off x="2813400" y="2784960"/>
                  <a:ext cx="437040" cy="437040"/>
                  <a:chOff x="2813400" y="2784960"/>
                  <a:chExt cx="437040" cy="437040"/>
                </a:xfrm>
              </p:grpSpPr>
              <p:sp>
                <p:nvSpPr>
                  <p:cNvPr id="1344" name="空心弧 333"/>
                  <p:cNvSpPr/>
                  <p:nvPr/>
                </p:nvSpPr>
                <p:spPr>
                  <a:xfrm rot="16408800">
                    <a:off x="2877120" y="284832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23" h="3196069">
                        <a:moveTo>
                          <a:pt x="0" y="1598035"/>
                        </a:moveTo>
                        <a:cubicBezTo>
                          <a:pt x="0" y="1203284"/>
                          <a:pt x="146055" y="822502"/>
                          <a:pt x="410019" y="529072"/>
                        </a:cubicBezTo>
                        <a:lnTo>
                          <a:pt x="508252" y="617503"/>
                        </a:lnTo>
                        <a:cubicBezTo>
                          <a:pt x="266139" y="886662"/>
                          <a:pt x="132174" y="1235942"/>
                          <a:pt x="132174" y="1598035"/>
                        </a:cubicBezTo>
                        <a:lnTo>
                          <a:pt x="0" y="159803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空心弧 334"/>
                  <p:cNvSpPr/>
                  <p:nvPr/>
                </p:nvSpPr>
                <p:spPr>
                  <a:xfrm rot="19108800">
                    <a:off x="2876760" y="2848320"/>
                    <a:ext cx="30960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69" h="3194923">
                        <a:moveTo>
                          <a:pt x="0" y="1597462"/>
                        </a:moveTo>
                        <a:cubicBezTo>
                          <a:pt x="0" y="1202656"/>
                          <a:pt x="146253" y="821836"/>
                          <a:pt x="410547" y="528458"/>
                        </a:cubicBezTo>
                        <a:lnTo>
                          <a:pt x="508780" y="616890"/>
                        </a:lnTo>
                        <a:cubicBezTo>
                          <a:pt x="266336" y="885995"/>
                          <a:pt x="132173" y="1235314"/>
                          <a:pt x="132173" y="1597462"/>
                        </a:cubicBezTo>
                        <a:lnTo>
                          <a:pt x="0" y="15974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46" name="组合 408"/>
            <p:cNvGrpSpPr/>
            <p:nvPr/>
          </p:nvGrpSpPr>
          <p:grpSpPr>
            <a:xfrm>
              <a:off x="714240" y="2497680"/>
              <a:ext cx="697680" cy="697680"/>
              <a:chOff x="714240" y="2497680"/>
              <a:chExt cx="697680" cy="697680"/>
            </a:xfrm>
          </p:grpSpPr>
          <p:grpSp>
            <p:nvGrpSpPr>
              <p:cNvPr id="1347" name="组合 631"/>
              <p:cNvGrpSpPr/>
              <p:nvPr/>
            </p:nvGrpSpPr>
            <p:grpSpPr>
              <a:xfrm>
                <a:off x="714240" y="2498040"/>
                <a:ext cx="697680" cy="697320"/>
                <a:chOff x="714240" y="2498040"/>
                <a:chExt cx="697680" cy="697320"/>
              </a:xfrm>
            </p:grpSpPr>
            <p:grpSp>
              <p:nvGrpSpPr>
                <p:cNvPr id="1348" name="组合 639"/>
                <p:cNvGrpSpPr/>
                <p:nvPr/>
              </p:nvGrpSpPr>
              <p:grpSpPr>
                <a:xfrm>
                  <a:off x="714600" y="2498040"/>
                  <a:ext cx="697320" cy="697320"/>
                  <a:chOff x="714600" y="2498040"/>
                  <a:chExt cx="697320" cy="697320"/>
                </a:xfrm>
              </p:grpSpPr>
              <p:sp>
                <p:nvSpPr>
                  <p:cNvPr id="1349" name="空心弧 327"/>
                  <p:cNvSpPr/>
                  <p:nvPr/>
                </p:nvSpPr>
                <p:spPr>
                  <a:xfrm rot="208200">
                    <a:off x="816120" y="259956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63" h="3195031">
                        <a:moveTo>
                          <a:pt x="0" y="1597516"/>
                        </a:moveTo>
                        <a:cubicBezTo>
                          <a:pt x="0" y="1202698"/>
                          <a:pt x="146256" y="821866"/>
                          <a:pt x="410557" y="528479"/>
                        </a:cubicBezTo>
                        <a:lnTo>
                          <a:pt x="508793" y="616913"/>
                        </a:lnTo>
                        <a:cubicBezTo>
                          <a:pt x="266343" y="886027"/>
                          <a:pt x="132178" y="1235356"/>
                          <a:pt x="132178" y="1597515"/>
                        </a:cubicBezTo>
                        <a:lnTo>
                          <a:pt x="0" y="159751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空心弧 328"/>
                  <p:cNvSpPr/>
                  <p:nvPr/>
                </p:nvSpPr>
                <p:spPr>
                  <a:xfrm rot="2908800">
                    <a:off x="816120" y="259956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031" h="3196163">
                        <a:moveTo>
                          <a:pt x="0" y="1598082"/>
                        </a:moveTo>
                        <a:cubicBezTo>
                          <a:pt x="0" y="1203318"/>
                          <a:pt x="146061" y="822524"/>
                          <a:pt x="410035" y="529084"/>
                        </a:cubicBezTo>
                        <a:lnTo>
                          <a:pt x="508271" y="617519"/>
                        </a:lnTo>
                        <a:cubicBezTo>
                          <a:pt x="266148" y="886686"/>
                          <a:pt x="132178" y="1235977"/>
                          <a:pt x="132178" y="1598081"/>
                        </a:cubicBezTo>
                        <a:lnTo>
                          <a:pt x="0" y="15980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" name="组合 640"/>
                <p:cNvGrpSpPr/>
                <p:nvPr/>
              </p:nvGrpSpPr>
              <p:grpSpPr>
                <a:xfrm>
                  <a:off x="714240" y="2498040"/>
                  <a:ext cx="697320" cy="697320"/>
                  <a:chOff x="714240" y="2498040"/>
                  <a:chExt cx="697320" cy="697320"/>
                </a:xfrm>
              </p:grpSpPr>
              <p:sp>
                <p:nvSpPr>
                  <p:cNvPr id="1352" name="空心弧 325"/>
                  <p:cNvSpPr/>
                  <p:nvPr/>
                </p:nvSpPr>
                <p:spPr>
                  <a:xfrm rot="5608800">
                    <a:off x="815760" y="259956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031" h="3196163">
                        <a:moveTo>
                          <a:pt x="0" y="1598082"/>
                        </a:moveTo>
                        <a:cubicBezTo>
                          <a:pt x="0" y="1203318"/>
                          <a:pt x="146061" y="822524"/>
                          <a:pt x="410035" y="529084"/>
                        </a:cubicBezTo>
                        <a:lnTo>
                          <a:pt x="508271" y="617519"/>
                        </a:lnTo>
                        <a:cubicBezTo>
                          <a:pt x="266148" y="886686"/>
                          <a:pt x="132178" y="1235977"/>
                          <a:pt x="132178" y="1598081"/>
                        </a:cubicBezTo>
                        <a:lnTo>
                          <a:pt x="0" y="15980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空心弧 326"/>
                  <p:cNvSpPr/>
                  <p:nvPr/>
                </p:nvSpPr>
                <p:spPr>
                  <a:xfrm rot="8308800">
                    <a:off x="815760" y="259956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63" h="3195031">
                        <a:moveTo>
                          <a:pt x="0" y="1597516"/>
                        </a:moveTo>
                        <a:cubicBezTo>
                          <a:pt x="0" y="1202698"/>
                          <a:pt x="146256" y="821866"/>
                          <a:pt x="410557" y="528479"/>
                        </a:cubicBezTo>
                        <a:lnTo>
                          <a:pt x="508793" y="616913"/>
                        </a:lnTo>
                        <a:cubicBezTo>
                          <a:pt x="266343" y="886027"/>
                          <a:pt x="132178" y="1235356"/>
                          <a:pt x="132178" y="1597515"/>
                        </a:cubicBezTo>
                        <a:lnTo>
                          <a:pt x="0" y="159751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4" name="组合 632"/>
              <p:cNvGrpSpPr/>
              <p:nvPr/>
            </p:nvGrpSpPr>
            <p:grpSpPr>
              <a:xfrm>
                <a:off x="714600" y="2497680"/>
                <a:ext cx="697320" cy="697320"/>
                <a:chOff x="714600" y="2497680"/>
                <a:chExt cx="697320" cy="697320"/>
              </a:xfrm>
            </p:grpSpPr>
            <p:grpSp>
              <p:nvGrpSpPr>
                <p:cNvPr id="1355" name="组合 633"/>
                <p:cNvGrpSpPr/>
                <p:nvPr/>
              </p:nvGrpSpPr>
              <p:grpSpPr>
                <a:xfrm>
                  <a:off x="714600" y="2497680"/>
                  <a:ext cx="696960" cy="697320"/>
                  <a:chOff x="714600" y="2497680"/>
                  <a:chExt cx="696960" cy="697320"/>
                </a:xfrm>
              </p:grpSpPr>
              <p:sp>
                <p:nvSpPr>
                  <p:cNvPr id="1356" name="空心弧 321"/>
                  <p:cNvSpPr/>
                  <p:nvPr/>
                </p:nvSpPr>
                <p:spPr>
                  <a:xfrm rot="11008800">
                    <a:off x="815760" y="259920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63" h="3195031">
                        <a:moveTo>
                          <a:pt x="0" y="1597516"/>
                        </a:moveTo>
                        <a:cubicBezTo>
                          <a:pt x="0" y="1202698"/>
                          <a:pt x="146256" y="821866"/>
                          <a:pt x="410557" y="528479"/>
                        </a:cubicBezTo>
                        <a:lnTo>
                          <a:pt x="508793" y="616913"/>
                        </a:lnTo>
                        <a:cubicBezTo>
                          <a:pt x="266343" y="886027"/>
                          <a:pt x="132178" y="1235356"/>
                          <a:pt x="132178" y="1597515"/>
                        </a:cubicBezTo>
                        <a:lnTo>
                          <a:pt x="0" y="159751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空心弧 322"/>
                  <p:cNvSpPr/>
                  <p:nvPr/>
                </p:nvSpPr>
                <p:spPr>
                  <a:xfrm rot="13708800">
                    <a:off x="815760" y="259920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031" h="3196163">
                        <a:moveTo>
                          <a:pt x="0" y="1598082"/>
                        </a:moveTo>
                        <a:cubicBezTo>
                          <a:pt x="0" y="1203318"/>
                          <a:pt x="146061" y="822524"/>
                          <a:pt x="410035" y="529084"/>
                        </a:cubicBezTo>
                        <a:lnTo>
                          <a:pt x="508271" y="617519"/>
                        </a:lnTo>
                        <a:cubicBezTo>
                          <a:pt x="266148" y="886686"/>
                          <a:pt x="132178" y="1235977"/>
                          <a:pt x="132178" y="1598081"/>
                        </a:cubicBezTo>
                        <a:lnTo>
                          <a:pt x="0" y="15980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组合 634"/>
                <p:cNvGrpSpPr/>
                <p:nvPr/>
              </p:nvGrpSpPr>
              <p:grpSpPr>
                <a:xfrm>
                  <a:off x="714600" y="2498040"/>
                  <a:ext cx="697320" cy="696960"/>
                  <a:chOff x="714600" y="2498040"/>
                  <a:chExt cx="697320" cy="696960"/>
                </a:xfrm>
              </p:grpSpPr>
              <p:sp>
                <p:nvSpPr>
                  <p:cNvPr id="1359" name="空心弧 319"/>
                  <p:cNvSpPr/>
                  <p:nvPr/>
                </p:nvSpPr>
                <p:spPr>
                  <a:xfrm rot="16408800">
                    <a:off x="816120" y="259920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031" h="3196163">
                        <a:moveTo>
                          <a:pt x="0" y="1598082"/>
                        </a:moveTo>
                        <a:cubicBezTo>
                          <a:pt x="0" y="1203318"/>
                          <a:pt x="146061" y="822524"/>
                          <a:pt x="410035" y="529084"/>
                        </a:cubicBezTo>
                        <a:lnTo>
                          <a:pt x="508271" y="617519"/>
                        </a:lnTo>
                        <a:cubicBezTo>
                          <a:pt x="266148" y="886686"/>
                          <a:pt x="132178" y="1235977"/>
                          <a:pt x="132178" y="1598081"/>
                        </a:cubicBezTo>
                        <a:lnTo>
                          <a:pt x="0" y="15980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空心弧 320"/>
                  <p:cNvSpPr/>
                  <p:nvPr/>
                </p:nvSpPr>
                <p:spPr>
                  <a:xfrm rot="19108800">
                    <a:off x="816120" y="2599200"/>
                    <a:ext cx="493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63" h="3195031">
                        <a:moveTo>
                          <a:pt x="0" y="1597516"/>
                        </a:moveTo>
                        <a:cubicBezTo>
                          <a:pt x="0" y="1202698"/>
                          <a:pt x="146256" y="821866"/>
                          <a:pt x="410557" y="528479"/>
                        </a:cubicBezTo>
                        <a:lnTo>
                          <a:pt x="508793" y="616913"/>
                        </a:lnTo>
                        <a:cubicBezTo>
                          <a:pt x="266343" y="886027"/>
                          <a:pt x="132178" y="1235356"/>
                          <a:pt x="132178" y="1597515"/>
                        </a:cubicBezTo>
                        <a:lnTo>
                          <a:pt x="0" y="159751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1" name="组合 410"/>
            <p:cNvGrpSpPr/>
            <p:nvPr/>
          </p:nvGrpSpPr>
          <p:grpSpPr>
            <a:xfrm>
              <a:off x="1121760" y="3274920"/>
              <a:ext cx="396720" cy="396720"/>
              <a:chOff x="1121760" y="3274920"/>
              <a:chExt cx="396720" cy="396720"/>
            </a:xfrm>
          </p:grpSpPr>
          <p:grpSp>
            <p:nvGrpSpPr>
              <p:cNvPr id="1362" name="组合 617"/>
              <p:cNvGrpSpPr/>
              <p:nvPr/>
            </p:nvGrpSpPr>
            <p:grpSpPr>
              <a:xfrm>
                <a:off x="1121760" y="3274920"/>
                <a:ext cx="396720" cy="396360"/>
                <a:chOff x="1121760" y="3274920"/>
                <a:chExt cx="396720" cy="396360"/>
              </a:xfrm>
            </p:grpSpPr>
            <p:grpSp>
              <p:nvGrpSpPr>
                <p:cNvPr id="1363" name="组合 625"/>
                <p:cNvGrpSpPr/>
                <p:nvPr/>
              </p:nvGrpSpPr>
              <p:grpSpPr>
                <a:xfrm>
                  <a:off x="1121760" y="3274920"/>
                  <a:ext cx="396360" cy="396360"/>
                  <a:chOff x="1121760" y="3274920"/>
                  <a:chExt cx="396360" cy="396360"/>
                </a:xfrm>
              </p:grpSpPr>
              <p:sp>
                <p:nvSpPr>
                  <p:cNvPr id="1364" name="空心弧 313"/>
                  <p:cNvSpPr/>
                  <p:nvPr/>
                </p:nvSpPr>
                <p:spPr>
                  <a:xfrm rot="208200">
                    <a:off x="1179360" y="333252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9799" h="3180605">
                        <a:moveTo>
                          <a:pt x="0" y="1590303"/>
                        </a:moveTo>
                        <a:cubicBezTo>
                          <a:pt x="0" y="1195723"/>
                          <a:pt x="147573" y="815234"/>
                          <a:pt x="414044" y="522768"/>
                        </a:cubicBezTo>
                        <a:lnTo>
                          <a:pt x="511839" y="610805"/>
                        </a:lnTo>
                        <a:cubicBezTo>
                          <a:pt x="267119" y="879106"/>
                          <a:pt x="131582" y="1228235"/>
                          <a:pt x="131582" y="1590302"/>
                        </a:cubicBezTo>
                        <a:lnTo>
                          <a:pt x="0" y="159030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空心弧 314"/>
                  <p:cNvSpPr/>
                  <p:nvPr/>
                </p:nvSpPr>
                <p:spPr>
                  <a:xfrm rot="2908800">
                    <a:off x="1179360" y="333252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0605" h="3199799">
                        <a:moveTo>
                          <a:pt x="0" y="1599900"/>
                        </a:moveTo>
                        <a:cubicBezTo>
                          <a:pt x="0" y="1206239"/>
                          <a:pt x="144264" y="826397"/>
                          <a:pt x="405194" y="533038"/>
                        </a:cubicBezTo>
                        <a:lnTo>
                          <a:pt x="502988" y="621075"/>
                        </a:lnTo>
                        <a:cubicBezTo>
                          <a:pt x="263809" y="890271"/>
                          <a:pt x="131581" y="1238752"/>
                          <a:pt x="131581" y="1599900"/>
                        </a:cubicBezTo>
                        <a:lnTo>
                          <a:pt x="0" y="159990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组合 626"/>
                <p:cNvGrpSpPr/>
                <p:nvPr/>
              </p:nvGrpSpPr>
              <p:grpSpPr>
                <a:xfrm>
                  <a:off x="1122120" y="3274920"/>
                  <a:ext cx="396360" cy="396360"/>
                  <a:chOff x="1122120" y="3274920"/>
                  <a:chExt cx="396360" cy="396360"/>
                </a:xfrm>
              </p:grpSpPr>
              <p:sp>
                <p:nvSpPr>
                  <p:cNvPr id="1367" name="空心弧 311"/>
                  <p:cNvSpPr/>
                  <p:nvPr/>
                </p:nvSpPr>
                <p:spPr>
                  <a:xfrm rot="5608800">
                    <a:off x="1179720" y="333252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0605" h="3199799">
                        <a:moveTo>
                          <a:pt x="0" y="1599900"/>
                        </a:moveTo>
                        <a:cubicBezTo>
                          <a:pt x="0" y="1206239"/>
                          <a:pt x="144264" y="826397"/>
                          <a:pt x="405194" y="533038"/>
                        </a:cubicBezTo>
                        <a:lnTo>
                          <a:pt x="502988" y="621075"/>
                        </a:lnTo>
                        <a:cubicBezTo>
                          <a:pt x="263809" y="890271"/>
                          <a:pt x="131581" y="1238752"/>
                          <a:pt x="131581" y="1599900"/>
                        </a:cubicBezTo>
                        <a:lnTo>
                          <a:pt x="0" y="159990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空心弧 312"/>
                  <p:cNvSpPr/>
                  <p:nvPr/>
                </p:nvSpPr>
                <p:spPr>
                  <a:xfrm rot="8308800">
                    <a:off x="1179720" y="333252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9799" h="3180605">
                        <a:moveTo>
                          <a:pt x="0" y="1590303"/>
                        </a:moveTo>
                        <a:cubicBezTo>
                          <a:pt x="0" y="1195723"/>
                          <a:pt x="147573" y="815234"/>
                          <a:pt x="414044" y="522768"/>
                        </a:cubicBezTo>
                        <a:lnTo>
                          <a:pt x="511839" y="610805"/>
                        </a:lnTo>
                        <a:cubicBezTo>
                          <a:pt x="267119" y="879106"/>
                          <a:pt x="131582" y="1228235"/>
                          <a:pt x="131582" y="1590302"/>
                        </a:cubicBezTo>
                        <a:lnTo>
                          <a:pt x="0" y="159030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组合 618"/>
              <p:cNvGrpSpPr/>
              <p:nvPr/>
            </p:nvGrpSpPr>
            <p:grpSpPr>
              <a:xfrm>
                <a:off x="1121760" y="3275280"/>
                <a:ext cx="396720" cy="396360"/>
                <a:chOff x="1121760" y="3275280"/>
                <a:chExt cx="396720" cy="396360"/>
              </a:xfrm>
            </p:grpSpPr>
            <p:grpSp>
              <p:nvGrpSpPr>
                <p:cNvPr id="1370" name="组合 619"/>
                <p:cNvGrpSpPr/>
                <p:nvPr/>
              </p:nvGrpSpPr>
              <p:grpSpPr>
                <a:xfrm>
                  <a:off x="1122120" y="3275280"/>
                  <a:ext cx="396360" cy="396360"/>
                  <a:chOff x="1122120" y="3275280"/>
                  <a:chExt cx="396360" cy="396360"/>
                </a:xfrm>
              </p:grpSpPr>
              <p:sp>
                <p:nvSpPr>
                  <p:cNvPr id="1371" name="空心弧 307"/>
                  <p:cNvSpPr/>
                  <p:nvPr/>
                </p:nvSpPr>
                <p:spPr>
                  <a:xfrm rot="11008800">
                    <a:off x="1179720" y="333288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9799" h="3180605">
                        <a:moveTo>
                          <a:pt x="0" y="1590303"/>
                        </a:moveTo>
                        <a:cubicBezTo>
                          <a:pt x="0" y="1195723"/>
                          <a:pt x="147573" y="815234"/>
                          <a:pt x="414044" y="522768"/>
                        </a:cubicBezTo>
                        <a:lnTo>
                          <a:pt x="511839" y="610805"/>
                        </a:lnTo>
                        <a:cubicBezTo>
                          <a:pt x="267119" y="879106"/>
                          <a:pt x="131582" y="1228235"/>
                          <a:pt x="131582" y="1590302"/>
                        </a:cubicBezTo>
                        <a:lnTo>
                          <a:pt x="0" y="159030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空心弧 308"/>
                  <p:cNvSpPr/>
                  <p:nvPr/>
                </p:nvSpPr>
                <p:spPr>
                  <a:xfrm rot="13708800">
                    <a:off x="1179720" y="333288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0605" h="3199799">
                        <a:moveTo>
                          <a:pt x="0" y="1599900"/>
                        </a:moveTo>
                        <a:cubicBezTo>
                          <a:pt x="0" y="1206239"/>
                          <a:pt x="144264" y="826397"/>
                          <a:pt x="405194" y="533038"/>
                        </a:cubicBezTo>
                        <a:lnTo>
                          <a:pt x="502988" y="621075"/>
                        </a:lnTo>
                        <a:cubicBezTo>
                          <a:pt x="263809" y="890271"/>
                          <a:pt x="131581" y="1238752"/>
                          <a:pt x="131581" y="1599900"/>
                        </a:cubicBezTo>
                        <a:lnTo>
                          <a:pt x="0" y="159990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组合 620"/>
                <p:cNvGrpSpPr/>
                <p:nvPr/>
              </p:nvGrpSpPr>
              <p:grpSpPr>
                <a:xfrm>
                  <a:off x="1121760" y="3275280"/>
                  <a:ext cx="396360" cy="396360"/>
                  <a:chOff x="1121760" y="3275280"/>
                  <a:chExt cx="396360" cy="396360"/>
                </a:xfrm>
              </p:grpSpPr>
              <p:sp>
                <p:nvSpPr>
                  <p:cNvPr id="1374" name="空心弧 305"/>
                  <p:cNvSpPr/>
                  <p:nvPr/>
                </p:nvSpPr>
                <p:spPr>
                  <a:xfrm rot="16408800">
                    <a:off x="1179360" y="333288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0605" h="3199799">
                        <a:moveTo>
                          <a:pt x="0" y="1599900"/>
                        </a:moveTo>
                        <a:cubicBezTo>
                          <a:pt x="0" y="1206239"/>
                          <a:pt x="144264" y="826397"/>
                          <a:pt x="405194" y="533038"/>
                        </a:cubicBezTo>
                        <a:lnTo>
                          <a:pt x="502988" y="621075"/>
                        </a:lnTo>
                        <a:cubicBezTo>
                          <a:pt x="263809" y="890271"/>
                          <a:pt x="131581" y="1238752"/>
                          <a:pt x="131581" y="1599900"/>
                        </a:cubicBezTo>
                        <a:lnTo>
                          <a:pt x="0" y="159990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空心弧 306"/>
                  <p:cNvSpPr/>
                  <p:nvPr/>
                </p:nvSpPr>
                <p:spPr>
                  <a:xfrm rot="19108800">
                    <a:off x="1179360" y="3332880"/>
                    <a:ext cx="28080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9799" h="3180605">
                        <a:moveTo>
                          <a:pt x="0" y="1590303"/>
                        </a:moveTo>
                        <a:cubicBezTo>
                          <a:pt x="0" y="1195723"/>
                          <a:pt x="147573" y="815234"/>
                          <a:pt x="414044" y="522768"/>
                        </a:cubicBezTo>
                        <a:lnTo>
                          <a:pt x="511839" y="610805"/>
                        </a:lnTo>
                        <a:cubicBezTo>
                          <a:pt x="267119" y="879106"/>
                          <a:pt x="131582" y="1228235"/>
                          <a:pt x="131582" y="1590302"/>
                        </a:cubicBezTo>
                        <a:lnTo>
                          <a:pt x="0" y="159030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76" name="组合 412"/>
            <p:cNvGrpSpPr/>
            <p:nvPr/>
          </p:nvGrpSpPr>
          <p:grpSpPr>
            <a:xfrm>
              <a:off x="2545200" y="3652560"/>
              <a:ext cx="570960" cy="570960"/>
              <a:chOff x="2545200" y="3652560"/>
              <a:chExt cx="570960" cy="570960"/>
            </a:xfrm>
          </p:grpSpPr>
          <p:grpSp>
            <p:nvGrpSpPr>
              <p:cNvPr id="1377" name="组合 603"/>
              <p:cNvGrpSpPr/>
              <p:nvPr/>
            </p:nvGrpSpPr>
            <p:grpSpPr>
              <a:xfrm>
                <a:off x="2545200" y="3652560"/>
                <a:ext cx="570960" cy="570960"/>
                <a:chOff x="2545200" y="3652560"/>
                <a:chExt cx="570960" cy="570960"/>
              </a:xfrm>
            </p:grpSpPr>
            <p:grpSp>
              <p:nvGrpSpPr>
                <p:cNvPr id="1378" name="组合 611"/>
                <p:cNvGrpSpPr/>
                <p:nvPr/>
              </p:nvGrpSpPr>
              <p:grpSpPr>
                <a:xfrm>
                  <a:off x="2545560" y="3652920"/>
                  <a:ext cx="570600" cy="570600"/>
                  <a:chOff x="2545560" y="3652920"/>
                  <a:chExt cx="570600" cy="570600"/>
                </a:xfrm>
              </p:grpSpPr>
              <p:sp>
                <p:nvSpPr>
                  <p:cNvPr id="1379" name="空心弧 299"/>
                  <p:cNvSpPr/>
                  <p:nvPr/>
                </p:nvSpPr>
                <p:spPr>
                  <a:xfrm rot="208200">
                    <a:off x="2628360" y="3735720"/>
                    <a:ext cx="40392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523" h="3189394">
                        <a:moveTo>
                          <a:pt x="0" y="1594697"/>
                        </a:moveTo>
                        <a:cubicBezTo>
                          <a:pt x="0" y="1200576"/>
                          <a:pt x="145998" y="820415"/>
                          <a:pt x="409833" y="527546"/>
                        </a:cubicBezTo>
                        <a:lnTo>
                          <a:pt x="507895" y="615825"/>
                        </a:lnTo>
                        <a:cubicBezTo>
                          <a:pt x="265873" y="884464"/>
                          <a:pt x="131945" y="1233177"/>
                          <a:pt x="131945" y="1594697"/>
                        </a:cubicBezTo>
                        <a:lnTo>
                          <a:pt x="0" y="159469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空心弧 300"/>
                  <p:cNvSpPr/>
                  <p:nvPr/>
                </p:nvSpPr>
                <p:spPr>
                  <a:xfrm rot="2908800">
                    <a:off x="2628360" y="3736080"/>
                    <a:ext cx="40428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94" h="3190523">
                        <a:moveTo>
                          <a:pt x="0" y="1595262"/>
                        </a:moveTo>
                        <a:cubicBezTo>
                          <a:pt x="0" y="1201195"/>
                          <a:pt x="145803" y="821073"/>
                          <a:pt x="409311" y="528151"/>
                        </a:cubicBezTo>
                        <a:lnTo>
                          <a:pt x="507375" y="616429"/>
                        </a:lnTo>
                        <a:cubicBezTo>
                          <a:pt x="265679" y="885121"/>
                          <a:pt x="131945" y="1233796"/>
                          <a:pt x="131945" y="1595261"/>
                        </a:cubicBezTo>
                        <a:lnTo>
                          <a:pt x="0" y="15952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" name="组合 612"/>
                <p:cNvGrpSpPr/>
                <p:nvPr/>
              </p:nvGrpSpPr>
              <p:grpSpPr>
                <a:xfrm>
                  <a:off x="2545200" y="3652560"/>
                  <a:ext cx="570600" cy="570600"/>
                  <a:chOff x="2545200" y="3652560"/>
                  <a:chExt cx="570600" cy="570600"/>
                </a:xfrm>
              </p:grpSpPr>
              <p:sp>
                <p:nvSpPr>
                  <p:cNvPr id="1382" name="空心弧 297"/>
                  <p:cNvSpPr/>
                  <p:nvPr/>
                </p:nvSpPr>
                <p:spPr>
                  <a:xfrm rot="5608800">
                    <a:off x="2628360" y="3736080"/>
                    <a:ext cx="40428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94" h="3190523">
                        <a:moveTo>
                          <a:pt x="0" y="1595262"/>
                        </a:moveTo>
                        <a:cubicBezTo>
                          <a:pt x="0" y="1201195"/>
                          <a:pt x="145803" y="821073"/>
                          <a:pt x="409311" y="528151"/>
                        </a:cubicBezTo>
                        <a:lnTo>
                          <a:pt x="507375" y="616429"/>
                        </a:lnTo>
                        <a:cubicBezTo>
                          <a:pt x="265679" y="885121"/>
                          <a:pt x="131945" y="1233796"/>
                          <a:pt x="131945" y="1595261"/>
                        </a:cubicBezTo>
                        <a:lnTo>
                          <a:pt x="0" y="15952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空心弧 298"/>
                  <p:cNvSpPr/>
                  <p:nvPr/>
                </p:nvSpPr>
                <p:spPr>
                  <a:xfrm rot="8308800">
                    <a:off x="2628360" y="3735720"/>
                    <a:ext cx="40392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523" h="3189394">
                        <a:moveTo>
                          <a:pt x="0" y="1594697"/>
                        </a:moveTo>
                        <a:cubicBezTo>
                          <a:pt x="0" y="1200576"/>
                          <a:pt x="145998" y="820415"/>
                          <a:pt x="409833" y="527546"/>
                        </a:cubicBezTo>
                        <a:lnTo>
                          <a:pt x="507895" y="615825"/>
                        </a:lnTo>
                        <a:cubicBezTo>
                          <a:pt x="265873" y="884464"/>
                          <a:pt x="131945" y="1233177"/>
                          <a:pt x="131945" y="1594697"/>
                        </a:cubicBezTo>
                        <a:lnTo>
                          <a:pt x="0" y="159469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4" name="组合 604"/>
              <p:cNvGrpSpPr/>
              <p:nvPr/>
            </p:nvGrpSpPr>
            <p:grpSpPr>
              <a:xfrm>
                <a:off x="2545560" y="3652560"/>
                <a:ext cx="570240" cy="570960"/>
                <a:chOff x="2545560" y="3652560"/>
                <a:chExt cx="570240" cy="570960"/>
              </a:xfrm>
            </p:grpSpPr>
            <p:grpSp>
              <p:nvGrpSpPr>
                <p:cNvPr id="1385" name="组合 605"/>
                <p:cNvGrpSpPr/>
                <p:nvPr/>
              </p:nvGrpSpPr>
              <p:grpSpPr>
                <a:xfrm>
                  <a:off x="2545560" y="3652560"/>
                  <a:ext cx="570240" cy="570600"/>
                  <a:chOff x="2545560" y="3652560"/>
                  <a:chExt cx="570240" cy="570600"/>
                </a:xfrm>
              </p:grpSpPr>
              <p:sp>
                <p:nvSpPr>
                  <p:cNvPr id="1386" name="空心弧 293"/>
                  <p:cNvSpPr/>
                  <p:nvPr/>
                </p:nvSpPr>
                <p:spPr>
                  <a:xfrm rot="11008800">
                    <a:off x="2628720" y="3735720"/>
                    <a:ext cx="40392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523" h="3189394">
                        <a:moveTo>
                          <a:pt x="0" y="1594697"/>
                        </a:moveTo>
                        <a:cubicBezTo>
                          <a:pt x="0" y="1200576"/>
                          <a:pt x="145998" y="820415"/>
                          <a:pt x="409833" y="527546"/>
                        </a:cubicBezTo>
                        <a:lnTo>
                          <a:pt x="507895" y="615825"/>
                        </a:lnTo>
                        <a:cubicBezTo>
                          <a:pt x="265873" y="884464"/>
                          <a:pt x="131945" y="1233177"/>
                          <a:pt x="131945" y="1594697"/>
                        </a:cubicBezTo>
                        <a:lnTo>
                          <a:pt x="0" y="159469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空心弧 294"/>
                  <p:cNvSpPr/>
                  <p:nvPr/>
                </p:nvSpPr>
                <p:spPr>
                  <a:xfrm rot="13708800">
                    <a:off x="2628360" y="3735720"/>
                    <a:ext cx="40428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94" h="3190523">
                        <a:moveTo>
                          <a:pt x="0" y="1595262"/>
                        </a:moveTo>
                        <a:cubicBezTo>
                          <a:pt x="0" y="1201195"/>
                          <a:pt x="145803" y="821073"/>
                          <a:pt x="409311" y="528151"/>
                        </a:cubicBezTo>
                        <a:lnTo>
                          <a:pt x="507375" y="616429"/>
                        </a:lnTo>
                        <a:cubicBezTo>
                          <a:pt x="265679" y="885121"/>
                          <a:pt x="131945" y="1233796"/>
                          <a:pt x="131945" y="1595261"/>
                        </a:cubicBezTo>
                        <a:lnTo>
                          <a:pt x="0" y="15952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组合 606"/>
                <p:cNvGrpSpPr/>
                <p:nvPr/>
              </p:nvGrpSpPr>
              <p:grpSpPr>
                <a:xfrm>
                  <a:off x="2545560" y="3652920"/>
                  <a:ext cx="570240" cy="570600"/>
                  <a:chOff x="2545560" y="3652920"/>
                  <a:chExt cx="570240" cy="570600"/>
                </a:xfrm>
              </p:grpSpPr>
              <p:sp>
                <p:nvSpPr>
                  <p:cNvPr id="1389" name="空心弧 291"/>
                  <p:cNvSpPr/>
                  <p:nvPr/>
                </p:nvSpPr>
                <p:spPr>
                  <a:xfrm rot="16408800">
                    <a:off x="2628360" y="3735720"/>
                    <a:ext cx="40428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94" h="3190523">
                        <a:moveTo>
                          <a:pt x="0" y="1595262"/>
                        </a:moveTo>
                        <a:cubicBezTo>
                          <a:pt x="0" y="1201195"/>
                          <a:pt x="145803" y="821073"/>
                          <a:pt x="409311" y="528151"/>
                        </a:cubicBezTo>
                        <a:lnTo>
                          <a:pt x="507375" y="616429"/>
                        </a:lnTo>
                        <a:cubicBezTo>
                          <a:pt x="265679" y="885121"/>
                          <a:pt x="131945" y="1233796"/>
                          <a:pt x="131945" y="1595261"/>
                        </a:cubicBezTo>
                        <a:lnTo>
                          <a:pt x="0" y="15952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空心弧 292"/>
                  <p:cNvSpPr/>
                  <p:nvPr/>
                </p:nvSpPr>
                <p:spPr>
                  <a:xfrm rot="19108800">
                    <a:off x="2628720" y="3736080"/>
                    <a:ext cx="40392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523" h="3189394">
                        <a:moveTo>
                          <a:pt x="0" y="1594697"/>
                        </a:moveTo>
                        <a:cubicBezTo>
                          <a:pt x="0" y="1200576"/>
                          <a:pt x="145998" y="820415"/>
                          <a:pt x="409833" y="527546"/>
                        </a:cubicBezTo>
                        <a:lnTo>
                          <a:pt x="507895" y="615825"/>
                        </a:lnTo>
                        <a:cubicBezTo>
                          <a:pt x="265873" y="884464"/>
                          <a:pt x="131945" y="1233177"/>
                          <a:pt x="131945" y="1594697"/>
                        </a:cubicBezTo>
                        <a:lnTo>
                          <a:pt x="0" y="159469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1" name="组合 414"/>
            <p:cNvGrpSpPr/>
            <p:nvPr/>
          </p:nvGrpSpPr>
          <p:grpSpPr>
            <a:xfrm>
              <a:off x="3167640" y="3434040"/>
              <a:ext cx="390240" cy="390240"/>
              <a:chOff x="3167640" y="3434040"/>
              <a:chExt cx="390240" cy="390240"/>
            </a:xfrm>
          </p:grpSpPr>
          <p:grpSp>
            <p:nvGrpSpPr>
              <p:cNvPr id="1392" name="组合 589"/>
              <p:cNvGrpSpPr/>
              <p:nvPr/>
            </p:nvGrpSpPr>
            <p:grpSpPr>
              <a:xfrm>
                <a:off x="3167640" y="3434400"/>
                <a:ext cx="390240" cy="389880"/>
                <a:chOff x="3167640" y="3434400"/>
                <a:chExt cx="390240" cy="389880"/>
              </a:xfrm>
            </p:grpSpPr>
            <p:grpSp>
              <p:nvGrpSpPr>
                <p:cNvPr id="1393" name="组合 597"/>
                <p:cNvGrpSpPr/>
                <p:nvPr/>
              </p:nvGrpSpPr>
              <p:grpSpPr>
                <a:xfrm>
                  <a:off x="3168000" y="3434400"/>
                  <a:ext cx="389880" cy="389880"/>
                  <a:chOff x="3168000" y="3434400"/>
                  <a:chExt cx="389880" cy="389880"/>
                </a:xfrm>
              </p:grpSpPr>
              <p:sp>
                <p:nvSpPr>
                  <p:cNvPr id="1394" name="空心弧 285"/>
                  <p:cNvSpPr/>
                  <p:nvPr/>
                </p:nvSpPr>
                <p:spPr>
                  <a:xfrm rot="208200">
                    <a:off x="3224880" y="349128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空心弧 286"/>
                  <p:cNvSpPr/>
                  <p:nvPr/>
                </p:nvSpPr>
                <p:spPr>
                  <a:xfrm rot="2908800">
                    <a:off x="3224520" y="34909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" name="组合 598"/>
                <p:cNvGrpSpPr/>
                <p:nvPr/>
              </p:nvGrpSpPr>
              <p:grpSpPr>
                <a:xfrm>
                  <a:off x="3167640" y="3434400"/>
                  <a:ext cx="389880" cy="389880"/>
                  <a:chOff x="3167640" y="3434400"/>
                  <a:chExt cx="389880" cy="389880"/>
                </a:xfrm>
              </p:grpSpPr>
              <p:sp>
                <p:nvSpPr>
                  <p:cNvPr id="1397" name="空心弧 283"/>
                  <p:cNvSpPr/>
                  <p:nvPr/>
                </p:nvSpPr>
                <p:spPr>
                  <a:xfrm rot="5608800">
                    <a:off x="3224160" y="349128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空心弧 284"/>
                  <p:cNvSpPr/>
                  <p:nvPr/>
                </p:nvSpPr>
                <p:spPr>
                  <a:xfrm rot="8308800">
                    <a:off x="3224520" y="34909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9" name="组合 590"/>
              <p:cNvGrpSpPr/>
              <p:nvPr/>
            </p:nvGrpSpPr>
            <p:grpSpPr>
              <a:xfrm>
                <a:off x="3168000" y="3434040"/>
                <a:ext cx="389880" cy="389880"/>
                <a:chOff x="3168000" y="3434040"/>
                <a:chExt cx="389880" cy="389880"/>
              </a:xfrm>
            </p:grpSpPr>
            <p:grpSp>
              <p:nvGrpSpPr>
                <p:cNvPr id="1400" name="组合 591"/>
                <p:cNvGrpSpPr/>
                <p:nvPr/>
              </p:nvGrpSpPr>
              <p:grpSpPr>
                <a:xfrm>
                  <a:off x="3168000" y="3434040"/>
                  <a:ext cx="389520" cy="389880"/>
                  <a:chOff x="3168000" y="3434040"/>
                  <a:chExt cx="389520" cy="389880"/>
                </a:xfrm>
              </p:grpSpPr>
              <p:sp>
                <p:nvSpPr>
                  <p:cNvPr id="1401" name="空心弧 279"/>
                  <p:cNvSpPr/>
                  <p:nvPr/>
                </p:nvSpPr>
                <p:spPr>
                  <a:xfrm rot="11008800">
                    <a:off x="3224160" y="34905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空心弧 280"/>
                  <p:cNvSpPr/>
                  <p:nvPr/>
                </p:nvSpPr>
                <p:spPr>
                  <a:xfrm rot="13708800">
                    <a:off x="3224520" y="34909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" name="组合 592"/>
                <p:cNvGrpSpPr/>
                <p:nvPr/>
              </p:nvGrpSpPr>
              <p:grpSpPr>
                <a:xfrm>
                  <a:off x="3168000" y="3434400"/>
                  <a:ext cx="389880" cy="389520"/>
                  <a:chOff x="3168000" y="3434400"/>
                  <a:chExt cx="389880" cy="389520"/>
                </a:xfrm>
              </p:grpSpPr>
              <p:sp>
                <p:nvSpPr>
                  <p:cNvPr id="1404" name="空心弧 277"/>
                  <p:cNvSpPr/>
                  <p:nvPr/>
                </p:nvSpPr>
                <p:spPr>
                  <a:xfrm rot="16408800">
                    <a:off x="3224880" y="34905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空心弧 278"/>
                  <p:cNvSpPr/>
                  <p:nvPr/>
                </p:nvSpPr>
                <p:spPr>
                  <a:xfrm rot="19108800">
                    <a:off x="3224520" y="34909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06" name="组合 416"/>
            <p:cNvGrpSpPr/>
            <p:nvPr/>
          </p:nvGrpSpPr>
          <p:grpSpPr>
            <a:xfrm>
              <a:off x="3564720" y="3064320"/>
              <a:ext cx="488160" cy="488160"/>
              <a:chOff x="3564720" y="3064320"/>
              <a:chExt cx="488160" cy="488160"/>
            </a:xfrm>
          </p:grpSpPr>
          <p:grpSp>
            <p:nvGrpSpPr>
              <p:cNvPr id="1407" name="组合 575"/>
              <p:cNvGrpSpPr/>
              <p:nvPr/>
            </p:nvGrpSpPr>
            <p:grpSpPr>
              <a:xfrm>
                <a:off x="3564720" y="3064680"/>
                <a:ext cx="487800" cy="487800"/>
                <a:chOff x="3564720" y="3064680"/>
                <a:chExt cx="487800" cy="487800"/>
              </a:xfrm>
            </p:grpSpPr>
            <p:grpSp>
              <p:nvGrpSpPr>
                <p:cNvPr id="1408" name="组合 583"/>
                <p:cNvGrpSpPr/>
                <p:nvPr/>
              </p:nvGrpSpPr>
              <p:grpSpPr>
                <a:xfrm>
                  <a:off x="3564720" y="3064680"/>
                  <a:ext cx="487440" cy="487440"/>
                  <a:chOff x="3564720" y="3064680"/>
                  <a:chExt cx="487440" cy="487440"/>
                </a:xfrm>
              </p:grpSpPr>
              <p:sp>
                <p:nvSpPr>
                  <p:cNvPr id="1409" name="空心弧 271"/>
                  <p:cNvSpPr/>
                  <p:nvPr/>
                </p:nvSpPr>
                <p:spPr>
                  <a:xfrm rot="208200">
                    <a:off x="3636360" y="3135600"/>
                    <a:ext cx="34524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010" h="3201879">
                        <a:moveTo>
                          <a:pt x="0" y="1600940"/>
                        </a:moveTo>
                        <a:cubicBezTo>
                          <a:pt x="0" y="1205276"/>
                          <a:pt x="146569" y="823628"/>
                          <a:pt x="411436" y="529612"/>
                        </a:cubicBezTo>
                        <a:lnTo>
                          <a:pt x="509883" y="618236"/>
                        </a:lnTo>
                        <a:cubicBezTo>
                          <a:pt x="266914" y="887927"/>
                          <a:pt x="132462" y="1238005"/>
                          <a:pt x="132462" y="1600939"/>
                        </a:cubicBezTo>
                        <a:lnTo>
                          <a:pt x="0" y="160094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空心弧 272"/>
                  <p:cNvSpPr/>
                  <p:nvPr/>
                </p:nvSpPr>
                <p:spPr>
                  <a:xfrm rot="2908800">
                    <a:off x="3635640" y="3135600"/>
                    <a:ext cx="34560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879" h="3203010">
                        <a:moveTo>
                          <a:pt x="0" y="1601505"/>
                        </a:moveTo>
                        <a:cubicBezTo>
                          <a:pt x="0" y="1205895"/>
                          <a:pt x="146374" y="824285"/>
                          <a:pt x="410915" y="530217"/>
                        </a:cubicBezTo>
                        <a:lnTo>
                          <a:pt x="509361" y="618841"/>
                        </a:lnTo>
                        <a:cubicBezTo>
                          <a:pt x="266719" y="888584"/>
                          <a:pt x="132461" y="1238624"/>
                          <a:pt x="132461" y="1601505"/>
                        </a:cubicBezTo>
                        <a:lnTo>
                          <a:pt x="0" y="160150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组合 584"/>
                <p:cNvGrpSpPr/>
                <p:nvPr/>
              </p:nvGrpSpPr>
              <p:grpSpPr>
                <a:xfrm>
                  <a:off x="3565080" y="3064680"/>
                  <a:ext cx="487440" cy="487800"/>
                  <a:chOff x="3565080" y="3064680"/>
                  <a:chExt cx="487440" cy="487800"/>
                </a:xfrm>
              </p:grpSpPr>
              <p:sp>
                <p:nvSpPr>
                  <p:cNvPr id="1412" name="空心弧 269"/>
                  <p:cNvSpPr/>
                  <p:nvPr/>
                </p:nvSpPr>
                <p:spPr>
                  <a:xfrm rot="5608800">
                    <a:off x="3635640" y="3135600"/>
                    <a:ext cx="34560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879" h="3203010">
                        <a:moveTo>
                          <a:pt x="0" y="1601505"/>
                        </a:moveTo>
                        <a:cubicBezTo>
                          <a:pt x="0" y="1205895"/>
                          <a:pt x="146374" y="824285"/>
                          <a:pt x="410915" y="530217"/>
                        </a:cubicBezTo>
                        <a:lnTo>
                          <a:pt x="509361" y="618841"/>
                        </a:lnTo>
                        <a:cubicBezTo>
                          <a:pt x="266719" y="888584"/>
                          <a:pt x="132461" y="1238624"/>
                          <a:pt x="132461" y="1601505"/>
                        </a:cubicBezTo>
                        <a:lnTo>
                          <a:pt x="0" y="160150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空心弧 270"/>
                  <p:cNvSpPr/>
                  <p:nvPr/>
                </p:nvSpPr>
                <p:spPr>
                  <a:xfrm rot="8308800">
                    <a:off x="3636000" y="3135600"/>
                    <a:ext cx="34524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010" h="3201879">
                        <a:moveTo>
                          <a:pt x="0" y="1600940"/>
                        </a:moveTo>
                        <a:cubicBezTo>
                          <a:pt x="0" y="1205276"/>
                          <a:pt x="146569" y="823628"/>
                          <a:pt x="411436" y="529612"/>
                        </a:cubicBezTo>
                        <a:lnTo>
                          <a:pt x="509883" y="618236"/>
                        </a:lnTo>
                        <a:cubicBezTo>
                          <a:pt x="266914" y="887927"/>
                          <a:pt x="132462" y="1238005"/>
                          <a:pt x="132462" y="1600939"/>
                        </a:cubicBezTo>
                        <a:lnTo>
                          <a:pt x="0" y="160094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4" name="组合 576"/>
              <p:cNvGrpSpPr/>
              <p:nvPr/>
            </p:nvGrpSpPr>
            <p:grpSpPr>
              <a:xfrm>
                <a:off x="3565080" y="3064320"/>
                <a:ext cx="487800" cy="487800"/>
                <a:chOff x="3565080" y="3064320"/>
                <a:chExt cx="487800" cy="487800"/>
              </a:xfrm>
            </p:grpSpPr>
            <p:grpSp>
              <p:nvGrpSpPr>
                <p:cNvPr id="1415" name="组合 577"/>
                <p:cNvGrpSpPr/>
                <p:nvPr/>
              </p:nvGrpSpPr>
              <p:grpSpPr>
                <a:xfrm>
                  <a:off x="3565440" y="3064680"/>
                  <a:ext cx="487440" cy="487440"/>
                  <a:chOff x="3565440" y="3064680"/>
                  <a:chExt cx="487440" cy="487440"/>
                </a:xfrm>
              </p:grpSpPr>
              <p:sp>
                <p:nvSpPr>
                  <p:cNvPr id="1416" name="空心弧 265"/>
                  <p:cNvSpPr/>
                  <p:nvPr/>
                </p:nvSpPr>
                <p:spPr>
                  <a:xfrm rot="11008800">
                    <a:off x="3635640" y="3135240"/>
                    <a:ext cx="34524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010" h="3201879">
                        <a:moveTo>
                          <a:pt x="0" y="1600940"/>
                        </a:moveTo>
                        <a:cubicBezTo>
                          <a:pt x="0" y="1205276"/>
                          <a:pt x="146569" y="823628"/>
                          <a:pt x="411436" y="529612"/>
                        </a:cubicBezTo>
                        <a:lnTo>
                          <a:pt x="509883" y="618236"/>
                        </a:lnTo>
                        <a:cubicBezTo>
                          <a:pt x="266914" y="887927"/>
                          <a:pt x="132462" y="1238005"/>
                          <a:pt x="132462" y="1600939"/>
                        </a:cubicBezTo>
                        <a:lnTo>
                          <a:pt x="0" y="160094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空心弧 266"/>
                  <p:cNvSpPr/>
                  <p:nvPr/>
                </p:nvSpPr>
                <p:spPr>
                  <a:xfrm rot="13708800">
                    <a:off x="3636000" y="3135600"/>
                    <a:ext cx="34560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879" h="3203010">
                        <a:moveTo>
                          <a:pt x="0" y="1601505"/>
                        </a:moveTo>
                        <a:cubicBezTo>
                          <a:pt x="0" y="1205895"/>
                          <a:pt x="146374" y="824285"/>
                          <a:pt x="410915" y="530217"/>
                        </a:cubicBezTo>
                        <a:lnTo>
                          <a:pt x="509361" y="618841"/>
                        </a:lnTo>
                        <a:cubicBezTo>
                          <a:pt x="266719" y="888584"/>
                          <a:pt x="132461" y="1238624"/>
                          <a:pt x="132461" y="1601505"/>
                        </a:cubicBezTo>
                        <a:lnTo>
                          <a:pt x="0" y="160150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组合 578"/>
                <p:cNvGrpSpPr/>
                <p:nvPr/>
              </p:nvGrpSpPr>
              <p:grpSpPr>
                <a:xfrm>
                  <a:off x="3565080" y="3064320"/>
                  <a:ext cx="487440" cy="487800"/>
                  <a:chOff x="3565080" y="3064320"/>
                  <a:chExt cx="487440" cy="487800"/>
                </a:xfrm>
              </p:grpSpPr>
              <p:sp>
                <p:nvSpPr>
                  <p:cNvPr id="1419" name="空心弧 263"/>
                  <p:cNvSpPr/>
                  <p:nvPr/>
                </p:nvSpPr>
                <p:spPr>
                  <a:xfrm rot="16408800">
                    <a:off x="3636000" y="3135600"/>
                    <a:ext cx="34560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879" h="3203010">
                        <a:moveTo>
                          <a:pt x="0" y="1601505"/>
                        </a:moveTo>
                        <a:cubicBezTo>
                          <a:pt x="0" y="1205895"/>
                          <a:pt x="146374" y="824285"/>
                          <a:pt x="410915" y="530217"/>
                        </a:cubicBezTo>
                        <a:lnTo>
                          <a:pt x="509361" y="618841"/>
                        </a:lnTo>
                        <a:cubicBezTo>
                          <a:pt x="266719" y="888584"/>
                          <a:pt x="132461" y="1238624"/>
                          <a:pt x="132461" y="1601505"/>
                        </a:cubicBezTo>
                        <a:lnTo>
                          <a:pt x="0" y="160150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空心弧 264"/>
                  <p:cNvSpPr/>
                  <p:nvPr/>
                </p:nvSpPr>
                <p:spPr>
                  <a:xfrm rot="19108800">
                    <a:off x="3636000" y="3135240"/>
                    <a:ext cx="345240" cy="34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010" h="3201879">
                        <a:moveTo>
                          <a:pt x="0" y="1600940"/>
                        </a:moveTo>
                        <a:cubicBezTo>
                          <a:pt x="0" y="1205276"/>
                          <a:pt x="146569" y="823628"/>
                          <a:pt x="411436" y="529612"/>
                        </a:cubicBezTo>
                        <a:lnTo>
                          <a:pt x="509883" y="618236"/>
                        </a:lnTo>
                        <a:cubicBezTo>
                          <a:pt x="266914" y="887927"/>
                          <a:pt x="132462" y="1238005"/>
                          <a:pt x="132462" y="1600939"/>
                        </a:cubicBezTo>
                        <a:lnTo>
                          <a:pt x="0" y="160094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1" name="组合 418"/>
            <p:cNvGrpSpPr/>
            <p:nvPr/>
          </p:nvGrpSpPr>
          <p:grpSpPr>
            <a:xfrm>
              <a:off x="3360600" y="2436840"/>
              <a:ext cx="615600" cy="615600"/>
              <a:chOff x="3360600" y="2436840"/>
              <a:chExt cx="615600" cy="615600"/>
            </a:xfrm>
          </p:grpSpPr>
          <p:grpSp>
            <p:nvGrpSpPr>
              <p:cNvPr id="1422" name="组合 561"/>
              <p:cNvGrpSpPr/>
              <p:nvPr/>
            </p:nvGrpSpPr>
            <p:grpSpPr>
              <a:xfrm>
                <a:off x="3360600" y="2437560"/>
                <a:ext cx="615240" cy="614880"/>
                <a:chOff x="3360600" y="2437560"/>
                <a:chExt cx="615240" cy="614880"/>
              </a:xfrm>
            </p:grpSpPr>
            <p:grpSp>
              <p:nvGrpSpPr>
                <p:cNvPr id="1423" name="组合 569"/>
                <p:cNvGrpSpPr/>
                <p:nvPr/>
              </p:nvGrpSpPr>
              <p:grpSpPr>
                <a:xfrm>
                  <a:off x="3361320" y="2437920"/>
                  <a:ext cx="614520" cy="614520"/>
                  <a:chOff x="3361320" y="2437920"/>
                  <a:chExt cx="614520" cy="614520"/>
                </a:xfrm>
              </p:grpSpPr>
              <p:sp>
                <p:nvSpPr>
                  <p:cNvPr id="1424" name="空心弧 257"/>
                  <p:cNvSpPr/>
                  <p:nvPr/>
                </p:nvSpPr>
                <p:spPr>
                  <a:xfrm rot="208200">
                    <a:off x="3450960" y="252720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697" h="3194566">
                        <a:moveTo>
                          <a:pt x="0" y="1597283"/>
                        </a:moveTo>
                        <a:cubicBezTo>
                          <a:pt x="0" y="1202523"/>
                          <a:pt x="146235" y="821746"/>
                          <a:pt x="410497" y="528402"/>
                        </a:cubicBezTo>
                        <a:lnTo>
                          <a:pt x="508719" y="616824"/>
                        </a:lnTo>
                        <a:cubicBezTo>
                          <a:pt x="266305" y="885899"/>
                          <a:pt x="132159" y="1235177"/>
                          <a:pt x="132159" y="1597283"/>
                        </a:cubicBezTo>
                        <a:lnTo>
                          <a:pt x="0" y="15972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空心弧 258"/>
                  <p:cNvSpPr/>
                  <p:nvPr/>
                </p:nvSpPr>
                <p:spPr>
                  <a:xfrm rot="2908800">
                    <a:off x="3450600" y="252720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66" h="3195697">
                        <a:moveTo>
                          <a:pt x="0" y="1597849"/>
                        </a:moveTo>
                        <a:cubicBezTo>
                          <a:pt x="0" y="1203143"/>
                          <a:pt x="146040" y="822404"/>
                          <a:pt x="409975" y="529007"/>
                        </a:cubicBezTo>
                        <a:lnTo>
                          <a:pt x="508198" y="617429"/>
                        </a:lnTo>
                        <a:cubicBezTo>
                          <a:pt x="266110" y="886557"/>
                          <a:pt x="132159" y="1235797"/>
                          <a:pt x="132159" y="1597849"/>
                        </a:cubicBezTo>
                        <a:lnTo>
                          <a:pt x="0" y="15978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组合 570"/>
                <p:cNvGrpSpPr/>
                <p:nvPr/>
              </p:nvGrpSpPr>
              <p:grpSpPr>
                <a:xfrm>
                  <a:off x="3360600" y="2437560"/>
                  <a:ext cx="614520" cy="614520"/>
                  <a:chOff x="3360600" y="2437560"/>
                  <a:chExt cx="614520" cy="614520"/>
                </a:xfrm>
              </p:grpSpPr>
              <p:sp>
                <p:nvSpPr>
                  <p:cNvPr id="1427" name="空心弧 255"/>
                  <p:cNvSpPr/>
                  <p:nvPr/>
                </p:nvSpPr>
                <p:spPr>
                  <a:xfrm rot="5608800">
                    <a:off x="3450240" y="252720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66" h="3195697">
                        <a:moveTo>
                          <a:pt x="0" y="1597849"/>
                        </a:moveTo>
                        <a:cubicBezTo>
                          <a:pt x="0" y="1203143"/>
                          <a:pt x="146040" y="822404"/>
                          <a:pt x="409975" y="529007"/>
                        </a:cubicBezTo>
                        <a:lnTo>
                          <a:pt x="508198" y="617429"/>
                        </a:lnTo>
                        <a:cubicBezTo>
                          <a:pt x="266110" y="886557"/>
                          <a:pt x="132159" y="1235797"/>
                          <a:pt x="132159" y="1597849"/>
                        </a:cubicBezTo>
                        <a:lnTo>
                          <a:pt x="0" y="15978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空心弧 256"/>
                  <p:cNvSpPr/>
                  <p:nvPr/>
                </p:nvSpPr>
                <p:spPr>
                  <a:xfrm rot="8308800">
                    <a:off x="3450240" y="252684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697" h="3194566">
                        <a:moveTo>
                          <a:pt x="0" y="1597283"/>
                        </a:moveTo>
                        <a:cubicBezTo>
                          <a:pt x="0" y="1202523"/>
                          <a:pt x="146235" y="821746"/>
                          <a:pt x="410497" y="528402"/>
                        </a:cubicBezTo>
                        <a:lnTo>
                          <a:pt x="508719" y="616824"/>
                        </a:lnTo>
                        <a:cubicBezTo>
                          <a:pt x="266305" y="885899"/>
                          <a:pt x="132159" y="1235177"/>
                          <a:pt x="132159" y="1597283"/>
                        </a:cubicBezTo>
                        <a:lnTo>
                          <a:pt x="0" y="15972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9" name="组合 562"/>
              <p:cNvGrpSpPr/>
              <p:nvPr/>
            </p:nvGrpSpPr>
            <p:grpSpPr>
              <a:xfrm>
                <a:off x="3361320" y="2436840"/>
                <a:ext cx="614880" cy="614880"/>
                <a:chOff x="3361320" y="2436840"/>
                <a:chExt cx="614880" cy="614880"/>
              </a:xfrm>
            </p:grpSpPr>
            <p:grpSp>
              <p:nvGrpSpPr>
                <p:cNvPr id="1430" name="组合 563"/>
                <p:cNvGrpSpPr/>
                <p:nvPr/>
              </p:nvGrpSpPr>
              <p:grpSpPr>
                <a:xfrm>
                  <a:off x="3361320" y="2436840"/>
                  <a:ext cx="614160" cy="614520"/>
                  <a:chOff x="3361320" y="2436840"/>
                  <a:chExt cx="614160" cy="614520"/>
                </a:xfrm>
              </p:grpSpPr>
              <p:sp>
                <p:nvSpPr>
                  <p:cNvPr id="1431" name="空心弧 251"/>
                  <p:cNvSpPr/>
                  <p:nvPr/>
                </p:nvSpPr>
                <p:spPr>
                  <a:xfrm rot="11008800">
                    <a:off x="3450240" y="252648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697" h="3194566">
                        <a:moveTo>
                          <a:pt x="0" y="1597283"/>
                        </a:moveTo>
                        <a:cubicBezTo>
                          <a:pt x="0" y="1202523"/>
                          <a:pt x="146235" y="821746"/>
                          <a:pt x="410497" y="528402"/>
                        </a:cubicBezTo>
                        <a:lnTo>
                          <a:pt x="508719" y="616824"/>
                        </a:lnTo>
                        <a:cubicBezTo>
                          <a:pt x="266305" y="885899"/>
                          <a:pt x="132159" y="1235177"/>
                          <a:pt x="132159" y="1597283"/>
                        </a:cubicBezTo>
                        <a:lnTo>
                          <a:pt x="0" y="15972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空心弧 252"/>
                  <p:cNvSpPr/>
                  <p:nvPr/>
                </p:nvSpPr>
                <p:spPr>
                  <a:xfrm rot="13708800">
                    <a:off x="3450600" y="252648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66" h="3195697">
                        <a:moveTo>
                          <a:pt x="0" y="1597849"/>
                        </a:moveTo>
                        <a:cubicBezTo>
                          <a:pt x="0" y="1203143"/>
                          <a:pt x="146040" y="822404"/>
                          <a:pt x="409975" y="529007"/>
                        </a:cubicBezTo>
                        <a:lnTo>
                          <a:pt x="508198" y="617429"/>
                        </a:lnTo>
                        <a:cubicBezTo>
                          <a:pt x="266110" y="886557"/>
                          <a:pt x="132159" y="1235797"/>
                          <a:pt x="132159" y="1597849"/>
                        </a:cubicBezTo>
                        <a:lnTo>
                          <a:pt x="0" y="15978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" name="组合 564"/>
                <p:cNvGrpSpPr/>
                <p:nvPr/>
              </p:nvGrpSpPr>
              <p:grpSpPr>
                <a:xfrm>
                  <a:off x="3361680" y="2437560"/>
                  <a:ext cx="614520" cy="614160"/>
                  <a:chOff x="3361680" y="2437560"/>
                  <a:chExt cx="614520" cy="614160"/>
                </a:xfrm>
              </p:grpSpPr>
              <p:sp>
                <p:nvSpPr>
                  <p:cNvPr id="1434" name="空心弧 249"/>
                  <p:cNvSpPr/>
                  <p:nvPr/>
                </p:nvSpPr>
                <p:spPr>
                  <a:xfrm rot="16408800">
                    <a:off x="3450960" y="252648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66" h="3195697">
                        <a:moveTo>
                          <a:pt x="0" y="1597849"/>
                        </a:moveTo>
                        <a:cubicBezTo>
                          <a:pt x="0" y="1203143"/>
                          <a:pt x="146040" y="822404"/>
                          <a:pt x="409975" y="529007"/>
                        </a:cubicBezTo>
                        <a:lnTo>
                          <a:pt x="508198" y="617429"/>
                        </a:lnTo>
                        <a:cubicBezTo>
                          <a:pt x="266110" y="886557"/>
                          <a:pt x="132159" y="1235797"/>
                          <a:pt x="132159" y="1597849"/>
                        </a:cubicBezTo>
                        <a:lnTo>
                          <a:pt x="0" y="15978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空心弧 250"/>
                  <p:cNvSpPr/>
                  <p:nvPr/>
                </p:nvSpPr>
                <p:spPr>
                  <a:xfrm rot="19108800">
                    <a:off x="3450960" y="2526840"/>
                    <a:ext cx="43524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697" h="3194566">
                        <a:moveTo>
                          <a:pt x="0" y="1597283"/>
                        </a:moveTo>
                        <a:cubicBezTo>
                          <a:pt x="0" y="1202523"/>
                          <a:pt x="146235" y="821746"/>
                          <a:pt x="410497" y="528402"/>
                        </a:cubicBezTo>
                        <a:lnTo>
                          <a:pt x="508719" y="616824"/>
                        </a:lnTo>
                        <a:cubicBezTo>
                          <a:pt x="266305" y="885899"/>
                          <a:pt x="132159" y="1235177"/>
                          <a:pt x="132159" y="1597283"/>
                        </a:cubicBezTo>
                        <a:lnTo>
                          <a:pt x="0" y="15972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36" name="组合 420"/>
            <p:cNvGrpSpPr/>
            <p:nvPr/>
          </p:nvGrpSpPr>
          <p:grpSpPr>
            <a:xfrm>
              <a:off x="3520800" y="3902400"/>
              <a:ext cx="295200" cy="295200"/>
              <a:chOff x="3520800" y="3902400"/>
              <a:chExt cx="295200" cy="295200"/>
            </a:xfrm>
          </p:grpSpPr>
          <p:grpSp>
            <p:nvGrpSpPr>
              <p:cNvPr id="1437" name="组合 547"/>
              <p:cNvGrpSpPr/>
              <p:nvPr/>
            </p:nvGrpSpPr>
            <p:grpSpPr>
              <a:xfrm>
                <a:off x="3520800" y="3903120"/>
                <a:ext cx="294840" cy="294480"/>
                <a:chOff x="3520800" y="3903120"/>
                <a:chExt cx="294840" cy="294480"/>
              </a:xfrm>
            </p:grpSpPr>
            <p:grpSp>
              <p:nvGrpSpPr>
                <p:cNvPr id="1438" name="组合 555"/>
                <p:cNvGrpSpPr/>
                <p:nvPr/>
              </p:nvGrpSpPr>
              <p:grpSpPr>
                <a:xfrm>
                  <a:off x="3521160" y="3903120"/>
                  <a:ext cx="294480" cy="294480"/>
                  <a:chOff x="3521160" y="3903120"/>
                  <a:chExt cx="294480" cy="294480"/>
                </a:xfrm>
              </p:grpSpPr>
              <p:sp>
                <p:nvSpPr>
                  <p:cNvPr id="1439" name="空心弧 243"/>
                  <p:cNvSpPr/>
                  <p:nvPr/>
                </p:nvSpPr>
                <p:spPr>
                  <a:xfrm rot="208200">
                    <a:off x="3564000" y="3945240"/>
                    <a:ext cx="20844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9785" h="3208648">
                        <a:moveTo>
                          <a:pt x="0" y="1604324"/>
                        </a:moveTo>
                        <a:cubicBezTo>
                          <a:pt x="0" y="1207823"/>
                          <a:pt x="146880" y="825368"/>
                          <a:pt x="412307" y="530731"/>
                        </a:cubicBezTo>
                        <a:lnTo>
                          <a:pt x="510962" y="619543"/>
                        </a:lnTo>
                        <a:cubicBezTo>
                          <a:pt x="267479" y="889804"/>
                          <a:pt x="132742" y="1240622"/>
                          <a:pt x="132742" y="1604324"/>
                        </a:cubicBezTo>
                        <a:lnTo>
                          <a:pt x="0" y="160432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空心弧 244"/>
                  <p:cNvSpPr/>
                  <p:nvPr/>
                </p:nvSpPr>
                <p:spPr>
                  <a:xfrm rot="2908800">
                    <a:off x="3563640" y="3945960"/>
                    <a:ext cx="20880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8648" h="3209785">
                        <a:moveTo>
                          <a:pt x="0" y="1604893"/>
                        </a:moveTo>
                        <a:cubicBezTo>
                          <a:pt x="0" y="1208447"/>
                          <a:pt x="146683" y="826030"/>
                          <a:pt x="411782" y="531340"/>
                        </a:cubicBezTo>
                        <a:lnTo>
                          <a:pt x="510438" y="620151"/>
                        </a:lnTo>
                        <a:cubicBezTo>
                          <a:pt x="267283" y="890465"/>
                          <a:pt x="132742" y="1241245"/>
                          <a:pt x="132742" y="1604892"/>
                        </a:cubicBezTo>
                        <a:lnTo>
                          <a:pt x="0" y="160489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组合 556"/>
                <p:cNvGrpSpPr/>
                <p:nvPr/>
              </p:nvGrpSpPr>
              <p:grpSpPr>
                <a:xfrm>
                  <a:off x="3520800" y="3903120"/>
                  <a:ext cx="294480" cy="294480"/>
                  <a:chOff x="3520800" y="3903120"/>
                  <a:chExt cx="294480" cy="294480"/>
                </a:xfrm>
              </p:grpSpPr>
              <p:sp>
                <p:nvSpPr>
                  <p:cNvPr id="1442" name="空心弧 241"/>
                  <p:cNvSpPr/>
                  <p:nvPr/>
                </p:nvSpPr>
                <p:spPr>
                  <a:xfrm rot="5608800">
                    <a:off x="3563640" y="3945600"/>
                    <a:ext cx="20880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8648" h="3209785">
                        <a:moveTo>
                          <a:pt x="0" y="1604893"/>
                        </a:moveTo>
                        <a:cubicBezTo>
                          <a:pt x="0" y="1208447"/>
                          <a:pt x="146683" y="826030"/>
                          <a:pt x="411782" y="531340"/>
                        </a:cubicBezTo>
                        <a:lnTo>
                          <a:pt x="510438" y="620151"/>
                        </a:lnTo>
                        <a:cubicBezTo>
                          <a:pt x="267283" y="890465"/>
                          <a:pt x="132742" y="1241245"/>
                          <a:pt x="132742" y="1604892"/>
                        </a:cubicBezTo>
                        <a:lnTo>
                          <a:pt x="0" y="160489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空心弧 242"/>
                  <p:cNvSpPr/>
                  <p:nvPr/>
                </p:nvSpPr>
                <p:spPr>
                  <a:xfrm rot="8308800">
                    <a:off x="3563640" y="3945600"/>
                    <a:ext cx="20844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9785" h="3208648">
                        <a:moveTo>
                          <a:pt x="0" y="1604324"/>
                        </a:moveTo>
                        <a:cubicBezTo>
                          <a:pt x="0" y="1207823"/>
                          <a:pt x="146880" y="825368"/>
                          <a:pt x="412307" y="530731"/>
                        </a:cubicBezTo>
                        <a:lnTo>
                          <a:pt x="510962" y="619543"/>
                        </a:lnTo>
                        <a:cubicBezTo>
                          <a:pt x="267479" y="889804"/>
                          <a:pt x="132742" y="1240622"/>
                          <a:pt x="132742" y="1604324"/>
                        </a:cubicBezTo>
                        <a:lnTo>
                          <a:pt x="0" y="160432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4" name="组合 548"/>
              <p:cNvGrpSpPr/>
              <p:nvPr/>
            </p:nvGrpSpPr>
            <p:grpSpPr>
              <a:xfrm>
                <a:off x="3521520" y="3902400"/>
                <a:ext cx="294480" cy="294480"/>
                <a:chOff x="3521520" y="3902400"/>
                <a:chExt cx="294480" cy="294480"/>
              </a:xfrm>
            </p:grpSpPr>
            <p:grpSp>
              <p:nvGrpSpPr>
                <p:cNvPr id="1445" name="组合 549"/>
                <p:cNvGrpSpPr/>
                <p:nvPr/>
              </p:nvGrpSpPr>
              <p:grpSpPr>
                <a:xfrm>
                  <a:off x="3521520" y="3902400"/>
                  <a:ext cx="294480" cy="294480"/>
                  <a:chOff x="3521520" y="3902400"/>
                  <a:chExt cx="294480" cy="294480"/>
                </a:xfrm>
              </p:grpSpPr>
              <p:sp>
                <p:nvSpPr>
                  <p:cNvPr id="1446" name="空心弧 237"/>
                  <p:cNvSpPr/>
                  <p:nvPr/>
                </p:nvSpPr>
                <p:spPr>
                  <a:xfrm rot="11008800">
                    <a:off x="3564000" y="3945600"/>
                    <a:ext cx="20844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9785" h="3208648">
                        <a:moveTo>
                          <a:pt x="0" y="1604324"/>
                        </a:moveTo>
                        <a:cubicBezTo>
                          <a:pt x="0" y="1207823"/>
                          <a:pt x="146880" y="825368"/>
                          <a:pt x="412307" y="530731"/>
                        </a:cubicBezTo>
                        <a:lnTo>
                          <a:pt x="510962" y="619543"/>
                        </a:lnTo>
                        <a:cubicBezTo>
                          <a:pt x="267479" y="889804"/>
                          <a:pt x="132742" y="1240622"/>
                          <a:pt x="132742" y="1604324"/>
                        </a:cubicBezTo>
                        <a:lnTo>
                          <a:pt x="0" y="160432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空心弧 238"/>
                  <p:cNvSpPr/>
                  <p:nvPr/>
                </p:nvSpPr>
                <p:spPr>
                  <a:xfrm rot="13708800">
                    <a:off x="3564000" y="3945240"/>
                    <a:ext cx="20880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8648" h="3209785">
                        <a:moveTo>
                          <a:pt x="0" y="1604893"/>
                        </a:moveTo>
                        <a:cubicBezTo>
                          <a:pt x="0" y="1208447"/>
                          <a:pt x="146683" y="826030"/>
                          <a:pt x="411782" y="531340"/>
                        </a:cubicBezTo>
                        <a:lnTo>
                          <a:pt x="510438" y="620151"/>
                        </a:lnTo>
                        <a:cubicBezTo>
                          <a:pt x="267283" y="890465"/>
                          <a:pt x="132742" y="1241245"/>
                          <a:pt x="132742" y="1604892"/>
                        </a:cubicBezTo>
                        <a:lnTo>
                          <a:pt x="0" y="160489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8" name="组合 550"/>
                <p:cNvGrpSpPr/>
                <p:nvPr/>
              </p:nvGrpSpPr>
              <p:grpSpPr>
                <a:xfrm>
                  <a:off x="3521520" y="3902400"/>
                  <a:ext cx="294480" cy="294480"/>
                  <a:chOff x="3521520" y="3902400"/>
                  <a:chExt cx="294480" cy="294480"/>
                </a:xfrm>
              </p:grpSpPr>
              <p:sp>
                <p:nvSpPr>
                  <p:cNvPr id="1449" name="空心弧 235"/>
                  <p:cNvSpPr/>
                  <p:nvPr/>
                </p:nvSpPr>
                <p:spPr>
                  <a:xfrm rot="16408800">
                    <a:off x="3564000" y="3945600"/>
                    <a:ext cx="20880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8648" h="3209785">
                        <a:moveTo>
                          <a:pt x="0" y="1604893"/>
                        </a:moveTo>
                        <a:cubicBezTo>
                          <a:pt x="0" y="1208447"/>
                          <a:pt x="146683" y="826030"/>
                          <a:pt x="411782" y="531340"/>
                        </a:cubicBezTo>
                        <a:lnTo>
                          <a:pt x="510438" y="620151"/>
                        </a:lnTo>
                        <a:cubicBezTo>
                          <a:pt x="267283" y="890465"/>
                          <a:pt x="132742" y="1241245"/>
                          <a:pt x="132742" y="1604892"/>
                        </a:cubicBezTo>
                        <a:lnTo>
                          <a:pt x="0" y="160489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空心弧 236"/>
                  <p:cNvSpPr/>
                  <p:nvPr/>
                </p:nvSpPr>
                <p:spPr>
                  <a:xfrm rot="19108800">
                    <a:off x="3564360" y="3945240"/>
                    <a:ext cx="20844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9785" h="3208648">
                        <a:moveTo>
                          <a:pt x="0" y="1604324"/>
                        </a:moveTo>
                        <a:cubicBezTo>
                          <a:pt x="0" y="1207823"/>
                          <a:pt x="146880" y="825368"/>
                          <a:pt x="412307" y="530731"/>
                        </a:cubicBezTo>
                        <a:lnTo>
                          <a:pt x="510962" y="619543"/>
                        </a:lnTo>
                        <a:cubicBezTo>
                          <a:pt x="267479" y="889804"/>
                          <a:pt x="132742" y="1240622"/>
                          <a:pt x="132742" y="1604324"/>
                        </a:cubicBezTo>
                        <a:lnTo>
                          <a:pt x="0" y="160432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1" name="组合 421"/>
            <p:cNvGrpSpPr/>
            <p:nvPr/>
          </p:nvGrpSpPr>
          <p:grpSpPr>
            <a:xfrm>
              <a:off x="608760" y="3160440"/>
              <a:ext cx="237600" cy="237600"/>
              <a:chOff x="608760" y="3160440"/>
              <a:chExt cx="237600" cy="237600"/>
            </a:xfrm>
          </p:grpSpPr>
          <p:grpSp>
            <p:nvGrpSpPr>
              <p:cNvPr id="1452" name="组合 533"/>
              <p:cNvGrpSpPr/>
              <p:nvPr/>
            </p:nvGrpSpPr>
            <p:grpSpPr>
              <a:xfrm>
                <a:off x="608760" y="3160440"/>
                <a:ext cx="237600" cy="237600"/>
                <a:chOff x="608760" y="3160440"/>
                <a:chExt cx="237600" cy="237600"/>
              </a:xfrm>
            </p:grpSpPr>
            <p:grpSp>
              <p:nvGrpSpPr>
                <p:cNvPr id="1453" name="组合 541"/>
                <p:cNvGrpSpPr/>
                <p:nvPr/>
              </p:nvGrpSpPr>
              <p:grpSpPr>
                <a:xfrm>
                  <a:off x="608760" y="3160800"/>
                  <a:ext cx="237600" cy="237240"/>
                  <a:chOff x="608760" y="3160800"/>
                  <a:chExt cx="237600" cy="237240"/>
                </a:xfrm>
              </p:grpSpPr>
              <p:sp>
                <p:nvSpPr>
                  <p:cNvPr id="1454" name="空心弧 229"/>
                  <p:cNvSpPr/>
                  <p:nvPr/>
                </p:nvSpPr>
                <p:spPr>
                  <a:xfrm rot="208200">
                    <a:off x="643680" y="31950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空心弧 230"/>
                  <p:cNvSpPr/>
                  <p:nvPr/>
                </p:nvSpPr>
                <p:spPr>
                  <a:xfrm rot="2908800">
                    <a:off x="643320" y="319536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组合 542"/>
                <p:cNvGrpSpPr/>
                <p:nvPr/>
              </p:nvGrpSpPr>
              <p:grpSpPr>
                <a:xfrm>
                  <a:off x="608760" y="3160440"/>
                  <a:ext cx="237240" cy="237600"/>
                  <a:chOff x="608760" y="3160440"/>
                  <a:chExt cx="237240" cy="237600"/>
                </a:xfrm>
              </p:grpSpPr>
              <p:sp>
                <p:nvSpPr>
                  <p:cNvPr id="1457" name="空心弧 227"/>
                  <p:cNvSpPr/>
                  <p:nvPr/>
                </p:nvSpPr>
                <p:spPr>
                  <a:xfrm rot="5608800">
                    <a:off x="643320" y="319536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空心弧 228"/>
                  <p:cNvSpPr/>
                  <p:nvPr/>
                </p:nvSpPr>
                <p:spPr>
                  <a:xfrm rot="8308800">
                    <a:off x="642960" y="31950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9" name="组合 534"/>
              <p:cNvGrpSpPr/>
              <p:nvPr/>
            </p:nvGrpSpPr>
            <p:grpSpPr>
              <a:xfrm>
                <a:off x="608760" y="3160440"/>
                <a:ext cx="237600" cy="237600"/>
                <a:chOff x="608760" y="3160440"/>
                <a:chExt cx="237600" cy="237600"/>
              </a:xfrm>
            </p:grpSpPr>
            <p:grpSp>
              <p:nvGrpSpPr>
                <p:cNvPr id="1460" name="组合 535"/>
                <p:cNvGrpSpPr/>
                <p:nvPr/>
              </p:nvGrpSpPr>
              <p:grpSpPr>
                <a:xfrm>
                  <a:off x="608760" y="3160440"/>
                  <a:ext cx="237600" cy="237240"/>
                  <a:chOff x="608760" y="3160440"/>
                  <a:chExt cx="237600" cy="237240"/>
                </a:xfrm>
              </p:grpSpPr>
              <p:sp>
                <p:nvSpPr>
                  <p:cNvPr id="1461" name="空心弧 223"/>
                  <p:cNvSpPr/>
                  <p:nvPr/>
                </p:nvSpPr>
                <p:spPr>
                  <a:xfrm rot="11008800">
                    <a:off x="642960" y="31950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空心弧 224"/>
                  <p:cNvSpPr/>
                  <p:nvPr/>
                </p:nvSpPr>
                <p:spPr>
                  <a:xfrm rot="13708800">
                    <a:off x="643320" y="319464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组合 536"/>
                <p:cNvGrpSpPr/>
                <p:nvPr/>
              </p:nvGrpSpPr>
              <p:grpSpPr>
                <a:xfrm>
                  <a:off x="609120" y="3160440"/>
                  <a:ext cx="237240" cy="237600"/>
                  <a:chOff x="609120" y="3160440"/>
                  <a:chExt cx="237240" cy="237600"/>
                </a:xfrm>
              </p:grpSpPr>
              <p:sp>
                <p:nvSpPr>
                  <p:cNvPr id="1464" name="空心弧 221"/>
                  <p:cNvSpPr/>
                  <p:nvPr/>
                </p:nvSpPr>
                <p:spPr>
                  <a:xfrm rot="16408800">
                    <a:off x="643320" y="319464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空心弧 222"/>
                  <p:cNvSpPr/>
                  <p:nvPr/>
                </p:nvSpPr>
                <p:spPr>
                  <a:xfrm rot="19108800">
                    <a:off x="643680" y="31950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66" name="组合 423"/>
            <p:cNvGrpSpPr/>
            <p:nvPr/>
          </p:nvGrpSpPr>
          <p:grpSpPr>
            <a:xfrm>
              <a:off x="458640" y="3516840"/>
              <a:ext cx="237600" cy="237600"/>
              <a:chOff x="458640" y="3516840"/>
              <a:chExt cx="237600" cy="237600"/>
            </a:xfrm>
          </p:grpSpPr>
          <p:grpSp>
            <p:nvGrpSpPr>
              <p:cNvPr id="1467" name="组合 519"/>
              <p:cNvGrpSpPr/>
              <p:nvPr/>
            </p:nvGrpSpPr>
            <p:grpSpPr>
              <a:xfrm>
                <a:off x="458640" y="3516840"/>
                <a:ext cx="237600" cy="237600"/>
                <a:chOff x="458640" y="3516840"/>
                <a:chExt cx="237600" cy="237600"/>
              </a:xfrm>
            </p:grpSpPr>
            <p:grpSp>
              <p:nvGrpSpPr>
                <p:cNvPr id="1468" name="组合 527"/>
                <p:cNvGrpSpPr/>
                <p:nvPr/>
              </p:nvGrpSpPr>
              <p:grpSpPr>
                <a:xfrm>
                  <a:off x="458640" y="3517200"/>
                  <a:ext cx="237600" cy="237240"/>
                  <a:chOff x="458640" y="3517200"/>
                  <a:chExt cx="237600" cy="237240"/>
                </a:xfrm>
              </p:grpSpPr>
              <p:sp>
                <p:nvSpPr>
                  <p:cNvPr id="1469" name="空心弧 215"/>
                  <p:cNvSpPr/>
                  <p:nvPr/>
                </p:nvSpPr>
                <p:spPr>
                  <a:xfrm rot="208200">
                    <a:off x="493560" y="35514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空心弧 216"/>
                  <p:cNvSpPr/>
                  <p:nvPr/>
                </p:nvSpPr>
                <p:spPr>
                  <a:xfrm rot="2908800">
                    <a:off x="493200" y="355176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1" name="组合 528"/>
                <p:cNvGrpSpPr/>
                <p:nvPr/>
              </p:nvGrpSpPr>
              <p:grpSpPr>
                <a:xfrm>
                  <a:off x="458640" y="3516840"/>
                  <a:ext cx="237240" cy="237600"/>
                  <a:chOff x="458640" y="3516840"/>
                  <a:chExt cx="237240" cy="237600"/>
                </a:xfrm>
              </p:grpSpPr>
              <p:sp>
                <p:nvSpPr>
                  <p:cNvPr id="1472" name="空心弧 213"/>
                  <p:cNvSpPr/>
                  <p:nvPr/>
                </p:nvSpPr>
                <p:spPr>
                  <a:xfrm rot="5608800">
                    <a:off x="493200" y="355176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空心弧 214"/>
                  <p:cNvSpPr/>
                  <p:nvPr/>
                </p:nvSpPr>
                <p:spPr>
                  <a:xfrm rot="8308800">
                    <a:off x="492840" y="35514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4" name="组合 520"/>
              <p:cNvGrpSpPr/>
              <p:nvPr/>
            </p:nvGrpSpPr>
            <p:grpSpPr>
              <a:xfrm>
                <a:off x="458640" y="3516840"/>
                <a:ext cx="237600" cy="237600"/>
                <a:chOff x="458640" y="3516840"/>
                <a:chExt cx="237600" cy="237600"/>
              </a:xfrm>
            </p:grpSpPr>
            <p:grpSp>
              <p:nvGrpSpPr>
                <p:cNvPr id="1475" name="组合 521"/>
                <p:cNvGrpSpPr/>
                <p:nvPr/>
              </p:nvGrpSpPr>
              <p:grpSpPr>
                <a:xfrm>
                  <a:off x="458640" y="3516840"/>
                  <a:ext cx="237600" cy="237240"/>
                  <a:chOff x="458640" y="3516840"/>
                  <a:chExt cx="237600" cy="237240"/>
                </a:xfrm>
              </p:grpSpPr>
              <p:sp>
                <p:nvSpPr>
                  <p:cNvPr id="1476" name="空心弧 209"/>
                  <p:cNvSpPr/>
                  <p:nvPr/>
                </p:nvSpPr>
                <p:spPr>
                  <a:xfrm rot="11008800">
                    <a:off x="492840" y="35514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空心弧 210"/>
                  <p:cNvSpPr/>
                  <p:nvPr/>
                </p:nvSpPr>
                <p:spPr>
                  <a:xfrm rot="13708800">
                    <a:off x="493200" y="355104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8" name="组合 522"/>
                <p:cNvGrpSpPr/>
                <p:nvPr/>
              </p:nvGrpSpPr>
              <p:grpSpPr>
                <a:xfrm>
                  <a:off x="459000" y="3516840"/>
                  <a:ext cx="237240" cy="237600"/>
                  <a:chOff x="459000" y="3516840"/>
                  <a:chExt cx="237240" cy="237600"/>
                </a:xfrm>
              </p:grpSpPr>
              <p:sp>
                <p:nvSpPr>
                  <p:cNvPr id="1479" name="空心弧 207"/>
                  <p:cNvSpPr/>
                  <p:nvPr/>
                </p:nvSpPr>
                <p:spPr>
                  <a:xfrm rot="16408800">
                    <a:off x="493200" y="355104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57" h="3198898">
                        <a:moveTo>
                          <a:pt x="0" y="1599449"/>
                        </a:moveTo>
                        <a:cubicBezTo>
                          <a:pt x="0" y="1204348"/>
                          <a:pt x="146185" y="823229"/>
                          <a:pt x="410384" y="529538"/>
                        </a:cubicBezTo>
                        <a:lnTo>
                          <a:pt x="508704" y="618049"/>
                        </a:lnTo>
                        <a:cubicBezTo>
                          <a:pt x="266375" y="887446"/>
                          <a:pt x="132292" y="1237035"/>
                          <a:pt x="132292" y="1599449"/>
                        </a:cubicBezTo>
                        <a:lnTo>
                          <a:pt x="0" y="159944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空心弧 208"/>
                  <p:cNvSpPr/>
                  <p:nvPr/>
                </p:nvSpPr>
                <p:spPr>
                  <a:xfrm rot="19108800">
                    <a:off x="493560" y="3551400"/>
                    <a:ext cx="168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98" h="3197757">
                        <a:moveTo>
                          <a:pt x="0" y="1598879"/>
                        </a:moveTo>
                        <a:cubicBezTo>
                          <a:pt x="0" y="1203724"/>
                          <a:pt x="146382" y="822566"/>
                          <a:pt x="410909" y="528928"/>
                        </a:cubicBezTo>
                        <a:lnTo>
                          <a:pt x="509230" y="617438"/>
                        </a:lnTo>
                        <a:cubicBezTo>
                          <a:pt x="266572" y="886782"/>
                          <a:pt x="132291" y="1236410"/>
                          <a:pt x="132291" y="1598878"/>
                        </a:cubicBezTo>
                        <a:lnTo>
                          <a:pt x="0" y="1598879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1" name="组合 424"/>
            <p:cNvGrpSpPr/>
            <p:nvPr/>
          </p:nvGrpSpPr>
          <p:grpSpPr>
            <a:xfrm>
              <a:off x="709560" y="3664440"/>
              <a:ext cx="545760" cy="545760"/>
              <a:chOff x="709560" y="3664440"/>
              <a:chExt cx="545760" cy="545760"/>
            </a:xfrm>
          </p:grpSpPr>
          <p:grpSp>
            <p:nvGrpSpPr>
              <p:cNvPr id="1482" name="组合 505"/>
              <p:cNvGrpSpPr/>
              <p:nvPr/>
            </p:nvGrpSpPr>
            <p:grpSpPr>
              <a:xfrm>
                <a:off x="709560" y="3664800"/>
                <a:ext cx="545400" cy="545400"/>
                <a:chOff x="709560" y="3664800"/>
                <a:chExt cx="545400" cy="545400"/>
              </a:xfrm>
            </p:grpSpPr>
            <p:grpSp>
              <p:nvGrpSpPr>
                <p:cNvPr id="1483" name="组合 513"/>
                <p:cNvGrpSpPr/>
                <p:nvPr/>
              </p:nvGrpSpPr>
              <p:grpSpPr>
                <a:xfrm>
                  <a:off x="709920" y="3664800"/>
                  <a:ext cx="545040" cy="545400"/>
                  <a:chOff x="709920" y="3664800"/>
                  <a:chExt cx="545040" cy="545400"/>
                </a:xfrm>
              </p:grpSpPr>
              <p:sp>
                <p:nvSpPr>
                  <p:cNvPr id="1484" name="空心弧 201"/>
                  <p:cNvSpPr/>
                  <p:nvPr/>
                </p:nvSpPr>
                <p:spPr>
                  <a:xfrm rot="208200">
                    <a:off x="789120" y="374436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5335" h="3191062">
                        <a:moveTo>
                          <a:pt x="0" y="1595531"/>
                        </a:moveTo>
                        <a:cubicBezTo>
                          <a:pt x="0" y="1200079"/>
                          <a:pt x="147512" y="818718"/>
                          <a:pt x="413929" y="525401"/>
                        </a:cubicBezTo>
                        <a:lnTo>
                          <a:pt x="512044" y="613727"/>
                        </a:lnTo>
                        <a:cubicBezTo>
                          <a:pt x="267450" y="882801"/>
                          <a:pt x="132014" y="1232698"/>
                          <a:pt x="132014" y="1595531"/>
                        </a:cubicBezTo>
                        <a:lnTo>
                          <a:pt x="0" y="1595531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空心弧 202"/>
                  <p:cNvSpPr/>
                  <p:nvPr/>
                </p:nvSpPr>
                <p:spPr>
                  <a:xfrm rot="2908800">
                    <a:off x="78912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062" h="3205335">
                        <a:moveTo>
                          <a:pt x="0" y="1602668"/>
                        </a:moveTo>
                        <a:cubicBezTo>
                          <a:pt x="0" y="1207900"/>
                          <a:pt x="145051" y="827020"/>
                          <a:pt x="407348" y="533038"/>
                        </a:cubicBezTo>
                        <a:lnTo>
                          <a:pt x="505463" y="621364"/>
                        </a:lnTo>
                        <a:cubicBezTo>
                          <a:pt x="264989" y="891103"/>
                          <a:pt x="132014" y="1240519"/>
                          <a:pt x="132014" y="1602668"/>
                        </a:cubicBezTo>
                        <a:lnTo>
                          <a:pt x="0" y="16026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组合 514"/>
                <p:cNvGrpSpPr/>
                <p:nvPr/>
              </p:nvGrpSpPr>
              <p:grpSpPr>
                <a:xfrm>
                  <a:off x="709560" y="3664800"/>
                  <a:ext cx="545400" cy="545040"/>
                  <a:chOff x="709560" y="3664800"/>
                  <a:chExt cx="545400" cy="545040"/>
                </a:xfrm>
              </p:grpSpPr>
              <p:sp>
                <p:nvSpPr>
                  <p:cNvPr id="1487" name="空心弧 199"/>
                  <p:cNvSpPr/>
                  <p:nvPr/>
                </p:nvSpPr>
                <p:spPr>
                  <a:xfrm rot="5608800">
                    <a:off x="78876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062" h="3205335">
                        <a:moveTo>
                          <a:pt x="0" y="1602668"/>
                        </a:moveTo>
                        <a:cubicBezTo>
                          <a:pt x="0" y="1207900"/>
                          <a:pt x="145051" y="827020"/>
                          <a:pt x="407348" y="533038"/>
                        </a:cubicBezTo>
                        <a:lnTo>
                          <a:pt x="505463" y="621364"/>
                        </a:lnTo>
                        <a:cubicBezTo>
                          <a:pt x="264989" y="891103"/>
                          <a:pt x="132014" y="1240519"/>
                          <a:pt x="132014" y="1602668"/>
                        </a:cubicBezTo>
                        <a:lnTo>
                          <a:pt x="0" y="16026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空心弧 200"/>
                  <p:cNvSpPr/>
                  <p:nvPr/>
                </p:nvSpPr>
                <p:spPr>
                  <a:xfrm rot="8308800">
                    <a:off x="78912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5335" h="3191062">
                        <a:moveTo>
                          <a:pt x="0" y="1595531"/>
                        </a:moveTo>
                        <a:cubicBezTo>
                          <a:pt x="0" y="1200079"/>
                          <a:pt x="147512" y="818718"/>
                          <a:pt x="413929" y="525401"/>
                        </a:cubicBezTo>
                        <a:lnTo>
                          <a:pt x="512044" y="613727"/>
                        </a:lnTo>
                        <a:cubicBezTo>
                          <a:pt x="267450" y="882801"/>
                          <a:pt x="132014" y="1232698"/>
                          <a:pt x="132014" y="1595531"/>
                        </a:cubicBezTo>
                        <a:lnTo>
                          <a:pt x="0" y="1595531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组合 506"/>
              <p:cNvGrpSpPr/>
              <p:nvPr/>
            </p:nvGrpSpPr>
            <p:grpSpPr>
              <a:xfrm>
                <a:off x="709920" y="3664440"/>
                <a:ext cx="545400" cy="545400"/>
                <a:chOff x="709920" y="3664440"/>
                <a:chExt cx="545400" cy="545400"/>
              </a:xfrm>
            </p:grpSpPr>
            <p:grpSp>
              <p:nvGrpSpPr>
                <p:cNvPr id="1490" name="组合 507"/>
                <p:cNvGrpSpPr/>
                <p:nvPr/>
              </p:nvGrpSpPr>
              <p:grpSpPr>
                <a:xfrm>
                  <a:off x="709920" y="3664440"/>
                  <a:ext cx="545040" cy="545400"/>
                  <a:chOff x="709920" y="3664440"/>
                  <a:chExt cx="545040" cy="545400"/>
                </a:xfrm>
              </p:grpSpPr>
              <p:sp>
                <p:nvSpPr>
                  <p:cNvPr id="1491" name="空心弧 195"/>
                  <p:cNvSpPr/>
                  <p:nvPr/>
                </p:nvSpPr>
                <p:spPr>
                  <a:xfrm rot="11008800">
                    <a:off x="789120" y="374364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5335" h="3191062">
                        <a:moveTo>
                          <a:pt x="0" y="1595531"/>
                        </a:moveTo>
                        <a:cubicBezTo>
                          <a:pt x="0" y="1200079"/>
                          <a:pt x="147512" y="818718"/>
                          <a:pt x="413929" y="525401"/>
                        </a:cubicBezTo>
                        <a:lnTo>
                          <a:pt x="512044" y="613727"/>
                        </a:lnTo>
                        <a:cubicBezTo>
                          <a:pt x="267450" y="882801"/>
                          <a:pt x="132014" y="1232698"/>
                          <a:pt x="132014" y="1595531"/>
                        </a:cubicBezTo>
                        <a:lnTo>
                          <a:pt x="0" y="1595531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空心弧 196"/>
                  <p:cNvSpPr/>
                  <p:nvPr/>
                </p:nvSpPr>
                <p:spPr>
                  <a:xfrm rot="13708800">
                    <a:off x="78912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062" h="3205335">
                        <a:moveTo>
                          <a:pt x="0" y="1602668"/>
                        </a:moveTo>
                        <a:cubicBezTo>
                          <a:pt x="0" y="1207900"/>
                          <a:pt x="145051" y="827020"/>
                          <a:pt x="407348" y="533038"/>
                        </a:cubicBezTo>
                        <a:lnTo>
                          <a:pt x="505463" y="621364"/>
                        </a:lnTo>
                        <a:cubicBezTo>
                          <a:pt x="264989" y="891103"/>
                          <a:pt x="132014" y="1240519"/>
                          <a:pt x="132014" y="1602668"/>
                        </a:cubicBezTo>
                        <a:lnTo>
                          <a:pt x="0" y="16026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3" name="组合 508"/>
                <p:cNvGrpSpPr/>
                <p:nvPr/>
              </p:nvGrpSpPr>
              <p:grpSpPr>
                <a:xfrm>
                  <a:off x="709920" y="3664800"/>
                  <a:ext cx="545400" cy="545040"/>
                  <a:chOff x="709920" y="3664800"/>
                  <a:chExt cx="545400" cy="545040"/>
                </a:xfrm>
              </p:grpSpPr>
              <p:sp>
                <p:nvSpPr>
                  <p:cNvPr id="1494" name="空心弧 193"/>
                  <p:cNvSpPr/>
                  <p:nvPr/>
                </p:nvSpPr>
                <p:spPr>
                  <a:xfrm rot="16408800">
                    <a:off x="78948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062" h="3205335">
                        <a:moveTo>
                          <a:pt x="0" y="1602668"/>
                        </a:moveTo>
                        <a:cubicBezTo>
                          <a:pt x="0" y="1207900"/>
                          <a:pt x="145051" y="827020"/>
                          <a:pt x="407348" y="533038"/>
                        </a:cubicBezTo>
                        <a:lnTo>
                          <a:pt x="505463" y="621364"/>
                        </a:lnTo>
                        <a:cubicBezTo>
                          <a:pt x="264989" y="891103"/>
                          <a:pt x="132014" y="1240519"/>
                          <a:pt x="132014" y="1602668"/>
                        </a:cubicBezTo>
                        <a:lnTo>
                          <a:pt x="0" y="16026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空心弧 194"/>
                  <p:cNvSpPr/>
                  <p:nvPr/>
                </p:nvSpPr>
                <p:spPr>
                  <a:xfrm rot="19108800">
                    <a:off x="789120" y="3744000"/>
                    <a:ext cx="386280" cy="38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5335" h="3191062">
                        <a:moveTo>
                          <a:pt x="0" y="1595531"/>
                        </a:moveTo>
                        <a:cubicBezTo>
                          <a:pt x="0" y="1200079"/>
                          <a:pt x="147512" y="818718"/>
                          <a:pt x="413929" y="525401"/>
                        </a:cubicBezTo>
                        <a:lnTo>
                          <a:pt x="512044" y="613727"/>
                        </a:lnTo>
                        <a:cubicBezTo>
                          <a:pt x="267450" y="882801"/>
                          <a:pt x="132014" y="1232698"/>
                          <a:pt x="132014" y="1595531"/>
                        </a:cubicBezTo>
                        <a:lnTo>
                          <a:pt x="0" y="1595531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96" name="组合 426"/>
            <p:cNvGrpSpPr/>
            <p:nvPr/>
          </p:nvGrpSpPr>
          <p:grpSpPr>
            <a:xfrm>
              <a:off x="1635120" y="3905280"/>
              <a:ext cx="390240" cy="390240"/>
              <a:chOff x="1635120" y="3905280"/>
              <a:chExt cx="390240" cy="390240"/>
            </a:xfrm>
          </p:grpSpPr>
          <p:grpSp>
            <p:nvGrpSpPr>
              <p:cNvPr id="1497" name="组合 491"/>
              <p:cNvGrpSpPr/>
              <p:nvPr/>
            </p:nvGrpSpPr>
            <p:grpSpPr>
              <a:xfrm>
                <a:off x="1635120" y="3905640"/>
                <a:ext cx="390240" cy="389880"/>
                <a:chOff x="1635120" y="3905640"/>
                <a:chExt cx="390240" cy="389880"/>
              </a:xfrm>
            </p:grpSpPr>
            <p:grpSp>
              <p:nvGrpSpPr>
                <p:cNvPr id="1498" name="组合 499"/>
                <p:cNvGrpSpPr/>
                <p:nvPr/>
              </p:nvGrpSpPr>
              <p:grpSpPr>
                <a:xfrm>
                  <a:off x="1635480" y="3905640"/>
                  <a:ext cx="389880" cy="389880"/>
                  <a:chOff x="1635480" y="3905640"/>
                  <a:chExt cx="389880" cy="389880"/>
                </a:xfrm>
              </p:grpSpPr>
              <p:sp>
                <p:nvSpPr>
                  <p:cNvPr id="1499" name="空心弧 187"/>
                  <p:cNvSpPr/>
                  <p:nvPr/>
                </p:nvSpPr>
                <p:spPr>
                  <a:xfrm rot="208200">
                    <a:off x="1692360" y="39625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空心弧 188"/>
                  <p:cNvSpPr/>
                  <p:nvPr/>
                </p:nvSpPr>
                <p:spPr>
                  <a:xfrm rot="2908800">
                    <a:off x="1692000" y="39621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1" name="组合 500"/>
                <p:cNvGrpSpPr/>
                <p:nvPr/>
              </p:nvGrpSpPr>
              <p:grpSpPr>
                <a:xfrm>
                  <a:off x="1635120" y="3905640"/>
                  <a:ext cx="389880" cy="389880"/>
                  <a:chOff x="1635120" y="3905640"/>
                  <a:chExt cx="389880" cy="389880"/>
                </a:xfrm>
              </p:grpSpPr>
              <p:sp>
                <p:nvSpPr>
                  <p:cNvPr id="1502" name="空心弧 185"/>
                  <p:cNvSpPr/>
                  <p:nvPr/>
                </p:nvSpPr>
                <p:spPr>
                  <a:xfrm rot="5608800">
                    <a:off x="1691640" y="396252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空心弧 186"/>
                  <p:cNvSpPr/>
                  <p:nvPr/>
                </p:nvSpPr>
                <p:spPr>
                  <a:xfrm rot="8308800">
                    <a:off x="1692000" y="39621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组合 492"/>
              <p:cNvGrpSpPr/>
              <p:nvPr/>
            </p:nvGrpSpPr>
            <p:grpSpPr>
              <a:xfrm>
                <a:off x="1635480" y="3905280"/>
                <a:ext cx="389880" cy="389880"/>
                <a:chOff x="1635480" y="3905280"/>
                <a:chExt cx="389880" cy="389880"/>
              </a:xfrm>
            </p:grpSpPr>
            <p:grpSp>
              <p:nvGrpSpPr>
                <p:cNvPr id="1505" name="组合 493"/>
                <p:cNvGrpSpPr/>
                <p:nvPr/>
              </p:nvGrpSpPr>
              <p:grpSpPr>
                <a:xfrm>
                  <a:off x="1635480" y="3905280"/>
                  <a:ext cx="389520" cy="389880"/>
                  <a:chOff x="1635480" y="3905280"/>
                  <a:chExt cx="389520" cy="389880"/>
                </a:xfrm>
              </p:grpSpPr>
              <p:sp>
                <p:nvSpPr>
                  <p:cNvPr id="1506" name="空心弧 181"/>
                  <p:cNvSpPr/>
                  <p:nvPr/>
                </p:nvSpPr>
                <p:spPr>
                  <a:xfrm rot="11008800">
                    <a:off x="1691640" y="396180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空心弧 182"/>
                  <p:cNvSpPr/>
                  <p:nvPr/>
                </p:nvSpPr>
                <p:spPr>
                  <a:xfrm rot="13708800">
                    <a:off x="1692000" y="39621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8" name="组合 494"/>
                <p:cNvGrpSpPr/>
                <p:nvPr/>
              </p:nvGrpSpPr>
              <p:grpSpPr>
                <a:xfrm>
                  <a:off x="1635480" y="3905640"/>
                  <a:ext cx="389880" cy="389520"/>
                  <a:chOff x="1635480" y="3905640"/>
                  <a:chExt cx="389880" cy="389520"/>
                </a:xfrm>
              </p:grpSpPr>
              <p:sp>
                <p:nvSpPr>
                  <p:cNvPr id="1509" name="空心弧 179"/>
                  <p:cNvSpPr/>
                  <p:nvPr/>
                </p:nvSpPr>
                <p:spPr>
                  <a:xfrm rot="16408800">
                    <a:off x="1692360" y="396180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空心弧 180"/>
                  <p:cNvSpPr/>
                  <p:nvPr/>
                </p:nvSpPr>
                <p:spPr>
                  <a:xfrm rot="19108800">
                    <a:off x="1692000" y="396216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1" name="组合 428"/>
            <p:cNvGrpSpPr/>
            <p:nvPr/>
          </p:nvGrpSpPr>
          <p:grpSpPr>
            <a:xfrm>
              <a:off x="1643040" y="2610360"/>
              <a:ext cx="390240" cy="390240"/>
              <a:chOff x="1643040" y="2610360"/>
              <a:chExt cx="390240" cy="390240"/>
            </a:xfrm>
          </p:grpSpPr>
          <p:grpSp>
            <p:nvGrpSpPr>
              <p:cNvPr id="1512" name="组合 477"/>
              <p:cNvGrpSpPr/>
              <p:nvPr/>
            </p:nvGrpSpPr>
            <p:grpSpPr>
              <a:xfrm>
                <a:off x="1643040" y="2610720"/>
                <a:ext cx="390240" cy="389880"/>
                <a:chOff x="1643040" y="2610720"/>
                <a:chExt cx="390240" cy="389880"/>
              </a:xfrm>
            </p:grpSpPr>
            <p:grpSp>
              <p:nvGrpSpPr>
                <p:cNvPr id="1513" name="组合 485"/>
                <p:cNvGrpSpPr/>
                <p:nvPr/>
              </p:nvGrpSpPr>
              <p:grpSpPr>
                <a:xfrm>
                  <a:off x="1643400" y="2610720"/>
                  <a:ext cx="389880" cy="389880"/>
                  <a:chOff x="1643400" y="2610720"/>
                  <a:chExt cx="389880" cy="389880"/>
                </a:xfrm>
              </p:grpSpPr>
              <p:sp>
                <p:nvSpPr>
                  <p:cNvPr id="1514" name="空心弧 173"/>
                  <p:cNvSpPr/>
                  <p:nvPr/>
                </p:nvSpPr>
                <p:spPr>
                  <a:xfrm rot="208200">
                    <a:off x="1700280" y="266760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空心弧 174"/>
                  <p:cNvSpPr/>
                  <p:nvPr/>
                </p:nvSpPr>
                <p:spPr>
                  <a:xfrm rot="2908800">
                    <a:off x="1699920" y="2667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组合 486"/>
                <p:cNvGrpSpPr/>
                <p:nvPr/>
              </p:nvGrpSpPr>
              <p:grpSpPr>
                <a:xfrm>
                  <a:off x="1643040" y="2610720"/>
                  <a:ext cx="389880" cy="389880"/>
                  <a:chOff x="1643040" y="2610720"/>
                  <a:chExt cx="389880" cy="389880"/>
                </a:xfrm>
              </p:grpSpPr>
              <p:sp>
                <p:nvSpPr>
                  <p:cNvPr id="1517" name="空心弧 171"/>
                  <p:cNvSpPr/>
                  <p:nvPr/>
                </p:nvSpPr>
                <p:spPr>
                  <a:xfrm rot="5608800">
                    <a:off x="1699560" y="266760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空心弧 172"/>
                  <p:cNvSpPr/>
                  <p:nvPr/>
                </p:nvSpPr>
                <p:spPr>
                  <a:xfrm rot="8308800">
                    <a:off x="1699920" y="2667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9" name="组合 478"/>
              <p:cNvGrpSpPr/>
              <p:nvPr/>
            </p:nvGrpSpPr>
            <p:grpSpPr>
              <a:xfrm>
                <a:off x="1643400" y="2610360"/>
                <a:ext cx="389880" cy="389880"/>
                <a:chOff x="1643400" y="2610360"/>
                <a:chExt cx="389880" cy="389880"/>
              </a:xfrm>
            </p:grpSpPr>
            <p:grpSp>
              <p:nvGrpSpPr>
                <p:cNvPr id="1520" name="组合 479"/>
                <p:cNvGrpSpPr/>
                <p:nvPr/>
              </p:nvGrpSpPr>
              <p:grpSpPr>
                <a:xfrm>
                  <a:off x="1643400" y="2610360"/>
                  <a:ext cx="389520" cy="389880"/>
                  <a:chOff x="1643400" y="2610360"/>
                  <a:chExt cx="389520" cy="389880"/>
                </a:xfrm>
              </p:grpSpPr>
              <p:sp>
                <p:nvSpPr>
                  <p:cNvPr id="1521" name="空心弧 167"/>
                  <p:cNvSpPr/>
                  <p:nvPr/>
                </p:nvSpPr>
                <p:spPr>
                  <a:xfrm rot="11008800">
                    <a:off x="1699560" y="266688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空心弧 168"/>
                  <p:cNvSpPr/>
                  <p:nvPr/>
                </p:nvSpPr>
                <p:spPr>
                  <a:xfrm rot="13708800">
                    <a:off x="1699920" y="2667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3" name="组合 480"/>
                <p:cNvGrpSpPr/>
                <p:nvPr/>
              </p:nvGrpSpPr>
              <p:grpSpPr>
                <a:xfrm>
                  <a:off x="1643400" y="2610720"/>
                  <a:ext cx="389880" cy="389520"/>
                  <a:chOff x="1643400" y="2610720"/>
                  <a:chExt cx="389880" cy="389520"/>
                </a:xfrm>
              </p:grpSpPr>
              <p:sp>
                <p:nvSpPr>
                  <p:cNvPr id="1524" name="空心弧 165"/>
                  <p:cNvSpPr/>
                  <p:nvPr/>
                </p:nvSpPr>
                <p:spPr>
                  <a:xfrm rot="16408800">
                    <a:off x="1700280" y="266688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970" h="3198105">
                        <a:moveTo>
                          <a:pt x="0" y="1599053"/>
                        </a:moveTo>
                        <a:cubicBezTo>
                          <a:pt x="0" y="1204050"/>
                          <a:pt x="146149" y="823024"/>
                          <a:pt x="410283" y="529407"/>
                        </a:cubicBezTo>
                        <a:lnTo>
                          <a:pt x="508580" y="617895"/>
                        </a:lnTo>
                        <a:cubicBezTo>
                          <a:pt x="266310" y="887225"/>
                          <a:pt x="132259" y="1236728"/>
                          <a:pt x="132259" y="1599053"/>
                        </a:cubicBezTo>
                        <a:lnTo>
                          <a:pt x="0" y="159905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空心弧 166"/>
                  <p:cNvSpPr/>
                  <p:nvPr/>
                </p:nvSpPr>
                <p:spPr>
                  <a:xfrm rot="19108800">
                    <a:off x="1699920" y="2667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05" h="3196970">
                        <a:moveTo>
                          <a:pt x="0" y="1598485"/>
                        </a:moveTo>
                        <a:cubicBezTo>
                          <a:pt x="0" y="1203427"/>
                          <a:pt x="146345" y="822364"/>
                          <a:pt x="410807" y="528799"/>
                        </a:cubicBezTo>
                        <a:lnTo>
                          <a:pt x="509103" y="617287"/>
                        </a:lnTo>
                        <a:cubicBezTo>
                          <a:pt x="266505" y="886564"/>
                          <a:pt x="132259" y="1236106"/>
                          <a:pt x="132259" y="1598485"/>
                        </a:cubicBezTo>
                        <a:lnTo>
                          <a:pt x="0" y="159848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26" name="直接连接符 115"/>
            <p:cNvSpPr/>
            <p:nvPr/>
          </p:nvSpPr>
          <p:spPr>
            <a:xfrm>
              <a:off x="3089520" y="3144600"/>
              <a:ext cx="222120" cy="3664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直接连接符 116"/>
            <p:cNvSpPr/>
            <p:nvPr/>
          </p:nvSpPr>
          <p:spPr>
            <a:xfrm flipH="1">
              <a:off x="3421440" y="2947680"/>
              <a:ext cx="164880" cy="5587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直接连接符 117"/>
            <p:cNvSpPr/>
            <p:nvPr/>
          </p:nvSpPr>
          <p:spPr>
            <a:xfrm>
              <a:off x="2459160" y="3587760"/>
              <a:ext cx="210960" cy="2538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直接连接符 118"/>
            <p:cNvSpPr/>
            <p:nvPr/>
          </p:nvSpPr>
          <p:spPr>
            <a:xfrm>
              <a:off x="1412640" y="3586320"/>
              <a:ext cx="325440" cy="4204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直接连接符 119"/>
            <p:cNvSpPr/>
            <p:nvPr/>
          </p:nvSpPr>
          <p:spPr>
            <a:xfrm>
              <a:off x="1898640" y="2916000"/>
              <a:ext cx="141120" cy="1983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直接连接符 120"/>
            <p:cNvSpPr/>
            <p:nvPr/>
          </p:nvSpPr>
          <p:spPr>
            <a:xfrm>
              <a:off x="1131840" y="3062160"/>
              <a:ext cx="131760" cy="2887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直接连接符 121"/>
            <p:cNvSpPr/>
            <p:nvPr/>
          </p:nvSpPr>
          <p:spPr>
            <a:xfrm flipV="1">
              <a:off x="1958760" y="4003920"/>
              <a:ext cx="693720" cy="1317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直接连接符 122"/>
            <p:cNvSpPr/>
            <p:nvPr/>
          </p:nvSpPr>
          <p:spPr>
            <a:xfrm flipH="1">
              <a:off x="3675240" y="3467160"/>
              <a:ext cx="87120" cy="4824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直接连接符 123"/>
            <p:cNvSpPr/>
            <p:nvPr/>
          </p:nvSpPr>
          <p:spPr>
            <a:xfrm>
              <a:off x="749160" y="3354480"/>
              <a:ext cx="164880" cy="4046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124"/>
            <p:cNvSpPr/>
            <p:nvPr/>
          </p:nvSpPr>
          <p:spPr>
            <a:xfrm flipH="1">
              <a:off x="603000" y="3351240"/>
              <a:ext cx="88560" cy="2109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直接连接符 125"/>
            <p:cNvSpPr/>
            <p:nvPr/>
          </p:nvSpPr>
          <p:spPr>
            <a:xfrm>
              <a:off x="1125360" y="4043520"/>
              <a:ext cx="573120" cy="554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直接连接符 126"/>
            <p:cNvSpPr/>
            <p:nvPr/>
          </p:nvSpPr>
          <p:spPr>
            <a:xfrm>
              <a:off x="630000" y="3708360"/>
              <a:ext cx="187200" cy="1490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127"/>
            <p:cNvSpPr/>
            <p:nvPr/>
          </p:nvSpPr>
          <p:spPr>
            <a:xfrm flipV="1">
              <a:off x="1298520" y="2804400"/>
              <a:ext cx="407880" cy="298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直接连接符 128"/>
            <p:cNvSpPr/>
            <p:nvPr/>
          </p:nvSpPr>
          <p:spPr>
            <a:xfrm>
              <a:off x="1967040" y="2814480"/>
              <a:ext cx="936720" cy="1458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直接连接符 129"/>
            <p:cNvSpPr/>
            <p:nvPr/>
          </p:nvSpPr>
          <p:spPr>
            <a:xfrm flipV="1">
              <a:off x="3143520" y="2737800"/>
              <a:ext cx="318960" cy="1666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直接连接符 130"/>
            <p:cNvSpPr/>
            <p:nvPr/>
          </p:nvSpPr>
          <p:spPr>
            <a:xfrm>
              <a:off x="3014640" y="3994200"/>
              <a:ext cx="554040" cy="536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131"/>
            <p:cNvSpPr/>
            <p:nvPr/>
          </p:nvSpPr>
          <p:spPr>
            <a:xfrm>
              <a:off x="2568600" y="3460680"/>
              <a:ext cx="662040" cy="1602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132"/>
            <p:cNvSpPr/>
            <p:nvPr/>
          </p:nvSpPr>
          <p:spPr>
            <a:xfrm flipV="1">
              <a:off x="1968480" y="2732040"/>
              <a:ext cx="1492200" cy="554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直接连接符 133"/>
            <p:cNvSpPr/>
            <p:nvPr/>
          </p:nvSpPr>
          <p:spPr>
            <a:xfrm flipH="1">
              <a:off x="785160" y="3033720"/>
              <a:ext cx="137880" cy="1886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直接连接符 134"/>
            <p:cNvSpPr/>
            <p:nvPr/>
          </p:nvSpPr>
          <p:spPr>
            <a:xfrm flipH="1">
              <a:off x="1449000" y="3419280"/>
              <a:ext cx="477720" cy="554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135"/>
            <p:cNvSpPr/>
            <p:nvPr/>
          </p:nvSpPr>
          <p:spPr>
            <a:xfrm flipH="1">
              <a:off x="3028680" y="3722760"/>
              <a:ext cx="239400" cy="1825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组合 452"/>
            <p:cNvGrpSpPr/>
            <p:nvPr/>
          </p:nvGrpSpPr>
          <p:grpSpPr>
            <a:xfrm>
              <a:off x="928800" y="2737080"/>
              <a:ext cx="315720" cy="218520"/>
              <a:chOff x="928800" y="2737080"/>
              <a:chExt cx="315720" cy="218520"/>
            </a:xfrm>
          </p:grpSpPr>
          <p:sp>
            <p:nvSpPr>
              <p:cNvPr id="1548" name="任意多边形 159"/>
              <p:cNvSpPr/>
              <p:nvPr/>
            </p:nvSpPr>
            <p:spPr>
              <a:xfrm>
                <a:off x="928800" y="2739960"/>
                <a:ext cx="210960" cy="2156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椭圆形标注 160"/>
              <p:cNvSpPr/>
              <p:nvPr/>
            </p:nvSpPr>
            <p:spPr>
              <a:xfrm>
                <a:off x="1090800" y="2737080"/>
                <a:ext cx="153720" cy="11736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0" name="任意多边形 137"/>
            <p:cNvSpPr/>
            <p:nvPr/>
          </p:nvSpPr>
          <p:spPr>
            <a:xfrm>
              <a:off x="1234800" y="3373560"/>
              <a:ext cx="169560" cy="1746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组合 454"/>
            <p:cNvGrpSpPr/>
            <p:nvPr/>
          </p:nvGrpSpPr>
          <p:grpSpPr>
            <a:xfrm>
              <a:off x="3534120" y="2642760"/>
              <a:ext cx="283320" cy="186840"/>
              <a:chOff x="3534120" y="2642760"/>
              <a:chExt cx="283320" cy="186840"/>
            </a:xfrm>
          </p:grpSpPr>
          <p:sp>
            <p:nvSpPr>
              <p:cNvPr id="1552" name="任意多边形 157"/>
              <p:cNvSpPr/>
              <p:nvPr/>
            </p:nvSpPr>
            <p:spPr>
              <a:xfrm>
                <a:off x="3534120" y="2642760"/>
                <a:ext cx="183600" cy="1868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任意多边形 158"/>
              <p:cNvSpPr/>
              <p:nvPr/>
            </p:nvSpPr>
            <p:spPr>
              <a:xfrm>
                <a:off x="3633840" y="2642760"/>
                <a:ext cx="183600" cy="1868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4" name="任意多边形 139"/>
            <p:cNvSpPr/>
            <p:nvPr/>
          </p:nvSpPr>
          <p:spPr>
            <a:xfrm>
              <a:off x="1753920" y="2698560"/>
              <a:ext cx="171360" cy="1728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5" name="组合 456"/>
            <p:cNvGrpSpPr/>
            <p:nvPr/>
          </p:nvGrpSpPr>
          <p:grpSpPr>
            <a:xfrm>
              <a:off x="2684520" y="3848400"/>
              <a:ext cx="283680" cy="196200"/>
              <a:chOff x="2684520" y="3848400"/>
              <a:chExt cx="283680" cy="196200"/>
            </a:xfrm>
          </p:grpSpPr>
          <p:sp>
            <p:nvSpPr>
              <p:cNvPr id="1556" name="任意多边形 155"/>
              <p:cNvSpPr/>
              <p:nvPr/>
            </p:nvSpPr>
            <p:spPr>
              <a:xfrm flipH="1">
                <a:off x="2779560" y="3851280"/>
                <a:ext cx="188640" cy="19332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椭圆形标注 156"/>
              <p:cNvSpPr/>
              <p:nvPr/>
            </p:nvSpPr>
            <p:spPr>
              <a:xfrm flipH="1">
                <a:off x="2684160" y="3848400"/>
                <a:ext cx="137880" cy="10440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组合 457"/>
            <p:cNvGrpSpPr/>
            <p:nvPr/>
          </p:nvGrpSpPr>
          <p:grpSpPr>
            <a:xfrm>
              <a:off x="851760" y="3831120"/>
              <a:ext cx="281520" cy="194760"/>
              <a:chOff x="851760" y="3831120"/>
              <a:chExt cx="281520" cy="194760"/>
            </a:xfrm>
          </p:grpSpPr>
          <p:sp>
            <p:nvSpPr>
              <p:cNvPr id="1559" name="任意多边形 153"/>
              <p:cNvSpPr/>
              <p:nvPr/>
            </p:nvSpPr>
            <p:spPr>
              <a:xfrm>
                <a:off x="851760" y="3834000"/>
                <a:ext cx="187920" cy="1918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椭圆形标注 154"/>
              <p:cNvSpPr/>
              <p:nvPr/>
            </p:nvSpPr>
            <p:spPr>
              <a:xfrm>
                <a:off x="996480" y="3831120"/>
                <a:ext cx="136800" cy="10440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组合 458"/>
            <p:cNvGrpSpPr/>
            <p:nvPr/>
          </p:nvGrpSpPr>
          <p:grpSpPr>
            <a:xfrm>
              <a:off x="1731960" y="4030560"/>
              <a:ext cx="194400" cy="128160"/>
              <a:chOff x="1731960" y="4030560"/>
              <a:chExt cx="194400" cy="128160"/>
            </a:xfrm>
          </p:grpSpPr>
          <p:sp>
            <p:nvSpPr>
              <p:cNvPr id="1562" name="任意多边形 151"/>
              <p:cNvSpPr/>
              <p:nvPr/>
            </p:nvSpPr>
            <p:spPr>
              <a:xfrm>
                <a:off x="1731960" y="4030560"/>
                <a:ext cx="124920" cy="1281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任意多边形 152"/>
              <p:cNvSpPr/>
              <p:nvPr/>
            </p:nvSpPr>
            <p:spPr>
              <a:xfrm>
                <a:off x="1801440" y="4030560"/>
                <a:ext cx="124920" cy="1281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任意多边形 143"/>
            <p:cNvSpPr/>
            <p:nvPr/>
          </p:nvSpPr>
          <p:spPr>
            <a:xfrm>
              <a:off x="3691080" y="3174840"/>
              <a:ext cx="220680" cy="2235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组合 460"/>
            <p:cNvGrpSpPr/>
            <p:nvPr/>
          </p:nvGrpSpPr>
          <p:grpSpPr>
            <a:xfrm>
              <a:off x="666000" y="3234600"/>
              <a:ext cx="120960" cy="79560"/>
              <a:chOff x="666000" y="3234600"/>
              <a:chExt cx="120960" cy="79560"/>
            </a:xfrm>
          </p:grpSpPr>
          <p:sp>
            <p:nvSpPr>
              <p:cNvPr id="1566" name="任意多边形 149"/>
              <p:cNvSpPr/>
              <p:nvPr/>
            </p:nvSpPr>
            <p:spPr>
              <a:xfrm>
                <a:off x="666000" y="3234600"/>
                <a:ext cx="78120" cy="795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任意多边形 150"/>
              <p:cNvSpPr/>
              <p:nvPr/>
            </p:nvSpPr>
            <p:spPr>
              <a:xfrm>
                <a:off x="708840" y="3234600"/>
                <a:ext cx="78120" cy="795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8" name="任意多边形 145"/>
            <p:cNvSpPr/>
            <p:nvPr/>
          </p:nvSpPr>
          <p:spPr>
            <a:xfrm>
              <a:off x="3275280" y="3525840"/>
              <a:ext cx="171360" cy="1728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任意多边形 146"/>
            <p:cNvSpPr/>
            <p:nvPr/>
          </p:nvSpPr>
          <p:spPr>
            <a:xfrm>
              <a:off x="2943360" y="2912760"/>
              <a:ext cx="171360" cy="1728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任意多边形 147"/>
            <p:cNvSpPr/>
            <p:nvPr/>
          </p:nvSpPr>
          <p:spPr>
            <a:xfrm>
              <a:off x="3599280" y="3986280"/>
              <a:ext cx="110880" cy="114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任意多边形 148"/>
            <p:cNvSpPr/>
            <p:nvPr/>
          </p:nvSpPr>
          <p:spPr>
            <a:xfrm>
              <a:off x="525240" y="3576600"/>
              <a:ext cx="110880" cy="114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1573" name="椭圆 880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直接连接符 881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直接连接符 882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椭圆 883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椭圆 884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椭圆 885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直接连接符 886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直接连接符 887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直接连接符 888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椭圆 889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椭圆 890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椭圆 891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椭圆 892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椭圆 893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椭圆 894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椭圆 895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椭圆 896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椭圆 897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椭圆 898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椭圆 899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直接连接符 900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直接连接符 901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直接连接符 902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直接连接符 903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椭圆 904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椭圆 905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直接连接符 906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椭圆 907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直接连接符 908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直接连接符 909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直接连接符 910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直接连接符 911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直接连接符 912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椭圆 913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椭圆 914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直接连接符 915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直接连接符 916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直接连接符 917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1" name="文本框 530" descr=""/>
          <p:cNvPicPr/>
          <p:nvPr/>
        </p:nvPicPr>
        <p:blipFill>
          <a:blip r:embed="rId1"/>
          <a:stretch/>
        </p:blipFill>
        <p:spPr>
          <a:xfrm>
            <a:off x="-1395360" y="-1219320"/>
            <a:ext cx="4278240" cy="5321520"/>
          </a:xfrm>
          <a:prstGeom prst="rect">
            <a:avLst/>
          </a:prstGeom>
          <a:ln w="0">
            <a:noFill/>
          </a:ln>
        </p:spPr>
      </p:pic>
      <p:grpSp>
        <p:nvGrpSpPr>
          <p:cNvPr id="1612" name="组合 2"/>
          <p:cNvGrpSpPr/>
          <p:nvPr/>
        </p:nvGrpSpPr>
        <p:grpSpPr>
          <a:xfrm>
            <a:off x="2887200" y="1469880"/>
            <a:ext cx="6276600" cy="3795120"/>
            <a:chOff x="2887200" y="1469880"/>
            <a:chExt cx="6276600" cy="3795120"/>
          </a:xfrm>
        </p:grpSpPr>
        <p:sp>
          <p:nvSpPr>
            <p:cNvPr id="1613" name="任意多边形 260"/>
            <p:cNvSpPr/>
            <p:nvPr/>
          </p:nvSpPr>
          <p:spPr>
            <a:xfrm>
              <a:off x="5738760" y="3300480"/>
              <a:ext cx="542880" cy="5508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4" name="组合 261"/>
            <p:cNvGrpSpPr/>
            <p:nvPr/>
          </p:nvGrpSpPr>
          <p:grpSpPr>
            <a:xfrm>
              <a:off x="5202720" y="2803320"/>
              <a:ext cx="1624320" cy="1624320"/>
              <a:chOff x="5202720" y="2803320"/>
              <a:chExt cx="1624320" cy="1624320"/>
            </a:xfrm>
          </p:grpSpPr>
          <p:grpSp>
            <p:nvGrpSpPr>
              <p:cNvPr id="1615" name="组合 503"/>
              <p:cNvGrpSpPr/>
              <p:nvPr/>
            </p:nvGrpSpPr>
            <p:grpSpPr>
              <a:xfrm>
                <a:off x="5202720" y="2804040"/>
                <a:ext cx="1623960" cy="1623600"/>
                <a:chOff x="5202720" y="2804040"/>
                <a:chExt cx="1623960" cy="1623600"/>
              </a:xfrm>
            </p:grpSpPr>
            <p:grpSp>
              <p:nvGrpSpPr>
                <p:cNvPr id="1616" name="组合 511"/>
                <p:cNvGrpSpPr/>
                <p:nvPr/>
              </p:nvGrpSpPr>
              <p:grpSpPr>
                <a:xfrm>
                  <a:off x="5203080" y="2804040"/>
                  <a:ext cx="1623600" cy="1623600"/>
                  <a:chOff x="5203080" y="2804040"/>
                  <a:chExt cx="1623600" cy="1623600"/>
                </a:xfrm>
              </p:grpSpPr>
              <p:sp>
                <p:nvSpPr>
                  <p:cNvPr id="1617" name="空心弧 515"/>
                  <p:cNvSpPr/>
                  <p:nvPr/>
                </p:nvSpPr>
                <p:spPr>
                  <a:xfrm rot="208200">
                    <a:off x="5439600" y="3040560"/>
                    <a:ext cx="1150920" cy="11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692" h="3196786">
                        <a:moveTo>
                          <a:pt x="0" y="1598393"/>
                        </a:moveTo>
                        <a:cubicBezTo>
                          <a:pt x="0" y="1203463"/>
                          <a:pt x="146203" y="822516"/>
                          <a:pt x="410421" y="528996"/>
                        </a:cubicBezTo>
                        <a:lnTo>
                          <a:pt x="508708" y="617476"/>
                        </a:lnTo>
                        <a:cubicBezTo>
                          <a:pt x="266352" y="886711"/>
                          <a:pt x="132247" y="1236139"/>
                          <a:pt x="132247" y="1598393"/>
                        </a:cubicBezTo>
                        <a:lnTo>
                          <a:pt x="0" y="15983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空心弧 516"/>
                  <p:cNvSpPr/>
                  <p:nvPr/>
                </p:nvSpPr>
                <p:spPr>
                  <a:xfrm rot="2908800">
                    <a:off x="5439960" y="3040200"/>
                    <a:ext cx="1149480" cy="11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86" h="3196692">
                        <a:moveTo>
                          <a:pt x="0" y="1598346"/>
                        </a:moveTo>
                        <a:cubicBezTo>
                          <a:pt x="0" y="1203412"/>
                          <a:pt x="146219" y="822461"/>
                          <a:pt x="410464" y="528945"/>
                        </a:cubicBezTo>
                        <a:lnTo>
                          <a:pt x="508752" y="617426"/>
                        </a:lnTo>
                        <a:cubicBezTo>
                          <a:pt x="266369" y="886657"/>
                          <a:pt x="132247" y="1236088"/>
                          <a:pt x="132247" y="1598346"/>
                        </a:cubicBezTo>
                        <a:lnTo>
                          <a:pt x="0" y="159834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9" name="组合 512"/>
                <p:cNvGrpSpPr/>
                <p:nvPr/>
              </p:nvGrpSpPr>
              <p:grpSpPr>
                <a:xfrm>
                  <a:off x="5202720" y="2804040"/>
                  <a:ext cx="1623600" cy="1623600"/>
                  <a:chOff x="5202720" y="2804040"/>
                  <a:chExt cx="1623600" cy="1623600"/>
                </a:xfrm>
              </p:grpSpPr>
              <p:sp>
                <p:nvSpPr>
                  <p:cNvPr id="1620" name="空心弧 513"/>
                  <p:cNvSpPr/>
                  <p:nvPr/>
                </p:nvSpPr>
                <p:spPr>
                  <a:xfrm rot="5608800">
                    <a:off x="5439960" y="3040200"/>
                    <a:ext cx="1149480" cy="11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86" h="3196692">
                        <a:moveTo>
                          <a:pt x="0" y="1598346"/>
                        </a:moveTo>
                        <a:cubicBezTo>
                          <a:pt x="0" y="1203412"/>
                          <a:pt x="146219" y="822461"/>
                          <a:pt x="410464" y="528945"/>
                        </a:cubicBezTo>
                        <a:lnTo>
                          <a:pt x="508752" y="617426"/>
                        </a:lnTo>
                        <a:cubicBezTo>
                          <a:pt x="266369" y="886657"/>
                          <a:pt x="132247" y="1236088"/>
                          <a:pt x="132247" y="1598346"/>
                        </a:cubicBezTo>
                        <a:lnTo>
                          <a:pt x="0" y="159834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空心弧 514"/>
                  <p:cNvSpPr/>
                  <p:nvPr/>
                </p:nvSpPr>
                <p:spPr>
                  <a:xfrm rot="8308800">
                    <a:off x="5438880" y="3040920"/>
                    <a:ext cx="1150920" cy="11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692" h="3196786">
                        <a:moveTo>
                          <a:pt x="0" y="1598393"/>
                        </a:moveTo>
                        <a:cubicBezTo>
                          <a:pt x="0" y="1203463"/>
                          <a:pt x="146203" y="822516"/>
                          <a:pt x="410421" y="528996"/>
                        </a:cubicBezTo>
                        <a:lnTo>
                          <a:pt x="508708" y="617476"/>
                        </a:lnTo>
                        <a:cubicBezTo>
                          <a:pt x="266352" y="886711"/>
                          <a:pt x="132247" y="1236139"/>
                          <a:pt x="132247" y="1598393"/>
                        </a:cubicBezTo>
                        <a:lnTo>
                          <a:pt x="0" y="15983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2" name="组合 504"/>
              <p:cNvGrpSpPr/>
              <p:nvPr/>
            </p:nvGrpSpPr>
            <p:grpSpPr>
              <a:xfrm>
                <a:off x="5203080" y="2803320"/>
                <a:ext cx="1623960" cy="1623960"/>
                <a:chOff x="5203080" y="2803320"/>
                <a:chExt cx="1623960" cy="1623960"/>
              </a:xfrm>
            </p:grpSpPr>
            <p:grpSp>
              <p:nvGrpSpPr>
                <p:cNvPr id="1623" name="组合 505"/>
                <p:cNvGrpSpPr/>
                <p:nvPr/>
              </p:nvGrpSpPr>
              <p:grpSpPr>
                <a:xfrm>
                  <a:off x="5203080" y="2803320"/>
                  <a:ext cx="1623960" cy="1623600"/>
                  <a:chOff x="5203080" y="2803320"/>
                  <a:chExt cx="1623960" cy="1623600"/>
                </a:xfrm>
              </p:grpSpPr>
              <p:sp>
                <p:nvSpPr>
                  <p:cNvPr id="1624" name="空心弧 509"/>
                  <p:cNvSpPr/>
                  <p:nvPr/>
                </p:nvSpPr>
                <p:spPr>
                  <a:xfrm rot="11008800">
                    <a:off x="5438880" y="3040560"/>
                    <a:ext cx="1150920" cy="11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692" h="3196786">
                        <a:moveTo>
                          <a:pt x="0" y="1598393"/>
                        </a:moveTo>
                        <a:cubicBezTo>
                          <a:pt x="0" y="1203463"/>
                          <a:pt x="146203" y="822516"/>
                          <a:pt x="410421" y="528996"/>
                        </a:cubicBezTo>
                        <a:lnTo>
                          <a:pt x="508708" y="617476"/>
                        </a:lnTo>
                        <a:cubicBezTo>
                          <a:pt x="266352" y="886711"/>
                          <a:pt x="132247" y="1236139"/>
                          <a:pt x="132247" y="1598393"/>
                        </a:cubicBezTo>
                        <a:lnTo>
                          <a:pt x="0" y="15983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空心弧 510"/>
                  <p:cNvSpPr/>
                  <p:nvPr/>
                </p:nvSpPr>
                <p:spPr>
                  <a:xfrm rot="13708800">
                    <a:off x="5440320" y="3039480"/>
                    <a:ext cx="1149480" cy="11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86" h="3196692">
                        <a:moveTo>
                          <a:pt x="0" y="1598346"/>
                        </a:moveTo>
                        <a:cubicBezTo>
                          <a:pt x="0" y="1203412"/>
                          <a:pt x="146219" y="822461"/>
                          <a:pt x="410464" y="528945"/>
                        </a:cubicBezTo>
                        <a:lnTo>
                          <a:pt x="508752" y="617426"/>
                        </a:lnTo>
                        <a:cubicBezTo>
                          <a:pt x="266369" y="886657"/>
                          <a:pt x="132247" y="1236088"/>
                          <a:pt x="132247" y="1598346"/>
                        </a:cubicBezTo>
                        <a:lnTo>
                          <a:pt x="0" y="159834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组合 506"/>
                <p:cNvGrpSpPr/>
                <p:nvPr/>
              </p:nvGrpSpPr>
              <p:grpSpPr>
                <a:xfrm>
                  <a:off x="5203440" y="2803680"/>
                  <a:ext cx="1623600" cy="1623600"/>
                  <a:chOff x="5203440" y="2803680"/>
                  <a:chExt cx="1623600" cy="1623600"/>
                </a:xfrm>
              </p:grpSpPr>
              <p:sp>
                <p:nvSpPr>
                  <p:cNvPr id="1627" name="空心弧 507"/>
                  <p:cNvSpPr/>
                  <p:nvPr/>
                </p:nvSpPr>
                <p:spPr>
                  <a:xfrm rot="16408800">
                    <a:off x="5439960" y="3039480"/>
                    <a:ext cx="1149480" cy="11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86" h="3196692">
                        <a:moveTo>
                          <a:pt x="0" y="1598346"/>
                        </a:moveTo>
                        <a:cubicBezTo>
                          <a:pt x="0" y="1203412"/>
                          <a:pt x="146219" y="822461"/>
                          <a:pt x="410464" y="528945"/>
                        </a:cubicBezTo>
                        <a:lnTo>
                          <a:pt x="508752" y="617426"/>
                        </a:lnTo>
                        <a:cubicBezTo>
                          <a:pt x="266369" y="886657"/>
                          <a:pt x="132247" y="1236088"/>
                          <a:pt x="132247" y="1598346"/>
                        </a:cubicBezTo>
                        <a:lnTo>
                          <a:pt x="0" y="159834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空心弧 508"/>
                  <p:cNvSpPr/>
                  <p:nvPr/>
                </p:nvSpPr>
                <p:spPr>
                  <a:xfrm rot="19108800">
                    <a:off x="5439600" y="3040560"/>
                    <a:ext cx="1150920" cy="11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692" h="3196786">
                        <a:moveTo>
                          <a:pt x="0" y="1598393"/>
                        </a:moveTo>
                        <a:cubicBezTo>
                          <a:pt x="0" y="1203463"/>
                          <a:pt x="146203" y="822516"/>
                          <a:pt x="410421" y="528996"/>
                        </a:cubicBezTo>
                        <a:lnTo>
                          <a:pt x="508708" y="617476"/>
                        </a:lnTo>
                        <a:cubicBezTo>
                          <a:pt x="266352" y="886711"/>
                          <a:pt x="132247" y="1236139"/>
                          <a:pt x="132247" y="1598393"/>
                        </a:cubicBezTo>
                        <a:lnTo>
                          <a:pt x="0" y="15983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29" name="组合 262"/>
            <p:cNvGrpSpPr/>
            <p:nvPr/>
          </p:nvGrpSpPr>
          <p:grpSpPr>
            <a:xfrm>
              <a:off x="6998400" y="2627280"/>
              <a:ext cx="764640" cy="763920"/>
              <a:chOff x="6998400" y="2627280"/>
              <a:chExt cx="764640" cy="763920"/>
            </a:xfrm>
          </p:grpSpPr>
          <p:grpSp>
            <p:nvGrpSpPr>
              <p:cNvPr id="1630" name="组合 489"/>
              <p:cNvGrpSpPr/>
              <p:nvPr/>
            </p:nvGrpSpPr>
            <p:grpSpPr>
              <a:xfrm>
                <a:off x="6998400" y="2627640"/>
                <a:ext cx="763920" cy="763560"/>
                <a:chOff x="6998400" y="2627640"/>
                <a:chExt cx="763920" cy="763560"/>
              </a:xfrm>
            </p:grpSpPr>
            <p:grpSp>
              <p:nvGrpSpPr>
                <p:cNvPr id="1631" name="组合 497"/>
                <p:cNvGrpSpPr/>
                <p:nvPr/>
              </p:nvGrpSpPr>
              <p:grpSpPr>
                <a:xfrm>
                  <a:off x="6998400" y="2627640"/>
                  <a:ext cx="763920" cy="763560"/>
                  <a:chOff x="6998400" y="2627640"/>
                  <a:chExt cx="763920" cy="763560"/>
                </a:xfrm>
              </p:grpSpPr>
              <p:sp>
                <p:nvSpPr>
                  <p:cNvPr id="1632" name="空心弧 501"/>
                  <p:cNvSpPr/>
                  <p:nvPr/>
                </p:nvSpPr>
                <p:spPr>
                  <a:xfrm rot="208200">
                    <a:off x="7110000" y="2739240"/>
                    <a:ext cx="5418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381" h="3204767">
                        <a:moveTo>
                          <a:pt x="0" y="1602384"/>
                        </a:moveTo>
                        <a:cubicBezTo>
                          <a:pt x="0" y="1207352"/>
                          <a:pt x="145447" y="826241"/>
                          <a:pt x="408417" y="532222"/>
                        </a:cubicBezTo>
                        <a:lnTo>
                          <a:pt x="506634" y="620639"/>
                        </a:lnTo>
                        <a:cubicBezTo>
                          <a:pt x="265511" y="890390"/>
                          <a:pt x="132152" y="1240004"/>
                          <a:pt x="132152" y="1602383"/>
                        </a:cubicBezTo>
                        <a:lnTo>
                          <a:pt x="0" y="16023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空心弧 502"/>
                  <p:cNvSpPr/>
                  <p:nvPr/>
                </p:nvSpPr>
                <p:spPr>
                  <a:xfrm rot="2908800">
                    <a:off x="7110000" y="2738160"/>
                    <a:ext cx="540000" cy="54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767" h="3194381">
                        <a:moveTo>
                          <a:pt x="0" y="1597191"/>
                        </a:moveTo>
                        <a:cubicBezTo>
                          <a:pt x="0" y="1201661"/>
                          <a:pt x="147238" y="820200"/>
                          <a:pt x="413206" y="526665"/>
                        </a:cubicBezTo>
                        <a:lnTo>
                          <a:pt x="511423" y="615082"/>
                        </a:lnTo>
                        <a:cubicBezTo>
                          <a:pt x="267301" y="884349"/>
                          <a:pt x="132152" y="1234313"/>
                          <a:pt x="132152" y="1597190"/>
                        </a:cubicBezTo>
                        <a:lnTo>
                          <a:pt x="0" y="15971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4" name="组合 498"/>
                <p:cNvGrpSpPr/>
                <p:nvPr/>
              </p:nvGrpSpPr>
              <p:grpSpPr>
                <a:xfrm>
                  <a:off x="6998760" y="2627640"/>
                  <a:ext cx="763560" cy="763560"/>
                  <a:chOff x="6998760" y="2627640"/>
                  <a:chExt cx="763560" cy="763560"/>
                </a:xfrm>
              </p:grpSpPr>
              <p:sp>
                <p:nvSpPr>
                  <p:cNvPr id="1635" name="空心弧 499"/>
                  <p:cNvSpPr/>
                  <p:nvPr/>
                </p:nvSpPr>
                <p:spPr>
                  <a:xfrm rot="5608800">
                    <a:off x="7110360" y="2738160"/>
                    <a:ext cx="540000" cy="54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767" h="3194381">
                        <a:moveTo>
                          <a:pt x="0" y="1597191"/>
                        </a:moveTo>
                        <a:cubicBezTo>
                          <a:pt x="0" y="1201661"/>
                          <a:pt x="147238" y="820200"/>
                          <a:pt x="413206" y="526665"/>
                        </a:cubicBezTo>
                        <a:lnTo>
                          <a:pt x="511423" y="615082"/>
                        </a:lnTo>
                        <a:cubicBezTo>
                          <a:pt x="267301" y="884349"/>
                          <a:pt x="132152" y="1234313"/>
                          <a:pt x="132152" y="1597190"/>
                        </a:cubicBezTo>
                        <a:lnTo>
                          <a:pt x="0" y="15971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空心弧 500"/>
                  <p:cNvSpPr/>
                  <p:nvPr/>
                </p:nvSpPr>
                <p:spPr>
                  <a:xfrm rot="8308800">
                    <a:off x="7109280" y="2739240"/>
                    <a:ext cx="5418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381" h="3204767">
                        <a:moveTo>
                          <a:pt x="0" y="1602384"/>
                        </a:moveTo>
                        <a:cubicBezTo>
                          <a:pt x="0" y="1207352"/>
                          <a:pt x="145447" y="826241"/>
                          <a:pt x="408417" y="532222"/>
                        </a:cubicBezTo>
                        <a:lnTo>
                          <a:pt x="506634" y="620639"/>
                        </a:lnTo>
                        <a:cubicBezTo>
                          <a:pt x="265511" y="890390"/>
                          <a:pt x="132152" y="1240004"/>
                          <a:pt x="132152" y="1602383"/>
                        </a:cubicBezTo>
                        <a:lnTo>
                          <a:pt x="0" y="16023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7" name="组合 490"/>
              <p:cNvGrpSpPr/>
              <p:nvPr/>
            </p:nvGrpSpPr>
            <p:grpSpPr>
              <a:xfrm>
                <a:off x="6999120" y="2627280"/>
                <a:ext cx="763920" cy="763560"/>
                <a:chOff x="6999120" y="2627280"/>
                <a:chExt cx="763920" cy="763560"/>
              </a:xfrm>
            </p:grpSpPr>
            <p:grpSp>
              <p:nvGrpSpPr>
                <p:cNvPr id="1638" name="组合 491"/>
                <p:cNvGrpSpPr/>
                <p:nvPr/>
              </p:nvGrpSpPr>
              <p:grpSpPr>
                <a:xfrm>
                  <a:off x="6999480" y="2627280"/>
                  <a:ext cx="763560" cy="763560"/>
                  <a:chOff x="6999480" y="2627280"/>
                  <a:chExt cx="763560" cy="763560"/>
                </a:xfrm>
              </p:grpSpPr>
              <p:sp>
                <p:nvSpPr>
                  <p:cNvPr id="1639" name="空心弧 495"/>
                  <p:cNvSpPr/>
                  <p:nvPr/>
                </p:nvSpPr>
                <p:spPr>
                  <a:xfrm rot="11008800">
                    <a:off x="7109280" y="2738880"/>
                    <a:ext cx="5418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381" h="3204767">
                        <a:moveTo>
                          <a:pt x="0" y="1602384"/>
                        </a:moveTo>
                        <a:cubicBezTo>
                          <a:pt x="0" y="1207352"/>
                          <a:pt x="145447" y="826241"/>
                          <a:pt x="408417" y="532222"/>
                        </a:cubicBezTo>
                        <a:lnTo>
                          <a:pt x="506634" y="620639"/>
                        </a:lnTo>
                        <a:cubicBezTo>
                          <a:pt x="265511" y="890390"/>
                          <a:pt x="132152" y="1240004"/>
                          <a:pt x="132152" y="1602383"/>
                        </a:cubicBezTo>
                        <a:lnTo>
                          <a:pt x="0" y="16023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空心弧 496"/>
                  <p:cNvSpPr/>
                  <p:nvPr/>
                </p:nvSpPr>
                <p:spPr>
                  <a:xfrm rot="13708800">
                    <a:off x="7111080" y="2738160"/>
                    <a:ext cx="540000" cy="54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767" h="3194381">
                        <a:moveTo>
                          <a:pt x="0" y="1597191"/>
                        </a:moveTo>
                        <a:cubicBezTo>
                          <a:pt x="0" y="1201661"/>
                          <a:pt x="147238" y="820200"/>
                          <a:pt x="413206" y="526665"/>
                        </a:cubicBezTo>
                        <a:lnTo>
                          <a:pt x="511423" y="615082"/>
                        </a:lnTo>
                        <a:cubicBezTo>
                          <a:pt x="267301" y="884349"/>
                          <a:pt x="132152" y="1234313"/>
                          <a:pt x="132152" y="1597190"/>
                        </a:cubicBezTo>
                        <a:lnTo>
                          <a:pt x="0" y="15971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组合 492"/>
                <p:cNvGrpSpPr/>
                <p:nvPr/>
              </p:nvGrpSpPr>
              <p:grpSpPr>
                <a:xfrm>
                  <a:off x="6999120" y="2627280"/>
                  <a:ext cx="763560" cy="763560"/>
                  <a:chOff x="6999120" y="2627280"/>
                  <a:chExt cx="763560" cy="763560"/>
                </a:xfrm>
              </p:grpSpPr>
              <p:sp>
                <p:nvSpPr>
                  <p:cNvPr id="1642" name="空心弧 493"/>
                  <p:cNvSpPr/>
                  <p:nvPr/>
                </p:nvSpPr>
                <p:spPr>
                  <a:xfrm rot="16408800">
                    <a:off x="7110720" y="2738160"/>
                    <a:ext cx="540000" cy="54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767" h="3194381">
                        <a:moveTo>
                          <a:pt x="0" y="1597191"/>
                        </a:moveTo>
                        <a:cubicBezTo>
                          <a:pt x="0" y="1201661"/>
                          <a:pt x="147238" y="820200"/>
                          <a:pt x="413206" y="526665"/>
                        </a:cubicBezTo>
                        <a:lnTo>
                          <a:pt x="511423" y="615082"/>
                        </a:lnTo>
                        <a:cubicBezTo>
                          <a:pt x="267301" y="884349"/>
                          <a:pt x="132152" y="1234313"/>
                          <a:pt x="132152" y="1597190"/>
                        </a:cubicBezTo>
                        <a:lnTo>
                          <a:pt x="0" y="15971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空心弧 494"/>
                  <p:cNvSpPr/>
                  <p:nvPr/>
                </p:nvSpPr>
                <p:spPr>
                  <a:xfrm rot="19108800">
                    <a:off x="7110000" y="2738880"/>
                    <a:ext cx="5418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381" h="3204767">
                        <a:moveTo>
                          <a:pt x="0" y="1602384"/>
                        </a:moveTo>
                        <a:cubicBezTo>
                          <a:pt x="0" y="1207352"/>
                          <a:pt x="145447" y="826241"/>
                          <a:pt x="408417" y="532222"/>
                        </a:cubicBezTo>
                        <a:lnTo>
                          <a:pt x="506634" y="620639"/>
                        </a:lnTo>
                        <a:cubicBezTo>
                          <a:pt x="265511" y="890390"/>
                          <a:pt x="132152" y="1240004"/>
                          <a:pt x="132152" y="1602383"/>
                        </a:cubicBezTo>
                        <a:lnTo>
                          <a:pt x="0" y="16023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44" name="组合 263"/>
            <p:cNvGrpSpPr/>
            <p:nvPr/>
          </p:nvGrpSpPr>
          <p:grpSpPr>
            <a:xfrm>
              <a:off x="3334320" y="1575000"/>
              <a:ext cx="1217520" cy="1218240"/>
              <a:chOff x="3334320" y="1575000"/>
              <a:chExt cx="1217520" cy="1218240"/>
            </a:xfrm>
          </p:grpSpPr>
          <p:grpSp>
            <p:nvGrpSpPr>
              <p:cNvPr id="1645" name="组合 475"/>
              <p:cNvGrpSpPr/>
              <p:nvPr/>
            </p:nvGrpSpPr>
            <p:grpSpPr>
              <a:xfrm>
                <a:off x="3334320" y="1575360"/>
                <a:ext cx="1217520" cy="1217880"/>
                <a:chOff x="3334320" y="1575360"/>
                <a:chExt cx="1217520" cy="1217880"/>
              </a:xfrm>
            </p:grpSpPr>
            <p:grpSp>
              <p:nvGrpSpPr>
                <p:cNvPr id="1646" name="组合 483"/>
                <p:cNvGrpSpPr/>
                <p:nvPr/>
              </p:nvGrpSpPr>
              <p:grpSpPr>
                <a:xfrm>
                  <a:off x="3334320" y="1575360"/>
                  <a:ext cx="1217520" cy="1217520"/>
                  <a:chOff x="3334320" y="1575360"/>
                  <a:chExt cx="1217520" cy="1217520"/>
                </a:xfrm>
              </p:grpSpPr>
              <p:sp>
                <p:nvSpPr>
                  <p:cNvPr id="1647" name="空心弧 487"/>
                  <p:cNvSpPr/>
                  <p:nvPr/>
                </p:nvSpPr>
                <p:spPr>
                  <a:xfrm rot="208200">
                    <a:off x="3512160" y="1752840"/>
                    <a:ext cx="862200" cy="86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37" h="3200928">
                        <a:moveTo>
                          <a:pt x="0" y="1600464"/>
                        </a:moveTo>
                        <a:cubicBezTo>
                          <a:pt x="0" y="1204954"/>
                          <a:pt x="146480" y="823451"/>
                          <a:pt x="411190" y="529532"/>
                        </a:cubicBezTo>
                        <a:lnTo>
                          <a:pt x="509607" y="618131"/>
                        </a:lnTo>
                        <a:cubicBezTo>
                          <a:pt x="266789" y="887732"/>
                          <a:pt x="132422" y="1237674"/>
                          <a:pt x="132422" y="1600464"/>
                        </a:cubicBezTo>
                        <a:lnTo>
                          <a:pt x="0" y="16004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空心弧 488"/>
                  <p:cNvSpPr/>
                  <p:nvPr/>
                </p:nvSpPr>
                <p:spPr>
                  <a:xfrm rot="2908800">
                    <a:off x="3511440" y="1752840"/>
                    <a:ext cx="86256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928" h="3201637">
                        <a:moveTo>
                          <a:pt x="0" y="1600819"/>
                        </a:moveTo>
                        <a:cubicBezTo>
                          <a:pt x="0" y="1205343"/>
                          <a:pt x="146357" y="823864"/>
                          <a:pt x="410862" y="529912"/>
                        </a:cubicBezTo>
                        <a:lnTo>
                          <a:pt x="509280" y="618510"/>
                        </a:lnTo>
                        <a:cubicBezTo>
                          <a:pt x="266666" y="888144"/>
                          <a:pt x="132422" y="1238062"/>
                          <a:pt x="132422" y="1600819"/>
                        </a:cubicBezTo>
                        <a:lnTo>
                          <a:pt x="0" y="160081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组合 484"/>
                <p:cNvGrpSpPr/>
                <p:nvPr/>
              </p:nvGrpSpPr>
              <p:grpSpPr>
                <a:xfrm>
                  <a:off x="3334680" y="1575720"/>
                  <a:ext cx="1217160" cy="1217520"/>
                  <a:chOff x="3334680" y="1575720"/>
                  <a:chExt cx="1217160" cy="1217520"/>
                </a:xfrm>
              </p:grpSpPr>
              <p:sp>
                <p:nvSpPr>
                  <p:cNvPr id="1650" name="空心弧 485"/>
                  <p:cNvSpPr/>
                  <p:nvPr/>
                </p:nvSpPr>
                <p:spPr>
                  <a:xfrm rot="5608800">
                    <a:off x="3511440" y="1752840"/>
                    <a:ext cx="86256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928" h="3201637">
                        <a:moveTo>
                          <a:pt x="0" y="1600819"/>
                        </a:moveTo>
                        <a:cubicBezTo>
                          <a:pt x="0" y="1205343"/>
                          <a:pt x="146357" y="823864"/>
                          <a:pt x="410862" y="529912"/>
                        </a:cubicBezTo>
                        <a:lnTo>
                          <a:pt x="509280" y="618510"/>
                        </a:lnTo>
                        <a:cubicBezTo>
                          <a:pt x="266666" y="888144"/>
                          <a:pt x="132422" y="1238062"/>
                          <a:pt x="132422" y="1600819"/>
                        </a:cubicBezTo>
                        <a:lnTo>
                          <a:pt x="0" y="160081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空心弧 486"/>
                  <p:cNvSpPr/>
                  <p:nvPr/>
                </p:nvSpPr>
                <p:spPr>
                  <a:xfrm rot="8308800">
                    <a:off x="3511800" y="1753200"/>
                    <a:ext cx="862200" cy="86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37" h="3200928">
                        <a:moveTo>
                          <a:pt x="0" y="1600464"/>
                        </a:moveTo>
                        <a:cubicBezTo>
                          <a:pt x="0" y="1204954"/>
                          <a:pt x="146480" y="823451"/>
                          <a:pt x="411190" y="529532"/>
                        </a:cubicBezTo>
                        <a:lnTo>
                          <a:pt x="509607" y="618131"/>
                        </a:lnTo>
                        <a:cubicBezTo>
                          <a:pt x="266789" y="887732"/>
                          <a:pt x="132422" y="1237674"/>
                          <a:pt x="132422" y="1600464"/>
                        </a:cubicBezTo>
                        <a:lnTo>
                          <a:pt x="0" y="16004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52" name="组合 476"/>
              <p:cNvGrpSpPr/>
              <p:nvPr/>
            </p:nvGrpSpPr>
            <p:grpSpPr>
              <a:xfrm>
                <a:off x="3334320" y="1575000"/>
                <a:ext cx="1217520" cy="1217880"/>
                <a:chOff x="3334320" y="1575000"/>
                <a:chExt cx="1217520" cy="1217880"/>
              </a:xfrm>
            </p:grpSpPr>
            <p:grpSp>
              <p:nvGrpSpPr>
                <p:cNvPr id="1653" name="组合 477"/>
                <p:cNvGrpSpPr/>
                <p:nvPr/>
              </p:nvGrpSpPr>
              <p:grpSpPr>
                <a:xfrm>
                  <a:off x="3334680" y="1575360"/>
                  <a:ext cx="1217160" cy="1217520"/>
                  <a:chOff x="3334680" y="1575360"/>
                  <a:chExt cx="1217160" cy="1217520"/>
                </a:xfrm>
              </p:grpSpPr>
              <p:sp>
                <p:nvSpPr>
                  <p:cNvPr id="1654" name="空心弧 481"/>
                  <p:cNvSpPr/>
                  <p:nvPr/>
                </p:nvSpPr>
                <p:spPr>
                  <a:xfrm rot="11008800">
                    <a:off x="3511440" y="1752480"/>
                    <a:ext cx="862200" cy="86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37" h="3200928">
                        <a:moveTo>
                          <a:pt x="0" y="1600464"/>
                        </a:moveTo>
                        <a:cubicBezTo>
                          <a:pt x="0" y="1204954"/>
                          <a:pt x="146480" y="823451"/>
                          <a:pt x="411190" y="529532"/>
                        </a:cubicBezTo>
                        <a:lnTo>
                          <a:pt x="509607" y="618131"/>
                        </a:lnTo>
                        <a:cubicBezTo>
                          <a:pt x="266789" y="887732"/>
                          <a:pt x="132422" y="1237674"/>
                          <a:pt x="132422" y="1600464"/>
                        </a:cubicBezTo>
                        <a:lnTo>
                          <a:pt x="0" y="16004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空心弧 482"/>
                  <p:cNvSpPr/>
                  <p:nvPr/>
                </p:nvSpPr>
                <p:spPr>
                  <a:xfrm rot="13708800">
                    <a:off x="3511800" y="1752840"/>
                    <a:ext cx="86256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928" h="3201637">
                        <a:moveTo>
                          <a:pt x="0" y="1600819"/>
                        </a:moveTo>
                        <a:cubicBezTo>
                          <a:pt x="0" y="1205343"/>
                          <a:pt x="146357" y="823864"/>
                          <a:pt x="410862" y="529912"/>
                        </a:cubicBezTo>
                        <a:lnTo>
                          <a:pt x="509280" y="618510"/>
                        </a:lnTo>
                        <a:cubicBezTo>
                          <a:pt x="266666" y="888144"/>
                          <a:pt x="132422" y="1238062"/>
                          <a:pt x="132422" y="1600819"/>
                        </a:cubicBezTo>
                        <a:lnTo>
                          <a:pt x="0" y="160081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组合 478"/>
                <p:cNvGrpSpPr/>
                <p:nvPr/>
              </p:nvGrpSpPr>
              <p:grpSpPr>
                <a:xfrm>
                  <a:off x="3334320" y="1575000"/>
                  <a:ext cx="1217160" cy="1217520"/>
                  <a:chOff x="3334320" y="1575000"/>
                  <a:chExt cx="1217160" cy="1217520"/>
                </a:xfrm>
              </p:grpSpPr>
              <p:sp>
                <p:nvSpPr>
                  <p:cNvPr id="1657" name="空心弧 479"/>
                  <p:cNvSpPr/>
                  <p:nvPr/>
                </p:nvSpPr>
                <p:spPr>
                  <a:xfrm rot="16408800">
                    <a:off x="3512160" y="1752840"/>
                    <a:ext cx="862560" cy="86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928" h="3201637">
                        <a:moveTo>
                          <a:pt x="0" y="1600819"/>
                        </a:moveTo>
                        <a:cubicBezTo>
                          <a:pt x="0" y="1205343"/>
                          <a:pt x="146357" y="823864"/>
                          <a:pt x="410862" y="529912"/>
                        </a:cubicBezTo>
                        <a:lnTo>
                          <a:pt x="509280" y="618510"/>
                        </a:lnTo>
                        <a:cubicBezTo>
                          <a:pt x="266666" y="888144"/>
                          <a:pt x="132422" y="1238062"/>
                          <a:pt x="132422" y="1600819"/>
                        </a:cubicBezTo>
                        <a:lnTo>
                          <a:pt x="0" y="160081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空心弧 480"/>
                  <p:cNvSpPr/>
                  <p:nvPr/>
                </p:nvSpPr>
                <p:spPr>
                  <a:xfrm rot="19108800">
                    <a:off x="3511800" y="1752480"/>
                    <a:ext cx="862200" cy="86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37" h="3200928">
                        <a:moveTo>
                          <a:pt x="0" y="1600464"/>
                        </a:moveTo>
                        <a:cubicBezTo>
                          <a:pt x="0" y="1204954"/>
                          <a:pt x="146480" y="823451"/>
                          <a:pt x="411190" y="529532"/>
                        </a:cubicBezTo>
                        <a:lnTo>
                          <a:pt x="509607" y="618131"/>
                        </a:lnTo>
                        <a:cubicBezTo>
                          <a:pt x="266789" y="887732"/>
                          <a:pt x="132422" y="1237674"/>
                          <a:pt x="132422" y="1600464"/>
                        </a:cubicBezTo>
                        <a:lnTo>
                          <a:pt x="0" y="16004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9" name="组合 264"/>
            <p:cNvGrpSpPr/>
            <p:nvPr/>
          </p:nvGrpSpPr>
          <p:grpSpPr>
            <a:xfrm>
              <a:off x="4046760" y="3483720"/>
              <a:ext cx="691200" cy="691200"/>
              <a:chOff x="4046760" y="3483720"/>
              <a:chExt cx="691200" cy="691200"/>
            </a:xfrm>
          </p:grpSpPr>
          <p:grpSp>
            <p:nvGrpSpPr>
              <p:cNvPr id="1660" name="组合 461"/>
              <p:cNvGrpSpPr/>
              <p:nvPr/>
            </p:nvGrpSpPr>
            <p:grpSpPr>
              <a:xfrm>
                <a:off x="4046760" y="3484080"/>
                <a:ext cx="690840" cy="690840"/>
                <a:chOff x="4046760" y="3484080"/>
                <a:chExt cx="690840" cy="690840"/>
              </a:xfrm>
            </p:grpSpPr>
            <p:grpSp>
              <p:nvGrpSpPr>
                <p:cNvPr id="1661" name="组合 469"/>
                <p:cNvGrpSpPr/>
                <p:nvPr/>
              </p:nvGrpSpPr>
              <p:grpSpPr>
                <a:xfrm>
                  <a:off x="4047120" y="3484440"/>
                  <a:ext cx="690480" cy="690480"/>
                  <a:chOff x="4047120" y="3484440"/>
                  <a:chExt cx="690480" cy="690480"/>
                </a:xfrm>
              </p:grpSpPr>
              <p:sp>
                <p:nvSpPr>
                  <p:cNvPr id="1662" name="空心弧 473"/>
                  <p:cNvSpPr/>
                  <p:nvPr/>
                </p:nvSpPr>
                <p:spPr>
                  <a:xfrm rot="208200">
                    <a:off x="414756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781" h="3204457">
                        <a:moveTo>
                          <a:pt x="0" y="1602229"/>
                        </a:moveTo>
                        <a:cubicBezTo>
                          <a:pt x="0" y="1207174"/>
                          <a:pt x="145510" y="826046"/>
                          <a:pt x="408586" y="532039"/>
                        </a:cubicBezTo>
                        <a:lnTo>
                          <a:pt x="506815" y="620467"/>
                        </a:lnTo>
                        <a:cubicBezTo>
                          <a:pt x="265589" y="890202"/>
                          <a:pt x="132168" y="1239830"/>
                          <a:pt x="132168" y="1602228"/>
                        </a:cubicBezTo>
                        <a:lnTo>
                          <a:pt x="0" y="1602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空心弧 474"/>
                  <p:cNvSpPr/>
                  <p:nvPr/>
                </p:nvSpPr>
                <p:spPr>
                  <a:xfrm rot="2908800">
                    <a:off x="4147560" y="358488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457" h="3194781">
                        <a:moveTo>
                          <a:pt x="0" y="1597391"/>
                        </a:moveTo>
                        <a:cubicBezTo>
                          <a:pt x="0" y="1201873"/>
                          <a:pt x="147178" y="820418"/>
                          <a:pt x="413047" y="526862"/>
                        </a:cubicBezTo>
                        <a:lnTo>
                          <a:pt x="511276" y="615290"/>
                        </a:lnTo>
                        <a:cubicBezTo>
                          <a:pt x="267256" y="884575"/>
                          <a:pt x="132168" y="1234528"/>
                          <a:pt x="132168" y="1597390"/>
                        </a:cubicBezTo>
                        <a:lnTo>
                          <a:pt x="0" y="15973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4" name="组合 470"/>
                <p:cNvGrpSpPr/>
                <p:nvPr/>
              </p:nvGrpSpPr>
              <p:grpSpPr>
                <a:xfrm>
                  <a:off x="4046760" y="3484080"/>
                  <a:ext cx="690480" cy="690480"/>
                  <a:chOff x="4046760" y="3484080"/>
                  <a:chExt cx="690480" cy="690480"/>
                </a:xfrm>
              </p:grpSpPr>
              <p:sp>
                <p:nvSpPr>
                  <p:cNvPr id="1665" name="空心弧 471"/>
                  <p:cNvSpPr/>
                  <p:nvPr/>
                </p:nvSpPr>
                <p:spPr>
                  <a:xfrm rot="5608800">
                    <a:off x="414756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457" h="3194781">
                        <a:moveTo>
                          <a:pt x="0" y="1597391"/>
                        </a:moveTo>
                        <a:cubicBezTo>
                          <a:pt x="0" y="1201873"/>
                          <a:pt x="147178" y="820418"/>
                          <a:pt x="413047" y="526862"/>
                        </a:cubicBezTo>
                        <a:lnTo>
                          <a:pt x="511276" y="615290"/>
                        </a:lnTo>
                        <a:cubicBezTo>
                          <a:pt x="267256" y="884575"/>
                          <a:pt x="132168" y="1234528"/>
                          <a:pt x="132168" y="1597390"/>
                        </a:cubicBezTo>
                        <a:lnTo>
                          <a:pt x="0" y="15973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空心弧 472"/>
                  <p:cNvSpPr/>
                  <p:nvPr/>
                </p:nvSpPr>
                <p:spPr>
                  <a:xfrm rot="8308800">
                    <a:off x="414720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781" h="3204457">
                        <a:moveTo>
                          <a:pt x="0" y="1602229"/>
                        </a:moveTo>
                        <a:cubicBezTo>
                          <a:pt x="0" y="1207174"/>
                          <a:pt x="145510" y="826046"/>
                          <a:pt x="408586" y="532039"/>
                        </a:cubicBezTo>
                        <a:lnTo>
                          <a:pt x="506815" y="620467"/>
                        </a:lnTo>
                        <a:cubicBezTo>
                          <a:pt x="265589" y="890202"/>
                          <a:pt x="132168" y="1239830"/>
                          <a:pt x="132168" y="1602228"/>
                        </a:cubicBezTo>
                        <a:lnTo>
                          <a:pt x="0" y="1602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7" name="组合 462"/>
              <p:cNvGrpSpPr/>
              <p:nvPr/>
            </p:nvGrpSpPr>
            <p:grpSpPr>
              <a:xfrm>
                <a:off x="4047120" y="3483720"/>
                <a:ext cx="690840" cy="691200"/>
                <a:chOff x="4047120" y="3483720"/>
                <a:chExt cx="690840" cy="691200"/>
              </a:xfrm>
            </p:grpSpPr>
            <p:grpSp>
              <p:nvGrpSpPr>
                <p:cNvPr id="1668" name="组合 463"/>
                <p:cNvGrpSpPr/>
                <p:nvPr/>
              </p:nvGrpSpPr>
              <p:grpSpPr>
                <a:xfrm>
                  <a:off x="4047120" y="3483720"/>
                  <a:ext cx="690840" cy="690480"/>
                  <a:chOff x="4047120" y="3483720"/>
                  <a:chExt cx="690840" cy="690480"/>
                </a:xfrm>
              </p:grpSpPr>
              <p:sp>
                <p:nvSpPr>
                  <p:cNvPr id="1669" name="空心弧 467"/>
                  <p:cNvSpPr/>
                  <p:nvPr/>
                </p:nvSpPr>
                <p:spPr>
                  <a:xfrm rot="11008800">
                    <a:off x="414756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781" h="3204457">
                        <a:moveTo>
                          <a:pt x="0" y="1602229"/>
                        </a:moveTo>
                        <a:cubicBezTo>
                          <a:pt x="0" y="1207174"/>
                          <a:pt x="145510" y="826046"/>
                          <a:pt x="408586" y="532039"/>
                        </a:cubicBezTo>
                        <a:lnTo>
                          <a:pt x="506815" y="620467"/>
                        </a:lnTo>
                        <a:cubicBezTo>
                          <a:pt x="265589" y="890202"/>
                          <a:pt x="132168" y="1239830"/>
                          <a:pt x="132168" y="1602228"/>
                        </a:cubicBezTo>
                        <a:lnTo>
                          <a:pt x="0" y="1602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空心弧 468"/>
                  <p:cNvSpPr/>
                  <p:nvPr/>
                </p:nvSpPr>
                <p:spPr>
                  <a:xfrm rot="13708800">
                    <a:off x="4147560" y="358416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457" h="3194781">
                        <a:moveTo>
                          <a:pt x="0" y="1597391"/>
                        </a:moveTo>
                        <a:cubicBezTo>
                          <a:pt x="0" y="1201873"/>
                          <a:pt x="147178" y="820418"/>
                          <a:pt x="413047" y="526862"/>
                        </a:cubicBezTo>
                        <a:lnTo>
                          <a:pt x="511276" y="615290"/>
                        </a:lnTo>
                        <a:cubicBezTo>
                          <a:pt x="267256" y="884575"/>
                          <a:pt x="132168" y="1234528"/>
                          <a:pt x="132168" y="1597390"/>
                        </a:cubicBezTo>
                        <a:lnTo>
                          <a:pt x="0" y="15973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1" name="组合 464"/>
                <p:cNvGrpSpPr/>
                <p:nvPr/>
              </p:nvGrpSpPr>
              <p:grpSpPr>
                <a:xfrm>
                  <a:off x="4047480" y="3484080"/>
                  <a:ext cx="690480" cy="690840"/>
                  <a:chOff x="4047480" y="3484080"/>
                  <a:chExt cx="690480" cy="690840"/>
                </a:xfrm>
              </p:grpSpPr>
              <p:sp>
                <p:nvSpPr>
                  <p:cNvPr id="1672" name="空心弧 465"/>
                  <p:cNvSpPr/>
                  <p:nvPr/>
                </p:nvSpPr>
                <p:spPr>
                  <a:xfrm rot="16408800">
                    <a:off x="414756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4457" h="3194781">
                        <a:moveTo>
                          <a:pt x="0" y="1597391"/>
                        </a:moveTo>
                        <a:cubicBezTo>
                          <a:pt x="0" y="1201873"/>
                          <a:pt x="147178" y="820418"/>
                          <a:pt x="413047" y="526862"/>
                        </a:cubicBezTo>
                        <a:lnTo>
                          <a:pt x="511276" y="615290"/>
                        </a:lnTo>
                        <a:cubicBezTo>
                          <a:pt x="267256" y="884575"/>
                          <a:pt x="132168" y="1234528"/>
                          <a:pt x="132168" y="1597390"/>
                        </a:cubicBezTo>
                        <a:lnTo>
                          <a:pt x="0" y="1597391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空心弧 466"/>
                  <p:cNvSpPr/>
                  <p:nvPr/>
                </p:nvSpPr>
                <p:spPr>
                  <a:xfrm rot="19108800">
                    <a:off x="4147920" y="3584520"/>
                    <a:ext cx="48924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781" h="3204457">
                        <a:moveTo>
                          <a:pt x="0" y="1602229"/>
                        </a:moveTo>
                        <a:cubicBezTo>
                          <a:pt x="0" y="1207174"/>
                          <a:pt x="145510" y="826046"/>
                          <a:pt x="408586" y="532039"/>
                        </a:cubicBezTo>
                        <a:lnTo>
                          <a:pt x="506815" y="620467"/>
                        </a:lnTo>
                        <a:cubicBezTo>
                          <a:pt x="265589" y="890202"/>
                          <a:pt x="132168" y="1239830"/>
                          <a:pt x="132168" y="1602228"/>
                        </a:cubicBezTo>
                        <a:lnTo>
                          <a:pt x="0" y="1602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4" name="组合 265"/>
            <p:cNvGrpSpPr/>
            <p:nvPr/>
          </p:nvGrpSpPr>
          <p:grpSpPr>
            <a:xfrm>
              <a:off x="6531840" y="4143240"/>
              <a:ext cx="995040" cy="995040"/>
              <a:chOff x="6531840" y="4143240"/>
              <a:chExt cx="995040" cy="995040"/>
            </a:xfrm>
          </p:grpSpPr>
          <p:grpSp>
            <p:nvGrpSpPr>
              <p:cNvPr id="1675" name="组合 447"/>
              <p:cNvGrpSpPr/>
              <p:nvPr/>
            </p:nvGrpSpPr>
            <p:grpSpPr>
              <a:xfrm>
                <a:off x="6531840" y="4143240"/>
                <a:ext cx="995040" cy="995040"/>
                <a:chOff x="6531840" y="4143240"/>
                <a:chExt cx="995040" cy="995040"/>
              </a:xfrm>
            </p:grpSpPr>
            <p:grpSp>
              <p:nvGrpSpPr>
                <p:cNvPr id="1676" name="组合 455"/>
                <p:cNvGrpSpPr/>
                <p:nvPr/>
              </p:nvGrpSpPr>
              <p:grpSpPr>
                <a:xfrm>
                  <a:off x="6531840" y="4143240"/>
                  <a:ext cx="995040" cy="995040"/>
                  <a:chOff x="6531840" y="4143240"/>
                  <a:chExt cx="995040" cy="995040"/>
                </a:xfrm>
              </p:grpSpPr>
              <p:sp>
                <p:nvSpPr>
                  <p:cNvPr id="1677" name="空心弧 459"/>
                  <p:cNvSpPr/>
                  <p:nvPr/>
                </p:nvSpPr>
                <p:spPr>
                  <a:xfrm rot="208200">
                    <a:off x="6676560" y="428832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880" h="3196173">
                        <a:moveTo>
                          <a:pt x="0" y="1598087"/>
                        </a:moveTo>
                        <a:cubicBezTo>
                          <a:pt x="0" y="1203164"/>
                          <a:pt x="146262" y="822229"/>
                          <a:pt x="410578" y="528746"/>
                        </a:cubicBezTo>
                        <a:lnTo>
                          <a:pt x="508850" y="617213"/>
                        </a:lnTo>
                        <a:cubicBezTo>
                          <a:pt x="266393" y="886414"/>
                          <a:pt x="132226" y="1235835"/>
                          <a:pt x="132226" y="1598087"/>
                        </a:cubicBezTo>
                        <a:lnTo>
                          <a:pt x="0" y="15980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空心弧 460"/>
                  <p:cNvSpPr/>
                  <p:nvPr/>
                </p:nvSpPr>
                <p:spPr>
                  <a:xfrm rot="2908800">
                    <a:off x="6676920" y="428796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73" h="3196880">
                        <a:moveTo>
                          <a:pt x="0" y="1598440"/>
                        </a:moveTo>
                        <a:cubicBezTo>
                          <a:pt x="0" y="1203551"/>
                          <a:pt x="146140" y="822639"/>
                          <a:pt x="410253" y="529124"/>
                        </a:cubicBezTo>
                        <a:lnTo>
                          <a:pt x="508524" y="617591"/>
                        </a:lnTo>
                        <a:cubicBezTo>
                          <a:pt x="266270" y="886825"/>
                          <a:pt x="132226" y="1236222"/>
                          <a:pt x="132226" y="1598440"/>
                        </a:cubicBezTo>
                        <a:lnTo>
                          <a:pt x="0" y="15984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组合 456"/>
                <p:cNvGrpSpPr/>
                <p:nvPr/>
              </p:nvGrpSpPr>
              <p:grpSpPr>
                <a:xfrm>
                  <a:off x="6531840" y="4143240"/>
                  <a:ext cx="995040" cy="995040"/>
                  <a:chOff x="6531840" y="4143240"/>
                  <a:chExt cx="995040" cy="995040"/>
                </a:xfrm>
              </p:grpSpPr>
              <p:sp>
                <p:nvSpPr>
                  <p:cNvPr id="1680" name="空心弧 457"/>
                  <p:cNvSpPr/>
                  <p:nvPr/>
                </p:nvSpPr>
                <p:spPr>
                  <a:xfrm rot="5608800">
                    <a:off x="6676560" y="428796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73" h="3196880">
                        <a:moveTo>
                          <a:pt x="0" y="1598440"/>
                        </a:moveTo>
                        <a:cubicBezTo>
                          <a:pt x="0" y="1203551"/>
                          <a:pt x="146140" y="822639"/>
                          <a:pt x="410253" y="529124"/>
                        </a:cubicBezTo>
                        <a:lnTo>
                          <a:pt x="508524" y="617591"/>
                        </a:lnTo>
                        <a:cubicBezTo>
                          <a:pt x="266270" y="886825"/>
                          <a:pt x="132226" y="1236222"/>
                          <a:pt x="132226" y="1598440"/>
                        </a:cubicBezTo>
                        <a:lnTo>
                          <a:pt x="0" y="15984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空心弧 458"/>
                  <p:cNvSpPr/>
                  <p:nvPr/>
                </p:nvSpPr>
                <p:spPr>
                  <a:xfrm rot="8308800">
                    <a:off x="6676920" y="428832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880" h="3196173">
                        <a:moveTo>
                          <a:pt x="0" y="1598087"/>
                        </a:moveTo>
                        <a:cubicBezTo>
                          <a:pt x="0" y="1203164"/>
                          <a:pt x="146262" y="822229"/>
                          <a:pt x="410578" y="528746"/>
                        </a:cubicBezTo>
                        <a:lnTo>
                          <a:pt x="508850" y="617213"/>
                        </a:lnTo>
                        <a:cubicBezTo>
                          <a:pt x="266393" y="886414"/>
                          <a:pt x="132226" y="1235835"/>
                          <a:pt x="132226" y="1598087"/>
                        </a:cubicBezTo>
                        <a:lnTo>
                          <a:pt x="0" y="15980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2" name="组合 448"/>
              <p:cNvGrpSpPr/>
              <p:nvPr/>
            </p:nvGrpSpPr>
            <p:grpSpPr>
              <a:xfrm>
                <a:off x="6531840" y="4143240"/>
                <a:ext cx="995040" cy="995040"/>
                <a:chOff x="6531840" y="4143240"/>
                <a:chExt cx="995040" cy="995040"/>
              </a:xfrm>
            </p:grpSpPr>
            <p:grpSp>
              <p:nvGrpSpPr>
                <p:cNvPr id="1683" name="组合 449"/>
                <p:cNvGrpSpPr/>
                <p:nvPr/>
              </p:nvGrpSpPr>
              <p:grpSpPr>
                <a:xfrm>
                  <a:off x="6531840" y="4143240"/>
                  <a:ext cx="995040" cy="995040"/>
                  <a:chOff x="6531840" y="4143240"/>
                  <a:chExt cx="995040" cy="995040"/>
                </a:xfrm>
              </p:grpSpPr>
              <p:sp>
                <p:nvSpPr>
                  <p:cNvPr id="1684" name="空心弧 453"/>
                  <p:cNvSpPr/>
                  <p:nvPr/>
                </p:nvSpPr>
                <p:spPr>
                  <a:xfrm rot="11008800">
                    <a:off x="6676920" y="428796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880" h="3196173">
                        <a:moveTo>
                          <a:pt x="0" y="1598087"/>
                        </a:moveTo>
                        <a:cubicBezTo>
                          <a:pt x="0" y="1203164"/>
                          <a:pt x="146262" y="822229"/>
                          <a:pt x="410578" y="528746"/>
                        </a:cubicBezTo>
                        <a:lnTo>
                          <a:pt x="508850" y="617213"/>
                        </a:lnTo>
                        <a:cubicBezTo>
                          <a:pt x="266393" y="886414"/>
                          <a:pt x="132226" y="1235835"/>
                          <a:pt x="132226" y="1598087"/>
                        </a:cubicBezTo>
                        <a:lnTo>
                          <a:pt x="0" y="15980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空心弧 454"/>
                  <p:cNvSpPr/>
                  <p:nvPr/>
                </p:nvSpPr>
                <p:spPr>
                  <a:xfrm rot="13708800">
                    <a:off x="6676920" y="428832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73" h="3196880">
                        <a:moveTo>
                          <a:pt x="0" y="1598440"/>
                        </a:moveTo>
                        <a:cubicBezTo>
                          <a:pt x="0" y="1203551"/>
                          <a:pt x="146140" y="822639"/>
                          <a:pt x="410253" y="529124"/>
                        </a:cubicBezTo>
                        <a:lnTo>
                          <a:pt x="508524" y="617591"/>
                        </a:lnTo>
                        <a:cubicBezTo>
                          <a:pt x="266270" y="886825"/>
                          <a:pt x="132226" y="1236222"/>
                          <a:pt x="132226" y="1598440"/>
                        </a:cubicBezTo>
                        <a:lnTo>
                          <a:pt x="0" y="15984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6" name="组合 450"/>
                <p:cNvGrpSpPr/>
                <p:nvPr/>
              </p:nvGrpSpPr>
              <p:grpSpPr>
                <a:xfrm>
                  <a:off x="6531840" y="4143240"/>
                  <a:ext cx="995040" cy="995040"/>
                  <a:chOff x="6531840" y="4143240"/>
                  <a:chExt cx="995040" cy="995040"/>
                </a:xfrm>
              </p:grpSpPr>
              <p:sp>
                <p:nvSpPr>
                  <p:cNvPr id="1687" name="空心弧 451"/>
                  <p:cNvSpPr/>
                  <p:nvPr/>
                </p:nvSpPr>
                <p:spPr>
                  <a:xfrm rot="16408800">
                    <a:off x="6676920" y="428832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173" h="3196880">
                        <a:moveTo>
                          <a:pt x="0" y="1598440"/>
                        </a:moveTo>
                        <a:cubicBezTo>
                          <a:pt x="0" y="1203551"/>
                          <a:pt x="146140" y="822639"/>
                          <a:pt x="410253" y="529124"/>
                        </a:cubicBezTo>
                        <a:lnTo>
                          <a:pt x="508524" y="617591"/>
                        </a:lnTo>
                        <a:cubicBezTo>
                          <a:pt x="266270" y="886825"/>
                          <a:pt x="132226" y="1236222"/>
                          <a:pt x="132226" y="1598440"/>
                        </a:cubicBezTo>
                        <a:lnTo>
                          <a:pt x="0" y="15984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空心弧 452"/>
                  <p:cNvSpPr/>
                  <p:nvPr/>
                </p:nvSpPr>
                <p:spPr>
                  <a:xfrm rot="19108800">
                    <a:off x="6676560" y="4288320"/>
                    <a:ext cx="70488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880" h="3196173">
                        <a:moveTo>
                          <a:pt x="0" y="1598087"/>
                        </a:moveTo>
                        <a:cubicBezTo>
                          <a:pt x="0" y="1203164"/>
                          <a:pt x="146262" y="822229"/>
                          <a:pt x="410578" y="528746"/>
                        </a:cubicBezTo>
                        <a:lnTo>
                          <a:pt x="508850" y="617213"/>
                        </a:lnTo>
                        <a:cubicBezTo>
                          <a:pt x="266393" y="886414"/>
                          <a:pt x="132226" y="1235835"/>
                          <a:pt x="132226" y="1598087"/>
                        </a:cubicBezTo>
                        <a:lnTo>
                          <a:pt x="0" y="15980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89" name="组合 266"/>
            <p:cNvGrpSpPr/>
            <p:nvPr/>
          </p:nvGrpSpPr>
          <p:grpSpPr>
            <a:xfrm>
              <a:off x="7618320" y="3761280"/>
              <a:ext cx="680400" cy="680400"/>
              <a:chOff x="7618320" y="3761280"/>
              <a:chExt cx="680400" cy="680400"/>
            </a:xfrm>
          </p:grpSpPr>
          <p:grpSp>
            <p:nvGrpSpPr>
              <p:cNvPr id="1690" name="组合 433"/>
              <p:cNvGrpSpPr/>
              <p:nvPr/>
            </p:nvGrpSpPr>
            <p:grpSpPr>
              <a:xfrm>
                <a:off x="7618320" y="3761280"/>
                <a:ext cx="680040" cy="680400"/>
                <a:chOff x="7618320" y="3761280"/>
                <a:chExt cx="680040" cy="680400"/>
              </a:xfrm>
            </p:grpSpPr>
            <p:grpSp>
              <p:nvGrpSpPr>
                <p:cNvPr id="1691" name="组合 441"/>
                <p:cNvGrpSpPr/>
                <p:nvPr/>
              </p:nvGrpSpPr>
              <p:grpSpPr>
                <a:xfrm>
                  <a:off x="7618320" y="3761640"/>
                  <a:ext cx="680040" cy="680040"/>
                  <a:chOff x="7618320" y="3761640"/>
                  <a:chExt cx="680040" cy="680040"/>
                </a:xfrm>
              </p:grpSpPr>
              <p:sp>
                <p:nvSpPr>
                  <p:cNvPr id="1692" name="空心弧 445"/>
                  <p:cNvSpPr/>
                  <p:nvPr/>
                </p:nvSpPr>
                <p:spPr>
                  <a:xfrm rot="208200">
                    <a:off x="7717680" y="386064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68" h="3191128">
                        <a:moveTo>
                          <a:pt x="0" y="1595564"/>
                        </a:moveTo>
                        <a:cubicBezTo>
                          <a:pt x="0" y="1200363"/>
                          <a:pt x="147182" y="819225"/>
                          <a:pt x="413040" y="525970"/>
                        </a:cubicBezTo>
                        <a:lnTo>
                          <a:pt x="511157" y="614297"/>
                        </a:lnTo>
                        <a:cubicBezTo>
                          <a:pt x="267123" y="883309"/>
                          <a:pt x="132017" y="1232983"/>
                          <a:pt x="132017" y="1595564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空心弧 446"/>
                  <p:cNvSpPr/>
                  <p:nvPr/>
                </p:nvSpPr>
                <p:spPr>
                  <a:xfrm rot="2908800">
                    <a:off x="7717320" y="386064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2368">
                        <a:moveTo>
                          <a:pt x="0" y="1601184"/>
                        </a:moveTo>
                        <a:cubicBezTo>
                          <a:pt x="0" y="1206522"/>
                          <a:pt x="145245" y="825763"/>
                          <a:pt x="407858" y="531984"/>
                        </a:cubicBezTo>
                        <a:lnTo>
                          <a:pt x="505975" y="620311"/>
                        </a:lnTo>
                        <a:cubicBezTo>
                          <a:pt x="265186" y="889847"/>
                          <a:pt x="132017" y="1239141"/>
                          <a:pt x="132017" y="1601184"/>
                        </a:cubicBezTo>
                        <a:lnTo>
                          <a:pt x="0" y="16011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组合 442"/>
                <p:cNvGrpSpPr/>
                <p:nvPr/>
              </p:nvGrpSpPr>
              <p:grpSpPr>
                <a:xfrm>
                  <a:off x="7618320" y="3761280"/>
                  <a:ext cx="680040" cy="680040"/>
                  <a:chOff x="7618320" y="3761280"/>
                  <a:chExt cx="680040" cy="680040"/>
                </a:xfrm>
              </p:grpSpPr>
              <p:sp>
                <p:nvSpPr>
                  <p:cNvPr id="1695" name="空心弧 443"/>
                  <p:cNvSpPr/>
                  <p:nvPr/>
                </p:nvSpPr>
                <p:spPr>
                  <a:xfrm rot="5608800">
                    <a:off x="7717320" y="386064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2368">
                        <a:moveTo>
                          <a:pt x="0" y="1601184"/>
                        </a:moveTo>
                        <a:cubicBezTo>
                          <a:pt x="0" y="1206522"/>
                          <a:pt x="145245" y="825763"/>
                          <a:pt x="407858" y="531984"/>
                        </a:cubicBezTo>
                        <a:lnTo>
                          <a:pt x="505975" y="620311"/>
                        </a:lnTo>
                        <a:cubicBezTo>
                          <a:pt x="265186" y="889847"/>
                          <a:pt x="132017" y="1239141"/>
                          <a:pt x="132017" y="1601184"/>
                        </a:cubicBezTo>
                        <a:lnTo>
                          <a:pt x="0" y="16011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空心弧 444"/>
                  <p:cNvSpPr/>
                  <p:nvPr/>
                </p:nvSpPr>
                <p:spPr>
                  <a:xfrm rot="8308800">
                    <a:off x="7717320" y="386028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68" h="3191128">
                        <a:moveTo>
                          <a:pt x="0" y="1595564"/>
                        </a:moveTo>
                        <a:cubicBezTo>
                          <a:pt x="0" y="1200363"/>
                          <a:pt x="147182" y="819225"/>
                          <a:pt x="413040" y="525970"/>
                        </a:cubicBezTo>
                        <a:lnTo>
                          <a:pt x="511157" y="614297"/>
                        </a:lnTo>
                        <a:cubicBezTo>
                          <a:pt x="267123" y="883309"/>
                          <a:pt x="132017" y="1232983"/>
                          <a:pt x="132017" y="1595564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7" name="组合 434"/>
              <p:cNvGrpSpPr/>
              <p:nvPr/>
            </p:nvGrpSpPr>
            <p:grpSpPr>
              <a:xfrm>
                <a:off x="7618680" y="3761280"/>
                <a:ext cx="680040" cy="680400"/>
                <a:chOff x="7618680" y="3761280"/>
                <a:chExt cx="680040" cy="680400"/>
              </a:xfrm>
            </p:grpSpPr>
            <p:grpSp>
              <p:nvGrpSpPr>
                <p:cNvPr id="1698" name="组合 435"/>
                <p:cNvGrpSpPr/>
                <p:nvPr/>
              </p:nvGrpSpPr>
              <p:grpSpPr>
                <a:xfrm>
                  <a:off x="7618680" y="3761280"/>
                  <a:ext cx="680040" cy="680040"/>
                  <a:chOff x="7618680" y="3761280"/>
                  <a:chExt cx="680040" cy="680040"/>
                </a:xfrm>
              </p:grpSpPr>
              <p:sp>
                <p:nvSpPr>
                  <p:cNvPr id="1699" name="空心弧 439"/>
                  <p:cNvSpPr/>
                  <p:nvPr/>
                </p:nvSpPr>
                <p:spPr>
                  <a:xfrm rot="11008800">
                    <a:off x="7717320" y="386028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68" h="3191128">
                        <a:moveTo>
                          <a:pt x="0" y="1595564"/>
                        </a:moveTo>
                        <a:cubicBezTo>
                          <a:pt x="0" y="1200363"/>
                          <a:pt x="147182" y="819225"/>
                          <a:pt x="413040" y="525970"/>
                        </a:cubicBezTo>
                        <a:lnTo>
                          <a:pt x="511157" y="614297"/>
                        </a:lnTo>
                        <a:cubicBezTo>
                          <a:pt x="267123" y="883309"/>
                          <a:pt x="132017" y="1232983"/>
                          <a:pt x="132017" y="1595564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空心弧 440"/>
                  <p:cNvSpPr/>
                  <p:nvPr/>
                </p:nvSpPr>
                <p:spPr>
                  <a:xfrm rot="13708800">
                    <a:off x="7717680" y="386028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2368">
                        <a:moveTo>
                          <a:pt x="0" y="1601184"/>
                        </a:moveTo>
                        <a:cubicBezTo>
                          <a:pt x="0" y="1206522"/>
                          <a:pt x="145245" y="825763"/>
                          <a:pt x="407858" y="531984"/>
                        </a:cubicBezTo>
                        <a:lnTo>
                          <a:pt x="505975" y="620311"/>
                        </a:lnTo>
                        <a:cubicBezTo>
                          <a:pt x="265186" y="889847"/>
                          <a:pt x="132017" y="1239141"/>
                          <a:pt x="132017" y="1601184"/>
                        </a:cubicBezTo>
                        <a:lnTo>
                          <a:pt x="0" y="16011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1" name="组合 436"/>
                <p:cNvGrpSpPr/>
                <p:nvPr/>
              </p:nvGrpSpPr>
              <p:grpSpPr>
                <a:xfrm>
                  <a:off x="7618680" y="3761640"/>
                  <a:ext cx="680040" cy="680040"/>
                  <a:chOff x="7618680" y="3761640"/>
                  <a:chExt cx="680040" cy="680040"/>
                </a:xfrm>
              </p:grpSpPr>
              <p:sp>
                <p:nvSpPr>
                  <p:cNvPr id="1702" name="空心弧 437"/>
                  <p:cNvSpPr/>
                  <p:nvPr/>
                </p:nvSpPr>
                <p:spPr>
                  <a:xfrm rot="16408800">
                    <a:off x="7717680" y="386028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2368">
                        <a:moveTo>
                          <a:pt x="0" y="1601184"/>
                        </a:moveTo>
                        <a:cubicBezTo>
                          <a:pt x="0" y="1206522"/>
                          <a:pt x="145245" y="825763"/>
                          <a:pt x="407858" y="531984"/>
                        </a:cubicBezTo>
                        <a:lnTo>
                          <a:pt x="505975" y="620311"/>
                        </a:lnTo>
                        <a:cubicBezTo>
                          <a:pt x="265186" y="889847"/>
                          <a:pt x="132017" y="1239141"/>
                          <a:pt x="132017" y="1601184"/>
                        </a:cubicBezTo>
                        <a:lnTo>
                          <a:pt x="0" y="160118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空心弧 438"/>
                  <p:cNvSpPr/>
                  <p:nvPr/>
                </p:nvSpPr>
                <p:spPr>
                  <a:xfrm rot="19108800">
                    <a:off x="7717680" y="386064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68" h="3191128">
                        <a:moveTo>
                          <a:pt x="0" y="1595564"/>
                        </a:moveTo>
                        <a:cubicBezTo>
                          <a:pt x="0" y="1200363"/>
                          <a:pt x="147182" y="819225"/>
                          <a:pt x="413040" y="525970"/>
                        </a:cubicBezTo>
                        <a:lnTo>
                          <a:pt x="511157" y="614297"/>
                        </a:lnTo>
                        <a:cubicBezTo>
                          <a:pt x="267123" y="883309"/>
                          <a:pt x="132017" y="1232983"/>
                          <a:pt x="132017" y="1595564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04" name="组合 267"/>
            <p:cNvGrpSpPr/>
            <p:nvPr/>
          </p:nvGrpSpPr>
          <p:grpSpPr>
            <a:xfrm>
              <a:off x="8311320" y="3115440"/>
              <a:ext cx="852480" cy="852480"/>
              <a:chOff x="8311320" y="3115440"/>
              <a:chExt cx="852480" cy="852480"/>
            </a:xfrm>
          </p:grpSpPr>
          <p:grpSp>
            <p:nvGrpSpPr>
              <p:cNvPr id="1705" name="组合 419"/>
              <p:cNvGrpSpPr/>
              <p:nvPr/>
            </p:nvGrpSpPr>
            <p:grpSpPr>
              <a:xfrm>
                <a:off x="8311320" y="3115800"/>
                <a:ext cx="852480" cy="852120"/>
                <a:chOff x="8311320" y="3115800"/>
                <a:chExt cx="852480" cy="852120"/>
              </a:xfrm>
            </p:grpSpPr>
            <p:grpSp>
              <p:nvGrpSpPr>
                <p:cNvPr id="1706" name="组合 427"/>
                <p:cNvGrpSpPr/>
                <p:nvPr/>
              </p:nvGrpSpPr>
              <p:grpSpPr>
                <a:xfrm>
                  <a:off x="8311680" y="3115800"/>
                  <a:ext cx="852120" cy="852120"/>
                  <a:chOff x="8311680" y="3115800"/>
                  <a:chExt cx="852120" cy="852120"/>
                </a:xfrm>
              </p:grpSpPr>
              <p:sp>
                <p:nvSpPr>
                  <p:cNvPr id="1707" name="空心弧 431"/>
                  <p:cNvSpPr/>
                  <p:nvPr/>
                </p:nvSpPr>
                <p:spPr>
                  <a:xfrm rot="208200">
                    <a:off x="8435520" y="3240000"/>
                    <a:ext cx="60336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11" h="3194207">
                        <a:moveTo>
                          <a:pt x="0" y="1597104"/>
                        </a:moveTo>
                        <a:cubicBezTo>
                          <a:pt x="0" y="1202424"/>
                          <a:pt x="146172" y="821723"/>
                          <a:pt x="410325" y="528422"/>
                        </a:cubicBezTo>
                        <a:lnTo>
                          <a:pt x="508536" y="616833"/>
                        </a:lnTo>
                        <a:cubicBezTo>
                          <a:pt x="266228" y="885868"/>
                          <a:pt x="132144" y="1235074"/>
                          <a:pt x="132144" y="1597103"/>
                        </a:cubicBezTo>
                        <a:lnTo>
                          <a:pt x="0" y="159710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空心弧 432"/>
                  <p:cNvSpPr/>
                  <p:nvPr/>
                </p:nvSpPr>
                <p:spPr>
                  <a:xfrm rot="2908800">
                    <a:off x="8435880" y="3240000"/>
                    <a:ext cx="603720" cy="60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207" h="3194911">
                        <a:moveTo>
                          <a:pt x="0" y="1597456"/>
                        </a:moveTo>
                        <a:cubicBezTo>
                          <a:pt x="0" y="1202810"/>
                          <a:pt x="146050" y="822133"/>
                          <a:pt x="410000" y="528798"/>
                        </a:cubicBezTo>
                        <a:lnTo>
                          <a:pt x="508212" y="617210"/>
                        </a:lnTo>
                        <a:cubicBezTo>
                          <a:pt x="266107" y="886278"/>
                          <a:pt x="132145" y="1235460"/>
                          <a:pt x="132145" y="1597455"/>
                        </a:cubicBezTo>
                        <a:lnTo>
                          <a:pt x="0" y="15974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9" name="组合 428"/>
                <p:cNvGrpSpPr/>
                <p:nvPr/>
              </p:nvGrpSpPr>
              <p:grpSpPr>
                <a:xfrm>
                  <a:off x="8311320" y="3115800"/>
                  <a:ext cx="852120" cy="851760"/>
                  <a:chOff x="8311320" y="3115800"/>
                  <a:chExt cx="852120" cy="851760"/>
                </a:xfrm>
              </p:grpSpPr>
              <p:sp>
                <p:nvSpPr>
                  <p:cNvPr id="1710" name="空心弧 429"/>
                  <p:cNvSpPr/>
                  <p:nvPr/>
                </p:nvSpPr>
                <p:spPr>
                  <a:xfrm rot="5608800">
                    <a:off x="8435520" y="3240000"/>
                    <a:ext cx="603720" cy="60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207" h="3194911">
                        <a:moveTo>
                          <a:pt x="0" y="1597456"/>
                        </a:moveTo>
                        <a:cubicBezTo>
                          <a:pt x="0" y="1202810"/>
                          <a:pt x="146050" y="822133"/>
                          <a:pt x="410000" y="528798"/>
                        </a:cubicBezTo>
                        <a:lnTo>
                          <a:pt x="508212" y="617210"/>
                        </a:lnTo>
                        <a:cubicBezTo>
                          <a:pt x="266107" y="886278"/>
                          <a:pt x="132145" y="1235460"/>
                          <a:pt x="132145" y="1597455"/>
                        </a:cubicBezTo>
                        <a:lnTo>
                          <a:pt x="0" y="15974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空心弧 430"/>
                  <p:cNvSpPr/>
                  <p:nvPr/>
                </p:nvSpPr>
                <p:spPr>
                  <a:xfrm rot="8308800">
                    <a:off x="8435520" y="3239640"/>
                    <a:ext cx="60336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11" h="3194207">
                        <a:moveTo>
                          <a:pt x="0" y="1597104"/>
                        </a:moveTo>
                        <a:cubicBezTo>
                          <a:pt x="0" y="1202424"/>
                          <a:pt x="146172" y="821723"/>
                          <a:pt x="410325" y="528422"/>
                        </a:cubicBezTo>
                        <a:lnTo>
                          <a:pt x="508536" y="616833"/>
                        </a:lnTo>
                        <a:cubicBezTo>
                          <a:pt x="266228" y="885868"/>
                          <a:pt x="132144" y="1235074"/>
                          <a:pt x="132144" y="1597103"/>
                        </a:cubicBezTo>
                        <a:lnTo>
                          <a:pt x="0" y="159710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2" name="组合 420"/>
              <p:cNvGrpSpPr/>
              <p:nvPr/>
            </p:nvGrpSpPr>
            <p:grpSpPr>
              <a:xfrm>
                <a:off x="8311320" y="3115440"/>
                <a:ext cx="852480" cy="852480"/>
                <a:chOff x="8311320" y="3115440"/>
                <a:chExt cx="852480" cy="852480"/>
              </a:xfrm>
            </p:grpSpPr>
            <p:grpSp>
              <p:nvGrpSpPr>
                <p:cNvPr id="1713" name="组合 421"/>
                <p:cNvGrpSpPr/>
                <p:nvPr/>
              </p:nvGrpSpPr>
              <p:grpSpPr>
                <a:xfrm>
                  <a:off x="8311320" y="3115440"/>
                  <a:ext cx="852120" cy="852120"/>
                  <a:chOff x="8311320" y="3115440"/>
                  <a:chExt cx="852120" cy="852120"/>
                </a:xfrm>
              </p:grpSpPr>
              <p:sp>
                <p:nvSpPr>
                  <p:cNvPr id="1714" name="空心弧 425"/>
                  <p:cNvSpPr/>
                  <p:nvPr/>
                </p:nvSpPr>
                <p:spPr>
                  <a:xfrm rot="11008800">
                    <a:off x="8435880" y="3239280"/>
                    <a:ext cx="60336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11" h="3194207">
                        <a:moveTo>
                          <a:pt x="0" y="1597104"/>
                        </a:moveTo>
                        <a:cubicBezTo>
                          <a:pt x="0" y="1202424"/>
                          <a:pt x="146172" y="821723"/>
                          <a:pt x="410325" y="528422"/>
                        </a:cubicBezTo>
                        <a:lnTo>
                          <a:pt x="508536" y="616833"/>
                        </a:lnTo>
                        <a:cubicBezTo>
                          <a:pt x="266228" y="885868"/>
                          <a:pt x="132144" y="1235074"/>
                          <a:pt x="132144" y="1597103"/>
                        </a:cubicBezTo>
                        <a:lnTo>
                          <a:pt x="0" y="159710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空心弧 426"/>
                  <p:cNvSpPr/>
                  <p:nvPr/>
                </p:nvSpPr>
                <p:spPr>
                  <a:xfrm rot="13708800">
                    <a:off x="8435520" y="3239640"/>
                    <a:ext cx="603720" cy="60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207" h="3194911">
                        <a:moveTo>
                          <a:pt x="0" y="1597456"/>
                        </a:moveTo>
                        <a:cubicBezTo>
                          <a:pt x="0" y="1202810"/>
                          <a:pt x="146050" y="822133"/>
                          <a:pt x="410000" y="528798"/>
                        </a:cubicBezTo>
                        <a:lnTo>
                          <a:pt x="508212" y="617210"/>
                        </a:lnTo>
                        <a:cubicBezTo>
                          <a:pt x="266107" y="886278"/>
                          <a:pt x="132145" y="1235460"/>
                          <a:pt x="132145" y="1597455"/>
                        </a:cubicBezTo>
                        <a:lnTo>
                          <a:pt x="0" y="15974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6" name="组合 422"/>
                <p:cNvGrpSpPr/>
                <p:nvPr/>
              </p:nvGrpSpPr>
              <p:grpSpPr>
                <a:xfrm>
                  <a:off x="8311680" y="3115800"/>
                  <a:ext cx="852120" cy="852120"/>
                  <a:chOff x="8311680" y="3115800"/>
                  <a:chExt cx="852120" cy="852120"/>
                </a:xfrm>
              </p:grpSpPr>
              <p:sp>
                <p:nvSpPr>
                  <p:cNvPr id="1717" name="空心弧 423"/>
                  <p:cNvSpPr/>
                  <p:nvPr/>
                </p:nvSpPr>
                <p:spPr>
                  <a:xfrm rot="16408800">
                    <a:off x="8435520" y="3239640"/>
                    <a:ext cx="603720" cy="60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207" h="3194911">
                        <a:moveTo>
                          <a:pt x="0" y="1597456"/>
                        </a:moveTo>
                        <a:cubicBezTo>
                          <a:pt x="0" y="1202810"/>
                          <a:pt x="146050" y="822133"/>
                          <a:pt x="410000" y="528798"/>
                        </a:cubicBezTo>
                        <a:lnTo>
                          <a:pt x="508212" y="617210"/>
                        </a:lnTo>
                        <a:cubicBezTo>
                          <a:pt x="266107" y="886278"/>
                          <a:pt x="132145" y="1235460"/>
                          <a:pt x="132145" y="1597455"/>
                        </a:cubicBezTo>
                        <a:lnTo>
                          <a:pt x="0" y="15974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空心弧 424"/>
                  <p:cNvSpPr/>
                  <p:nvPr/>
                </p:nvSpPr>
                <p:spPr>
                  <a:xfrm rot="19108800">
                    <a:off x="8435880" y="3239640"/>
                    <a:ext cx="60336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11" h="3194207">
                        <a:moveTo>
                          <a:pt x="0" y="1597104"/>
                        </a:moveTo>
                        <a:cubicBezTo>
                          <a:pt x="0" y="1202424"/>
                          <a:pt x="146172" y="821723"/>
                          <a:pt x="410325" y="528422"/>
                        </a:cubicBezTo>
                        <a:lnTo>
                          <a:pt x="508536" y="616833"/>
                        </a:lnTo>
                        <a:cubicBezTo>
                          <a:pt x="266228" y="885868"/>
                          <a:pt x="132144" y="1235074"/>
                          <a:pt x="132144" y="1597103"/>
                        </a:cubicBezTo>
                        <a:lnTo>
                          <a:pt x="0" y="159710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19" name="组合 268"/>
            <p:cNvGrpSpPr/>
            <p:nvPr/>
          </p:nvGrpSpPr>
          <p:grpSpPr>
            <a:xfrm>
              <a:off x="7955280" y="1469880"/>
              <a:ext cx="1073520" cy="1073520"/>
              <a:chOff x="7955280" y="1469880"/>
              <a:chExt cx="1073520" cy="1073520"/>
            </a:xfrm>
          </p:grpSpPr>
          <p:grpSp>
            <p:nvGrpSpPr>
              <p:cNvPr id="1720" name="组合 405"/>
              <p:cNvGrpSpPr/>
              <p:nvPr/>
            </p:nvGrpSpPr>
            <p:grpSpPr>
              <a:xfrm>
                <a:off x="7955280" y="1469880"/>
                <a:ext cx="1073160" cy="1073160"/>
                <a:chOff x="7955280" y="1469880"/>
                <a:chExt cx="1073160" cy="1073160"/>
              </a:xfrm>
            </p:grpSpPr>
            <p:grpSp>
              <p:nvGrpSpPr>
                <p:cNvPr id="1721" name="组合 413"/>
                <p:cNvGrpSpPr/>
                <p:nvPr/>
              </p:nvGrpSpPr>
              <p:grpSpPr>
                <a:xfrm>
                  <a:off x="7955280" y="1470240"/>
                  <a:ext cx="1073160" cy="1072800"/>
                  <a:chOff x="7955280" y="1470240"/>
                  <a:chExt cx="1073160" cy="1072800"/>
                </a:xfrm>
              </p:grpSpPr>
              <p:sp>
                <p:nvSpPr>
                  <p:cNvPr id="1722" name="空心弧 417"/>
                  <p:cNvSpPr/>
                  <p:nvPr/>
                </p:nvSpPr>
                <p:spPr>
                  <a:xfrm rot="208200">
                    <a:off x="8111520" y="1627200"/>
                    <a:ext cx="76104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711" h="3194539">
                        <a:moveTo>
                          <a:pt x="0" y="1597270"/>
                        </a:moveTo>
                        <a:cubicBezTo>
                          <a:pt x="0" y="1202081"/>
                          <a:pt x="146784" y="820923"/>
                          <a:pt x="411981" y="527468"/>
                        </a:cubicBezTo>
                        <a:lnTo>
                          <a:pt x="510202" y="615889"/>
                        </a:lnTo>
                        <a:cubicBezTo>
                          <a:pt x="266853" y="885075"/>
                          <a:pt x="132158" y="1234735"/>
                          <a:pt x="132158" y="1597270"/>
                        </a:cubicBezTo>
                        <a:lnTo>
                          <a:pt x="0" y="159727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空心弧 418"/>
                  <p:cNvSpPr/>
                  <p:nvPr/>
                </p:nvSpPr>
                <p:spPr>
                  <a:xfrm rot="2908800">
                    <a:off x="8112240" y="1626120"/>
                    <a:ext cx="759240" cy="7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39" h="3200711">
                        <a:moveTo>
                          <a:pt x="0" y="1600356"/>
                        </a:moveTo>
                        <a:cubicBezTo>
                          <a:pt x="0" y="1205463"/>
                          <a:pt x="145720" y="824512"/>
                          <a:pt x="409135" y="530770"/>
                        </a:cubicBezTo>
                        <a:lnTo>
                          <a:pt x="507357" y="619191"/>
                        </a:lnTo>
                        <a:cubicBezTo>
                          <a:pt x="265789" y="888665"/>
                          <a:pt x="132159" y="1238117"/>
                          <a:pt x="132159" y="1600355"/>
                        </a:cubicBezTo>
                        <a:lnTo>
                          <a:pt x="0" y="16003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组合 414"/>
                <p:cNvGrpSpPr/>
                <p:nvPr/>
              </p:nvGrpSpPr>
              <p:grpSpPr>
                <a:xfrm>
                  <a:off x="7955280" y="1469880"/>
                  <a:ext cx="1073160" cy="1073160"/>
                  <a:chOff x="7955280" y="1469880"/>
                  <a:chExt cx="1073160" cy="1073160"/>
                </a:xfrm>
              </p:grpSpPr>
              <p:sp>
                <p:nvSpPr>
                  <p:cNvPr id="1725" name="空心弧 415"/>
                  <p:cNvSpPr/>
                  <p:nvPr/>
                </p:nvSpPr>
                <p:spPr>
                  <a:xfrm rot="5608800">
                    <a:off x="8112240" y="1626120"/>
                    <a:ext cx="759240" cy="7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39" h="3200711">
                        <a:moveTo>
                          <a:pt x="0" y="1600356"/>
                        </a:moveTo>
                        <a:cubicBezTo>
                          <a:pt x="0" y="1205463"/>
                          <a:pt x="145720" y="824512"/>
                          <a:pt x="409135" y="530770"/>
                        </a:cubicBezTo>
                        <a:lnTo>
                          <a:pt x="507357" y="619191"/>
                        </a:lnTo>
                        <a:cubicBezTo>
                          <a:pt x="265789" y="888665"/>
                          <a:pt x="132159" y="1238117"/>
                          <a:pt x="132159" y="1600355"/>
                        </a:cubicBezTo>
                        <a:lnTo>
                          <a:pt x="0" y="16003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空心弧 416"/>
                  <p:cNvSpPr/>
                  <p:nvPr/>
                </p:nvSpPr>
                <p:spPr>
                  <a:xfrm rot="8308800">
                    <a:off x="8111160" y="1626480"/>
                    <a:ext cx="76104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711" h="3194539">
                        <a:moveTo>
                          <a:pt x="0" y="1597270"/>
                        </a:moveTo>
                        <a:cubicBezTo>
                          <a:pt x="0" y="1202081"/>
                          <a:pt x="146784" y="820923"/>
                          <a:pt x="411981" y="527468"/>
                        </a:cubicBezTo>
                        <a:lnTo>
                          <a:pt x="510202" y="615889"/>
                        </a:lnTo>
                        <a:cubicBezTo>
                          <a:pt x="266853" y="885075"/>
                          <a:pt x="132158" y="1234735"/>
                          <a:pt x="132158" y="1597270"/>
                        </a:cubicBezTo>
                        <a:lnTo>
                          <a:pt x="0" y="159727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7" name="组合 406"/>
              <p:cNvGrpSpPr/>
              <p:nvPr/>
            </p:nvGrpSpPr>
            <p:grpSpPr>
              <a:xfrm>
                <a:off x="7955640" y="1470240"/>
                <a:ext cx="1073160" cy="1073160"/>
                <a:chOff x="7955640" y="1470240"/>
                <a:chExt cx="1073160" cy="1073160"/>
              </a:xfrm>
            </p:grpSpPr>
            <p:grpSp>
              <p:nvGrpSpPr>
                <p:cNvPr id="1728" name="组合 407"/>
                <p:cNvGrpSpPr/>
                <p:nvPr/>
              </p:nvGrpSpPr>
              <p:grpSpPr>
                <a:xfrm>
                  <a:off x="7955640" y="1470240"/>
                  <a:ext cx="1073160" cy="1072800"/>
                  <a:chOff x="7955640" y="1470240"/>
                  <a:chExt cx="1073160" cy="1072800"/>
                </a:xfrm>
              </p:grpSpPr>
              <p:sp>
                <p:nvSpPr>
                  <p:cNvPr id="1729" name="空心弧 411"/>
                  <p:cNvSpPr/>
                  <p:nvPr/>
                </p:nvSpPr>
                <p:spPr>
                  <a:xfrm rot="11008800">
                    <a:off x="8111160" y="1626480"/>
                    <a:ext cx="76104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711" h="3194539">
                        <a:moveTo>
                          <a:pt x="0" y="1597270"/>
                        </a:moveTo>
                        <a:cubicBezTo>
                          <a:pt x="0" y="1202081"/>
                          <a:pt x="146784" y="820923"/>
                          <a:pt x="411981" y="527468"/>
                        </a:cubicBezTo>
                        <a:lnTo>
                          <a:pt x="510202" y="615889"/>
                        </a:lnTo>
                        <a:cubicBezTo>
                          <a:pt x="266853" y="885075"/>
                          <a:pt x="132158" y="1234735"/>
                          <a:pt x="132158" y="1597270"/>
                        </a:cubicBezTo>
                        <a:lnTo>
                          <a:pt x="0" y="159727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空心弧 412"/>
                  <p:cNvSpPr/>
                  <p:nvPr/>
                </p:nvSpPr>
                <p:spPr>
                  <a:xfrm rot="13708800">
                    <a:off x="8112240" y="1625760"/>
                    <a:ext cx="759240" cy="7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39" h="3200711">
                        <a:moveTo>
                          <a:pt x="0" y="1600356"/>
                        </a:moveTo>
                        <a:cubicBezTo>
                          <a:pt x="0" y="1205463"/>
                          <a:pt x="145720" y="824512"/>
                          <a:pt x="409135" y="530770"/>
                        </a:cubicBezTo>
                        <a:lnTo>
                          <a:pt x="507357" y="619191"/>
                        </a:lnTo>
                        <a:cubicBezTo>
                          <a:pt x="265789" y="888665"/>
                          <a:pt x="132159" y="1238117"/>
                          <a:pt x="132159" y="1600355"/>
                        </a:cubicBezTo>
                        <a:lnTo>
                          <a:pt x="0" y="16003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组合 408"/>
                <p:cNvGrpSpPr/>
                <p:nvPr/>
              </p:nvGrpSpPr>
              <p:grpSpPr>
                <a:xfrm>
                  <a:off x="7955640" y="1470600"/>
                  <a:ext cx="1073160" cy="1072800"/>
                  <a:chOff x="7955640" y="1470600"/>
                  <a:chExt cx="1073160" cy="1072800"/>
                </a:xfrm>
              </p:grpSpPr>
              <p:sp>
                <p:nvSpPr>
                  <p:cNvPr id="1732" name="空心弧 409"/>
                  <p:cNvSpPr/>
                  <p:nvPr/>
                </p:nvSpPr>
                <p:spPr>
                  <a:xfrm rot="16408800">
                    <a:off x="8112240" y="1625760"/>
                    <a:ext cx="759240" cy="7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539" h="3200711">
                        <a:moveTo>
                          <a:pt x="0" y="1600356"/>
                        </a:moveTo>
                        <a:cubicBezTo>
                          <a:pt x="0" y="1205463"/>
                          <a:pt x="145720" y="824512"/>
                          <a:pt x="409135" y="530770"/>
                        </a:cubicBezTo>
                        <a:lnTo>
                          <a:pt x="507357" y="619191"/>
                        </a:lnTo>
                        <a:cubicBezTo>
                          <a:pt x="265789" y="888665"/>
                          <a:pt x="132159" y="1238117"/>
                          <a:pt x="132159" y="1600355"/>
                        </a:cubicBezTo>
                        <a:lnTo>
                          <a:pt x="0" y="160035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空心弧 410"/>
                  <p:cNvSpPr/>
                  <p:nvPr/>
                </p:nvSpPr>
                <p:spPr>
                  <a:xfrm rot="19108800">
                    <a:off x="8111520" y="1627200"/>
                    <a:ext cx="76104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711" h="3194539">
                        <a:moveTo>
                          <a:pt x="0" y="1597270"/>
                        </a:moveTo>
                        <a:cubicBezTo>
                          <a:pt x="0" y="1202081"/>
                          <a:pt x="146784" y="820923"/>
                          <a:pt x="411981" y="527468"/>
                        </a:cubicBezTo>
                        <a:lnTo>
                          <a:pt x="510202" y="615889"/>
                        </a:lnTo>
                        <a:cubicBezTo>
                          <a:pt x="266853" y="885075"/>
                          <a:pt x="132158" y="1234735"/>
                          <a:pt x="132158" y="1597270"/>
                        </a:cubicBezTo>
                        <a:lnTo>
                          <a:pt x="0" y="159727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34" name="组合 269"/>
            <p:cNvGrpSpPr/>
            <p:nvPr/>
          </p:nvGrpSpPr>
          <p:grpSpPr>
            <a:xfrm>
              <a:off x="8235000" y="4578120"/>
              <a:ext cx="515520" cy="514800"/>
              <a:chOff x="8235000" y="4578120"/>
              <a:chExt cx="515520" cy="514800"/>
            </a:xfrm>
          </p:grpSpPr>
          <p:grpSp>
            <p:nvGrpSpPr>
              <p:cNvPr id="1735" name="组合 391"/>
              <p:cNvGrpSpPr/>
              <p:nvPr/>
            </p:nvGrpSpPr>
            <p:grpSpPr>
              <a:xfrm>
                <a:off x="8235000" y="4578120"/>
                <a:ext cx="515160" cy="514800"/>
                <a:chOff x="8235000" y="4578120"/>
                <a:chExt cx="515160" cy="514800"/>
              </a:xfrm>
            </p:grpSpPr>
            <p:grpSp>
              <p:nvGrpSpPr>
                <p:cNvPr id="1736" name="组合 399"/>
                <p:cNvGrpSpPr/>
                <p:nvPr/>
              </p:nvGrpSpPr>
              <p:grpSpPr>
                <a:xfrm>
                  <a:off x="8235000" y="4578120"/>
                  <a:ext cx="514800" cy="514440"/>
                  <a:chOff x="8235000" y="4578120"/>
                  <a:chExt cx="514800" cy="514440"/>
                </a:xfrm>
              </p:grpSpPr>
              <p:sp>
                <p:nvSpPr>
                  <p:cNvPr id="1737" name="空心弧 403"/>
                  <p:cNvSpPr/>
                  <p:nvPr/>
                </p:nvSpPr>
                <p:spPr>
                  <a:xfrm rot="208200">
                    <a:off x="8309880" y="4653360"/>
                    <a:ext cx="36540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185" h="3194993">
                        <a:moveTo>
                          <a:pt x="0" y="1597497"/>
                        </a:moveTo>
                        <a:cubicBezTo>
                          <a:pt x="0" y="1202936"/>
                          <a:pt x="145934" y="822333"/>
                          <a:pt x="409686" y="529016"/>
                        </a:cubicBezTo>
                        <a:lnTo>
                          <a:pt x="507865" y="617399"/>
                        </a:lnTo>
                        <a:cubicBezTo>
                          <a:pt x="265952" y="886457"/>
                          <a:pt x="132102" y="1235575"/>
                          <a:pt x="132102" y="1597496"/>
                        </a:cubicBezTo>
                        <a:lnTo>
                          <a:pt x="0" y="159749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空心弧 404"/>
                  <p:cNvSpPr/>
                  <p:nvPr/>
                </p:nvSpPr>
                <p:spPr>
                  <a:xfrm rot="2908800">
                    <a:off x="8310240" y="4652640"/>
                    <a:ext cx="36360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93" h="3193185">
                        <a:moveTo>
                          <a:pt x="0" y="1596593"/>
                        </a:moveTo>
                        <a:cubicBezTo>
                          <a:pt x="0" y="1201945"/>
                          <a:pt x="146246" y="821281"/>
                          <a:pt x="410519" y="528049"/>
                        </a:cubicBezTo>
                        <a:lnTo>
                          <a:pt x="508699" y="616432"/>
                        </a:lnTo>
                        <a:cubicBezTo>
                          <a:pt x="266264" y="885406"/>
                          <a:pt x="132102" y="1234585"/>
                          <a:pt x="132102" y="1596592"/>
                        </a:cubicBezTo>
                        <a:lnTo>
                          <a:pt x="0" y="15965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组合 400"/>
                <p:cNvGrpSpPr/>
                <p:nvPr/>
              </p:nvGrpSpPr>
              <p:grpSpPr>
                <a:xfrm>
                  <a:off x="8235720" y="4578480"/>
                  <a:ext cx="514440" cy="514440"/>
                  <a:chOff x="8235720" y="4578480"/>
                  <a:chExt cx="514440" cy="514440"/>
                </a:xfrm>
              </p:grpSpPr>
              <p:sp>
                <p:nvSpPr>
                  <p:cNvPr id="1740" name="空心弧 401"/>
                  <p:cNvSpPr/>
                  <p:nvPr/>
                </p:nvSpPr>
                <p:spPr>
                  <a:xfrm rot="5608800">
                    <a:off x="8310600" y="4652640"/>
                    <a:ext cx="36360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93" h="3193185">
                        <a:moveTo>
                          <a:pt x="0" y="1596593"/>
                        </a:moveTo>
                        <a:cubicBezTo>
                          <a:pt x="0" y="1201945"/>
                          <a:pt x="146246" y="821281"/>
                          <a:pt x="410519" y="528049"/>
                        </a:cubicBezTo>
                        <a:lnTo>
                          <a:pt x="508699" y="616432"/>
                        </a:lnTo>
                        <a:cubicBezTo>
                          <a:pt x="266264" y="885406"/>
                          <a:pt x="132102" y="1234585"/>
                          <a:pt x="132102" y="1596592"/>
                        </a:cubicBezTo>
                        <a:lnTo>
                          <a:pt x="0" y="15965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空心弧 402"/>
                  <p:cNvSpPr/>
                  <p:nvPr/>
                </p:nvSpPr>
                <p:spPr>
                  <a:xfrm rot="8308800">
                    <a:off x="8309880" y="4653720"/>
                    <a:ext cx="36540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185" h="3194993">
                        <a:moveTo>
                          <a:pt x="0" y="1597497"/>
                        </a:moveTo>
                        <a:cubicBezTo>
                          <a:pt x="0" y="1202936"/>
                          <a:pt x="145934" y="822333"/>
                          <a:pt x="409686" y="529016"/>
                        </a:cubicBezTo>
                        <a:lnTo>
                          <a:pt x="507865" y="617399"/>
                        </a:lnTo>
                        <a:cubicBezTo>
                          <a:pt x="265952" y="886457"/>
                          <a:pt x="132102" y="1235575"/>
                          <a:pt x="132102" y="1597496"/>
                        </a:cubicBezTo>
                        <a:lnTo>
                          <a:pt x="0" y="159749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2" name="组合 392"/>
              <p:cNvGrpSpPr/>
              <p:nvPr/>
            </p:nvGrpSpPr>
            <p:grpSpPr>
              <a:xfrm>
                <a:off x="8235360" y="4578120"/>
                <a:ext cx="515160" cy="514800"/>
                <a:chOff x="8235360" y="4578120"/>
                <a:chExt cx="515160" cy="514800"/>
              </a:xfrm>
            </p:grpSpPr>
            <p:grpSp>
              <p:nvGrpSpPr>
                <p:cNvPr id="1743" name="组合 393"/>
                <p:cNvGrpSpPr/>
                <p:nvPr/>
              </p:nvGrpSpPr>
              <p:grpSpPr>
                <a:xfrm>
                  <a:off x="8235720" y="4578480"/>
                  <a:ext cx="514800" cy="514440"/>
                  <a:chOff x="8235720" y="4578480"/>
                  <a:chExt cx="514800" cy="514440"/>
                </a:xfrm>
              </p:grpSpPr>
              <p:sp>
                <p:nvSpPr>
                  <p:cNvPr id="1744" name="空心弧 397"/>
                  <p:cNvSpPr/>
                  <p:nvPr/>
                </p:nvSpPr>
                <p:spPr>
                  <a:xfrm rot="11008800">
                    <a:off x="8309880" y="4653720"/>
                    <a:ext cx="36540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185" h="3194993">
                        <a:moveTo>
                          <a:pt x="0" y="1597497"/>
                        </a:moveTo>
                        <a:cubicBezTo>
                          <a:pt x="0" y="1202936"/>
                          <a:pt x="145934" y="822333"/>
                          <a:pt x="409686" y="529016"/>
                        </a:cubicBezTo>
                        <a:lnTo>
                          <a:pt x="507865" y="617399"/>
                        </a:lnTo>
                        <a:cubicBezTo>
                          <a:pt x="265952" y="886457"/>
                          <a:pt x="132102" y="1235575"/>
                          <a:pt x="132102" y="1597496"/>
                        </a:cubicBezTo>
                        <a:lnTo>
                          <a:pt x="0" y="159749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空心弧 398"/>
                  <p:cNvSpPr/>
                  <p:nvPr/>
                </p:nvSpPr>
                <p:spPr>
                  <a:xfrm rot="13708800">
                    <a:off x="8311320" y="4652640"/>
                    <a:ext cx="36360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93" h="3193185">
                        <a:moveTo>
                          <a:pt x="0" y="1596593"/>
                        </a:moveTo>
                        <a:cubicBezTo>
                          <a:pt x="0" y="1201945"/>
                          <a:pt x="146246" y="821281"/>
                          <a:pt x="410519" y="528049"/>
                        </a:cubicBezTo>
                        <a:lnTo>
                          <a:pt x="508699" y="616432"/>
                        </a:lnTo>
                        <a:cubicBezTo>
                          <a:pt x="266264" y="885406"/>
                          <a:pt x="132102" y="1234585"/>
                          <a:pt x="132102" y="1596592"/>
                        </a:cubicBezTo>
                        <a:lnTo>
                          <a:pt x="0" y="15965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组合 394"/>
                <p:cNvGrpSpPr/>
                <p:nvPr/>
              </p:nvGrpSpPr>
              <p:grpSpPr>
                <a:xfrm>
                  <a:off x="8235360" y="4578120"/>
                  <a:ext cx="514440" cy="514440"/>
                  <a:chOff x="8235360" y="4578120"/>
                  <a:chExt cx="514440" cy="514440"/>
                </a:xfrm>
              </p:grpSpPr>
              <p:sp>
                <p:nvSpPr>
                  <p:cNvPr id="1747" name="空心弧 395"/>
                  <p:cNvSpPr/>
                  <p:nvPr/>
                </p:nvSpPr>
                <p:spPr>
                  <a:xfrm rot="16408800">
                    <a:off x="8310960" y="4652640"/>
                    <a:ext cx="36360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4993" h="3193185">
                        <a:moveTo>
                          <a:pt x="0" y="1596593"/>
                        </a:moveTo>
                        <a:cubicBezTo>
                          <a:pt x="0" y="1201945"/>
                          <a:pt x="146246" y="821281"/>
                          <a:pt x="410519" y="528049"/>
                        </a:cubicBezTo>
                        <a:lnTo>
                          <a:pt x="508699" y="616432"/>
                        </a:lnTo>
                        <a:cubicBezTo>
                          <a:pt x="266264" y="885406"/>
                          <a:pt x="132102" y="1234585"/>
                          <a:pt x="132102" y="1596592"/>
                        </a:cubicBezTo>
                        <a:lnTo>
                          <a:pt x="0" y="159659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空心弧 396"/>
                  <p:cNvSpPr/>
                  <p:nvPr/>
                </p:nvSpPr>
                <p:spPr>
                  <a:xfrm rot="19108800">
                    <a:off x="8309880" y="4653360"/>
                    <a:ext cx="36540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185" h="3194993">
                        <a:moveTo>
                          <a:pt x="0" y="1597497"/>
                        </a:moveTo>
                        <a:cubicBezTo>
                          <a:pt x="0" y="1202936"/>
                          <a:pt x="145934" y="822333"/>
                          <a:pt x="409686" y="529016"/>
                        </a:cubicBezTo>
                        <a:lnTo>
                          <a:pt x="507865" y="617399"/>
                        </a:lnTo>
                        <a:cubicBezTo>
                          <a:pt x="265952" y="886457"/>
                          <a:pt x="132102" y="1235575"/>
                          <a:pt x="132102" y="1597496"/>
                        </a:cubicBezTo>
                        <a:lnTo>
                          <a:pt x="0" y="159749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49" name="组合 270"/>
            <p:cNvGrpSpPr/>
            <p:nvPr/>
          </p:nvGrpSpPr>
          <p:grpSpPr>
            <a:xfrm>
              <a:off x="3149640" y="3282120"/>
              <a:ext cx="415440" cy="415440"/>
              <a:chOff x="3149640" y="3282120"/>
              <a:chExt cx="415440" cy="415440"/>
            </a:xfrm>
          </p:grpSpPr>
          <p:grpSp>
            <p:nvGrpSpPr>
              <p:cNvPr id="1750" name="组合 377"/>
              <p:cNvGrpSpPr/>
              <p:nvPr/>
            </p:nvGrpSpPr>
            <p:grpSpPr>
              <a:xfrm>
                <a:off x="3149640" y="3282120"/>
                <a:ext cx="415440" cy="415440"/>
                <a:chOff x="3149640" y="3282120"/>
                <a:chExt cx="415440" cy="415440"/>
              </a:xfrm>
            </p:grpSpPr>
            <p:grpSp>
              <p:nvGrpSpPr>
                <p:cNvPr id="1751" name="组合 385"/>
                <p:cNvGrpSpPr/>
                <p:nvPr/>
              </p:nvGrpSpPr>
              <p:grpSpPr>
                <a:xfrm>
                  <a:off x="3149640" y="3282480"/>
                  <a:ext cx="415440" cy="415080"/>
                  <a:chOff x="3149640" y="3282480"/>
                  <a:chExt cx="415440" cy="415080"/>
                </a:xfrm>
              </p:grpSpPr>
              <p:sp>
                <p:nvSpPr>
                  <p:cNvPr id="1752" name="空心弧 389"/>
                  <p:cNvSpPr/>
                  <p:nvPr/>
                </p:nvSpPr>
                <p:spPr>
                  <a:xfrm rot="208200">
                    <a:off x="321012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7327" h="3189384">
                        <a:moveTo>
                          <a:pt x="0" y="1594692"/>
                        </a:moveTo>
                        <a:cubicBezTo>
                          <a:pt x="0" y="1199134"/>
                          <a:pt x="147837" y="817694"/>
                          <a:pt x="414801" y="524450"/>
                        </a:cubicBezTo>
                        <a:lnTo>
                          <a:pt x="512865" y="612730"/>
                        </a:lnTo>
                        <a:cubicBezTo>
                          <a:pt x="267713" y="881743"/>
                          <a:pt x="131945" y="1231736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空心弧 390"/>
                  <p:cNvSpPr/>
                  <p:nvPr/>
                </p:nvSpPr>
                <p:spPr>
                  <a:xfrm rot="2908800">
                    <a:off x="3210120" y="334296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207327">
                        <a:moveTo>
                          <a:pt x="0" y="1603664"/>
                        </a:moveTo>
                        <a:cubicBezTo>
                          <a:pt x="0" y="1208966"/>
                          <a:pt x="144744" y="828131"/>
                          <a:pt x="406527" y="534051"/>
                        </a:cubicBezTo>
                        <a:lnTo>
                          <a:pt x="504591" y="622330"/>
                        </a:lnTo>
                        <a:cubicBezTo>
                          <a:pt x="264619" y="892179"/>
                          <a:pt x="131945" y="1241567"/>
                          <a:pt x="131945" y="1603663"/>
                        </a:cubicBezTo>
                        <a:lnTo>
                          <a:pt x="0" y="16036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组合 386"/>
                <p:cNvGrpSpPr/>
                <p:nvPr/>
              </p:nvGrpSpPr>
              <p:grpSpPr>
                <a:xfrm>
                  <a:off x="3149640" y="3282120"/>
                  <a:ext cx="415080" cy="415440"/>
                  <a:chOff x="3149640" y="3282120"/>
                  <a:chExt cx="415080" cy="415440"/>
                </a:xfrm>
              </p:grpSpPr>
              <p:sp>
                <p:nvSpPr>
                  <p:cNvPr id="1755" name="空心弧 387"/>
                  <p:cNvSpPr/>
                  <p:nvPr/>
                </p:nvSpPr>
                <p:spPr>
                  <a:xfrm rot="5608800">
                    <a:off x="321012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207327">
                        <a:moveTo>
                          <a:pt x="0" y="1603664"/>
                        </a:moveTo>
                        <a:cubicBezTo>
                          <a:pt x="0" y="1208966"/>
                          <a:pt x="144744" y="828131"/>
                          <a:pt x="406527" y="534051"/>
                        </a:cubicBezTo>
                        <a:lnTo>
                          <a:pt x="504591" y="622330"/>
                        </a:lnTo>
                        <a:cubicBezTo>
                          <a:pt x="264619" y="892179"/>
                          <a:pt x="131945" y="1241567"/>
                          <a:pt x="131945" y="1603663"/>
                        </a:cubicBezTo>
                        <a:lnTo>
                          <a:pt x="0" y="16036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空心弧 388"/>
                  <p:cNvSpPr/>
                  <p:nvPr/>
                </p:nvSpPr>
                <p:spPr>
                  <a:xfrm rot="8308800">
                    <a:off x="320976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7327" h="3189384">
                        <a:moveTo>
                          <a:pt x="0" y="1594692"/>
                        </a:moveTo>
                        <a:cubicBezTo>
                          <a:pt x="0" y="1199134"/>
                          <a:pt x="147837" y="817694"/>
                          <a:pt x="414801" y="524450"/>
                        </a:cubicBezTo>
                        <a:lnTo>
                          <a:pt x="512865" y="612730"/>
                        </a:lnTo>
                        <a:cubicBezTo>
                          <a:pt x="267713" y="881743"/>
                          <a:pt x="131945" y="1231736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7" name="组合 378"/>
              <p:cNvGrpSpPr/>
              <p:nvPr/>
            </p:nvGrpSpPr>
            <p:grpSpPr>
              <a:xfrm>
                <a:off x="3149640" y="3282120"/>
                <a:ext cx="415440" cy="415440"/>
                <a:chOff x="3149640" y="3282120"/>
                <a:chExt cx="415440" cy="415440"/>
              </a:xfrm>
            </p:grpSpPr>
            <p:grpSp>
              <p:nvGrpSpPr>
                <p:cNvPr id="1758" name="组合 379"/>
                <p:cNvGrpSpPr/>
                <p:nvPr/>
              </p:nvGrpSpPr>
              <p:grpSpPr>
                <a:xfrm>
                  <a:off x="3149640" y="3282120"/>
                  <a:ext cx="415440" cy="415080"/>
                  <a:chOff x="3149640" y="3282120"/>
                  <a:chExt cx="415440" cy="415080"/>
                </a:xfrm>
              </p:grpSpPr>
              <p:sp>
                <p:nvSpPr>
                  <p:cNvPr id="1759" name="空心弧 383"/>
                  <p:cNvSpPr/>
                  <p:nvPr/>
                </p:nvSpPr>
                <p:spPr>
                  <a:xfrm rot="11008800">
                    <a:off x="321012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7327" h="3189384">
                        <a:moveTo>
                          <a:pt x="0" y="1594692"/>
                        </a:moveTo>
                        <a:cubicBezTo>
                          <a:pt x="0" y="1199134"/>
                          <a:pt x="147837" y="817694"/>
                          <a:pt x="414801" y="524450"/>
                        </a:cubicBezTo>
                        <a:lnTo>
                          <a:pt x="512865" y="612730"/>
                        </a:lnTo>
                        <a:cubicBezTo>
                          <a:pt x="267713" y="881743"/>
                          <a:pt x="131945" y="1231736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空心弧 384"/>
                  <p:cNvSpPr/>
                  <p:nvPr/>
                </p:nvSpPr>
                <p:spPr>
                  <a:xfrm rot="13708800">
                    <a:off x="3210120" y="334224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207327">
                        <a:moveTo>
                          <a:pt x="0" y="1603664"/>
                        </a:moveTo>
                        <a:cubicBezTo>
                          <a:pt x="0" y="1208966"/>
                          <a:pt x="144744" y="828131"/>
                          <a:pt x="406527" y="534051"/>
                        </a:cubicBezTo>
                        <a:lnTo>
                          <a:pt x="504591" y="622330"/>
                        </a:lnTo>
                        <a:cubicBezTo>
                          <a:pt x="264619" y="892179"/>
                          <a:pt x="131945" y="1241567"/>
                          <a:pt x="131945" y="1603663"/>
                        </a:cubicBezTo>
                        <a:lnTo>
                          <a:pt x="0" y="16036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1" name="组合 380"/>
                <p:cNvGrpSpPr/>
                <p:nvPr/>
              </p:nvGrpSpPr>
              <p:grpSpPr>
                <a:xfrm>
                  <a:off x="3150000" y="3282120"/>
                  <a:ext cx="415080" cy="415440"/>
                  <a:chOff x="3150000" y="3282120"/>
                  <a:chExt cx="415080" cy="415440"/>
                </a:xfrm>
              </p:grpSpPr>
              <p:sp>
                <p:nvSpPr>
                  <p:cNvPr id="1762" name="空心弧 381"/>
                  <p:cNvSpPr/>
                  <p:nvPr/>
                </p:nvSpPr>
                <p:spPr>
                  <a:xfrm rot="16408800">
                    <a:off x="321048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207327">
                        <a:moveTo>
                          <a:pt x="0" y="1603664"/>
                        </a:moveTo>
                        <a:cubicBezTo>
                          <a:pt x="0" y="1208966"/>
                          <a:pt x="144744" y="828131"/>
                          <a:pt x="406527" y="534051"/>
                        </a:cubicBezTo>
                        <a:lnTo>
                          <a:pt x="504591" y="622330"/>
                        </a:lnTo>
                        <a:cubicBezTo>
                          <a:pt x="264619" y="892179"/>
                          <a:pt x="131945" y="1241567"/>
                          <a:pt x="131945" y="1603663"/>
                        </a:cubicBezTo>
                        <a:lnTo>
                          <a:pt x="0" y="16036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空心弧 382"/>
                  <p:cNvSpPr/>
                  <p:nvPr/>
                </p:nvSpPr>
                <p:spPr>
                  <a:xfrm rot="19108800">
                    <a:off x="3210480" y="33426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7327" h="3189384">
                        <a:moveTo>
                          <a:pt x="0" y="1594692"/>
                        </a:moveTo>
                        <a:cubicBezTo>
                          <a:pt x="0" y="1199134"/>
                          <a:pt x="147837" y="817694"/>
                          <a:pt x="414801" y="524450"/>
                        </a:cubicBezTo>
                        <a:lnTo>
                          <a:pt x="512865" y="612730"/>
                        </a:lnTo>
                        <a:cubicBezTo>
                          <a:pt x="267713" y="881743"/>
                          <a:pt x="131945" y="1231736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64" name="组合 271"/>
            <p:cNvGrpSpPr/>
            <p:nvPr/>
          </p:nvGrpSpPr>
          <p:grpSpPr>
            <a:xfrm>
              <a:off x="2887200" y="3904920"/>
              <a:ext cx="415440" cy="415440"/>
              <a:chOff x="2887200" y="3904920"/>
              <a:chExt cx="415440" cy="415440"/>
            </a:xfrm>
          </p:grpSpPr>
          <p:grpSp>
            <p:nvGrpSpPr>
              <p:cNvPr id="1765" name="组合 363"/>
              <p:cNvGrpSpPr/>
              <p:nvPr/>
            </p:nvGrpSpPr>
            <p:grpSpPr>
              <a:xfrm>
                <a:off x="2887200" y="3904920"/>
                <a:ext cx="415440" cy="415440"/>
                <a:chOff x="2887200" y="3904920"/>
                <a:chExt cx="415440" cy="415440"/>
              </a:xfrm>
            </p:grpSpPr>
            <p:grpSp>
              <p:nvGrpSpPr>
                <p:cNvPr id="1766" name="组合 371"/>
                <p:cNvGrpSpPr/>
                <p:nvPr/>
              </p:nvGrpSpPr>
              <p:grpSpPr>
                <a:xfrm>
                  <a:off x="2887200" y="3905280"/>
                  <a:ext cx="415440" cy="415080"/>
                  <a:chOff x="2887200" y="3905280"/>
                  <a:chExt cx="415440" cy="415080"/>
                </a:xfrm>
              </p:grpSpPr>
              <p:sp>
                <p:nvSpPr>
                  <p:cNvPr id="1767" name="空心弧 375"/>
                  <p:cNvSpPr/>
                  <p:nvPr/>
                </p:nvSpPr>
                <p:spPr>
                  <a:xfrm rot="208200">
                    <a:off x="294768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078" h="3189384">
                        <a:moveTo>
                          <a:pt x="0" y="1594692"/>
                        </a:moveTo>
                        <a:cubicBezTo>
                          <a:pt x="0" y="1200609"/>
                          <a:pt x="145950" y="820484"/>
                          <a:pt x="409703" y="527625"/>
                        </a:cubicBezTo>
                        <a:lnTo>
                          <a:pt x="507766" y="615904"/>
                        </a:lnTo>
                        <a:cubicBezTo>
                          <a:pt x="265826" y="884533"/>
                          <a:pt x="131945" y="1233211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空心弧 376"/>
                  <p:cNvSpPr/>
                  <p:nvPr/>
                </p:nvSpPr>
                <p:spPr>
                  <a:xfrm rot="2908800">
                    <a:off x="2947680" y="396576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190078">
                        <a:moveTo>
                          <a:pt x="0" y="1595039"/>
                        </a:moveTo>
                        <a:cubicBezTo>
                          <a:pt x="0" y="1200990"/>
                          <a:pt x="145830" y="820887"/>
                          <a:pt x="409383" y="527996"/>
                        </a:cubicBezTo>
                        <a:lnTo>
                          <a:pt x="507446" y="616275"/>
                        </a:lnTo>
                        <a:cubicBezTo>
                          <a:pt x="265706" y="884936"/>
                          <a:pt x="131945" y="1233591"/>
                          <a:pt x="131945" y="1595039"/>
                        </a:cubicBezTo>
                        <a:lnTo>
                          <a:pt x="0" y="159503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组合 372"/>
                <p:cNvGrpSpPr/>
                <p:nvPr/>
              </p:nvGrpSpPr>
              <p:grpSpPr>
                <a:xfrm>
                  <a:off x="2887200" y="3904920"/>
                  <a:ext cx="415080" cy="415440"/>
                  <a:chOff x="2887200" y="3904920"/>
                  <a:chExt cx="415080" cy="415440"/>
                </a:xfrm>
              </p:grpSpPr>
              <p:sp>
                <p:nvSpPr>
                  <p:cNvPr id="1770" name="空心弧 373"/>
                  <p:cNvSpPr/>
                  <p:nvPr/>
                </p:nvSpPr>
                <p:spPr>
                  <a:xfrm rot="5608800">
                    <a:off x="294768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190078">
                        <a:moveTo>
                          <a:pt x="0" y="1595039"/>
                        </a:moveTo>
                        <a:cubicBezTo>
                          <a:pt x="0" y="1200990"/>
                          <a:pt x="145830" y="820887"/>
                          <a:pt x="409383" y="527996"/>
                        </a:cubicBezTo>
                        <a:lnTo>
                          <a:pt x="507446" y="616275"/>
                        </a:lnTo>
                        <a:cubicBezTo>
                          <a:pt x="265706" y="884936"/>
                          <a:pt x="131945" y="1233591"/>
                          <a:pt x="131945" y="1595039"/>
                        </a:cubicBezTo>
                        <a:lnTo>
                          <a:pt x="0" y="159503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空心弧 374"/>
                  <p:cNvSpPr/>
                  <p:nvPr/>
                </p:nvSpPr>
                <p:spPr>
                  <a:xfrm rot="8308800">
                    <a:off x="294732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078" h="3189384">
                        <a:moveTo>
                          <a:pt x="0" y="1594692"/>
                        </a:moveTo>
                        <a:cubicBezTo>
                          <a:pt x="0" y="1200609"/>
                          <a:pt x="145950" y="820484"/>
                          <a:pt x="409703" y="527625"/>
                        </a:cubicBezTo>
                        <a:lnTo>
                          <a:pt x="507766" y="615904"/>
                        </a:lnTo>
                        <a:cubicBezTo>
                          <a:pt x="265826" y="884533"/>
                          <a:pt x="131945" y="1233211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组合 364"/>
              <p:cNvGrpSpPr/>
              <p:nvPr/>
            </p:nvGrpSpPr>
            <p:grpSpPr>
              <a:xfrm>
                <a:off x="2887200" y="3904920"/>
                <a:ext cx="415440" cy="415440"/>
                <a:chOff x="2887200" y="3904920"/>
                <a:chExt cx="415440" cy="415440"/>
              </a:xfrm>
            </p:grpSpPr>
            <p:grpSp>
              <p:nvGrpSpPr>
                <p:cNvPr id="1773" name="组合 365"/>
                <p:cNvGrpSpPr/>
                <p:nvPr/>
              </p:nvGrpSpPr>
              <p:grpSpPr>
                <a:xfrm>
                  <a:off x="2887200" y="3904920"/>
                  <a:ext cx="415440" cy="415080"/>
                  <a:chOff x="2887200" y="3904920"/>
                  <a:chExt cx="415440" cy="415080"/>
                </a:xfrm>
              </p:grpSpPr>
              <p:sp>
                <p:nvSpPr>
                  <p:cNvPr id="1774" name="空心弧 369"/>
                  <p:cNvSpPr/>
                  <p:nvPr/>
                </p:nvSpPr>
                <p:spPr>
                  <a:xfrm rot="11008800">
                    <a:off x="294768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078" h="3189384">
                        <a:moveTo>
                          <a:pt x="0" y="1594692"/>
                        </a:moveTo>
                        <a:cubicBezTo>
                          <a:pt x="0" y="1200609"/>
                          <a:pt x="145950" y="820484"/>
                          <a:pt x="409703" y="527625"/>
                        </a:cubicBezTo>
                        <a:lnTo>
                          <a:pt x="507766" y="615904"/>
                        </a:lnTo>
                        <a:cubicBezTo>
                          <a:pt x="265826" y="884533"/>
                          <a:pt x="131945" y="1233211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空心弧 370"/>
                  <p:cNvSpPr/>
                  <p:nvPr/>
                </p:nvSpPr>
                <p:spPr>
                  <a:xfrm rot="13708800">
                    <a:off x="2947680" y="396504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190078">
                        <a:moveTo>
                          <a:pt x="0" y="1595039"/>
                        </a:moveTo>
                        <a:cubicBezTo>
                          <a:pt x="0" y="1200990"/>
                          <a:pt x="145830" y="820887"/>
                          <a:pt x="409383" y="527996"/>
                        </a:cubicBezTo>
                        <a:lnTo>
                          <a:pt x="507446" y="616275"/>
                        </a:lnTo>
                        <a:cubicBezTo>
                          <a:pt x="265706" y="884936"/>
                          <a:pt x="131945" y="1233591"/>
                          <a:pt x="131945" y="1595039"/>
                        </a:cubicBezTo>
                        <a:lnTo>
                          <a:pt x="0" y="159503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6" name="组合 366"/>
                <p:cNvGrpSpPr/>
                <p:nvPr/>
              </p:nvGrpSpPr>
              <p:grpSpPr>
                <a:xfrm>
                  <a:off x="2887560" y="3904920"/>
                  <a:ext cx="415080" cy="415440"/>
                  <a:chOff x="2887560" y="3904920"/>
                  <a:chExt cx="415080" cy="415440"/>
                </a:xfrm>
              </p:grpSpPr>
              <p:sp>
                <p:nvSpPr>
                  <p:cNvPr id="1777" name="空心弧 367"/>
                  <p:cNvSpPr/>
                  <p:nvPr/>
                </p:nvSpPr>
                <p:spPr>
                  <a:xfrm rot="16408800">
                    <a:off x="294804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9384" h="3190078">
                        <a:moveTo>
                          <a:pt x="0" y="1595039"/>
                        </a:moveTo>
                        <a:cubicBezTo>
                          <a:pt x="0" y="1200990"/>
                          <a:pt x="145830" y="820887"/>
                          <a:pt x="409383" y="527996"/>
                        </a:cubicBezTo>
                        <a:lnTo>
                          <a:pt x="507446" y="616275"/>
                        </a:lnTo>
                        <a:cubicBezTo>
                          <a:pt x="265706" y="884936"/>
                          <a:pt x="131945" y="1233591"/>
                          <a:pt x="131945" y="1595039"/>
                        </a:cubicBezTo>
                        <a:lnTo>
                          <a:pt x="0" y="159503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空心弧 368"/>
                  <p:cNvSpPr/>
                  <p:nvPr/>
                </p:nvSpPr>
                <p:spPr>
                  <a:xfrm rot="19108800">
                    <a:off x="2948040" y="3965400"/>
                    <a:ext cx="2941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0078" h="3189384">
                        <a:moveTo>
                          <a:pt x="0" y="1594692"/>
                        </a:moveTo>
                        <a:cubicBezTo>
                          <a:pt x="0" y="1200609"/>
                          <a:pt x="145950" y="820484"/>
                          <a:pt x="409703" y="527625"/>
                        </a:cubicBezTo>
                        <a:lnTo>
                          <a:pt x="507766" y="615904"/>
                        </a:lnTo>
                        <a:cubicBezTo>
                          <a:pt x="265826" y="884533"/>
                          <a:pt x="131945" y="1233211"/>
                          <a:pt x="131945" y="1594692"/>
                        </a:cubicBezTo>
                        <a:lnTo>
                          <a:pt x="0" y="159469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9" name="组合 272"/>
            <p:cNvGrpSpPr/>
            <p:nvPr/>
          </p:nvGrpSpPr>
          <p:grpSpPr>
            <a:xfrm>
              <a:off x="3326760" y="4163760"/>
              <a:ext cx="951840" cy="951840"/>
              <a:chOff x="3326760" y="4163760"/>
              <a:chExt cx="951840" cy="951840"/>
            </a:xfrm>
          </p:grpSpPr>
          <p:grpSp>
            <p:nvGrpSpPr>
              <p:cNvPr id="1780" name="组合 349"/>
              <p:cNvGrpSpPr/>
              <p:nvPr/>
            </p:nvGrpSpPr>
            <p:grpSpPr>
              <a:xfrm>
                <a:off x="3326760" y="4163760"/>
                <a:ext cx="951840" cy="951480"/>
                <a:chOff x="3326760" y="4163760"/>
                <a:chExt cx="951840" cy="951480"/>
              </a:xfrm>
            </p:grpSpPr>
            <p:grpSp>
              <p:nvGrpSpPr>
                <p:cNvPr id="1781" name="组合 357"/>
                <p:cNvGrpSpPr/>
                <p:nvPr/>
              </p:nvGrpSpPr>
              <p:grpSpPr>
                <a:xfrm>
                  <a:off x="3326760" y="4163760"/>
                  <a:ext cx="951480" cy="951120"/>
                  <a:chOff x="3326760" y="4163760"/>
                  <a:chExt cx="951480" cy="951120"/>
                </a:xfrm>
              </p:grpSpPr>
              <p:sp>
                <p:nvSpPr>
                  <p:cNvPr id="1782" name="空心弧 361"/>
                  <p:cNvSpPr/>
                  <p:nvPr/>
                </p:nvSpPr>
                <p:spPr>
                  <a:xfrm rot="208200">
                    <a:off x="3465000" y="4302720"/>
                    <a:ext cx="67464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79" h="3196731">
                        <a:moveTo>
                          <a:pt x="0" y="1598366"/>
                        </a:moveTo>
                        <a:cubicBezTo>
                          <a:pt x="0" y="1203491"/>
                          <a:pt x="146139" y="822592"/>
                          <a:pt x="410249" y="529090"/>
                        </a:cubicBezTo>
                        <a:lnTo>
                          <a:pt x="508518" y="617553"/>
                        </a:lnTo>
                        <a:cubicBezTo>
                          <a:pt x="266266" y="886775"/>
                          <a:pt x="132222" y="1236160"/>
                          <a:pt x="132222" y="1598365"/>
                        </a:cubicBezTo>
                        <a:lnTo>
                          <a:pt x="0" y="159836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空心弧 362"/>
                  <p:cNvSpPr/>
                  <p:nvPr/>
                </p:nvSpPr>
                <p:spPr>
                  <a:xfrm rot="2908800">
                    <a:off x="3465720" y="4302000"/>
                    <a:ext cx="67320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31" h="3196079">
                        <a:moveTo>
                          <a:pt x="0" y="1598040"/>
                        </a:moveTo>
                        <a:cubicBezTo>
                          <a:pt x="0" y="1203134"/>
                          <a:pt x="146252" y="822213"/>
                          <a:pt x="410550" y="528741"/>
                        </a:cubicBezTo>
                        <a:lnTo>
                          <a:pt x="508819" y="617205"/>
                        </a:lnTo>
                        <a:cubicBezTo>
                          <a:pt x="266379" y="886397"/>
                          <a:pt x="132222" y="1235804"/>
                          <a:pt x="132222" y="1598040"/>
                        </a:cubicBezTo>
                        <a:lnTo>
                          <a:pt x="0" y="15980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组合 358"/>
                <p:cNvGrpSpPr/>
                <p:nvPr/>
              </p:nvGrpSpPr>
              <p:grpSpPr>
                <a:xfrm>
                  <a:off x="3327120" y="4164120"/>
                  <a:ext cx="951480" cy="951120"/>
                  <a:chOff x="3327120" y="4164120"/>
                  <a:chExt cx="951480" cy="951120"/>
                </a:xfrm>
              </p:grpSpPr>
              <p:sp>
                <p:nvSpPr>
                  <p:cNvPr id="1785" name="空心弧 359"/>
                  <p:cNvSpPr/>
                  <p:nvPr/>
                </p:nvSpPr>
                <p:spPr>
                  <a:xfrm rot="5608800">
                    <a:off x="3466080" y="4302000"/>
                    <a:ext cx="67320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31" h="3196079">
                        <a:moveTo>
                          <a:pt x="0" y="1598040"/>
                        </a:moveTo>
                        <a:cubicBezTo>
                          <a:pt x="0" y="1203134"/>
                          <a:pt x="146252" y="822213"/>
                          <a:pt x="410550" y="528741"/>
                        </a:cubicBezTo>
                        <a:lnTo>
                          <a:pt x="508819" y="617205"/>
                        </a:lnTo>
                        <a:cubicBezTo>
                          <a:pt x="266379" y="886397"/>
                          <a:pt x="132222" y="1235804"/>
                          <a:pt x="132222" y="1598040"/>
                        </a:cubicBezTo>
                        <a:lnTo>
                          <a:pt x="0" y="15980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空心弧 360"/>
                  <p:cNvSpPr/>
                  <p:nvPr/>
                </p:nvSpPr>
                <p:spPr>
                  <a:xfrm rot="8308800">
                    <a:off x="3465360" y="4303080"/>
                    <a:ext cx="67464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79" h="3196731">
                        <a:moveTo>
                          <a:pt x="0" y="1598366"/>
                        </a:moveTo>
                        <a:cubicBezTo>
                          <a:pt x="0" y="1203491"/>
                          <a:pt x="146139" y="822592"/>
                          <a:pt x="410249" y="529090"/>
                        </a:cubicBezTo>
                        <a:lnTo>
                          <a:pt x="508518" y="617553"/>
                        </a:lnTo>
                        <a:cubicBezTo>
                          <a:pt x="266266" y="886775"/>
                          <a:pt x="132222" y="1236160"/>
                          <a:pt x="132222" y="1598365"/>
                        </a:cubicBezTo>
                        <a:lnTo>
                          <a:pt x="0" y="159836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7" name="组合 350"/>
              <p:cNvGrpSpPr/>
              <p:nvPr/>
            </p:nvGrpSpPr>
            <p:grpSpPr>
              <a:xfrm>
                <a:off x="3326760" y="4164120"/>
                <a:ext cx="951840" cy="951480"/>
                <a:chOff x="3326760" y="4164120"/>
                <a:chExt cx="951840" cy="951480"/>
              </a:xfrm>
            </p:grpSpPr>
            <p:grpSp>
              <p:nvGrpSpPr>
                <p:cNvPr id="1788" name="组合 351"/>
                <p:cNvGrpSpPr/>
                <p:nvPr/>
              </p:nvGrpSpPr>
              <p:grpSpPr>
                <a:xfrm>
                  <a:off x="3327120" y="4164480"/>
                  <a:ext cx="951480" cy="951120"/>
                  <a:chOff x="3327120" y="4164480"/>
                  <a:chExt cx="951480" cy="951120"/>
                </a:xfrm>
              </p:grpSpPr>
              <p:sp>
                <p:nvSpPr>
                  <p:cNvPr id="1789" name="空心弧 355"/>
                  <p:cNvSpPr/>
                  <p:nvPr/>
                </p:nvSpPr>
                <p:spPr>
                  <a:xfrm rot="11008800">
                    <a:off x="3465360" y="4303080"/>
                    <a:ext cx="67464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79" h="3196731">
                        <a:moveTo>
                          <a:pt x="0" y="1598366"/>
                        </a:moveTo>
                        <a:cubicBezTo>
                          <a:pt x="0" y="1203491"/>
                          <a:pt x="146139" y="822592"/>
                          <a:pt x="410249" y="529090"/>
                        </a:cubicBezTo>
                        <a:lnTo>
                          <a:pt x="508518" y="617553"/>
                        </a:lnTo>
                        <a:cubicBezTo>
                          <a:pt x="266266" y="886775"/>
                          <a:pt x="132222" y="1236160"/>
                          <a:pt x="132222" y="1598365"/>
                        </a:cubicBezTo>
                        <a:lnTo>
                          <a:pt x="0" y="159836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空心弧 356"/>
                  <p:cNvSpPr/>
                  <p:nvPr/>
                </p:nvSpPr>
                <p:spPr>
                  <a:xfrm rot="13708800">
                    <a:off x="3466080" y="4302360"/>
                    <a:ext cx="67320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31" h="3196079">
                        <a:moveTo>
                          <a:pt x="0" y="1598040"/>
                        </a:moveTo>
                        <a:cubicBezTo>
                          <a:pt x="0" y="1203134"/>
                          <a:pt x="146252" y="822213"/>
                          <a:pt x="410550" y="528741"/>
                        </a:cubicBezTo>
                        <a:lnTo>
                          <a:pt x="508819" y="617205"/>
                        </a:lnTo>
                        <a:cubicBezTo>
                          <a:pt x="266379" y="886397"/>
                          <a:pt x="132222" y="1235804"/>
                          <a:pt x="132222" y="1598040"/>
                        </a:cubicBezTo>
                        <a:lnTo>
                          <a:pt x="0" y="15980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1" name="组合 352"/>
                <p:cNvGrpSpPr/>
                <p:nvPr/>
              </p:nvGrpSpPr>
              <p:grpSpPr>
                <a:xfrm>
                  <a:off x="3326760" y="4164120"/>
                  <a:ext cx="951480" cy="951120"/>
                  <a:chOff x="3326760" y="4164120"/>
                  <a:chExt cx="951480" cy="951120"/>
                </a:xfrm>
              </p:grpSpPr>
              <p:sp>
                <p:nvSpPr>
                  <p:cNvPr id="1792" name="空心弧 353"/>
                  <p:cNvSpPr/>
                  <p:nvPr/>
                </p:nvSpPr>
                <p:spPr>
                  <a:xfrm rot="16408800">
                    <a:off x="3466080" y="4302360"/>
                    <a:ext cx="67320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31" h="3196079">
                        <a:moveTo>
                          <a:pt x="0" y="1598040"/>
                        </a:moveTo>
                        <a:cubicBezTo>
                          <a:pt x="0" y="1203134"/>
                          <a:pt x="146252" y="822213"/>
                          <a:pt x="410550" y="528741"/>
                        </a:cubicBezTo>
                        <a:lnTo>
                          <a:pt x="508819" y="617205"/>
                        </a:lnTo>
                        <a:cubicBezTo>
                          <a:pt x="266379" y="886397"/>
                          <a:pt x="132222" y="1235804"/>
                          <a:pt x="132222" y="1598040"/>
                        </a:cubicBezTo>
                        <a:lnTo>
                          <a:pt x="0" y="159804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空心弧 354"/>
                  <p:cNvSpPr/>
                  <p:nvPr/>
                </p:nvSpPr>
                <p:spPr>
                  <a:xfrm rot="19108800">
                    <a:off x="3465000" y="4302720"/>
                    <a:ext cx="67464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079" h="3196731">
                        <a:moveTo>
                          <a:pt x="0" y="1598366"/>
                        </a:moveTo>
                        <a:cubicBezTo>
                          <a:pt x="0" y="1203491"/>
                          <a:pt x="146139" y="822592"/>
                          <a:pt x="410249" y="529090"/>
                        </a:cubicBezTo>
                        <a:lnTo>
                          <a:pt x="508518" y="617553"/>
                        </a:lnTo>
                        <a:cubicBezTo>
                          <a:pt x="266266" y="886775"/>
                          <a:pt x="132222" y="1236160"/>
                          <a:pt x="132222" y="1598365"/>
                        </a:cubicBezTo>
                        <a:lnTo>
                          <a:pt x="0" y="159836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94" name="组合 273"/>
            <p:cNvGrpSpPr/>
            <p:nvPr/>
          </p:nvGrpSpPr>
          <p:grpSpPr>
            <a:xfrm>
              <a:off x="4942800" y="4584600"/>
              <a:ext cx="680400" cy="680400"/>
              <a:chOff x="4942800" y="4584600"/>
              <a:chExt cx="680400" cy="680400"/>
            </a:xfrm>
          </p:grpSpPr>
          <p:grpSp>
            <p:nvGrpSpPr>
              <p:cNvPr id="1795" name="组合 335"/>
              <p:cNvGrpSpPr/>
              <p:nvPr/>
            </p:nvGrpSpPr>
            <p:grpSpPr>
              <a:xfrm>
                <a:off x="4942800" y="4584600"/>
                <a:ext cx="680040" cy="680400"/>
                <a:chOff x="4942800" y="4584600"/>
                <a:chExt cx="680040" cy="680400"/>
              </a:xfrm>
            </p:grpSpPr>
            <p:grpSp>
              <p:nvGrpSpPr>
                <p:cNvPr id="1796" name="组合 343"/>
                <p:cNvGrpSpPr/>
                <p:nvPr/>
              </p:nvGrpSpPr>
              <p:grpSpPr>
                <a:xfrm>
                  <a:off x="4942800" y="4584960"/>
                  <a:ext cx="680040" cy="680040"/>
                  <a:chOff x="4942800" y="4584960"/>
                  <a:chExt cx="680040" cy="680040"/>
                </a:xfrm>
              </p:grpSpPr>
              <p:sp>
                <p:nvSpPr>
                  <p:cNvPr id="1797" name="空心弧 347"/>
                  <p:cNvSpPr/>
                  <p:nvPr/>
                </p:nvSpPr>
                <p:spPr>
                  <a:xfrm rot="208200">
                    <a:off x="5042160" y="468396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74" h="3201663">
                        <a:moveTo>
                          <a:pt x="0" y="1600832"/>
                        </a:moveTo>
                        <a:cubicBezTo>
                          <a:pt x="0" y="1205231"/>
                          <a:pt x="146514" y="823640"/>
                          <a:pt x="411284" y="529654"/>
                        </a:cubicBezTo>
                        <a:lnTo>
                          <a:pt x="509725" y="618272"/>
                        </a:lnTo>
                        <a:cubicBezTo>
                          <a:pt x="266851" y="887935"/>
                          <a:pt x="132453" y="1237957"/>
                          <a:pt x="132453" y="1600831"/>
                        </a:cubicBezTo>
                        <a:lnTo>
                          <a:pt x="0" y="160083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空心弧 348"/>
                  <p:cNvSpPr/>
                  <p:nvPr/>
                </p:nvSpPr>
                <p:spPr>
                  <a:xfrm rot="2908800">
                    <a:off x="5041800" y="468396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63" h="3202374">
                        <a:moveTo>
                          <a:pt x="0" y="1601187"/>
                        </a:moveTo>
                        <a:cubicBezTo>
                          <a:pt x="0" y="1205620"/>
                          <a:pt x="146391" y="824053"/>
                          <a:pt x="410957" y="530034"/>
                        </a:cubicBezTo>
                        <a:lnTo>
                          <a:pt x="509397" y="618653"/>
                        </a:lnTo>
                        <a:cubicBezTo>
                          <a:pt x="266728" y="888349"/>
                          <a:pt x="132453" y="1238347"/>
                          <a:pt x="132453" y="1601187"/>
                        </a:cubicBezTo>
                        <a:lnTo>
                          <a:pt x="0" y="16011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9" name="组合 344"/>
                <p:cNvGrpSpPr/>
                <p:nvPr/>
              </p:nvGrpSpPr>
              <p:grpSpPr>
                <a:xfrm>
                  <a:off x="4942800" y="4584600"/>
                  <a:ext cx="680040" cy="680040"/>
                  <a:chOff x="4942800" y="4584600"/>
                  <a:chExt cx="680040" cy="680040"/>
                </a:xfrm>
              </p:grpSpPr>
              <p:sp>
                <p:nvSpPr>
                  <p:cNvPr id="1800" name="空心弧 345"/>
                  <p:cNvSpPr/>
                  <p:nvPr/>
                </p:nvSpPr>
                <p:spPr>
                  <a:xfrm rot="5608800">
                    <a:off x="5041800" y="468396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63" h="3202374">
                        <a:moveTo>
                          <a:pt x="0" y="1601187"/>
                        </a:moveTo>
                        <a:cubicBezTo>
                          <a:pt x="0" y="1205620"/>
                          <a:pt x="146391" y="824053"/>
                          <a:pt x="410957" y="530034"/>
                        </a:cubicBezTo>
                        <a:lnTo>
                          <a:pt x="509397" y="618653"/>
                        </a:lnTo>
                        <a:cubicBezTo>
                          <a:pt x="266728" y="888349"/>
                          <a:pt x="132453" y="1238347"/>
                          <a:pt x="132453" y="1601187"/>
                        </a:cubicBezTo>
                        <a:lnTo>
                          <a:pt x="0" y="16011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空心弧 346"/>
                  <p:cNvSpPr/>
                  <p:nvPr/>
                </p:nvSpPr>
                <p:spPr>
                  <a:xfrm rot="8308800">
                    <a:off x="5041800" y="468360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74" h="3201663">
                        <a:moveTo>
                          <a:pt x="0" y="1600832"/>
                        </a:moveTo>
                        <a:cubicBezTo>
                          <a:pt x="0" y="1205231"/>
                          <a:pt x="146514" y="823640"/>
                          <a:pt x="411284" y="529654"/>
                        </a:cubicBezTo>
                        <a:lnTo>
                          <a:pt x="509725" y="618272"/>
                        </a:lnTo>
                        <a:cubicBezTo>
                          <a:pt x="266851" y="887935"/>
                          <a:pt x="132453" y="1237957"/>
                          <a:pt x="132453" y="1600831"/>
                        </a:cubicBezTo>
                        <a:lnTo>
                          <a:pt x="0" y="160083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02" name="组合 336"/>
              <p:cNvGrpSpPr/>
              <p:nvPr/>
            </p:nvGrpSpPr>
            <p:grpSpPr>
              <a:xfrm>
                <a:off x="4943160" y="4584600"/>
                <a:ext cx="680040" cy="680400"/>
                <a:chOff x="4943160" y="4584600"/>
                <a:chExt cx="680040" cy="680400"/>
              </a:xfrm>
            </p:grpSpPr>
            <p:grpSp>
              <p:nvGrpSpPr>
                <p:cNvPr id="1803" name="组合 337"/>
                <p:cNvGrpSpPr/>
                <p:nvPr/>
              </p:nvGrpSpPr>
              <p:grpSpPr>
                <a:xfrm>
                  <a:off x="4943160" y="4584600"/>
                  <a:ext cx="680040" cy="680040"/>
                  <a:chOff x="4943160" y="4584600"/>
                  <a:chExt cx="680040" cy="680040"/>
                </a:xfrm>
              </p:grpSpPr>
              <p:sp>
                <p:nvSpPr>
                  <p:cNvPr id="1804" name="空心弧 341"/>
                  <p:cNvSpPr/>
                  <p:nvPr/>
                </p:nvSpPr>
                <p:spPr>
                  <a:xfrm rot="11008800">
                    <a:off x="5041800" y="468360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74" h="3201663">
                        <a:moveTo>
                          <a:pt x="0" y="1600832"/>
                        </a:moveTo>
                        <a:cubicBezTo>
                          <a:pt x="0" y="1205231"/>
                          <a:pt x="146514" y="823640"/>
                          <a:pt x="411284" y="529654"/>
                        </a:cubicBezTo>
                        <a:lnTo>
                          <a:pt x="509725" y="618272"/>
                        </a:lnTo>
                        <a:cubicBezTo>
                          <a:pt x="266851" y="887935"/>
                          <a:pt x="132453" y="1237957"/>
                          <a:pt x="132453" y="1600831"/>
                        </a:cubicBezTo>
                        <a:lnTo>
                          <a:pt x="0" y="160083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空心弧 342"/>
                  <p:cNvSpPr/>
                  <p:nvPr/>
                </p:nvSpPr>
                <p:spPr>
                  <a:xfrm rot="13708800">
                    <a:off x="5042160" y="468360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63" h="3202374">
                        <a:moveTo>
                          <a:pt x="0" y="1601187"/>
                        </a:moveTo>
                        <a:cubicBezTo>
                          <a:pt x="0" y="1205620"/>
                          <a:pt x="146391" y="824053"/>
                          <a:pt x="410957" y="530034"/>
                        </a:cubicBezTo>
                        <a:lnTo>
                          <a:pt x="509397" y="618653"/>
                        </a:lnTo>
                        <a:cubicBezTo>
                          <a:pt x="266728" y="888349"/>
                          <a:pt x="132453" y="1238347"/>
                          <a:pt x="132453" y="1601187"/>
                        </a:cubicBezTo>
                        <a:lnTo>
                          <a:pt x="0" y="16011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6" name="组合 338"/>
                <p:cNvGrpSpPr/>
                <p:nvPr/>
              </p:nvGrpSpPr>
              <p:grpSpPr>
                <a:xfrm>
                  <a:off x="4943160" y="4584960"/>
                  <a:ext cx="680040" cy="680040"/>
                  <a:chOff x="4943160" y="4584960"/>
                  <a:chExt cx="680040" cy="680040"/>
                </a:xfrm>
              </p:grpSpPr>
              <p:sp>
                <p:nvSpPr>
                  <p:cNvPr id="1807" name="空心弧 339"/>
                  <p:cNvSpPr/>
                  <p:nvPr/>
                </p:nvSpPr>
                <p:spPr>
                  <a:xfrm rot="16408800">
                    <a:off x="5042160" y="468360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663" h="3202374">
                        <a:moveTo>
                          <a:pt x="0" y="1601187"/>
                        </a:moveTo>
                        <a:cubicBezTo>
                          <a:pt x="0" y="1205620"/>
                          <a:pt x="146391" y="824053"/>
                          <a:pt x="410957" y="530034"/>
                        </a:cubicBezTo>
                        <a:lnTo>
                          <a:pt x="509397" y="618653"/>
                        </a:lnTo>
                        <a:cubicBezTo>
                          <a:pt x="266728" y="888349"/>
                          <a:pt x="132453" y="1238347"/>
                          <a:pt x="132453" y="1601187"/>
                        </a:cubicBezTo>
                        <a:lnTo>
                          <a:pt x="0" y="160118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空心弧 340"/>
                  <p:cNvSpPr/>
                  <p:nvPr/>
                </p:nvSpPr>
                <p:spPr>
                  <a:xfrm rot="19108800">
                    <a:off x="5042160" y="4683960"/>
                    <a:ext cx="4816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2374" h="3201663">
                        <a:moveTo>
                          <a:pt x="0" y="1600832"/>
                        </a:moveTo>
                        <a:cubicBezTo>
                          <a:pt x="0" y="1205231"/>
                          <a:pt x="146514" y="823640"/>
                          <a:pt x="411284" y="529654"/>
                        </a:cubicBezTo>
                        <a:lnTo>
                          <a:pt x="509725" y="618272"/>
                        </a:lnTo>
                        <a:cubicBezTo>
                          <a:pt x="266851" y="887935"/>
                          <a:pt x="132453" y="1237957"/>
                          <a:pt x="132453" y="1600831"/>
                        </a:cubicBezTo>
                        <a:lnTo>
                          <a:pt x="0" y="1600832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09" name="组合 274"/>
            <p:cNvGrpSpPr/>
            <p:nvPr/>
          </p:nvGrpSpPr>
          <p:grpSpPr>
            <a:xfrm>
              <a:off x="4955760" y="1773000"/>
              <a:ext cx="682200" cy="681120"/>
              <a:chOff x="4955760" y="1773000"/>
              <a:chExt cx="682200" cy="681120"/>
            </a:xfrm>
          </p:grpSpPr>
          <p:grpSp>
            <p:nvGrpSpPr>
              <p:cNvPr id="1810" name="组合 321"/>
              <p:cNvGrpSpPr/>
              <p:nvPr/>
            </p:nvGrpSpPr>
            <p:grpSpPr>
              <a:xfrm>
                <a:off x="4955760" y="1773000"/>
                <a:ext cx="681480" cy="681120"/>
                <a:chOff x="4955760" y="1773000"/>
                <a:chExt cx="681480" cy="681120"/>
              </a:xfrm>
            </p:grpSpPr>
            <p:grpSp>
              <p:nvGrpSpPr>
                <p:cNvPr id="1811" name="组合 329"/>
                <p:cNvGrpSpPr/>
                <p:nvPr/>
              </p:nvGrpSpPr>
              <p:grpSpPr>
                <a:xfrm>
                  <a:off x="4955760" y="1773000"/>
                  <a:ext cx="681120" cy="681120"/>
                  <a:chOff x="4955760" y="1773000"/>
                  <a:chExt cx="681120" cy="681120"/>
                </a:xfrm>
              </p:grpSpPr>
              <p:sp>
                <p:nvSpPr>
                  <p:cNvPr id="1812" name="空心弧 333"/>
                  <p:cNvSpPr/>
                  <p:nvPr/>
                </p:nvSpPr>
                <p:spPr>
                  <a:xfrm rot="208200">
                    <a:off x="5055120" y="1872720"/>
                    <a:ext cx="4834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457" h="3191128">
                        <a:moveTo>
                          <a:pt x="0" y="1595564"/>
                        </a:moveTo>
                        <a:cubicBezTo>
                          <a:pt x="0" y="1200527"/>
                          <a:pt x="146973" y="819534"/>
                          <a:pt x="412476" y="526321"/>
                        </a:cubicBezTo>
                        <a:lnTo>
                          <a:pt x="510592" y="614649"/>
                        </a:lnTo>
                        <a:cubicBezTo>
                          <a:pt x="266914" y="883618"/>
                          <a:pt x="132016" y="1233147"/>
                          <a:pt x="132016" y="1595565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空心弧 334"/>
                  <p:cNvSpPr/>
                  <p:nvPr/>
                </p:nvSpPr>
                <p:spPr>
                  <a:xfrm rot="2908800">
                    <a:off x="5055120" y="1871640"/>
                    <a:ext cx="481680" cy="48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0457">
                        <a:moveTo>
                          <a:pt x="0" y="1600229"/>
                        </a:moveTo>
                        <a:cubicBezTo>
                          <a:pt x="0" y="1205638"/>
                          <a:pt x="145365" y="824960"/>
                          <a:pt x="408174" y="531313"/>
                        </a:cubicBezTo>
                        <a:lnTo>
                          <a:pt x="506291" y="619640"/>
                        </a:lnTo>
                        <a:cubicBezTo>
                          <a:pt x="265306" y="889044"/>
                          <a:pt x="132017" y="1238258"/>
                          <a:pt x="132017" y="1600229"/>
                        </a:cubicBezTo>
                        <a:lnTo>
                          <a:pt x="0" y="1600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4" name="组合 330"/>
                <p:cNvGrpSpPr/>
                <p:nvPr/>
              </p:nvGrpSpPr>
              <p:grpSpPr>
                <a:xfrm>
                  <a:off x="4956120" y="1773000"/>
                  <a:ext cx="681120" cy="681120"/>
                  <a:chOff x="4956120" y="1773000"/>
                  <a:chExt cx="681120" cy="681120"/>
                </a:xfrm>
              </p:grpSpPr>
              <p:sp>
                <p:nvSpPr>
                  <p:cNvPr id="1815" name="空心弧 331"/>
                  <p:cNvSpPr/>
                  <p:nvPr/>
                </p:nvSpPr>
                <p:spPr>
                  <a:xfrm rot="5608800">
                    <a:off x="5055480" y="1871640"/>
                    <a:ext cx="481680" cy="48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0457">
                        <a:moveTo>
                          <a:pt x="0" y="1600229"/>
                        </a:moveTo>
                        <a:cubicBezTo>
                          <a:pt x="0" y="1205638"/>
                          <a:pt x="145365" y="824960"/>
                          <a:pt x="408174" y="531313"/>
                        </a:cubicBezTo>
                        <a:lnTo>
                          <a:pt x="506291" y="619640"/>
                        </a:lnTo>
                        <a:cubicBezTo>
                          <a:pt x="265306" y="889044"/>
                          <a:pt x="132017" y="1238258"/>
                          <a:pt x="132017" y="1600229"/>
                        </a:cubicBezTo>
                        <a:lnTo>
                          <a:pt x="0" y="1600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空心弧 332"/>
                  <p:cNvSpPr/>
                  <p:nvPr/>
                </p:nvSpPr>
                <p:spPr>
                  <a:xfrm rot="8308800">
                    <a:off x="5054760" y="1872720"/>
                    <a:ext cx="4834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457" h="3191128">
                        <a:moveTo>
                          <a:pt x="0" y="1595564"/>
                        </a:moveTo>
                        <a:cubicBezTo>
                          <a:pt x="0" y="1200527"/>
                          <a:pt x="146973" y="819534"/>
                          <a:pt x="412476" y="526321"/>
                        </a:cubicBezTo>
                        <a:lnTo>
                          <a:pt x="510592" y="614649"/>
                        </a:lnTo>
                        <a:cubicBezTo>
                          <a:pt x="266914" y="883618"/>
                          <a:pt x="132016" y="1233147"/>
                          <a:pt x="132016" y="1595565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7" name="组合 322"/>
              <p:cNvGrpSpPr/>
              <p:nvPr/>
            </p:nvGrpSpPr>
            <p:grpSpPr>
              <a:xfrm>
                <a:off x="4956120" y="1773000"/>
                <a:ext cx="681840" cy="681120"/>
                <a:chOff x="4956120" y="1773000"/>
                <a:chExt cx="681840" cy="681120"/>
              </a:xfrm>
            </p:grpSpPr>
            <p:grpSp>
              <p:nvGrpSpPr>
                <p:cNvPr id="1818" name="组合 323"/>
                <p:cNvGrpSpPr/>
                <p:nvPr/>
              </p:nvGrpSpPr>
              <p:grpSpPr>
                <a:xfrm>
                  <a:off x="4956480" y="1773000"/>
                  <a:ext cx="681480" cy="681120"/>
                  <a:chOff x="4956480" y="1773000"/>
                  <a:chExt cx="681480" cy="681120"/>
                </a:xfrm>
              </p:grpSpPr>
              <p:sp>
                <p:nvSpPr>
                  <p:cNvPr id="1819" name="空心弧 327"/>
                  <p:cNvSpPr/>
                  <p:nvPr/>
                </p:nvSpPr>
                <p:spPr>
                  <a:xfrm rot="11008800">
                    <a:off x="5054400" y="1872360"/>
                    <a:ext cx="4834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457" h="3191128">
                        <a:moveTo>
                          <a:pt x="0" y="1595564"/>
                        </a:moveTo>
                        <a:cubicBezTo>
                          <a:pt x="0" y="1200527"/>
                          <a:pt x="146973" y="819534"/>
                          <a:pt x="412476" y="526321"/>
                        </a:cubicBezTo>
                        <a:lnTo>
                          <a:pt x="510592" y="614649"/>
                        </a:lnTo>
                        <a:cubicBezTo>
                          <a:pt x="266914" y="883618"/>
                          <a:pt x="132016" y="1233147"/>
                          <a:pt x="132016" y="1595565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空心弧 328"/>
                  <p:cNvSpPr/>
                  <p:nvPr/>
                </p:nvSpPr>
                <p:spPr>
                  <a:xfrm rot="13708800">
                    <a:off x="5056200" y="1871640"/>
                    <a:ext cx="481680" cy="48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0457">
                        <a:moveTo>
                          <a:pt x="0" y="1600229"/>
                        </a:moveTo>
                        <a:cubicBezTo>
                          <a:pt x="0" y="1205638"/>
                          <a:pt x="145365" y="824960"/>
                          <a:pt x="408174" y="531313"/>
                        </a:cubicBezTo>
                        <a:lnTo>
                          <a:pt x="506291" y="619640"/>
                        </a:lnTo>
                        <a:cubicBezTo>
                          <a:pt x="265306" y="889044"/>
                          <a:pt x="132017" y="1238258"/>
                          <a:pt x="132017" y="1600229"/>
                        </a:cubicBezTo>
                        <a:lnTo>
                          <a:pt x="0" y="1600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1" name="组合 324"/>
                <p:cNvGrpSpPr/>
                <p:nvPr/>
              </p:nvGrpSpPr>
              <p:grpSpPr>
                <a:xfrm>
                  <a:off x="4956120" y="1773000"/>
                  <a:ext cx="681120" cy="681120"/>
                  <a:chOff x="4956120" y="1773000"/>
                  <a:chExt cx="681120" cy="681120"/>
                </a:xfrm>
              </p:grpSpPr>
              <p:sp>
                <p:nvSpPr>
                  <p:cNvPr id="1822" name="空心弧 325"/>
                  <p:cNvSpPr/>
                  <p:nvPr/>
                </p:nvSpPr>
                <p:spPr>
                  <a:xfrm rot="16408800">
                    <a:off x="5055840" y="1871640"/>
                    <a:ext cx="481680" cy="48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128" h="3200457">
                        <a:moveTo>
                          <a:pt x="0" y="1600229"/>
                        </a:moveTo>
                        <a:cubicBezTo>
                          <a:pt x="0" y="1205638"/>
                          <a:pt x="145365" y="824960"/>
                          <a:pt x="408174" y="531313"/>
                        </a:cubicBezTo>
                        <a:lnTo>
                          <a:pt x="506291" y="619640"/>
                        </a:lnTo>
                        <a:cubicBezTo>
                          <a:pt x="265306" y="889044"/>
                          <a:pt x="132017" y="1238258"/>
                          <a:pt x="132017" y="1600229"/>
                        </a:cubicBezTo>
                        <a:lnTo>
                          <a:pt x="0" y="160022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空心弧 326"/>
                  <p:cNvSpPr/>
                  <p:nvPr/>
                </p:nvSpPr>
                <p:spPr>
                  <a:xfrm rot="19108800">
                    <a:off x="5054760" y="1872360"/>
                    <a:ext cx="483480" cy="48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457" h="3191128">
                        <a:moveTo>
                          <a:pt x="0" y="1595564"/>
                        </a:moveTo>
                        <a:cubicBezTo>
                          <a:pt x="0" y="1200527"/>
                          <a:pt x="146973" y="819534"/>
                          <a:pt x="412476" y="526321"/>
                        </a:cubicBezTo>
                        <a:lnTo>
                          <a:pt x="510592" y="614649"/>
                        </a:lnTo>
                        <a:cubicBezTo>
                          <a:pt x="266914" y="883618"/>
                          <a:pt x="132016" y="1233147"/>
                          <a:pt x="132016" y="1595565"/>
                        </a:cubicBezTo>
                        <a:lnTo>
                          <a:pt x="0" y="159556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24" name="直接连接符 275"/>
            <p:cNvSpPr/>
            <p:nvPr/>
          </p:nvSpPr>
          <p:spPr>
            <a:xfrm>
              <a:off x="7481880" y="3254400"/>
              <a:ext cx="387360" cy="6411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直接连接符 276"/>
            <p:cNvSpPr/>
            <p:nvPr/>
          </p:nvSpPr>
          <p:spPr>
            <a:xfrm flipH="1">
              <a:off x="8057880" y="2371680"/>
              <a:ext cx="430200" cy="15177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直接连接符 277"/>
            <p:cNvSpPr/>
            <p:nvPr/>
          </p:nvSpPr>
          <p:spPr>
            <a:xfrm>
              <a:off x="6380280" y="4029120"/>
              <a:ext cx="368280" cy="44280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直接连接符 278"/>
            <p:cNvSpPr/>
            <p:nvPr/>
          </p:nvSpPr>
          <p:spPr>
            <a:xfrm>
              <a:off x="4554360" y="4025880"/>
              <a:ext cx="566640" cy="7333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直接连接符 279"/>
            <p:cNvSpPr/>
            <p:nvPr/>
          </p:nvSpPr>
          <p:spPr>
            <a:xfrm>
              <a:off x="5402160" y="2306520"/>
              <a:ext cx="336240" cy="8125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直接连接符 280"/>
            <p:cNvSpPr/>
            <p:nvPr/>
          </p:nvSpPr>
          <p:spPr>
            <a:xfrm>
              <a:off x="3940200" y="2598480"/>
              <a:ext cx="353880" cy="10159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直接连接符 281"/>
            <p:cNvSpPr/>
            <p:nvPr/>
          </p:nvSpPr>
          <p:spPr>
            <a:xfrm flipV="1">
              <a:off x="5508720" y="4754160"/>
              <a:ext cx="1211040" cy="2314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直接连接符 282"/>
            <p:cNvSpPr/>
            <p:nvPr/>
          </p:nvSpPr>
          <p:spPr>
            <a:xfrm flipH="1">
              <a:off x="8502480" y="3817800"/>
              <a:ext cx="153720" cy="8427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直接连接符 283"/>
            <p:cNvSpPr/>
            <p:nvPr/>
          </p:nvSpPr>
          <p:spPr>
            <a:xfrm>
              <a:off x="3395520" y="3622680"/>
              <a:ext cx="287280" cy="7030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直接连接符 284"/>
            <p:cNvSpPr/>
            <p:nvPr/>
          </p:nvSpPr>
          <p:spPr>
            <a:xfrm flipH="1">
              <a:off x="3138120" y="3614760"/>
              <a:ext cx="153720" cy="3682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直接连接符 285"/>
            <p:cNvSpPr/>
            <p:nvPr/>
          </p:nvSpPr>
          <p:spPr>
            <a:xfrm>
              <a:off x="4052880" y="4824360"/>
              <a:ext cx="998280" cy="968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直接连接符 286"/>
            <p:cNvSpPr/>
            <p:nvPr/>
          </p:nvSpPr>
          <p:spPr>
            <a:xfrm>
              <a:off x="3187440" y="4237200"/>
              <a:ext cx="326880" cy="2635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直接连接符 287"/>
            <p:cNvSpPr/>
            <p:nvPr/>
          </p:nvSpPr>
          <p:spPr>
            <a:xfrm flipV="1">
              <a:off x="4354560" y="2111040"/>
              <a:ext cx="712800" cy="5220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直接连接符 288"/>
            <p:cNvSpPr/>
            <p:nvPr/>
          </p:nvSpPr>
          <p:spPr>
            <a:xfrm>
              <a:off x="5519880" y="2130120"/>
              <a:ext cx="1677960" cy="6937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直接连接符 289"/>
            <p:cNvSpPr/>
            <p:nvPr/>
          </p:nvSpPr>
          <p:spPr>
            <a:xfrm flipV="1">
              <a:off x="7566120" y="1996920"/>
              <a:ext cx="568080" cy="8301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直接连接符 290"/>
            <p:cNvSpPr/>
            <p:nvPr/>
          </p:nvSpPr>
          <p:spPr>
            <a:xfrm>
              <a:off x="7351920" y="4738680"/>
              <a:ext cx="965160" cy="95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直接连接符 291"/>
            <p:cNvSpPr/>
            <p:nvPr/>
          </p:nvSpPr>
          <p:spPr>
            <a:xfrm>
              <a:off x="6570720" y="3808440"/>
              <a:ext cx="1155600" cy="2793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直接连接符 292"/>
            <p:cNvSpPr/>
            <p:nvPr/>
          </p:nvSpPr>
          <p:spPr>
            <a:xfrm flipV="1">
              <a:off x="5526000" y="1985760"/>
              <a:ext cx="2601720" cy="95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直接连接符 293"/>
            <p:cNvSpPr/>
            <p:nvPr/>
          </p:nvSpPr>
          <p:spPr>
            <a:xfrm flipH="1">
              <a:off x="3457080" y="2577960"/>
              <a:ext cx="298440" cy="8143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直接连接符 294"/>
            <p:cNvSpPr/>
            <p:nvPr/>
          </p:nvSpPr>
          <p:spPr>
            <a:xfrm flipH="1">
              <a:off x="4616280" y="3736800"/>
              <a:ext cx="836640" cy="95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直接连接符 295"/>
            <p:cNvSpPr/>
            <p:nvPr/>
          </p:nvSpPr>
          <p:spPr>
            <a:xfrm flipH="1">
              <a:off x="7375680" y="4264200"/>
              <a:ext cx="419040" cy="3189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5" name="组合 296" descr=""/>
            <p:cNvPicPr/>
            <p:nvPr/>
          </p:nvPicPr>
          <p:blipFill>
            <a:blip r:embed="rId2"/>
            <a:stretch/>
          </p:blipFill>
          <p:spPr>
            <a:xfrm>
              <a:off x="3706200" y="1993320"/>
              <a:ext cx="55476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任意多边形 297"/>
            <p:cNvSpPr/>
            <p:nvPr/>
          </p:nvSpPr>
          <p:spPr>
            <a:xfrm>
              <a:off x="4243320" y="3656160"/>
              <a:ext cx="298440" cy="303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7" name="组合 298" descr=""/>
            <p:cNvPicPr/>
            <p:nvPr/>
          </p:nvPicPr>
          <p:blipFill>
            <a:blip r:embed="rId3"/>
            <a:stretch/>
          </p:blipFill>
          <p:spPr>
            <a:xfrm>
              <a:off x="8260200" y="1828800"/>
              <a:ext cx="493560" cy="3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8" name="任意多边形 299"/>
            <p:cNvSpPr/>
            <p:nvPr/>
          </p:nvSpPr>
          <p:spPr>
            <a:xfrm>
              <a:off x="5151600" y="1925640"/>
              <a:ext cx="296640" cy="303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9" name="组合 300" descr=""/>
            <p:cNvPicPr/>
            <p:nvPr/>
          </p:nvPicPr>
          <p:blipFill>
            <a:blip r:embed="rId4"/>
            <a:stretch/>
          </p:blipFill>
          <p:spPr>
            <a:xfrm>
              <a:off x="6772680" y="4486680"/>
              <a:ext cx="49356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组合 301" descr=""/>
            <p:cNvPicPr/>
            <p:nvPr/>
          </p:nvPicPr>
          <p:blipFill>
            <a:blip r:embed="rId5"/>
            <a:stretch/>
          </p:blipFill>
          <p:spPr>
            <a:xfrm>
              <a:off x="3572280" y="4456080"/>
              <a:ext cx="49356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组合 302" descr=""/>
            <p:cNvPicPr/>
            <p:nvPr/>
          </p:nvPicPr>
          <p:blipFill>
            <a:blip r:embed="rId6"/>
            <a:stretch/>
          </p:blipFill>
          <p:spPr>
            <a:xfrm>
              <a:off x="5108400" y="4803840"/>
              <a:ext cx="3412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任意多边形 303"/>
            <p:cNvSpPr/>
            <p:nvPr/>
          </p:nvSpPr>
          <p:spPr>
            <a:xfrm>
              <a:off x="8560080" y="3335400"/>
              <a:ext cx="355320" cy="3618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3" name="组合 304" descr=""/>
            <p:cNvPicPr/>
            <p:nvPr/>
          </p:nvPicPr>
          <p:blipFill>
            <a:blip r:embed="rId7"/>
            <a:stretch/>
          </p:blipFill>
          <p:spPr>
            <a:xfrm>
              <a:off x="3249000" y="3413880"/>
              <a:ext cx="2131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4" name="任意多边形 305"/>
            <p:cNvSpPr/>
            <p:nvPr/>
          </p:nvSpPr>
          <p:spPr>
            <a:xfrm>
              <a:off x="7805880" y="3921120"/>
              <a:ext cx="299880" cy="303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任意多边形 306"/>
            <p:cNvSpPr/>
            <p:nvPr/>
          </p:nvSpPr>
          <p:spPr>
            <a:xfrm>
              <a:off x="7226280" y="2849400"/>
              <a:ext cx="298440" cy="3045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任意多边形 307"/>
            <p:cNvSpPr/>
            <p:nvPr/>
          </p:nvSpPr>
          <p:spPr>
            <a:xfrm>
              <a:off x="8394840" y="4729320"/>
              <a:ext cx="195120" cy="1983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任意多边形 308"/>
            <p:cNvSpPr/>
            <p:nvPr/>
          </p:nvSpPr>
          <p:spPr>
            <a:xfrm>
              <a:off x="3003480" y="4008600"/>
              <a:ext cx="195120" cy="1983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五边形 1"/>
          <p:cNvSpPr/>
          <p:nvPr/>
        </p:nvSpPr>
        <p:spPr>
          <a:xfrm>
            <a:off x="0" y="611280"/>
            <a:ext cx="2741760" cy="80640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23" y="0"/>
                </a:lnTo>
                <a:lnTo>
                  <a:pt x="21600" y="10800"/>
                </a:lnTo>
                <a:lnTo>
                  <a:pt x="184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2"/>
          <p:cNvSpPr/>
          <p:nvPr/>
        </p:nvSpPr>
        <p:spPr>
          <a:xfrm>
            <a:off x="587880" y="69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节点社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文本框 91"/>
          <p:cNvSpPr/>
          <p:nvPr/>
        </p:nvSpPr>
        <p:spPr>
          <a:xfrm>
            <a:off x="3378240" y="642960"/>
            <a:ext cx="541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具有共同目标的个人群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圆角矩形 3"/>
          <p:cNvSpPr/>
          <p:nvPr/>
        </p:nvSpPr>
        <p:spPr>
          <a:xfrm>
            <a:off x="2070000" y="5421240"/>
            <a:ext cx="8040960" cy="1268640"/>
          </a:xfrm>
          <a:prstGeom prst="roundRect">
            <a:avLst>
              <a:gd name="adj" fmla="val 11519"/>
            </a:avLst>
          </a:prstGeom>
          <a:noFill/>
          <a:ln w="12600">
            <a:solidFill>
              <a:srgbClr val="231f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90"/>
          <p:cNvSpPr/>
          <p:nvPr/>
        </p:nvSpPr>
        <p:spPr>
          <a:xfrm>
            <a:off x="2139840" y="5553000"/>
            <a:ext cx="791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过去的信息从“管理者”流向“追随者”，现在信息从“节点”流向“节点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节点社群可以实现即时沟通，节点之间既能共享信息，又能接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3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1864" name="椭圆 95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直接连接符 96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直接连接符 97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椭圆 98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椭圆 99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椭圆 100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直接连接符 101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直接连接符 102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直接连接符 103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椭圆 104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椭圆 105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椭圆 106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椭圆 107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椭圆 108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椭圆 109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椭圆 110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椭圆 111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椭圆 112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椭圆 113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椭圆 114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直接连接符 115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直接连接符 116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直接连接符 117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直接连接符 118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椭圆 119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椭圆 120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直接连接符 121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椭圆 122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直接连接符 123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直接连接符 124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直接连接符 125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直接连接符 126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直接连接符 127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椭圆 128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椭圆 129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直接连接符 130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直接连接符 131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直接连接符 132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圆角矩形 87"/>
          <p:cNvSpPr/>
          <p:nvPr/>
        </p:nvSpPr>
        <p:spPr>
          <a:xfrm>
            <a:off x="6095880" y="1741320"/>
            <a:ext cx="5573880" cy="2724480"/>
          </a:xfrm>
          <a:prstGeom prst="roundRect">
            <a:avLst>
              <a:gd name="adj" fmla="val 6833"/>
            </a:avLst>
          </a:pr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文本框 827"/>
          <p:cNvSpPr/>
          <p:nvPr/>
        </p:nvSpPr>
        <p:spPr>
          <a:xfrm>
            <a:off x="6113520" y="208584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一页纸</a:t>
            </a:r>
            <a:r>
              <a:rPr b="0" lang="en-US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PPT”</a:t>
            </a:r>
            <a:r>
              <a:rPr b="0" lang="zh-CN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社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4" name="组合 1"/>
          <p:cNvGrpSpPr/>
          <p:nvPr/>
        </p:nvGrpSpPr>
        <p:grpSpPr>
          <a:xfrm>
            <a:off x="2243160" y="1643040"/>
            <a:ext cx="2057400" cy="4984920"/>
            <a:chOff x="2243160" y="1643040"/>
            <a:chExt cx="2057400" cy="4984920"/>
          </a:xfrm>
        </p:grpSpPr>
        <p:pic>
          <p:nvPicPr>
            <p:cNvPr id="1905" name="组合 6" descr=""/>
            <p:cNvPicPr/>
            <p:nvPr/>
          </p:nvPicPr>
          <p:blipFill>
            <a:blip r:embed="rId1"/>
            <a:stretch/>
          </p:blipFill>
          <p:spPr>
            <a:xfrm>
              <a:off x="3722400" y="6390720"/>
              <a:ext cx="578160" cy="2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组合 7" descr=""/>
            <p:cNvPicPr/>
            <p:nvPr/>
          </p:nvPicPr>
          <p:blipFill>
            <a:blip r:embed="rId2"/>
            <a:stretch/>
          </p:blipFill>
          <p:spPr>
            <a:xfrm>
              <a:off x="2553480" y="6213960"/>
              <a:ext cx="663480" cy="35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7" name="组合 8"/>
            <p:cNvGrpSpPr/>
            <p:nvPr/>
          </p:nvGrpSpPr>
          <p:grpSpPr>
            <a:xfrm>
              <a:off x="3486240" y="2811600"/>
              <a:ext cx="484920" cy="419400"/>
              <a:chOff x="3486240" y="2811600"/>
              <a:chExt cx="484920" cy="419400"/>
            </a:xfrm>
          </p:grpSpPr>
          <p:sp>
            <p:nvSpPr>
              <p:cNvPr id="1908" name="任意多边形 66"/>
              <p:cNvSpPr/>
              <p:nvPr/>
            </p:nvSpPr>
            <p:spPr>
              <a:xfrm>
                <a:off x="3486240" y="2898720"/>
                <a:ext cx="484920" cy="332280"/>
              </a:xfrm>
              <a:custGeom>
                <a:avLst/>
                <a:gdLst/>
                <a:ahLst/>
                <a:rect l="l" t="t" r="r" b="b"/>
                <a:pathLst>
                  <a:path w="717941" h="490780">
                    <a:moveTo>
                      <a:pt x="464803" y="490780"/>
                    </a:moveTo>
                    <a:lnTo>
                      <a:pt x="475135" y="346129"/>
                    </a:lnTo>
                    <a:lnTo>
                      <a:pt x="335650" y="315132"/>
                    </a:lnTo>
                    <a:cubicBezTo>
                      <a:pt x="201331" y="204922"/>
                      <a:pt x="30851" y="291023"/>
                      <a:pt x="10186" y="263471"/>
                    </a:cubicBezTo>
                    <a:cubicBezTo>
                      <a:pt x="-51807" y="139484"/>
                      <a:pt x="185833" y="170482"/>
                      <a:pt x="273657" y="123987"/>
                    </a:cubicBezTo>
                    <a:lnTo>
                      <a:pt x="659987" y="0"/>
                    </a:lnTo>
                    <a:cubicBezTo>
                      <a:pt x="759864" y="189424"/>
                      <a:pt x="664558" y="332353"/>
                      <a:pt x="717941" y="490780"/>
                    </a:cubicBezTo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任意多边形 67"/>
              <p:cNvSpPr/>
              <p:nvPr/>
            </p:nvSpPr>
            <p:spPr>
              <a:xfrm>
                <a:off x="3647880" y="2849760"/>
                <a:ext cx="83880" cy="168480"/>
              </a:xfrm>
              <a:custGeom>
                <a:avLst/>
                <a:gdLst/>
                <a:ahLst/>
                <a:rect l="l" t="t" r="r" b="b"/>
                <a:pathLst>
                  <a:path w="125806" h="248545">
                    <a:moveTo>
                      <a:pt x="107395" y="0"/>
                    </a:moveTo>
                    <a:cubicBezTo>
                      <a:pt x="80802" y="25570"/>
                      <a:pt x="45003" y="26593"/>
                      <a:pt x="27616" y="76711"/>
                    </a:cubicBezTo>
                    <a:lnTo>
                      <a:pt x="0" y="113533"/>
                    </a:lnTo>
                    <a:cubicBezTo>
                      <a:pt x="5115" y="161606"/>
                      <a:pt x="34775" y="203541"/>
                      <a:pt x="52163" y="248545"/>
                    </a:cubicBezTo>
                    <a:lnTo>
                      <a:pt x="125806" y="205587"/>
                    </a:lnTo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任意多边形 68"/>
              <p:cNvSpPr/>
              <p:nvPr/>
            </p:nvSpPr>
            <p:spPr>
              <a:xfrm>
                <a:off x="3693960" y="2817720"/>
                <a:ext cx="125280" cy="189000"/>
              </a:xfrm>
              <a:custGeom>
                <a:avLst/>
                <a:gdLst/>
                <a:ahLst/>
                <a:rect l="l" t="t" r="r" b="b"/>
                <a:pathLst>
                  <a:path w="184107" h="279444">
                    <a:moveTo>
                      <a:pt x="153422" y="0"/>
                    </a:moveTo>
                    <a:cubicBezTo>
                      <a:pt x="113532" y="4091"/>
                      <a:pt x="67506" y="-10229"/>
                      <a:pt x="27616" y="21479"/>
                    </a:cubicBezTo>
                    <a:cubicBezTo>
                      <a:pt x="-1023" y="70575"/>
                      <a:pt x="1023" y="138080"/>
                      <a:pt x="0" y="159560"/>
                    </a:cubicBezTo>
                    <a:cubicBezTo>
                      <a:pt x="25570" y="217860"/>
                      <a:pt x="32730" y="239340"/>
                      <a:pt x="55232" y="279230"/>
                    </a:cubicBezTo>
                    <a:cubicBezTo>
                      <a:pt x="104327" y="282299"/>
                      <a:pt x="144217" y="251613"/>
                      <a:pt x="184107" y="239339"/>
                    </a:cubicBezTo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任意多边形 69"/>
              <p:cNvSpPr/>
              <p:nvPr/>
            </p:nvSpPr>
            <p:spPr>
              <a:xfrm>
                <a:off x="3754080" y="2811600"/>
                <a:ext cx="180720" cy="177840"/>
              </a:xfrm>
              <a:custGeom>
                <a:avLst/>
                <a:gdLst/>
                <a:ahLst/>
                <a:rect l="l" t="t" r="r" b="b"/>
                <a:pathLst>
                  <a:path w="268637" h="263628">
                    <a:moveTo>
                      <a:pt x="268637" y="149973"/>
                    </a:moveTo>
                    <a:cubicBezTo>
                      <a:pt x="192868" y="-8454"/>
                      <a:pt x="117567" y="12961"/>
                      <a:pt x="50690" y="0"/>
                    </a:cubicBezTo>
                    <a:cubicBezTo>
                      <a:pt x="21519" y="30829"/>
                      <a:pt x="16897" y="83138"/>
                      <a:pt x="0" y="129309"/>
                    </a:cubicBezTo>
                    <a:cubicBezTo>
                      <a:pt x="3444" y="184414"/>
                      <a:pt x="-18942" y="260184"/>
                      <a:pt x="134319" y="263628"/>
                    </a:cubicBezTo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任意多边形 70"/>
              <p:cNvSpPr/>
              <p:nvPr/>
            </p:nvSpPr>
            <p:spPr>
              <a:xfrm>
                <a:off x="3816000" y="2838600"/>
                <a:ext cx="107640" cy="152640"/>
              </a:xfrm>
              <a:custGeom>
                <a:avLst/>
                <a:gdLst/>
                <a:ahLst/>
                <a:rect l="l" t="t" r="r" b="b"/>
                <a:pathLst>
                  <a:path w="162343" h="224434">
                    <a:moveTo>
                      <a:pt x="54947" y="0"/>
                    </a:moveTo>
                    <a:lnTo>
                      <a:pt x="18124" y="70574"/>
                    </a:lnTo>
                    <a:cubicBezTo>
                      <a:pt x="-34040" y="100235"/>
                      <a:pt x="42673" y="169788"/>
                      <a:pt x="45741" y="223997"/>
                    </a:cubicBezTo>
                    <a:cubicBezTo>
                      <a:pt x="116316" y="229111"/>
                      <a:pt x="125521" y="188199"/>
                      <a:pt x="162343" y="165697"/>
                    </a:cubicBezTo>
                    <a:cubicBezTo>
                      <a:pt x="143932" y="157514"/>
                      <a:pt x="128590" y="94098"/>
                      <a:pt x="100974" y="119668"/>
                    </a:cubicBezTo>
                  </a:path>
                </a:pathLst>
              </a:custGeom>
              <a:noFill/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3" name="任意多边形 9"/>
            <p:cNvSpPr/>
            <p:nvPr/>
          </p:nvSpPr>
          <p:spPr>
            <a:xfrm>
              <a:off x="2968920" y="2777040"/>
              <a:ext cx="225000" cy="299520"/>
            </a:xfrm>
            <a:custGeom>
              <a:avLst/>
              <a:gdLst/>
              <a:ahLst/>
              <a:rect l="l" t="t" r="r" b="b"/>
              <a:pathLst>
                <a:path w="333178" h="441588">
                  <a:moveTo>
                    <a:pt x="0" y="0"/>
                  </a:moveTo>
                  <a:cubicBezTo>
                    <a:pt x="26763" y="147196"/>
                    <a:pt x="129355" y="223024"/>
                    <a:pt x="80289" y="441588"/>
                  </a:cubicBezTo>
                  <a:lnTo>
                    <a:pt x="272090" y="423747"/>
                  </a:lnTo>
                  <a:cubicBezTo>
                    <a:pt x="267630" y="373195"/>
                    <a:pt x="276550" y="322642"/>
                    <a:pt x="298853" y="272090"/>
                  </a:cubicBezTo>
                  <a:cubicBezTo>
                    <a:pt x="310748" y="240866"/>
                    <a:pt x="353867" y="191801"/>
                    <a:pt x="321156" y="5798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1f20"/>
            </a:solidFill>
            <a:ln w="190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4" name="组合 10"/>
            <p:cNvGrpSpPr/>
            <p:nvPr/>
          </p:nvGrpSpPr>
          <p:grpSpPr>
            <a:xfrm>
              <a:off x="2577600" y="1643040"/>
              <a:ext cx="953640" cy="1285200"/>
              <a:chOff x="2577600" y="1643040"/>
              <a:chExt cx="953640" cy="1285200"/>
            </a:xfrm>
          </p:grpSpPr>
          <p:sp>
            <p:nvSpPr>
              <p:cNvPr id="1915" name="任意多边形 39"/>
              <p:cNvSpPr/>
              <p:nvPr/>
            </p:nvSpPr>
            <p:spPr>
              <a:xfrm>
                <a:off x="2577600" y="1643040"/>
                <a:ext cx="887400" cy="806040"/>
              </a:xfrm>
              <a:custGeom>
                <a:avLst/>
                <a:gdLst/>
                <a:ahLst/>
                <a:rect l="l" t="t" r="r" b="b"/>
                <a:pathLst>
                  <a:path w="1170572" h="1060083">
                    <a:moveTo>
                      <a:pt x="117140" y="1060083"/>
                    </a:moveTo>
                    <a:lnTo>
                      <a:pt x="1170572" y="717851"/>
                    </a:lnTo>
                    <a:cubicBezTo>
                      <a:pt x="1161659" y="587732"/>
                      <a:pt x="1152747" y="339970"/>
                      <a:pt x="983414" y="151030"/>
                    </a:cubicBezTo>
                    <a:cubicBezTo>
                      <a:pt x="735652" y="-89601"/>
                      <a:pt x="167048" y="-78906"/>
                      <a:pt x="4845" y="450483"/>
                    </a:cubicBezTo>
                    <a:cubicBezTo>
                      <a:pt x="-23675" y="566342"/>
                      <a:pt x="81491" y="858665"/>
                      <a:pt x="117140" y="1060083"/>
                    </a:cubicBezTo>
                    <a:close/>
                  </a:path>
                </a:pathLst>
              </a:custGeom>
              <a:solidFill>
                <a:srgbClr val="eeede2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任意多边形 40"/>
              <p:cNvSpPr/>
              <p:nvPr/>
            </p:nvSpPr>
            <p:spPr>
              <a:xfrm>
                <a:off x="2734200" y="1909440"/>
                <a:ext cx="797040" cy="1018800"/>
              </a:xfrm>
              <a:custGeom>
                <a:avLst/>
                <a:gdLst/>
                <a:ahLst/>
                <a:rect l="l" t="t" r="r" b="b"/>
                <a:pathLst>
                  <a:path w="1076766" h="1340453">
                    <a:moveTo>
                      <a:pt x="39157" y="768285"/>
                    </a:moveTo>
                    <a:cubicBezTo>
                      <a:pt x="163929" y="1272720"/>
                      <a:pt x="417037" y="1333323"/>
                      <a:pt x="739662" y="1340453"/>
                    </a:cubicBezTo>
                    <a:cubicBezTo>
                      <a:pt x="821655" y="1317281"/>
                      <a:pt x="1085458" y="1203206"/>
                      <a:pt x="1076546" y="736202"/>
                    </a:cubicBezTo>
                    <a:cubicBezTo>
                      <a:pt x="1071198" y="661340"/>
                      <a:pt x="937515" y="-114031"/>
                      <a:pt x="386736" y="14306"/>
                    </a:cubicBezTo>
                    <a:cubicBezTo>
                      <a:pt x="-12535" y="67779"/>
                      <a:pt x="-48183" y="383275"/>
                      <a:pt x="39157" y="768285"/>
                    </a:cubicBezTo>
                    <a:close/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任意多边形 41"/>
              <p:cNvSpPr/>
              <p:nvPr/>
            </p:nvSpPr>
            <p:spPr>
              <a:xfrm>
                <a:off x="2580480" y="2401560"/>
                <a:ext cx="235800" cy="237960"/>
              </a:xfrm>
              <a:custGeom>
                <a:avLst/>
                <a:gdLst/>
                <a:ahLst/>
                <a:rect l="l" t="t" r="r" b="b"/>
                <a:pathLst>
                  <a:path w="310192" h="313019">
                    <a:moveTo>
                      <a:pt x="256718" y="76659"/>
                    </a:moveTo>
                    <a:cubicBezTo>
                      <a:pt x="90949" y="-98023"/>
                      <a:pt x="5391" y="80224"/>
                      <a:pt x="44" y="82006"/>
                    </a:cubicBezTo>
                    <a:cubicBezTo>
                      <a:pt x="-3520" y="196084"/>
                      <a:pt x="206809" y="326202"/>
                      <a:pt x="310192" y="311943"/>
                    </a:cubicBezTo>
                    <a:lnTo>
                      <a:pt x="256718" y="76659"/>
                    </a:lnTo>
                    <a:close/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8" name="组合 42"/>
              <p:cNvGrpSpPr/>
              <p:nvPr/>
            </p:nvGrpSpPr>
            <p:grpSpPr>
              <a:xfrm>
                <a:off x="2768400" y="2202840"/>
                <a:ext cx="759960" cy="343800"/>
                <a:chOff x="2768400" y="2202840"/>
                <a:chExt cx="759960" cy="343800"/>
              </a:xfrm>
            </p:grpSpPr>
            <p:sp>
              <p:nvSpPr>
                <p:cNvPr id="1919" name="任意多边形 63"/>
                <p:cNvSpPr/>
                <p:nvPr/>
              </p:nvSpPr>
              <p:spPr>
                <a:xfrm flipH="1" rot="19800">
                  <a:off x="3235680" y="2203560"/>
                  <a:ext cx="291960" cy="198360"/>
                </a:xfrm>
                <a:custGeom>
                  <a:avLst/>
                  <a:gdLst/>
                  <a:ahLst/>
                  <a:rect l="l" t="t" r="r" b="b"/>
                  <a:pathLst>
                    <a:path w="717994" h="522030">
                      <a:moveTo>
                        <a:pt x="99624" y="13233"/>
                      </a:moveTo>
                      <a:cubicBezTo>
                        <a:pt x="1054" y="108460"/>
                        <a:pt x="-19139" y="340846"/>
                        <a:pt x="16186" y="370760"/>
                      </a:cubicBezTo>
                      <a:cubicBezTo>
                        <a:pt x="172879" y="557503"/>
                        <a:pt x="307080" y="518683"/>
                        <a:pt x="412258" y="518683"/>
                      </a:cubicBezTo>
                      <a:cubicBezTo>
                        <a:pt x="622613" y="458581"/>
                        <a:pt x="687944" y="350322"/>
                        <a:pt x="717994" y="154992"/>
                      </a:cubicBezTo>
                      <a:cubicBezTo>
                        <a:pt x="643588" y="103384"/>
                        <a:pt x="288514" y="-44722"/>
                        <a:pt x="99624" y="13233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eeed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任意多边形 64"/>
                <p:cNvSpPr/>
                <p:nvPr/>
              </p:nvSpPr>
              <p:spPr>
                <a:xfrm flipH="1" rot="19800">
                  <a:off x="3173760" y="2292480"/>
                  <a:ext cx="74520" cy="20160"/>
                </a:xfrm>
                <a:custGeom>
                  <a:avLst/>
                  <a:gdLst/>
                  <a:ahLst/>
                  <a:rect l="l" t="t" r="r" b="b"/>
                  <a:pathLst>
                    <a:path w="179614" h="53834">
                      <a:moveTo>
                        <a:pt x="0" y="8114"/>
                      </a:moveTo>
                      <a:cubicBezTo>
                        <a:pt x="144780" y="-19100"/>
                        <a:pt x="162197" y="28797"/>
                        <a:pt x="179614" y="53834"/>
                      </a:cubicBezTo>
                    </a:path>
                  </a:pathLst>
                </a:custGeom>
                <a:noFill/>
                <a:ln w="12600">
                  <a:solidFill>
                    <a:srgbClr val="eeed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任意多边形 65"/>
                <p:cNvSpPr/>
                <p:nvPr/>
              </p:nvSpPr>
              <p:spPr>
                <a:xfrm flipH="1" rot="19800">
                  <a:off x="2768760" y="2281680"/>
                  <a:ext cx="417240" cy="263520"/>
                </a:xfrm>
                <a:custGeom>
                  <a:avLst/>
                  <a:gdLst/>
                  <a:ahLst/>
                  <a:rect l="l" t="t" r="r" b="b"/>
                  <a:pathLst>
                    <a:path w="1026474" h="690455">
                      <a:moveTo>
                        <a:pt x="107214" y="0"/>
                      </a:moveTo>
                      <a:cubicBezTo>
                        <a:pt x="516517" y="41366"/>
                        <a:pt x="1059714" y="255814"/>
                        <a:pt x="1024880" y="398417"/>
                      </a:cubicBezTo>
                      <a:cubicBezTo>
                        <a:pt x="997666" y="527957"/>
                        <a:pt x="898607" y="624840"/>
                        <a:pt x="786483" y="679268"/>
                      </a:cubicBezTo>
                      <a:cubicBezTo>
                        <a:pt x="308600" y="769620"/>
                        <a:pt x="-234598" y="291737"/>
                        <a:pt x="107214" y="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eeed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2" name="任意多边形 43"/>
              <p:cNvSpPr/>
              <p:nvPr/>
            </p:nvSpPr>
            <p:spPr>
              <a:xfrm>
                <a:off x="2796120" y="2265120"/>
                <a:ext cx="270720" cy="106200"/>
              </a:xfrm>
              <a:custGeom>
                <a:avLst/>
                <a:gdLst/>
                <a:ahLst/>
                <a:rect l="l" t="t" r="r" b="b"/>
                <a:pathLst>
                  <a:path w="358993" h="139615">
                    <a:moveTo>
                      <a:pt x="358993" y="0"/>
                    </a:moveTo>
                    <a:cubicBezTo>
                      <a:pt x="169502" y="17720"/>
                      <a:pt x="19912" y="78668"/>
                      <a:pt x="0" y="139615"/>
                    </a:cubicBezTo>
                  </a:path>
                </a:pathLst>
              </a:custGeom>
              <a:noFill/>
              <a:ln w="2232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任意多边形 44"/>
              <p:cNvSpPr/>
              <p:nvPr/>
            </p:nvSpPr>
            <p:spPr>
              <a:xfrm flipH="1" rot="19024800">
                <a:off x="3181680" y="2152440"/>
                <a:ext cx="213840" cy="107640"/>
              </a:xfrm>
              <a:custGeom>
                <a:avLst/>
                <a:gdLst/>
                <a:ahLst/>
                <a:rect l="l" t="t" r="r" b="b"/>
                <a:pathLst>
                  <a:path w="358993" h="139615">
                    <a:moveTo>
                      <a:pt x="358993" y="0"/>
                    </a:moveTo>
                    <a:cubicBezTo>
                      <a:pt x="169502" y="17720"/>
                      <a:pt x="19912" y="78668"/>
                      <a:pt x="0" y="139615"/>
                    </a:cubicBezTo>
                  </a:path>
                </a:pathLst>
              </a:custGeom>
              <a:noFill/>
              <a:ln w="2232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组合 45"/>
              <p:cNvGrpSpPr/>
              <p:nvPr/>
            </p:nvGrpSpPr>
            <p:grpSpPr>
              <a:xfrm>
                <a:off x="2841480" y="2343960"/>
                <a:ext cx="212760" cy="139320"/>
                <a:chOff x="2841480" y="2343960"/>
                <a:chExt cx="212760" cy="139320"/>
              </a:xfrm>
            </p:grpSpPr>
            <p:sp>
              <p:nvSpPr>
                <p:cNvPr id="1925" name="任意多边形 57"/>
                <p:cNvSpPr/>
                <p:nvPr/>
              </p:nvSpPr>
              <p:spPr>
                <a:xfrm rot="20947200">
                  <a:off x="2867400" y="2359440"/>
                  <a:ext cx="175680" cy="104400"/>
                </a:xfrm>
                <a:custGeom>
                  <a:avLst/>
                  <a:gdLst/>
                  <a:ahLst/>
                  <a:rect l="l" t="t" r="r" b="b"/>
                  <a:pathLst>
                    <a:path w="523302" h="359433">
                      <a:moveTo>
                        <a:pt x="0" y="114166"/>
                      </a:moveTo>
                      <a:cubicBezTo>
                        <a:pt x="301127" y="-103417"/>
                        <a:pt x="470905" y="43701"/>
                        <a:pt x="523302" y="117098"/>
                      </a:cubicBezTo>
                      <a:cubicBezTo>
                        <a:pt x="391704" y="296212"/>
                        <a:pt x="236600" y="559994"/>
                        <a:pt x="0" y="1141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任意多边形 58"/>
                <p:cNvSpPr/>
                <p:nvPr/>
              </p:nvSpPr>
              <p:spPr>
                <a:xfrm rot="20947200">
                  <a:off x="2845800" y="2363760"/>
                  <a:ext cx="204120" cy="65880"/>
                </a:xfrm>
                <a:custGeom>
                  <a:avLst/>
                  <a:gdLst/>
                  <a:ahLst/>
                  <a:rect l="l" t="t" r="r" b="b"/>
                  <a:pathLst>
                    <a:path w="606702" h="226016">
                      <a:moveTo>
                        <a:pt x="0" y="226016"/>
                      </a:moveTo>
                      <a:cubicBezTo>
                        <a:pt x="69238" y="-63218"/>
                        <a:pt x="501566" y="-43578"/>
                        <a:pt x="606702" y="110245"/>
                      </a:cubicBezTo>
                      <a:cubicBezTo>
                        <a:pt x="494439" y="23059"/>
                        <a:pt x="197644" y="-31075"/>
                        <a:pt x="0" y="226016"/>
                      </a:cubicBezTo>
                      <a:close/>
                    </a:path>
                  </a:pathLst>
                </a:cu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椭圆 59"/>
                <p:cNvSpPr/>
                <p:nvPr/>
              </p:nvSpPr>
              <p:spPr>
                <a:xfrm rot="20947200">
                  <a:off x="2910240" y="2366280"/>
                  <a:ext cx="106200" cy="92160"/>
                </a:xfrm>
                <a:prstGeom prst="ellipse">
                  <a:avLst/>
                </a:pr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椭圆 60"/>
                <p:cNvSpPr/>
                <p:nvPr/>
              </p:nvSpPr>
              <p:spPr>
                <a:xfrm rot="20947200">
                  <a:off x="2935800" y="2383560"/>
                  <a:ext cx="39600" cy="36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椭圆 61"/>
                <p:cNvSpPr/>
                <p:nvPr/>
              </p:nvSpPr>
              <p:spPr>
                <a:xfrm rot="20947200">
                  <a:off x="2932200" y="2433240"/>
                  <a:ext cx="15840" cy="12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任意多边形 62"/>
                <p:cNvSpPr/>
                <p:nvPr/>
              </p:nvSpPr>
              <p:spPr>
                <a:xfrm flipH="1" rot="20293800">
                  <a:off x="2925360" y="2448360"/>
                  <a:ext cx="93240" cy="18360"/>
                </a:xfrm>
                <a:custGeom>
                  <a:avLst/>
                  <a:gdLst/>
                  <a:ahLst/>
                  <a:rect l="l" t="t" r="r" b="b"/>
                  <a:pathLst>
                    <a:path w="304800" h="67038">
                      <a:moveTo>
                        <a:pt x="0" y="64295"/>
                      </a:moveTo>
                      <a:cubicBezTo>
                        <a:pt x="58737" y="65882"/>
                        <a:pt x="205582" y="84139"/>
                        <a:pt x="304800" y="0"/>
                      </a:cubicBezTo>
                    </a:path>
                  </a:pathLst>
                </a:cu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1" name="组合 46"/>
              <p:cNvGrpSpPr/>
              <p:nvPr/>
            </p:nvGrpSpPr>
            <p:grpSpPr>
              <a:xfrm>
                <a:off x="3261240" y="2224800"/>
                <a:ext cx="167040" cy="124200"/>
                <a:chOff x="3261240" y="2224800"/>
                <a:chExt cx="167040" cy="124200"/>
              </a:xfrm>
            </p:grpSpPr>
            <p:sp>
              <p:nvSpPr>
                <p:cNvPr id="1932" name="任意多边形 51"/>
                <p:cNvSpPr/>
                <p:nvPr/>
              </p:nvSpPr>
              <p:spPr>
                <a:xfrm flipH="1" rot="20669400">
                  <a:off x="3273480" y="2249280"/>
                  <a:ext cx="138600" cy="82440"/>
                </a:xfrm>
                <a:custGeom>
                  <a:avLst/>
                  <a:gdLst/>
                  <a:ahLst/>
                  <a:rect l="l" t="t" r="r" b="b"/>
                  <a:pathLst>
                    <a:path w="523302" h="359433">
                      <a:moveTo>
                        <a:pt x="0" y="114166"/>
                      </a:moveTo>
                      <a:cubicBezTo>
                        <a:pt x="301127" y="-103417"/>
                        <a:pt x="470905" y="43701"/>
                        <a:pt x="523302" y="117098"/>
                      </a:cubicBezTo>
                      <a:cubicBezTo>
                        <a:pt x="391704" y="296212"/>
                        <a:pt x="236600" y="559994"/>
                        <a:pt x="0" y="1141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任意多边形 52"/>
                <p:cNvSpPr/>
                <p:nvPr/>
              </p:nvSpPr>
              <p:spPr>
                <a:xfrm flipH="1" rot="20669400">
                  <a:off x="3264840" y="2244960"/>
                  <a:ext cx="159120" cy="51840"/>
                </a:xfrm>
                <a:custGeom>
                  <a:avLst/>
                  <a:gdLst/>
                  <a:ahLst/>
                  <a:rect l="l" t="t" r="r" b="b"/>
                  <a:pathLst>
                    <a:path w="606702" h="226016">
                      <a:moveTo>
                        <a:pt x="0" y="226016"/>
                      </a:moveTo>
                      <a:cubicBezTo>
                        <a:pt x="69238" y="-63218"/>
                        <a:pt x="501566" y="-43578"/>
                        <a:pt x="606702" y="110245"/>
                      </a:cubicBezTo>
                      <a:cubicBezTo>
                        <a:pt x="494439" y="23059"/>
                        <a:pt x="197644" y="-31075"/>
                        <a:pt x="0" y="226016"/>
                      </a:cubicBezTo>
                      <a:close/>
                    </a:path>
                  </a:pathLst>
                </a:cu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椭圆 53"/>
                <p:cNvSpPr/>
                <p:nvPr/>
              </p:nvSpPr>
              <p:spPr>
                <a:xfrm flipH="1" rot="20669400">
                  <a:off x="3288600" y="2253960"/>
                  <a:ext cx="83520" cy="73800"/>
                </a:xfrm>
                <a:prstGeom prst="ellipse">
                  <a:avLst/>
                </a:pr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椭圆 54"/>
                <p:cNvSpPr/>
                <p:nvPr/>
              </p:nvSpPr>
              <p:spPr>
                <a:xfrm flipH="1" rot="20669400">
                  <a:off x="3320280" y="2269440"/>
                  <a:ext cx="34920" cy="27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椭圆 55"/>
                <p:cNvSpPr/>
                <p:nvPr/>
              </p:nvSpPr>
              <p:spPr>
                <a:xfrm flipH="1" rot="20669400">
                  <a:off x="3307320" y="230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任意多边形 56"/>
                <p:cNvSpPr/>
                <p:nvPr/>
              </p:nvSpPr>
              <p:spPr>
                <a:xfrm rot="21322800">
                  <a:off x="3308040" y="2314800"/>
                  <a:ext cx="78840" cy="13680"/>
                </a:xfrm>
                <a:custGeom>
                  <a:avLst/>
                  <a:gdLst/>
                  <a:ahLst/>
                  <a:rect l="l" t="t" r="r" b="b"/>
                  <a:pathLst>
                    <a:path w="304800" h="67038">
                      <a:moveTo>
                        <a:pt x="0" y="64295"/>
                      </a:moveTo>
                      <a:cubicBezTo>
                        <a:pt x="58737" y="65882"/>
                        <a:pt x="205582" y="84139"/>
                        <a:pt x="304800" y="0"/>
                      </a:cubicBezTo>
                    </a:path>
                  </a:pathLst>
                </a:custGeom>
                <a:solidFill>
                  <a:srgbClr val="0d0d0d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8" name="任意多边形 47"/>
              <p:cNvSpPr/>
              <p:nvPr/>
            </p:nvSpPr>
            <p:spPr>
              <a:xfrm>
                <a:off x="3213000" y="2331720"/>
                <a:ext cx="131400" cy="210960"/>
              </a:xfrm>
              <a:custGeom>
                <a:avLst/>
                <a:gdLst/>
                <a:ahLst/>
                <a:rect l="l" t="t" r="r" b="b"/>
                <a:pathLst>
                  <a:path w="173959" h="276550">
                    <a:moveTo>
                      <a:pt x="0" y="0"/>
                    </a:moveTo>
                    <a:lnTo>
                      <a:pt x="173959" y="276550"/>
                    </a:lnTo>
                  </a:path>
                </a:pathLst>
              </a:custGeom>
              <a:noFill/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任意多边形 48"/>
              <p:cNvSpPr/>
              <p:nvPr/>
            </p:nvSpPr>
            <p:spPr>
              <a:xfrm>
                <a:off x="3054600" y="2599920"/>
                <a:ext cx="357840" cy="91800"/>
              </a:xfrm>
              <a:custGeom>
                <a:avLst/>
                <a:gdLst/>
                <a:ahLst/>
                <a:rect l="l" t="t" r="r" b="b"/>
                <a:pathLst>
                  <a:path w="473900" h="121961">
                    <a:moveTo>
                      <a:pt x="0" y="107761"/>
                    </a:moveTo>
                    <a:cubicBezTo>
                      <a:pt x="184367" y="143445"/>
                      <a:pt x="391036" y="103301"/>
                      <a:pt x="472812" y="80999"/>
                    </a:cubicBezTo>
                    <a:cubicBezTo>
                      <a:pt x="468824" y="53999"/>
                      <a:pt x="483592" y="27000"/>
                      <a:pt x="460849" y="0"/>
                    </a:cubicBezTo>
                  </a:path>
                </a:pathLst>
              </a:custGeom>
              <a:noFill/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任意多边形 49"/>
              <p:cNvSpPr/>
              <p:nvPr/>
            </p:nvSpPr>
            <p:spPr>
              <a:xfrm>
                <a:off x="3094200" y="2663280"/>
                <a:ext cx="310320" cy="107640"/>
              </a:xfrm>
              <a:custGeom>
                <a:avLst/>
                <a:gdLst/>
                <a:ahLst/>
                <a:rect l="l" t="t" r="r" b="b"/>
                <a:pathLst>
                  <a:path w="410365" h="139807">
                    <a:moveTo>
                      <a:pt x="0" y="35684"/>
                    </a:moveTo>
                    <a:cubicBezTo>
                      <a:pt x="199234" y="211129"/>
                      <a:pt x="304800" y="141250"/>
                      <a:pt x="410365" y="0"/>
                    </a:cubicBezTo>
                    <a:cubicBezTo>
                      <a:pt x="269117" y="43118"/>
                      <a:pt x="150169" y="41631"/>
                      <a:pt x="0" y="35684"/>
                    </a:cubicBezTo>
                    <a:close/>
                  </a:path>
                </a:pathLst>
              </a:custGeom>
              <a:solidFill>
                <a:srgbClr val="231f20"/>
              </a:solidFill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任意多边形 50"/>
              <p:cNvSpPr/>
              <p:nvPr/>
            </p:nvSpPr>
            <p:spPr>
              <a:xfrm>
                <a:off x="2674080" y="244116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120433" h="160577">
                    <a:moveTo>
                      <a:pt x="0" y="0"/>
                    </a:moveTo>
                    <a:lnTo>
                      <a:pt x="107051" y="66907"/>
                    </a:lnTo>
                    <a:cubicBezTo>
                      <a:pt x="44605" y="138274"/>
                      <a:pt x="84748" y="138275"/>
                      <a:pt x="120433" y="160577"/>
                    </a:cubicBezTo>
                  </a:path>
                </a:pathLst>
              </a:custGeom>
              <a:noFill/>
              <a:ln w="1260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任意多边形 11"/>
            <p:cNvSpPr/>
            <p:nvPr/>
          </p:nvSpPr>
          <p:spPr>
            <a:xfrm>
              <a:off x="2858040" y="4247280"/>
              <a:ext cx="1123920" cy="2258640"/>
            </a:xfrm>
            <a:custGeom>
              <a:avLst/>
              <a:gdLst/>
              <a:ahLst/>
              <a:rect l="l" t="t" r="r" b="b"/>
              <a:pathLst>
                <a:path w="1662756" h="3336713">
                  <a:moveTo>
                    <a:pt x="66667" y="48552"/>
                  </a:moveTo>
                  <a:cubicBezTo>
                    <a:pt x="-89779" y="223879"/>
                    <a:pt x="77456" y="819993"/>
                    <a:pt x="82851" y="1205713"/>
                  </a:cubicBezTo>
                  <a:lnTo>
                    <a:pt x="123311" y="1424198"/>
                  </a:lnTo>
                  <a:lnTo>
                    <a:pt x="99035" y="2767476"/>
                  </a:lnTo>
                  <a:cubicBezTo>
                    <a:pt x="4596" y="2852410"/>
                    <a:pt x="120614" y="2843002"/>
                    <a:pt x="131403" y="2880765"/>
                  </a:cubicBezTo>
                  <a:cubicBezTo>
                    <a:pt x="99035" y="2905041"/>
                    <a:pt x="55781" y="2827717"/>
                    <a:pt x="34299" y="2953593"/>
                  </a:cubicBezTo>
                  <a:cubicBezTo>
                    <a:pt x="120968" y="2871709"/>
                    <a:pt x="331006" y="3007540"/>
                    <a:pt x="479360" y="3034513"/>
                  </a:cubicBezTo>
                  <a:cubicBezTo>
                    <a:pt x="446992" y="2964382"/>
                    <a:pt x="432767" y="2810795"/>
                    <a:pt x="382256" y="2824121"/>
                  </a:cubicBezTo>
                  <a:lnTo>
                    <a:pt x="420211" y="1374811"/>
                  </a:lnTo>
                  <a:lnTo>
                    <a:pt x="560281" y="695915"/>
                  </a:lnTo>
                  <a:lnTo>
                    <a:pt x="916330" y="1537487"/>
                  </a:lnTo>
                  <a:lnTo>
                    <a:pt x="1288564" y="3083066"/>
                  </a:lnTo>
                  <a:cubicBezTo>
                    <a:pt x="1266514" y="3127700"/>
                    <a:pt x="1248093" y="3255793"/>
                    <a:pt x="1287729" y="3336713"/>
                  </a:cubicBezTo>
                  <a:lnTo>
                    <a:pt x="1442313" y="3220630"/>
                  </a:lnTo>
                  <a:cubicBezTo>
                    <a:pt x="1515794" y="3195145"/>
                    <a:pt x="1596532" y="3205945"/>
                    <a:pt x="1662756" y="3144174"/>
                  </a:cubicBezTo>
                  <a:lnTo>
                    <a:pt x="1573744" y="3077479"/>
                  </a:lnTo>
                  <a:cubicBezTo>
                    <a:pt x="1421848" y="2688740"/>
                    <a:pt x="1313493" y="1980686"/>
                    <a:pt x="1183368" y="1432290"/>
                  </a:cubicBezTo>
                  <a:lnTo>
                    <a:pt x="1207644" y="1262358"/>
                  </a:lnTo>
                  <a:lnTo>
                    <a:pt x="981067" y="0"/>
                  </a:lnTo>
                  <a:lnTo>
                    <a:pt x="66667" y="48552"/>
                  </a:lnTo>
                  <a:close/>
                </a:path>
              </a:pathLst>
            </a:custGeom>
            <a:solidFill>
              <a:srgbClr val="231f20"/>
            </a:solidFill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3" name="组合 12" descr=""/>
            <p:cNvPicPr/>
            <p:nvPr/>
          </p:nvPicPr>
          <p:blipFill>
            <a:blip r:embed="rId3"/>
            <a:stretch/>
          </p:blipFill>
          <p:spPr>
            <a:xfrm>
              <a:off x="3101400" y="4411080"/>
              <a:ext cx="3225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任意多边形 13"/>
            <p:cNvSpPr/>
            <p:nvPr/>
          </p:nvSpPr>
          <p:spPr>
            <a:xfrm>
              <a:off x="2312640" y="3527280"/>
              <a:ext cx="137880" cy="47520"/>
            </a:xfrm>
            <a:custGeom>
              <a:avLst/>
              <a:gdLst/>
              <a:ahLst/>
              <a:rect l="l" t="t" r="r" b="b"/>
              <a:pathLst>
                <a:path w="202830" h="69827">
                  <a:moveTo>
                    <a:pt x="202830" y="26601"/>
                  </a:moveTo>
                  <a:cubicBezTo>
                    <a:pt x="130786" y="11084"/>
                    <a:pt x="95320" y="5542"/>
                    <a:pt x="0" y="0"/>
                  </a:cubicBezTo>
                  <a:cubicBezTo>
                    <a:pt x="50985" y="23276"/>
                    <a:pt x="111944" y="36576"/>
                    <a:pt x="152954" y="69827"/>
                  </a:cubicBezTo>
                </a:path>
              </a:pathLst>
            </a:custGeom>
            <a:noFill/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任意多边形 14"/>
            <p:cNvSpPr/>
            <p:nvPr/>
          </p:nvSpPr>
          <p:spPr>
            <a:xfrm>
              <a:off x="3359160" y="3022920"/>
              <a:ext cx="657720" cy="607320"/>
            </a:xfrm>
            <a:custGeom>
              <a:avLst/>
              <a:gdLst/>
              <a:ahLst/>
              <a:rect l="l" t="t" r="r" b="b"/>
              <a:pathLst>
                <a:path w="973394" h="897716">
                  <a:moveTo>
                    <a:pt x="0" y="0"/>
                  </a:moveTo>
                  <a:cubicBezTo>
                    <a:pt x="267578" y="49161"/>
                    <a:pt x="497935" y="552011"/>
                    <a:pt x="598364" y="589936"/>
                  </a:cubicBezTo>
                  <a:cubicBezTo>
                    <a:pt x="599768" y="469140"/>
                    <a:pt x="601173" y="348344"/>
                    <a:pt x="602577" y="227548"/>
                  </a:cubicBezTo>
                  <a:cubicBezTo>
                    <a:pt x="654548" y="223334"/>
                    <a:pt x="744442" y="257044"/>
                    <a:pt x="796413" y="252830"/>
                  </a:cubicBezTo>
                  <a:lnTo>
                    <a:pt x="973394" y="206478"/>
                  </a:lnTo>
                  <a:cubicBezTo>
                    <a:pt x="907377" y="696686"/>
                    <a:pt x="748657" y="904568"/>
                    <a:pt x="577295" y="897545"/>
                  </a:cubicBezTo>
                  <a:lnTo>
                    <a:pt x="257044" y="5983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de2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任意多边形 15"/>
            <p:cNvSpPr/>
            <p:nvPr/>
          </p:nvSpPr>
          <p:spPr>
            <a:xfrm>
              <a:off x="2758320" y="2980080"/>
              <a:ext cx="887400" cy="1454400"/>
            </a:xfrm>
            <a:custGeom>
              <a:avLst/>
              <a:gdLst/>
              <a:ahLst/>
              <a:rect l="l" t="t" r="r" b="b"/>
              <a:pathLst>
                <a:path w="1313645" h="2151737">
                  <a:moveTo>
                    <a:pt x="0" y="536166"/>
                  </a:moveTo>
                  <a:cubicBezTo>
                    <a:pt x="199821" y="1043823"/>
                    <a:pt x="214233" y="1302864"/>
                    <a:pt x="169652" y="1970646"/>
                  </a:cubicBezTo>
                  <a:cubicBezTo>
                    <a:pt x="303357" y="2057781"/>
                    <a:pt x="635110" y="2212337"/>
                    <a:pt x="1017431" y="2126706"/>
                  </a:cubicBezTo>
                  <a:lnTo>
                    <a:pt x="1010991" y="2088070"/>
                  </a:lnTo>
                  <a:cubicBezTo>
                    <a:pt x="1141372" y="2072174"/>
                    <a:pt x="1212760" y="1963574"/>
                    <a:pt x="1313645" y="1901326"/>
                  </a:cubicBezTo>
                  <a:cubicBezTo>
                    <a:pt x="1169831" y="1283140"/>
                    <a:pt x="1425263" y="574803"/>
                    <a:pt x="882203" y="46769"/>
                  </a:cubicBezTo>
                  <a:cubicBezTo>
                    <a:pt x="743953" y="-11575"/>
                    <a:pt x="685774" y="688"/>
                    <a:pt x="602771" y="1845"/>
                  </a:cubicBezTo>
                  <a:cubicBezTo>
                    <a:pt x="560559" y="67587"/>
                    <a:pt x="464770" y="48708"/>
                    <a:pt x="401076" y="29092"/>
                  </a:cubicBezTo>
                  <a:cubicBezTo>
                    <a:pt x="262233" y="164632"/>
                    <a:pt x="133692" y="367141"/>
                    <a:pt x="0" y="536166"/>
                  </a:cubicBezTo>
                  <a:close/>
                </a:path>
              </a:pathLst>
            </a:custGeom>
            <a:solidFill>
              <a:srgbClr val="eeede2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7" name="组合 16" descr=""/>
            <p:cNvPicPr/>
            <p:nvPr/>
          </p:nvPicPr>
          <p:blipFill>
            <a:blip r:embed="rId4"/>
            <a:stretch/>
          </p:blipFill>
          <p:spPr>
            <a:xfrm>
              <a:off x="2657160" y="3552120"/>
              <a:ext cx="4928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8" name="任意多边形 17"/>
            <p:cNvSpPr/>
            <p:nvPr/>
          </p:nvSpPr>
          <p:spPr>
            <a:xfrm>
              <a:off x="3768120" y="3419280"/>
              <a:ext cx="20520" cy="117360"/>
            </a:xfrm>
            <a:custGeom>
              <a:avLst/>
              <a:gdLst/>
              <a:ahLst/>
              <a:rect l="l" t="t" r="r" b="b"/>
              <a:pathLst>
                <a:path w="29304" h="172766">
                  <a:moveTo>
                    <a:pt x="0" y="105345"/>
                  </a:moveTo>
                  <a:lnTo>
                    <a:pt x="0" y="172766"/>
                  </a:lnTo>
                  <a:cubicBezTo>
                    <a:pt x="4214" y="115177"/>
                    <a:pt x="54780" y="99727"/>
                    <a:pt x="12642" y="0"/>
                  </a:cubicBezTo>
                </a:path>
              </a:pathLst>
            </a:cu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任意多边形 18"/>
            <p:cNvSpPr/>
            <p:nvPr/>
          </p:nvSpPr>
          <p:spPr>
            <a:xfrm>
              <a:off x="3780720" y="3543120"/>
              <a:ext cx="4680" cy="64800"/>
            </a:xfrm>
            <a:custGeom>
              <a:avLst/>
              <a:gdLst/>
              <a:ahLst/>
              <a:rect l="l" t="t" r="r" b="b"/>
              <a:pathLst>
                <a:path w="8415" h="98172">
                  <a:moveTo>
                    <a:pt x="8415" y="0"/>
                  </a:moveTo>
                  <a:lnTo>
                    <a:pt x="0" y="98172"/>
                  </a:lnTo>
                </a:path>
              </a:pathLst>
            </a:cu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任意多边形 19"/>
            <p:cNvSpPr/>
            <p:nvPr/>
          </p:nvSpPr>
          <p:spPr>
            <a:xfrm>
              <a:off x="2243160" y="3002400"/>
              <a:ext cx="789120" cy="897480"/>
            </a:xfrm>
            <a:custGeom>
              <a:avLst/>
              <a:gdLst/>
              <a:ahLst/>
              <a:rect l="l" t="t" r="r" b="b"/>
              <a:pathLst>
                <a:path w="1166930" h="1329356">
                  <a:moveTo>
                    <a:pt x="1166930" y="0"/>
                  </a:moveTo>
                  <a:cubicBezTo>
                    <a:pt x="1148635" y="24552"/>
                    <a:pt x="1069806" y="61520"/>
                    <a:pt x="999427" y="112397"/>
                  </a:cubicBezTo>
                  <a:cubicBezTo>
                    <a:pt x="918745" y="130326"/>
                    <a:pt x="75125" y="521375"/>
                    <a:pt x="1093" y="737612"/>
                  </a:cubicBezTo>
                  <a:cubicBezTo>
                    <a:pt x="-7578" y="821400"/>
                    <a:pt x="36952" y="878587"/>
                    <a:pt x="78157" y="922473"/>
                  </a:cubicBezTo>
                  <a:cubicBezTo>
                    <a:pt x="287793" y="1101327"/>
                    <a:pt x="517378" y="1223654"/>
                    <a:pt x="717039" y="1329356"/>
                  </a:cubicBezTo>
                  <a:cubicBezTo>
                    <a:pt x="732727" y="1197127"/>
                    <a:pt x="738441" y="1068222"/>
                    <a:pt x="764104" y="932668"/>
                  </a:cubicBezTo>
                  <a:lnTo>
                    <a:pt x="293457" y="865432"/>
                  </a:lnTo>
                  <a:cubicBezTo>
                    <a:pt x="349486" y="780268"/>
                    <a:pt x="761863" y="668209"/>
                    <a:pt x="945639" y="529256"/>
                  </a:cubicBezTo>
                </a:path>
              </a:pathLst>
            </a:custGeom>
            <a:solidFill>
              <a:srgbClr val="eeede2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任意多边形 20"/>
            <p:cNvSpPr/>
            <p:nvPr/>
          </p:nvSpPr>
          <p:spPr>
            <a:xfrm>
              <a:off x="3804480" y="3544560"/>
              <a:ext cx="12600" cy="52200"/>
            </a:xfrm>
            <a:custGeom>
              <a:avLst/>
              <a:gdLst/>
              <a:ahLst/>
              <a:rect l="l" t="t" r="r" b="b"/>
              <a:pathLst>
                <a:path w="19634" h="78538">
                  <a:moveTo>
                    <a:pt x="0" y="0"/>
                  </a:moveTo>
                  <a:lnTo>
                    <a:pt x="19634" y="78538"/>
                  </a:lnTo>
                </a:path>
              </a:pathLst>
            </a:cu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任意多边形 21"/>
            <p:cNvSpPr/>
            <p:nvPr/>
          </p:nvSpPr>
          <p:spPr>
            <a:xfrm>
              <a:off x="3441600" y="4321800"/>
              <a:ext cx="360" cy="77400"/>
            </a:xfrm>
            <a:custGeom>
              <a:avLst/>
              <a:gdLst/>
              <a:ahLst/>
              <a:rect l="l" t="t" r="r" b="b"/>
              <a:pathLst>
                <a:path w="0" h="115410">
                  <a:moveTo>
                    <a:pt x="0" y="0"/>
                  </a:moveTo>
                  <a:lnTo>
                    <a:pt x="0" y="115410"/>
                  </a:lnTo>
                </a:path>
              </a:pathLst>
            </a:custGeom>
            <a:noFill/>
            <a:ln w="190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任意多边形 22"/>
            <p:cNvSpPr/>
            <p:nvPr/>
          </p:nvSpPr>
          <p:spPr>
            <a:xfrm>
              <a:off x="3390840" y="4019040"/>
              <a:ext cx="7920" cy="350280"/>
            </a:xfrm>
            <a:custGeom>
              <a:avLst/>
              <a:gdLst/>
              <a:ahLst/>
              <a:rect l="l" t="t" r="r" b="b"/>
              <a:pathLst>
                <a:path w="11837" h="520824">
                  <a:moveTo>
                    <a:pt x="11837" y="0"/>
                  </a:moveTo>
                  <a:lnTo>
                    <a:pt x="0" y="520824"/>
                  </a:lnTo>
                </a:path>
              </a:pathLst>
            </a:custGeom>
            <a:noFill/>
            <a:ln w="190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任意多边形 23"/>
            <p:cNvSpPr/>
            <p:nvPr/>
          </p:nvSpPr>
          <p:spPr>
            <a:xfrm>
              <a:off x="2904120" y="5069160"/>
              <a:ext cx="74160" cy="196560"/>
            </a:xfrm>
            <a:custGeom>
              <a:avLst/>
              <a:gdLst/>
              <a:ahLst/>
              <a:rect l="l" t="t" r="r" b="b"/>
              <a:pathLst>
                <a:path w="109726" h="290285">
                  <a:moveTo>
                    <a:pt x="15383" y="0"/>
                  </a:moveTo>
                  <a:cubicBezTo>
                    <a:pt x="-43884" y="169334"/>
                    <a:pt x="85535" y="233437"/>
                    <a:pt x="109726" y="290285"/>
                  </a:cubicBezTo>
                </a:path>
              </a:pathLst>
            </a:custGeom>
            <a:solidFill>
              <a:srgbClr val="eeede2"/>
            </a:solidFill>
            <a:ln w="190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任意多边形 24"/>
            <p:cNvSpPr/>
            <p:nvPr/>
          </p:nvSpPr>
          <p:spPr>
            <a:xfrm>
              <a:off x="3647520" y="5139000"/>
              <a:ext cx="28440" cy="190080"/>
            </a:xfrm>
            <a:custGeom>
              <a:avLst/>
              <a:gdLst/>
              <a:ahLst/>
              <a:rect l="l" t="t" r="r" b="b"/>
              <a:pathLst>
                <a:path w="43542" h="283028">
                  <a:moveTo>
                    <a:pt x="43542" y="0"/>
                  </a:moveTo>
                  <a:lnTo>
                    <a:pt x="0" y="283028"/>
                  </a:lnTo>
                </a:path>
              </a:pathLst>
            </a:custGeom>
            <a:solidFill>
              <a:srgbClr val="eeede2"/>
            </a:solidFill>
            <a:ln w="190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矩形 301"/>
            <p:cNvSpPr/>
            <p:nvPr/>
          </p:nvSpPr>
          <p:spPr>
            <a:xfrm rot="20627400">
              <a:off x="3030840" y="3308040"/>
              <a:ext cx="467640" cy="178920"/>
            </a:xfrm>
            <a:custGeom>
              <a:avLst/>
              <a:gdLst/>
              <a:ahLst/>
              <a:rect l="l" t="t" r="r" b="b"/>
              <a:pathLst>
                <a:path w="842797" h="323831">
                  <a:moveTo>
                    <a:pt x="0" y="4681"/>
                  </a:moveTo>
                  <a:cubicBezTo>
                    <a:pt x="369416" y="-16629"/>
                    <a:pt x="527583" y="41742"/>
                    <a:pt x="808515" y="41742"/>
                  </a:cubicBezTo>
                  <a:lnTo>
                    <a:pt x="842797" y="323831"/>
                  </a:lnTo>
                  <a:cubicBezTo>
                    <a:pt x="561865" y="323831"/>
                    <a:pt x="292143" y="244798"/>
                    <a:pt x="0" y="323831"/>
                  </a:cubicBezTo>
                  <a:lnTo>
                    <a:pt x="0" y="468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文本框 26"/>
            <p:cNvSpPr/>
            <p:nvPr/>
          </p:nvSpPr>
          <p:spPr>
            <a:xfrm rot="20722200">
              <a:off x="2943360" y="3155760"/>
              <a:ext cx="44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31f20"/>
                  </a:solidFill>
                  <a:latin typeface="DFPPOP3W12-B5"/>
                  <a:ea typeface="DFPPOP3W12-B5"/>
                </a:rPr>
                <a:t>P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文本框 27"/>
            <p:cNvSpPr/>
            <p:nvPr/>
          </p:nvSpPr>
          <p:spPr>
            <a:xfrm rot="20776200">
              <a:off x="2983680" y="3264840"/>
              <a:ext cx="76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DFPPOP3W12-B5"/>
                  <a:ea typeface="DFPPOP3W12-B5"/>
                </a:rPr>
                <a:t>Off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任意多边形 28"/>
            <p:cNvSpPr/>
            <p:nvPr/>
          </p:nvSpPr>
          <p:spPr>
            <a:xfrm>
              <a:off x="2883600" y="3053160"/>
              <a:ext cx="90360" cy="190080"/>
            </a:xfrm>
            <a:custGeom>
              <a:avLst/>
              <a:gdLst/>
              <a:ahLst/>
              <a:rect l="l" t="t" r="r" b="b"/>
              <a:pathLst>
                <a:path w="135467" h="282222">
                  <a:moveTo>
                    <a:pt x="135467" y="0"/>
                  </a:moveTo>
                  <a:cubicBezTo>
                    <a:pt x="45155" y="94074"/>
                    <a:pt x="22578" y="210726"/>
                    <a:pt x="0" y="282222"/>
                  </a:cubicBezTo>
                </a:path>
              </a:pathLst>
            </a:cu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任意多边形 29"/>
            <p:cNvSpPr/>
            <p:nvPr/>
          </p:nvSpPr>
          <p:spPr>
            <a:xfrm>
              <a:off x="3750480" y="6333120"/>
              <a:ext cx="174240" cy="75960"/>
            </a:xfrm>
            <a:custGeom>
              <a:avLst/>
              <a:gdLst/>
              <a:ahLst/>
              <a:rect l="l" t="t" r="r" b="b"/>
              <a:pathLst>
                <a:path w="259645" h="112889">
                  <a:moveTo>
                    <a:pt x="0" y="112889"/>
                  </a:moveTo>
                  <a:cubicBezTo>
                    <a:pt x="86548" y="47550"/>
                    <a:pt x="245141" y="32088"/>
                    <a:pt x="259645" y="0"/>
                  </a:cubicBezTo>
                </a:path>
              </a:pathLst>
            </a:custGeom>
            <a:noFill/>
            <a:ln w="190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任意多边形 30"/>
            <p:cNvSpPr/>
            <p:nvPr/>
          </p:nvSpPr>
          <p:spPr>
            <a:xfrm>
              <a:off x="2978640" y="6163560"/>
              <a:ext cx="150480" cy="36360"/>
            </a:xfrm>
            <a:custGeom>
              <a:avLst/>
              <a:gdLst/>
              <a:ahLst/>
              <a:rect l="l" t="t" r="r" b="b"/>
              <a:pathLst>
                <a:path w="223785" h="53797">
                  <a:moveTo>
                    <a:pt x="0" y="46659"/>
                  </a:moveTo>
                  <a:cubicBezTo>
                    <a:pt x="104666" y="54342"/>
                    <a:pt x="164225" y="70225"/>
                    <a:pt x="223785" y="0"/>
                  </a:cubicBezTo>
                </a:path>
              </a:pathLst>
            </a:custGeom>
            <a:noFill/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任意多边形 31"/>
            <p:cNvSpPr/>
            <p:nvPr/>
          </p:nvSpPr>
          <p:spPr>
            <a:xfrm>
              <a:off x="3245040" y="4586760"/>
              <a:ext cx="14040" cy="137880"/>
            </a:xfrm>
            <a:custGeom>
              <a:avLst/>
              <a:gdLst/>
              <a:ahLst/>
              <a:rect l="l" t="t" r="r" b="b"/>
              <a:pathLst>
                <a:path w="1156831" h="10623">
                  <a:moveTo>
                    <a:pt x="1156831" y="0"/>
                  </a:moveTo>
                  <a:lnTo>
                    <a:pt x="0" y="10623"/>
                  </a:lnTo>
                </a:path>
              </a:pathLst>
            </a:custGeom>
            <a:noFill/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3" name="五边形 90"/>
          <p:cNvSpPr/>
          <p:nvPr/>
        </p:nvSpPr>
        <p:spPr>
          <a:xfrm>
            <a:off x="0" y="611280"/>
            <a:ext cx="3959280" cy="806400"/>
          </a:xfrm>
          <a:custGeom>
            <a:avLst/>
            <a:gdLst>
              <a:gd name="textAreaLeft" fmla="*/ 0 w 3959280"/>
              <a:gd name="textAreaRight" fmla="*/ 3959640 w 39592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矩形 2"/>
          <p:cNvSpPr/>
          <p:nvPr/>
        </p:nvSpPr>
        <p:spPr>
          <a:xfrm>
            <a:off x="671040" y="6984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案例：秋叶</a:t>
            </a:r>
            <a:r>
              <a:rPr b="0" lang="en-US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文本框 90"/>
          <p:cNvSpPr/>
          <p:nvPr/>
        </p:nvSpPr>
        <p:spPr>
          <a:xfrm>
            <a:off x="6311880" y="264168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传说中的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69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群中，有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PPT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大神，有微信达人，有微博顾问，有社团推广运营者，有阿里电商人，每个人都是一个节点。大家遵循没事时便好好玩，有活就能漂亮的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6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1967" name="椭圆 880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直接连接符 881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直接连接符 882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椭圆 883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椭圆 884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椭圆 885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直接连接符 886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直接连接符 887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直接连接符 888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椭圆 889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椭圆 890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椭圆 891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椭圆 892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椭圆 893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椭圆 894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椭圆 895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椭圆 896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椭圆 897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椭圆 898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椭圆 899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直接连接符 900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直接连接符 901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直接连接符 902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直接连接符 903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椭圆 904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椭圆 905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直接连接符 906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椭圆 907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直接连接符 908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直接连接符 909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直接连接符 910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直接连接符 911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直接连接符 912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椭圆 913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椭圆 914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直接连接符 915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直接连接符 916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直接连接符 917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5" name="文本框 1" descr=""/>
          <p:cNvPicPr/>
          <p:nvPr/>
        </p:nvPicPr>
        <p:blipFill>
          <a:blip r:embed="rId1"/>
          <a:stretch/>
        </p:blipFill>
        <p:spPr>
          <a:xfrm>
            <a:off x="-1395360" y="-1219320"/>
            <a:ext cx="4278240" cy="5321520"/>
          </a:xfrm>
          <a:prstGeom prst="rect">
            <a:avLst/>
          </a:prstGeom>
          <a:ln w="0">
            <a:noFill/>
          </a:ln>
        </p:spPr>
      </p:pic>
      <p:sp>
        <p:nvSpPr>
          <p:cNvPr id="2006" name="文本框 91"/>
          <p:cNvSpPr/>
          <p:nvPr/>
        </p:nvSpPr>
        <p:spPr>
          <a:xfrm>
            <a:off x="3378240" y="642960"/>
            <a:ext cx="541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每个节点都是平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五边形 529"/>
          <p:cNvSpPr/>
          <p:nvPr/>
        </p:nvSpPr>
        <p:spPr>
          <a:xfrm>
            <a:off x="0" y="611280"/>
            <a:ext cx="2741760" cy="80640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23" y="0"/>
                </a:lnTo>
                <a:lnTo>
                  <a:pt x="21600" y="10800"/>
                </a:lnTo>
                <a:lnTo>
                  <a:pt x="184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矩形 2"/>
          <p:cNvSpPr/>
          <p:nvPr/>
        </p:nvSpPr>
        <p:spPr>
          <a:xfrm>
            <a:off x="731520" y="698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等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组合 11"/>
          <p:cNvGrpSpPr/>
          <p:nvPr/>
        </p:nvGrpSpPr>
        <p:grpSpPr>
          <a:xfrm>
            <a:off x="3549600" y="1660680"/>
            <a:ext cx="5118120" cy="3634920"/>
            <a:chOff x="3549600" y="1660680"/>
            <a:chExt cx="5118120" cy="3634920"/>
          </a:xfrm>
        </p:grpSpPr>
        <p:sp>
          <p:nvSpPr>
            <p:cNvPr id="2010" name="等腰三角形 9"/>
            <p:cNvSpPr/>
            <p:nvPr/>
          </p:nvSpPr>
          <p:spPr>
            <a:xfrm>
              <a:off x="6035760" y="1660680"/>
              <a:ext cx="142560" cy="114912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1" name="组合 6"/>
            <p:cNvGrpSpPr/>
            <p:nvPr/>
          </p:nvGrpSpPr>
          <p:grpSpPr>
            <a:xfrm>
              <a:off x="5132880" y="4996080"/>
              <a:ext cx="1948320" cy="299520"/>
              <a:chOff x="5132880" y="4996080"/>
              <a:chExt cx="1948320" cy="299520"/>
            </a:xfrm>
          </p:grpSpPr>
          <p:sp>
            <p:nvSpPr>
              <p:cNvPr id="2012" name="圆角矩形 537"/>
              <p:cNvSpPr/>
              <p:nvPr/>
            </p:nvSpPr>
            <p:spPr>
              <a:xfrm rot="10800000">
                <a:off x="5132880" y="5206320"/>
                <a:ext cx="1948320" cy="89280"/>
              </a:xfrm>
              <a:prstGeom prst="roundRect">
                <a:avLst>
                  <a:gd name="adj" fmla="val 50000"/>
                </a:avLst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梯形 538"/>
              <p:cNvSpPr/>
              <p:nvPr/>
            </p:nvSpPr>
            <p:spPr>
              <a:xfrm>
                <a:off x="5238000" y="4996080"/>
                <a:ext cx="1739160" cy="176760"/>
              </a:xfrm>
              <a:custGeom>
                <a:avLst/>
                <a:gdLst/>
                <a:ahLst/>
                <a:rect l="l" t="t" r="r" b="b"/>
                <a:pathLst>
                  <a:path w="1369814" h="143762">
                    <a:moveTo>
                      <a:pt x="0" y="143762"/>
                    </a:moveTo>
                    <a:lnTo>
                      <a:pt x="108900" y="0"/>
                    </a:lnTo>
                    <a:lnTo>
                      <a:pt x="1260914" y="0"/>
                    </a:lnTo>
                    <a:lnTo>
                      <a:pt x="1369814" y="143762"/>
                    </a:lnTo>
                    <a:lnTo>
                      <a:pt x="0" y="143762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组合 10"/>
            <p:cNvGrpSpPr/>
            <p:nvPr/>
          </p:nvGrpSpPr>
          <p:grpSpPr>
            <a:xfrm>
              <a:off x="6279840" y="2944440"/>
              <a:ext cx="2387880" cy="623880"/>
              <a:chOff x="6279840" y="2944440"/>
              <a:chExt cx="2387880" cy="623880"/>
            </a:xfrm>
          </p:grpSpPr>
          <p:sp>
            <p:nvSpPr>
              <p:cNvPr id="2015" name="圆角矩形 3"/>
              <p:cNvSpPr/>
              <p:nvPr/>
            </p:nvSpPr>
            <p:spPr>
              <a:xfrm>
                <a:off x="7054560" y="2983320"/>
                <a:ext cx="1613160" cy="75960"/>
              </a:xfrm>
              <a:prstGeom prst="roundRect">
                <a:avLst>
                  <a:gd name="adj" fmla="val 50000"/>
                </a:avLst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梯形 4"/>
              <p:cNvSpPr/>
              <p:nvPr/>
            </p:nvSpPr>
            <p:spPr>
              <a:xfrm rot="10800000">
                <a:off x="7142040" y="3079440"/>
                <a:ext cx="1440000" cy="152280"/>
              </a:xfrm>
              <a:custGeom>
                <a:avLst/>
                <a:gdLst/>
                <a:ahLst/>
                <a:rect l="l" t="t" r="r" b="b"/>
                <a:pathLst>
                  <a:path w="1369759" h="145013">
                    <a:moveTo>
                      <a:pt x="0" y="145013"/>
                    </a:moveTo>
                    <a:lnTo>
                      <a:pt x="109847" y="0"/>
                    </a:lnTo>
                    <a:lnTo>
                      <a:pt x="1259912" y="0"/>
                    </a:lnTo>
                    <a:lnTo>
                      <a:pt x="1369759" y="145013"/>
                    </a:lnTo>
                    <a:lnTo>
                      <a:pt x="0" y="145013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矩形 5"/>
              <p:cNvSpPr/>
              <p:nvPr/>
            </p:nvSpPr>
            <p:spPr>
              <a:xfrm>
                <a:off x="7672320" y="3255840"/>
                <a:ext cx="377640" cy="10296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矩形 535"/>
              <p:cNvSpPr/>
              <p:nvPr/>
            </p:nvSpPr>
            <p:spPr>
              <a:xfrm>
                <a:off x="6846480" y="3381480"/>
                <a:ext cx="1138320" cy="6804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矩形 536"/>
              <p:cNvSpPr/>
              <p:nvPr/>
            </p:nvSpPr>
            <p:spPr>
              <a:xfrm>
                <a:off x="7788240" y="3465360"/>
                <a:ext cx="147600" cy="10296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矩形 7"/>
              <p:cNvSpPr/>
              <p:nvPr/>
            </p:nvSpPr>
            <p:spPr>
              <a:xfrm rot="2332800">
                <a:off x="6220800" y="3164040"/>
                <a:ext cx="723960" cy="6804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1" name="矩形 543"/>
            <p:cNvSpPr/>
            <p:nvPr/>
          </p:nvSpPr>
          <p:spPr>
            <a:xfrm>
              <a:off x="6046920" y="3105360"/>
              <a:ext cx="120600" cy="189072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2" name="组合 546"/>
            <p:cNvGrpSpPr/>
            <p:nvPr/>
          </p:nvGrpSpPr>
          <p:grpSpPr>
            <a:xfrm>
              <a:off x="3549600" y="2944440"/>
              <a:ext cx="2387520" cy="623880"/>
              <a:chOff x="3549600" y="2944440"/>
              <a:chExt cx="2387520" cy="623880"/>
            </a:xfrm>
          </p:grpSpPr>
          <p:sp>
            <p:nvSpPr>
              <p:cNvPr id="2023" name="圆角矩形 547"/>
              <p:cNvSpPr/>
              <p:nvPr/>
            </p:nvSpPr>
            <p:spPr>
              <a:xfrm flipH="1">
                <a:off x="3549240" y="2983320"/>
                <a:ext cx="1613160" cy="75960"/>
              </a:xfrm>
              <a:prstGeom prst="roundRect">
                <a:avLst>
                  <a:gd name="adj" fmla="val 50000"/>
                </a:avLst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梯形 548"/>
              <p:cNvSpPr/>
              <p:nvPr/>
            </p:nvSpPr>
            <p:spPr>
              <a:xfrm flipH="1" rot="10800000">
                <a:off x="3635280" y="3079440"/>
                <a:ext cx="1440000" cy="152280"/>
              </a:xfrm>
              <a:custGeom>
                <a:avLst/>
                <a:gdLst/>
                <a:ahLst/>
                <a:rect l="l" t="t" r="r" b="b"/>
                <a:pathLst>
                  <a:path w="1369760" h="145013">
                    <a:moveTo>
                      <a:pt x="0" y="145013"/>
                    </a:moveTo>
                    <a:lnTo>
                      <a:pt x="109847" y="0"/>
                    </a:lnTo>
                    <a:lnTo>
                      <a:pt x="1259913" y="0"/>
                    </a:lnTo>
                    <a:lnTo>
                      <a:pt x="1369760" y="145013"/>
                    </a:lnTo>
                    <a:lnTo>
                      <a:pt x="0" y="145013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矩形 549"/>
              <p:cNvSpPr/>
              <p:nvPr/>
            </p:nvSpPr>
            <p:spPr>
              <a:xfrm flipH="1">
                <a:off x="4167000" y="3255840"/>
                <a:ext cx="377640" cy="10296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矩形 550"/>
              <p:cNvSpPr/>
              <p:nvPr/>
            </p:nvSpPr>
            <p:spPr>
              <a:xfrm flipH="1">
                <a:off x="4232520" y="3381480"/>
                <a:ext cx="1138320" cy="6804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矩形 555"/>
              <p:cNvSpPr/>
              <p:nvPr/>
            </p:nvSpPr>
            <p:spPr>
              <a:xfrm flipH="1">
                <a:off x="4281480" y="3465360"/>
                <a:ext cx="147600" cy="10296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矩形 556"/>
              <p:cNvSpPr/>
              <p:nvPr/>
            </p:nvSpPr>
            <p:spPr>
              <a:xfrm flipH="1" rot="19267200">
                <a:off x="5271840" y="3163680"/>
                <a:ext cx="723600" cy="68040"/>
              </a:xfrm>
              <a:prstGeom prst="rect">
                <a:avLst/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9" name="椭圆 8"/>
            <p:cNvSpPr/>
            <p:nvPr/>
          </p:nvSpPr>
          <p:spPr>
            <a:xfrm>
              <a:off x="5892840" y="2693880"/>
              <a:ext cx="430200" cy="430200"/>
            </a:xfrm>
            <a:prstGeom prst="ellipse">
              <a:avLst/>
            </a:prstGeom>
            <a:solidFill>
              <a:srgbClr val="231f20"/>
            </a:solidFill>
            <a:ln w="3168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组合 12"/>
          <p:cNvGrpSpPr/>
          <p:nvPr/>
        </p:nvGrpSpPr>
        <p:grpSpPr>
          <a:xfrm>
            <a:off x="3562200" y="1647720"/>
            <a:ext cx="1479600" cy="1479600"/>
            <a:chOff x="3562200" y="1647720"/>
            <a:chExt cx="1479600" cy="1479600"/>
          </a:xfrm>
        </p:grpSpPr>
        <p:grpSp>
          <p:nvGrpSpPr>
            <p:cNvPr id="2031" name="组合 263"/>
            <p:cNvGrpSpPr/>
            <p:nvPr/>
          </p:nvGrpSpPr>
          <p:grpSpPr>
            <a:xfrm>
              <a:off x="3562200" y="1647720"/>
              <a:ext cx="1479600" cy="1479600"/>
              <a:chOff x="3562200" y="1647720"/>
              <a:chExt cx="1479600" cy="1479600"/>
            </a:xfrm>
          </p:grpSpPr>
          <p:grpSp>
            <p:nvGrpSpPr>
              <p:cNvPr id="2032" name="组合 475"/>
              <p:cNvGrpSpPr/>
              <p:nvPr/>
            </p:nvGrpSpPr>
            <p:grpSpPr>
              <a:xfrm>
                <a:off x="3562200" y="1648080"/>
                <a:ext cx="1479240" cy="1479240"/>
                <a:chOff x="3562200" y="1648080"/>
                <a:chExt cx="1479240" cy="1479240"/>
              </a:xfrm>
            </p:grpSpPr>
            <p:grpSp>
              <p:nvGrpSpPr>
                <p:cNvPr id="2033" name="组合 483"/>
                <p:cNvGrpSpPr/>
                <p:nvPr/>
              </p:nvGrpSpPr>
              <p:grpSpPr>
                <a:xfrm>
                  <a:off x="3562560" y="1648080"/>
                  <a:ext cx="1478880" cy="1478880"/>
                  <a:chOff x="3562560" y="1648080"/>
                  <a:chExt cx="1478880" cy="1478880"/>
                </a:xfrm>
              </p:grpSpPr>
              <p:sp>
                <p:nvSpPr>
                  <p:cNvPr id="2034" name="空心弧 585"/>
                  <p:cNvSpPr/>
                  <p:nvPr/>
                </p:nvSpPr>
                <p:spPr>
                  <a:xfrm rot="208200">
                    <a:off x="3778200" y="1863720"/>
                    <a:ext cx="1047960" cy="10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空心弧 590"/>
                  <p:cNvSpPr/>
                  <p:nvPr/>
                </p:nvSpPr>
                <p:spPr>
                  <a:xfrm rot="2908800">
                    <a:off x="3778200" y="1863360"/>
                    <a:ext cx="1047600" cy="10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6" name="组合 484"/>
                <p:cNvGrpSpPr/>
                <p:nvPr/>
              </p:nvGrpSpPr>
              <p:grpSpPr>
                <a:xfrm>
                  <a:off x="3562200" y="1648440"/>
                  <a:ext cx="1479240" cy="1478880"/>
                  <a:chOff x="3562200" y="1648440"/>
                  <a:chExt cx="1479240" cy="1478880"/>
                </a:xfrm>
              </p:grpSpPr>
              <p:sp>
                <p:nvSpPr>
                  <p:cNvPr id="2037" name="空心弧 583"/>
                  <p:cNvSpPr/>
                  <p:nvPr/>
                </p:nvSpPr>
                <p:spPr>
                  <a:xfrm rot="5608800">
                    <a:off x="3777840" y="1863360"/>
                    <a:ext cx="1047600" cy="10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空心弧 584"/>
                  <p:cNvSpPr/>
                  <p:nvPr/>
                </p:nvSpPr>
                <p:spPr>
                  <a:xfrm rot="8308800">
                    <a:off x="3777840" y="1863720"/>
                    <a:ext cx="1047960" cy="10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9" name="组合 476"/>
              <p:cNvGrpSpPr/>
              <p:nvPr/>
            </p:nvGrpSpPr>
            <p:grpSpPr>
              <a:xfrm>
                <a:off x="3562560" y="1647720"/>
                <a:ext cx="1479240" cy="1479240"/>
                <a:chOff x="3562560" y="1647720"/>
                <a:chExt cx="1479240" cy="1479240"/>
              </a:xfrm>
            </p:grpSpPr>
            <p:grpSp>
              <p:nvGrpSpPr>
                <p:cNvPr id="2040" name="组合 477"/>
                <p:cNvGrpSpPr/>
                <p:nvPr/>
              </p:nvGrpSpPr>
              <p:grpSpPr>
                <a:xfrm>
                  <a:off x="3562560" y="1648080"/>
                  <a:ext cx="1479240" cy="1478880"/>
                  <a:chOff x="3562560" y="1648080"/>
                  <a:chExt cx="1479240" cy="1478880"/>
                </a:xfrm>
              </p:grpSpPr>
              <p:sp>
                <p:nvSpPr>
                  <p:cNvPr id="2041" name="空心弧 574"/>
                  <p:cNvSpPr/>
                  <p:nvPr/>
                </p:nvSpPr>
                <p:spPr>
                  <a:xfrm rot="11008800">
                    <a:off x="3777480" y="1863360"/>
                    <a:ext cx="1047960" cy="10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空心弧 579"/>
                  <p:cNvSpPr/>
                  <p:nvPr/>
                </p:nvSpPr>
                <p:spPr>
                  <a:xfrm rot="13708800">
                    <a:off x="3778200" y="1863360"/>
                    <a:ext cx="1047600" cy="10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组合 478"/>
                <p:cNvGrpSpPr/>
                <p:nvPr/>
              </p:nvGrpSpPr>
              <p:grpSpPr>
                <a:xfrm>
                  <a:off x="3562560" y="1647720"/>
                  <a:ext cx="1479240" cy="1479240"/>
                  <a:chOff x="3562560" y="1647720"/>
                  <a:chExt cx="1479240" cy="1479240"/>
                </a:xfrm>
              </p:grpSpPr>
              <p:sp>
                <p:nvSpPr>
                  <p:cNvPr id="2044" name="空心弧 568"/>
                  <p:cNvSpPr/>
                  <p:nvPr/>
                </p:nvSpPr>
                <p:spPr>
                  <a:xfrm rot="16408800">
                    <a:off x="3778560" y="1863360"/>
                    <a:ext cx="1047600" cy="10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空心弧 573"/>
                  <p:cNvSpPr/>
                  <p:nvPr/>
                </p:nvSpPr>
                <p:spPr>
                  <a:xfrm rot="19108800">
                    <a:off x="3777840" y="1863360"/>
                    <a:ext cx="1047960" cy="10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2046" name="组合 591" descr=""/>
            <p:cNvPicPr/>
            <p:nvPr/>
          </p:nvPicPr>
          <p:blipFill>
            <a:blip r:embed="rId2"/>
            <a:stretch/>
          </p:blipFill>
          <p:spPr>
            <a:xfrm>
              <a:off x="4017240" y="2157840"/>
              <a:ext cx="670680" cy="46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7" name="任意多边形 599"/>
          <p:cNvSpPr/>
          <p:nvPr/>
        </p:nvSpPr>
        <p:spPr>
          <a:xfrm>
            <a:off x="7647120" y="2114640"/>
            <a:ext cx="493560" cy="503280"/>
          </a:xfrm>
          <a:custGeom>
            <a:avLst/>
            <a:gdLst/>
            <a:ahLst/>
            <a:rect l="l" t="t" r="r" b="b"/>
            <a:pathLst>
              <a:path w="914797" h="931517">
                <a:moveTo>
                  <a:pt x="457399" y="0"/>
                </a:moveTo>
                <a:cubicBezTo>
                  <a:pt x="579049" y="0"/>
                  <a:pt x="677665" y="118695"/>
                  <a:pt x="677665" y="265113"/>
                </a:cubicBezTo>
                <a:cubicBezTo>
                  <a:pt x="677665" y="338322"/>
                  <a:pt x="653011" y="404600"/>
                  <a:pt x="613151" y="452577"/>
                </a:cubicBezTo>
                <a:lnTo>
                  <a:pt x="563217" y="493097"/>
                </a:lnTo>
                <a:lnTo>
                  <a:pt x="581880" y="567746"/>
                </a:lnTo>
                <a:lnTo>
                  <a:pt x="585053" y="567901"/>
                </a:lnTo>
                <a:cubicBezTo>
                  <a:pt x="708754" y="580241"/>
                  <a:pt x="819320" y="610158"/>
                  <a:pt x="905289" y="652065"/>
                </a:cubicBezTo>
                <a:lnTo>
                  <a:pt x="914797" y="657683"/>
                </a:lnTo>
                <a:lnTo>
                  <a:pt x="914797" y="931517"/>
                </a:lnTo>
                <a:lnTo>
                  <a:pt x="0" y="931517"/>
                </a:lnTo>
                <a:lnTo>
                  <a:pt x="0" y="657682"/>
                </a:lnTo>
                <a:lnTo>
                  <a:pt x="9508" y="652065"/>
                </a:lnTo>
                <a:cubicBezTo>
                  <a:pt x="95477" y="610158"/>
                  <a:pt x="206042" y="580241"/>
                  <a:pt x="329743" y="567901"/>
                </a:cubicBezTo>
                <a:lnTo>
                  <a:pt x="332917" y="567746"/>
                </a:lnTo>
                <a:lnTo>
                  <a:pt x="351579" y="493096"/>
                </a:lnTo>
                <a:lnTo>
                  <a:pt x="301647" y="452577"/>
                </a:lnTo>
                <a:cubicBezTo>
                  <a:pt x="261787" y="404600"/>
                  <a:pt x="237133" y="338322"/>
                  <a:pt x="237133" y="265113"/>
                </a:cubicBezTo>
                <a:cubicBezTo>
                  <a:pt x="237133" y="118695"/>
                  <a:pt x="335749" y="0"/>
                  <a:pt x="457399" y="0"/>
                </a:cubicBez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8" name="组合 261"/>
          <p:cNvGrpSpPr/>
          <p:nvPr/>
        </p:nvGrpSpPr>
        <p:grpSpPr>
          <a:xfrm>
            <a:off x="7160760" y="1656000"/>
            <a:ext cx="1473840" cy="1473840"/>
            <a:chOff x="7160760" y="1656000"/>
            <a:chExt cx="1473840" cy="1473840"/>
          </a:xfrm>
        </p:grpSpPr>
        <p:grpSp>
          <p:nvGrpSpPr>
            <p:cNvPr id="2049" name="组合 503"/>
            <p:cNvGrpSpPr/>
            <p:nvPr/>
          </p:nvGrpSpPr>
          <p:grpSpPr>
            <a:xfrm>
              <a:off x="7160760" y="1656360"/>
              <a:ext cx="1473480" cy="1473480"/>
              <a:chOff x="7160760" y="1656360"/>
              <a:chExt cx="1473480" cy="1473480"/>
            </a:xfrm>
          </p:grpSpPr>
          <p:grpSp>
            <p:nvGrpSpPr>
              <p:cNvPr id="2050" name="组合 511"/>
              <p:cNvGrpSpPr/>
              <p:nvPr/>
            </p:nvGrpSpPr>
            <p:grpSpPr>
              <a:xfrm>
                <a:off x="7160760" y="1656720"/>
                <a:ext cx="1473480" cy="1473120"/>
                <a:chOff x="7160760" y="1656720"/>
                <a:chExt cx="1473480" cy="1473120"/>
              </a:xfrm>
            </p:grpSpPr>
            <p:sp>
              <p:nvSpPr>
                <p:cNvPr id="2051" name="空心弧 622"/>
                <p:cNvSpPr/>
                <p:nvPr/>
              </p:nvSpPr>
              <p:spPr>
                <a:xfrm rot="208200">
                  <a:off x="7375320" y="1871640"/>
                  <a:ext cx="1044360" cy="104292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空心弧 623"/>
                <p:cNvSpPr/>
                <p:nvPr/>
              </p:nvSpPr>
              <p:spPr>
                <a:xfrm rot="2908800">
                  <a:off x="7376040" y="1870920"/>
                  <a:ext cx="1042920" cy="104436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3" name="组合 512"/>
              <p:cNvGrpSpPr/>
              <p:nvPr/>
            </p:nvGrpSpPr>
            <p:grpSpPr>
              <a:xfrm>
                <a:off x="7160760" y="1656360"/>
                <a:ext cx="1473120" cy="1473120"/>
                <a:chOff x="7160760" y="1656360"/>
                <a:chExt cx="1473120" cy="1473120"/>
              </a:xfrm>
            </p:grpSpPr>
            <p:sp>
              <p:nvSpPr>
                <p:cNvPr id="2054" name="空心弧 620"/>
                <p:cNvSpPr/>
                <p:nvPr/>
              </p:nvSpPr>
              <p:spPr>
                <a:xfrm rot="5608800">
                  <a:off x="7375680" y="1870560"/>
                  <a:ext cx="1042920" cy="104436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空心弧 621"/>
                <p:cNvSpPr/>
                <p:nvPr/>
              </p:nvSpPr>
              <p:spPr>
                <a:xfrm rot="8308800">
                  <a:off x="7374960" y="1871280"/>
                  <a:ext cx="1044360" cy="104292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6" name="组合 504"/>
            <p:cNvGrpSpPr/>
            <p:nvPr/>
          </p:nvGrpSpPr>
          <p:grpSpPr>
            <a:xfrm>
              <a:off x="7161480" y="1656000"/>
              <a:ext cx="1473120" cy="1473480"/>
              <a:chOff x="7161480" y="1656000"/>
              <a:chExt cx="1473120" cy="1473480"/>
            </a:xfrm>
          </p:grpSpPr>
          <p:grpSp>
            <p:nvGrpSpPr>
              <p:cNvPr id="2057" name="组合 505"/>
              <p:cNvGrpSpPr/>
              <p:nvPr/>
            </p:nvGrpSpPr>
            <p:grpSpPr>
              <a:xfrm>
                <a:off x="7161480" y="1656000"/>
                <a:ext cx="1473120" cy="1473120"/>
                <a:chOff x="7161480" y="1656000"/>
                <a:chExt cx="1473120" cy="1473120"/>
              </a:xfrm>
            </p:grpSpPr>
            <p:sp>
              <p:nvSpPr>
                <p:cNvPr id="2058" name="空心弧 615"/>
                <p:cNvSpPr/>
                <p:nvPr/>
              </p:nvSpPr>
              <p:spPr>
                <a:xfrm rot="11008800">
                  <a:off x="7375320" y="1870920"/>
                  <a:ext cx="1044360" cy="104292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空心弧 616"/>
                <p:cNvSpPr/>
                <p:nvPr/>
              </p:nvSpPr>
              <p:spPr>
                <a:xfrm rot="13708800">
                  <a:off x="7376400" y="1870200"/>
                  <a:ext cx="1042920" cy="104436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组合 506"/>
              <p:cNvGrpSpPr/>
              <p:nvPr/>
            </p:nvGrpSpPr>
            <p:grpSpPr>
              <a:xfrm>
                <a:off x="7161480" y="1656360"/>
                <a:ext cx="1473120" cy="1473120"/>
                <a:chOff x="7161480" y="1656360"/>
                <a:chExt cx="1473120" cy="1473120"/>
              </a:xfrm>
            </p:grpSpPr>
            <p:sp>
              <p:nvSpPr>
                <p:cNvPr id="2061" name="空心弧 613"/>
                <p:cNvSpPr/>
                <p:nvPr/>
              </p:nvSpPr>
              <p:spPr>
                <a:xfrm rot="16408800">
                  <a:off x="7376400" y="1870560"/>
                  <a:ext cx="1042920" cy="104436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空心弧 614"/>
                <p:cNvSpPr/>
                <p:nvPr/>
              </p:nvSpPr>
              <p:spPr>
                <a:xfrm rot="19108800">
                  <a:off x="7375680" y="1871280"/>
                  <a:ext cx="1044360" cy="1042920"/>
                </a:xfrm>
                <a:custGeom>
                  <a:avLst/>
                  <a:gdLst/>
                  <a:ahLst/>
                  <a:rect l="l" t="t" r="r" b="b"/>
                  <a:pathLst>
                    <a:path w="3197225" h="3197225">
                      <a:moveTo>
                        <a:pt x="0" y="1598613"/>
                      </a:moveTo>
                      <a:cubicBezTo>
                        <a:pt x="0" y="1203621"/>
                        <a:pt x="146233" y="822614"/>
                        <a:pt x="410505" y="529051"/>
                      </a:cubicBezTo>
                      <a:lnTo>
                        <a:pt x="508809" y="617546"/>
                      </a:lnTo>
                      <a:cubicBezTo>
                        <a:pt x="266403" y="886819"/>
                        <a:pt x="132269" y="1236302"/>
                        <a:pt x="132269" y="1598612"/>
                      </a:cubicBezTo>
                      <a:lnTo>
                        <a:pt x="0" y="1598613"/>
                      </a:lnTo>
                      <a:close/>
                    </a:path>
                  </a:pathLst>
                </a:custGeom>
                <a:solidFill>
                  <a:srgbClr val="231f2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3" name="圆角矩形 629"/>
          <p:cNvSpPr/>
          <p:nvPr/>
        </p:nvSpPr>
        <p:spPr>
          <a:xfrm>
            <a:off x="2070000" y="5421240"/>
            <a:ext cx="8040960" cy="1268640"/>
          </a:xfrm>
          <a:prstGeom prst="roundRect">
            <a:avLst>
              <a:gd name="adj" fmla="val 11519"/>
            </a:avLst>
          </a:prstGeom>
          <a:noFill/>
          <a:ln w="12600">
            <a:solidFill>
              <a:srgbClr val="231f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文本框 90"/>
          <p:cNvSpPr/>
          <p:nvPr/>
        </p:nvSpPr>
        <p:spPr>
          <a:xfrm>
            <a:off x="2139840" y="5553000"/>
            <a:ext cx="791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每个人都可以是领导，也可以使下属，因此有更积极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一个人因“需要”而进行领导，而非“被任命”而进行领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5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066" name="椭圆 6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直接连接符 7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直接连接符 8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椭圆 9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椭圆 10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椭圆 11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直接连接符 12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直接连接符 13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直接连接符 14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椭圆 15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椭圆 16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椭圆 17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椭圆 18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椭圆 19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椭圆 20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椭圆 21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椭圆 22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椭圆 23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椭圆 24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椭圆 25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直接连接符 26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直接连接符 27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直接连接符 28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直接连接符 29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椭圆 30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椭圆 31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直接连接符 32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椭圆 33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直接连接符 34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直接连接符 35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直接连接符 36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直接连接符 37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直接连接符 38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椭圆 39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椭圆 40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直接连接符 41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直接连接符 42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直接连接符 43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4" name="五边形 44"/>
          <p:cNvSpPr/>
          <p:nvPr/>
        </p:nvSpPr>
        <p:spPr>
          <a:xfrm>
            <a:off x="0" y="611280"/>
            <a:ext cx="3959280" cy="806400"/>
          </a:xfrm>
          <a:custGeom>
            <a:avLst/>
            <a:gdLst>
              <a:gd name="textAreaLeft" fmla="*/ 0 w 3959280"/>
              <a:gd name="textAreaRight" fmla="*/ 3959640 w 39592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矩形 2"/>
          <p:cNvSpPr/>
          <p:nvPr/>
        </p:nvSpPr>
        <p:spPr>
          <a:xfrm>
            <a:off x="868680" y="698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案例：锤子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6" name="组合 76"/>
          <p:cNvGrpSpPr/>
          <p:nvPr/>
        </p:nvGrpSpPr>
        <p:grpSpPr>
          <a:xfrm>
            <a:off x="3016080" y="1863720"/>
            <a:ext cx="2241720" cy="4567320"/>
            <a:chOff x="3016080" y="1863720"/>
            <a:chExt cx="2241720" cy="4567320"/>
          </a:xfrm>
        </p:grpSpPr>
        <p:grpSp>
          <p:nvGrpSpPr>
            <p:cNvPr id="2107" name="组合 63"/>
            <p:cNvGrpSpPr/>
            <p:nvPr/>
          </p:nvGrpSpPr>
          <p:grpSpPr>
            <a:xfrm>
              <a:off x="3016080" y="1863720"/>
              <a:ext cx="2241720" cy="4567320"/>
              <a:chOff x="3016080" y="1863720"/>
              <a:chExt cx="2241720" cy="4567320"/>
            </a:xfrm>
          </p:grpSpPr>
          <p:sp>
            <p:nvSpPr>
              <p:cNvPr id="2108" name="圆角矩形 64"/>
              <p:cNvSpPr/>
              <p:nvPr/>
            </p:nvSpPr>
            <p:spPr>
              <a:xfrm>
                <a:off x="3038040" y="1863720"/>
                <a:ext cx="2198880" cy="4567320"/>
              </a:xfrm>
              <a:custGeom>
                <a:avLst/>
                <a:gdLst>
                  <a:gd name="textAreaLeft" fmla="*/ 44280 w 2198880"/>
                  <a:gd name="textAreaRight" fmla="*/ 2154600 w 2198880"/>
                  <a:gd name="textAreaTop" fmla="*/ 44280 h 4567320"/>
                  <a:gd name="textAreaBottom" fmla="*/ 4523040 h 4567320"/>
                </a:gdLst>
                <a:ahLst/>
                <a:rect l="textAreaLeft" t="textAreaTop" r="textAreaRight" b="textAreaBottom"/>
                <a:pathLst>
                  <a:path w="21600" h="44862">
                    <a:moveTo>
                      <a:pt x="1493" y="0"/>
                    </a:moveTo>
                    <a:arcTo wR="1493" hR="1493" stAng="16200000" swAng="-5400000"/>
                    <a:lnTo>
                      <a:pt x="0" y="43369"/>
                    </a:lnTo>
                    <a:arcTo wR="1493" hR="1493" stAng="10800000" swAng="-5400000"/>
                    <a:lnTo>
                      <a:pt x="20107" y="44862"/>
                    </a:lnTo>
                    <a:arcTo wR="1493" hR="1493" stAng="5400000" swAng="-5400000"/>
                    <a:lnTo>
                      <a:pt x="21600" y="1493"/>
                    </a:lnTo>
                    <a:arcTo wR="1493" hR="1493" stAng="0" swAng="-5400000"/>
                    <a:close/>
                  </a:path>
                </a:pathLst>
              </a:custGeom>
              <a:solidFill>
                <a:srgbClr val="eeede2"/>
              </a:solidFill>
              <a:ln w="25560">
                <a:solidFill>
                  <a:srgbClr val="eeed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矩形 72"/>
              <p:cNvSpPr/>
              <p:nvPr/>
            </p:nvSpPr>
            <p:spPr>
              <a:xfrm>
                <a:off x="3016080" y="3701880"/>
                <a:ext cx="12600" cy="693720"/>
              </a:xfrm>
              <a:prstGeom prst="rect">
                <a:avLst/>
              </a:prstGeom>
              <a:solidFill>
                <a:srgbClr val="ee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矩形 73"/>
              <p:cNvSpPr/>
              <p:nvPr/>
            </p:nvSpPr>
            <p:spPr>
              <a:xfrm>
                <a:off x="5245200" y="3701880"/>
                <a:ext cx="12600" cy="693720"/>
              </a:xfrm>
              <a:prstGeom prst="rect">
                <a:avLst/>
              </a:prstGeom>
              <a:solidFill>
                <a:srgbClr val="ee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1" name="椭圆 55"/>
            <p:cNvSpPr/>
            <p:nvPr/>
          </p:nvSpPr>
          <p:spPr>
            <a:xfrm>
              <a:off x="3852720" y="3127320"/>
              <a:ext cx="574560" cy="574560"/>
            </a:xfrm>
            <a:prstGeom prst="ellipse">
              <a:avLst/>
            </a:prstGeom>
            <a:solidFill>
              <a:srgbClr val="231f20">
                <a:alpha val="5000"/>
              </a:srgbClr>
            </a:solidFill>
            <a:ln w="12600">
              <a:solidFill>
                <a:srgbClr val="231f2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2" name="图片 59" descr=""/>
            <p:cNvPicPr/>
            <p:nvPr/>
          </p:nvPicPr>
          <p:blipFill>
            <a:blip r:embed="rId1"/>
            <a:srcRect l="38124" t="28711" r="33021" b="50635"/>
            <a:stretch/>
          </p:blipFill>
          <p:spPr>
            <a:xfrm>
              <a:off x="3985560" y="3200040"/>
              <a:ext cx="377280" cy="4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文本框 75"/>
            <p:cNvSpPr/>
            <p:nvPr/>
          </p:nvSpPr>
          <p:spPr>
            <a:xfrm>
              <a:off x="3713040" y="5818320"/>
              <a:ext cx="8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47276"/>
                  </a:solidFill>
                  <a:latin typeface="造字工房悦黑演示版常规体"/>
                  <a:ea typeface="造字工房悦黑演示版常规体"/>
                </a:rPr>
                <a:t>Smartis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组合 54"/>
          <p:cNvGrpSpPr/>
          <p:nvPr/>
        </p:nvGrpSpPr>
        <p:grpSpPr>
          <a:xfrm>
            <a:off x="1635120" y="1849320"/>
            <a:ext cx="2243160" cy="4581720"/>
            <a:chOff x="1635120" y="1849320"/>
            <a:chExt cx="2243160" cy="4581720"/>
          </a:xfrm>
        </p:grpSpPr>
        <p:sp>
          <p:nvSpPr>
            <p:cNvPr id="2115" name="圆角矩形 2"/>
            <p:cNvSpPr/>
            <p:nvPr/>
          </p:nvSpPr>
          <p:spPr>
            <a:xfrm>
              <a:off x="1657080" y="1863360"/>
              <a:ext cx="2200320" cy="4567680"/>
            </a:xfrm>
            <a:custGeom>
              <a:avLst/>
              <a:gdLst>
                <a:gd name="textAreaLeft" fmla="*/ 44280 w 2200320"/>
                <a:gd name="textAreaRight" fmla="*/ 2156040 w 2200320"/>
                <a:gd name="textAreaTop" fmla="*/ 44280 h 4567680"/>
                <a:gd name="textAreaBottom" fmla="*/ 4523400 h 4567680"/>
              </a:gdLst>
              <a:ahLst/>
              <a:rect l="textAreaLeft" t="textAreaTop" r="textAreaRight" b="textAreaBottom"/>
              <a:pathLst>
                <a:path w="21600" h="44836">
                  <a:moveTo>
                    <a:pt x="1493" y="0"/>
                  </a:moveTo>
                  <a:arcTo wR="1493" hR="1493" stAng="16200000" swAng="-5400000"/>
                  <a:lnTo>
                    <a:pt x="0" y="43343"/>
                  </a:lnTo>
                  <a:arcTo wR="1493" hR="1493" stAng="10800000" swAng="-5400000"/>
                  <a:lnTo>
                    <a:pt x="20107" y="44836"/>
                  </a:lnTo>
                  <a:arcTo wR="1493" hR="1493" stAng="5400000" swAng="-5400000"/>
                  <a:lnTo>
                    <a:pt x="21600" y="1493"/>
                  </a:lnTo>
                  <a:arcTo wR="1493" hR="1493" stAng="0" swAng="-5400000"/>
                  <a:close/>
                </a:path>
              </a:pathLst>
            </a:custGeom>
            <a:solidFill>
              <a:srgbClr val="231f20"/>
            </a:solidFill>
            <a:ln w="2556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矩形 3"/>
            <p:cNvSpPr/>
            <p:nvPr/>
          </p:nvSpPr>
          <p:spPr>
            <a:xfrm>
              <a:off x="1730160" y="2300040"/>
              <a:ext cx="2054520" cy="3597480"/>
            </a:xfrm>
            <a:prstGeom prst="rect">
              <a:avLst/>
            </a:prstGeom>
            <a:noFill/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圆角矩形 46"/>
            <p:cNvSpPr/>
            <p:nvPr/>
          </p:nvSpPr>
          <p:spPr>
            <a:xfrm>
              <a:off x="2081160" y="6104160"/>
              <a:ext cx="1354320" cy="6804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圆角矩形 51"/>
            <p:cNvSpPr/>
            <p:nvPr/>
          </p:nvSpPr>
          <p:spPr>
            <a:xfrm>
              <a:off x="2628720" y="2055600"/>
              <a:ext cx="257040" cy="6804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椭圆 47"/>
            <p:cNvSpPr/>
            <p:nvPr/>
          </p:nvSpPr>
          <p:spPr>
            <a:xfrm>
              <a:off x="2502000" y="2057040"/>
              <a:ext cx="61920" cy="60120"/>
            </a:xfrm>
            <a:prstGeom prst="ellipse">
              <a:avLst/>
            </a:prstGeom>
            <a:solidFill>
              <a:srgbClr val="eeede2"/>
            </a:solidFill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椭圆 53"/>
            <p:cNvSpPr/>
            <p:nvPr/>
          </p:nvSpPr>
          <p:spPr>
            <a:xfrm>
              <a:off x="2511360" y="2064960"/>
              <a:ext cx="42840" cy="44280"/>
            </a:xfrm>
            <a:prstGeom prst="ellips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直接连接符 49"/>
            <p:cNvSpPr/>
            <p:nvPr/>
          </p:nvSpPr>
          <p:spPr>
            <a:xfrm>
              <a:off x="2529000" y="6100920"/>
              <a:ext cx="0" cy="71280"/>
            </a:xfrm>
            <a:prstGeom prst="line">
              <a:avLst/>
            </a:prstGeom>
            <a:ln w="64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直接连接符 56"/>
            <p:cNvSpPr/>
            <p:nvPr/>
          </p:nvSpPr>
          <p:spPr>
            <a:xfrm>
              <a:off x="2981520" y="6100920"/>
              <a:ext cx="0" cy="71280"/>
            </a:xfrm>
            <a:prstGeom prst="line">
              <a:avLst/>
            </a:prstGeom>
            <a:ln w="648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矩形 52"/>
            <p:cNvSpPr/>
            <p:nvPr/>
          </p:nvSpPr>
          <p:spPr>
            <a:xfrm>
              <a:off x="1635120" y="3701880"/>
              <a:ext cx="12600" cy="693720"/>
            </a:xfrm>
            <a:prstGeom prst="rect">
              <a:avLst/>
            </a:prstGeom>
            <a:solidFill>
              <a:srgbClr val="ee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矩形 60"/>
            <p:cNvSpPr/>
            <p:nvPr/>
          </p:nvSpPr>
          <p:spPr>
            <a:xfrm>
              <a:off x="3865680" y="3701880"/>
              <a:ext cx="12600" cy="693720"/>
            </a:xfrm>
            <a:prstGeom prst="rect">
              <a:avLst/>
            </a:prstGeom>
            <a:solidFill>
              <a:srgbClr val="ee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圆角矩形 61"/>
            <p:cNvSpPr/>
            <p:nvPr/>
          </p:nvSpPr>
          <p:spPr>
            <a:xfrm>
              <a:off x="3343320" y="1849320"/>
              <a:ext cx="133200" cy="6120"/>
            </a:xfrm>
            <a:prstGeom prst="roundRect">
              <a:avLst>
                <a:gd name="adj" fmla="val 5245"/>
              </a:avLst>
            </a:prstGeom>
            <a:solidFill>
              <a:srgbClr val="ee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圆角矩形 80"/>
          <p:cNvSpPr/>
          <p:nvPr/>
        </p:nvSpPr>
        <p:spPr>
          <a:xfrm>
            <a:off x="6089760" y="1836720"/>
            <a:ext cx="5573520" cy="2725920"/>
          </a:xfrm>
          <a:prstGeom prst="roundRect">
            <a:avLst>
              <a:gd name="adj" fmla="val 6833"/>
            </a:avLst>
          </a:pr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文本框 827"/>
          <p:cNvSpPr/>
          <p:nvPr/>
        </p:nvSpPr>
        <p:spPr>
          <a:xfrm>
            <a:off x="6404040" y="223524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锤子手机体验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文本框 90"/>
          <p:cNvSpPr/>
          <p:nvPr/>
        </p:nvSpPr>
        <p:spPr>
          <a:xfrm>
            <a:off x="6384960" y="28512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自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2014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年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7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月初以来，全国各地的锤子机友开展了多场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sarmtisan T1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体验会。无人任命，无人指派，全由各地锤友自发组织、自发领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9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130" name="椭圆 880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直接连接符 881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直接连接符 882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椭圆 883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椭圆 884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椭圆 885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直接连接符 886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直接连接符 887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直接连接符 888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椭圆 889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椭圆 890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椭圆 891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椭圆 892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椭圆 893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椭圆 894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椭圆 895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椭圆 896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椭圆 897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椭圆 898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椭圆 899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直接连接符 900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直接连接符 901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直接连接符 902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直接连接符 903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椭圆 904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椭圆 905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直接连接符 906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椭圆 907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直接连接符 908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直接连接符 909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直接连接符 910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直接连接符 911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直接连接符 912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椭圆 913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椭圆 914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直接连接符 915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直接连接符 916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直接连接符 917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8" name="文本框 533" descr=""/>
          <p:cNvPicPr/>
          <p:nvPr/>
        </p:nvPicPr>
        <p:blipFill>
          <a:blip r:embed="rId1"/>
          <a:stretch/>
        </p:blipFill>
        <p:spPr>
          <a:xfrm>
            <a:off x="-1395360" y="-1219320"/>
            <a:ext cx="4278240" cy="5321520"/>
          </a:xfrm>
          <a:prstGeom prst="rect">
            <a:avLst/>
          </a:prstGeom>
          <a:ln w="0">
            <a:noFill/>
          </a:ln>
        </p:spPr>
      </p:pic>
      <p:sp>
        <p:nvSpPr>
          <p:cNvPr id="2169" name="五边形 531"/>
          <p:cNvSpPr/>
          <p:nvPr/>
        </p:nvSpPr>
        <p:spPr>
          <a:xfrm>
            <a:off x="0" y="611280"/>
            <a:ext cx="2741760" cy="80640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23" y="0"/>
                </a:lnTo>
                <a:lnTo>
                  <a:pt x="21600" y="10800"/>
                </a:lnTo>
                <a:lnTo>
                  <a:pt x="184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矩形 2"/>
          <p:cNvSpPr/>
          <p:nvPr/>
        </p:nvSpPr>
        <p:spPr>
          <a:xfrm>
            <a:off x="587880" y="69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关联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圆角矩形 534"/>
          <p:cNvSpPr/>
          <p:nvPr/>
        </p:nvSpPr>
        <p:spPr>
          <a:xfrm>
            <a:off x="2070000" y="5421240"/>
            <a:ext cx="8040960" cy="1268640"/>
          </a:xfrm>
          <a:prstGeom prst="roundRect">
            <a:avLst>
              <a:gd name="adj" fmla="val 11519"/>
            </a:avLst>
          </a:prstGeom>
          <a:noFill/>
          <a:ln w="12600">
            <a:solidFill>
              <a:srgbClr val="231f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组合 9"/>
          <p:cNvGrpSpPr/>
          <p:nvPr/>
        </p:nvGrpSpPr>
        <p:grpSpPr>
          <a:xfrm>
            <a:off x="3589560" y="1048680"/>
            <a:ext cx="5305320" cy="4637160"/>
            <a:chOff x="3589560" y="1048680"/>
            <a:chExt cx="5305320" cy="4637160"/>
          </a:xfrm>
        </p:grpSpPr>
        <p:sp>
          <p:nvSpPr>
            <p:cNvPr id="2173" name="任意多边形 556"/>
            <p:cNvSpPr/>
            <p:nvPr/>
          </p:nvSpPr>
          <p:spPr>
            <a:xfrm rot="1377600">
              <a:off x="4196880" y="1498320"/>
              <a:ext cx="3065760" cy="3737160"/>
            </a:xfrm>
            <a:custGeom>
              <a:avLst/>
              <a:gdLst/>
              <a:ahLst/>
              <a:rect l="l" t="t" r="r" b="b"/>
              <a:pathLst>
                <a:path w="3223362" h="3929717">
                  <a:moveTo>
                    <a:pt x="1066420" y="0"/>
                  </a:moveTo>
                  <a:lnTo>
                    <a:pt x="1065390" y="43891"/>
                  </a:lnTo>
                  <a:cubicBezTo>
                    <a:pt x="1062224" y="750613"/>
                    <a:pt x="1235402" y="1283956"/>
                    <a:pt x="1509030" y="1315471"/>
                  </a:cubicBezTo>
                  <a:cubicBezTo>
                    <a:pt x="1761609" y="1344561"/>
                    <a:pt x="2028044" y="937796"/>
                    <a:pt x="2191478" y="333175"/>
                  </a:cubicBezTo>
                  <a:lnTo>
                    <a:pt x="2256679" y="47829"/>
                  </a:lnTo>
                  <a:lnTo>
                    <a:pt x="2379904" y="124583"/>
                  </a:lnTo>
                  <a:cubicBezTo>
                    <a:pt x="2505504" y="212806"/>
                    <a:pt x="2621021" y="321988"/>
                    <a:pt x="2723645" y="448502"/>
                  </a:cubicBezTo>
                  <a:lnTo>
                    <a:pt x="2791716" y="544193"/>
                  </a:lnTo>
                  <a:lnTo>
                    <a:pt x="2635461" y="631769"/>
                  </a:lnTo>
                  <a:cubicBezTo>
                    <a:pt x="2101576" y="959249"/>
                    <a:pt x="1786576" y="1329682"/>
                    <a:pt x="1885790" y="1563774"/>
                  </a:cubicBezTo>
                  <a:cubicBezTo>
                    <a:pt x="1985005" y="1797867"/>
                    <a:pt x="2470255" y="1829134"/>
                    <a:pt x="3076864" y="1673242"/>
                  </a:cubicBezTo>
                  <a:lnTo>
                    <a:pt x="3202830" y="1635528"/>
                  </a:lnTo>
                  <a:lnTo>
                    <a:pt x="3207726" y="1665550"/>
                  </a:lnTo>
                  <a:cubicBezTo>
                    <a:pt x="3218033" y="1760785"/>
                    <a:pt x="3223362" y="1858083"/>
                    <a:pt x="3223362" y="1956990"/>
                  </a:cubicBezTo>
                  <a:cubicBezTo>
                    <a:pt x="3223362" y="2064889"/>
                    <a:pt x="3217020" y="2170873"/>
                    <a:pt x="3204792" y="2274352"/>
                  </a:cubicBezTo>
                  <a:lnTo>
                    <a:pt x="3188955" y="2363203"/>
                  </a:lnTo>
                  <a:lnTo>
                    <a:pt x="2996868" y="2238620"/>
                  </a:lnTo>
                  <a:cubicBezTo>
                    <a:pt x="2458390" y="1918748"/>
                    <a:pt x="1983867" y="1812572"/>
                    <a:pt x="1822942" y="2009411"/>
                  </a:cubicBezTo>
                  <a:cubicBezTo>
                    <a:pt x="1621786" y="2255460"/>
                    <a:pt x="1982039" y="2887621"/>
                    <a:pt x="2635813" y="3462713"/>
                  </a:cubicBezTo>
                  <a:lnTo>
                    <a:pt x="2685617" y="3504945"/>
                  </a:lnTo>
                  <a:lnTo>
                    <a:pt x="2636860" y="3565049"/>
                  </a:lnTo>
                  <a:cubicBezTo>
                    <a:pt x="2517463" y="3692456"/>
                    <a:pt x="2383634" y="3798062"/>
                    <a:pt x="2239020" y="3877151"/>
                  </a:cubicBezTo>
                  <a:lnTo>
                    <a:pt x="2127945" y="3929717"/>
                  </a:lnTo>
                  <a:lnTo>
                    <a:pt x="2122908" y="3871429"/>
                  </a:lnTo>
                  <a:cubicBezTo>
                    <a:pt x="2048708" y="3168605"/>
                    <a:pt x="1818199" y="2657419"/>
                    <a:pt x="1542766" y="2656041"/>
                  </a:cubicBezTo>
                  <a:cubicBezTo>
                    <a:pt x="1288519" y="2654769"/>
                    <a:pt x="1068203" y="3088250"/>
                    <a:pt x="971924" y="3707126"/>
                  </a:cubicBezTo>
                  <a:lnTo>
                    <a:pt x="954381" y="3859027"/>
                  </a:lnTo>
                  <a:lnTo>
                    <a:pt x="930624" y="3846259"/>
                  </a:lnTo>
                  <a:cubicBezTo>
                    <a:pt x="806496" y="3771320"/>
                    <a:pt x="690975" y="3676531"/>
                    <a:pt x="586502" y="3565049"/>
                  </a:cubicBezTo>
                  <a:lnTo>
                    <a:pt x="580177" y="3557616"/>
                  </a:lnTo>
                  <a:lnTo>
                    <a:pt x="602406" y="3536833"/>
                  </a:lnTo>
                  <a:cubicBezTo>
                    <a:pt x="1042705" y="3091398"/>
                    <a:pt x="1260193" y="2656490"/>
                    <a:pt x="1107977" y="2452841"/>
                  </a:cubicBezTo>
                  <a:cubicBezTo>
                    <a:pt x="981129" y="2283134"/>
                    <a:pt x="627565" y="2314188"/>
                    <a:pt x="193862" y="2500644"/>
                  </a:cubicBezTo>
                  <a:lnTo>
                    <a:pt x="69333" y="2560973"/>
                  </a:lnTo>
                  <a:lnTo>
                    <a:pt x="32744" y="2376974"/>
                  </a:lnTo>
                  <a:cubicBezTo>
                    <a:pt x="11275" y="2241315"/>
                    <a:pt x="0" y="2100855"/>
                    <a:pt x="0" y="1956990"/>
                  </a:cubicBezTo>
                  <a:lnTo>
                    <a:pt x="4460" y="1816499"/>
                  </a:lnTo>
                  <a:lnTo>
                    <a:pt x="13631" y="1821085"/>
                  </a:lnTo>
                  <a:cubicBezTo>
                    <a:pt x="584417" y="2078920"/>
                    <a:pt x="1067820" y="2131524"/>
                    <a:pt x="1205794" y="1917969"/>
                  </a:cubicBezTo>
                  <a:cubicBezTo>
                    <a:pt x="1366763" y="1668821"/>
                    <a:pt x="1004229" y="1139954"/>
                    <a:pt x="374812" y="665159"/>
                  </a:cubicBezTo>
                  <a:lnTo>
                    <a:pt x="356640" y="651969"/>
                  </a:lnTo>
                  <a:lnTo>
                    <a:pt x="399367" y="583788"/>
                  </a:lnTo>
                  <a:cubicBezTo>
                    <a:pt x="544411" y="369876"/>
                    <a:pt x="722776" y="194681"/>
                    <a:pt x="923984" y="71755"/>
                  </a:cubicBezTo>
                  <a:lnTo>
                    <a:pt x="1066420" y="0"/>
                  </a:lnTo>
                  <a:close/>
                </a:path>
              </a:pathLst>
            </a:cu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椭圆 6"/>
            <p:cNvSpPr/>
            <p:nvPr/>
          </p:nvSpPr>
          <p:spPr>
            <a:xfrm rot="1853400">
              <a:off x="5494320" y="3093840"/>
              <a:ext cx="277560" cy="507960"/>
            </a:xfrm>
            <a:prstGeom prst="ellipse">
              <a:avLst/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椭圆 8"/>
            <p:cNvSpPr/>
            <p:nvPr/>
          </p:nvSpPr>
          <p:spPr>
            <a:xfrm rot="19395000">
              <a:off x="5837040" y="350172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椭圆 562"/>
            <p:cNvSpPr/>
            <p:nvPr/>
          </p:nvSpPr>
          <p:spPr>
            <a:xfrm rot="19395000">
              <a:off x="6138720" y="388116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椭圆 564"/>
            <p:cNvSpPr/>
            <p:nvPr/>
          </p:nvSpPr>
          <p:spPr>
            <a:xfrm rot="19395000">
              <a:off x="6416640" y="424476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椭圆 565"/>
            <p:cNvSpPr/>
            <p:nvPr/>
          </p:nvSpPr>
          <p:spPr>
            <a:xfrm rot="18202800">
              <a:off x="6756480" y="454464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椭圆 566"/>
            <p:cNvSpPr/>
            <p:nvPr/>
          </p:nvSpPr>
          <p:spPr>
            <a:xfrm rot="18202800">
              <a:off x="7116120" y="4779000"/>
              <a:ext cx="237960" cy="52848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椭圆 567"/>
            <p:cNvSpPr/>
            <p:nvPr/>
          </p:nvSpPr>
          <p:spPr>
            <a:xfrm rot="16200000">
              <a:off x="7567560" y="489708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椭圆 568"/>
            <p:cNvSpPr/>
            <p:nvPr/>
          </p:nvSpPr>
          <p:spPr>
            <a:xfrm rot="16200000">
              <a:off x="8056800" y="4878000"/>
              <a:ext cx="239400" cy="52848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椭圆 573"/>
            <p:cNvSpPr/>
            <p:nvPr/>
          </p:nvSpPr>
          <p:spPr>
            <a:xfrm rot="16200000">
              <a:off x="8512200" y="4897080"/>
              <a:ext cx="237960" cy="527040"/>
            </a:xfrm>
            <a:prstGeom prst="ellipse">
              <a:avLst/>
            </a:prstGeom>
            <a:solidFill>
              <a:srgbClr val="e6e5d3"/>
            </a:solidFill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3" name="文本框 90"/>
          <p:cNvSpPr/>
          <p:nvPr/>
        </p:nvSpPr>
        <p:spPr>
          <a:xfrm>
            <a:off x="2139840" y="5553000"/>
            <a:ext cx="791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在关联动力环境下才能存在“同级领导”，这也是成功的驱动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问题的关注点不在于“谁是负责人”，而在于“应该做什么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文本框 91"/>
          <p:cNvSpPr/>
          <p:nvPr/>
        </p:nvSpPr>
        <p:spPr>
          <a:xfrm>
            <a:off x="3378240" y="642960"/>
            <a:ext cx="541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关键要素相互之间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5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186" name="椭圆 6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直接连接符 7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直接连接符 8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椭圆 9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椭圆 10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椭圆 11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直接连接符 12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直接连接符 13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直接连接符 14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椭圆 15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椭圆 16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椭圆 17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椭圆 18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椭圆 19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椭圆 20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椭圆 21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椭圆 22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椭圆 23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椭圆 24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椭圆 25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26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27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28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29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椭圆 30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椭圆 31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椭圆 33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4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5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6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7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8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椭圆 39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椭圆 40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41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42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43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五边形 44"/>
          <p:cNvSpPr/>
          <p:nvPr/>
        </p:nvSpPr>
        <p:spPr>
          <a:xfrm>
            <a:off x="0" y="611280"/>
            <a:ext cx="3959280" cy="806400"/>
          </a:xfrm>
          <a:custGeom>
            <a:avLst/>
            <a:gdLst>
              <a:gd name="textAreaLeft" fmla="*/ 0 w 3959280"/>
              <a:gd name="textAreaRight" fmla="*/ 3959640 w 39592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矩形 2"/>
          <p:cNvSpPr/>
          <p:nvPr/>
        </p:nvSpPr>
        <p:spPr>
          <a:xfrm>
            <a:off x="868680" y="698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案例：罗辑思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圆角矩形 48"/>
          <p:cNvSpPr/>
          <p:nvPr/>
        </p:nvSpPr>
        <p:spPr>
          <a:xfrm>
            <a:off x="6089760" y="2359080"/>
            <a:ext cx="5573520" cy="2725560"/>
          </a:xfrm>
          <a:prstGeom prst="roundRect">
            <a:avLst>
              <a:gd name="adj" fmla="val 6833"/>
            </a:avLst>
          </a:prstGeom>
          <a:solidFill>
            <a:srgbClr val="e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文本框 827"/>
          <p:cNvSpPr/>
          <p:nvPr/>
        </p:nvSpPr>
        <p:spPr>
          <a:xfrm>
            <a:off x="6181560" y="2644920"/>
            <a:ext cx="43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3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罗辑思维”卖柳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文本框 90"/>
          <p:cNvSpPr/>
          <p:nvPr/>
        </p:nvSpPr>
        <p:spPr>
          <a:xfrm>
            <a:off x="6340320" y="3191040"/>
            <a:ext cx="519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2014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年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10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月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8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日，罗辑思维平台播出了柳传志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60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秒真声，征集互联网思维的柳桃营销方案。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10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月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16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日柳老在罗辑思维发出预售“指示”后仅半天，</a:t>
            </a:r>
            <a:r>
              <a:rPr b="0" lang="en-US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10000</a:t>
            </a:r>
            <a:r>
              <a:rPr b="0" lang="zh-CN" sz="18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盒柳桃已被全部下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1"/>
          <p:cNvSpPr/>
          <p:nvPr/>
        </p:nvSpPr>
        <p:spPr>
          <a:xfrm>
            <a:off x="1677240" y="28875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eede2"/>
                </a:solidFill>
                <a:latin typeface="华康海报体W12(P)"/>
                <a:ea typeface="华康海报体W12(P)"/>
              </a:rPr>
              <a:t>罗辑思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文本框 1"/>
          <p:cNvSpPr/>
          <p:nvPr/>
        </p:nvSpPr>
        <p:spPr>
          <a:xfrm>
            <a:off x="3000240" y="191448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移动互联网时代，不必在乎你旁边坐的是谁，你的下属是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只要在互联网上找到最佳的任选，挖掘出他的聪明才智就够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文本框 2"/>
          <p:cNvSpPr/>
          <p:nvPr/>
        </p:nvSpPr>
        <p:spPr>
          <a:xfrm>
            <a:off x="3000240" y="351468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移动互联网时代，没有所谓正确的组织或者标准的组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只有更能适应变化的组织、快速进化的组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文本框 3"/>
          <p:cNvSpPr/>
          <p:nvPr/>
        </p:nvSpPr>
        <p:spPr>
          <a:xfrm>
            <a:off x="3000240" y="5113440"/>
            <a:ext cx="7229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人们内心深处都是抗拒被控制、被管理的，只有当他们感觉到被欣赏尊重时，才会焕发出热情，进而给企业带来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234" name="椭圆 44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45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46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椭圆 47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椭圆 48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椭圆 49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50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51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52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椭圆 53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椭圆 54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椭圆 55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椭圆 56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椭圆 57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椭圆 58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椭圆 59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椭圆 60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椭圆 61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椭圆 62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椭圆 63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直接连接符 64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直接连接符 65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直接连接符 66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直接连接符 67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椭圆 68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椭圆 69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直接连接符 70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椭圆 71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直接连接符 72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直接连接符 73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直接连接符 74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直接连接符 75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直接连接符 76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椭圆 77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椭圆 78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直接连接符 79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直接连接符 80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直接连接符 81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文本框 827"/>
          <p:cNvSpPr/>
          <p:nvPr/>
        </p:nvSpPr>
        <p:spPr>
          <a:xfrm>
            <a:off x="1415880" y="70812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36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同级管理”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文本框 83" descr=""/>
          <p:cNvPicPr/>
          <p:nvPr/>
        </p:nvPicPr>
        <p:blipFill>
          <a:blip r:embed="rId1"/>
          <a:stretch/>
        </p:blipFill>
        <p:spPr>
          <a:xfrm>
            <a:off x="1170000" y="1932120"/>
            <a:ext cx="1749240" cy="1176120"/>
          </a:xfrm>
          <a:prstGeom prst="rect">
            <a:avLst/>
          </a:prstGeom>
          <a:ln w="0">
            <a:noFill/>
          </a:ln>
        </p:spPr>
      </p:pic>
      <p:pic>
        <p:nvPicPr>
          <p:cNvPr id="2274" name="文本框 84" descr=""/>
          <p:cNvPicPr/>
          <p:nvPr/>
        </p:nvPicPr>
        <p:blipFill>
          <a:blip r:embed="rId2"/>
          <a:stretch/>
        </p:blipFill>
        <p:spPr>
          <a:xfrm>
            <a:off x="1170000" y="3529080"/>
            <a:ext cx="1957320" cy="1176120"/>
          </a:xfrm>
          <a:prstGeom prst="rect">
            <a:avLst/>
          </a:prstGeom>
          <a:ln w="0">
            <a:noFill/>
          </a:ln>
        </p:spPr>
      </p:pic>
      <p:pic>
        <p:nvPicPr>
          <p:cNvPr id="2275" name="文本框 85" descr=""/>
          <p:cNvPicPr/>
          <p:nvPr/>
        </p:nvPicPr>
        <p:blipFill>
          <a:blip r:embed="rId3"/>
          <a:stretch/>
        </p:blipFill>
        <p:spPr>
          <a:xfrm>
            <a:off x="1170000" y="5126040"/>
            <a:ext cx="1712880" cy="1182600"/>
          </a:xfrm>
          <a:prstGeom prst="rect">
            <a:avLst/>
          </a:prstGeom>
          <a:ln w="0">
            <a:noFill/>
          </a:ln>
        </p:spPr>
      </p:pic>
      <p:sp>
        <p:nvSpPr>
          <p:cNvPr id="2276" name="Text Box 6"/>
          <p:cNvSpPr/>
          <p:nvPr/>
        </p:nvSpPr>
        <p:spPr>
          <a:xfrm>
            <a:off x="268200" y="6448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圆角矩形 3"/>
          <p:cNvSpPr/>
          <p:nvPr/>
        </p:nvSpPr>
        <p:spPr>
          <a:xfrm flipV="1">
            <a:off x="-7560" y="-379440"/>
            <a:ext cx="12200040" cy="7245360"/>
          </a:xfrm>
          <a:prstGeom prst="roundRect">
            <a:avLst>
              <a:gd name="adj" fmla="val 0"/>
            </a:avLst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8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279" name="椭圆 67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直接连接符 68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直接连接符 69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椭圆 70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椭圆 71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椭圆 72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直接连接符 73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直接连接符 75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直接连接符 76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椭圆 78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椭圆 80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椭圆 82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椭圆 83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椭圆 85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椭圆 86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椭圆 87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椭圆 88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椭圆 89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椭圆 90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椭圆 91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92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93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94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95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椭圆 96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椭圆 97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98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椭圆 99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100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101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102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103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104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椭圆 105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椭圆 106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107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108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109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7" name="组合 72"/>
          <p:cNvGrpSpPr/>
          <p:nvPr/>
        </p:nvGrpSpPr>
        <p:grpSpPr>
          <a:xfrm>
            <a:off x="-600120" y="135000"/>
            <a:ext cx="15865560" cy="6497640"/>
            <a:chOff x="-600120" y="135000"/>
            <a:chExt cx="15865560" cy="6497640"/>
          </a:xfrm>
        </p:grpSpPr>
        <p:pic>
          <p:nvPicPr>
            <p:cNvPr id="2318" name="文本框 8" descr=""/>
            <p:cNvPicPr/>
            <p:nvPr/>
          </p:nvPicPr>
          <p:blipFill>
            <a:blip r:embed="rId1"/>
            <a:stretch/>
          </p:blipFill>
          <p:spPr>
            <a:xfrm>
              <a:off x="3127680" y="135000"/>
              <a:ext cx="6627240" cy="18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9" name="文本框 11" descr=""/>
            <p:cNvPicPr/>
            <p:nvPr/>
          </p:nvPicPr>
          <p:blipFill>
            <a:blip r:embed="rId2"/>
            <a:stretch/>
          </p:blipFill>
          <p:spPr>
            <a:xfrm>
              <a:off x="7575840" y="1147320"/>
              <a:ext cx="444816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椭圆 6"/>
            <p:cNvSpPr/>
            <p:nvPr/>
          </p:nvSpPr>
          <p:spPr>
            <a:xfrm>
              <a:off x="3853080" y="1304640"/>
              <a:ext cx="4750560" cy="4526640"/>
            </a:xfrm>
            <a:prstGeom prst="ellipse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矩形 8"/>
            <p:cNvSpPr/>
            <p:nvPr/>
          </p:nvSpPr>
          <p:spPr>
            <a:xfrm>
              <a:off x="5093280" y="2858400"/>
              <a:ext cx="23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31f20"/>
                  </a:solidFill>
                  <a:latin typeface="微软雅黑"/>
                  <a:ea typeface="微软雅黑"/>
                </a:rPr>
                <a:t>移动互联网时代的管理变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文本框 9"/>
            <p:cNvSpPr/>
            <p:nvPr/>
          </p:nvSpPr>
          <p:spPr>
            <a:xfrm>
              <a:off x="3918600" y="3351600"/>
              <a:ext cx="468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你准备好了吗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3" name="文本框 8" descr=""/>
            <p:cNvPicPr/>
            <p:nvPr/>
          </p:nvPicPr>
          <p:blipFill>
            <a:blip r:embed="rId3"/>
            <a:stretch/>
          </p:blipFill>
          <p:spPr>
            <a:xfrm>
              <a:off x="-600120" y="5231520"/>
              <a:ext cx="641700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4" name="文本框 11" descr=""/>
            <p:cNvPicPr/>
            <p:nvPr/>
          </p:nvPicPr>
          <p:blipFill>
            <a:blip r:embed="rId4"/>
            <a:stretch/>
          </p:blipFill>
          <p:spPr>
            <a:xfrm>
              <a:off x="2473200" y="5826240"/>
              <a:ext cx="428580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5" name="文本框 8" descr=""/>
            <p:cNvPicPr/>
            <p:nvPr/>
          </p:nvPicPr>
          <p:blipFill>
            <a:blip r:embed="rId5"/>
            <a:stretch/>
          </p:blipFill>
          <p:spPr>
            <a:xfrm>
              <a:off x="8854560" y="4138920"/>
              <a:ext cx="6410880" cy="11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6" name="文本框 13" descr=""/>
            <p:cNvPicPr/>
            <p:nvPr/>
          </p:nvPicPr>
          <p:blipFill>
            <a:blip r:embed="rId6"/>
            <a:stretch/>
          </p:blipFill>
          <p:spPr>
            <a:xfrm>
              <a:off x="10907280" y="4848120"/>
              <a:ext cx="428580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7" name="矩形 86"/>
          <p:cNvSpPr/>
          <p:nvPr/>
        </p:nvSpPr>
        <p:spPr>
          <a:xfrm>
            <a:off x="5307120" y="45496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[</a:t>
            </a:r>
            <a:r>
              <a:rPr b="0" lang="zh-CN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美</a:t>
            </a:r>
            <a:r>
              <a:rPr b="0" lang="en-US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] </a:t>
            </a:r>
            <a:r>
              <a:rPr b="0" lang="zh-CN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米拉 </a:t>
            </a:r>
            <a:r>
              <a:rPr b="0" lang="en-US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N.</a:t>
            </a:r>
            <a:r>
              <a:rPr b="0" lang="zh-CN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贝克     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矩形 87"/>
          <p:cNvSpPr/>
          <p:nvPr/>
        </p:nvSpPr>
        <p:spPr>
          <a:xfrm>
            <a:off x="5611680" y="494028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水蓦    读书笔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矩形 61"/>
          <p:cNvSpPr/>
          <p:nvPr/>
        </p:nvSpPr>
        <p:spPr>
          <a:xfrm>
            <a:off x="6582240" y="455940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31f20"/>
                </a:solidFill>
                <a:latin typeface="Arial"/>
              </a:rPr>
              <a:t>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矩形 63"/>
          <p:cNvSpPr/>
          <p:nvPr/>
        </p:nvSpPr>
        <p:spPr>
          <a:xfrm>
            <a:off x="5787720" y="4956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31f20"/>
                </a:solidFill>
                <a:latin typeface="Arial"/>
              </a:rPr>
              <a:t>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5"/>
          <p:cNvSpPr/>
          <p:nvPr/>
        </p:nvSpPr>
        <p:spPr>
          <a:xfrm>
            <a:off x="0" y="3240"/>
            <a:ext cx="12192120" cy="3429000"/>
          </a:xfrm>
          <a:prstGeom prst="rect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30"/>
          <p:cNvGrpSpPr/>
          <p:nvPr/>
        </p:nvGrpSpPr>
        <p:grpSpPr>
          <a:xfrm>
            <a:off x="127080" y="-1006560"/>
            <a:ext cx="11937960" cy="8899560"/>
            <a:chOff x="127080" y="-1006560"/>
            <a:chExt cx="11937960" cy="8899560"/>
          </a:xfrm>
        </p:grpSpPr>
        <p:pic>
          <p:nvPicPr>
            <p:cNvPr id="106" name="图片 31" descr=""/>
            <p:cNvPicPr/>
            <p:nvPr/>
          </p:nvPicPr>
          <p:blipFill>
            <a:blip r:embed="rId1"/>
            <a:srcRect l="0" t="50000" r="0" b="-325"/>
            <a:stretch/>
          </p:blipFill>
          <p:spPr>
            <a:xfrm>
              <a:off x="127080" y="3428640"/>
              <a:ext cx="11937960" cy="44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32" descr=""/>
            <p:cNvPicPr/>
            <p:nvPr/>
          </p:nvPicPr>
          <p:blipFill>
            <a:blip r:embed="rId2"/>
            <a:srcRect l="0" t="0" r="0" b="50004"/>
            <a:stretch/>
          </p:blipFill>
          <p:spPr>
            <a:xfrm>
              <a:off x="127080" y="-1006560"/>
              <a:ext cx="11937960" cy="44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文本框 1"/>
          <p:cNvSpPr/>
          <p:nvPr/>
        </p:nvSpPr>
        <p:spPr>
          <a:xfrm>
            <a:off x="3935520" y="1689120"/>
            <a:ext cx="756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这种方式使得劳资双方协调双方利害关系成为可能，从而推动了生产力的发展，大幅提高了劳动生产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920880" y="4875120"/>
            <a:ext cx="763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传统的企业组织结构，是一种存在时间很长的组织结构，因其结构严谨、等级森严、分工明确、便于监控等受到人们的青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8"/>
          <p:cNvGrpSpPr/>
          <p:nvPr/>
        </p:nvGrpSpPr>
        <p:grpSpPr>
          <a:xfrm>
            <a:off x="819000" y="638280"/>
            <a:ext cx="2330640" cy="2330280"/>
            <a:chOff x="819000" y="638280"/>
            <a:chExt cx="2330640" cy="2330280"/>
          </a:xfrm>
        </p:grpSpPr>
        <p:sp>
          <p:nvSpPr>
            <p:cNvPr id="111" name="椭圆 6"/>
            <p:cNvSpPr/>
            <p:nvPr/>
          </p:nvSpPr>
          <p:spPr>
            <a:xfrm>
              <a:off x="819000" y="638280"/>
              <a:ext cx="2330640" cy="2330280"/>
            </a:xfrm>
            <a:prstGeom prst="ellipse">
              <a:avLst/>
            </a:prstGeom>
            <a:noFill/>
            <a:ln w="12600">
              <a:solidFill>
                <a:srgbClr val="e6e5d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5"/>
            <p:cNvSpPr/>
            <p:nvPr/>
          </p:nvSpPr>
          <p:spPr>
            <a:xfrm>
              <a:off x="939600" y="758880"/>
              <a:ext cx="2089440" cy="2089080"/>
            </a:xfrm>
            <a:prstGeom prst="ellipse">
              <a:avLst/>
            </a:prstGeom>
            <a:noFill/>
            <a:ln w="3816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7"/>
          <p:cNvSpPr/>
          <p:nvPr/>
        </p:nvSpPr>
        <p:spPr>
          <a:xfrm>
            <a:off x="4680360" y="101592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911</a:t>
            </a: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“科学管理理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"/>
          <p:cNvGrpSpPr/>
          <p:nvPr/>
        </p:nvGrpSpPr>
        <p:grpSpPr>
          <a:xfrm>
            <a:off x="-4465800" y="-1314360"/>
            <a:ext cx="2330640" cy="2330280"/>
            <a:chOff x="-4465800" y="-1314360"/>
            <a:chExt cx="2330640" cy="2330280"/>
          </a:xfrm>
        </p:grpSpPr>
        <p:sp>
          <p:nvSpPr>
            <p:cNvPr id="115" name="椭圆 10"/>
            <p:cNvSpPr/>
            <p:nvPr/>
          </p:nvSpPr>
          <p:spPr>
            <a:xfrm>
              <a:off x="-4465800" y="-1314360"/>
              <a:ext cx="2330640" cy="2330280"/>
            </a:xfrm>
            <a:prstGeom prst="ellipse">
              <a:avLst/>
            </a:prstGeom>
            <a:noFill/>
            <a:ln w="12600">
              <a:solidFill>
                <a:srgbClr val="e6e5d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1"/>
            <p:cNvSpPr/>
            <p:nvPr/>
          </p:nvSpPr>
          <p:spPr>
            <a:xfrm>
              <a:off x="-4344840" y="-1193400"/>
              <a:ext cx="2089440" cy="2089080"/>
            </a:xfrm>
            <a:prstGeom prst="ellipse">
              <a:avLst/>
            </a:prstGeom>
            <a:noFill/>
            <a:ln w="3816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等腰三角形 12"/>
          <p:cNvSpPr/>
          <p:nvPr/>
        </p:nvSpPr>
        <p:spPr>
          <a:xfrm rot="10800000">
            <a:off x="9989640" y="3428640"/>
            <a:ext cx="158760" cy="166680"/>
          </a:xfrm>
          <a:prstGeom prst="triangle">
            <a:avLst>
              <a:gd name="adj" fmla="val 50000"/>
            </a:avLst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3" descr=""/>
          <p:cNvPicPr/>
          <p:nvPr/>
        </p:nvPicPr>
        <p:blipFill>
          <a:blip r:embed="rId3"/>
          <a:stretch/>
        </p:blipFill>
        <p:spPr>
          <a:xfrm>
            <a:off x="938160" y="755640"/>
            <a:ext cx="2090880" cy="2090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4"/>
          <p:cNvSpPr/>
          <p:nvPr/>
        </p:nvSpPr>
        <p:spPr>
          <a:xfrm>
            <a:off x="1523880" y="298620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5d3"/>
                </a:solidFill>
                <a:latin typeface="Cataneo BT"/>
              </a:rPr>
              <a:t>Tay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1627560" y="43624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金字塔型”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"/>
          <p:cNvGrpSpPr/>
          <p:nvPr/>
        </p:nvGrpSpPr>
        <p:grpSpPr>
          <a:xfrm>
            <a:off x="9109080" y="4359240"/>
            <a:ext cx="2079720" cy="1992240"/>
            <a:chOff x="9109080" y="4359240"/>
            <a:chExt cx="2079720" cy="1992240"/>
          </a:xfrm>
        </p:grpSpPr>
        <p:grpSp>
          <p:nvGrpSpPr>
            <p:cNvPr id="122" name="组合 1"/>
            <p:cNvGrpSpPr/>
            <p:nvPr/>
          </p:nvGrpSpPr>
          <p:grpSpPr>
            <a:xfrm>
              <a:off x="9175320" y="4447440"/>
              <a:ext cx="1942560" cy="1869120"/>
              <a:chOff x="9175320" y="4447440"/>
              <a:chExt cx="1942560" cy="1869120"/>
            </a:xfrm>
          </p:grpSpPr>
          <p:sp>
            <p:nvSpPr>
              <p:cNvPr id="123" name="等腰三角形 23"/>
              <p:cNvSpPr/>
              <p:nvPr/>
            </p:nvSpPr>
            <p:spPr>
              <a:xfrm>
                <a:off x="9175320" y="4447440"/>
                <a:ext cx="1942560" cy="1869120"/>
              </a:xfrm>
              <a:prstGeom prst="triangle">
                <a:avLst>
                  <a:gd name="adj" fmla="val 50000"/>
                </a:avLst>
              </a:pr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24"/>
              <p:cNvSpPr/>
              <p:nvPr/>
            </p:nvSpPr>
            <p:spPr>
              <a:xfrm>
                <a:off x="9491400" y="5208120"/>
                <a:ext cx="1289880" cy="0"/>
              </a:xfrm>
              <a:prstGeom prst="line">
                <a:avLst/>
              </a:prstGeom>
              <a:ln w="38160">
                <a:solidFill>
                  <a:srgbClr val="e6e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25"/>
              <p:cNvSpPr/>
              <p:nvPr/>
            </p:nvSpPr>
            <p:spPr>
              <a:xfrm>
                <a:off x="9281520" y="5779800"/>
                <a:ext cx="1729800" cy="0"/>
              </a:xfrm>
              <a:prstGeom prst="line">
                <a:avLst/>
              </a:prstGeom>
              <a:ln w="38160">
                <a:solidFill>
                  <a:srgbClr val="e6e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5"/>
              <p:cNvSpPr/>
              <p:nvPr/>
            </p:nvSpPr>
            <p:spPr>
              <a:xfrm>
                <a:off x="9912960" y="59079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方正粗宋简体"/>
                    <a:ea typeface="方正粗宋简体"/>
                  </a:rPr>
                  <a:t>基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6"/>
              <p:cNvSpPr/>
              <p:nvPr/>
            </p:nvSpPr>
            <p:spPr>
              <a:xfrm>
                <a:off x="9912960" y="53517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方正粗宋简体"/>
                    <a:ea typeface="方正粗宋简体"/>
                  </a:rPr>
                  <a:t>中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矩形 7"/>
              <p:cNvSpPr/>
              <p:nvPr/>
            </p:nvSpPr>
            <p:spPr>
              <a:xfrm>
                <a:off x="9912960" y="4815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方正粗宋简体"/>
                    <a:ea typeface="方正粗宋简体"/>
                  </a:rPr>
                  <a:t>高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等腰三角形 29"/>
            <p:cNvSpPr/>
            <p:nvPr/>
          </p:nvSpPr>
          <p:spPr>
            <a:xfrm>
              <a:off x="9109080" y="4359240"/>
              <a:ext cx="2079720" cy="1992240"/>
            </a:xfrm>
            <a:prstGeom prst="triangle">
              <a:avLst>
                <a:gd name="adj" fmla="val 50000"/>
              </a:avLst>
            </a:prstGeom>
            <a:noFill/>
            <a:ln cap="rnd" w="3492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3"/>
          <p:cNvSpPr/>
          <p:nvPr/>
        </p:nvSpPr>
        <p:spPr>
          <a:xfrm>
            <a:off x="0" y="3240"/>
            <a:ext cx="12192120" cy="3429000"/>
          </a:xfrm>
          <a:prstGeom prst="rect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8"/>
          <p:cNvGrpSpPr/>
          <p:nvPr/>
        </p:nvGrpSpPr>
        <p:grpSpPr>
          <a:xfrm>
            <a:off x="127080" y="-1006560"/>
            <a:ext cx="11937960" cy="8899560"/>
            <a:chOff x="127080" y="-1006560"/>
            <a:chExt cx="11937960" cy="8899560"/>
          </a:xfrm>
        </p:grpSpPr>
        <p:pic>
          <p:nvPicPr>
            <p:cNvPr id="132" name="图片 29" descr=""/>
            <p:cNvPicPr/>
            <p:nvPr/>
          </p:nvPicPr>
          <p:blipFill>
            <a:blip r:embed="rId1"/>
            <a:srcRect l="0" t="50000" r="0" b="-325"/>
            <a:stretch/>
          </p:blipFill>
          <p:spPr>
            <a:xfrm>
              <a:off x="127080" y="3428640"/>
              <a:ext cx="11937960" cy="446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0" descr=""/>
            <p:cNvPicPr/>
            <p:nvPr/>
          </p:nvPicPr>
          <p:blipFill>
            <a:blip r:embed="rId2"/>
            <a:srcRect l="0" t="0" r="0" b="50004"/>
            <a:stretch/>
          </p:blipFill>
          <p:spPr>
            <a:xfrm>
              <a:off x="127080" y="-1006560"/>
              <a:ext cx="11937960" cy="44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文本框 1"/>
          <p:cNvSpPr/>
          <p:nvPr/>
        </p:nvSpPr>
        <p:spPr>
          <a:xfrm>
            <a:off x="3935520" y="16891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“</a:t>
            </a:r>
            <a:r>
              <a:rPr b="0" lang="zh-CN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现代管理学之父”，一生共著书</a:t>
            </a:r>
            <a:r>
              <a:rPr b="0" lang="en-US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39</a:t>
            </a:r>
            <a:r>
              <a:rPr b="0" lang="zh-CN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本，影响了数代追求创新以及最佳管理实践的学者和企业家们，各类商业管理课程也都深受彼得</a:t>
            </a:r>
            <a:r>
              <a:rPr b="0" lang="en-US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·</a:t>
            </a:r>
            <a:r>
              <a:rPr b="0" lang="zh-CN" sz="18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德鲁克思想的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4389480" y="101592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e5d3"/>
                </a:solidFill>
                <a:latin typeface="方正粗宋简体"/>
                <a:ea typeface="方正粗宋简体"/>
              </a:rPr>
              <a:t>彼得</a:t>
            </a:r>
            <a:r>
              <a:rPr b="0" lang="en-US" sz="2800" spc="-1" strike="noStrike">
                <a:solidFill>
                  <a:srgbClr val="e6e5d3"/>
                </a:solidFill>
                <a:latin typeface="方正粗宋简体"/>
                <a:ea typeface="方正粗宋简体"/>
              </a:rPr>
              <a:t>·</a:t>
            </a:r>
            <a:r>
              <a:rPr b="0" lang="zh-CN" sz="2800" spc="-1" strike="noStrike">
                <a:solidFill>
                  <a:srgbClr val="e6e5d3"/>
                </a:solidFill>
                <a:latin typeface="方正粗宋简体"/>
                <a:ea typeface="方正粗宋简体"/>
              </a:rPr>
              <a:t>德鲁克（</a:t>
            </a:r>
            <a:r>
              <a:rPr b="0" lang="en-US" sz="2800" spc="-1" strike="noStrike">
                <a:solidFill>
                  <a:srgbClr val="e6e5d3"/>
                </a:solidFill>
                <a:latin typeface="方正粗宋简体"/>
                <a:ea typeface="方正粗宋简体"/>
              </a:rPr>
              <a:t>1909—2005</a:t>
            </a:r>
            <a:r>
              <a:rPr b="0" lang="zh-CN" sz="2800" spc="-1" strike="noStrike">
                <a:solidFill>
                  <a:srgbClr val="e6e5d3"/>
                </a:solidFill>
                <a:latin typeface="方正粗宋简体"/>
                <a:ea typeface="方正粗宋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等腰三角形 12"/>
          <p:cNvSpPr/>
          <p:nvPr/>
        </p:nvSpPr>
        <p:spPr>
          <a:xfrm rot="10800000">
            <a:off x="9989640" y="3428640"/>
            <a:ext cx="158760" cy="166680"/>
          </a:xfrm>
          <a:prstGeom prst="triangle">
            <a:avLst>
              <a:gd name="adj" fmla="val 50000"/>
            </a:avLst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等腰三角形 16"/>
          <p:cNvSpPr/>
          <p:nvPr/>
        </p:nvSpPr>
        <p:spPr>
          <a:xfrm rot="10800000">
            <a:off x="1905120" y="-360"/>
            <a:ext cx="156960" cy="165240"/>
          </a:xfrm>
          <a:prstGeom prst="triangle">
            <a:avLst>
              <a:gd name="adj" fmla="val 50000"/>
            </a:avLst>
          </a:prstGeom>
          <a:solidFill>
            <a:srgbClr val="e6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34"/>
          <p:cNvGrpSpPr/>
          <p:nvPr/>
        </p:nvGrpSpPr>
        <p:grpSpPr>
          <a:xfrm>
            <a:off x="8421840" y="4368960"/>
            <a:ext cx="3295440" cy="1854000"/>
            <a:chOff x="8421840" y="4368960"/>
            <a:chExt cx="3295440" cy="1854000"/>
          </a:xfrm>
        </p:grpSpPr>
        <p:sp>
          <p:nvSpPr>
            <p:cNvPr id="139" name="矩形 17"/>
            <p:cNvSpPr/>
            <p:nvPr/>
          </p:nvSpPr>
          <p:spPr>
            <a:xfrm>
              <a:off x="9621720" y="4368960"/>
              <a:ext cx="866520" cy="46800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8"/>
            <p:cNvSpPr/>
            <p:nvPr/>
          </p:nvSpPr>
          <p:spPr>
            <a:xfrm>
              <a:off x="9621720" y="5754960"/>
              <a:ext cx="866520" cy="46800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9"/>
            <p:cNvSpPr/>
            <p:nvPr/>
          </p:nvSpPr>
          <p:spPr>
            <a:xfrm>
              <a:off x="8421840" y="5054760"/>
              <a:ext cx="863280" cy="46980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0"/>
            <p:cNvSpPr/>
            <p:nvPr/>
          </p:nvSpPr>
          <p:spPr>
            <a:xfrm>
              <a:off x="10854000" y="5054760"/>
              <a:ext cx="863280" cy="469800"/>
            </a:xfrm>
            <a:prstGeom prst="rect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下箭头 22"/>
            <p:cNvSpPr/>
            <p:nvPr/>
          </p:nvSpPr>
          <p:spPr>
            <a:xfrm>
              <a:off x="9969480" y="5526000"/>
              <a:ext cx="139680" cy="15552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下箭头 23"/>
            <p:cNvSpPr/>
            <p:nvPr/>
          </p:nvSpPr>
          <p:spPr>
            <a:xfrm flipV="1">
              <a:off x="9969480" y="4865760"/>
              <a:ext cx="139680" cy="15552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下箭头 24"/>
            <p:cNvSpPr/>
            <p:nvPr/>
          </p:nvSpPr>
          <p:spPr>
            <a:xfrm flipV="1" rot="16200000">
              <a:off x="9347040" y="5211720"/>
              <a:ext cx="139680" cy="155520"/>
            </a:xfrm>
            <a:prstGeom prst="downArrow">
              <a:avLst>
                <a:gd name="adj1" fmla="val 50000"/>
                <a:gd name="adj2" fmla="val 49979"/>
              </a:avLst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下箭头 25"/>
            <p:cNvSpPr/>
            <p:nvPr/>
          </p:nvSpPr>
          <p:spPr>
            <a:xfrm flipH="1" flipV="1" rot="5400000">
              <a:off x="10620000" y="5212440"/>
              <a:ext cx="139680" cy="153720"/>
            </a:xfrm>
            <a:prstGeom prst="downArrow">
              <a:avLst>
                <a:gd name="adj1" fmla="val 50000"/>
                <a:gd name="adj2" fmla="val 49910"/>
              </a:avLst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6"/>
            <p:cNvSpPr/>
            <p:nvPr/>
          </p:nvSpPr>
          <p:spPr>
            <a:xfrm>
              <a:off x="9821160" y="440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e5d3"/>
                  </a:solidFill>
                  <a:latin typeface="方正粗宋简体"/>
                  <a:ea typeface="方正粗宋简体"/>
                </a:rPr>
                <a:t>财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7"/>
            <p:cNvSpPr/>
            <p:nvPr/>
          </p:nvSpPr>
          <p:spPr>
            <a:xfrm>
              <a:off x="9743760" y="5834520"/>
              <a:ext cx="63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e6e5d3"/>
                  </a:solidFill>
                  <a:latin typeface="方正粗宋简体"/>
                  <a:ea typeface="方正粗宋简体"/>
                </a:rPr>
                <a:t>学习成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28"/>
            <p:cNvSpPr/>
            <p:nvPr/>
          </p:nvSpPr>
          <p:spPr>
            <a:xfrm>
              <a:off x="8629920" y="510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e5d3"/>
                  </a:solidFill>
                  <a:latin typeface="方正粗宋简体"/>
                  <a:ea typeface="方正粗宋简体"/>
                </a:rPr>
                <a:t>顾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29"/>
            <p:cNvSpPr/>
            <p:nvPr/>
          </p:nvSpPr>
          <p:spPr>
            <a:xfrm>
              <a:off x="11066760" y="510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e5d3"/>
                  </a:solidFill>
                  <a:latin typeface="方正粗宋简体"/>
                  <a:ea typeface="方正粗宋简体"/>
                </a:rPr>
                <a:t>过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0"/>
            <p:cNvSpPr/>
            <p:nvPr/>
          </p:nvSpPr>
          <p:spPr>
            <a:xfrm>
              <a:off x="9663120" y="51235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蓝图与战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819000" y="638280"/>
            <a:ext cx="2330640" cy="2330280"/>
            <a:chOff x="819000" y="638280"/>
            <a:chExt cx="2330640" cy="2330280"/>
          </a:xfrm>
        </p:grpSpPr>
        <p:sp>
          <p:nvSpPr>
            <p:cNvPr id="153" name="椭圆 29"/>
            <p:cNvSpPr/>
            <p:nvPr/>
          </p:nvSpPr>
          <p:spPr>
            <a:xfrm>
              <a:off x="819000" y="638280"/>
              <a:ext cx="2330640" cy="2330280"/>
            </a:xfrm>
            <a:prstGeom prst="ellipse">
              <a:avLst/>
            </a:prstGeom>
            <a:noFill/>
            <a:ln w="12600">
              <a:solidFill>
                <a:srgbClr val="e6e5d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0"/>
            <p:cNvSpPr/>
            <p:nvPr/>
          </p:nvSpPr>
          <p:spPr>
            <a:xfrm>
              <a:off x="939600" y="758880"/>
              <a:ext cx="2089440" cy="2089080"/>
            </a:xfrm>
            <a:prstGeom prst="ellipse">
              <a:avLst/>
            </a:prstGeom>
            <a:noFill/>
            <a:ln w="3816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14"/>
          <p:cNvSpPr/>
          <p:nvPr/>
        </p:nvSpPr>
        <p:spPr>
          <a:xfrm>
            <a:off x="1429920" y="29862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5d3"/>
                </a:solidFill>
                <a:latin typeface="Cataneo BT"/>
              </a:rPr>
              <a:t>Dru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"/>
          <p:cNvPicPr/>
          <p:nvPr/>
        </p:nvPicPr>
        <p:blipFill>
          <a:blip r:embed="rId3"/>
          <a:stretch/>
        </p:blipFill>
        <p:spPr>
          <a:xfrm>
            <a:off x="950760" y="755640"/>
            <a:ext cx="2084400" cy="20908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4"/>
          <p:cNvSpPr/>
          <p:nvPr/>
        </p:nvSpPr>
        <p:spPr>
          <a:xfrm>
            <a:off x="920880" y="4875120"/>
            <a:ext cx="695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平衡计分卡能有效解决制定战略和实施战略脱节的问题，堵住了‘执行漏斗’。是人们通常称为的加强企业战略执行力的最有效的战略管理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6"/>
          <p:cNvSpPr/>
          <p:nvPr/>
        </p:nvSpPr>
        <p:spPr>
          <a:xfrm>
            <a:off x="1611000" y="436248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1987</a:t>
            </a:r>
            <a:r>
              <a:rPr b="0" lang="zh-CN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年</a:t>
            </a:r>
            <a:r>
              <a:rPr b="0" lang="en-US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——</a:t>
            </a:r>
            <a:r>
              <a:rPr b="0" lang="zh-CN" sz="28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“平衡积分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160" name="椭圆 111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112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13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114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15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16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117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18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119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120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21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22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123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24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125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126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27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28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29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30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31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132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33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134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135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136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137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38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39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140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41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42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43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44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45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146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147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48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91"/>
          <p:cNvSpPr/>
          <p:nvPr/>
        </p:nvSpPr>
        <p:spPr>
          <a:xfrm>
            <a:off x="6167520" y="3605040"/>
            <a:ext cx="5184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2013</a:t>
            </a:r>
            <a:r>
              <a:rPr b="0" lang="zh-CN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年，支付宝推出“余额宝”这一全新的余额增值模式，高额的利息吸引了大量用户加入，金融界即将发生一场不小的地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99"/>
          <p:cNvSpPr/>
          <p:nvPr/>
        </p:nvSpPr>
        <p:spPr>
          <a:xfrm>
            <a:off x="6167520" y="5106960"/>
            <a:ext cx="5184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2011</a:t>
            </a:r>
            <a:r>
              <a:rPr b="0" lang="zh-CN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年，微信横空出世，短短两年的时间，攻下</a:t>
            </a:r>
            <a:r>
              <a:rPr b="0" lang="en-US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6</a:t>
            </a:r>
            <a:r>
              <a:rPr b="0" lang="zh-CN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亿用户，掀起了一次次全面热潮，移动、电信等运营商不禁闻之色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2479680" y="708120"/>
            <a:ext cx="72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而在今天，这些理论还够用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2"/>
          <p:cNvGrpSpPr/>
          <p:nvPr/>
        </p:nvGrpSpPr>
        <p:grpSpPr>
          <a:xfrm>
            <a:off x="1055520" y="2347920"/>
            <a:ext cx="1847880" cy="808200"/>
            <a:chOff x="1055520" y="2347920"/>
            <a:chExt cx="1847880" cy="808200"/>
          </a:xfrm>
        </p:grpSpPr>
        <p:pic>
          <p:nvPicPr>
            <p:cNvPr id="202" name="图片 17" descr=""/>
            <p:cNvPicPr/>
            <p:nvPr/>
          </p:nvPicPr>
          <p:blipFill>
            <a:blip r:embed="rId1"/>
            <a:stretch/>
          </p:blipFill>
          <p:spPr>
            <a:xfrm>
              <a:off x="1055520" y="2347920"/>
              <a:ext cx="184788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3"/>
            <p:cNvSpPr/>
            <p:nvPr/>
          </p:nvSpPr>
          <p:spPr>
            <a:xfrm>
              <a:off x="1260360" y="2521800"/>
              <a:ext cx="14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逆袭颠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3"/>
          <p:cNvGrpSpPr/>
          <p:nvPr/>
        </p:nvGrpSpPr>
        <p:grpSpPr>
          <a:xfrm>
            <a:off x="1055520" y="3849840"/>
            <a:ext cx="1847880" cy="807840"/>
            <a:chOff x="1055520" y="3849840"/>
            <a:chExt cx="1847880" cy="807840"/>
          </a:xfrm>
        </p:grpSpPr>
        <p:pic>
          <p:nvPicPr>
            <p:cNvPr id="205" name="图片 24" descr=""/>
            <p:cNvPicPr/>
            <p:nvPr/>
          </p:nvPicPr>
          <p:blipFill>
            <a:blip r:embed="rId2"/>
            <a:stretch/>
          </p:blipFill>
          <p:spPr>
            <a:xfrm>
              <a:off x="1055520" y="3849840"/>
              <a:ext cx="184788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文本框 25"/>
            <p:cNvSpPr/>
            <p:nvPr/>
          </p:nvSpPr>
          <p:spPr>
            <a:xfrm>
              <a:off x="1260360" y="4020840"/>
              <a:ext cx="14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跨界打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6"/>
          <p:cNvGrpSpPr/>
          <p:nvPr/>
        </p:nvGrpSpPr>
        <p:grpSpPr>
          <a:xfrm>
            <a:off x="1055520" y="5315040"/>
            <a:ext cx="1847880" cy="807840"/>
            <a:chOff x="1055520" y="5315040"/>
            <a:chExt cx="1847880" cy="807840"/>
          </a:xfrm>
        </p:grpSpPr>
        <p:pic>
          <p:nvPicPr>
            <p:cNvPr id="208" name="图片 27" descr=""/>
            <p:cNvPicPr/>
            <p:nvPr/>
          </p:nvPicPr>
          <p:blipFill>
            <a:blip r:embed="rId3"/>
            <a:stretch/>
          </p:blipFill>
          <p:spPr>
            <a:xfrm>
              <a:off x="1055520" y="5315040"/>
              <a:ext cx="184788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文本框 28"/>
            <p:cNvSpPr/>
            <p:nvPr/>
          </p:nvSpPr>
          <p:spPr>
            <a:xfrm>
              <a:off x="1260360" y="5488200"/>
              <a:ext cx="14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31f20"/>
                  </a:solidFill>
                  <a:latin typeface="方正粗宋简体"/>
                  <a:ea typeface="方正粗宋简体"/>
                </a:rPr>
                <a:t>瞬息万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组合 5132" descr=""/>
          <p:cNvPicPr/>
          <p:nvPr/>
        </p:nvPicPr>
        <p:blipFill>
          <a:blip r:embed="rId4"/>
          <a:stretch/>
        </p:blipFill>
        <p:spPr>
          <a:xfrm>
            <a:off x="3938760" y="4017960"/>
            <a:ext cx="1407960" cy="45072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5131"/>
          <p:cNvGrpSpPr/>
          <p:nvPr/>
        </p:nvGrpSpPr>
        <p:grpSpPr>
          <a:xfrm>
            <a:off x="3935520" y="2433600"/>
            <a:ext cx="1412640" cy="566640"/>
            <a:chOff x="3935520" y="2433600"/>
            <a:chExt cx="1412640" cy="566640"/>
          </a:xfrm>
        </p:grpSpPr>
        <p:sp>
          <p:nvSpPr>
            <p:cNvPr id="212" name="Freeform 523"/>
            <p:cNvSpPr/>
            <p:nvPr/>
          </p:nvSpPr>
          <p:spPr>
            <a:xfrm>
              <a:off x="4642200" y="2470680"/>
              <a:ext cx="705960" cy="476640"/>
            </a:xfrm>
            <a:custGeom>
              <a:avLst/>
              <a:gdLst/>
              <a:ahLst/>
              <a:rect l="l" t="t" r="r" b="b"/>
              <a:pathLst>
                <a:path w="417" h="282">
                  <a:moveTo>
                    <a:pt x="261" y="60"/>
                  </a:moveTo>
                  <a:cubicBezTo>
                    <a:pt x="261" y="60"/>
                    <a:pt x="263" y="65"/>
                    <a:pt x="267" y="68"/>
                  </a:cubicBezTo>
                  <a:cubicBezTo>
                    <a:pt x="272" y="71"/>
                    <a:pt x="278" y="71"/>
                    <a:pt x="278" y="71"/>
                  </a:cubicBezTo>
                  <a:cubicBezTo>
                    <a:pt x="278" y="71"/>
                    <a:pt x="290" y="71"/>
                    <a:pt x="294" y="71"/>
                  </a:cubicBezTo>
                  <a:cubicBezTo>
                    <a:pt x="289" y="70"/>
                    <a:pt x="269" y="21"/>
                    <a:pt x="265" y="12"/>
                  </a:cubicBezTo>
                  <a:cubicBezTo>
                    <a:pt x="265" y="12"/>
                    <a:pt x="265" y="11"/>
                    <a:pt x="264" y="11"/>
                  </a:cubicBezTo>
                  <a:cubicBezTo>
                    <a:pt x="264" y="11"/>
                    <a:pt x="263" y="11"/>
                    <a:pt x="263" y="11"/>
                  </a:cubicBezTo>
                  <a:cubicBezTo>
                    <a:pt x="241" y="11"/>
                    <a:pt x="241" y="11"/>
                    <a:pt x="241" y="11"/>
                  </a:cubicBezTo>
                  <a:cubicBezTo>
                    <a:pt x="241" y="11"/>
                    <a:pt x="239" y="11"/>
                    <a:pt x="239" y="12"/>
                  </a:cubicBezTo>
                  <a:cubicBezTo>
                    <a:pt x="238" y="13"/>
                    <a:pt x="239" y="14"/>
                    <a:pt x="239" y="14"/>
                  </a:cubicBezTo>
                  <a:lnTo>
                    <a:pt x="261" y="60"/>
                  </a:lnTo>
                  <a:close/>
                  <a:moveTo>
                    <a:pt x="372" y="68"/>
                  </a:moveTo>
                  <a:cubicBezTo>
                    <a:pt x="376" y="65"/>
                    <a:pt x="379" y="60"/>
                    <a:pt x="379" y="60"/>
                  </a:cubicBezTo>
                  <a:cubicBezTo>
                    <a:pt x="401" y="14"/>
                    <a:pt x="401" y="14"/>
                    <a:pt x="401" y="14"/>
                  </a:cubicBezTo>
                  <a:cubicBezTo>
                    <a:pt x="401" y="14"/>
                    <a:pt x="402" y="13"/>
                    <a:pt x="401" y="12"/>
                  </a:cubicBezTo>
                  <a:cubicBezTo>
                    <a:pt x="401" y="11"/>
                    <a:pt x="399" y="11"/>
                    <a:pt x="399" y="11"/>
                  </a:cubicBezTo>
                  <a:cubicBezTo>
                    <a:pt x="377" y="11"/>
                    <a:pt x="377" y="11"/>
                    <a:pt x="377" y="11"/>
                  </a:cubicBezTo>
                  <a:cubicBezTo>
                    <a:pt x="377" y="11"/>
                    <a:pt x="376" y="11"/>
                    <a:pt x="375" y="11"/>
                  </a:cubicBezTo>
                  <a:cubicBezTo>
                    <a:pt x="375" y="12"/>
                    <a:pt x="375" y="12"/>
                    <a:pt x="375" y="12"/>
                  </a:cubicBezTo>
                  <a:cubicBezTo>
                    <a:pt x="372" y="20"/>
                    <a:pt x="350" y="70"/>
                    <a:pt x="345" y="71"/>
                  </a:cubicBezTo>
                  <a:cubicBezTo>
                    <a:pt x="350" y="71"/>
                    <a:pt x="362" y="71"/>
                    <a:pt x="362" y="71"/>
                  </a:cubicBezTo>
                  <a:cubicBezTo>
                    <a:pt x="362" y="71"/>
                    <a:pt x="367" y="71"/>
                    <a:pt x="372" y="68"/>
                  </a:cubicBezTo>
                  <a:close/>
                  <a:moveTo>
                    <a:pt x="416" y="84"/>
                  </a:moveTo>
                  <a:cubicBezTo>
                    <a:pt x="416" y="84"/>
                    <a:pt x="415" y="84"/>
                    <a:pt x="415" y="84"/>
                  </a:cubicBezTo>
                  <a:cubicBezTo>
                    <a:pt x="334" y="84"/>
                    <a:pt x="334" y="84"/>
                    <a:pt x="334" y="84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84"/>
                    <a:pt x="306" y="84"/>
                    <a:pt x="306" y="84"/>
                  </a:cubicBezTo>
                  <a:cubicBezTo>
                    <a:pt x="225" y="84"/>
                    <a:pt x="225" y="84"/>
                    <a:pt x="225" y="84"/>
                  </a:cubicBezTo>
                  <a:cubicBezTo>
                    <a:pt x="225" y="84"/>
                    <a:pt x="224" y="84"/>
                    <a:pt x="223" y="84"/>
                  </a:cubicBezTo>
                  <a:cubicBezTo>
                    <a:pt x="222" y="85"/>
                    <a:pt x="222" y="86"/>
                    <a:pt x="222" y="86"/>
                  </a:cubicBezTo>
                  <a:cubicBezTo>
                    <a:pt x="222" y="106"/>
                    <a:pt x="222" y="106"/>
                    <a:pt x="222" y="106"/>
                  </a:cubicBezTo>
                  <a:cubicBezTo>
                    <a:pt x="222" y="106"/>
                    <a:pt x="222" y="107"/>
                    <a:pt x="223" y="107"/>
                  </a:cubicBezTo>
                  <a:cubicBezTo>
                    <a:pt x="224" y="108"/>
                    <a:pt x="225" y="108"/>
                    <a:pt x="225" y="108"/>
                  </a:cubicBezTo>
                  <a:cubicBezTo>
                    <a:pt x="262" y="108"/>
                    <a:pt x="262" y="108"/>
                    <a:pt x="262" y="108"/>
                  </a:cubicBezTo>
                  <a:cubicBezTo>
                    <a:pt x="259" y="120"/>
                    <a:pt x="233" y="203"/>
                    <a:pt x="229" y="203"/>
                  </a:cubicBezTo>
                  <a:cubicBezTo>
                    <a:pt x="232" y="203"/>
                    <a:pt x="251" y="203"/>
                    <a:pt x="251" y="203"/>
                  </a:cubicBezTo>
                  <a:cubicBezTo>
                    <a:pt x="251" y="203"/>
                    <a:pt x="255" y="203"/>
                    <a:pt x="258" y="201"/>
                  </a:cubicBezTo>
                  <a:cubicBezTo>
                    <a:pt x="261" y="200"/>
                    <a:pt x="263" y="196"/>
                    <a:pt x="263" y="196"/>
                  </a:cubicBezTo>
                  <a:cubicBezTo>
                    <a:pt x="290" y="108"/>
                    <a:pt x="290" y="108"/>
                    <a:pt x="290" y="108"/>
                  </a:cubicBezTo>
                  <a:cubicBezTo>
                    <a:pt x="306" y="108"/>
                    <a:pt x="306" y="108"/>
                    <a:pt x="306" y="108"/>
                  </a:cubicBezTo>
                  <a:cubicBezTo>
                    <a:pt x="306" y="201"/>
                    <a:pt x="306" y="201"/>
                    <a:pt x="306" y="201"/>
                  </a:cubicBezTo>
                  <a:cubicBezTo>
                    <a:pt x="306" y="201"/>
                    <a:pt x="306" y="202"/>
                    <a:pt x="307" y="203"/>
                  </a:cubicBezTo>
                  <a:cubicBezTo>
                    <a:pt x="308" y="203"/>
                    <a:pt x="309" y="203"/>
                    <a:pt x="309" y="203"/>
                  </a:cubicBezTo>
                  <a:cubicBezTo>
                    <a:pt x="332" y="203"/>
                    <a:pt x="332" y="203"/>
                    <a:pt x="332" y="203"/>
                  </a:cubicBezTo>
                  <a:cubicBezTo>
                    <a:pt x="332" y="203"/>
                    <a:pt x="333" y="203"/>
                    <a:pt x="334" y="203"/>
                  </a:cubicBezTo>
                  <a:cubicBezTo>
                    <a:pt x="334" y="202"/>
                    <a:pt x="334" y="201"/>
                    <a:pt x="334" y="201"/>
                  </a:cubicBezTo>
                  <a:cubicBezTo>
                    <a:pt x="334" y="108"/>
                    <a:pt x="334" y="108"/>
                    <a:pt x="334" y="108"/>
                  </a:cubicBezTo>
                  <a:cubicBezTo>
                    <a:pt x="351" y="108"/>
                    <a:pt x="351" y="108"/>
                    <a:pt x="351" y="108"/>
                  </a:cubicBezTo>
                  <a:cubicBezTo>
                    <a:pt x="379" y="196"/>
                    <a:pt x="379" y="196"/>
                    <a:pt x="379" y="196"/>
                  </a:cubicBezTo>
                  <a:cubicBezTo>
                    <a:pt x="379" y="196"/>
                    <a:pt x="381" y="200"/>
                    <a:pt x="383" y="201"/>
                  </a:cubicBezTo>
                  <a:cubicBezTo>
                    <a:pt x="387" y="203"/>
                    <a:pt x="391" y="203"/>
                    <a:pt x="391" y="203"/>
                  </a:cubicBezTo>
                  <a:cubicBezTo>
                    <a:pt x="391" y="203"/>
                    <a:pt x="410" y="203"/>
                    <a:pt x="413" y="203"/>
                  </a:cubicBezTo>
                  <a:cubicBezTo>
                    <a:pt x="409" y="203"/>
                    <a:pt x="383" y="120"/>
                    <a:pt x="380" y="108"/>
                  </a:cubicBezTo>
                  <a:cubicBezTo>
                    <a:pt x="415" y="108"/>
                    <a:pt x="415" y="108"/>
                    <a:pt x="415" y="108"/>
                  </a:cubicBezTo>
                  <a:cubicBezTo>
                    <a:pt x="415" y="108"/>
                    <a:pt x="416" y="108"/>
                    <a:pt x="416" y="107"/>
                  </a:cubicBezTo>
                  <a:cubicBezTo>
                    <a:pt x="417" y="107"/>
                    <a:pt x="417" y="106"/>
                    <a:pt x="417" y="106"/>
                  </a:cubicBezTo>
                  <a:cubicBezTo>
                    <a:pt x="417" y="86"/>
                    <a:pt x="417" y="86"/>
                    <a:pt x="417" y="86"/>
                  </a:cubicBezTo>
                  <a:cubicBezTo>
                    <a:pt x="417" y="86"/>
                    <a:pt x="417" y="85"/>
                    <a:pt x="416" y="84"/>
                  </a:cubicBezTo>
                  <a:close/>
                  <a:moveTo>
                    <a:pt x="53" y="32"/>
                  </a:move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2"/>
                    <a:pt x="28" y="32"/>
                  </a:cubicBezTo>
                  <a:cubicBezTo>
                    <a:pt x="28" y="33"/>
                    <a:pt x="28" y="33"/>
                    <a:pt x="27" y="34"/>
                  </a:cubicBezTo>
                  <a:cubicBezTo>
                    <a:pt x="23" y="53"/>
                    <a:pt x="3" y="171"/>
                    <a:pt x="0" y="172"/>
                  </a:cubicBezTo>
                  <a:cubicBezTo>
                    <a:pt x="3" y="172"/>
                    <a:pt x="22" y="172"/>
                    <a:pt x="22" y="172"/>
                  </a:cubicBezTo>
                  <a:cubicBezTo>
                    <a:pt x="22" y="172"/>
                    <a:pt x="25" y="172"/>
                    <a:pt x="29" y="170"/>
                  </a:cubicBezTo>
                  <a:cubicBezTo>
                    <a:pt x="32" y="168"/>
                    <a:pt x="33" y="165"/>
                    <a:pt x="33" y="16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5" y="35"/>
                    <a:pt x="55" y="34"/>
                    <a:pt x="55" y="33"/>
                  </a:cubicBezTo>
                  <a:cubicBezTo>
                    <a:pt x="54" y="32"/>
                    <a:pt x="53" y="32"/>
                    <a:pt x="53" y="32"/>
                  </a:cubicBezTo>
                  <a:close/>
                  <a:moveTo>
                    <a:pt x="91" y="203"/>
                  </a:moveTo>
                  <a:cubicBezTo>
                    <a:pt x="109" y="204"/>
                    <a:pt x="117" y="195"/>
                    <a:pt x="117" y="184"/>
                  </a:cubicBezTo>
                  <a:cubicBezTo>
                    <a:pt x="117" y="2"/>
                    <a:pt x="117" y="2"/>
                    <a:pt x="117" y="2"/>
                  </a:cubicBezTo>
                  <a:cubicBezTo>
                    <a:pt x="117" y="2"/>
                    <a:pt x="117" y="1"/>
                    <a:pt x="117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1" y="0"/>
                    <a:pt x="90" y="0"/>
                    <a:pt x="90" y="0"/>
                  </a:cubicBezTo>
                  <a:cubicBezTo>
                    <a:pt x="89" y="1"/>
                    <a:pt x="89" y="2"/>
                    <a:pt x="89" y="2"/>
                  </a:cubicBezTo>
                  <a:cubicBezTo>
                    <a:pt x="89" y="162"/>
                    <a:pt x="89" y="162"/>
                    <a:pt x="89" y="162"/>
                  </a:cubicBezTo>
                  <a:cubicBezTo>
                    <a:pt x="89" y="169"/>
                    <a:pt x="88" y="172"/>
                    <a:pt x="87" y="173"/>
                  </a:cubicBezTo>
                  <a:cubicBezTo>
                    <a:pt x="80" y="182"/>
                    <a:pt x="74" y="175"/>
                    <a:pt x="68" y="182"/>
                  </a:cubicBezTo>
                  <a:cubicBezTo>
                    <a:pt x="64" y="186"/>
                    <a:pt x="66" y="203"/>
                    <a:pt x="66" y="203"/>
                  </a:cubicBezTo>
                  <a:lnTo>
                    <a:pt x="91" y="203"/>
                  </a:lnTo>
                  <a:close/>
                  <a:moveTo>
                    <a:pt x="169" y="170"/>
                  </a:moveTo>
                  <a:cubicBezTo>
                    <a:pt x="173" y="172"/>
                    <a:pt x="176" y="172"/>
                    <a:pt x="176" y="172"/>
                  </a:cubicBezTo>
                  <a:cubicBezTo>
                    <a:pt x="176" y="172"/>
                    <a:pt x="195" y="172"/>
                    <a:pt x="198" y="172"/>
                  </a:cubicBezTo>
                  <a:cubicBezTo>
                    <a:pt x="195" y="171"/>
                    <a:pt x="182" y="52"/>
                    <a:pt x="178" y="34"/>
                  </a:cubicBezTo>
                  <a:cubicBezTo>
                    <a:pt x="178" y="33"/>
                    <a:pt x="178" y="33"/>
                    <a:pt x="177" y="32"/>
                  </a:cubicBezTo>
                  <a:cubicBezTo>
                    <a:pt x="177" y="32"/>
                    <a:pt x="176" y="32"/>
                    <a:pt x="176" y="32"/>
                  </a:cubicBezTo>
                  <a:cubicBezTo>
                    <a:pt x="152" y="32"/>
                    <a:pt x="152" y="32"/>
                    <a:pt x="152" y="32"/>
                  </a:cubicBezTo>
                  <a:cubicBezTo>
                    <a:pt x="152" y="32"/>
                    <a:pt x="151" y="32"/>
                    <a:pt x="150" y="33"/>
                  </a:cubicBezTo>
                  <a:cubicBezTo>
                    <a:pt x="150" y="33"/>
                    <a:pt x="150" y="34"/>
                    <a:pt x="150" y="34"/>
                  </a:cubicBezTo>
                  <a:cubicBezTo>
                    <a:pt x="165" y="165"/>
                    <a:pt x="165" y="165"/>
                    <a:pt x="165" y="165"/>
                  </a:cubicBezTo>
                  <a:cubicBezTo>
                    <a:pt x="165" y="165"/>
                    <a:pt x="165" y="167"/>
                    <a:pt x="169" y="170"/>
                  </a:cubicBezTo>
                  <a:close/>
                  <a:moveTo>
                    <a:pt x="39" y="238"/>
                  </a:moveTo>
                  <a:cubicBezTo>
                    <a:pt x="30" y="238"/>
                    <a:pt x="30" y="238"/>
                    <a:pt x="30" y="238"/>
                  </a:cubicBezTo>
                  <a:cubicBezTo>
                    <a:pt x="23" y="249"/>
                    <a:pt x="23" y="249"/>
                    <a:pt x="23" y="249"/>
                  </a:cubicBezTo>
                  <a:cubicBezTo>
                    <a:pt x="22" y="250"/>
                    <a:pt x="21" y="252"/>
                    <a:pt x="19" y="253"/>
                  </a:cubicBezTo>
                  <a:cubicBezTo>
                    <a:pt x="19" y="252"/>
                    <a:pt x="18" y="250"/>
                    <a:pt x="17" y="248"/>
                  </a:cubicBezTo>
                  <a:cubicBezTo>
                    <a:pt x="10" y="238"/>
                    <a:pt x="10" y="238"/>
                    <a:pt x="10" y="238"/>
                  </a:cubicBezTo>
                  <a:cubicBezTo>
                    <a:pt x="1" y="238"/>
                    <a:pt x="1" y="238"/>
                    <a:pt x="1" y="238"/>
                  </a:cubicBezTo>
                  <a:cubicBezTo>
                    <a:pt x="15" y="259"/>
                    <a:pt x="15" y="259"/>
                    <a:pt x="15" y="259"/>
                  </a:cubicBezTo>
                  <a:cubicBezTo>
                    <a:pt x="0" y="281"/>
                    <a:pt x="0" y="281"/>
                    <a:pt x="0" y="281"/>
                  </a:cubicBezTo>
                  <a:cubicBezTo>
                    <a:pt x="8" y="281"/>
                    <a:pt x="8" y="281"/>
                    <a:pt x="8" y="281"/>
                  </a:cubicBezTo>
                  <a:cubicBezTo>
                    <a:pt x="20" y="264"/>
                    <a:pt x="20" y="264"/>
                    <a:pt x="20" y="264"/>
                  </a:cubicBezTo>
                  <a:cubicBezTo>
                    <a:pt x="22" y="268"/>
                    <a:pt x="22" y="268"/>
                    <a:pt x="22" y="268"/>
                  </a:cubicBezTo>
                  <a:cubicBezTo>
                    <a:pt x="31" y="281"/>
                    <a:pt x="31" y="281"/>
                    <a:pt x="31" y="281"/>
                  </a:cubicBezTo>
                  <a:cubicBezTo>
                    <a:pt x="40" y="281"/>
                    <a:pt x="40" y="281"/>
                    <a:pt x="40" y="281"/>
                  </a:cubicBezTo>
                  <a:cubicBezTo>
                    <a:pt x="24" y="259"/>
                    <a:pt x="24" y="259"/>
                    <a:pt x="24" y="259"/>
                  </a:cubicBezTo>
                  <a:lnTo>
                    <a:pt x="39" y="238"/>
                  </a:lnTo>
                  <a:close/>
                  <a:moveTo>
                    <a:pt x="46" y="281"/>
                  </a:moveTo>
                  <a:cubicBezTo>
                    <a:pt x="53" y="281"/>
                    <a:pt x="53" y="281"/>
                    <a:pt x="53" y="281"/>
                  </a:cubicBezTo>
                  <a:cubicBezTo>
                    <a:pt x="53" y="238"/>
                    <a:pt x="53" y="238"/>
                    <a:pt x="53" y="238"/>
                  </a:cubicBezTo>
                  <a:cubicBezTo>
                    <a:pt x="46" y="238"/>
                    <a:pt x="46" y="238"/>
                    <a:pt x="46" y="238"/>
                  </a:cubicBezTo>
                  <a:lnTo>
                    <a:pt x="46" y="281"/>
                  </a:lnTo>
                  <a:close/>
                  <a:moveTo>
                    <a:pt x="99" y="263"/>
                  </a:moveTo>
                  <a:cubicBezTo>
                    <a:pt x="99" y="254"/>
                    <a:pt x="99" y="254"/>
                    <a:pt x="99" y="254"/>
                  </a:cubicBezTo>
                  <a:cubicBezTo>
                    <a:pt x="99" y="250"/>
                    <a:pt x="99" y="248"/>
                    <a:pt x="99" y="247"/>
                  </a:cubicBezTo>
                  <a:cubicBezTo>
                    <a:pt x="98" y="245"/>
                    <a:pt x="97" y="243"/>
                    <a:pt x="96" y="242"/>
                  </a:cubicBezTo>
                  <a:cubicBezTo>
                    <a:pt x="95" y="241"/>
                    <a:pt x="94" y="240"/>
                    <a:pt x="91" y="239"/>
                  </a:cubicBezTo>
                  <a:cubicBezTo>
                    <a:pt x="89" y="238"/>
                    <a:pt x="86" y="237"/>
                    <a:pt x="82" y="237"/>
                  </a:cubicBezTo>
                  <a:cubicBezTo>
                    <a:pt x="79" y="237"/>
                    <a:pt x="75" y="238"/>
                    <a:pt x="73" y="239"/>
                  </a:cubicBezTo>
                  <a:cubicBezTo>
                    <a:pt x="70" y="240"/>
                    <a:pt x="68" y="241"/>
                    <a:pt x="66" y="243"/>
                  </a:cubicBezTo>
                  <a:cubicBezTo>
                    <a:pt x="65" y="245"/>
                    <a:pt x="64" y="248"/>
                    <a:pt x="63" y="251"/>
                  </a:cubicBezTo>
                  <a:cubicBezTo>
                    <a:pt x="70" y="252"/>
                    <a:pt x="70" y="252"/>
                    <a:pt x="70" y="252"/>
                  </a:cubicBezTo>
                  <a:cubicBezTo>
                    <a:pt x="71" y="249"/>
                    <a:pt x="72" y="246"/>
                    <a:pt x="74" y="245"/>
                  </a:cubicBezTo>
                  <a:cubicBezTo>
                    <a:pt x="75" y="244"/>
                    <a:pt x="78" y="243"/>
                    <a:pt x="81" y="243"/>
                  </a:cubicBezTo>
                  <a:cubicBezTo>
                    <a:pt x="85" y="243"/>
                    <a:pt x="88" y="244"/>
                    <a:pt x="90" y="246"/>
                  </a:cubicBezTo>
                  <a:cubicBezTo>
                    <a:pt x="91" y="247"/>
                    <a:pt x="92" y="249"/>
                    <a:pt x="92" y="252"/>
                  </a:cubicBezTo>
                  <a:cubicBezTo>
                    <a:pt x="92" y="252"/>
                    <a:pt x="92" y="253"/>
                    <a:pt x="92" y="254"/>
                  </a:cubicBezTo>
                  <a:cubicBezTo>
                    <a:pt x="89" y="255"/>
                    <a:pt x="85" y="256"/>
                    <a:pt x="79" y="257"/>
                  </a:cubicBezTo>
                  <a:cubicBezTo>
                    <a:pt x="76" y="257"/>
                    <a:pt x="74" y="257"/>
                    <a:pt x="72" y="258"/>
                  </a:cubicBezTo>
                  <a:cubicBezTo>
                    <a:pt x="70" y="258"/>
                    <a:pt x="68" y="259"/>
                    <a:pt x="67" y="260"/>
                  </a:cubicBezTo>
                  <a:cubicBezTo>
                    <a:pt x="65" y="261"/>
                    <a:pt x="64" y="263"/>
                    <a:pt x="63" y="264"/>
                  </a:cubicBezTo>
                  <a:cubicBezTo>
                    <a:pt x="62" y="266"/>
                    <a:pt x="62" y="268"/>
                    <a:pt x="62" y="270"/>
                  </a:cubicBezTo>
                  <a:cubicBezTo>
                    <a:pt x="62" y="274"/>
                    <a:pt x="63" y="277"/>
                    <a:pt x="66" y="279"/>
                  </a:cubicBezTo>
                  <a:cubicBezTo>
                    <a:pt x="68" y="281"/>
                    <a:pt x="72" y="282"/>
                    <a:pt x="76" y="282"/>
                  </a:cubicBezTo>
                  <a:cubicBezTo>
                    <a:pt x="79" y="282"/>
                    <a:pt x="82" y="282"/>
                    <a:pt x="84" y="281"/>
                  </a:cubicBezTo>
                  <a:cubicBezTo>
                    <a:pt x="87" y="280"/>
                    <a:pt x="90" y="278"/>
                    <a:pt x="92" y="276"/>
                  </a:cubicBezTo>
                  <a:cubicBezTo>
                    <a:pt x="92" y="278"/>
                    <a:pt x="93" y="280"/>
                    <a:pt x="94" y="281"/>
                  </a:cubicBezTo>
                  <a:cubicBezTo>
                    <a:pt x="101" y="281"/>
                    <a:pt x="101" y="281"/>
                    <a:pt x="101" y="281"/>
                  </a:cubicBezTo>
                  <a:cubicBezTo>
                    <a:pt x="100" y="280"/>
                    <a:pt x="100" y="278"/>
                    <a:pt x="99" y="276"/>
                  </a:cubicBezTo>
                  <a:cubicBezTo>
                    <a:pt x="99" y="274"/>
                    <a:pt x="99" y="270"/>
                    <a:pt x="99" y="263"/>
                  </a:cubicBezTo>
                  <a:close/>
                  <a:moveTo>
                    <a:pt x="92" y="262"/>
                  </a:moveTo>
                  <a:cubicBezTo>
                    <a:pt x="92" y="266"/>
                    <a:pt x="91" y="268"/>
                    <a:pt x="90" y="270"/>
                  </a:cubicBezTo>
                  <a:cubicBezTo>
                    <a:pt x="89" y="272"/>
                    <a:pt x="88" y="274"/>
                    <a:pt x="86" y="275"/>
                  </a:cubicBezTo>
                  <a:cubicBezTo>
                    <a:pt x="83" y="276"/>
                    <a:pt x="81" y="277"/>
                    <a:pt x="78" y="277"/>
                  </a:cubicBezTo>
                  <a:cubicBezTo>
                    <a:pt x="75" y="277"/>
                    <a:pt x="73" y="276"/>
                    <a:pt x="72" y="275"/>
                  </a:cubicBezTo>
                  <a:cubicBezTo>
                    <a:pt x="70" y="273"/>
                    <a:pt x="70" y="272"/>
                    <a:pt x="70" y="270"/>
                  </a:cubicBezTo>
                  <a:cubicBezTo>
                    <a:pt x="70" y="269"/>
                    <a:pt x="70" y="267"/>
                    <a:pt x="71" y="266"/>
                  </a:cubicBezTo>
                  <a:cubicBezTo>
                    <a:pt x="71" y="265"/>
                    <a:pt x="72" y="265"/>
                    <a:pt x="73" y="264"/>
                  </a:cubicBezTo>
                  <a:cubicBezTo>
                    <a:pt x="75" y="263"/>
                    <a:pt x="77" y="263"/>
                    <a:pt x="80" y="263"/>
                  </a:cubicBezTo>
                  <a:cubicBezTo>
                    <a:pt x="85" y="262"/>
                    <a:pt x="89" y="261"/>
                    <a:pt x="92" y="260"/>
                  </a:cubicBezTo>
                  <a:lnTo>
                    <a:pt x="92" y="262"/>
                  </a:lnTo>
                  <a:close/>
                  <a:moveTo>
                    <a:pt x="128" y="237"/>
                  </a:moveTo>
                  <a:cubicBezTo>
                    <a:pt x="122" y="237"/>
                    <a:pt x="118" y="239"/>
                    <a:pt x="114" y="242"/>
                  </a:cubicBezTo>
                  <a:cubicBezTo>
                    <a:pt x="110" y="246"/>
                    <a:pt x="108" y="252"/>
                    <a:pt x="108" y="260"/>
                  </a:cubicBezTo>
                  <a:cubicBezTo>
                    <a:pt x="108" y="267"/>
                    <a:pt x="109" y="273"/>
                    <a:pt x="113" y="277"/>
                  </a:cubicBezTo>
                  <a:cubicBezTo>
                    <a:pt x="117" y="280"/>
                    <a:pt x="122" y="282"/>
                    <a:pt x="128" y="282"/>
                  </a:cubicBezTo>
                  <a:cubicBezTo>
                    <a:pt x="131" y="282"/>
                    <a:pt x="135" y="281"/>
                    <a:pt x="138" y="280"/>
                  </a:cubicBezTo>
                  <a:cubicBezTo>
                    <a:pt x="141" y="278"/>
                    <a:pt x="144" y="275"/>
                    <a:pt x="145" y="272"/>
                  </a:cubicBezTo>
                  <a:cubicBezTo>
                    <a:pt x="147" y="269"/>
                    <a:pt x="148" y="265"/>
                    <a:pt x="148" y="259"/>
                  </a:cubicBezTo>
                  <a:cubicBezTo>
                    <a:pt x="148" y="252"/>
                    <a:pt x="146" y="247"/>
                    <a:pt x="142" y="243"/>
                  </a:cubicBezTo>
                  <a:cubicBezTo>
                    <a:pt x="138" y="239"/>
                    <a:pt x="134" y="237"/>
                    <a:pt x="128" y="237"/>
                  </a:cubicBezTo>
                  <a:close/>
                  <a:moveTo>
                    <a:pt x="137" y="272"/>
                  </a:moveTo>
                  <a:cubicBezTo>
                    <a:pt x="134" y="275"/>
                    <a:pt x="131" y="276"/>
                    <a:pt x="128" y="276"/>
                  </a:cubicBezTo>
                  <a:cubicBezTo>
                    <a:pt x="124" y="276"/>
                    <a:pt x="121" y="275"/>
                    <a:pt x="119" y="272"/>
                  </a:cubicBezTo>
                  <a:cubicBezTo>
                    <a:pt x="116" y="269"/>
                    <a:pt x="115" y="265"/>
                    <a:pt x="115" y="260"/>
                  </a:cubicBezTo>
                  <a:cubicBezTo>
                    <a:pt x="115" y="254"/>
                    <a:pt x="116" y="250"/>
                    <a:pt x="119" y="248"/>
                  </a:cubicBezTo>
                  <a:cubicBezTo>
                    <a:pt x="121" y="245"/>
                    <a:pt x="124" y="243"/>
                    <a:pt x="128" y="243"/>
                  </a:cubicBezTo>
                  <a:cubicBezTo>
                    <a:pt x="131" y="243"/>
                    <a:pt x="134" y="245"/>
                    <a:pt x="137" y="248"/>
                  </a:cubicBezTo>
                  <a:cubicBezTo>
                    <a:pt x="139" y="250"/>
                    <a:pt x="140" y="254"/>
                    <a:pt x="140" y="260"/>
                  </a:cubicBezTo>
                  <a:cubicBezTo>
                    <a:pt x="140" y="265"/>
                    <a:pt x="139" y="269"/>
                    <a:pt x="137" y="272"/>
                  </a:cubicBezTo>
                  <a:close/>
                  <a:moveTo>
                    <a:pt x="201" y="237"/>
                  </a:moveTo>
                  <a:cubicBezTo>
                    <a:pt x="196" y="237"/>
                    <a:pt x="191" y="240"/>
                    <a:pt x="188" y="245"/>
                  </a:cubicBezTo>
                  <a:cubicBezTo>
                    <a:pt x="187" y="243"/>
                    <a:pt x="186" y="241"/>
                    <a:pt x="184" y="239"/>
                  </a:cubicBezTo>
                  <a:cubicBezTo>
                    <a:pt x="181" y="238"/>
                    <a:pt x="179" y="237"/>
                    <a:pt x="176" y="237"/>
                  </a:cubicBezTo>
                  <a:cubicBezTo>
                    <a:pt x="173" y="237"/>
                    <a:pt x="170" y="238"/>
                    <a:pt x="168" y="239"/>
                  </a:cubicBezTo>
                  <a:cubicBezTo>
                    <a:pt x="166" y="241"/>
                    <a:pt x="164" y="242"/>
                    <a:pt x="163" y="244"/>
                  </a:cubicBezTo>
                  <a:cubicBezTo>
                    <a:pt x="163" y="238"/>
                    <a:pt x="163" y="238"/>
                    <a:pt x="163" y="238"/>
                  </a:cubicBezTo>
                  <a:cubicBezTo>
                    <a:pt x="156" y="238"/>
                    <a:pt x="156" y="238"/>
                    <a:pt x="156" y="238"/>
                  </a:cubicBezTo>
                  <a:cubicBezTo>
                    <a:pt x="156" y="281"/>
                    <a:pt x="156" y="281"/>
                    <a:pt x="156" y="281"/>
                  </a:cubicBezTo>
                  <a:cubicBezTo>
                    <a:pt x="163" y="281"/>
                    <a:pt x="163" y="281"/>
                    <a:pt x="163" y="281"/>
                  </a:cubicBezTo>
                  <a:cubicBezTo>
                    <a:pt x="163" y="259"/>
                    <a:pt x="163" y="259"/>
                    <a:pt x="163" y="259"/>
                  </a:cubicBezTo>
                  <a:cubicBezTo>
                    <a:pt x="163" y="255"/>
                    <a:pt x="164" y="252"/>
                    <a:pt x="165" y="250"/>
                  </a:cubicBezTo>
                  <a:cubicBezTo>
                    <a:pt x="165" y="248"/>
                    <a:pt x="167" y="246"/>
                    <a:pt x="168" y="245"/>
                  </a:cubicBezTo>
                  <a:cubicBezTo>
                    <a:pt x="170" y="244"/>
                    <a:pt x="172" y="244"/>
                    <a:pt x="174" y="244"/>
                  </a:cubicBezTo>
                  <a:cubicBezTo>
                    <a:pt x="177" y="244"/>
                    <a:pt x="179" y="245"/>
                    <a:pt x="180" y="246"/>
                  </a:cubicBezTo>
                  <a:cubicBezTo>
                    <a:pt x="181" y="248"/>
                    <a:pt x="182" y="250"/>
                    <a:pt x="182" y="253"/>
                  </a:cubicBezTo>
                  <a:cubicBezTo>
                    <a:pt x="182" y="281"/>
                    <a:pt x="182" y="281"/>
                    <a:pt x="182" y="281"/>
                  </a:cubicBezTo>
                  <a:cubicBezTo>
                    <a:pt x="189" y="281"/>
                    <a:pt x="189" y="281"/>
                    <a:pt x="189" y="281"/>
                  </a:cubicBezTo>
                  <a:cubicBezTo>
                    <a:pt x="189" y="256"/>
                    <a:pt x="189" y="256"/>
                    <a:pt x="189" y="256"/>
                  </a:cubicBezTo>
                  <a:cubicBezTo>
                    <a:pt x="189" y="252"/>
                    <a:pt x="190" y="249"/>
                    <a:pt x="192" y="247"/>
                  </a:cubicBezTo>
                  <a:cubicBezTo>
                    <a:pt x="194" y="245"/>
                    <a:pt x="196" y="244"/>
                    <a:pt x="199" y="244"/>
                  </a:cubicBezTo>
                  <a:cubicBezTo>
                    <a:pt x="201" y="244"/>
                    <a:pt x="203" y="244"/>
                    <a:pt x="204" y="245"/>
                  </a:cubicBezTo>
                  <a:cubicBezTo>
                    <a:pt x="205" y="246"/>
                    <a:pt x="206" y="247"/>
                    <a:pt x="206" y="248"/>
                  </a:cubicBezTo>
                  <a:cubicBezTo>
                    <a:pt x="207" y="249"/>
                    <a:pt x="207" y="251"/>
                    <a:pt x="207" y="254"/>
                  </a:cubicBezTo>
                  <a:cubicBezTo>
                    <a:pt x="207" y="281"/>
                    <a:pt x="207" y="281"/>
                    <a:pt x="207" y="281"/>
                  </a:cubicBezTo>
                  <a:cubicBezTo>
                    <a:pt x="214" y="281"/>
                    <a:pt x="214" y="281"/>
                    <a:pt x="214" y="281"/>
                  </a:cubicBezTo>
                  <a:cubicBezTo>
                    <a:pt x="214" y="252"/>
                    <a:pt x="214" y="252"/>
                    <a:pt x="214" y="252"/>
                  </a:cubicBezTo>
                  <a:cubicBezTo>
                    <a:pt x="214" y="247"/>
                    <a:pt x="213" y="243"/>
                    <a:pt x="211" y="241"/>
                  </a:cubicBezTo>
                  <a:cubicBezTo>
                    <a:pt x="209" y="239"/>
                    <a:pt x="205" y="237"/>
                    <a:pt x="201" y="237"/>
                  </a:cubicBezTo>
                  <a:close/>
                  <a:moveTo>
                    <a:pt x="225" y="281"/>
                  </a:moveTo>
                  <a:cubicBezTo>
                    <a:pt x="232" y="281"/>
                    <a:pt x="232" y="281"/>
                    <a:pt x="232" y="281"/>
                  </a:cubicBezTo>
                  <a:cubicBezTo>
                    <a:pt x="232" y="238"/>
                    <a:pt x="232" y="238"/>
                    <a:pt x="232" y="238"/>
                  </a:cubicBezTo>
                  <a:cubicBezTo>
                    <a:pt x="225" y="238"/>
                    <a:pt x="225" y="238"/>
                    <a:pt x="225" y="238"/>
                  </a:cubicBezTo>
                  <a:lnTo>
                    <a:pt x="225" y="281"/>
                  </a:lnTo>
                  <a:close/>
                  <a:moveTo>
                    <a:pt x="246" y="281"/>
                  </a:moveTo>
                  <a:cubicBezTo>
                    <a:pt x="254" y="281"/>
                    <a:pt x="254" y="281"/>
                    <a:pt x="254" y="281"/>
                  </a:cubicBezTo>
                  <a:cubicBezTo>
                    <a:pt x="254" y="273"/>
                    <a:pt x="254" y="273"/>
                    <a:pt x="254" y="273"/>
                  </a:cubicBezTo>
                  <a:cubicBezTo>
                    <a:pt x="246" y="273"/>
                    <a:pt x="246" y="273"/>
                    <a:pt x="246" y="273"/>
                  </a:cubicBezTo>
                  <a:lnTo>
                    <a:pt x="246" y="281"/>
                  </a:lnTo>
                  <a:close/>
                  <a:moveTo>
                    <a:pt x="291" y="274"/>
                  </a:moveTo>
                  <a:cubicBezTo>
                    <a:pt x="289" y="275"/>
                    <a:pt x="287" y="276"/>
                    <a:pt x="284" y="276"/>
                  </a:cubicBezTo>
                  <a:cubicBezTo>
                    <a:pt x="280" y="276"/>
                    <a:pt x="277" y="275"/>
                    <a:pt x="275" y="272"/>
                  </a:cubicBezTo>
                  <a:cubicBezTo>
                    <a:pt x="273" y="270"/>
                    <a:pt x="272" y="266"/>
                    <a:pt x="272" y="260"/>
                  </a:cubicBezTo>
                  <a:cubicBezTo>
                    <a:pt x="272" y="254"/>
                    <a:pt x="273" y="250"/>
                    <a:pt x="275" y="247"/>
                  </a:cubicBezTo>
                  <a:cubicBezTo>
                    <a:pt x="277" y="245"/>
                    <a:pt x="280" y="243"/>
                    <a:pt x="284" y="243"/>
                  </a:cubicBezTo>
                  <a:cubicBezTo>
                    <a:pt x="286" y="243"/>
                    <a:pt x="289" y="244"/>
                    <a:pt x="290" y="246"/>
                  </a:cubicBezTo>
                  <a:cubicBezTo>
                    <a:pt x="292" y="247"/>
                    <a:pt x="293" y="249"/>
                    <a:pt x="294" y="252"/>
                  </a:cubicBezTo>
                  <a:cubicBezTo>
                    <a:pt x="301" y="251"/>
                    <a:pt x="301" y="251"/>
                    <a:pt x="301" y="251"/>
                  </a:cubicBezTo>
                  <a:cubicBezTo>
                    <a:pt x="300" y="247"/>
                    <a:pt x="298" y="243"/>
                    <a:pt x="295" y="241"/>
                  </a:cubicBezTo>
                  <a:cubicBezTo>
                    <a:pt x="292" y="239"/>
                    <a:pt x="288" y="237"/>
                    <a:pt x="284" y="237"/>
                  </a:cubicBezTo>
                  <a:cubicBezTo>
                    <a:pt x="280" y="237"/>
                    <a:pt x="277" y="238"/>
                    <a:pt x="274" y="240"/>
                  </a:cubicBezTo>
                  <a:cubicBezTo>
                    <a:pt x="270" y="242"/>
                    <a:pt x="268" y="244"/>
                    <a:pt x="267" y="248"/>
                  </a:cubicBezTo>
                  <a:cubicBezTo>
                    <a:pt x="265" y="251"/>
                    <a:pt x="264" y="255"/>
                    <a:pt x="264" y="260"/>
                  </a:cubicBezTo>
                  <a:cubicBezTo>
                    <a:pt x="264" y="267"/>
                    <a:pt x="266" y="273"/>
                    <a:pt x="270" y="277"/>
                  </a:cubicBezTo>
                  <a:cubicBezTo>
                    <a:pt x="273" y="280"/>
                    <a:pt x="278" y="282"/>
                    <a:pt x="284" y="282"/>
                  </a:cubicBezTo>
                  <a:cubicBezTo>
                    <a:pt x="288" y="282"/>
                    <a:pt x="292" y="281"/>
                    <a:pt x="296" y="278"/>
                  </a:cubicBezTo>
                  <a:cubicBezTo>
                    <a:pt x="299" y="275"/>
                    <a:pt x="301" y="271"/>
                    <a:pt x="302" y="267"/>
                  </a:cubicBezTo>
                  <a:cubicBezTo>
                    <a:pt x="294" y="266"/>
                    <a:pt x="294" y="266"/>
                    <a:pt x="294" y="266"/>
                  </a:cubicBezTo>
                  <a:cubicBezTo>
                    <a:pt x="294" y="269"/>
                    <a:pt x="293" y="272"/>
                    <a:pt x="291" y="274"/>
                  </a:cubicBezTo>
                  <a:close/>
                  <a:moveTo>
                    <a:pt x="325" y="237"/>
                  </a:moveTo>
                  <a:cubicBezTo>
                    <a:pt x="320" y="237"/>
                    <a:pt x="315" y="239"/>
                    <a:pt x="312" y="242"/>
                  </a:cubicBezTo>
                  <a:cubicBezTo>
                    <a:pt x="307" y="246"/>
                    <a:pt x="305" y="252"/>
                    <a:pt x="305" y="260"/>
                  </a:cubicBezTo>
                  <a:cubicBezTo>
                    <a:pt x="305" y="267"/>
                    <a:pt x="307" y="273"/>
                    <a:pt x="311" y="277"/>
                  </a:cubicBezTo>
                  <a:cubicBezTo>
                    <a:pt x="314" y="280"/>
                    <a:pt x="319" y="282"/>
                    <a:pt x="325" y="282"/>
                  </a:cubicBezTo>
                  <a:cubicBezTo>
                    <a:pt x="329" y="282"/>
                    <a:pt x="332" y="281"/>
                    <a:pt x="336" y="280"/>
                  </a:cubicBezTo>
                  <a:cubicBezTo>
                    <a:pt x="339" y="278"/>
                    <a:pt x="341" y="275"/>
                    <a:pt x="343" y="272"/>
                  </a:cubicBezTo>
                  <a:cubicBezTo>
                    <a:pt x="344" y="269"/>
                    <a:pt x="345" y="265"/>
                    <a:pt x="345" y="259"/>
                  </a:cubicBezTo>
                  <a:cubicBezTo>
                    <a:pt x="345" y="252"/>
                    <a:pt x="343" y="247"/>
                    <a:pt x="340" y="243"/>
                  </a:cubicBezTo>
                  <a:cubicBezTo>
                    <a:pt x="336" y="239"/>
                    <a:pt x="331" y="237"/>
                    <a:pt x="325" y="237"/>
                  </a:cubicBezTo>
                  <a:close/>
                  <a:moveTo>
                    <a:pt x="334" y="272"/>
                  </a:moveTo>
                  <a:cubicBezTo>
                    <a:pt x="332" y="275"/>
                    <a:pt x="329" y="276"/>
                    <a:pt x="325" y="276"/>
                  </a:cubicBezTo>
                  <a:cubicBezTo>
                    <a:pt x="322" y="276"/>
                    <a:pt x="319" y="275"/>
                    <a:pt x="316" y="272"/>
                  </a:cubicBezTo>
                  <a:cubicBezTo>
                    <a:pt x="314" y="269"/>
                    <a:pt x="313" y="265"/>
                    <a:pt x="313" y="260"/>
                  </a:cubicBezTo>
                  <a:cubicBezTo>
                    <a:pt x="313" y="254"/>
                    <a:pt x="314" y="250"/>
                    <a:pt x="316" y="248"/>
                  </a:cubicBezTo>
                  <a:cubicBezTo>
                    <a:pt x="319" y="245"/>
                    <a:pt x="322" y="243"/>
                    <a:pt x="325" y="243"/>
                  </a:cubicBezTo>
                  <a:cubicBezTo>
                    <a:pt x="329" y="243"/>
                    <a:pt x="332" y="245"/>
                    <a:pt x="334" y="248"/>
                  </a:cubicBezTo>
                  <a:cubicBezTo>
                    <a:pt x="337" y="250"/>
                    <a:pt x="338" y="254"/>
                    <a:pt x="338" y="260"/>
                  </a:cubicBezTo>
                  <a:cubicBezTo>
                    <a:pt x="338" y="265"/>
                    <a:pt x="337" y="269"/>
                    <a:pt x="334" y="272"/>
                  </a:cubicBezTo>
                  <a:close/>
                  <a:moveTo>
                    <a:pt x="399" y="237"/>
                  </a:moveTo>
                  <a:cubicBezTo>
                    <a:pt x="393" y="237"/>
                    <a:pt x="389" y="240"/>
                    <a:pt x="385" y="245"/>
                  </a:cubicBezTo>
                  <a:cubicBezTo>
                    <a:pt x="385" y="243"/>
                    <a:pt x="383" y="241"/>
                    <a:pt x="381" y="239"/>
                  </a:cubicBezTo>
                  <a:cubicBezTo>
                    <a:pt x="379" y="238"/>
                    <a:pt x="376" y="237"/>
                    <a:pt x="373" y="237"/>
                  </a:cubicBezTo>
                  <a:cubicBezTo>
                    <a:pt x="370" y="237"/>
                    <a:pt x="368" y="238"/>
                    <a:pt x="366" y="239"/>
                  </a:cubicBezTo>
                  <a:cubicBezTo>
                    <a:pt x="363" y="241"/>
                    <a:pt x="362" y="242"/>
                    <a:pt x="360" y="244"/>
                  </a:cubicBezTo>
                  <a:cubicBezTo>
                    <a:pt x="360" y="238"/>
                    <a:pt x="360" y="238"/>
                    <a:pt x="360" y="238"/>
                  </a:cubicBezTo>
                  <a:cubicBezTo>
                    <a:pt x="354" y="238"/>
                    <a:pt x="354" y="238"/>
                    <a:pt x="354" y="238"/>
                  </a:cubicBezTo>
                  <a:cubicBezTo>
                    <a:pt x="354" y="281"/>
                    <a:pt x="354" y="281"/>
                    <a:pt x="354" y="281"/>
                  </a:cubicBezTo>
                  <a:cubicBezTo>
                    <a:pt x="361" y="281"/>
                    <a:pt x="361" y="281"/>
                    <a:pt x="361" y="281"/>
                  </a:cubicBezTo>
                  <a:cubicBezTo>
                    <a:pt x="361" y="259"/>
                    <a:pt x="361" y="259"/>
                    <a:pt x="361" y="259"/>
                  </a:cubicBezTo>
                  <a:cubicBezTo>
                    <a:pt x="361" y="255"/>
                    <a:pt x="361" y="252"/>
                    <a:pt x="362" y="250"/>
                  </a:cubicBezTo>
                  <a:cubicBezTo>
                    <a:pt x="363" y="248"/>
                    <a:pt x="364" y="246"/>
                    <a:pt x="366" y="245"/>
                  </a:cubicBezTo>
                  <a:cubicBezTo>
                    <a:pt x="368" y="244"/>
                    <a:pt x="370" y="244"/>
                    <a:pt x="372" y="244"/>
                  </a:cubicBezTo>
                  <a:cubicBezTo>
                    <a:pt x="374" y="244"/>
                    <a:pt x="376" y="245"/>
                    <a:pt x="377" y="246"/>
                  </a:cubicBezTo>
                  <a:cubicBezTo>
                    <a:pt x="379" y="248"/>
                    <a:pt x="379" y="250"/>
                    <a:pt x="379" y="253"/>
                  </a:cubicBezTo>
                  <a:cubicBezTo>
                    <a:pt x="379" y="281"/>
                    <a:pt x="379" y="281"/>
                    <a:pt x="379" y="281"/>
                  </a:cubicBezTo>
                  <a:cubicBezTo>
                    <a:pt x="387" y="281"/>
                    <a:pt x="387" y="281"/>
                    <a:pt x="387" y="281"/>
                  </a:cubicBezTo>
                  <a:cubicBezTo>
                    <a:pt x="387" y="256"/>
                    <a:pt x="387" y="256"/>
                    <a:pt x="387" y="256"/>
                  </a:cubicBezTo>
                  <a:cubicBezTo>
                    <a:pt x="387" y="252"/>
                    <a:pt x="388" y="249"/>
                    <a:pt x="390" y="247"/>
                  </a:cubicBezTo>
                  <a:cubicBezTo>
                    <a:pt x="392" y="245"/>
                    <a:pt x="394" y="244"/>
                    <a:pt x="397" y="244"/>
                  </a:cubicBezTo>
                  <a:cubicBezTo>
                    <a:pt x="399" y="244"/>
                    <a:pt x="400" y="244"/>
                    <a:pt x="401" y="245"/>
                  </a:cubicBezTo>
                  <a:cubicBezTo>
                    <a:pt x="403" y="246"/>
                    <a:pt x="403" y="247"/>
                    <a:pt x="404" y="248"/>
                  </a:cubicBezTo>
                  <a:cubicBezTo>
                    <a:pt x="404" y="249"/>
                    <a:pt x="405" y="251"/>
                    <a:pt x="405" y="254"/>
                  </a:cubicBezTo>
                  <a:cubicBezTo>
                    <a:pt x="405" y="281"/>
                    <a:pt x="405" y="281"/>
                    <a:pt x="405" y="281"/>
                  </a:cubicBezTo>
                  <a:cubicBezTo>
                    <a:pt x="412" y="281"/>
                    <a:pt x="412" y="281"/>
                    <a:pt x="412" y="281"/>
                  </a:cubicBezTo>
                  <a:cubicBezTo>
                    <a:pt x="412" y="252"/>
                    <a:pt x="412" y="252"/>
                    <a:pt x="412" y="252"/>
                  </a:cubicBezTo>
                  <a:cubicBezTo>
                    <a:pt x="412" y="247"/>
                    <a:pt x="411" y="243"/>
                    <a:pt x="408" y="241"/>
                  </a:cubicBezTo>
                  <a:cubicBezTo>
                    <a:pt x="406" y="239"/>
                    <a:pt x="403" y="237"/>
                    <a:pt x="399" y="237"/>
                  </a:cubicBezTo>
                  <a:close/>
                </a:path>
              </a:pathLst>
            </a:custGeom>
            <a:solidFill>
              <a:srgbClr val="ee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4"/>
            <p:cNvSpPr/>
            <p:nvPr/>
          </p:nvSpPr>
          <p:spPr>
            <a:xfrm>
              <a:off x="3935520" y="2433600"/>
              <a:ext cx="567720" cy="56664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315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5"/>
                    <a:pt x="0" y="315"/>
                    <a:pt x="0" y="315"/>
                  </a:cubicBezTo>
                  <a:cubicBezTo>
                    <a:pt x="0" y="326"/>
                    <a:pt x="9" y="335"/>
                    <a:pt x="21" y="335"/>
                  </a:cubicBezTo>
                  <a:cubicBezTo>
                    <a:pt x="315" y="335"/>
                    <a:pt x="315" y="335"/>
                    <a:pt x="315" y="335"/>
                  </a:cubicBezTo>
                  <a:cubicBezTo>
                    <a:pt x="326" y="335"/>
                    <a:pt x="335" y="326"/>
                    <a:pt x="335" y="315"/>
                  </a:cubicBezTo>
                  <a:cubicBezTo>
                    <a:pt x="335" y="20"/>
                    <a:pt x="335" y="20"/>
                    <a:pt x="335" y="20"/>
                  </a:cubicBezTo>
                  <a:cubicBezTo>
                    <a:pt x="335" y="9"/>
                    <a:pt x="326" y="0"/>
                    <a:pt x="315" y="0"/>
                  </a:cubicBezTo>
                  <a:close/>
                  <a:moveTo>
                    <a:pt x="158" y="244"/>
                  </a:moveTo>
                  <a:cubicBezTo>
                    <a:pt x="158" y="245"/>
                    <a:pt x="156" y="246"/>
                    <a:pt x="155" y="246"/>
                  </a:cubicBezTo>
                  <a:cubicBezTo>
                    <a:pt x="119" y="246"/>
                    <a:pt x="119" y="246"/>
                    <a:pt x="119" y="246"/>
                  </a:cubicBezTo>
                  <a:cubicBezTo>
                    <a:pt x="118" y="246"/>
                    <a:pt x="116" y="245"/>
                    <a:pt x="116" y="244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6" y="152"/>
                    <a:pt x="118" y="150"/>
                    <a:pt x="119" y="150"/>
                  </a:cubicBezTo>
                  <a:cubicBezTo>
                    <a:pt x="155" y="150"/>
                    <a:pt x="155" y="150"/>
                    <a:pt x="155" y="150"/>
                  </a:cubicBezTo>
                  <a:cubicBezTo>
                    <a:pt x="156" y="150"/>
                    <a:pt x="158" y="152"/>
                    <a:pt x="158" y="153"/>
                  </a:cubicBezTo>
                  <a:lnTo>
                    <a:pt x="158" y="244"/>
                  </a:lnTo>
                  <a:close/>
                  <a:moveTo>
                    <a:pt x="226" y="244"/>
                  </a:moveTo>
                  <a:cubicBezTo>
                    <a:pt x="226" y="245"/>
                    <a:pt x="225" y="246"/>
                    <a:pt x="223" y="246"/>
                  </a:cubicBezTo>
                  <a:cubicBezTo>
                    <a:pt x="187" y="246"/>
                    <a:pt x="187" y="246"/>
                    <a:pt x="187" y="246"/>
                  </a:cubicBezTo>
                  <a:cubicBezTo>
                    <a:pt x="186" y="246"/>
                    <a:pt x="185" y="245"/>
                    <a:pt x="185" y="244"/>
                  </a:cubicBezTo>
                  <a:cubicBezTo>
                    <a:pt x="185" y="149"/>
                    <a:pt x="185" y="149"/>
                    <a:pt x="185" y="149"/>
                  </a:cubicBezTo>
                  <a:cubicBezTo>
                    <a:pt x="185" y="139"/>
                    <a:pt x="179" y="124"/>
                    <a:pt x="160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0" y="124"/>
                    <a:pt x="89" y="125"/>
                    <a:pt x="89" y="126"/>
                  </a:cubicBezTo>
                  <a:cubicBezTo>
                    <a:pt x="89" y="244"/>
                    <a:pt x="89" y="244"/>
                    <a:pt x="89" y="244"/>
                  </a:cubicBezTo>
                  <a:cubicBezTo>
                    <a:pt x="89" y="245"/>
                    <a:pt x="88" y="246"/>
                    <a:pt x="87" y="246"/>
                  </a:cubicBezTo>
                  <a:cubicBezTo>
                    <a:pt x="51" y="246"/>
                    <a:pt x="51" y="246"/>
                    <a:pt x="51" y="246"/>
                  </a:cubicBezTo>
                  <a:cubicBezTo>
                    <a:pt x="49" y="246"/>
                    <a:pt x="48" y="245"/>
                    <a:pt x="48" y="244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0"/>
                    <a:pt x="49" y="89"/>
                    <a:pt x="51" y="89"/>
                  </a:cubicBezTo>
                  <a:cubicBezTo>
                    <a:pt x="179" y="89"/>
                    <a:pt x="179" y="89"/>
                    <a:pt x="179" y="89"/>
                  </a:cubicBezTo>
                  <a:cubicBezTo>
                    <a:pt x="191" y="89"/>
                    <a:pt x="202" y="91"/>
                    <a:pt x="214" y="102"/>
                  </a:cubicBezTo>
                  <a:cubicBezTo>
                    <a:pt x="225" y="114"/>
                    <a:pt x="226" y="126"/>
                    <a:pt x="226" y="135"/>
                  </a:cubicBezTo>
                  <a:lnTo>
                    <a:pt x="226" y="244"/>
                  </a:lnTo>
                  <a:close/>
                  <a:moveTo>
                    <a:pt x="288" y="244"/>
                  </a:moveTo>
                  <a:cubicBezTo>
                    <a:pt x="288" y="245"/>
                    <a:pt x="286" y="246"/>
                    <a:pt x="285" y="246"/>
                  </a:cubicBezTo>
                  <a:cubicBezTo>
                    <a:pt x="249" y="246"/>
                    <a:pt x="249" y="246"/>
                    <a:pt x="249" y="246"/>
                  </a:cubicBezTo>
                  <a:cubicBezTo>
                    <a:pt x="248" y="246"/>
                    <a:pt x="246" y="245"/>
                    <a:pt x="246" y="244"/>
                  </a:cubicBezTo>
                  <a:cubicBezTo>
                    <a:pt x="246" y="91"/>
                    <a:pt x="246" y="91"/>
                    <a:pt x="246" y="91"/>
                  </a:cubicBezTo>
                  <a:cubicBezTo>
                    <a:pt x="246" y="90"/>
                    <a:pt x="248" y="89"/>
                    <a:pt x="249" y="89"/>
                  </a:cubicBezTo>
                  <a:cubicBezTo>
                    <a:pt x="285" y="89"/>
                    <a:pt x="285" y="89"/>
                    <a:pt x="285" y="89"/>
                  </a:cubicBezTo>
                  <a:cubicBezTo>
                    <a:pt x="286" y="89"/>
                    <a:pt x="288" y="90"/>
                    <a:pt x="288" y="91"/>
                  </a:cubicBezTo>
                  <a:lnTo>
                    <a:pt x="288" y="244"/>
                  </a:lnTo>
                  <a:close/>
                </a:path>
              </a:pathLst>
            </a:custGeom>
            <a:solidFill>
              <a:srgbClr val="ee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25"/>
            <p:cNvSpPr/>
            <p:nvPr/>
          </p:nvSpPr>
          <p:spPr>
            <a:xfrm>
              <a:off x="4017240" y="2583720"/>
              <a:ext cx="406440" cy="265320"/>
            </a:xfrm>
            <a:custGeom>
              <a:avLst/>
              <a:gdLst/>
              <a:ahLst/>
              <a:rect l="l" t="t" r="r" b="b"/>
              <a:pathLst>
                <a:path w="240" h="157">
                  <a:moveTo>
                    <a:pt x="237" y="0"/>
                  </a:moveTo>
                  <a:cubicBezTo>
                    <a:pt x="201" y="0"/>
                    <a:pt x="201" y="0"/>
                    <a:pt x="201" y="0"/>
                  </a:cubicBezTo>
                  <a:cubicBezTo>
                    <a:pt x="200" y="0"/>
                    <a:pt x="198" y="1"/>
                    <a:pt x="198" y="2"/>
                  </a:cubicBezTo>
                  <a:cubicBezTo>
                    <a:pt x="198" y="155"/>
                    <a:pt x="198" y="155"/>
                    <a:pt x="198" y="155"/>
                  </a:cubicBezTo>
                  <a:cubicBezTo>
                    <a:pt x="198" y="156"/>
                    <a:pt x="200" y="157"/>
                    <a:pt x="201" y="157"/>
                  </a:cubicBezTo>
                  <a:cubicBezTo>
                    <a:pt x="237" y="157"/>
                    <a:pt x="237" y="157"/>
                    <a:pt x="237" y="157"/>
                  </a:cubicBezTo>
                  <a:cubicBezTo>
                    <a:pt x="238" y="157"/>
                    <a:pt x="240" y="156"/>
                    <a:pt x="240" y="155"/>
                  </a:cubicBezTo>
                  <a:cubicBezTo>
                    <a:pt x="240" y="2"/>
                    <a:pt x="240" y="2"/>
                    <a:pt x="240" y="2"/>
                  </a:cubicBezTo>
                  <a:cubicBezTo>
                    <a:pt x="240" y="1"/>
                    <a:pt x="238" y="0"/>
                    <a:pt x="237" y="0"/>
                  </a:cubicBezTo>
                  <a:close/>
                  <a:moveTo>
                    <a:pt x="13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6"/>
                    <a:pt x="1" y="157"/>
                    <a:pt x="3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7"/>
                    <a:pt x="41" y="156"/>
                    <a:pt x="41" y="155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6"/>
                    <a:pt x="42" y="35"/>
                    <a:pt x="44" y="35"/>
                  </a:cubicBezTo>
                  <a:cubicBezTo>
                    <a:pt x="112" y="35"/>
                    <a:pt x="112" y="35"/>
                    <a:pt x="112" y="35"/>
                  </a:cubicBezTo>
                  <a:cubicBezTo>
                    <a:pt x="131" y="35"/>
                    <a:pt x="137" y="50"/>
                    <a:pt x="137" y="60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7" y="156"/>
                    <a:pt x="138" y="157"/>
                    <a:pt x="139" y="157"/>
                  </a:cubicBezTo>
                  <a:cubicBezTo>
                    <a:pt x="175" y="157"/>
                    <a:pt x="175" y="157"/>
                    <a:pt x="175" y="157"/>
                  </a:cubicBezTo>
                  <a:cubicBezTo>
                    <a:pt x="177" y="157"/>
                    <a:pt x="178" y="156"/>
                    <a:pt x="178" y="155"/>
                  </a:cubicBezTo>
                  <a:cubicBezTo>
                    <a:pt x="178" y="46"/>
                    <a:pt x="178" y="46"/>
                    <a:pt x="178" y="46"/>
                  </a:cubicBezTo>
                  <a:cubicBezTo>
                    <a:pt x="178" y="37"/>
                    <a:pt x="177" y="25"/>
                    <a:pt x="166" y="13"/>
                  </a:cubicBezTo>
                  <a:cubicBezTo>
                    <a:pt x="154" y="2"/>
                    <a:pt x="143" y="0"/>
                    <a:pt x="131" y="0"/>
                  </a:cubicBezTo>
                  <a:close/>
                  <a:moveTo>
                    <a:pt x="107" y="61"/>
                  </a:moveTo>
                  <a:cubicBezTo>
                    <a:pt x="71" y="61"/>
                    <a:pt x="71" y="61"/>
                    <a:pt x="71" y="61"/>
                  </a:cubicBezTo>
                  <a:cubicBezTo>
                    <a:pt x="70" y="61"/>
                    <a:pt x="68" y="63"/>
                    <a:pt x="68" y="64"/>
                  </a:cubicBezTo>
                  <a:cubicBezTo>
                    <a:pt x="68" y="155"/>
                    <a:pt x="68" y="155"/>
                    <a:pt x="68" y="155"/>
                  </a:cubicBezTo>
                  <a:cubicBezTo>
                    <a:pt x="68" y="156"/>
                    <a:pt x="70" y="157"/>
                    <a:pt x="71" y="157"/>
                  </a:cubicBezTo>
                  <a:cubicBezTo>
                    <a:pt x="107" y="157"/>
                    <a:pt x="107" y="157"/>
                    <a:pt x="107" y="157"/>
                  </a:cubicBezTo>
                  <a:cubicBezTo>
                    <a:pt x="108" y="157"/>
                    <a:pt x="110" y="156"/>
                    <a:pt x="110" y="155"/>
                  </a:cubicBezTo>
                  <a:cubicBezTo>
                    <a:pt x="110" y="64"/>
                    <a:pt x="110" y="64"/>
                    <a:pt x="110" y="64"/>
                  </a:cubicBezTo>
                  <a:cubicBezTo>
                    <a:pt x="110" y="63"/>
                    <a:pt x="108" y="61"/>
                    <a:pt x="107" y="61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90"/>
          <p:cNvSpPr/>
          <p:nvPr/>
        </p:nvSpPr>
        <p:spPr>
          <a:xfrm>
            <a:off x="6167520" y="2104920"/>
            <a:ext cx="5184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e6e5d3"/>
                </a:solidFill>
                <a:latin typeface="微软雅黑 Light"/>
                <a:ea typeface="微软雅黑 Light"/>
              </a:rPr>
              <a:t>最新市场报告显示，小米手机出货量位居全球第三，紧随三星与苹果之后。小米一出，其他国产厂商都黯然失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5136"/>
          <p:cNvGrpSpPr/>
          <p:nvPr/>
        </p:nvGrpSpPr>
        <p:grpSpPr>
          <a:xfrm>
            <a:off x="-4777200" y="3778200"/>
            <a:ext cx="3475800" cy="3385800"/>
            <a:chOff x="-4777200" y="3778200"/>
            <a:chExt cx="3475800" cy="3385800"/>
          </a:xfrm>
        </p:grpSpPr>
        <p:sp>
          <p:nvSpPr>
            <p:cNvPr id="217" name="任意多边形 100"/>
            <p:cNvSpPr/>
            <p:nvPr/>
          </p:nvSpPr>
          <p:spPr>
            <a:xfrm flipH="1" rot="12900600">
              <a:off x="-4303800" y="4078080"/>
              <a:ext cx="1738440" cy="2198160"/>
            </a:xfrm>
            <a:custGeom>
              <a:avLst/>
              <a:gdLst/>
              <a:ahLst/>
              <a:rect l="l" t="t" r="r" b="b"/>
              <a:pathLst>
                <a:path w="703412" h="889695">
                  <a:moveTo>
                    <a:pt x="379723" y="747916"/>
                  </a:moveTo>
                  <a:cubicBezTo>
                    <a:pt x="405575" y="766024"/>
                    <a:pt x="445494" y="753634"/>
                    <a:pt x="468883" y="720242"/>
                  </a:cubicBezTo>
                  <a:cubicBezTo>
                    <a:pt x="492273" y="686849"/>
                    <a:pt x="490277" y="645100"/>
                    <a:pt x="464425" y="626992"/>
                  </a:cubicBezTo>
                  <a:cubicBezTo>
                    <a:pt x="438573" y="608884"/>
                    <a:pt x="398654" y="621274"/>
                    <a:pt x="375265" y="654667"/>
                  </a:cubicBezTo>
                  <a:cubicBezTo>
                    <a:pt x="351875" y="688059"/>
                    <a:pt x="353871" y="729808"/>
                    <a:pt x="379723" y="747916"/>
                  </a:cubicBezTo>
                  <a:close/>
                  <a:moveTo>
                    <a:pt x="161279" y="594908"/>
                  </a:moveTo>
                  <a:cubicBezTo>
                    <a:pt x="187131" y="613016"/>
                    <a:pt x="227050" y="600625"/>
                    <a:pt x="250439" y="567233"/>
                  </a:cubicBezTo>
                  <a:cubicBezTo>
                    <a:pt x="273829" y="533841"/>
                    <a:pt x="271832" y="492091"/>
                    <a:pt x="245980" y="473983"/>
                  </a:cubicBezTo>
                  <a:cubicBezTo>
                    <a:pt x="220128" y="455875"/>
                    <a:pt x="180210" y="468266"/>
                    <a:pt x="156821" y="501658"/>
                  </a:cubicBezTo>
                  <a:cubicBezTo>
                    <a:pt x="133431" y="535050"/>
                    <a:pt x="135427" y="576800"/>
                    <a:pt x="161279" y="594908"/>
                  </a:cubicBezTo>
                  <a:close/>
                  <a:moveTo>
                    <a:pt x="168039" y="817692"/>
                  </a:moveTo>
                  <a:cubicBezTo>
                    <a:pt x="-6463" y="695463"/>
                    <a:pt x="-52508" y="460155"/>
                    <a:pt x="65195" y="292115"/>
                  </a:cubicBezTo>
                  <a:cubicBezTo>
                    <a:pt x="124046" y="208096"/>
                    <a:pt x="212691" y="156802"/>
                    <a:pt x="308436" y="141792"/>
                  </a:cubicBezTo>
                  <a:lnTo>
                    <a:pt x="360400" y="138652"/>
                  </a:lnTo>
                  <a:lnTo>
                    <a:pt x="406893" y="0"/>
                  </a:lnTo>
                  <a:lnTo>
                    <a:pt x="456366" y="147540"/>
                  </a:lnTo>
                  <a:lnTo>
                    <a:pt x="526269" y="170748"/>
                  </a:lnTo>
                  <a:lnTo>
                    <a:pt x="574717" y="198119"/>
                  </a:lnTo>
                  <a:lnTo>
                    <a:pt x="572716" y="199633"/>
                  </a:lnTo>
                  <a:cubicBezTo>
                    <a:pt x="557752" y="213585"/>
                    <a:pt x="544035" y="229275"/>
                    <a:pt x="531860" y="246658"/>
                  </a:cubicBezTo>
                  <a:cubicBezTo>
                    <a:pt x="434454" y="385719"/>
                    <a:pt x="472559" y="580450"/>
                    <a:pt x="616969" y="681602"/>
                  </a:cubicBezTo>
                  <a:cubicBezTo>
                    <a:pt x="635021" y="694246"/>
                    <a:pt x="653879" y="704829"/>
                    <a:pt x="673249" y="713398"/>
                  </a:cubicBezTo>
                  <a:lnTo>
                    <a:pt x="703412" y="723412"/>
                  </a:lnTo>
                  <a:lnTo>
                    <a:pt x="697121" y="734746"/>
                  </a:lnTo>
                  <a:cubicBezTo>
                    <a:pt x="579418" y="902785"/>
                    <a:pt x="342541" y="939921"/>
                    <a:pt x="168039" y="817692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01"/>
            <p:cNvSpPr/>
            <p:nvPr/>
          </p:nvSpPr>
          <p:spPr>
            <a:xfrm rot="8699400">
              <a:off x="-3241080" y="5061960"/>
              <a:ext cx="1559160" cy="1819080"/>
            </a:xfrm>
            <a:custGeom>
              <a:avLst/>
              <a:gdLst/>
              <a:ahLst/>
              <a:rect l="l" t="t" r="r" b="b"/>
              <a:pathLst>
                <a:path w="762316" h="889695">
                  <a:moveTo>
                    <a:pt x="161279" y="594908"/>
                  </a:moveTo>
                  <a:cubicBezTo>
                    <a:pt x="187131" y="613016"/>
                    <a:pt x="227050" y="600625"/>
                    <a:pt x="250439" y="567233"/>
                  </a:cubicBezTo>
                  <a:cubicBezTo>
                    <a:pt x="273829" y="533841"/>
                    <a:pt x="271832" y="492091"/>
                    <a:pt x="245980" y="473983"/>
                  </a:cubicBezTo>
                  <a:cubicBezTo>
                    <a:pt x="220128" y="455875"/>
                    <a:pt x="180210" y="468266"/>
                    <a:pt x="156821" y="501658"/>
                  </a:cubicBezTo>
                  <a:cubicBezTo>
                    <a:pt x="133431" y="535050"/>
                    <a:pt x="135427" y="576800"/>
                    <a:pt x="161279" y="594908"/>
                  </a:cubicBezTo>
                  <a:close/>
                  <a:moveTo>
                    <a:pt x="379723" y="747916"/>
                  </a:moveTo>
                  <a:cubicBezTo>
                    <a:pt x="405575" y="766024"/>
                    <a:pt x="445494" y="753634"/>
                    <a:pt x="468883" y="720242"/>
                  </a:cubicBezTo>
                  <a:cubicBezTo>
                    <a:pt x="492273" y="686849"/>
                    <a:pt x="490277" y="645100"/>
                    <a:pt x="464425" y="626992"/>
                  </a:cubicBezTo>
                  <a:cubicBezTo>
                    <a:pt x="438573" y="608884"/>
                    <a:pt x="398654" y="621274"/>
                    <a:pt x="375265" y="654667"/>
                  </a:cubicBezTo>
                  <a:cubicBezTo>
                    <a:pt x="351875" y="688059"/>
                    <a:pt x="353871" y="729808"/>
                    <a:pt x="379723" y="747916"/>
                  </a:cubicBezTo>
                  <a:close/>
                  <a:moveTo>
                    <a:pt x="168039" y="817692"/>
                  </a:moveTo>
                  <a:cubicBezTo>
                    <a:pt x="-6463" y="695463"/>
                    <a:pt x="-52508" y="460155"/>
                    <a:pt x="65195" y="292115"/>
                  </a:cubicBezTo>
                  <a:cubicBezTo>
                    <a:pt x="124046" y="208096"/>
                    <a:pt x="212691" y="156802"/>
                    <a:pt x="308436" y="141792"/>
                  </a:cubicBezTo>
                  <a:lnTo>
                    <a:pt x="360400" y="138652"/>
                  </a:lnTo>
                  <a:lnTo>
                    <a:pt x="406893" y="0"/>
                  </a:lnTo>
                  <a:lnTo>
                    <a:pt x="456366" y="147540"/>
                  </a:lnTo>
                  <a:lnTo>
                    <a:pt x="526269" y="170748"/>
                  </a:lnTo>
                  <a:cubicBezTo>
                    <a:pt x="549677" y="181102"/>
                    <a:pt x="572464" y="193891"/>
                    <a:pt x="594277" y="209170"/>
                  </a:cubicBezTo>
                  <a:cubicBezTo>
                    <a:pt x="768778" y="331399"/>
                    <a:pt x="814823" y="566707"/>
                    <a:pt x="697121" y="734746"/>
                  </a:cubicBezTo>
                  <a:cubicBezTo>
                    <a:pt x="579418" y="902785"/>
                    <a:pt x="342541" y="939921"/>
                    <a:pt x="168039" y="817692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图片 5134" descr=""/>
          <p:cNvPicPr/>
          <p:nvPr/>
        </p:nvPicPr>
        <p:blipFill>
          <a:blip r:embed="rId5"/>
          <a:stretch/>
        </p:blipFill>
        <p:spPr>
          <a:xfrm>
            <a:off x="3944880" y="5479920"/>
            <a:ext cx="671400" cy="60984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5135"/>
          <p:cNvSpPr/>
          <p:nvPr/>
        </p:nvSpPr>
        <p:spPr>
          <a:xfrm>
            <a:off x="4641840" y="5427720"/>
            <a:ext cx="800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黑体"/>
                <a:ea typeface="华文黑体"/>
              </a:rPr>
              <a:t>微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  <a:ea typeface="微软雅黑 Light"/>
              </a:rPr>
              <a:t>wech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5138"/>
          <p:cNvSpPr/>
          <p:nvPr/>
        </p:nvSpPr>
        <p:spPr>
          <a:xfrm>
            <a:off x="5880240" y="2235240"/>
            <a:ext cx="0" cy="1008000"/>
          </a:xfrm>
          <a:prstGeom prst="line">
            <a:avLst/>
          </a:prstGeom>
          <a:ln w="6480">
            <a:solidFill>
              <a:srgbClr val="e6e5d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08"/>
          <p:cNvSpPr/>
          <p:nvPr/>
        </p:nvSpPr>
        <p:spPr>
          <a:xfrm>
            <a:off x="5880240" y="3749760"/>
            <a:ext cx="0" cy="1008000"/>
          </a:xfrm>
          <a:prstGeom prst="line">
            <a:avLst/>
          </a:prstGeom>
          <a:ln w="6480">
            <a:solidFill>
              <a:srgbClr val="e6e5d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09"/>
          <p:cNvSpPr/>
          <p:nvPr/>
        </p:nvSpPr>
        <p:spPr>
          <a:xfrm>
            <a:off x="5880240" y="5205240"/>
            <a:ext cx="0" cy="1008360"/>
          </a:xfrm>
          <a:prstGeom prst="line">
            <a:avLst/>
          </a:prstGeom>
          <a:ln w="6480">
            <a:solidFill>
              <a:srgbClr val="e6e5d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225" name="椭圆 969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970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971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972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973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74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975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976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977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978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979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980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981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982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983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984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985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986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987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988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989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990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991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992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993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994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995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996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997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998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999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1000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001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002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003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004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1005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1006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"/>
          <p:cNvGrpSpPr/>
          <p:nvPr/>
        </p:nvGrpSpPr>
        <p:grpSpPr>
          <a:xfrm>
            <a:off x="3784680" y="1824120"/>
            <a:ext cx="4626000" cy="4451400"/>
            <a:chOff x="3784680" y="1824120"/>
            <a:chExt cx="4626000" cy="4451400"/>
          </a:xfrm>
        </p:grpSpPr>
        <p:sp>
          <p:nvSpPr>
            <p:cNvPr id="264" name="等腰三角形 2"/>
            <p:cNvSpPr/>
            <p:nvPr/>
          </p:nvSpPr>
          <p:spPr>
            <a:xfrm>
              <a:off x="3784680" y="1824120"/>
              <a:ext cx="4626000" cy="445140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3"/>
            <p:cNvSpPr/>
            <p:nvPr/>
          </p:nvSpPr>
          <p:spPr>
            <a:xfrm>
              <a:off x="4538520" y="3633840"/>
              <a:ext cx="3070440" cy="0"/>
            </a:xfrm>
            <a:prstGeom prst="line">
              <a:avLst/>
            </a:prstGeom>
            <a:ln w="3816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4"/>
            <p:cNvSpPr/>
            <p:nvPr/>
          </p:nvSpPr>
          <p:spPr>
            <a:xfrm>
              <a:off x="4038480" y="4997520"/>
              <a:ext cx="4118040" cy="0"/>
            </a:xfrm>
            <a:prstGeom prst="line">
              <a:avLst/>
            </a:prstGeom>
            <a:ln w="3816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5"/>
            <p:cNvSpPr/>
            <p:nvPr/>
          </p:nvSpPr>
          <p:spPr>
            <a:xfrm>
              <a:off x="5748120" y="5303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基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6"/>
            <p:cNvSpPr/>
            <p:nvPr/>
          </p:nvSpPr>
          <p:spPr>
            <a:xfrm>
              <a:off x="5748120" y="3978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中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7"/>
            <p:cNvSpPr/>
            <p:nvPr/>
          </p:nvSpPr>
          <p:spPr>
            <a:xfrm>
              <a:off x="5748120" y="2702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高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809"/>
          <p:cNvSpPr/>
          <p:nvPr/>
        </p:nvSpPr>
        <p:spPr>
          <a:xfrm>
            <a:off x="3700440" y="22396320"/>
            <a:ext cx="482760" cy="424080"/>
          </a:xfrm>
          <a:custGeom>
            <a:avLst/>
            <a:gdLst/>
            <a:ahLst/>
            <a:rect l="l" t="t" r="r" b="b"/>
            <a:pathLst>
              <a:path w="129" h="113">
                <a:moveTo>
                  <a:pt x="0" y="68"/>
                </a:moveTo>
                <a:cubicBezTo>
                  <a:pt x="0" y="37"/>
                  <a:pt x="0" y="37"/>
                  <a:pt x="0" y="37"/>
                </a:cubicBezTo>
                <a:cubicBezTo>
                  <a:pt x="0" y="7"/>
                  <a:pt x="5" y="0"/>
                  <a:pt x="33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127" y="0"/>
                  <a:pt x="129" y="5"/>
                  <a:pt x="129" y="40"/>
                </a:cubicBezTo>
                <a:cubicBezTo>
                  <a:pt x="129" y="69"/>
                  <a:pt x="129" y="69"/>
                  <a:pt x="129" y="69"/>
                </a:cubicBezTo>
                <a:cubicBezTo>
                  <a:pt x="129" y="88"/>
                  <a:pt x="129" y="88"/>
                  <a:pt x="129" y="88"/>
                </a:cubicBezTo>
                <a:cubicBezTo>
                  <a:pt x="129" y="103"/>
                  <a:pt x="122" y="113"/>
                  <a:pt x="106" y="113"/>
                </a:cubicBezTo>
                <a:cubicBezTo>
                  <a:pt x="28" y="113"/>
                  <a:pt x="28" y="113"/>
                  <a:pt x="28" y="113"/>
                </a:cubicBezTo>
                <a:cubicBezTo>
                  <a:pt x="10" y="113"/>
                  <a:pt x="1" y="104"/>
                  <a:pt x="1" y="92"/>
                </a:cubicBezTo>
                <a:lnTo>
                  <a:pt x="0" y="68"/>
                </a:lnTo>
                <a:close/>
                <a:moveTo>
                  <a:pt x="47" y="23"/>
                </a:moveTo>
                <a:cubicBezTo>
                  <a:pt x="41" y="23"/>
                  <a:pt x="37" y="23"/>
                  <a:pt x="35" y="25"/>
                </a:cubicBezTo>
                <a:cubicBezTo>
                  <a:pt x="31" y="28"/>
                  <a:pt x="32" y="35"/>
                  <a:pt x="32" y="43"/>
                </a:cubicBezTo>
                <a:cubicBezTo>
                  <a:pt x="32" y="67"/>
                  <a:pt x="32" y="67"/>
                  <a:pt x="32" y="67"/>
                </a:cubicBezTo>
                <a:cubicBezTo>
                  <a:pt x="32" y="82"/>
                  <a:pt x="31" y="89"/>
                  <a:pt x="37" y="90"/>
                </a:cubicBezTo>
                <a:cubicBezTo>
                  <a:pt x="47" y="90"/>
                  <a:pt x="47" y="90"/>
                  <a:pt x="47" y="90"/>
                </a:cubicBezTo>
                <a:cubicBezTo>
                  <a:pt x="82" y="90"/>
                  <a:pt x="82" y="90"/>
                  <a:pt x="82" y="90"/>
                </a:cubicBezTo>
                <a:cubicBezTo>
                  <a:pt x="86" y="90"/>
                  <a:pt x="86" y="90"/>
                  <a:pt x="86" y="90"/>
                </a:cubicBezTo>
                <a:cubicBezTo>
                  <a:pt x="91" y="90"/>
                  <a:pt x="95" y="90"/>
                  <a:pt x="97" y="89"/>
                </a:cubicBezTo>
                <a:cubicBezTo>
                  <a:pt x="99" y="86"/>
                  <a:pt x="98" y="81"/>
                  <a:pt x="98" y="77"/>
                </a:cubicBezTo>
                <a:cubicBezTo>
                  <a:pt x="98" y="74"/>
                  <a:pt x="98" y="71"/>
                  <a:pt x="98" y="68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30"/>
                  <a:pt x="98" y="30"/>
                  <a:pt x="98" y="30"/>
                </a:cubicBezTo>
                <a:cubicBezTo>
                  <a:pt x="98" y="28"/>
                  <a:pt x="98" y="26"/>
                  <a:pt x="97" y="25"/>
                </a:cubicBezTo>
                <a:cubicBezTo>
                  <a:pt x="96" y="23"/>
                  <a:pt x="94" y="23"/>
                  <a:pt x="91" y="23"/>
                </a:cubicBezTo>
                <a:cubicBezTo>
                  <a:pt x="81" y="23"/>
                  <a:pt x="81" y="23"/>
                  <a:pt x="81" y="2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810"/>
          <p:cNvSpPr/>
          <p:nvPr/>
        </p:nvSpPr>
        <p:spPr>
          <a:xfrm>
            <a:off x="4213080" y="22399560"/>
            <a:ext cx="495360" cy="420840"/>
          </a:xfrm>
          <a:custGeom>
            <a:avLst/>
            <a:gdLst/>
            <a:ahLst/>
            <a:rect l="l" t="t" r="r" b="b"/>
            <a:pathLst>
              <a:path w="132" h="112">
                <a:moveTo>
                  <a:pt x="109" y="0"/>
                </a:moveTo>
                <a:cubicBezTo>
                  <a:pt x="132" y="0"/>
                  <a:pt x="132" y="0"/>
                  <a:pt x="132" y="0"/>
                </a:cubicBezTo>
                <a:cubicBezTo>
                  <a:pt x="84" y="112"/>
                  <a:pt x="84" y="112"/>
                  <a:pt x="84" y="112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0" y="0"/>
                  <a:pt x="0" y="0"/>
                  <a:pt x="0" y="0"/>
                </a:cubicBezTo>
                <a:cubicBezTo>
                  <a:pt x="9" y="0"/>
                  <a:pt x="17" y="0"/>
                  <a:pt x="26" y="0"/>
                </a:cubicBezTo>
                <a:cubicBezTo>
                  <a:pt x="34" y="1"/>
                  <a:pt x="37" y="7"/>
                  <a:pt x="40" y="13"/>
                </a:cubicBezTo>
                <a:cubicBezTo>
                  <a:pt x="67" y="84"/>
                  <a:pt x="67" y="84"/>
                  <a:pt x="67" y="84"/>
                </a:cubicBezTo>
                <a:cubicBezTo>
                  <a:pt x="77" y="61"/>
                  <a:pt x="86" y="37"/>
                  <a:pt x="95" y="14"/>
                </a:cubicBezTo>
                <a:cubicBezTo>
                  <a:pt x="98" y="7"/>
                  <a:pt x="102" y="2"/>
                  <a:pt x="1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811"/>
          <p:cNvSpPr/>
          <p:nvPr/>
        </p:nvSpPr>
        <p:spPr>
          <a:xfrm>
            <a:off x="4741920" y="22396320"/>
            <a:ext cx="395280" cy="424080"/>
          </a:xfrm>
          <a:custGeom>
            <a:avLst/>
            <a:gdLst/>
            <a:ahLst/>
            <a:rect l="l" t="t" r="r" b="b"/>
            <a:pathLst>
              <a:path w="105" h="113">
                <a:moveTo>
                  <a:pt x="20" y="0"/>
                </a:moveTo>
                <a:cubicBezTo>
                  <a:pt x="105" y="0"/>
                  <a:pt x="105" y="0"/>
                  <a:pt x="105" y="0"/>
                </a:cubicBezTo>
                <a:cubicBezTo>
                  <a:pt x="105" y="23"/>
                  <a:pt x="105" y="23"/>
                  <a:pt x="105" y="23"/>
                </a:cubicBezTo>
                <a:cubicBezTo>
                  <a:pt x="85" y="23"/>
                  <a:pt x="57" y="23"/>
                  <a:pt x="37" y="23"/>
                </a:cubicBezTo>
                <a:cubicBezTo>
                  <a:pt x="34" y="23"/>
                  <a:pt x="32" y="24"/>
                  <a:pt x="32" y="27"/>
                </a:cubicBezTo>
                <a:cubicBezTo>
                  <a:pt x="32" y="44"/>
                  <a:pt x="32" y="44"/>
                  <a:pt x="32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65"/>
                  <a:pt x="96" y="65"/>
                  <a:pt x="96" y="65"/>
                </a:cubicBezTo>
                <a:cubicBezTo>
                  <a:pt x="32" y="65"/>
                  <a:pt x="32" y="65"/>
                  <a:pt x="32" y="65"/>
                </a:cubicBezTo>
                <a:cubicBezTo>
                  <a:pt x="32" y="72"/>
                  <a:pt x="32" y="79"/>
                  <a:pt x="32" y="85"/>
                </a:cubicBezTo>
                <a:cubicBezTo>
                  <a:pt x="33" y="90"/>
                  <a:pt x="36" y="91"/>
                  <a:pt x="39" y="9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76" y="113"/>
                  <a:pt x="48" y="113"/>
                  <a:pt x="19" y="113"/>
                </a:cubicBezTo>
                <a:cubicBezTo>
                  <a:pt x="8" y="113"/>
                  <a:pt x="1" y="109"/>
                  <a:pt x="0" y="96"/>
                </a:cubicBezTo>
                <a:cubicBezTo>
                  <a:pt x="0" y="70"/>
                  <a:pt x="0" y="44"/>
                  <a:pt x="0" y="18"/>
                </a:cubicBezTo>
                <a:cubicBezTo>
                  <a:pt x="1" y="7"/>
                  <a:pt x="8" y="1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812"/>
          <p:cNvSpPr/>
          <p:nvPr/>
        </p:nvSpPr>
        <p:spPr>
          <a:xfrm>
            <a:off x="5230800" y="22396320"/>
            <a:ext cx="407880" cy="424080"/>
          </a:xfrm>
          <a:custGeom>
            <a:avLst/>
            <a:gdLst/>
            <a:ahLst/>
            <a:rect l="l" t="t" r="r" b="b"/>
            <a:pathLst>
              <a:path w="109" h="113">
                <a:moveTo>
                  <a:pt x="0" y="96"/>
                </a:moveTo>
                <a:cubicBezTo>
                  <a:pt x="5" y="96"/>
                  <a:pt x="5" y="96"/>
                  <a:pt x="5" y="96"/>
                </a:cubicBezTo>
                <a:cubicBezTo>
                  <a:pt x="8" y="96"/>
                  <a:pt x="12" y="97"/>
                  <a:pt x="15" y="96"/>
                </a:cubicBezTo>
                <a:cubicBezTo>
                  <a:pt x="17" y="96"/>
                  <a:pt x="19" y="94"/>
                  <a:pt x="21" y="92"/>
                </a:cubicBezTo>
                <a:cubicBezTo>
                  <a:pt x="44" y="64"/>
                  <a:pt x="44" y="64"/>
                  <a:pt x="44" y="64"/>
                </a:cubicBezTo>
                <a:cubicBezTo>
                  <a:pt x="44" y="26"/>
                  <a:pt x="44" y="26"/>
                  <a:pt x="44" y="26"/>
                </a:cubicBezTo>
                <a:cubicBezTo>
                  <a:pt x="63" y="26"/>
                  <a:pt x="63" y="26"/>
                  <a:pt x="63" y="26"/>
                </a:cubicBezTo>
                <a:cubicBezTo>
                  <a:pt x="63" y="65"/>
                  <a:pt x="63" y="65"/>
                  <a:pt x="63" y="65"/>
                </a:cubicBezTo>
                <a:cubicBezTo>
                  <a:pt x="86" y="88"/>
                  <a:pt x="86" y="88"/>
                  <a:pt x="86" y="88"/>
                </a:cubicBezTo>
                <a:cubicBezTo>
                  <a:pt x="89" y="91"/>
                  <a:pt x="94" y="97"/>
                  <a:pt x="98" y="97"/>
                </a:cubicBezTo>
                <a:cubicBezTo>
                  <a:pt x="109" y="97"/>
                  <a:pt x="109" y="97"/>
                  <a:pt x="109" y="97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85" y="113"/>
                  <a:pt x="80" y="107"/>
                  <a:pt x="77" y="104"/>
                </a:cubicBezTo>
                <a:cubicBezTo>
                  <a:pt x="55" y="80"/>
                  <a:pt x="55" y="80"/>
                  <a:pt x="55" y="80"/>
                </a:cubicBezTo>
                <a:cubicBezTo>
                  <a:pt x="33" y="106"/>
                  <a:pt x="33" y="106"/>
                  <a:pt x="33" y="106"/>
                </a:cubicBezTo>
                <a:cubicBezTo>
                  <a:pt x="31" y="108"/>
                  <a:pt x="28" y="110"/>
                  <a:pt x="24" y="111"/>
                </a:cubicBezTo>
                <a:cubicBezTo>
                  <a:pt x="21" y="112"/>
                  <a:pt x="18" y="112"/>
                  <a:pt x="16" y="113"/>
                </a:cubicBezTo>
                <a:cubicBezTo>
                  <a:pt x="11" y="113"/>
                  <a:pt x="5" y="113"/>
                  <a:pt x="0" y="113"/>
                </a:cubicBezTo>
                <a:lnTo>
                  <a:pt x="0" y="96"/>
                </a:lnTo>
                <a:close/>
                <a:moveTo>
                  <a:pt x="11" y="0"/>
                </a:moveTo>
                <a:cubicBezTo>
                  <a:pt x="40" y="0"/>
                  <a:pt x="69" y="0"/>
                  <a:pt x="99" y="0"/>
                </a:cubicBezTo>
                <a:cubicBezTo>
                  <a:pt x="106" y="1"/>
                  <a:pt x="109" y="5"/>
                  <a:pt x="109" y="11"/>
                </a:cubicBezTo>
                <a:cubicBezTo>
                  <a:pt x="109" y="83"/>
                  <a:pt x="109" y="83"/>
                  <a:pt x="109" y="83"/>
                </a:cubicBezTo>
                <a:cubicBezTo>
                  <a:pt x="92" y="83"/>
                  <a:pt x="92" y="83"/>
                  <a:pt x="92" y="83"/>
                </a:cubicBezTo>
                <a:cubicBezTo>
                  <a:pt x="92" y="16"/>
                  <a:pt x="92" y="16"/>
                  <a:pt x="92" y="16"/>
                </a:cubicBezTo>
                <a:cubicBezTo>
                  <a:pt x="68" y="16"/>
                  <a:pt x="42" y="16"/>
                  <a:pt x="19" y="16"/>
                </a:cubicBezTo>
                <a:cubicBezTo>
                  <a:pt x="19" y="83"/>
                  <a:pt x="19" y="83"/>
                  <a:pt x="19" y="83"/>
                </a:cubicBezTo>
                <a:cubicBezTo>
                  <a:pt x="1" y="83"/>
                  <a:pt x="1" y="83"/>
                  <a:pt x="1" y="83"/>
                </a:cubicBezTo>
                <a:cubicBezTo>
                  <a:pt x="1" y="59"/>
                  <a:pt x="1" y="34"/>
                  <a:pt x="1" y="9"/>
                </a:cubicBezTo>
                <a:cubicBezTo>
                  <a:pt x="1" y="4"/>
                  <a:pt x="5" y="1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813"/>
          <p:cNvSpPr/>
          <p:nvPr/>
        </p:nvSpPr>
        <p:spPr>
          <a:xfrm>
            <a:off x="5695920" y="22393440"/>
            <a:ext cx="405000" cy="423720"/>
          </a:xfrm>
          <a:custGeom>
            <a:avLst/>
            <a:gdLst/>
            <a:ahLst/>
            <a:rect l="l" t="t" r="r" b="b"/>
            <a:pathLst>
              <a:path w="108" h="113">
                <a:moveTo>
                  <a:pt x="45" y="56"/>
                </a:moveTo>
                <a:cubicBezTo>
                  <a:pt x="44" y="60"/>
                  <a:pt x="44" y="60"/>
                  <a:pt x="44" y="60"/>
                </a:cubicBezTo>
                <a:cubicBezTo>
                  <a:pt x="63" y="60"/>
                  <a:pt x="82" y="60"/>
                  <a:pt x="101" y="60"/>
                </a:cubicBezTo>
                <a:cubicBezTo>
                  <a:pt x="106" y="62"/>
                  <a:pt x="107" y="64"/>
                  <a:pt x="108" y="67"/>
                </a:cubicBezTo>
                <a:cubicBezTo>
                  <a:pt x="108" y="73"/>
                  <a:pt x="108" y="73"/>
                  <a:pt x="108" y="73"/>
                </a:cubicBezTo>
                <a:cubicBezTo>
                  <a:pt x="76" y="107"/>
                  <a:pt x="76" y="107"/>
                  <a:pt x="76" y="107"/>
                </a:cubicBezTo>
                <a:cubicBezTo>
                  <a:pt x="75" y="108"/>
                  <a:pt x="74" y="109"/>
                  <a:pt x="72" y="110"/>
                </a:cubicBezTo>
                <a:cubicBezTo>
                  <a:pt x="70" y="111"/>
                  <a:pt x="69" y="112"/>
                  <a:pt x="68" y="112"/>
                </a:cubicBezTo>
                <a:cubicBezTo>
                  <a:pt x="66" y="113"/>
                  <a:pt x="59" y="113"/>
                  <a:pt x="56" y="113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98"/>
                  <a:pt x="0" y="98"/>
                  <a:pt x="0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7" y="98"/>
                  <a:pt x="50" y="98"/>
                  <a:pt x="54" y="97"/>
                </a:cubicBezTo>
                <a:cubicBezTo>
                  <a:pt x="28" y="79"/>
                  <a:pt x="28" y="79"/>
                  <a:pt x="28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71" y="87"/>
                  <a:pt x="71" y="87"/>
                  <a:pt x="71" y="87"/>
                </a:cubicBezTo>
                <a:cubicBezTo>
                  <a:pt x="82" y="74"/>
                  <a:pt x="82" y="74"/>
                  <a:pt x="82" y="74"/>
                </a:cubicBezTo>
                <a:cubicBezTo>
                  <a:pt x="32" y="74"/>
                  <a:pt x="32" y="74"/>
                  <a:pt x="32" y="74"/>
                </a:cubicBezTo>
                <a:cubicBezTo>
                  <a:pt x="31" y="75"/>
                  <a:pt x="28" y="78"/>
                  <a:pt x="24" y="79"/>
                </a:cubicBezTo>
                <a:cubicBezTo>
                  <a:pt x="21" y="81"/>
                  <a:pt x="17" y="80"/>
                  <a:pt x="15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67"/>
                  <a:pt x="0" y="67"/>
                  <a:pt x="0" y="67"/>
                </a:cubicBezTo>
                <a:cubicBezTo>
                  <a:pt x="8" y="67"/>
                  <a:pt x="8" y="67"/>
                  <a:pt x="8" y="67"/>
                </a:cubicBezTo>
                <a:cubicBezTo>
                  <a:pt x="10" y="67"/>
                  <a:pt x="12" y="66"/>
                  <a:pt x="14" y="66"/>
                </a:cubicBezTo>
                <a:cubicBezTo>
                  <a:pt x="16" y="65"/>
                  <a:pt x="23" y="59"/>
                  <a:pt x="24" y="56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40"/>
                  <a:pt x="1" y="40"/>
                  <a:pt x="1" y="40"/>
                </a:cubicBezTo>
                <a:cubicBezTo>
                  <a:pt x="36" y="40"/>
                  <a:pt x="36" y="40"/>
                  <a:pt x="36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53" y="40"/>
                  <a:pt x="53" y="40"/>
                  <a:pt x="53" y="40"/>
                </a:cubicBezTo>
                <a:cubicBezTo>
                  <a:pt x="32" y="25"/>
                  <a:pt x="32" y="25"/>
                  <a:pt x="32" y="25"/>
                </a:cubicBezTo>
                <a:cubicBezTo>
                  <a:pt x="62" y="25"/>
                  <a:pt x="62" y="25"/>
                  <a:pt x="62" y="25"/>
                </a:cubicBezTo>
                <a:cubicBezTo>
                  <a:pt x="72" y="30"/>
                  <a:pt x="72" y="30"/>
                  <a:pt x="72" y="30"/>
                </a:cubicBezTo>
                <a:cubicBezTo>
                  <a:pt x="82" y="20"/>
                  <a:pt x="82" y="20"/>
                  <a:pt x="82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29" y="26"/>
                  <a:pt x="23" y="27"/>
                  <a:pt x="18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1" y="12"/>
                  <a:pt x="1" y="12"/>
                  <a:pt x="1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3" y="12"/>
                  <a:pt x="16" y="12"/>
                  <a:pt x="17" y="11"/>
                </a:cubicBezTo>
                <a:cubicBezTo>
                  <a:pt x="20" y="9"/>
                  <a:pt x="24" y="3"/>
                  <a:pt x="2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5"/>
                  <a:pt x="45" y="5"/>
                  <a:pt x="45" y="5"/>
                </a:cubicBezTo>
                <a:cubicBezTo>
                  <a:pt x="63" y="5"/>
                  <a:pt x="80" y="5"/>
                  <a:pt x="98" y="5"/>
                </a:cubicBezTo>
                <a:cubicBezTo>
                  <a:pt x="104" y="7"/>
                  <a:pt x="107" y="10"/>
                  <a:pt x="108" y="14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79" y="51"/>
                  <a:pt x="79" y="51"/>
                  <a:pt x="79" y="51"/>
                </a:cubicBezTo>
                <a:cubicBezTo>
                  <a:pt x="74" y="56"/>
                  <a:pt x="68" y="55"/>
                  <a:pt x="59" y="56"/>
                </a:cubicBezTo>
                <a:lnTo>
                  <a:pt x="4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814"/>
          <p:cNvSpPr/>
          <p:nvPr/>
        </p:nvSpPr>
        <p:spPr>
          <a:xfrm>
            <a:off x="6153120" y="22396320"/>
            <a:ext cx="412920" cy="424080"/>
          </a:xfrm>
          <a:custGeom>
            <a:avLst/>
            <a:gdLst/>
            <a:ahLst/>
            <a:rect l="l" t="t" r="r" b="b"/>
            <a:pathLst>
              <a:path w="110" h="113">
                <a:moveTo>
                  <a:pt x="0" y="52"/>
                </a:moveTo>
                <a:cubicBezTo>
                  <a:pt x="9" y="52"/>
                  <a:pt x="9" y="52"/>
                  <a:pt x="9" y="52"/>
                </a:cubicBezTo>
                <a:cubicBezTo>
                  <a:pt x="15" y="52"/>
                  <a:pt x="16" y="51"/>
                  <a:pt x="19" y="47"/>
                </a:cubicBezTo>
                <a:cubicBezTo>
                  <a:pt x="30" y="31"/>
                  <a:pt x="30" y="31"/>
                  <a:pt x="30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60"/>
                  <a:pt x="28" y="61"/>
                  <a:pt x="26" y="63"/>
                </a:cubicBezTo>
                <a:cubicBezTo>
                  <a:pt x="23" y="65"/>
                  <a:pt x="20" y="66"/>
                  <a:pt x="17" y="66"/>
                </a:cubicBezTo>
                <a:cubicBezTo>
                  <a:pt x="0" y="66"/>
                  <a:pt x="0" y="66"/>
                  <a:pt x="0" y="66"/>
                </a:cubicBezTo>
                <a:lnTo>
                  <a:pt x="0" y="52"/>
                </a:lnTo>
                <a:close/>
                <a:moveTo>
                  <a:pt x="89" y="82"/>
                </a:moveTo>
                <a:cubicBezTo>
                  <a:pt x="40" y="82"/>
                  <a:pt x="40" y="82"/>
                  <a:pt x="40" y="82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0" y="106"/>
                  <a:pt x="29" y="109"/>
                  <a:pt x="26" y="110"/>
                </a:cubicBezTo>
                <a:cubicBezTo>
                  <a:pt x="24" y="112"/>
                  <a:pt x="19" y="113"/>
                  <a:pt x="15" y="113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98"/>
                  <a:pt x="0" y="98"/>
                  <a:pt x="0" y="98"/>
                </a:cubicBezTo>
                <a:cubicBezTo>
                  <a:pt x="10" y="98"/>
                  <a:pt x="10" y="98"/>
                  <a:pt x="10" y="98"/>
                </a:cubicBezTo>
                <a:cubicBezTo>
                  <a:pt x="15" y="98"/>
                  <a:pt x="19" y="87"/>
                  <a:pt x="21" y="82"/>
                </a:cubicBezTo>
                <a:cubicBezTo>
                  <a:pt x="4" y="82"/>
                  <a:pt x="4" y="82"/>
                  <a:pt x="4" y="82"/>
                </a:cubicBezTo>
                <a:cubicBezTo>
                  <a:pt x="4" y="67"/>
                  <a:pt x="4" y="67"/>
                  <a:pt x="4" y="67"/>
                </a:cubicBezTo>
                <a:cubicBezTo>
                  <a:pt x="35" y="67"/>
                  <a:pt x="67" y="67"/>
                  <a:pt x="98" y="67"/>
                </a:cubicBezTo>
                <a:cubicBezTo>
                  <a:pt x="103" y="69"/>
                  <a:pt x="107" y="72"/>
                  <a:pt x="107" y="76"/>
                </a:cubicBezTo>
                <a:cubicBezTo>
                  <a:pt x="107" y="101"/>
                  <a:pt x="107" y="101"/>
                  <a:pt x="107" y="101"/>
                </a:cubicBezTo>
                <a:cubicBezTo>
                  <a:pt x="107" y="105"/>
                  <a:pt x="105" y="107"/>
                  <a:pt x="102" y="109"/>
                </a:cubicBezTo>
                <a:cubicBezTo>
                  <a:pt x="100" y="112"/>
                  <a:pt x="90" y="113"/>
                  <a:pt x="84" y="113"/>
                </a:cubicBezTo>
                <a:cubicBezTo>
                  <a:pt x="55" y="113"/>
                  <a:pt x="55" y="113"/>
                  <a:pt x="55" y="113"/>
                </a:cubicBezTo>
                <a:cubicBezTo>
                  <a:pt x="55" y="98"/>
                  <a:pt x="55" y="98"/>
                  <a:pt x="55" y="98"/>
                </a:cubicBezTo>
                <a:cubicBezTo>
                  <a:pt x="86" y="98"/>
                  <a:pt x="86" y="98"/>
                  <a:pt x="86" y="98"/>
                </a:cubicBezTo>
                <a:cubicBezTo>
                  <a:pt x="88" y="98"/>
                  <a:pt x="89" y="96"/>
                  <a:pt x="89" y="94"/>
                </a:cubicBezTo>
                <a:lnTo>
                  <a:pt x="89" y="82"/>
                </a:lnTo>
                <a:close/>
                <a:moveTo>
                  <a:pt x="61" y="31"/>
                </a:moveTo>
                <a:cubicBezTo>
                  <a:pt x="81" y="31"/>
                  <a:pt x="81" y="31"/>
                  <a:pt x="81" y="31"/>
                </a:cubicBezTo>
                <a:cubicBezTo>
                  <a:pt x="94" y="46"/>
                  <a:pt x="94" y="46"/>
                  <a:pt x="94" y="46"/>
                </a:cubicBezTo>
                <a:cubicBezTo>
                  <a:pt x="96" y="48"/>
                  <a:pt x="98" y="51"/>
                  <a:pt x="102" y="51"/>
                </a:cubicBezTo>
                <a:cubicBezTo>
                  <a:pt x="110" y="51"/>
                  <a:pt x="110" y="51"/>
                  <a:pt x="110" y="51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0" y="66"/>
                  <a:pt x="100" y="66"/>
                  <a:pt x="100" y="66"/>
                </a:cubicBezTo>
                <a:cubicBezTo>
                  <a:pt x="96" y="66"/>
                  <a:pt x="89" y="64"/>
                  <a:pt x="86" y="61"/>
                </a:cubicBezTo>
                <a:cubicBezTo>
                  <a:pt x="85" y="60"/>
                  <a:pt x="83" y="59"/>
                  <a:pt x="82" y="57"/>
                </a:cubicBezTo>
                <a:lnTo>
                  <a:pt x="61" y="31"/>
                </a:lnTo>
                <a:close/>
                <a:moveTo>
                  <a:pt x="33" y="22"/>
                </a:moveTo>
                <a:cubicBezTo>
                  <a:pt x="33" y="29"/>
                  <a:pt x="33" y="29"/>
                  <a:pt x="33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2"/>
                  <a:pt x="14" y="22"/>
                  <a:pt x="14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7"/>
                  <a:pt x="1" y="7"/>
                  <a:pt x="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"/>
                  <a:pt x="14" y="1"/>
                  <a:pt x="14" y="1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7"/>
                  <a:pt x="33" y="7"/>
                  <a:pt x="33" y="7"/>
                </a:cubicBezTo>
                <a:cubicBezTo>
                  <a:pt x="77" y="7"/>
                  <a:pt x="77" y="7"/>
                  <a:pt x="77" y="7"/>
                </a:cubicBezTo>
                <a:cubicBezTo>
                  <a:pt x="77" y="0"/>
                  <a:pt x="77" y="0"/>
                  <a:pt x="77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7"/>
                  <a:pt x="96" y="7"/>
                  <a:pt x="96" y="7"/>
                </a:cubicBezTo>
                <a:cubicBezTo>
                  <a:pt x="110" y="7"/>
                  <a:pt x="110" y="7"/>
                  <a:pt x="110" y="7"/>
                </a:cubicBezTo>
                <a:cubicBezTo>
                  <a:pt x="110" y="22"/>
                  <a:pt x="110" y="22"/>
                  <a:pt x="110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6" y="28"/>
                  <a:pt x="96" y="28"/>
                  <a:pt x="96" y="28"/>
                </a:cubicBezTo>
                <a:cubicBezTo>
                  <a:pt x="77" y="28"/>
                  <a:pt x="77" y="28"/>
                  <a:pt x="77" y="28"/>
                </a:cubicBezTo>
                <a:cubicBezTo>
                  <a:pt x="77" y="22"/>
                  <a:pt x="77" y="22"/>
                  <a:pt x="77" y="22"/>
                </a:cubicBezTo>
                <a:lnTo>
                  <a:pt x="3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15"/>
          <p:cNvSpPr/>
          <p:nvPr/>
        </p:nvSpPr>
        <p:spPr>
          <a:xfrm>
            <a:off x="2206800" y="23106240"/>
            <a:ext cx="40464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16"/>
          <p:cNvSpPr/>
          <p:nvPr/>
        </p:nvSpPr>
        <p:spPr>
          <a:xfrm>
            <a:off x="6126120" y="23106240"/>
            <a:ext cx="40644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17"/>
          <p:cNvSpPr/>
          <p:nvPr/>
        </p:nvSpPr>
        <p:spPr>
          <a:xfrm>
            <a:off x="2993760" y="2298240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音无限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18"/>
          <p:cNvSpPr/>
          <p:nvPr/>
        </p:nvSpPr>
        <p:spPr>
          <a:xfrm>
            <a:off x="5606280" y="2298240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27"/>
          <p:cNvSpPr/>
          <p:nvPr/>
        </p:nvSpPr>
        <p:spPr>
          <a:xfrm>
            <a:off x="1919160" y="7081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移动互联时代，管理方式还是这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等腰三角形 953"/>
          <p:cNvSpPr/>
          <p:nvPr/>
        </p:nvSpPr>
        <p:spPr>
          <a:xfrm>
            <a:off x="3621240" y="1638360"/>
            <a:ext cx="4952880" cy="4744800"/>
          </a:xfrm>
          <a:prstGeom prst="triangle">
            <a:avLst>
              <a:gd name="adj" fmla="val 50000"/>
            </a:avLst>
          </a:prstGeom>
          <a:noFill/>
          <a:ln cap="rnd" w="349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环形箭头 956"/>
          <p:cNvSpPr/>
          <p:nvPr/>
        </p:nvSpPr>
        <p:spPr>
          <a:xfrm flipH="1" rot="14742600">
            <a:off x="7270920" y="4232520"/>
            <a:ext cx="1309680" cy="1406520"/>
          </a:xfrm>
          <a:custGeom>
            <a:avLst/>
            <a:gdLst/>
            <a:ahLst/>
            <a:rect l="l" t="t" r="r" b="b"/>
            <a:pathLst>
              <a:path w="1309687" h="1406525">
                <a:moveTo>
                  <a:pt x="1111141" y="1055907"/>
                </a:moveTo>
                <a:cubicBezTo>
                  <a:pt x="1015960" y="1201284"/>
                  <a:pt x="866843" y="1293944"/>
                  <a:pt x="703251" y="1309367"/>
                </a:cubicBezTo>
                <a:cubicBezTo>
                  <a:pt x="536636" y="1325075"/>
                  <a:pt x="372281" y="1259049"/>
                  <a:pt x="255151" y="1129353"/>
                </a:cubicBezTo>
                <a:lnTo>
                  <a:pt x="172705" y="1173247"/>
                </a:lnTo>
                <a:lnTo>
                  <a:pt x="192070" y="949638"/>
                </a:lnTo>
                <a:lnTo>
                  <a:pt x="420194" y="1041486"/>
                </a:lnTo>
                <a:lnTo>
                  <a:pt x="338001" y="1085245"/>
                </a:lnTo>
                <a:cubicBezTo>
                  <a:pt x="439125" y="1187323"/>
                  <a:pt x="575646" y="1235534"/>
                  <a:pt x="711707" y="1217214"/>
                </a:cubicBezTo>
                <a:cubicBezTo>
                  <a:pt x="843822" y="1199425"/>
                  <a:pt x="962878" y="1120595"/>
                  <a:pt x="1039244" y="1000343"/>
                </a:cubicBezTo>
                <a:lnTo>
                  <a:pt x="1111141" y="1055907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环形箭头 957"/>
          <p:cNvSpPr/>
          <p:nvPr/>
        </p:nvSpPr>
        <p:spPr>
          <a:xfrm flipH="1" rot="14742600">
            <a:off x="6583680" y="2962080"/>
            <a:ext cx="1309680" cy="1407600"/>
          </a:xfrm>
          <a:custGeom>
            <a:avLst/>
            <a:gdLst/>
            <a:ahLst/>
            <a:rect l="l" t="t" r="r" b="b"/>
            <a:pathLst>
              <a:path w="1309687" h="1408112">
                <a:moveTo>
                  <a:pt x="1111341" y="1056855"/>
                </a:moveTo>
                <a:cubicBezTo>
                  <a:pt x="1016187" y="1202570"/>
                  <a:pt x="867008" y="1295470"/>
                  <a:pt x="703323" y="1310945"/>
                </a:cubicBezTo>
                <a:cubicBezTo>
                  <a:pt x="536563" y="1326710"/>
                  <a:pt x="372065" y="1260490"/>
                  <a:pt x="254907" y="1130431"/>
                </a:cubicBezTo>
                <a:lnTo>
                  <a:pt x="172445" y="1174333"/>
                </a:lnTo>
                <a:lnTo>
                  <a:pt x="191946" y="950498"/>
                </a:lnTo>
                <a:lnTo>
                  <a:pt x="419934" y="1042573"/>
                </a:lnTo>
                <a:lnTo>
                  <a:pt x="337722" y="1086341"/>
                </a:lnTo>
                <a:cubicBezTo>
                  <a:pt x="438888" y="1188784"/>
                  <a:pt x="575566" y="1237177"/>
                  <a:pt x="711782" y="1218784"/>
                </a:cubicBezTo>
                <a:cubicBezTo>
                  <a:pt x="843985" y="1200932"/>
                  <a:pt x="963098" y="1121865"/>
                  <a:pt x="1039438" y="1001286"/>
                </a:cubicBezTo>
                <a:lnTo>
                  <a:pt x="1111341" y="1056855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环形箭头 958"/>
          <p:cNvSpPr/>
          <p:nvPr/>
        </p:nvSpPr>
        <p:spPr>
          <a:xfrm flipH="1" rot="6979800">
            <a:off x="4332960" y="2864880"/>
            <a:ext cx="1310040" cy="1407960"/>
          </a:xfrm>
          <a:custGeom>
            <a:avLst/>
            <a:gdLst/>
            <a:ahLst/>
            <a:rect l="l" t="t" r="r" b="b"/>
            <a:pathLst>
              <a:path w="1309688" h="1408112">
                <a:moveTo>
                  <a:pt x="1111341" y="1056855"/>
                </a:moveTo>
                <a:cubicBezTo>
                  <a:pt x="1016187" y="1202570"/>
                  <a:pt x="867008" y="1295470"/>
                  <a:pt x="703322" y="1310944"/>
                </a:cubicBezTo>
                <a:cubicBezTo>
                  <a:pt x="536562" y="1326709"/>
                  <a:pt x="372064" y="1260489"/>
                  <a:pt x="254906" y="1130431"/>
                </a:cubicBezTo>
                <a:lnTo>
                  <a:pt x="172445" y="1174333"/>
                </a:lnTo>
                <a:lnTo>
                  <a:pt x="191946" y="950498"/>
                </a:lnTo>
                <a:lnTo>
                  <a:pt x="419934" y="1042573"/>
                </a:lnTo>
                <a:lnTo>
                  <a:pt x="337723" y="1086341"/>
                </a:lnTo>
                <a:cubicBezTo>
                  <a:pt x="438889" y="1188784"/>
                  <a:pt x="575567" y="1237177"/>
                  <a:pt x="711783" y="1218784"/>
                </a:cubicBezTo>
                <a:cubicBezTo>
                  <a:pt x="843986" y="1200932"/>
                  <a:pt x="963099" y="1121865"/>
                  <a:pt x="1039439" y="1001286"/>
                </a:cubicBezTo>
                <a:lnTo>
                  <a:pt x="1111341" y="1056855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环形箭头 959"/>
          <p:cNvSpPr/>
          <p:nvPr/>
        </p:nvSpPr>
        <p:spPr>
          <a:xfrm flipH="1" rot="6979800">
            <a:off x="3647880" y="4159800"/>
            <a:ext cx="1307880" cy="1407960"/>
          </a:xfrm>
          <a:custGeom>
            <a:avLst/>
            <a:gdLst/>
            <a:ahLst/>
            <a:rect l="l" t="t" r="r" b="b"/>
            <a:pathLst>
              <a:path w="1308100" h="1408112">
                <a:moveTo>
                  <a:pt x="1110208" y="1056593"/>
                </a:moveTo>
                <a:cubicBezTo>
                  <a:pt x="1015198" y="1202495"/>
                  <a:pt x="866134" y="1295540"/>
                  <a:pt x="702547" y="1311052"/>
                </a:cubicBezTo>
                <a:cubicBezTo>
                  <a:pt x="535834" y="1326860"/>
                  <a:pt x="371383" y="1260512"/>
                  <a:pt x="254335" y="1130220"/>
                </a:cubicBezTo>
                <a:lnTo>
                  <a:pt x="171957" y="1174078"/>
                </a:lnTo>
                <a:lnTo>
                  <a:pt x="191579" y="950270"/>
                </a:lnTo>
                <a:lnTo>
                  <a:pt x="419146" y="1042477"/>
                </a:lnTo>
                <a:lnTo>
                  <a:pt x="337014" y="1086203"/>
                </a:lnTo>
                <a:cubicBezTo>
                  <a:pt x="438103" y="1188915"/>
                  <a:pt x="574784" y="1237447"/>
                  <a:pt x="711000" y="1218996"/>
                </a:cubicBezTo>
                <a:cubicBezTo>
                  <a:pt x="843137" y="1201098"/>
                  <a:pt x="962166" y="1121871"/>
                  <a:pt x="1038386" y="1001085"/>
                </a:cubicBezTo>
                <a:lnTo>
                  <a:pt x="1110208" y="1056593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"/>
          <p:cNvGrpSpPr/>
          <p:nvPr/>
        </p:nvGrpSpPr>
        <p:grpSpPr>
          <a:xfrm>
            <a:off x="8758080" y="4497480"/>
            <a:ext cx="2063520" cy="1253520"/>
            <a:chOff x="8758080" y="4497480"/>
            <a:chExt cx="2063520" cy="1253520"/>
          </a:xfrm>
        </p:grpSpPr>
        <p:sp>
          <p:nvSpPr>
            <p:cNvPr id="287" name="任意多边形 964"/>
            <p:cNvSpPr/>
            <p:nvPr/>
          </p:nvSpPr>
          <p:spPr>
            <a:xfrm flipH="1">
              <a:off x="8825760" y="4497480"/>
              <a:ext cx="1995480" cy="1006560"/>
            </a:xfrm>
            <a:custGeom>
              <a:avLst/>
              <a:gdLst/>
              <a:ahLst/>
              <a:rect l="l" t="t" r="r" b="b"/>
              <a:pathLst>
                <a:path w="2592288" h="1307939">
                  <a:moveTo>
                    <a:pt x="2374294" y="0"/>
                  </a:moveTo>
                  <a:lnTo>
                    <a:pt x="0" y="0"/>
                  </a:lnTo>
                  <a:lnTo>
                    <a:pt x="0" y="104511"/>
                  </a:lnTo>
                  <a:lnTo>
                    <a:pt x="38100" y="104511"/>
                  </a:lnTo>
                  <a:lnTo>
                    <a:pt x="38100" y="461191"/>
                  </a:lnTo>
                  <a:lnTo>
                    <a:pt x="0" y="461191"/>
                  </a:lnTo>
                  <a:lnTo>
                    <a:pt x="0" y="1089945"/>
                  </a:lnTo>
                  <a:lnTo>
                    <a:pt x="217994" y="1307939"/>
                  </a:lnTo>
                  <a:lnTo>
                    <a:pt x="2592288" y="1307939"/>
                  </a:lnTo>
                  <a:lnTo>
                    <a:pt x="2592288" y="217994"/>
                  </a:lnTo>
                  <a:lnTo>
                    <a:pt x="2374294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等腰三角形 768"/>
            <p:cNvSpPr/>
            <p:nvPr/>
          </p:nvSpPr>
          <p:spPr>
            <a:xfrm rot="12629400">
              <a:off x="8841960" y="5346360"/>
              <a:ext cx="190440" cy="38268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"/>
            <p:cNvSpPr/>
            <p:nvPr/>
          </p:nvSpPr>
          <p:spPr>
            <a:xfrm>
              <a:off x="8896680" y="4545000"/>
              <a:ext cx="18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发现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必须层层请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6"/>
          <p:cNvGrpSpPr/>
          <p:nvPr/>
        </p:nvGrpSpPr>
        <p:grpSpPr>
          <a:xfrm>
            <a:off x="1776240" y="2075040"/>
            <a:ext cx="1995840" cy="1236240"/>
            <a:chOff x="1776240" y="2075040"/>
            <a:chExt cx="1995840" cy="1236240"/>
          </a:xfrm>
        </p:grpSpPr>
        <p:sp>
          <p:nvSpPr>
            <p:cNvPr id="291" name="任意多边形 966"/>
            <p:cNvSpPr/>
            <p:nvPr/>
          </p:nvSpPr>
          <p:spPr>
            <a:xfrm flipH="1">
              <a:off x="1776240" y="2075040"/>
              <a:ext cx="1995840" cy="1008000"/>
            </a:xfrm>
            <a:custGeom>
              <a:avLst/>
              <a:gdLst/>
              <a:ahLst/>
              <a:rect l="l" t="t" r="r" b="b"/>
              <a:pathLst>
                <a:path w="2592288" h="1307939">
                  <a:moveTo>
                    <a:pt x="2374294" y="0"/>
                  </a:moveTo>
                  <a:lnTo>
                    <a:pt x="0" y="0"/>
                  </a:lnTo>
                  <a:lnTo>
                    <a:pt x="0" y="104511"/>
                  </a:lnTo>
                  <a:lnTo>
                    <a:pt x="38100" y="104511"/>
                  </a:lnTo>
                  <a:lnTo>
                    <a:pt x="38100" y="461191"/>
                  </a:lnTo>
                  <a:lnTo>
                    <a:pt x="0" y="461191"/>
                  </a:lnTo>
                  <a:lnTo>
                    <a:pt x="0" y="1089945"/>
                  </a:lnTo>
                  <a:lnTo>
                    <a:pt x="217994" y="1307939"/>
                  </a:lnTo>
                  <a:lnTo>
                    <a:pt x="2592288" y="1307939"/>
                  </a:lnTo>
                  <a:lnTo>
                    <a:pt x="2592288" y="217994"/>
                  </a:lnTo>
                  <a:lnTo>
                    <a:pt x="2374294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等腰三角形 967"/>
            <p:cNvSpPr/>
            <p:nvPr/>
          </p:nvSpPr>
          <p:spPr>
            <a:xfrm flipH="1" rot="8970600">
              <a:off x="3378600" y="2906640"/>
              <a:ext cx="190440" cy="38268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70"/>
            <p:cNvSpPr/>
            <p:nvPr/>
          </p:nvSpPr>
          <p:spPr>
            <a:xfrm>
              <a:off x="1800360" y="2109600"/>
              <a:ext cx="185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自上而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致使延误战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7"/>
          <p:cNvGrpSpPr/>
          <p:nvPr/>
        </p:nvGrpSpPr>
        <p:grpSpPr>
          <a:xfrm>
            <a:off x="8308800" y="1917720"/>
            <a:ext cx="1547640" cy="1264680"/>
            <a:chOff x="8308800" y="1917720"/>
            <a:chExt cx="1547640" cy="1264680"/>
          </a:xfrm>
        </p:grpSpPr>
        <p:grpSp>
          <p:nvGrpSpPr>
            <p:cNvPr id="295" name="组合 1"/>
            <p:cNvGrpSpPr/>
            <p:nvPr/>
          </p:nvGrpSpPr>
          <p:grpSpPr>
            <a:xfrm>
              <a:off x="8341920" y="1917720"/>
              <a:ext cx="1514520" cy="1030320"/>
              <a:chOff x="8341920" y="1917720"/>
              <a:chExt cx="1514520" cy="1030320"/>
            </a:xfrm>
          </p:grpSpPr>
          <p:sp>
            <p:nvSpPr>
              <p:cNvPr id="296" name="任意多边形 78"/>
              <p:cNvSpPr/>
              <p:nvPr/>
            </p:nvSpPr>
            <p:spPr>
              <a:xfrm flipH="1">
                <a:off x="8341560" y="1917720"/>
                <a:ext cx="1514520" cy="1030320"/>
              </a:xfrm>
              <a:custGeom>
                <a:avLst/>
                <a:gdLst/>
                <a:ahLst/>
                <a:rect l="l" t="t" r="r" b="b"/>
                <a:pathLst>
                  <a:path w="2592288" h="1307939">
                    <a:moveTo>
                      <a:pt x="2374294" y="0"/>
                    </a:moveTo>
                    <a:lnTo>
                      <a:pt x="0" y="0"/>
                    </a:lnTo>
                    <a:lnTo>
                      <a:pt x="0" y="104511"/>
                    </a:lnTo>
                    <a:lnTo>
                      <a:pt x="38100" y="104511"/>
                    </a:lnTo>
                    <a:lnTo>
                      <a:pt x="38100" y="461191"/>
                    </a:lnTo>
                    <a:lnTo>
                      <a:pt x="0" y="461191"/>
                    </a:lnTo>
                    <a:lnTo>
                      <a:pt x="0" y="1089945"/>
                    </a:lnTo>
                    <a:lnTo>
                      <a:pt x="217994" y="1307939"/>
                    </a:lnTo>
                    <a:lnTo>
                      <a:pt x="2592288" y="1307939"/>
                    </a:lnTo>
                    <a:lnTo>
                      <a:pt x="2592288" y="217994"/>
                    </a:lnTo>
                    <a:lnTo>
                      <a:pt x="2374294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文本框 5"/>
              <p:cNvSpPr/>
              <p:nvPr/>
            </p:nvSpPr>
            <p:spPr>
              <a:xfrm>
                <a:off x="8396640" y="1938960"/>
                <a:ext cx="1362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机构臃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人员膨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等腰三角形 81"/>
            <p:cNvSpPr/>
            <p:nvPr/>
          </p:nvSpPr>
          <p:spPr>
            <a:xfrm rot="12629400">
              <a:off x="8392680" y="2777760"/>
              <a:ext cx="190440" cy="38268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83"/>
          <p:cNvGrpSpPr/>
          <p:nvPr/>
        </p:nvGrpSpPr>
        <p:grpSpPr>
          <a:xfrm>
            <a:off x="9948600" y="3005280"/>
            <a:ext cx="1547640" cy="1264680"/>
            <a:chOff x="9948600" y="3005280"/>
            <a:chExt cx="1547640" cy="1264680"/>
          </a:xfrm>
        </p:grpSpPr>
        <p:grpSp>
          <p:nvGrpSpPr>
            <p:cNvPr id="300" name="组合 1"/>
            <p:cNvGrpSpPr/>
            <p:nvPr/>
          </p:nvGrpSpPr>
          <p:grpSpPr>
            <a:xfrm>
              <a:off x="9981720" y="3005280"/>
              <a:ext cx="1514520" cy="1030320"/>
              <a:chOff x="9981720" y="3005280"/>
              <a:chExt cx="1514520" cy="1030320"/>
            </a:xfrm>
          </p:grpSpPr>
          <p:sp>
            <p:nvSpPr>
              <p:cNvPr id="301" name="任意多边形 86"/>
              <p:cNvSpPr/>
              <p:nvPr/>
            </p:nvSpPr>
            <p:spPr>
              <a:xfrm flipH="1">
                <a:off x="9981360" y="3005280"/>
                <a:ext cx="1514520" cy="1030320"/>
              </a:xfrm>
              <a:custGeom>
                <a:avLst/>
                <a:gdLst/>
                <a:ahLst/>
                <a:rect l="l" t="t" r="r" b="b"/>
                <a:pathLst>
                  <a:path w="2592288" h="1307939">
                    <a:moveTo>
                      <a:pt x="2374294" y="0"/>
                    </a:moveTo>
                    <a:lnTo>
                      <a:pt x="0" y="0"/>
                    </a:lnTo>
                    <a:lnTo>
                      <a:pt x="0" y="104511"/>
                    </a:lnTo>
                    <a:lnTo>
                      <a:pt x="38100" y="104511"/>
                    </a:lnTo>
                    <a:lnTo>
                      <a:pt x="38100" y="461191"/>
                    </a:lnTo>
                    <a:lnTo>
                      <a:pt x="0" y="461191"/>
                    </a:lnTo>
                    <a:lnTo>
                      <a:pt x="0" y="1089945"/>
                    </a:lnTo>
                    <a:lnTo>
                      <a:pt x="217994" y="1307939"/>
                    </a:lnTo>
                    <a:lnTo>
                      <a:pt x="2592288" y="1307939"/>
                    </a:lnTo>
                    <a:lnTo>
                      <a:pt x="2592288" y="217994"/>
                    </a:lnTo>
                    <a:lnTo>
                      <a:pt x="2374294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文本框 5"/>
              <p:cNvSpPr/>
              <p:nvPr/>
            </p:nvSpPr>
            <p:spPr>
              <a:xfrm>
                <a:off x="10036440" y="3026520"/>
                <a:ext cx="1362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人浮于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互相扯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等腰三角形 85"/>
            <p:cNvSpPr/>
            <p:nvPr/>
          </p:nvSpPr>
          <p:spPr>
            <a:xfrm rot="12629400">
              <a:off x="10032120" y="3865680"/>
              <a:ext cx="190440" cy="38232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6"/>
          <p:cNvGrpSpPr/>
          <p:nvPr/>
        </p:nvGrpSpPr>
        <p:grpSpPr>
          <a:xfrm>
            <a:off x="518760" y="3519360"/>
            <a:ext cx="1995480" cy="1236240"/>
            <a:chOff x="518760" y="3519360"/>
            <a:chExt cx="1995480" cy="1236240"/>
          </a:xfrm>
        </p:grpSpPr>
        <p:sp>
          <p:nvSpPr>
            <p:cNvPr id="305" name="任意多边形 89"/>
            <p:cNvSpPr/>
            <p:nvPr/>
          </p:nvSpPr>
          <p:spPr>
            <a:xfrm flipH="1">
              <a:off x="518400" y="3519360"/>
              <a:ext cx="1995480" cy="1008360"/>
            </a:xfrm>
            <a:custGeom>
              <a:avLst/>
              <a:gdLst/>
              <a:ahLst/>
              <a:rect l="l" t="t" r="r" b="b"/>
              <a:pathLst>
                <a:path w="2592288" h="1307939">
                  <a:moveTo>
                    <a:pt x="2374294" y="0"/>
                  </a:moveTo>
                  <a:lnTo>
                    <a:pt x="0" y="0"/>
                  </a:lnTo>
                  <a:lnTo>
                    <a:pt x="0" y="104511"/>
                  </a:lnTo>
                  <a:lnTo>
                    <a:pt x="38100" y="104511"/>
                  </a:lnTo>
                  <a:lnTo>
                    <a:pt x="38100" y="461191"/>
                  </a:lnTo>
                  <a:lnTo>
                    <a:pt x="0" y="461191"/>
                  </a:lnTo>
                  <a:lnTo>
                    <a:pt x="0" y="1089945"/>
                  </a:lnTo>
                  <a:lnTo>
                    <a:pt x="217994" y="1307939"/>
                  </a:lnTo>
                  <a:lnTo>
                    <a:pt x="2592288" y="1307939"/>
                  </a:lnTo>
                  <a:lnTo>
                    <a:pt x="2592288" y="217994"/>
                  </a:lnTo>
                  <a:lnTo>
                    <a:pt x="2374294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90"/>
            <p:cNvSpPr/>
            <p:nvPr/>
          </p:nvSpPr>
          <p:spPr>
            <a:xfrm flipH="1" rot="8970600">
              <a:off x="2121120" y="4350960"/>
              <a:ext cx="190440" cy="38268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70"/>
            <p:cNvSpPr/>
            <p:nvPr/>
          </p:nvSpPr>
          <p:spPr>
            <a:xfrm>
              <a:off x="543240" y="3553920"/>
              <a:ext cx="18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下属自主性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de2"/>
                  </a:solidFill>
                  <a:latin typeface="微软雅黑 Light"/>
                  <a:ea typeface="微软雅黑 Light"/>
                </a:rPr>
                <a:t>潜能难以释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8"/>
          <p:cNvGrpSpPr/>
          <p:nvPr/>
        </p:nvGrpSpPr>
        <p:grpSpPr>
          <a:xfrm>
            <a:off x="1650600" y="4853160"/>
            <a:ext cx="1513080" cy="1274400"/>
            <a:chOff x="1650600" y="4853160"/>
            <a:chExt cx="1513080" cy="1274400"/>
          </a:xfrm>
        </p:grpSpPr>
        <p:grpSp>
          <p:nvGrpSpPr>
            <p:cNvPr id="309" name="组合 1"/>
            <p:cNvGrpSpPr/>
            <p:nvPr/>
          </p:nvGrpSpPr>
          <p:grpSpPr>
            <a:xfrm>
              <a:off x="1650600" y="4853160"/>
              <a:ext cx="1513080" cy="1030320"/>
              <a:chOff x="1650600" y="4853160"/>
              <a:chExt cx="1513080" cy="1030320"/>
            </a:xfrm>
          </p:grpSpPr>
          <p:sp>
            <p:nvSpPr>
              <p:cNvPr id="310" name="任意多边形 95"/>
              <p:cNvSpPr/>
              <p:nvPr/>
            </p:nvSpPr>
            <p:spPr>
              <a:xfrm flipH="1">
                <a:off x="1650240" y="4853160"/>
                <a:ext cx="1513080" cy="1030320"/>
              </a:xfrm>
              <a:custGeom>
                <a:avLst/>
                <a:gdLst/>
                <a:ahLst/>
                <a:rect l="l" t="t" r="r" b="b"/>
                <a:pathLst>
                  <a:path w="2592288" h="1307939">
                    <a:moveTo>
                      <a:pt x="2374294" y="0"/>
                    </a:moveTo>
                    <a:lnTo>
                      <a:pt x="0" y="0"/>
                    </a:lnTo>
                    <a:lnTo>
                      <a:pt x="0" y="104511"/>
                    </a:lnTo>
                    <a:lnTo>
                      <a:pt x="38100" y="104511"/>
                    </a:lnTo>
                    <a:lnTo>
                      <a:pt x="38100" y="461191"/>
                    </a:lnTo>
                    <a:lnTo>
                      <a:pt x="0" y="461191"/>
                    </a:lnTo>
                    <a:lnTo>
                      <a:pt x="0" y="1089945"/>
                    </a:lnTo>
                    <a:lnTo>
                      <a:pt x="217994" y="1307939"/>
                    </a:lnTo>
                    <a:lnTo>
                      <a:pt x="2592288" y="1307939"/>
                    </a:lnTo>
                    <a:lnTo>
                      <a:pt x="2592288" y="217994"/>
                    </a:lnTo>
                    <a:lnTo>
                      <a:pt x="2374294" y="0"/>
                    </a:ln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文本框 5"/>
              <p:cNvSpPr/>
              <p:nvPr/>
            </p:nvSpPr>
            <p:spPr>
              <a:xfrm>
                <a:off x="1704960" y="4874400"/>
                <a:ext cx="1361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成本上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de2"/>
                    </a:solidFill>
                    <a:latin typeface="微软雅黑 Light"/>
                    <a:ea typeface="微软雅黑 Light"/>
                  </a:rPr>
                  <a:t>效率太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等腰三角形 97"/>
            <p:cNvSpPr/>
            <p:nvPr/>
          </p:nvSpPr>
          <p:spPr>
            <a:xfrm flipH="1" rot="8970600">
              <a:off x="2859480" y="5722920"/>
              <a:ext cx="190440" cy="382680"/>
            </a:xfrm>
            <a:prstGeom prst="triangle">
              <a:avLst>
                <a:gd name="adj" fmla="val 50000"/>
              </a:avLst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314" name="椭圆 45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46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47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48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49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50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51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52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53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54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55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56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57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58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59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60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61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62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63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64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5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66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67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8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69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70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71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72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73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74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75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76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77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78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79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80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81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82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文本框 827"/>
          <p:cNvSpPr/>
          <p:nvPr/>
        </p:nvSpPr>
        <p:spPr>
          <a:xfrm>
            <a:off x="1415880" y="70812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ede2"/>
                </a:solidFill>
                <a:latin typeface="方正粗宋简体"/>
                <a:ea typeface="方正粗宋简体"/>
              </a:rPr>
              <a:t>移动互联时代，我们需要一种新的管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4"/>
          <p:cNvGrpSpPr/>
          <p:nvPr/>
        </p:nvGrpSpPr>
        <p:grpSpPr>
          <a:xfrm>
            <a:off x="3506760" y="1852200"/>
            <a:ext cx="5049720" cy="3909960"/>
            <a:chOff x="3506760" y="1852200"/>
            <a:chExt cx="5049720" cy="3909960"/>
          </a:xfrm>
        </p:grpSpPr>
        <p:sp>
          <p:nvSpPr>
            <p:cNvPr id="354" name="圆角矩形 2"/>
            <p:cNvSpPr/>
            <p:nvPr/>
          </p:nvSpPr>
          <p:spPr>
            <a:xfrm rot="16200000">
              <a:off x="4076640" y="1282320"/>
              <a:ext cx="3909960" cy="5049720"/>
            </a:xfrm>
            <a:custGeom>
              <a:avLst/>
              <a:gdLst>
                <a:gd name="textAreaLeft" fmla="*/ 43560 w 3909960"/>
                <a:gd name="textAreaRight" fmla="*/ 3866400 w 3909960"/>
                <a:gd name="textAreaTop" fmla="*/ 43560 h 5049720"/>
                <a:gd name="textAreaBottom" fmla="*/ 5006160 h 5049720"/>
              </a:gdLst>
              <a:ahLst/>
              <a:rect l="textAreaLeft" t="textAreaTop" r="textAreaRight" b="textAreaBottom"/>
              <a:pathLst>
                <a:path w="21600" h="27896">
                  <a:moveTo>
                    <a:pt x="822" y="0"/>
                  </a:moveTo>
                  <a:arcTo wR="822" hR="822" stAng="16200000" swAng="-5400000"/>
                  <a:lnTo>
                    <a:pt x="0" y="27074"/>
                  </a:lnTo>
                  <a:arcTo wR="822" hR="822" stAng="10800000" swAng="-5400000"/>
                  <a:lnTo>
                    <a:pt x="20778" y="27896"/>
                  </a:lnTo>
                  <a:arcTo wR="822" hR="822" stAng="5400000" swAng="-5400000"/>
                  <a:lnTo>
                    <a:pt x="21600" y="822"/>
                  </a:lnTo>
                  <a:arcTo wR="822" hR="822" stAng="0" swAng="-5400000"/>
                  <a:close/>
                </a:path>
              </a:pathLst>
            </a:custGeom>
            <a:solidFill>
              <a:srgbClr val="e6e5d3"/>
            </a:solidFill>
            <a:ln w="3492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圆角矩形 41"/>
            <p:cNvSpPr/>
            <p:nvPr/>
          </p:nvSpPr>
          <p:spPr>
            <a:xfrm rot="16200000">
              <a:off x="4255920" y="1726920"/>
              <a:ext cx="3516480" cy="416088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4160880"/>
                <a:gd name="textAreaBottom" fmla="*/ 4161240 h 4160880"/>
              </a:gdLst>
              <a:ahLst/>
              <a:rect l="textAreaLeft" t="textAreaTop" r="textAreaRight" b="textAreaBottom"/>
              <a:pathLst>
                <a:path w="21600" h="25558">
                  <a:moveTo>
                    <a:pt x="0" y="0"/>
                  </a:moveTo>
                  <a:arcTo wR="0" hR="0" stAng="16200000" swAng="-5400000"/>
                  <a:lnTo>
                    <a:pt x="0" y="25558"/>
                  </a:lnTo>
                  <a:arcTo wR="0" hR="0" stAng="10800000" swAng="-5400000"/>
                  <a:lnTo>
                    <a:pt x="21600" y="255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231f20"/>
            </a:solidFill>
            <a:ln w="12600">
              <a:solidFill>
                <a:srgbClr val="eeed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42"/>
            <p:cNvSpPr/>
            <p:nvPr/>
          </p:nvSpPr>
          <p:spPr>
            <a:xfrm rot="16200000">
              <a:off x="8178120" y="3659760"/>
              <a:ext cx="296640" cy="295200"/>
            </a:xfrm>
            <a:prstGeom prst="ellipse">
              <a:avLst/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43"/>
            <p:cNvSpPr/>
            <p:nvPr/>
          </p:nvSpPr>
          <p:spPr>
            <a:xfrm rot="16200000">
              <a:off x="3670200" y="3841560"/>
              <a:ext cx="88560" cy="88560"/>
            </a:xfrm>
            <a:prstGeom prst="ellips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5"/>
          <p:cNvGrpSpPr/>
          <p:nvPr/>
        </p:nvGrpSpPr>
        <p:grpSpPr>
          <a:xfrm>
            <a:off x="7878600" y="3181320"/>
            <a:ext cx="1494000" cy="3097080"/>
            <a:chOff x="7878600" y="3181320"/>
            <a:chExt cx="1494000" cy="3097080"/>
          </a:xfrm>
        </p:grpSpPr>
        <p:sp>
          <p:nvSpPr>
            <p:cNvPr id="359" name="圆角矩形 23"/>
            <p:cNvSpPr/>
            <p:nvPr/>
          </p:nvSpPr>
          <p:spPr>
            <a:xfrm>
              <a:off x="7894440" y="3197160"/>
              <a:ext cx="1478160" cy="3081240"/>
            </a:xfrm>
            <a:custGeom>
              <a:avLst/>
              <a:gdLst>
                <a:gd name="textAreaLeft" fmla="*/ 66240 w 1478160"/>
                <a:gd name="textAreaRight" fmla="*/ 1411920 w 1478160"/>
                <a:gd name="textAreaTop" fmla="*/ 66240 h 3081240"/>
                <a:gd name="textAreaBottom" fmla="*/ 3015000 h 3081240"/>
              </a:gdLst>
              <a:ahLst/>
              <a:rect l="textAreaLeft" t="textAreaTop" r="textAreaRight" b="textAreaBottom"/>
              <a:pathLst>
                <a:path w="21600" h="45020">
                  <a:moveTo>
                    <a:pt x="3316" y="0"/>
                  </a:moveTo>
                  <a:arcTo wR="3316" hR="3316" stAng="16200000" swAng="-5400000"/>
                  <a:lnTo>
                    <a:pt x="0" y="41704"/>
                  </a:lnTo>
                  <a:arcTo wR="3316" hR="3316" stAng="10800000" swAng="-5400000"/>
                  <a:lnTo>
                    <a:pt x="18284" y="45020"/>
                  </a:lnTo>
                  <a:arcTo wR="3316" hR="3316" stAng="5400000" swAng="-5400000"/>
                  <a:lnTo>
                    <a:pt x="21600" y="3316"/>
                  </a:lnTo>
                  <a:arcTo wR="3316" hR="3316" stAng="0" swAng="-5400000"/>
                  <a:close/>
                </a:path>
              </a:pathLst>
            </a:custGeom>
            <a:noFill/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24"/>
            <p:cNvSpPr/>
            <p:nvPr/>
          </p:nvSpPr>
          <p:spPr>
            <a:xfrm>
              <a:off x="7908480" y="3213000"/>
              <a:ext cx="1448280" cy="3049560"/>
            </a:xfrm>
            <a:custGeom>
              <a:avLst/>
              <a:gdLst>
                <a:gd name="textAreaLeft" fmla="*/ 64800 w 1448280"/>
                <a:gd name="textAreaRight" fmla="*/ 1383480 w 1448280"/>
                <a:gd name="textAreaTop" fmla="*/ 64800 h 3049560"/>
                <a:gd name="textAreaBottom" fmla="*/ 2984760 h 3049560"/>
              </a:gdLst>
              <a:ahLst/>
              <a:rect l="textAreaLeft" t="textAreaTop" r="textAreaRight" b="textAreaBottom"/>
              <a:pathLst>
                <a:path w="21600" h="45476">
                  <a:moveTo>
                    <a:pt x="3316" y="0"/>
                  </a:moveTo>
                  <a:arcTo wR="3316" hR="3316" stAng="16200000" swAng="-5400000"/>
                  <a:lnTo>
                    <a:pt x="0" y="42160"/>
                  </a:lnTo>
                  <a:arcTo wR="3316" hR="3316" stAng="10800000" swAng="-5400000"/>
                  <a:lnTo>
                    <a:pt x="18284" y="45476"/>
                  </a:lnTo>
                  <a:arcTo wR="3316" hR="3316" stAng="5400000" swAng="-5400000"/>
                  <a:lnTo>
                    <a:pt x="21600" y="3316"/>
                  </a:lnTo>
                  <a:arcTo wR="3316" hR="3316" stAng="0" swAng="-5400000"/>
                  <a:close/>
                </a:path>
              </a:pathLst>
            </a:custGeom>
            <a:solidFill>
              <a:srgbClr val="e6e5d3"/>
            </a:solidFill>
            <a:ln w="648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5"/>
            <p:cNvSpPr/>
            <p:nvPr/>
          </p:nvSpPr>
          <p:spPr>
            <a:xfrm>
              <a:off x="7994520" y="3595680"/>
              <a:ext cx="1283040" cy="2266920"/>
            </a:xfrm>
            <a:prstGeom prst="rect">
              <a:avLst/>
            </a:prstGeom>
            <a:solidFill>
              <a:srgbClr val="231f20"/>
            </a:solidFill>
            <a:ln cap="rnd" w="12600">
              <a:solidFill>
                <a:srgbClr val="e6e5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26"/>
            <p:cNvSpPr/>
            <p:nvPr/>
          </p:nvSpPr>
          <p:spPr>
            <a:xfrm>
              <a:off x="8510400" y="5919840"/>
              <a:ext cx="244440" cy="244440"/>
            </a:xfrm>
            <a:prstGeom prst="ellipse">
              <a:avLst/>
            </a:prstGeom>
            <a:noFill/>
            <a:ln w="1260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 27"/>
            <p:cNvSpPr/>
            <p:nvPr/>
          </p:nvSpPr>
          <p:spPr>
            <a:xfrm>
              <a:off x="8497800" y="3387600"/>
              <a:ext cx="269640" cy="41040"/>
            </a:xfrm>
            <a:prstGeom prst="roundRect">
              <a:avLst>
                <a:gd name="adj" fmla="val 50000"/>
              </a:avLst>
            </a:prstGeom>
            <a:solidFill>
              <a:srgbClr val="231f20"/>
            </a:solidFill>
            <a:ln w="1260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8"/>
            <p:cNvSpPr/>
            <p:nvPr/>
          </p:nvSpPr>
          <p:spPr>
            <a:xfrm>
              <a:off x="8605800" y="3294000"/>
              <a:ext cx="48960" cy="47520"/>
            </a:xfrm>
            <a:prstGeom prst="ellips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29"/>
            <p:cNvSpPr/>
            <p:nvPr/>
          </p:nvSpPr>
          <p:spPr>
            <a:xfrm>
              <a:off x="8432640" y="3390840"/>
              <a:ext cx="29880" cy="29880"/>
            </a:xfrm>
            <a:prstGeom prst="ellips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30"/>
            <p:cNvSpPr/>
            <p:nvPr/>
          </p:nvSpPr>
          <p:spPr>
            <a:xfrm>
              <a:off x="7878600" y="3751200"/>
              <a:ext cx="15840" cy="145800"/>
            </a:xfrm>
            <a:prstGeom prst="rect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1"/>
            <p:cNvSpPr/>
            <p:nvPr/>
          </p:nvSpPr>
          <p:spPr>
            <a:xfrm>
              <a:off x="7878600" y="3997080"/>
              <a:ext cx="15840" cy="118800"/>
            </a:xfrm>
            <a:prstGeom prst="rect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32"/>
            <p:cNvSpPr/>
            <p:nvPr/>
          </p:nvSpPr>
          <p:spPr>
            <a:xfrm>
              <a:off x="7878600" y="4243320"/>
              <a:ext cx="15840" cy="120600"/>
            </a:xfrm>
            <a:prstGeom prst="rect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33"/>
            <p:cNvSpPr/>
            <p:nvPr/>
          </p:nvSpPr>
          <p:spPr>
            <a:xfrm flipV="1">
              <a:off x="8921880" y="3181320"/>
              <a:ext cx="145800" cy="17280"/>
            </a:xfrm>
            <a:prstGeom prst="rect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34"/>
            <p:cNvSpPr/>
            <p:nvPr/>
          </p:nvSpPr>
          <p:spPr>
            <a:xfrm>
              <a:off x="8040240" y="3651120"/>
              <a:ext cx="18720" cy="18720"/>
            </a:xfrm>
            <a:prstGeom prst="ellipse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35"/>
            <p:cNvSpPr/>
            <p:nvPr/>
          </p:nvSpPr>
          <p:spPr>
            <a:xfrm>
              <a:off x="8078400" y="3651120"/>
              <a:ext cx="18720" cy="18720"/>
            </a:xfrm>
            <a:prstGeom prst="ellipse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36"/>
            <p:cNvSpPr/>
            <p:nvPr/>
          </p:nvSpPr>
          <p:spPr>
            <a:xfrm>
              <a:off x="8116560" y="3651120"/>
              <a:ext cx="18720" cy="18720"/>
            </a:xfrm>
            <a:prstGeom prst="ellipse">
              <a:avLst/>
            </a:pr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37"/>
            <p:cNvSpPr/>
            <p:nvPr/>
          </p:nvSpPr>
          <p:spPr>
            <a:xfrm>
              <a:off x="8191440" y="3651120"/>
              <a:ext cx="18720" cy="18720"/>
            </a:xfrm>
            <a:prstGeom prst="ellipse">
              <a:avLst/>
            </a:prstGeom>
            <a:noFill/>
            <a:ln w="324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38"/>
            <p:cNvSpPr/>
            <p:nvPr/>
          </p:nvSpPr>
          <p:spPr>
            <a:xfrm>
              <a:off x="8153280" y="3651120"/>
              <a:ext cx="20520" cy="18720"/>
            </a:xfrm>
            <a:prstGeom prst="ellipse">
              <a:avLst/>
            </a:prstGeom>
            <a:noFill/>
            <a:ln w="3240">
              <a:solidFill>
                <a:srgbClr val="e6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4"/>
            <p:cNvSpPr/>
            <p:nvPr/>
          </p:nvSpPr>
          <p:spPr>
            <a:xfrm>
              <a:off x="8470440" y="3587400"/>
              <a:ext cx="369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e6e5d3"/>
                  </a:solidFill>
                  <a:latin typeface="Arial"/>
                </a:rPr>
                <a:t>9:23 P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40"/>
            <p:cNvSpPr/>
            <p:nvPr/>
          </p:nvSpPr>
          <p:spPr>
            <a:xfrm>
              <a:off x="8943840" y="3587400"/>
              <a:ext cx="369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e6e5d3"/>
                  </a:solidFill>
                  <a:latin typeface="Arial"/>
                </a:rPr>
                <a:t>100%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组合 41"/>
            <p:cNvGrpSpPr/>
            <p:nvPr/>
          </p:nvGrpSpPr>
          <p:grpSpPr>
            <a:xfrm>
              <a:off x="9150480" y="3638520"/>
              <a:ext cx="85320" cy="30960"/>
              <a:chOff x="9150480" y="3638520"/>
              <a:chExt cx="85320" cy="30960"/>
            </a:xfrm>
          </p:grpSpPr>
          <p:sp>
            <p:nvSpPr>
              <p:cNvPr id="378" name="圆角矩形 21"/>
              <p:cNvSpPr/>
              <p:nvPr/>
            </p:nvSpPr>
            <p:spPr>
              <a:xfrm>
                <a:off x="9150480" y="3638520"/>
                <a:ext cx="78120" cy="30960"/>
              </a:xfrm>
              <a:prstGeom prst="roundRect">
                <a:avLst>
                  <a:gd name="adj" fmla="val 16667"/>
                </a:avLst>
              </a:prstGeom>
              <a:solidFill>
                <a:srgbClr val="e6e5d3"/>
              </a:solidFill>
              <a:ln w="12600">
                <a:solidFill>
                  <a:srgbClr val="231f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弦形 39"/>
              <p:cNvSpPr/>
              <p:nvPr/>
            </p:nvSpPr>
            <p:spPr>
              <a:xfrm rot="12152400">
                <a:off x="9226800" y="3650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8126" y="8903"/>
                    </a:moveTo>
                    <a:cubicBezTo>
                      <a:pt x="6526" y="10504"/>
                      <a:pt x="4050" y="10830"/>
                      <a:pt x="2090" y="9698"/>
                    </a:cubicBezTo>
                    <a:cubicBezTo>
                      <a:pt x="130" y="8566"/>
                      <a:pt x="-825" y="6259"/>
                      <a:pt x="-239" y="4073"/>
                    </a:cubicBezTo>
                    <a:cubicBezTo>
                      <a:pt x="347" y="1887"/>
                      <a:pt x="2328" y="366"/>
                      <a:pt x="4591" y="366"/>
                    </a:cubicBezTo>
                    <a:lnTo>
                      <a:pt x="8126" y="8903"/>
                    </a:ln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80" name="图片 3" descr=""/>
          <p:cNvPicPr/>
          <p:nvPr/>
        </p:nvPicPr>
        <p:blipFill>
          <a:blip r:embed="rId1"/>
          <a:srcRect l="17092" t="6459" r="24811" b="18548"/>
          <a:stretch/>
        </p:blipFill>
        <p:spPr>
          <a:xfrm>
            <a:off x="5442120" y="2565360"/>
            <a:ext cx="1380960" cy="237492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4" descr=""/>
          <p:cNvPicPr/>
          <p:nvPr/>
        </p:nvPicPr>
        <p:blipFill>
          <a:blip r:embed="rId2"/>
          <a:srcRect l="17098" t="6460" r="24822" b="18558"/>
          <a:stretch/>
        </p:blipFill>
        <p:spPr>
          <a:xfrm>
            <a:off x="8300880" y="4054320"/>
            <a:ext cx="64800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383" name="椭圆 81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82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83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84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85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椭圆 86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87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88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89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90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91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92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93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94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95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96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97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98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99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100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101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102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103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104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105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06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107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108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109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110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111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112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113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14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15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116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17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118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文本框 827"/>
          <p:cNvSpPr/>
          <p:nvPr/>
        </p:nvSpPr>
        <p:spPr>
          <a:xfrm>
            <a:off x="1919160" y="7081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31f20"/>
                </a:solidFill>
                <a:latin typeface="方正粗宋简体"/>
                <a:ea typeface="方正粗宋简体"/>
              </a:rPr>
              <a:t>它应该在高度不确定的时代做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1"/>
          <p:cNvGrpSpPr/>
          <p:nvPr/>
        </p:nvGrpSpPr>
        <p:grpSpPr>
          <a:xfrm>
            <a:off x="879480" y="2333520"/>
            <a:ext cx="2232000" cy="2559240"/>
            <a:chOff x="879480" y="2333520"/>
            <a:chExt cx="2232000" cy="2559240"/>
          </a:xfrm>
        </p:grpSpPr>
        <p:grpSp>
          <p:nvGrpSpPr>
            <p:cNvPr id="423" name="组合 14"/>
            <p:cNvGrpSpPr/>
            <p:nvPr/>
          </p:nvGrpSpPr>
          <p:grpSpPr>
            <a:xfrm>
              <a:off x="879480" y="2333520"/>
              <a:ext cx="2232000" cy="2559240"/>
              <a:chOff x="879480" y="2333520"/>
              <a:chExt cx="2232000" cy="2559240"/>
            </a:xfrm>
          </p:grpSpPr>
          <p:grpSp>
            <p:nvGrpSpPr>
              <p:cNvPr id="424" name="组合 40"/>
              <p:cNvGrpSpPr/>
              <p:nvPr/>
            </p:nvGrpSpPr>
            <p:grpSpPr>
              <a:xfrm>
                <a:off x="879480" y="2333520"/>
                <a:ext cx="2232000" cy="2559240"/>
                <a:chOff x="879480" y="2333520"/>
                <a:chExt cx="2232000" cy="2559240"/>
              </a:xfrm>
            </p:grpSpPr>
            <p:grpSp>
              <p:nvGrpSpPr>
                <p:cNvPr id="425" name="组合 42"/>
                <p:cNvGrpSpPr/>
                <p:nvPr/>
              </p:nvGrpSpPr>
              <p:grpSpPr>
                <a:xfrm>
                  <a:off x="879480" y="2333520"/>
                  <a:ext cx="2232000" cy="2559240"/>
                  <a:chOff x="879480" y="2333520"/>
                  <a:chExt cx="2232000" cy="2559240"/>
                </a:xfrm>
              </p:grpSpPr>
              <p:sp>
                <p:nvSpPr>
                  <p:cNvPr id="426" name="任意多边形 44"/>
                  <p:cNvSpPr/>
                  <p:nvPr/>
                </p:nvSpPr>
                <p:spPr>
                  <a:xfrm>
                    <a:off x="879480" y="2759040"/>
                    <a:ext cx="2232000" cy="21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2462" h="2840202">
                        <a:moveTo>
                          <a:pt x="2096841" y="0"/>
                        </a:moveTo>
                        <a:lnTo>
                          <a:pt x="2194657" y="47120"/>
                        </a:lnTo>
                        <a:cubicBezTo>
                          <a:pt x="2657953" y="298798"/>
                          <a:pt x="2972462" y="789655"/>
                          <a:pt x="2972462" y="1353971"/>
                        </a:cubicBezTo>
                        <a:cubicBezTo>
                          <a:pt x="2972462" y="2174794"/>
                          <a:pt x="2307054" y="2840202"/>
                          <a:pt x="1486231" y="2840202"/>
                        </a:cubicBezTo>
                        <a:cubicBezTo>
                          <a:pt x="665408" y="2840202"/>
                          <a:pt x="0" y="2174794"/>
                          <a:pt x="0" y="1353971"/>
                        </a:cubicBezTo>
                        <a:cubicBezTo>
                          <a:pt x="0" y="789655"/>
                          <a:pt x="314509" y="298798"/>
                          <a:pt x="777805" y="47120"/>
                        </a:cubicBezTo>
                        <a:lnTo>
                          <a:pt x="875619" y="1"/>
                        </a:lnTo>
                        <a:lnTo>
                          <a:pt x="1486230" y="1052778"/>
                        </a:lnTo>
                        <a:lnTo>
                          <a:pt x="2096841" y="0"/>
                        </a:lnTo>
                        <a:close/>
                      </a:path>
                    </a:pathLst>
                  </a:custGeom>
                  <a:noFill/>
                  <a:ln w="25560">
                    <a:solidFill>
                      <a:srgbClr val="231f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椭圆 45"/>
                  <p:cNvSpPr/>
                  <p:nvPr/>
                </p:nvSpPr>
                <p:spPr>
                  <a:xfrm>
                    <a:off x="1490400" y="2333520"/>
                    <a:ext cx="1009800" cy="1368360"/>
                  </a:xfrm>
                  <a:prstGeom prst="ellipse">
                    <a:avLst/>
                  </a:prstGeom>
                  <a:solidFill>
                    <a:srgbClr val="e6e5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椭圆 43"/>
                <p:cNvSpPr/>
                <p:nvPr/>
              </p:nvSpPr>
              <p:spPr>
                <a:xfrm>
                  <a:off x="1125360" y="2911320"/>
                  <a:ext cx="1739880" cy="1740240"/>
                </a:xfrm>
                <a:prstGeom prst="ellips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文本框 41"/>
              <p:cNvSpPr/>
              <p:nvPr/>
            </p:nvSpPr>
            <p:spPr>
              <a:xfrm>
                <a:off x="1669680" y="2350440"/>
                <a:ext cx="65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1f20"/>
                    </a:solidFill>
                    <a:latin typeface="Impact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文本框 18"/>
            <p:cNvSpPr/>
            <p:nvPr/>
          </p:nvSpPr>
          <p:spPr>
            <a:xfrm>
              <a:off x="1217880" y="3264480"/>
              <a:ext cx="155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快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0"/>
            <p:cNvSpPr/>
            <p:nvPr/>
          </p:nvSpPr>
          <p:spPr>
            <a:xfrm>
              <a:off x="1559880" y="402264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e5d3"/>
                  </a:solidFill>
                  <a:latin typeface="Calibri Light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46"/>
          <p:cNvGrpSpPr/>
          <p:nvPr/>
        </p:nvGrpSpPr>
        <p:grpSpPr>
          <a:xfrm>
            <a:off x="3621240" y="2333520"/>
            <a:ext cx="2232000" cy="2559240"/>
            <a:chOff x="3621240" y="2333520"/>
            <a:chExt cx="2232000" cy="2559240"/>
          </a:xfrm>
        </p:grpSpPr>
        <p:grpSp>
          <p:nvGrpSpPr>
            <p:cNvPr id="433" name="组合 47"/>
            <p:cNvGrpSpPr/>
            <p:nvPr/>
          </p:nvGrpSpPr>
          <p:grpSpPr>
            <a:xfrm>
              <a:off x="3621240" y="2333520"/>
              <a:ext cx="2232000" cy="2559240"/>
              <a:chOff x="3621240" y="2333520"/>
              <a:chExt cx="2232000" cy="2559240"/>
            </a:xfrm>
          </p:grpSpPr>
          <p:grpSp>
            <p:nvGrpSpPr>
              <p:cNvPr id="434" name="组合 50"/>
              <p:cNvGrpSpPr/>
              <p:nvPr/>
            </p:nvGrpSpPr>
            <p:grpSpPr>
              <a:xfrm>
                <a:off x="3621240" y="2333520"/>
                <a:ext cx="2232000" cy="2559240"/>
                <a:chOff x="3621240" y="2333520"/>
                <a:chExt cx="2232000" cy="2559240"/>
              </a:xfrm>
            </p:grpSpPr>
            <p:grpSp>
              <p:nvGrpSpPr>
                <p:cNvPr id="435" name="组合 52"/>
                <p:cNvGrpSpPr/>
                <p:nvPr/>
              </p:nvGrpSpPr>
              <p:grpSpPr>
                <a:xfrm>
                  <a:off x="3621240" y="2333520"/>
                  <a:ext cx="2232000" cy="2559240"/>
                  <a:chOff x="3621240" y="2333520"/>
                  <a:chExt cx="2232000" cy="2559240"/>
                </a:xfrm>
              </p:grpSpPr>
              <p:sp>
                <p:nvSpPr>
                  <p:cNvPr id="436" name="任意多边形 54"/>
                  <p:cNvSpPr/>
                  <p:nvPr/>
                </p:nvSpPr>
                <p:spPr>
                  <a:xfrm>
                    <a:off x="3621240" y="2759040"/>
                    <a:ext cx="2232000" cy="21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2462" h="2840202">
                        <a:moveTo>
                          <a:pt x="2096841" y="0"/>
                        </a:moveTo>
                        <a:lnTo>
                          <a:pt x="2194657" y="47120"/>
                        </a:lnTo>
                        <a:cubicBezTo>
                          <a:pt x="2657953" y="298798"/>
                          <a:pt x="2972462" y="789655"/>
                          <a:pt x="2972462" y="1353971"/>
                        </a:cubicBezTo>
                        <a:cubicBezTo>
                          <a:pt x="2972462" y="2174794"/>
                          <a:pt x="2307054" y="2840202"/>
                          <a:pt x="1486231" y="2840202"/>
                        </a:cubicBezTo>
                        <a:cubicBezTo>
                          <a:pt x="665408" y="2840202"/>
                          <a:pt x="0" y="2174794"/>
                          <a:pt x="0" y="1353971"/>
                        </a:cubicBezTo>
                        <a:cubicBezTo>
                          <a:pt x="0" y="789655"/>
                          <a:pt x="314509" y="298798"/>
                          <a:pt x="777805" y="47120"/>
                        </a:cubicBezTo>
                        <a:lnTo>
                          <a:pt x="875619" y="1"/>
                        </a:lnTo>
                        <a:lnTo>
                          <a:pt x="1486230" y="1052778"/>
                        </a:lnTo>
                        <a:lnTo>
                          <a:pt x="2096841" y="0"/>
                        </a:lnTo>
                        <a:close/>
                      </a:path>
                    </a:pathLst>
                  </a:custGeom>
                  <a:noFill/>
                  <a:ln w="25560">
                    <a:solidFill>
                      <a:srgbClr val="231f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椭圆 55"/>
                  <p:cNvSpPr/>
                  <p:nvPr/>
                </p:nvSpPr>
                <p:spPr>
                  <a:xfrm>
                    <a:off x="4232160" y="2333520"/>
                    <a:ext cx="1009800" cy="1368360"/>
                  </a:xfrm>
                  <a:prstGeom prst="ellipse">
                    <a:avLst/>
                  </a:prstGeom>
                  <a:solidFill>
                    <a:srgbClr val="e6e5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8" name="椭圆 53"/>
                <p:cNvSpPr/>
                <p:nvPr/>
              </p:nvSpPr>
              <p:spPr>
                <a:xfrm>
                  <a:off x="3867120" y="2911320"/>
                  <a:ext cx="1739880" cy="1740240"/>
                </a:xfrm>
                <a:prstGeom prst="ellips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文本框 51"/>
              <p:cNvSpPr/>
              <p:nvPr/>
            </p:nvSpPr>
            <p:spPr>
              <a:xfrm>
                <a:off x="4411440" y="2350440"/>
                <a:ext cx="65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1f20"/>
                    </a:solidFill>
                    <a:latin typeface="Impact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文本框 48"/>
            <p:cNvSpPr/>
            <p:nvPr/>
          </p:nvSpPr>
          <p:spPr>
            <a:xfrm>
              <a:off x="3959640" y="3264480"/>
              <a:ext cx="155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智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9"/>
            <p:cNvSpPr/>
            <p:nvPr/>
          </p:nvSpPr>
          <p:spPr>
            <a:xfrm>
              <a:off x="4301640" y="402264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e5d3"/>
                  </a:solidFill>
                  <a:latin typeface="Calibri Light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56"/>
          <p:cNvGrpSpPr/>
          <p:nvPr/>
        </p:nvGrpSpPr>
        <p:grpSpPr>
          <a:xfrm>
            <a:off x="6362640" y="2333520"/>
            <a:ext cx="2232000" cy="2559240"/>
            <a:chOff x="6362640" y="2333520"/>
            <a:chExt cx="2232000" cy="2559240"/>
          </a:xfrm>
        </p:grpSpPr>
        <p:grpSp>
          <p:nvGrpSpPr>
            <p:cNvPr id="443" name="组合 57"/>
            <p:cNvGrpSpPr/>
            <p:nvPr/>
          </p:nvGrpSpPr>
          <p:grpSpPr>
            <a:xfrm>
              <a:off x="6362640" y="2333520"/>
              <a:ext cx="2232000" cy="2559240"/>
              <a:chOff x="6362640" y="2333520"/>
              <a:chExt cx="2232000" cy="2559240"/>
            </a:xfrm>
          </p:grpSpPr>
          <p:grpSp>
            <p:nvGrpSpPr>
              <p:cNvPr id="444" name="组合 60"/>
              <p:cNvGrpSpPr/>
              <p:nvPr/>
            </p:nvGrpSpPr>
            <p:grpSpPr>
              <a:xfrm>
                <a:off x="6362640" y="2333520"/>
                <a:ext cx="2232000" cy="2559240"/>
                <a:chOff x="6362640" y="2333520"/>
                <a:chExt cx="2232000" cy="2559240"/>
              </a:xfrm>
            </p:grpSpPr>
            <p:grpSp>
              <p:nvGrpSpPr>
                <p:cNvPr id="445" name="组合 62"/>
                <p:cNvGrpSpPr/>
                <p:nvPr/>
              </p:nvGrpSpPr>
              <p:grpSpPr>
                <a:xfrm>
                  <a:off x="6362640" y="2333520"/>
                  <a:ext cx="2232000" cy="2559240"/>
                  <a:chOff x="6362640" y="2333520"/>
                  <a:chExt cx="2232000" cy="2559240"/>
                </a:xfrm>
              </p:grpSpPr>
              <p:sp>
                <p:nvSpPr>
                  <p:cNvPr id="446" name="任意多边形 64"/>
                  <p:cNvSpPr/>
                  <p:nvPr/>
                </p:nvSpPr>
                <p:spPr>
                  <a:xfrm>
                    <a:off x="6362640" y="2759040"/>
                    <a:ext cx="2232000" cy="21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2462" h="2840202">
                        <a:moveTo>
                          <a:pt x="2096841" y="0"/>
                        </a:moveTo>
                        <a:lnTo>
                          <a:pt x="2194657" y="47120"/>
                        </a:lnTo>
                        <a:cubicBezTo>
                          <a:pt x="2657953" y="298798"/>
                          <a:pt x="2972462" y="789655"/>
                          <a:pt x="2972462" y="1353971"/>
                        </a:cubicBezTo>
                        <a:cubicBezTo>
                          <a:pt x="2972462" y="2174794"/>
                          <a:pt x="2307054" y="2840202"/>
                          <a:pt x="1486231" y="2840202"/>
                        </a:cubicBezTo>
                        <a:cubicBezTo>
                          <a:pt x="665408" y="2840202"/>
                          <a:pt x="0" y="2174794"/>
                          <a:pt x="0" y="1353971"/>
                        </a:cubicBezTo>
                        <a:cubicBezTo>
                          <a:pt x="0" y="789655"/>
                          <a:pt x="314509" y="298798"/>
                          <a:pt x="777805" y="47120"/>
                        </a:cubicBezTo>
                        <a:lnTo>
                          <a:pt x="875619" y="1"/>
                        </a:lnTo>
                        <a:lnTo>
                          <a:pt x="1486230" y="1052778"/>
                        </a:lnTo>
                        <a:lnTo>
                          <a:pt x="2096841" y="0"/>
                        </a:lnTo>
                        <a:close/>
                      </a:path>
                    </a:pathLst>
                  </a:custGeom>
                  <a:noFill/>
                  <a:ln w="25560">
                    <a:solidFill>
                      <a:srgbClr val="231f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椭圆 65"/>
                  <p:cNvSpPr/>
                  <p:nvPr/>
                </p:nvSpPr>
                <p:spPr>
                  <a:xfrm>
                    <a:off x="6973560" y="2333520"/>
                    <a:ext cx="1009800" cy="1368360"/>
                  </a:xfrm>
                  <a:prstGeom prst="ellipse">
                    <a:avLst/>
                  </a:prstGeom>
                  <a:solidFill>
                    <a:srgbClr val="e6e5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椭圆 63"/>
                <p:cNvSpPr/>
                <p:nvPr/>
              </p:nvSpPr>
              <p:spPr>
                <a:xfrm>
                  <a:off x="6608520" y="2911320"/>
                  <a:ext cx="1739880" cy="1740240"/>
                </a:xfrm>
                <a:prstGeom prst="ellips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文本框 61"/>
              <p:cNvSpPr/>
              <p:nvPr/>
            </p:nvSpPr>
            <p:spPr>
              <a:xfrm>
                <a:off x="7152840" y="2350440"/>
                <a:ext cx="65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1f20"/>
                    </a:solidFill>
                    <a:latin typeface="Impact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文本框 58"/>
            <p:cNvSpPr/>
            <p:nvPr/>
          </p:nvSpPr>
          <p:spPr>
            <a:xfrm>
              <a:off x="6701040" y="3264480"/>
              <a:ext cx="155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容错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59"/>
            <p:cNvSpPr/>
            <p:nvPr/>
          </p:nvSpPr>
          <p:spPr>
            <a:xfrm>
              <a:off x="7043040" y="402264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e5d3"/>
                  </a:solidFill>
                  <a:latin typeface="Calibri Light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66"/>
          <p:cNvGrpSpPr/>
          <p:nvPr/>
        </p:nvGrpSpPr>
        <p:grpSpPr>
          <a:xfrm>
            <a:off x="9104400" y="2333520"/>
            <a:ext cx="2232000" cy="2559240"/>
            <a:chOff x="9104400" y="2333520"/>
            <a:chExt cx="2232000" cy="2559240"/>
          </a:xfrm>
        </p:grpSpPr>
        <p:grpSp>
          <p:nvGrpSpPr>
            <p:cNvPr id="453" name="组合 67"/>
            <p:cNvGrpSpPr/>
            <p:nvPr/>
          </p:nvGrpSpPr>
          <p:grpSpPr>
            <a:xfrm>
              <a:off x="9104400" y="2333520"/>
              <a:ext cx="2232000" cy="2559240"/>
              <a:chOff x="9104400" y="2333520"/>
              <a:chExt cx="2232000" cy="2559240"/>
            </a:xfrm>
          </p:grpSpPr>
          <p:grpSp>
            <p:nvGrpSpPr>
              <p:cNvPr id="454" name="组合 70"/>
              <p:cNvGrpSpPr/>
              <p:nvPr/>
            </p:nvGrpSpPr>
            <p:grpSpPr>
              <a:xfrm>
                <a:off x="9104400" y="2333520"/>
                <a:ext cx="2232000" cy="2559240"/>
                <a:chOff x="9104400" y="2333520"/>
                <a:chExt cx="2232000" cy="2559240"/>
              </a:xfrm>
            </p:grpSpPr>
            <p:grpSp>
              <p:nvGrpSpPr>
                <p:cNvPr id="455" name="组合 72"/>
                <p:cNvGrpSpPr/>
                <p:nvPr/>
              </p:nvGrpSpPr>
              <p:grpSpPr>
                <a:xfrm>
                  <a:off x="9104400" y="2333520"/>
                  <a:ext cx="2232000" cy="2559240"/>
                  <a:chOff x="9104400" y="2333520"/>
                  <a:chExt cx="2232000" cy="2559240"/>
                </a:xfrm>
              </p:grpSpPr>
              <p:sp>
                <p:nvSpPr>
                  <p:cNvPr id="456" name="任意多边形 74"/>
                  <p:cNvSpPr/>
                  <p:nvPr/>
                </p:nvSpPr>
                <p:spPr>
                  <a:xfrm>
                    <a:off x="9104400" y="2759040"/>
                    <a:ext cx="2232000" cy="21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2462" h="2840202">
                        <a:moveTo>
                          <a:pt x="2096841" y="0"/>
                        </a:moveTo>
                        <a:lnTo>
                          <a:pt x="2194657" y="47120"/>
                        </a:lnTo>
                        <a:cubicBezTo>
                          <a:pt x="2657953" y="298798"/>
                          <a:pt x="2972462" y="789655"/>
                          <a:pt x="2972462" y="1353971"/>
                        </a:cubicBezTo>
                        <a:cubicBezTo>
                          <a:pt x="2972462" y="2174794"/>
                          <a:pt x="2307054" y="2840202"/>
                          <a:pt x="1486231" y="2840202"/>
                        </a:cubicBezTo>
                        <a:cubicBezTo>
                          <a:pt x="665408" y="2840202"/>
                          <a:pt x="0" y="2174794"/>
                          <a:pt x="0" y="1353971"/>
                        </a:cubicBezTo>
                        <a:cubicBezTo>
                          <a:pt x="0" y="789655"/>
                          <a:pt x="314509" y="298798"/>
                          <a:pt x="777805" y="47120"/>
                        </a:cubicBezTo>
                        <a:lnTo>
                          <a:pt x="875619" y="1"/>
                        </a:lnTo>
                        <a:lnTo>
                          <a:pt x="1486230" y="1052778"/>
                        </a:lnTo>
                        <a:lnTo>
                          <a:pt x="2096841" y="0"/>
                        </a:lnTo>
                        <a:close/>
                      </a:path>
                    </a:pathLst>
                  </a:custGeom>
                  <a:noFill/>
                  <a:ln w="25560">
                    <a:solidFill>
                      <a:srgbClr val="231f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椭圆 75"/>
                  <p:cNvSpPr/>
                  <p:nvPr/>
                </p:nvSpPr>
                <p:spPr>
                  <a:xfrm>
                    <a:off x="9715320" y="2333520"/>
                    <a:ext cx="1009800" cy="1368360"/>
                  </a:xfrm>
                  <a:prstGeom prst="ellipse">
                    <a:avLst/>
                  </a:prstGeom>
                  <a:solidFill>
                    <a:srgbClr val="e6e5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椭圆 73"/>
                <p:cNvSpPr/>
                <p:nvPr/>
              </p:nvSpPr>
              <p:spPr>
                <a:xfrm>
                  <a:off x="9350280" y="2911320"/>
                  <a:ext cx="1739880" cy="1740240"/>
                </a:xfrm>
                <a:prstGeom prst="ellips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文本框 71"/>
              <p:cNvSpPr/>
              <p:nvPr/>
            </p:nvSpPr>
            <p:spPr>
              <a:xfrm>
                <a:off x="9894600" y="2350440"/>
                <a:ext cx="65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1f20"/>
                    </a:solidFill>
                    <a:latin typeface="Impact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文本框 68"/>
            <p:cNvSpPr/>
            <p:nvPr/>
          </p:nvSpPr>
          <p:spPr>
            <a:xfrm>
              <a:off x="9442800" y="3264480"/>
              <a:ext cx="155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高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69"/>
            <p:cNvSpPr/>
            <p:nvPr/>
          </p:nvSpPr>
          <p:spPr>
            <a:xfrm>
              <a:off x="9784800" y="402264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e5d3"/>
                  </a:solidFill>
                  <a:latin typeface="Calibri Light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76"/>
          <p:cNvSpPr/>
          <p:nvPr/>
        </p:nvSpPr>
        <p:spPr>
          <a:xfrm>
            <a:off x="1125360" y="5302080"/>
            <a:ext cx="1738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能够比竞争对手更快速的创新和进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77"/>
          <p:cNvSpPr/>
          <p:nvPr/>
        </p:nvSpPr>
        <p:spPr>
          <a:xfrm>
            <a:off x="3867120" y="5302080"/>
            <a:ext cx="17398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更利于借助并发挥集体的智慧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8"/>
          <p:cNvSpPr/>
          <p:nvPr/>
        </p:nvSpPr>
        <p:spPr>
          <a:xfrm>
            <a:off x="6608880" y="5302080"/>
            <a:ext cx="17398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容错度高，能够推动精益创新和快速迭代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9"/>
          <p:cNvSpPr/>
          <p:nvPr/>
        </p:nvSpPr>
        <p:spPr>
          <a:xfrm>
            <a:off x="9350280" y="5302080"/>
            <a:ext cx="17398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基础层面的沟通执行更加高效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1f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组合 110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467" name="椭圆 312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313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314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315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316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317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318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直接连接符 319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 320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321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 322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323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 324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 325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 326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 372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373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 374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376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377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379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 380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 381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直接连接符 383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385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387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直接连接符 388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390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 391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392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接连接符 394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 395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 396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397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231f20"/>
            </a:solidFill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398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400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401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接连接符 402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e6e5d3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文本框 8" descr=""/>
          <p:cNvPicPr/>
          <p:nvPr/>
        </p:nvPicPr>
        <p:blipFill>
          <a:blip r:embed="rId1"/>
          <a:stretch/>
        </p:blipFill>
        <p:spPr>
          <a:xfrm>
            <a:off x="2938320" y="-96840"/>
            <a:ext cx="6729480" cy="1925640"/>
          </a:xfrm>
          <a:prstGeom prst="rect">
            <a:avLst/>
          </a:prstGeom>
          <a:ln w="0">
            <a:noFill/>
          </a:ln>
        </p:spPr>
      </p:pic>
      <p:pic>
        <p:nvPicPr>
          <p:cNvPr id="506" name="文本框 11" descr=""/>
          <p:cNvPicPr/>
          <p:nvPr/>
        </p:nvPicPr>
        <p:blipFill>
          <a:blip r:embed="rId2"/>
          <a:stretch/>
        </p:blipFill>
        <p:spPr>
          <a:xfrm>
            <a:off x="7454880" y="981000"/>
            <a:ext cx="4518000" cy="1457280"/>
          </a:xfrm>
          <a:prstGeom prst="rect">
            <a:avLst/>
          </a:prstGeom>
          <a:ln w="0">
            <a:noFill/>
          </a:ln>
        </p:spPr>
      </p:pic>
      <p:pic>
        <p:nvPicPr>
          <p:cNvPr id="507" name="文本框 8" descr=""/>
          <p:cNvPicPr/>
          <p:nvPr/>
        </p:nvPicPr>
        <p:blipFill>
          <a:blip r:embed="rId3"/>
          <a:stretch/>
        </p:blipFill>
        <p:spPr>
          <a:xfrm>
            <a:off x="-847800" y="5334120"/>
            <a:ext cx="6516720" cy="1176120"/>
          </a:xfrm>
          <a:prstGeom prst="rect">
            <a:avLst/>
          </a:prstGeom>
          <a:ln w="0">
            <a:noFill/>
          </a:ln>
        </p:spPr>
      </p:pic>
      <p:pic>
        <p:nvPicPr>
          <p:cNvPr id="508" name="文本框 676" descr=""/>
          <p:cNvPicPr/>
          <p:nvPr/>
        </p:nvPicPr>
        <p:blipFill>
          <a:blip r:embed="rId4"/>
          <a:stretch/>
        </p:blipFill>
        <p:spPr>
          <a:xfrm>
            <a:off x="2273400" y="5967360"/>
            <a:ext cx="4352760" cy="860400"/>
          </a:xfrm>
          <a:prstGeom prst="rect">
            <a:avLst/>
          </a:prstGeom>
          <a:ln w="0">
            <a:noFill/>
          </a:ln>
        </p:spPr>
      </p:pic>
      <p:pic>
        <p:nvPicPr>
          <p:cNvPr id="509" name="文本框 8" descr=""/>
          <p:cNvPicPr/>
          <p:nvPr/>
        </p:nvPicPr>
        <p:blipFill>
          <a:blip r:embed="rId5"/>
          <a:stretch/>
        </p:blipFill>
        <p:spPr>
          <a:xfrm>
            <a:off x="8753400" y="4170240"/>
            <a:ext cx="6510240" cy="1176480"/>
          </a:xfrm>
          <a:prstGeom prst="rect">
            <a:avLst/>
          </a:prstGeom>
          <a:ln w="0">
            <a:noFill/>
          </a:ln>
        </p:spPr>
      </p:pic>
      <p:pic>
        <p:nvPicPr>
          <p:cNvPr id="510" name="文本框 678" descr=""/>
          <p:cNvPicPr/>
          <p:nvPr/>
        </p:nvPicPr>
        <p:blipFill>
          <a:blip r:embed="rId6"/>
          <a:stretch/>
        </p:blipFill>
        <p:spPr>
          <a:xfrm>
            <a:off x="10839600" y="4925880"/>
            <a:ext cx="4351320" cy="85896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827"/>
          <p:cNvSpPr/>
          <p:nvPr/>
        </p:nvSpPr>
        <p:spPr>
          <a:xfrm>
            <a:off x="1415880" y="70812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ede2"/>
                </a:solidFill>
                <a:latin typeface="方正粗宋简体"/>
                <a:ea typeface="方正粗宋简体"/>
              </a:rPr>
              <a:t>它就是“同级管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403"/>
          <p:cNvGrpSpPr/>
          <p:nvPr/>
        </p:nvGrpSpPr>
        <p:grpSpPr>
          <a:xfrm>
            <a:off x="1642320" y="1452240"/>
            <a:ext cx="9378000" cy="4846320"/>
            <a:chOff x="1642320" y="1452240"/>
            <a:chExt cx="9378000" cy="4846320"/>
          </a:xfrm>
        </p:grpSpPr>
        <p:sp>
          <p:nvSpPr>
            <p:cNvPr id="513" name="任意多边形 405"/>
            <p:cNvSpPr/>
            <p:nvPr/>
          </p:nvSpPr>
          <p:spPr>
            <a:xfrm>
              <a:off x="5905440" y="3363840"/>
              <a:ext cx="807840" cy="82368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组合 406"/>
            <p:cNvGrpSpPr/>
            <p:nvPr/>
          </p:nvGrpSpPr>
          <p:grpSpPr>
            <a:xfrm>
              <a:off x="5100120" y="2621160"/>
              <a:ext cx="2428920" cy="2427840"/>
              <a:chOff x="5100120" y="2621160"/>
              <a:chExt cx="2428920" cy="2427840"/>
            </a:xfrm>
          </p:grpSpPr>
          <p:grpSp>
            <p:nvGrpSpPr>
              <p:cNvPr id="515" name="组合 659"/>
              <p:cNvGrpSpPr/>
              <p:nvPr/>
            </p:nvGrpSpPr>
            <p:grpSpPr>
              <a:xfrm>
                <a:off x="5100120" y="2621160"/>
                <a:ext cx="2428200" cy="2427840"/>
                <a:chOff x="5100120" y="2621160"/>
                <a:chExt cx="2428200" cy="2427840"/>
              </a:xfrm>
            </p:grpSpPr>
            <p:grpSp>
              <p:nvGrpSpPr>
                <p:cNvPr id="516" name="组合 667"/>
                <p:cNvGrpSpPr/>
                <p:nvPr/>
              </p:nvGrpSpPr>
              <p:grpSpPr>
                <a:xfrm>
                  <a:off x="5100120" y="2621160"/>
                  <a:ext cx="2427840" cy="2427840"/>
                  <a:chOff x="5100120" y="2621160"/>
                  <a:chExt cx="2427840" cy="2427840"/>
                </a:xfrm>
              </p:grpSpPr>
              <p:sp>
                <p:nvSpPr>
                  <p:cNvPr id="517" name="空心弧 671"/>
                  <p:cNvSpPr/>
                  <p:nvPr/>
                </p:nvSpPr>
                <p:spPr>
                  <a:xfrm rot="208200">
                    <a:off x="5454720" y="2975040"/>
                    <a:ext cx="1719720" cy="17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12" h="3198824">
                        <a:moveTo>
                          <a:pt x="0" y="1599412"/>
                        </a:moveTo>
                        <a:cubicBezTo>
                          <a:pt x="0" y="1204224"/>
                          <a:pt x="146305" y="823027"/>
                          <a:pt x="410707" y="529318"/>
                        </a:cubicBezTo>
                        <a:lnTo>
                          <a:pt x="509059" y="617857"/>
                        </a:lnTo>
                        <a:cubicBezTo>
                          <a:pt x="266534" y="887265"/>
                          <a:pt x="132334" y="1236921"/>
                          <a:pt x="132334" y="1599412"/>
                        </a:cubicBezTo>
                        <a:lnTo>
                          <a:pt x="0" y="159941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空心弧 672"/>
                  <p:cNvSpPr/>
                  <p:nvPr/>
                </p:nvSpPr>
                <p:spPr>
                  <a:xfrm rot="2908800">
                    <a:off x="5453640" y="2975040"/>
                    <a:ext cx="1720080" cy="171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24" h="3198812">
                        <a:moveTo>
                          <a:pt x="0" y="1599406"/>
                        </a:moveTo>
                        <a:cubicBezTo>
                          <a:pt x="0" y="1204217"/>
                          <a:pt x="146307" y="823020"/>
                          <a:pt x="410712" y="529311"/>
                        </a:cubicBezTo>
                        <a:lnTo>
                          <a:pt x="509065" y="617851"/>
                        </a:lnTo>
                        <a:cubicBezTo>
                          <a:pt x="266537" y="887258"/>
                          <a:pt x="132335" y="1236915"/>
                          <a:pt x="132335" y="1599406"/>
                        </a:cubicBezTo>
                        <a:lnTo>
                          <a:pt x="0" y="159940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组合 668"/>
                <p:cNvGrpSpPr/>
                <p:nvPr/>
              </p:nvGrpSpPr>
              <p:grpSpPr>
                <a:xfrm>
                  <a:off x="5100480" y="2621160"/>
                  <a:ext cx="2427840" cy="2427840"/>
                  <a:chOff x="5100480" y="2621160"/>
                  <a:chExt cx="2427840" cy="2427840"/>
                </a:xfrm>
              </p:grpSpPr>
              <p:sp>
                <p:nvSpPr>
                  <p:cNvPr id="520" name="空心弧 669"/>
                  <p:cNvSpPr/>
                  <p:nvPr/>
                </p:nvSpPr>
                <p:spPr>
                  <a:xfrm rot="5608800">
                    <a:off x="5454000" y="2975040"/>
                    <a:ext cx="1720080" cy="171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24" h="3198812">
                        <a:moveTo>
                          <a:pt x="0" y="1599406"/>
                        </a:moveTo>
                        <a:cubicBezTo>
                          <a:pt x="0" y="1204217"/>
                          <a:pt x="146307" y="823020"/>
                          <a:pt x="410712" y="529311"/>
                        </a:cubicBezTo>
                        <a:lnTo>
                          <a:pt x="509065" y="617851"/>
                        </a:lnTo>
                        <a:cubicBezTo>
                          <a:pt x="266537" y="887258"/>
                          <a:pt x="132335" y="1236915"/>
                          <a:pt x="132335" y="1599406"/>
                        </a:cubicBezTo>
                        <a:lnTo>
                          <a:pt x="0" y="159940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空心弧 670"/>
                  <p:cNvSpPr/>
                  <p:nvPr/>
                </p:nvSpPr>
                <p:spPr>
                  <a:xfrm rot="8308800">
                    <a:off x="5454360" y="2975040"/>
                    <a:ext cx="1719720" cy="17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12" h="3198824">
                        <a:moveTo>
                          <a:pt x="0" y="1599412"/>
                        </a:moveTo>
                        <a:cubicBezTo>
                          <a:pt x="0" y="1204224"/>
                          <a:pt x="146305" y="823027"/>
                          <a:pt x="410707" y="529318"/>
                        </a:cubicBezTo>
                        <a:lnTo>
                          <a:pt x="509059" y="617857"/>
                        </a:lnTo>
                        <a:cubicBezTo>
                          <a:pt x="266534" y="887265"/>
                          <a:pt x="132334" y="1236921"/>
                          <a:pt x="132334" y="1599412"/>
                        </a:cubicBezTo>
                        <a:lnTo>
                          <a:pt x="0" y="159941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2" name="组合 660"/>
              <p:cNvGrpSpPr/>
              <p:nvPr/>
            </p:nvGrpSpPr>
            <p:grpSpPr>
              <a:xfrm>
                <a:off x="5100480" y="2621160"/>
                <a:ext cx="2428560" cy="2427840"/>
                <a:chOff x="5100480" y="2621160"/>
                <a:chExt cx="2428560" cy="2427840"/>
              </a:xfrm>
            </p:grpSpPr>
            <p:grpSp>
              <p:nvGrpSpPr>
                <p:cNvPr id="523" name="组合 661"/>
                <p:cNvGrpSpPr/>
                <p:nvPr/>
              </p:nvGrpSpPr>
              <p:grpSpPr>
                <a:xfrm>
                  <a:off x="5101200" y="2621160"/>
                  <a:ext cx="2427840" cy="2427840"/>
                  <a:chOff x="5101200" y="2621160"/>
                  <a:chExt cx="2427840" cy="2427840"/>
                </a:xfrm>
              </p:grpSpPr>
              <p:sp>
                <p:nvSpPr>
                  <p:cNvPr id="524" name="空心弧 665"/>
                  <p:cNvSpPr/>
                  <p:nvPr/>
                </p:nvSpPr>
                <p:spPr>
                  <a:xfrm rot="11008800">
                    <a:off x="5454000" y="2974680"/>
                    <a:ext cx="1719720" cy="17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12" h="3198824">
                        <a:moveTo>
                          <a:pt x="0" y="1599412"/>
                        </a:moveTo>
                        <a:cubicBezTo>
                          <a:pt x="0" y="1204224"/>
                          <a:pt x="146305" y="823027"/>
                          <a:pt x="410707" y="529318"/>
                        </a:cubicBezTo>
                        <a:lnTo>
                          <a:pt x="509059" y="617857"/>
                        </a:lnTo>
                        <a:cubicBezTo>
                          <a:pt x="266534" y="887265"/>
                          <a:pt x="132334" y="1236921"/>
                          <a:pt x="132334" y="1599412"/>
                        </a:cubicBezTo>
                        <a:lnTo>
                          <a:pt x="0" y="159941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空心弧 666"/>
                  <p:cNvSpPr/>
                  <p:nvPr/>
                </p:nvSpPr>
                <p:spPr>
                  <a:xfrm rot="13708800">
                    <a:off x="5454720" y="2975040"/>
                    <a:ext cx="1720080" cy="171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24" h="3198812">
                        <a:moveTo>
                          <a:pt x="0" y="1599406"/>
                        </a:moveTo>
                        <a:cubicBezTo>
                          <a:pt x="0" y="1204217"/>
                          <a:pt x="146307" y="823020"/>
                          <a:pt x="410712" y="529311"/>
                        </a:cubicBezTo>
                        <a:lnTo>
                          <a:pt x="509065" y="617851"/>
                        </a:lnTo>
                        <a:cubicBezTo>
                          <a:pt x="266537" y="887258"/>
                          <a:pt x="132335" y="1236915"/>
                          <a:pt x="132335" y="1599406"/>
                        </a:cubicBezTo>
                        <a:lnTo>
                          <a:pt x="0" y="159940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组合 662"/>
                <p:cNvGrpSpPr/>
                <p:nvPr/>
              </p:nvGrpSpPr>
              <p:grpSpPr>
                <a:xfrm>
                  <a:off x="5100480" y="2621160"/>
                  <a:ext cx="2427840" cy="2427840"/>
                  <a:chOff x="5100480" y="2621160"/>
                  <a:chExt cx="2427840" cy="2427840"/>
                </a:xfrm>
              </p:grpSpPr>
              <p:sp>
                <p:nvSpPr>
                  <p:cNvPr id="527" name="空心弧 663"/>
                  <p:cNvSpPr/>
                  <p:nvPr/>
                </p:nvSpPr>
                <p:spPr>
                  <a:xfrm rot="16408800">
                    <a:off x="5454720" y="2975040"/>
                    <a:ext cx="1720080" cy="171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24" h="3198812">
                        <a:moveTo>
                          <a:pt x="0" y="1599406"/>
                        </a:moveTo>
                        <a:cubicBezTo>
                          <a:pt x="0" y="1204217"/>
                          <a:pt x="146307" y="823020"/>
                          <a:pt x="410712" y="529311"/>
                        </a:cubicBezTo>
                        <a:lnTo>
                          <a:pt x="509065" y="617851"/>
                        </a:lnTo>
                        <a:cubicBezTo>
                          <a:pt x="266537" y="887258"/>
                          <a:pt x="132335" y="1236915"/>
                          <a:pt x="132335" y="1599406"/>
                        </a:cubicBezTo>
                        <a:lnTo>
                          <a:pt x="0" y="159940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空心弧 664"/>
                  <p:cNvSpPr/>
                  <p:nvPr/>
                </p:nvSpPr>
                <p:spPr>
                  <a:xfrm rot="19108800">
                    <a:off x="5454360" y="2975040"/>
                    <a:ext cx="1719720" cy="172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812" h="3198824">
                        <a:moveTo>
                          <a:pt x="0" y="1599412"/>
                        </a:moveTo>
                        <a:cubicBezTo>
                          <a:pt x="0" y="1204224"/>
                          <a:pt x="146305" y="823027"/>
                          <a:pt x="410707" y="529318"/>
                        </a:cubicBezTo>
                        <a:lnTo>
                          <a:pt x="509059" y="617857"/>
                        </a:lnTo>
                        <a:cubicBezTo>
                          <a:pt x="266534" y="887265"/>
                          <a:pt x="132334" y="1236921"/>
                          <a:pt x="132334" y="1599412"/>
                        </a:cubicBezTo>
                        <a:lnTo>
                          <a:pt x="0" y="159941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9" name="组合 407"/>
            <p:cNvGrpSpPr/>
            <p:nvPr/>
          </p:nvGrpSpPr>
          <p:grpSpPr>
            <a:xfrm>
              <a:off x="7786080" y="2358360"/>
              <a:ext cx="1140480" cy="1140480"/>
              <a:chOff x="7786080" y="2358360"/>
              <a:chExt cx="1140480" cy="1140480"/>
            </a:xfrm>
          </p:grpSpPr>
          <p:grpSp>
            <p:nvGrpSpPr>
              <p:cNvPr id="530" name="组合 645"/>
              <p:cNvGrpSpPr/>
              <p:nvPr/>
            </p:nvGrpSpPr>
            <p:grpSpPr>
              <a:xfrm>
                <a:off x="7786080" y="2358360"/>
                <a:ext cx="1140480" cy="1140480"/>
                <a:chOff x="7786080" y="2358360"/>
                <a:chExt cx="1140480" cy="1140480"/>
              </a:xfrm>
            </p:grpSpPr>
            <p:grpSp>
              <p:nvGrpSpPr>
                <p:cNvPr id="531" name="组合 653"/>
                <p:cNvGrpSpPr/>
                <p:nvPr/>
              </p:nvGrpSpPr>
              <p:grpSpPr>
                <a:xfrm>
                  <a:off x="7786080" y="2358360"/>
                  <a:ext cx="1140480" cy="1140480"/>
                  <a:chOff x="7786080" y="2358360"/>
                  <a:chExt cx="1140480" cy="1140480"/>
                </a:xfrm>
              </p:grpSpPr>
              <p:sp>
                <p:nvSpPr>
                  <p:cNvPr id="532" name="空心弧 657"/>
                  <p:cNvSpPr/>
                  <p:nvPr/>
                </p:nvSpPr>
                <p:spPr>
                  <a:xfrm rot="208200">
                    <a:off x="7952400" y="252432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27" h="3197043">
                        <a:moveTo>
                          <a:pt x="0" y="1598522"/>
                        </a:moveTo>
                        <a:cubicBezTo>
                          <a:pt x="0" y="1203554"/>
                          <a:pt x="146223" y="822570"/>
                          <a:pt x="410477" y="529024"/>
                        </a:cubicBezTo>
                        <a:lnTo>
                          <a:pt x="508775" y="617514"/>
                        </a:lnTo>
                        <a:cubicBezTo>
                          <a:pt x="266386" y="886772"/>
                          <a:pt x="132261" y="1236233"/>
                          <a:pt x="132261" y="1598521"/>
                        </a:cubicBezTo>
                        <a:lnTo>
                          <a:pt x="0" y="159852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空心弧 658"/>
                  <p:cNvSpPr/>
                  <p:nvPr/>
                </p:nvSpPr>
                <p:spPr>
                  <a:xfrm rot="2908800">
                    <a:off x="7952040" y="252432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43" h="3197027">
                        <a:moveTo>
                          <a:pt x="0" y="1598514"/>
                        </a:moveTo>
                        <a:cubicBezTo>
                          <a:pt x="0" y="1203545"/>
                          <a:pt x="146226" y="822560"/>
                          <a:pt x="410484" y="529015"/>
                        </a:cubicBezTo>
                        <a:lnTo>
                          <a:pt x="508782" y="617505"/>
                        </a:lnTo>
                        <a:cubicBezTo>
                          <a:pt x="266388" y="886762"/>
                          <a:pt x="132261" y="1236224"/>
                          <a:pt x="132261" y="1598513"/>
                        </a:cubicBezTo>
                        <a:lnTo>
                          <a:pt x="0" y="159851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组合 654"/>
                <p:cNvGrpSpPr/>
                <p:nvPr/>
              </p:nvGrpSpPr>
              <p:grpSpPr>
                <a:xfrm>
                  <a:off x="7786080" y="2358360"/>
                  <a:ext cx="1140480" cy="1140480"/>
                  <a:chOff x="7786080" y="2358360"/>
                  <a:chExt cx="1140480" cy="1140480"/>
                </a:xfrm>
              </p:grpSpPr>
              <p:sp>
                <p:nvSpPr>
                  <p:cNvPr id="535" name="空心弧 655"/>
                  <p:cNvSpPr/>
                  <p:nvPr/>
                </p:nvSpPr>
                <p:spPr>
                  <a:xfrm rot="5608800">
                    <a:off x="7952400" y="252468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43" h="3197027">
                        <a:moveTo>
                          <a:pt x="0" y="1598514"/>
                        </a:moveTo>
                        <a:cubicBezTo>
                          <a:pt x="0" y="1203545"/>
                          <a:pt x="146226" y="822560"/>
                          <a:pt x="410484" y="529015"/>
                        </a:cubicBezTo>
                        <a:lnTo>
                          <a:pt x="508782" y="617505"/>
                        </a:lnTo>
                        <a:cubicBezTo>
                          <a:pt x="266388" y="886762"/>
                          <a:pt x="132261" y="1236224"/>
                          <a:pt x="132261" y="1598513"/>
                        </a:cubicBezTo>
                        <a:lnTo>
                          <a:pt x="0" y="159851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空心弧 656"/>
                  <p:cNvSpPr/>
                  <p:nvPr/>
                </p:nvSpPr>
                <p:spPr>
                  <a:xfrm rot="8308800">
                    <a:off x="7952400" y="252432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27" h="3197043">
                        <a:moveTo>
                          <a:pt x="0" y="1598522"/>
                        </a:moveTo>
                        <a:cubicBezTo>
                          <a:pt x="0" y="1203554"/>
                          <a:pt x="146223" y="822570"/>
                          <a:pt x="410477" y="529024"/>
                        </a:cubicBezTo>
                        <a:lnTo>
                          <a:pt x="508775" y="617514"/>
                        </a:lnTo>
                        <a:cubicBezTo>
                          <a:pt x="266386" y="886772"/>
                          <a:pt x="132261" y="1236233"/>
                          <a:pt x="132261" y="1598521"/>
                        </a:cubicBezTo>
                        <a:lnTo>
                          <a:pt x="0" y="159852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7" name="组合 646"/>
              <p:cNvGrpSpPr/>
              <p:nvPr/>
            </p:nvGrpSpPr>
            <p:grpSpPr>
              <a:xfrm>
                <a:off x="7786080" y="2358360"/>
                <a:ext cx="1140480" cy="1140480"/>
                <a:chOff x="7786080" y="2358360"/>
                <a:chExt cx="1140480" cy="1140480"/>
              </a:xfrm>
            </p:grpSpPr>
            <p:grpSp>
              <p:nvGrpSpPr>
                <p:cNvPr id="538" name="组合 647"/>
                <p:cNvGrpSpPr/>
                <p:nvPr/>
              </p:nvGrpSpPr>
              <p:grpSpPr>
                <a:xfrm>
                  <a:off x="7786080" y="2358360"/>
                  <a:ext cx="1140480" cy="1140480"/>
                  <a:chOff x="7786080" y="2358360"/>
                  <a:chExt cx="1140480" cy="1140480"/>
                </a:xfrm>
              </p:grpSpPr>
              <p:sp>
                <p:nvSpPr>
                  <p:cNvPr id="539" name="空心弧 651"/>
                  <p:cNvSpPr/>
                  <p:nvPr/>
                </p:nvSpPr>
                <p:spPr>
                  <a:xfrm rot="11008800">
                    <a:off x="7952040" y="252468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27" h="3197043">
                        <a:moveTo>
                          <a:pt x="0" y="1598522"/>
                        </a:moveTo>
                        <a:cubicBezTo>
                          <a:pt x="0" y="1203554"/>
                          <a:pt x="146223" y="822570"/>
                          <a:pt x="410477" y="529024"/>
                        </a:cubicBezTo>
                        <a:lnTo>
                          <a:pt x="508775" y="617514"/>
                        </a:lnTo>
                        <a:cubicBezTo>
                          <a:pt x="266386" y="886772"/>
                          <a:pt x="132261" y="1236233"/>
                          <a:pt x="132261" y="1598521"/>
                        </a:cubicBezTo>
                        <a:lnTo>
                          <a:pt x="0" y="159852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空心弧 652"/>
                  <p:cNvSpPr/>
                  <p:nvPr/>
                </p:nvSpPr>
                <p:spPr>
                  <a:xfrm rot="13708800">
                    <a:off x="7952400" y="252468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43" h="3197027">
                        <a:moveTo>
                          <a:pt x="0" y="1598514"/>
                        </a:moveTo>
                        <a:cubicBezTo>
                          <a:pt x="0" y="1203545"/>
                          <a:pt x="146226" y="822560"/>
                          <a:pt x="410484" y="529015"/>
                        </a:cubicBezTo>
                        <a:lnTo>
                          <a:pt x="508782" y="617505"/>
                        </a:lnTo>
                        <a:cubicBezTo>
                          <a:pt x="266388" y="886762"/>
                          <a:pt x="132261" y="1236224"/>
                          <a:pt x="132261" y="1598513"/>
                        </a:cubicBezTo>
                        <a:lnTo>
                          <a:pt x="0" y="159851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组合 648"/>
                <p:cNvGrpSpPr/>
                <p:nvPr/>
              </p:nvGrpSpPr>
              <p:grpSpPr>
                <a:xfrm>
                  <a:off x="7786080" y="2358360"/>
                  <a:ext cx="1140480" cy="1140480"/>
                  <a:chOff x="7786080" y="2358360"/>
                  <a:chExt cx="1140480" cy="1140480"/>
                </a:xfrm>
              </p:grpSpPr>
              <p:sp>
                <p:nvSpPr>
                  <p:cNvPr id="542" name="空心弧 649"/>
                  <p:cNvSpPr/>
                  <p:nvPr/>
                </p:nvSpPr>
                <p:spPr>
                  <a:xfrm rot="16408800">
                    <a:off x="7952400" y="252468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43" h="3197027">
                        <a:moveTo>
                          <a:pt x="0" y="1598514"/>
                        </a:moveTo>
                        <a:cubicBezTo>
                          <a:pt x="0" y="1203545"/>
                          <a:pt x="146226" y="822560"/>
                          <a:pt x="410484" y="529015"/>
                        </a:cubicBezTo>
                        <a:lnTo>
                          <a:pt x="508782" y="617505"/>
                        </a:lnTo>
                        <a:cubicBezTo>
                          <a:pt x="266388" y="886762"/>
                          <a:pt x="132261" y="1236224"/>
                          <a:pt x="132261" y="1598513"/>
                        </a:cubicBezTo>
                        <a:lnTo>
                          <a:pt x="0" y="159851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空心弧 650"/>
                  <p:cNvSpPr/>
                  <p:nvPr/>
                </p:nvSpPr>
                <p:spPr>
                  <a:xfrm rot="19108800">
                    <a:off x="7952040" y="2524680"/>
                    <a:ext cx="807840" cy="80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027" h="3197043">
                        <a:moveTo>
                          <a:pt x="0" y="1598522"/>
                        </a:moveTo>
                        <a:cubicBezTo>
                          <a:pt x="0" y="1203554"/>
                          <a:pt x="146223" y="822570"/>
                          <a:pt x="410477" y="529024"/>
                        </a:cubicBezTo>
                        <a:lnTo>
                          <a:pt x="508775" y="617514"/>
                        </a:lnTo>
                        <a:cubicBezTo>
                          <a:pt x="266386" y="886772"/>
                          <a:pt x="132261" y="1236233"/>
                          <a:pt x="132261" y="1598521"/>
                        </a:cubicBezTo>
                        <a:lnTo>
                          <a:pt x="0" y="159852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4" name="组合 408"/>
            <p:cNvGrpSpPr/>
            <p:nvPr/>
          </p:nvGrpSpPr>
          <p:grpSpPr>
            <a:xfrm>
              <a:off x="2309760" y="1608840"/>
              <a:ext cx="1820160" cy="1820160"/>
              <a:chOff x="2309760" y="1608840"/>
              <a:chExt cx="1820160" cy="1820160"/>
            </a:xfrm>
          </p:grpSpPr>
          <p:grpSp>
            <p:nvGrpSpPr>
              <p:cNvPr id="545" name="组合 631"/>
              <p:cNvGrpSpPr/>
              <p:nvPr/>
            </p:nvGrpSpPr>
            <p:grpSpPr>
              <a:xfrm>
                <a:off x="2309760" y="1609200"/>
                <a:ext cx="1819800" cy="1819800"/>
                <a:chOff x="2309760" y="1609200"/>
                <a:chExt cx="1819800" cy="1819800"/>
              </a:xfrm>
            </p:grpSpPr>
            <p:grpSp>
              <p:nvGrpSpPr>
                <p:cNvPr id="546" name="组合 639"/>
                <p:cNvGrpSpPr/>
                <p:nvPr/>
              </p:nvGrpSpPr>
              <p:grpSpPr>
                <a:xfrm>
                  <a:off x="2310120" y="1609560"/>
                  <a:ext cx="1819440" cy="1819440"/>
                  <a:chOff x="2310120" y="1609560"/>
                  <a:chExt cx="1819440" cy="1819440"/>
                </a:xfrm>
              </p:grpSpPr>
              <p:sp>
                <p:nvSpPr>
                  <p:cNvPr id="547" name="空心弧 643"/>
                  <p:cNvSpPr/>
                  <p:nvPr/>
                </p:nvSpPr>
                <p:spPr>
                  <a:xfrm rot="208200">
                    <a:off x="2575440" y="187452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52" h="3197964">
                        <a:moveTo>
                          <a:pt x="0" y="1598982"/>
                        </a:moveTo>
                        <a:cubicBezTo>
                          <a:pt x="0" y="1203900"/>
                          <a:pt x="146266" y="822806"/>
                          <a:pt x="410596" y="529175"/>
                        </a:cubicBezTo>
                        <a:lnTo>
                          <a:pt x="508923" y="617691"/>
                        </a:lnTo>
                        <a:cubicBezTo>
                          <a:pt x="266463" y="887026"/>
                          <a:pt x="132300" y="1236589"/>
                          <a:pt x="132300" y="1598982"/>
                        </a:cubicBezTo>
                        <a:lnTo>
                          <a:pt x="0" y="15989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空心弧 644"/>
                  <p:cNvSpPr/>
                  <p:nvPr/>
                </p:nvSpPr>
                <p:spPr>
                  <a:xfrm rot="2908800">
                    <a:off x="2575080" y="187452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64" h="3197952">
                        <a:moveTo>
                          <a:pt x="0" y="1598976"/>
                        </a:moveTo>
                        <a:cubicBezTo>
                          <a:pt x="0" y="1203893"/>
                          <a:pt x="146268" y="822799"/>
                          <a:pt x="410602" y="529169"/>
                        </a:cubicBezTo>
                        <a:lnTo>
                          <a:pt x="508928" y="617685"/>
                        </a:lnTo>
                        <a:cubicBezTo>
                          <a:pt x="266465" y="887020"/>
                          <a:pt x="132299" y="1236583"/>
                          <a:pt x="132299" y="1598977"/>
                        </a:cubicBezTo>
                        <a:lnTo>
                          <a:pt x="0" y="15989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组合 640"/>
                <p:cNvGrpSpPr/>
                <p:nvPr/>
              </p:nvGrpSpPr>
              <p:grpSpPr>
                <a:xfrm>
                  <a:off x="2309760" y="1609200"/>
                  <a:ext cx="1819440" cy="1819440"/>
                  <a:chOff x="2309760" y="1609200"/>
                  <a:chExt cx="1819440" cy="1819440"/>
                </a:xfrm>
              </p:grpSpPr>
              <p:sp>
                <p:nvSpPr>
                  <p:cNvPr id="550" name="空心弧 641"/>
                  <p:cNvSpPr/>
                  <p:nvPr/>
                </p:nvSpPr>
                <p:spPr>
                  <a:xfrm rot="5608800">
                    <a:off x="2575080" y="187452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64" h="3197952">
                        <a:moveTo>
                          <a:pt x="0" y="1598976"/>
                        </a:moveTo>
                        <a:cubicBezTo>
                          <a:pt x="0" y="1203893"/>
                          <a:pt x="146268" y="822799"/>
                          <a:pt x="410602" y="529169"/>
                        </a:cubicBezTo>
                        <a:lnTo>
                          <a:pt x="508928" y="617685"/>
                        </a:lnTo>
                        <a:cubicBezTo>
                          <a:pt x="266465" y="887020"/>
                          <a:pt x="132299" y="1236583"/>
                          <a:pt x="132299" y="1598977"/>
                        </a:cubicBezTo>
                        <a:lnTo>
                          <a:pt x="0" y="15989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空心弧 642"/>
                  <p:cNvSpPr/>
                  <p:nvPr/>
                </p:nvSpPr>
                <p:spPr>
                  <a:xfrm rot="8308800">
                    <a:off x="2575080" y="187416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52" h="3197964">
                        <a:moveTo>
                          <a:pt x="0" y="1598982"/>
                        </a:moveTo>
                        <a:cubicBezTo>
                          <a:pt x="0" y="1203900"/>
                          <a:pt x="146266" y="822806"/>
                          <a:pt x="410596" y="529175"/>
                        </a:cubicBezTo>
                        <a:lnTo>
                          <a:pt x="508923" y="617691"/>
                        </a:lnTo>
                        <a:cubicBezTo>
                          <a:pt x="266463" y="887026"/>
                          <a:pt x="132300" y="1236589"/>
                          <a:pt x="132300" y="1598982"/>
                        </a:cubicBezTo>
                        <a:lnTo>
                          <a:pt x="0" y="15989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组合 632"/>
              <p:cNvGrpSpPr/>
              <p:nvPr/>
            </p:nvGrpSpPr>
            <p:grpSpPr>
              <a:xfrm>
                <a:off x="2310480" y="1608840"/>
                <a:ext cx="1819440" cy="1819800"/>
                <a:chOff x="2310480" y="1608840"/>
                <a:chExt cx="1819440" cy="1819800"/>
              </a:xfrm>
            </p:grpSpPr>
            <p:grpSp>
              <p:nvGrpSpPr>
                <p:cNvPr id="553" name="组合 633"/>
                <p:cNvGrpSpPr/>
                <p:nvPr/>
              </p:nvGrpSpPr>
              <p:grpSpPr>
                <a:xfrm>
                  <a:off x="2310480" y="1608840"/>
                  <a:ext cx="1819080" cy="1819440"/>
                  <a:chOff x="2310480" y="1608840"/>
                  <a:chExt cx="1819080" cy="1819440"/>
                </a:xfrm>
              </p:grpSpPr>
              <p:sp>
                <p:nvSpPr>
                  <p:cNvPr id="554" name="空心弧 637"/>
                  <p:cNvSpPr/>
                  <p:nvPr/>
                </p:nvSpPr>
                <p:spPr>
                  <a:xfrm rot="11008800">
                    <a:off x="2575080" y="187416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52" h="3197964">
                        <a:moveTo>
                          <a:pt x="0" y="1598982"/>
                        </a:moveTo>
                        <a:cubicBezTo>
                          <a:pt x="0" y="1203900"/>
                          <a:pt x="146266" y="822806"/>
                          <a:pt x="410596" y="529175"/>
                        </a:cubicBezTo>
                        <a:lnTo>
                          <a:pt x="508923" y="617691"/>
                        </a:lnTo>
                        <a:cubicBezTo>
                          <a:pt x="266463" y="887026"/>
                          <a:pt x="132300" y="1236589"/>
                          <a:pt x="132300" y="1598982"/>
                        </a:cubicBezTo>
                        <a:lnTo>
                          <a:pt x="0" y="15989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空心弧 638"/>
                  <p:cNvSpPr/>
                  <p:nvPr/>
                </p:nvSpPr>
                <p:spPr>
                  <a:xfrm rot="13708800">
                    <a:off x="2575440" y="187416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64" h="3197952">
                        <a:moveTo>
                          <a:pt x="0" y="1598976"/>
                        </a:moveTo>
                        <a:cubicBezTo>
                          <a:pt x="0" y="1203893"/>
                          <a:pt x="146268" y="822799"/>
                          <a:pt x="410602" y="529169"/>
                        </a:cubicBezTo>
                        <a:lnTo>
                          <a:pt x="508928" y="617685"/>
                        </a:lnTo>
                        <a:cubicBezTo>
                          <a:pt x="266465" y="887020"/>
                          <a:pt x="132299" y="1236583"/>
                          <a:pt x="132299" y="1598977"/>
                        </a:cubicBezTo>
                        <a:lnTo>
                          <a:pt x="0" y="15989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组合 634"/>
                <p:cNvGrpSpPr/>
                <p:nvPr/>
              </p:nvGrpSpPr>
              <p:grpSpPr>
                <a:xfrm>
                  <a:off x="2310480" y="1609560"/>
                  <a:ext cx="1819440" cy="1819080"/>
                  <a:chOff x="2310480" y="1609560"/>
                  <a:chExt cx="1819440" cy="1819080"/>
                </a:xfrm>
              </p:grpSpPr>
              <p:sp>
                <p:nvSpPr>
                  <p:cNvPr id="557" name="空心弧 635"/>
                  <p:cNvSpPr/>
                  <p:nvPr/>
                </p:nvSpPr>
                <p:spPr>
                  <a:xfrm rot="16408800">
                    <a:off x="2575440" y="187416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64" h="3197952">
                        <a:moveTo>
                          <a:pt x="0" y="1598976"/>
                        </a:moveTo>
                        <a:cubicBezTo>
                          <a:pt x="0" y="1203893"/>
                          <a:pt x="146268" y="822799"/>
                          <a:pt x="410602" y="529169"/>
                        </a:cubicBezTo>
                        <a:lnTo>
                          <a:pt x="508928" y="617685"/>
                        </a:lnTo>
                        <a:cubicBezTo>
                          <a:pt x="266465" y="887020"/>
                          <a:pt x="132299" y="1236583"/>
                          <a:pt x="132299" y="1598977"/>
                        </a:cubicBezTo>
                        <a:lnTo>
                          <a:pt x="0" y="15989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空心弧 636"/>
                  <p:cNvSpPr/>
                  <p:nvPr/>
                </p:nvSpPr>
                <p:spPr>
                  <a:xfrm rot="19108800">
                    <a:off x="2575440" y="1874520"/>
                    <a:ext cx="128880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952" h="3197964">
                        <a:moveTo>
                          <a:pt x="0" y="1598982"/>
                        </a:moveTo>
                        <a:cubicBezTo>
                          <a:pt x="0" y="1203900"/>
                          <a:pt x="146266" y="822806"/>
                          <a:pt x="410596" y="529175"/>
                        </a:cubicBezTo>
                        <a:lnTo>
                          <a:pt x="508923" y="617691"/>
                        </a:lnTo>
                        <a:cubicBezTo>
                          <a:pt x="266463" y="887026"/>
                          <a:pt x="132300" y="1236589"/>
                          <a:pt x="132300" y="1598982"/>
                        </a:cubicBezTo>
                        <a:lnTo>
                          <a:pt x="0" y="159898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9" name="组合 410"/>
            <p:cNvGrpSpPr/>
            <p:nvPr/>
          </p:nvGrpSpPr>
          <p:grpSpPr>
            <a:xfrm>
              <a:off x="3372480" y="3636000"/>
              <a:ext cx="1035360" cy="1035360"/>
              <a:chOff x="3372480" y="3636000"/>
              <a:chExt cx="1035360" cy="1035360"/>
            </a:xfrm>
          </p:grpSpPr>
          <p:grpSp>
            <p:nvGrpSpPr>
              <p:cNvPr id="560" name="组合 617"/>
              <p:cNvGrpSpPr/>
              <p:nvPr/>
            </p:nvGrpSpPr>
            <p:grpSpPr>
              <a:xfrm>
                <a:off x="3372480" y="3636720"/>
                <a:ext cx="1034640" cy="1034640"/>
                <a:chOff x="3372480" y="3636720"/>
                <a:chExt cx="1034640" cy="1034640"/>
              </a:xfrm>
            </p:grpSpPr>
            <p:grpSp>
              <p:nvGrpSpPr>
                <p:cNvPr id="561" name="组合 625"/>
                <p:cNvGrpSpPr/>
                <p:nvPr/>
              </p:nvGrpSpPr>
              <p:grpSpPr>
                <a:xfrm>
                  <a:off x="3373200" y="3637080"/>
                  <a:ext cx="1033920" cy="1034280"/>
                  <a:chOff x="3373200" y="3637080"/>
                  <a:chExt cx="1033920" cy="1034280"/>
                </a:xfrm>
              </p:grpSpPr>
              <p:sp>
                <p:nvSpPr>
                  <p:cNvPr id="562" name="空心弧 629"/>
                  <p:cNvSpPr/>
                  <p:nvPr/>
                </p:nvSpPr>
                <p:spPr>
                  <a:xfrm rot="208200">
                    <a:off x="352368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43" h="3193751">
                        <a:moveTo>
                          <a:pt x="0" y="1596876"/>
                        </a:moveTo>
                        <a:cubicBezTo>
                          <a:pt x="0" y="1202314"/>
                          <a:pt x="146073" y="821721"/>
                          <a:pt x="410057" y="528478"/>
                        </a:cubicBezTo>
                        <a:lnTo>
                          <a:pt x="508253" y="616877"/>
                        </a:lnTo>
                        <a:cubicBezTo>
                          <a:pt x="266112" y="885858"/>
                          <a:pt x="132125" y="1234960"/>
                          <a:pt x="132125" y="1596876"/>
                        </a:cubicBezTo>
                        <a:lnTo>
                          <a:pt x="0" y="15968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空心弧 630"/>
                  <p:cNvSpPr/>
                  <p:nvPr/>
                </p:nvSpPr>
                <p:spPr>
                  <a:xfrm rot="2908800">
                    <a:off x="3523680" y="378756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51" h="3193743">
                        <a:moveTo>
                          <a:pt x="0" y="1596872"/>
                        </a:moveTo>
                        <a:cubicBezTo>
                          <a:pt x="0" y="1202309"/>
                          <a:pt x="146075" y="821717"/>
                          <a:pt x="410060" y="528473"/>
                        </a:cubicBezTo>
                        <a:lnTo>
                          <a:pt x="508257" y="616872"/>
                        </a:lnTo>
                        <a:cubicBezTo>
                          <a:pt x="266114" y="885852"/>
                          <a:pt x="132125" y="1234955"/>
                          <a:pt x="132125" y="1596871"/>
                        </a:cubicBezTo>
                        <a:lnTo>
                          <a:pt x="0" y="159687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组合 626"/>
                <p:cNvGrpSpPr/>
                <p:nvPr/>
              </p:nvGrpSpPr>
              <p:grpSpPr>
                <a:xfrm>
                  <a:off x="3372480" y="3636720"/>
                  <a:ext cx="1034280" cy="1033920"/>
                  <a:chOff x="3372480" y="3636720"/>
                  <a:chExt cx="1034280" cy="1033920"/>
                </a:xfrm>
              </p:grpSpPr>
              <p:sp>
                <p:nvSpPr>
                  <p:cNvPr id="565" name="空心弧 627"/>
                  <p:cNvSpPr/>
                  <p:nvPr/>
                </p:nvSpPr>
                <p:spPr>
                  <a:xfrm rot="5608800">
                    <a:off x="352368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51" h="3193743">
                        <a:moveTo>
                          <a:pt x="0" y="1596872"/>
                        </a:moveTo>
                        <a:cubicBezTo>
                          <a:pt x="0" y="1202309"/>
                          <a:pt x="146075" y="821717"/>
                          <a:pt x="410060" y="528473"/>
                        </a:cubicBezTo>
                        <a:lnTo>
                          <a:pt x="508257" y="616872"/>
                        </a:lnTo>
                        <a:cubicBezTo>
                          <a:pt x="266114" y="885852"/>
                          <a:pt x="132125" y="1234955"/>
                          <a:pt x="132125" y="1596871"/>
                        </a:cubicBezTo>
                        <a:lnTo>
                          <a:pt x="0" y="159687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空心弧 628"/>
                  <p:cNvSpPr/>
                  <p:nvPr/>
                </p:nvSpPr>
                <p:spPr>
                  <a:xfrm rot="8308800">
                    <a:off x="352332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43" h="3193751">
                        <a:moveTo>
                          <a:pt x="0" y="1596876"/>
                        </a:moveTo>
                        <a:cubicBezTo>
                          <a:pt x="0" y="1202314"/>
                          <a:pt x="146073" y="821721"/>
                          <a:pt x="410057" y="528478"/>
                        </a:cubicBezTo>
                        <a:lnTo>
                          <a:pt x="508253" y="616877"/>
                        </a:lnTo>
                        <a:cubicBezTo>
                          <a:pt x="266112" y="885858"/>
                          <a:pt x="132125" y="1234960"/>
                          <a:pt x="132125" y="1596876"/>
                        </a:cubicBezTo>
                        <a:lnTo>
                          <a:pt x="0" y="15968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7" name="组合 618"/>
              <p:cNvGrpSpPr/>
              <p:nvPr/>
            </p:nvGrpSpPr>
            <p:grpSpPr>
              <a:xfrm>
                <a:off x="3373200" y="3636000"/>
                <a:ext cx="1034640" cy="1035000"/>
                <a:chOff x="3373200" y="3636000"/>
                <a:chExt cx="1034640" cy="1035000"/>
              </a:xfrm>
            </p:grpSpPr>
            <p:grpSp>
              <p:nvGrpSpPr>
                <p:cNvPr id="568" name="组合 619"/>
                <p:cNvGrpSpPr/>
                <p:nvPr/>
              </p:nvGrpSpPr>
              <p:grpSpPr>
                <a:xfrm>
                  <a:off x="3373200" y="3636000"/>
                  <a:ext cx="1034280" cy="1034280"/>
                  <a:chOff x="3373200" y="3636000"/>
                  <a:chExt cx="1034280" cy="1034280"/>
                </a:xfrm>
              </p:grpSpPr>
              <p:sp>
                <p:nvSpPr>
                  <p:cNvPr id="569" name="空心弧 623"/>
                  <p:cNvSpPr/>
                  <p:nvPr/>
                </p:nvSpPr>
                <p:spPr>
                  <a:xfrm rot="11008800">
                    <a:off x="352368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43" h="3193751">
                        <a:moveTo>
                          <a:pt x="0" y="1596876"/>
                        </a:moveTo>
                        <a:cubicBezTo>
                          <a:pt x="0" y="1202314"/>
                          <a:pt x="146073" y="821721"/>
                          <a:pt x="410057" y="528478"/>
                        </a:cubicBezTo>
                        <a:lnTo>
                          <a:pt x="508253" y="616877"/>
                        </a:lnTo>
                        <a:cubicBezTo>
                          <a:pt x="266112" y="885858"/>
                          <a:pt x="132125" y="1234960"/>
                          <a:pt x="132125" y="1596876"/>
                        </a:cubicBezTo>
                        <a:lnTo>
                          <a:pt x="0" y="15968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空心弧 624"/>
                  <p:cNvSpPr/>
                  <p:nvPr/>
                </p:nvSpPr>
                <p:spPr>
                  <a:xfrm rot="13708800">
                    <a:off x="3523680" y="378684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51" h="3193743">
                        <a:moveTo>
                          <a:pt x="0" y="1596872"/>
                        </a:moveTo>
                        <a:cubicBezTo>
                          <a:pt x="0" y="1202309"/>
                          <a:pt x="146075" y="821717"/>
                          <a:pt x="410060" y="528473"/>
                        </a:cubicBezTo>
                        <a:lnTo>
                          <a:pt x="508257" y="616872"/>
                        </a:lnTo>
                        <a:cubicBezTo>
                          <a:pt x="266114" y="885852"/>
                          <a:pt x="132125" y="1234955"/>
                          <a:pt x="132125" y="1596871"/>
                        </a:cubicBezTo>
                        <a:lnTo>
                          <a:pt x="0" y="159687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组合 620"/>
                <p:cNvGrpSpPr/>
                <p:nvPr/>
              </p:nvGrpSpPr>
              <p:grpSpPr>
                <a:xfrm>
                  <a:off x="3373560" y="3636720"/>
                  <a:ext cx="1034280" cy="1034280"/>
                  <a:chOff x="3373560" y="3636720"/>
                  <a:chExt cx="1034280" cy="1034280"/>
                </a:xfrm>
              </p:grpSpPr>
              <p:sp>
                <p:nvSpPr>
                  <p:cNvPr id="572" name="空心弧 621"/>
                  <p:cNvSpPr/>
                  <p:nvPr/>
                </p:nvSpPr>
                <p:spPr>
                  <a:xfrm rot="16408800">
                    <a:off x="352368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51" h="3193743">
                        <a:moveTo>
                          <a:pt x="0" y="1596872"/>
                        </a:moveTo>
                        <a:cubicBezTo>
                          <a:pt x="0" y="1202309"/>
                          <a:pt x="146075" y="821717"/>
                          <a:pt x="410060" y="528473"/>
                        </a:cubicBezTo>
                        <a:lnTo>
                          <a:pt x="508257" y="616872"/>
                        </a:lnTo>
                        <a:cubicBezTo>
                          <a:pt x="266114" y="885852"/>
                          <a:pt x="132125" y="1234955"/>
                          <a:pt x="132125" y="1596871"/>
                        </a:cubicBezTo>
                        <a:lnTo>
                          <a:pt x="0" y="159687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空心弧 622"/>
                  <p:cNvSpPr/>
                  <p:nvPr/>
                </p:nvSpPr>
                <p:spPr>
                  <a:xfrm rot="19108800">
                    <a:off x="3524040" y="3787200"/>
                    <a:ext cx="732600" cy="7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3743" h="3193751">
                        <a:moveTo>
                          <a:pt x="0" y="1596876"/>
                        </a:moveTo>
                        <a:cubicBezTo>
                          <a:pt x="0" y="1202314"/>
                          <a:pt x="146073" y="821721"/>
                          <a:pt x="410057" y="528478"/>
                        </a:cubicBezTo>
                        <a:lnTo>
                          <a:pt x="508253" y="616877"/>
                        </a:lnTo>
                        <a:cubicBezTo>
                          <a:pt x="266112" y="885858"/>
                          <a:pt x="132125" y="1234960"/>
                          <a:pt x="132125" y="1596876"/>
                        </a:cubicBezTo>
                        <a:lnTo>
                          <a:pt x="0" y="159687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4" name="组合 412"/>
            <p:cNvGrpSpPr/>
            <p:nvPr/>
          </p:nvGrpSpPr>
          <p:grpSpPr>
            <a:xfrm>
              <a:off x="7086240" y="4621680"/>
              <a:ext cx="1489680" cy="1489680"/>
              <a:chOff x="7086240" y="4621680"/>
              <a:chExt cx="1489680" cy="1489680"/>
            </a:xfrm>
          </p:grpSpPr>
          <p:grpSp>
            <p:nvGrpSpPr>
              <p:cNvPr id="575" name="组合 603"/>
              <p:cNvGrpSpPr/>
              <p:nvPr/>
            </p:nvGrpSpPr>
            <p:grpSpPr>
              <a:xfrm>
                <a:off x="7086240" y="4622040"/>
                <a:ext cx="1488960" cy="1489320"/>
                <a:chOff x="7086240" y="4622040"/>
                <a:chExt cx="1488960" cy="1489320"/>
              </a:xfrm>
            </p:grpSpPr>
            <p:grpSp>
              <p:nvGrpSpPr>
                <p:cNvPr id="576" name="组合 611"/>
                <p:cNvGrpSpPr/>
                <p:nvPr/>
              </p:nvGrpSpPr>
              <p:grpSpPr>
                <a:xfrm>
                  <a:off x="7086600" y="4622760"/>
                  <a:ext cx="1488600" cy="1488600"/>
                  <a:chOff x="7086600" y="4622760"/>
                  <a:chExt cx="1488600" cy="1488600"/>
                </a:xfrm>
              </p:grpSpPr>
              <p:sp>
                <p:nvSpPr>
                  <p:cNvPr id="577" name="空心弧 615"/>
                  <p:cNvSpPr/>
                  <p:nvPr/>
                </p:nvSpPr>
                <p:spPr>
                  <a:xfrm rot="208200">
                    <a:off x="7303680" y="483912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76" h="3201103">
                        <a:moveTo>
                          <a:pt x="0" y="1600552"/>
                        </a:moveTo>
                        <a:cubicBezTo>
                          <a:pt x="0" y="1205495"/>
                          <a:pt x="145884" y="824395"/>
                          <a:pt x="409581" y="530586"/>
                        </a:cubicBezTo>
                        <a:lnTo>
                          <a:pt x="507856" y="619055"/>
                        </a:lnTo>
                        <a:cubicBezTo>
                          <a:pt x="266019" y="888582"/>
                          <a:pt x="132230" y="1238167"/>
                          <a:pt x="132230" y="1600552"/>
                        </a:cubicBezTo>
                        <a:lnTo>
                          <a:pt x="0" y="160055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空心弧 616"/>
                  <p:cNvSpPr/>
                  <p:nvPr/>
                </p:nvSpPr>
                <p:spPr>
                  <a:xfrm rot="2908800">
                    <a:off x="7303680" y="483948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103" h="3196276">
                        <a:moveTo>
                          <a:pt x="0" y="1598138"/>
                        </a:moveTo>
                        <a:cubicBezTo>
                          <a:pt x="0" y="1202850"/>
                          <a:pt x="146717" y="821587"/>
                          <a:pt x="411807" y="528003"/>
                        </a:cubicBezTo>
                        <a:lnTo>
                          <a:pt x="510082" y="616472"/>
                        </a:lnTo>
                        <a:cubicBezTo>
                          <a:pt x="266851" y="885774"/>
                          <a:pt x="132230" y="1235522"/>
                          <a:pt x="132230" y="1598138"/>
                        </a:cubicBezTo>
                        <a:lnTo>
                          <a:pt x="0" y="15981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组合 612"/>
                <p:cNvGrpSpPr/>
                <p:nvPr/>
              </p:nvGrpSpPr>
              <p:grpSpPr>
                <a:xfrm>
                  <a:off x="7086240" y="4622040"/>
                  <a:ext cx="1488600" cy="1488600"/>
                  <a:chOff x="7086240" y="4622040"/>
                  <a:chExt cx="1488600" cy="1488600"/>
                </a:xfrm>
              </p:grpSpPr>
              <p:sp>
                <p:nvSpPr>
                  <p:cNvPr id="580" name="空心弧 613"/>
                  <p:cNvSpPr/>
                  <p:nvPr/>
                </p:nvSpPr>
                <p:spPr>
                  <a:xfrm rot="5608800">
                    <a:off x="7303680" y="483912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103" h="3196276">
                        <a:moveTo>
                          <a:pt x="0" y="1598138"/>
                        </a:moveTo>
                        <a:cubicBezTo>
                          <a:pt x="0" y="1202850"/>
                          <a:pt x="146717" y="821587"/>
                          <a:pt x="411807" y="528003"/>
                        </a:cubicBezTo>
                        <a:lnTo>
                          <a:pt x="510082" y="616472"/>
                        </a:lnTo>
                        <a:cubicBezTo>
                          <a:pt x="266851" y="885774"/>
                          <a:pt x="132230" y="1235522"/>
                          <a:pt x="132230" y="1598138"/>
                        </a:cubicBezTo>
                        <a:lnTo>
                          <a:pt x="0" y="15981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空心弧 614"/>
                  <p:cNvSpPr/>
                  <p:nvPr/>
                </p:nvSpPr>
                <p:spPr>
                  <a:xfrm rot="8308800">
                    <a:off x="7303320" y="483912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76" h="3201103">
                        <a:moveTo>
                          <a:pt x="0" y="1600552"/>
                        </a:moveTo>
                        <a:cubicBezTo>
                          <a:pt x="0" y="1205495"/>
                          <a:pt x="145884" y="824395"/>
                          <a:pt x="409581" y="530586"/>
                        </a:cubicBezTo>
                        <a:lnTo>
                          <a:pt x="507856" y="619055"/>
                        </a:lnTo>
                        <a:cubicBezTo>
                          <a:pt x="266019" y="888582"/>
                          <a:pt x="132230" y="1238167"/>
                          <a:pt x="132230" y="1600552"/>
                        </a:cubicBezTo>
                        <a:lnTo>
                          <a:pt x="0" y="160055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2" name="组合 604"/>
              <p:cNvGrpSpPr/>
              <p:nvPr/>
            </p:nvGrpSpPr>
            <p:grpSpPr>
              <a:xfrm>
                <a:off x="7086960" y="4621680"/>
                <a:ext cx="1488960" cy="1489320"/>
                <a:chOff x="7086960" y="4621680"/>
                <a:chExt cx="1488960" cy="1489320"/>
              </a:xfrm>
            </p:grpSpPr>
            <p:grpSp>
              <p:nvGrpSpPr>
                <p:cNvPr id="583" name="组合 605"/>
                <p:cNvGrpSpPr/>
                <p:nvPr/>
              </p:nvGrpSpPr>
              <p:grpSpPr>
                <a:xfrm>
                  <a:off x="7086960" y="4621680"/>
                  <a:ext cx="1488600" cy="1488600"/>
                  <a:chOff x="7086960" y="4621680"/>
                  <a:chExt cx="1488600" cy="1488600"/>
                </a:xfrm>
              </p:grpSpPr>
              <p:sp>
                <p:nvSpPr>
                  <p:cNvPr id="584" name="空心弧 609"/>
                  <p:cNvSpPr/>
                  <p:nvPr/>
                </p:nvSpPr>
                <p:spPr>
                  <a:xfrm rot="11008800">
                    <a:off x="7303680" y="483912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76" h="3201103">
                        <a:moveTo>
                          <a:pt x="0" y="1600552"/>
                        </a:moveTo>
                        <a:cubicBezTo>
                          <a:pt x="0" y="1205495"/>
                          <a:pt x="145884" y="824395"/>
                          <a:pt x="409581" y="530586"/>
                        </a:cubicBezTo>
                        <a:lnTo>
                          <a:pt x="507856" y="619055"/>
                        </a:lnTo>
                        <a:cubicBezTo>
                          <a:pt x="266019" y="888582"/>
                          <a:pt x="132230" y="1238167"/>
                          <a:pt x="132230" y="1600552"/>
                        </a:cubicBezTo>
                        <a:lnTo>
                          <a:pt x="0" y="160055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空心弧 610"/>
                  <p:cNvSpPr/>
                  <p:nvPr/>
                </p:nvSpPr>
                <p:spPr>
                  <a:xfrm rot="13708800">
                    <a:off x="7304040" y="483876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103" h="3196276">
                        <a:moveTo>
                          <a:pt x="0" y="1598138"/>
                        </a:moveTo>
                        <a:cubicBezTo>
                          <a:pt x="0" y="1202850"/>
                          <a:pt x="146717" y="821587"/>
                          <a:pt x="411807" y="528003"/>
                        </a:cubicBezTo>
                        <a:lnTo>
                          <a:pt x="510082" y="616472"/>
                        </a:lnTo>
                        <a:cubicBezTo>
                          <a:pt x="266851" y="885774"/>
                          <a:pt x="132230" y="1235522"/>
                          <a:pt x="132230" y="1598138"/>
                        </a:cubicBezTo>
                        <a:lnTo>
                          <a:pt x="0" y="15981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组合 606"/>
                <p:cNvGrpSpPr/>
                <p:nvPr/>
              </p:nvGrpSpPr>
              <p:grpSpPr>
                <a:xfrm>
                  <a:off x="7087320" y="4622400"/>
                  <a:ext cx="1488600" cy="1488600"/>
                  <a:chOff x="7087320" y="4622400"/>
                  <a:chExt cx="1488600" cy="1488600"/>
                </a:xfrm>
              </p:grpSpPr>
              <p:sp>
                <p:nvSpPr>
                  <p:cNvPr id="587" name="空心弧 607"/>
                  <p:cNvSpPr/>
                  <p:nvPr/>
                </p:nvSpPr>
                <p:spPr>
                  <a:xfrm rot="16408800">
                    <a:off x="7304040" y="483912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1103" h="3196276">
                        <a:moveTo>
                          <a:pt x="0" y="1598138"/>
                        </a:moveTo>
                        <a:cubicBezTo>
                          <a:pt x="0" y="1202850"/>
                          <a:pt x="146717" y="821587"/>
                          <a:pt x="411807" y="528003"/>
                        </a:cubicBezTo>
                        <a:lnTo>
                          <a:pt x="510082" y="616472"/>
                        </a:lnTo>
                        <a:cubicBezTo>
                          <a:pt x="266851" y="885774"/>
                          <a:pt x="132230" y="1235522"/>
                          <a:pt x="132230" y="1598138"/>
                        </a:cubicBezTo>
                        <a:lnTo>
                          <a:pt x="0" y="15981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空心弧 608"/>
                  <p:cNvSpPr/>
                  <p:nvPr/>
                </p:nvSpPr>
                <p:spPr>
                  <a:xfrm rot="19108800">
                    <a:off x="7304040" y="4839480"/>
                    <a:ext cx="10544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76" h="3201103">
                        <a:moveTo>
                          <a:pt x="0" y="1600552"/>
                        </a:moveTo>
                        <a:cubicBezTo>
                          <a:pt x="0" y="1205495"/>
                          <a:pt x="145884" y="824395"/>
                          <a:pt x="409581" y="530586"/>
                        </a:cubicBezTo>
                        <a:lnTo>
                          <a:pt x="507856" y="619055"/>
                        </a:lnTo>
                        <a:cubicBezTo>
                          <a:pt x="266019" y="888582"/>
                          <a:pt x="132230" y="1238167"/>
                          <a:pt x="132230" y="1600552"/>
                        </a:cubicBezTo>
                        <a:lnTo>
                          <a:pt x="0" y="160055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9" name="组合 414"/>
            <p:cNvGrpSpPr/>
            <p:nvPr/>
          </p:nvGrpSpPr>
          <p:grpSpPr>
            <a:xfrm>
              <a:off x="8710560" y="4051080"/>
              <a:ext cx="1018080" cy="1018080"/>
              <a:chOff x="8710560" y="4051080"/>
              <a:chExt cx="1018080" cy="1018080"/>
            </a:xfrm>
          </p:grpSpPr>
          <p:grpSp>
            <p:nvGrpSpPr>
              <p:cNvPr id="590" name="组合 589"/>
              <p:cNvGrpSpPr/>
              <p:nvPr/>
            </p:nvGrpSpPr>
            <p:grpSpPr>
              <a:xfrm>
                <a:off x="8710560" y="4051800"/>
                <a:ext cx="1017720" cy="1017360"/>
                <a:chOff x="8710560" y="4051800"/>
                <a:chExt cx="1017720" cy="1017360"/>
              </a:xfrm>
            </p:grpSpPr>
            <p:grpSp>
              <p:nvGrpSpPr>
                <p:cNvPr id="591" name="组合 597"/>
                <p:cNvGrpSpPr/>
                <p:nvPr/>
              </p:nvGrpSpPr>
              <p:grpSpPr>
                <a:xfrm>
                  <a:off x="8711280" y="4052160"/>
                  <a:ext cx="1017000" cy="1017000"/>
                  <a:chOff x="8711280" y="4052160"/>
                  <a:chExt cx="1017000" cy="1017000"/>
                </a:xfrm>
              </p:grpSpPr>
              <p:sp>
                <p:nvSpPr>
                  <p:cNvPr id="592" name="空心弧 601"/>
                  <p:cNvSpPr/>
                  <p:nvPr/>
                </p:nvSpPr>
                <p:spPr>
                  <a:xfrm rot="208200">
                    <a:off x="885924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空心弧 602"/>
                  <p:cNvSpPr/>
                  <p:nvPr/>
                </p:nvSpPr>
                <p:spPr>
                  <a:xfrm rot="2908800">
                    <a:off x="8859240" y="420012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组合 598"/>
                <p:cNvGrpSpPr/>
                <p:nvPr/>
              </p:nvGrpSpPr>
              <p:grpSpPr>
                <a:xfrm>
                  <a:off x="8710560" y="4051800"/>
                  <a:ext cx="1017000" cy="1017000"/>
                  <a:chOff x="8710560" y="4051800"/>
                  <a:chExt cx="1017000" cy="1017000"/>
                </a:xfrm>
              </p:grpSpPr>
              <p:sp>
                <p:nvSpPr>
                  <p:cNvPr id="595" name="空心弧 599"/>
                  <p:cNvSpPr/>
                  <p:nvPr/>
                </p:nvSpPr>
                <p:spPr>
                  <a:xfrm rot="5608800">
                    <a:off x="885924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空心弧 600"/>
                  <p:cNvSpPr/>
                  <p:nvPr/>
                </p:nvSpPr>
                <p:spPr>
                  <a:xfrm rot="8308800">
                    <a:off x="885888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组合 590"/>
              <p:cNvGrpSpPr/>
              <p:nvPr/>
            </p:nvGrpSpPr>
            <p:grpSpPr>
              <a:xfrm>
                <a:off x="8711280" y="4051080"/>
                <a:ext cx="1017360" cy="1017360"/>
                <a:chOff x="8711280" y="4051080"/>
                <a:chExt cx="1017360" cy="1017360"/>
              </a:xfrm>
            </p:grpSpPr>
            <p:grpSp>
              <p:nvGrpSpPr>
                <p:cNvPr id="598" name="组合 591"/>
                <p:cNvGrpSpPr/>
                <p:nvPr/>
              </p:nvGrpSpPr>
              <p:grpSpPr>
                <a:xfrm>
                  <a:off x="8711280" y="4051080"/>
                  <a:ext cx="1016640" cy="1017000"/>
                  <a:chOff x="8711280" y="4051080"/>
                  <a:chExt cx="1016640" cy="1017000"/>
                </a:xfrm>
              </p:grpSpPr>
              <p:sp>
                <p:nvSpPr>
                  <p:cNvPr id="599" name="空心弧 595"/>
                  <p:cNvSpPr/>
                  <p:nvPr/>
                </p:nvSpPr>
                <p:spPr>
                  <a:xfrm rot="11008800">
                    <a:off x="885924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空心弧 596"/>
                  <p:cNvSpPr/>
                  <p:nvPr/>
                </p:nvSpPr>
                <p:spPr>
                  <a:xfrm rot="13708800">
                    <a:off x="8859240" y="419940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组合 592"/>
                <p:cNvGrpSpPr/>
                <p:nvPr/>
              </p:nvGrpSpPr>
              <p:grpSpPr>
                <a:xfrm>
                  <a:off x="8711640" y="4051800"/>
                  <a:ext cx="1017000" cy="1016640"/>
                  <a:chOff x="8711640" y="4051800"/>
                  <a:chExt cx="1017000" cy="1016640"/>
                </a:xfrm>
              </p:grpSpPr>
              <p:sp>
                <p:nvSpPr>
                  <p:cNvPr id="602" name="空心弧 593"/>
                  <p:cNvSpPr/>
                  <p:nvPr/>
                </p:nvSpPr>
                <p:spPr>
                  <a:xfrm rot="16408800">
                    <a:off x="885924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空心弧 594"/>
                  <p:cNvSpPr/>
                  <p:nvPr/>
                </p:nvSpPr>
                <p:spPr>
                  <a:xfrm rot="19108800">
                    <a:off x="8859600" y="41997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4" name="组合 416"/>
            <p:cNvGrpSpPr/>
            <p:nvPr/>
          </p:nvGrpSpPr>
          <p:grpSpPr>
            <a:xfrm>
              <a:off x="9747360" y="3087000"/>
              <a:ext cx="1272960" cy="1272960"/>
              <a:chOff x="9747360" y="3087000"/>
              <a:chExt cx="1272960" cy="1272960"/>
            </a:xfrm>
          </p:grpSpPr>
          <p:grpSp>
            <p:nvGrpSpPr>
              <p:cNvPr id="605" name="组合 575"/>
              <p:cNvGrpSpPr/>
              <p:nvPr/>
            </p:nvGrpSpPr>
            <p:grpSpPr>
              <a:xfrm>
                <a:off x="9747360" y="3087000"/>
                <a:ext cx="1272960" cy="1272600"/>
                <a:chOff x="9747360" y="3087000"/>
                <a:chExt cx="1272960" cy="1272600"/>
              </a:xfrm>
            </p:grpSpPr>
            <p:grpSp>
              <p:nvGrpSpPr>
                <p:cNvPr id="606" name="组合 583"/>
                <p:cNvGrpSpPr/>
                <p:nvPr/>
              </p:nvGrpSpPr>
              <p:grpSpPr>
                <a:xfrm>
                  <a:off x="9747360" y="3087000"/>
                  <a:ext cx="1272600" cy="1272600"/>
                  <a:chOff x="9747360" y="3087000"/>
                  <a:chExt cx="1272600" cy="1272600"/>
                </a:xfrm>
              </p:grpSpPr>
              <p:sp>
                <p:nvSpPr>
                  <p:cNvPr id="607" name="空心弧 587"/>
                  <p:cNvSpPr/>
                  <p:nvPr/>
                </p:nvSpPr>
                <p:spPr>
                  <a:xfrm rot="208200">
                    <a:off x="9932760" y="327276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47" h="3192529">
                        <a:moveTo>
                          <a:pt x="0" y="1596265"/>
                        </a:moveTo>
                        <a:cubicBezTo>
                          <a:pt x="0" y="1201372"/>
                          <a:pt x="146632" y="820495"/>
                          <a:pt x="411559" y="527237"/>
                        </a:cubicBezTo>
                        <a:lnTo>
                          <a:pt x="509719" y="615603"/>
                        </a:lnTo>
                        <a:cubicBezTo>
                          <a:pt x="266625" y="884607"/>
                          <a:pt x="132075" y="1234006"/>
                          <a:pt x="132075" y="1596265"/>
                        </a:cubicBezTo>
                        <a:lnTo>
                          <a:pt x="0" y="15962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空心弧 588"/>
                  <p:cNvSpPr/>
                  <p:nvPr/>
                </p:nvSpPr>
                <p:spPr>
                  <a:xfrm rot="2908800">
                    <a:off x="9932760" y="327240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2529" h="3198147">
                        <a:moveTo>
                          <a:pt x="0" y="1599074"/>
                        </a:moveTo>
                        <a:cubicBezTo>
                          <a:pt x="0" y="1204450"/>
                          <a:pt x="145663" y="823763"/>
                          <a:pt x="408969" y="530243"/>
                        </a:cubicBezTo>
                        <a:lnTo>
                          <a:pt x="507129" y="618608"/>
                        </a:lnTo>
                        <a:cubicBezTo>
                          <a:pt x="265657" y="887874"/>
                          <a:pt x="132075" y="1237083"/>
                          <a:pt x="132075" y="1599073"/>
                        </a:cubicBezTo>
                        <a:lnTo>
                          <a:pt x="0" y="159907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组合 584"/>
                <p:cNvGrpSpPr/>
                <p:nvPr/>
              </p:nvGrpSpPr>
              <p:grpSpPr>
                <a:xfrm>
                  <a:off x="9747720" y="3087000"/>
                  <a:ext cx="1272600" cy="1272600"/>
                  <a:chOff x="9747720" y="3087000"/>
                  <a:chExt cx="1272600" cy="1272600"/>
                </a:xfrm>
              </p:grpSpPr>
              <p:sp>
                <p:nvSpPr>
                  <p:cNvPr id="610" name="空心弧 585"/>
                  <p:cNvSpPr/>
                  <p:nvPr/>
                </p:nvSpPr>
                <p:spPr>
                  <a:xfrm rot="5608800">
                    <a:off x="9932760" y="327240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2529" h="3198147">
                        <a:moveTo>
                          <a:pt x="0" y="1599074"/>
                        </a:moveTo>
                        <a:cubicBezTo>
                          <a:pt x="0" y="1204450"/>
                          <a:pt x="145663" y="823763"/>
                          <a:pt x="408969" y="530243"/>
                        </a:cubicBezTo>
                        <a:lnTo>
                          <a:pt x="507129" y="618608"/>
                        </a:lnTo>
                        <a:cubicBezTo>
                          <a:pt x="265657" y="887874"/>
                          <a:pt x="132075" y="1237083"/>
                          <a:pt x="132075" y="1599073"/>
                        </a:cubicBezTo>
                        <a:lnTo>
                          <a:pt x="0" y="159907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空心弧 586"/>
                  <p:cNvSpPr/>
                  <p:nvPr/>
                </p:nvSpPr>
                <p:spPr>
                  <a:xfrm rot="8308800">
                    <a:off x="9933120" y="327240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47" h="3192529">
                        <a:moveTo>
                          <a:pt x="0" y="1596265"/>
                        </a:moveTo>
                        <a:cubicBezTo>
                          <a:pt x="0" y="1201372"/>
                          <a:pt x="146632" y="820495"/>
                          <a:pt x="411559" y="527237"/>
                        </a:cubicBezTo>
                        <a:lnTo>
                          <a:pt x="509719" y="615603"/>
                        </a:lnTo>
                        <a:cubicBezTo>
                          <a:pt x="266625" y="884607"/>
                          <a:pt x="132075" y="1234006"/>
                          <a:pt x="132075" y="1596265"/>
                        </a:cubicBezTo>
                        <a:lnTo>
                          <a:pt x="0" y="15962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2" name="组合 576"/>
              <p:cNvGrpSpPr/>
              <p:nvPr/>
            </p:nvGrpSpPr>
            <p:grpSpPr>
              <a:xfrm>
                <a:off x="9747360" y="3087360"/>
                <a:ext cx="1272960" cy="1272600"/>
                <a:chOff x="9747360" y="3087360"/>
                <a:chExt cx="1272960" cy="1272600"/>
              </a:xfrm>
            </p:grpSpPr>
            <p:grpSp>
              <p:nvGrpSpPr>
                <p:cNvPr id="613" name="组合 577"/>
                <p:cNvGrpSpPr/>
                <p:nvPr/>
              </p:nvGrpSpPr>
              <p:grpSpPr>
                <a:xfrm>
                  <a:off x="9747720" y="3087360"/>
                  <a:ext cx="1272600" cy="1272600"/>
                  <a:chOff x="9747720" y="3087360"/>
                  <a:chExt cx="1272600" cy="1272600"/>
                </a:xfrm>
              </p:grpSpPr>
              <p:sp>
                <p:nvSpPr>
                  <p:cNvPr id="614" name="空心弧 581"/>
                  <p:cNvSpPr/>
                  <p:nvPr/>
                </p:nvSpPr>
                <p:spPr>
                  <a:xfrm rot="11008800">
                    <a:off x="9933120" y="327240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47" h="3192529">
                        <a:moveTo>
                          <a:pt x="0" y="1596265"/>
                        </a:moveTo>
                        <a:cubicBezTo>
                          <a:pt x="0" y="1201372"/>
                          <a:pt x="146632" y="820495"/>
                          <a:pt x="411559" y="527237"/>
                        </a:cubicBezTo>
                        <a:lnTo>
                          <a:pt x="509719" y="615603"/>
                        </a:lnTo>
                        <a:cubicBezTo>
                          <a:pt x="266625" y="884607"/>
                          <a:pt x="132075" y="1234006"/>
                          <a:pt x="132075" y="1596265"/>
                        </a:cubicBezTo>
                        <a:lnTo>
                          <a:pt x="0" y="15962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空心弧 582"/>
                  <p:cNvSpPr/>
                  <p:nvPr/>
                </p:nvSpPr>
                <p:spPr>
                  <a:xfrm rot="13708800">
                    <a:off x="9933120" y="327276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2529" h="3198147">
                        <a:moveTo>
                          <a:pt x="0" y="1599074"/>
                        </a:moveTo>
                        <a:cubicBezTo>
                          <a:pt x="0" y="1204450"/>
                          <a:pt x="145663" y="823763"/>
                          <a:pt x="408969" y="530243"/>
                        </a:cubicBezTo>
                        <a:lnTo>
                          <a:pt x="507129" y="618608"/>
                        </a:lnTo>
                        <a:cubicBezTo>
                          <a:pt x="265657" y="887874"/>
                          <a:pt x="132075" y="1237083"/>
                          <a:pt x="132075" y="1599073"/>
                        </a:cubicBezTo>
                        <a:lnTo>
                          <a:pt x="0" y="159907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组合 578"/>
                <p:cNvGrpSpPr/>
                <p:nvPr/>
              </p:nvGrpSpPr>
              <p:grpSpPr>
                <a:xfrm>
                  <a:off x="9747360" y="3087360"/>
                  <a:ext cx="1272600" cy="1272600"/>
                  <a:chOff x="9747360" y="3087360"/>
                  <a:chExt cx="1272600" cy="1272600"/>
                </a:xfrm>
              </p:grpSpPr>
              <p:sp>
                <p:nvSpPr>
                  <p:cNvPr id="617" name="空心弧 579"/>
                  <p:cNvSpPr/>
                  <p:nvPr/>
                </p:nvSpPr>
                <p:spPr>
                  <a:xfrm rot="16408800">
                    <a:off x="9933120" y="327276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2529" h="3198147">
                        <a:moveTo>
                          <a:pt x="0" y="1599074"/>
                        </a:moveTo>
                        <a:cubicBezTo>
                          <a:pt x="0" y="1204450"/>
                          <a:pt x="145663" y="823763"/>
                          <a:pt x="408969" y="530243"/>
                        </a:cubicBezTo>
                        <a:lnTo>
                          <a:pt x="507129" y="618608"/>
                        </a:lnTo>
                        <a:cubicBezTo>
                          <a:pt x="265657" y="887874"/>
                          <a:pt x="132075" y="1237083"/>
                          <a:pt x="132075" y="1599073"/>
                        </a:cubicBezTo>
                        <a:lnTo>
                          <a:pt x="0" y="159907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空心弧 580"/>
                  <p:cNvSpPr/>
                  <p:nvPr/>
                </p:nvSpPr>
                <p:spPr>
                  <a:xfrm rot="19108800">
                    <a:off x="9932760" y="3272760"/>
                    <a:ext cx="901440" cy="90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8147" h="3192529">
                        <a:moveTo>
                          <a:pt x="0" y="1596265"/>
                        </a:moveTo>
                        <a:cubicBezTo>
                          <a:pt x="0" y="1201372"/>
                          <a:pt x="146632" y="820495"/>
                          <a:pt x="411559" y="527237"/>
                        </a:cubicBezTo>
                        <a:lnTo>
                          <a:pt x="509719" y="615603"/>
                        </a:lnTo>
                        <a:cubicBezTo>
                          <a:pt x="266625" y="884607"/>
                          <a:pt x="132075" y="1234006"/>
                          <a:pt x="132075" y="1596265"/>
                        </a:cubicBezTo>
                        <a:lnTo>
                          <a:pt x="0" y="15962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9" name="组合 418"/>
            <p:cNvGrpSpPr/>
            <p:nvPr/>
          </p:nvGrpSpPr>
          <p:grpSpPr>
            <a:xfrm>
              <a:off x="9216000" y="1452240"/>
              <a:ext cx="1602720" cy="1602720"/>
              <a:chOff x="9216000" y="1452240"/>
              <a:chExt cx="1602720" cy="1602720"/>
            </a:xfrm>
          </p:grpSpPr>
          <p:grpSp>
            <p:nvGrpSpPr>
              <p:cNvPr id="620" name="组合 561"/>
              <p:cNvGrpSpPr/>
              <p:nvPr/>
            </p:nvGrpSpPr>
            <p:grpSpPr>
              <a:xfrm>
                <a:off x="9216000" y="1452240"/>
                <a:ext cx="1602720" cy="1602720"/>
                <a:chOff x="9216000" y="1452240"/>
                <a:chExt cx="1602720" cy="1602720"/>
              </a:xfrm>
            </p:grpSpPr>
            <p:grpSp>
              <p:nvGrpSpPr>
                <p:cNvPr id="621" name="组合 569"/>
                <p:cNvGrpSpPr/>
                <p:nvPr/>
              </p:nvGrpSpPr>
              <p:grpSpPr>
                <a:xfrm>
                  <a:off x="9216000" y="1452240"/>
                  <a:ext cx="1602720" cy="1602720"/>
                  <a:chOff x="9216000" y="1452240"/>
                  <a:chExt cx="1602720" cy="1602720"/>
                </a:xfrm>
              </p:grpSpPr>
              <p:sp>
                <p:nvSpPr>
                  <p:cNvPr id="622" name="空心弧 573"/>
                  <p:cNvSpPr/>
                  <p:nvPr/>
                </p:nvSpPr>
                <p:spPr>
                  <a:xfrm rot="208200">
                    <a:off x="9449280" y="168552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192" h="3195736">
                        <a:moveTo>
                          <a:pt x="0" y="1597868"/>
                        </a:moveTo>
                        <a:cubicBezTo>
                          <a:pt x="0" y="1202678"/>
                          <a:pt x="146651" y="821508"/>
                          <a:pt x="411628" y="527982"/>
                        </a:cubicBezTo>
                        <a:lnTo>
                          <a:pt x="509886" y="616436"/>
                        </a:lnTo>
                        <a:cubicBezTo>
                          <a:pt x="266765" y="885684"/>
                          <a:pt x="132207" y="1235344"/>
                          <a:pt x="132207" y="1597868"/>
                        </a:cubicBezTo>
                        <a:lnTo>
                          <a:pt x="0" y="15978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空心弧 574"/>
                  <p:cNvSpPr/>
                  <p:nvPr/>
                </p:nvSpPr>
                <p:spPr>
                  <a:xfrm rot="2908800">
                    <a:off x="9449640" y="168588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736" h="3200192">
                        <a:moveTo>
                          <a:pt x="0" y="1600096"/>
                        </a:moveTo>
                        <a:cubicBezTo>
                          <a:pt x="0" y="1205120"/>
                          <a:pt x="145883" y="824100"/>
                          <a:pt x="409573" y="530366"/>
                        </a:cubicBezTo>
                        <a:lnTo>
                          <a:pt x="507832" y="618820"/>
                        </a:lnTo>
                        <a:cubicBezTo>
                          <a:pt x="265997" y="888276"/>
                          <a:pt x="132208" y="1237786"/>
                          <a:pt x="132208" y="1600095"/>
                        </a:cubicBezTo>
                        <a:lnTo>
                          <a:pt x="0" y="160009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组合 570"/>
                <p:cNvGrpSpPr/>
                <p:nvPr/>
              </p:nvGrpSpPr>
              <p:grpSpPr>
                <a:xfrm>
                  <a:off x="9216000" y="1452240"/>
                  <a:ext cx="1602720" cy="1602720"/>
                  <a:chOff x="9216000" y="1452240"/>
                  <a:chExt cx="1602720" cy="1602720"/>
                </a:xfrm>
              </p:grpSpPr>
              <p:sp>
                <p:nvSpPr>
                  <p:cNvPr id="625" name="空心弧 571"/>
                  <p:cNvSpPr/>
                  <p:nvPr/>
                </p:nvSpPr>
                <p:spPr>
                  <a:xfrm rot="5608800">
                    <a:off x="9449640" y="168552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736" h="3200192">
                        <a:moveTo>
                          <a:pt x="0" y="1600096"/>
                        </a:moveTo>
                        <a:cubicBezTo>
                          <a:pt x="0" y="1205120"/>
                          <a:pt x="145883" y="824100"/>
                          <a:pt x="409573" y="530366"/>
                        </a:cubicBezTo>
                        <a:lnTo>
                          <a:pt x="507832" y="618820"/>
                        </a:lnTo>
                        <a:cubicBezTo>
                          <a:pt x="265997" y="888276"/>
                          <a:pt x="132208" y="1237786"/>
                          <a:pt x="132208" y="1600095"/>
                        </a:cubicBezTo>
                        <a:lnTo>
                          <a:pt x="0" y="160009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空心弧 572"/>
                  <p:cNvSpPr/>
                  <p:nvPr/>
                </p:nvSpPr>
                <p:spPr>
                  <a:xfrm rot="8308800">
                    <a:off x="9449280" y="168588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192" h="3195736">
                        <a:moveTo>
                          <a:pt x="0" y="1597868"/>
                        </a:moveTo>
                        <a:cubicBezTo>
                          <a:pt x="0" y="1202678"/>
                          <a:pt x="146651" y="821508"/>
                          <a:pt x="411628" y="527982"/>
                        </a:cubicBezTo>
                        <a:lnTo>
                          <a:pt x="509886" y="616436"/>
                        </a:lnTo>
                        <a:cubicBezTo>
                          <a:pt x="266765" y="885684"/>
                          <a:pt x="132207" y="1235344"/>
                          <a:pt x="132207" y="1597868"/>
                        </a:cubicBezTo>
                        <a:lnTo>
                          <a:pt x="0" y="15978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组合 562"/>
              <p:cNvGrpSpPr/>
              <p:nvPr/>
            </p:nvGrpSpPr>
            <p:grpSpPr>
              <a:xfrm>
                <a:off x="9216000" y="1452240"/>
                <a:ext cx="1602720" cy="1602720"/>
                <a:chOff x="9216000" y="1452240"/>
                <a:chExt cx="1602720" cy="1602720"/>
              </a:xfrm>
            </p:grpSpPr>
            <p:grpSp>
              <p:nvGrpSpPr>
                <p:cNvPr id="628" name="组合 563"/>
                <p:cNvGrpSpPr/>
                <p:nvPr/>
              </p:nvGrpSpPr>
              <p:grpSpPr>
                <a:xfrm>
                  <a:off x="9216000" y="1452240"/>
                  <a:ext cx="1602720" cy="1602720"/>
                  <a:chOff x="9216000" y="1452240"/>
                  <a:chExt cx="1602720" cy="1602720"/>
                </a:xfrm>
              </p:grpSpPr>
              <p:sp>
                <p:nvSpPr>
                  <p:cNvPr id="629" name="空心弧 567"/>
                  <p:cNvSpPr/>
                  <p:nvPr/>
                </p:nvSpPr>
                <p:spPr>
                  <a:xfrm rot="11008800">
                    <a:off x="9449640" y="168588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192" h="3195736">
                        <a:moveTo>
                          <a:pt x="0" y="1597868"/>
                        </a:moveTo>
                        <a:cubicBezTo>
                          <a:pt x="0" y="1202678"/>
                          <a:pt x="146651" y="821508"/>
                          <a:pt x="411628" y="527982"/>
                        </a:cubicBezTo>
                        <a:lnTo>
                          <a:pt x="509886" y="616436"/>
                        </a:lnTo>
                        <a:cubicBezTo>
                          <a:pt x="266765" y="885684"/>
                          <a:pt x="132207" y="1235344"/>
                          <a:pt x="132207" y="1597868"/>
                        </a:cubicBezTo>
                        <a:lnTo>
                          <a:pt x="0" y="15978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空心弧 568"/>
                  <p:cNvSpPr/>
                  <p:nvPr/>
                </p:nvSpPr>
                <p:spPr>
                  <a:xfrm rot="13708800">
                    <a:off x="9449640" y="168552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736" h="3200192">
                        <a:moveTo>
                          <a:pt x="0" y="1600096"/>
                        </a:moveTo>
                        <a:cubicBezTo>
                          <a:pt x="0" y="1205120"/>
                          <a:pt x="145883" y="824100"/>
                          <a:pt x="409573" y="530366"/>
                        </a:cubicBezTo>
                        <a:lnTo>
                          <a:pt x="507832" y="618820"/>
                        </a:lnTo>
                        <a:cubicBezTo>
                          <a:pt x="265997" y="888276"/>
                          <a:pt x="132208" y="1237786"/>
                          <a:pt x="132208" y="1600095"/>
                        </a:cubicBezTo>
                        <a:lnTo>
                          <a:pt x="0" y="160009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组合 564"/>
                <p:cNvGrpSpPr/>
                <p:nvPr/>
              </p:nvGrpSpPr>
              <p:grpSpPr>
                <a:xfrm>
                  <a:off x="9216000" y="1452240"/>
                  <a:ext cx="1602720" cy="1602720"/>
                  <a:chOff x="9216000" y="1452240"/>
                  <a:chExt cx="1602720" cy="1602720"/>
                </a:xfrm>
              </p:grpSpPr>
              <p:sp>
                <p:nvSpPr>
                  <p:cNvPr id="632" name="空心弧 565"/>
                  <p:cNvSpPr/>
                  <p:nvPr/>
                </p:nvSpPr>
                <p:spPr>
                  <a:xfrm rot="16408800">
                    <a:off x="9449280" y="168588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5736" h="3200192">
                        <a:moveTo>
                          <a:pt x="0" y="1600096"/>
                        </a:moveTo>
                        <a:cubicBezTo>
                          <a:pt x="0" y="1205120"/>
                          <a:pt x="145883" y="824100"/>
                          <a:pt x="409573" y="530366"/>
                        </a:cubicBezTo>
                        <a:lnTo>
                          <a:pt x="507832" y="618820"/>
                        </a:lnTo>
                        <a:cubicBezTo>
                          <a:pt x="265997" y="888276"/>
                          <a:pt x="132208" y="1237786"/>
                          <a:pt x="132208" y="1600095"/>
                        </a:cubicBezTo>
                        <a:lnTo>
                          <a:pt x="0" y="1600096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空心弧 566"/>
                  <p:cNvSpPr/>
                  <p:nvPr/>
                </p:nvSpPr>
                <p:spPr>
                  <a:xfrm rot="19108800">
                    <a:off x="9449640" y="1685880"/>
                    <a:ext cx="1135440" cy="11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0192" h="3195736">
                        <a:moveTo>
                          <a:pt x="0" y="1597868"/>
                        </a:moveTo>
                        <a:cubicBezTo>
                          <a:pt x="0" y="1202678"/>
                          <a:pt x="146651" y="821508"/>
                          <a:pt x="411628" y="527982"/>
                        </a:cubicBezTo>
                        <a:lnTo>
                          <a:pt x="509886" y="616436"/>
                        </a:lnTo>
                        <a:cubicBezTo>
                          <a:pt x="266765" y="885684"/>
                          <a:pt x="132207" y="1235344"/>
                          <a:pt x="132207" y="1597868"/>
                        </a:cubicBezTo>
                        <a:lnTo>
                          <a:pt x="0" y="159786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4" name="组合 420"/>
            <p:cNvGrpSpPr/>
            <p:nvPr/>
          </p:nvGrpSpPr>
          <p:grpSpPr>
            <a:xfrm>
              <a:off x="9633240" y="5272200"/>
              <a:ext cx="769680" cy="769680"/>
              <a:chOff x="9633240" y="5272200"/>
              <a:chExt cx="769680" cy="769680"/>
            </a:xfrm>
          </p:grpSpPr>
          <p:grpSp>
            <p:nvGrpSpPr>
              <p:cNvPr id="635" name="组合 547"/>
              <p:cNvGrpSpPr/>
              <p:nvPr/>
            </p:nvGrpSpPr>
            <p:grpSpPr>
              <a:xfrm>
                <a:off x="9633240" y="5272560"/>
                <a:ext cx="769320" cy="769320"/>
                <a:chOff x="9633240" y="5272560"/>
                <a:chExt cx="769320" cy="769320"/>
              </a:xfrm>
            </p:grpSpPr>
            <p:grpSp>
              <p:nvGrpSpPr>
                <p:cNvPr id="636" name="组合 555"/>
                <p:cNvGrpSpPr/>
                <p:nvPr/>
              </p:nvGrpSpPr>
              <p:grpSpPr>
                <a:xfrm>
                  <a:off x="9633600" y="5272920"/>
                  <a:ext cx="768960" cy="768960"/>
                  <a:chOff x="9633600" y="5272920"/>
                  <a:chExt cx="768960" cy="768960"/>
                </a:xfrm>
              </p:grpSpPr>
              <p:sp>
                <p:nvSpPr>
                  <p:cNvPr id="637" name="空心弧 559"/>
                  <p:cNvSpPr/>
                  <p:nvPr/>
                </p:nvSpPr>
                <p:spPr>
                  <a:xfrm rot="208200">
                    <a:off x="9745560" y="538488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68" h="3196286">
                        <a:moveTo>
                          <a:pt x="0" y="1598143"/>
                        </a:moveTo>
                        <a:cubicBezTo>
                          <a:pt x="0" y="1203269"/>
                          <a:pt x="146188" y="822375"/>
                          <a:pt x="410379" y="528899"/>
                        </a:cubicBezTo>
                        <a:lnTo>
                          <a:pt x="508654" y="617368"/>
                        </a:lnTo>
                        <a:cubicBezTo>
                          <a:pt x="266323" y="886562"/>
                          <a:pt x="132230" y="1235940"/>
                          <a:pt x="132230" y="1598143"/>
                        </a:cubicBezTo>
                        <a:lnTo>
                          <a:pt x="0" y="159814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空心弧 560"/>
                  <p:cNvSpPr/>
                  <p:nvPr/>
                </p:nvSpPr>
                <p:spPr>
                  <a:xfrm rot="2908800">
                    <a:off x="9745560" y="538488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86" h="3196268">
                        <a:moveTo>
                          <a:pt x="0" y="1598134"/>
                        </a:moveTo>
                        <a:cubicBezTo>
                          <a:pt x="0" y="1203259"/>
                          <a:pt x="146191" y="822364"/>
                          <a:pt x="410387" y="528889"/>
                        </a:cubicBezTo>
                        <a:lnTo>
                          <a:pt x="508662" y="617358"/>
                        </a:lnTo>
                        <a:cubicBezTo>
                          <a:pt x="266325" y="886551"/>
                          <a:pt x="132230" y="1235930"/>
                          <a:pt x="132230" y="1598134"/>
                        </a:cubicBezTo>
                        <a:lnTo>
                          <a:pt x="0" y="159813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组合 556"/>
                <p:cNvGrpSpPr/>
                <p:nvPr/>
              </p:nvGrpSpPr>
              <p:grpSpPr>
                <a:xfrm>
                  <a:off x="9633240" y="5272560"/>
                  <a:ext cx="768960" cy="768960"/>
                  <a:chOff x="9633240" y="5272560"/>
                  <a:chExt cx="768960" cy="768960"/>
                </a:xfrm>
              </p:grpSpPr>
              <p:sp>
                <p:nvSpPr>
                  <p:cNvPr id="640" name="空心弧 557"/>
                  <p:cNvSpPr/>
                  <p:nvPr/>
                </p:nvSpPr>
                <p:spPr>
                  <a:xfrm rot="5608800">
                    <a:off x="9745200" y="538452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86" h="3196268">
                        <a:moveTo>
                          <a:pt x="0" y="1598134"/>
                        </a:moveTo>
                        <a:cubicBezTo>
                          <a:pt x="0" y="1203259"/>
                          <a:pt x="146191" y="822364"/>
                          <a:pt x="410387" y="528889"/>
                        </a:cubicBezTo>
                        <a:lnTo>
                          <a:pt x="508662" y="617358"/>
                        </a:lnTo>
                        <a:cubicBezTo>
                          <a:pt x="266325" y="886551"/>
                          <a:pt x="132230" y="1235930"/>
                          <a:pt x="132230" y="1598134"/>
                        </a:cubicBezTo>
                        <a:lnTo>
                          <a:pt x="0" y="159813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空心弧 558"/>
                  <p:cNvSpPr/>
                  <p:nvPr/>
                </p:nvSpPr>
                <p:spPr>
                  <a:xfrm rot="8308800">
                    <a:off x="9745200" y="538452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68" h="3196286">
                        <a:moveTo>
                          <a:pt x="0" y="1598143"/>
                        </a:moveTo>
                        <a:cubicBezTo>
                          <a:pt x="0" y="1203269"/>
                          <a:pt x="146188" y="822375"/>
                          <a:pt x="410379" y="528899"/>
                        </a:cubicBezTo>
                        <a:lnTo>
                          <a:pt x="508654" y="617368"/>
                        </a:lnTo>
                        <a:cubicBezTo>
                          <a:pt x="266323" y="886562"/>
                          <a:pt x="132230" y="1235940"/>
                          <a:pt x="132230" y="1598143"/>
                        </a:cubicBezTo>
                        <a:lnTo>
                          <a:pt x="0" y="159814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组合 548"/>
              <p:cNvGrpSpPr/>
              <p:nvPr/>
            </p:nvGrpSpPr>
            <p:grpSpPr>
              <a:xfrm>
                <a:off x="9633600" y="5272200"/>
                <a:ext cx="769320" cy="769320"/>
                <a:chOff x="9633600" y="5272200"/>
                <a:chExt cx="769320" cy="769320"/>
              </a:xfrm>
            </p:grpSpPr>
            <p:grpSp>
              <p:nvGrpSpPr>
                <p:cNvPr id="643" name="组合 549"/>
                <p:cNvGrpSpPr/>
                <p:nvPr/>
              </p:nvGrpSpPr>
              <p:grpSpPr>
                <a:xfrm>
                  <a:off x="9633600" y="5272200"/>
                  <a:ext cx="768960" cy="768960"/>
                  <a:chOff x="9633600" y="5272200"/>
                  <a:chExt cx="768960" cy="768960"/>
                </a:xfrm>
              </p:grpSpPr>
              <p:sp>
                <p:nvSpPr>
                  <p:cNvPr id="644" name="空心弧 553"/>
                  <p:cNvSpPr/>
                  <p:nvPr/>
                </p:nvSpPr>
                <p:spPr>
                  <a:xfrm rot="11008800">
                    <a:off x="9745560" y="538416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68" h="3196286">
                        <a:moveTo>
                          <a:pt x="0" y="1598143"/>
                        </a:moveTo>
                        <a:cubicBezTo>
                          <a:pt x="0" y="1203269"/>
                          <a:pt x="146188" y="822375"/>
                          <a:pt x="410379" y="528899"/>
                        </a:cubicBezTo>
                        <a:lnTo>
                          <a:pt x="508654" y="617368"/>
                        </a:lnTo>
                        <a:cubicBezTo>
                          <a:pt x="266323" y="886562"/>
                          <a:pt x="132230" y="1235940"/>
                          <a:pt x="132230" y="1598143"/>
                        </a:cubicBezTo>
                        <a:lnTo>
                          <a:pt x="0" y="159814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空心弧 554"/>
                  <p:cNvSpPr/>
                  <p:nvPr/>
                </p:nvSpPr>
                <p:spPr>
                  <a:xfrm rot="13708800">
                    <a:off x="9745560" y="538416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86" h="3196268">
                        <a:moveTo>
                          <a:pt x="0" y="1598134"/>
                        </a:moveTo>
                        <a:cubicBezTo>
                          <a:pt x="0" y="1203259"/>
                          <a:pt x="146191" y="822364"/>
                          <a:pt x="410387" y="528889"/>
                        </a:cubicBezTo>
                        <a:lnTo>
                          <a:pt x="508662" y="617358"/>
                        </a:lnTo>
                        <a:cubicBezTo>
                          <a:pt x="266325" y="886551"/>
                          <a:pt x="132230" y="1235930"/>
                          <a:pt x="132230" y="1598134"/>
                        </a:cubicBezTo>
                        <a:lnTo>
                          <a:pt x="0" y="159813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组合 550"/>
                <p:cNvGrpSpPr/>
                <p:nvPr/>
              </p:nvGrpSpPr>
              <p:grpSpPr>
                <a:xfrm>
                  <a:off x="9633960" y="5272560"/>
                  <a:ext cx="768960" cy="768960"/>
                  <a:chOff x="9633960" y="5272560"/>
                  <a:chExt cx="768960" cy="768960"/>
                </a:xfrm>
              </p:grpSpPr>
              <p:sp>
                <p:nvSpPr>
                  <p:cNvPr id="647" name="空心弧 551"/>
                  <p:cNvSpPr/>
                  <p:nvPr/>
                </p:nvSpPr>
                <p:spPr>
                  <a:xfrm rot="16408800">
                    <a:off x="9745920" y="538452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86" h="3196268">
                        <a:moveTo>
                          <a:pt x="0" y="1598134"/>
                        </a:moveTo>
                        <a:cubicBezTo>
                          <a:pt x="0" y="1203259"/>
                          <a:pt x="146191" y="822364"/>
                          <a:pt x="410387" y="528889"/>
                        </a:cubicBezTo>
                        <a:lnTo>
                          <a:pt x="508662" y="617358"/>
                        </a:lnTo>
                        <a:cubicBezTo>
                          <a:pt x="266325" y="886551"/>
                          <a:pt x="132230" y="1235930"/>
                          <a:pt x="132230" y="1598134"/>
                        </a:cubicBezTo>
                        <a:lnTo>
                          <a:pt x="0" y="1598134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空心弧 552"/>
                  <p:cNvSpPr/>
                  <p:nvPr/>
                </p:nvSpPr>
                <p:spPr>
                  <a:xfrm rot="19108800">
                    <a:off x="9745920" y="5384520"/>
                    <a:ext cx="544680" cy="54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268" h="3196286">
                        <a:moveTo>
                          <a:pt x="0" y="1598143"/>
                        </a:moveTo>
                        <a:cubicBezTo>
                          <a:pt x="0" y="1203269"/>
                          <a:pt x="146188" y="822375"/>
                          <a:pt x="410379" y="528899"/>
                        </a:cubicBezTo>
                        <a:lnTo>
                          <a:pt x="508654" y="617368"/>
                        </a:lnTo>
                        <a:cubicBezTo>
                          <a:pt x="266323" y="886562"/>
                          <a:pt x="132230" y="1235940"/>
                          <a:pt x="132230" y="1598143"/>
                        </a:cubicBezTo>
                        <a:lnTo>
                          <a:pt x="0" y="159814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组合 421"/>
            <p:cNvGrpSpPr/>
            <p:nvPr/>
          </p:nvGrpSpPr>
          <p:grpSpPr>
            <a:xfrm>
              <a:off x="2034720" y="3337560"/>
              <a:ext cx="620640" cy="620640"/>
              <a:chOff x="2034720" y="3337560"/>
              <a:chExt cx="620640" cy="620640"/>
            </a:xfrm>
          </p:grpSpPr>
          <p:grpSp>
            <p:nvGrpSpPr>
              <p:cNvPr id="650" name="组合 533"/>
              <p:cNvGrpSpPr/>
              <p:nvPr/>
            </p:nvGrpSpPr>
            <p:grpSpPr>
              <a:xfrm>
                <a:off x="2034720" y="3337920"/>
                <a:ext cx="619920" cy="620280"/>
                <a:chOff x="2034720" y="3337920"/>
                <a:chExt cx="619920" cy="620280"/>
              </a:xfrm>
            </p:grpSpPr>
            <p:grpSp>
              <p:nvGrpSpPr>
                <p:cNvPr id="651" name="组合 541"/>
                <p:cNvGrpSpPr/>
                <p:nvPr/>
              </p:nvGrpSpPr>
              <p:grpSpPr>
                <a:xfrm>
                  <a:off x="2035080" y="3338640"/>
                  <a:ext cx="619560" cy="619560"/>
                  <a:chOff x="2035080" y="3338640"/>
                  <a:chExt cx="619560" cy="619560"/>
                </a:xfrm>
              </p:grpSpPr>
              <p:sp>
                <p:nvSpPr>
                  <p:cNvPr id="652" name="空心弧 545"/>
                  <p:cNvSpPr/>
                  <p:nvPr/>
                </p:nvSpPr>
                <p:spPr>
                  <a:xfrm rot="208200">
                    <a:off x="212544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76" h="3191929">
                        <a:moveTo>
                          <a:pt x="0" y="1595965"/>
                        </a:moveTo>
                        <a:cubicBezTo>
                          <a:pt x="0" y="1200639"/>
                          <a:pt x="147253" y="819382"/>
                          <a:pt x="413234" y="526046"/>
                        </a:cubicBezTo>
                        <a:lnTo>
                          <a:pt x="511376" y="614395"/>
                        </a:lnTo>
                        <a:cubicBezTo>
                          <a:pt x="267224" y="883481"/>
                          <a:pt x="132050" y="1233266"/>
                          <a:pt x="132050" y="1595964"/>
                        </a:cubicBezTo>
                        <a:lnTo>
                          <a:pt x="0" y="15959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空心弧 546"/>
                  <p:cNvSpPr/>
                  <p:nvPr/>
                </p:nvSpPr>
                <p:spPr>
                  <a:xfrm rot="2908800">
                    <a:off x="2125440" y="342864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29" h="3203476">
                        <a:moveTo>
                          <a:pt x="0" y="1601738"/>
                        </a:moveTo>
                        <a:cubicBezTo>
                          <a:pt x="0" y="1206965"/>
                          <a:pt x="145262" y="826097"/>
                          <a:pt x="407910" y="532224"/>
                        </a:cubicBezTo>
                        <a:lnTo>
                          <a:pt x="506052" y="620573"/>
                        </a:lnTo>
                        <a:cubicBezTo>
                          <a:pt x="265234" y="890197"/>
                          <a:pt x="132051" y="1239592"/>
                          <a:pt x="132051" y="1601737"/>
                        </a:cubicBezTo>
                        <a:lnTo>
                          <a:pt x="0" y="16017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组合 542"/>
                <p:cNvGrpSpPr/>
                <p:nvPr/>
              </p:nvGrpSpPr>
              <p:grpSpPr>
                <a:xfrm>
                  <a:off x="2034720" y="3337920"/>
                  <a:ext cx="619560" cy="619560"/>
                  <a:chOff x="2034720" y="3337920"/>
                  <a:chExt cx="619560" cy="619560"/>
                </a:xfrm>
              </p:grpSpPr>
              <p:sp>
                <p:nvSpPr>
                  <p:cNvPr id="655" name="空心弧 543"/>
                  <p:cNvSpPr/>
                  <p:nvPr/>
                </p:nvSpPr>
                <p:spPr>
                  <a:xfrm rot="5608800">
                    <a:off x="212544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29" h="3203476">
                        <a:moveTo>
                          <a:pt x="0" y="1601738"/>
                        </a:moveTo>
                        <a:cubicBezTo>
                          <a:pt x="0" y="1206965"/>
                          <a:pt x="145262" y="826097"/>
                          <a:pt x="407910" y="532224"/>
                        </a:cubicBezTo>
                        <a:lnTo>
                          <a:pt x="506052" y="620573"/>
                        </a:lnTo>
                        <a:cubicBezTo>
                          <a:pt x="265234" y="890197"/>
                          <a:pt x="132051" y="1239592"/>
                          <a:pt x="132051" y="1601737"/>
                        </a:cubicBezTo>
                        <a:lnTo>
                          <a:pt x="0" y="16017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空心弧 544"/>
                  <p:cNvSpPr/>
                  <p:nvPr/>
                </p:nvSpPr>
                <p:spPr>
                  <a:xfrm rot="8308800">
                    <a:off x="212508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76" h="3191929">
                        <a:moveTo>
                          <a:pt x="0" y="1595965"/>
                        </a:moveTo>
                        <a:cubicBezTo>
                          <a:pt x="0" y="1200639"/>
                          <a:pt x="147253" y="819382"/>
                          <a:pt x="413234" y="526046"/>
                        </a:cubicBezTo>
                        <a:lnTo>
                          <a:pt x="511376" y="614395"/>
                        </a:lnTo>
                        <a:cubicBezTo>
                          <a:pt x="267224" y="883481"/>
                          <a:pt x="132050" y="1233266"/>
                          <a:pt x="132050" y="1595964"/>
                        </a:cubicBezTo>
                        <a:lnTo>
                          <a:pt x="0" y="15959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7" name="组合 534"/>
              <p:cNvGrpSpPr/>
              <p:nvPr/>
            </p:nvGrpSpPr>
            <p:grpSpPr>
              <a:xfrm>
                <a:off x="2035440" y="3337560"/>
                <a:ext cx="619920" cy="620280"/>
                <a:chOff x="2035440" y="3337560"/>
                <a:chExt cx="619920" cy="620280"/>
              </a:xfrm>
            </p:grpSpPr>
            <p:grpSp>
              <p:nvGrpSpPr>
                <p:cNvPr id="658" name="组合 535"/>
                <p:cNvGrpSpPr/>
                <p:nvPr/>
              </p:nvGrpSpPr>
              <p:grpSpPr>
                <a:xfrm>
                  <a:off x="2035440" y="3337560"/>
                  <a:ext cx="619560" cy="619560"/>
                  <a:chOff x="2035440" y="3337560"/>
                  <a:chExt cx="619560" cy="619560"/>
                </a:xfrm>
              </p:grpSpPr>
              <p:sp>
                <p:nvSpPr>
                  <p:cNvPr id="659" name="空心弧 539"/>
                  <p:cNvSpPr/>
                  <p:nvPr/>
                </p:nvSpPr>
                <p:spPr>
                  <a:xfrm rot="11008800">
                    <a:off x="212544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76" h="3191929">
                        <a:moveTo>
                          <a:pt x="0" y="1595965"/>
                        </a:moveTo>
                        <a:cubicBezTo>
                          <a:pt x="0" y="1200639"/>
                          <a:pt x="147253" y="819382"/>
                          <a:pt x="413234" y="526046"/>
                        </a:cubicBezTo>
                        <a:lnTo>
                          <a:pt x="511376" y="614395"/>
                        </a:lnTo>
                        <a:cubicBezTo>
                          <a:pt x="267224" y="883481"/>
                          <a:pt x="132050" y="1233266"/>
                          <a:pt x="132050" y="1595964"/>
                        </a:cubicBezTo>
                        <a:lnTo>
                          <a:pt x="0" y="15959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空心弧 540"/>
                  <p:cNvSpPr/>
                  <p:nvPr/>
                </p:nvSpPr>
                <p:spPr>
                  <a:xfrm rot="13708800">
                    <a:off x="2125440" y="342792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29" h="3203476">
                        <a:moveTo>
                          <a:pt x="0" y="1601738"/>
                        </a:moveTo>
                        <a:cubicBezTo>
                          <a:pt x="0" y="1206965"/>
                          <a:pt x="145262" y="826097"/>
                          <a:pt x="407910" y="532224"/>
                        </a:cubicBezTo>
                        <a:lnTo>
                          <a:pt x="506052" y="620573"/>
                        </a:lnTo>
                        <a:cubicBezTo>
                          <a:pt x="265234" y="890197"/>
                          <a:pt x="132051" y="1239592"/>
                          <a:pt x="132051" y="1601737"/>
                        </a:cubicBezTo>
                        <a:lnTo>
                          <a:pt x="0" y="16017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组合 536"/>
                <p:cNvGrpSpPr/>
                <p:nvPr/>
              </p:nvGrpSpPr>
              <p:grpSpPr>
                <a:xfrm>
                  <a:off x="2035800" y="3338280"/>
                  <a:ext cx="619560" cy="619560"/>
                  <a:chOff x="2035800" y="3338280"/>
                  <a:chExt cx="619560" cy="619560"/>
                </a:xfrm>
              </p:grpSpPr>
              <p:sp>
                <p:nvSpPr>
                  <p:cNvPr id="662" name="空心弧 537"/>
                  <p:cNvSpPr/>
                  <p:nvPr/>
                </p:nvSpPr>
                <p:spPr>
                  <a:xfrm rot="16408800">
                    <a:off x="212544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29" h="3203476">
                        <a:moveTo>
                          <a:pt x="0" y="1601738"/>
                        </a:moveTo>
                        <a:cubicBezTo>
                          <a:pt x="0" y="1206965"/>
                          <a:pt x="145262" y="826097"/>
                          <a:pt x="407910" y="532224"/>
                        </a:cubicBezTo>
                        <a:lnTo>
                          <a:pt x="506052" y="620573"/>
                        </a:lnTo>
                        <a:cubicBezTo>
                          <a:pt x="265234" y="890197"/>
                          <a:pt x="132051" y="1239592"/>
                          <a:pt x="132051" y="1601737"/>
                        </a:cubicBezTo>
                        <a:lnTo>
                          <a:pt x="0" y="1601738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空心弧 538"/>
                  <p:cNvSpPr/>
                  <p:nvPr/>
                </p:nvSpPr>
                <p:spPr>
                  <a:xfrm rot="19108800">
                    <a:off x="2125800" y="342828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76" h="3191929">
                        <a:moveTo>
                          <a:pt x="0" y="1595965"/>
                        </a:moveTo>
                        <a:cubicBezTo>
                          <a:pt x="0" y="1200639"/>
                          <a:pt x="147253" y="819382"/>
                          <a:pt x="413234" y="526046"/>
                        </a:cubicBezTo>
                        <a:lnTo>
                          <a:pt x="511376" y="614395"/>
                        </a:lnTo>
                        <a:cubicBezTo>
                          <a:pt x="267224" y="883481"/>
                          <a:pt x="132050" y="1233266"/>
                          <a:pt x="132050" y="1595964"/>
                        </a:cubicBezTo>
                        <a:lnTo>
                          <a:pt x="0" y="159596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4" name="组合 423"/>
            <p:cNvGrpSpPr/>
            <p:nvPr/>
          </p:nvGrpSpPr>
          <p:grpSpPr>
            <a:xfrm>
              <a:off x="1642320" y="4267080"/>
              <a:ext cx="620640" cy="620640"/>
              <a:chOff x="1642320" y="4267080"/>
              <a:chExt cx="620640" cy="620640"/>
            </a:xfrm>
          </p:grpSpPr>
          <p:grpSp>
            <p:nvGrpSpPr>
              <p:cNvPr id="665" name="组合 519"/>
              <p:cNvGrpSpPr/>
              <p:nvPr/>
            </p:nvGrpSpPr>
            <p:grpSpPr>
              <a:xfrm>
                <a:off x="1642320" y="4267440"/>
                <a:ext cx="619920" cy="620280"/>
                <a:chOff x="1642320" y="4267440"/>
                <a:chExt cx="619920" cy="620280"/>
              </a:xfrm>
            </p:grpSpPr>
            <p:grpSp>
              <p:nvGrpSpPr>
                <p:cNvPr id="666" name="组合 527"/>
                <p:cNvGrpSpPr/>
                <p:nvPr/>
              </p:nvGrpSpPr>
              <p:grpSpPr>
                <a:xfrm>
                  <a:off x="1642680" y="4268160"/>
                  <a:ext cx="619560" cy="619560"/>
                  <a:chOff x="1642680" y="4268160"/>
                  <a:chExt cx="619560" cy="619560"/>
                </a:xfrm>
              </p:grpSpPr>
              <p:sp>
                <p:nvSpPr>
                  <p:cNvPr id="667" name="空心弧 531"/>
                  <p:cNvSpPr/>
                  <p:nvPr/>
                </p:nvSpPr>
                <p:spPr>
                  <a:xfrm rot="208200">
                    <a:off x="173304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14" h="3203490">
                        <a:moveTo>
                          <a:pt x="0" y="1601745"/>
                        </a:moveTo>
                        <a:cubicBezTo>
                          <a:pt x="0" y="1206973"/>
                          <a:pt x="145259" y="826106"/>
                          <a:pt x="407903" y="532232"/>
                        </a:cubicBezTo>
                        <a:lnTo>
                          <a:pt x="506044" y="620581"/>
                        </a:lnTo>
                        <a:cubicBezTo>
                          <a:pt x="265229" y="890206"/>
                          <a:pt x="132049" y="1239601"/>
                          <a:pt x="132049" y="1601746"/>
                        </a:cubicBezTo>
                        <a:lnTo>
                          <a:pt x="0" y="160174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空心弧 532"/>
                  <p:cNvSpPr/>
                  <p:nvPr/>
                </p:nvSpPr>
                <p:spPr>
                  <a:xfrm rot="2908800">
                    <a:off x="1733040" y="435816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90" h="3191914">
                        <a:moveTo>
                          <a:pt x="0" y="1595957"/>
                        </a:moveTo>
                        <a:cubicBezTo>
                          <a:pt x="0" y="1200630"/>
                          <a:pt x="147255" y="819373"/>
                          <a:pt x="413241" y="526038"/>
                        </a:cubicBezTo>
                        <a:lnTo>
                          <a:pt x="511382" y="614387"/>
                        </a:lnTo>
                        <a:cubicBezTo>
                          <a:pt x="267226" y="883473"/>
                          <a:pt x="132049" y="1233258"/>
                          <a:pt x="132049" y="1595957"/>
                        </a:cubicBezTo>
                        <a:lnTo>
                          <a:pt x="0" y="159595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组合 528"/>
                <p:cNvGrpSpPr/>
                <p:nvPr/>
              </p:nvGrpSpPr>
              <p:grpSpPr>
                <a:xfrm>
                  <a:off x="1642320" y="4267440"/>
                  <a:ext cx="619560" cy="619560"/>
                  <a:chOff x="1642320" y="4267440"/>
                  <a:chExt cx="619560" cy="619560"/>
                </a:xfrm>
              </p:grpSpPr>
              <p:sp>
                <p:nvSpPr>
                  <p:cNvPr id="670" name="空心弧 529"/>
                  <p:cNvSpPr/>
                  <p:nvPr/>
                </p:nvSpPr>
                <p:spPr>
                  <a:xfrm rot="5608800">
                    <a:off x="173304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90" h="3191914">
                        <a:moveTo>
                          <a:pt x="0" y="1595957"/>
                        </a:moveTo>
                        <a:cubicBezTo>
                          <a:pt x="0" y="1200630"/>
                          <a:pt x="147255" y="819373"/>
                          <a:pt x="413241" y="526038"/>
                        </a:cubicBezTo>
                        <a:lnTo>
                          <a:pt x="511382" y="614387"/>
                        </a:lnTo>
                        <a:cubicBezTo>
                          <a:pt x="267226" y="883473"/>
                          <a:pt x="132049" y="1233258"/>
                          <a:pt x="132049" y="1595957"/>
                        </a:cubicBezTo>
                        <a:lnTo>
                          <a:pt x="0" y="159595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空心弧 530"/>
                  <p:cNvSpPr/>
                  <p:nvPr/>
                </p:nvSpPr>
                <p:spPr>
                  <a:xfrm rot="8308800">
                    <a:off x="173268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14" h="3203490">
                        <a:moveTo>
                          <a:pt x="0" y="1601745"/>
                        </a:moveTo>
                        <a:cubicBezTo>
                          <a:pt x="0" y="1206973"/>
                          <a:pt x="145259" y="826106"/>
                          <a:pt x="407903" y="532232"/>
                        </a:cubicBezTo>
                        <a:lnTo>
                          <a:pt x="506044" y="620581"/>
                        </a:lnTo>
                        <a:cubicBezTo>
                          <a:pt x="265229" y="890206"/>
                          <a:pt x="132049" y="1239601"/>
                          <a:pt x="132049" y="1601746"/>
                        </a:cubicBezTo>
                        <a:lnTo>
                          <a:pt x="0" y="160174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2" name="组合 520"/>
              <p:cNvGrpSpPr/>
              <p:nvPr/>
            </p:nvGrpSpPr>
            <p:grpSpPr>
              <a:xfrm>
                <a:off x="1643040" y="4267080"/>
                <a:ext cx="619920" cy="620280"/>
                <a:chOff x="1643040" y="4267080"/>
                <a:chExt cx="619920" cy="620280"/>
              </a:xfrm>
            </p:grpSpPr>
            <p:grpSp>
              <p:nvGrpSpPr>
                <p:cNvPr id="673" name="组合 521"/>
                <p:cNvGrpSpPr/>
                <p:nvPr/>
              </p:nvGrpSpPr>
              <p:grpSpPr>
                <a:xfrm>
                  <a:off x="1643040" y="4267080"/>
                  <a:ext cx="619560" cy="619560"/>
                  <a:chOff x="1643040" y="4267080"/>
                  <a:chExt cx="619560" cy="619560"/>
                </a:xfrm>
              </p:grpSpPr>
              <p:sp>
                <p:nvSpPr>
                  <p:cNvPr id="674" name="空心弧 525"/>
                  <p:cNvSpPr/>
                  <p:nvPr/>
                </p:nvSpPr>
                <p:spPr>
                  <a:xfrm rot="11008800">
                    <a:off x="173304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14" h="3203490">
                        <a:moveTo>
                          <a:pt x="0" y="1601745"/>
                        </a:moveTo>
                        <a:cubicBezTo>
                          <a:pt x="0" y="1206973"/>
                          <a:pt x="145259" y="826106"/>
                          <a:pt x="407903" y="532232"/>
                        </a:cubicBezTo>
                        <a:lnTo>
                          <a:pt x="506044" y="620581"/>
                        </a:lnTo>
                        <a:cubicBezTo>
                          <a:pt x="265229" y="890206"/>
                          <a:pt x="132049" y="1239601"/>
                          <a:pt x="132049" y="1601746"/>
                        </a:cubicBezTo>
                        <a:lnTo>
                          <a:pt x="0" y="160174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空心弧 526"/>
                  <p:cNvSpPr/>
                  <p:nvPr/>
                </p:nvSpPr>
                <p:spPr>
                  <a:xfrm rot="13708800">
                    <a:off x="1733040" y="435744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90" h="3191914">
                        <a:moveTo>
                          <a:pt x="0" y="1595957"/>
                        </a:moveTo>
                        <a:cubicBezTo>
                          <a:pt x="0" y="1200630"/>
                          <a:pt x="147255" y="819373"/>
                          <a:pt x="413241" y="526038"/>
                        </a:cubicBezTo>
                        <a:lnTo>
                          <a:pt x="511382" y="614387"/>
                        </a:lnTo>
                        <a:cubicBezTo>
                          <a:pt x="267226" y="883473"/>
                          <a:pt x="132049" y="1233258"/>
                          <a:pt x="132049" y="1595957"/>
                        </a:cubicBezTo>
                        <a:lnTo>
                          <a:pt x="0" y="159595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组合 522"/>
                <p:cNvGrpSpPr/>
                <p:nvPr/>
              </p:nvGrpSpPr>
              <p:grpSpPr>
                <a:xfrm>
                  <a:off x="1643400" y="4267800"/>
                  <a:ext cx="619560" cy="619560"/>
                  <a:chOff x="1643400" y="4267800"/>
                  <a:chExt cx="619560" cy="619560"/>
                </a:xfrm>
              </p:grpSpPr>
              <p:sp>
                <p:nvSpPr>
                  <p:cNvPr id="677" name="空心弧 523"/>
                  <p:cNvSpPr/>
                  <p:nvPr/>
                </p:nvSpPr>
                <p:spPr>
                  <a:xfrm rot="16408800">
                    <a:off x="173304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3490" h="3191914">
                        <a:moveTo>
                          <a:pt x="0" y="1595957"/>
                        </a:moveTo>
                        <a:cubicBezTo>
                          <a:pt x="0" y="1200630"/>
                          <a:pt x="147255" y="819373"/>
                          <a:pt x="413241" y="526038"/>
                        </a:cubicBezTo>
                        <a:lnTo>
                          <a:pt x="511382" y="614387"/>
                        </a:lnTo>
                        <a:cubicBezTo>
                          <a:pt x="267226" y="883473"/>
                          <a:pt x="132049" y="1233258"/>
                          <a:pt x="132049" y="1595957"/>
                        </a:cubicBezTo>
                        <a:lnTo>
                          <a:pt x="0" y="1595957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空心弧 524"/>
                  <p:cNvSpPr/>
                  <p:nvPr/>
                </p:nvSpPr>
                <p:spPr>
                  <a:xfrm rot="19108800">
                    <a:off x="1733400" y="4357800"/>
                    <a:ext cx="438840" cy="43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914" h="3203490">
                        <a:moveTo>
                          <a:pt x="0" y="1601745"/>
                        </a:moveTo>
                        <a:cubicBezTo>
                          <a:pt x="0" y="1206973"/>
                          <a:pt x="145259" y="826106"/>
                          <a:pt x="407903" y="532232"/>
                        </a:cubicBezTo>
                        <a:lnTo>
                          <a:pt x="506044" y="620581"/>
                        </a:lnTo>
                        <a:cubicBezTo>
                          <a:pt x="265229" y="890206"/>
                          <a:pt x="132049" y="1239601"/>
                          <a:pt x="132049" y="1601746"/>
                        </a:cubicBezTo>
                        <a:lnTo>
                          <a:pt x="0" y="1601745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9" name="组合 424"/>
            <p:cNvGrpSpPr/>
            <p:nvPr/>
          </p:nvGrpSpPr>
          <p:grpSpPr>
            <a:xfrm>
              <a:off x="2297880" y="4653360"/>
              <a:ext cx="1423080" cy="1423080"/>
              <a:chOff x="2297880" y="4653360"/>
              <a:chExt cx="1423080" cy="1423080"/>
            </a:xfrm>
          </p:grpSpPr>
          <p:grpSp>
            <p:nvGrpSpPr>
              <p:cNvPr id="680" name="组合 505"/>
              <p:cNvGrpSpPr/>
              <p:nvPr/>
            </p:nvGrpSpPr>
            <p:grpSpPr>
              <a:xfrm>
                <a:off x="2297880" y="4653360"/>
                <a:ext cx="1423080" cy="1423080"/>
                <a:chOff x="2297880" y="4653360"/>
                <a:chExt cx="1423080" cy="1423080"/>
              </a:xfrm>
            </p:grpSpPr>
            <p:grpSp>
              <p:nvGrpSpPr>
                <p:cNvPr id="681" name="组合 513"/>
                <p:cNvGrpSpPr/>
                <p:nvPr/>
              </p:nvGrpSpPr>
              <p:grpSpPr>
                <a:xfrm>
                  <a:off x="2298240" y="4653360"/>
                  <a:ext cx="1422720" cy="1423080"/>
                  <a:chOff x="2298240" y="4653360"/>
                  <a:chExt cx="1422720" cy="1423080"/>
                </a:xfrm>
              </p:grpSpPr>
              <p:sp>
                <p:nvSpPr>
                  <p:cNvPr id="682" name="空心弧 517"/>
                  <p:cNvSpPr/>
                  <p:nvPr/>
                </p:nvSpPr>
                <p:spPr>
                  <a:xfrm rot="208200">
                    <a:off x="2505240" y="486072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24" h="3196740">
                        <a:moveTo>
                          <a:pt x="0" y="1598370"/>
                        </a:moveTo>
                        <a:cubicBezTo>
                          <a:pt x="0" y="1203439"/>
                          <a:pt x="146209" y="822491"/>
                          <a:pt x="410438" y="528974"/>
                        </a:cubicBezTo>
                        <a:lnTo>
                          <a:pt x="508726" y="617455"/>
                        </a:lnTo>
                        <a:cubicBezTo>
                          <a:pt x="266360" y="886687"/>
                          <a:pt x="132248" y="1236116"/>
                          <a:pt x="132248" y="1598370"/>
                        </a:cubicBezTo>
                        <a:lnTo>
                          <a:pt x="0" y="159837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空心弧 518"/>
                  <p:cNvSpPr/>
                  <p:nvPr/>
                </p:nvSpPr>
                <p:spPr>
                  <a:xfrm rot="2908800">
                    <a:off x="2505600" y="486072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40" h="3196724">
                        <a:moveTo>
                          <a:pt x="0" y="1598362"/>
                        </a:moveTo>
                        <a:cubicBezTo>
                          <a:pt x="0" y="1203431"/>
                          <a:pt x="146212" y="822482"/>
                          <a:pt x="410445" y="528965"/>
                        </a:cubicBezTo>
                        <a:lnTo>
                          <a:pt x="508734" y="617447"/>
                        </a:lnTo>
                        <a:cubicBezTo>
                          <a:pt x="266363" y="886679"/>
                          <a:pt x="132248" y="1236108"/>
                          <a:pt x="132248" y="1598363"/>
                        </a:cubicBezTo>
                        <a:lnTo>
                          <a:pt x="0" y="15983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组合 514"/>
                <p:cNvGrpSpPr/>
                <p:nvPr/>
              </p:nvGrpSpPr>
              <p:grpSpPr>
                <a:xfrm>
                  <a:off x="2297880" y="4653360"/>
                  <a:ext cx="1423080" cy="1422720"/>
                  <a:chOff x="2297880" y="4653360"/>
                  <a:chExt cx="1423080" cy="1422720"/>
                </a:xfrm>
              </p:grpSpPr>
              <p:sp>
                <p:nvSpPr>
                  <p:cNvPr id="685" name="空心弧 515"/>
                  <p:cNvSpPr/>
                  <p:nvPr/>
                </p:nvSpPr>
                <p:spPr>
                  <a:xfrm rot="5608800">
                    <a:off x="2505240" y="486036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40" h="3196724">
                        <a:moveTo>
                          <a:pt x="0" y="1598362"/>
                        </a:moveTo>
                        <a:cubicBezTo>
                          <a:pt x="0" y="1203431"/>
                          <a:pt x="146212" y="822482"/>
                          <a:pt x="410445" y="528965"/>
                        </a:cubicBezTo>
                        <a:lnTo>
                          <a:pt x="508734" y="617447"/>
                        </a:lnTo>
                        <a:cubicBezTo>
                          <a:pt x="266363" y="886679"/>
                          <a:pt x="132248" y="1236108"/>
                          <a:pt x="132248" y="1598363"/>
                        </a:cubicBezTo>
                        <a:lnTo>
                          <a:pt x="0" y="15983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空心弧 516"/>
                  <p:cNvSpPr/>
                  <p:nvPr/>
                </p:nvSpPr>
                <p:spPr>
                  <a:xfrm rot="8308800">
                    <a:off x="2505240" y="486072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24" h="3196740">
                        <a:moveTo>
                          <a:pt x="0" y="1598370"/>
                        </a:moveTo>
                        <a:cubicBezTo>
                          <a:pt x="0" y="1203439"/>
                          <a:pt x="146209" y="822491"/>
                          <a:pt x="410438" y="528974"/>
                        </a:cubicBezTo>
                        <a:lnTo>
                          <a:pt x="508726" y="617455"/>
                        </a:lnTo>
                        <a:cubicBezTo>
                          <a:pt x="266360" y="886687"/>
                          <a:pt x="132248" y="1236116"/>
                          <a:pt x="132248" y="1598370"/>
                        </a:cubicBezTo>
                        <a:lnTo>
                          <a:pt x="0" y="159837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7" name="组合 506"/>
              <p:cNvGrpSpPr/>
              <p:nvPr/>
            </p:nvGrpSpPr>
            <p:grpSpPr>
              <a:xfrm>
                <a:off x="2298240" y="4653360"/>
                <a:ext cx="1422720" cy="1422720"/>
                <a:chOff x="2298240" y="4653360"/>
                <a:chExt cx="1422720" cy="1422720"/>
              </a:xfrm>
            </p:grpSpPr>
            <p:grpSp>
              <p:nvGrpSpPr>
                <p:cNvPr id="688" name="组合 507"/>
                <p:cNvGrpSpPr/>
                <p:nvPr/>
              </p:nvGrpSpPr>
              <p:grpSpPr>
                <a:xfrm>
                  <a:off x="2298240" y="4653360"/>
                  <a:ext cx="1422720" cy="1422720"/>
                  <a:chOff x="2298240" y="4653360"/>
                  <a:chExt cx="1422720" cy="1422720"/>
                </a:xfrm>
              </p:grpSpPr>
              <p:sp>
                <p:nvSpPr>
                  <p:cNvPr id="689" name="空心弧 511"/>
                  <p:cNvSpPr/>
                  <p:nvPr/>
                </p:nvSpPr>
                <p:spPr>
                  <a:xfrm rot="11008800">
                    <a:off x="2505600" y="486036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24" h="3196740">
                        <a:moveTo>
                          <a:pt x="0" y="1598370"/>
                        </a:moveTo>
                        <a:cubicBezTo>
                          <a:pt x="0" y="1203439"/>
                          <a:pt x="146209" y="822491"/>
                          <a:pt x="410438" y="528974"/>
                        </a:cubicBezTo>
                        <a:lnTo>
                          <a:pt x="508726" y="617455"/>
                        </a:lnTo>
                        <a:cubicBezTo>
                          <a:pt x="266360" y="886687"/>
                          <a:pt x="132248" y="1236116"/>
                          <a:pt x="132248" y="1598370"/>
                        </a:cubicBezTo>
                        <a:lnTo>
                          <a:pt x="0" y="159837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空心弧 512"/>
                  <p:cNvSpPr/>
                  <p:nvPr/>
                </p:nvSpPr>
                <p:spPr>
                  <a:xfrm rot="13708800">
                    <a:off x="2505600" y="486036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40" h="3196724">
                        <a:moveTo>
                          <a:pt x="0" y="1598362"/>
                        </a:moveTo>
                        <a:cubicBezTo>
                          <a:pt x="0" y="1203431"/>
                          <a:pt x="146212" y="822482"/>
                          <a:pt x="410445" y="528965"/>
                        </a:cubicBezTo>
                        <a:lnTo>
                          <a:pt x="508734" y="617447"/>
                        </a:lnTo>
                        <a:cubicBezTo>
                          <a:pt x="266363" y="886679"/>
                          <a:pt x="132248" y="1236108"/>
                          <a:pt x="132248" y="1598363"/>
                        </a:cubicBezTo>
                        <a:lnTo>
                          <a:pt x="0" y="15983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组合 508"/>
                <p:cNvGrpSpPr/>
                <p:nvPr/>
              </p:nvGrpSpPr>
              <p:grpSpPr>
                <a:xfrm>
                  <a:off x="2298240" y="4653360"/>
                  <a:ext cx="1422720" cy="1422720"/>
                  <a:chOff x="2298240" y="4653360"/>
                  <a:chExt cx="1422720" cy="1422720"/>
                </a:xfrm>
              </p:grpSpPr>
              <p:sp>
                <p:nvSpPr>
                  <p:cNvPr id="692" name="空心弧 509"/>
                  <p:cNvSpPr/>
                  <p:nvPr/>
                </p:nvSpPr>
                <p:spPr>
                  <a:xfrm rot="16408800">
                    <a:off x="2505600" y="486072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40" h="3196724">
                        <a:moveTo>
                          <a:pt x="0" y="1598362"/>
                        </a:moveTo>
                        <a:cubicBezTo>
                          <a:pt x="0" y="1203431"/>
                          <a:pt x="146212" y="822482"/>
                          <a:pt x="410445" y="528965"/>
                        </a:cubicBezTo>
                        <a:lnTo>
                          <a:pt x="508734" y="617447"/>
                        </a:lnTo>
                        <a:cubicBezTo>
                          <a:pt x="266363" y="886679"/>
                          <a:pt x="132248" y="1236108"/>
                          <a:pt x="132248" y="1598363"/>
                        </a:cubicBezTo>
                        <a:lnTo>
                          <a:pt x="0" y="1598362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空心弧 510"/>
                  <p:cNvSpPr/>
                  <p:nvPr/>
                </p:nvSpPr>
                <p:spPr>
                  <a:xfrm rot="19108800">
                    <a:off x="2505600" y="4860720"/>
                    <a:ext cx="100800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6724" h="3196740">
                        <a:moveTo>
                          <a:pt x="0" y="1598370"/>
                        </a:moveTo>
                        <a:cubicBezTo>
                          <a:pt x="0" y="1203439"/>
                          <a:pt x="146209" y="822491"/>
                          <a:pt x="410438" y="528974"/>
                        </a:cubicBezTo>
                        <a:lnTo>
                          <a:pt x="508726" y="617455"/>
                        </a:lnTo>
                        <a:cubicBezTo>
                          <a:pt x="266360" y="886687"/>
                          <a:pt x="132248" y="1236116"/>
                          <a:pt x="132248" y="1598370"/>
                        </a:cubicBezTo>
                        <a:lnTo>
                          <a:pt x="0" y="159837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4" name="组合 426"/>
            <p:cNvGrpSpPr/>
            <p:nvPr/>
          </p:nvGrpSpPr>
          <p:grpSpPr>
            <a:xfrm>
              <a:off x="4712040" y="5280480"/>
              <a:ext cx="1018080" cy="1018080"/>
              <a:chOff x="4712040" y="5280480"/>
              <a:chExt cx="1018080" cy="1018080"/>
            </a:xfrm>
          </p:grpSpPr>
          <p:grpSp>
            <p:nvGrpSpPr>
              <p:cNvPr id="695" name="组合 491"/>
              <p:cNvGrpSpPr/>
              <p:nvPr/>
            </p:nvGrpSpPr>
            <p:grpSpPr>
              <a:xfrm>
                <a:off x="4712040" y="5281200"/>
                <a:ext cx="1017720" cy="1017360"/>
                <a:chOff x="4712040" y="5281200"/>
                <a:chExt cx="1017720" cy="1017360"/>
              </a:xfrm>
            </p:grpSpPr>
            <p:grpSp>
              <p:nvGrpSpPr>
                <p:cNvPr id="696" name="组合 499"/>
                <p:cNvGrpSpPr/>
                <p:nvPr/>
              </p:nvGrpSpPr>
              <p:grpSpPr>
                <a:xfrm>
                  <a:off x="4712760" y="5281560"/>
                  <a:ext cx="1017000" cy="1017000"/>
                  <a:chOff x="4712760" y="5281560"/>
                  <a:chExt cx="1017000" cy="1017000"/>
                </a:xfrm>
              </p:grpSpPr>
              <p:sp>
                <p:nvSpPr>
                  <p:cNvPr id="697" name="空心弧 503"/>
                  <p:cNvSpPr/>
                  <p:nvPr/>
                </p:nvSpPr>
                <p:spPr>
                  <a:xfrm rot="208200">
                    <a:off x="486072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空心弧 504"/>
                  <p:cNvSpPr/>
                  <p:nvPr/>
                </p:nvSpPr>
                <p:spPr>
                  <a:xfrm rot="2908800">
                    <a:off x="4860720" y="542952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组合 500"/>
                <p:cNvGrpSpPr/>
                <p:nvPr/>
              </p:nvGrpSpPr>
              <p:grpSpPr>
                <a:xfrm>
                  <a:off x="4712040" y="5281200"/>
                  <a:ext cx="1017000" cy="1017000"/>
                  <a:chOff x="4712040" y="5281200"/>
                  <a:chExt cx="1017000" cy="1017000"/>
                </a:xfrm>
              </p:grpSpPr>
              <p:sp>
                <p:nvSpPr>
                  <p:cNvPr id="700" name="空心弧 501"/>
                  <p:cNvSpPr/>
                  <p:nvPr/>
                </p:nvSpPr>
                <p:spPr>
                  <a:xfrm rot="5608800">
                    <a:off x="486072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空心弧 502"/>
                  <p:cNvSpPr/>
                  <p:nvPr/>
                </p:nvSpPr>
                <p:spPr>
                  <a:xfrm rot="8308800">
                    <a:off x="486036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2" name="组合 492"/>
              <p:cNvGrpSpPr/>
              <p:nvPr/>
            </p:nvGrpSpPr>
            <p:grpSpPr>
              <a:xfrm>
                <a:off x="4712760" y="5280480"/>
                <a:ext cx="1017360" cy="1017360"/>
                <a:chOff x="4712760" y="5280480"/>
                <a:chExt cx="1017360" cy="1017360"/>
              </a:xfrm>
            </p:grpSpPr>
            <p:grpSp>
              <p:nvGrpSpPr>
                <p:cNvPr id="703" name="组合 493"/>
                <p:cNvGrpSpPr/>
                <p:nvPr/>
              </p:nvGrpSpPr>
              <p:grpSpPr>
                <a:xfrm>
                  <a:off x="4712760" y="5280480"/>
                  <a:ext cx="1016640" cy="1017000"/>
                  <a:chOff x="4712760" y="5280480"/>
                  <a:chExt cx="1016640" cy="1017000"/>
                </a:xfrm>
              </p:grpSpPr>
              <p:sp>
                <p:nvSpPr>
                  <p:cNvPr id="704" name="空心弧 497"/>
                  <p:cNvSpPr/>
                  <p:nvPr/>
                </p:nvSpPr>
                <p:spPr>
                  <a:xfrm rot="11008800">
                    <a:off x="486072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空心弧 498"/>
                  <p:cNvSpPr/>
                  <p:nvPr/>
                </p:nvSpPr>
                <p:spPr>
                  <a:xfrm rot="13708800">
                    <a:off x="4860720" y="542880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组合 494"/>
                <p:cNvGrpSpPr/>
                <p:nvPr/>
              </p:nvGrpSpPr>
              <p:grpSpPr>
                <a:xfrm>
                  <a:off x="4713120" y="5281200"/>
                  <a:ext cx="1017000" cy="1016640"/>
                  <a:chOff x="4713120" y="5281200"/>
                  <a:chExt cx="1017000" cy="1016640"/>
                </a:xfrm>
              </p:grpSpPr>
              <p:sp>
                <p:nvSpPr>
                  <p:cNvPr id="707" name="空心弧 495"/>
                  <p:cNvSpPr/>
                  <p:nvPr/>
                </p:nvSpPr>
                <p:spPr>
                  <a:xfrm rot="16408800">
                    <a:off x="486072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空心弧 496"/>
                  <p:cNvSpPr/>
                  <p:nvPr/>
                </p:nvSpPr>
                <p:spPr>
                  <a:xfrm rot="19108800">
                    <a:off x="4861080" y="542916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9" name="组合 428"/>
            <p:cNvGrpSpPr/>
            <p:nvPr/>
          </p:nvGrpSpPr>
          <p:grpSpPr>
            <a:xfrm>
              <a:off x="4733640" y="1902960"/>
              <a:ext cx="1018080" cy="1018080"/>
              <a:chOff x="4733640" y="1902960"/>
              <a:chExt cx="1018080" cy="1018080"/>
            </a:xfrm>
          </p:grpSpPr>
          <p:grpSp>
            <p:nvGrpSpPr>
              <p:cNvPr id="710" name="组合 477"/>
              <p:cNvGrpSpPr/>
              <p:nvPr/>
            </p:nvGrpSpPr>
            <p:grpSpPr>
              <a:xfrm>
                <a:off x="4733640" y="1903680"/>
                <a:ext cx="1017720" cy="1017360"/>
                <a:chOff x="4733640" y="1903680"/>
                <a:chExt cx="1017720" cy="1017360"/>
              </a:xfrm>
            </p:grpSpPr>
            <p:grpSp>
              <p:nvGrpSpPr>
                <p:cNvPr id="711" name="组合 485"/>
                <p:cNvGrpSpPr/>
                <p:nvPr/>
              </p:nvGrpSpPr>
              <p:grpSpPr>
                <a:xfrm>
                  <a:off x="4734360" y="1904040"/>
                  <a:ext cx="1017000" cy="1017000"/>
                  <a:chOff x="4734360" y="1904040"/>
                  <a:chExt cx="1017000" cy="1017000"/>
                </a:xfrm>
              </p:grpSpPr>
              <p:sp>
                <p:nvSpPr>
                  <p:cNvPr id="712" name="空心弧 489"/>
                  <p:cNvSpPr/>
                  <p:nvPr/>
                </p:nvSpPr>
                <p:spPr>
                  <a:xfrm rot="208200">
                    <a:off x="488232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空心弧 490"/>
                  <p:cNvSpPr/>
                  <p:nvPr/>
                </p:nvSpPr>
                <p:spPr>
                  <a:xfrm rot="2908800">
                    <a:off x="4882320" y="205200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组合 486"/>
                <p:cNvGrpSpPr/>
                <p:nvPr/>
              </p:nvGrpSpPr>
              <p:grpSpPr>
                <a:xfrm>
                  <a:off x="4733640" y="1903680"/>
                  <a:ext cx="1017000" cy="1017000"/>
                  <a:chOff x="4733640" y="1903680"/>
                  <a:chExt cx="1017000" cy="1017000"/>
                </a:xfrm>
              </p:grpSpPr>
              <p:sp>
                <p:nvSpPr>
                  <p:cNvPr id="715" name="空心弧 487"/>
                  <p:cNvSpPr/>
                  <p:nvPr/>
                </p:nvSpPr>
                <p:spPr>
                  <a:xfrm rot="5608800">
                    <a:off x="488232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空心弧 488"/>
                  <p:cNvSpPr/>
                  <p:nvPr/>
                </p:nvSpPr>
                <p:spPr>
                  <a:xfrm rot="8308800">
                    <a:off x="488196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7" name="组合 478"/>
              <p:cNvGrpSpPr/>
              <p:nvPr/>
            </p:nvGrpSpPr>
            <p:grpSpPr>
              <a:xfrm>
                <a:off x="4734360" y="1902960"/>
                <a:ext cx="1017360" cy="1017360"/>
                <a:chOff x="4734360" y="1902960"/>
                <a:chExt cx="1017360" cy="1017360"/>
              </a:xfrm>
            </p:grpSpPr>
            <p:grpSp>
              <p:nvGrpSpPr>
                <p:cNvPr id="718" name="组合 479"/>
                <p:cNvGrpSpPr/>
                <p:nvPr/>
              </p:nvGrpSpPr>
              <p:grpSpPr>
                <a:xfrm>
                  <a:off x="4734360" y="1902960"/>
                  <a:ext cx="1016640" cy="1017000"/>
                  <a:chOff x="4734360" y="1902960"/>
                  <a:chExt cx="1016640" cy="1017000"/>
                </a:xfrm>
              </p:grpSpPr>
              <p:sp>
                <p:nvSpPr>
                  <p:cNvPr id="719" name="空心弧 483"/>
                  <p:cNvSpPr/>
                  <p:nvPr/>
                </p:nvSpPr>
                <p:spPr>
                  <a:xfrm rot="11008800">
                    <a:off x="488232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空心弧 484"/>
                  <p:cNvSpPr/>
                  <p:nvPr/>
                </p:nvSpPr>
                <p:spPr>
                  <a:xfrm rot="13708800">
                    <a:off x="4882320" y="205128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组合 480"/>
                <p:cNvGrpSpPr/>
                <p:nvPr/>
              </p:nvGrpSpPr>
              <p:grpSpPr>
                <a:xfrm>
                  <a:off x="4734720" y="1903680"/>
                  <a:ext cx="1017000" cy="1016640"/>
                  <a:chOff x="4734720" y="1903680"/>
                  <a:chExt cx="1017000" cy="1016640"/>
                </a:xfrm>
              </p:grpSpPr>
              <p:sp>
                <p:nvSpPr>
                  <p:cNvPr id="722" name="空心弧 481"/>
                  <p:cNvSpPr/>
                  <p:nvPr/>
                </p:nvSpPr>
                <p:spPr>
                  <a:xfrm rot="16408800">
                    <a:off x="488232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80" h="3197766">
                        <a:moveTo>
                          <a:pt x="0" y="1598883"/>
                        </a:moveTo>
                        <a:cubicBezTo>
                          <a:pt x="0" y="1203823"/>
                          <a:pt x="146259" y="822750"/>
                          <a:pt x="410578" y="529138"/>
                        </a:cubicBezTo>
                        <a:lnTo>
                          <a:pt x="508899" y="617648"/>
                        </a:lnTo>
                        <a:cubicBezTo>
                          <a:pt x="266449" y="886967"/>
                          <a:pt x="132292" y="1236510"/>
                          <a:pt x="132292" y="1598882"/>
                        </a:cubicBezTo>
                        <a:lnTo>
                          <a:pt x="0" y="1598883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空心弧 482"/>
                  <p:cNvSpPr/>
                  <p:nvPr/>
                </p:nvSpPr>
                <p:spPr>
                  <a:xfrm rot="19108800">
                    <a:off x="4882680" y="2051640"/>
                    <a:ext cx="72036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766" h="3197780">
                        <a:moveTo>
                          <a:pt x="0" y="1598890"/>
                        </a:moveTo>
                        <a:cubicBezTo>
                          <a:pt x="0" y="1203831"/>
                          <a:pt x="146257" y="822759"/>
                          <a:pt x="410572" y="529145"/>
                        </a:cubicBezTo>
                        <a:lnTo>
                          <a:pt x="508893" y="617656"/>
                        </a:lnTo>
                        <a:cubicBezTo>
                          <a:pt x="266448" y="886976"/>
                          <a:pt x="132292" y="1236518"/>
                          <a:pt x="132292" y="1598890"/>
                        </a:cubicBezTo>
                        <a:lnTo>
                          <a:pt x="0" y="1598890"/>
                        </a:lnTo>
                        <a:close/>
                      </a:path>
                    </a:pathLst>
                  </a:custGeom>
                  <a:solidFill>
                    <a:srgbClr val="e6e5d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24" name="直接连接符 429"/>
            <p:cNvSpPr/>
            <p:nvPr/>
          </p:nvSpPr>
          <p:spPr>
            <a:xfrm>
              <a:off x="8507520" y="3295440"/>
              <a:ext cx="577800" cy="9586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431"/>
            <p:cNvSpPr/>
            <p:nvPr/>
          </p:nvSpPr>
          <p:spPr>
            <a:xfrm flipH="1">
              <a:off x="9370800" y="2781000"/>
              <a:ext cx="433080" cy="14605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433"/>
            <p:cNvSpPr/>
            <p:nvPr/>
          </p:nvSpPr>
          <p:spPr>
            <a:xfrm>
              <a:off x="6860880" y="4452840"/>
              <a:ext cx="550800" cy="6602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434"/>
            <p:cNvSpPr/>
            <p:nvPr/>
          </p:nvSpPr>
          <p:spPr>
            <a:xfrm>
              <a:off x="4132080" y="4446720"/>
              <a:ext cx="847440" cy="10969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435"/>
            <p:cNvSpPr/>
            <p:nvPr/>
          </p:nvSpPr>
          <p:spPr>
            <a:xfrm>
              <a:off x="5398920" y="2700360"/>
              <a:ext cx="369720" cy="5173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436"/>
            <p:cNvSpPr/>
            <p:nvPr/>
          </p:nvSpPr>
          <p:spPr>
            <a:xfrm>
              <a:off x="3400200" y="3081240"/>
              <a:ext cx="342720" cy="7538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437"/>
            <p:cNvSpPr/>
            <p:nvPr/>
          </p:nvSpPr>
          <p:spPr>
            <a:xfrm flipV="1">
              <a:off x="5557680" y="5538960"/>
              <a:ext cx="1811160" cy="3412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直接连接符 438"/>
            <p:cNvSpPr/>
            <p:nvPr/>
          </p:nvSpPr>
          <p:spPr>
            <a:xfrm flipH="1">
              <a:off x="10034280" y="4137120"/>
              <a:ext cx="228600" cy="12589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直接连接符 439"/>
            <p:cNvSpPr/>
            <p:nvPr/>
          </p:nvSpPr>
          <p:spPr>
            <a:xfrm>
              <a:off x="2401560" y="3844800"/>
              <a:ext cx="428400" cy="10522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直接连接符 440"/>
            <p:cNvSpPr/>
            <p:nvPr/>
          </p:nvSpPr>
          <p:spPr>
            <a:xfrm flipH="1">
              <a:off x="2018520" y="3835440"/>
              <a:ext cx="230040" cy="5490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直接连接符 441"/>
            <p:cNvSpPr/>
            <p:nvPr/>
          </p:nvSpPr>
          <p:spPr>
            <a:xfrm>
              <a:off x="3382560" y="5638680"/>
              <a:ext cx="1493640" cy="1476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直接连接符 442"/>
            <p:cNvSpPr/>
            <p:nvPr/>
          </p:nvSpPr>
          <p:spPr>
            <a:xfrm>
              <a:off x="2090520" y="4765680"/>
              <a:ext cx="487080" cy="3902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接连接符 443"/>
            <p:cNvSpPr/>
            <p:nvPr/>
          </p:nvSpPr>
          <p:spPr>
            <a:xfrm flipV="1">
              <a:off x="3835080" y="2409480"/>
              <a:ext cx="1062000" cy="792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直接连接符 444"/>
            <p:cNvSpPr/>
            <p:nvPr/>
          </p:nvSpPr>
          <p:spPr>
            <a:xfrm>
              <a:off x="5576760" y="2436480"/>
              <a:ext cx="2446200" cy="3808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直接连接符 445"/>
            <p:cNvSpPr/>
            <p:nvPr/>
          </p:nvSpPr>
          <p:spPr>
            <a:xfrm flipV="1">
              <a:off x="8647200" y="2236680"/>
              <a:ext cx="834840" cy="43488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直接连接符 446"/>
            <p:cNvSpPr/>
            <p:nvPr/>
          </p:nvSpPr>
          <p:spPr>
            <a:xfrm>
              <a:off x="8313840" y="5511960"/>
              <a:ext cx="1442880" cy="1425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447"/>
            <p:cNvSpPr/>
            <p:nvPr/>
          </p:nvSpPr>
          <p:spPr>
            <a:xfrm>
              <a:off x="7146720" y="4120920"/>
              <a:ext cx="1728720" cy="41904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448"/>
            <p:cNvSpPr/>
            <p:nvPr/>
          </p:nvSpPr>
          <p:spPr>
            <a:xfrm flipV="1">
              <a:off x="5583240" y="2220480"/>
              <a:ext cx="3890880" cy="1443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449"/>
            <p:cNvSpPr/>
            <p:nvPr/>
          </p:nvSpPr>
          <p:spPr>
            <a:xfrm flipH="1">
              <a:off x="2494800" y="3004920"/>
              <a:ext cx="361800" cy="49500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450"/>
            <p:cNvSpPr/>
            <p:nvPr/>
          </p:nvSpPr>
          <p:spPr>
            <a:xfrm flipH="1">
              <a:off x="4225680" y="4014720"/>
              <a:ext cx="1249200" cy="14256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451"/>
            <p:cNvSpPr/>
            <p:nvPr/>
          </p:nvSpPr>
          <p:spPr>
            <a:xfrm flipH="1">
              <a:off x="8349840" y="4802040"/>
              <a:ext cx="623880" cy="477720"/>
            </a:xfrm>
            <a:prstGeom prst="line">
              <a:avLst/>
            </a:prstGeom>
            <a:ln w="25560">
              <a:solidFill>
                <a:srgbClr val="e6e5d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组合 452"/>
            <p:cNvGrpSpPr/>
            <p:nvPr/>
          </p:nvGrpSpPr>
          <p:grpSpPr>
            <a:xfrm>
              <a:off x="2868840" y="2233440"/>
              <a:ext cx="824040" cy="569880"/>
              <a:chOff x="2868840" y="2233440"/>
              <a:chExt cx="824040" cy="569880"/>
            </a:xfrm>
          </p:grpSpPr>
          <p:sp>
            <p:nvSpPr>
              <p:cNvPr id="746" name="任意多边形 475"/>
              <p:cNvSpPr/>
              <p:nvPr/>
            </p:nvSpPr>
            <p:spPr>
              <a:xfrm>
                <a:off x="2868840" y="2242800"/>
                <a:ext cx="551160" cy="56052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椭圆形标注 476"/>
              <p:cNvSpPr/>
              <p:nvPr/>
            </p:nvSpPr>
            <p:spPr>
              <a:xfrm>
                <a:off x="3291120" y="2233440"/>
                <a:ext cx="401760" cy="30492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任意多边形 453"/>
            <p:cNvSpPr/>
            <p:nvPr/>
          </p:nvSpPr>
          <p:spPr>
            <a:xfrm>
              <a:off x="3666960" y="3894120"/>
              <a:ext cx="446040" cy="45540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组合 454"/>
            <p:cNvGrpSpPr/>
            <p:nvPr/>
          </p:nvGrpSpPr>
          <p:grpSpPr>
            <a:xfrm>
              <a:off x="9667080" y="1987560"/>
              <a:ext cx="739800" cy="487800"/>
              <a:chOff x="9667080" y="1987560"/>
              <a:chExt cx="739800" cy="487800"/>
            </a:xfrm>
          </p:grpSpPr>
          <p:sp>
            <p:nvSpPr>
              <p:cNvPr id="750" name="任意多边形 473"/>
              <p:cNvSpPr/>
              <p:nvPr/>
            </p:nvSpPr>
            <p:spPr>
              <a:xfrm>
                <a:off x="9667080" y="1987560"/>
                <a:ext cx="478440" cy="48780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474"/>
              <p:cNvSpPr/>
              <p:nvPr/>
            </p:nvSpPr>
            <p:spPr>
              <a:xfrm>
                <a:off x="9928440" y="1987560"/>
                <a:ext cx="478440" cy="48780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任意多边形 455"/>
            <p:cNvSpPr/>
            <p:nvPr/>
          </p:nvSpPr>
          <p:spPr>
            <a:xfrm>
              <a:off x="5024160" y="2131920"/>
              <a:ext cx="444240" cy="4521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组合 456"/>
            <p:cNvGrpSpPr/>
            <p:nvPr/>
          </p:nvGrpSpPr>
          <p:grpSpPr>
            <a:xfrm>
              <a:off x="7449840" y="5132160"/>
              <a:ext cx="740160" cy="511920"/>
              <a:chOff x="7449840" y="5132160"/>
              <a:chExt cx="740160" cy="511920"/>
            </a:xfrm>
          </p:grpSpPr>
          <p:sp>
            <p:nvSpPr>
              <p:cNvPr id="754" name="任意多边形 471"/>
              <p:cNvSpPr/>
              <p:nvPr/>
            </p:nvSpPr>
            <p:spPr>
              <a:xfrm flipH="1">
                <a:off x="7696080" y="5140080"/>
                <a:ext cx="493920" cy="50400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形标注 472"/>
              <p:cNvSpPr/>
              <p:nvPr/>
            </p:nvSpPr>
            <p:spPr>
              <a:xfrm flipH="1">
                <a:off x="7449840" y="5132160"/>
                <a:ext cx="360720" cy="27360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457"/>
            <p:cNvGrpSpPr/>
            <p:nvPr/>
          </p:nvGrpSpPr>
          <p:grpSpPr>
            <a:xfrm>
              <a:off x="2668320" y="5086440"/>
              <a:ext cx="734760" cy="507960"/>
              <a:chOff x="2668320" y="5086440"/>
              <a:chExt cx="734760" cy="507960"/>
            </a:xfrm>
          </p:grpSpPr>
          <p:sp>
            <p:nvSpPr>
              <p:cNvPr id="757" name="任意多边形 469"/>
              <p:cNvSpPr/>
              <p:nvPr/>
            </p:nvSpPr>
            <p:spPr>
              <a:xfrm>
                <a:off x="2668320" y="5094360"/>
                <a:ext cx="490320" cy="5000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形标注 470"/>
              <p:cNvSpPr/>
              <p:nvPr/>
            </p:nvSpPr>
            <p:spPr>
              <a:xfrm>
                <a:off x="3045960" y="5086440"/>
                <a:ext cx="357120" cy="271440"/>
              </a:xfrm>
              <a:prstGeom prst="wedgeEllipseCallout">
                <a:avLst>
                  <a:gd name="adj1" fmla="val -46189"/>
                  <a:gd name="adj2" fmla="val 55356"/>
                </a:avLst>
              </a:pr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组合 458"/>
            <p:cNvGrpSpPr/>
            <p:nvPr/>
          </p:nvGrpSpPr>
          <p:grpSpPr>
            <a:xfrm>
              <a:off x="4965120" y="5606640"/>
              <a:ext cx="507240" cy="334440"/>
              <a:chOff x="4965120" y="5606640"/>
              <a:chExt cx="507240" cy="334440"/>
            </a:xfrm>
          </p:grpSpPr>
          <p:sp>
            <p:nvSpPr>
              <p:cNvPr id="760" name="任意多边形 467"/>
              <p:cNvSpPr/>
              <p:nvPr/>
            </p:nvSpPr>
            <p:spPr>
              <a:xfrm>
                <a:off x="4965120" y="5606640"/>
                <a:ext cx="327600" cy="3344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任意多边形 468"/>
              <p:cNvSpPr/>
              <p:nvPr/>
            </p:nvSpPr>
            <p:spPr>
              <a:xfrm>
                <a:off x="5144760" y="5606640"/>
                <a:ext cx="327600" cy="33444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任意多边形 459"/>
            <p:cNvSpPr/>
            <p:nvPr/>
          </p:nvSpPr>
          <p:spPr>
            <a:xfrm>
              <a:off x="10077480" y="3375000"/>
              <a:ext cx="572760" cy="58248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组合 460"/>
            <p:cNvGrpSpPr/>
            <p:nvPr/>
          </p:nvGrpSpPr>
          <p:grpSpPr>
            <a:xfrm>
              <a:off x="2183760" y="3530520"/>
              <a:ext cx="315360" cy="208080"/>
              <a:chOff x="2183760" y="3530520"/>
              <a:chExt cx="315360" cy="208080"/>
            </a:xfrm>
          </p:grpSpPr>
          <p:sp>
            <p:nvSpPr>
              <p:cNvPr id="764" name="任意多边形 465"/>
              <p:cNvSpPr/>
              <p:nvPr/>
            </p:nvSpPr>
            <p:spPr>
              <a:xfrm>
                <a:off x="2183760" y="3530520"/>
                <a:ext cx="204480" cy="2080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任意多边形 466"/>
              <p:cNvSpPr/>
              <p:nvPr/>
            </p:nvSpPr>
            <p:spPr>
              <a:xfrm>
                <a:off x="2294640" y="3530520"/>
                <a:ext cx="204480" cy="2080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e6e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任意多边形 461"/>
            <p:cNvSpPr/>
            <p:nvPr/>
          </p:nvSpPr>
          <p:spPr>
            <a:xfrm>
              <a:off x="8993160" y="4289400"/>
              <a:ext cx="446040" cy="4539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462"/>
            <p:cNvSpPr/>
            <p:nvPr/>
          </p:nvSpPr>
          <p:spPr>
            <a:xfrm>
              <a:off x="8126280" y="2690640"/>
              <a:ext cx="446040" cy="4539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463"/>
            <p:cNvSpPr/>
            <p:nvPr/>
          </p:nvSpPr>
          <p:spPr>
            <a:xfrm>
              <a:off x="9834480" y="5492880"/>
              <a:ext cx="290520" cy="2966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464"/>
            <p:cNvSpPr/>
            <p:nvPr/>
          </p:nvSpPr>
          <p:spPr>
            <a:xfrm>
              <a:off x="1815840" y="4422600"/>
              <a:ext cx="291960" cy="2966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e6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6"/>
          <p:cNvSpPr/>
          <p:nvPr/>
        </p:nvSpPr>
        <p:spPr>
          <a:xfrm>
            <a:off x="268200" y="6448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组合 968"/>
          <p:cNvGrpSpPr/>
          <p:nvPr/>
        </p:nvGrpSpPr>
        <p:grpSpPr>
          <a:xfrm>
            <a:off x="290520" y="-1490760"/>
            <a:ext cx="11901600" cy="8829720"/>
            <a:chOff x="290520" y="-1490760"/>
            <a:chExt cx="11901600" cy="8829720"/>
          </a:xfrm>
        </p:grpSpPr>
        <p:sp>
          <p:nvSpPr>
            <p:cNvPr id="772" name="椭圆 880"/>
            <p:cNvSpPr/>
            <p:nvPr/>
          </p:nvSpPr>
          <p:spPr>
            <a:xfrm>
              <a:off x="5305320" y="252360"/>
              <a:ext cx="720720" cy="71892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881"/>
            <p:cNvSpPr/>
            <p:nvPr/>
          </p:nvSpPr>
          <p:spPr>
            <a:xfrm>
              <a:off x="9385560" y="-384120"/>
              <a:ext cx="847440" cy="1431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882"/>
            <p:cNvSpPr/>
            <p:nvPr/>
          </p:nvSpPr>
          <p:spPr>
            <a:xfrm flipH="1" flipV="1">
              <a:off x="9410760" y="1592280"/>
              <a:ext cx="599760" cy="699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椭圆 883"/>
            <p:cNvSpPr/>
            <p:nvPr/>
          </p:nvSpPr>
          <p:spPr>
            <a:xfrm>
              <a:off x="11027160" y="419040"/>
              <a:ext cx="1000080" cy="9982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884"/>
            <p:cNvSpPr/>
            <p:nvPr/>
          </p:nvSpPr>
          <p:spPr>
            <a:xfrm>
              <a:off x="10155600" y="971280"/>
              <a:ext cx="528480" cy="527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885"/>
            <p:cNvSpPr/>
            <p:nvPr/>
          </p:nvSpPr>
          <p:spPr>
            <a:xfrm>
              <a:off x="8599680" y="6984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 886"/>
            <p:cNvSpPr/>
            <p:nvPr/>
          </p:nvSpPr>
          <p:spPr>
            <a:xfrm>
              <a:off x="9460080" y="4282920"/>
              <a:ext cx="1033200" cy="16192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直接连接符 887"/>
            <p:cNvSpPr/>
            <p:nvPr/>
          </p:nvSpPr>
          <p:spPr>
            <a:xfrm flipV="1">
              <a:off x="2732040" y="4282560"/>
              <a:ext cx="6708960" cy="16621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直接连接符 888"/>
            <p:cNvSpPr/>
            <p:nvPr/>
          </p:nvSpPr>
          <p:spPr>
            <a:xfrm>
              <a:off x="7632720" y="3921120"/>
              <a:ext cx="1083960" cy="1981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889"/>
            <p:cNvSpPr/>
            <p:nvPr/>
          </p:nvSpPr>
          <p:spPr>
            <a:xfrm>
              <a:off x="9712440" y="2197080"/>
              <a:ext cx="1242720" cy="12427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椭圆 890"/>
            <p:cNvSpPr/>
            <p:nvPr/>
          </p:nvSpPr>
          <p:spPr>
            <a:xfrm>
              <a:off x="2185920" y="2114280"/>
              <a:ext cx="9982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891"/>
            <p:cNvSpPr/>
            <p:nvPr/>
          </p:nvSpPr>
          <p:spPr>
            <a:xfrm>
              <a:off x="10935000" y="3263760"/>
              <a:ext cx="896760" cy="8967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892"/>
            <p:cNvSpPr/>
            <p:nvPr/>
          </p:nvSpPr>
          <p:spPr>
            <a:xfrm>
              <a:off x="6294600" y="60310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椭圆 893"/>
            <p:cNvSpPr/>
            <p:nvPr/>
          </p:nvSpPr>
          <p:spPr>
            <a:xfrm>
              <a:off x="290520" y="4724280"/>
              <a:ext cx="2441520" cy="244152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894"/>
            <p:cNvSpPr/>
            <p:nvPr/>
          </p:nvSpPr>
          <p:spPr>
            <a:xfrm>
              <a:off x="298440" y="42829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895"/>
            <p:cNvSpPr/>
            <p:nvPr/>
          </p:nvSpPr>
          <p:spPr>
            <a:xfrm>
              <a:off x="10230120" y="563868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896"/>
            <p:cNvSpPr/>
            <p:nvPr/>
          </p:nvSpPr>
          <p:spPr>
            <a:xfrm>
              <a:off x="9298080" y="4140360"/>
              <a:ext cx="284040" cy="284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897"/>
            <p:cNvSpPr/>
            <p:nvPr/>
          </p:nvSpPr>
          <p:spPr>
            <a:xfrm>
              <a:off x="7275600" y="2011320"/>
              <a:ext cx="1103040" cy="1103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898"/>
            <p:cNvSpPr/>
            <p:nvPr/>
          </p:nvSpPr>
          <p:spPr>
            <a:xfrm>
              <a:off x="7390080" y="3678120"/>
              <a:ext cx="284040" cy="28404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899"/>
            <p:cNvSpPr/>
            <p:nvPr/>
          </p:nvSpPr>
          <p:spPr>
            <a:xfrm>
              <a:off x="8487000" y="58356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900"/>
            <p:cNvSpPr/>
            <p:nvPr/>
          </p:nvSpPr>
          <p:spPr>
            <a:xfrm>
              <a:off x="7974000" y="3092400"/>
              <a:ext cx="442800" cy="1479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901"/>
            <p:cNvSpPr/>
            <p:nvPr/>
          </p:nvSpPr>
          <p:spPr>
            <a:xfrm flipV="1">
              <a:off x="7632720" y="3045960"/>
              <a:ext cx="2098440" cy="6728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902"/>
            <p:cNvSpPr/>
            <p:nvPr/>
          </p:nvSpPr>
          <p:spPr>
            <a:xfrm flipH="1">
              <a:off x="1274400" y="3046320"/>
              <a:ext cx="1114200" cy="140472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直接连接符 903"/>
            <p:cNvSpPr/>
            <p:nvPr/>
          </p:nvSpPr>
          <p:spPr>
            <a:xfrm>
              <a:off x="869760" y="1023840"/>
              <a:ext cx="1461960" cy="1238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904"/>
            <p:cNvSpPr/>
            <p:nvPr/>
          </p:nvSpPr>
          <p:spPr>
            <a:xfrm>
              <a:off x="379080" y="57600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905"/>
            <p:cNvSpPr/>
            <p:nvPr/>
          </p:nvSpPr>
          <p:spPr>
            <a:xfrm>
              <a:off x="2041560" y="-1490760"/>
              <a:ext cx="2270160" cy="2270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直接连接符 906"/>
            <p:cNvSpPr/>
            <p:nvPr/>
          </p:nvSpPr>
          <p:spPr>
            <a:xfrm flipV="1">
              <a:off x="1509480" y="779040"/>
              <a:ext cx="1674720" cy="2244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907"/>
            <p:cNvSpPr/>
            <p:nvPr/>
          </p:nvSpPr>
          <p:spPr>
            <a:xfrm>
              <a:off x="1085760" y="2938320"/>
              <a:ext cx="528480" cy="5270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908"/>
            <p:cNvSpPr/>
            <p:nvPr/>
          </p:nvSpPr>
          <p:spPr>
            <a:xfrm>
              <a:off x="11700000" y="4029120"/>
              <a:ext cx="492120" cy="5284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直接连接符 909"/>
            <p:cNvSpPr/>
            <p:nvPr/>
          </p:nvSpPr>
          <p:spPr>
            <a:xfrm>
              <a:off x="9340920" y="6689880"/>
              <a:ext cx="1724040" cy="6490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直接连接符 910"/>
            <p:cNvSpPr/>
            <p:nvPr/>
          </p:nvSpPr>
          <p:spPr>
            <a:xfrm flipV="1">
              <a:off x="7224840" y="6335640"/>
              <a:ext cx="1261800" cy="29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直接连接符 911"/>
            <p:cNvSpPr/>
            <p:nvPr/>
          </p:nvSpPr>
          <p:spPr>
            <a:xfrm flipV="1">
              <a:off x="10682640" y="1123920"/>
              <a:ext cx="388800" cy="950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912"/>
            <p:cNvSpPr/>
            <p:nvPr/>
          </p:nvSpPr>
          <p:spPr>
            <a:xfrm>
              <a:off x="3484440" y="1793880"/>
              <a:ext cx="469800" cy="173664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椭圆 913"/>
            <p:cNvSpPr/>
            <p:nvPr/>
          </p:nvSpPr>
          <p:spPr>
            <a:xfrm>
              <a:off x="3313080" y="1643040"/>
              <a:ext cx="284040" cy="282240"/>
            </a:xfrm>
            <a:prstGeom prst="ellipse">
              <a:avLst/>
            </a:prstGeom>
            <a:solidFill>
              <a:srgbClr val="e6e5d3"/>
            </a:solidFill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椭圆 914"/>
            <p:cNvSpPr/>
            <p:nvPr/>
          </p:nvSpPr>
          <p:spPr>
            <a:xfrm>
              <a:off x="3422520" y="3540240"/>
              <a:ext cx="1622160" cy="1622160"/>
            </a:xfrm>
            <a:prstGeom prst="ellipse">
              <a:avLst/>
            </a:prstGeom>
            <a:noFill/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915"/>
            <p:cNvSpPr/>
            <p:nvPr/>
          </p:nvSpPr>
          <p:spPr>
            <a:xfrm>
              <a:off x="4611600" y="5062680"/>
              <a:ext cx="1746000" cy="12348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916"/>
            <p:cNvSpPr/>
            <p:nvPr/>
          </p:nvSpPr>
          <p:spPr>
            <a:xfrm>
              <a:off x="6026040" y="779400"/>
              <a:ext cx="1679400" cy="122868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917"/>
            <p:cNvSpPr/>
            <p:nvPr/>
          </p:nvSpPr>
          <p:spPr>
            <a:xfrm flipV="1">
              <a:off x="4984920" y="2774520"/>
              <a:ext cx="2347920" cy="1182600"/>
            </a:xfrm>
            <a:prstGeom prst="line">
              <a:avLst/>
            </a:prstGeom>
            <a:ln w="38160">
              <a:solidFill>
                <a:srgbClr val="231f20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圆角矩形 528"/>
          <p:cNvSpPr/>
          <p:nvPr/>
        </p:nvSpPr>
        <p:spPr>
          <a:xfrm>
            <a:off x="7883640" y="765000"/>
            <a:ext cx="2519280" cy="646200"/>
          </a:xfrm>
          <a:prstGeom prst="roundRect">
            <a:avLst>
              <a:gd name="adj" fmla="val 16667"/>
            </a:avLst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圆角矩形 527"/>
          <p:cNvSpPr/>
          <p:nvPr/>
        </p:nvSpPr>
        <p:spPr>
          <a:xfrm>
            <a:off x="1631880" y="765000"/>
            <a:ext cx="2519280" cy="646200"/>
          </a:xfrm>
          <a:prstGeom prst="roundRect">
            <a:avLst>
              <a:gd name="adj" fmla="val 16667"/>
            </a:avLst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1"/>
          <p:cNvGrpSpPr/>
          <p:nvPr/>
        </p:nvGrpSpPr>
        <p:grpSpPr>
          <a:xfrm>
            <a:off x="6498720" y="1927440"/>
            <a:ext cx="5314320" cy="3212640"/>
            <a:chOff x="6498720" y="1927440"/>
            <a:chExt cx="5314320" cy="3212640"/>
          </a:xfrm>
        </p:grpSpPr>
        <p:sp>
          <p:nvSpPr>
            <p:cNvPr id="813" name="任意多边形 260"/>
            <p:cNvSpPr/>
            <p:nvPr/>
          </p:nvSpPr>
          <p:spPr>
            <a:xfrm>
              <a:off x="8913960" y="3476520"/>
              <a:ext cx="458640" cy="4665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组合 261"/>
            <p:cNvGrpSpPr/>
            <p:nvPr/>
          </p:nvGrpSpPr>
          <p:grpSpPr>
            <a:xfrm>
              <a:off x="8459280" y="3056400"/>
              <a:ext cx="1375200" cy="1375200"/>
              <a:chOff x="8459280" y="3056400"/>
              <a:chExt cx="1375200" cy="1375200"/>
            </a:xfrm>
          </p:grpSpPr>
          <p:grpSp>
            <p:nvGrpSpPr>
              <p:cNvPr id="815" name="组合 503"/>
              <p:cNvGrpSpPr/>
              <p:nvPr/>
            </p:nvGrpSpPr>
            <p:grpSpPr>
              <a:xfrm>
                <a:off x="8459280" y="3057120"/>
                <a:ext cx="1374840" cy="1374480"/>
                <a:chOff x="8459280" y="3057120"/>
                <a:chExt cx="1374840" cy="1374480"/>
              </a:xfrm>
            </p:grpSpPr>
            <p:grpSp>
              <p:nvGrpSpPr>
                <p:cNvPr id="816" name="组合 511"/>
                <p:cNvGrpSpPr/>
                <p:nvPr/>
              </p:nvGrpSpPr>
              <p:grpSpPr>
                <a:xfrm>
                  <a:off x="8459640" y="3057120"/>
                  <a:ext cx="1374480" cy="1374480"/>
                  <a:chOff x="8459640" y="3057120"/>
                  <a:chExt cx="1374480" cy="1374480"/>
                </a:xfrm>
              </p:grpSpPr>
              <p:sp>
                <p:nvSpPr>
                  <p:cNvPr id="817" name="空心弧 515"/>
                  <p:cNvSpPr/>
                  <p:nvPr/>
                </p:nvSpPr>
                <p:spPr>
                  <a:xfrm rot="208200">
                    <a:off x="8659440" y="3257640"/>
                    <a:ext cx="97452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8">
                        <a:moveTo>
                          <a:pt x="0" y="1598614"/>
                        </a:moveTo>
                        <a:cubicBezTo>
                          <a:pt x="0" y="1203622"/>
                          <a:pt x="146233" y="822615"/>
                          <a:pt x="410505" y="529052"/>
                        </a:cubicBezTo>
                        <a:lnTo>
                          <a:pt x="508808" y="617547"/>
                        </a:lnTo>
                        <a:cubicBezTo>
                          <a:pt x="266402" y="886821"/>
                          <a:pt x="132269" y="1236303"/>
                          <a:pt x="132269" y="1598614"/>
                        </a:cubicBezTo>
                        <a:lnTo>
                          <a:pt x="0" y="159861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空心弧 516"/>
                  <p:cNvSpPr/>
                  <p:nvPr/>
                </p:nvSpPr>
                <p:spPr>
                  <a:xfrm rot="2908800">
                    <a:off x="8660160" y="3256920"/>
                    <a:ext cx="973080" cy="9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8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3"/>
                          <a:pt x="410506" y="529051"/>
                        </a:cubicBezTo>
                        <a:lnTo>
                          <a:pt x="508810" y="617546"/>
                        </a:lnTo>
                        <a:cubicBezTo>
                          <a:pt x="266403" y="886819"/>
                          <a:pt x="132269" y="1236302"/>
                          <a:pt x="132269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组合 512"/>
                <p:cNvGrpSpPr/>
                <p:nvPr/>
              </p:nvGrpSpPr>
              <p:grpSpPr>
                <a:xfrm>
                  <a:off x="8459280" y="3057120"/>
                  <a:ext cx="1374840" cy="1374480"/>
                  <a:chOff x="8459280" y="3057120"/>
                  <a:chExt cx="1374840" cy="1374480"/>
                </a:xfrm>
              </p:grpSpPr>
              <p:sp>
                <p:nvSpPr>
                  <p:cNvPr id="820" name="空心弧 513"/>
                  <p:cNvSpPr/>
                  <p:nvPr/>
                </p:nvSpPr>
                <p:spPr>
                  <a:xfrm rot="5608800">
                    <a:off x="8659800" y="3256560"/>
                    <a:ext cx="973080" cy="9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8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3"/>
                          <a:pt x="410506" y="529051"/>
                        </a:cubicBezTo>
                        <a:lnTo>
                          <a:pt x="508810" y="617546"/>
                        </a:lnTo>
                        <a:cubicBezTo>
                          <a:pt x="266403" y="886819"/>
                          <a:pt x="132269" y="1236302"/>
                          <a:pt x="132269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空心弧 514"/>
                  <p:cNvSpPr/>
                  <p:nvPr/>
                </p:nvSpPr>
                <p:spPr>
                  <a:xfrm rot="8308800">
                    <a:off x="8659440" y="3257640"/>
                    <a:ext cx="97452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8">
                        <a:moveTo>
                          <a:pt x="0" y="1598614"/>
                        </a:moveTo>
                        <a:cubicBezTo>
                          <a:pt x="0" y="1203622"/>
                          <a:pt x="146233" y="822615"/>
                          <a:pt x="410505" y="529052"/>
                        </a:cubicBezTo>
                        <a:lnTo>
                          <a:pt x="508808" y="617547"/>
                        </a:lnTo>
                        <a:cubicBezTo>
                          <a:pt x="266402" y="886821"/>
                          <a:pt x="132269" y="1236303"/>
                          <a:pt x="132269" y="1598614"/>
                        </a:cubicBezTo>
                        <a:lnTo>
                          <a:pt x="0" y="159861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2" name="组合 504"/>
              <p:cNvGrpSpPr/>
              <p:nvPr/>
            </p:nvGrpSpPr>
            <p:grpSpPr>
              <a:xfrm>
                <a:off x="8459640" y="3056400"/>
                <a:ext cx="1374840" cy="1374840"/>
                <a:chOff x="8459640" y="3056400"/>
                <a:chExt cx="1374840" cy="1374840"/>
              </a:xfrm>
            </p:grpSpPr>
            <p:grpSp>
              <p:nvGrpSpPr>
                <p:cNvPr id="823" name="组合 505"/>
                <p:cNvGrpSpPr/>
                <p:nvPr/>
              </p:nvGrpSpPr>
              <p:grpSpPr>
                <a:xfrm>
                  <a:off x="8459640" y="3056400"/>
                  <a:ext cx="1374840" cy="1374480"/>
                  <a:chOff x="8459640" y="3056400"/>
                  <a:chExt cx="1374840" cy="1374480"/>
                </a:xfrm>
              </p:grpSpPr>
              <p:sp>
                <p:nvSpPr>
                  <p:cNvPr id="824" name="空心弧 509"/>
                  <p:cNvSpPr/>
                  <p:nvPr/>
                </p:nvSpPr>
                <p:spPr>
                  <a:xfrm rot="11008800">
                    <a:off x="8659440" y="3256920"/>
                    <a:ext cx="97452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8">
                        <a:moveTo>
                          <a:pt x="0" y="1598614"/>
                        </a:moveTo>
                        <a:cubicBezTo>
                          <a:pt x="0" y="1203622"/>
                          <a:pt x="146233" y="822615"/>
                          <a:pt x="410505" y="529052"/>
                        </a:cubicBezTo>
                        <a:lnTo>
                          <a:pt x="508808" y="617547"/>
                        </a:lnTo>
                        <a:cubicBezTo>
                          <a:pt x="266402" y="886821"/>
                          <a:pt x="132269" y="1236303"/>
                          <a:pt x="132269" y="1598614"/>
                        </a:cubicBezTo>
                        <a:lnTo>
                          <a:pt x="0" y="159861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空心弧 510"/>
                  <p:cNvSpPr/>
                  <p:nvPr/>
                </p:nvSpPr>
                <p:spPr>
                  <a:xfrm rot="13708800">
                    <a:off x="8660520" y="3256200"/>
                    <a:ext cx="973080" cy="9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8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3"/>
                          <a:pt x="410506" y="529051"/>
                        </a:cubicBezTo>
                        <a:lnTo>
                          <a:pt x="508810" y="617546"/>
                        </a:lnTo>
                        <a:cubicBezTo>
                          <a:pt x="266403" y="886819"/>
                          <a:pt x="132269" y="1236302"/>
                          <a:pt x="132269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组合 506"/>
                <p:cNvGrpSpPr/>
                <p:nvPr/>
              </p:nvGrpSpPr>
              <p:grpSpPr>
                <a:xfrm>
                  <a:off x="8459640" y="3056760"/>
                  <a:ext cx="1374840" cy="1374480"/>
                  <a:chOff x="8459640" y="3056760"/>
                  <a:chExt cx="1374840" cy="1374480"/>
                </a:xfrm>
              </p:grpSpPr>
              <p:sp>
                <p:nvSpPr>
                  <p:cNvPr id="827" name="空心弧 507"/>
                  <p:cNvSpPr/>
                  <p:nvPr/>
                </p:nvSpPr>
                <p:spPr>
                  <a:xfrm rot="16408800">
                    <a:off x="8660520" y="3256560"/>
                    <a:ext cx="973080" cy="9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8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3"/>
                          <a:pt x="410506" y="529051"/>
                        </a:cubicBezTo>
                        <a:lnTo>
                          <a:pt x="508810" y="617546"/>
                        </a:lnTo>
                        <a:cubicBezTo>
                          <a:pt x="266403" y="886819"/>
                          <a:pt x="132269" y="1236302"/>
                          <a:pt x="132269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空心弧 508"/>
                  <p:cNvSpPr/>
                  <p:nvPr/>
                </p:nvSpPr>
                <p:spPr>
                  <a:xfrm rot="19108800">
                    <a:off x="8659440" y="3257280"/>
                    <a:ext cx="97452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8">
                        <a:moveTo>
                          <a:pt x="0" y="1598614"/>
                        </a:moveTo>
                        <a:cubicBezTo>
                          <a:pt x="0" y="1203622"/>
                          <a:pt x="146233" y="822615"/>
                          <a:pt x="410505" y="529052"/>
                        </a:cubicBezTo>
                        <a:lnTo>
                          <a:pt x="508808" y="617547"/>
                        </a:lnTo>
                        <a:cubicBezTo>
                          <a:pt x="266402" y="886821"/>
                          <a:pt x="132269" y="1236303"/>
                          <a:pt x="132269" y="1598614"/>
                        </a:cubicBezTo>
                        <a:lnTo>
                          <a:pt x="0" y="1598614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9" name="组合 262"/>
            <p:cNvGrpSpPr/>
            <p:nvPr/>
          </p:nvGrpSpPr>
          <p:grpSpPr>
            <a:xfrm>
              <a:off x="9980280" y="2907360"/>
              <a:ext cx="647280" cy="646560"/>
              <a:chOff x="9980280" y="2907360"/>
              <a:chExt cx="647280" cy="646560"/>
            </a:xfrm>
          </p:grpSpPr>
          <p:grpSp>
            <p:nvGrpSpPr>
              <p:cNvPr id="830" name="组合 489"/>
              <p:cNvGrpSpPr/>
              <p:nvPr/>
            </p:nvGrpSpPr>
            <p:grpSpPr>
              <a:xfrm>
                <a:off x="9980280" y="2907360"/>
                <a:ext cx="646560" cy="646560"/>
                <a:chOff x="9980280" y="2907360"/>
                <a:chExt cx="646560" cy="646560"/>
              </a:xfrm>
            </p:grpSpPr>
            <p:grpSp>
              <p:nvGrpSpPr>
                <p:cNvPr id="831" name="组合 497"/>
                <p:cNvGrpSpPr/>
                <p:nvPr/>
              </p:nvGrpSpPr>
              <p:grpSpPr>
                <a:xfrm>
                  <a:off x="9980280" y="2907720"/>
                  <a:ext cx="646560" cy="646200"/>
                  <a:chOff x="9980280" y="2907720"/>
                  <a:chExt cx="646560" cy="646200"/>
                </a:xfrm>
              </p:grpSpPr>
              <p:sp>
                <p:nvSpPr>
                  <p:cNvPr id="832" name="空心弧 501"/>
                  <p:cNvSpPr/>
                  <p:nvPr/>
                </p:nvSpPr>
                <p:spPr>
                  <a:xfrm rot="208200">
                    <a:off x="10074600" y="3002040"/>
                    <a:ext cx="4586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空心弧 502"/>
                  <p:cNvSpPr/>
                  <p:nvPr/>
                </p:nvSpPr>
                <p:spPr>
                  <a:xfrm rot="2908800">
                    <a:off x="10074960" y="3001320"/>
                    <a:ext cx="4572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组合 498"/>
                <p:cNvGrpSpPr/>
                <p:nvPr/>
              </p:nvGrpSpPr>
              <p:grpSpPr>
                <a:xfrm>
                  <a:off x="9980280" y="2907360"/>
                  <a:ext cx="646560" cy="646560"/>
                  <a:chOff x="9980280" y="2907360"/>
                  <a:chExt cx="646560" cy="646560"/>
                </a:xfrm>
              </p:grpSpPr>
              <p:sp>
                <p:nvSpPr>
                  <p:cNvPr id="835" name="空心弧 499"/>
                  <p:cNvSpPr/>
                  <p:nvPr/>
                </p:nvSpPr>
                <p:spPr>
                  <a:xfrm rot="5608800">
                    <a:off x="10074960" y="3001320"/>
                    <a:ext cx="4572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空心弧 500"/>
                  <p:cNvSpPr/>
                  <p:nvPr/>
                </p:nvSpPr>
                <p:spPr>
                  <a:xfrm rot="8308800">
                    <a:off x="10074240" y="3001680"/>
                    <a:ext cx="4586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组合 490"/>
              <p:cNvGrpSpPr/>
              <p:nvPr/>
            </p:nvGrpSpPr>
            <p:grpSpPr>
              <a:xfrm>
                <a:off x="9981000" y="2907360"/>
                <a:ext cx="646560" cy="646560"/>
                <a:chOff x="9981000" y="2907360"/>
                <a:chExt cx="646560" cy="646560"/>
              </a:xfrm>
            </p:grpSpPr>
            <p:grpSp>
              <p:nvGrpSpPr>
                <p:cNvPr id="838" name="组合 491"/>
                <p:cNvGrpSpPr/>
                <p:nvPr/>
              </p:nvGrpSpPr>
              <p:grpSpPr>
                <a:xfrm>
                  <a:off x="9981000" y="2907360"/>
                  <a:ext cx="646560" cy="646200"/>
                  <a:chOff x="9981000" y="2907360"/>
                  <a:chExt cx="646560" cy="646200"/>
                </a:xfrm>
              </p:grpSpPr>
              <p:sp>
                <p:nvSpPr>
                  <p:cNvPr id="839" name="空心弧 495"/>
                  <p:cNvSpPr/>
                  <p:nvPr/>
                </p:nvSpPr>
                <p:spPr>
                  <a:xfrm rot="11008800">
                    <a:off x="10074240" y="3001680"/>
                    <a:ext cx="4586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空心弧 496"/>
                  <p:cNvSpPr/>
                  <p:nvPr/>
                </p:nvSpPr>
                <p:spPr>
                  <a:xfrm rot="13708800">
                    <a:off x="10075680" y="3000960"/>
                    <a:ext cx="4572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组合 492"/>
                <p:cNvGrpSpPr/>
                <p:nvPr/>
              </p:nvGrpSpPr>
              <p:grpSpPr>
                <a:xfrm>
                  <a:off x="9981000" y="2907360"/>
                  <a:ext cx="646560" cy="646560"/>
                  <a:chOff x="9981000" y="2907360"/>
                  <a:chExt cx="646560" cy="646560"/>
                </a:xfrm>
              </p:grpSpPr>
              <p:sp>
                <p:nvSpPr>
                  <p:cNvPr id="842" name="空心弧 493"/>
                  <p:cNvSpPr/>
                  <p:nvPr/>
                </p:nvSpPr>
                <p:spPr>
                  <a:xfrm rot="16408800">
                    <a:off x="10075320" y="3000960"/>
                    <a:ext cx="4572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空心弧 494"/>
                  <p:cNvSpPr/>
                  <p:nvPr/>
                </p:nvSpPr>
                <p:spPr>
                  <a:xfrm rot="19108800">
                    <a:off x="10074600" y="3002040"/>
                    <a:ext cx="4586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4" name="组合 263"/>
            <p:cNvGrpSpPr/>
            <p:nvPr/>
          </p:nvGrpSpPr>
          <p:grpSpPr>
            <a:xfrm>
              <a:off x="6877440" y="2016360"/>
              <a:ext cx="1031040" cy="1031040"/>
              <a:chOff x="6877440" y="2016360"/>
              <a:chExt cx="1031040" cy="1031040"/>
            </a:xfrm>
          </p:grpSpPr>
          <p:grpSp>
            <p:nvGrpSpPr>
              <p:cNvPr id="845" name="组合 475"/>
              <p:cNvGrpSpPr/>
              <p:nvPr/>
            </p:nvGrpSpPr>
            <p:grpSpPr>
              <a:xfrm>
                <a:off x="6877440" y="2016720"/>
                <a:ext cx="1031040" cy="1030680"/>
                <a:chOff x="6877440" y="2016720"/>
                <a:chExt cx="1031040" cy="1030680"/>
              </a:xfrm>
            </p:grpSpPr>
            <p:grpSp>
              <p:nvGrpSpPr>
                <p:cNvPr id="846" name="组合 483"/>
                <p:cNvGrpSpPr/>
                <p:nvPr/>
              </p:nvGrpSpPr>
              <p:grpSpPr>
                <a:xfrm>
                  <a:off x="6877800" y="2016720"/>
                  <a:ext cx="1030680" cy="1030680"/>
                  <a:chOff x="6877800" y="2016720"/>
                  <a:chExt cx="1030680" cy="1030680"/>
                </a:xfrm>
              </p:grpSpPr>
              <p:sp>
                <p:nvSpPr>
                  <p:cNvPr id="847" name="空心弧 487"/>
                  <p:cNvSpPr/>
                  <p:nvPr/>
                </p:nvSpPr>
                <p:spPr>
                  <a:xfrm rot="208200">
                    <a:off x="7027560" y="216648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空心弧 488"/>
                  <p:cNvSpPr/>
                  <p:nvPr/>
                </p:nvSpPr>
                <p:spPr>
                  <a:xfrm rot="2908800">
                    <a:off x="7027920" y="216684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组合 484"/>
                <p:cNvGrpSpPr/>
                <p:nvPr/>
              </p:nvGrpSpPr>
              <p:grpSpPr>
                <a:xfrm>
                  <a:off x="6877440" y="2016720"/>
                  <a:ext cx="1030680" cy="1030680"/>
                  <a:chOff x="6877440" y="2016720"/>
                  <a:chExt cx="1030680" cy="1030680"/>
                </a:xfrm>
              </p:grpSpPr>
              <p:sp>
                <p:nvSpPr>
                  <p:cNvPr id="850" name="空心弧 485"/>
                  <p:cNvSpPr/>
                  <p:nvPr/>
                </p:nvSpPr>
                <p:spPr>
                  <a:xfrm rot="5608800">
                    <a:off x="7027920" y="216648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空心弧 486"/>
                  <p:cNvSpPr/>
                  <p:nvPr/>
                </p:nvSpPr>
                <p:spPr>
                  <a:xfrm rot="8308800">
                    <a:off x="7027560" y="216684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2" name="组合 476"/>
              <p:cNvGrpSpPr/>
              <p:nvPr/>
            </p:nvGrpSpPr>
            <p:grpSpPr>
              <a:xfrm>
                <a:off x="6877800" y="2016360"/>
                <a:ext cx="1030680" cy="1030680"/>
                <a:chOff x="6877800" y="2016360"/>
                <a:chExt cx="1030680" cy="1030680"/>
              </a:xfrm>
            </p:grpSpPr>
            <p:grpSp>
              <p:nvGrpSpPr>
                <p:cNvPr id="853" name="组合 477"/>
                <p:cNvGrpSpPr/>
                <p:nvPr/>
              </p:nvGrpSpPr>
              <p:grpSpPr>
                <a:xfrm>
                  <a:off x="6877800" y="2016360"/>
                  <a:ext cx="1030320" cy="1030680"/>
                  <a:chOff x="6877800" y="2016360"/>
                  <a:chExt cx="1030320" cy="1030680"/>
                </a:xfrm>
              </p:grpSpPr>
              <p:sp>
                <p:nvSpPr>
                  <p:cNvPr id="854" name="空心弧 481"/>
                  <p:cNvSpPr/>
                  <p:nvPr/>
                </p:nvSpPr>
                <p:spPr>
                  <a:xfrm rot="11008800">
                    <a:off x="7027920" y="216684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空心弧 482"/>
                  <p:cNvSpPr/>
                  <p:nvPr/>
                </p:nvSpPr>
                <p:spPr>
                  <a:xfrm rot="13708800">
                    <a:off x="7027920" y="216648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组合 478"/>
                <p:cNvGrpSpPr/>
                <p:nvPr/>
              </p:nvGrpSpPr>
              <p:grpSpPr>
                <a:xfrm>
                  <a:off x="6877800" y="2016720"/>
                  <a:ext cx="1030680" cy="1030320"/>
                  <a:chOff x="6877800" y="2016720"/>
                  <a:chExt cx="1030680" cy="1030320"/>
                </a:xfrm>
              </p:grpSpPr>
              <p:sp>
                <p:nvSpPr>
                  <p:cNvPr id="857" name="空心弧 479"/>
                  <p:cNvSpPr/>
                  <p:nvPr/>
                </p:nvSpPr>
                <p:spPr>
                  <a:xfrm rot="16408800">
                    <a:off x="7027560" y="216684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空心弧 480"/>
                  <p:cNvSpPr/>
                  <p:nvPr/>
                </p:nvSpPr>
                <p:spPr>
                  <a:xfrm rot="19108800">
                    <a:off x="7027920" y="2166840"/>
                    <a:ext cx="730080" cy="73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9" name="组合 264"/>
            <p:cNvGrpSpPr/>
            <p:nvPr/>
          </p:nvGrpSpPr>
          <p:grpSpPr>
            <a:xfrm>
              <a:off x="7480440" y="3632400"/>
              <a:ext cx="585360" cy="585360"/>
              <a:chOff x="7480440" y="3632400"/>
              <a:chExt cx="585360" cy="585360"/>
            </a:xfrm>
          </p:grpSpPr>
          <p:grpSp>
            <p:nvGrpSpPr>
              <p:cNvPr id="860" name="组合 461"/>
              <p:cNvGrpSpPr/>
              <p:nvPr/>
            </p:nvGrpSpPr>
            <p:grpSpPr>
              <a:xfrm>
                <a:off x="7480440" y="3632400"/>
                <a:ext cx="585000" cy="585360"/>
                <a:chOff x="7480440" y="3632400"/>
                <a:chExt cx="585000" cy="585360"/>
              </a:xfrm>
            </p:grpSpPr>
            <p:grpSp>
              <p:nvGrpSpPr>
                <p:cNvPr id="861" name="组合 469"/>
                <p:cNvGrpSpPr/>
                <p:nvPr/>
              </p:nvGrpSpPr>
              <p:grpSpPr>
                <a:xfrm>
                  <a:off x="7480440" y="3632760"/>
                  <a:ext cx="585000" cy="585000"/>
                  <a:chOff x="7480440" y="3632760"/>
                  <a:chExt cx="585000" cy="585000"/>
                </a:xfrm>
              </p:grpSpPr>
              <p:sp>
                <p:nvSpPr>
                  <p:cNvPr id="862" name="空心弧 473"/>
                  <p:cNvSpPr/>
                  <p:nvPr/>
                </p:nvSpPr>
                <p:spPr>
                  <a:xfrm rot="208200">
                    <a:off x="756612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空心弧 474"/>
                  <p:cNvSpPr/>
                  <p:nvPr/>
                </p:nvSpPr>
                <p:spPr>
                  <a:xfrm rot="2908800">
                    <a:off x="756576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组合 470"/>
                <p:cNvGrpSpPr/>
                <p:nvPr/>
              </p:nvGrpSpPr>
              <p:grpSpPr>
                <a:xfrm>
                  <a:off x="7480440" y="3632400"/>
                  <a:ext cx="585000" cy="585000"/>
                  <a:chOff x="7480440" y="3632400"/>
                  <a:chExt cx="585000" cy="585000"/>
                </a:xfrm>
              </p:grpSpPr>
              <p:sp>
                <p:nvSpPr>
                  <p:cNvPr id="865" name="空心弧 471"/>
                  <p:cNvSpPr/>
                  <p:nvPr/>
                </p:nvSpPr>
                <p:spPr>
                  <a:xfrm rot="5608800">
                    <a:off x="7565760" y="371808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空心弧 472"/>
                  <p:cNvSpPr/>
                  <p:nvPr/>
                </p:nvSpPr>
                <p:spPr>
                  <a:xfrm rot="8308800">
                    <a:off x="756576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组合 462"/>
              <p:cNvGrpSpPr/>
              <p:nvPr/>
            </p:nvGrpSpPr>
            <p:grpSpPr>
              <a:xfrm>
                <a:off x="7480800" y="3632400"/>
                <a:ext cx="585000" cy="585360"/>
                <a:chOff x="7480800" y="3632400"/>
                <a:chExt cx="585000" cy="585360"/>
              </a:xfrm>
            </p:grpSpPr>
            <p:grpSp>
              <p:nvGrpSpPr>
                <p:cNvPr id="868" name="组合 463"/>
                <p:cNvGrpSpPr/>
                <p:nvPr/>
              </p:nvGrpSpPr>
              <p:grpSpPr>
                <a:xfrm>
                  <a:off x="7480800" y="3632400"/>
                  <a:ext cx="585000" cy="585000"/>
                  <a:chOff x="7480800" y="3632400"/>
                  <a:chExt cx="585000" cy="585000"/>
                </a:xfrm>
              </p:grpSpPr>
              <p:sp>
                <p:nvSpPr>
                  <p:cNvPr id="869" name="空心弧 467"/>
                  <p:cNvSpPr/>
                  <p:nvPr/>
                </p:nvSpPr>
                <p:spPr>
                  <a:xfrm rot="11008800">
                    <a:off x="756540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空心弧 468"/>
                  <p:cNvSpPr/>
                  <p:nvPr/>
                </p:nvSpPr>
                <p:spPr>
                  <a:xfrm rot="13708800">
                    <a:off x="756576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组合 464"/>
                <p:cNvGrpSpPr/>
                <p:nvPr/>
              </p:nvGrpSpPr>
              <p:grpSpPr>
                <a:xfrm>
                  <a:off x="7480800" y="3632760"/>
                  <a:ext cx="585000" cy="585000"/>
                  <a:chOff x="7480800" y="3632760"/>
                  <a:chExt cx="585000" cy="585000"/>
                </a:xfrm>
              </p:grpSpPr>
              <p:sp>
                <p:nvSpPr>
                  <p:cNvPr id="872" name="空心弧 465"/>
                  <p:cNvSpPr/>
                  <p:nvPr/>
                </p:nvSpPr>
                <p:spPr>
                  <a:xfrm rot="16408800">
                    <a:off x="7565760" y="371736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空心弧 466"/>
                  <p:cNvSpPr/>
                  <p:nvPr/>
                </p:nvSpPr>
                <p:spPr>
                  <a:xfrm rot="19108800">
                    <a:off x="7565760" y="3717720"/>
                    <a:ext cx="41436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4" name="组合 265"/>
            <p:cNvGrpSpPr/>
            <p:nvPr/>
          </p:nvGrpSpPr>
          <p:grpSpPr>
            <a:xfrm>
              <a:off x="9585000" y="4190760"/>
              <a:ext cx="842400" cy="842400"/>
              <a:chOff x="9585000" y="4190760"/>
              <a:chExt cx="842400" cy="842400"/>
            </a:xfrm>
          </p:grpSpPr>
          <p:grpSp>
            <p:nvGrpSpPr>
              <p:cNvPr id="875" name="组合 447"/>
              <p:cNvGrpSpPr/>
              <p:nvPr/>
            </p:nvGrpSpPr>
            <p:grpSpPr>
              <a:xfrm>
                <a:off x="9585000" y="4190760"/>
                <a:ext cx="842400" cy="842400"/>
                <a:chOff x="9585000" y="4190760"/>
                <a:chExt cx="842400" cy="842400"/>
              </a:xfrm>
            </p:grpSpPr>
            <p:grpSp>
              <p:nvGrpSpPr>
                <p:cNvPr id="876" name="组合 455"/>
                <p:cNvGrpSpPr/>
                <p:nvPr/>
              </p:nvGrpSpPr>
              <p:grpSpPr>
                <a:xfrm>
                  <a:off x="9585000" y="4190760"/>
                  <a:ext cx="842400" cy="842400"/>
                  <a:chOff x="9585000" y="4190760"/>
                  <a:chExt cx="842400" cy="842400"/>
                </a:xfrm>
              </p:grpSpPr>
              <p:sp>
                <p:nvSpPr>
                  <p:cNvPr id="877" name="空心弧 459"/>
                  <p:cNvSpPr/>
                  <p:nvPr/>
                </p:nvSpPr>
                <p:spPr>
                  <a:xfrm rot="208200">
                    <a:off x="9707760" y="431316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空心弧 460"/>
                  <p:cNvSpPr/>
                  <p:nvPr/>
                </p:nvSpPr>
                <p:spPr>
                  <a:xfrm rot="2908800">
                    <a:off x="9707760" y="431352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组合 456"/>
                <p:cNvGrpSpPr/>
                <p:nvPr/>
              </p:nvGrpSpPr>
              <p:grpSpPr>
                <a:xfrm>
                  <a:off x="9585000" y="4190760"/>
                  <a:ext cx="842400" cy="842400"/>
                  <a:chOff x="9585000" y="4190760"/>
                  <a:chExt cx="842400" cy="842400"/>
                </a:xfrm>
              </p:grpSpPr>
              <p:sp>
                <p:nvSpPr>
                  <p:cNvPr id="880" name="空心弧 457"/>
                  <p:cNvSpPr/>
                  <p:nvPr/>
                </p:nvSpPr>
                <p:spPr>
                  <a:xfrm rot="5608800">
                    <a:off x="9707760" y="431352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空心弧 458"/>
                  <p:cNvSpPr/>
                  <p:nvPr/>
                </p:nvSpPr>
                <p:spPr>
                  <a:xfrm rot="8308800">
                    <a:off x="9707400" y="431352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组合 448"/>
              <p:cNvGrpSpPr/>
              <p:nvPr/>
            </p:nvGrpSpPr>
            <p:grpSpPr>
              <a:xfrm>
                <a:off x="9585000" y="4190760"/>
                <a:ext cx="842400" cy="842400"/>
                <a:chOff x="9585000" y="4190760"/>
                <a:chExt cx="842400" cy="842400"/>
              </a:xfrm>
            </p:grpSpPr>
            <p:grpSp>
              <p:nvGrpSpPr>
                <p:cNvPr id="883" name="组合 449"/>
                <p:cNvGrpSpPr/>
                <p:nvPr/>
              </p:nvGrpSpPr>
              <p:grpSpPr>
                <a:xfrm>
                  <a:off x="9585000" y="4190760"/>
                  <a:ext cx="842400" cy="842400"/>
                  <a:chOff x="9585000" y="4190760"/>
                  <a:chExt cx="842400" cy="842400"/>
                </a:xfrm>
              </p:grpSpPr>
              <p:sp>
                <p:nvSpPr>
                  <p:cNvPr id="884" name="空心弧 453"/>
                  <p:cNvSpPr/>
                  <p:nvPr/>
                </p:nvSpPr>
                <p:spPr>
                  <a:xfrm rot="11008800">
                    <a:off x="9707400" y="431352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空心弧 454"/>
                  <p:cNvSpPr/>
                  <p:nvPr/>
                </p:nvSpPr>
                <p:spPr>
                  <a:xfrm rot="13708800">
                    <a:off x="9707760" y="431316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组合 450"/>
                <p:cNvGrpSpPr/>
                <p:nvPr/>
              </p:nvGrpSpPr>
              <p:grpSpPr>
                <a:xfrm>
                  <a:off x="9585000" y="4190760"/>
                  <a:ext cx="842400" cy="842400"/>
                  <a:chOff x="9585000" y="4190760"/>
                  <a:chExt cx="842400" cy="842400"/>
                </a:xfrm>
              </p:grpSpPr>
              <p:sp>
                <p:nvSpPr>
                  <p:cNvPr id="887" name="空心弧 451"/>
                  <p:cNvSpPr/>
                  <p:nvPr/>
                </p:nvSpPr>
                <p:spPr>
                  <a:xfrm rot="16408800">
                    <a:off x="9707400" y="431316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空心弧 452"/>
                  <p:cNvSpPr/>
                  <p:nvPr/>
                </p:nvSpPr>
                <p:spPr>
                  <a:xfrm rot="19108800">
                    <a:off x="9707760" y="4313520"/>
                    <a:ext cx="5968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9" name="组合 266"/>
            <p:cNvGrpSpPr/>
            <p:nvPr/>
          </p:nvGrpSpPr>
          <p:grpSpPr>
            <a:xfrm>
              <a:off x="10504440" y="3867120"/>
              <a:ext cx="576000" cy="576000"/>
              <a:chOff x="10504440" y="3867120"/>
              <a:chExt cx="576000" cy="576000"/>
            </a:xfrm>
          </p:grpSpPr>
          <p:grpSp>
            <p:nvGrpSpPr>
              <p:cNvPr id="890" name="组合 433"/>
              <p:cNvGrpSpPr/>
              <p:nvPr/>
            </p:nvGrpSpPr>
            <p:grpSpPr>
              <a:xfrm>
                <a:off x="10504440" y="3867120"/>
                <a:ext cx="575640" cy="576000"/>
                <a:chOff x="10504440" y="3867120"/>
                <a:chExt cx="575640" cy="576000"/>
              </a:xfrm>
            </p:grpSpPr>
            <p:grpSp>
              <p:nvGrpSpPr>
                <p:cNvPr id="891" name="组合 441"/>
                <p:cNvGrpSpPr/>
                <p:nvPr/>
              </p:nvGrpSpPr>
              <p:grpSpPr>
                <a:xfrm>
                  <a:off x="10504440" y="3867480"/>
                  <a:ext cx="575640" cy="575640"/>
                  <a:chOff x="10504440" y="3867480"/>
                  <a:chExt cx="575640" cy="575640"/>
                </a:xfrm>
              </p:grpSpPr>
              <p:sp>
                <p:nvSpPr>
                  <p:cNvPr id="892" name="空心弧 445"/>
                  <p:cNvSpPr/>
                  <p:nvPr/>
                </p:nvSpPr>
                <p:spPr>
                  <a:xfrm rot="208200">
                    <a:off x="10588320" y="39513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空心弧 446"/>
                  <p:cNvSpPr/>
                  <p:nvPr/>
                </p:nvSpPr>
                <p:spPr>
                  <a:xfrm rot="2908800">
                    <a:off x="10588320" y="39513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组合 442"/>
                <p:cNvGrpSpPr/>
                <p:nvPr/>
              </p:nvGrpSpPr>
              <p:grpSpPr>
                <a:xfrm>
                  <a:off x="10504440" y="3867120"/>
                  <a:ext cx="575640" cy="575640"/>
                  <a:chOff x="10504440" y="3867120"/>
                  <a:chExt cx="575640" cy="575640"/>
                </a:xfrm>
              </p:grpSpPr>
              <p:sp>
                <p:nvSpPr>
                  <p:cNvPr id="895" name="空心弧 443"/>
                  <p:cNvSpPr/>
                  <p:nvPr/>
                </p:nvSpPr>
                <p:spPr>
                  <a:xfrm rot="5608800">
                    <a:off x="10587960" y="395100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空心弧 444"/>
                  <p:cNvSpPr/>
                  <p:nvPr/>
                </p:nvSpPr>
                <p:spPr>
                  <a:xfrm rot="8308800">
                    <a:off x="10587960" y="395100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7" name="组合 434"/>
              <p:cNvGrpSpPr/>
              <p:nvPr/>
            </p:nvGrpSpPr>
            <p:grpSpPr>
              <a:xfrm>
                <a:off x="10504800" y="3867120"/>
                <a:ext cx="575640" cy="576000"/>
                <a:chOff x="10504800" y="3867120"/>
                <a:chExt cx="575640" cy="576000"/>
              </a:xfrm>
            </p:grpSpPr>
            <p:grpSp>
              <p:nvGrpSpPr>
                <p:cNvPr id="898" name="组合 435"/>
                <p:cNvGrpSpPr/>
                <p:nvPr/>
              </p:nvGrpSpPr>
              <p:grpSpPr>
                <a:xfrm>
                  <a:off x="10504800" y="3867120"/>
                  <a:ext cx="575640" cy="575640"/>
                  <a:chOff x="10504800" y="3867120"/>
                  <a:chExt cx="575640" cy="575640"/>
                </a:xfrm>
              </p:grpSpPr>
              <p:sp>
                <p:nvSpPr>
                  <p:cNvPr id="899" name="空心弧 439"/>
                  <p:cNvSpPr/>
                  <p:nvPr/>
                </p:nvSpPr>
                <p:spPr>
                  <a:xfrm rot="11008800">
                    <a:off x="10588320" y="395064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空心弧 440"/>
                  <p:cNvSpPr/>
                  <p:nvPr/>
                </p:nvSpPr>
                <p:spPr>
                  <a:xfrm rot="13708800">
                    <a:off x="10588680" y="395064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组合 436"/>
                <p:cNvGrpSpPr/>
                <p:nvPr/>
              </p:nvGrpSpPr>
              <p:grpSpPr>
                <a:xfrm>
                  <a:off x="10504800" y="3867480"/>
                  <a:ext cx="575640" cy="575640"/>
                  <a:chOff x="10504800" y="3867480"/>
                  <a:chExt cx="575640" cy="575640"/>
                </a:xfrm>
              </p:grpSpPr>
              <p:sp>
                <p:nvSpPr>
                  <p:cNvPr id="902" name="空心弧 437"/>
                  <p:cNvSpPr/>
                  <p:nvPr/>
                </p:nvSpPr>
                <p:spPr>
                  <a:xfrm rot="16408800">
                    <a:off x="10588680" y="395100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空心弧 438"/>
                  <p:cNvSpPr/>
                  <p:nvPr/>
                </p:nvSpPr>
                <p:spPr>
                  <a:xfrm rot="19108800">
                    <a:off x="10588680" y="39513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4" name="组合 267"/>
            <p:cNvGrpSpPr/>
            <p:nvPr/>
          </p:nvGrpSpPr>
          <p:grpSpPr>
            <a:xfrm>
              <a:off x="11091240" y="3320640"/>
              <a:ext cx="721800" cy="721800"/>
              <a:chOff x="11091240" y="3320640"/>
              <a:chExt cx="721800" cy="721800"/>
            </a:xfrm>
          </p:grpSpPr>
          <p:grpSp>
            <p:nvGrpSpPr>
              <p:cNvPr id="905" name="组合 419"/>
              <p:cNvGrpSpPr/>
              <p:nvPr/>
            </p:nvGrpSpPr>
            <p:grpSpPr>
              <a:xfrm>
                <a:off x="11091240" y="3320640"/>
                <a:ext cx="721800" cy="721800"/>
                <a:chOff x="11091240" y="3320640"/>
                <a:chExt cx="721800" cy="721800"/>
              </a:xfrm>
            </p:grpSpPr>
            <p:grpSp>
              <p:nvGrpSpPr>
                <p:cNvPr id="906" name="组合 427"/>
                <p:cNvGrpSpPr/>
                <p:nvPr/>
              </p:nvGrpSpPr>
              <p:grpSpPr>
                <a:xfrm>
                  <a:off x="11091600" y="3320640"/>
                  <a:ext cx="721440" cy="721800"/>
                  <a:chOff x="11091600" y="3320640"/>
                  <a:chExt cx="721440" cy="721800"/>
                </a:xfrm>
              </p:grpSpPr>
              <p:sp>
                <p:nvSpPr>
                  <p:cNvPr id="907" name="空心弧 431"/>
                  <p:cNvSpPr/>
                  <p:nvPr/>
                </p:nvSpPr>
                <p:spPr>
                  <a:xfrm rot="208200">
                    <a:off x="11196360" y="342540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空心弧 432"/>
                  <p:cNvSpPr/>
                  <p:nvPr/>
                </p:nvSpPr>
                <p:spPr>
                  <a:xfrm rot="2908800">
                    <a:off x="11196720" y="342576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组合 428"/>
                <p:cNvGrpSpPr/>
                <p:nvPr/>
              </p:nvGrpSpPr>
              <p:grpSpPr>
                <a:xfrm>
                  <a:off x="11091240" y="3320640"/>
                  <a:ext cx="721800" cy="721440"/>
                  <a:chOff x="11091240" y="3320640"/>
                  <a:chExt cx="721800" cy="721440"/>
                </a:xfrm>
              </p:grpSpPr>
              <p:sp>
                <p:nvSpPr>
                  <p:cNvPr id="910" name="空心弧 429"/>
                  <p:cNvSpPr/>
                  <p:nvPr/>
                </p:nvSpPr>
                <p:spPr>
                  <a:xfrm rot="5608800">
                    <a:off x="11196720" y="342540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空心弧 430"/>
                  <p:cNvSpPr/>
                  <p:nvPr/>
                </p:nvSpPr>
                <p:spPr>
                  <a:xfrm rot="8308800">
                    <a:off x="11196360" y="342576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2" name="组合 420"/>
              <p:cNvGrpSpPr/>
              <p:nvPr/>
            </p:nvGrpSpPr>
            <p:grpSpPr>
              <a:xfrm>
                <a:off x="11091600" y="3320640"/>
                <a:ext cx="721440" cy="721440"/>
                <a:chOff x="11091600" y="3320640"/>
                <a:chExt cx="721440" cy="721440"/>
              </a:xfrm>
            </p:grpSpPr>
            <p:grpSp>
              <p:nvGrpSpPr>
                <p:cNvPr id="913" name="组合 421"/>
                <p:cNvGrpSpPr/>
                <p:nvPr/>
              </p:nvGrpSpPr>
              <p:grpSpPr>
                <a:xfrm>
                  <a:off x="11091600" y="3320640"/>
                  <a:ext cx="721440" cy="721440"/>
                  <a:chOff x="11091600" y="3320640"/>
                  <a:chExt cx="721440" cy="721440"/>
                </a:xfrm>
              </p:grpSpPr>
              <p:sp>
                <p:nvSpPr>
                  <p:cNvPr id="914" name="空心弧 425"/>
                  <p:cNvSpPr/>
                  <p:nvPr/>
                </p:nvSpPr>
                <p:spPr>
                  <a:xfrm rot="11008800">
                    <a:off x="11196720" y="342576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空心弧 426"/>
                  <p:cNvSpPr/>
                  <p:nvPr/>
                </p:nvSpPr>
                <p:spPr>
                  <a:xfrm rot="13708800">
                    <a:off x="11196360" y="342540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组合 422"/>
                <p:cNvGrpSpPr/>
                <p:nvPr/>
              </p:nvGrpSpPr>
              <p:grpSpPr>
                <a:xfrm>
                  <a:off x="11091600" y="3320640"/>
                  <a:ext cx="721440" cy="721440"/>
                  <a:chOff x="11091600" y="3320640"/>
                  <a:chExt cx="721440" cy="721440"/>
                </a:xfrm>
              </p:grpSpPr>
              <p:sp>
                <p:nvSpPr>
                  <p:cNvPr id="917" name="空心弧 423"/>
                  <p:cNvSpPr/>
                  <p:nvPr/>
                </p:nvSpPr>
                <p:spPr>
                  <a:xfrm rot="16408800">
                    <a:off x="11196360" y="342576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空心弧 424"/>
                  <p:cNvSpPr/>
                  <p:nvPr/>
                </p:nvSpPr>
                <p:spPr>
                  <a:xfrm rot="19108800">
                    <a:off x="11196720" y="3425400"/>
                    <a:ext cx="5112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9" name="组合 268"/>
            <p:cNvGrpSpPr/>
            <p:nvPr/>
          </p:nvGrpSpPr>
          <p:grpSpPr>
            <a:xfrm>
              <a:off x="10790280" y="1927440"/>
              <a:ext cx="908640" cy="909360"/>
              <a:chOff x="10790280" y="1927440"/>
              <a:chExt cx="908640" cy="909360"/>
            </a:xfrm>
          </p:grpSpPr>
          <p:grpSp>
            <p:nvGrpSpPr>
              <p:cNvPr id="920" name="组合 405"/>
              <p:cNvGrpSpPr/>
              <p:nvPr/>
            </p:nvGrpSpPr>
            <p:grpSpPr>
              <a:xfrm>
                <a:off x="10790280" y="1927800"/>
                <a:ext cx="908640" cy="909000"/>
                <a:chOff x="10790280" y="1927800"/>
                <a:chExt cx="908640" cy="909000"/>
              </a:xfrm>
            </p:grpSpPr>
            <p:grpSp>
              <p:nvGrpSpPr>
                <p:cNvPr id="921" name="组合 413"/>
                <p:cNvGrpSpPr/>
                <p:nvPr/>
              </p:nvGrpSpPr>
              <p:grpSpPr>
                <a:xfrm>
                  <a:off x="10790280" y="1927800"/>
                  <a:ext cx="908640" cy="908640"/>
                  <a:chOff x="10790280" y="1927800"/>
                  <a:chExt cx="908640" cy="908640"/>
                </a:xfrm>
              </p:grpSpPr>
              <p:sp>
                <p:nvSpPr>
                  <p:cNvPr id="922" name="空心弧 417"/>
                  <p:cNvSpPr/>
                  <p:nvPr/>
                </p:nvSpPr>
                <p:spPr>
                  <a:xfrm rot="208200">
                    <a:off x="10922400" y="2060280"/>
                    <a:ext cx="644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0">
                        <a:moveTo>
                          <a:pt x="0" y="1598615"/>
                        </a:moveTo>
                        <a:cubicBezTo>
                          <a:pt x="0" y="1203623"/>
                          <a:pt x="146233" y="822615"/>
                          <a:pt x="410504" y="529052"/>
                        </a:cubicBezTo>
                        <a:lnTo>
                          <a:pt x="508808" y="617548"/>
                        </a:lnTo>
                        <a:cubicBezTo>
                          <a:pt x="266403" y="886822"/>
                          <a:pt x="132269" y="1236304"/>
                          <a:pt x="132269" y="1598615"/>
                        </a:cubicBezTo>
                        <a:lnTo>
                          <a:pt x="0" y="1598615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空心弧 418"/>
                  <p:cNvSpPr/>
                  <p:nvPr/>
                </p:nvSpPr>
                <p:spPr>
                  <a:xfrm rot="2908800">
                    <a:off x="10923120" y="2059560"/>
                    <a:ext cx="6429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0" h="3197225">
                        <a:moveTo>
                          <a:pt x="0" y="1598613"/>
                        </a:moveTo>
                        <a:cubicBezTo>
                          <a:pt x="0" y="1203621"/>
                          <a:pt x="146234" y="822613"/>
                          <a:pt x="410506" y="529050"/>
                        </a:cubicBezTo>
                        <a:lnTo>
                          <a:pt x="508810" y="617545"/>
                        </a:lnTo>
                        <a:cubicBezTo>
                          <a:pt x="266403" y="886818"/>
                          <a:pt x="132269" y="1236301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组合 414"/>
                <p:cNvGrpSpPr/>
                <p:nvPr/>
              </p:nvGrpSpPr>
              <p:grpSpPr>
                <a:xfrm>
                  <a:off x="10790280" y="1928160"/>
                  <a:ext cx="908640" cy="908640"/>
                  <a:chOff x="10790280" y="1928160"/>
                  <a:chExt cx="908640" cy="908640"/>
                </a:xfrm>
              </p:grpSpPr>
              <p:sp>
                <p:nvSpPr>
                  <p:cNvPr id="925" name="空心弧 415"/>
                  <p:cNvSpPr/>
                  <p:nvPr/>
                </p:nvSpPr>
                <p:spPr>
                  <a:xfrm rot="5608800">
                    <a:off x="10922760" y="2059920"/>
                    <a:ext cx="6429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0" h="3197225">
                        <a:moveTo>
                          <a:pt x="0" y="1598613"/>
                        </a:moveTo>
                        <a:cubicBezTo>
                          <a:pt x="0" y="1203621"/>
                          <a:pt x="146234" y="822613"/>
                          <a:pt x="410506" y="529050"/>
                        </a:cubicBezTo>
                        <a:lnTo>
                          <a:pt x="508810" y="617545"/>
                        </a:lnTo>
                        <a:cubicBezTo>
                          <a:pt x="266403" y="886818"/>
                          <a:pt x="132269" y="1236301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空心弧 416"/>
                  <p:cNvSpPr/>
                  <p:nvPr/>
                </p:nvSpPr>
                <p:spPr>
                  <a:xfrm rot="8308800">
                    <a:off x="10922040" y="2060640"/>
                    <a:ext cx="644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0">
                        <a:moveTo>
                          <a:pt x="0" y="1598615"/>
                        </a:moveTo>
                        <a:cubicBezTo>
                          <a:pt x="0" y="1203623"/>
                          <a:pt x="146233" y="822615"/>
                          <a:pt x="410504" y="529052"/>
                        </a:cubicBezTo>
                        <a:lnTo>
                          <a:pt x="508808" y="617548"/>
                        </a:lnTo>
                        <a:cubicBezTo>
                          <a:pt x="266403" y="886822"/>
                          <a:pt x="132269" y="1236304"/>
                          <a:pt x="132269" y="1598615"/>
                        </a:cubicBezTo>
                        <a:lnTo>
                          <a:pt x="0" y="1598615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7" name="组合 406"/>
              <p:cNvGrpSpPr/>
              <p:nvPr/>
            </p:nvGrpSpPr>
            <p:grpSpPr>
              <a:xfrm>
                <a:off x="10790280" y="1927440"/>
                <a:ext cx="908640" cy="909000"/>
                <a:chOff x="10790280" y="1927440"/>
                <a:chExt cx="908640" cy="909000"/>
              </a:xfrm>
            </p:grpSpPr>
            <p:grpSp>
              <p:nvGrpSpPr>
                <p:cNvPr id="928" name="组合 407"/>
                <p:cNvGrpSpPr/>
                <p:nvPr/>
              </p:nvGrpSpPr>
              <p:grpSpPr>
                <a:xfrm>
                  <a:off x="10790280" y="1927800"/>
                  <a:ext cx="908640" cy="908640"/>
                  <a:chOff x="10790280" y="1927800"/>
                  <a:chExt cx="908640" cy="908640"/>
                </a:xfrm>
              </p:grpSpPr>
              <p:sp>
                <p:nvSpPr>
                  <p:cNvPr id="929" name="空心弧 411"/>
                  <p:cNvSpPr/>
                  <p:nvPr/>
                </p:nvSpPr>
                <p:spPr>
                  <a:xfrm rot="11008800">
                    <a:off x="10922040" y="2060640"/>
                    <a:ext cx="644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0">
                        <a:moveTo>
                          <a:pt x="0" y="1598615"/>
                        </a:moveTo>
                        <a:cubicBezTo>
                          <a:pt x="0" y="1203623"/>
                          <a:pt x="146233" y="822615"/>
                          <a:pt x="410504" y="529052"/>
                        </a:cubicBezTo>
                        <a:lnTo>
                          <a:pt x="508808" y="617548"/>
                        </a:lnTo>
                        <a:cubicBezTo>
                          <a:pt x="266403" y="886822"/>
                          <a:pt x="132269" y="1236304"/>
                          <a:pt x="132269" y="1598615"/>
                        </a:cubicBezTo>
                        <a:lnTo>
                          <a:pt x="0" y="1598615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空心弧 412"/>
                  <p:cNvSpPr/>
                  <p:nvPr/>
                </p:nvSpPr>
                <p:spPr>
                  <a:xfrm rot="13708800">
                    <a:off x="10923120" y="2059920"/>
                    <a:ext cx="6429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0" h="3197225">
                        <a:moveTo>
                          <a:pt x="0" y="1598613"/>
                        </a:moveTo>
                        <a:cubicBezTo>
                          <a:pt x="0" y="1203621"/>
                          <a:pt x="146234" y="822613"/>
                          <a:pt x="410506" y="529050"/>
                        </a:cubicBezTo>
                        <a:lnTo>
                          <a:pt x="508810" y="617545"/>
                        </a:lnTo>
                        <a:cubicBezTo>
                          <a:pt x="266403" y="886818"/>
                          <a:pt x="132269" y="1236301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组合 408"/>
                <p:cNvGrpSpPr/>
                <p:nvPr/>
              </p:nvGrpSpPr>
              <p:grpSpPr>
                <a:xfrm>
                  <a:off x="10790280" y="1927440"/>
                  <a:ext cx="908640" cy="908640"/>
                  <a:chOff x="10790280" y="1927440"/>
                  <a:chExt cx="908640" cy="908640"/>
                </a:xfrm>
              </p:grpSpPr>
              <p:sp>
                <p:nvSpPr>
                  <p:cNvPr id="932" name="空心弧 409"/>
                  <p:cNvSpPr/>
                  <p:nvPr/>
                </p:nvSpPr>
                <p:spPr>
                  <a:xfrm rot="16408800">
                    <a:off x="10923120" y="2059560"/>
                    <a:ext cx="6429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0" h="3197225">
                        <a:moveTo>
                          <a:pt x="0" y="1598613"/>
                        </a:moveTo>
                        <a:cubicBezTo>
                          <a:pt x="0" y="1203621"/>
                          <a:pt x="146234" y="822613"/>
                          <a:pt x="410506" y="529050"/>
                        </a:cubicBezTo>
                        <a:lnTo>
                          <a:pt x="508810" y="617545"/>
                        </a:lnTo>
                        <a:cubicBezTo>
                          <a:pt x="266403" y="886818"/>
                          <a:pt x="132269" y="1236301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空心弧 410"/>
                  <p:cNvSpPr/>
                  <p:nvPr/>
                </p:nvSpPr>
                <p:spPr>
                  <a:xfrm rot="19108800">
                    <a:off x="10922400" y="2060280"/>
                    <a:ext cx="644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0">
                        <a:moveTo>
                          <a:pt x="0" y="1598615"/>
                        </a:moveTo>
                        <a:cubicBezTo>
                          <a:pt x="0" y="1203623"/>
                          <a:pt x="146233" y="822615"/>
                          <a:pt x="410504" y="529052"/>
                        </a:cubicBezTo>
                        <a:lnTo>
                          <a:pt x="508808" y="617548"/>
                        </a:lnTo>
                        <a:cubicBezTo>
                          <a:pt x="266403" y="886822"/>
                          <a:pt x="132269" y="1236304"/>
                          <a:pt x="132269" y="1598615"/>
                        </a:cubicBezTo>
                        <a:lnTo>
                          <a:pt x="0" y="1598615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4" name="组合 269"/>
            <p:cNvGrpSpPr/>
            <p:nvPr/>
          </p:nvGrpSpPr>
          <p:grpSpPr>
            <a:xfrm>
              <a:off x="11026800" y="4558680"/>
              <a:ext cx="436320" cy="436320"/>
              <a:chOff x="11026800" y="4558680"/>
              <a:chExt cx="436320" cy="436320"/>
            </a:xfrm>
          </p:grpSpPr>
          <p:grpSp>
            <p:nvGrpSpPr>
              <p:cNvPr id="935" name="组合 391"/>
              <p:cNvGrpSpPr/>
              <p:nvPr/>
            </p:nvGrpSpPr>
            <p:grpSpPr>
              <a:xfrm>
                <a:off x="11026800" y="4559400"/>
                <a:ext cx="435960" cy="435600"/>
                <a:chOff x="11026800" y="4559400"/>
                <a:chExt cx="435960" cy="435600"/>
              </a:xfrm>
            </p:grpSpPr>
            <p:grpSp>
              <p:nvGrpSpPr>
                <p:cNvPr id="936" name="组合 399"/>
                <p:cNvGrpSpPr/>
                <p:nvPr/>
              </p:nvGrpSpPr>
              <p:grpSpPr>
                <a:xfrm>
                  <a:off x="11027160" y="4559400"/>
                  <a:ext cx="435600" cy="435600"/>
                  <a:chOff x="11027160" y="4559400"/>
                  <a:chExt cx="435600" cy="435600"/>
                </a:xfrm>
              </p:grpSpPr>
              <p:sp>
                <p:nvSpPr>
                  <p:cNvPr id="937" name="空心弧 403"/>
                  <p:cNvSpPr/>
                  <p:nvPr/>
                </p:nvSpPr>
                <p:spPr>
                  <a:xfrm rot="208200">
                    <a:off x="11090520" y="4623120"/>
                    <a:ext cx="30924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空心弧 404"/>
                  <p:cNvSpPr/>
                  <p:nvPr/>
                </p:nvSpPr>
                <p:spPr>
                  <a:xfrm rot="2908800">
                    <a:off x="11090880" y="4622400"/>
                    <a:ext cx="307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组合 400"/>
                <p:cNvGrpSpPr/>
                <p:nvPr/>
              </p:nvGrpSpPr>
              <p:grpSpPr>
                <a:xfrm>
                  <a:off x="11026800" y="4559400"/>
                  <a:ext cx="435600" cy="435600"/>
                  <a:chOff x="11026800" y="4559400"/>
                  <a:chExt cx="435600" cy="435600"/>
                </a:xfrm>
              </p:grpSpPr>
              <p:sp>
                <p:nvSpPr>
                  <p:cNvPr id="940" name="空心弧 401"/>
                  <p:cNvSpPr/>
                  <p:nvPr/>
                </p:nvSpPr>
                <p:spPr>
                  <a:xfrm rot="5608800">
                    <a:off x="11090520" y="4622400"/>
                    <a:ext cx="307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空心弧 402"/>
                  <p:cNvSpPr/>
                  <p:nvPr/>
                </p:nvSpPr>
                <p:spPr>
                  <a:xfrm rot="8308800">
                    <a:off x="11089800" y="4623120"/>
                    <a:ext cx="30924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组合 392"/>
              <p:cNvGrpSpPr/>
              <p:nvPr/>
            </p:nvGrpSpPr>
            <p:grpSpPr>
              <a:xfrm>
                <a:off x="11027160" y="4558680"/>
                <a:ext cx="435960" cy="435600"/>
                <a:chOff x="11027160" y="4558680"/>
                <a:chExt cx="435960" cy="435600"/>
              </a:xfrm>
            </p:grpSpPr>
            <p:grpSp>
              <p:nvGrpSpPr>
                <p:cNvPr id="943" name="组合 393"/>
                <p:cNvGrpSpPr/>
                <p:nvPr/>
              </p:nvGrpSpPr>
              <p:grpSpPr>
                <a:xfrm>
                  <a:off x="11027160" y="4558680"/>
                  <a:ext cx="435600" cy="435600"/>
                  <a:chOff x="11027160" y="4558680"/>
                  <a:chExt cx="435600" cy="435600"/>
                </a:xfrm>
              </p:grpSpPr>
              <p:sp>
                <p:nvSpPr>
                  <p:cNvPr id="944" name="空心弧 397"/>
                  <p:cNvSpPr/>
                  <p:nvPr/>
                </p:nvSpPr>
                <p:spPr>
                  <a:xfrm rot="11008800">
                    <a:off x="11089800" y="4622400"/>
                    <a:ext cx="30924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空心弧 398"/>
                  <p:cNvSpPr/>
                  <p:nvPr/>
                </p:nvSpPr>
                <p:spPr>
                  <a:xfrm rot="13708800">
                    <a:off x="11090880" y="4621680"/>
                    <a:ext cx="307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组合 394"/>
                <p:cNvGrpSpPr/>
                <p:nvPr/>
              </p:nvGrpSpPr>
              <p:grpSpPr>
                <a:xfrm>
                  <a:off x="11027520" y="4559040"/>
                  <a:ext cx="435600" cy="435240"/>
                  <a:chOff x="11027520" y="4559040"/>
                  <a:chExt cx="435600" cy="435240"/>
                </a:xfrm>
              </p:grpSpPr>
              <p:sp>
                <p:nvSpPr>
                  <p:cNvPr id="947" name="空心弧 395"/>
                  <p:cNvSpPr/>
                  <p:nvPr/>
                </p:nvSpPr>
                <p:spPr>
                  <a:xfrm rot="16408800">
                    <a:off x="11091240" y="4621680"/>
                    <a:ext cx="307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空心弧 396"/>
                  <p:cNvSpPr/>
                  <p:nvPr/>
                </p:nvSpPr>
                <p:spPr>
                  <a:xfrm rot="19108800">
                    <a:off x="11090520" y="4622400"/>
                    <a:ext cx="30924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9" name="组合 270"/>
            <p:cNvGrpSpPr/>
            <p:nvPr/>
          </p:nvGrpSpPr>
          <p:grpSpPr>
            <a:xfrm>
              <a:off x="6720840" y="3461760"/>
              <a:ext cx="352080" cy="352080"/>
              <a:chOff x="6720840" y="3461760"/>
              <a:chExt cx="352080" cy="352080"/>
            </a:xfrm>
          </p:grpSpPr>
          <p:grpSp>
            <p:nvGrpSpPr>
              <p:cNvPr id="950" name="组合 377"/>
              <p:cNvGrpSpPr/>
              <p:nvPr/>
            </p:nvGrpSpPr>
            <p:grpSpPr>
              <a:xfrm>
                <a:off x="6720840" y="3462120"/>
                <a:ext cx="352080" cy="351720"/>
                <a:chOff x="6720840" y="3462120"/>
                <a:chExt cx="352080" cy="351720"/>
              </a:xfrm>
            </p:grpSpPr>
            <p:grpSp>
              <p:nvGrpSpPr>
                <p:cNvPr id="951" name="组合 385"/>
                <p:cNvGrpSpPr/>
                <p:nvPr/>
              </p:nvGrpSpPr>
              <p:grpSpPr>
                <a:xfrm>
                  <a:off x="6721200" y="3462120"/>
                  <a:ext cx="351720" cy="351720"/>
                  <a:chOff x="6721200" y="3462120"/>
                  <a:chExt cx="351720" cy="351720"/>
                </a:xfrm>
              </p:grpSpPr>
              <p:sp>
                <p:nvSpPr>
                  <p:cNvPr id="952" name="空心弧 389"/>
                  <p:cNvSpPr/>
                  <p:nvPr/>
                </p:nvSpPr>
                <p:spPr>
                  <a:xfrm rot="208200">
                    <a:off x="6772320" y="351324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空心弧 390"/>
                  <p:cNvSpPr/>
                  <p:nvPr/>
                </p:nvSpPr>
                <p:spPr>
                  <a:xfrm rot="2908800">
                    <a:off x="6772320" y="351324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组合 386"/>
                <p:cNvGrpSpPr/>
                <p:nvPr/>
              </p:nvGrpSpPr>
              <p:grpSpPr>
                <a:xfrm>
                  <a:off x="6720840" y="3462120"/>
                  <a:ext cx="351720" cy="351720"/>
                  <a:chOff x="6720840" y="3462120"/>
                  <a:chExt cx="351720" cy="351720"/>
                </a:xfrm>
              </p:grpSpPr>
              <p:sp>
                <p:nvSpPr>
                  <p:cNvPr id="955" name="空心弧 387"/>
                  <p:cNvSpPr/>
                  <p:nvPr/>
                </p:nvSpPr>
                <p:spPr>
                  <a:xfrm rot="5608800">
                    <a:off x="6771960" y="351324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空心弧 388"/>
                  <p:cNvSpPr/>
                  <p:nvPr/>
                </p:nvSpPr>
                <p:spPr>
                  <a:xfrm rot="8308800">
                    <a:off x="6771960" y="351324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组合 378"/>
              <p:cNvGrpSpPr/>
              <p:nvPr/>
            </p:nvGrpSpPr>
            <p:grpSpPr>
              <a:xfrm>
                <a:off x="6720840" y="3461760"/>
                <a:ext cx="352080" cy="351720"/>
                <a:chOff x="6720840" y="3461760"/>
                <a:chExt cx="352080" cy="351720"/>
              </a:xfrm>
            </p:grpSpPr>
            <p:grpSp>
              <p:nvGrpSpPr>
                <p:cNvPr id="958" name="组合 379"/>
                <p:cNvGrpSpPr/>
                <p:nvPr/>
              </p:nvGrpSpPr>
              <p:grpSpPr>
                <a:xfrm>
                  <a:off x="6720840" y="3461760"/>
                  <a:ext cx="351720" cy="351720"/>
                  <a:chOff x="6720840" y="3461760"/>
                  <a:chExt cx="351720" cy="351720"/>
                </a:xfrm>
              </p:grpSpPr>
              <p:sp>
                <p:nvSpPr>
                  <p:cNvPr id="959" name="空心弧 383"/>
                  <p:cNvSpPr/>
                  <p:nvPr/>
                </p:nvSpPr>
                <p:spPr>
                  <a:xfrm rot="11008800">
                    <a:off x="6771960" y="35128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空心弧 384"/>
                  <p:cNvSpPr/>
                  <p:nvPr/>
                </p:nvSpPr>
                <p:spPr>
                  <a:xfrm rot="13708800">
                    <a:off x="6771960" y="35128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组合 380"/>
                <p:cNvGrpSpPr/>
                <p:nvPr/>
              </p:nvGrpSpPr>
              <p:grpSpPr>
                <a:xfrm>
                  <a:off x="6721200" y="3461760"/>
                  <a:ext cx="351720" cy="351720"/>
                  <a:chOff x="6721200" y="3461760"/>
                  <a:chExt cx="351720" cy="351720"/>
                </a:xfrm>
              </p:grpSpPr>
              <p:sp>
                <p:nvSpPr>
                  <p:cNvPr id="962" name="空心弧 381"/>
                  <p:cNvSpPr/>
                  <p:nvPr/>
                </p:nvSpPr>
                <p:spPr>
                  <a:xfrm rot="16408800">
                    <a:off x="6772320" y="35128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空心弧 382"/>
                  <p:cNvSpPr/>
                  <p:nvPr/>
                </p:nvSpPr>
                <p:spPr>
                  <a:xfrm rot="19108800">
                    <a:off x="6772320" y="35128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64" name="组合 271"/>
            <p:cNvGrpSpPr/>
            <p:nvPr/>
          </p:nvGrpSpPr>
          <p:grpSpPr>
            <a:xfrm>
              <a:off x="6498720" y="3988800"/>
              <a:ext cx="352080" cy="352080"/>
              <a:chOff x="6498720" y="3988800"/>
              <a:chExt cx="352080" cy="352080"/>
            </a:xfrm>
          </p:grpSpPr>
          <p:grpSp>
            <p:nvGrpSpPr>
              <p:cNvPr id="965" name="组合 363"/>
              <p:cNvGrpSpPr/>
              <p:nvPr/>
            </p:nvGrpSpPr>
            <p:grpSpPr>
              <a:xfrm>
                <a:off x="6498720" y="3989160"/>
                <a:ext cx="352080" cy="351720"/>
                <a:chOff x="6498720" y="3989160"/>
                <a:chExt cx="352080" cy="351720"/>
              </a:xfrm>
            </p:grpSpPr>
            <p:grpSp>
              <p:nvGrpSpPr>
                <p:cNvPr id="966" name="组合 371"/>
                <p:cNvGrpSpPr/>
                <p:nvPr/>
              </p:nvGrpSpPr>
              <p:grpSpPr>
                <a:xfrm>
                  <a:off x="6499080" y="3989160"/>
                  <a:ext cx="351720" cy="351720"/>
                  <a:chOff x="6499080" y="3989160"/>
                  <a:chExt cx="351720" cy="351720"/>
                </a:xfrm>
              </p:grpSpPr>
              <p:sp>
                <p:nvSpPr>
                  <p:cNvPr id="967" name="空心弧 375"/>
                  <p:cNvSpPr/>
                  <p:nvPr/>
                </p:nvSpPr>
                <p:spPr>
                  <a:xfrm rot="208200">
                    <a:off x="6550200" y="40402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空心弧 376"/>
                  <p:cNvSpPr/>
                  <p:nvPr/>
                </p:nvSpPr>
                <p:spPr>
                  <a:xfrm rot="2908800">
                    <a:off x="6550200" y="40402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组合 372"/>
                <p:cNvGrpSpPr/>
                <p:nvPr/>
              </p:nvGrpSpPr>
              <p:grpSpPr>
                <a:xfrm>
                  <a:off x="6498720" y="3989160"/>
                  <a:ext cx="351720" cy="351720"/>
                  <a:chOff x="6498720" y="3989160"/>
                  <a:chExt cx="351720" cy="351720"/>
                </a:xfrm>
              </p:grpSpPr>
              <p:sp>
                <p:nvSpPr>
                  <p:cNvPr id="970" name="空心弧 373"/>
                  <p:cNvSpPr/>
                  <p:nvPr/>
                </p:nvSpPr>
                <p:spPr>
                  <a:xfrm rot="5608800">
                    <a:off x="6549840" y="40402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空心弧 374"/>
                  <p:cNvSpPr/>
                  <p:nvPr/>
                </p:nvSpPr>
                <p:spPr>
                  <a:xfrm rot="8308800">
                    <a:off x="6549840" y="404028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2" name="组合 364"/>
              <p:cNvGrpSpPr/>
              <p:nvPr/>
            </p:nvGrpSpPr>
            <p:grpSpPr>
              <a:xfrm>
                <a:off x="6498720" y="3988800"/>
                <a:ext cx="352080" cy="351720"/>
                <a:chOff x="6498720" y="3988800"/>
                <a:chExt cx="352080" cy="351720"/>
              </a:xfrm>
            </p:grpSpPr>
            <p:grpSp>
              <p:nvGrpSpPr>
                <p:cNvPr id="973" name="组合 365"/>
                <p:cNvGrpSpPr/>
                <p:nvPr/>
              </p:nvGrpSpPr>
              <p:grpSpPr>
                <a:xfrm>
                  <a:off x="6498720" y="3988800"/>
                  <a:ext cx="351720" cy="351720"/>
                  <a:chOff x="6498720" y="3988800"/>
                  <a:chExt cx="351720" cy="351720"/>
                </a:xfrm>
              </p:grpSpPr>
              <p:sp>
                <p:nvSpPr>
                  <p:cNvPr id="974" name="空心弧 369"/>
                  <p:cNvSpPr/>
                  <p:nvPr/>
                </p:nvSpPr>
                <p:spPr>
                  <a:xfrm rot="11008800">
                    <a:off x="6549840" y="403992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空心弧 370"/>
                  <p:cNvSpPr/>
                  <p:nvPr/>
                </p:nvSpPr>
                <p:spPr>
                  <a:xfrm rot="13708800">
                    <a:off x="6549840" y="403992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组合 366"/>
                <p:cNvGrpSpPr/>
                <p:nvPr/>
              </p:nvGrpSpPr>
              <p:grpSpPr>
                <a:xfrm>
                  <a:off x="6499080" y="3988800"/>
                  <a:ext cx="351720" cy="351720"/>
                  <a:chOff x="6499080" y="3988800"/>
                  <a:chExt cx="351720" cy="351720"/>
                </a:xfrm>
              </p:grpSpPr>
              <p:sp>
                <p:nvSpPr>
                  <p:cNvPr id="977" name="空心弧 367"/>
                  <p:cNvSpPr/>
                  <p:nvPr/>
                </p:nvSpPr>
                <p:spPr>
                  <a:xfrm rot="16408800">
                    <a:off x="6550200" y="403992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2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6"/>
                          <a:pt x="410501" y="529054"/>
                        </a:cubicBezTo>
                        <a:lnTo>
                          <a:pt x="508805" y="617548"/>
                        </a:lnTo>
                        <a:cubicBezTo>
                          <a:pt x="266402" y="886821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空心弧 368"/>
                  <p:cNvSpPr/>
                  <p:nvPr/>
                </p:nvSpPr>
                <p:spPr>
                  <a:xfrm rot="19108800">
                    <a:off x="6550200" y="4039920"/>
                    <a:ext cx="2491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2">
                        <a:moveTo>
                          <a:pt x="0" y="1598606"/>
                        </a:moveTo>
                        <a:cubicBezTo>
                          <a:pt x="0" y="1203614"/>
                          <a:pt x="146234" y="822608"/>
                          <a:pt x="410507" y="529046"/>
                        </a:cubicBezTo>
                        <a:lnTo>
                          <a:pt x="508811" y="617541"/>
                        </a:lnTo>
                        <a:cubicBezTo>
                          <a:pt x="266403" y="886813"/>
                          <a:pt x="132269" y="1236296"/>
                          <a:pt x="132269" y="1598606"/>
                        </a:cubicBezTo>
                        <a:lnTo>
                          <a:pt x="0" y="1598606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9" name="组合 272"/>
            <p:cNvGrpSpPr/>
            <p:nvPr/>
          </p:nvGrpSpPr>
          <p:grpSpPr>
            <a:xfrm>
              <a:off x="6870600" y="4208040"/>
              <a:ext cx="806400" cy="805680"/>
              <a:chOff x="6870600" y="4208040"/>
              <a:chExt cx="806400" cy="805680"/>
            </a:xfrm>
          </p:grpSpPr>
          <p:grpSp>
            <p:nvGrpSpPr>
              <p:cNvPr id="980" name="组合 349"/>
              <p:cNvGrpSpPr/>
              <p:nvPr/>
            </p:nvGrpSpPr>
            <p:grpSpPr>
              <a:xfrm>
                <a:off x="6870600" y="4208400"/>
                <a:ext cx="806040" cy="805320"/>
                <a:chOff x="6870600" y="4208400"/>
                <a:chExt cx="806040" cy="805320"/>
              </a:xfrm>
            </p:grpSpPr>
            <p:grpSp>
              <p:nvGrpSpPr>
                <p:cNvPr id="981" name="组合 357"/>
                <p:cNvGrpSpPr/>
                <p:nvPr/>
              </p:nvGrpSpPr>
              <p:grpSpPr>
                <a:xfrm>
                  <a:off x="6870960" y="4208400"/>
                  <a:ext cx="805680" cy="805320"/>
                  <a:chOff x="6870960" y="4208400"/>
                  <a:chExt cx="805680" cy="805320"/>
                </a:xfrm>
              </p:grpSpPr>
              <p:sp>
                <p:nvSpPr>
                  <p:cNvPr id="982" name="空心弧 361"/>
                  <p:cNvSpPr/>
                  <p:nvPr/>
                </p:nvSpPr>
                <p:spPr>
                  <a:xfrm rot="208200">
                    <a:off x="6987960" y="4325760"/>
                    <a:ext cx="57132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9">
                        <a:moveTo>
                          <a:pt x="0" y="1598610"/>
                        </a:moveTo>
                        <a:cubicBezTo>
                          <a:pt x="0" y="1203618"/>
                          <a:pt x="146233" y="822611"/>
                          <a:pt x="410506" y="529049"/>
                        </a:cubicBezTo>
                        <a:lnTo>
                          <a:pt x="508810" y="617544"/>
                        </a:lnTo>
                        <a:cubicBezTo>
                          <a:pt x="266403" y="886817"/>
                          <a:pt x="132269" y="1236299"/>
                          <a:pt x="132269" y="1598610"/>
                        </a:cubicBezTo>
                        <a:lnTo>
                          <a:pt x="0" y="159861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空心弧 362"/>
                  <p:cNvSpPr/>
                  <p:nvPr/>
                </p:nvSpPr>
                <p:spPr>
                  <a:xfrm rot="2908800">
                    <a:off x="6988680" y="4325400"/>
                    <a:ext cx="5698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9" h="3197225">
                        <a:moveTo>
                          <a:pt x="0" y="1598613"/>
                        </a:moveTo>
                        <a:cubicBezTo>
                          <a:pt x="0" y="1203621"/>
                          <a:pt x="146232" y="822615"/>
                          <a:pt x="410503" y="529052"/>
                        </a:cubicBezTo>
                        <a:lnTo>
                          <a:pt x="508807" y="617547"/>
                        </a:lnTo>
                        <a:cubicBezTo>
                          <a:pt x="266402" y="886820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组合 358"/>
                <p:cNvGrpSpPr/>
                <p:nvPr/>
              </p:nvGrpSpPr>
              <p:grpSpPr>
                <a:xfrm>
                  <a:off x="6870600" y="4208400"/>
                  <a:ext cx="805680" cy="805320"/>
                  <a:chOff x="6870600" y="4208400"/>
                  <a:chExt cx="805680" cy="805320"/>
                </a:xfrm>
              </p:grpSpPr>
              <p:sp>
                <p:nvSpPr>
                  <p:cNvPr id="985" name="空心弧 359"/>
                  <p:cNvSpPr/>
                  <p:nvPr/>
                </p:nvSpPr>
                <p:spPr>
                  <a:xfrm rot="5608800">
                    <a:off x="6988320" y="4325040"/>
                    <a:ext cx="5698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9" h="3197225">
                        <a:moveTo>
                          <a:pt x="0" y="1598613"/>
                        </a:moveTo>
                        <a:cubicBezTo>
                          <a:pt x="0" y="1203621"/>
                          <a:pt x="146232" y="822615"/>
                          <a:pt x="410503" y="529052"/>
                        </a:cubicBezTo>
                        <a:lnTo>
                          <a:pt x="508807" y="617547"/>
                        </a:lnTo>
                        <a:cubicBezTo>
                          <a:pt x="266402" y="886820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空心弧 360"/>
                  <p:cNvSpPr/>
                  <p:nvPr/>
                </p:nvSpPr>
                <p:spPr>
                  <a:xfrm rot="8308800">
                    <a:off x="6987600" y="4326120"/>
                    <a:ext cx="57132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9">
                        <a:moveTo>
                          <a:pt x="0" y="1598610"/>
                        </a:moveTo>
                        <a:cubicBezTo>
                          <a:pt x="0" y="1203618"/>
                          <a:pt x="146233" y="822611"/>
                          <a:pt x="410506" y="529049"/>
                        </a:cubicBezTo>
                        <a:lnTo>
                          <a:pt x="508810" y="617544"/>
                        </a:lnTo>
                        <a:cubicBezTo>
                          <a:pt x="266403" y="886817"/>
                          <a:pt x="132269" y="1236299"/>
                          <a:pt x="132269" y="1598610"/>
                        </a:cubicBezTo>
                        <a:lnTo>
                          <a:pt x="0" y="159861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7" name="组合 350"/>
              <p:cNvGrpSpPr/>
              <p:nvPr/>
            </p:nvGrpSpPr>
            <p:grpSpPr>
              <a:xfrm>
                <a:off x="6871320" y="4208040"/>
                <a:ext cx="805680" cy="805320"/>
                <a:chOff x="6871320" y="4208040"/>
                <a:chExt cx="805680" cy="805320"/>
              </a:xfrm>
            </p:grpSpPr>
            <p:grpSp>
              <p:nvGrpSpPr>
                <p:cNvPr id="988" name="组合 351"/>
                <p:cNvGrpSpPr/>
                <p:nvPr/>
              </p:nvGrpSpPr>
              <p:grpSpPr>
                <a:xfrm>
                  <a:off x="6871320" y="4208040"/>
                  <a:ext cx="805320" cy="805320"/>
                  <a:chOff x="6871320" y="4208040"/>
                  <a:chExt cx="805320" cy="805320"/>
                </a:xfrm>
              </p:grpSpPr>
              <p:sp>
                <p:nvSpPr>
                  <p:cNvPr id="989" name="空心弧 355"/>
                  <p:cNvSpPr/>
                  <p:nvPr/>
                </p:nvSpPr>
                <p:spPr>
                  <a:xfrm rot="11008800">
                    <a:off x="6987960" y="4325760"/>
                    <a:ext cx="57132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9">
                        <a:moveTo>
                          <a:pt x="0" y="1598610"/>
                        </a:moveTo>
                        <a:cubicBezTo>
                          <a:pt x="0" y="1203618"/>
                          <a:pt x="146233" y="822611"/>
                          <a:pt x="410506" y="529049"/>
                        </a:cubicBezTo>
                        <a:lnTo>
                          <a:pt x="508810" y="617544"/>
                        </a:lnTo>
                        <a:cubicBezTo>
                          <a:pt x="266403" y="886817"/>
                          <a:pt x="132269" y="1236299"/>
                          <a:pt x="132269" y="1598610"/>
                        </a:cubicBezTo>
                        <a:lnTo>
                          <a:pt x="0" y="159861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空心弧 356"/>
                  <p:cNvSpPr/>
                  <p:nvPr/>
                </p:nvSpPr>
                <p:spPr>
                  <a:xfrm rot="13708800">
                    <a:off x="6988680" y="4324680"/>
                    <a:ext cx="5698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9" h="3197225">
                        <a:moveTo>
                          <a:pt x="0" y="1598613"/>
                        </a:moveTo>
                        <a:cubicBezTo>
                          <a:pt x="0" y="1203621"/>
                          <a:pt x="146232" y="822615"/>
                          <a:pt x="410503" y="529052"/>
                        </a:cubicBezTo>
                        <a:lnTo>
                          <a:pt x="508807" y="617547"/>
                        </a:lnTo>
                        <a:cubicBezTo>
                          <a:pt x="266402" y="886820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组合 352"/>
                <p:cNvGrpSpPr/>
                <p:nvPr/>
              </p:nvGrpSpPr>
              <p:grpSpPr>
                <a:xfrm>
                  <a:off x="6871320" y="4208040"/>
                  <a:ext cx="805680" cy="805320"/>
                  <a:chOff x="6871320" y="4208040"/>
                  <a:chExt cx="805680" cy="805320"/>
                </a:xfrm>
              </p:grpSpPr>
              <p:sp>
                <p:nvSpPr>
                  <p:cNvPr id="992" name="空心弧 353"/>
                  <p:cNvSpPr/>
                  <p:nvPr/>
                </p:nvSpPr>
                <p:spPr>
                  <a:xfrm rot="16408800">
                    <a:off x="6989040" y="4325040"/>
                    <a:ext cx="5698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9" h="3197225">
                        <a:moveTo>
                          <a:pt x="0" y="1598613"/>
                        </a:moveTo>
                        <a:cubicBezTo>
                          <a:pt x="0" y="1203621"/>
                          <a:pt x="146232" y="822615"/>
                          <a:pt x="410503" y="529052"/>
                        </a:cubicBezTo>
                        <a:lnTo>
                          <a:pt x="508807" y="617547"/>
                        </a:lnTo>
                        <a:cubicBezTo>
                          <a:pt x="266402" y="886820"/>
                          <a:pt x="132269" y="1236303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空心弧 354"/>
                  <p:cNvSpPr/>
                  <p:nvPr/>
                </p:nvSpPr>
                <p:spPr>
                  <a:xfrm rot="19108800">
                    <a:off x="6988320" y="4325760"/>
                    <a:ext cx="57132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9">
                        <a:moveTo>
                          <a:pt x="0" y="1598610"/>
                        </a:moveTo>
                        <a:cubicBezTo>
                          <a:pt x="0" y="1203618"/>
                          <a:pt x="146233" y="822611"/>
                          <a:pt x="410506" y="529049"/>
                        </a:cubicBezTo>
                        <a:lnTo>
                          <a:pt x="508810" y="617544"/>
                        </a:lnTo>
                        <a:cubicBezTo>
                          <a:pt x="266403" y="886817"/>
                          <a:pt x="132269" y="1236299"/>
                          <a:pt x="132269" y="1598610"/>
                        </a:cubicBezTo>
                        <a:lnTo>
                          <a:pt x="0" y="1598610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4" name="组合 273"/>
            <p:cNvGrpSpPr/>
            <p:nvPr/>
          </p:nvGrpSpPr>
          <p:grpSpPr>
            <a:xfrm>
              <a:off x="8238960" y="4564080"/>
              <a:ext cx="576000" cy="576000"/>
              <a:chOff x="8238960" y="4564080"/>
              <a:chExt cx="576000" cy="576000"/>
            </a:xfrm>
          </p:grpSpPr>
          <p:grpSp>
            <p:nvGrpSpPr>
              <p:cNvPr id="995" name="组合 335"/>
              <p:cNvGrpSpPr/>
              <p:nvPr/>
            </p:nvGrpSpPr>
            <p:grpSpPr>
              <a:xfrm>
                <a:off x="8238960" y="4564080"/>
                <a:ext cx="575640" cy="576000"/>
                <a:chOff x="8238960" y="4564080"/>
                <a:chExt cx="575640" cy="576000"/>
              </a:xfrm>
            </p:grpSpPr>
            <p:grpSp>
              <p:nvGrpSpPr>
                <p:cNvPr id="996" name="组合 343"/>
                <p:cNvGrpSpPr/>
                <p:nvPr/>
              </p:nvGrpSpPr>
              <p:grpSpPr>
                <a:xfrm>
                  <a:off x="8238960" y="4564440"/>
                  <a:ext cx="575640" cy="575640"/>
                  <a:chOff x="8238960" y="4564440"/>
                  <a:chExt cx="575640" cy="575640"/>
                </a:xfrm>
              </p:grpSpPr>
              <p:sp>
                <p:nvSpPr>
                  <p:cNvPr id="997" name="空心弧 347"/>
                  <p:cNvSpPr/>
                  <p:nvPr/>
                </p:nvSpPr>
                <p:spPr>
                  <a:xfrm rot="208200">
                    <a:off x="8322840" y="464832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空心弧 348"/>
                  <p:cNvSpPr/>
                  <p:nvPr/>
                </p:nvSpPr>
                <p:spPr>
                  <a:xfrm rot="2908800">
                    <a:off x="8322840" y="464832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组合 344"/>
                <p:cNvGrpSpPr/>
                <p:nvPr/>
              </p:nvGrpSpPr>
              <p:grpSpPr>
                <a:xfrm>
                  <a:off x="8238960" y="4564080"/>
                  <a:ext cx="575640" cy="575640"/>
                  <a:chOff x="8238960" y="4564080"/>
                  <a:chExt cx="575640" cy="575640"/>
                </a:xfrm>
              </p:grpSpPr>
              <p:sp>
                <p:nvSpPr>
                  <p:cNvPr id="1000" name="空心弧 345"/>
                  <p:cNvSpPr/>
                  <p:nvPr/>
                </p:nvSpPr>
                <p:spPr>
                  <a:xfrm rot="5608800">
                    <a:off x="8322480" y="46479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空心弧 346"/>
                  <p:cNvSpPr/>
                  <p:nvPr/>
                </p:nvSpPr>
                <p:spPr>
                  <a:xfrm rot="8308800">
                    <a:off x="8322480" y="46479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组合 336"/>
              <p:cNvGrpSpPr/>
              <p:nvPr/>
            </p:nvGrpSpPr>
            <p:grpSpPr>
              <a:xfrm>
                <a:off x="8239320" y="4564080"/>
                <a:ext cx="575640" cy="576000"/>
                <a:chOff x="8239320" y="4564080"/>
                <a:chExt cx="575640" cy="576000"/>
              </a:xfrm>
            </p:grpSpPr>
            <p:grpSp>
              <p:nvGrpSpPr>
                <p:cNvPr id="1003" name="组合 337"/>
                <p:cNvGrpSpPr/>
                <p:nvPr/>
              </p:nvGrpSpPr>
              <p:grpSpPr>
                <a:xfrm>
                  <a:off x="8239320" y="4564080"/>
                  <a:ext cx="575640" cy="575640"/>
                  <a:chOff x="8239320" y="4564080"/>
                  <a:chExt cx="575640" cy="575640"/>
                </a:xfrm>
              </p:grpSpPr>
              <p:sp>
                <p:nvSpPr>
                  <p:cNvPr id="1004" name="空心弧 341"/>
                  <p:cNvSpPr/>
                  <p:nvPr/>
                </p:nvSpPr>
                <p:spPr>
                  <a:xfrm rot="11008800">
                    <a:off x="8322840" y="464760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空心弧 342"/>
                  <p:cNvSpPr/>
                  <p:nvPr/>
                </p:nvSpPr>
                <p:spPr>
                  <a:xfrm rot="13708800">
                    <a:off x="8323200" y="464760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组合 338"/>
                <p:cNvGrpSpPr/>
                <p:nvPr/>
              </p:nvGrpSpPr>
              <p:grpSpPr>
                <a:xfrm>
                  <a:off x="8239320" y="4564440"/>
                  <a:ext cx="575640" cy="575640"/>
                  <a:chOff x="8239320" y="4564440"/>
                  <a:chExt cx="575640" cy="575640"/>
                </a:xfrm>
              </p:grpSpPr>
              <p:sp>
                <p:nvSpPr>
                  <p:cNvPr id="1007" name="空心弧 339"/>
                  <p:cNvSpPr/>
                  <p:nvPr/>
                </p:nvSpPr>
                <p:spPr>
                  <a:xfrm rot="16408800">
                    <a:off x="8323200" y="464796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33" h="3197225">
                        <a:moveTo>
                          <a:pt x="0" y="1598613"/>
                        </a:moveTo>
                        <a:cubicBezTo>
                          <a:pt x="0" y="1203620"/>
                          <a:pt x="146234" y="822612"/>
                          <a:pt x="410507" y="529050"/>
                        </a:cubicBezTo>
                        <a:lnTo>
                          <a:pt x="508811" y="617545"/>
                        </a:lnTo>
                        <a:cubicBezTo>
                          <a:pt x="266404" y="886818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空心弧 340"/>
                  <p:cNvSpPr/>
                  <p:nvPr/>
                </p:nvSpPr>
                <p:spPr>
                  <a:xfrm rot="19108800">
                    <a:off x="8323200" y="4648320"/>
                    <a:ext cx="4078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33">
                        <a:moveTo>
                          <a:pt x="0" y="1598617"/>
                        </a:moveTo>
                        <a:cubicBezTo>
                          <a:pt x="0" y="1203625"/>
                          <a:pt x="146233" y="822617"/>
                          <a:pt x="410504" y="529054"/>
                        </a:cubicBezTo>
                        <a:lnTo>
                          <a:pt x="508808" y="617549"/>
                        </a:lnTo>
                        <a:cubicBezTo>
                          <a:pt x="266403" y="886823"/>
                          <a:pt x="132270" y="1236306"/>
                          <a:pt x="132270" y="1598616"/>
                        </a:cubicBezTo>
                        <a:lnTo>
                          <a:pt x="0" y="1598617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9" name="组合 274"/>
            <p:cNvGrpSpPr/>
            <p:nvPr/>
          </p:nvGrpSpPr>
          <p:grpSpPr>
            <a:xfrm>
              <a:off x="8250480" y="2183400"/>
              <a:ext cx="576720" cy="577440"/>
              <a:chOff x="8250480" y="2183400"/>
              <a:chExt cx="576720" cy="577440"/>
            </a:xfrm>
          </p:grpSpPr>
          <p:grpSp>
            <p:nvGrpSpPr>
              <p:cNvPr id="1010" name="组合 321"/>
              <p:cNvGrpSpPr/>
              <p:nvPr/>
            </p:nvGrpSpPr>
            <p:grpSpPr>
              <a:xfrm>
                <a:off x="8250480" y="2184120"/>
                <a:ext cx="576720" cy="576720"/>
                <a:chOff x="8250480" y="2184120"/>
                <a:chExt cx="576720" cy="576720"/>
              </a:xfrm>
            </p:grpSpPr>
            <p:grpSp>
              <p:nvGrpSpPr>
                <p:cNvPr id="1011" name="组合 329"/>
                <p:cNvGrpSpPr/>
                <p:nvPr/>
              </p:nvGrpSpPr>
              <p:grpSpPr>
                <a:xfrm>
                  <a:off x="8250480" y="2184120"/>
                  <a:ext cx="576720" cy="576720"/>
                  <a:chOff x="8250480" y="2184120"/>
                  <a:chExt cx="576720" cy="576720"/>
                </a:xfrm>
              </p:grpSpPr>
              <p:sp>
                <p:nvSpPr>
                  <p:cNvPr id="1012" name="空心弧 333"/>
                  <p:cNvSpPr/>
                  <p:nvPr/>
                </p:nvSpPr>
                <p:spPr>
                  <a:xfrm rot="208200">
                    <a:off x="8334000" y="2268360"/>
                    <a:ext cx="4093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空心弧 334"/>
                  <p:cNvSpPr/>
                  <p:nvPr/>
                </p:nvSpPr>
                <p:spPr>
                  <a:xfrm rot="2908800">
                    <a:off x="8334720" y="2267640"/>
                    <a:ext cx="4078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组合 330"/>
                <p:cNvGrpSpPr/>
                <p:nvPr/>
              </p:nvGrpSpPr>
              <p:grpSpPr>
                <a:xfrm>
                  <a:off x="8250480" y="2184120"/>
                  <a:ext cx="576720" cy="576720"/>
                  <a:chOff x="8250480" y="2184120"/>
                  <a:chExt cx="576720" cy="576720"/>
                </a:xfrm>
              </p:grpSpPr>
              <p:sp>
                <p:nvSpPr>
                  <p:cNvPr id="1015" name="空心弧 331"/>
                  <p:cNvSpPr/>
                  <p:nvPr/>
                </p:nvSpPr>
                <p:spPr>
                  <a:xfrm rot="5608800">
                    <a:off x="8334360" y="2267280"/>
                    <a:ext cx="4078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空心弧 332"/>
                  <p:cNvSpPr/>
                  <p:nvPr/>
                </p:nvSpPr>
                <p:spPr>
                  <a:xfrm rot="8308800">
                    <a:off x="8334000" y="2268360"/>
                    <a:ext cx="4093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7" name="组合 322"/>
              <p:cNvGrpSpPr/>
              <p:nvPr/>
            </p:nvGrpSpPr>
            <p:grpSpPr>
              <a:xfrm>
                <a:off x="8250480" y="2183400"/>
                <a:ext cx="576720" cy="576720"/>
                <a:chOff x="8250480" y="2183400"/>
                <a:chExt cx="576720" cy="576720"/>
              </a:xfrm>
            </p:grpSpPr>
            <p:grpSp>
              <p:nvGrpSpPr>
                <p:cNvPr id="1018" name="组合 323"/>
                <p:cNvGrpSpPr/>
                <p:nvPr/>
              </p:nvGrpSpPr>
              <p:grpSpPr>
                <a:xfrm>
                  <a:off x="8250480" y="2183400"/>
                  <a:ext cx="576720" cy="576720"/>
                  <a:chOff x="8250480" y="2183400"/>
                  <a:chExt cx="576720" cy="576720"/>
                </a:xfrm>
              </p:grpSpPr>
              <p:sp>
                <p:nvSpPr>
                  <p:cNvPr id="1019" name="空心弧 327"/>
                  <p:cNvSpPr/>
                  <p:nvPr/>
                </p:nvSpPr>
                <p:spPr>
                  <a:xfrm rot="11008800">
                    <a:off x="8334000" y="2267640"/>
                    <a:ext cx="4093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空心弧 328"/>
                  <p:cNvSpPr/>
                  <p:nvPr/>
                </p:nvSpPr>
                <p:spPr>
                  <a:xfrm rot="13708800">
                    <a:off x="8334720" y="2266920"/>
                    <a:ext cx="4078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组合 324"/>
                <p:cNvGrpSpPr/>
                <p:nvPr/>
              </p:nvGrpSpPr>
              <p:grpSpPr>
                <a:xfrm>
                  <a:off x="8250480" y="2183400"/>
                  <a:ext cx="576720" cy="576720"/>
                  <a:chOff x="8250480" y="2183400"/>
                  <a:chExt cx="576720" cy="576720"/>
                </a:xfrm>
              </p:grpSpPr>
              <p:sp>
                <p:nvSpPr>
                  <p:cNvPr id="1022" name="空心弧 325"/>
                  <p:cNvSpPr/>
                  <p:nvPr/>
                </p:nvSpPr>
                <p:spPr>
                  <a:xfrm rot="16408800">
                    <a:off x="8335080" y="2267280"/>
                    <a:ext cx="4078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17" h="3197225">
                        <a:moveTo>
                          <a:pt x="0" y="1598613"/>
                        </a:moveTo>
                        <a:cubicBezTo>
                          <a:pt x="0" y="1203622"/>
                          <a:pt x="146232" y="822615"/>
                          <a:pt x="410503" y="529052"/>
                        </a:cubicBezTo>
                        <a:lnTo>
                          <a:pt x="508806" y="617548"/>
                        </a:lnTo>
                        <a:cubicBezTo>
                          <a:pt x="266401" y="886821"/>
                          <a:pt x="132268" y="1236303"/>
                          <a:pt x="132268" y="1598613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空心弧 326"/>
                  <p:cNvSpPr/>
                  <p:nvPr/>
                </p:nvSpPr>
                <p:spPr>
                  <a:xfrm rot="19108800">
                    <a:off x="8334000" y="2267640"/>
                    <a:ext cx="40932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17">
                        <a:moveTo>
                          <a:pt x="0" y="1598609"/>
                        </a:moveTo>
                        <a:cubicBezTo>
                          <a:pt x="0" y="1203617"/>
                          <a:pt x="146234" y="822610"/>
                          <a:pt x="410506" y="529048"/>
                        </a:cubicBezTo>
                        <a:lnTo>
                          <a:pt x="508810" y="617543"/>
                        </a:lnTo>
                        <a:cubicBezTo>
                          <a:pt x="266403" y="886816"/>
                          <a:pt x="132269" y="1236298"/>
                          <a:pt x="132269" y="1598608"/>
                        </a:cubicBezTo>
                        <a:lnTo>
                          <a:pt x="0" y="1598609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24" name="直接连接符 275"/>
            <p:cNvSpPr/>
            <p:nvPr/>
          </p:nvSpPr>
          <p:spPr>
            <a:xfrm>
              <a:off x="10388880" y="3438720"/>
              <a:ext cx="328320" cy="5428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76"/>
            <p:cNvSpPr/>
            <p:nvPr/>
          </p:nvSpPr>
          <p:spPr>
            <a:xfrm flipH="1">
              <a:off x="10877400" y="2690640"/>
              <a:ext cx="363240" cy="12841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77"/>
            <p:cNvSpPr/>
            <p:nvPr/>
          </p:nvSpPr>
          <p:spPr>
            <a:xfrm>
              <a:off x="9456840" y="4094280"/>
              <a:ext cx="311040" cy="37440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78"/>
            <p:cNvSpPr/>
            <p:nvPr/>
          </p:nvSpPr>
          <p:spPr>
            <a:xfrm>
              <a:off x="7910640" y="4091040"/>
              <a:ext cx="479160" cy="6206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79"/>
            <p:cNvSpPr/>
            <p:nvPr/>
          </p:nvSpPr>
          <p:spPr>
            <a:xfrm>
              <a:off x="8628120" y="2635200"/>
              <a:ext cx="285480" cy="689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80"/>
            <p:cNvSpPr/>
            <p:nvPr/>
          </p:nvSpPr>
          <p:spPr>
            <a:xfrm>
              <a:off x="7389720" y="2882880"/>
              <a:ext cx="299880" cy="86040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直接连接符 281"/>
            <p:cNvSpPr/>
            <p:nvPr/>
          </p:nvSpPr>
          <p:spPr>
            <a:xfrm flipV="1">
              <a:off x="8718840" y="4708800"/>
              <a:ext cx="1025280" cy="1951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82"/>
            <p:cNvSpPr/>
            <p:nvPr/>
          </p:nvSpPr>
          <p:spPr>
            <a:xfrm flipH="1">
              <a:off x="11253600" y="3915000"/>
              <a:ext cx="129960" cy="7142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直接连接符 283"/>
            <p:cNvSpPr/>
            <p:nvPr/>
          </p:nvSpPr>
          <p:spPr>
            <a:xfrm>
              <a:off x="6929280" y="3749760"/>
              <a:ext cx="242640" cy="5950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直接连接符 284"/>
            <p:cNvSpPr/>
            <p:nvPr/>
          </p:nvSpPr>
          <p:spPr>
            <a:xfrm flipH="1">
              <a:off x="6711480" y="3743280"/>
              <a:ext cx="129960" cy="311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直接连接符 285"/>
            <p:cNvSpPr/>
            <p:nvPr/>
          </p:nvSpPr>
          <p:spPr>
            <a:xfrm>
              <a:off x="7485120" y="4767480"/>
              <a:ext cx="846000" cy="824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直接连接符 286"/>
            <p:cNvSpPr/>
            <p:nvPr/>
          </p:nvSpPr>
          <p:spPr>
            <a:xfrm>
              <a:off x="6753240" y="4270320"/>
              <a:ext cx="276120" cy="2221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直接连接符 287"/>
            <p:cNvSpPr/>
            <p:nvPr/>
          </p:nvSpPr>
          <p:spPr>
            <a:xfrm flipV="1">
              <a:off x="7740720" y="2469600"/>
              <a:ext cx="603000" cy="442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直接连接符 288"/>
            <p:cNvSpPr/>
            <p:nvPr/>
          </p:nvSpPr>
          <p:spPr>
            <a:xfrm>
              <a:off x="8728200" y="2485800"/>
              <a:ext cx="1420560" cy="58716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直接连接符 289"/>
            <p:cNvSpPr/>
            <p:nvPr/>
          </p:nvSpPr>
          <p:spPr>
            <a:xfrm flipV="1">
              <a:off x="10460160" y="2372760"/>
              <a:ext cx="480960" cy="70308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直接连接符 290"/>
            <p:cNvSpPr/>
            <p:nvPr/>
          </p:nvSpPr>
          <p:spPr>
            <a:xfrm>
              <a:off x="10279440" y="4694400"/>
              <a:ext cx="817560" cy="806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291"/>
            <p:cNvSpPr/>
            <p:nvPr/>
          </p:nvSpPr>
          <p:spPr>
            <a:xfrm>
              <a:off x="9617400" y="3907080"/>
              <a:ext cx="979200" cy="23652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2"/>
            <p:cNvSpPr/>
            <p:nvPr/>
          </p:nvSpPr>
          <p:spPr>
            <a:xfrm flipV="1">
              <a:off x="8732880" y="2363760"/>
              <a:ext cx="2203560" cy="806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3"/>
            <p:cNvSpPr/>
            <p:nvPr/>
          </p:nvSpPr>
          <p:spPr>
            <a:xfrm flipH="1">
              <a:off x="6981480" y="2865240"/>
              <a:ext cx="252360" cy="6890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4"/>
            <p:cNvSpPr/>
            <p:nvPr/>
          </p:nvSpPr>
          <p:spPr>
            <a:xfrm flipH="1">
              <a:off x="7962840" y="3846600"/>
              <a:ext cx="707760" cy="806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5"/>
            <p:cNvSpPr/>
            <p:nvPr/>
          </p:nvSpPr>
          <p:spPr>
            <a:xfrm flipH="1">
              <a:off x="10299600" y="4292640"/>
              <a:ext cx="353880" cy="269640"/>
            </a:xfrm>
            <a:prstGeom prst="line">
              <a:avLst/>
            </a:prstGeom>
            <a:ln w="25560">
              <a:solidFill>
                <a:srgbClr val="231f2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5" name="组合 296" descr=""/>
            <p:cNvPicPr/>
            <p:nvPr/>
          </p:nvPicPr>
          <p:blipFill>
            <a:blip r:embed="rId1"/>
            <a:stretch/>
          </p:blipFill>
          <p:spPr>
            <a:xfrm>
              <a:off x="7193160" y="2371320"/>
              <a:ext cx="46908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任意多边形 297"/>
            <p:cNvSpPr/>
            <p:nvPr/>
          </p:nvSpPr>
          <p:spPr>
            <a:xfrm>
              <a:off x="7647120" y="3778200"/>
              <a:ext cx="252360" cy="2570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组合 298" descr=""/>
            <p:cNvPicPr/>
            <p:nvPr/>
          </p:nvPicPr>
          <p:blipFill>
            <a:blip r:embed="rId2"/>
            <a:stretch/>
          </p:blipFill>
          <p:spPr>
            <a:xfrm>
              <a:off x="11046240" y="2230920"/>
              <a:ext cx="42048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任意多边形 299"/>
            <p:cNvSpPr/>
            <p:nvPr/>
          </p:nvSpPr>
          <p:spPr>
            <a:xfrm>
              <a:off x="8415360" y="2313000"/>
              <a:ext cx="252360" cy="2570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组合 300" descr=""/>
            <p:cNvPicPr/>
            <p:nvPr/>
          </p:nvPicPr>
          <p:blipFill>
            <a:blip r:embed="rId3"/>
            <a:stretch/>
          </p:blipFill>
          <p:spPr>
            <a:xfrm>
              <a:off x="9790200" y="4480560"/>
              <a:ext cx="42048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组合 301" descr=""/>
            <p:cNvPicPr/>
            <p:nvPr/>
          </p:nvPicPr>
          <p:blipFill>
            <a:blip r:embed="rId4"/>
            <a:stretch/>
          </p:blipFill>
          <p:spPr>
            <a:xfrm>
              <a:off x="7083720" y="4450320"/>
              <a:ext cx="4143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组合 302" descr=""/>
            <p:cNvPicPr/>
            <p:nvPr/>
          </p:nvPicPr>
          <p:blipFill>
            <a:blip r:embed="rId5"/>
            <a:stretch/>
          </p:blipFill>
          <p:spPr>
            <a:xfrm>
              <a:off x="8382240" y="4749120"/>
              <a:ext cx="28620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任意多边形 303"/>
            <p:cNvSpPr/>
            <p:nvPr/>
          </p:nvSpPr>
          <p:spPr>
            <a:xfrm>
              <a:off x="11301840" y="3506760"/>
              <a:ext cx="301320" cy="3063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3" name="组合 304" descr=""/>
            <p:cNvPicPr/>
            <p:nvPr/>
          </p:nvPicPr>
          <p:blipFill>
            <a:blip r:embed="rId6"/>
            <a:stretch/>
          </p:blipFill>
          <p:spPr>
            <a:xfrm>
              <a:off x="6803280" y="3572280"/>
              <a:ext cx="182880" cy="1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任意多边形 305"/>
            <p:cNvSpPr/>
            <p:nvPr/>
          </p:nvSpPr>
          <p:spPr>
            <a:xfrm>
              <a:off x="10663560" y="4002120"/>
              <a:ext cx="253800" cy="2570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任意多边形 306"/>
            <p:cNvSpPr/>
            <p:nvPr/>
          </p:nvSpPr>
          <p:spPr>
            <a:xfrm>
              <a:off x="10172880" y="3095640"/>
              <a:ext cx="252360" cy="25704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307"/>
            <p:cNvSpPr/>
            <p:nvPr/>
          </p:nvSpPr>
          <p:spPr>
            <a:xfrm>
              <a:off x="11161800" y="4686480"/>
              <a:ext cx="164880" cy="168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308"/>
            <p:cNvSpPr/>
            <p:nvPr/>
          </p:nvSpPr>
          <p:spPr>
            <a:xfrm>
              <a:off x="6597720" y="4076640"/>
              <a:ext cx="164880" cy="16812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文本框 827"/>
          <p:cNvSpPr/>
          <p:nvPr/>
        </p:nvSpPr>
        <p:spPr>
          <a:xfrm>
            <a:off x="7375680" y="777960"/>
            <a:ext cx="3506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同级管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827"/>
          <p:cNvSpPr/>
          <p:nvPr/>
        </p:nvSpPr>
        <p:spPr>
          <a:xfrm>
            <a:off x="1631880" y="781200"/>
            <a:ext cx="25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金字塔管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561"/>
          <p:cNvGrpSpPr/>
          <p:nvPr/>
        </p:nvGrpSpPr>
        <p:grpSpPr>
          <a:xfrm>
            <a:off x="2299320" y="1610280"/>
            <a:ext cx="1376640" cy="1376640"/>
            <a:chOff x="2299320" y="1610280"/>
            <a:chExt cx="1376640" cy="1376640"/>
          </a:xfrm>
        </p:grpSpPr>
        <p:sp>
          <p:nvSpPr>
            <p:cNvPr id="1061" name="任意多边形 545"/>
            <p:cNvSpPr/>
            <p:nvPr/>
          </p:nvSpPr>
          <p:spPr>
            <a:xfrm>
              <a:off x="2734920" y="2010960"/>
              <a:ext cx="498600" cy="507960"/>
            </a:xfrm>
            <a:custGeom>
              <a:avLst/>
              <a:gdLst/>
              <a:ahLst/>
              <a:rect l="l" t="t" r="r" b="b"/>
              <a:pathLst>
                <a:path w="914797" h="931517">
                  <a:moveTo>
                    <a:pt x="457399" y="0"/>
                  </a:moveTo>
                  <a:cubicBezTo>
                    <a:pt x="579049" y="0"/>
                    <a:pt x="677665" y="118695"/>
                    <a:pt x="677665" y="265113"/>
                  </a:cubicBezTo>
                  <a:cubicBezTo>
                    <a:pt x="677665" y="338322"/>
                    <a:pt x="653011" y="404600"/>
                    <a:pt x="613151" y="452577"/>
                  </a:cubicBezTo>
                  <a:lnTo>
                    <a:pt x="563217" y="493097"/>
                  </a:lnTo>
                  <a:lnTo>
                    <a:pt x="581880" y="567746"/>
                  </a:lnTo>
                  <a:lnTo>
                    <a:pt x="585053" y="567901"/>
                  </a:lnTo>
                  <a:cubicBezTo>
                    <a:pt x="708754" y="580241"/>
                    <a:pt x="819320" y="610158"/>
                    <a:pt x="905289" y="652065"/>
                  </a:cubicBezTo>
                  <a:lnTo>
                    <a:pt x="914797" y="657683"/>
                  </a:lnTo>
                  <a:lnTo>
                    <a:pt x="914797" y="931517"/>
                  </a:lnTo>
                  <a:lnTo>
                    <a:pt x="0" y="931517"/>
                  </a:lnTo>
                  <a:lnTo>
                    <a:pt x="0" y="657682"/>
                  </a:lnTo>
                  <a:lnTo>
                    <a:pt x="9508" y="652065"/>
                  </a:lnTo>
                  <a:cubicBezTo>
                    <a:pt x="95477" y="610158"/>
                    <a:pt x="206042" y="580241"/>
                    <a:pt x="329743" y="567901"/>
                  </a:cubicBezTo>
                  <a:lnTo>
                    <a:pt x="332917" y="567746"/>
                  </a:lnTo>
                  <a:lnTo>
                    <a:pt x="351579" y="493096"/>
                  </a:lnTo>
                  <a:lnTo>
                    <a:pt x="301647" y="452577"/>
                  </a:lnTo>
                  <a:cubicBezTo>
                    <a:pt x="261787" y="404600"/>
                    <a:pt x="237133" y="338322"/>
                    <a:pt x="237133" y="265113"/>
                  </a:cubicBezTo>
                  <a:cubicBezTo>
                    <a:pt x="237133" y="118695"/>
                    <a:pt x="335749" y="0"/>
                    <a:pt x="457399" y="0"/>
                  </a:cubicBez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组合 546"/>
            <p:cNvGrpSpPr/>
            <p:nvPr/>
          </p:nvGrpSpPr>
          <p:grpSpPr>
            <a:xfrm>
              <a:off x="2299320" y="1610280"/>
              <a:ext cx="1376640" cy="1376640"/>
              <a:chOff x="2299320" y="1610280"/>
              <a:chExt cx="1376640" cy="1376640"/>
            </a:xfrm>
          </p:grpSpPr>
          <p:grpSp>
            <p:nvGrpSpPr>
              <p:cNvPr id="1063" name="组合 547"/>
              <p:cNvGrpSpPr/>
              <p:nvPr/>
            </p:nvGrpSpPr>
            <p:grpSpPr>
              <a:xfrm>
                <a:off x="2299320" y="1610640"/>
                <a:ext cx="1376280" cy="1376280"/>
                <a:chOff x="2299320" y="1610640"/>
                <a:chExt cx="1376280" cy="1376280"/>
              </a:xfrm>
            </p:grpSpPr>
            <p:grpSp>
              <p:nvGrpSpPr>
                <p:cNvPr id="1064" name="组合 555"/>
                <p:cNvGrpSpPr/>
                <p:nvPr/>
              </p:nvGrpSpPr>
              <p:grpSpPr>
                <a:xfrm>
                  <a:off x="2299680" y="1610640"/>
                  <a:ext cx="1375920" cy="1376280"/>
                  <a:chOff x="2299680" y="1610640"/>
                  <a:chExt cx="1375920" cy="1376280"/>
                </a:xfrm>
              </p:grpSpPr>
              <p:sp>
                <p:nvSpPr>
                  <p:cNvPr id="1065" name="空心弧 559"/>
                  <p:cNvSpPr/>
                  <p:nvPr/>
                </p:nvSpPr>
                <p:spPr>
                  <a:xfrm rot="208200">
                    <a:off x="2499840" y="181116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空心弧 560"/>
                  <p:cNvSpPr/>
                  <p:nvPr/>
                </p:nvSpPr>
                <p:spPr>
                  <a:xfrm rot="2908800">
                    <a:off x="2500200" y="181116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组合 556"/>
                <p:cNvGrpSpPr/>
                <p:nvPr/>
              </p:nvGrpSpPr>
              <p:grpSpPr>
                <a:xfrm>
                  <a:off x="2299320" y="1610640"/>
                  <a:ext cx="1376280" cy="1375920"/>
                  <a:chOff x="2299320" y="1610640"/>
                  <a:chExt cx="1376280" cy="1375920"/>
                </a:xfrm>
              </p:grpSpPr>
              <p:sp>
                <p:nvSpPr>
                  <p:cNvPr id="1068" name="空心弧 557"/>
                  <p:cNvSpPr/>
                  <p:nvPr/>
                </p:nvSpPr>
                <p:spPr>
                  <a:xfrm rot="5608800">
                    <a:off x="2499840" y="181080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空心弧 558"/>
                  <p:cNvSpPr/>
                  <p:nvPr/>
                </p:nvSpPr>
                <p:spPr>
                  <a:xfrm rot="8308800">
                    <a:off x="2499840" y="181116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0" name="组合 548"/>
              <p:cNvGrpSpPr/>
              <p:nvPr/>
            </p:nvGrpSpPr>
            <p:grpSpPr>
              <a:xfrm>
                <a:off x="2299680" y="1610280"/>
                <a:ext cx="1376280" cy="1376640"/>
                <a:chOff x="2299680" y="1610280"/>
                <a:chExt cx="1376280" cy="1376640"/>
              </a:xfrm>
            </p:grpSpPr>
            <p:grpSp>
              <p:nvGrpSpPr>
                <p:cNvPr id="1071" name="组合 549"/>
                <p:cNvGrpSpPr/>
                <p:nvPr/>
              </p:nvGrpSpPr>
              <p:grpSpPr>
                <a:xfrm>
                  <a:off x="2299680" y="1610280"/>
                  <a:ext cx="1376280" cy="1376280"/>
                  <a:chOff x="2299680" y="1610280"/>
                  <a:chExt cx="1376280" cy="1376280"/>
                </a:xfrm>
              </p:grpSpPr>
              <p:sp>
                <p:nvSpPr>
                  <p:cNvPr id="1072" name="空心弧 553"/>
                  <p:cNvSpPr/>
                  <p:nvPr/>
                </p:nvSpPr>
                <p:spPr>
                  <a:xfrm rot="11008800">
                    <a:off x="2500200" y="181080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空心弧 554"/>
                  <p:cNvSpPr/>
                  <p:nvPr/>
                </p:nvSpPr>
                <p:spPr>
                  <a:xfrm rot="13708800">
                    <a:off x="2500200" y="181080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" name="组合 550"/>
                <p:cNvGrpSpPr/>
                <p:nvPr/>
              </p:nvGrpSpPr>
              <p:grpSpPr>
                <a:xfrm>
                  <a:off x="2299680" y="1610640"/>
                  <a:ext cx="1376280" cy="1376280"/>
                  <a:chOff x="2299680" y="1610640"/>
                  <a:chExt cx="1376280" cy="1376280"/>
                </a:xfrm>
              </p:grpSpPr>
              <p:sp>
                <p:nvSpPr>
                  <p:cNvPr id="1075" name="空心弧 551"/>
                  <p:cNvSpPr/>
                  <p:nvPr/>
                </p:nvSpPr>
                <p:spPr>
                  <a:xfrm rot="16408800">
                    <a:off x="2500200" y="181116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空心弧 552"/>
                  <p:cNvSpPr/>
                  <p:nvPr/>
                </p:nvSpPr>
                <p:spPr>
                  <a:xfrm rot="19108800">
                    <a:off x="2500200" y="1811160"/>
                    <a:ext cx="97488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7225" h="3197225">
                        <a:moveTo>
                          <a:pt x="0" y="1598613"/>
                        </a:moveTo>
                        <a:cubicBezTo>
                          <a:pt x="0" y="1203621"/>
                          <a:pt x="146233" y="822614"/>
                          <a:pt x="410505" y="529051"/>
                        </a:cubicBezTo>
                        <a:lnTo>
                          <a:pt x="508809" y="617546"/>
                        </a:lnTo>
                        <a:cubicBezTo>
                          <a:pt x="266403" y="886819"/>
                          <a:pt x="132269" y="1236302"/>
                          <a:pt x="132269" y="1598612"/>
                        </a:cubicBezTo>
                        <a:lnTo>
                          <a:pt x="0" y="1598613"/>
                        </a:lnTo>
                        <a:close/>
                      </a:path>
                    </a:pathLst>
                  </a:custGeom>
                  <a:solidFill>
                    <a:srgbClr val="231f2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77" name="组合 613"/>
          <p:cNvGrpSpPr/>
          <p:nvPr/>
        </p:nvGrpSpPr>
        <p:grpSpPr>
          <a:xfrm>
            <a:off x="867960" y="3044160"/>
            <a:ext cx="4240080" cy="1158840"/>
            <a:chOff x="867960" y="3044160"/>
            <a:chExt cx="4240080" cy="1158840"/>
          </a:xfrm>
        </p:grpSpPr>
        <p:grpSp>
          <p:nvGrpSpPr>
            <p:cNvPr id="1078" name="组合 562"/>
            <p:cNvGrpSpPr/>
            <p:nvPr/>
          </p:nvGrpSpPr>
          <p:grpSpPr>
            <a:xfrm>
              <a:off x="867960" y="3044160"/>
              <a:ext cx="1158840" cy="1158840"/>
              <a:chOff x="867960" y="3044160"/>
              <a:chExt cx="1158840" cy="1158840"/>
            </a:xfrm>
          </p:grpSpPr>
          <p:sp>
            <p:nvSpPr>
              <p:cNvPr id="1079" name="任意多边形 563"/>
              <p:cNvSpPr/>
              <p:nvPr/>
            </p:nvSpPr>
            <p:spPr>
              <a:xfrm>
                <a:off x="1235160" y="3381120"/>
                <a:ext cx="419040" cy="4269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组合 564"/>
              <p:cNvGrpSpPr/>
              <p:nvPr/>
            </p:nvGrpSpPr>
            <p:grpSpPr>
              <a:xfrm>
                <a:off x="867960" y="3044160"/>
                <a:ext cx="1158840" cy="1158840"/>
                <a:chOff x="867960" y="3044160"/>
                <a:chExt cx="1158840" cy="1158840"/>
              </a:xfrm>
            </p:grpSpPr>
            <p:grpSp>
              <p:nvGrpSpPr>
                <p:cNvPr id="1081" name="组合 565"/>
                <p:cNvGrpSpPr/>
                <p:nvPr/>
              </p:nvGrpSpPr>
              <p:grpSpPr>
                <a:xfrm>
                  <a:off x="867960" y="3044160"/>
                  <a:ext cx="1158840" cy="1158840"/>
                  <a:chOff x="867960" y="3044160"/>
                  <a:chExt cx="1158840" cy="1158840"/>
                </a:xfrm>
              </p:grpSpPr>
              <p:grpSp>
                <p:nvGrpSpPr>
                  <p:cNvPr id="1082" name="组合 573"/>
                  <p:cNvGrpSpPr/>
                  <p:nvPr/>
                </p:nvGrpSpPr>
                <p:grpSpPr>
                  <a:xfrm>
                    <a:off x="867960" y="3044160"/>
                    <a:ext cx="1158840" cy="1158480"/>
                    <a:chOff x="867960" y="3044160"/>
                    <a:chExt cx="1158840" cy="1158480"/>
                  </a:xfrm>
                </p:grpSpPr>
                <p:sp>
                  <p:nvSpPr>
                    <p:cNvPr id="1083" name="空心弧 577"/>
                    <p:cNvSpPr/>
                    <p:nvPr/>
                  </p:nvSpPr>
                  <p:spPr>
                    <a:xfrm rot="208200">
                      <a:off x="10364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2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09" y="822798"/>
                            <a:pt x="410171" y="529261"/>
                          </a:cubicBezTo>
                          <a:lnTo>
                            <a:pt x="508440" y="617724"/>
                          </a:lnTo>
                          <a:cubicBezTo>
                            <a:pt x="266236" y="886980"/>
                            <a:pt x="132222" y="1236387"/>
                            <a:pt x="132222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空心弧 578"/>
                    <p:cNvSpPr/>
                    <p:nvPr/>
                  </p:nvSpPr>
                  <p:spPr>
                    <a:xfrm rot="2908800">
                      <a:off x="103680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2">
                          <a:moveTo>
                            <a:pt x="0" y="1598046"/>
                          </a:moveTo>
                          <a:cubicBezTo>
                            <a:pt x="0" y="1203097"/>
                            <a:pt x="146305" y="822138"/>
                            <a:pt x="410694" y="528654"/>
                          </a:cubicBezTo>
                          <a:lnTo>
                            <a:pt x="508963" y="617118"/>
                          </a:lnTo>
                          <a:cubicBezTo>
                            <a:pt x="266433" y="886321"/>
                            <a:pt x="132223" y="1235767"/>
                            <a:pt x="132223" y="1598046"/>
                          </a:cubicBezTo>
                          <a:lnTo>
                            <a:pt x="0" y="159804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5" name="组合 574"/>
                  <p:cNvGrpSpPr/>
                  <p:nvPr/>
                </p:nvGrpSpPr>
                <p:grpSpPr>
                  <a:xfrm>
                    <a:off x="867960" y="3044160"/>
                    <a:ext cx="1158480" cy="1158840"/>
                    <a:chOff x="867960" y="3044160"/>
                    <a:chExt cx="1158480" cy="1158840"/>
                  </a:xfrm>
                </p:grpSpPr>
                <p:sp>
                  <p:nvSpPr>
                    <p:cNvPr id="1086" name="空心弧 575"/>
                    <p:cNvSpPr/>
                    <p:nvPr/>
                  </p:nvSpPr>
                  <p:spPr>
                    <a:xfrm rot="5608800">
                      <a:off x="103680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2">
                          <a:moveTo>
                            <a:pt x="0" y="1598046"/>
                          </a:moveTo>
                          <a:cubicBezTo>
                            <a:pt x="0" y="1203097"/>
                            <a:pt x="146305" y="822138"/>
                            <a:pt x="410694" y="528654"/>
                          </a:cubicBezTo>
                          <a:lnTo>
                            <a:pt x="508963" y="617118"/>
                          </a:lnTo>
                          <a:cubicBezTo>
                            <a:pt x="266433" y="886321"/>
                            <a:pt x="132223" y="1235767"/>
                            <a:pt x="132223" y="1598046"/>
                          </a:cubicBezTo>
                          <a:lnTo>
                            <a:pt x="0" y="159804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空心弧 576"/>
                    <p:cNvSpPr/>
                    <p:nvPr/>
                  </p:nvSpPr>
                  <p:spPr>
                    <a:xfrm rot="8308800">
                      <a:off x="10364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2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09" y="822798"/>
                            <a:pt x="410171" y="529261"/>
                          </a:cubicBezTo>
                          <a:lnTo>
                            <a:pt x="508440" y="617724"/>
                          </a:lnTo>
                          <a:cubicBezTo>
                            <a:pt x="266236" y="886980"/>
                            <a:pt x="132222" y="1236387"/>
                            <a:pt x="132222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88" name="组合 566"/>
                <p:cNvGrpSpPr/>
                <p:nvPr/>
              </p:nvGrpSpPr>
              <p:grpSpPr>
                <a:xfrm>
                  <a:off x="867960" y="3044160"/>
                  <a:ext cx="1158480" cy="1158480"/>
                  <a:chOff x="867960" y="3044160"/>
                  <a:chExt cx="1158480" cy="1158480"/>
                </a:xfrm>
              </p:grpSpPr>
              <p:grpSp>
                <p:nvGrpSpPr>
                  <p:cNvPr id="1089" name="组合 567"/>
                  <p:cNvGrpSpPr/>
                  <p:nvPr/>
                </p:nvGrpSpPr>
                <p:grpSpPr>
                  <a:xfrm>
                    <a:off x="867960" y="3044160"/>
                    <a:ext cx="1158480" cy="1158480"/>
                    <a:chOff x="867960" y="3044160"/>
                    <a:chExt cx="1158480" cy="1158480"/>
                  </a:xfrm>
                </p:grpSpPr>
                <p:sp>
                  <p:nvSpPr>
                    <p:cNvPr id="1090" name="空心弧 571"/>
                    <p:cNvSpPr/>
                    <p:nvPr/>
                  </p:nvSpPr>
                  <p:spPr>
                    <a:xfrm rot="11008800">
                      <a:off x="103680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2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09" y="822798"/>
                            <a:pt x="410171" y="529261"/>
                          </a:cubicBezTo>
                          <a:lnTo>
                            <a:pt x="508440" y="617724"/>
                          </a:lnTo>
                          <a:cubicBezTo>
                            <a:pt x="266236" y="886980"/>
                            <a:pt x="132222" y="1236387"/>
                            <a:pt x="132222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空心弧 572"/>
                    <p:cNvSpPr/>
                    <p:nvPr/>
                  </p:nvSpPr>
                  <p:spPr>
                    <a:xfrm rot="13708800">
                      <a:off x="10364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2">
                          <a:moveTo>
                            <a:pt x="0" y="1598046"/>
                          </a:moveTo>
                          <a:cubicBezTo>
                            <a:pt x="0" y="1203097"/>
                            <a:pt x="146305" y="822138"/>
                            <a:pt x="410694" y="528654"/>
                          </a:cubicBezTo>
                          <a:lnTo>
                            <a:pt x="508963" y="617118"/>
                          </a:lnTo>
                          <a:cubicBezTo>
                            <a:pt x="266433" y="886321"/>
                            <a:pt x="132223" y="1235767"/>
                            <a:pt x="132223" y="1598046"/>
                          </a:cubicBezTo>
                          <a:lnTo>
                            <a:pt x="0" y="159804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组合 568"/>
                  <p:cNvGrpSpPr/>
                  <p:nvPr/>
                </p:nvGrpSpPr>
                <p:grpSpPr>
                  <a:xfrm>
                    <a:off x="867960" y="3044160"/>
                    <a:ext cx="1158480" cy="1158480"/>
                    <a:chOff x="867960" y="3044160"/>
                    <a:chExt cx="1158480" cy="1158480"/>
                  </a:xfrm>
                </p:grpSpPr>
                <p:sp>
                  <p:nvSpPr>
                    <p:cNvPr id="1093" name="空心弧 569"/>
                    <p:cNvSpPr/>
                    <p:nvPr/>
                  </p:nvSpPr>
                  <p:spPr>
                    <a:xfrm rot="16408800">
                      <a:off x="103680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2">
                          <a:moveTo>
                            <a:pt x="0" y="1598046"/>
                          </a:moveTo>
                          <a:cubicBezTo>
                            <a:pt x="0" y="1203097"/>
                            <a:pt x="146305" y="822138"/>
                            <a:pt x="410694" y="528654"/>
                          </a:cubicBezTo>
                          <a:lnTo>
                            <a:pt x="508963" y="617118"/>
                          </a:lnTo>
                          <a:cubicBezTo>
                            <a:pt x="266433" y="886321"/>
                            <a:pt x="132223" y="1235767"/>
                            <a:pt x="132223" y="1598046"/>
                          </a:cubicBezTo>
                          <a:lnTo>
                            <a:pt x="0" y="159804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空心弧 570"/>
                    <p:cNvSpPr/>
                    <p:nvPr/>
                  </p:nvSpPr>
                  <p:spPr>
                    <a:xfrm rot="19108800">
                      <a:off x="103680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2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09" y="822798"/>
                            <a:pt x="410171" y="529261"/>
                          </a:cubicBezTo>
                          <a:lnTo>
                            <a:pt x="508440" y="617724"/>
                          </a:lnTo>
                          <a:cubicBezTo>
                            <a:pt x="266236" y="886980"/>
                            <a:pt x="132222" y="1236387"/>
                            <a:pt x="132222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95" name="组合 579"/>
            <p:cNvGrpSpPr/>
            <p:nvPr/>
          </p:nvGrpSpPr>
          <p:grpSpPr>
            <a:xfrm>
              <a:off x="2408400" y="3044160"/>
              <a:ext cx="1158840" cy="1158840"/>
              <a:chOff x="2408400" y="3044160"/>
              <a:chExt cx="1158840" cy="1158840"/>
            </a:xfrm>
          </p:grpSpPr>
          <p:sp>
            <p:nvSpPr>
              <p:cNvPr id="1096" name="任意多边形 580"/>
              <p:cNvSpPr/>
              <p:nvPr/>
            </p:nvSpPr>
            <p:spPr>
              <a:xfrm>
                <a:off x="2774880" y="3381120"/>
                <a:ext cx="420480" cy="4269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7" name="组合 581"/>
              <p:cNvGrpSpPr/>
              <p:nvPr/>
            </p:nvGrpSpPr>
            <p:grpSpPr>
              <a:xfrm>
                <a:off x="2408400" y="3044160"/>
                <a:ext cx="1158840" cy="1158840"/>
                <a:chOff x="2408400" y="3044160"/>
                <a:chExt cx="1158840" cy="1158840"/>
              </a:xfrm>
            </p:grpSpPr>
            <p:grpSp>
              <p:nvGrpSpPr>
                <p:cNvPr id="1098" name="组合 582"/>
                <p:cNvGrpSpPr/>
                <p:nvPr/>
              </p:nvGrpSpPr>
              <p:grpSpPr>
                <a:xfrm>
                  <a:off x="2408400" y="3044160"/>
                  <a:ext cx="1158840" cy="1158840"/>
                  <a:chOff x="2408400" y="3044160"/>
                  <a:chExt cx="1158840" cy="1158840"/>
                </a:xfrm>
              </p:grpSpPr>
              <p:grpSp>
                <p:nvGrpSpPr>
                  <p:cNvPr id="1099" name="组合 590"/>
                  <p:cNvGrpSpPr/>
                  <p:nvPr/>
                </p:nvGrpSpPr>
                <p:grpSpPr>
                  <a:xfrm>
                    <a:off x="2408400" y="3044160"/>
                    <a:ext cx="1158840" cy="1158480"/>
                    <a:chOff x="2408400" y="3044160"/>
                    <a:chExt cx="1158840" cy="1158480"/>
                  </a:xfrm>
                </p:grpSpPr>
                <p:sp>
                  <p:nvSpPr>
                    <p:cNvPr id="1100" name="空心弧 594"/>
                    <p:cNvSpPr/>
                    <p:nvPr/>
                  </p:nvSpPr>
                  <p:spPr>
                    <a:xfrm rot="208200">
                      <a:off x="257688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2276" h="3197225">
                          <a:moveTo>
                            <a:pt x="0" y="1598613"/>
                          </a:moveTo>
                          <a:cubicBezTo>
                            <a:pt x="0" y="1203188"/>
                            <a:pt x="146784" y="821795"/>
                            <a:pt x="411995" y="528119"/>
                          </a:cubicBezTo>
                          <a:lnTo>
                            <a:pt x="510299" y="616614"/>
                          </a:lnTo>
                          <a:cubicBezTo>
                            <a:pt x="266954" y="886001"/>
                            <a:pt x="132269" y="1235869"/>
                            <a:pt x="132269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空心弧 595"/>
                    <p:cNvSpPr/>
                    <p:nvPr/>
                  </p:nvSpPr>
                  <p:spPr>
                    <a:xfrm rot="2908800">
                      <a:off x="25772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2276">
                          <a:moveTo>
                            <a:pt x="0" y="1601138"/>
                          </a:moveTo>
                          <a:cubicBezTo>
                            <a:pt x="0" y="1205955"/>
                            <a:pt x="145914" y="824733"/>
                            <a:pt x="409666" y="530821"/>
                          </a:cubicBezTo>
                          <a:lnTo>
                            <a:pt x="507970" y="619317"/>
                          </a:lnTo>
                          <a:cubicBezTo>
                            <a:pt x="266084" y="888939"/>
                            <a:pt x="132270" y="1238637"/>
                            <a:pt x="132270" y="1601138"/>
                          </a:cubicBezTo>
                          <a:lnTo>
                            <a:pt x="0" y="160113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2" name="组合 591"/>
                  <p:cNvGrpSpPr/>
                  <p:nvPr/>
                </p:nvGrpSpPr>
                <p:grpSpPr>
                  <a:xfrm>
                    <a:off x="2408400" y="3044160"/>
                    <a:ext cx="1158480" cy="1158840"/>
                    <a:chOff x="2408400" y="3044160"/>
                    <a:chExt cx="1158480" cy="1158840"/>
                  </a:xfrm>
                </p:grpSpPr>
                <p:sp>
                  <p:nvSpPr>
                    <p:cNvPr id="1103" name="空心弧 592"/>
                    <p:cNvSpPr/>
                    <p:nvPr/>
                  </p:nvSpPr>
                  <p:spPr>
                    <a:xfrm rot="5608800">
                      <a:off x="25772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2276">
                          <a:moveTo>
                            <a:pt x="0" y="1601138"/>
                          </a:moveTo>
                          <a:cubicBezTo>
                            <a:pt x="0" y="1205955"/>
                            <a:pt x="145914" y="824733"/>
                            <a:pt x="409666" y="530821"/>
                          </a:cubicBezTo>
                          <a:lnTo>
                            <a:pt x="507970" y="619317"/>
                          </a:lnTo>
                          <a:cubicBezTo>
                            <a:pt x="266084" y="888939"/>
                            <a:pt x="132270" y="1238637"/>
                            <a:pt x="132270" y="1601138"/>
                          </a:cubicBezTo>
                          <a:lnTo>
                            <a:pt x="0" y="160113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空心弧 593"/>
                    <p:cNvSpPr/>
                    <p:nvPr/>
                  </p:nvSpPr>
                  <p:spPr>
                    <a:xfrm rot="8308800">
                      <a:off x="257688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2276" h="3197225">
                          <a:moveTo>
                            <a:pt x="0" y="1598613"/>
                          </a:moveTo>
                          <a:cubicBezTo>
                            <a:pt x="0" y="1203188"/>
                            <a:pt x="146784" y="821795"/>
                            <a:pt x="411995" y="528119"/>
                          </a:cubicBezTo>
                          <a:lnTo>
                            <a:pt x="510299" y="616614"/>
                          </a:lnTo>
                          <a:cubicBezTo>
                            <a:pt x="266954" y="886001"/>
                            <a:pt x="132269" y="1235869"/>
                            <a:pt x="132269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5" name="组合 583"/>
                <p:cNvGrpSpPr/>
                <p:nvPr/>
              </p:nvGrpSpPr>
              <p:grpSpPr>
                <a:xfrm>
                  <a:off x="2408400" y="3044160"/>
                  <a:ext cx="1158480" cy="1158480"/>
                  <a:chOff x="2408400" y="3044160"/>
                  <a:chExt cx="1158480" cy="1158480"/>
                </a:xfrm>
              </p:grpSpPr>
              <p:grpSp>
                <p:nvGrpSpPr>
                  <p:cNvPr id="1106" name="组合 584"/>
                  <p:cNvGrpSpPr/>
                  <p:nvPr/>
                </p:nvGrpSpPr>
                <p:grpSpPr>
                  <a:xfrm>
                    <a:off x="2408400" y="3044160"/>
                    <a:ext cx="1158480" cy="1158480"/>
                    <a:chOff x="2408400" y="3044160"/>
                    <a:chExt cx="1158480" cy="1158480"/>
                  </a:xfrm>
                </p:grpSpPr>
                <p:sp>
                  <p:nvSpPr>
                    <p:cNvPr id="1107" name="空心弧 588"/>
                    <p:cNvSpPr/>
                    <p:nvPr/>
                  </p:nvSpPr>
                  <p:spPr>
                    <a:xfrm rot="11008800">
                      <a:off x="25772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2276" h="3197225">
                          <a:moveTo>
                            <a:pt x="0" y="1598613"/>
                          </a:moveTo>
                          <a:cubicBezTo>
                            <a:pt x="0" y="1203188"/>
                            <a:pt x="146784" y="821795"/>
                            <a:pt x="411995" y="528119"/>
                          </a:cubicBezTo>
                          <a:lnTo>
                            <a:pt x="510299" y="616614"/>
                          </a:lnTo>
                          <a:cubicBezTo>
                            <a:pt x="266954" y="886001"/>
                            <a:pt x="132269" y="1235869"/>
                            <a:pt x="132269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空心弧 589"/>
                    <p:cNvSpPr/>
                    <p:nvPr/>
                  </p:nvSpPr>
                  <p:spPr>
                    <a:xfrm rot="13708800">
                      <a:off x="257688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2276">
                          <a:moveTo>
                            <a:pt x="0" y="1601138"/>
                          </a:moveTo>
                          <a:cubicBezTo>
                            <a:pt x="0" y="1205955"/>
                            <a:pt x="145914" y="824733"/>
                            <a:pt x="409666" y="530821"/>
                          </a:cubicBezTo>
                          <a:lnTo>
                            <a:pt x="507970" y="619317"/>
                          </a:lnTo>
                          <a:cubicBezTo>
                            <a:pt x="266084" y="888939"/>
                            <a:pt x="132270" y="1238637"/>
                            <a:pt x="132270" y="1601138"/>
                          </a:cubicBezTo>
                          <a:lnTo>
                            <a:pt x="0" y="160113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组合 585"/>
                  <p:cNvGrpSpPr/>
                  <p:nvPr/>
                </p:nvGrpSpPr>
                <p:grpSpPr>
                  <a:xfrm>
                    <a:off x="2408400" y="3044160"/>
                    <a:ext cx="1158480" cy="1158480"/>
                    <a:chOff x="2408400" y="3044160"/>
                    <a:chExt cx="1158480" cy="1158480"/>
                  </a:xfrm>
                </p:grpSpPr>
                <p:sp>
                  <p:nvSpPr>
                    <p:cNvPr id="1110" name="空心弧 586"/>
                    <p:cNvSpPr/>
                    <p:nvPr/>
                  </p:nvSpPr>
                  <p:spPr>
                    <a:xfrm rot="16408800">
                      <a:off x="25772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2276">
                          <a:moveTo>
                            <a:pt x="0" y="1601138"/>
                          </a:moveTo>
                          <a:cubicBezTo>
                            <a:pt x="0" y="1205955"/>
                            <a:pt x="145914" y="824733"/>
                            <a:pt x="409666" y="530821"/>
                          </a:cubicBezTo>
                          <a:lnTo>
                            <a:pt x="507970" y="619317"/>
                          </a:lnTo>
                          <a:cubicBezTo>
                            <a:pt x="266084" y="888939"/>
                            <a:pt x="132270" y="1238637"/>
                            <a:pt x="132270" y="1601138"/>
                          </a:cubicBezTo>
                          <a:lnTo>
                            <a:pt x="0" y="160113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空心弧 587"/>
                    <p:cNvSpPr/>
                    <p:nvPr/>
                  </p:nvSpPr>
                  <p:spPr>
                    <a:xfrm rot="19108800">
                      <a:off x="25772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2276" h="3197225">
                          <a:moveTo>
                            <a:pt x="0" y="1598613"/>
                          </a:moveTo>
                          <a:cubicBezTo>
                            <a:pt x="0" y="1203188"/>
                            <a:pt x="146784" y="821795"/>
                            <a:pt x="411995" y="528119"/>
                          </a:cubicBezTo>
                          <a:lnTo>
                            <a:pt x="510299" y="616614"/>
                          </a:lnTo>
                          <a:cubicBezTo>
                            <a:pt x="266954" y="886001"/>
                            <a:pt x="132269" y="1235869"/>
                            <a:pt x="132269" y="1598612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12" name="组合 596"/>
            <p:cNvGrpSpPr/>
            <p:nvPr/>
          </p:nvGrpSpPr>
          <p:grpSpPr>
            <a:xfrm>
              <a:off x="3949200" y="3044160"/>
              <a:ext cx="1158840" cy="1158840"/>
              <a:chOff x="3949200" y="3044160"/>
              <a:chExt cx="1158840" cy="1158840"/>
            </a:xfrm>
          </p:grpSpPr>
          <p:sp>
            <p:nvSpPr>
              <p:cNvPr id="1113" name="任意多边形 597"/>
              <p:cNvSpPr/>
              <p:nvPr/>
            </p:nvSpPr>
            <p:spPr>
              <a:xfrm>
                <a:off x="4316760" y="3381120"/>
                <a:ext cx="419040" cy="42696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4" name="组合 598"/>
              <p:cNvGrpSpPr/>
              <p:nvPr/>
            </p:nvGrpSpPr>
            <p:grpSpPr>
              <a:xfrm>
                <a:off x="3949200" y="3044160"/>
                <a:ext cx="1158840" cy="1158840"/>
                <a:chOff x="3949200" y="3044160"/>
                <a:chExt cx="1158840" cy="1158840"/>
              </a:xfrm>
            </p:grpSpPr>
            <p:grpSp>
              <p:nvGrpSpPr>
                <p:cNvPr id="1115" name="组合 599"/>
                <p:cNvGrpSpPr/>
                <p:nvPr/>
              </p:nvGrpSpPr>
              <p:grpSpPr>
                <a:xfrm>
                  <a:off x="3949200" y="3044160"/>
                  <a:ext cx="1158840" cy="1158840"/>
                  <a:chOff x="3949200" y="3044160"/>
                  <a:chExt cx="1158840" cy="1158840"/>
                </a:xfrm>
              </p:grpSpPr>
              <p:grpSp>
                <p:nvGrpSpPr>
                  <p:cNvPr id="1116" name="组合 607"/>
                  <p:cNvGrpSpPr/>
                  <p:nvPr/>
                </p:nvGrpSpPr>
                <p:grpSpPr>
                  <a:xfrm>
                    <a:off x="3949200" y="3044160"/>
                    <a:ext cx="1158840" cy="1158480"/>
                    <a:chOff x="3949200" y="3044160"/>
                    <a:chExt cx="1158840" cy="1158480"/>
                  </a:xfrm>
                </p:grpSpPr>
                <p:sp>
                  <p:nvSpPr>
                    <p:cNvPr id="1117" name="空心弧 611"/>
                    <p:cNvSpPr/>
                    <p:nvPr/>
                  </p:nvSpPr>
                  <p:spPr>
                    <a:xfrm rot="208200">
                      <a:off x="411768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6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10" y="822797"/>
                            <a:pt x="410172" y="529260"/>
                          </a:cubicBezTo>
                          <a:lnTo>
                            <a:pt x="508441" y="617724"/>
                          </a:lnTo>
                          <a:cubicBezTo>
                            <a:pt x="266237" y="886980"/>
                            <a:pt x="132222" y="1236388"/>
                            <a:pt x="132222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空心弧 612"/>
                    <p:cNvSpPr/>
                    <p:nvPr/>
                  </p:nvSpPr>
                  <p:spPr>
                    <a:xfrm rot="2908800">
                      <a:off x="41180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6">
                          <a:moveTo>
                            <a:pt x="0" y="1598048"/>
                          </a:moveTo>
                          <a:cubicBezTo>
                            <a:pt x="0" y="1203099"/>
                            <a:pt x="146305" y="822140"/>
                            <a:pt x="410693" y="528655"/>
                          </a:cubicBezTo>
                          <a:lnTo>
                            <a:pt x="508962" y="617120"/>
                          </a:lnTo>
                          <a:cubicBezTo>
                            <a:pt x="266432" y="886324"/>
                            <a:pt x="132223" y="1235769"/>
                            <a:pt x="132223" y="1598048"/>
                          </a:cubicBezTo>
                          <a:lnTo>
                            <a:pt x="0" y="159804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组合 608"/>
                  <p:cNvGrpSpPr/>
                  <p:nvPr/>
                </p:nvGrpSpPr>
                <p:grpSpPr>
                  <a:xfrm>
                    <a:off x="3949200" y="3044160"/>
                    <a:ext cx="1158480" cy="1158840"/>
                    <a:chOff x="3949200" y="3044160"/>
                    <a:chExt cx="1158480" cy="1158840"/>
                  </a:xfrm>
                </p:grpSpPr>
                <p:sp>
                  <p:nvSpPr>
                    <p:cNvPr id="1120" name="空心弧 609"/>
                    <p:cNvSpPr/>
                    <p:nvPr/>
                  </p:nvSpPr>
                  <p:spPr>
                    <a:xfrm rot="5608800">
                      <a:off x="41180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6">
                          <a:moveTo>
                            <a:pt x="0" y="1598048"/>
                          </a:moveTo>
                          <a:cubicBezTo>
                            <a:pt x="0" y="1203099"/>
                            <a:pt x="146305" y="822140"/>
                            <a:pt x="410693" y="528655"/>
                          </a:cubicBezTo>
                          <a:lnTo>
                            <a:pt x="508962" y="617120"/>
                          </a:lnTo>
                          <a:cubicBezTo>
                            <a:pt x="266432" y="886324"/>
                            <a:pt x="132223" y="1235769"/>
                            <a:pt x="132223" y="1598048"/>
                          </a:cubicBezTo>
                          <a:lnTo>
                            <a:pt x="0" y="159804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空心弧 610"/>
                    <p:cNvSpPr/>
                    <p:nvPr/>
                  </p:nvSpPr>
                  <p:spPr>
                    <a:xfrm rot="8308800">
                      <a:off x="411768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6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10" y="822797"/>
                            <a:pt x="410172" y="529260"/>
                          </a:cubicBezTo>
                          <a:lnTo>
                            <a:pt x="508441" y="617724"/>
                          </a:lnTo>
                          <a:cubicBezTo>
                            <a:pt x="266237" y="886980"/>
                            <a:pt x="132222" y="1236388"/>
                            <a:pt x="132222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22" name="组合 600"/>
                <p:cNvGrpSpPr/>
                <p:nvPr/>
              </p:nvGrpSpPr>
              <p:grpSpPr>
                <a:xfrm>
                  <a:off x="3949200" y="3044160"/>
                  <a:ext cx="1158480" cy="1158480"/>
                  <a:chOff x="3949200" y="3044160"/>
                  <a:chExt cx="1158480" cy="1158480"/>
                </a:xfrm>
              </p:grpSpPr>
              <p:grpSp>
                <p:nvGrpSpPr>
                  <p:cNvPr id="1123" name="组合 601"/>
                  <p:cNvGrpSpPr/>
                  <p:nvPr/>
                </p:nvGrpSpPr>
                <p:grpSpPr>
                  <a:xfrm>
                    <a:off x="3949200" y="3044160"/>
                    <a:ext cx="1158480" cy="1158480"/>
                    <a:chOff x="3949200" y="3044160"/>
                    <a:chExt cx="1158480" cy="1158480"/>
                  </a:xfrm>
                </p:grpSpPr>
                <p:sp>
                  <p:nvSpPr>
                    <p:cNvPr id="1124" name="空心弧 605"/>
                    <p:cNvSpPr/>
                    <p:nvPr/>
                  </p:nvSpPr>
                  <p:spPr>
                    <a:xfrm rot="11008800">
                      <a:off x="41180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6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10" y="822797"/>
                            <a:pt x="410172" y="529260"/>
                          </a:cubicBezTo>
                          <a:lnTo>
                            <a:pt x="508441" y="617724"/>
                          </a:lnTo>
                          <a:cubicBezTo>
                            <a:pt x="266237" y="886980"/>
                            <a:pt x="132222" y="1236388"/>
                            <a:pt x="132222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空心弧 606"/>
                    <p:cNvSpPr/>
                    <p:nvPr/>
                  </p:nvSpPr>
                  <p:spPr>
                    <a:xfrm rot="13708800">
                      <a:off x="411768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6">
                          <a:moveTo>
                            <a:pt x="0" y="1598048"/>
                          </a:moveTo>
                          <a:cubicBezTo>
                            <a:pt x="0" y="1203099"/>
                            <a:pt x="146305" y="822140"/>
                            <a:pt x="410693" y="528655"/>
                          </a:cubicBezTo>
                          <a:lnTo>
                            <a:pt x="508962" y="617120"/>
                          </a:lnTo>
                          <a:cubicBezTo>
                            <a:pt x="266432" y="886324"/>
                            <a:pt x="132223" y="1235769"/>
                            <a:pt x="132223" y="1598048"/>
                          </a:cubicBezTo>
                          <a:lnTo>
                            <a:pt x="0" y="159804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6" name="组合 602"/>
                  <p:cNvGrpSpPr/>
                  <p:nvPr/>
                </p:nvGrpSpPr>
                <p:grpSpPr>
                  <a:xfrm>
                    <a:off x="3949200" y="3044160"/>
                    <a:ext cx="1158480" cy="1158480"/>
                    <a:chOff x="3949200" y="3044160"/>
                    <a:chExt cx="1158480" cy="1158480"/>
                  </a:xfrm>
                </p:grpSpPr>
                <p:sp>
                  <p:nvSpPr>
                    <p:cNvPr id="1127" name="空心弧 603"/>
                    <p:cNvSpPr/>
                    <p:nvPr/>
                  </p:nvSpPr>
                  <p:spPr>
                    <a:xfrm rot="16408800">
                      <a:off x="4118040" y="321300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096">
                          <a:moveTo>
                            <a:pt x="0" y="1598048"/>
                          </a:moveTo>
                          <a:cubicBezTo>
                            <a:pt x="0" y="1203099"/>
                            <a:pt x="146305" y="822140"/>
                            <a:pt x="410693" y="528655"/>
                          </a:cubicBezTo>
                          <a:lnTo>
                            <a:pt x="508962" y="617120"/>
                          </a:lnTo>
                          <a:cubicBezTo>
                            <a:pt x="266432" y="886324"/>
                            <a:pt x="132223" y="1235769"/>
                            <a:pt x="132223" y="1598048"/>
                          </a:cubicBezTo>
                          <a:lnTo>
                            <a:pt x="0" y="1598048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空心弧 604"/>
                    <p:cNvSpPr/>
                    <p:nvPr/>
                  </p:nvSpPr>
                  <p:spPr>
                    <a:xfrm rot="19108800">
                      <a:off x="4118040" y="3212640"/>
                      <a:ext cx="820800" cy="8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096" h="3197225">
                          <a:moveTo>
                            <a:pt x="0" y="1598613"/>
                          </a:moveTo>
                          <a:cubicBezTo>
                            <a:pt x="0" y="1203718"/>
                            <a:pt x="146110" y="822797"/>
                            <a:pt x="410172" y="529260"/>
                          </a:cubicBezTo>
                          <a:lnTo>
                            <a:pt x="508441" y="617724"/>
                          </a:lnTo>
                          <a:cubicBezTo>
                            <a:pt x="266237" y="886980"/>
                            <a:pt x="132222" y="1236388"/>
                            <a:pt x="132222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29" name="组合 771"/>
          <p:cNvGrpSpPr/>
          <p:nvPr/>
        </p:nvGrpSpPr>
        <p:grpSpPr>
          <a:xfrm>
            <a:off x="189000" y="4483080"/>
            <a:ext cx="1834560" cy="671040"/>
            <a:chOff x="189000" y="4483080"/>
            <a:chExt cx="1834560" cy="671040"/>
          </a:xfrm>
        </p:grpSpPr>
        <p:grpSp>
          <p:nvGrpSpPr>
            <p:cNvPr id="1130" name="组合 615"/>
            <p:cNvGrpSpPr/>
            <p:nvPr/>
          </p:nvGrpSpPr>
          <p:grpSpPr>
            <a:xfrm>
              <a:off x="189000" y="4483080"/>
              <a:ext cx="671040" cy="671040"/>
              <a:chOff x="189000" y="4483080"/>
              <a:chExt cx="671040" cy="671040"/>
            </a:xfrm>
          </p:grpSpPr>
          <p:sp>
            <p:nvSpPr>
              <p:cNvPr id="1131" name="任意多边形 650"/>
              <p:cNvSpPr/>
              <p:nvPr/>
            </p:nvSpPr>
            <p:spPr>
              <a:xfrm>
                <a:off x="40140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2" name="组合 651"/>
              <p:cNvGrpSpPr/>
              <p:nvPr/>
            </p:nvGrpSpPr>
            <p:grpSpPr>
              <a:xfrm>
                <a:off x="189000" y="4483080"/>
                <a:ext cx="671040" cy="671040"/>
                <a:chOff x="189000" y="4483080"/>
                <a:chExt cx="671040" cy="671040"/>
              </a:xfrm>
            </p:grpSpPr>
            <p:grpSp>
              <p:nvGrpSpPr>
                <p:cNvPr id="1133" name="组合 652"/>
                <p:cNvGrpSpPr/>
                <p:nvPr/>
              </p:nvGrpSpPr>
              <p:grpSpPr>
                <a:xfrm>
                  <a:off x="189000" y="4483440"/>
                  <a:ext cx="670680" cy="670680"/>
                  <a:chOff x="189000" y="4483440"/>
                  <a:chExt cx="670680" cy="670680"/>
                </a:xfrm>
              </p:grpSpPr>
              <p:grpSp>
                <p:nvGrpSpPr>
                  <p:cNvPr id="1134" name="组合 660"/>
                  <p:cNvGrpSpPr/>
                  <p:nvPr/>
                </p:nvGrpSpPr>
                <p:grpSpPr>
                  <a:xfrm>
                    <a:off x="189360" y="4483800"/>
                    <a:ext cx="670320" cy="670320"/>
                    <a:chOff x="189360" y="4483800"/>
                    <a:chExt cx="670320" cy="670320"/>
                  </a:xfrm>
                </p:grpSpPr>
                <p:sp>
                  <p:nvSpPr>
                    <p:cNvPr id="1135" name="空心弧 664"/>
                    <p:cNvSpPr/>
                    <p:nvPr/>
                  </p:nvSpPr>
                  <p:spPr>
                    <a:xfrm rot="208200">
                      <a:off x="286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空心弧 665"/>
                    <p:cNvSpPr/>
                    <p:nvPr/>
                  </p:nvSpPr>
                  <p:spPr>
                    <a:xfrm rot="2908800">
                      <a:off x="28692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组合 661"/>
                  <p:cNvGrpSpPr/>
                  <p:nvPr/>
                </p:nvGrpSpPr>
                <p:grpSpPr>
                  <a:xfrm>
                    <a:off x="189000" y="4483440"/>
                    <a:ext cx="670320" cy="670320"/>
                    <a:chOff x="189000" y="4483440"/>
                    <a:chExt cx="670320" cy="670320"/>
                  </a:xfrm>
                </p:grpSpPr>
                <p:sp>
                  <p:nvSpPr>
                    <p:cNvPr id="1138" name="空心弧 662"/>
                    <p:cNvSpPr/>
                    <p:nvPr/>
                  </p:nvSpPr>
                  <p:spPr>
                    <a:xfrm rot="5608800">
                      <a:off x="286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空心弧 663"/>
                    <p:cNvSpPr/>
                    <p:nvPr/>
                  </p:nvSpPr>
                  <p:spPr>
                    <a:xfrm rot="8308800">
                      <a:off x="28656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0" name="组合 653"/>
                <p:cNvGrpSpPr/>
                <p:nvPr/>
              </p:nvGrpSpPr>
              <p:grpSpPr>
                <a:xfrm>
                  <a:off x="189720" y="4483080"/>
                  <a:ext cx="670320" cy="671040"/>
                  <a:chOff x="189720" y="4483080"/>
                  <a:chExt cx="670320" cy="671040"/>
                </a:xfrm>
              </p:grpSpPr>
              <p:grpSp>
                <p:nvGrpSpPr>
                  <p:cNvPr id="1141" name="组合 654"/>
                  <p:cNvGrpSpPr/>
                  <p:nvPr/>
                </p:nvGrpSpPr>
                <p:grpSpPr>
                  <a:xfrm>
                    <a:off x="189720" y="4483080"/>
                    <a:ext cx="670320" cy="670320"/>
                    <a:chOff x="189720" y="4483080"/>
                    <a:chExt cx="670320" cy="670320"/>
                  </a:xfrm>
                </p:grpSpPr>
                <p:sp>
                  <p:nvSpPr>
                    <p:cNvPr id="1142" name="空心弧 658"/>
                    <p:cNvSpPr/>
                    <p:nvPr/>
                  </p:nvSpPr>
                  <p:spPr>
                    <a:xfrm rot="11008800">
                      <a:off x="286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空心弧 659"/>
                    <p:cNvSpPr/>
                    <p:nvPr/>
                  </p:nvSpPr>
                  <p:spPr>
                    <a:xfrm rot="13708800">
                      <a:off x="28728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组合 655"/>
                  <p:cNvGrpSpPr/>
                  <p:nvPr/>
                </p:nvGrpSpPr>
                <p:grpSpPr>
                  <a:xfrm>
                    <a:off x="189720" y="4483800"/>
                    <a:ext cx="670320" cy="670320"/>
                    <a:chOff x="189720" y="4483800"/>
                    <a:chExt cx="670320" cy="670320"/>
                  </a:xfrm>
                </p:grpSpPr>
                <p:sp>
                  <p:nvSpPr>
                    <p:cNvPr id="1145" name="空心弧 656"/>
                    <p:cNvSpPr/>
                    <p:nvPr/>
                  </p:nvSpPr>
                  <p:spPr>
                    <a:xfrm rot="16408800">
                      <a:off x="286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空心弧 657"/>
                    <p:cNvSpPr/>
                    <p:nvPr/>
                  </p:nvSpPr>
                  <p:spPr>
                    <a:xfrm rot="19108800">
                      <a:off x="28728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47" name="组合 616"/>
            <p:cNvGrpSpPr/>
            <p:nvPr/>
          </p:nvGrpSpPr>
          <p:grpSpPr>
            <a:xfrm>
              <a:off x="770760" y="4483080"/>
              <a:ext cx="671040" cy="671040"/>
              <a:chOff x="770760" y="4483080"/>
              <a:chExt cx="671040" cy="671040"/>
            </a:xfrm>
          </p:grpSpPr>
          <p:sp>
            <p:nvSpPr>
              <p:cNvPr id="1148" name="任意多边形 634"/>
              <p:cNvSpPr/>
              <p:nvPr/>
            </p:nvSpPr>
            <p:spPr>
              <a:xfrm>
                <a:off x="982440" y="4678200"/>
                <a:ext cx="24444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9" name="组合 635"/>
              <p:cNvGrpSpPr/>
              <p:nvPr/>
            </p:nvGrpSpPr>
            <p:grpSpPr>
              <a:xfrm>
                <a:off x="770760" y="4483080"/>
                <a:ext cx="671040" cy="671040"/>
                <a:chOff x="770760" y="4483080"/>
                <a:chExt cx="671040" cy="671040"/>
              </a:xfrm>
            </p:grpSpPr>
            <p:grpSp>
              <p:nvGrpSpPr>
                <p:cNvPr id="1150" name="组合 636"/>
                <p:cNvGrpSpPr/>
                <p:nvPr/>
              </p:nvGrpSpPr>
              <p:grpSpPr>
                <a:xfrm>
                  <a:off x="770760" y="4483440"/>
                  <a:ext cx="670680" cy="670680"/>
                  <a:chOff x="770760" y="4483440"/>
                  <a:chExt cx="670680" cy="670680"/>
                </a:xfrm>
              </p:grpSpPr>
              <p:grpSp>
                <p:nvGrpSpPr>
                  <p:cNvPr id="1151" name="组合 644"/>
                  <p:cNvGrpSpPr/>
                  <p:nvPr/>
                </p:nvGrpSpPr>
                <p:grpSpPr>
                  <a:xfrm>
                    <a:off x="771120" y="4483800"/>
                    <a:ext cx="670320" cy="670320"/>
                    <a:chOff x="771120" y="4483800"/>
                    <a:chExt cx="670320" cy="670320"/>
                  </a:xfrm>
                </p:grpSpPr>
                <p:sp>
                  <p:nvSpPr>
                    <p:cNvPr id="1152" name="空心弧 648"/>
                    <p:cNvSpPr/>
                    <p:nvPr/>
                  </p:nvSpPr>
                  <p:spPr>
                    <a:xfrm rot="208200">
                      <a:off x="868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空心弧 649"/>
                    <p:cNvSpPr/>
                    <p:nvPr/>
                  </p:nvSpPr>
                  <p:spPr>
                    <a:xfrm rot="2908800">
                      <a:off x="86868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4" name="组合 645"/>
                  <p:cNvGrpSpPr/>
                  <p:nvPr/>
                </p:nvGrpSpPr>
                <p:grpSpPr>
                  <a:xfrm>
                    <a:off x="770760" y="4483440"/>
                    <a:ext cx="670320" cy="670320"/>
                    <a:chOff x="770760" y="4483440"/>
                    <a:chExt cx="670320" cy="670320"/>
                  </a:xfrm>
                </p:grpSpPr>
                <p:sp>
                  <p:nvSpPr>
                    <p:cNvPr id="1155" name="空心弧 646"/>
                    <p:cNvSpPr/>
                    <p:nvPr/>
                  </p:nvSpPr>
                  <p:spPr>
                    <a:xfrm rot="5608800">
                      <a:off x="868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空心弧 647"/>
                    <p:cNvSpPr/>
                    <p:nvPr/>
                  </p:nvSpPr>
                  <p:spPr>
                    <a:xfrm rot="8308800">
                      <a:off x="8683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7" name="组合 637"/>
                <p:cNvGrpSpPr/>
                <p:nvPr/>
              </p:nvGrpSpPr>
              <p:grpSpPr>
                <a:xfrm>
                  <a:off x="771480" y="4483080"/>
                  <a:ext cx="670320" cy="671040"/>
                  <a:chOff x="771480" y="4483080"/>
                  <a:chExt cx="670320" cy="671040"/>
                </a:xfrm>
              </p:grpSpPr>
              <p:grpSp>
                <p:nvGrpSpPr>
                  <p:cNvPr id="1158" name="组合 638"/>
                  <p:cNvGrpSpPr/>
                  <p:nvPr/>
                </p:nvGrpSpPr>
                <p:grpSpPr>
                  <a:xfrm>
                    <a:off x="771480" y="4483080"/>
                    <a:ext cx="670320" cy="670320"/>
                    <a:chOff x="771480" y="4483080"/>
                    <a:chExt cx="670320" cy="670320"/>
                  </a:xfrm>
                </p:grpSpPr>
                <p:sp>
                  <p:nvSpPr>
                    <p:cNvPr id="1159" name="空心弧 642"/>
                    <p:cNvSpPr/>
                    <p:nvPr/>
                  </p:nvSpPr>
                  <p:spPr>
                    <a:xfrm rot="11008800">
                      <a:off x="868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空心弧 643"/>
                    <p:cNvSpPr/>
                    <p:nvPr/>
                  </p:nvSpPr>
                  <p:spPr>
                    <a:xfrm rot="13708800">
                      <a:off x="86904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1" name="组合 639"/>
                  <p:cNvGrpSpPr/>
                  <p:nvPr/>
                </p:nvGrpSpPr>
                <p:grpSpPr>
                  <a:xfrm>
                    <a:off x="771480" y="4483800"/>
                    <a:ext cx="670320" cy="670320"/>
                    <a:chOff x="771480" y="4483800"/>
                    <a:chExt cx="670320" cy="670320"/>
                  </a:xfrm>
                </p:grpSpPr>
                <p:sp>
                  <p:nvSpPr>
                    <p:cNvPr id="1162" name="空心弧 640"/>
                    <p:cNvSpPr/>
                    <p:nvPr/>
                  </p:nvSpPr>
                  <p:spPr>
                    <a:xfrm rot="16408800">
                      <a:off x="868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空心弧 641"/>
                    <p:cNvSpPr/>
                    <p:nvPr/>
                  </p:nvSpPr>
                  <p:spPr>
                    <a:xfrm rot="19108800">
                      <a:off x="8690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64" name="组合 617"/>
            <p:cNvGrpSpPr/>
            <p:nvPr/>
          </p:nvGrpSpPr>
          <p:grpSpPr>
            <a:xfrm>
              <a:off x="1352520" y="4483080"/>
              <a:ext cx="671040" cy="671040"/>
              <a:chOff x="1352520" y="4483080"/>
              <a:chExt cx="671040" cy="671040"/>
            </a:xfrm>
          </p:grpSpPr>
          <p:sp>
            <p:nvSpPr>
              <p:cNvPr id="1165" name="任意多边形 618"/>
              <p:cNvSpPr/>
              <p:nvPr/>
            </p:nvSpPr>
            <p:spPr>
              <a:xfrm>
                <a:off x="156528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组合 619"/>
              <p:cNvGrpSpPr/>
              <p:nvPr/>
            </p:nvGrpSpPr>
            <p:grpSpPr>
              <a:xfrm>
                <a:off x="1352520" y="4483080"/>
                <a:ext cx="671040" cy="671040"/>
                <a:chOff x="1352520" y="4483080"/>
                <a:chExt cx="671040" cy="671040"/>
              </a:xfrm>
            </p:grpSpPr>
            <p:grpSp>
              <p:nvGrpSpPr>
                <p:cNvPr id="1167" name="组合 620"/>
                <p:cNvGrpSpPr/>
                <p:nvPr/>
              </p:nvGrpSpPr>
              <p:grpSpPr>
                <a:xfrm>
                  <a:off x="1352520" y="4483440"/>
                  <a:ext cx="670680" cy="670680"/>
                  <a:chOff x="1352520" y="4483440"/>
                  <a:chExt cx="670680" cy="670680"/>
                </a:xfrm>
              </p:grpSpPr>
              <p:grpSp>
                <p:nvGrpSpPr>
                  <p:cNvPr id="1168" name="组合 628"/>
                  <p:cNvGrpSpPr/>
                  <p:nvPr/>
                </p:nvGrpSpPr>
                <p:grpSpPr>
                  <a:xfrm>
                    <a:off x="1352880" y="4483800"/>
                    <a:ext cx="670320" cy="670320"/>
                    <a:chOff x="1352880" y="4483800"/>
                    <a:chExt cx="670320" cy="670320"/>
                  </a:xfrm>
                </p:grpSpPr>
                <p:sp>
                  <p:nvSpPr>
                    <p:cNvPr id="1169" name="空心弧 632"/>
                    <p:cNvSpPr/>
                    <p:nvPr/>
                  </p:nvSpPr>
                  <p:spPr>
                    <a:xfrm rot="208200">
                      <a:off x="1450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空心弧 633"/>
                    <p:cNvSpPr/>
                    <p:nvPr/>
                  </p:nvSpPr>
                  <p:spPr>
                    <a:xfrm rot="2908800">
                      <a:off x="14504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组合 629"/>
                  <p:cNvGrpSpPr/>
                  <p:nvPr/>
                </p:nvGrpSpPr>
                <p:grpSpPr>
                  <a:xfrm>
                    <a:off x="1352520" y="4483440"/>
                    <a:ext cx="670320" cy="670320"/>
                    <a:chOff x="1352520" y="4483440"/>
                    <a:chExt cx="670320" cy="670320"/>
                  </a:xfrm>
                </p:grpSpPr>
                <p:sp>
                  <p:nvSpPr>
                    <p:cNvPr id="1172" name="空心弧 630"/>
                    <p:cNvSpPr/>
                    <p:nvPr/>
                  </p:nvSpPr>
                  <p:spPr>
                    <a:xfrm rot="5608800">
                      <a:off x="1450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空心弧 631"/>
                    <p:cNvSpPr/>
                    <p:nvPr/>
                  </p:nvSpPr>
                  <p:spPr>
                    <a:xfrm rot="8308800">
                      <a:off x="14500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4" name="组合 621"/>
                <p:cNvGrpSpPr/>
                <p:nvPr/>
              </p:nvGrpSpPr>
              <p:grpSpPr>
                <a:xfrm>
                  <a:off x="1353240" y="4483080"/>
                  <a:ext cx="670320" cy="671040"/>
                  <a:chOff x="1353240" y="4483080"/>
                  <a:chExt cx="670320" cy="671040"/>
                </a:xfrm>
              </p:grpSpPr>
              <p:grpSp>
                <p:nvGrpSpPr>
                  <p:cNvPr id="1175" name="组合 622"/>
                  <p:cNvGrpSpPr/>
                  <p:nvPr/>
                </p:nvGrpSpPr>
                <p:grpSpPr>
                  <a:xfrm>
                    <a:off x="1353240" y="4483080"/>
                    <a:ext cx="670320" cy="670320"/>
                    <a:chOff x="1353240" y="4483080"/>
                    <a:chExt cx="670320" cy="670320"/>
                  </a:xfrm>
                </p:grpSpPr>
                <p:sp>
                  <p:nvSpPr>
                    <p:cNvPr id="1176" name="空心弧 626"/>
                    <p:cNvSpPr/>
                    <p:nvPr/>
                  </p:nvSpPr>
                  <p:spPr>
                    <a:xfrm rot="11008800">
                      <a:off x="1450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空心弧 627"/>
                    <p:cNvSpPr/>
                    <p:nvPr/>
                  </p:nvSpPr>
                  <p:spPr>
                    <a:xfrm rot="13708800">
                      <a:off x="145080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8" name="组合 623"/>
                  <p:cNvGrpSpPr/>
                  <p:nvPr/>
                </p:nvGrpSpPr>
                <p:grpSpPr>
                  <a:xfrm>
                    <a:off x="1353240" y="4483800"/>
                    <a:ext cx="670320" cy="670320"/>
                    <a:chOff x="1353240" y="4483800"/>
                    <a:chExt cx="670320" cy="670320"/>
                  </a:xfrm>
                </p:grpSpPr>
                <p:sp>
                  <p:nvSpPr>
                    <p:cNvPr id="1179" name="空心弧 624"/>
                    <p:cNvSpPr/>
                    <p:nvPr/>
                  </p:nvSpPr>
                  <p:spPr>
                    <a:xfrm rot="16408800">
                      <a:off x="1450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空心弧 625"/>
                    <p:cNvSpPr/>
                    <p:nvPr/>
                  </p:nvSpPr>
                  <p:spPr>
                    <a:xfrm rot="19108800">
                      <a:off x="145080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81" name="组合 772"/>
          <p:cNvGrpSpPr/>
          <p:nvPr/>
        </p:nvGrpSpPr>
        <p:grpSpPr>
          <a:xfrm>
            <a:off x="2070360" y="4483080"/>
            <a:ext cx="1834560" cy="671040"/>
            <a:chOff x="2070360" y="4483080"/>
            <a:chExt cx="1834560" cy="671040"/>
          </a:xfrm>
        </p:grpSpPr>
        <p:grpSp>
          <p:nvGrpSpPr>
            <p:cNvPr id="1182" name="组合 773"/>
            <p:cNvGrpSpPr/>
            <p:nvPr/>
          </p:nvGrpSpPr>
          <p:grpSpPr>
            <a:xfrm>
              <a:off x="2070360" y="4483080"/>
              <a:ext cx="671040" cy="671040"/>
              <a:chOff x="2070360" y="4483080"/>
              <a:chExt cx="671040" cy="671040"/>
            </a:xfrm>
          </p:grpSpPr>
          <p:sp>
            <p:nvSpPr>
              <p:cNvPr id="1183" name="任意多边形 808"/>
              <p:cNvSpPr/>
              <p:nvPr/>
            </p:nvSpPr>
            <p:spPr>
              <a:xfrm>
                <a:off x="228276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4" name="组合 809"/>
              <p:cNvGrpSpPr/>
              <p:nvPr/>
            </p:nvGrpSpPr>
            <p:grpSpPr>
              <a:xfrm>
                <a:off x="2070360" y="4483080"/>
                <a:ext cx="671040" cy="671040"/>
                <a:chOff x="2070360" y="4483080"/>
                <a:chExt cx="671040" cy="671040"/>
              </a:xfrm>
            </p:grpSpPr>
            <p:grpSp>
              <p:nvGrpSpPr>
                <p:cNvPr id="1185" name="组合 810"/>
                <p:cNvGrpSpPr/>
                <p:nvPr/>
              </p:nvGrpSpPr>
              <p:grpSpPr>
                <a:xfrm>
                  <a:off x="2070360" y="4483440"/>
                  <a:ext cx="670680" cy="670680"/>
                  <a:chOff x="2070360" y="4483440"/>
                  <a:chExt cx="670680" cy="670680"/>
                </a:xfrm>
              </p:grpSpPr>
              <p:grpSp>
                <p:nvGrpSpPr>
                  <p:cNvPr id="1186" name="组合 818"/>
                  <p:cNvGrpSpPr/>
                  <p:nvPr/>
                </p:nvGrpSpPr>
                <p:grpSpPr>
                  <a:xfrm>
                    <a:off x="2070720" y="4483800"/>
                    <a:ext cx="670320" cy="670320"/>
                    <a:chOff x="2070720" y="4483800"/>
                    <a:chExt cx="670320" cy="670320"/>
                  </a:xfrm>
                </p:grpSpPr>
                <p:sp>
                  <p:nvSpPr>
                    <p:cNvPr id="1187" name="空心弧 822"/>
                    <p:cNvSpPr/>
                    <p:nvPr/>
                  </p:nvSpPr>
                  <p:spPr>
                    <a:xfrm rot="208200">
                      <a:off x="21682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空心弧 823"/>
                    <p:cNvSpPr/>
                    <p:nvPr/>
                  </p:nvSpPr>
                  <p:spPr>
                    <a:xfrm rot="2908800">
                      <a:off x="216828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组合 819"/>
                  <p:cNvGrpSpPr/>
                  <p:nvPr/>
                </p:nvGrpSpPr>
                <p:grpSpPr>
                  <a:xfrm>
                    <a:off x="2070360" y="4483440"/>
                    <a:ext cx="670320" cy="670320"/>
                    <a:chOff x="2070360" y="4483440"/>
                    <a:chExt cx="670320" cy="670320"/>
                  </a:xfrm>
                </p:grpSpPr>
                <p:sp>
                  <p:nvSpPr>
                    <p:cNvPr id="1190" name="空心弧 820"/>
                    <p:cNvSpPr/>
                    <p:nvPr/>
                  </p:nvSpPr>
                  <p:spPr>
                    <a:xfrm rot="5608800">
                      <a:off x="21682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空心弧 821"/>
                    <p:cNvSpPr/>
                    <p:nvPr/>
                  </p:nvSpPr>
                  <p:spPr>
                    <a:xfrm rot="8308800">
                      <a:off x="2167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92" name="组合 811"/>
                <p:cNvGrpSpPr/>
                <p:nvPr/>
              </p:nvGrpSpPr>
              <p:grpSpPr>
                <a:xfrm>
                  <a:off x="2071080" y="4483080"/>
                  <a:ext cx="670320" cy="671040"/>
                  <a:chOff x="2071080" y="4483080"/>
                  <a:chExt cx="670320" cy="671040"/>
                </a:xfrm>
              </p:grpSpPr>
              <p:grpSp>
                <p:nvGrpSpPr>
                  <p:cNvPr id="1193" name="组合 812"/>
                  <p:cNvGrpSpPr/>
                  <p:nvPr/>
                </p:nvGrpSpPr>
                <p:grpSpPr>
                  <a:xfrm>
                    <a:off x="2071080" y="4483080"/>
                    <a:ext cx="670320" cy="670320"/>
                    <a:chOff x="2071080" y="4483080"/>
                    <a:chExt cx="670320" cy="670320"/>
                  </a:xfrm>
                </p:grpSpPr>
                <p:sp>
                  <p:nvSpPr>
                    <p:cNvPr id="1194" name="空心弧 816"/>
                    <p:cNvSpPr/>
                    <p:nvPr/>
                  </p:nvSpPr>
                  <p:spPr>
                    <a:xfrm rot="11008800">
                      <a:off x="21682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空心弧 817"/>
                    <p:cNvSpPr/>
                    <p:nvPr/>
                  </p:nvSpPr>
                  <p:spPr>
                    <a:xfrm rot="13708800">
                      <a:off x="216864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组合 813"/>
                  <p:cNvGrpSpPr/>
                  <p:nvPr/>
                </p:nvGrpSpPr>
                <p:grpSpPr>
                  <a:xfrm>
                    <a:off x="2071080" y="4483800"/>
                    <a:ext cx="670320" cy="670320"/>
                    <a:chOff x="2071080" y="4483800"/>
                    <a:chExt cx="670320" cy="670320"/>
                  </a:xfrm>
                </p:grpSpPr>
                <p:sp>
                  <p:nvSpPr>
                    <p:cNvPr id="1197" name="空心弧 814"/>
                    <p:cNvSpPr/>
                    <p:nvPr/>
                  </p:nvSpPr>
                  <p:spPr>
                    <a:xfrm rot="16408800">
                      <a:off x="21682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空心弧 815"/>
                    <p:cNvSpPr/>
                    <p:nvPr/>
                  </p:nvSpPr>
                  <p:spPr>
                    <a:xfrm rot="19108800">
                      <a:off x="21686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99" name="组合 774"/>
            <p:cNvGrpSpPr/>
            <p:nvPr/>
          </p:nvGrpSpPr>
          <p:grpSpPr>
            <a:xfrm>
              <a:off x="2652120" y="4483080"/>
              <a:ext cx="671040" cy="671040"/>
              <a:chOff x="2652120" y="4483080"/>
              <a:chExt cx="671040" cy="671040"/>
            </a:xfrm>
          </p:grpSpPr>
          <p:sp>
            <p:nvSpPr>
              <p:cNvPr id="1200" name="任意多边形 792"/>
              <p:cNvSpPr/>
              <p:nvPr/>
            </p:nvSpPr>
            <p:spPr>
              <a:xfrm>
                <a:off x="2863800" y="4678200"/>
                <a:ext cx="24444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组合 793"/>
              <p:cNvGrpSpPr/>
              <p:nvPr/>
            </p:nvGrpSpPr>
            <p:grpSpPr>
              <a:xfrm>
                <a:off x="2652120" y="4483080"/>
                <a:ext cx="671040" cy="671040"/>
                <a:chOff x="2652120" y="4483080"/>
                <a:chExt cx="671040" cy="671040"/>
              </a:xfrm>
            </p:grpSpPr>
            <p:grpSp>
              <p:nvGrpSpPr>
                <p:cNvPr id="1202" name="组合 794"/>
                <p:cNvGrpSpPr/>
                <p:nvPr/>
              </p:nvGrpSpPr>
              <p:grpSpPr>
                <a:xfrm>
                  <a:off x="2652120" y="4483440"/>
                  <a:ext cx="670680" cy="670680"/>
                  <a:chOff x="2652120" y="4483440"/>
                  <a:chExt cx="670680" cy="670680"/>
                </a:xfrm>
              </p:grpSpPr>
              <p:grpSp>
                <p:nvGrpSpPr>
                  <p:cNvPr id="1203" name="组合 802"/>
                  <p:cNvGrpSpPr/>
                  <p:nvPr/>
                </p:nvGrpSpPr>
                <p:grpSpPr>
                  <a:xfrm>
                    <a:off x="2652480" y="4483800"/>
                    <a:ext cx="670320" cy="670320"/>
                    <a:chOff x="2652480" y="4483800"/>
                    <a:chExt cx="670320" cy="670320"/>
                  </a:xfrm>
                </p:grpSpPr>
                <p:sp>
                  <p:nvSpPr>
                    <p:cNvPr id="1204" name="空心弧 806"/>
                    <p:cNvSpPr/>
                    <p:nvPr/>
                  </p:nvSpPr>
                  <p:spPr>
                    <a:xfrm rot="208200">
                      <a:off x="27500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空心弧 807"/>
                    <p:cNvSpPr/>
                    <p:nvPr/>
                  </p:nvSpPr>
                  <p:spPr>
                    <a:xfrm rot="2908800">
                      <a:off x="27500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组合 803"/>
                  <p:cNvGrpSpPr/>
                  <p:nvPr/>
                </p:nvGrpSpPr>
                <p:grpSpPr>
                  <a:xfrm>
                    <a:off x="2652120" y="4483440"/>
                    <a:ext cx="670320" cy="670320"/>
                    <a:chOff x="2652120" y="4483440"/>
                    <a:chExt cx="670320" cy="670320"/>
                  </a:xfrm>
                </p:grpSpPr>
                <p:sp>
                  <p:nvSpPr>
                    <p:cNvPr id="1207" name="空心弧 804"/>
                    <p:cNvSpPr/>
                    <p:nvPr/>
                  </p:nvSpPr>
                  <p:spPr>
                    <a:xfrm rot="5608800">
                      <a:off x="27500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空心弧 805"/>
                    <p:cNvSpPr/>
                    <p:nvPr/>
                  </p:nvSpPr>
                  <p:spPr>
                    <a:xfrm rot="8308800">
                      <a:off x="2749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09" name="组合 795"/>
                <p:cNvGrpSpPr/>
                <p:nvPr/>
              </p:nvGrpSpPr>
              <p:grpSpPr>
                <a:xfrm>
                  <a:off x="2652840" y="4483080"/>
                  <a:ext cx="670320" cy="671040"/>
                  <a:chOff x="2652840" y="4483080"/>
                  <a:chExt cx="670320" cy="671040"/>
                </a:xfrm>
              </p:grpSpPr>
              <p:grpSp>
                <p:nvGrpSpPr>
                  <p:cNvPr id="1210" name="组合 796"/>
                  <p:cNvGrpSpPr/>
                  <p:nvPr/>
                </p:nvGrpSpPr>
                <p:grpSpPr>
                  <a:xfrm>
                    <a:off x="2652840" y="4483080"/>
                    <a:ext cx="670320" cy="670320"/>
                    <a:chOff x="2652840" y="4483080"/>
                    <a:chExt cx="670320" cy="670320"/>
                  </a:xfrm>
                </p:grpSpPr>
                <p:sp>
                  <p:nvSpPr>
                    <p:cNvPr id="1211" name="空心弧 800"/>
                    <p:cNvSpPr/>
                    <p:nvPr/>
                  </p:nvSpPr>
                  <p:spPr>
                    <a:xfrm rot="11008800">
                      <a:off x="27500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空心弧 801"/>
                    <p:cNvSpPr/>
                    <p:nvPr/>
                  </p:nvSpPr>
                  <p:spPr>
                    <a:xfrm rot="13708800">
                      <a:off x="275040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组合 797"/>
                  <p:cNvGrpSpPr/>
                  <p:nvPr/>
                </p:nvGrpSpPr>
                <p:grpSpPr>
                  <a:xfrm>
                    <a:off x="2652840" y="4483800"/>
                    <a:ext cx="670320" cy="670320"/>
                    <a:chOff x="2652840" y="4483800"/>
                    <a:chExt cx="670320" cy="670320"/>
                  </a:xfrm>
                </p:grpSpPr>
                <p:sp>
                  <p:nvSpPr>
                    <p:cNvPr id="1214" name="空心弧 798"/>
                    <p:cNvSpPr/>
                    <p:nvPr/>
                  </p:nvSpPr>
                  <p:spPr>
                    <a:xfrm rot="16408800">
                      <a:off x="27500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空心弧 799"/>
                    <p:cNvSpPr/>
                    <p:nvPr/>
                  </p:nvSpPr>
                  <p:spPr>
                    <a:xfrm rot="19108800">
                      <a:off x="275040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16" name="组合 775"/>
            <p:cNvGrpSpPr/>
            <p:nvPr/>
          </p:nvGrpSpPr>
          <p:grpSpPr>
            <a:xfrm>
              <a:off x="3233880" y="4483080"/>
              <a:ext cx="671040" cy="671040"/>
              <a:chOff x="3233880" y="4483080"/>
              <a:chExt cx="671040" cy="671040"/>
            </a:xfrm>
          </p:grpSpPr>
          <p:sp>
            <p:nvSpPr>
              <p:cNvPr id="1217" name="任意多边形 776"/>
              <p:cNvSpPr/>
              <p:nvPr/>
            </p:nvSpPr>
            <p:spPr>
              <a:xfrm>
                <a:off x="344664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组合 777"/>
              <p:cNvGrpSpPr/>
              <p:nvPr/>
            </p:nvGrpSpPr>
            <p:grpSpPr>
              <a:xfrm>
                <a:off x="3233880" y="4483080"/>
                <a:ext cx="671040" cy="671040"/>
                <a:chOff x="3233880" y="4483080"/>
                <a:chExt cx="671040" cy="671040"/>
              </a:xfrm>
            </p:grpSpPr>
            <p:grpSp>
              <p:nvGrpSpPr>
                <p:cNvPr id="1219" name="组合 778"/>
                <p:cNvGrpSpPr/>
                <p:nvPr/>
              </p:nvGrpSpPr>
              <p:grpSpPr>
                <a:xfrm>
                  <a:off x="3233880" y="4483440"/>
                  <a:ext cx="670680" cy="670680"/>
                  <a:chOff x="3233880" y="4483440"/>
                  <a:chExt cx="670680" cy="670680"/>
                </a:xfrm>
              </p:grpSpPr>
              <p:grpSp>
                <p:nvGrpSpPr>
                  <p:cNvPr id="1220" name="组合 786"/>
                  <p:cNvGrpSpPr/>
                  <p:nvPr/>
                </p:nvGrpSpPr>
                <p:grpSpPr>
                  <a:xfrm>
                    <a:off x="3234240" y="4483800"/>
                    <a:ext cx="670320" cy="670320"/>
                    <a:chOff x="3234240" y="4483800"/>
                    <a:chExt cx="670320" cy="670320"/>
                  </a:xfrm>
                </p:grpSpPr>
                <p:sp>
                  <p:nvSpPr>
                    <p:cNvPr id="1221" name="空心弧 790"/>
                    <p:cNvSpPr/>
                    <p:nvPr/>
                  </p:nvSpPr>
                  <p:spPr>
                    <a:xfrm rot="208200">
                      <a:off x="333180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空心弧 791"/>
                    <p:cNvSpPr/>
                    <p:nvPr/>
                  </p:nvSpPr>
                  <p:spPr>
                    <a:xfrm rot="2908800">
                      <a:off x="333180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3" name="组合 787"/>
                  <p:cNvGrpSpPr/>
                  <p:nvPr/>
                </p:nvGrpSpPr>
                <p:grpSpPr>
                  <a:xfrm>
                    <a:off x="3233880" y="4483440"/>
                    <a:ext cx="670320" cy="670320"/>
                    <a:chOff x="3233880" y="4483440"/>
                    <a:chExt cx="670320" cy="670320"/>
                  </a:xfrm>
                </p:grpSpPr>
                <p:sp>
                  <p:nvSpPr>
                    <p:cNvPr id="1224" name="空心弧 788"/>
                    <p:cNvSpPr/>
                    <p:nvPr/>
                  </p:nvSpPr>
                  <p:spPr>
                    <a:xfrm rot="5608800">
                      <a:off x="333180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空心弧 789"/>
                    <p:cNvSpPr/>
                    <p:nvPr/>
                  </p:nvSpPr>
                  <p:spPr>
                    <a:xfrm rot="8308800">
                      <a:off x="3331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6" name="组合 779"/>
                <p:cNvGrpSpPr/>
                <p:nvPr/>
              </p:nvGrpSpPr>
              <p:grpSpPr>
                <a:xfrm>
                  <a:off x="3234600" y="4483080"/>
                  <a:ext cx="670320" cy="671040"/>
                  <a:chOff x="3234600" y="4483080"/>
                  <a:chExt cx="670320" cy="671040"/>
                </a:xfrm>
              </p:grpSpPr>
              <p:grpSp>
                <p:nvGrpSpPr>
                  <p:cNvPr id="1227" name="组合 780"/>
                  <p:cNvGrpSpPr/>
                  <p:nvPr/>
                </p:nvGrpSpPr>
                <p:grpSpPr>
                  <a:xfrm>
                    <a:off x="3234600" y="4483080"/>
                    <a:ext cx="670320" cy="670320"/>
                    <a:chOff x="3234600" y="4483080"/>
                    <a:chExt cx="670320" cy="670320"/>
                  </a:xfrm>
                </p:grpSpPr>
                <p:sp>
                  <p:nvSpPr>
                    <p:cNvPr id="1228" name="空心弧 784"/>
                    <p:cNvSpPr/>
                    <p:nvPr/>
                  </p:nvSpPr>
                  <p:spPr>
                    <a:xfrm rot="11008800">
                      <a:off x="333180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空心弧 785"/>
                    <p:cNvSpPr/>
                    <p:nvPr/>
                  </p:nvSpPr>
                  <p:spPr>
                    <a:xfrm rot="13708800">
                      <a:off x="333216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组合 781"/>
                  <p:cNvGrpSpPr/>
                  <p:nvPr/>
                </p:nvGrpSpPr>
                <p:grpSpPr>
                  <a:xfrm>
                    <a:off x="3234600" y="4483800"/>
                    <a:ext cx="670320" cy="670320"/>
                    <a:chOff x="3234600" y="4483800"/>
                    <a:chExt cx="670320" cy="670320"/>
                  </a:xfrm>
                </p:grpSpPr>
                <p:sp>
                  <p:nvSpPr>
                    <p:cNvPr id="1231" name="空心弧 782"/>
                    <p:cNvSpPr/>
                    <p:nvPr/>
                  </p:nvSpPr>
                  <p:spPr>
                    <a:xfrm rot="16408800">
                      <a:off x="333180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空心弧 783"/>
                    <p:cNvSpPr/>
                    <p:nvPr/>
                  </p:nvSpPr>
                  <p:spPr>
                    <a:xfrm rot="19108800">
                      <a:off x="333216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33" name="组合 824"/>
          <p:cNvGrpSpPr/>
          <p:nvPr/>
        </p:nvGrpSpPr>
        <p:grpSpPr>
          <a:xfrm>
            <a:off x="3942000" y="4483080"/>
            <a:ext cx="1834560" cy="671040"/>
            <a:chOff x="3942000" y="4483080"/>
            <a:chExt cx="1834560" cy="671040"/>
          </a:xfrm>
        </p:grpSpPr>
        <p:grpSp>
          <p:nvGrpSpPr>
            <p:cNvPr id="1234" name="组合 825"/>
            <p:cNvGrpSpPr/>
            <p:nvPr/>
          </p:nvGrpSpPr>
          <p:grpSpPr>
            <a:xfrm>
              <a:off x="3942000" y="4483080"/>
              <a:ext cx="671040" cy="671040"/>
              <a:chOff x="3942000" y="4483080"/>
              <a:chExt cx="671040" cy="671040"/>
            </a:xfrm>
          </p:grpSpPr>
          <p:sp>
            <p:nvSpPr>
              <p:cNvPr id="1235" name="任意多边形 860"/>
              <p:cNvSpPr/>
              <p:nvPr/>
            </p:nvSpPr>
            <p:spPr>
              <a:xfrm>
                <a:off x="415440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组合 861"/>
              <p:cNvGrpSpPr/>
              <p:nvPr/>
            </p:nvGrpSpPr>
            <p:grpSpPr>
              <a:xfrm>
                <a:off x="3942000" y="4483080"/>
                <a:ext cx="671040" cy="671040"/>
                <a:chOff x="3942000" y="4483080"/>
                <a:chExt cx="671040" cy="671040"/>
              </a:xfrm>
            </p:grpSpPr>
            <p:grpSp>
              <p:nvGrpSpPr>
                <p:cNvPr id="1237" name="组合 862"/>
                <p:cNvGrpSpPr/>
                <p:nvPr/>
              </p:nvGrpSpPr>
              <p:grpSpPr>
                <a:xfrm>
                  <a:off x="3942000" y="4483440"/>
                  <a:ext cx="670680" cy="670680"/>
                  <a:chOff x="3942000" y="4483440"/>
                  <a:chExt cx="670680" cy="670680"/>
                </a:xfrm>
              </p:grpSpPr>
              <p:grpSp>
                <p:nvGrpSpPr>
                  <p:cNvPr id="1238" name="组合 870"/>
                  <p:cNvGrpSpPr/>
                  <p:nvPr/>
                </p:nvGrpSpPr>
                <p:grpSpPr>
                  <a:xfrm>
                    <a:off x="3942360" y="4483800"/>
                    <a:ext cx="670320" cy="670320"/>
                    <a:chOff x="3942360" y="4483800"/>
                    <a:chExt cx="670320" cy="670320"/>
                  </a:xfrm>
                </p:grpSpPr>
                <p:sp>
                  <p:nvSpPr>
                    <p:cNvPr id="1239" name="空心弧 874"/>
                    <p:cNvSpPr/>
                    <p:nvPr/>
                  </p:nvSpPr>
                  <p:spPr>
                    <a:xfrm rot="208200">
                      <a:off x="4039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空心弧 875"/>
                    <p:cNvSpPr/>
                    <p:nvPr/>
                  </p:nvSpPr>
                  <p:spPr>
                    <a:xfrm rot="2908800">
                      <a:off x="403992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1" name="组合 871"/>
                  <p:cNvGrpSpPr/>
                  <p:nvPr/>
                </p:nvGrpSpPr>
                <p:grpSpPr>
                  <a:xfrm>
                    <a:off x="3942000" y="4483440"/>
                    <a:ext cx="670320" cy="670320"/>
                    <a:chOff x="3942000" y="4483440"/>
                    <a:chExt cx="670320" cy="670320"/>
                  </a:xfrm>
                </p:grpSpPr>
                <p:sp>
                  <p:nvSpPr>
                    <p:cNvPr id="1242" name="空心弧 872"/>
                    <p:cNvSpPr/>
                    <p:nvPr/>
                  </p:nvSpPr>
                  <p:spPr>
                    <a:xfrm rot="5608800">
                      <a:off x="4039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空心弧 873"/>
                    <p:cNvSpPr/>
                    <p:nvPr/>
                  </p:nvSpPr>
                  <p:spPr>
                    <a:xfrm rot="8308800">
                      <a:off x="403956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44" name="组合 863"/>
                <p:cNvGrpSpPr/>
                <p:nvPr/>
              </p:nvGrpSpPr>
              <p:grpSpPr>
                <a:xfrm>
                  <a:off x="3942720" y="4483080"/>
                  <a:ext cx="670320" cy="671040"/>
                  <a:chOff x="3942720" y="4483080"/>
                  <a:chExt cx="670320" cy="671040"/>
                </a:xfrm>
              </p:grpSpPr>
              <p:grpSp>
                <p:nvGrpSpPr>
                  <p:cNvPr id="1245" name="组合 864"/>
                  <p:cNvGrpSpPr/>
                  <p:nvPr/>
                </p:nvGrpSpPr>
                <p:grpSpPr>
                  <a:xfrm>
                    <a:off x="3942720" y="4483080"/>
                    <a:ext cx="670320" cy="670320"/>
                    <a:chOff x="3942720" y="4483080"/>
                    <a:chExt cx="670320" cy="670320"/>
                  </a:xfrm>
                </p:grpSpPr>
                <p:sp>
                  <p:nvSpPr>
                    <p:cNvPr id="1246" name="空心弧 868"/>
                    <p:cNvSpPr/>
                    <p:nvPr/>
                  </p:nvSpPr>
                  <p:spPr>
                    <a:xfrm rot="11008800">
                      <a:off x="4039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空心弧 869"/>
                    <p:cNvSpPr/>
                    <p:nvPr/>
                  </p:nvSpPr>
                  <p:spPr>
                    <a:xfrm rot="13708800">
                      <a:off x="404028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组合 865"/>
                  <p:cNvGrpSpPr/>
                  <p:nvPr/>
                </p:nvGrpSpPr>
                <p:grpSpPr>
                  <a:xfrm>
                    <a:off x="3942720" y="4483800"/>
                    <a:ext cx="670320" cy="670320"/>
                    <a:chOff x="3942720" y="4483800"/>
                    <a:chExt cx="670320" cy="670320"/>
                  </a:xfrm>
                </p:grpSpPr>
                <p:sp>
                  <p:nvSpPr>
                    <p:cNvPr id="1249" name="空心弧 866"/>
                    <p:cNvSpPr/>
                    <p:nvPr/>
                  </p:nvSpPr>
                  <p:spPr>
                    <a:xfrm rot="16408800">
                      <a:off x="40399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05">
                          <a:moveTo>
                            <a:pt x="0" y="1598303"/>
                          </a:moveTo>
                          <a:cubicBezTo>
                            <a:pt x="0" y="1203334"/>
                            <a:pt x="146272" y="822354"/>
                            <a:pt x="410608" y="528834"/>
                          </a:cubicBezTo>
                          <a:lnTo>
                            <a:pt x="508893" y="617312"/>
                          </a:lnTo>
                          <a:cubicBezTo>
                            <a:pt x="266419" y="886547"/>
                            <a:pt x="132244" y="1236009"/>
                            <a:pt x="132244" y="1598302"/>
                          </a:cubicBezTo>
                          <a:lnTo>
                            <a:pt x="0" y="159830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空心弧 867"/>
                    <p:cNvSpPr/>
                    <p:nvPr/>
                  </p:nvSpPr>
                  <p:spPr>
                    <a:xfrm rot="19108800">
                      <a:off x="404028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05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5" y="822714"/>
                            <a:pt x="410322" y="529166"/>
                          </a:cubicBezTo>
                          <a:lnTo>
                            <a:pt x="508607" y="617644"/>
                          </a:lnTo>
                          <a:cubicBezTo>
                            <a:pt x="266312" y="886908"/>
                            <a:pt x="132243" y="1236349"/>
                            <a:pt x="132243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51" name="组合 826"/>
            <p:cNvGrpSpPr/>
            <p:nvPr/>
          </p:nvGrpSpPr>
          <p:grpSpPr>
            <a:xfrm>
              <a:off x="4523760" y="4483080"/>
              <a:ext cx="671040" cy="671040"/>
              <a:chOff x="4523760" y="4483080"/>
              <a:chExt cx="671040" cy="671040"/>
            </a:xfrm>
          </p:grpSpPr>
          <p:sp>
            <p:nvSpPr>
              <p:cNvPr id="1252" name="任意多边形 844"/>
              <p:cNvSpPr/>
              <p:nvPr/>
            </p:nvSpPr>
            <p:spPr>
              <a:xfrm>
                <a:off x="4735440" y="4678200"/>
                <a:ext cx="24444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组合 845"/>
              <p:cNvGrpSpPr/>
              <p:nvPr/>
            </p:nvGrpSpPr>
            <p:grpSpPr>
              <a:xfrm>
                <a:off x="4523760" y="4483080"/>
                <a:ext cx="671040" cy="671040"/>
                <a:chOff x="4523760" y="4483080"/>
                <a:chExt cx="671040" cy="671040"/>
              </a:xfrm>
            </p:grpSpPr>
            <p:grpSp>
              <p:nvGrpSpPr>
                <p:cNvPr id="1254" name="组合 846"/>
                <p:cNvGrpSpPr/>
                <p:nvPr/>
              </p:nvGrpSpPr>
              <p:grpSpPr>
                <a:xfrm>
                  <a:off x="4523760" y="4483440"/>
                  <a:ext cx="670680" cy="670680"/>
                  <a:chOff x="4523760" y="4483440"/>
                  <a:chExt cx="670680" cy="670680"/>
                </a:xfrm>
              </p:grpSpPr>
              <p:grpSp>
                <p:nvGrpSpPr>
                  <p:cNvPr id="1255" name="组合 854"/>
                  <p:cNvGrpSpPr/>
                  <p:nvPr/>
                </p:nvGrpSpPr>
                <p:grpSpPr>
                  <a:xfrm>
                    <a:off x="4524120" y="4483800"/>
                    <a:ext cx="670320" cy="670320"/>
                    <a:chOff x="4524120" y="4483800"/>
                    <a:chExt cx="670320" cy="670320"/>
                  </a:xfrm>
                </p:grpSpPr>
                <p:sp>
                  <p:nvSpPr>
                    <p:cNvPr id="1256" name="空心弧 858"/>
                    <p:cNvSpPr/>
                    <p:nvPr/>
                  </p:nvSpPr>
                  <p:spPr>
                    <a:xfrm rot="208200">
                      <a:off x="4621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空心弧 859"/>
                    <p:cNvSpPr/>
                    <p:nvPr/>
                  </p:nvSpPr>
                  <p:spPr>
                    <a:xfrm rot="2908800">
                      <a:off x="462168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8" name="组合 855"/>
                  <p:cNvGrpSpPr/>
                  <p:nvPr/>
                </p:nvGrpSpPr>
                <p:grpSpPr>
                  <a:xfrm>
                    <a:off x="4523760" y="4483440"/>
                    <a:ext cx="670320" cy="670320"/>
                    <a:chOff x="4523760" y="4483440"/>
                    <a:chExt cx="670320" cy="670320"/>
                  </a:xfrm>
                </p:grpSpPr>
                <p:sp>
                  <p:nvSpPr>
                    <p:cNvPr id="1259" name="空心弧 856"/>
                    <p:cNvSpPr/>
                    <p:nvPr/>
                  </p:nvSpPr>
                  <p:spPr>
                    <a:xfrm rot="5608800">
                      <a:off x="4621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空心弧 857"/>
                    <p:cNvSpPr/>
                    <p:nvPr/>
                  </p:nvSpPr>
                  <p:spPr>
                    <a:xfrm rot="8308800">
                      <a:off x="462132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1" name="组合 847"/>
                <p:cNvGrpSpPr/>
                <p:nvPr/>
              </p:nvGrpSpPr>
              <p:grpSpPr>
                <a:xfrm>
                  <a:off x="4524480" y="4483080"/>
                  <a:ext cx="670320" cy="671040"/>
                  <a:chOff x="4524480" y="4483080"/>
                  <a:chExt cx="670320" cy="671040"/>
                </a:xfrm>
              </p:grpSpPr>
              <p:grpSp>
                <p:nvGrpSpPr>
                  <p:cNvPr id="1262" name="组合 848"/>
                  <p:cNvGrpSpPr/>
                  <p:nvPr/>
                </p:nvGrpSpPr>
                <p:grpSpPr>
                  <a:xfrm>
                    <a:off x="4524480" y="4483080"/>
                    <a:ext cx="670320" cy="670320"/>
                    <a:chOff x="4524480" y="4483080"/>
                    <a:chExt cx="670320" cy="670320"/>
                  </a:xfrm>
                </p:grpSpPr>
                <p:sp>
                  <p:nvSpPr>
                    <p:cNvPr id="1263" name="空心弧 852"/>
                    <p:cNvSpPr/>
                    <p:nvPr/>
                  </p:nvSpPr>
                  <p:spPr>
                    <a:xfrm rot="11008800">
                      <a:off x="4621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空心弧 853"/>
                    <p:cNvSpPr/>
                    <p:nvPr/>
                  </p:nvSpPr>
                  <p:spPr>
                    <a:xfrm rot="13708800">
                      <a:off x="462204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5" name="组合 849"/>
                  <p:cNvGrpSpPr/>
                  <p:nvPr/>
                </p:nvGrpSpPr>
                <p:grpSpPr>
                  <a:xfrm>
                    <a:off x="4524480" y="4483800"/>
                    <a:ext cx="670320" cy="670320"/>
                    <a:chOff x="4524480" y="4483800"/>
                    <a:chExt cx="670320" cy="670320"/>
                  </a:xfrm>
                </p:grpSpPr>
                <p:sp>
                  <p:nvSpPr>
                    <p:cNvPr id="1266" name="空心弧 850"/>
                    <p:cNvSpPr/>
                    <p:nvPr/>
                  </p:nvSpPr>
                  <p:spPr>
                    <a:xfrm rot="16408800">
                      <a:off x="46216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207300">
                          <a:moveTo>
                            <a:pt x="0" y="1603650"/>
                          </a:moveTo>
                          <a:cubicBezTo>
                            <a:pt x="0" y="1208278"/>
                            <a:pt x="145597" y="826842"/>
                            <a:pt x="408834" y="532583"/>
                          </a:cubicBezTo>
                          <a:lnTo>
                            <a:pt x="507138" y="621079"/>
                          </a:lnTo>
                          <a:cubicBezTo>
                            <a:pt x="265767" y="891048"/>
                            <a:pt x="132270" y="1240959"/>
                            <a:pt x="132270" y="1603649"/>
                          </a:cubicBezTo>
                          <a:lnTo>
                            <a:pt x="0" y="1603650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空心弧 851"/>
                    <p:cNvSpPr/>
                    <p:nvPr/>
                  </p:nvSpPr>
                  <p:spPr>
                    <a:xfrm rot="19108800">
                      <a:off x="46220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7300" h="3197225">
                          <a:moveTo>
                            <a:pt x="0" y="1598613"/>
                          </a:moveTo>
                          <a:cubicBezTo>
                            <a:pt x="0" y="1202759"/>
                            <a:pt x="147334" y="820982"/>
                            <a:pt x="413479" y="527193"/>
                          </a:cubicBezTo>
                          <a:lnTo>
                            <a:pt x="511783" y="615689"/>
                          </a:lnTo>
                          <a:cubicBezTo>
                            <a:pt x="267504" y="885188"/>
                            <a:pt x="132269" y="1235440"/>
                            <a:pt x="132269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68" name="组合 827"/>
            <p:cNvGrpSpPr/>
            <p:nvPr/>
          </p:nvGrpSpPr>
          <p:grpSpPr>
            <a:xfrm>
              <a:off x="5105520" y="4483080"/>
              <a:ext cx="671040" cy="671040"/>
              <a:chOff x="5105520" y="4483080"/>
              <a:chExt cx="671040" cy="671040"/>
            </a:xfrm>
          </p:grpSpPr>
          <p:sp>
            <p:nvSpPr>
              <p:cNvPr id="1269" name="任意多边形 828"/>
              <p:cNvSpPr/>
              <p:nvPr/>
            </p:nvSpPr>
            <p:spPr>
              <a:xfrm>
                <a:off x="5318280" y="4678200"/>
                <a:ext cx="243000" cy="247680"/>
              </a:xfrm>
              <a:custGeom>
                <a:avLst/>
                <a:gdLst/>
                <a:ahLst/>
                <a:rect l="l" t="t" r="r" b="b"/>
                <a:pathLst>
                  <a:path w="914797" h="931517">
                    <a:moveTo>
                      <a:pt x="457399" y="0"/>
                    </a:moveTo>
                    <a:cubicBezTo>
                      <a:pt x="579049" y="0"/>
                      <a:pt x="677665" y="118695"/>
                      <a:pt x="677665" y="265113"/>
                    </a:cubicBezTo>
                    <a:cubicBezTo>
                      <a:pt x="677665" y="338322"/>
                      <a:pt x="653011" y="404600"/>
                      <a:pt x="613151" y="452577"/>
                    </a:cubicBezTo>
                    <a:lnTo>
                      <a:pt x="563217" y="493097"/>
                    </a:lnTo>
                    <a:lnTo>
                      <a:pt x="581880" y="567746"/>
                    </a:lnTo>
                    <a:lnTo>
                      <a:pt x="585053" y="567901"/>
                    </a:lnTo>
                    <a:cubicBezTo>
                      <a:pt x="708754" y="580241"/>
                      <a:pt x="819320" y="610158"/>
                      <a:pt x="905289" y="652065"/>
                    </a:cubicBezTo>
                    <a:lnTo>
                      <a:pt x="914797" y="657683"/>
                    </a:lnTo>
                    <a:lnTo>
                      <a:pt x="914797" y="931517"/>
                    </a:lnTo>
                    <a:lnTo>
                      <a:pt x="0" y="931517"/>
                    </a:lnTo>
                    <a:lnTo>
                      <a:pt x="0" y="657682"/>
                    </a:lnTo>
                    <a:lnTo>
                      <a:pt x="9508" y="652065"/>
                    </a:lnTo>
                    <a:cubicBezTo>
                      <a:pt x="95477" y="610158"/>
                      <a:pt x="206042" y="580241"/>
                      <a:pt x="329743" y="567901"/>
                    </a:cubicBezTo>
                    <a:lnTo>
                      <a:pt x="332917" y="567746"/>
                    </a:lnTo>
                    <a:lnTo>
                      <a:pt x="351579" y="493096"/>
                    </a:lnTo>
                    <a:lnTo>
                      <a:pt x="301647" y="452577"/>
                    </a:lnTo>
                    <a:cubicBezTo>
                      <a:pt x="261787" y="404600"/>
                      <a:pt x="237133" y="338322"/>
                      <a:pt x="237133" y="265113"/>
                    </a:cubicBezTo>
                    <a:cubicBezTo>
                      <a:pt x="237133" y="118695"/>
                      <a:pt x="335749" y="0"/>
                      <a:pt x="457399" y="0"/>
                    </a:cubicBezTo>
                    <a:close/>
                  </a:path>
                </a:pathLst>
              </a:custGeom>
              <a:solidFill>
                <a:srgbClr val="23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0" name="组合 829"/>
              <p:cNvGrpSpPr/>
              <p:nvPr/>
            </p:nvGrpSpPr>
            <p:grpSpPr>
              <a:xfrm>
                <a:off x="5105520" y="4483080"/>
                <a:ext cx="671040" cy="671040"/>
                <a:chOff x="5105520" y="4483080"/>
                <a:chExt cx="671040" cy="671040"/>
              </a:xfrm>
            </p:grpSpPr>
            <p:grpSp>
              <p:nvGrpSpPr>
                <p:cNvPr id="1271" name="组合 830"/>
                <p:cNvGrpSpPr/>
                <p:nvPr/>
              </p:nvGrpSpPr>
              <p:grpSpPr>
                <a:xfrm>
                  <a:off x="5105520" y="4483440"/>
                  <a:ext cx="670680" cy="670680"/>
                  <a:chOff x="5105520" y="4483440"/>
                  <a:chExt cx="670680" cy="670680"/>
                </a:xfrm>
              </p:grpSpPr>
              <p:grpSp>
                <p:nvGrpSpPr>
                  <p:cNvPr id="1272" name="组合 838"/>
                  <p:cNvGrpSpPr/>
                  <p:nvPr/>
                </p:nvGrpSpPr>
                <p:grpSpPr>
                  <a:xfrm>
                    <a:off x="5105880" y="4483800"/>
                    <a:ext cx="670320" cy="670320"/>
                    <a:chOff x="5105880" y="4483800"/>
                    <a:chExt cx="670320" cy="670320"/>
                  </a:xfrm>
                </p:grpSpPr>
                <p:sp>
                  <p:nvSpPr>
                    <p:cNvPr id="1273" name="空心弧 842"/>
                    <p:cNvSpPr/>
                    <p:nvPr/>
                  </p:nvSpPr>
                  <p:spPr>
                    <a:xfrm rot="208200">
                      <a:off x="5203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4" name="空心弧 843"/>
                    <p:cNvSpPr/>
                    <p:nvPr/>
                  </p:nvSpPr>
                  <p:spPr>
                    <a:xfrm rot="2908800">
                      <a:off x="520344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5" name="组合 839"/>
                  <p:cNvGrpSpPr/>
                  <p:nvPr/>
                </p:nvGrpSpPr>
                <p:grpSpPr>
                  <a:xfrm>
                    <a:off x="5105520" y="4483440"/>
                    <a:ext cx="670320" cy="670320"/>
                    <a:chOff x="5105520" y="4483440"/>
                    <a:chExt cx="670320" cy="670320"/>
                  </a:xfrm>
                </p:grpSpPr>
                <p:sp>
                  <p:nvSpPr>
                    <p:cNvPr id="1276" name="空心弧 840"/>
                    <p:cNvSpPr/>
                    <p:nvPr/>
                  </p:nvSpPr>
                  <p:spPr>
                    <a:xfrm rot="5608800">
                      <a:off x="5203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7" name="空心弧 841"/>
                    <p:cNvSpPr/>
                    <p:nvPr/>
                  </p:nvSpPr>
                  <p:spPr>
                    <a:xfrm rot="8308800">
                      <a:off x="520308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78" name="组合 831"/>
                <p:cNvGrpSpPr/>
                <p:nvPr/>
              </p:nvGrpSpPr>
              <p:grpSpPr>
                <a:xfrm>
                  <a:off x="5106240" y="4483080"/>
                  <a:ext cx="670320" cy="671040"/>
                  <a:chOff x="5106240" y="4483080"/>
                  <a:chExt cx="670320" cy="671040"/>
                </a:xfrm>
              </p:grpSpPr>
              <p:grpSp>
                <p:nvGrpSpPr>
                  <p:cNvPr id="1279" name="组合 832"/>
                  <p:cNvGrpSpPr/>
                  <p:nvPr/>
                </p:nvGrpSpPr>
                <p:grpSpPr>
                  <a:xfrm>
                    <a:off x="5106240" y="4483080"/>
                    <a:ext cx="670320" cy="670320"/>
                    <a:chOff x="5106240" y="4483080"/>
                    <a:chExt cx="670320" cy="670320"/>
                  </a:xfrm>
                </p:grpSpPr>
                <p:sp>
                  <p:nvSpPr>
                    <p:cNvPr id="1280" name="空心弧 836"/>
                    <p:cNvSpPr/>
                    <p:nvPr/>
                  </p:nvSpPr>
                  <p:spPr>
                    <a:xfrm rot="11008800">
                      <a:off x="5203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1" name="空心弧 837"/>
                    <p:cNvSpPr/>
                    <p:nvPr/>
                  </p:nvSpPr>
                  <p:spPr>
                    <a:xfrm rot="13708800">
                      <a:off x="5203800" y="458064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2" name="组合 833"/>
                  <p:cNvGrpSpPr/>
                  <p:nvPr/>
                </p:nvGrpSpPr>
                <p:grpSpPr>
                  <a:xfrm>
                    <a:off x="5106240" y="4483800"/>
                    <a:ext cx="670320" cy="670320"/>
                    <a:chOff x="5106240" y="4483800"/>
                    <a:chExt cx="670320" cy="670320"/>
                  </a:xfrm>
                </p:grpSpPr>
                <p:sp>
                  <p:nvSpPr>
                    <p:cNvPr id="1283" name="空心弧 834"/>
                    <p:cNvSpPr/>
                    <p:nvPr/>
                  </p:nvSpPr>
                  <p:spPr>
                    <a:xfrm rot="16408800">
                      <a:off x="5203440" y="458100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7225" h="3196612">
                          <a:moveTo>
                            <a:pt x="0" y="1598306"/>
                          </a:moveTo>
                          <a:cubicBezTo>
                            <a:pt x="0" y="1203337"/>
                            <a:pt x="146272" y="822356"/>
                            <a:pt x="410607" y="528836"/>
                          </a:cubicBezTo>
                          <a:lnTo>
                            <a:pt x="508892" y="617315"/>
                          </a:lnTo>
                          <a:cubicBezTo>
                            <a:pt x="266419" y="886550"/>
                            <a:pt x="132244" y="1236013"/>
                            <a:pt x="132244" y="1598306"/>
                          </a:cubicBezTo>
                          <a:lnTo>
                            <a:pt x="0" y="1598306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4" name="空心弧 835"/>
                    <p:cNvSpPr/>
                    <p:nvPr/>
                  </p:nvSpPr>
                  <p:spPr>
                    <a:xfrm rot="19108800">
                      <a:off x="5203800" y="4581360"/>
                      <a:ext cx="47484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96612" h="3197225">
                          <a:moveTo>
                            <a:pt x="0" y="1598613"/>
                          </a:moveTo>
                          <a:cubicBezTo>
                            <a:pt x="0" y="1203674"/>
                            <a:pt x="146166" y="822713"/>
                            <a:pt x="410324" y="529164"/>
                          </a:cubicBezTo>
                          <a:lnTo>
                            <a:pt x="508609" y="617643"/>
                          </a:lnTo>
                          <a:cubicBezTo>
                            <a:pt x="266313" y="886907"/>
                            <a:pt x="132244" y="1236349"/>
                            <a:pt x="132244" y="1598613"/>
                          </a:cubicBezTo>
                          <a:lnTo>
                            <a:pt x="0" y="1598613"/>
                          </a:lnTo>
                          <a:close/>
                        </a:path>
                      </a:pathLst>
                    </a:custGeom>
                    <a:solidFill>
                      <a:srgbClr val="231f20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85" name="直接连接符 876"/>
          <p:cNvSpPr/>
          <p:nvPr/>
        </p:nvSpPr>
        <p:spPr>
          <a:xfrm>
            <a:off x="6108840" y="2290680"/>
            <a:ext cx="0" cy="2884680"/>
          </a:xfrm>
          <a:prstGeom prst="line">
            <a:avLst/>
          </a:prstGeom>
          <a:ln w="6480">
            <a:solidFill>
              <a:srgbClr val="231f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文本框 91"/>
          <p:cNvSpPr/>
          <p:nvPr/>
        </p:nvSpPr>
        <p:spPr>
          <a:xfrm>
            <a:off x="762120" y="5237280"/>
            <a:ext cx="445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关注“谁是负责人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层级化，遵循严格的体系与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文本框 91"/>
          <p:cNvSpPr/>
          <p:nvPr/>
        </p:nvSpPr>
        <p:spPr>
          <a:xfrm>
            <a:off x="7081920" y="5237280"/>
            <a:ext cx="445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关注“应该做什么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31f20"/>
                </a:solidFill>
                <a:latin typeface="微软雅黑 Light"/>
                <a:ea typeface="微软雅黑 Light"/>
              </a:rPr>
              <a:t>去中心化，彼此之间高度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水蓦</dc:creator>
  <dc:description/>
  <cp:keywords/>
  <dc:language>en-US</dc:language>
  <cp:lastModifiedBy>王玉清</cp:lastModifiedBy>
  <dcterms:modified xsi:type="dcterms:W3CDTF">2016-03-01T07:14:32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