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4ABB-9756-46EB-A23E-5B379ECC6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E0C0-F5C6-4D61-B85A-43C8AAACA9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C10D-B994-499F-A96C-5987E1EF43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19E-A91C-46C2-B946-C9BD1757EC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EA18-4C42-431C-8757-D8656DCFC0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C1DB-E28A-43F6-B3A2-A9A707A394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BD1-97C4-4B19-898E-68CD29C214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0058-1575-40BD-850B-45FA67F98B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1C7-52AF-4304-BF28-0CF1ECB109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D5E-D68E-422A-A0B0-929A4B2E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574-9720-4090-92D9-C7097861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9BA-F676-44CF-B40D-49A4F4C4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64F-4E81-41C4-8501-73A6B536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9BFE-E797-4FBD-A93C-4FF1A8FA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32F0-78BB-4B98-AFD4-60B12C2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407-8C0E-456A-BCEF-419142FA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6030-5459-45EA-9495-A45F992E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42C6-7631-4295-808B-787B517D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19C-FEE4-45EB-8797-2529160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B766-1586-4D3E-A320-C24B54E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B2D-9A9B-4371-80A0-3E86277D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48F-E7E1-46D5-B83E-F19C693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6E49-740C-49A7-BCCC-98B7C1D1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00B3-9D2A-446F-8F99-C76ACBBC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1AE5-CB4D-43B6-AD61-3EC30928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0EC7-8CAE-40D3-BD76-8A07BF4A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8C5D-F2A4-4292-BC76-156536A7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A601-8032-4BF2-B740-130EE8D2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408D-8968-424A-9E02-F5741148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85C8-904F-4CFB-AC06-D84CC26F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1AC9-D331-4533-B0D7-F7E70A84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705-E519-4677-B1EE-5256BA5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6859-EA87-4578-8FFF-F1CAEB95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355B-C22A-4435-880C-AAA8ECB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9942-A8FF-45C7-AD2B-C38B1FC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13B7-DC33-4CEF-A59A-52DE002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6841-AB19-48DE-8D66-36C6381C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E376-0FE3-4543-8EF2-73DDD373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5351-DFE1-45D1-8AF7-A47DD4CA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DB9B-AAB9-4022-B87B-ABAC8382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5335-A128-48C2-8A7E-64928D4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85E3-0F5E-4320-88B2-617958B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5A1-B043-44F1-A6AE-C03D2B3A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F43D-1A38-4A89-8C10-288AFBC3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3BF6-7202-4D69-9405-76BFA81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E1C7-384A-43D4-893F-0C3BCA40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4D529-29A1-43D8-97D8-A28547B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7F04-0D0F-4AA9-B9F6-BF6AF3A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48DA-6A09-4F1A-BE7D-D95466F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FF20-247F-4977-8457-144525C4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8B3FD-C3DE-4856-A6E5-9BD068E2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43E5-F65D-418E-ADD1-B7421E6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3C47-F22E-4C34-9B40-D531C45F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AC1-6A07-4B0B-A712-1450F306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0655F-0DFC-4E0C-978A-DD805F70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44DB4-687E-49A2-9531-490A9C9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7A82-07EF-43CE-8E16-5F7ADA0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6ED1-541C-4773-B089-DB126C7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A1AD-E26B-4241-9712-28949E4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B122-B99E-44EB-AEC0-BEC61DD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036E3-57BD-4CE3-8A61-E751734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E566-64BA-444D-BB0A-67EE8C9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4358-C020-4E8F-9AE2-D9578B44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CAA3-65D6-4256-A102-17194132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6A3-B480-44C9-A4DA-B3D20E9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56F6-BE6D-4D01-B55D-921E72C2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AF9-8010-4FDC-BBC4-3982912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6EB-766A-43A0-8637-32AFC69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DD3-2948-4CE0-AC2F-49D68F8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8C17-32EA-4D4A-9EC2-47F68DD7681F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83B-D09C-41D9-BD1A-730E8CAA6A3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ounded Rectangle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2CD-C4CD-4280-A30B-692E83F97905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C6D-28C0-401B-A85C-6550B6DD439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12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FD5-FC1E-447F-B320-B68BBA72DFAB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DA9-80A1-40E6-9D35-A6ABEC2A8E7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0B3-C6A3-4BC2-9A84-EF79B7998B56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7778-2FFC-4CC5-B286-3858D3B9B12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6400800" y="433440"/>
            <a:ext cx="2324160" cy="4341600"/>
          </a:xfrm>
          <a:custGeom>
            <a:avLst/>
            <a:gdLst>
              <a:gd name="textAreaLeft" fmla="*/ 14400 w 2324160"/>
              <a:gd name="textAreaRight" fmla="*/ 2309760 w 2324160"/>
              <a:gd name="textAreaTop" fmla="*/ 14400 h 4341600"/>
              <a:gd name="textAreaBottom" fmla="*/ 4327200 h 4341600"/>
            </a:gdLst>
            <a:ahLst/>
            <a:rect l="textAreaLeft" t="textAreaTop" r="textAreaRight" b="textAreaBottom"/>
            <a:pathLst>
              <a:path w="21600" h="40347">
                <a:moveTo>
                  <a:pt x="459" y="0"/>
                </a:moveTo>
                <a:arcTo wR="459" hR="459" stAng="16200000" swAng="-5400000"/>
                <a:lnTo>
                  <a:pt x="0" y="39888"/>
                </a:lnTo>
                <a:arcTo wR="459" hR="459" stAng="10800000" swAng="-5400000"/>
                <a:lnTo>
                  <a:pt x="21141" y="40347"/>
                </a:lnTo>
                <a:arcTo wR="459" hR="459" stAng="5400000" swAng="-5400000"/>
                <a:lnTo>
                  <a:pt x="21600" y="459"/>
                </a:lnTo>
                <a:arcTo wR="459" hR="459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411960" y="387360"/>
            <a:ext cx="36360" cy="44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EBB9-2170-4074-BE11-7F507F51B5FF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A65-DD57-4F99-A65B-966C5091D53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d3e"/>
                </a:solidFill>
                <a:latin typeface="Verdana"/>
                <a:ea typeface="黑体"/>
              </a:rPr>
              <a:t>员工培训简约</a:t>
            </a:r>
            <a:r>
              <a:rPr b="1" lang="en-US" sz="4000" spc="-1" strike="noStrike">
                <a:solidFill>
                  <a:srgbClr val="ff8d3e"/>
                </a:solidFill>
                <a:latin typeface="Verdana"/>
                <a:ea typeface="黑体"/>
              </a:rPr>
              <a:t>PPT</a:t>
            </a:r>
            <a:r>
              <a:rPr b="1" lang="zh-CN" sz="4000" spc="-1" strike="noStrike">
                <a:solidFill>
                  <a:srgbClr val="ff8d3e"/>
                </a:solidFill>
                <a:latin typeface="Verdana"/>
                <a:ea typeface="黑体"/>
              </a:rPr>
              <a:t>模板在线下载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欢迎和简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欢迎员工参加培训单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陈述单元的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描述单元的总体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概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述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介绍此次培训对员工的重要意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要涵盖的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介绍各个主题如何联系在一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词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术语及其定义列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主题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释本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示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练习以巩固所学知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主题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释本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示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练习以巩固所学知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11200" y="61516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9bd64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总结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所涵盖的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介绍将此次培训应用于工作中的任何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请求有关培训单元的反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更多信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其他培训单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书籍、文章和在线资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咨询服务和其他资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42:12Z</dcterms:created>
  <dc:creator/>
  <dc:description/>
  <dc:language>en-US</dc:language>
  <cp:lastModifiedBy/>
  <dcterms:modified xsi:type="dcterms:W3CDTF">2015-07-24T08:51:44Z</dcterms:modified>
  <cp:revision>1</cp:revision>
  <dc:subject/>
  <dc:title>Ppt宝藏_www.pptbz.com_员工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82052</vt:lpwstr>
  </property>
</Properties>
</file>