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png" ContentType="image/png"/>
  <Override PartName="/ppt/media/hdphoto2.wdp" ContentType="image/vnd.ms-photo"/>
  <Override PartName="/ppt/media/image9.png" ContentType="image/png"/>
  <Override PartName="/ppt/media/hdphoto3.wdp" ContentType="image/vnd.ms-photo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9F0-2AE8-427A-8B75-5F55EB64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1D5-503E-46D6-AA62-287DFAEA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08A-C87C-4A72-953D-DDD57C8A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75D-7E8D-46F4-8C00-96B6EEF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52D5-7391-4147-859B-4DBDF4AD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EC9-A46D-45C4-9845-E358DC71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640-705A-45D3-B1D3-8F23296A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E207-B11D-4B0C-9B80-2BB5292E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2EE8-EABA-474B-869F-32117DC2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4829-F344-4418-B54D-4F595B2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C8DC-335F-41AE-A654-626B0A9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74D-4728-432D-A4C3-CDB51B4E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B20-4CE4-4BDD-81E5-85C0EFE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E15C-0AE6-4AD3-A288-583C095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AE1C-A5EB-4501-AE11-9075039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F7D-91C9-4B4B-BF24-D14E3467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14BD-BF3A-4F26-9BFB-2CC6ABAA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FAC-67FF-4743-9D57-1E171B47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922-C5B7-457E-9056-AF8205D0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1E0-2AD3-4257-9ADE-05D6192C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7D5-D3F3-4292-AED5-22585600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2DE-1B15-4562-B31C-8408F5F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2DB-82D8-4C5B-B6A9-A7D4F66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A00-66A2-4CDE-8E38-B70BB8B1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5B0036-4A09-43A7-9224-E2FCCB456B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EE3EC-B2B9-4E4C-A6A0-30A0D3EC602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microsoft.com/office/2007/relationships/hdphoto" Target="../media/hdphoto2.wdp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microsoft.com/office/2007/relationships/hdphoto" Target="../media/hdphoto3.wdp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3" name="矩形 5"/>
          <p:cNvSpPr/>
          <p:nvPr/>
        </p:nvSpPr>
        <p:spPr>
          <a:xfrm>
            <a:off x="0" y="0"/>
            <a:ext cx="9149760" cy="126828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6120" y="4002480"/>
            <a:ext cx="9149760" cy="285516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7" name="图片 1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34608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14"/>
          <p:cNvSpPr/>
          <p:nvPr/>
        </p:nvSpPr>
        <p:spPr>
          <a:xfrm>
            <a:off x="4572000" y="515736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406960" y="4558680"/>
            <a:ext cx="6794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鱼水深情清雅中国风</a:t>
            </a:r>
            <a:r>
              <a:rPr b="1" lang="en-US" sz="40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7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252000" y="337500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9440" y="3573000"/>
            <a:ext cx="2968920" cy="215712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95" name="图片 8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092360" y="0"/>
            <a:ext cx="2051280" cy="27352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78000" rotWithShape="0" stA="50000" sy="-100000"/>
          </a:effectLst>
        </p:spPr>
      </p:pic>
      <p:sp>
        <p:nvSpPr>
          <p:cNvPr id="96" name="TextBox 9"/>
          <p:cNvSpPr/>
          <p:nvPr/>
        </p:nvSpPr>
        <p:spPr>
          <a:xfrm>
            <a:off x="6336360" y="-100800"/>
            <a:ext cx="212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3"/>
          <p:cNvGrpSpPr/>
          <p:nvPr/>
        </p:nvGrpSpPr>
        <p:grpSpPr>
          <a:xfrm>
            <a:off x="2411640" y="2310480"/>
            <a:ext cx="4320360" cy="406440"/>
            <a:chOff x="2411640" y="2310480"/>
            <a:chExt cx="4320360" cy="406440"/>
          </a:xfrm>
        </p:grpSpPr>
        <p:sp>
          <p:nvSpPr>
            <p:cNvPr id="98" name="矩形 11"/>
            <p:cNvSpPr/>
            <p:nvPr/>
          </p:nvSpPr>
          <p:spPr>
            <a:xfrm>
              <a:off x="2411640" y="231912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矩形 12"/>
            <p:cNvSpPr/>
            <p:nvPr/>
          </p:nvSpPr>
          <p:spPr>
            <a:xfrm>
              <a:off x="3132000" y="231048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0" name="组合 14"/>
          <p:cNvGrpSpPr/>
          <p:nvPr/>
        </p:nvGrpSpPr>
        <p:grpSpPr>
          <a:xfrm>
            <a:off x="2404800" y="3150720"/>
            <a:ext cx="4320360" cy="406440"/>
            <a:chOff x="2404800" y="3150720"/>
            <a:chExt cx="4320360" cy="406440"/>
          </a:xfrm>
        </p:grpSpPr>
        <p:sp>
          <p:nvSpPr>
            <p:cNvPr id="101" name="矩形 15"/>
            <p:cNvSpPr/>
            <p:nvPr/>
          </p:nvSpPr>
          <p:spPr>
            <a:xfrm>
              <a:off x="2404800" y="315936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矩形 16"/>
            <p:cNvSpPr/>
            <p:nvPr/>
          </p:nvSpPr>
          <p:spPr>
            <a:xfrm>
              <a:off x="3125160" y="315072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3" name="组合 17"/>
          <p:cNvGrpSpPr/>
          <p:nvPr/>
        </p:nvGrpSpPr>
        <p:grpSpPr>
          <a:xfrm>
            <a:off x="2411640" y="4005000"/>
            <a:ext cx="4320360" cy="406440"/>
            <a:chOff x="2411640" y="4005000"/>
            <a:chExt cx="4320360" cy="406440"/>
          </a:xfrm>
        </p:grpSpPr>
        <p:sp>
          <p:nvSpPr>
            <p:cNvPr id="104" name="矩形 18"/>
            <p:cNvSpPr/>
            <p:nvPr/>
          </p:nvSpPr>
          <p:spPr>
            <a:xfrm>
              <a:off x="2411640" y="4013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矩形 19"/>
            <p:cNvSpPr/>
            <p:nvPr/>
          </p:nvSpPr>
          <p:spPr>
            <a:xfrm>
              <a:off x="3132000" y="4005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6" name="组合 20"/>
          <p:cNvGrpSpPr/>
          <p:nvPr/>
        </p:nvGrpSpPr>
        <p:grpSpPr>
          <a:xfrm>
            <a:off x="2404800" y="4869000"/>
            <a:ext cx="4320360" cy="406440"/>
            <a:chOff x="2404800" y="4869000"/>
            <a:chExt cx="4320360" cy="406440"/>
          </a:xfrm>
        </p:grpSpPr>
        <p:sp>
          <p:nvSpPr>
            <p:cNvPr id="107" name="矩形 21"/>
            <p:cNvSpPr/>
            <p:nvPr/>
          </p:nvSpPr>
          <p:spPr>
            <a:xfrm>
              <a:off x="2404800" y="4877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矩形 22"/>
            <p:cNvSpPr/>
            <p:nvPr/>
          </p:nvSpPr>
          <p:spPr>
            <a:xfrm>
              <a:off x="3125160" y="4869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9" name="TextBox 23"/>
          <p:cNvSpPr/>
          <p:nvPr/>
        </p:nvSpPr>
        <p:spPr>
          <a:xfrm>
            <a:off x="2404800" y="2319120"/>
            <a:ext cx="65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2411640" y="3159360"/>
            <a:ext cx="64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5"/>
          <p:cNvSpPr/>
          <p:nvPr/>
        </p:nvSpPr>
        <p:spPr>
          <a:xfrm>
            <a:off x="2404800" y="4013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6"/>
          <p:cNvSpPr/>
          <p:nvPr/>
        </p:nvSpPr>
        <p:spPr>
          <a:xfrm>
            <a:off x="2404800" y="4877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132000" y="2319120"/>
            <a:ext cx="359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125160" y="315936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3132000" y="4013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3125160" y="4877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四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164360" y="0"/>
            <a:ext cx="1979280" cy="2639160"/>
          </a:xfrm>
          <a:prstGeom prst="rect">
            <a:avLst/>
          </a:prstGeom>
          <a:ln w="0">
            <a:noFill/>
          </a:ln>
          <a:effectLst>
            <a:reflection algn="bl" dir="5400000" rotWithShape="0" stA="45000" sy="-100000"/>
          </a:effectLst>
        </p:spPr>
      </p:pic>
      <p:pic>
        <p:nvPicPr>
          <p:cNvPr id="120" name="图片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80" y="344268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流程图: 联系 11"/>
          <p:cNvSpPr/>
          <p:nvPr/>
        </p:nvSpPr>
        <p:spPr>
          <a:xfrm>
            <a:off x="2879640" y="1370880"/>
            <a:ext cx="3384000" cy="3258000"/>
          </a:xfrm>
          <a:prstGeom prst="flowChartConnector">
            <a:avLst/>
          </a:prstGeom>
          <a:noFill/>
          <a:ln>
            <a:solidFill>
              <a:srgbClr val="349715">
                <a:alpha val="9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流程图: 联系 12"/>
          <p:cNvSpPr/>
          <p:nvPr/>
        </p:nvSpPr>
        <p:spPr>
          <a:xfrm>
            <a:off x="611640" y="3168360"/>
            <a:ext cx="3240000" cy="3299040"/>
          </a:xfrm>
          <a:prstGeom prst="flowChartConnector">
            <a:avLst/>
          </a:prstGeom>
          <a:solidFill>
            <a:schemeClr val="bg1"/>
          </a:solidFill>
          <a:ln>
            <a:solidFill>
              <a:srgbClr val="349715">
                <a:alpha val="38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流程图: 联系 13"/>
          <p:cNvSpPr/>
          <p:nvPr/>
        </p:nvSpPr>
        <p:spPr>
          <a:xfrm>
            <a:off x="5697720" y="3245400"/>
            <a:ext cx="3096000" cy="314496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流程图: 联系 14"/>
          <p:cNvSpPr/>
          <p:nvPr/>
        </p:nvSpPr>
        <p:spPr>
          <a:xfrm>
            <a:off x="4737240" y="3318120"/>
            <a:ext cx="1125360" cy="1047240"/>
          </a:xfrm>
          <a:prstGeom prst="flowChartConnector">
            <a:avLst/>
          </a:prstGeom>
          <a:solidFill>
            <a:srgbClr val="349715">
              <a:alpha val="1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流程图: 联系 15"/>
          <p:cNvSpPr/>
          <p:nvPr/>
        </p:nvSpPr>
        <p:spPr>
          <a:xfrm>
            <a:off x="2209680" y="5196960"/>
            <a:ext cx="1125360" cy="104724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0" name="图片 16" descr=""/>
          <p:cNvPicPr/>
          <p:nvPr/>
        </p:nvPicPr>
        <p:blipFill>
          <a:blip r:embed="rId2"/>
          <a:stretch/>
        </p:blipFill>
        <p:spPr>
          <a:xfrm>
            <a:off x="4896720" y="3380040"/>
            <a:ext cx="806400" cy="10753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7" descr=""/>
          <p:cNvPicPr/>
          <p:nvPr/>
        </p:nvPicPr>
        <p:blipFill>
          <a:blip r:embed="rId3"/>
          <a:stretch/>
        </p:blipFill>
        <p:spPr>
          <a:xfrm>
            <a:off x="2280600" y="529704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2" name="流程图: 联系 18"/>
          <p:cNvSpPr/>
          <p:nvPr/>
        </p:nvSpPr>
        <p:spPr>
          <a:xfrm>
            <a:off x="7452360" y="5085360"/>
            <a:ext cx="1007640" cy="94752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3" name="图片 19" descr=""/>
          <p:cNvPicPr/>
          <p:nvPr/>
        </p:nvPicPr>
        <p:blipFill>
          <a:blip r:embed="rId4"/>
          <a:stretch/>
        </p:blipFill>
        <p:spPr>
          <a:xfrm>
            <a:off x="7372800" y="517896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20"/>
          <p:cNvSpPr/>
          <p:nvPr/>
        </p:nvSpPr>
        <p:spPr>
          <a:xfrm>
            <a:off x="6345720" y="3271680"/>
            <a:ext cx="1800000" cy="4417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圆角矩形 21"/>
          <p:cNvSpPr/>
          <p:nvPr/>
        </p:nvSpPr>
        <p:spPr>
          <a:xfrm>
            <a:off x="3611160" y="135540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圆角矩形 22"/>
          <p:cNvSpPr/>
          <p:nvPr/>
        </p:nvSpPr>
        <p:spPr>
          <a:xfrm>
            <a:off x="1259640" y="305928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3634920" y="1355400"/>
            <a:ext cx="187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1259640" y="3059280"/>
            <a:ext cx="165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6345720" y="3271680"/>
            <a:ext cx="18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5801400" y="375120"/>
            <a:ext cx="3301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1115640" y="3733200"/>
            <a:ext cx="2495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3447720" y="1989000"/>
            <a:ext cx="239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6084000" y="3917880"/>
            <a:ext cx="225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3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21400" y="324540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pic>
        <p:nvPicPr>
          <p:cNvPr id="145" name="图片 34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519960" y="1047960"/>
            <a:ext cx="2285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47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3725280" y="2169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3724560" y="4437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3724560" y="2871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3724560" y="3645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流程图: 联系 10"/>
          <p:cNvSpPr/>
          <p:nvPr/>
        </p:nvSpPr>
        <p:spPr>
          <a:xfrm>
            <a:off x="861840" y="1661760"/>
            <a:ext cx="3732480" cy="3852000"/>
          </a:xfrm>
          <a:prstGeom prst="flowChartConnector">
            <a:avLst/>
          </a:prstGeom>
          <a:solidFill>
            <a:srgbClr val="349715">
              <a:alpha val="8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流程图: 联系 11"/>
          <p:cNvSpPr/>
          <p:nvPr/>
        </p:nvSpPr>
        <p:spPr>
          <a:xfrm>
            <a:off x="1180080" y="1931760"/>
            <a:ext cx="3096000" cy="3312000"/>
          </a:xfrm>
          <a:prstGeom prst="flowChartConnector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reflection algn="bl" blurRad="6350" dir="5400000" dist="50800" endA="300" endPos="9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4" name="图片 1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132560" y="3089520"/>
            <a:ext cx="2935080" cy="213264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155" name="图片 1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77840" y="-194040"/>
            <a:ext cx="1781640" cy="2375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99000" rotWithShape="0" stA="50000" sy="-100000"/>
          </a:effectLst>
        </p:spPr>
      </p:pic>
      <p:sp>
        <p:nvSpPr>
          <p:cNvPr id="156" name="TextBox 14"/>
          <p:cNvSpPr/>
          <p:nvPr/>
        </p:nvSpPr>
        <p:spPr>
          <a:xfrm>
            <a:off x="1973160" y="3013560"/>
            <a:ext cx="2033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69840" y="297720"/>
            <a:ext cx="2016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4428000" y="2181960"/>
            <a:ext cx="4120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4572000" y="2877480"/>
            <a:ext cx="302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4595040" y="3645000"/>
            <a:ext cx="300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527000" y="4437000"/>
            <a:ext cx="35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3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971640" y="1989000"/>
            <a:ext cx="7488360" cy="155916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971640" y="4077000"/>
            <a:ext cx="7488360" cy="158364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pic>
        <p:nvPicPr>
          <p:cNvPr id="167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1989000"/>
            <a:ext cx="2145960" cy="15591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3933000"/>
            <a:ext cx="2145960" cy="1559160"/>
          </a:xfrm>
          <a:prstGeom prst="rect">
            <a:avLst/>
          </a:prstGeom>
          <a:ln w="0">
            <a:noFill/>
          </a:ln>
        </p:spPr>
      </p:pic>
      <p:sp>
        <p:nvSpPr>
          <p:cNvPr id="169" name="矩形 10"/>
          <p:cNvSpPr/>
          <p:nvPr/>
        </p:nvSpPr>
        <p:spPr>
          <a:xfrm>
            <a:off x="2483280" y="213300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矩形 11"/>
          <p:cNvSpPr/>
          <p:nvPr/>
        </p:nvSpPr>
        <p:spPr>
          <a:xfrm>
            <a:off x="2483280" y="423432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1" name="图片 1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858000" y="-101520"/>
            <a:ext cx="2285640" cy="304776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90000" rotWithShape="0" stA="50000" sy="-100000"/>
          </a:effectLst>
        </p:spPr>
      </p:pic>
      <p:sp>
        <p:nvSpPr>
          <p:cNvPr id="172" name="TextBox 13"/>
          <p:cNvSpPr/>
          <p:nvPr/>
        </p:nvSpPr>
        <p:spPr>
          <a:xfrm>
            <a:off x="1748880" y="370080"/>
            <a:ext cx="633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2490120" y="213300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2483280" y="4234320"/>
            <a:ext cx="560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6" name="矩形 2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8" name="图片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46344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4177440" y="42670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406040" y="5190480"/>
            <a:ext cx="411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611640" y="6165360"/>
            <a:ext cx="8208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图片 11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6000" y="3429000"/>
            <a:ext cx="2855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  <Words>110</Words>
  <Paragraphs>33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2:54:06Z</dcterms:created>
  <dc:creator>www.pptbz.com</dc:creator>
  <dc:description/>
  <dc:language>en-US</dc:language>
  <cp:lastModifiedBy>a</cp:lastModifiedBy>
  <dcterms:modified xsi:type="dcterms:W3CDTF">2015-07-26T02:43:18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