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DA6-CED7-422B-8A28-55D7FC2C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31D-BA43-4351-B40A-7F2FA3B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235-446D-49E3-B9B2-9C45D93F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749-5D2E-49AE-988A-64BE6CEB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53A-6337-434E-9C9C-48849BFA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F29A-E909-443E-916A-54EDCCD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6306-49FF-49E3-AE42-8B4F51E7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6707-7B16-41AC-9156-56231D4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3B0C-A90B-4E73-B285-721267D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4103-3D55-4190-B753-A5CE933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F7DD-9D5C-4480-9B3F-A1B736B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998-5F56-476B-8211-508BB8D0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F14D-4A3C-4801-AD70-C39EEFB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7CBB-BF3B-40A7-8CEB-C790221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743E-91AD-4060-A0AD-E13E280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EF56-5B47-452C-AF7F-1B600C75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651-7175-452F-8CC6-73E3DDD2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601B-57CA-4AE8-A5CB-941B90F5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CA88-685E-4A3D-A7F6-709A95C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6BCC-8EF8-47B3-8D59-CD69834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8DF8-A56C-478C-98D8-297A0830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21F1-722A-415D-AC4B-371EB8C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EFA-A318-4F44-9908-F6FEBE6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AB27-8E38-462E-904D-C0BAB46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C543-49C6-4383-9936-1B150E4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528E-26E3-4D4C-9E95-39B6688E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A96A-918B-4F55-8AE7-C4AD4F1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F4A9-83BB-49E4-82A4-451797C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489C4-613A-4B58-97CB-CFF781C0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EA6C-01C7-422F-A904-0ECDC5F0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233-8367-44A7-9A9F-A40A2C8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886-7587-4840-83A5-88C7DF8E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EBF-D6E3-418A-9CD8-AB530C30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86D-112E-4B20-9314-4016296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D2C-4465-4430-8C31-18CD322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2EE-B971-4050-AC37-E5AC32A8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79CF-9BF6-4E37-9FB7-913BB0D92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A0CB-73AE-4707-87D4-AF2B4510DE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0F86-3972-41F8-BC50-312ACD7F87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PPT 任务\水晶图片\抠图PNG\墨痕.png"/>
          <p:cNvPicPr/>
          <p:nvPr/>
        </p:nvPicPr>
        <p:blipFill>
          <a:blip r:embed="rId2"/>
          <a:stretch/>
        </p:blipFill>
        <p:spPr>
          <a:xfrm>
            <a:off x="539640" y="3068640"/>
            <a:ext cx="7859880" cy="1562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Soloman\Desktop\荷叶.png"/>
          <p:cNvPicPr/>
          <p:nvPr/>
        </p:nvPicPr>
        <p:blipFill>
          <a:blip r:embed="rId3"/>
          <a:srcRect l="83336" t="36378" r="2292" b="40012"/>
          <a:stretch/>
        </p:blipFill>
        <p:spPr>
          <a:xfrm>
            <a:off x="7273800" y="4630680"/>
            <a:ext cx="1906560" cy="2349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1763640" y="2205000"/>
            <a:ext cx="712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小隶书简"/>
                <a:ea typeface="汉仪小隶书简"/>
              </a:rPr>
              <a:t>一山一花水墨中国风</a:t>
            </a:r>
            <a:r>
              <a:rPr b="0" lang="en-US" sz="4000" spc="-1" strike="noStrike">
                <a:solidFill>
                  <a:srgbClr val="000000"/>
                </a:solidFill>
                <a:latin typeface="汉仪小隶书简"/>
                <a:ea typeface="汉仪小隶书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小隶书简"/>
                <a:ea typeface="汉仪小隶书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129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132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10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35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11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38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41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6:35:28Z</dcterms:created>
  <dc:creator>Peng Jinfeng</dc:creator>
  <dc:description/>
  <dc:language>en-US</dc:language>
  <cp:lastModifiedBy>a</cp:lastModifiedBy>
  <dcterms:modified xsi:type="dcterms:W3CDTF">2015-07-25T11:46:18Z</dcterms:modified>
  <cp:revision>29</cp:revision>
  <dc:subject/>
  <dc:title>PowerPoint 演示文稿</dc:title>
</cp:coreProperties>
</file>