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AE2-56F0-4258-AE76-8B600E80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A5E5-3BB0-41AB-972E-8705AF78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E10-60C3-4834-9F09-F993A287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52A-CDBF-4F97-B303-C96399B6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5BE2-E2C7-4514-A317-FB9FB8AD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6A5A-B772-429F-A9B8-B1256A61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6815-8E18-4A22-98BD-4ECF6863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99BD-D1B7-4BB7-997E-61FFF3B7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9758-8C65-4EBC-A071-E2BA5A06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D50F-77BA-4104-A324-F924BCDA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1B6F-F2C3-4B5C-8912-8239C870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2CC-DBBE-4D89-94A5-B016BB6B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283C-C28D-4123-99F5-C65A0BF1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E2FC-3D26-45DB-BB9B-CE688284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0A1E-5651-4222-8CAC-8A7163A8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E8F4-4F2D-4C0A-8B08-609FB916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D456-2049-45CE-8E6F-26590973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488-36FB-43A5-9407-F5A777E4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E68E-9DB2-4B64-93C3-67AFE522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797C-A70F-4681-8A77-312BEE60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540C-2D0A-4C84-ADB1-B48B1D9F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DBD-6317-404F-AAB2-05A0073C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6086-2BF5-449B-A257-D9928EC3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4AB-3D27-4120-8578-D91F4924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752429-9DC1-4152-AAB8-4E4AEB263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6BA18A-0A06-42A5-B968-5F29E4C3E1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683640" y="1917000"/>
            <a:ext cx="7272720" cy="99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i="1" lang="zh-CN" sz="4000" spc="-1" strike="noStrike">
                <a:solidFill>
                  <a:srgbClr val="0066cc"/>
                </a:solidFill>
                <a:latin typeface="Times New Roman"/>
                <a:ea typeface="宋体"/>
              </a:rPr>
              <a:t>圆形线条简洁</a:t>
            </a:r>
            <a:r>
              <a:rPr b="0" i="1" lang="en-US" sz="4000" spc="-1" strike="noStrike">
                <a:solidFill>
                  <a:srgbClr val="0066cc"/>
                </a:solidFill>
                <a:latin typeface="Times New Roman"/>
                <a:ea typeface="宋体"/>
              </a:rPr>
              <a:t>PPT</a:t>
            </a:r>
            <a:r>
              <a:rPr b="0" i="1" lang="zh-CN" sz="4000" spc="-1" strike="noStrike">
                <a:solidFill>
                  <a:srgbClr val="0066cc"/>
                </a:solidFill>
                <a:latin typeface="Times New Roman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7332120" y="6172200"/>
            <a:ext cx="14961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579096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040" cy="411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plate6">
  <a:themeElements>
    <a:clrScheme name="template6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plate6">
  <a:themeElements>
    <a:clrScheme name="template6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emplate6</Template>
  <TotalTime>2</TotalTime>
  <Application>LibreOffice/7.4.7.2$Linux_X86_64 LibreOffice_project/40$Build-2</Application>
  <AppVersion>15.0000</AppVersion>
  <Words>39</Words>
  <Paragraphs>9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03:25:10Z</dcterms:created>
  <dc:creator>微软用户</dc:creator>
  <dc:description/>
  <dc:language>en-US</dc:language>
  <cp:lastModifiedBy>a</cp:lastModifiedBy>
  <dcterms:modified xsi:type="dcterms:W3CDTF">2015-07-24T08:57:01Z</dcterms:modified>
  <cp:revision>2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