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DA4-7AD1-4C3E-8DCF-46D30E9C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115-E33D-4141-B182-D7AE3450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B0C-FDCE-45B3-B62D-CA7F9AA8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0E8-9DEC-4A6F-B26E-AFC54870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14F-3F12-49FC-8308-EFCA66E8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9D1-6F84-4C37-A593-2CCB4219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D5A-BA74-4CCA-A0F2-63F0510B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45F-BFA4-4776-86D8-D58B8164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D16-A8B6-43D6-9452-F8628662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BE3-A5DB-44A0-988A-595684A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CAC-57CD-44FC-838A-7D0BEE57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60F-4F4E-4BD6-A718-3FD194D2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B25F08-0A04-417D-8866-D6085784C65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28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" name="直接连接符 5"/>
          <p:cNvCxnSpPr/>
          <p:nvPr/>
        </p:nvCxnSpPr>
        <p:spPr>
          <a:xfrm>
            <a:off x="3643200" y="5445000"/>
            <a:ext cx="2429280" cy="18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sp>
        <p:nvSpPr>
          <p:cNvPr id="43" name="TextBox 7"/>
          <p:cNvSpPr/>
          <p:nvPr/>
        </p:nvSpPr>
        <p:spPr>
          <a:xfrm>
            <a:off x="1691640" y="4752000"/>
            <a:ext cx="7056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中国风恭贺新春喜庆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2118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99728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64040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45687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4974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28328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4974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99752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06856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9976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2833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28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64032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2832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6140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854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56876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7660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2116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/>
          <p:cNvSpPr/>
          <p:nvPr/>
        </p:nvSpPr>
        <p:spPr>
          <a:xfrm>
            <a:off x="163980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7834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1624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42584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63547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271152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80532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0688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42584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24256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4640400" y="5214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00120" y="6547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497480" y="5214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664056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2114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20685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  <Words>143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6T02:50:20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