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996135566117"/>
          <c:y val="0.0197722726573319"/>
          <c:w val="0.959978678985475"/>
          <c:h val="0.9796891829512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ffd320"/>
                  </a:gs>
                  <a:gs pos="100000">
                    <a:srgbClr val="ffffcc"/>
                  </a:gs>
                </a:gsLst>
                <a:lin ang="5400000"/>
              </a:gradFill>
              <a:ln w="36000">
                <a:solidFill>
                  <a:srgbClr val="ffd320"/>
                </a:solidFill>
                <a:round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f950e"/>
                  </a:gs>
                  <a:gs pos="100000">
                    <a:srgbClr val="ffd320"/>
                  </a:gs>
                </a:gsLst>
                <a:lin ang="5400000"/>
              </a:gradFill>
              <a:ln w="36000">
                <a:solidFill>
                  <a:srgbClr val="ff950e"/>
                </a:solidFill>
                <a:round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9336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1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2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3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4"/>
            <c:invertIfNegative val="0"/>
            <c:spPr>
              <a:solidFill>
                <a:srgbClr val="4d3574"/>
              </a:solidFill>
              <a:ln w="18000">
                <a:noFill/>
              </a:ln>
            </c:spPr>
          </c:dPt>
          <c:dPt>
            <c:idx val="5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6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7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8"/>
            <c:invertIfNegative val="0"/>
            <c:spPr>
              <a:solidFill>
                <a:srgbClr val="4d3574"/>
              </a:solidFill>
              <a:ln w="1800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8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11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4</c:v>
                </c:pt>
                <c:pt idx="3">
                  <c:v>5</c:v>
                </c:pt>
                <c:pt idx="4">
                  <c:v>6</c:v>
                </c:pt>
                <c:pt idx="5">
                  <c:v>7</c:v>
                </c:pt>
                <c:pt idx="6">
                  <c:v>8</c:v>
                </c:pt>
                <c:pt idx="7">
                  <c:v>9</c:v>
                </c:pt>
                <c:pt idx="8">
                  <c:v>10</c:v>
                </c:pt>
              </c:numCache>
            </c:numRef>
          </c:val>
        </c:ser>
        <c:gapWidth val="100"/>
        <c:overlap val="0"/>
        <c:axId val="63791533"/>
        <c:axId val="67303338"/>
      </c:barChart>
      <c:catAx>
        <c:axId val="63791533"/>
        <c:scaling>
          <c:orientation val="minMax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36000">
            <a:solidFill>
              <a:srgbClr val="4d3574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pPr>
          </a:p>
        </c:txPr>
        <c:crossAx val="67303338"/>
        <c:crossesAt val="0"/>
        <c:auto val="1"/>
        <c:lblAlgn val="ctr"/>
        <c:lblOffset val="100"/>
        <c:noMultiLvlLbl val="0"/>
      </c:catAx>
      <c:valAx>
        <c:axId val="67303338"/>
        <c:scaling>
          <c:orientation val="minMax"/>
          <c:max val="10"/>
          <c:min val="1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36000">
            <a:solidFill>
              <a:srgbClr val="4d3574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63791533"/>
        <c:crosses val="min"/>
        <c:crossBetween val="between"/>
        <c:majorUnit val="1"/>
        <c:minorUnit val="1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E1743-8DB0-4BEC-9130-90ED8143A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8C899-8AAD-4601-828D-CA8B3D355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7ACAA-D397-444E-9CB6-F47A337FB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4194F-B9E6-4DF9-A61C-057D61B49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B04B1-69CF-4E56-B7BB-61B2841A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9E896-E786-4D27-AF04-DE7C9D59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4C586-01AE-4A04-9EF8-A57686C84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61D8D-9206-4597-B7C9-AAC5297BF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F4D1F-C33B-4023-93C5-06BE753E9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39221-24C5-4E41-BCCE-DECEF5E1F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55690-56D4-4721-AC32-021B99C9A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0E1-B8FC-4D4D-BDCC-FAB4F58F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E4D-E206-47FC-A459-672BD226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2C0-5714-44AD-9ABC-AF5DB1F4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B5F-9F74-4B96-BF60-8D86AC07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F23-0732-4F4C-A7DD-67E758AA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E75-7F72-4C6C-864A-EB250F94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2D9-3DEE-4C46-979A-DC6420CC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25B-7D4C-4665-9584-37CEAEC8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4BD-E676-4F29-9852-A2B0761E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7D2-0292-4ECF-A53F-67D60EAD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6D0-EDD7-4828-B53E-1BD80593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B46-9FDF-4685-AE8F-5B85EFBA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3E30C-B023-4649-8BB4-941964D5E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360" y="638280"/>
            <a:ext cx="9070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紫色唯美简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商务模板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7020000"/>
            <a:ext cx="299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4720" y="81720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5"/>
          <p:cNvCxnSpPr>
            <a:stCxn id="65" idx="0"/>
            <a:endCxn id="63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6"/>
          <p:cNvCxnSpPr>
            <a:stCxn id="63" idx="5"/>
            <a:endCxn id="64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"/>
          <p:cNvSpPr/>
          <p:nvPr/>
        </p:nvSpPr>
        <p:spPr>
          <a:xfrm>
            <a:off x="1179360" y="3357720"/>
            <a:ext cx="1686240" cy="1685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"/>
          <p:cNvSpPr/>
          <p:nvPr/>
        </p:nvSpPr>
        <p:spPr>
          <a:xfrm>
            <a:off x="3827520" y="3622680"/>
            <a:ext cx="1168200" cy="11685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"/>
          <p:cNvSpPr/>
          <p:nvPr/>
        </p:nvSpPr>
        <p:spPr>
          <a:xfrm>
            <a:off x="3575160" y="518328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3575160" y="205596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5180040" y="205740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6"/>
          <p:cNvCxnSpPr>
            <a:stCxn id="76" idx="7"/>
            <a:endCxn id="79" idx="2"/>
          </p:cNvCxnSpPr>
          <p:nvPr/>
        </p:nvCxnSpPr>
        <p:spPr>
          <a:xfrm flipV="1">
            <a:off x="2616120" y="2639160"/>
            <a:ext cx="959760" cy="9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7"/>
          <p:cNvCxnSpPr>
            <a:stCxn id="76" idx="5"/>
            <a:endCxn id="78" idx="2"/>
          </p:cNvCxnSpPr>
          <p:nvPr/>
        </p:nvCxnSpPr>
        <p:spPr>
          <a:xfrm>
            <a:off x="2616120" y="479412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8"/>
          <p:cNvCxnSpPr>
            <a:stCxn id="76" idx="6"/>
            <a:endCxn id="77" idx="2"/>
          </p:cNvCxnSpPr>
          <p:nvPr/>
        </p:nvCxnSpPr>
        <p:spPr>
          <a:xfrm>
            <a:off x="2863440" y="419904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AutoShape 9"/>
          <p:cNvSpPr/>
          <p:nvPr/>
        </p:nvSpPr>
        <p:spPr>
          <a:xfrm>
            <a:off x="5180040" y="36212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5180040" y="51530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>
            <a:off x="2457360" y="2084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233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123336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681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2457360" y="3487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2457360" y="4892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3679920" y="417204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984b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6245280" y="3719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9"/>
          <p:cNvCxnSpPr>
            <a:stCxn id="93" idx="2"/>
            <a:endCxn id="94" idx="2"/>
          </p:cNvCxnSpPr>
          <p:nvPr/>
        </p:nvCxnSpPr>
        <p:spPr>
          <a:xfrm>
            <a:off x="4427280" y="482256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17600" y="717876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97979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4d357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>
              <a:gd name="textAreaLeft" fmla="*/ 0 w 3618000"/>
              <a:gd name="textAreaRight" fmla="*/ 3618360 w 361800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1166760"/>
              <a:gd name="textAreaBottom" fmla="*/ 1166760 h 1166760"/>
            </a:gdLst>
            <a:ahLst/>
            <a:rect l="textAreaLeft" t="textAreaTop" r="textAreaRight" b="textAreaBottom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 flipV="1">
            <a:off x="1030320" y="529524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 flipV="1">
            <a:off x="1697040" y="4132440"/>
            <a:ext cx="3370320" cy="107928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280"/>
              <a:gd name="textAreaBottom" fmla="*/ 894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1"/>
          <p:cNvGraphicFramePr/>
          <p:nvPr/>
        </p:nvGraphicFramePr>
        <p:xfrm>
          <a:off x="684360" y="2173320"/>
          <a:ext cx="8103960" cy="467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120" name="AutoShape 2"/>
          <p:cNvCxnSpPr>
            <a:endCxn id="121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4d3574"/>
            </a:solidFill>
            <a:miter/>
            <a:tailEnd len="med" type="triangle" w="med"/>
          </a:ln>
        </p:spPr>
      </p:cxnSp>
      <p:sp>
        <p:nvSpPr>
          <p:cNvPr id="121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5"/>
          <p:cNvCxnSpPr>
            <a:stCxn id="122" idx="0"/>
            <a:endCxn id="122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AutoShape 6"/>
          <p:cNvCxnSpPr>
            <a:endCxn id="122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25" name="Text Box 7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9:39Z</dcterms:created>
  <dc:creator>User</dc:creator>
  <dc:description>A glass ball lying on a &lt;a href="http://templates.redoffice.com/template/cateShow.php?class=mb&amp;categoryid=117&amp;sid=5809"&gt;finacial&lt;/a&gt; report. Nice template for presentations on finance, global finance, investment, commercial, etc.&lt;a href="http://templates.redoffice.com/template/cateShow.php?class=mb&amp;categoryid=117&amp;sid=5809"&gt;more about Finance Impress Templates&lt;/a&gt;.</dc:description>
  <cp:keywords>presentation background Presentation RedOfficeTemplates Purple Earth Report Finance Redoffice Templates Redoffice.com</cp:keywords>
  <dc:language>en-US</dc:language>
  <cp:lastModifiedBy>a</cp:lastModifiedBy>
  <dcterms:modified xsi:type="dcterms:W3CDTF">2015-07-24T09:11:06Z</dcterms:modified>
  <cp:revision>9</cp:revision>
  <dc:subject>&lt;a href="http://templates.redoffice.com/template/cateShow.php?class=mb&amp;categoryid=117&amp;sid=5809"&gt;Finance&lt;/a&gt;</dc:subject>
  <dc:title>Glob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cense">
    <vt:lpwstr>&lt;a href="http://templates.services.openoffice.org/bsd-license"&gt;BSD&lt;/a&gt;</vt:lpwstr>
  </property>
</Properties>
</file>