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4FD-AAAF-4C04-9B7C-AEF9EFBC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7F9-C68A-4E60-978F-E101FBBB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F44-FBC9-4700-B6CD-FD07D5E4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052-18D8-4E01-A86C-043105E3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BE9-E4E3-4003-8435-5B1628FD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F58E-3EBD-458C-8986-1E84592B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ABA3-43EB-400D-957E-A25D4FC1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371-B324-41F5-855A-34389DD5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F60-8E15-4B7A-827C-E681AFDF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27B-1F0B-4C56-9289-A0067D86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B50-AF3E-488D-BE06-FDB287B2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C1E-5E20-47D9-8A8A-93B3129B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44E4-4E98-49AE-9839-89E0212AB8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06436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成功的欢呼商务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268360" y="6021360"/>
            <a:ext cx="3851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  <a:ea typeface="宋体"/>
              </a:rPr>
              <a:t>2005 Compan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4" descr="sl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34920" y="43920"/>
            <a:ext cx="3382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  <a:ea typeface="宋体"/>
              </a:rPr>
              <a:t>Content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  <a:ea typeface="宋体"/>
              </a:rPr>
              <a:t>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987200"/>
            <a:ext cx="59767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Lorem ipsum dolor sit amet, consectet adipiscing elit, sed diam nonummy nibh euismod tincidunt ut laoreet dolore magna aliquam erat volutp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250920" y="5300640"/>
            <a:ext cx="820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Lorem ipsum dolor sit amet, consectet adipiscing elit, sed diam nonummy nibh euismod tincidunt ut laoreet dolore magna aliquam erat volutp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250920" y="4005360"/>
            <a:ext cx="8208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onsectet adipiscing elit, sed diam nonummy nibh euismod tincidunt ut laoreet dolore magna aliquam erat volutpa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sed diam nonummy nibh euismo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tincidunt ut laoreet dolore magna aliquam erat volutpat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06:19:00Z</dcterms:created>
  <dc:creator>ppt宝藏</dc:creator>
  <dc:description/>
  <dc:language>en-US</dc:language>
  <cp:lastModifiedBy>a</cp:lastModifiedBy>
  <dcterms:modified xsi:type="dcterms:W3CDTF">2015-07-25T06:58:33Z</dcterms:modified>
  <cp:revision>15</cp:revision>
  <dc:subject/>
  <dc:title>www.pptbz.com</dc:title>
</cp:coreProperties>
</file>