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112D2E-BA5D-438D-BACD-35A092F32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CFA53-8C9B-44EA-875D-BA3E24E0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C0DEC-D922-47E0-A210-9D5C8745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67A2D8-9E19-4E52-9FF7-459D766C3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DC3288-D58C-4DE6-85CC-52711D11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9AAC4-9D0E-4D46-BDD5-FB04AE03C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F3520-B9F5-4851-B85A-E6ECCBD9D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75E66-90B1-4881-AB41-7B8378429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0CC15-9C2D-41B1-A6BE-76E240333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742C79-40AA-441C-B289-BB058E77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C61C62-FAD1-48AC-B05B-8BD1574C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7DF67-14E8-416E-8882-5771595D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DDB7D8-F4ED-474E-A6D4-C7452C7E1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50D66-7A19-4F13-B111-FF568923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9997BD-699F-4180-A61B-7431883E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8C1E6B-69C9-4C9B-80A9-4700B01B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CCB862-CB86-4EA9-B09A-B6A97DA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ABB8FF-BC17-4B09-A31C-D1D49D09B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0FFF1A-2CC8-4A79-99E9-C0844D5B4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E15D3-2BCE-4487-BF27-C82142DE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D16678-7F9E-4153-977F-B655EBC6D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B8B90-4704-4480-910F-F5843D16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97560-6A56-4946-BF19-E1604F8BD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D6CEDF-2258-4946-AFC3-B40718352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E749C-7261-4832-ADDC-92B38992E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4C4DE1-9377-441A-A114-BF9F40592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63C37-634B-4035-960E-88B93B16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281F13-F4B6-48A0-9EE8-281D669BD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B6CA3E-060D-4D56-B328-07DFB821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AE1FD-5030-46B4-982E-3A9F349E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0A6E-7E6C-4488-86D2-727E8A042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E38C29-84F6-4C67-9FDA-924BE0C4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99B7AF-23B5-4BC6-8D53-DBEC1D245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4ECDBC-4A28-42A0-BCBA-ED6C67F8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FEEE6-E866-47BE-9BAF-101236C77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A416D4-B7BB-4EF0-9C21-DFE6A03C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A676F-0B20-4005-BD3C-65F1A9B1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06411-C91C-48DB-A455-A853D2B3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9B858-E4B0-40DA-8E9F-01B9D0DE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9A4F2E-C2A5-4545-9A72-7DCAC3580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29DC1B-2C9F-4116-ADFF-D96AF704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5BC-263C-447E-8117-AC5BB96B2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BCBD75-3D4C-454D-A52C-5D817DDC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78B012-A90D-4AA2-90D3-A5021231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83E0A-76D6-4D81-8034-0DDE4813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5C081-81ED-40B1-92E4-1CB97461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BF512-2902-485C-A686-E6C708BFE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891B-D0CB-4EA2-B600-F6FD0969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DA0A-813B-45A5-81EB-18085DCC4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96B9-3D4A-46EE-B954-1BF9E539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70B3-3B61-4573-85EE-6C25CA00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42B-1A73-4826-8BB3-B26A9D982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CA7-FC4B-44E9-9351-B587635DD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DA33-9B60-4B8F-889D-BDE83B506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800D-9355-4483-A9C1-37770F24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77E-1461-478A-9E07-CE7F4ED0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55B-DE94-46D8-BA3C-B36B840BA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0A75D-4CB4-4043-8656-6BBD8F53F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41390-F0F8-49F4-AC13-CD59F915A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1FD9-C15C-4033-8C51-38420E68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21E52-FACC-4966-BE95-4C097664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3086-E5B7-43E4-B0A4-5E9D92E4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E6D4D-0014-4283-BF1C-45A16866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40A3-D946-42D2-A00D-F8D72AB7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DDE0C-80E4-4115-AABA-E4193839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30191-CBFA-47C4-B21C-576CF3ED7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80A5E-8FBF-467D-8695-D39DA165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5A59D-91FF-4F02-B2B4-02C9BD6F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81A2-D4D2-4DD4-BE4C-DA361E72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423385-804E-453C-9637-F75DC86C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ED9AB-6DE2-4DBF-B27A-464D3DAAA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65E72E-4DF0-48BB-B69F-EDA8E998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42D0E-BFAF-4B1C-970D-B65474E76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0A6A2-5C48-4D60-91BD-9CD9A05F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5C48B-D7C3-40F9-B520-575145709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CC9B1-F417-4DCB-85E6-C308ADE0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E5FAC-64E1-4A51-9E45-B5F7B983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5F91F-E7C7-4311-A3DD-5B6D754B8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7358D-CB42-4FC6-A378-35AFBC707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0B19-4FAB-4E77-8B6B-04E4A562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340A0-5B2A-445F-99E3-A3E6504C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B32AAD-74C4-4419-A137-50541E5A9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86449-57E7-4553-8B63-199270E7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7D6E6-E2D4-43EB-9737-574201BF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8DCE70-56ED-4603-A0D2-DFF5415BF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DDDEB-A11F-4954-9765-37C4A041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AAE22-44CF-4CDE-96D7-A43197F86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BC86DC-D05A-4113-9486-9366721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102A6-1D0B-4C0F-92CA-1A74929A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BE6E2-59B1-46D6-920A-B0653C3A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60640-6D1D-403F-8930-17E3AE40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A6358-CB1B-4500-B72A-6AC069921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A5A77-1759-4D8A-B08B-FA559D048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C0D5CC-B487-4153-A1EB-93CCC8D8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0CD9B-5384-4EA1-A892-A442DE88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1E070-9F56-4822-BD6A-B892694CB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107F6-91E1-4CAB-B8D3-A3703EF1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DD388-F10A-4631-965A-88C325664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DFCEA-A4C6-4598-B0D3-1CE3B1598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3CABD0-460B-4B18-A403-BBD10DA3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73F1D9-85ED-4BF9-87CB-FA04A347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E7C423-5950-45CB-8D96-923E82B0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C8A0F5-F011-495F-8AE7-35B067D95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76A35-81F1-4762-934D-736453085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3D3BA-D7CD-440C-AB36-4059FD2F1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07475-34F1-4660-B6D7-429E987AB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0DA6D3-B99A-476E-90A9-C8C3A4A3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641C1-5ECE-493C-B4D9-C5E500839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0C014-B217-4276-B975-AC4EF909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3CF536-E981-4B46-8A1B-0A2891B57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F3EAD-0DFE-4060-9BFE-94136E7E3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B2D9E6-407E-4E9D-9151-2BDE1A82F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25493-3D47-40E8-84E9-5FC73C3C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FC57B-9B35-4AC2-8FB7-C58EC00AA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373FF1-529C-4CF8-B48F-CF9A8C9D9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9EF14-87B8-4C43-A15D-9D6A7EDA1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93793D-B04E-471F-8DBA-4A7B56AB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24E20-7F1D-4AA3-B9C1-10D67A4B5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BA6E50-5F1B-45F1-9A08-D7EDDB16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48D66B-DBCE-4ED3-8E8B-C8B7BCBE4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B3C86D-6AD0-414D-9BD8-4F75F925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68874-9EF1-45D4-896E-D2D46EEB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679A3-48D9-4325-9682-F6926AF5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5D190-4C35-4F24-9CB5-2926ED64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047F7D-6137-4527-9FD9-6B82CD5C9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70D8C0-8051-478A-9D1A-1C4472D7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A015A-902F-41E6-A49B-AC181CCA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5E6D0-E31C-48F9-BE19-EB494B2B9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EBA573-98A3-4E5C-8D6C-383DC089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3B289-AF2F-42D1-9CBC-7B72C938C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3C25B-C740-4CEF-8A5D-76E69E940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9D310-BB00-43BF-B88C-B02193B59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7F44-E811-4D82-A3E2-9E4CD209C63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B0281-86DC-4F32-8AF6-5153460D369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8C67-C20D-4300-8BDA-C31A3B50E8A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任意多边形 2"/>
          <p:cNvSpPr/>
          <p:nvPr/>
        </p:nvSpPr>
        <p:spPr>
          <a:xfrm>
            <a:off x="9360" y="765000"/>
            <a:ext cx="9171000" cy="642960"/>
          </a:xfrm>
          <a:custGeom>
            <a:avLst/>
            <a:gdLst/>
            <a:ahLst/>
            <a:rect l="l" t="t" r="r" b="b"/>
            <a:pathLst>
              <a:path w="9171160" h="642796">
                <a:moveTo>
                  <a:pt x="0" y="0"/>
                </a:moveTo>
                <a:cubicBezTo>
                  <a:pt x="193140" y="180315"/>
                  <a:pt x="386281" y="360630"/>
                  <a:pt x="516047" y="371192"/>
                </a:cubicBezTo>
                <a:cubicBezTo>
                  <a:pt x="645813" y="381754"/>
                  <a:pt x="704661" y="66392"/>
                  <a:pt x="778598" y="63374"/>
                </a:cubicBezTo>
                <a:cubicBezTo>
                  <a:pt x="852535" y="60356"/>
                  <a:pt x="882713" y="344032"/>
                  <a:pt x="959667" y="353085"/>
                </a:cubicBezTo>
                <a:cubicBezTo>
                  <a:pt x="1036621" y="362138"/>
                  <a:pt x="828391" y="89026"/>
                  <a:pt x="1240324" y="117695"/>
                </a:cubicBezTo>
                <a:cubicBezTo>
                  <a:pt x="1652257" y="146364"/>
                  <a:pt x="2605889" y="496432"/>
                  <a:pt x="3431263" y="525101"/>
                </a:cubicBezTo>
                <a:cubicBezTo>
                  <a:pt x="4256637" y="553770"/>
                  <a:pt x="5235921" y="270095"/>
                  <a:pt x="6192570" y="289711"/>
                </a:cubicBezTo>
                <a:cubicBezTo>
                  <a:pt x="7149219" y="309327"/>
                  <a:pt x="8160189" y="476061"/>
                  <a:pt x="9171160" y="642796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51B93-BCF8-49F9-8DF8-3D981038D095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13D33-6AD5-4FAA-9964-E7B358D2EB9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DE19-B992-4C1B-B65A-EF0849C696D9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16FFC-4705-43D3-AC0A-3735A165F9E4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619B-8813-45D2-806E-30EFDE71210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51A84-9343-4351-BEA3-63C43D8D07D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7FA2-C71F-43A2-86E8-A6F2EE1061F7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2ed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8E83B-82FB-4362-A3A3-CF04E6F555C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>
              <a:gd name="textAreaLeft" fmla="*/ 0 w 8861760"/>
              <a:gd name="textAreaRight" fmla="*/ 8862120 w 88617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TextBox 7"/>
          <p:cNvSpPr/>
          <p:nvPr/>
        </p:nvSpPr>
        <p:spPr>
          <a:xfrm>
            <a:off x="2066400" y="2505240"/>
            <a:ext cx="436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春绿简洁清新商务</a:t>
            </a: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矩形 12"/>
          <p:cNvSpPr/>
          <p:nvPr/>
        </p:nvSpPr>
        <p:spPr>
          <a:xfrm>
            <a:off x="206280" y="655308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Box 4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Freeform 3"/>
          <p:cNvSpPr/>
          <p:nvPr/>
        </p:nvSpPr>
        <p:spPr>
          <a:xfrm>
            <a:off x="5415120" y="2992320"/>
            <a:ext cx="1628640" cy="70020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0200"/>
              <a:gd name="textAreaBottom" fmla="*/ 700560 h 700200"/>
            </a:gdLst>
            <a:ahLst/>
            <a:rect l="textAreaLeft" t="textAreaTop" r="textAreaRight" b="textAreaBottom"/>
            <a:pathLst>
              <a:path w="2061" h="1556">
                <a:moveTo>
                  <a:pt x="0" y="1544"/>
                </a:moveTo>
                <a:lnTo>
                  <a:pt x="112" y="1555"/>
                </a:lnTo>
                <a:lnTo>
                  <a:pt x="170" y="1555"/>
                </a:lnTo>
                <a:lnTo>
                  <a:pt x="237" y="1555"/>
                </a:lnTo>
                <a:lnTo>
                  <a:pt x="300" y="1551"/>
                </a:lnTo>
                <a:lnTo>
                  <a:pt x="365" y="1544"/>
                </a:lnTo>
                <a:lnTo>
                  <a:pt x="427" y="1533"/>
                </a:lnTo>
                <a:lnTo>
                  <a:pt x="484" y="1519"/>
                </a:lnTo>
                <a:lnTo>
                  <a:pt x="547" y="1501"/>
                </a:lnTo>
                <a:lnTo>
                  <a:pt x="622" y="1472"/>
                </a:lnTo>
                <a:lnTo>
                  <a:pt x="689" y="1439"/>
                </a:lnTo>
                <a:lnTo>
                  <a:pt x="754" y="1410"/>
                </a:lnTo>
                <a:lnTo>
                  <a:pt x="824" y="1371"/>
                </a:lnTo>
                <a:lnTo>
                  <a:pt x="891" y="1324"/>
                </a:lnTo>
                <a:lnTo>
                  <a:pt x="959" y="1280"/>
                </a:lnTo>
                <a:lnTo>
                  <a:pt x="1016" y="1233"/>
                </a:lnTo>
                <a:lnTo>
                  <a:pt x="1081" y="1190"/>
                </a:lnTo>
                <a:lnTo>
                  <a:pt x="1134" y="1143"/>
                </a:lnTo>
                <a:lnTo>
                  <a:pt x="1194" y="1092"/>
                </a:lnTo>
                <a:lnTo>
                  <a:pt x="1253" y="1041"/>
                </a:lnTo>
                <a:lnTo>
                  <a:pt x="1313" y="980"/>
                </a:lnTo>
                <a:lnTo>
                  <a:pt x="1366" y="929"/>
                </a:lnTo>
                <a:lnTo>
                  <a:pt x="1423" y="861"/>
                </a:lnTo>
                <a:lnTo>
                  <a:pt x="1476" y="799"/>
                </a:lnTo>
                <a:lnTo>
                  <a:pt x="1523" y="734"/>
                </a:lnTo>
                <a:lnTo>
                  <a:pt x="1566" y="665"/>
                </a:lnTo>
                <a:lnTo>
                  <a:pt x="1598" y="608"/>
                </a:lnTo>
                <a:lnTo>
                  <a:pt x="1626" y="546"/>
                </a:lnTo>
                <a:lnTo>
                  <a:pt x="2060" y="629"/>
                </a:lnTo>
                <a:lnTo>
                  <a:pt x="1993" y="586"/>
                </a:lnTo>
                <a:lnTo>
                  <a:pt x="1940" y="546"/>
                </a:lnTo>
                <a:lnTo>
                  <a:pt x="1875" y="506"/>
                </a:lnTo>
                <a:lnTo>
                  <a:pt x="1828" y="467"/>
                </a:lnTo>
                <a:lnTo>
                  <a:pt x="1785" y="427"/>
                </a:lnTo>
                <a:lnTo>
                  <a:pt x="1748" y="398"/>
                </a:lnTo>
                <a:lnTo>
                  <a:pt x="1713" y="354"/>
                </a:lnTo>
                <a:lnTo>
                  <a:pt x="1675" y="318"/>
                </a:lnTo>
                <a:lnTo>
                  <a:pt x="1638" y="275"/>
                </a:lnTo>
                <a:lnTo>
                  <a:pt x="1596" y="221"/>
                </a:lnTo>
                <a:lnTo>
                  <a:pt x="1551" y="166"/>
                </a:lnTo>
                <a:lnTo>
                  <a:pt x="1513" y="112"/>
                </a:lnTo>
                <a:lnTo>
                  <a:pt x="1473" y="51"/>
                </a:lnTo>
                <a:lnTo>
                  <a:pt x="1441" y="0"/>
                </a:lnTo>
                <a:lnTo>
                  <a:pt x="1408" y="18"/>
                </a:lnTo>
                <a:lnTo>
                  <a:pt x="1373" y="47"/>
                </a:lnTo>
                <a:lnTo>
                  <a:pt x="1338" y="72"/>
                </a:lnTo>
                <a:lnTo>
                  <a:pt x="1296" y="98"/>
                </a:lnTo>
                <a:lnTo>
                  <a:pt x="1251" y="127"/>
                </a:lnTo>
                <a:lnTo>
                  <a:pt x="1211" y="145"/>
                </a:lnTo>
                <a:lnTo>
                  <a:pt x="1174" y="163"/>
                </a:lnTo>
                <a:lnTo>
                  <a:pt x="1129" y="184"/>
                </a:lnTo>
                <a:lnTo>
                  <a:pt x="1084" y="199"/>
                </a:lnTo>
                <a:lnTo>
                  <a:pt x="1034" y="221"/>
                </a:lnTo>
                <a:lnTo>
                  <a:pt x="991" y="235"/>
                </a:lnTo>
                <a:lnTo>
                  <a:pt x="949" y="253"/>
                </a:lnTo>
                <a:lnTo>
                  <a:pt x="901" y="264"/>
                </a:lnTo>
                <a:lnTo>
                  <a:pt x="859" y="278"/>
                </a:lnTo>
                <a:lnTo>
                  <a:pt x="817" y="293"/>
                </a:lnTo>
                <a:lnTo>
                  <a:pt x="769" y="307"/>
                </a:lnTo>
                <a:lnTo>
                  <a:pt x="704" y="318"/>
                </a:lnTo>
                <a:lnTo>
                  <a:pt x="1154" y="438"/>
                </a:lnTo>
                <a:lnTo>
                  <a:pt x="1124" y="528"/>
                </a:lnTo>
                <a:lnTo>
                  <a:pt x="1089" y="597"/>
                </a:lnTo>
                <a:lnTo>
                  <a:pt x="1024" y="720"/>
                </a:lnTo>
                <a:lnTo>
                  <a:pt x="986" y="781"/>
                </a:lnTo>
                <a:lnTo>
                  <a:pt x="949" y="839"/>
                </a:lnTo>
                <a:lnTo>
                  <a:pt x="881" y="933"/>
                </a:lnTo>
                <a:lnTo>
                  <a:pt x="839" y="991"/>
                </a:lnTo>
                <a:lnTo>
                  <a:pt x="792" y="1060"/>
                </a:lnTo>
                <a:lnTo>
                  <a:pt x="747" y="1110"/>
                </a:lnTo>
                <a:lnTo>
                  <a:pt x="709" y="1154"/>
                </a:lnTo>
                <a:lnTo>
                  <a:pt x="672" y="1201"/>
                </a:lnTo>
                <a:lnTo>
                  <a:pt x="627" y="1244"/>
                </a:lnTo>
                <a:lnTo>
                  <a:pt x="577" y="1291"/>
                </a:lnTo>
                <a:lnTo>
                  <a:pt x="529" y="1324"/>
                </a:lnTo>
                <a:lnTo>
                  <a:pt x="479" y="1363"/>
                </a:lnTo>
                <a:lnTo>
                  <a:pt x="419" y="1400"/>
                </a:lnTo>
                <a:lnTo>
                  <a:pt x="365" y="1425"/>
                </a:lnTo>
                <a:lnTo>
                  <a:pt x="300" y="1450"/>
                </a:lnTo>
                <a:lnTo>
                  <a:pt x="240" y="1472"/>
                </a:lnTo>
                <a:lnTo>
                  <a:pt x="177" y="1494"/>
                </a:lnTo>
                <a:lnTo>
                  <a:pt x="107" y="1515"/>
                </a:lnTo>
                <a:lnTo>
                  <a:pt x="0" y="1544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Freeform 4"/>
          <p:cNvSpPr/>
          <p:nvPr/>
        </p:nvSpPr>
        <p:spPr>
          <a:xfrm>
            <a:off x="5319720" y="4299120"/>
            <a:ext cx="1630440" cy="674640"/>
          </a:xfrm>
          <a:custGeom>
            <a:avLst/>
            <a:gdLst>
              <a:gd name="textAreaLeft" fmla="*/ 0 w 1630440"/>
              <a:gd name="textAreaRight" fmla="*/ 1630800 w 163044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063" h="1497">
                <a:moveTo>
                  <a:pt x="0" y="11"/>
                </a:moveTo>
                <a:lnTo>
                  <a:pt x="115" y="0"/>
                </a:lnTo>
                <a:lnTo>
                  <a:pt x="170" y="0"/>
                </a:lnTo>
                <a:lnTo>
                  <a:pt x="237" y="0"/>
                </a:lnTo>
                <a:lnTo>
                  <a:pt x="302" y="7"/>
                </a:lnTo>
                <a:lnTo>
                  <a:pt x="364" y="11"/>
                </a:lnTo>
                <a:lnTo>
                  <a:pt x="429" y="22"/>
                </a:lnTo>
                <a:lnTo>
                  <a:pt x="484" y="40"/>
                </a:lnTo>
                <a:lnTo>
                  <a:pt x="549" y="54"/>
                </a:lnTo>
                <a:lnTo>
                  <a:pt x="624" y="83"/>
                </a:lnTo>
                <a:lnTo>
                  <a:pt x="691" y="116"/>
                </a:lnTo>
                <a:lnTo>
                  <a:pt x="754" y="141"/>
                </a:lnTo>
                <a:lnTo>
                  <a:pt x="826" y="181"/>
                </a:lnTo>
                <a:lnTo>
                  <a:pt x="894" y="224"/>
                </a:lnTo>
                <a:lnTo>
                  <a:pt x="961" y="267"/>
                </a:lnTo>
                <a:lnTo>
                  <a:pt x="1016" y="311"/>
                </a:lnTo>
                <a:lnTo>
                  <a:pt x="1081" y="354"/>
                </a:lnTo>
                <a:lnTo>
                  <a:pt x="1136" y="397"/>
                </a:lnTo>
                <a:lnTo>
                  <a:pt x="1196" y="444"/>
                </a:lnTo>
                <a:lnTo>
                  <a:pt x="1256" y="495"/>
                </a:lnTo>
                <a:lnTo>
                  <a:pt x="1316" y="553"/>
                </a:lnTo>
                <a:lnTo>
                  <a:pt x="1368" y="603"/>
                </a:lnTo>
                <a:lnTo>
                  <a:pt x="1423" y="669"/>
                </a:lnTo>
                <a:lnTo>
                  <a:pt x="1475" y="726"/>
                </a:lnTo>
                <a:lnTo>
                  <a:pt x="1525" y="788"/>
                </a:lnTo>
                <a:lnTo>
                  <a:pt x="1565" y="853"/>
                </a:lnTo>
                <a:lnTo>
                  <a:pt x="1600" y="911"/>
                </a:lnTo>
                <a:lnTo>
                  <a:pt x="1625" y="968"/>
                </a:lnTo>
                <a:lnTo>
                  <a:pt x="2062" y="889"/>
                </a:lnTo>
                <a:lnTo>
                  <a:pt x="2000" y="932"/>
                </a:lnTo>
                <a:lnTo>
                  <a:pt x="1930" y="976"/>
                </a:lnTo>
                <a:lnTo>
                  <a:pt x="1872" y="1012"/>
                </a:lnTo>
                <a:lnTo>
                  <a:pt x="1830" y="1041"/>
                </a:lnTo>
                <a:lnTo>
                  <a:pt x="1782" y="1077"/>
                </a:lnTo>
                <a:lnTo>
                  <a:pt x="1745" y="1109"/>
                </a:lnTo>
                <a:lnTo>
                  <a:pt x="1710" y="1145"/>
                </a:lnTo>
                <a:lnTo>
                  <a:pt x="1673" y="1189"/>
                </a:lnTo>
                <a:lnTo>
                  <a:pt x="1638" y="1229"/>
                </a:lnTo>
                <a:lnTo>
                  <a:pt x="1595" y="1283"/>
                </a:lnTo>
                <a:lnTo>
                  <a:pt x="1555" y="1337"/>
                </a:lnTo>
                <a:lnTo>
                  <a:pt x="1518" y="1384"/>
                </a:lnTo>
                <a:lnTo>
                  <a:pt x="1475" y="1445"/>
                </a:lnTo>
                <a:lnTo>
                  <a:pt x="1443" y="1496"/>
                </a:lnTo>
                <a:lnTo>
                  <a:pt x="1408" y="1474"/>
                </a:lnTo>
                <a:lnTo>
                  <a:pt x="1375" y="1445"/>
                </a:lnTo>
                <a:lnTo>
                  <a:pt x="1338" y="1424"/>
                </a:lnTo>
                <a:lnTo>
                  <a:pt x="1296" y="1398"/>
                </a:lnTo>
                <a:lnTo>
                  <a:pt x="1253" y="1373"/>
                </a:lnTo>
                <a:lnTo>
                  <a:pt x="1213" y="1351"/>
                </a:lnTo>
                <a:lnTo>
                  <a:pt x="1173" y="1337"/>
                </a:lnTo>
                <a:lnTo>
                  <a:pt x="1131" y="1315"/>
                </a:lnTo>
                <a:lnTo>
                  <a:pt x="1083" y="1301"/>
                </a:lnTo>
                <a:lnTo>
                  <a:pt x="1036" y="1283"/>
                </a:lnTo>
                <a:lnTo>
                  <a:pt x="991" y="1265"/>
                </a:lnTo>
                <a:lnTo>
                  <a:pt x="949" y="1250"/>
                </a:lnTo>
                <a:lnTo>
                  <a:pt x="904" y="1239"/>
                </a:lnTo>
                <a:lnTo>
                  <a:pt x="859" y="1225"/>
                </a:lnTo>
                <a:lnTo>
                  <a:pt x="819" y="1211"/>
                </a:lnTo>
                <a:lnTo>
                  <a:pt x="769" y="1196"/>
                </a:lnTo>
                <a:lnTo>
                  <a:pt x="704" y="1185"/>
                </a:lnTo>
                <a:lnTo>
                  <a:pt x="1153" y="1073"/>
                </a:lnTo>
                <a:lnTo>
                  <a:pt x="1123" y="986"/>
                </a:lnTo>
                <a:lnTo>
                  <a:pt x="1088" y="921"/>
                </a:lnTo>
                <a:lnTo>
                  <a:pt x="1024" y="799"/>
                </a:lnTo>
                <a:lnTo>
                  <a:pt x="986" y="744"/>
                </a:lnTo>
                <a:lnTo>
                  <a:pt x="949" y="690"/>
                </a:lnTo>
                <a:lnTo>
                  <a:pt x="881" y="596"/>
                </a:lnTo>
                <a:lnTo>
                  <a:pt x="841" y="542"/>
                </a:lnTo>
                <a:lnTo>
                  <a:pt x="791" y="477"/>
                </a:lnTo>
                <a:lnTo>
                  <a:pt x="746" y="430"/>
                </a:lnTo>
                <a:lnTo>
                  <a:pt x="709" y="387"/>
                </a:lnTo>
                <a:lnTo>
                  <a:pt x="672" y="343"/>
                </a:lnTo>
                <a:lnTo>
                  <a:pt x="627" y="300"/>
                </a:lnTo>
                <a:lnTo>
                  <a:pt x="579" y="257"/>
                </a:lnTo>
                <a:lnTo>
                  <a:pt x="529" y="224"/>
                </a:lnTo>
                <a:lnTo>
                  <a:pt x="482" y="184"/>
                </a:lnTo>
                <a:lnTo>
                  <a:pt x="422" y="152"/>
                </a:lnTo>
                <a:lnTo>
                  <a:pt x="364" y="126"/>
                </a:lnTo>
                <a:lnTo>
                  <a:pt x="302" y="105"/>
                </a:lnTo>
                <a:lnTo>
                  <a:pt x="242" y="83"/>
                </a:lnTo>
                <a:lnTo>
                  <a:pt x="177" y="61"/>
                </a:lnTo>
                <a:lnTo>
                  <a:pt x="110" y="43"/>
                </a:lnTo>
                <a:lnTo>
                  <a:pt x="0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Freeform 5"/>
          <p:cNvSpPr/>
          <p:nvPr/>
        </p:nvSpPr>
        <p:spPr>
          <a:xfrm>
            <a:off x="2517840" y="4246560"/>
            <a:ext cx="1628640" cy="70164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2063" h="1556">
                <a:moveTo>
                  <a:pt x="2062" y="11"/>
                </a:moveTo>
                <a:lnTo>
                  <a:pt x="1947" y="0"/>
                </a:lnTo>
                <a:lnTo>
                  <a:pt x="1892" y="0"/>
                </a:lnTo>
                <a:lnTo>
                  <a:pt x="1825" y="0"/>
                </a:lnTo>
                <a:lnTo>
                  <a:pt x="1760" y="7"/>
                </a:lnTo>
                <a:lnTo>
                  <a:pt x="1698" y="11"/>
                </a:lnTo>
                <a:lnTo>
                  <a:pt x="1633" y="22"/>
                </a:lnTo>
                <a:lnTo>
                  <a:pt x="1578" y="40"/>
                </a:lnTo>
                <a:lnTo>
                  <a:pt x="1513" y="58"/>
                </a:lnTo>
                <a:lnTo>
                  <a:pt x="1438" y="83"/>
                </a:lnTo>
                <a:lnTo>
                  <a:pt x="1371" y="119"/>
                </a:lnTo>
                <a:lnTo>
                  <a:pt x="1308" y="148"/>
                </a:lnTo>
                <a:lnTo>
                  <a:pt x="1236" y="188"/>
                </a:lnTo>
                <a:lnTo>
                  <a:pt x="1168" y="231"/>
                </a:lnTo>
                <a:lnTo>
                  <a:pt x="1101" y="278"/>
                </a:lnTo>
                <a:lnTo>
                  <a:pt x="1046" y="322"/>
                </a:lnTo>
                <a:lnTo>
                  <a:pt x="981" y="369"/>
                </a:lnTo>
                <a:lnTo>
                  <a:pt x="926" y="412"/>
                </a:lnTo>
                <a:lnTo>
                  <a:pt x="866" y="463"/>
                </a:lnTo>
                <a:lnTo>
                  <a:pt x="806" y="514"/>
                </a:lnTo>
                <a:lnTo>
                  <a:pt x="746" y="579"/>
                </a:lnTo>
                <a:lnTo>
                  <a:pt x="694" y="629"/>
                </a:lnTo>
                <a:lnTo>
                  <a:pt x="639" y="698"/>
                </a:lnTo>
                <a:lnTo>
                  <a:pt x="587" y="759"/>
                </a:lnTo>
                <a:lnTo>
                  <a:pt x="537" y="825"/>
                </a:lnTo>
                <a:lnTo>
                  <a:pt x="497" y="893"/>
                </a:lnTo>
                <a:lnTo>
                  <a:pt x="462" y="947"/>
                </a:lnTo>
                <a:lnTo>
                  <a:pt x="437" y="1013"/>
                </a:lnTo>
                <a:lnTo>
                  <a:pt x="0" y="929"/>
                </a:lnTo>
                <a:lnTo>
                  <a:pt x="70" y="973"/>
                </a:lnTo>
                <a:lnTo>
                  <a:pt x="122" y="1013"/>
                </a:lnTo>
                <a:lnTo>
                  <a:pt x="185" y="1052"/>
                </a:lnTo>
                <a:lnTo>
                  <a:pt x="232" y="1092"/>
                </a:lnTo>
                <a:lnTo>
                  <a:pt x="275" y="1128"/>
                </a:lnTo>
                <a:lnTo>
                  <a:pt x="312" y="1157"/>
                </a:lnTo>
                <a:lnTo>
                  <a:pt x="349" y="1201"/>
                </a:lnTo>
                <a:lnTo>
                  <a:pt x="384" y="1240"/>
                </a:lnTo>
                <a:lnTo>
                  <a:pt x="424" y="1284"/>
                </a:lnTo>
                <a:lnTo>
                  <a:pt x="467" y="1338"/>
                </a:lnTo>
                <a:lnTo>
                  <a:pt x="512" y="1392"/>
                </a:lnTo>
                <a:lnTo>
                  <a:pt x="549" y="1447"/>
                </a:lnTo>
                <a:lnTo>
                  <a:pt x="589" y="1504"/>
                </a:lnTo>
                <a:lnTo>
                  <a:pt x="619" y="1555"/>
                </a:lnTo>
                <a:lnTo>
                  <a:pt x="654" y="1537"/>
                </a:lnTo>
                <a:lnTo>
                  <a:pt x="687" y="1508"/>
                </a:lnTo>
                <a:lnTo>
                  <a:pt x="724" y="1486"/>
                </a:lnTo>
                <a:lnTo>
                  <a:pt x="766" y="1457"/>
                </a:lnTo>
                <a:lnTo>
                  <a:pt x="809" y="1432"/>
                </a:lnTo>
                <a:lnTo>
                  <a:pt x="849" y="1410"/>
                </a:lnTo>
                <a:lnTo>
                  <a:pt x="889" y="1396"/>
                </a:lnTo>
                <a:lnTo>
                  <a:pt x="931" y="1374"/>
                </a:lnTo>
                <a:lnTo>
                  <a:pt x="979" y="1356"/>
                </a:lnTo>
                <a:lnTo>
                  <a:pt x="1026" y="1338"/>
                </a:lnTo>
                <a:lnTo>
                  <a:pt x="1071" y="1320"/>
                </a:lnTo>
                <a:lnTo>
                  <a:pt x="1113" y="1305"/>
                </a:lnTo>
                <a:lnTo>
                  <a:pt x="1158" y="1291"/>
                </a:lnTo>
                <a:lnTo>
                  <a:pt x="1203" y="1277"/>
                </a:lnTo>
                <a:lnTo>
                  <a:pt x="1243" y="1266"/>
                </a:lnTo>
                <a:lnTo>
                  <a:pt x="1293" y="1248"/>
                </a:lnTo>
                <a:lnTo>
                  <a:pt x="1356" y="1237"/>
                </a:lnTo>
                <a:lnTo>
                  <a:pt x="909" y="1117"/>
                </a:lnTo>
                <a:lnTo>
                  <a:pt x="939" y="1027"/>
                </a:lnTo>
                <a:lnTo>
                  <a:pt x="974" y="962"/>
                </a:lnTo>
                <a:lnTo>
                  <a:pt x="1038" y="835"/>
                </a:lnTo>
                <a:lnTo>
                  <a:pt x="1076" y="774"/>
                </a:lnTo>
                <a:lnTo>
                  <a:pt x="1113" y="720"/>
                </a:lnTo>
                <a:lnTo>
                  <a:pt x="1181" y="622"/>
                </a:lnTo>
                <a:lnTo>
                  <a:pt x="1221" y="568"/>
                </a:lnTo>
                <a:lnTo>
                  <a:pt x="1271" y="499"/>
                </a:lnTo>
                <a:lnTo>
                  <a:pt x="1316" y="448"/>
                </a:lnTo>
                <a:lnTo>
                  <a:pt x="1353" y="401"/>
                </a:lnTo>
                <a:lnTo>
                  <a:pt x="1390" y="358"/>
                </a:lnTo>
                <a:lnTo>
                  <a:pt x="1435" y="311"/>
                </a:lnTo>
                <a:lnTo>
                  <a:pt x="1483" y="268"/>
                </a:lnTo>
                <a:lnTo>
                  <a:pt x="1533" y="231"/>
                </a:lnTo>
                <a:lnTo>
                  <a:pt x="1580" y="192"/>
                </a:lnTo>
                <a:lnTo>
                  <a:pt x="1640" y="159"/>
                </a:lnTo>
                <a:lnTo>
                  <a:pt x="1698" y="130"/>
                </a:lnTo>
                <a:lnTo>
                  <a:pt x="1760" y="108"/>
                </a:lnTo>
                <a:lnTo>
                  <a:pt x="1820" y="83"/>
                </a:lnTo>
                <a:lnTo>
                  <a:pt x="1885" y="61"/>
                </a:lnTo>
                <a:lnTo>
                  <a:pt x="1952" y="43"/>
                </a:lnTo>
                <a:lnTo>
                  <a:pt x="2062" y="11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Freeform 6"/>
          <p:cNvSpPr/>
          <p:nvPr/>
        </p:nvSpPr>
        <p:spPr>
          <a:xfrm>
            <a:off x="2521080" y="2981160"/>
            <a:ext cx="1630080" cy="675000"/>
          </a:xfrm>
          <a:custGeom>
            <a:avLst/>
            <a:gdLst>
              <a:gd name="textAreaLeft" fmla="*/ 0 w 1630080"/>
              <a:gd name="textAreaRight" fmla="*/ 1630440 w 163008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061" h="1497">
                <a:moveTo>
                  <a:pt x="2060" y="1482"/>
                </a:moveTo>
                <a:lnTo>
                  <a:pt x="1945" y="1496"/>
                </a:lnTo>
                <a:lnTo>
                  <a:pt x="1890" y="1496"/>
                </a:lnTo>
                <a:lnTo>
                  <a:pt x="1823" y="1496"/>
                </a:lnTo>
                <a:lnTo>
                  <a:pt x="1760" y="1489"/>
                </a:lnTo>
                <a:lnTo>
                  <a:pt x="1695" y="1482"/>
                </a:lnTo>
                <a:lnTo>
                  <a:pt x="1633" y="1471"/>
                </a:lnTo>
                <a:lnTo>
                  <a:pt x="1576" y="1456"/>
                </a:lnTo>
                <a:lnTo>
                  <a:pt x="1513" y="1442"/>
                </a:lnTo>
                <a:lnTo>
                  <a:pt x="1438" y="1413"/>
                </a:lnTo>
                <a:lnTo>
                  <a:pt x="1371" y="1380"/>
                </a:lnTo>
                <a:lnTo>
                  <a:pt x="1306" y="1355"/>
                </a:lnTo>
                <a:lnTo>
                  <a:pt x="1236" y="1315"/>
                </a:lnTo>
                <a:lnTo>
                  <a:pt x="1169" y="1272"/>
                </a:lnTo>
                <a:lnTo>
                  <a:pt x="1101" y="1229"/>
                </a:lnTo>
                <a:lnTo>
                  <a:pt x="1044" y="1185"/>
                </a:lnTo>
                <a:lnTo>
                  <a:pt x="981" y="1142"/>
                </a:lnTo>
                <a:lnTo>
                  <a:pt x="926" y="1099"/>
                </a:lnTo>
                <a:lnTo>
                  <a:pt x="866" y="1052"/>
                </a:lnTo>
                <a:lnTo>
                  <a:pt x="807" y="1001"/>
                </a:lnTo>
                <a:lnTo>
                  <a:pt x="747" y="943"/>
                </a:lnTo>
                <a:lnTo>
                  <a:pt x="694" y="893"/>
                </a:lnTo>
                <a:lnTo>
                  <a:pt x="637" y="827"/>
                </a:lnTo>
                <a:lnTo>
                  <a:pt x="584" y="770"/>
                </a:lnTo>
                <a:lnTo>
                  <a:pt x="537" y="708"/>
                </a:lnTo>
                <a:lnTo>
                  <a:pt x="494" y="643"/>
                </a:lnTo>
                <a:lnTo>
                  <a:pt x="462" y="585"/>
                </a:lnTo>
                <a:lnTo>
                  <a:pt x="434" y="528"/>
                </a:lnTo>
                <a:lnTo>
                  <a:pt x="0" y="611"/>
                </a:lnTo>
                <a:lnTo>
                  <a:pt x="60" y="564"/>
                </a:lnTo>
                <a:lnTo>
                  <a:pt x="132" y="520"/>
                </a:lnTo>
                <a:lnTo>
                  <a:pt x="187" y="484"/>
                </a:lnTo>
                <a:lnTo>
                  <a:pt x="232" y="455"/>
                </a:lnTo>
                <a:lnTo>
                  <a:pt x="277" y="419"/>
                </a:lnTo>
                <a:lnTo>
                  <a:pt x="315" y="387"/>
                </a:lnTo>
                <a:lnTo>
                  <a:pt x="352" y="351"/>
                </a:lnTo>
                <a:lnTo>
                  <a:pt x="385" y="307"/>
                </a:lnTo>
                <a:lnTo>
                  <a:pt x="422" y="267"/>
                </a:lnTo>
                <a:lnTo>
                  <a:pt x="464" y="213"/>
                </a:lnTo>
                <a:lnTo>
                  <a:pt x="507" y="159"/>
                </a:lnTo>
                <a:lnTo>
                  <a:pt x="544" y="112"/>
                </a:lnTo>
                <a:lnTo>
                  <a:pt x="587" y="54"/>
                </a:lnTo>
                <a:lnTo>
                  <a:pt x="619" y="0"/>
                </a:lnTo>
                <a:lnTo>
                  <a:pt x="652" y="22"/>
                </a:lnTo>
                <a:lnTo>
                  <a:pt x="687" y="51"/>
                </a:lnTo>
                <a:lnTo>
                  <a:pt x="722" y="72"/>
                </a:lnTo>
                <a:lnTo>
                  <a:pt x="764" y="98"/>
                </a:lnTo>
                <a:lnTo>
                  <a:pt x="809" y="123"/>
                </a:lnTo>
                <a:lnTo>
                  <a:pt x="849" y="145"/>
                </a:lnTo>
                <a:lnTo>
                  <a:pt x="886" y="159"/>
                </a:lnTo>
                <a:lnTo>
                  <a:pt x="931" y="181"/>
                </a:lnTo>
                <a:lnTo>
                  <a:pt x="979" y="195"/>
                </a:lnTo>
                <a:lnTo>
                  <a:pt x="1026" y="213"/>
                </a:lnTo>
                <a:lnTo>
                  <a:pt x="1069" y="231"/>
                </a:lnTo>
                <a:lnTo>
                  <a:pt x="1111" y="246"/>
                </a:lnTo>
                <a:lnTo>
                  <a:pt x="1159" y="257"/>
                </a:lnTo>
                <a:lnTo>
                  <a:pt x="1201" y="271"/>
                </a:lnTo>
                <a:lnTo>
                  <a:pt x="1243" y="285"/>
                </a:lnTo>
                <a:lnTo>
                  <a:pt x="1291" y="300"/>
                </a:lnTo>
                <a:lnTo>
                  <a:pt x="1358" y="311"/>
                </a:lnTo>
                <a:lnTo>
                  <a:pt x="906" y="423"/>
                </a:lnTo>
                <a:lnTo>
                  <a:pt x="936" y="510"/>
                </a:lnTo>
                <a:lnTo>
                  <a:pt x="974" y="575"/>
                </a:lnTo>
                <a:lnTo>
                  <a:pt x="1036" y="697"/>
                </a:lnTo>
                <a:lnTo>
                  <a:pt x="1074" y="752"/>
                </a:lnTo>
                <a:lnTo>
                  <a:pt x="1111" y="806"/>
                </a:lnTo>
                <a:lnTo>
                  <a:pt x="1179" y="900"/>
                </a:lnTo>
                <a:lnTo>
                  <a:pt x="1221" y="954"/>
                </a:lnTo>
                <a:lnTo>
                  <a:pt x="1268" y="1019"/>
                </a:lnTo>
                <a:lnTo>
                  <a:pt x="1313" y="1066"/>
                </a:lnTo>
                <a:lnTo>
                  <a:pt x="1351" y="1109"/>
                </a:lnTo>
                <a:lnTo>
                  <a:pt x="1388" y="1153"/>
                </a:lnTo>
                <a:lnTo>
                  <a:pt x="1433" y="1196"/>
                </a:lnTo>
                <a:lnTo>
                  <a:pt x="1483" y="1239"/>
                </a:lnTo>
                <a:lnTo>
                  <a:pt x="1531" y="1272"/>
                </a:lnTo>
                <a:lnTo>
                  <a:pt x="1581" y="1312"/>
                </a:lnTo>
                <a:lnTo>
                  <a:pt x="1641" y="1344"/>
                </a:lnTo>
                <a:lnTo>
                  <a:pt x="1695" y="1370"/>
                </a:lnTo>
                <a:lnTo>
                  <a:pt x="1760" y="1391"/>
                </a:lnTo>
                <a:lnTo>
                  <a:pt x="1820" y="1413"/>
                </a:lnTo>
                <a:lnTo>
                  <a:pt x="1883" y="1435"/>
                </a:lnTo>
                <a:lnTo>
                  <a:pt x="1950" y="1453"/>
                </a:lnTo>
                <a:lnTo>
                  <a:pt x="2060" y="1482"/>
                </a:lnTo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AutoShape 7"/>
          <p:cNvSpPr/>
          <p:nvPr/>
        </p:nvSpPr>
        <p:spPr>
          <a:xfrm>
            <a:off x="3139920" y="3021120"/>
            <a:ext cx="3189600" cy="1812960"/>
          </a:xfrm>
          <a:prstGeom prst="octagon">
            <a:avLst>
              <a:gd name="adj" fmla="val 2928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AutoShape 8"/>
          <p:cNvSpPr/>
          <p:nvPr/>
        </p:nvSpPr>
        <p:spPr>
          <a:xfrm>
            <a:off x="159876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AutoShape 9"/>
          <p:cNvSpPr/>
          <p:nvPr/>
        </p:nvSpPr>
        <p:spPr>
          <a:xfrm>
            <a:off x="4943520" y="1989000"/>
            <a:ext cx="2847960" cy="865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AutoShape 10"/>
          <p:cNvSpPr/>
          <p:nvPr/>
        </p:nvSpPr>
        <p:spPr>
          <a:xfrm>
            <a:off x="159876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11"/>
          <p:cNvSpPr/>
          <p:nvPr/>
        </p:nvSpPr>
        <p:spPr>
          <a:xfrm>
            <a:off x="4943520" y="5083200"/>
            <a:ext cx="2847960" cy="865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1240" rIns="111240" tIns="55440" bIns="55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Box 15"/>
          <p:cNvSpPr/>
          <p:nvPr/>
        </p:nvSpPr>
        <p:spPr>
          <a:xfrm>
            <a:off x="262656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TextBox 16"/>
          <p:cNvSpPr/>
          <p:nvPr/>
        </p:nvSpPr>
        <p:spPr>
          <a:xfrm>
            <a:off x="5971680" y="2220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TextBox 17"/>
          <p:cNvSpPr/>
          <p:nvPr/>
        </p:nvSpPr>
        <p:spPr>
          <a:xfrm>
            <a:off x="59493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TextBox 18"/>
          <p:cNvSpPr/>
          <p:nvPr/>
        </p:nvSpPr>
        <p:spPr>
          <a:xfrm>
            <a:off x="2626560" y="53150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TextBox 19"/>
          <p:cNvSpPr/>
          <p:nvPr/>
        </p:nvSpPr>
        <p:spPr>
          <a:xfrm>
            <a:off x="4338720" y="374184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添加文本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AutoShape 3"/>
          <p:cNvSpPr/>
          <p:nvPr/>
        </p:nvSpPr>
        <p:spPr>
          <a:xfrm>
            <a:off x="1401840" y="2060640"/>
            <a:ext cx="3763800" cy="3984480"/>
          </a:xfrm>
          <a:prstGeom prst="rtTriangl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2684520" y="2119320"/>
            <a:ext cx="2954160" cy="56844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1901880" y="2225520"/>
            <a:ext cx="716040" cy="37656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3422520" y="2890800"/>
            <a:ext cx="295452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4124160" y="3608280"/>
            <a:ext cx="2955960" cy="5698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4815000" y="4349880"/>
            <a:ext cx="2954160" cy="56988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9"/>
          <p:cNvSpPr/>
          <p:nvPr/>
        </p:nvSpPr>
        <p:spPr>
          <a:xfrm>
            <a:off x="5505480" y="5089680"/>
            <a:ext cx="2954160" cy="568080"/>
          </a:xfrm>
          <a:prstGeom prst="roundRect">
            <a:avLst>
              <a:gd name="adj" fmla="val 16667"/>
            </a:avLst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AutoShape 10"/>
          <p:cNvSpPr/>
          <p:nvPr/>
        </p:nvSpPr>
        <p:spPr>
          <a:xfrm>
            <a:off x="2612880" y="2987640"/>
            <a:ext cx="723960" cy="380880"/>
          </a:xfrm>
          <a:prstGeom prst="rightArrow">
            <a:avLst>
              <a:gd name="adj1" fmla="val 50000"/>
              <a:gd name="adj2" fmla="val 6452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AutoShape 11"/>
          <p:cNvSpPr/>
          <p:nvPr/>
        </p:nvSpPr>
        <p:spPr>
          <a:xfrm>
            <a:off x="3314880" y="3703680"/>
            <a:ext cx="723600" cy="382680"/>
          </a:xfrm>
          <a:prstGeom prst="rightArrow">
            <a:avLst>
              <a:gd name="adj1" fmla="val 50000"/>
              <a:gd name="adj2" fmla="val 64150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AutoShape 12"/>
          <p:cNvSpPr/>
          <p:nvPr/>
        </p:nvSpPr>
        <p:spPr>
          <a:xfrm>
            <a:off x="4002120" y="4444920"/>
            <a:ext cx="725400" cy="379440"/>
          </a:xfrm>
          <a:prstGeom prst="rightArrow">
            <a:avLst>
              <a:gd name="adj1" fmla="val 50000"/>
              <a:gd name="adj2" fmla="val 64398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AutoShape 13"/>
          <p:cNvSpPr/>
          <p:nvPr/>
        </p:nvSpPr>
        <p:spPr>
          <a:xfrm>
            <a:off x="4702320" y="5184720"/>
            <a:ext cx="712800" cy="376200"/>
          </a:xfrm>
          <a:prstGeom prst="rightArrow">
            <a:avLst>
              <a:gd name="adj1" fmla="val 50000"/>
              <a:gd name="adj2" fmla="val 64184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TextBox 7"/>
          <p:cNvSpPr/>
          <p:nvPr/>
        </p:nvSpPr>
        <p:spPr>
          <a:xfrm>
            <a:off x="3522600" y="2219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Box 16"/>
          <p:cNvSpPr/>
          <p:nvPr/>
        </p:nvSpPr>
        <p:spPr>
          <a:xfrm>
            <a:off x="4963320" y="37180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Box 17"/>
          <p:cNvSpPr/>
          <p:nvPr/>
        </p:nvSpPr>
        <p:spPr>
          <a:xfrm>
            <a:off x="6440400" y="51912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18"/>
          <p:cNvSpPr/>
          <p:nvPr/>
        </p:nvSpPr>
        <p:spPr>
          <a:xfrm>
            <a:off x="4378320" y="29718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5653080" y="44467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20"/>
          <p:cNvSpPr/>
          <p:nvPr/>
        </p:nvSpPr>
        <p:spPr>
          <a:xfrm>
            <a:off x="1973880" y="464040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21"/>
          <p:cNvSpPr/>
          <p:nvPr/>
        </p:nvSpPr>
        <p:spPr>
          <a:xfrm>
            <a:off x="835920" y="26676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ebf27"/>
                </a:solidFill>
                <a:latin typeface="微软雅黑"/>
                <a:ea typeface="微软雅黑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4"/>
          <p:cNvSpPr/>
          <p:nvPr/>
        </p:nvSpPr>
        <p:spPr>
          <a:xfrm>
            <a:off x="0" y="1989000"/>
            <a:ext cx="9144000" cy="1800360"/>
          </a:xfrm>
          <a:prstGeom prst="rect">
            <a:avLst/>
          </a:prstGeom>
          <a:solidFill>
            <a:srgbClr val="9ebf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任意多边形 5"/>
          <p:cNvSpPr/>
          <p:nvPr/>
        </p:nvSpPr>
        <p:spPr>
          <a:xfrm>
            <a:off x="-15840" y="4076640"/>
            <a:ext cx="9150480" cy="206208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2062080"/>
              <a:gd name="textAreaBottom" fmla="*/ 2062440 h 2062080"/>
            </a:gdLst>
            <a:ahLst/>
            <a:rect l="textAreaLeft" t="textAreaTop" r="textAreaRight" b="textAreaBottom"/>
            <a:pathLst>
              <a:path w="9153330" h="2062065">
                <a:moveTo>
                  <a:pt x="0" y="0"/>
                </a:moveTo>
                <a:cubicBezTo>
                  <a:pt x="685022" y="307910"/>
                  <a:pt x="1370045" y="615820"/>
                  <a:pt x="2136710" y="727787"/>
                </a:cubicBezTo>
                <a:cubicBezTo>
                  <a:pt x="2903375" y="839754"/>
                  <a:pt x="3833327" y="524069"/>
                  <a:pt x="4599992" y="671804"/>
                </a:cubicBezTo>
                <a:cubicBezTo>
                  <a:pt x="5366657" y="819539"/>
                  <a:pt x="5977812" y="1382486"/>
                  <a:pt x="6736702" y="1614196"/>
                </a:cubicBezTo>
                <a:cubicBezTo>
                  <a:pt x="7495592" y="1845906"/>
                  <a:pt x="8324461" y="1953985"/>
                  <a:pt x="9153330" y="2062065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任意多边形 6"/>
          <p:cNvSpPr/>
          <p:nvPr/>
        </p:nvSpPr>
        <p:spPr>
          <a:xfrm>
            <a:off x="-25560" y="4505400"/>
            <a:ext cx="8861760" cy="2343240"/>
          </a:xfrm>
          <a:custGeom>
            <a:avLst/>
            <a:gdLst>
              <a:gd name="textAreaLeft" fmla="*/ 0 w 8861760"/>
              <a:gd name="textAreaRight" fmla="*/ 8862120 w 8861760"/>
              <a:gd name="textAreaTop" fmla="*/ 0 h 2343240"/>
              <a:gd name="textAreaBottom" fmla="*/ 2343600 h 2343240"/>
            </a:gdLst>
            <a:ahLst/>
            <a:rect l="textAreaLeft" t="textAreaTop" r="textAreaRight" b="textAreaBottom"/>
            <a:pathLst>
              <a:path w="8864082" h="2343480">
                <a:moveTo>
                  <a:pt x="0" y="1497"/>
                </a:moveTo>
                <a:cubicBezTo>
                  <a:pt x="438539" y="484356"/>
                  <a:pt x="877078" y="967215"/>
                  <a:pt x="1688841" y="971880"/>
                </a:cubicBezTo>
                <a:cubicBezTo>
                  <a:pt x="2500604" y="976545"/>
                  <a:pt x="3674707" y="-199111"/>
                  <a:pt x="4870580" y="29489"/>
                </a:cubicBezTo>
                <a:cubicBezTo>
                  <a:pt x="6066453" y="258089"/>
                  <a:pt x="7465267" y="1300784"/>
                  <a:pt x="8864082" y="2343480"/>
                </a:cubicBezTo>
              </a:path>
            </a:pathLst>
          </a:custGeom>
          <a:noFill/>
          <a:ln w="12600">
            <a:solidFill>
              <a:srgbClr val="9ebf2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7"/>
          <p:cNvSpPr/>
          <p:nvPr/>
        </p:nvSpPr>
        <p:spPr>
          <a:xfrm>
            <a:off x="3764160" y="24271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欣赏！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Box 1"/>
          <p:cNvSpPr/>
          <p:nvPr/>
        </p:nvSpPr>
        <p:spPr>
          <a:xfrm>
            <a:off x="2794320" y="18046800"/>
            <a:ext cx="30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51pp tmoban.com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搜集整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09:16:50Z</dcterms:created>
  <dc:creator>www.pptbz.com</dc:creator>
  <dc:description/>
  <dc:language>en-US</dc:language>
  <cp:lastModifiedBy>a</cp:lastModifiedBy>
  <dcterms:modified xsi:type="dcterms:W3CDTF">2015-07-25T12:24:26Z</dcterms:modified>
  <cp:revision>12</cp:revision>
  <dc:subject>商务PPT模板</dc:subject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16</vt:lpwstr>
  </property>
</Properties>
</file>