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7AF-85A7-421B-B80B-1B8CCABB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05F4-150C-4D49-AF89-C175988C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314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D4C-2BD0-4C06-B817-7EEECB88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68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792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68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792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0DD-3243-4158-95A7-C2A565E8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AE3-E0BA-47CA-B513-F4A5EA4B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5E8-F84D-4ABC-8D18-0DA503F1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E7E-8BD8-4402-A00D-4C84C537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D6C4-579D-42C0-8A73-926260F4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269-A285-4E62-B4E4-EBE6A29F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1A8C-88E5-46E1-A494-51C55B16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314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783-B8B7-4532-8C78-0650C83B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21D-2E40-4A97-BBBF-E8B12821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谢谢观赏副本"/>
          <p:cNvPicPr/>
          <p:nvPr/>
        </p:nvPicPr>
        <p:blipFill>
          <a:blip r:embed="rId2"/>
          <a:stretch/>
        </p:blipFill>
        <p:spPr>
          <a:xfrm>
            <a:off x="-34920" y="-22320"/>
            <a:ext cx="339840" cy="98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E168-83A7-485F-AEA2-7AFB8248F8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0" y="0"/>
            <a:ext cx="9223200" cy="6858000"/>
            <a:chOff x="0" y="0"/>
            <a:chExt cx="9223200" cy="685800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2232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0" y="0"/>
              <a:ext cx="92203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Oval 9"/>
          <p:cNvSpPr/>
          <p:nvPr/>
        </p:nvSpPr>
        <p:spPr>
          <a:xfrm>
            <a:off x="-1212840" y="-1441440"/>
            <a:ext cx="11423520" cy="8528040"/>
          </a:xfrm>
          <a:prstGeom prst="ellipse">
            <a:avLst/>
          </a:prstGeom>
          <a:gradFill rotWithShape="0">
            <a:gsLst>
              <a:gs pos="0">
                <a:srgbClr val="77dd77"/>
              </a:gs>
              <a:gs pos="100000">
                <a:srgbClr val="33cc3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0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image" Target="../media/image6.png"/><Relationship Id="rId10" Type="http://schemas.openxmlformats.org/officeDocument/2006/relationships/image" Target="../media/image1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2.png"/><Relationship Id="rId17" Type="http://schemas.openxmlformats.org/officeDocument/2006/relationships/image" Target="../media/image1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18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17.png"/><Relationship Id="rId11" Type="http://schemas.openxmlformats.org/officeDocument/2006/relationships/image" Target="../media/image12.png"/><Relationship Id="rId12" Type="http://schemas.openxmlformats.org/officeDocument/2006/relationships/image" Target="../media/image16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7.png"/><Relationship Id="rId11" Type="http://schemas.openxmlformats.org/officeDocument/2006/relationships/image" Target="../media/image4.png"/><Relationship Id="rId12" Type="http://schemas.openxmlformats.org/officeDocument/2006/relationships/hyperlink" Target="http://www.eeppt.com/" TargetMode="External"/><Relationship Id="rId13" Type="http://schemas.openxmlformats.org/officeDocument/2006/relationships/hyperlink" Target="http://www.eeppt.com/" TargetMode="Externa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14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5339160" y="4146480"/>
            <a:ext cx="4039920" cy="2954160"/>
            <a:chOff x="5339160" y="4146480"/>
            <a:chExt cx="4039920" cy="2954160"/>
          </a:xfrm>
        </p:grpSpPr>
        <p:pic>
          <p:nvPicPr>
            <p:cNvPr id="48" name="Picture 3" descr="树枝"/>
            <p:cNvPicPr/>
            <p:nvPr/>
          </p:nvPicPr>
          <p:blipFill>
            <a:blip r:embed="rId1"/>
            <a:stretch/>
          </p:blipFill>
          <p:spPr>
            <a:xfrm>
              <a:off x="7504560" y="5232600"/>
              <a:ext cx="970560" cy="60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" name="Group 4"/>
            <p:cNvGrpSpPr/>
            <p:nvPr/>
          </p:nvGrpSpPr>
          <p:grpSpPr>
            <a:xfrm>
              <a:off x="5339160" y="4146480"/>
              <a:ext cx="4039920" cy="2954160"/>
              <a:chOff x="5339160" y="4146480"/>
              <a:chExt cx="4039920" cy="2954160"/>
            </a:xfrm>
          </p:grpSpPr>
          <p:pic>
            <p:nvPicPr>
              <p:cNvPr id="50" name="Picture 5" descr="树枝"/>
              <p:cNvPicPr/>
              <p:nvPr/>
            </p:nvPicPr>
            <p:blipFill>
              <a:blip r:embed="rId2"/>
              <a:stretch/>
            </p:blipFill>
            <p:spPr>
              <a:xfrm rot="20303400">
                <a:off x="5328720" y="6165360"/>
                <a:ext cx="2683800" cy="45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6" descr="树枝"/>
              <p:cNvPicPr/>
              <p:nvPr/>
            </p:nvPicPr>
            <p:blipFill>
              <a:blip r:embed="rId3"/>
              <a:stretch/>
            </p:blipFill>
            <p:spPr>
              <a:xfrm flipH="1" rot="17665200">
                <a:off x="8278560" y="4570200"/>
                <a:ext cx="1244160" cy="48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2" name="Picture 7" descr="柳虚5"/>
          <p:cNvPicPr/>
          <p:nvPr/>
        </p:nvPicPr>
        <p:blipFill>
          <a:blip r:embed="rId4"/>
          <a:stretch/>
        </p:blipFill>
        <p:spPr>
          <a:xfrm>
            <a:off x="6654960" y="-2050920"/>
            <a:ext cx="812520" cy="445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柳虚1"/>
          <p:cNvPicPr/>
          <p:nvPr/>
        </p:nvPicPr>
        <p:blipFill>
          <a:blip r:embed="rId5"/>
          <a:stretch/>
        </p:blipFill>
        <p:spPr>
          <a:xfrm>
            <a:off x="457200" y="0"/>
            <a:ext cx="1292400" cy="2925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柳虚2"/>
          <p:cNvPicPr/>
          <p:nvPr/>
        </p:nvPicPr>
        <p:blipFill>
          <a:blip r:embed="rId6"/>
          <a:stretch/>
        </p:blipFill>
        <p:spPr>
          <a:xfrm>
            <a:off x="1447920" y="-222120"/>
            <a:ext cx="1096920" cy="1569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鸟展翅"/>
          <p:cNvPicPr/>
          <p:nvPr/>
        </p:nvPicPr>
        <p:blipFill>
          <a:blip r:embed="rId7"/>
          <a:stretch/>
        </p:blipFill>
        <p:spPr>
          <a:xfrm rot="21320400">
            <a:off x="6802200" y="5638680"/>
            <a:ext cx="741240" cy="65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鸟展翅"/>
          <p:cNvPicPr/>
          <p:nvPr/>
        </p:nvPicPr>
        <p:blipFill>
          <a:blip r:embed="rId8"/>
          <a:stretch/>
        </p:blipFill>
        <p:spPr>
          <a:xfrm rot="21320400">
            <a:off x="8021160" y="4830840"/>
            <a:ext cx="741600" cy="655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鸟"/>
          <p:cNvPicPr/>
          <p:nvPr/>
        </p:nvPicPr>
        <p:blipFill>
          <a:blip r:embed="rId9"/>
          <a:stretch/>
        </p:blipFill>
        <p:spPr>
          <a:xfrm>
            <a:off x="7162920" y="5364000"/>
            <a:ext cx="674640" cy="73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鸟1"/>
          <p:cNvPicPr/>
          <p:nvPr/>
        </p:nvPicPr>
        <p:blipFill>
          <a:blip r:embed="rId10"/>
          <a:stretch/>
        </p:blipFill>
        <p:spPr>
          <a:xfrm rot="21459600">
            <a:off x="8229240" y="4647960"/>
            <a:ext cx="674640" cy="731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鸟"/>
          <p:cNvPicPr/>
          <p:nvPr/>
        </p:nvPicPr>
        <p:blipFill>
          <a:blip r:embed="rId11"/>
          <a:stretch/>
        </p:blipFill>
        <p:spPr>
          <a:xfrm>
            <a:off x="7467480" y="5135400"/>
            <a:ext cx="674640" cy="7318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5"/>
          <p:cNvGrpSpPr/>
          <p:nvPr/>
        </p:nvGrpSpPr>
        <p:grpSpPr>
          <a:xfrm>
            <a:off x="7772400" y="-2660760"/>
            <a:ext cx="903240" cy="4453200"/>
            <a:chOff x="7772400" y="-2660760"/>
            <a:chExt cx="903240" cy="4453200"/>
          </a:xfrm>
        </p:grpSpPr>
        <p:pic>
          <p:nvPicPr>
            <p:cNvPr id="61" name="Picture 16" descr="柳条4"/>
            <p:cNvPicPr/>
            <p:nvPr/>
          </p:nvPicPr>
          <p:blipFill>
            <a:blip r:embed="rId12"/>
            <a:stretch/>
          </p:blipFill>
          <p:spPr>
            <a:xfrm>
              <a:off x="7772400" y="-453960"/>
              <a:ext cx="903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Rectangle 17"/>
            <p:cNvSpPr/>
            <p:nvPr/>
          </p:nvSpPr>
          <p:spPr>
            <a:xfrm>
              <a:off x="8001000" y="-2660760"/>
              <a:ext cx="15228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18"/>
          <p:cNvSpPr/>
          <p:nvPr/>
        </p:nvSpPr>
        <p:spPr>
          <a:xfrm>
            <a:off x="304920" y="380880"/>
            <a:ext cx="8381880" cy="624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457200" y="228600"/>
            <a:ext cx="8381880" cy="624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0"/>
          <p:cNvGrpSpPr/>
          <p:nvPr/>
        </p:nvGrpSpPr>
        <p:grpSpPr>
          <a:xfrm>
            <a:off x="457200" y="380880"/>
            <a:ext cx="8229240" cy="6095880"/>
            <a:chOff x="457200" y="380880"/>
            <a:chExt cx="8229240" cy="6095880"/>
          </a:xfrm>
        </p:grpSpPr>
        <p:sp>
          <p:nvSpPr>
            <p:cNvPr id="66" name="Rectangle 21"/>
            <p:cNvSpPr/>
            <p:nvPr/>
          </p:nvSpPr>
          <p:spPr>
            <a:xfrm>
              <a:off x="457200" y="380880"/>
              <a:ext cx="8229240" cy="609588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2"/>
            <p:cNvSpPr/>
            <p:nvPr/>
          </p:nvSpPr>
          <p:spPr>
            <a:xfrm>
              <a:off x="995400" y="1152360"/>
              <a:ext cx="746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幼圆"/>
                </a:rPr>
                <a:t>翠绿通用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  <a:ea typeface="幼圆"/>
                </a:rPr>
                <a:t>PPT</a:t>
              </a: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幼圆"/>
                </a:rPr>
                <a:t>模板免费下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23" descr=""/>
          <p:cNvPicPr/>
          <p:nvPr/>
        </p:nvPicPr>
        <p:blipFill>
          <a:blip r:embed="rId13"/>
          <a:stretch/>
        </p:blipFill>
        <p:spPr>
          <a:xfrm>
            <a:off x="5181480" y="-98424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4"/>
          <p:cNvGrpSpPr/>
          <p:nvPr/>
        </p:nvGrpSpPr>
        <p:grpSpPr>
          <a:xfrm>
            <a:off x="7459560" y="-8908920"/>
            <a:ext cx="846000" cy="12271320"/>
            <a:chOff x="7459560" y="-8908920"/>
            <a:chExt cx="846000" cy="12271320"/>
          </a:xfrm>
        </p:grpSpPr>
        <p:pic>
          <p:nvPicPr>
            <p:cNvPr id="70" name="Picture 25" descr="柳条2"/>
            <p:cNvPicPr/>
            <p:nvPr/>
          </p:nvPicPr>
          <p:blipFill>
            <a:blip r:embed="rId14"/>
            <a:stretch/>
          </p:blipFill>
          <p:spPr>
            <a:xfrm>
              <a:off x="7459560" y="-296820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26"/>
            <p:cNvSpPr/>
            <p:nvPr/>
          </p:nvSpPr>
          <p:spPr>
            <a:xfrm>
              <a:off x="7764480" y="-890892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1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11111E-006 3.33333E-006 L -0.05347 0.04236 E">
                                      <p:cBhvr>
                                        <p:cTn id="29" dur="1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44444E-006 5.18519E-006 L -0.025 0.02223 E">
                                      <p:cBhvr>
                                        <p:cTn id="31" dur="1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9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9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3333E-006 L 0.00209 -0.03333 L 0.01597 -0.01643 E">
                                      <p:cBhvr>
                                        <p:cTn id="51" dur="1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5339160" y="4146480"/>
            <a:ext cx="4039920" cy="2954160"/>
            <a:chOff x="5339160" y="4146480"/>
            <a:chExt cx="4039920" cy="2954160"/>
          </a:xfrm>
        </p:grpSpPr>
        <p:grpSp>
          <p:nvGrpSpPr>
            <p:cNvPr id="74" name="Group 3"/>
            <p:cNvGrpSpPr/>
            <p:nvPr/>
          </p:nvGrpSpPr>
          <p:grpSpPr>
            <a:xfrm>
              <a:off x="5339160" y="4146480"/>
              <a:ext cx="4039920" cy="2954160"/>
              <a:chOff x="5339160" y="4146480"/>
              <a:chExt cx="4039920" cy="2954160"/>
            </a:xfrm>
          </p:grpSpPr>
          <p:pic>
            <p:nvPicPr>
              <p:cNvPr id="75" name="Picture 4" descr="树枝"/>
              <p:cNvPicPr/>
              <p:nvPr/>
            </p:nvPicPr>
            <p:blipFill>
              <a:blip r:embed="rId1"/>
              <a:stretch/>
            </p:blipFill>
            <p:spPr>
              <a:xfrm>
                <a:off x="7504560" y="5232600"/>
                <a:ext cx="970560" cy="60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" name="Group 5"/>
              <p:cNvGrpSpPr/>
              <p:nvPr/>
            </p:nvGrpSpPr>
            <p:grpSpPr>
              <a:xfrm>
                <a:off x="5339160" y="4146480"/>
                <a:ext cx="4039920" cy="2954160"/>
                <a:chOff x="5339160" y="4146480"/>
                <a:chExt cx="4039920" cy="2954160"/>
              </a:xfrm>
            </p:grpSpPr>
            <p:pic>
              <p:nvPicPr>
                <p:cNvPr id="77" name="Picture 6" descr="树枝"/>
                <p:cNvPicPr/>
                <p:nvPr/>
              </p:nvPicPr>
              <p:blipFill>
                <a:blip r:embed="rId2"/>
                <a:stretch/>
              </p:blipFill>
              <p:spPr>
                <a:xfrm rot="20303400">
                  <a:off x="5328720" y="6165360"/>
                  <a:ext cx="2683800" cy="456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7" descr="树枝"/>
                <p:cNvPicPr/>
                <p:nvPr/>
              </p:nvPicPr>
              <p:blipFill>
                <a:blip r:embed="rId3"/>
                <a:stretch/>
              </p:blipFill>
              <p:spPr>
                <a:xfrm flipH="1" rot="17665200">
                  <a:off x="8278560" y="4570200"/>
                  <a:ext cx="1244160" cy="48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79" name="Picture 8" descr="鸟"/>
            <p:cNvPicPr/>
            <p:nvPr/>
          </p:nvPicPr>
          <p:blipFill>
            <a:blip r:embed="rId4"/>
            <a:stretch/>
          </p:blipFill>
          <p:spPr>
            <a:xfrm>
              <a:off x="7619760" y="5028840"/>
              <a:ext cx="674640" cy="73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9" descr="柳虚1"/>
          <p:cNvPicPr/>
          <p:nvPr/>
        </p:nvPicPr>
        <p:blipFill>
          <a:blip r:embed="rId5"/>
          <a:stretch/>
        </p:blipFill>
        <p:spPr>
          <a:xfrm>
            <a:off x="457200" y="0"/>
            <a:ext cx="1292400" cy="2925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柳虚2"/>
          <p:cNvPicPr/>
          <p:nvPr/>
        </p:nvPicPr>
        <p:blipFill>
          <a:blip r:embed="rId6"/>
          <a:stretch/>
        </p:blipFill>
        <p:spPr>
          <a:xfrm>
            <a:off x="1447920" y="-222120"/>
            <a:ext cx="1096920" cy="156996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11"/>
          <p:cNvGrpSpPr/>
          <p:nvPr/>
        </p:nvGrpSpPr>
        <p:grpSpPr>
          <a:xfrm>
            <a:off x="7391520" y="-8908920"/>
            <a:ext cx="846000" cy="12271320"/>
            <a:chOff x="7391520" y="-8908920"/>
            <a:chExt cx="846000" cy="12271320"/>
          </a:xfrm>
        </p:grpSpPr>
        <p:pic>
          <p:nvPicPr>
            <p:cNvPr id="83" name="Picture 12" descr="柳条2"/>
            <p:cNvPicPr/>
            <p:nvPr/>
          </p:nvPicPr>
          <p:blipFill>
            <a:blip r:embed="rId7"/>
            <a:stretch/>
          </p:blipFill>
          <p:spPr>
            <a:xfrm>
              <a:off x="7391520" y="-296820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Rectangle 13"/>
            <p:cNvSpPr/>
            <p:nvPr/>
          </p:nvSpPr>
          <p:spPr>
            <a:xfrm>
              <a:off x="7696440" y="-890892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4"/>
          <p:cNvGrpSpPr/>
          <p:nvPr/>
        </p:nvGrpSpPr>
        <p:grpSpPr>
          <a:xfrm>
            <a:off x="7772400" y="-2660760"/>
            <a:ext cx="903240" cy="4453200"/>
            <a:chOff x="7772400" y="-2660760"/>
            <a:chExt cx="903240" cy="4453200"/>
          </a:xfrm>
        </p:grpSpPr>
        <p:pic>
          <p:nvPicPr>
            <p:cNvPr id="86" name="Picture 15" descr="柳条4"/>
            <p:cNvPicPr/>
            <p:nvPr/>
          </p:nvPicPr>
          <p:blipFill>
            <a:blip r:embed="rId8"/>
            <a:stretch/>
          </p:blipFill>
          <p:spPr>
            <a:xfrm>
              <a:off x="7772400" y="-453960"/>
              <a:ext cx="903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16"/>
            <p:cNvSpPr/>
            <p:nvPr/>
          </p:nvSpPr>
          <p:spPr>
            <a:xfrm>
              <a:off x="8001000" y="-2660760"/>
              <a:ext cx="15228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17" descr="柳虚5"/>
          <p:cNvPicPr/>
          <p:nvPr/>
        </p:nvPicPr>
        <p:blipFill>
          <a:blip r:embed="rId9"/>
          <a:stretch/>
        </p:blipFill>
        <p:spPr>
          <a:xfrm>
            <a:off x="6654960" y="-2050920"/>
            <a:ext cx="812520" cy="4456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柳虚4"/>
          <p:cNvPicPr/>
          <p:nvPr/>
        </p:nvPicPr>
        <p:blipFill>
          <a:blip r:embed="rId10"/>
          <a:stretch/>
        </p:blipFill>
        <p:spPr>
          <a:xfrm>
            <a:off x="3886200" y="0"/>
            <a:ext cx="1198440" cy="446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柳虚5"/>
          <p:cNvPicPr/>
          <p:nvPr/>
        </p:nvPicPr>
        <p:blipFill>
          <a:blip r:embed="rId11"/>
          <a:stretch/>
        </p:blipFill>
        <p:spPr>
          <a:xfrm>
            <a:off x="2209680" y="-1670040"/>
            <a:ext cx="1784520" cy="4456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柳虚1"/>
          <p:cNvPicPr/>
          <p:nvPr/>
        </p:nvPicPr>
        <p:blipFill>
          <a:blip r:embed="rId12"/>
          <a:stretch/>
        </p:blipFill>
        <p:spPr>
          <a:xfrm>
            <a:off x="457200" y="0"/>
            <a:ext cx="1292400" cy="2925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柳虚2"/>
          <p:cNvPicPr/>
          <p:nvPr/>
        </p:nvPicPr>
        <p:blipFill>
          <a:blip r:embed="rId13"/>
          <a:stretch/>
        </p:blipFill>
        <p:spPr>
          <a:xfrm>
            <a:off x="3200400" y="0"/>
            <a:ext cx="1096920" cy="157644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22"/>
          <p:cNvGrpSpPr/>
          <p:nvPr/>
        </p:nvGrpSpPr>
        <p:grpSpPr>
          <a:xfrm>
            <a:off x="1170000" y="-6089760"/>
            <a:ext cx="1116000" cy="12214080"/>
            <a:chOff x="1170000" y="-6089760"/>
            <a:chExt cx="1116000" cy="12214080"/>
          </a:xfrm>
        </p:grpSpPr>
        <p:pic>
          <p:nvPicPr>
            <p:cNvPr id="94" name="Picture 23" descr="柳条1"/>
            <p:cNvPicPr/>
            <p:nvPr/>
          </p:nvPicPr>
          <p:blipFill>
            <a:blip r:embed="rId14"/>
            <a:stretch/>
          </p:blipFill>
          <p:spPr>
            <a:xfrm>
              <a:off x="1170000" y="2880"/>
              <a:ext cx="1116000" cy="61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24"/>
            <p:cNvSpPr/>
            <p:nvPr/>
          </p:nvSpPr>
          <p:spPr>
            <a:xfrm>
              <a:off x="1523880" y="-6089760"/>
              <a:ext cx="30492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4673520" y="-907920"/>
            <a:ext cx="812880" cy="1983960"/>
            <a:chOff x="4673520" y="-907920"/>
            <a:chExt cx="812880" cy="1983960"/>
          </a:xfrm>
        </p:grpSpPr>
        <p:pic>
          <p:nvPicPr>
            <p:cNvPr id="97" name="Picture 26" descr="柳条3"/>
            <p:cNvPicPr/>
            <p:nvPr/>
          </p:nvPicPr>
          <p:blipFill>
            <a:blip r:embed="rId15"/>
            <a:stretch/>
          </p:blipFill>
          <p:spPr>
            <a:xfrm>
              <a:off x="4673520" y="3240"/>
              <a:ext cx="812880" cy="107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27"/>
            <p:cNvSpPr/>
            <p:nvPr/>
          </p:nvSpPr>
          <p:spPr>
            <a:xfrm>
              <a:off x="4952880" y="-907920"/>
              <a:ext cx="15228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8"/>
          <p:cNvGrpSpPr/>
          <p:nvPr/>
        </p:nvGrpSpPr>
        <p:grpSpPr>
          <a:xfrm>
            <a:off x="6172200" y="-2203560"/>
            <a:ext cx="903240" cy="4452840"/>
            <a:chOff x="6172200" y="-2203560"/>
            <a:chExt cx="903240" cy="4452840"/>
          </a:xfrm>
        </p:grpSpPr>
        <p:pic>
          <p:nvPicPr>
            <p:cNvPr id="100" name="Picture 29" descr="柳条4"/>
            <p:cNvPicPr/>
            <p:nvPr/>
          </p:nvPicPr>
          <p:blipFill>
            <a:blip r:embed="rId16"/>
            <a:stretch/>
          </p:blipFill>
          <p:spPr>
            <a:xfrm>
              <a:off x="6172200" y="2880"/>
              <a:ext cx="903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30"/>
            <p:cNvSpPr/>
            <p:nvPr/>
          </p:nvSpPr>
          <p:spPr>
            <a:xfrm>
              <a:off x="6400800" y="-2203560"/>
              <a:ext cx="15228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31"/>
          <p:cNvGrpSpPr/>
          <p:nvPr/>
        </p:nvGrpSpPr>
        <p:grpSpPr>
          <a:xfrm>
            <a:off x="1135080" y="-6022800"/>
            <a:ext cx="846000" cy="12271320"/>
            <a:chOff x="1135080" y="-6022800"/>
            <a:chExt cx="846000" cy="12271320"/>
          </a:xfrm>
        </p:grpSpPr>
        <p:pic>
          <p:nvPicPr>
            <p:cNvPr id="103" name="Picture 32" descr="柳条2"/>
            <p:cNvPicPr/>
            <p:nvPr/>
          </p:nvPicPr>
          <p:blipFill>
            <a:blip r:embed="rId17"/>
            <a:stretch/>
          </p:blipFill>
          <p:spPr>
            <a:xfrm>
              <a:off x="1135080" y="-8208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33"/>
            <p:cNvSpPr/>
            <p:nvPr/>
          </p:nvSpPr>
          <p:spPr>
            <a:xfrm>
              <a:off x="1440000" y="-602280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4"/>
          <p:cNvGrpSpPr/>
          <p:nvPr/>
        </p:nvGrpSpPr>
        <p:grpSpPr>
          <a:xfrm>
            <a:off x="-1219680" y="-408960"/>
            <a:ext cx="16830720" cy="12308040"/>
            <a:chOff x="-1219680" y="-408960"/>
            <a:chExt cx="16830720" cy="12308040"/>
          </a:xfrm>
        </p:grpSpPr>
        <p:pic>
          <p:nvPicPr>
            <p:cNvPr id="106" name="Picture 35" descr="树枝"/>
            <p:cNvPicPr/>
            <p:nvPr/>
          </p:nvPicPr>
          <p:blipFill>
            <a:blip r:embed="rId18"/>
            <a:stretch/>
          </p:blipFill>
          <p:spPr>
            <a:xfrm>
              <a:off x="7800480" y="4116960"/>
              <a:ext cx="4043160" cy="2528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Group 36"/>
            <p:cNvGrpSpPr/>
            <p:nvPr/>
          </p:nvGrpSpPr>
          <p:grpSpPr>
            <a:xfrm>
              <a:off x="-1219680" y="-408960"/>
              <a:ext cx="16830720" cy="12308040"/>
              <a:chOff x="-1219680" y="-408960"/>
              <a:chExt cx="16830720" cy="12308040"/>
            </a:xfrm>
          </p:grpSpPr>
          <p:grpSp>
            <p:nvGrpSpPr>
              <p:cNvPr id="108" name="Group 37"/>
              <p:cNvGrpSpPr/>
              <p:nvPr/>
            </p:nvGrpSpPr>
            <p:grpSpPr>
              <a:xfrm>
                <a:off x="-1219680" y="-408960"/>
                <a:ext cx="16830720" cy="12308040"/>
                <a:chOff x="-1219680" y="-408960"/>
                <a:chExt cx="16830720" cy="12308040"/>
              </a:xfrm>
            </p:grpSpPr>
            <p:pic>
              <p:nvPicPr>
                <p:cNvPr id="109" name="Picture 38" descr="树枝"/>
                <p:cNvPicPr/>
                <p:nvPr/>
              </p:nvPicPr>
              <p:blipFill>
                <a:blip r:embed="rId19"/>
                <a:stretch/>
              </p:blipFill>
              <p:spPr>
                <a:xfrm rot="20303400">
                  <a:off x="-1261800" y="8003520"/>
                  <a:ext cx="11180880" cy="1903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Picture 39" descr="树枝"/>
                <p:cNvPicPr/>
                <p:nvPr/>
              </p:nvPicPr>
              <p:blipFill>
                <a:blip r:embed="rId20"/>
                <a:stretch/>
              </p:blipFill>
              <p:spPr>
                <a:xfrm flipH="1" rot="17665800">
                  <a:off x="11025360" y="1356480"/>
                  <a:ext cx="5182920" cy="2025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11" name="Picture 40" descr="鸟1"/>
              <p:cNvPicPr/>
              <p:nvPr/>
            </p:nvPicPr>
            <p:blipFill>
              <a:blip r:embed="rId21"/>
              <a:stretch/>
            </p:blipFill>
            <p:spPr>
              <a:xfrm>
                <a:off x="8963640" y="2748960"/>
                <a:ext cx="2951280" cy="3196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2" name="Picture 41" descr="鸟1"/>
          <p:cNvPicPr/>
          <p:nvPr/>
        </p:nvPicPr>
        <p:blipFill>
          <a:blip r:embed="rId22"/>
          <a:stretch/>
        </p:blipFill>
        <p:spPr>
          <a:xfrm>
            <a:off x="7632720" y="5029200"/>
            <a:ext cx="673200" cy="7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8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8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24000" y="24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11111E-006 -1.11111E-006 L -0.28334 0.05555 E">
                                      <p:cBhvr>
                                        <p:cTn id="9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3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13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13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14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14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柳虚4"/>
          <p:cNvPicPr/>
          <p:nvPr/>
        </p:nvPicPr>
        <p:blipFill>
          <a:blip r:embed="rId1"/>
          <a:stretch/>
        </p:blipFill>
        <p:spPr>
          <a:xfrm>
            <a:off x="3886200" y="0"/>
            <a:ext cx="1198440" cy="44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柳虚5"/>
          <p:cNvPicPr/>
          <p:nvPr/>
        </p:nvPicPr>
        <p:blipFill>
          <a:blip r:embed="rId2"/>
          <a:stretch/>
        </p:blipFill>
        <p:spPr>
          <a:xfrm>
            <a:off x="2209680" y="-1670040"/>
            <a:ext cx="1784520" cy="4456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柳虚1"/>
          <p:cNvPicPr/>
          <p:nvPr/>
        </p:nvPicPr>
        <p:blipFill>
          <a:blip r:embed="rId3"/>
          <a:stretch/>
        </p:blipFill>
        <p:spPr>
          <a:xfrm>
            <a:off x="457200" y="0"/>
            <a:ext cx="1292400" cy="2925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柳虚2"/>
          <p:cNvPicPr/>
          <p:nvPr/>
        </p:nvPicPr>
        <p:blipFill>
          <a:blip r:embed="rId4"/>
          <a:stretch/>
        </p:blipFill>
        <p:spPr>
          <a:xfrm>
            <a:off x="3200400" y="0"/>
            <a:ext cx="1096920" cy="1576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树枝"/>
          <p:cNvPicPr/>
          <p:nvPr/>
        </p:nvPicPr>
        <p:blipFill>
          <a:blip r:embed="rId5"/>
          <a:stretch/>
        </p:blipFill>
        <p:spPr>
          <a:xfrm>
            <a:off x="5181480" y="4479840"/>
            <a:ext cx="4044960" cy="2530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鸟1"/>
          <p:cNvPicPr/>
          <p:nvPr/>
        </p:nvPicPr>
        <p:blipFill>
          <a:blip r:embed="rId6"/>
          <a:stretch/>
        </p:blipFill>
        <p:spPr>
          <a:xfrm>
            <a:off x="6343560" y="3124080"/>
            <a:ext cx="2952720" cy="319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鸟"/>
          <p:cNvPicPr/>
          <p:nvPr/>
        </p:nvPicPr>
        <p:blipFill>
          <a:blip r:embed="rId7"/>
          <a:stretch/>
        </p:blipFill>
        <p:spPr>
          <a:xfrm>
            <a:off x="5734080" y="3506760"/>
            <a:ext cx="2952720" cy="319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眼皮"/>
          <p:cNvPicPr/>
          <p:nvPr/>
        </p:nvPicPr>
        <p:blipFill>
          <a:blip r:embed="rId8"/>
          <a:stretch/>
        </p:blipFill>
        <p:spPr>
          <a:xfrm>
            <a:off x="6135840" y="4435560"/>
            <a:ext cx="493560" cy="36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鸟展翅"/>
          <p:cNvPicPr/>
          <p:nvPr/>
        </p:nvPicPr>
        <p:blipFill>
          <a:blip r:embed="rId9"/>
          <a:stretch/>
        </p:blipFill>
        <p:spPr>
          <a:xfrm>
            <a:off x="5638680" y="3759120"/>
            <a:ext cx="3245040" cy="287028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11"/>
          <p:cNvGrpSpPr/>
          <p:nvPr/>
        </p:nvGrpSpPr>
        <p:grpSpPr>
          <a:xfrm>
            <a:off x="4673520" y="-907920"/>
            <a:ext cx="812880" cy="1983960"/>
            <a:chOff x="4673520" y="-907920"/>
            <a:chExt cx="812880" cy="1983960"/>
          </a:xfrm>
        </p:grpSpPr>
        <p:pic>
          <p:nvPicPr>
            <p:cNvPr id="123" name="Picture 12" descr="柳条3"/>
            <p:cNvPicPr/>
            <p:nvPr/>
          </p:nvPicPr>
          <p:blipFill>
            <a:blip r:embed="rId10"/>
            <a:stretch/>
          </p:blipFill>
          <p:spPr>
            <a:xfrm>
              <a:off x="4673520" y="3240"/>
              <a:ext cx="812880" cy="107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13"/>
            <p:cNvSpPr/>
            <p:nvPr/>
          </p:nvSpPr>
          <p:spPr>
            <a:xfrm>
              <a:off x="4952880" y="-907920"/>
              <a:ext cx="15228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6172200" y="-2203560"/>
            <a:ext cx="903240" cy="4452840"/>
            <a:chOff x="6172200" y="-2203560"/>
            <a:chExt cx="903240" cy="4452840"/>
          </a:xfrm>
        </p:grpSpPr>
        <p:pic>
          <p:nvPicPr>
            <p:cNvPr id="126" name="Picture 15" descr="柳条4"/>
            <p:cNvPicPr/>
            <p:nvPr/>
          </p:nvPicPr>
          <p:blipFill>
            <a:blip r:embed="rId11"/>
            <a:stretch/>
          </p:blipFill>
          <p:spPr>
            <a:xfrm>
              <a:off x="6172200" y="2880"/>
              <a:ext cx="903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16"/>
            <p:cNvSpPr/>
            <p:nvPr/>
          </p:nvSpPr>
          <p:spPr>
            <a:xfrm>
              <a:off x="6400800" y="-2203560"/>
              <a:ext cx="15228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7"/>
          <p:cNvGrpSpPr/>
          <p:nvPr/>
        </p:nvGrpSpPr>
        <p:grpSpPr>
          <a:xfrm>
            <a:off x="1170000" y="-6089760"/>
            <a:ext cx="1116000" cy="12214080"/>
            <a:chOff x="1170000" y="-6089760"/>
            <a:chExt cx="1116000" cy="12214080"/>
          </a:xfrm>
        </p:grpSpPr>
        <p:pic>
          <p:nvPicPr>
            <p:cNvPr id="129" name="Picture 18" descr="柳条1"/>
            <p:cNvPicPr/>
            <p:nvPr/>
          </p:nvPicPr>
          <p:blipFill>
            <a:blip r:embed="rId12"/>
            <a:stretch/>
          </p:blipFill>
          <p:spPr>
            <a:xfrm>
              <a:off x="1170000" y="2880"/>
              <a:ext cx="1116000" cy="61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19"/>
            <p:cNvSpPr/>
            <p:nvPr/>
          </p:nvSpPr>
          <p:spPr>
            <a:xfrm>
              <a:off x="1523880" y="-6089760"/>
              <a:ext cx="30492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20"/>
          <p:cNvGrpSpPr/>
          <p:nvPr/>
        </p:nvGrpSpPr>
        <p:grpSpPr>
          <a:xfrm>
            <a:off x="1135080" y="-6022800"/>
            <a:ext cx="846000" cy="12271320"/>
            <a:chOff x="1135080" y="-6022800"/>
            <a:chExt cx="846000" cy="12271320"/>
          </a:xfrm>
        </p:grpSpPr>
        <p:pic>
          <p:nvPicPr>
            <p:cNvPr id="132" name="Picture 21" descr="柳条2"/>
            <p:cNvPicPr/>
            <p:nvPr/>
          </p:nvPicPr>
          <p:blipFill>
            <a:blip r:embed="rId13"/>
            <a:stretch/>
          </p:blipFill>
          <p:spPr>
            <a:xfrm>
              <a:off x="1135080" y="-8208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2"/>
            <p:cNvSpPr/>
            <p:nvPr/>
          </p:nvSpPr>
          <p:spPr>
            <a:xfrm>
              <a:off x="1440000" y="-602280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3"/>
          <p:cNvGrpSpPr/>
          <p:nvPr/>
        </p:nvGrpSpPr>
        <p:grpSpPr>
          <a:xfrm>
            <a:off x="457200" y="380880"/>
            <a:ext cx="8229240" cy="6095880"/>
            <a:chOff x="457200" y="380880"/>
            <a:chExt cx="8229240" cy="6095880"/>
          </a:xfrm>
        </p:grpSpPr>
        <p:sp>
          <p:nvSpPr>
            <p:cNvPr id="135" name="Rectangle 24"/>
            <p:cNvSpPr/>
            <p:nvPr/>
          </p:nvSpPr>
          <p:spPr>
            <a:xfrm>
              <a:off x="457200" y="380880"/>
              <a:ext cx="8229240" cy="609588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5"/>
            <p:cNvSpPr/>
            <p:nvPr/>
          </p:nvSpPr>
          <p:spPr>
            <a:xfrm>
              <a:off x="995400" y="1152360"/>
              <a:ext cx="746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  <a:ea typeface="幼圆"/>
                </a:rPr>
                <a:t>仿佛无数的生命融在一块温润的碧玉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26"/>
          <p:cNvSpPr/>
          <p:nvPr/>
        </p:nvSpPr>
        <p:spPr>
          <a:xfrm>
            <a:off x="304920" y="380880"/>
            <a:ext cx="8381880" cy="624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7"/>
          <p:cNvSpPr/>
          <p:nvPr/>
        </p:nvSpPr>
        <p:spPr>
          <a:xfrm>
            <a:off x="457200" y="228600"/>
            <a:ext cx="8381880" cy="624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15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02000" y="102000"/>
                                    </p:animScale>
                                  </p:childTnLst>
                                </p:cTn>
                              </p:par>
                              <p:par>
                                <p:cTn id="15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15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15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16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59259E-006 L -0.05313 -0.02778 L -0.06354 0.05856 E">
                                      <p:cBhvr>
                                        <p:cTn id="162" dur="2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7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89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" presetSubtype="9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06" dur="500" fill="hold"/>
                                        <p:tgtEl>
                                          <p:spTgt spid="12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autoRev="1" nodeType="withEffect" fill="hold" presetClass="path" presetID="0" repeatCount="2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2.77778E-006 -7.40741E-007 L 0.01667 0.01111 E">
                                      <p:cBhvr>
                                        <p:cTn id="211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-2498040" y="3207240"/>
            <a:ext cx="937800" cy="660240"/>
            <a:chOff x="-2498040" y="3207240"/>
            <a:chExt cx="937800" cy="660240"/>
          </a:xfrm>
        </p:grpSpPr>
        <p:sp>
          <p:nvSpPr>
            <p:cNvPr id="140" name="未知"/>
            <p:cNvSpPr/>
            <p:nvPr/>
          </p:nvSpPr>
          <p:spPr>
            <a:xfrm rot="4151400">
              <a:off x="-1902960" y="3612600"/>
              <a:ext cx="102240" cy="2232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4"/>
            <p:cNvGrpSpPr/>
            <p:nvPr/>
          </p:nvGrpSpPr>
          <p:grpSpPr>
            <a:xfrm>
              <a:off x="-2498040" y="3207240"/>
              <a:ext cx="937800" cy="660240"/>
              <a:chOff x="-2498040" y="3207240"/>
              <a:chExt cx="937800" cy="660240"/>
            </a:xfrm>
          </p:grpSpPr>
          <p:grpSp>
            <p:nvGrpSpPr>
              <p:cNvPr id="142" name="Group 5"/>
              <p:cNvGrpSpPr/>
              <p:nvPr/>
            </p:nvGrpSpPr>
            <p:grpSpPr>
              <a:xfrm>
                <a:off x="-2498040" y="3503880"/>
                <a:ext cx="660240" cy="230040"/>
                <a:chOff x="-2498040" y="3503880"/>
                <a:chExt cx="660240" cy="230040"/>
              </a:xfrm>
            </p:grpSpPr>
            <p:sp>
              <p:nvSpPr>
                <p:cNvPr id="143" name="AutoShape 6"/>
                <p:cNvSpPr/>
                <p:nvPr/>
              </p:nvSpPr>
              <p:spPr>
                <a:xfrm rot="4151400">
                  <a:off x="-1936440" y="352044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未知"/>
                <p:cNvSpPr/>
                <p:nvPr/>
              </p:nvSpPr>
              <p:spPr>
                <a:xfrm rot="4151400">
                  <a:off x="-2140560" y="3405240"/>
                  <a:ext cx="46080" cy="4338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33800"/>
                    <a:gd name="textAreaBottom" fmla="*/ 434160 h 433800"/>
                  </a:gdLst>
                  <a:ahLst/>
                  <a:rect l="textAreaLeft" t="textAreaTop" r="textAreaRight" b="textAreaBottom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Oval 8"/>
                <p:cNvSpPr/>
                <p:nvPr/>
              </p:nvSpPr>
              <p:spPr>
                <a:xfrm rot="4695000">
                  <a:off x="-2421720" y="3595680"/>
                  <a:ext cx="45360" cy="192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9"/>
              <p:cNvGrpSpPr/>
              <p:nvPr/>
            </p:nvGrpSpPr>
            <p:grpSpPr>
              <a:xfrm>
                <a:off x="-2153520" y="3207240"/>
                <a:ext cx="593280" cy="660240"/>
                <a:chOff x="-2153520" y="3207240"/>
                <a:chExt cx="593280" cy="660240"/>
              </a:xfrm>
            </p:grpSpPr>
            <p:sp>
              <p:nvSpPr>
                <p:cNvPr id="147" name="未知"/>
                <p:cNvSpPr/>
                <p:nvPr/>
              </p:nvSpPr>
              <p:spPr>
                <a:xfrm rot="4151400">
                  <a:off x="-2018160" y="3454920"/>
                  <a:ext cx="158040" cy="75600"/>
                </a:xfrm>
                <a:custGeom>
                  <a:avLst/>
                  <a:gdLst>
                    <a:gd name="textAreaLeft" fmla="*/ 0 w 158040"/>
                    <a:gd name="textAreaRight" fmla="*/ 158400 w 15804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未知"/>
                <p:cNvSpPr/>
                <p:nvPr/>
              </p:nvSpPr>
              <p:spPr>
                <a:xfrm rot="4151400">
                  <a:off x="-2117520" y="3401640"/>
                  <a:ext cx="272520" cy="6804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未知"/>
                <p:cNvSpPr/>
                <p:nvPr/>
              </p:nvSpPr>
              <p:spPr>
                <a:xfrm rot="4151400">
                  <a:off x="-2065320" y="3362400"/>
                  <a:ext cx="284040" cy="676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未知"/>
                <p:cNvSpPr/>
                <p:nvPr/>
              </p:nvSpPr>
              <p:spPr>
                <a:xfrm rot="4151400">
                  <a:off x="-2060640" y="3315960"/>
                  <a:ext cx="295560" cy="90720"/>
                </a:xfrm>
                <a:custGeom>
                  <a:avLst/>
                  <a:gdLst>
                    <a:gd name="textAreaLeft" fmla="*/ 0 w 295560"/>
                    <a:gd name="textAreaRight" fmla="*/ 295920 w 29556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未知"/>
                <p:cNvSpPr/>
                <p:nvPr/>
              </p:nvSpPr>
              <p:spPr>
                <a:xfrm rot="4151400">
                  <a:off x="-2041560" y="3320640"/>
                  <a:ext cx="293760" cy="11520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未知"/>
                <p:cNvSpPr/>
                <p:nvPr/>
              </p:nvSpPr>
              <p:spPr>
                <a:xfrm rot="4151400">
                  <a:off x="-2025720" y="3348360"/>
                  <a:ext cx="284040" cy="11304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113040"/>
                    <a:gd name="textAreaBottom" fmla="*/ 113400 h 113040"/>
                  </a:gdLst>
                  <a:ahLst/>
                  <a:rect l="textAreaLeft" t="textAreaTop" r="textAreaRight" b="textAreaBottom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未知"/>
                <p:cNvSpPr/>
                <p:nvPr/>
              </p:nvSpPr>
              <p:spPr>
                <a:xfrm rot="4151400">
                  <a:off x="-1950480" y="3324240"/>
                  <a:ext cx="214200" cy="1810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未知"/>
                <p:cNvSpPr/>
                <p:nvPr/>
              </p:nvSpPr>
              <p:spPr>
                <a:xfrm rot="4151400">
                  <a:off x="-1974600" y="3319200"/>
                  <a:ext cx="249840" cy="15876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未知"/>
                <p:cNvSpPr/>
                <p:nvPr/>
              </p:nvSpPr>
              <p:spPr>
                <a:xfrm rot="4151400">
                  <a:off x="-1994400" y="3362760"/>
                  <a:ext cx="249840" cy="15876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未知"/>
                <p:cNvSpPr/>
                <p:nvPr/>
              </p:nvSpPr>
              <p:spPr>
                <a:xfrm rot="4151400">
                  <a:off x="-1956240" y="3283920"/>
                  <a:ext cx="262800" cy="244800"/>
                </a:xfrm>
                <a:custGeom>
                  <a:avLst/>
                  <a:gdLst>
                    <a:gd name="textAreaLeft" fmla="*/ 0 w 262800"/>
                    <a:gd name="textAreaRight" fmla="*/ 263160 w 262800"/>
                    <a:gd name="textAreaTop" fmla="*/ 0 h 244800"/>
                    <a:gd name="textAreaBottom" fmla="*/ 245160 h 244800"/>
                  </a:gdLst>
                  <a:ahLst/>
                  <a:rect l="textAreaLeft" t="textAreaTop" r="textAreaRight" b="textAreaBottom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20"/>
                <p:cNvSpPr/>
                <p:nvPr/>
              </p:nvSpPr>
              <p:spPr>
                <a:xfrm flipV="1">
                  <a:off x="-1909800" y="3322440"/>
                  <a:ext cx="164160" cy="26856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未知"/>
                <p:cNvSpPr/>
                <p:nvPr/>
              </p:nvSpPr>
              <p:spPr>
                <a:xfrm rot="4151400">
                  <a:off x="-1904760" y="3337560"/>
                  <a:ext cx="158760" cy="24912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249120"/>
                    <a:gd name="textAreaBottom" fmla="*/ 249480 h 249120"/>
                  </a:gdLst>
                  <a:ahLst/>
                  <a:rect l="textAreaLeft" t="textAreaTop" r="textAreaRight" b="textAreaBottom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未知"/>
                <p:cNvSpPr/>
                <p:nvPr/>
              </p:nvSpPr>
              <p:spPr>
                <a:xfrm rot="4151400">
                  <a:off x="-1866960" y="3345840"/>
                  <a:ext cx="123120" cy="25632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未知"/>
                <p:cNvSpPr/>
                <p:nvPr/>
              </p:nvSpPr>
              <p:spPr>
                <a:xfrm rot="4151400">
                  <a:off x="-1832040" y="3354120"/>
                  <a:ext cx="82440" cy="271440"/>
                </a:xfrm>
                <a:custGeom>
                  <a:avLst/>
                  <a:gdLst>
                    <a:gd name="textAreaLeft" fmla="*/ 0 w 82440"/>
                    <a:gd name="textAreaRight" fmla="*/ 82800 w 82440"/>
                    <a:gd name="textAreaTop" fmla="*/ 0 h 271440"/>
                    <a:gd name="textAreaBottom" fmla="*/ 271440 h 271440"/>
                  </a:gdLst>
                  <a:ahLst/>
                  <a:rect l="textAreaLeft" t="textAreaTop" r="textAreaRight" b="textAreaBottom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未知"/>
                <p:cNvSpPr/>
                <p:nvPr/>
              </p:nvSpPr>
              <p:spPr>
                <a:xfrm rot="4151400">
                  <a:off x="-1802160" y="3375720"/>
                  <a:ext cx="41040" cy="2901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未知"/>
                <p:cNvSpPr/>
                <p:nvPr/>
              </p:nvSpPr>
              <p:spPr>
                <a:xfrm rot="4151400">
                  <a:off x="-1779840" y="3363480"/>
                  <a:ext cx="47520" cy="314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14640"/>
                    <a:gd name="textAreaBottom" fmla="*/ 315000 h 314640"/>
                  </a:gdLst>
                  <a:ahLst/>
                  <a:rect l="textAreaLeft" t="textAreaTop" r="textAreaRight" b="textAreaBottom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未知"/>
                <p:cNvSpPr/>
                <p:nvPr/>
              </p:nvSpPr>
              <p:spPr>
                <a:xfrm rot="4151400">
                  <a:off x="-1795680" y="3410280"/>
                  <a:ext cx="45360" cy="28332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283320"/>
                    <a:gd name="textAreaBottom" fmla="*/ 283680 h 283320"/>
                  </a:gdLst>
                  <a:ahLst/>
                  <a:rect l="textAreaLeft" t="textAreaTop" r="textAreaRight" b="textAreaBottom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未知"/>
                <p:cNvSpPr/>
                <p:nvPr/>
              </p:nvSpPr>
              <p:spPr>
                <a:xfrm rot="4151400">
                  <a:off x="-1813320" y="3463200"/>
                  <a:ext cx="79200" cy="23796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237960"/>
                    <a:gd name="textAreaBottom" fmla="*/ 238320 h 237960"/>
                  </a:gdLst>
                  <a:ahLst/>
                  <a:rect l="textAreaLeft" t="textAreaTop" r="textAreaRight" b="textAreaBottom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未知"/>
                <p:cNvSpPr/>
                <p:nvPr/>
              </p:nvSpPr>
              <p:spPr>
                <a:xfrm rot="4151400">
                  <a:off x="-1805760" y="3447360"/>
                  <a:ext cx="159120" cy="294840"/>
                </a:xfrm>
                <a:custGeom>
                  <a:avLst/>
                  <a:gdLst>
                    <a:gd name="textAreaLeft" fmla="*/ 0 w 159120"/>
                    <a:gd name="textAreaRight" fmla="*/ 159480 w 159120"/>
                    <a:gd name="textAreaTop" fmla="*/ 0 h 294840"/>
                    <a:gd name="textAreaBottom" fmla="*/ 295200 h 294840"/>
                  </a:gdLst>
                  <a:ahLst/>
                  <a:rect l="textAreaLeft" t="textAreaTop" r="textAreaRight" b="textAreaBottom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未知"/>
                <p:cNvSpPr/>
                <p:nvPr/>
              </p:nvSpPr>
              <p:spPr>
                <a:xfrm rot="4151400">
                  <a:off x="-1852200" y="3503160"/>
                  <a:ext cx="204120" cy="249480"/>
                </a:xfrm>
                <a:custGeom>
                  <a:avLst/>
                  <a:gdLst>
                    <a:gd name="textAreaLeft" fmla="*/ 0 w 204120"/>
                    <a:gd name="textAreaRight" fmla="*/ 204480 w 204120"/>
                    <a:gd name="textAreaTop" fmla="*/ 0 h 249480"/>
                    <a:gd name="textAreaBottom" fmla="*/ 249840 h 249480"/>
                  </a:gdLst>
                  <a:ahLst/>
                  <a:rect l="textAreaLeft" t="textAreaTop" r="textAreaRight" b="textAreaBottom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未知"/>
                <p:cNvSpPr/>
                <p:nvPr/>
              </p:nvSpPr>
              <p:spPr>
                <a:xfrm rot="4151400">
                  <a:off x="-1886040" y="3567960"/>
                  <a:ext cx="238320" cy="192600"/>
                </a:xfrm>
                <a:custGeom>
                  <a:avLst/>
                  <a:gdLst>
                    <a:gd name="textAreaLeft" fmla="*/ 0 w 238320"/>
                    <a:gd name="textAreaRight" fmla="*/ 238680 w 23832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未知"/>
                <p:cNvSpPr/>
                <p:nvPr/>
              </p:nvSpPr>
              <p:spPr>
                <a:xfrm rot="4151400">
                  <a:off x="-1913400" y="3607200"/>
                  <a:ext cx="272520" cy="15876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未知"/>
                <p:cNvSpPr/>
                <p:nvPr/>
              </p:nvSpPr>
              <p:spPr>
                <a:xfrm rot="4151400">
                  <a:off x="-1945800" y="3611160"/>
                  <a:ext cx="317880" cy="158760"/>
                </a:xfrm>
                <a:custGeom>
                  <a:avLst/>
                  <a:gdLst>
                    <a:gd name="textAreaLeft" fmla="*/ 0 w 317880"/>
                    <a:gd name="textAreaRight" fmla="*/ 318240 w 3178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未知"/>
                <p:cNvSpPr/>
                <p:nvPr/>
              </p:nvSpPr>
              <p:spPr>
                <a:xfrm rot="4151400">
                  <a:off x="-1982520" y="3661920"/>
                  <a:ext cx="194400" cy="21600"/>
                </a:xfrm>
                <a:custGeom>
                  <a:avLst/>
                  <a:gdLst>
                    <a:gd name="textAreaLeft" fmla="*/ 0 w 194400"/>
                    <a:gd name="textAreaRight" fmla="*/ 194760 w 19440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未知"/>
                <p:cNvSpPr/>
                <p:nvPr/>
              </p:nvSpPr>
              <p:spPr>
                <a:xfrm rot="4151400">
                  <a:off x="-1973520" y="3633840"/>
                  <a:ext cx="136080" cy="3348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未知"/>
                <p:cNvSpPr/>
                <p:nvPr/>
              </p:nvSpPr>
              <p:spPr>
                <a:xfrm rot="4151400">
                  <a:off x="-1989720" y="3594600"/>
                  <a:ext cx="90720" cy="68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未知"/>
                <p:cNvSpPr/>
                <p:nvPr/>
              </p:nvSpPr>
              <p:spPr>
                <a:xfrm rot="4151400">
                  <a:off x="-1989360" y="3569400"/>
                  <a:ext cx="65160" cy="76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未知"/>
                <p:cNvSpPr/>
                <p:nvPr/>
              </p:nvSpPr>
              <p:spPr>
                <a:xfrm rot="4151400">
                  <a:off x="-2048400" y="3445920"/>
                  <a:ext cx="227160" cy="176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未知"/>
                <p:cNvSpPr/>
                <p:nvPr/>
              </p:nvSpPr>
              <p:spPr>
                <a:xfrm rot="4151400">
                  <a:off x="-1982880" y="3678480"/>
                  <a:ext cx="227160" cy="1368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未知"/>
                <p:cNvSpPr/>
                <p:nvPr/>
              </p:nvSpPr>
              <p:spPr>
                <a:xfrm rot="4151400">
                  <a:off x="-2011320" y="3615120"/>
                  <a:ext cx="158760" cy="9072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未知"/>
                <p:cNvSpPr/>
                <p:nvPr/>
              </p:nvSpPr>
              <p:spPr>
                <a:xfrm rot="4151400">
                  <a:off x="-1788120" y="3393360"/>
                  <a:ext cx="8640" cy="26064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260640"/>
                    <a:gd name="textAreaBottom" fmla="*/ 261000 h 260640"/>
                  </a:gdLst>
                  <a:ahLst/>
                  <a:rect l="textAreaLeft" t="textAreaTop" r="textAreaRight" b="textAreaBottom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未知"/>
                <p:cNvSpPr/>
                <p:nvPr/>
              </p:nvSpPr>
              <p:spPr>
                <a:xfrm rot="4151400">
                  <a:off x="-2043360" y="3457440"/>
                  <a:ext cx="136080" cy="14724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未知"/>
                <p:cNvSpPr/>
                <p:nvPr/>
              </p:nvSpPr>
              <p:spPr>
                <a:xfrm rot="4151400">
                  <a:off x="-2098080" y="3445560"/>
                  <a:ext cx="124560" cy="20412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0 h 204120"/>
                    <a:gd name="textAreaBottom" fmla="*/ 204480 h 204120"/>
                  </a:gdLst>
                  <a:ahLst/>
                  <a:rect l="textAreaLeft" t="textAreaTop" r="textAreaRight" b="textAreaBottom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未知"/>
                <p:cNvSpPr/>
                <p:nvPr/>
              </p:nvSpPr>
              <p:spPr>
                <a:xfrm rot="4151400">
                  <a:off x="-2029680" y="3567240"/>
                  <a:ext cx="79200" cy="169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未知"/>
                <p:cNvSpPr/>
                <p:nvPr/>
              </p:nvSpPr>
              <p:spPr>
                <a:xfrm rot="4832400">
                  <a:off x="-1913400" y="3641400"/>
                  <a:ext cx="102240" cy="22320"/>
                </a:xfrm>
                <a:custGeom>
                  <a:avLst/>
                  <a:gdLst>
                    <a:gd name="textAreaLeft" fmla="*/ 0 w 102240"/>
                    <a:gd name="textAreaRight" fmla="*/ 102600 w 10224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未知"/>
                <p:cNvSpPr/>
                <p:nvPr/>
              </p:nvSpPr>
              <p:spPr>
                <a:xfrm rot="4151400">
                  <a:off x="-1844280" y="3474720"/>
                  <a:ext cx="68040" cy="1814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1440"/>
                    <a:gd name="textAreaBottom" fmla="*/ 181800 h 181440"/>
                  </a:gdLst>
                  <a:ahLst/>
                  <a:rect l="textAreaLeft" t="textAreaTop" r="textAreaRight" b="textAreaBottom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3" name="Group 46"/>
          <p:cNvGrpSpPr/>
          <p:nvPr/>
        </p:nvGrpSpPr>
        <p:grpSpPr>
          <a:xfrm>
            <a:off x="-2801880" y="766440"/>
            <a:ext cx="936720" cy="658800"/>
            <a:chOff x="-2801880" y="766440"/>
            <a:chExt cx="936720" cy="658800"/>
          </a:xfrm>
        </p:grpSpPr>
        <p:sp>
          <p:nvSpPr>
            <p:cNvPr id="184" name="未知"/>
            <p:cNvSpPr/>
            <p:nvPr/>
          </p:nvSpPr>
          <p:spPr>
            <a:xfrm rot="4095000">
              <a:off x="-2207520" y="1171080"/>
              <a:ext cx="102240" cy="2232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48"/>
            <p:cNvGrpSpPr/>
            <p:nvPr/>
          </p:nvGrpSpPr>
          <p:grpSpPr>
            <a:xfrm>
              <a:off x="-2801880" y="766440"/>
              <a:ext cx="936720" cy="658800"/>
              <a:chOff x="-2801880" y="766440"/>
              <a:chExt cx="936720" cy="658800"/>
            </a:xfrm>
          </p:grpSpPr>
          <p:grpSp>
            <p:nvGrpSpPr>
              <p:cNvPr id="186" name="Group 49"/>
              <p:cNvGrpSpPr/>
              <p:nvPr/>
            </p:nvGrpSpPr>
            <p:grpSpPr>
              <a:xfrm>
                <a:off x="-2801880" y="1062360"/>
                <a:ext cx="658080" cy="240480"/>
                <a:chOff x="-2801880" y="1062360"/>
                <a:chExt cx="658080" cy="240480"/>
              </a:xfrm>
            </p:grpSpPr>
            <p:sp>
              <p:nvSpPr>
                <p:cNvPr id="187" name="AutoShape 50"/>
                <p:cNvSpPr/>
                <p:nvPr/>
              </p:nvSpPr>
              <p:spPr>
                <a:xfrm rot="4095000">
                  <a:off x="-2242440" y="107928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未知"/>
                <p:cNvSpPr/>
                <p:nvPr/>
              </p:nvSpPr>
              <p:spPr>
                <a:xfrm rot="4095000">
                  <a:off x="-2445840" y="967680"/>
                  <a:ext cx="46080" cy="43416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34160"/>
                    <a:gd name="textAreaBottom" fmla="*/ 434520 h 434160"/>
                  </a:gdLst>
                  <a:ahLst/>
                  <a:rect l="textAreaLeft" t="textAreaTop" r="textAreaRight" b="textAreaBottom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52"/>
                <p:cNvSpPr/>
                <p:nvPr/>
              </p:nvSpPr>
              <p:spPr>
                <a:xfrm rot="4638600">
                  <a:off x="-2725560" y="116316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53"/>
              <p:cNvGrpSpPr/>
              <p:nvPr/>
            </p:nvGrpSpPr>
            <p:grpSpPr>
              <a:xfrm>
                <a:off x="-2460240" y="766440"/>
                <a:ext cx="595080" cy="658800"/>
                <a:chOff x="-2460240" y="766440"/>
                <a:chExt cx="595080" cy="658800"/>
              </a:xfrm>
            </p:grpSpPr>
            <p:sp>
              <p:nvSpPr>
                <p:cNvPr id="191" name="未知"/>
                <p:cNvSpPr/>
                <p:nvPr/>
              </p:nvSpPr>
              <p:spPr>
                <a:xfrm rot="4095000">
                  <a:off x="-2325240" y="1014480"/>
                  <a:ext cx="158040" cy="75600"/>
                </a:xfrm>
                <a:custGeom>
                  <a:avLst/>
                  <a:gdLst>
                    <a:gd name="textAreaLeft" fmla="*/ 0 w 158040"/>
                    <a:gd name="textAreaRight" fmla="*/ 158400 w 15804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未知"/>
                <p:cNvSpPr/>
                <p:nvPr/>
              </p:nvSpPr>
              <p:spPr>
                <a:xfrm rot="4095000">
                  <a:off x="-2425680" y="962280"/>
                  <a:ext cx="272520" cy="6804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未知"/>
                <p:cNvSpPr/>
                <p:nvPr/>
              </p:nvSpPr>
              <p:spPr>
                <a:xfrm rot="4095000">
                  <a:off x="-2374200" y="921600"/>
                  <a:ext cx="284040" cy="6804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未知"/>
                <p:cNvSpPr/>
                <p:nvPr/>
              </p:nvSpPr>
              <p:spPr>
                <a:xfrm rot="4095000">
                  <a:off x="-2369520" y="874800"/>
                  <a:ext cx="295560" cy="90720"/>
                </a:xfrm>
                <a:custGeom>
                  <a:avLst/>
                  <a:gdLst>
                    <a:gd name="textAreaLeft" fmla="*/ 0 w 295560"/>
                    <a:gd name="textAreaRight" fmla="*/ 295920 w 29556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未知"/>
                <p:cNvSpPr/>
                <p:nvPr/>
              </p:nvSpPr>
              <p:spPr>
                <a:xfrm rot="4095000">
                  <a:off x="-2350800" y="879480"/>
                  <a:ext cx="293760" cy="11520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未知"/>
                <p:cNvSpPr/>
                <p:nvPr/>
              </p:nvSpPr>
              <p:spPr>
                <a:xfrm rot="4095000">
                  <a:off x="-2334240" y="907200"/>
                  <a:ext cx="284040" cy="11340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113400"/>
                    <a:gd name="textAreaBottom" fmla="*/ 113760 h 113400"/>
                  </a:gdLst>
                  <a:ahLst/>
                  <a:rect l="textAreaLeft" t="textAreaTop" r="textAreaRight" b="textAreaBottom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未知"/>
                <p:cNvSpPr/>
                <p:nvPr/>
              </p:nvSpPr>
              <p:spPr>
                <a:xfrm rot="4095000">
                  <a:off x="-2258640" y="882720"/>
                  <a:ext cx="214200" cy="1810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未知"/>
                <p:cNvSpPr/>
                <p:nvPr/>
              </p:nvSpPr>
              <p:spPr>
                <a:xfrm rot="4095000">
                  <a:off x="-2283120" y="877320"/>
                  <a:ext cx="249840" cy="15876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未知"/>
                <p:cNvSpPr/>
                <p:nvPr/>
              </p:nvSpPr>
              <p:spPr>
                <a:xfrm rot="4095000">
                  <a:off x="-2302560" y="921240"/>
                  <a:ext cx="249840" cy="15876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未知"/>
                <p:cNvSpPr/>
                <p:nvPr/>
              </p:nvSpPr>
              <p:spPr>
                <a:xfrm rot="4095000">
                  <a:off x="-2264400" y="841680"/>
                  <a:ext cx="262800" cy="245160"/>
                </a:xfrm>
                <a:custGeom>
                  <a:avLst/>
                  <a:gdLst>
                    <a:gd name="textAreaLeft" fmla="*/ 0 w 262800"/>
                    <a:gd name="textAreaRight" fmla="*/ 263160 w 262800"/>
                    <a:gd name="textAreaTop" fmla="*/ 0 h 245160"/>
                    <a:gd name="textAreaBottom" fmla="*/ 245520 h 245160"/>
                  </a:gdLst>
                  <a:ahLst/>
                  <a:rect l="textAreaLeft" t="textAreaTop" r="textAreaRight" b="textAreaBottom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64"/>
                <p:cNvSpPr/>
                <p:nvPr/>
              </p:nvSpPr>
              <p:spPr>
                <a:xfrm flipV="1">
                  <a:off x="-2215080" y="878760"/>
                  <a:ext cx="160200" cy="2714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未知"/>
                <p:cNvSpPr/>
                <p:nvPr/>
              </p:nvSpPr>
              <p:spPr>
                <a:xfrm rot="4095000">
                  <a:off x="-2212560" y="895320"/>
                  <a:ext cx="158760" cy="24948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249480"/>
                    <a:gd name="textAreaBottom" fmla="*/ 249840 h 249480"/>
                  </a:gdLst>
                  <a:ahLst/>
                  <a:rect l="textAreaLeft" t="textAreaTop" r="textAreaRight" b="textAreaBottom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未知"/>
                <p:cNvSpPr/>
                <p:nvPr/>
              </p:nvSpPr>
              <p:spPr>
                <a:xfrm rot="4095000">
                  <a:off x="-2174040" y="902880"/>
                  <a:ext cx="123120" cy="25668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256680"/>
                    <a:gd name="textAreaBottom" fmla="*/ 257040 h 256680"/>
                  </a:gdLst>
                  <a:ahLst/>
                  <a:rect l="textAreaLeft" t="textAreaTop" r="textAreaRight" b="textAreaBottom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未知"/>
                <p:cNvSpPr/>
                <p:nvPr/>
              </p:nvSpPr>
              <p:spPr>
                <a:xfrm rot="4095000">
                  <a:off x="-2139120" y="911520"/>
                  <a:ext cx="82440" cy="271800"/>
                </a:xfrm>
                <a:custGeom>
                  <a:avLst/>
                  <a:gdLst>
                    <a:gd name="textAreaLeft" fmla="*/ 0 w 82440"/>
                    <a:gd name="textAreaRight" fmla="*/ 82800 w 82440"/>
                    <a:gd name="textAreaTop" fmla="*/ 0 h 271800"/>
                    <a:gd name="textAreaBottom" fmla="*/ 272160 h 271800"/>
                  </a:gdLst>
                  <a:ahLst/>
                  <a:rect l="textAreaLeft" t="textAreaTop" r="textAreaRight" b="textAreaBottom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未知"/>
                <p:cNvSpPr/>
                <p:nvPr/>
              </p:nvSpPr>
              <p:spPr>
                <a:xfrm rot="4095000">
                  <a:off x="-2108520" y="932760"/>
                  <a:ext cx="41040" cy="2901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未知"/>
                <p:cNvSpPr/>
                <p:nvPr/>
              </p:nvSpPr>
              <p:spPr>
                <a:xfrm rot="4095000">
                  <a:off x="-2086200" y="920160"/>
                  <a:ext cx="47520" cy="3150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15000"/>
                    <a:gd name="textAreaBottom" fmla="*/ 315360 h 315000"/>
                  </a:gdLst>
                  <a:ahLst/>
                  <a:rect l="textAreaLeft" t="textAreaTop" r="textAreaRight" b="textAreaBottom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未知"/>
                <p:cNvSpPr/>
                <p:nvPr/>
              </p:nvSpPr>
              <p:spPr>
                <a:xfrm rot="4095000">
                  <a:off x="-2101680" y="966960"/>
                  <a:ext cx="45360" cy="28368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283680"/>
                    <a:gd name="textAreaBottom" fmla="*/ 284040 h 283680"/>
                  </a:gdLst>
                  <a:ahLst/>
                  <a:rect l="textAreaLeft" t="textAreaTop" r="textAreaRight" b="textAreaBottom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未知"/>
                <p:cNvSpPr/>
                <p:nvPr/>
              </p:nvSpPr>
              <p:spPr>
                <a:xfrm rot="4095000">
                  <a:off x="-2118960" y="1020240"/>
                  <a:ext cx="79200" cy="23796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237960"/>
                    <a:gd name="textAreaBottom" fmla="*/ 238320 h 237960"/>
                  </a:gdLst>
                  <a:ahLst/>
                  <a:rect l="textAreaLeft" t="textAreaTop" r="textAreaRight" b="textAreaBottom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未知"/>
                <p:cNvSpPr/>
                <p:nvPr/>
              </p:nvSpPr>
              <p:spPr>
                <a:xfrm rot="4095000">
                  <a:off x="-2111040" y="1003680"/>
                  <a:ext cx="159120" cy="294840"/>
                </a:xfrm>
                <a:custGeom>
                  <a:avLst/>
                  <a:gdLst>
                    <a:gd name="textAreaLeft" fmla="*/ 0 w 159120"/>
                    <a:gd name="textAreaRight" fmla="*/ 159480 w 159120"/>
                    <a:gd name="textAreaTop" fmla="*/ 0 h 294840"/>
                    <a:gd name="textAreaBottom" fmla="*/ 295200 h 294840"/>
                  </a:gdLst>
                  <a:ahLst/>
                  <a:rect l="textAreaLeft" t="textAreaTop" r="textAreaRight" b="textAreaBottom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未知"/>
                <p:cNvSpPr/>
                <p:nvPr/>
              </p:nvSpPr>
              <p:spPr>
                <a:xfrm rot="4095000">
                  <a:off x="-2157120" y="1059840"/>
                  <a:ext cx="204120" cy="249480"/>
                </a:xfrm>
                <a:custGeom>
                  <a:avLst/>
                  <a:gdLst>
                    <a:gd name="textAreaLeft" fmla="*/ 0 w 204120"/>
                    <a:gd name="textAreaRight" fmla="*/ 204480 w 204120"/>
                    <a:gd name="textAreaTop" fmla="*/ 0 h 249480"/>
                    <a:gd name="textAreaBottom" fmla="*/ 249840 h 249480"/>
                  </a:gdLst>
                  <a:ahLst/>
                  <a:rect l="textAreaLeft" t="textAreaTop" r="textAreaRight" b="textAreaBottom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未知"/>
                <p:cNvSpPr/>
                <p:nvPr/>
              </p:nvSpPr>
              <p:spPr>
                <a:xfrm rot="4095000">
                  <a:off x="-2190240" y="1124640"/>
                  <a:ext cx="238320" cy="192960"/>
                </a:xfrm>
                <a:custGeom>
                  <a:avLst/>
                  <a:gdLst>
                    <a:gd name="textAreaLeft" fmla="*/ 0 w 238320"/>
                    <a:gd name="textAreaRight" fmla="*/ 238680 w 238320"/>
                    <a:gd name="textAreaTop" fmla="*/ 0 h 192960"/>
                    <a:gd name="textAreaBottom" fmla="*/ 193320 h 192960"/>
                  </a:gdLst>
                  <a:ahLst/>
                  <a:rect l="textAreaLeft" t="textAreaTop" r="textAreaRight" b="textAreaBottom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未知"/>
                <p:cNvSpPr/>
                <p:nvPr/>
              </p:nvSpPr>
              <p:spPr>
                <a:xfrm rot="4095000">
                  <a:off x="-2216880" y="1164240"/>
                  <a:ext cx="272520" cy="15876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未知"/>
                <p:cNvSpPr/>
                <p:nvPr/>
              </p:nvSpPr>
              <p:spPr>
                <a:xfrm rot="4095000">
                  <a:off x="-2249640" y="1168560"/>
                  <a:ext cx="317880" cy="158760"/>
                </a:xfrm>
                <a:custGeom>
                  <a:avLst/>
                  <a:gdLst>
                    <a:gd name="textAreaLeft" fmla="*/ 0 w 317880"/>
                    <a:gd name="textAreaRight" fmla="*/ 318240 w 3178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未知"/>
                <p:cNvSpPr/>
                <p:nvPr/>
              </p:nvSpPr>
              <p:spPr>
                <a:xfrm rot="4095000">
                  <a:off x="-2286000" y="1220400"/>
                  <a:ext cx="194400" cy="21600"/>
                </a:xfrm>
                <a:custGeom>
                  <a:avLst/>
                  <a:gdLst>
                    <a:gd name="textAreaLeft" fmla="*/ 0 w 194400"/>
                    <a:gd name="textAreaRight" fmla="*/ 194760 w 19440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未知"/>
                <p:cNvSpPr/>
                <p:nvPr/>
              </p:nvSpPr>
              <p:spPr>
                <a:xfrm rot="4095000">
                  <a:off x="-2278080" y="1193040"/>
                  <a:ext cx="136080" cy="3348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未知"/>
                <p:cNvSpPr/>
                <p:nvPr/>
              </p:nvSpPr>
              <p:spPr>
                <a:xfrm rot="4095000">
                  <a:off x="-2294640" y="1154520"/>
                  <a:ext cx="90720" cy="68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未知"/>
                <p:cNvSpPr/>
                <p:nvPr/>
              </p:nvSpPr>
              <p:spPr>
                <a:xfrm rot="4095000">
                  <a:off x="-2294280" y="1129320"/>
                  <a:ext cx="65160" cy="76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未知"/>
                <p:cNvSpPr/>
                <p:nvPr/>
              </p:nvSpPr>
              <p:spPr>
                <a:xfrm rot="4095000">
                  <a:off x="-2356200" y="1005480"/>
                  <a:ext cx="227160" cy="176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未知"/>
                <p:cNvSpPr/>
                <p:nvPr/>
              </p:nvSpPr>
              <p:spPr>
                <a:xfrm rot="4095000">
                  <a:off x="-2286720" y="1237320"/>
                  <a:ext cx="227160" cy="1368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未知"/>
                <p:cNvSpPr/>
                <p:nvPr/>
              </p:nvSpPr>
              <p:spPr>
                <a:xfrm rot="4095000">
                  <a:off x="-2315520" y="1174680"/>
                  <a:ext cx="158760" cy="9072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未知"/>
                <p:cNvSpPr/>
                <p:nvPr/>
              </p:nvSpPr>
              <p:spPr>
                <a:xfrm rot="4095000">
                  <a:off x="-2094840" y="950400"/>
                  <a:ext cx="8640" cy="26100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261000"/>
                    <a:gd name="textAreaBottom" fmla="*/ 261360 h 261000"/>
                  </a:gdLst>
                  <a:ahLst/>
                  <a:rect l="textAreaLeft" t="textAreaTop" r="textAreaRight" b="textAreaBottom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未知"/>
                <p:cNvSpPr/>
                <p:nvPr/>
              </p:nvSpPr>
              <p:spPr>
                <a:xfrm rot="4095000">
                  <a:off x="-2349720" y="1017720"/>
                  <a:ext cx="136080" cy="14760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未知"/>
                <p:cNvSpPr/>
                <p:nvPr/>
              </p:nvSpPr>
              <p:spPr>
                <a:xfrm rot="4095000">
                  <a:off x="-2404080" y="1006560"/>
                  <a:ext cx="124560" cy="20448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未知"/>
                <p:cNvSpPr/>
                <p:nvPr/>
              </p:nvSpPr>
              <p:spPr>
                <a:xfrm rot="4095000">
                  <a:off x="-2333880" y="1127880"/>
                  <a:ext cx="79200" cy="169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未知"/>
                <p:cNvSpPr/>
                <p:nvPr/>
              </p:nvSpPr>
              <p:spPr>
                <a:xfrm rot="4776600">
                  <a:off x="-2217600" y="1199880"/>
                  <a:ext cx="102240" cy="22320"/>
                </a:xfrm>
                <a:custGeom>
                  <a:avLst/>
                  <a:gdLst>
                    <a:gd name="textAreaLeft" fmla="*/ 0 w 102240"/>
                    <a:gd name="textAreaRight" fmla="*/ 102600 w 10224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未知"/>
                <p:cNvSpPr/>
                <p:nvPr/>
              </p:nvSpPr>
              <p:spPr>
                <a:xfrm rot="4095000">
                  <a:off x="-2149920" y="1032480"/>
                  <a:ext cx="68040" cy="1814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1440"/>
                    <a:gd name="textAreaBottom" fmla="*/ 181800 h 181440"/>
                  </a:gdLst>
                  <a:ahLst/>
                  <a:rect l="textAreaLeft" t="textAreaTop" r="textAreaRight" b="textAreaBottom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7" name="Group 90"/>
          <p:cNvGrpSpPr/>
          <p:nvPr/>
        </p:nvGrpSpPr>
        <p:grpSpPr>
          <a:xfrm>
            <a:off x="-3045600" y="2540880"/>
            <a:ext cx="668520" cy="908640"/>
            <a:chOff x="-3045600" y="2540880"/>
            <a:chExt cx="668520" cy="908640"/>
          </a:xfrm>
        </p:grpSpPr>
        <p:sp>
          <p:nvSpPr>
            <p:cNvPr id="228" name="未知"/>
            <p:cNvSpPr/>
            <p:nvPr/>
          </p:nvSpPr>
          <p:spPr>
            <a:xfrm rot="369600">
              <a:off x="-2683080" y="2820600"/>
              <a:ext cx="102240" cy="2232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92"/>
            <p:cNvGrpSpPr/>
            <p:nvPr/>
          </p:nvGrpSpPr>
          <p:grpSpPr>
            <a:xfrm>
              <a:off x="-3045600" y="2540880"/>
              <a:ext cx="668520" cy="908640"/>
              <a:chOff x="-3045600" y="2540880"/>
              <a:chExt cx="668520" cy="908640"/>
            </a:xfrm>
          </p:grpSpPr>
          <p:grpSp>
            <p:nvGrpSpPr>
              <p:cNvPr id="230" name="Group 93"/>
              <p:cNvGrpSpPr/>
              <p:nvPr/>
            </p:nvGrpSpPr>
            <p:grpSpPr>
              <a:xfrm>
                <a:off x="-2866320" y="2793960"/>
                <a:ext cx="208800" cy="655560"/>
                <a:chOff x="-2866320" y="2793960"/>
                <a:chExt cx="208800" cy="655560"/>
              </a:xfrm>
            </p:grpSpPr>
            <p:sp>
              <p:nvSpPr>
                <p:cNvPr id="231" name="AutoShape 94"/>
                <p:cNvSpPr/>
                <p:nvPr/>
              </p:nvSpPr>
              <p:spPr>
                <a:xfrm rot="369600">
                  <a:off x="-2752200" y="279828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未知"/>
                <p:cNvSpPr/>
                <p:nvPr/>
              </p:nvSpPr>
              <p:spPr>
                <a:xfrm rot="369600">
                  <a:off x="-2777400" y="2851200"/>
                  <a:ext cx="46080" cy="43416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34160"/>
                    <a:gd name="textAreaBottom" fmla="*/ 434520 h 434160"/>
                  </a:gdLst>
                  <a:ahLst/>
                  <a:rect l="textAreaLeft" t="textAreaTop" r="textAreaRight" b="textAreaBottom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96"/>
                <p:cNvSpPr/>
                <p:nvPr/>
              </p:nvSpPr>
              <p:spPr>
                <a:xfrm rot="913200">
                  <a:off x="-2841840" y="325440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Group 97"/>
              <p:cNvGrpSpPr/>
              <p:nvPr/>
            </p:nvGrpSpPr>
            <p:grpSpPr>
              <a:xfrm>
                <a:off x="-3045600" y="2540880"/>
                <a:ext cx="668520" cy="528840"/>
                <a:chOff x="-3045600" y="2540880"/>
                <a:chExt cx="668520" cy="528840"/>
              </a:xfrm>
            </p:grpSpPr>
            <p:sp>
              <p:nvSpPr>
                <p:cNvPr id="235" name="未知"/>
                <p:cNvSpPr/>
                <p:nvPr/>
              </p:nvSpPr>
              <p:spPr>
                <a:xfrm rot="369600">
                  <a:off x="-2867760" y="2812320"/>
                  <a:ext cx="158040" cy="75600"/>
                </a:xfrm>
                <a:custGeom>
                  <a:avLst/>
                  <a:gdLst>
                    <a:gd name="textAreaLeft" fmla="*/ 0 w 158040"/>
                    <a:gd name="textAreaRight" fmla="*/ 158400 w 15804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未知"/>
                <p:cNvSpPr/>
                <p:nvPr/>
              </p:nvSpPr>
              <p:spPr>
                <a:xfrm rot="369600">
                  <a:off x="-2994840" y="2828160"/>
                  <a:ext cx="272520" cy="6804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未知"/>
                <p:cNvSpPr/>
                <p:nvPr/>
              </p:nvSpPr>
              <p:spPr>
                <a:xfrm rot="369600">
                  <a:off x="-3009600" y="2758680"/>
                  <a:ext cx="284040" cy="6804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未知"/>
                <p:cNvSpPr/>
                <p:nvPr/>
              </p:nvSpPr>
              <p:spPr>
                <a:xfrm rot="369600">
                  <a:off x="-3041280" y="2721600"/>
                  <a:ext cx="295560" cy="90720"/>
                </a:xfrm>
                <a:custGeom>
                  <a:avLst/>
                  <a:gdLst>
                    <a:gd name="textAreaLeft" fmla="*/ 0 w 295560"/>
                    <a:gd name="textAreaRight" fmla="*/ 295920 w 29556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未知"/>
                <p:cNvSpPr/>
                <p:nvPr/>
              </p:nvSpPr>
              <p:spPr>
                <a:xfrm rot="369600">
                  <a:off x="-3017520" y="2701080"/>
                  <a:ext cx="293760" cy="11520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未知"/>
                <p:cNvSpPr/>
                <p:nvPr/>
              </p:nvSpPr>
              <p:spPr>
                <a:xfrm rot="369600">
                  <a:off x="-2983680" y="2704320"/>
                  <a:ext cx="284040" cy="11340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113400"/>
                    <a:gd name="textAreaBottom" fmla="*/ 113760 h 113400"/>
                  </a:gdLst>
                  <a:ahLst/>
                  <a:rect l="textAreaLeft" t="textAreaTop" r="textAreaRight" b="textAreaBottom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未知"/>
                <p:cNvSpPr/>
                <p:nvPr/>
              </p:nvSpPr>
              <p:spPr>
                <a:xfrm rot="369600">
                  <a:off x="-2921400" y="2639160"/>
                  <a:ext cx="214200" cy="1810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未知"/>
                <p:cNvSpPr/>
                <p:nvPr/>
              </p:nvSpPr>
              <p:spPr>
                <a:xfrm rot="369600">
                  <a:off x="-2957040" y="2648160"/>
                  <a:ext cx="249840" cy="15876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未知"/>
                <p:cNvSpPr/>
                <p:nvPr/>
              </p:nvSpPr>
              <p:spPr>
                <a:xfrm rot="369600">
                  <a:off x="-2927160" y="2685960"/>
                  <a:ext cx="249840" cy="15876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未知"/>
                <p:cNvSpPr/>
                <p:nvPr/>
              </p:nvSpPr>
              <p:spPr>
                <a:xfrm rot="369600">
                  <a:off x="-2944800" y="2586600"/>
                  <a:ext cx="262800" cy="245160"/>
                </a:xfrm>
                <a:custGeom>
                  <a:avLst/>
                  <a:gdLst>
                    <a:gd name="textAreaLeft" fmla="*/ 0 w 262800"/>
                    <a:gd name="textAreaRight" fmla="*/ 263160 w 262800"/>
                    <a:gd name="textAreaTop" fmla="*/ 0 h 245160"/>
                    <a:gd name="textAreaBottom" fmla="*/ 245520 h 245160"/>
                  </a:gdLst>
                  <a:ahLst/>
                  <a:rect l="textAreaLeft" t="textAreaTop" r="textAreaRight" b="textAreaBottom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108"/>
                <p:cNvSpPr/>
                <p:nvPr/>
              </p:nvSpPr>
              <p:spPr>
                <a:xfrm flipH="1" flipV="1">
                  <a:off x="-2853000" y="2599920"/>
                  <a:ext cx="165240" cy="26856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未知"/>
                <p:cNvSpPr/>
                <p:nvPr/>
              </p:nvSpPr>
              <p:spPr>
                <a:xfrm rot="369600">
                  <a:off x="-2843640" y="2610720"/>
                  <a:ext cx="158760" cy="24948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249480"/>
                    <a:gd name="textAreaBottom" fmla="*/ 249840 h 249480"/>
                  </a:gdLst>
                  <a:ahLst/>
                  <a:rect l="textAreaLeft" t="textAreaTop" r="textAreaRight" b="textAreaBottom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未知"/>
                <p:cNvSpPr/>
                <p:nvPr/>
              </p:nvSpPr>
              <p:spPr>
                <a:xfrm rot="369600">
                  <a:off x="-2806200" y="2594160"/>
                  <a:ext cx="123120" cy="25668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256680"/>
                    <a:gd name="textAreaBottom" fmla="*/ 257040 h 256680"/>
                  </a:gdLst>
                  <a:ahLst/>
                  <a:rect l="textAreaLeft" t="textAreaTop" r="textAreaRight" b="textAreaBottom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未知"/>
                <p:cNvSpPr/>
                <p:nvPr/>
              </p:nvSpPr>
              <p:spPr>
                <a:xfrm rot="369600">
                  <a:off x="-2764800" y="2581200"/>
                  <a:ext cx="82440" cy="271800"/>
                </a:xfrm>
                <a:custGeom>
                  <a:avLst/>
                  <a:gdLst>
                    <a:gd name="textAreaLeft" fmla="*/ 0 w 82440"/>
                    <a:gd name="textAreaRight" fmla="*/ 82800 w 82440"/>
                    <a:gd name="textAreaTop" fmla="*/ 0 h 271800"/>
                    <a:gd name="textAreaBottom" fmla="*/ 272160 h 271800"/>
                  </a:gdLst>
                  <a:ahLst/>
                  <a:rect l="textAreaLeft" t="textAreaTop" r="textAreaRight" b="textAreaBottom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未知"/>
                <p:cNvSpPr/>
                <p:nvPr/>
              </p:nvSpPr>
              <p:spPr>
                <a:xfrm rot="369600">
                  <a:off x="-2712600" y="2577240"/>
                  <a:ext cx="41040" cy="2901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未知"/>
                <p:cNvSpPr/>
                <p:nvPr/>
              </p:nvSpPr>
              <p:spPr>
                <a:xfrm rot="369600">
                  <a:off x="-2704320" y="2542320"/>
                  <a:ext cx="47520" cy="3150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15000"/>
                    <a:gd name="textAreaBottom" fmla="*/ 315360 h 315000"/>
                  </a:gdLst>
                  <a:ahLst/>
                  <a:rect l="textAreaLeft" t="textAreaTop" r="textAreaRight" b="textAreaBottom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未知"/>
                <p:cNvSpPr/>
                <p:nvPr/>
              </p:nvSpPr>
              <p:spPr>
                <a:xfrm rot="369600">
                  <a:off x="-2683440" y="2587320"/>
                  <a:ext cx="45360" cy="28368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283680"/>
                    <a:gd name="textAreaBottom" fmla="*/ 284040 h 283680"/>
                  </a:gdLst>
                  <a:ahLst/>
                  <a:rect l="textAreaLeft" t="textAreaTop" r="textAreaRight" b="textAreaBottom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未知"/>
                <p:cNvSpPr/>
                <p:nvPr/>
              </p:nvSpPr>
              <p:spPr>
                <a:xfrm rot="369600">
                  <a:off x="-2673720" y="2624040"/>
                  <a:ext cx="79200" cy="23796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237960"/>
                    <a:gd name="textAreaBottom" fmla="*/ 238320 h 237960"/>
                  </a:gdLst>
                  <a:ahLst/>
                  <a:rect l="textAreaLeft" t="textAreaTop" r="textAreaRight" b="textAreaBottom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未知"/>
                <p:cNvSpPr/>
                <p:nvPr/>
              </p:nvSpPr>
              <p:spPr>
                <a:xfrm rot="369600">
                  <a:off x="-2680560" y="2559240"/>
                  <a:ext cx="159120" cy="294840"/>
                </a:xfrm>
                <a:custGeom>
                  <a:avLst/>
                  <a:gdLst>
                    <a:gd name="textAreaLeft" fmla="*/ 0 w 159120"/>
                    <a:gd name="textAreaRight" fmla="*/ 159480 w 159120"/>
                    <a:gd name="textAreaTop" fmla="*/ 0 h 294840"/>
                    <a:gd name="textAreaBottom" fmla="*/ 295200 h 294840"/>
                  </a:gdLst>
                  <a:ahLst/>
                  <a:rect l="textAreaLeft" t="textAreaTop" r="textAreaRight" b="textAreaBottom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未知"/>
                <p:cNvSpPr/>
                <p:nvPr/>
              </p:nvSpPr>
              <p:spPr>
                <a:xfrm rot="369600">
                  <a:off x="-2684160" y="2618280"/>
                  <a:ext cx="204120" cy="249480"/>
                </a:xfrm>
                <a:custGeom>
                  <a:avLst/>
                  <a:gdLst>
                    <a:gd name="textAreaLeft" fmla="*/ 0 w 204120"/>
                    <a:gd name="textAreaRight" fmla="*/ 204480 w 204120"/>
                    <a:gd name="textAreaTop" fmla="*/ 0 h 249480"/>
                    <a:gd name="textAreaBottom" fmla="*/ 249840 h 249480"/>
                  </a:gdLst>
                  <a:ahLst/>
                  <a:rect l="textAreaLeft" t="textAreaTop" r="textAreaRight" b="textAreaBottom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未知"/>
                <p:cNvSpPr/>
                <p:nvPr/>
              </p:nvSpPr>
              <p:spPr>
                <a:xfrm rot="369600">
                  <a:off x="-2676240" y="2678040"/>
                  <a:ext cx="238320" cy="192960"/>
                </a:xfrm>
                <a:custGeom>
                  <a:avLst/>
                  <a:gdLst>
                    <a:gd name="textAreaLeft" fmla="*/ 0 w 238320"/>
                    <a:gd name="textAreaRight" fmla="*/ 238680 w 238320"/>
                    <a:gd name="textAreaTop" fmla="*/ 0 h 192960"/>
                    <a:gd name="textAreaBottom" fmla="*/ 193320 h 192960"/>
                  </a:gdLst>
                  <a:ahLst/>
                  <a:rect l="textAreaLeft" t="textAreaTop" r="textAreaRight" b="textAreaBottom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未知"/>
                <p:cNvSpPr/>
                <p:nvPr/>
              </p:nvSpPr>
              <p:spPr>
                <a:xfrm rot="369600">
                  <a:off x="-2678400" y="2714040"/>
                  <a:ext cx="272520" cy="15876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未知"/>
                <p:cNvSpPr/>
                <p:nvPr/>
              </p:nvSpPr>
              <p:spPr>
                <a:xfrm rot="369600">
                  <a:off x="-2702520" y="2725200"/>
                  <a:ext cx="317880" cy="158760"/>
                </a:xfrm>
                <a:custGeom>
                  <a:avLst/>
                  <a:gdLst>
                    <a:gd name="textAreaLeft" fmla="*/ 0 w 317880"/>
                    <a:gd name="textAreaRight" fmla="*/ 318240 w 3178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未知"/>
                <p:cNvSpPr/>
                <p:nvPr/>
              </p:nvSpPr>
              <p:spPr>
                <a:xfrm rot="369600">
                  <a:off x="-2701080" y="2872800"/>
                  <a:ext cx="194400" cy="21600"/>
                </a:xfrm>
                <a:custGeom>
                  <a:avLst/>
                  <a:gdLst>
                    <a:gd name="textAreaLeft" fmla="*/ 0 w 194400"/>
                    <a:gd name="textAreaRight" fmla="*/ 194760 w 19440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未知"/>
                <p:cNvSpPr/>
                <p:nvPr/>
              </p:nvSpPr>
              <p:spPr>
                <a:xfrm rot="369600">
                  <a:off x="-2700720" y="2875320"/>
                  <a:ext cx="136080" cy="3348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未知"/>
                <p:cNvSpPr/>
                <p:nvPr/>
              </p:nvSpPr>
              <p:spPr>
                <a:xfrm rot="369600">
                  <a:off x="-2714760" y="2882160"/>
                  <a:ext cx="90720" cy="68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未知"/>
                <p:cNvSpPr/>
                <p:nvPr/>
              </p:nvSpPr>
              <p:spPr>
                <a:xfrm rot="369600">
                  <a:off x="-2726640" y="2880000"/>
                  <a:ext cx="65160" cy="76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未知"/>
                <p:cNvSpPr/>
                <p:nvPr/>
              </p:nvSpPr>
              <p:spPr>
                <a:xfrm rot="369600">
                  <a:off x="-2934000" y="2820240"/>
                  <a:ext cx="227160" cy="176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未知"/>
                <p:cNvSpPr/>
                <p:nvPr/>
              </p:nvSpPr>
              <p:spPr>
                <a:xfrm rot="369600">
                  <a:off x="-2698560" y="2868480"/>
                  <a:ext cx="227160" cy="1368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未知"/>
                <p:cNvSpPr/>
                <p:nvPr/>
              </p:nvSpPr>
              <p:spPr>
                <a:xfrm rot="369600">
                  <a:off x="-2715120" y="2874600"/>
                  <a:ext cx="158760" cy="9072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未知"/>
                <p:cNvSpPr/>
                <p:nvPr/>
              </p:nvSpPr>
              <p:spPr>
                <a:xfrm rot="369600">
                  <a:off x="-2694600" y="2595600"/>
                  <a:ext cx="8640" cy="26100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261000"/>
                    <a:gd name="textAreaBottom" fmla="*/ 261360 h 261000"/>
                  </a:gdLst>
                  <a:ahLst/>
                  <a:rect l="textAreaLeft" t="textAreaTop" r="textAreaRight" b="textAreaBottom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未知"/>
                <p:cNvSpPr/>
                <p:nvPr/>
              </p:nvSpPr>
              <p:spPr>
                <a:xfrm rot="369600">
                  <a:off x="-2838960" y="2826360"/>
                  <a:ext cx="136080" cy="14760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未知"/>
                <p:cNvSpPr/>
                <p:nvPr/>
              </p:nvSpPr>
              <p:spPr>
                <a:xfrm rot="369600">
                  <a:off x="-2845800" y="2858760"/>
                  <a:ext cx="124560" cy="20448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未知"/>
                <p:cNvSpPr/>
                <p:nvPr/>
              </p:nvSpPr>
              <p:spPr>
                <a:xfrm rot="369600">
                  <a:off x="-2709000" y="2882880"/>
                  <a:ext cx="79200" cy="169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未知"/>
                <p:cNvSpPr/>
                <p:nvPr/>
              </p:nvSpPr>
              <p:spPr>
                <a:xfrm rot="1050600">
                  <a:off x="-2662560" y="2843280"/>
                  <a:ext cx="102240" cy="22320"/>
                </a:xfrm>
                <a:custGeom>
                  <a:avLst/>
                  <a:gdLst>
                    <a:gd name="textAreaLeft" fmla="*/ 0 w 102240"/>
                    <a:gd name="textAreaRight" fmla="*/ 102600 w 10224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未知"/>
                <p:cNvSpPr/>
                <p:nvPr/>
              </p:nvSpPr>
              <p:spPr>
                <a:xfrm rot="369600">
                  <a:off x="-2698920" y="2677680"/>
                  <a:ext cx="68040" cy="1814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1440"/>
                    <a:gd name="textAreaBottom" fmla="*/ 181800 h 181440"/>
                  </a:gdLst>
                  <a:ahLst/>
                  <a:rect l="textAreaLeft" t="textAreaTop" r="textAreaRight" b="textAreaBottom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1" name="Group 134"/>
          <p:cNvGrpSpPr/>
          <p:nvPr/>
        </p:nvGrpSpPr>
        <p:grpSpPr>
          <a:xfrm>
            <a:off x="-3529440" y="1732320"/>
            <a:ext cx="890280" cy="659880"/>
            <a:chOff x="-3529440" y="1732320"/>
            <a:chExt cx="890280" cy="659880"/>
          </a:xfrm>
        </p:grpSpPr>
        <p:sp>
          <p:nvSpPr>
            <p:cNvPr id="272" name="未知"/>
            <p:cNvSpPr/>
            <p:nvPr/>
          </p:nvSpPr>
          <p:spPr>
            <a:xfrm rot="3290400">
              <a:off x="-2971080" y="2116080"/>
              <a:ext cx="102240" cy="2232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136"/>
            <p:cNvGrpSpPr/>
            <p:nvPr/>
          </p:nvGrpSpPr>
          <p:grpSpPr>
            <a:xfrm>
              <a:off x="-3529440" y="1732320"/>
              <a:ext cx="890280" cy="659880"/>
              <a:chOff x="-3529440" y="1732320"/>
              <a:chExt cx="890280" cy="659880"/>
            </a:xfrm>
          </p:grpSpPr>
          <p:grpSp>
            <p:nvGrpSpPr>
              <p:cNvPr id="274" name="Group 137"/>
              <p:cNvGrpSpPr/>
              <p:nvPr/>
            </p:nvGrpSpPr>
            <p:grpSpPr>
              <a:xfrm>
                <a:off x="-3529440" y="2015640"/>
                <a:ext cx="613800" cy="376560"/>
                <a:chOff x="-3529440" y="2015640"/>
                <a:chExt cx="613800" cy="376560"/>
              </a:xfrm>
            </p:grpSpPr>
            <p:sp>
              <p:nvSpPr>
                <p:cNvPr id="275" name="AutoShape 138"/>
                <p:cNvSpPr/>
                <p:nvPr/>
              </p:nvSpPr>
              <p:spPr>
                <a:xfrm rot="3290400">
                  <a:off x="-3019320" y="203580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未知"/>
                <p:cNvSpPr/>
                <p:nvPr/>
              </p:nvSpPr>
              <p:spPr>
                <a:xfrm rot="3290400">
                  <a:off x="-3200760" y="1974600"/>
                  <a:ext cx="46080" cy="4338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33800"/>
                    <a:gd name="textAreaBottom" fmla="*/ 434160 h 433800"/>
                  </a:gdLst>
                  <a:ahLst/>
                  <a:rect l="textAreaLeft" t="textAreaTop" r="textAreaRight" b="textAreaBottom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140"/>
                <p:cNvSpPr/>
                <p:nvPr/>
              </p:nvSpPr>
              <p:spPr>
                <a:xfrm rot="3834000">
                  <a:off x="-3455640" y="223272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141"/>
              <p:cNvGrpSpPr/>
              <p:nvPr/>
            </p:nvGrpSpPr>
            <p:grpSpPr>
              <a:xfrm>
                <a:off x="-3236760" y="1732320"/>
                <a:ext cx="597600" cy="619560"/>
                <a:chOff x="-3236760" y="1732320"/>
                <a:chExt cx="597600" cy="619560"/>
              </a:xfrm>
            </p:grpSpPr>
            <p:sp>
              <p:nvSpPr>
                <p:cNvPr id="279" name="未知"/>
                <p:cNvSpPr/>
                <p:nvPr/>
              </p:nvSpPr>
              <p:spPr>
                <a:xfrm rot="3290400">
                  <a:off x="-3116160" y="1983960"/>
                  <a:ext cx="158040" cy="75600"/>
                </a:xfrm>
                <a:custGeom>
                  <a:avLst/>
                  <a:gdLst>
                    <a:gd name="textAreaLeft" fmla="*/ 0 w 158040"/>
                    <a:gd name="textAreaRight" fmla="*/ 158400 w 15804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未知"/>
                <p:cNvSpPr/>
                <p:nvPr/>
              </p:nvSpPr>
              <p:spPr>
                <a:xfrm rot="3290400">
                  <a:off x="-3228120" y="1943280"/>
                  <a:ext cx="272520" cy="6804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未知"/>
                <p:cNvSpPr/>
                <p:nvPr/>
              </p:nvSpPr>
              <p:spPr>
                <a:xfrm rot="3290400">
                  <a:off x="-3187800" y="1890720"/>
                  <a:ext cx="284040" cy="676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未知"/>
                <p:cNvSpPr/>
                <p:nvPr/>
              </p:nvSpPr>
              <p:spPr>
                <a:xfrm rot="3290400">
                  <a:off x="-3192120" y="1842840"/>
                  <a:ext cx="295560" cy="90720"/>
                </a:xfrm>
                <a:custGeom>
                  <a:avLst/>
                  <a:gdLst>
                    <a:gd name="textAreaLeft" fmla="*/ 0 w 295560"/>
                    <a:gd name="textAreaRight" fmla="*/ 295920 w 29556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未知"/>
                <p:cNvSpPr/>
                <p:nvPr/>
              </p:nvSpPr>
              <p:spPr>
                <a:xfrm rot="3290400">
                  <a:off x="-3169440" y="1842120"/>
                  <a:ext cx="293760" cy="11520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未知"/>
                <p:cNvSpPr/>
                <p:nvPr/>
              </p:nvSpPr>
              <p:spPr>
                <a:xfrm rot="3290400">
                  <a:off x="-3147120" y="1866600"/>
                  <a:ext cx="284040" cy="11304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113040"/>
                    <a:gd name="textAreaBottom" fmla="*/ 113400 h 113040"/>
                  </a:gdLst>
                  <a:ahLst/>
                  <a:rect l="textAreaLeft" t="textAreaTop" r="textAreaRight" b="textAreaBottom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未知"/>
                <p:cNvSpPr/>
                <p:nvPr/>
              </p:nvSpPr>
              <p:spPr>
                <a:xfrm rot="3290400">
                  <a:off x="-3070800" y="1832400"/>
                  <a:ext cx="214200" cy="1810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未知"/>
                <p:cNvSpPr/>
                <p:nvPr/>
              </p:nvSpPr>
              <p:spPr>
                <a:xfrm rot="3290400">
                  <a:off x="-3098880" y="1829160"/>
                  <a:ext cx="249840" cy="15876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未知"/>
                <p:cNvSpPr/>
                <p:nvPr/>
              </p:nvSpPr>
              <p:spPr>
                <a:xfrm rot="3290400">
                  <a:off x="-3107520" y="1876680"/>
                  <a:ext cx="249840" cy="15876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未知"/>
                <p:cNvSpPr/>
                <p:nvPr/>
              </p:nvSpPr>
              <p:spPr>
                <a:xfrm rot="3290400">
                  <a:off x="-3078720" y="1787760"/>
                  <a:ext cx="262800" cy="244800"/>
                </a:xfrm>
                <a:custGeom>
                  <a:avLst/>
                  <a:gdLst>
                    <a:gd name="textAreaLeft" fmla="*/ 0 w 262800"/>
                    <a:gd name="textAreaRight" fmla="*/ 263160 w 262800"/>
                    <a:gd name="textAreaTop" fmla="*/ 0 h 244800"/>
                    <a:gd name="textAreaBottom" fmla="*/ 245160 h 244800"/>
                  </a:gdLst>
                  <a:ahLst/>
                  <a:rect l="textAreaLeft" t="textAreaTop" r="textAreaRight" b="textAreaBottom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52"/>
                <p:cNvSpPr/>
                <p:nvPr/>
              </p:nvSpPr>
              <p:spPr>
                <a:xfrm flipV="1">
                  <a:off x="-2984400" y="1809000"/>
                  <a:ext cx="92520" cy="30096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未知"/>
                <p:cNvSpPr/>
                <p:nvPr/>
              </p:nvSpPr>
              <p:spPr>
                <a:xfrm rot="3290400">
                  <a:off x="-3013920" y="1839600"/>
                  <a:ext cx="158760" cy="24912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249120"/>
                    <a:gd name="textAreaBottom" fmla="*/ 249480 h 249120"/>
                  </a:gdLst>
                  <a:ahLst/>
                  <a:rect l="textAreaLeft" t="textAreaTop" r="textAreaRight" b="textAreaBottom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未知"/>
                <p:cNvSpPr/>
                <p:nvPr/>
              </p:nvSpPr>
              <p:spPr>
                <a:xfrm rot="3290400">
                  <a:off x="-2973600" y="1842120"/>
                  <a:ext cx="123120" cy="25632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未知"/>
                <p:cNvSpPr/>
                <p:nvPr/>
              </p:nvSpPr>
              <p:spPr>
                <a:xfrm rot="3290400">
                  <a:off x="-2935440" y="1847160"/>
                  <a:ext cx="82440" cy="271440"/>
                </a:xfrm>
                <a:custGeom>
                  <a:avLst/>
                  <a:gdLst>
                    <a:gd name="textAreaLeft" fmla="*/ 0 w 82440"/>
                    <a:gd name="textAreaRight" fmla="*/ 82800 w 82440"/>
                    <a:gd name="textAreaTop" fmla="*/ 0 h 271440"/>
                    <a:gd name="textAreaBottom" fmla="*/ 271440 h 271440"/>
                  </a:gdLst>
                  <a:ahLst/>
                  <a:rect l="textAreaLeft" t="textAreaTop" r="textAreaRight" b="textAreaBottom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未知"/>
                <p:cNvSpPr/>
                <p:nvPr/>
              </p:nvSpPr>
              <p:spPr>
                <a:xfrm rot="3290400">
                  <a:off x="-2898000" y="1864800"/>
                  <a:ext cx="41040" cy="2901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未知"/>
                <p:cNvSpPr/>
                <p:nvPr/>
              </p:nvSpPr>
              <p:spPr>
                <a:xfrm rot="3290400">
                  <a:off x="-2876760" y="1846800"/>
                  <a:ext cx="47520" cy="314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14640"/>
                    <a:gd name="textAreaBottom" fmla="*/ 315000 h 314640"/>
                  </a:gdLst>
                  <a:ahLst/>
                  <a:rect l="textAreaLeft" t="textAreaTop" r="textAreaRight" b="textAreaBottom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未知"/>
                <p:cNvSpPr/>
                <p:nvPr/>
              </p:nvSpPr>
              <p:spPr>
                <a:xfrm rot="3290400">
                  <a:off x="-2884320" y="1896480"/>
                  <a:ext cx="45360" cy="28332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283320"/>
                    <a:gd name="textAreaBottom" fmla="*/ 283680 h 283320"/>
                  </a:gdLst>
                  <a:ahLst/>
                  <a:rect l="textAreaLeft" t="textAreaTop" r="textAreaRight" b="textAreaBottom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未知"/>
                <p:cNvSpPr/>
                <p:nvPr/>
              </p:nvSpPr>
              <p:spPr>
                <a:xfrm rot="3290400">
                  <a:off x="-2894400" y="1948680"/>
                  <a:ext cx="79200" cy="23796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237960"/>
                    <a:gd name="textAreaBottom" fmla="*/ 238320 h 237960"/>
                  </a:gdLst>
                  <a:ahLst/>
                  <a:rect l="textAreaLeft" t="textAreaTop" r="textAreaRight" b="textAreaBottom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未知"/>
                <p:cNvSpPr/>
                <p:nvPr/>
              </p:nvSpPr>
              <p:spPr>
                <a:xfrm rot="3290400">
                  <a:off x="-2885040" y="1920600"/>
                  <a:ext cx="159120" cy="294840"/>
                </a:xfrm>
                <a:custGeom>
                  <a:avLst/>
                  <a:gdLst>
                    <a:gd name="textAreaLeft" fmla="*/ 0 w 159120"/>
                    <a:gd name="textAreaRight" fmla="*/ 159480 w 159120"/>
                    <a:gd name="textAreaTop" fmla="*/ 0 h 294840"/>
                    <a:gd name="textAreaBottom" fmla="*/ 295200 h 294840"/>
                  </a:gdLst>
                  <a:ahLst/>
                  <a:rect l="textAreaLeft" t="textAreaTop" r="textAreaRight" b="textAreaBottom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未知"/>
                <p:cNvSpPr/>
                <p:nvPr/>
              </p:nvSpPr>
              <p:spPr>
                <a:xfrm rot="3290400">
                  <a:off x="-2922840" y="1981440"/>
                  <a:ext cx="204120" cy="249480"/>
                </a:xfrm>
                <a:custGeom>
                  <a:avLst/>
                  <a:gdLst>
                    <a:gd name="textAreaLeft" fmla="*/ 0 w 204120"/>
                    <a:gd name="textAreaRight" fmla="*/ 204480 w 204120"/>
                    <a:gd name="textAreaTop" fmla="*/ 0 h 249480"/>
                    <a:gd name="textAreaBottom" fmla="*/ 249840 h 249480"/>
                  </a:gdLst>
                  <a:ahLst/>
                  <a:rect l="textAreaLeft" t="textAreaTop" r="textAreaRight" b="textAreaBottom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未知"/>
                <p:cNvSpPr/>
                <p:nvPr/>
              </p:nvSpPr>
              <p:spPr>
                <a:xfrm rot="3290400">
                  <a:off x="-2946960" y="2049480"/>
                  <a:ext cx="238320" cy="192600"/>
                </a:xfrm>
                <a:custGeom>
                  <a:avLst/>
                  <a:gdLst>
                    <a:gd name="textAreaLeft" fmla="*/ 0 w 238320"/>
                    <a:gd name="textAreaRight" fmla="*/ 238680 w 23832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未知"/>
                <p:cNvSpPr/>
                <p:nvPr/>
              </p:nvSpPr>
              <p:spPr>
                <a:xfrm rot="3290400">
                  <a:off x="-2968200" y="2090160"/>
                  <a:ext cx="272520" cy="15876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未知"/>
                <p:cNvSpPr/>
                <p:nvPr/>
              </p:nvSpPr>
              <p:spPr>
                <a:xfrm rot="3290400">
                  <a:off x="-2999520" y="2096640"/>
                  <a:ext cx="317880" cy="158760"/>
                </a:xfrm>
                <a:custGeom>
                  <a:avLst/>
                  <a:gdLst>
                    <a:gd name="textAreaLeft" fmla="*/ 0 w 317880"/>
                    <a:gd name="textAreaRight" fmla="*/ 318240 w 3178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未知"/>
                <p:cNvSpPr/>
                <p:nvPr/>
              </p:nvSpPr>
              <p:spPr>
                <a:xfrm rot="3290400">
                  <a:off x="-3037680" y="2172240"/>
                  <a:ext cx="194400" cy="21600"/>
                </a:xfrm>
                <a:custGeom>
                  <a:avLst/>
                  <a:gdLst>
                    <a:gd name="textAreaLeft" fmla="*/ 0 w 194400"/>
                    <a:gd name="textAreaRight" fmla="*/ 194760 w 19440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未知"/>
                <p:cNvSpPr/>
                <p:nvPr/>
              </p:nvSpPr>
              <p:spPr>
                <a:xfrm rot="3290400">
                  <a:off x="-3033360" y="2149560"/>
                  <a:ext cx="136080" cy="3348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未知"/>
                <p:cNvSpPr/>
                <p:nvPr/>
              </p:nvSpPr>
              <p:spPr>
                <a:xfrm rot="3290400">
                  <a:off x="-3053880" y="2121120"/>
                  <a:ext cx="90720" cy="68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未知"/>
                <p:cNvSpPr/>
                <p:nvPr/>
              </p:nvSpPr>
              <p:spPr>
                <a:xfrm rot="3290400">
                  <a:off x="-3058560" y="2099520"/>
                  <a:ext cx="65160" cy="76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未知"/>
                <p:cNvSpPr/>
                <p:nvPr/>
              </p:nvSpPr>
              <p:spPr>
                <a:xfrm rot="3290400">
                  <a:off x="-3155760" y="1975320"/>
                  <a:ext cx="227160" cy="176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未知"/>
                <p:cNvSpPr/>
                <p:nvPr/>
              </p:nvSpPr>
              <p:spPr>
                <a:xfrm rot="3290400">
                  <a:off x="-3035160" y="2184480"/>
                  <a:ext cx="227160" cy="1368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未知"/>
                <p:cNvSpPr/>
                <p:nvPr/>
              </p:nvSpPr>
              <p:spPr>
                <a:xfrm rot="3290400">
                  <a:off x="-3068280" y="2137320"/>
                  <a:ext cx="158760" cy="9072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未知"/>
                <p:cNvSpPr/>
                <p:nvPr/>
              </p:nvSpPr>
              <p:spPr>
                <a:xfrm rot="3290400">
                  <a:off x="-2883600" y="1883520"/>
                  <a:ext cx="8640" cy="26064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260640"/>
                    <a:gd name="textAreaBottom" fmla="*/ 261000 h 260640"/>
                  </a:gdLst>
                  <a:ahLst/>
                  <a:rect l="textAreaLeft" t="textAreaTop" r="textAreaRight" b="textAreaBottom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未知"/>
                <p:cNvSpPr/>
                <p:nvPr/>
              </p:nvSpPr>
              <p:spPr>
                <a:xfrm rot="3290400">
                  <a:off x="-3130560" y="1994400"/>
                  <a:ext cx="136080" cy="14724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未知"/>
                <p:cNvSpPr/>
                <p:nvPr/>
              </p:nvSpPr>
              <p:spPr>
                <a:xfrm rot="3290400">
                  <a:off x="-3179520" y="1997280"/>
                  <a:ext cx="124560" cy="20412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0 h 204120"/>
                    <a:gd name="textAreaBottom" fmla="*/ 204480 h 204120"/>
                  </a:gdLst>
                  <a:ahLst/>
                  <a:rect l="textAreaLeft" t="textAreaTop" r="textAreaRight" b="textAreaBottom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未知"/>
                <p:cNvSpPr/>
                <p:nvPr/>
              </p:nvSpPr>
              <p:spPr>
                <a:xfrm rot="3290400">
                  <a:off x="-3086640" y="2104200"/>
                  <a:ext cx="79200" cy="169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未知"/>
                <p:cNvSpPr/>
                <p:nvPr/>
              </p:nvSpPr>
              <p:spPr>
                <a:xfrm rot="3972000">
                  <a:off x="-2974320" y="2146320"/>
                  <a:ext cx="102240" cy="22320"/>
                </a:xfrm>
                <a:custGeom>
                  <a:avLst/>
                  <a:gdLst>
                    <a:gd name="textAreaLeft" fmla="*/ 0 w 102240"/>
                    <a:gd name="textAreaRight" fmla="*/ 102600 w 10224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未知"/>
                <p:cNvSpPr/>
                <p:nvPr/>
              </p:nvSpPr>
              <p:spPr>
                <a:xfrm rot="3290400">
                  <a:off x="-2928600" y="1970280"/>
                  <a:ext cx="68040" cy="1814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1440"/>
                    <a:gd name="textAreaBottom" fmla="*/ 181800 h 181440"/>
                  </a:gdLst>
                  <a:ahLst/>
                  <a:rect l="textAreaLeft" t="textAreaTop" r="textAreaRight" b="textAreaBottom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5" name="Group 178"/>
          <p:cNvGrpSpPr/>
          <p:nvPr/>
        </p:nvGrpSpPr>
        <p:grpSpPr>
          <a:xfrm>
            <a:off x="-2635560" y="2747160"/>
            <a:ext cx="669960" cy="904680"/>
            <a:chOff x="-2635560" y="2747160"/>
            <a:chExt cx="669960" cy="904680"/>
          </a:xfrm>
        </p:grpSpPr>
        <p:sp>
          <p:nvSpPr>
            <p:cNvPr id="316" name="未知"/>
            <p:cNvSpPr/>
            <p:nvPr/>
          </p:nvSpPr>
          <p:spPr>
            <a:xfrm rot="463800">
              <a:off x="-2273760" y="3028320"/>
              <a:ext cx="102240" cy="2232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180"/>
            <p:cNvGrpSpPr/>
            <p:nvPr/>
          </p:nvGrpSpPr>
          <p:grpSpPr>
            <a:xfrm>
              <a:off x="-2635560" y="2747160"/>
              <a:ext cx="669960" cy="904680"/>
              <a:chOff x="-2635560" y="2747160"/>
              <a:chExt cx="669960" cy="904680"/>
            </a:xfrm>
          </p:grpSpPr>
          <p:grpSp>
            <p:nvGrpSpPr>
              <p:cNvPr id="318" name="Group 181"/>
              <p:cNvGrpSpPr/>
              <p:nvPr/>
            </p:nvGrpSpPr>
            <p:grpSpPr>
              <a:xfrm>
                <a:off x="-2474280" y="2998440"/>
                <a:ext cx="226800" cy="653400"/>
                <a:chOff x="-2474280" y="2998440"/>
                <a:chExt cx="226800" cy="653400"/>
              </a:xfrm>
            </p:grpSpPr>
            <p:sp>
              <p:nvSpPr>
                <p:cNvPr id="319" name="AutoShape 182"/>
                <p:cNvSpPr/>
                <p:nvPr/>
              </p:nvSpPr>
              <p:spPr>
                <a:xfrm rot="463800">
                  <a:off x="-2342880" y="300384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未知"/>
                <p:cNvSpPr/>
                <p:nvPr/>
              </p:nvSpPr>
              <p:spPr>
                <a:xfrm rot="463800">
                  <a:off x="-2374200" y="3055320"/>
                  <a:ext cx="46080" cy="4338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33800"/>
                    <a:gd name="textAreaBottom" fmla="*/ 434160 h 433800"/>
                  </a:gdLst>
                  <a:ahLst/>
                  <a:rect l="textAreaLeft" t="textAreaTop" r="textAreaRight" b="textAreaBottom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184"/>
                <p:cNvSpPr/>
                <p:nvPr/>
              </p:nvSpPr>
              <p:spPr>
                <a:xfrm rot="1007400">
                  <a:off x="-2446920" y="345636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185"/>
              <p:cNvGrpSpPr/>
              <p:nvPr/>
            </p:nvGrpSpPr>
            <p:grpSpPr>
              <a:xfrm>
                <a:off x="-2635560" y="2747160"/>
                <a:ext cx="669960" cy="527040"/>
                <a:chOff x="-2635560" y="2747160"/>
                <a:chExt cx="669960" cy="527040"/>
              </a:xfrm>
            </p:grpSpPr>
            <p:sp>
              <p:nvSpPr>
                <p:cNvPr id="323" name="未知"/>
                <p:cNvSpPr/>
                <p:nvPr/>
              </p:nvSpPr>
              <p:spPr>
                <a:xfrm rot="463800">
                  <a:off x="-2459160" y="3015720"/>
                  <a:ext cx="158040" cy="75600"/>
                </a:xfrm>
                <a:custGeom>
                  <a:avLst/>
                  <a:gdLst>
                    <a:gd name="textAreaLeft" fmla="*/ 0 w 158040"/>
                    <a:gd name="textAreaRight" fmla="*/ 158400 w 15804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未知"/>
                <p:cNvSpPr/>
                <p:nvPr/>
              </p:nvSpPr>
              <p:spPr>
                <a:xfrm rot="463800">
                  <a:off x="-2586240" y="3029400"/>
                  <a:ext cx="272520" cy="6804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未知"/>
                <p:cNvSpPr/>
                <p:nvPr/>
              </p:nvSpPr>
              <p:spPr>
                <a:xfrm rot="463800">
                  <a:off x="-2599200" y="2959560"/>
                  <a:ext cx="284040" cy="676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未知"/>
                <p:cNvSpPr/>
                <p:nvPr/>
              </p:nvSpPr>
              <p:spPr>
                <a:xfrm rot="463800">
                  <a:off x="-2630520" y="2922120"/>
                  <a:ext cx="295560" cy="90720"/>
                </a:xfrm>
                <a:custGeom>
                  <a:avLst/>
                  <a:gdLst>
                    <a:gd name="textAreaLeft" fmla="*/ 0 w 295560"/>
                    <a:gd name="textAreaRight" fmla="*/ 295920 w 29556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未知"/>
                <p:cNvSpPr/>
                <p:nvPr/>
              </p:nvSpPr>
              <p:spPr>
                <a:xfrm rot="463800">
                  <a:off x="-2606400" y="2902320"/>
                  <a:ext cx="293760" cy="11520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未知"/>
                <p:cNvSpPr/>
                <p:nvPr/>
              </p:nvSpPr>
              <p:spPr>
                <a:xfrm rot="463800">
                  <a:off x="-2572560" y="2906280"/>
                  <a:ext cx="284040" cy="11304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113040"/>
                    <a:gd name="textAreaBottom" fmla="*/ 113400 h 113040"/>
                  </a:gdLst>
                  <a:ahLst/>
                  <a:rect l="textAreaLeft" t="textAreaTop" r="textAreaRight" b="textAreaBottom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未知"/>
                <p:cNvSpPr/>
                <p:nvPr/>
              </p:nvSpPr>
              <p:spPr>
                <a:xfrm rot="463800">
                  <a:off x="-2509560" y="2841840"/>
                  <a:ext cx="214200" cy="1810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未知"/>
                <p:cNvSpPr/>
                <p:nvPr/>
              </p:nvSpPr>
              <p:spPr>
                <a:xfrm rot="463800">
                  <a:off x="-2544840" y="2850480"/>
                  <a:ext cx="249840" cy="15876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未知"/>
                <p:cNvSpPr/>
                <p:nvPr/>
              </p:nvSpPr>
              <p:spPr>
                <a:xfrm rot="463800">
                  <a:off x="-2516040" y="2889000"/>
                  <a:ext cx="249840" cy="158760"/>
                </a:xfrm>
                <a:custGeom>
                  <a:avLst/>
                  <a:gdLst>
                    <a:gd name="textAreaLeft" fmla="*/ 0 w 249840"/>
                    <a:gd name="textAreaRight" fmla="*/ 250200 w 24984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未知"/>
                <p:cNvSpPr/>
                <p:nvPr/>
              </p:nvSpPr>
              <p:spPr>
                <a:xfrm rot="463800">
                  <a:off x="-2532600" y="2789640"/>
                  <a:ext cx="262800" cy="244800"/>
                </a:xfrm>
                <a:custGeom>
                  <a:avLst/>
                  <a:gdLst>
                    <a:gd name="textAreaLeft" fmla="*/ 0 w 262800"/>
                    <a:gd name="textAreaRight" fmla="*/ 263160 w 262800"/>
                    <a:gd name="textAreaTop" fmla="*/ 0 h 244800"/>
                    <a:gd name="textAreaBottom" fmla="*/ 245160 h 244800"/>
                  </a:gdLst>
                  <a:ahLst/>
                  <a:rect l="textAreaLeft" t="textAreaTop" r="textAreaRight" b="textAreaBottom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96"/>
                <p:cNvSpPr/>
                <p:nvPr/>
              </p:nvSpPr>
              <p:spPr>
                <a:xfrm flipH="1" flipV="1">
                  <a:off x="-2437560" y="2801880"/>
                  <a:ext cx="158040" cy="2728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未知"/>
                <p:cNvSpPr/>
                <p:nvPr/>
              </p:nvSpPr>
              <p:spPr>
                <a:xfrm rot="463800">
                  <a:off x="-2431800" y="2814480"/>
                  <a:ext cx="158760" cy="24912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249120"/>
                    <a:gd name="textAreaBottom" fmla="*/ 249480 h 249120"/>
                  </a:gdLst>
                  <a:ahLst/>
                  <a:rect l="textAreaLeft" t="textAreaTop" r="textAreaRight" b="textAreaBottom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未知"/>
                <p:cNvSpPr/>
                <p:nvPr/>
              </p:nvSpPr>
              <p:spPr>
                <a:xfrm rot="463800">
                  <a:off x="-2394000" y="2798640"/>
                  <a:ext cx="123120" cy="25632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未知"/>
                <p:cNvSpPr/>
                <p:nvPr/>
              </p:nvSpPr>
              <p:spPr>
                <a:xfrm rot="463800">
                  <a:off x="-2352600" y="2786040"/>
                  <a:ext cx="82440" cy="271440"/>
                </a:xfrm>
                <a:custGeom>
                  <a:avLst/>
                  <a:gdLst>
                    <a:gd name="textAreaLeft" fmla="*/ 0 w 82440"/>
                    <a:gd name="textAreaRight" fmla="*/ 82800 w 82440"/>
                    <a:gd name="textAreaTop" fmla="*/ 0 h 271440"/>
                    <a:gd name="textAreaBottom" fmla="*/ 271440 h 271440"/>
                  </a:gdLst>
                  <a:ahLst/>
                  <a:rect l="textAreaLeft" t="textAreaTop" r="textAreaRight" b="textAreaBottom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未知"/>
                <p:cNvSpPr/>
                <p:nvPr/>
              </p:nvSpPr>
              <p:spPr>
                <a:xfrm rot="463800">
                  <a:off x="-2300400" y="2783520"/>
                  <a:ext cx="41040" cy="2901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未知"/>
                <p:cNvSpPr/>
                <p:nvPr/>
              </p:nvSpPr>
              <p:spPr>
                <a:xfrm rot="463800">
                  <a:off x="-2291400" y="2748600"/>
                  <a:ext cx="47520" cy="3146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14640"/>
                    <a:gd name="textAreaBottom" fmla="*/ 315000 h 314640"/>
                  </a:gdLst>
                  <a:ahLst/>
                  <a:rect l="textAreaLeft" t="textAreaTop" r="textAreaRight" b="textAreaBottom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未知"/>
                <p:cNvSpPr/>
                <p:nvPr/>
              </p:nvSpPr>
              <p:spPr>
                <a:xfrm rot="463800">
                  <a:off x="-2271240" y="2793960"/>
                  <a:ext cx="45360" cy="28332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283320"/>
                    <a:gd name="textAreaBottom" fmla="*/ 283680 h 283320"/>
                  </a:gdLst>
                  <a:ahLst/>
                  <a:rect l="textAreaLeft" t="textAreaTop" r="textAreaRight" b="textAreaBottom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未知"/>
                <p:cNvSpPr/>
                <p:nvPr/>
              </p:nvSpPr>
              <p:spPr>
                <a:xfrm rot="463800">
                  <a:off x="-2261880" y="2832120"/>
                  <a:ext cx="79200" cy="23796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237960"/>
                    <a:gd name="textAreaBottom" fmla="*/ 238320 h 237960"/>
                  </a:gdLst>
                  <a:ahLst/>
                  <a:rect l="textAreaLeft" t="textAreaTop" r="textAreaRight" b="textAreaBottom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未知"/>
                <p:cNvSpPr/>
                <p:nvPr/>
              </p:nvSpPr>
              <p:spPr>
                <a:xfrm rot="463800">
                  <a:off x="-2268360" y="2768040"/>
                  <a:ext cx="159120" cy="294840"/>
                </a:xfrm>
                <a:custGeom>
                  <a:avLst/>
                  <a:gdLst>
                    <a:gd name="textAreaLeft" fmla="*/ 0 w 159120"/>
                    <a:gd name="textAreaRight" fmla="*/ 159480 w 159120"/>
                    <a:gd name="textAreaTop" fmla="*/ 0 h 294840"/>
                    <a:gd name="textAreaBottom" fmla="*/ 295200 h 294840"/>
                  </a:gdLst>
                  <a:ahLst/>
                  <a:rect l="textAreaLeft" t="textAreaTop" r="textAreaRight" b="textAreaBottom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未知"/>
                <p:cNvSpPr/>
                <p:nvPr/>
              </p:nvSpPr>
              <p:spPr>
                <a:xfrm rot="463800">
                  <a:off x="-2273040" y="2827440"/>
                  <a:ext cx="204120" cy="249480"/>
                </a:xfrm>
                <a:custGeom>
                  <a:avLst/>
                  <a:gdLst>
                    <a:gd name="textAreaLeft" fmla="*/ 0 w 204120"/>
                    <a:gd name="textAreaRight" fmla="*/ 204480 w 204120"/>
                    <a:gd name="textAreaTop" fmla="*/ 0 h 249480"/>
                    <a:gd name="textAreaBottom" fmla="*/ 249840 h 249480"/>
                  </a:gdLst>
                  <a:ahLst/>
                  <a:rect l="textAreaLeft" t="textAreaTop" r="textAreaRight" b="textAreaBottom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未知"/>
                <p:cNvSpPr/>
                <p:nvPr/>
              </p:nvSpPr>
              <p:spPr>
                <a:xfrm rot="463800">
                  <a:off x="-2265480" y="2887920"/>
                  <a:ext cx="238320" cy="192600"/>
                </a:xfrm>
                <a:custGeom>
                  <a:avLst/>
                  <a:gdLst>
                    <a:gd name="textAreaLeft" fmla="*/ 0 w 238320"/>
                    <a:gd name="textAreaRight" fmla="*/ 238680 w 23832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未知"/>
                <p:cNvSpPr/>
                <p:nvPr/>
              </p:nvSpPr>
              <p:spPr>
                <a:xfrm rot="463800">
                  <a:off x="-2268360" y="2924280"/>
                  <a:ext cx="272520" cy="15876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未知"/>
                <p:cNvSpPr/>
                <p:nvPr/>
              </p:nvSpPr>
              <p:spPr>
                <a:xfrm rot="463800">
                  <a:off x="-2292480" y="2935080"/>
                  <a:ext cx="317880" cy="158760"/>
                </a:xfrm>
                <a:custGeom>
                  <a:avLst/>
                  <a:gdLst>
                    <a:gd name="textAreaLeft" fmla="*/ 0 w 317880"/>
                    <a:gd name="textAreaRight" fmla="*/ 318240 w 3178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未知"/>
                <p:cNvSpPr/>
                <p:nvPr/>
              </p:nvSpPr>
              <p:spPr>
                <a:xfrm rot="463800">
                  <a:off x="-2293200" y="3081600"/>
                  <a:ext cx="194400" cy="21600"/>
                </a:xfrm>
                <a:custGeom>
                  <a:avLst/>
                  <a:gdLst>
                    <a:gd name="textAreaLeft" fmla="*/ 0 w 194400"/>
                    <a:gd name="textAreaRight" fmla="*/ 194760 w 19440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未知"/>
                <p:cNvSpPr/>
                <p:nvPr/>
              </p:nvSpPr>
              <p:spPr>
                <a:xfrm rot="463800">
                  <a:off x="-2292840" y="3082320"/>
                  <a:ext cx="136080" cy="3348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未知"/>
                <p:cNvSpPr/>
                <p:nvPr/>
              </p:nvSpPr>
              <p:spPr>
                <a:xfrm rot="463800">
                  <a:off x="-2307960" y="3089160"/>
                  <a:ext cx="90720" cy="6804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未知"/>
                <p:cNvSpPr/>
                <p:nvPr/>
              </p:nvSpPr>
              <p:spPr>
                <a:xfrm rot="463800">
                  <a:off x="-2320200" y="3085920"/>
                  <a:ext cx="65160" cy="763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未知"/>
                <p:cNvSpPr/>
                <p:nvPr/>
              </p:nvSpPr>
              <p:spPr>
                <a:xfrm rot="463800">
                  <a:off x="-2525040" y="3022920"/>
                  <a:ext cx="227160" cy="176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未知"/>
                <p:cNvSpPr/>
                <p:nvPr/>
              </p:nvSpPr>
              <p:spPr>
                <a:xfrm rot="463800">
                  <a:off x="-2290680" y="3077280"/>
                  <a:ext cx="227160" cy="1368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未知"/>
                <p:cNvSpPr/>
                <p:nvPr/>
              </p:nvSpPr>
              <p:spPr>
                <a:xfrm rot="463800">
                  <a:off x="-2308320" y="3082320"/>
                  <a:ext cx="158760" cy="9072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未知"/>
                <p:cNvSpPr/>
                <p:nvPr/>
              </p:nvSpPr>
              <p:spPr>
                <a:xfrm rot="463800">
                  <a:off x="-2282400" y="2801880"/>
                  <a:ext cx="8640" cy="26064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260640"/>
                    <a:gd name="textAreaBottom" fmla="*/ 261000 h 260640"/>
                  </a:gdLst>
                  <a:ahLst/>
                  <a:rect l="textAreaLeft" t="textAreaTop" r="textAreaRight" b="textAreaBottom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未知"/>
                <p:cNvSpPr/>
                <p:nvPr/>
              </p:nvSpPr>
              <p:spPr>
                <a:xfrm rot="463800">
                  <a:off x="-2431440" y="3029760"/>
                  <a:ext cx="136080" cy="14724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未知"/>
                <p:cNvSpPr/>
                <p:nvPr/>
              </p:nvSpPr>
              <p:spPr>
                <a:xfrm rot="463800">
                  <a:off x="-2440080" y="3062520"/>
                  <a:ext cx="124560" cy="204120"/>
                </a:xfrm>
                <a:custGeom>
                  <a:avLst/>
                  <a:gdLst>
                    <a:gd name="textAreaLeft" fmla="*/ 0 w 124560"/>
                    <a:gd name="textAreaRight" fmla="*/ 124920 w 124560"/>
                    <a:gd name="textAreaTop" fmla="*/ 0 h 204120"/>
                    <a:gd name="textAreaBottom" fmla="*/ 204480 h 204120"/>
                  </a:gdLst>
                  <a:ahLst/>
                  <a:rect l="textAreaLeft" t="textAreaTop" r="textAreaRight" b="textAreaBottom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未知"/>
                <p:cNvSpPr/>
                <p:nvPr/>
              </p:nvSpPr>
              <p:spPr>
                <a:xfrm rot="463800">
                  <a:off x="-2303640" y="3089520"/>
                  <a:ext cx="79200" cy="169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未知"/>
                <p:cNvSpPr/>
                <p:nvPr/>
              </p:nvSpPr>
              <p:spPr>
                <a:xfrm rot="1145400">
                  <a:off x="-2253960" y="3051000"/>
                  <a:ext cx="102240" cy="22320"/>
                </a:xfrm>
                <a:custGeom>
                  <a:avLst/>
                  <a:gdLst>
                    <a:gd name="textAreaLeft" fmla="*/ 0 w 102240"/>
                    <a:gd name="textAreaRight" fmla="*/ 102600 w 10224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未知"/>
                <p:cNvSpPr/>
                <p:nvPr/>
              </p:nvSpPr>
              <p:spPr>
                <a:xfrm rot="463800">
                  <a:off x="-2288160" y="2884680"/>
                  <a:ext cx="68040" cy="1814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1440"/>
                    <a:gd name="textAreaBottom" fmla="*/ 181800 h 181440"/>
                  </a:gdLst>
                  <a:ahLst/>
                  <a:rect l="textAreaLeft" t="textAreaTop" r="textAreaRight" b="textAreaBottom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59" name="Picture 222" descr="柳虚4"/>
          <p:cNvPicPr/>
          <p:nvPr/>
        </p:nvPicPr>
        <p:blipFill>
          <a:blip r:embed="rId1"/>
          <a:stretch/>
        </p:blipFill>
        <p:spPr>
          <a:xfrm>
            <a:off x="3886200" y="0"/>
            <a:ext cx="1198440" cy="44672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23" descr="柳虚5"/>
          <p:cNvPicPr/>
          <p:nvPr/>
        </p:nvPicPr>
        <p:blipFill>
          <a:blip r:embed="rId2"/>
          <a:stretch/>
        </p:blipFill>
        <p:spPr>
          <a:xfrm>
            <a:off x="2209680" y="-1670040"/>
            <a:ext cx="1784520" cy="4456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24" descr="柳虚1"/>
          <p:cNvPicPr/>
          <p:nvPr/>
        </p:nvPicPr>
        <p:blipFill>
          <a:blip r:embed="rId3"/>
          <a:stretch/>
        </p:blipFill>
        <p:spPr>
          <a:xfrm>
            <a:off x="457200" y="0"/>
            <a:ext cx="1292400" cy="29257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25" descr="柳虚2"/>
          <p:cNvPicPr/>
          <p:nvPr/>
        </p:nvPicPr>
        <p:blipFill>
          <a:blip r:embed="rId4"/>
          <a:stretch/>
        </p:blipFill>
        <p:spPr>
          <a:xfrm>
            <a:off x="3200400" y="0"/>
            <a:ext cx="1096920" cy="157644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226"/>
          <p:cNvGrpSpPr/>
          <p:nvPr/>
        </p:nvGrpSpPr>
        <p:grpSpPr>
          <a:xfrm>
            <a:off x="990720" y="-5937120"/>
            <a:ext cx="846000" cy="12270960"/>
            <a:chOff x="990720" y="-5937120"/>
            <a:chExt cx="846000" cy="12270960"/>
          </a:xfrm>
        </p:grpSpPr>
        <p:pic>
          <p:nvPicPr>
            <p:cNvPr id="364" name="Picture 227" descr="柳条2"/>
            <p:cNvPicPr/>
            <p:nvPr/>
          </p:nvPicPr>
          <p:blipFill>
            <a:blip r:embed="rId5"/>
            <a:stretch/>
          </p:blipFill>
          <p:spPr>
            <a:xfrm>
              <a:off x="990720" y="324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228"/>
            <p:cNvSpPr/>
            <p:nvPr/>
          </p:nvSpPr>
          <p:spPr>
            <a:xfrm>
              <a:off x="1295640" y="-593712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229"/>
          <p:cNvGrpSpPr/>
          <p:nvPr/>
        </p:nvGrpSpPr>
        <p:grpSpPr>
          <a:xfrm>
            <a:off x="4673520" y="-907920"/>
            <a:ext cx="812880" cy="1983960"/>
            <a:chOff x="4673520" y="-907920"/>
            <a:chExt cx="812880" cy="1983960"/>
          </a:xfrm>
        </p:grpSpPr>
        <p:pic>
          <p:nvPicPr>
            <p:cNvPr id="367" name="Picture 230" descr="柳条3"/>
            <p:cNvPicPr/>
            <p:nvPr/>
          </p:nvPicPr>
          <p:blipFill>
            <a:blip r:embed="rId6"/>
            <a:stretch/>
          </p:blipFill>
          <p:spPr>
            <a:xfrm>
              <a:off x="4673520" y="3240"/>
              <a:ext cx="812880" cy="107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Rectangle 231"/>
            <p:cNvSpPr/>
            <p:nvPr/>
          </p:nvSpPr>
          <p:spPr>
            <a:xfrm>
              <a:off x="4952880" y="-907920"/>
              <a:ext cx="15228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232"/>
          <p:cNvGrpSpPr/>
          <p:nvPr/>
        </p:nvGrpSpPr>
        <p:grpSpPr>
          <a:xfrm>
            <a:off x="6172200" y="-2203560"/>
            <a:ext cx="903240" cy="4452840"/>
            <a:chOff x="6172200" y="-2203560"/>
            <a:chExt cx="903240" cy="4452840"/>
          </a:xfrm>
        </p:grpSpPr>
        <p:pic>
          <p:nvPicPr>
            <p:cNvPr id="370" name="Picture 233" descr="柳条4"/>
            <p:cNvPicPr/>
            <p:nvPr/>
          </p:nvPicPr>
          <p:blipFill>
            <a:blip r:embed="rId7"/>
            <a:stretch/>
          </p:blipFill>
          <p:spPr>
            <a:xfrm>
              <a:off x="6172200" y="2880"/>
              <a:ext cx="903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234"/>
            <p:cNvSpPr/>
            <p:nvPr/>
          </p:nvSpPr>
          <p:spPr>
            <a:xfrm>
              <a:off x="6400800" y="-2203560"/>
              <a:ext cx="15228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235"/>
          <p:cNvGrpSpPr/>
          <p:nvPr/>
        </p:nvGrpSpPr>
        <p:grpSpPr>
          <a:xfrm>
            <a:off x="1143000" y="-6118200"/>
            <a:ext cx="1116000" cy="12214080"/>
            <a:chOff x="1143000" y="-6118200"/>
            <a:chExt cx="1116000" cy="12214080"/>
          </a:xfrm>
        </p:grpSpPr>
        <p:pic>
          <p:nvPicPr>
            <p:cNvPr id="373" name="Picture 236" descr="柳条1"/>
            <p:cNvPicPr/>
            <p:nvPr/>
          </p:nvPicPr>
          <p:blipFill>
            <a:blip r:embed="rId8"/>
            <a:stretch/>
          </p:blipFill>
          <p:spPr>
            <a:xfrm>
              <a:off x="1143000" y="-25200"/>
              <a:ext cx="1116000" cy="61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Rectangle 237"/>
            <p:cNvSpPr/>
            <p:nvPr/>
          </p:nvSpPr>
          <p:spPr>
            <a:xfrm>
              <a:off x="1496880" y="-6118200"/>
              <a:ext cx="30492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238"/>
          <p:cNvGrpSpPr/>
          <p:nvPr/>
        </p:nvGrpSpPr>
        <p:grpSpPr>
          <a:xfrm>
            <a:off x="10058400" y="-6103800"/>
            <a:ext cx="1116000" cy="12214080"/>
            <a:chOff x="10058400" y="-6103800"/>
            <a:chExt cx="1116000" cy="12214080"/>
          </a:xfrm>
        </p:grpSpPr>
        <p:pic>
          <p:nvPicPr>
            <p:cNvPr id="376" name="Picture 239" descr="柳条1"/>
            <p:cNvPicPr/>
            <p:nvPr/>
          </p:nvPicPr>
          <p:blipFill>
            <a:blip r:embed="rId9"/>
            <a:stretch/>
          </p:blipFill>
          <p:spPr>
            <a:xfrm>
              <a:off x="10058400" y="-10800"/>
              <a:ext cx="1116000" cy="61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Rectangle 240"/>
            <p:cNvSpPr/>
            <p:nvPr/>
          </p:nvSpPr>
          <p:spPr>
            <a:xfrm>
              <a:off x="10412280" y="-6103800"/>
              <a:ext cx="30492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241"/>
          <p:cNvSpPr/>
          <p:nvPr/>
        </p:nvSpPr>
        <p:spPr>
          <a:xfrm>
            <a:off x="380880" y="380880"/>
            <a:ext cx="8382240" cy="624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42"/>
          <p:cNvSpPr/>
          <p:nvPr/>
        </p:nvSpPr>
        <p:spPr>
          <a:xfrm>
            <a:off x="533520" y="228600"/>
            <a:ext cx="8381880" cy="624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43" descr="柳虚1"/>
          <p:cNvPicPr/>
          <p:nvPr/>
        </p:nvPicPr>
        <p:blipFill>
          <a:blip r:embed="rId10"/>
          <a:stretch/>
        </p:blipFill>
        <p:spPr>
          <a:xfrm>
            <a:off x="10667880" y="-984240"/>
            <a:ext cx="1292400" cy="29192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44" descr="树枝"/>
          <p:cNvPicPr/>
          <p:nvPr/>
        </p:nvPicPr>
        <p:blipFill>
          <a:blip r:embed="rId11"/>
          <a:stretch/>
        </p:blipFill>
        <p:spPr>
          <a:xfrm>
            <a:off x="5181480" y="4479840"/>
            <a:ext cx="4044960" cy="253044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245"/>
          <p:cNvGrpSpPr/>
          <p:nvPr/>
        </p:nvGrpSpPr>
        <p:grpSpPr>
          <a:xfrm>
            <a:off x="533520" y="380880"/>
            <a:ext cx="8229240" cy="6095880"/>
            <a:chOff x="533520" y="380880"/>
            <a:chExt cx="8229240" cy="6095880"/>
          </a:xfrm>
        </p:grpSpPr>
        <p:sp>
          <p:nvSpPr>
            <p:cNvPr id="383" name="Rectangle 246"/>
            <p:cNvSpPr/>
            <p:nvPr/>
          </p:nvSpPr>
          <p:spPr>
            <a:xfrm>
              <a:off x="533520" y="380880"/>
              <a:ext cx="8229240" cy="609588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47"/>
            <p:cNvSpPr/>
            <p:nvPr/>
          </p:nvSpPr>
          <p:spPr>
            <a:xfrm>
              <a:off x="1071720" y="1152360"/>
              <a:ext cx="746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  <a:ea typeface="幼圆"/>
                </a:rPr>
                <a:t>直到现在我依然诧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Text Box 8"/>
          <p:cNvSpPr/>
          <p:nvPr/>
        </p:nvSpPr>
        <p:spPr>
          <a:xfrm>
            <a:off x="187200" y="6477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autoRev="1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360000">
                                      <p:cBhvr>
                                        <p:cTn id="217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21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0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80000">
                                      <p:cBhvr>
                                        <p:cTn id="22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2222E-006 L 0.63716 -0.57291 E">
                                      <p:cBhvr>
                                        <p:cTn id="223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2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0.62239 -0.63125 E">
                                      <p:cBhvr>
                                        <p:cTn id="229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44444E-006 L -0.32378 -0.14791 E">
                                      <p:cBhvr>
                                        <p:cTn id="231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96296E-006 L -0.53924 -0.00301 E">
                                      <p:cBhvr>
                                        <p:cTn id="233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4444E-006 L -0.52899 0.00903 E">
                                      <p:cBhvr>
                                        <p:cTn id="235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L -0.3599 0.00741 E">
                                      <p:cBhvr>
                                        <p:cTn id="237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44444E-006 L 0.68611 -0.07848 E">
                                      <p:cBhvr>
                                        <p:cTn id="239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22222E-006 L 0.64236 -0.05834 E">
                                      <p:cBhvr>
                                        <p:cTn id="24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38778E-017 L -0.354 0.05347 E">
                                      <p:cBhvr>
                                        <p:cTn id="243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24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1.01094 -0.11111 E">
                                      <p:cBhvr>
                                        <p:cTn id="247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81 L 0.37934 -0.11481 C 0.45868 -0.13888 0.57761 -0.15208 0.70174 -0.15208 C 0.84323 -0.15208 0.95643 -0.13888 1.03594 -0.11481 L 1.41563 -0.0081 E">
                                      <p:cBhvr>
                                        <p:cTn id="249" dur="5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78 C 0.21632 0.14884 0.43195 0.22013 0.7 0.17106 C 0.96771 0.12222 1.28785 -0.0463 1.60799 -0.21459 E">
                                      <p:cBhvr>
                                        <p:cTn id="251" dur="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0">
                                      <p:cBhvr>
                                        <p:cTn id="2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44444E-006 L 0.94983 -0.67013 E">
                                      <p:cBhvr>
                                        <p:cTn id="255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399759">
                                      <p:cBhvr>
                                        <p:cTn id="2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1.42188 0.03264 E">
                                      <p:cBhvr>
                                        <p:cTn id="259" dur="3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-7.40741E-007 C 0.11771 0.29792 0.23473 0.5963 0.44063 0.5287 C 0.64653 0.46134 0.94115 0.02801 1.23577 -0.40463 E">
                                      <p:cBhvr>
                                        <p:cTn id="261" dur="3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4799760">
                                      <p:cBhvr>
                                        <p:cTn id="26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2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2"/>
          <p:cNvSpPr/>
          <p:nvPr/>
        </p:nvSpPr>
        <p:spPr>
          <a:xfrm>
            <a:off x="3505320" y="2971800"/>
            <a:ext cx="3744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1d1d1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3"/>
          <p:cNvSpPr/>
          <p:nvPr/>
        </p:nvSpPr>
        <p:spPr>
          <a:xfrm>
            <a:off x="5638680" y="4495680"/>
            <a:ext cx="2181240" cy="2181240"/>
          </a:xfrm>
          <a:prstGeom prst="ellipse">
            <a:avLst/>
          </a:prstGeom>
          <a:solidFill>
            <a:srgbClr val="ffff00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4"/>
          <p:cNvSpPr/>
          <p:nvPr/>
        </p:nvSpPr>
        <p:spPr>
          <a:xfrm>
            <a:off x="4724280" y="396252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>
                  <a:alpha val="6274"/>
                </a:srgbClr>
              </a:gs>
              <a:gs pos="100000">
                <a:srgbClr val="d1d1d1">
                  <a:alpha val="1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"/>
          <p:cNvSpPr/>
          <p:nvPr/>
        </p:nvSpPr>
        <p:spPr>
          <a:xfrm>
            <a:off x="2133720" y="1828800"/>
            <a:ext cx="457200" cy="457200"/>
          </a:xfrm>
          <a:prstGeom prst="ellipse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6"/>
          <p:cNvSpPr/>
          <p:nvPr/>
        </p:nvSpPr>
        <p:spPr>
          <a:xfrm>
            <a:off x="3733920" y="3048120"/>
            <a:ext cx="1419120" cy="1419120"/>
          </a:xfrm>
          <a:prstGeom prst="ellipse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7"/>
          <p:cNvSpPr/>
          <p:nvPr/>
        </p:nvSpPr>
        <p:spPr>
          <a:xfrm>
            <a:off x="3809880" y="3124080"/>
            <a:ext cx="914400" cy="914400"/>
          </a:xfrm>
          <a:prstGeom prst="ellipse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8"/>
          <p:cNvSpPr/>
          <p:nvPr/>
        </p:nvSpPr>
        <p:spPr>
          <a:xfrm>
            <a:off x="5715000" y="4343400"/>
            <a:ext cx="3962520" cy="39625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1d1d1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-1670040" y="-1898640"/>
            <a:ext cx="5934960" cy="5670360"/>
            <a:chOff x="-1670040" y="-1898640"/>
            <a:chExt cx="5934960" cy="5670360"/>
          </a:xfrm>
        </p:grpSpPr>
        <p:sp>
          <p:nvSpPr>
            <p:cNvPr id="394" name="Oval 10"/>
            <p:cNvSpPr/>
            <p:nvPr/>
          </p:nvSpPr>
          <p:spPr>
            <a:xfrm>
              <a:off x="-1670040" y="-1703520"/>
              <a:ext cx="5732280" cy="547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11"/>
            <p:cNvGrpSpPr/>
            <p:nvPr/>
          </p:nvGrpSpPr>
          <p:grpSpPr>
            <a:xfrm>
              <a:off x="-1669320" y="-1898640"/>
              <a:ext cx="5934240" cy="5652360"/>
              <a:chOff x="-1669320" y="-1898640"/>
              <a:chExt cx="5934240" cy="5652360"/>
            </a:xfrm>
          </p:grpSpPr>
          <p:grpSp>
            <p:nvGrpSpPr>
              <p:cNvPr id="396" name="Group 12"/>
              <p:cNvGrpSpPr/>
              <p:nvPr/>
            </p:nvGrpSpPr>
            <p:grpSpPr>
              <a:xfrm>
                <a:off x="-1669320" y="-1898640"/>
                <a:ext cx="5934240" cy="5652360"/>
                <a:chOff x="-1669320" y="-1898640"/>
                <a:chExt cx="5934240" cy="5652360"/>
              </a:xfrm>
            </p:grpSpPr>
            <p:grpSp>
              <p:nvGrpSpPr>
                <p:cNvPr id="397" name="Group 13"/>
                <p:cNvGrpSpPr/>
                <p:nvPr/>
              </p:nvGrpSpPr>
              <p:grpSpPr>
                <a:xfrm>
                  <a:off x="-1669320" y="-1898640"/>
                  <a:ext cx="5934240" cy="5652360"/>
                  <a:chOff x="-1669320" y="-1898640"/>
                  <a:chExt cx="5934240" cy="5652360"/>
                </a:xfrm>
              </p:grpSpPr>
              <p:grpSp>
                <p:nvGrpSpPr>
                  <p:cNvPr id="398" name="Group 14"/>
                  <p:cNvGrpSpPr/>
                  <p:nvPr/>
                </p:nvGrpSpPr>
                <p:grpSpPr>
                  <a:xfrm>
                    <a:off x="1179360" y="-1898640"/>
                    <a:ext cx="231840" cy="5652360"/>
                    <a:chOff x="1179360" y="-1898640"/>
                    <a:chExt cx="231840" cy="5652360"/>
                  </a:xfrm>
                </p:grpSpPr>
                <p:sp>
                  <p:nvSpPr>
                    <p:cNvPr id="399" name="AutoShape 15"/>
                    <p:cNvSpPr/>
                    <p:nvPr/>
                  </p:nvSpPr>
                  <p:spPr>
                    <a:xfrm>
                      <a:off x="1179360" y="-1898640"/>
                      <a:ext cx="231840" cy="28281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AutoShape 16"/>
                    <p:cNvSpPr/>
                    <p:nvPr/>
                  </p:nvSpPr>
                  <p:spPr>
                    <a:xfrm flipV="1">
                      <a:off x="1179360" y="926280"/>
                      <a:ext cx="231840" cy="28274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Group 17"/>
                  <p:cNvGrpSpPr/>
                  <p:nvPr/>
                </p:nvGrpSpPr>
                <p:grpSpPr>
                  <a:xfrm>
                    <a:off x="-1669320" y="815040"/>
                    <a:ext cx="5934240" cy="220680"/>
                    <a:chOff x="-1669320" y="815040"/>
                    <a:chExt cx="5934240" cy="220680"/>
                  </a:xfrm>
                </p:grpSpPr>
                <p:sp>
                  <p:nvSpPr>
                    <p:cNvPr id="402" name="AutoShape 18"/>
                    <p:cNvSpPr/>
                    <p:nvPr/>
                  </p:nvSpPr>
                  <p:spPr>
                    <a:xfrm rot="5400000">
                      <a:off x="2669760" y="-559440"/>
                      <a:ext cx="220680" cy="2969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AutoShape 19"/>
                    <p:cNvSpPr/>
                    <p:nvPr/>
                  </p:nvSpPr>
                  <p:spPr>
                    <a:xfrm flipV="1" rot="5400000">
                      <a:off x="-295200" y="-559080"/>
                      <a:ext cx="220680" cy="29685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04" name="Group 20"/>
                <p:cNvGrpSpPr/>
                <p:nvPr/>
              </p:nvGrpSpPr>
              <p:grpSpPr>
                <a:xfrm>
                  <a:off x="-882000" y="-1236600"/>
                  <a:ext cx="4340880" cy="4340520"/>
                  <a:chOff x="-882000" y="-1236600"/>
                  <a:chExt cx="4340880" cy="4340520"/>
                </a:xfrm>
              </p:grpSpPr>
              <p:grpSp>
                <p:nvGrpSpPr>
                  <p:cNvPr id="405" name="Group 21"/>
                  <p:cNvGrpSpPr/>
                  <p:nvPr/>
                </p:nvGrpSpPr>
                <p:grpSpPr>
                  <a:xfrm>
                    <a:off x="-882000" y="-1236600"/>
                    <a:ext cx="4340880" cy="4340520"/>
                    <a:chOff x="-882000" y="-1236600"/>
                    <a:chExt cx="4340880" cy="4340520"/>
                  </a:xfrm>
                </p:grpSpPr>
                <p:sp>
                  <p:nvSpPr>
                    <p:cNvPr id="406" name="AutoShape 22"/>
                    <p:cNvSpPr/>
                    <p:nvPr/>
                  </p:nvSpPr>
                  <p:spPr>
                    <a:xfrm rot="2700000">
                      <a:off x="2222640" y="-1591920"/>
                      <a:ext cx="221400" cy="2961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AutoShape 23"/>
                    <p:cNvSpPr/>
                    <p:nvPr/>
                  </p:nvSpPr>
                  <p:spPr>
                    <a:xfrm flipV="1" rot="2700000">
                      <a:off x="132120" y="498600"/>
                      <a:ext cx="221400" cy="29602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Group 24"/>
                  <p:cNvGrpSpPr/>
                  <p:nvPr/>
                </p:nvGrpSpPr>
                <p:grpSpPr>
                  <a:xfrm>
                    <a:off x="-794520" y="-1151640"/>
                    <a:ext cx="4171320" cy="4171320"/>
                    <a:chOff x="-794520" y="-1151640"/>
                    <a:chExt cx="4171320" cy="4171320"/>
                  </a:xfrm>
                </p:grpSpPr>
                <p:sp>
                  <p:nvSpPr>
                    <p:cNvPr id="409" name="AutoShape 25"/>
                    <p:cNvSpPr/>
                    <p:nvPr/>
                  </p:nvSpPr>
                  <p:spPr>
                    <a:xfrm rot="8100000">
                      <a:off x="2176560" y="516960"/>
                      <a:ext cx="231120" cy="2836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AutoShape 26"/>
                    <p:cNvSpPr/>
                    <p:nvPr/>
                  </p:nvSpPr>
                  <p:spPr>
                    <a:xfrm flipV="1" rot="8100000">
                      <a:off x="173880" y="-1485360"/>
                      <a:ext cx="231120" cy="2835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1" name="Group 27"/>
              <p:cNvGrpSpPr/>
              <p:nvPr/>
            </p:nvGrpSpPr>
            <p:grpSpPr>
              <a:xfrm>
                <a:off x="-689400" y="-863280"/>
                <a:ext cx="3910680" cy="3730680"/>
                <a:chOff x="-689400" y="-863280"/>
                <a:chExt cx="3910680" cy="3730680"/>
              </a:xfrm>
            </p:grpSpPr>
            <p:grpSp>
              <p:nvGrpSpPr>
                <p:cNvPr id="412" name="Group 28"/>
                <p:cNvGrpSpPr/>
                <p:nvPr/>
              </p:nvGrpSpPr>
              <p:grpSpPr>
                <a:xfrm>
                  <a:off x="-689400" y="-863280"/>
                  <a:ext cx="3910680" cy="3730680"/>
                  <a:chOff x="-689400" y="-863280"/>
                  <a:chExt cx="3910680" cy="3730680"/>
                </a:xfrm>
              </p:grpSpPr>
              <p:grpSp>
                <p:nvGrpSpPr>
                  <p:cNvPr id="413" name="Group 29"/>
                  <p:cNvGrpSpPr/>
                  <p:nvPr/>
                </p:nvGrpSpPr>
                <p:grpSpPr>
                  <a:xfrm>
                    <a:off x="447120" y="-863280"/>
                    <a:ext cx="1632960" cy="3730680"/>
                    <a:chOff x="447120" y="-863280"/>
                    <a:chExt cx="1632960" cy="3730680"/>
                  </a:xfrm>
                </p:grpSpPr>
                <p:sp>
                  <p:nvSpPr>
                    <p:cNvPr id="414" name="AutoShape 30"/>
                    <p:cNvSpPr/>
                    <p:nvPr/>
                  </p:nvSpPr>
                  <p:spPr>
                    <a:xfrm rot="1320000">
                      <a:off x="1552680" y="-904680"/>
                      <a:ext cx="162360" cy="1980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AutoShape 31"/>
                    <p:cNvSpPr/>
                    <p:nvPr/>
                  </p:nvSpPr>
                  <p:spPr>
                    <a:xfrm flipV="1" rot="1320000">
                      <a:off x="811800" y="929160"/>
                      <a:ext cx="162360" cy="19800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Group 32"/>
                  <p:cNvGrpSpPr/>
                  <p:nvPr/>
                </p:nvGrpSpPr>
                <p:grpSpPr>
                  <a:xfrm>
                    <a:off x="-689400" y="151560"/>
                    <a:ext cx="3910680" cy="1700280"/>
                    <a:chOff x="-689400" y="151560"/>
                    <a:chExt cx="3910680" cy="1700280"/>
                  </a:xfrm>
                </p:grpSpPr>
                <p:sp>
                  <p:nvSpPr>
                    <p:cNvPr id="417" name="AutoShape 33"/>
                    <p:cNvSpPr/>
                    <p:nvPr/>
                  </p:nvSpPr>
                  <p:spPr>
                    <a:xfrm rot="6720000">
                      <a:off x="2150640" y="350640"/>
                      <a:ext cx="154800" cy="2079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AutoShape 34"/>
                    <p:cNvSpPr/>
                    <p:nvPr/>
                  </p:nvSpPr>
                  <p:spPr>
                    <a:xfrm flipV="1" rot="6720000">
                      <a:off x="225720" y="-426240"/>
                      <a:ext cx="154800" cy="2078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9" name="Group 35"/>
                <p:cNvGrpSpPr/>
                <p:nvPr/>
              </p:nvGrpSpPr>
              <p:grpSpPr>
                <a:xfrm>
                  <a:off x="-679680" y="-852840"/>
                  <a:ext cx="3874680" cy="3716640"/>
                  <a:chOff x="-679680" y="-852840"/>
                  <a:chExt cx="3874680" cy="3716640"/>
                </a:xfrm>
              </p:grpSpPr>
              <p:grpSp>
                <p:nvGrpSpPr>
                  <p:cNvPr id="420" name="Group 36"/>
                  <p:cNvGrpSpPr/>
                  <p:nvPr/>
                </p:nvGrpSpPr>
                <p:grpSpPr>
                  <a:xfrm>
                    <a:off x="-679680" y="123120"/>
                    <a:ext cx="3874680" cy="1761840"/>
                    <a:chOff x="-679680" y="123120"/>
                    <a:chExt cx="3874680" cy="1761840"/>
                  </a:xfrm>
                </p:grpSpPr>
                <p:sp>
                  <p:nvSpPr>
                    <p:cNvPr id="421" name="AutoShape 37"/>
                    <p:cNvSpPr/>
                    <p:nvPr/>
                  </p:nvSpPr>
                  <p:spPr>
                    <a:xfrm rot="4020000">
                      <a:off x="2132640" y="-437040"/>
                      <a:ext cx="155160" cy="20736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AutoShape 38"/>
                    <p:cNvSpPr/>
                    <p:nvPr/>
                  </p:nvSpPr>
                  <p:spPr>
                    <a:xfrm flipV="1" rot="4020000">
                      <a:off x="226800" y="371520"/>
                      <a:ext cx="155160" cy="20728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3" name="Group 39"/>
                  <p:cNvGrpSpPr/>
                  <p:nvPr/>
                </p:nvGrpSpPr>
                <p:grpSpPr>
                  <a:xfrm>
                    <a:off x="409680" y="-852840"/>
                    <a:ext cx="1699560" cy="3716640"/>
                    <a:chOff x="409680" y="-852840"/>
                    <a:chExt cx="1699560" cy="3716640"/>
                  </a:xfrm>
                </p:grpSpPr>
                <p:sp>
                  <p:nvSpPr>
                    <p:cNvPr id="424" name="AutoShape 40"/>
                    <p:cNvSpPr/>
                    <p:nvPr/>
                  </p:nvSpPr>
                  <p:spPr>
                    <a:xfrm rot="9420000">
                      <a:off x="1565640" y="925200"/>
                      <a:ext cx="162000" cy="1985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AutoShape 41"/>
                    <p:cNvSpPr/>
                    <p:nvPr/>
                  </p:nvSpPr>
                  <p:spPr>
                    <a:xfrm flipV="1" rot="9420000">
                      <a:off x="790920" y="-900000"/>
                      <a:ext cx="162000" cy="1985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26" name="Oval 42"/>
          <p:cNvSpPr/>
          <p:nvPr/>
        </p:nvSpPr>
        <p:spPr>
          <a:xfrm>
            <a:off x="-1974960" y="-2203560"/>
            <a:ext cx="6699240" cy="669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3"/>
          <p:cNvGrpSpPr/>
          <p:nvPr/>
        </p:nvGrpSpPr>
        <p:grpSpPr>
          <a:xfrm>
            <a:off x="5339160" y="4146480"/>
            <a:ext cx="4039920" cy="2954160"/>
            <a:chOff x="5339160" y="4146480"/>
            <a:chExt cx="4039920" cy="2954160"/>
          </a:xfrm>
        </p:grpSpPr>
        <p:pic>
          <p:nvPicPr>
            <p:cNvPr id="428" name="Picture 44" descr="树枝"/>
            <p:cNvPicPr/>
            <p:nvPr/>
          </p:nvPicPr>
          <p:blipFill>
            <a:blip r:embed="rId1"/>
            <a:stretch/>
          </p:blipFill>
          <p:spPr>
            <a:xfrm>
              <a:off x="7504560" y="5232600"/>
              <a:ext cx="970560" cy="60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9" name="Group 45"/>
            <p:cNvGrpSpPr/>
            <p:nvPr/>
          </p:nvGrpSpPr>
          <p:grpSpPr>
            <a:xfrm>
              <a:off x="5339160" y="4146480"/>
              <a:ext cx="4039920" cy="2954160"/>
              <a:chOff x="5339160" y="4146480"/>
              <a:chExt cx="4039920" cy="2954160"/>
            </a:xfrm>
          </p:grpSpPr>
          <p:pic>
            <p:nvPicPr>
              <p:cNvPr id="430" name="Picture 46" descr="树枝"/>
              <p:cNvPicPr/>
              <p:nvPr/>
            </p:nvPicPr>
            <p:blipFill>
              <a:blip r:embed="rId2"/>
              <a:stretch/>
            </p:blipFill>
            <p:spPr>
              <a:xfrm rot="20303400">
                <a:off x="5328720" y="6165360"/>
                <a:ext cx="2683800" cy="45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Picture 47" descr="树枝"/>
              <p:cNvPicPr/>
              <p:nvPr/>
            </p:nvPicPr>
            <p:blipFill>
              <a:blip r:embed="rId3"/>
              <a:stretch/>
            </p:blipFill>
            <p:spPr>
              <a:xfrm flipH="1" rot="17665200">
                <a:off x="8278560" y="4570200"/>
                <a:ext cx="1244160" cy="48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32" name="Picture 48" descr="柳虚4"/>
          <p:cNvPicPr/>
          <p:nvPr/>
        </p:nvPicPr>
        <p:blipFill>
          <a:blip r:embed="rId4"/>
          <a:stretch/>
        </p:blipFill>
        <p:spPr>
          <a:xfrm>
            <a:off x="934920" y="-984240"/>
            <a:ext cx="1198800" cy="4460760"/>
          </a:xfrm>
          <a:prstGeom prst="rect">
            <a:avLst/>
          </a:prstGeom>
          <a:ln w="0">
            <a:noFill/>
          </a:ln>
        </p:spPr>
      </p:pic>
      <p:grpSp>
        <p:nvGrpSpPr>
          <p:cNvPr id="433" name="Group 49"/>
          <p:cNvGrpSpPr/>
          <p:nvPr/>
        </p:nvGrpSpPr>
        <p:grpSpPr>
          <a:xfrm>
            <a:off x="865080" y="-6880320"/>
            <a:ext cx="1116000" cy="12214440"/>
            <a:chOff x="865080" y="-6880320"/>
            <a:chExt cx="1116000" cy="12214440"/>
          </a:xfrm>
        </p:grpSpPr>
        <p:pic>
          <p:nvPicPr>
            <p:cNvPr id="434" name="Picture 50" descr="柳条1"/>
            <p:cNvPicPr/>
            <p:nvPr/>
          </p:nvPicPr>
          <p:blipFill>
            <a:blip r:embed="rId5"/>
            <a:stretch/>
          </p:blipFill>
          <p:spPr>
            <a:xfrm>
              <a:off x="865080" y="-787320"/>
              <a:ext cx="1116000" cy="61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Rectangle 51"/>
            <p:cNvSpPr/>
            <p:nvPr/>
          </p:nvSpPr>
          <p:spPr>
            <a:xfrm>
              <a:off x="1218960" y="-6880320"/>
              <a:ext cx="30492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Picture 52" descr="柳虚1"/>
          <p:cNvPicPr/>
          <p:nvPr/>
        </p:nvPicPr>
        <p:blipFill>
          <a:blip r:embed="rId6"/>
          <a:stretch/>
        </p:blipFill>
        <p:spPr>
          <a:xfrm>
            <a:off x="7394400" y="-633240"/>
            <a:ext cx="1292400" cy="291924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53"/>
          <p:cNvGrpSpPr/>
          <p:nvPr/>
        </p:nvGrpSpPr>
        <p:grpSpPr>
          <a:xfrm>
            <a:off x="6858000" y="-9833040"/>
            <a:ext cx="846000" cy="12271320"/>
            <a:chOff x="6858000" y="-9833040"/>
            <a:chExt cx="846000" cy="12271320"/>
          </a:xfrm>
        </p:grpSpPr>
        <p:pic>
          <p:nvPicPr>
            <p:cNvPr id="438" name="Picture 54" descr="柳条2"/>
            <p:cNvPicPr/>
            <p:nvPr/>
          </p:nvPicPr>
          <p:blipFill>
            <a:blip r:embed="rId7"/>
            <a:stretch/>
          </p:blipFill>
          <p:spPr>
            <a:xfrm>
              <a:off x="6858000" y="-389232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Rectangle 55"/>
            <p:cNvSpPr/>
            <p:nvPr/>
          </p:nvSpPr>
          <p:spPr>
            <a:xfrm>
              <a:off x="7162920" y="-983304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56"/>
          <p:cNvGrpSpPr/>
          <p:nvPr/>
        </p:nvGrpSpPr>
        <p:grpSpPr>
          <a:xfrm>
            <a:off x="6934320" y="-10433160"/>
            <a:ext cx="1116000" cy="12214440"/>
            <a:chOff x="6934320" y="-10433160"/>
            <a:chExt cx="1116000" cy="12214440"/>
          </a:xfrm>
        </p:grpSpPr>
        <p:pic>
          <p:nvPicPr>
            <p:cNvPr id="441" name="Picture 57" descr="柳条1"/>
            <p:cNvPicPr/>
            <p:nvPr/>
          </p:nvPicPr>
          <p:blipFill>
            <a:blip r:embed="rId8"/>
            <a:stretch/>
          </p:blipFill>
          <p:spPr>
            <a:xfrm>
              <a:off x="6934320" y="-4340160"/>
              <a:ext cx="1116000" cy="61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Rectangle 58"/>
            <p:cNvSpPr/>
            <p:nvPr/>
          </p:nvSpPr>
          <p:spPr>
            <a:xfrm>
              <a:off x="7288200" y="-10433160"/>
              <a:ext cx="30492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Picture 59" descr="柳虚5"/>
          <p:cNvPicPr/>
          <p:nvPr/>
        </p:nvPicPr>
        <p:blipFill>
          <a:blip r:embed="rId9"/>
          <a:stretch/>
        </p:blipFill>
        <p:spPr>
          <a:xfrm>
            <a:off x="6654960" y="-2050920"/>
            <a:ext cx="812520" cy="4456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0" descr="柳虚1"/>
          <p:cNvPicPr/>
          <p:nvPr/>
        </p:nvPicPr>
        <p:blipFill>
          <a:blip r:embed="rId10"/>
          <a:stretch/>
        </p:blipFill>
        <p:spPr>
          <a:xfrm>
            <a:off x="457200" y="0"/>
            <a:ext cx="1292400" cy="2925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1" descr="柳虚2"/>
          <p:cNvPicPr/>
          <p:nvPr/>
        </p:nvPicPr>
        <p:blipFill>
          <a:blip r:embed="rId11"/>
          <a:stretch/>
        </p:blipFill>
        <p:spPr>
          <a:xfrm>
            <a:off x="1447920" y="-222120"/>
            <a:ext cx="1096920" cy="1569960"/>
          </a:xfrm>
          <a:prstGeom prst="rect">
            <a:avLst/>
          </a:prstGeom>
          <a:ln w="0">
            <a:noFill/>
          </a:ln>
        </p:spPr>
      </p:pic>
      <p:grpSp>
        <p:nvGrpSpPr>
          <p:cNvPr id="446" name="Group 62"/>
          <p:cNvGrpSpPr/>
          <p:nvPr/>
        </p:nvGrpSpPr>
        <p:grpSpPr>
          <a:xfrm>
            <a:off x="7391520" y="-8908920"/>
            <a:ext cx="846000" cy="12271320"/>
            <a:chOff x="7391520" y="-8908920"/>
            <a:chExt cx="846000" cy="12271320"/>
          </a:xfrm>
        </p:grpSpPr>
        <p:pic>
          <p:nvPicPr>
            <p:cNvPr id="447" name="Picture 63" descr="柳条2"/>
            <p:cNvPicPr/>
            <p:nvPr/>
          </p:nvPicPr>
          <p:blipFill>
            <a:blip r:embed="rId12"/>
            <a:stretch/>
          </p:blipFill>
          <p:spPr>
            <a:xfrm>
              <a:off x="7391520" y="-296820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64"/>
            <p:cNvSpPr/>
            <p:nvPr/>
          </p:nvSpPr>
          <p:spPr>
            <a:xfrm>
              <a:off x="7696440" y="-890892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65"/>
          <p:cNvGrpSpPr/>
          <p:nvPr/>
        </p:nvGrpSpPr>
        <p:grpSpPr>
          <a:xfrm>
            <a:off x="7772400" y="-2660760"/>
            <a:ext cx="903240" cy="4453200"/>
            <a:chOff x="7772400" y="-2660760"/>
            <a:chExt cx="903240" cy="4453200"/>
          </a:xfrm>
        </p:grpSpPr>
        <p:pic>
          <p:nvPicPr>
            <p:cNvPr id="450" name="Picture 66" descr="柳条4"/>
            <p:cNvPicPr/>
            <p:nvPr/>
          </p:nvPicPr>
          <p:blipFill>
            <a:blip r:embed="rId13"/>
            <a:stretch/>
          </p:blipFill>
          <p:spPr>
            <a:xfrm>
              <a:off x="7772400" y="-453960"/>
              <a:ext cx="903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Rectangle 67"/>
            <p:cNvSpPr/>
            <p:nvPr/>
          </p:nvSpPr>
          <p:spPr>
            <a:xfrm>
              <a:off x="8001000" y="-2660760"/>
              <a:ext cx="15228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Oval 68"/>
          <p:cNvSpPr/>
          <p:nvPr/>
        </p:nvSpPr>
        <p:spPr>
          <a:xfrm>
            <a:off x="5638680" y="4343400"/>
            <a:ext cx="3962520" cy="39625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1d1d1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69"/>
          <p:cNvSpPr/>
          <p:nvPr/>
        </p:nvSpPr>
        <p:spPr>
          <a:xfrm>
            <a:off x="4267080" y="3581280"/>
            <a:ext cx="533520" cy="533520"/>
          </a:xfrm>
          <a:prstGeom prst="ellipse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70"/>
          <p:cNvSpPr/>
          <p:nvPr/>
        </p:nvSpPr>
        <p:spPr>
          <a:xfrm>
            <a:off x="2590920" y="2286000"/>
            <a:ext cx="14904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1d1d1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295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297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29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0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301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303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0" autoRev="1" fill="hold"/>
                                        <p:tgtEl>
                                          <p:spTgt spid="4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2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2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1.38778E-017 -2.22222E-006 L 0.4125 -0.09444 E">
                                      <p:cBhvr>
                                        <p:cTn id="427" dur="2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-3.33333E-006 L -0.25 -3.33333E-006 E">
                                      <p:cBhvr>
                                        <p:cTn id="429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-2.22222E-006 L -0.59166 -2.22222E-006 E">
                                      <p:cBhvr>
                                        <p:cTn id="431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5.55112E-017 L 0.16667 5.55112E-017 E">
                                      <p:cBhvr>
                                        <p:cTn id="433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2.5E-006 3.33333E-006 L -0.15261 0.01875 E">
                                      <p:cBhvr>
                                        <p:cTn id="435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2.5E-006 -3.33333E-006 L -0.48594 0.00764 E">
                                      <p:cBhvr>
                                        <p:cTn id="437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2.22222E-006 L -0.13334 0.03334 E">
                                      <p:cBhvr>
                                        <p:cTn id="439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-1.11111E-006 L -0.17083 -0.00555 E">
                                      <p:cBhvr>
                                        <p:cTn id="441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2.22222E-006 L -0.64167 -2.22222E-006 E">
                                      <p:cBhvr>
                                        <p:cTn id="443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5.55556E-007 -1.11111E-006 L -0.03715 -0.00555 E">
                                      <p:cBhvr>
                                        <p:cTn id="445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05556E-006 -4.44444E-006 L 0.10851 0.01112 E">
                                      <p:cBhvr>
                                        <p:cTn id="447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4.44444E-006 L 0.38333 -0.1 E">
                                      <p:cBhvr>
                                        <p:cTn id="449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451" dur="2300" fill="hold"/>
                                        <p:tgtEl>
                                          <p:spTgt spid="42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52" autoRev="1" nodeType="withEffect" fill="hold" presetClass="emph" presetID="6">
                                  <p:stCondLst>
                                    <p:cond delay="6000"/>
                                  </p:stCondLst>
                                  <p:childTnLst>
                                    <p:animScale>
                                      <p:cBhvr>
                                        <p:cTn id="453" dur="1500" fill="hold"/>
                                        <p:tgtEl>
                                          <p:spTgt spid="39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4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4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王玉清</cp:lastModifiedBy>
  <dcterms:modified xsi:type="dcterms:W3CDTF">2016-02-22T03:48:11Z</dcterms:modified>
  <cp:revision>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790</vt:lpwstr>
  </property>
  <property fmtid="{D5CDD505-2E9C-101B-9397-08002B2CF9AE}" pid="3" name="Version">
    <vt:r8>1</vt:r8>
  </property>
</Properties>
</file>