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472-0664-4479-B00C-807060CC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09680" y="3904920"/>
            <a:ext cx="65534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F97-95CE-4196-B9DF-0203D61A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0968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6776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BA8-7228-4FEE-9DC4-3F970360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5480" y="167616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1280" y="167616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09680" y="390492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25480" y="390492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1280" y="390492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064-7F75-4ADE-9DD3-04346E32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BAFE-A1DC-4F9E-B855-83F28820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D519-E61B-49AA-AEB8-0E926450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D2EB-4A7A-4C11-9A02-47FDEC96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5B6C-D4FB-4A5D-A2B5-DE188ED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CA27-2280-4C06-9A99-6BFD6C37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09680" y="533160"/>
            <a:ext cx="65534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4F57-0413-4D10-9F73-66A4101C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0968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547A-8250-47A3-AE00-7EF136F7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1D2-C3D3-4842-B4DE-86BDA270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6776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E424-A3E0-43CC-B9DE-795EA0CE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09680" y="3904920"/>
            <a:ext cx="65534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2D67-EAC4-4D06-AFEA-11DF460D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09680" y="3904920"/>
            <a:ext cx="65534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45BB-8C69-4FFE-BAA2-6CBA68FD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0968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6776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9596-58BC-4892-962D-A4D693C4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25480" y="167616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1280" y="167616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09680" y="390492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425480" y="390492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1280" y="390492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3462-4F75-4535-91A3-365B1194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0F8-736F-4FDF-B57E-93B46ACB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E84-F8D4-4625-BB78-E645A497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057-1941-45BC-B75B-5FD3B657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09680" y="533160"/>
            <a:ext cx="65534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B15-F682-4C3F-B9C2-C0A875D4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0968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721-0E30-4FBA-89C7-0F11CEAB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6776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28F-3024-4942-B843-9208E3EE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09680" y="3904920"/>
            <a:ext cx="65534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0C4-BD3D-4953-9CC2-8F600549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01800"/>
                </a:solidFill>
                <a:latin typeface="宋体"/>
              </a:rPr>
              <a:t>Click to edit the title text format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09680" y="6248520"/>
            <a:ext cx="1828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90760" y="6248520"/>
            <a:ext cx="3429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6D18-D8D7-4502-86A3-2C5D6512D9B0}" type="slidenum">
              <a:rPr b="0" lang="zh-CN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5" descr="your logo here"/>
          <p:cNvPicPr/>
          <p:nvPr/>
        </p:nvPicPr>
        <p:blipFill>
          <a:blip r:embed="rId3"/>
          <a:stretch/>
        </p:blipFill>
        <p:spPr>
          <a:xfrm>
            <a:off x="762120" y="6172200"/>
            <a:ext cx="85716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7" descr="your logo here"/>
          <p:cNvPicPr/>
          <p:nvPr/>
        </p:nvPicPr>
        <p:blipFill>
          <a:blip r:embed="rId3"/>
          <a:stretch/>
        </p:blipFill>
        <p:spPr>
          <a:xfrm>
            <a:off x="762120" y="6172200"/>
            <a:ext cx="857160" cy="428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01800"/>
                </a:solidFill>
                <a:latin typeface="宋体"/>
              </a:rPr>
              <a:t>Click to edit the title text format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09680" y="6248520"/>
            <a:ext cx="1828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90760" y="6248520"/>
            <a:ext cx="3429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4602-CD25-44E8-B6F8-027FA38AB4BC}" type="slidenum">
              <a:rPr b="0" lang="zh-CN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560" y="6858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01800"/>
                </a:solidFill>
                <a:latin typeface="宋体"/>
              </a:rPr>
              <a:t>产品概述商务</a:t>
            </a:r>
            <a:r>
              <a:rPr b="1" lang="en-US" sz="4000" spc="-1" strike="noStrike">
                <a:solidFill>
                  <a:srgbClr val="3018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301800"/>
                </a:solidFill>
                <a:latin typeface="宋体"/>
              </a:rPr>
              <a:t>模板完整版下载</a:t>
            </a:r>
            <a:endParaRPr b="1" lang="en-US" sz="4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438280" y="2286000"/>
            <a:ext cx="4953240" cy="3301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54348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此处插入产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照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1800"/>
                </a:solidFill>
                <a:latin typeface="宋体"/>
              </a:rPr>
              <a:t>概述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简要描述产品或服务、产品或服务解决的用户问题以及产品或服务面向的用户。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概述可用的不同模型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1800"/>
                </a:solidFill>
                <a:latin typeface="宋体"/>
              </a:rPr>
              <a:t>功能与好处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使用多张幻灯片概述产品功能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按逻辑分类对功能进行分组（每个类别使用一张幻灯片）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确保陈述每个功能的用户好处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如果合适，每个模型使用一张幻灯片 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1800"/>
                </a:solidFill>
                <a:latin typeface="宋体"/>
              </a:rPr>
              <a:t>应用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介绍不同的组如何使用产品或服务，并在可能的情况下提供真实的用户示例 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1800"/>
                </a:solidFill>
                <a:latin typeface="宋体"/>
              </a:rPr>
              <a:t>规范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对于产品，根据需要使用多张幻灯片提供相关的技术规范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对于服务，详细描述提供服务所依据的条款和条件 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1800"/>
                </a:solidFill>
                <a:latin typeface="宋体"/>
              </a:rPr>
              <a:t>定价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详细描述可用的产品型号并列出每个型号的特定价格和其他选项 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1800"/>
                </a:solidFill>
                <a:latin typeface="宋体"/>
              </a:rPr>
              <a:t>可用性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列出可用日期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描述购买产品的位置或下订单的位置 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0:26:29Z</dcterms:created>
  <dc:creator>ppt宝藏</dc:creator>
  <dc:description/>
  <dc:language>en-US</dc:language>
  <cp:lastModifiedBy>a</cp:lastModifiedBy>
  <dcterms:modified xsi:type="dcterms:W3CDTF">2015-07-25T06:42:04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502052</vt:lpwstr>
  </property>
</Properties>
</file>