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3AF-36F6-49E0-8890-58D392AA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72F-2102-4CA6-8106-5FF416BB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85C7-D20B-4E49-B2CB-5EABFC85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AE1-73E2-4489-9ED7-9CB1721C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AF5-3716-4A66-9235-F3DAC582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23EC-8EDE-4820-BF3A-0E968EA4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446E-F61D-4F57-877B-986F7BD7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D8B-3001-4EA6-A3D2-74C2EA63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EF24-FE7B-47A5-B231-52D400C6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8C95-4095-4056-AA7F-F6D01987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C29-E230-4729-B968-1B406EFC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4F9-9B2C-406B-A9EC-6D370B3F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D340-4D71-4315-902B-7E77B495E54E}" type="slidenum">
              <a:rPr b="0" lang="fr-FR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842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橙色淡雅风格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4720" y="2349000"/>
            <a:ext cx="49687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  <a:ea typeface="宋体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5120" y="615600"/>
            <a:ext cx="7005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ffffff"/>
                </a:solidFill>
                <a:latin typeface="Arial"/>
                <a:ea typeface="宋体"/>
              </a:rPr>
              <a:t>Slide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2707920"/>
            <a:ext cx="713916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643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643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  <a:ea typeface="宋体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643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643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4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c6430"/>
                </a:solidFill>
                <a:latin typeface="Arial"/>
                <a:ea typeface="宋体"/>
              </a:rPr>
              <a:t>Lorem ipsum dolor sit amet, consectetuer adipiscing elit. Vivamus et magna. Fusce sed sem sed magna suscipit egest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" y="5876640"/>
            <a:ext cx="9109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© 2007 Your company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35:09Z</dcterms:created>
  <dc:creator>ppt宝藏</dc:creator>
  <dc:description/>
  <dc:language>en-US</dc:language>
  <cp:lastModifiedBy>a</cp:lastModifiedBy>
  <dcterms:modified xsi:type="dcterms:W3CDTF">2015-07-25T06:58:47Z</dcterms:modified>
  <cp:revision>8</cp:revision>
  <dc:subject/>
  <dc:title>www.pptbz.com</dc:title>
</cp:coreProperties>
</file>