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FA5-AC22-4369-B632-6CD344D6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CB8-DC72-4861-BA01-266B652B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1E67-EEE7-46D2-8AD9-7B6A1286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75B0-DDD9-443D-A664-B7D8F763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201E-79D7-40F0-8E18-9B5D7E30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9DD8-A9FC-4026-9C50-F1D0B929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B38D-95D7-444F-BEB5-157852E9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CAD3-F4D2-4619-8A49-CB5705FE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618C-C8B5-4B96-9DE3-F41894B8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CCFB-BD32-4076-B707-9314E0BD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D9A6-73EF-4D3E-BCAE-0FD9CBB9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2B1-A4E9-4C72-A1AE-58FF934E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C0D3-B48B-467F-877F-2C17BD66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1E5B-E439-4EFE-912F-0A42761F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0582-77EF-4911-ABAE-81BA2583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7506-C566-4041-8710-68052C43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CAE6-B600-489F-97D1-69DDCD1C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5AD3-6919-4E30-B328-479E756E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66E-45BD-46A4-B7B9-D2B71E65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AD09-ABC1-4263-917F-FC127878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003-E74E-426F-9A91-E72D720A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DDB0-9F4D-4C03-818E-53C88F3E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584A-743A-42F3-AAD9-73A1BED0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33DF-BC56-42E6-9929-7D247C6C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4BC697-467D-4F7A-B277-85147782F1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90B791-E45B-4469-A29F-08C838B698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0" y="4365720"/>
            <a:ext cx="6192360" cy="1221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ame of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5113440" y="4869000"/>
            <a:ext cx="385092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5 Company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2353320" y="98064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打电话紫色地球商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37080" y="907920"/>
            <a:ext cx="338256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Content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611280" y="2349360"/>
            <a:ext cx="756108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80000"/>
              </a:lnSpc>
              <a:spcBef>
                <a:spcPts val="2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la-VA" sz="1800" spc="-1" strike="noStrike">
                <a:solidFill>
                  <a:srgbClr val="ffffff"/>
                </a:solidFill>
                <a:latin typeface="Verdana"/>
                <a:ea typeface="굴림"/>
              </a:rPr>
              <a:t>Your Text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la-VA" sz="1800" spc="-1" strike="noStrike">
                <a:solidFill>
                  <a:srgbClr val="ffffff"/>
                </a:solidFill>
                <a:latin typeface="Verdana"/>
                <a:ea typeface="굴림"/>
              </a:rPr>
              <a:t>Lorem ipsum dolor sit amet, consectet adipiscing elit, sed diam nonummy nibh euismod tincidunt ut laoreet dolore aliquam erat volutp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la-VA" sz="1800" spc="-1" strike="noStrike">
                <a:solidFill>
                  <a:srgbClr val="ffffff"/>
                </a:solidFill>
                <a:latin typeface="Verdana"/>
                <a:ea typeface="굴림"/>
              </a:rPr>
              <a:t>Lorem ipsum dolor sit amet, consetetur sadipscing elitr, sed diam nonumy eirmod tempor invidunt ut labore et dolore magna aliquyam erat, sed diam voluptu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la-VA" sz="1800" spc="-1" strike="noStrike">
                <a:solidFill>
                  <a:srgbClr val="ffffff"/>
                </a:solidFill>
                <a:latin typeface="Verdana"/>
                <a:ea typeface="굴림"/>
              </a:rPr>
              <a:t>Lorem ipsum dolor sit amet, consetetur sadipscing elitr, sed diam nonumy eirmod tempor invidunt ut labore et dolor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0" lang="la-VA" sz="1800" spc="-1" strike="noStrike">
                <a:solidFill>
                  <a:srgbClr val="ffffff"/>
                </a:solidFill>
                <a:latin typeface="Verdana"/>
                <a:ea typeface="굴림"/>
              </a:rPr>
              <a:t>Lorem ipsum dolor sit amet, consetetur sadipscing elitr, sed diam nonumy eirmod tempor invidunt ut labore et dolore magna aliquyam erat, sed diam voluptu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resentation">
  <a:themeElements>
    <a:clrScheme name="Office 主题​​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resentation">
  <a:themeElements>
    <a:clrScheme name="Office 主题​​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resentation</Template>
  <TotalTime>2</TotalTime>
  <Application>LibreOffice/7.4.7.2$Linux_X86_64 LibreOffice_project/40$Build-2</Application>
  <AppVersion>15.0000</AppVersion>
  <Words>123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7:21:21Z</dcterms:created>
  <dc:creator>for_yang@qq.com</dc:creator>
  <dc:description/>
  <dc:language>en-US</dc:language>
  <cp:lastModifiedBy>a</cp:lastModifiedBy>
  <dcterms:modified xsi:type="dcterms:W3CDTF">2015-07-25T07:51:08Z</dcterms:modified>
  <cp:revision>2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