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01D-FBE6-49CF-8C21-E35B35CF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BD2-B57A-4C09-977C-FF28CD77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451-25FB-43E2-976B-EADEDC9F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6DB-6EBA-4FE0-A7C2-D1E5CBC8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06B2-AA97-42A9-9B29-C65DDC40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DD04-33EA-4C22-B3B7-D8BA125B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1475-CA37-47F0-AA37-1CB7FADA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ACE4-0F14-4665-AD09-C2C99975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567E-C2AA-4176-BAF2-2C1E79BE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06A7-96AA-4D60-B140-59975B46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9834-A9BD-4601-A5F6-9588D004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5F9-3667-4BC4-A9A3-8E769BFD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9EA9-99E0-4A61-9EE7-3DB8E120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A3BF-BAA3-4B61-9179-0DD783E0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DE13-695F-4721-9F08-49262016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029C-E726-4E6B-80FD-F9860F63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EE83-9F31-490B-BB22-6A4BD068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2DCB-F1FF-4DD7-B37A-3AC0A750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E450-2C98-4771-B2A5-EBA71341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5888-56EB-4223-A113-FFCE9D95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B3D9-2006-4AED-8DC7-4611FF8F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455D0-778F-467E-BDB8-0F1F819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BF3-8D15-431D-8355-4CA02073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9842-ECCE-4965-A168-8EF5A5A7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63DB-2CB0-4286-BC6D-A2BF4035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B1578-7715-45AA-A75A-9D88CD53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E49F-8FBA-4F66-9DED-6541AE81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CFD3-2A25-453B-9E9E-768C7460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AA5C-B5EA-4404-9B42-57170F3A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63FD8-0135-4D01-BC6B-763250C7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BFA-0EF7-42C3-91F4-BCDD0974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792-121A-48DC-8D11-FF1EFC41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8C0-6B52-4E97-82E9-CAA3F158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453-75DB-406D-B7EE-555EFEAD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55C-8987-40A6-A71C-A89B512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961-5485-415E-834F-B7E935E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78DE88-7038-4B7A-9962-E6E3EB6C5BC0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D3916A-A831-46F6-A03C-C6F9BE9771BC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255240"/>
          </a:xfrm>
          <a:prstGeom prst="rect">
            <a:avLst/>
          </a:prstGeom>
          <a:ln w="0">
            <a:noFill/>
          </a:ln>
        </p:spPr>
      </p:pic>
      <p:sp>
        <p:nvSpPr>
          <p:cNvPr id="45" name="圆角矩形 6"/>
          <p:cNvSpPr/>
          <p:nvPr/>
        </p:nvSpPr>
        <p:spPr>
          <a:xfrm>
            <a:off x="467640" y="915480"/>
            <a:ext cx="8280720" cy="4032000"/>
          </a:xfrm>
          <a:prstGeom prst="roundRect">
            <a:avLst>
              <a:gd name="adj" fmla="val 2090"/>
            </a:avLst>
          </a:prstGeom>
          <a:pattFill prst="openDmnd">
            <a:fgClr>
              <a:srgbClr val="00b050"/>
            </a:fgClr>
            <a:bgClr>
              <a:srgbClr val="ffffff"/>
            </a:bgClr>
          </a:pattFill>
          <a:ln w="762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6" name="圆角矩形 7"/>
          <p:cNvSpPr/>
          <p:nvPr/>
        </p:nvSpPr>
        <p:spPr>
          <a:xfrm>
            <a:off x="615600" y="1023840"/>
            <a:ext cx="7984080" cy="3815640"/>
          </a:xfrm>
          <a:prstGeom prst="roundRect">
            <a:avLst>
              <a:gd name="adj" fmla="val 2090"/>
            </a:avLst>
          </a:prstGeom>
          <a:solidFill>
            <a:schemeClr val="bg1"/>
          </a:solidFill>
          <a:ln w="762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899640" y="555480"/>
            <a:ext cx="2952000" cy="50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694BAA-1622-4B4F-93FD-40ABC41E3678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255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280" cy="51429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4860000" y="394920"/>
            <a:ext cx="403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ffffff"/>
                </a:solidFill>
                <a:latin typeface="Impact"/>
                <a:ea typeface="微软雅黑"/>
              </a:rPr>
              <a:t>儿童经济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10"/>
          <p:cNvSpPr/>
          <p:nvPr/>
        </p:nvSpPr>
        <p:spPr>
          <a:xfrm>
            <a:off x="4932000" y="1405080"/>
            <a:ext cx="3960000" cy="3693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跟喜羊羊与灰太狼一起学习学经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1930680" y="180468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Impact"/>
                <a:ea typeface="微软雅黑"/>
              </a:rPr>
              <a:t>儿童经济学金融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Impact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460800" y="48049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043640" y="1491480"/>
            <a:ext cx="2625480" cy="3050280"/>
          </a:xfrm>
          <a:prstGeom prst="rect">
            <a:avLst/>
          </a:prstGeom>
          <a:ln w="0">
            <a:noFill/>
          </a:ln>
        </p:spPr>
      </p:pic>
      <p:sp>
        <p:nvSpPr>
          <p:cNvPr id="172" name="矩形 11"/>
          <p:cNvSpPr/>
          <p:nvPr/>
        </p:nvSpPr>
        <p:spPr>
          <a:xfrm>
            <a:off x="1447560" y="627480"/>
            <a:ext cx="1704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b050"/>
                </a:solidFill>
                <a:latin typeface="Impact"/>
                <a:ea typeface="微软雅黑"/>
              </a:rPr>
              <a:t>沃伦</a:t>
            </a:r>
            <a:r>
              <a:rPr b="1" lang="en-US" sz="2800" spc="-1" strike="noStrike">
                <a:solidFill>
                  <a:srgbClr val="00b050"/>
                </a:solidFill>
                <a:latin typeface="Impact"/>
                <a:ea typeface="微软雅黑"/>
              </a:rPr>
              <a:t>·  </a:t>
            </a:r>
            <a:r>
              <a:rPr b="1" lang="zh-CN" sz="2800" spc="-1" strike="noStrike">
                <a:solidFill>
                  <a:srgbClr val="00b050"/>
                </a:solidFill>
                <a:latin typeface="Impact"/>
                <a:ea typeface="微软雅黑"/>
              </a:rPr>
              <a:t>巴菲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3" descr=""/>
          <p:cNvPicPr/>
          <p:nvPr/>
        </p:nvPicPr>
        <p:blipFill>
          <a:blip r:embed="rId2"/>
          <a:stretch/>
        </p:blipFill>
        <p:spPr>
          <a:xfrm>
            <a:off x="8028360" y="3723840"/>
            <a:ext cx="994680" cy="12157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4"/>
          <p:cNvSpPr/>
          <p:nvPr/>
        </p:nvSpPr>
        <p:spPr>
          <a:xfrm>
            <a:off x="4130640" y="1309320"/>
            <a:ext cx="43948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全球著名的投资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年其财富位居世界第三 净资产</a:t>
            </a:r>
            <a:r>
              <a:rPr b="0" lang="en-US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500</a:t>
            </a:r>
            <a:r>
              <a:rPr b="0" lang="zh-CN" sz="1600" spc="-1" strike="noStrike">
                <a:solidFill>
                  <a:srgbClr val="404040"/>
                </a:solidFill>
                <a:latin typeface="Impact"/>
                <a:ea typeface="微软雅黑"/>
              </a:rPr>
              <a:t>亿美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标注 16"/>
          <p:cNvSpPr/>
          <p:nvPr/>
        </p:nvSpPr>
        <p:spPr>
          <a:xfrm>
            <a:off x="4130640" y="2715840"/>
            <a:ext cx="4027320" cy="638640"/>
          </a:xfrm>
          <a:prstGeom prst="wedgeRoundRectCallout">
            <a:avLst>
              <a:gd name="adj1" fmla="val -83810"/>
              <a:gd name="adj2" fmla="val -60322"/>
              <a:gd name="adj3" fmla="val 16667"/>
            </a:avLst>
          </a:prstGeom>
          <a:noFill/>
          <a:ln w="0">
            <a:solidFill>
              <a:srgbClr val="000000">
                <a:lumMod val="50000"/>
                <a:lumOff val="50000"/>
              </a:srgbClr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我想给子女的，是足以让他们能够一展抱负，而不是多到让他们最后一事无成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2"/>
          <p:cNvSpPr/>
          <p:nvPr/>
        </p:nvSpPr>
        <p:spPr>
          <a:xfrm>
            <a:off x="676800" y="4371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1"/>
          <p:cNvSpPr/>
          <p:nvPr/>
        </p:nvSpPr>
        <p:spPr>
          <a:xfrm>
            <a:off x="5004000" y="2067840"/>
            <a:ext cx="4139640" cy="3075480"/>
          </a:xfrm>
          <a:prstGeom prst="rect">
            <a:avLst/>
          </a:prstGeom>
          <a:solidFill>
            <a:srgbClr val="ffffff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5034960" y="2143800"/>
            <a:ext cx="4108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3200" spc="-1" strike="noStrike">
                <a:solidFill>
                  <a:srgbClr val="00b050"/>
                </a:solidFill>
                <a:latin typeface="Impact"/>
                <a:ea typeface="微软雅黑"/>
              </a:rPr>
              <a:t>羊村要组织春游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5167800" y="2973960"/>
            <a:ext cx="3868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Impact"/>
                <a:ea typeface="微软雅黑"/>
              </a:rPr>
              <a:t>我们赶快想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Impact"/>
                <a:ea typeface="微软雅黑"/>
              </a:rPr>
              <a:t>要准备哪些东西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1"/>
          <p:cNvSpPr/>
          <p:nvPr/>
        </p:nvSpPr>
        <p:spPr>
          <a:xfrm>
            <a:off x="467640" y="627480"/>
            <a:ext cx="8280720" cy="4320000"/>
          </a:xfrm>
          <a:prstGeom prst="roundRect">
            <a:avLst>
              <a:gd name="adj" fmla="val 2090"/>
            </a:avLst>
          </a:prstGeom>
          <a:pattFill prst="openDmnd">
            <a:fgClr>
              <a:srgbClr val="00b050"/>
            </a:fgClr>
            <a:bgClr>
              <a:srgbClr val="ffffff"/>
            </a:bgClr>
          </a:pattFill>
          <a:ln w="762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81" name="圆角矩形 2"/>
          <p:cNvSpPr/>
          <p:nvPr/>
        </p:nvSpPr>
        <p:spPr>
          <a:xfrm>
            <a:off x="615600" y="751320"/>
            <a:ext cx="7984080" cy="4088160"/>
          </a:xfrm>
          <a:prstGeom prst="roundRect">
            <a:avLst>
              <a:gd name="adj" fmla="val 2090"/>
            </a:avLst>
          </a:prstGeom>
          <a:blipFill rotWithShape="0">
            <a:blip r:embed="rId1"/>
            <a:srcRect/>
            <a:stretch/>
          </a:blipFill>
          <a:ln w="762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pic>
        <p:nvPicPr>
          <p:cNvPr id="182" name="图片 4" descr=""/>
          <p:cNvPicPr/>
          <p:nvPr/>
        </p:nvPicPr>
        <p:blipFill>
          <a:blip r:embed="rId2"/>
          <a:stretch/>
        </p:blipFill>
        <p:spPr>
          <a:xfrm>
            <a:off x="-41040" y="231120"/>
            <a:ext cx="2808000" cy="1790640"/>
          </a:xfrm>
          <a:prstGeom prst="rect">
            <a:avLst/>
          </a:prstGeom>
          <a:ln w="0">
            <a:noFill/>
          </a:ln>
        </p:spPr>
      </p:pic>
      <p:sp>
        <p:nvSpPr>
          <p:cNvPr id="183" name="矩形 6"/>
          <p:cNvSpPr/>
          <p:nvPr/>
        </p:nvSpPr>
        <p:spPr>
          <a:xfrm>
            <a:off x="1013400" y="183240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我的金钱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  <Words>100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yce</dc:creator>
  <dc:description/>
  <dc:language>en-US</dc:language>
  <cp:lastModifiedBy>王玉清</cp:lastModifiedBy>
  <dcterms:modified xsi:type="dcterms:W3CDTF">2016-02-15T04:57:08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6</vt:r8>
  </property>
</Properties>
</file>