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315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8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slide" Target="slide1.xml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377" descr="竖天"/>
          <p:cNvPicPr/>
          <p:nvPr/>
        </p:nvPicPr>
        <p:blipFill>
          <a:blip r:embed="rId1"/>
          <a:stretch/>
        </p:blipFill>
        <p:spPr>
          <a:xfrm>
            <a:off x="0" y="-8218440"/>
            <a:ext cx="12455640" cy="1507644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1659"/>
          <p:cNvGrpSpPr/>
          <p:nvPr/>
        </p:nvGrpSpPr>
        <p:grpSpPr>
          <a:xfrm>
            <a:off x="1908360" y="2126160"/>
            <a:ext cx="1770120" cy="1562400"/>
            <a:chOff x="1908360" y="2126160"/>
            <a:chExt cx="1770120" cy="1562400"/>
          </a:xfrm>
        </p:grpSpPr>
        <p:grpSp>
          <p:nvGrpSpPr>
            <p:cNvPr id="40" name="Group 1660"/>
            <p:cNvGrpSpPr/>
            <p:nvPr/>
          </p:nvGrpSpPr>
          <p:grpSpPr>
            <a:xfrm>
              <a:off x="2842560" y="2590200"/>
              <a:ext cx="835920" cy="738360"/>
              <a:chOff x="2842560" y="2590200"/>
              <a:chExt cx="835920" cy="738360"/>
            </a:xfrm>
          </p:grpSpPr>
          <p:sp>
            <p:nvSpPr>
              <p:cNvPr id="41" name="Freeform 1661"/>
              <p:cNvSpPr/>
              <p:nvPr/>
            </p:nvSpPr>
            <p:spPr>
              <a:xfrm rot="2785800">
                <a:off x="3361680" y="2969280"/>
                <a:ext cx="102240" cy="22320"/>
              </a:xfrm>
              <a:custGeom>
                <a:avLst/>
                <a:gdLst/>
                <a:ahLst/>
                <a:rect l="l" t="t" r="r" b="b"/>
                <a:pathLst>
                  <a:path w="409" h="90">
                    <a:moveTo>
                      <a:pt x="0" y="90"/>
                    </a:moveTo>
                    <a:cubicBezTo>
                      <a:pt x="36" y="85"/>
                      <a:pt x="149" y="77"/>
                      <a:pt x="217" y="62"/>
                    </a:cubicBezTo>
                    <a:lnTo>
                      <a:pt x="409" y="0"/>
                    </a:lnTo>
                  </a:path>
                </a:pathLst>
              </a:custGeom>
              <a:noFill/>
              <a:ln cap="rnd" w="93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" name="Group 1662"/>
              <p:cNvGrpSpPr/>
              <p:nvPr/>
            </p:nvGrpSpPr>
            <p:grpSpPr>
              <a:xfrm>
                <a:off x="2842560" y="2590200"/>
                <a:ext cx="835920" cy="738360"/>
                <a:chOff x="2842560" y="2590200"/>
                <a:chExt cx="835920" cy="738360"/>
              </a:xfrm>
            </p:grpSpPr>
            <p:grpSp>
              <p:nvGrpSpPr>
                <p:cNvPr id="43" name="Group 1663"/>
                <p:cNvGrpSpPr/>
                <p:nvPr/>
              </p:nvGrpSpPr>
              <p:grpSpPr>
                <a:xfrm>
                  <a:off x="2842560" y="2876400"/>
                  <a:ext cx="569160" cy="452160"/>
                  <a:chOff x="2842560" y="2876400"/>
                  <a:chExt cx="569160" cy="452160"/>
                </a:xfrm>
              </p:grpSpPr>
              <p:sp>
                <p:nvSpPr>
                  <p:cNvPr id="44" name="AutoShape 1664"/>
                  <p:cNvSpPr/>
                  <p:nvPr/>
                </p:nvSpPr>
                <p:spPr>
                  <a:xfrm rot="2785800">
                    <a:off x="3306240" y="2896920"/>
                    <a:ext cx="90720" cy="79200"/>
                  </a:xfrm>
                  <a:prstGeom prst="irregularSeal1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1665"/>
                  <p:cNvSpPr/>
                  <p:nvPr/>
                </p:nvSpPr>
                <p:spPr>
                  <a:xfrm rot="2785800">
                    <a:off x="3143880" y="2864880"/>
                    <a:ext cx="46080" cy="43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735">
                        <a:moveTo>
                          <a:pt x="185" y="0"/>
                        </a:moveTo>
                        <a:cubicBezTo>
                          <a:pt x="174" y="126"/>
                          <a:pt x="137" y="578"/>
                          <a:pt x="120" y="757"/>
                        </a:cubicBezTo>
                        <a:lnTo>
                          <a:pt x="84" y="1075"/>
                        </a:lnTo>
                        <a:lnTo>
                          <a:pt x="0" y="1735"/>
                        </a:lnTo>
                      </a:path>
                    </a:pathLst>
                  </a:custGeom>
                  <a:noFill/>
                  <a:ln w="11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Oval 1666"/>
                  <p:cNvSpPr/>
                  <p:nvPr/>
                </p:nvSpPr>
                <p:spPr>
                  <a:xfrm rot="3329400">
                    <a:off x="2912040" y="3158640"/>
                    <a:ext cx="45360" cy="192600"/>
                  </a:xfrm>
                  <a:prstGeom prst="ellipse">
                    <a:avLst/>
                  </a:prstGeom>
                  <a:solidFill>
                    <a:srgbClr val="ffffff">
                      <a:alpha val="86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" name="Group 1667"/>
                <p:cNvGrpSpPr/>
                <p:nvPr/>
              </p:nvGrpSpPr>
              <p:grpSpPr>
                <a:xfrm>
                  <a:off x="3097080" y="2590200"/>
                  <a:ext cx="581400" cy="596160"/>
                  <a:chOff x="3097080" y="2590200"/>
                  <a:chExt cx="581400" cy="596160"/>
                </a:xfrm>
              </p:grpSpPr>
              <p:sp>
                <p:nvSpPr>
                  <p:cNvPr id="48" name="Freeform 1668"/>
                  <p:cNvSpPr/>
                  <p:nvPr/>
                </p:nvSpPr>
                <p:spPr>
                  <a:xfrm rot="2785800">
                    <a:off x="3202560" y="2855520"/>
                    <a:ext cx="15804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2" h="303">
                        <a:moveTo>
                          <a:pt x="544" y="303"/>
                        </a:moveTo>
                        <a:cubicBezTo>
                          <a:pt x="553" y="278"/>
                          <a:pt x="593" y="184"/>
                          <a:pt x="598" y="153"/>
                        </a:cubicBezTo>
                        <a:cubicBezTo>
                          <a:pt x="603" y="122"/>
                          <a:pt x="632" y="137"/>
                          <a:pt x="574" y="117"/>
                        </a:cubicBezTo>
                        <a:cubicBezTo>
                          <a:pt x="516" y="97"/>
                          <a:pt x="346" y="0"/>
                          <a:pt x="250" y="31"/>
                        </a:cubicBezTo>
                        <a:cubicBezTo>
                          <a:pt x="154" y="62"/>
                          <a:pt x="52" y="245"/>
                          <a:pt x="0" y="303"/>
                        </a:cubicBezTo>
                      </a:path>
                    </a:pathLst>
                  </a:custGeom>
                  <a:noFill/>
                  <a:ln cap="rnd" w="144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Freeform 1669"/>
                  <p:cNvSpPr/>
                  <p:nvPr/>
                </p:nvSpPr>
                <p:spPr>
                  <a:xfrm rot="2785800">
                    <a:off x="3084840" y="2823120"/>
                    <a:ext cx="2725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272">
                        <a:moveTo>
                          <a:pt x="1089" y="0"/>
                        </a:moveTo>
                        <a:cubicBezTo>
                          <a:pt x="988" y="18"/>
                          <a:pt x="663" y="64"/>
                          <a:pt x="482" y="109"/>
                        </a:cubicBezTo>
                        <a:cubicBezTo>
                          <a:pt x="301" y="154"/>
                          <a:pt x="100" y="238"/>
                          <a:pt x="0" y="272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1670"/>
                  <p:cNvSpPr/>
                  <p:nvPr/>
                </p:nvSpPr>
                <p:spPr>
                  <a:xfrm rot="2785800">
                    <a:off x="3116880" y="2764080"/>
                    <a:ext cx="28368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272">
                        <a:moveTo>
                          <a:pt x="1134" y="272"/>
                        </a:moveTo>
                        <a:cubicBezTo>
                          <a:pt x="1024" y="241"/>
                          <a:pt x="663" y="129"/>
                          <a:pt x="474" y="84"/>
                        </a:cubicBezTo>
                        <a:cubicBezTo>
                          <a:pt x="285" y="39"/>
                          <a:pt x="99" y="17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Freeform 1671"/>
                  <p:cNvSpPr/>
                  <p:nvPr/>
                </p:nvSpPr>
                <p:spPr>
                  <a:xfrm rot="2785800">
                    <a:off x="3107880" y="2716200"/>
                    <a:ext cx="2952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363">
                        <a:moveTo>
                          <a:pt x="1180" y="363"/>
                        </a:moveTo>
                        <a:cubicBezTo>
                          <a:pt x="1067" y="321"/>
                          <a:pt x="699" y="172"/>
                          <a:pt x="502" y="112"/>
                        </a:cubicBezTo>
                        <a:cubicBezTo>
                          <a:pt x="305" y="52"/>
                          <a:pt x="105" y="23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672"/>
                  <p:cNvSpPr/>
                  <p:nvPr/>
                </p:nvSpPr>
                <p:spPr>
                  <a:xfrm rot="2785800">
                    <a:off x="3131280" y="2712600"/>
                    <a:ext cx="29340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3" h="461">
                        <a:moveTo>
                          <a:pt x="1173" y="461"/>
                        </a:moveTo>
                        <a:cubicBezTo>
                          <a:pt x="1088" y="425"/>
                          <a:pt x="862" y="323"/>
                          <a:pt x="666" y="246"/>
                        </a:cubicBezTo>
                        <a:cubicBezTo>
                          <a:pt x="470" y="169"/>
                          <a:pt x="139" y="5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673"/>
                  <p:cNvSpPr/>
                  <p:nvPr/>
                </p:nvSpPr>
                <p:spPr>
                  <a:xfrm rot="2785800">
                    <a:off x="3156480" y="2734200"/>
                    <a:ext cx="283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453">
                        <a:moveTo>
                          <a:pt x="1134" y="453"/>
                        </a:moveTo>
                        <a:cubicBezTo>
                          <a:pt x="1034" y="407"/>
                          <a:pt x="722" y="254"/>
                          <a:pt x="533" y="178"/>
                        </a:cubicBezTo>
                        <a:cubicBezTo>
                          <a:pt x="344" y="102"/>
                          <a:pt x="111" y="37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674"/>
                  <p:cNvSpPr/>
                  <p:nvPr/>
                </p:nvSpPr>
                <p:spPr>
                  <a:xfrm rot="2785800">
                    <a:off x="3232440" y="2694240"/>
                    <a:ext cx="21420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724">
                        <a:moveTo>
                          <a:pt x="856" y="724"/>
                        </a:moveTo>
                        <a:lnTo>
                          <a:pt x="372" y="234"/>
                        </a:lnTo>
                        <a:cubicBezTo>
                          <a:pt x="229" y="113"/>
                          <a:pt x="77" y="49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75"/>
                  <p:cNvSpPr/>
                  <p:nvPr/>
                </p:nvSpPr>
                <p:spPr>
                  <a:xfrm rot="2785800">
                    <a:off x="3202560" y="2692800"/>
                    <a:ext cx="24984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5">
                        <a:moveTo>
                          <a:pt x="998" y="635"/>
                        </a:moveTo>
                        <a:lnTo>
                          <a:pt x="220" y="11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676"/>
                  <p:cNvSpPr/>
                  <p:nvPr/>
                </p:nvSpPr>
                <p:spPr>
                  <a:xfrm rot="2785800">
                    <a:off x="3201120" y="2740320"/>
                    <a:ext cx="24984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5">
                        <a:moveTo>
                          <a:pt x="998" y="635"/>
                        </a:moveTo>
                        <a:cubicBezTo>
                          <a:pt x="882" y="554"/>
                          <a:pt x="466" y="255"/>
                          <a:pt x="300" y="149"/>
                        </a:cubicBezTo>
                        <a:cubicBezTo>
                          <a:pt x="134" y="43"/>
                          <a:pt x="62" y="3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1677"/>
                  <p:cNvSpPr/>
                  <p:nvPr/>
                </p:nvSpPr>
                <p:spPr>
                  <a:xfrm rot="2785800">
                    <a:off x="3222360" y="2647080"/>
                    <a:ext cx="26280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0" h="980">
                        <a:moveTo>
                          <a:pt x="1050" y="980"/>
                        </a:moveTo>
                        <a:lnTo>
                          <a:pt x="378" y="234"/>
                        </a:lnTo>
                        <a:cubicBezTo>
                          <a:pt x="203" y="71"/>
                          <a:pt x="79" y="49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Line 1678"/>
                  <p:cNvSpPr/>
                  <p:nvPr/>
                </p:nvSpPr>
                <p:spPr>
                  <a:xfrm flipV="1">
                    <a:off x="3346920" y="2661120"/>
                    <a:ext cx="47520" cy="311760"/>
                  </a:xfrm>
                  <a:prstGeom prst="line">
                    <a:avLst/>
                  </a:prstGeom>
                  <a:ln w="25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1679"/>
                  <p:cNvSpPr/>
                  <p:nvPr/>
                </p:nvSpPr>
                <p:spPr>
                  <a:xfrm rot="2785800">
                    <a:off x="3295080" y="2696760"/>
                    <a:ext cx="1587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997">
                        <a:moveTo>
                          <a:pt x="635" y="997"/>
                        </a:moveTo>
                        <a:cubicBezTo>
                          <a:pt x="569" y="887"/>
                          <a:pt x="345" y="500"/>
                          <a:pt x="239" y="334"/>
                        </a:cubicBezTo>
                        <a:cubicBezTo>
                          <a:pt x="133" y="168"/>
                          <a:pt x="50" y="70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1680"/>
                  <p:cNvSpPr/>
                  <p:nvPr/>
                </p:nvSpPr>
                <p:spPr>
                  <a:xfrm rot="2785800">
                    <a:off x="3336120" y="2696040"/>
                    <a:ext cx="123120" cy="25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1026">
                        <a:moveTo>
                          <a:pt x="492" y="1026"/>
                        </a:moveTo>
                        <a:cubicBezTo>
                          <a:pt x="452" y="924"/>
                          <a:pt x="334" y="585"/>
                          <a:pt x="252" y="414"/>
                        </a:cubicBezTo>
                        <a:cubicBezTo>
                          <a:pt x="170" y="243"/>
                          <a:pt x="53" y="86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1681"/>
                  <p:cNvSpPr/>
                  <p:nvPr/>
                </p:nvSpPr>
                <p:spPr>
                  <a:xfrm rot="2785800">
                    <a:off x="3375720" y="2697480"/>
                    <a:ext cx="8244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086">
                        <a:moveTo>
                          <a:pt x="330" y="1086"/>
                        </a:moveTo>
                        <a:cubicBezTo>
                          <a:pt x="302" y="966"/>
                          <a:pt x="217" y="547"/>
                          <a:pt x="162" y="366"/>
                        </a:cubicBezTo>
                        <a:cubicBezTo>
                          <a:pt x="107" y="185"/>
                          <a:pt x="34" y="76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1682"/>
                  <p:cNvSpPr/>
                  <p:nvPr/>
                </p:nvSpPr>
                <p:spPr>
                  <a:xfrm rot="2785800">
                    <a:off x="3417120" y="2712600"/>
                    <a:ext cx="41040" cy="2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160">
                        <a:moveTo>
                          <a:pt x="164" y="1160"/>
                        </a:moveTo>
                        <a:cubicBezTo>
                          <a:pt x="148" y="1008"/>
                          <a:pt x="93" y="439"/>
                          <a:pt x="66" y="246"/>
                        </a:cubicBezTo>
                        <a:cubicBezTo>
                          <a:pt x="39" y="53"/>
                          <a:pt x="14" y="5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Freeform 1683"/>
                  <p:cNvSpPr/>
                  <p:nvPr/>
                </p:nvSpPr>
                <p:spPr>
                  <a:xfrm rot="2785800">
                    <a:off x="3437280" y="2691360"/>
                    <a:ext cx="47520" cy="31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1259">
                        <a:moveTo>
                          <a:pt x="140" y="1259"/>
                        </a:moveTo>
                        <a:cubicBezTo>
                          <a:pt x="145" y="1113"/>
                          <a:pt x="191" y="594"/>
                          <a:pt x="168" y="384"/>
                        </a:cubicBezTo>
                        <a:cubicBezTo>
                          <a:pt x="145" y="174"/>
                          <a:pt x="35" y="80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1684"/>
                  <p:cNvSpPr/>
                  <p:nvPr/>
                </p:nvSpPr>
                <p:spPr>
                  <a:xfrm rot="2785800">
                    <a:off x="3434760" y="2741040"/>
                    <a:ext cx="45000" cy="28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134">
                        <a:moveTo>
                          <a:pt x="0" y="1134"/>
                        </a:moveTo>
                        <a:cubicBezTo>
                          <a:pt x="19" y="988"/>
                          <a:pt x="85" y="445"/>
                          <a:pt x="115" y="256"/>
                        </a:cubicBezTo>
                        <a:cubicBezTo>
                          <a:pt x="145" y="67"/>
                          <a:pt x="167" y="53"/>
                          <a:pt x="181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1685"/>
                  <p:cNvSpPr/>
                  <p:nvPr/>
                </p:nvSpPr>
                <p:spPr>
                  <a:xfrm rot="2785800">
                    <a:off x="3428640" y="2792520"/>
                    <a:ext cx="7920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52">
                        <a:moveTo>
                          <a:pt x="0" y="952"/>
                        </a:moveTo>
                        <a:cubicBezTo>
                          <a:pt x="43" y="837"/>
                          <a:pt x="203" y="422"/>
                          <a:pt x="256" y="263"/>
                        </a:cubicBezTo>
                        <a:cubicBezTo>
                          <a:pt x="309" y="104"/>
                          <a:pt x="304" y="55"/>
                          <a:pt x="317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Freeform 1686"/>
                  <p:cNvSpPr/>
                  <p:nvPr/>
                </p:nvSpPr>
                <p:spPr>
                  <a:xfrm rot="2785800">
                    <a:off x="3437640" y="2757240"/>
                    <a:ext cx="158760" cy="29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1179">
                        <a:moveTo>
                          <a:pt x="0" y="1179"/>
                        </a:moveTo>
                        <a:cubicBezTo>
                          <a:pt x="70" y="1066"/>
                          <a:pt x="315" y="697"/>
                          <a:pt x="421" y="501"/>
                        </a:cubicBezTo>
                        <a:cubicBezTo>
                          <a:pt x="527" y="305"/>
                          <a:pt x="591" y="105"/>
                          <a:pt x="635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1687"/>
                  <p:cNvSpPr/>
                  <p:nvPr/>
                </p:nvSpPr>
                <p:spPr>
                  <a:xfrm rot="2785800">
                    <a:off x="3405600" y="2819880"/>
                    <a:ext cx="20412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998">
                        <a:moveTo>
                          <a:pt x="0" y="998"/>
                        </a:moveTo>
                        <a:cubicBezTo>
                          <a:pt x="102" y="891"/>
                          <a:pt x="477" y="523"/>
                          <a:pt x="613" y="357"/>
                        </a:cubicBezTo>
                        <a:cubicBezTo>
                          <a:pt x="749" y="191"/>
                          <a:pt x="774" y="75"/>
                          <a:pt x="816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1688"/>
                  <p:cNvSpPr/>
                  <p:nvPr/>
                </p:nvSpPr>
                <p:spPr>
                  <a:xfrm rot="2785800">
                    <a:off x="3387600" y="2888280"/>
                    <a:ext cx="23832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771">
                        <a:moveTo>
                          <a:pt x="0" y="771"/>
                        </a:moveTo>
                        <a:cubicBezTo>
                          <a:pt x="91" y="704"/>
                          <a:pt x="385" y="497"/>
                          <a:pt x="544" y="369"/>
                        </a:cubicBezTo>
                        <a:cubicBezTo>
                          <a:pt x="703" y="241"/>
                          <a:pt x="867" y="77"/>
                          <a:pt x="952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1689"/>
                  <p:cNvSpPr/>
                  <p:nvPr/>
                </p:nvSpPr>
                <p:spPr>
                  <a:xfrm rot="2785800">
                    <a:off x="3370320" y="2929320"/>
                    <a:ext cx="27216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8" h="635">
                        <a:moveTo>
                          <a:pt x="0" y="635"/>
                        </a:moveTo>
                        <a:cubicBezTo>
                          <a:pt x="109" y="581"/>
                          <a:pt x="471" y="417"/>
                          <a:pt x="652" y="311"/>
                        </a:cubicBezTo>
                        <a:cubicBezTo>
                          <a:pt x="833" y="205"/>
                          <a:pt x="997" y="65"/>
                          <a:pt x="1088" y="0"/>
                        </a:cubicBez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1690"/>
                  <p:cNvSpPr/>
                  <p:nvPr/>
                </p:nvSpPr>
                <p:spPr>
                  <a:xfrm rot="2785800">
                    <a:off x="3339360" y="2937240"/>
                    <a:ext cx="31788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0" h="635">
                        <a:moveTo>
                          <a:pt x="0" y="635"/>
                        </a:moveTo>
                        <a:cubicBezTo>
                          <a:pt x="120" y="588"/>
                          <a:pt x="537" y="430"/>
                          <a:pt x="719" y="352"/>
                        </a:cubicBezTo>
                        <a:cubicBezTo>
                          <a:pt x="901" y="274"/>
                          <a:pt x="999" y="225"/>
                          <a:pt x="1091" y="166"/>
                        </a:cubicBezTo>
                        <a:cubicBezTo>
                          <a:pt x="1183" y="107"/>
                          <a:pt x="1233" y="35"/>
                          <a:pt x="127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1691"/>
                  <p:cNvSpPr/>
                  <p:nvPr/>
                </p:nvSpPr>
                <p:spPr>
                  <a:xfrm rot="2785800">
                    <a:off x="3303720" y="3026880"/>
                    <a:ext cx="1940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87">
                        <a:moveTo>
                          <a:pt x="0" y="0"/>
                        </a:moveTo>
                        <a:cubicBezTo>
                          <a:pt x="63" y="14"/>
                          <a:pt x="255" y="81"/>
                          <a:pt x="384" y="84"/>
                        </a:cubicBezTo>
                        <a:cubicBezTo>
                          <a:pt x="513" y="87"/>
                          <a:pt x="694" y="33"/>
                          <a:pt x="776" y="2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692"/>
                  <p:cNvSpPr/>
                  <p:nvPr/>
                </p:nvSpPr>
                <p:spPr>
                  <a:xfrm rot="2785800">
                    <a:off x="3305520" y="3008880"/>
                    <a:ext cx="136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135">
                        <a:moveTo>
                          <a:pt x="0" y="0"/>
                        </a:moveTo>
                        <a:lnTo>
                          <a:pt x="289" y="99"/>
                        </a:lnTo>
                        <a:cubicBezTo>
                          <a:pt x="380" y="121"/>
                          <a:pt x="491" y="128"/>
                          <a:pt x="544" y="135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1693"/>
                  <p:cNvSpPr/>
                  <p:nvPr/>
                </p:nvSpPr>
                <p:spPr>
                  <a:xfrm rot="2785800">
                    <a:off x="3283920" y="2986560"/>
                    <a:ext cx="907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272">
                        <a:moveTo>
                          <a:pt x="0" y="0"/>
                        </a:moveTo>
                        <a:cubicBezTo>
                          <a:pt x="34" y="32"/>
                          <a:pt x="143" y="147"/>
                          <a:pt x="203" y="192"/>
                        </a:cubicBezTo>
                        <a:cubicBezTo>
                          <a:pt x="263" y="237"/>
                          <a:pt x="330" y="255"/>
                          <a:pt x="363" y="272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1694"/>
                  <p:cNvSpPr/>
                  <p:nvPr/>
                </p:nvSpPr>
                <p:spPr>
                  <a:xfrm rot="2785800">
                    <a:off x="3277440" y="2967840"/>
                    <a:ext cx="648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306">
                        <a:moveTo>
                          <a:pt x="0" y="0"/>
                        </a:moveTo>
                        <a:cubicBezTo>
                          <a:pt x="24" y="33"/>
                          <a:pt x="103" y="147"/>
                          <a:pt x="146" y="198"/>
                        </a:cubicBezTo>
                        <a:cubicBezTo>
                          <a:pt x="189" y="249"/>
                          <a:pt x="236" y="284"/>
                          <a:pt x="260" y="306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1695"/>
                  <p:cNvSpPr/>
                  <p:nvPr/>
                </p:nvSpPr>
                <p:spPr>
                  <a:xfrm rot="2785800">
                    <a:off x="3157200" y="2847240"/>
                    <a:ext cx="226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7" h="72">
                        <a:moveTo>
                          <a:pt x="0" y="27"/>
                        </a:moveTo>
                        <a:cubicBezTo>
                          <a:pt x="55" y="24"/>
                          <a:pt x="180" y="0"/>
                          <a:pt x="331" y="7"/>
                        </a:cubicBezTo>
                        <a:cubicBezTo>
                          <a:pt x="482" y="14"/>
                          <a:pt x="787" y="59"/>
                          <a:pt x="907" y="72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1696"/>
                  <p:cNvSpPr/>
                  <p:nvPr/>
                </p:nvSpPr>
                <p:spPr>
                  <a:xfrm rot="2785800">
                    <a:off x="3306960" y="3036960"/>
                    <a:ext cx="2268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7" h="56">
                        <a:moveTo>
                          <a:pt x="0" y="0"/>
                        </a:moveTo>
                        <a:cubicBezTo>
                          <a:pt x="86" y="8"/>
                          <a:pt x="366" y="42"/>
                          <a:pt x="517" y="49"/>
                        </a:cubicBezTo>
                        <a:cubicBezTo>
                          <a:pt x="668" y="56"/>
                          <a:pt x="826" y="46"/>
                          <a:pt x="907" y="45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1697"/>
                  <p:cNvSpPr/>
                  <p:nvPr/>
                </p:nvSpPr>
                <p:spPr>
                  <a:xfrm rot="2785800">
                    <a:off x="3273480" y="2999520"/>
                    <a:ext cx="1587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363">
                        <a:moveTo>
                          <a:pt x="0" y="0"/>
                        </a:moveTo>
                        <a:cubicBezTo>
                          <a:pt x="57" y="40"/>
                          <a:pt x="235" y="178"/>
                          <a:pt x="341" y="238"/>
                        </a:cubicBezTo>
                        <a:cubicBezTo>
                          <a:pt x="447" y="298"/>
                          <a:pt x="574" y="337"/>
                          <a:pt x="635" y="363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1698"/>
                  <p:cNvSpPr/>
                  <p:nvPr/>
                </p:nvSpPr>
                <p:spPr>
                  <a:xfrm rot="2785800">
                    <a:off x="3432240" y="2731320"/>
                    <a:ext cx="8640" cy="260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043">
                        <a:moveTo>
                          <a:pt x="0" y="0"/>
                        </a:moveTo>
                        <a:cubicBezTo>
                          <a:pt x="6" y="84"/>
                          <a:pt x="35" y="330"/>
                          <a:pt x="35" y="504"/>
                        </a:cubicBezTo>
                        <a:cubicBezTo>
                          <a:pt x="35" y="678"/>
                          <a:pt x="7" y="931"/>
                          <a:pt x="0" y="1043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1699"/>
                  <p:cNvSpPr/>
                  <p:nvPr/>
                </p:nvSpPr>
                <p:spPr>
                  <a:xfrm rot="2785800">
                    <a:off x="3195720" y="2868840"/>
                    <a:ext cx="13608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590">
                        <a:moveTo>
                          <a:pt x="544" y="0"/>
                        </a:moveTo>
                        <a:cubicBezTo>
                          <a:pt x="495" y="45"/>
                          <a:pt x="341" y="173"/>
                          <a:pt x="250" y="271"/>
                        </a:cubicBezTo>
                        <a:cubicBezTo>
                          <a:pt x="159" y="369"/>
                          <a:pt x="52" y="524"/>
                          <a:pt x="0" y="590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Freeform 1700"/>
                  <p:cNvSpPr/>
                  <p:nvPr/>
                </p:nvSpPr>
                <p:spPr>
                  <a:xfrm rot="2785800">
                    <a:off x="3151440" y="2879280"/>
                    <a:ext cx="12456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817">
                        <a:moveTo>
                          <a:pt x="498" y="0"/>
                        </a:moveTo>
                        <a:cubicBezTo>
                          <a:pt x="455" y="58"/>
                          <a:pt x="323" y="210"/>
                          <a:pt x="240" y="346"/>
                        </a:cubicBezTo>
                        <a:cubicBezTo>
                          <a:pt x="157" y="482"/>
                          <a:pt x="50" y="719"/>
                          <a:pt x="0" y="817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Freeform 1701"/>
                  <p:cNvSpPr/>
                  <p:nvPr/>
                </p:nvSpPr>
                <p:spPr>
                  <a:xfrm rot="2785800">
                    <a:off x="3256920" y="2975040"/>
                    <a:ext cx="792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680">
                        <a:moveTo>
                          <a:pt x="0" y="0"/>
                        </a:moveTo>
                        <a:cubicBezTo>
                          <a:pt x="27" y="48"/>
                          <a:pt x="120" y="212"/>
                          <a:pt x="164" y="288"/>
                        </a:cubicBezTo>
                        <a:cubicBezTo>
                          <a:pt x="208" y="364"/>
                          <a:pt x="238" y="391"/>
                          <a:pt x="264" y="456"/>
                        </a:cubicBezTo>
                        <a:cubicBezTo>
                          <a:pt x="290" y="521"/>
                          <a:pt x="306" y="633"/>
                          <a:pt x="317" y="68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1702"/>
                  <p:cNvSpPr/>
                  <p:nvPr/>
                </p:nvSpPr>
                <p:spPr>
                  <a:xfrm rot="3466800">
                    <a:off x="3363120" y="2999160"/>
                    <a:ext cx="1022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9" h="90">
                        <a:moveTo>
                          <a:pt x="0" y="90"/>
                        </a:moveTo>
                        <a:cubicBezTo>
                          <a:pt x="36" y="85"/>
                          <a:pt x="149" y="77"/>
                          <a:pt x="217" y="62"/>
                        </a:cubicBezTo>
                        <a:lnTo>
                          <a:pt x="409" y="0"/>
                        </a:lnTo>
                      </a:path>
                    </a:pathLst>
                  </a:custGeom>
                  <a:noFill/>
                  <a:ln cap="rnd" w="252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1703"/>
                  <p:cNvSpPr/>
                  <p:nvPr/>
                </p:nvSpPr>
                <p:spPr>
                  <a:xfrm rot="2785800">
                    <a:off x="3394440" y="2819880"/>
                    <a:ext cx="68040" cy="18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52">
                        <a:moveTo>
                          <a:pt x="0" y="952"/>
                        </a:moveTo>
                        <a:cubicBezTo>
                          <a:pt x="43" y="837"/>
                          <a:pt x="203" y="422"/>
                          <a:pt x="256" y="263"/>
                        </a:cubicBezTo>
                        <a:cubicBezTo>
                          <a:pt x="309" y="104"/>
                          <a:pt x="304" y="55"/>
                          <a:pt x="317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4" name="Group 1704"/>
            <p:cNvGrpSpPr/>
            <p:nvPr/>
          </p:nvGrpSpPr>
          <p:grpSpPr>
            <a:xfrm>
              <a:off x="2161800" y="2126160"/>
              <a:ext cx="717840" cy="850680"/>
              <a:chOff x="2161800" y="2126160"/>
              <a:chExt cx="717840" cy="850680"/>
            </a:xfrm>
          </p:grpSpPr>
          <p:sp>
            <p:nvSpPr>
              <p:cNvPr id="85" name="Freeform 1705"/>
              <p:cNvSpPr/>
              <p:nvPr/>
            </p:nvSpPr>
            <p:spPr>
              <a:xfrm rot="1717800">
                <a:off x="2558520" y="2468160"/>
                <a:ext cx="102240" cy="22320"/>
              </a:xfrm>
              <a:custGeom>
                <a:avLst/>
                <a:gdLst/>
                <a:ahLst/>
                <a:rect l="l" t="t" r="r" b="b"/>
                <a:pathLst>
                  <a:path w="409" h="90">
                    <a:moveTo>
                      <a:pt x="0" y="90"/>
                    </a:moveTo>
                    <a:cubicBezTo>
                      <a:pt x="36" y="85"/>
                      <a:pt x="149" y="77"/>
                      <a:pt x="217" y="62"/>
                    </a:cubicBezTo>
                    <a:lnTo>
                      <a:pt x="409" y="0"/>
                    </a:lnTo>
                  </a:path>
                </a:pathLst>
              </a:custGeom>
              <a:noFill/>
              <a:ln cap="rnd" w="93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Group 1706"/>
              <p:cNvGrpSpPr/>
              <p:nvPr/>
            </p:nvGrpSpPr>
            <p:grpSpPr>
              <a:xfrm>
                <a:off x="2161800" y="2126160"/>
                <a:ext cx="717840" cy="850680"/>
                <a:chOff x="2161800" y="2126160"/>
                <a:chExt cx="717840" cy="850680"/>
              </a:xfrm>
            </p:grpSpPr>
            <p:grpSp>
              <p:nvGrpSpPr>
                <p:cNvPr id="87" name="Group 1707"/>
                <p:cNvGrpSpPr/>
                <p:nvPr/>
              </p:nvGrpSpPr>
              <p:grpSpPr>
                <a:xfrm>
                  <a:off x="2161800" y="2399760"/>
                  <a:ext cx="435240" cy="577080"/>
                  <a:chOff x="2161800" y="2399760"/>
                  <a:chExt cx="435240" cy="577080"/>
                </a:xfrm>
              </p:grpSpPr>
              <p:sp>
                <p:nvSpPr>
                  <p:cNvPr id="88" name="AutoShape 1708"/>
                  <p:cNvSpPr/>
                  <p:nvPr/>
                </p:nvSpPr>
                <p:spPr>
                  <a:xfrm rot="1717800">
                    <a:off x="2492640" y="2416320"/>
                    <a:ext cx="90720" cy="79200"/>
                  </a:xfrm>
                  <a:prstGeom prst="irregularSeal1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1709"/>
                  <p:cNvSpPr/>
                  <p:nvPr/>
                </p:nvSpPr>
                <p:spPr>
                  <a:xfrm rot="1717800">
                    <a:off x="2383560" y="2433600"/>
                    <a:ext cx="46080" cy="43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735">
                        <a:moveTo>
                          <a:pt x="185" y="0"/>
                        </a:moveTo>
                        <a:cubicBezTo>
                          <a:pt x="174" y="126"/>
                          <a:pt x="137" y="578"/>
                          <a:pt x="120" y="757"/>
                        </a:cubicBezTo>
                        <a:lnTo>
                          <a:pt x="84" y="1075"/>
                        </a:lnTo>
                        <a:lnTo>
                          <a:pt x="0" y="1735"/>
                        </a:lnTo>
                      </a:path>
                    </a:pathLst>
                  </a:custGeom>
                  <a:noFill/>
                  <a:ln w="11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710"/>
                  <p:cNvSpPr/>
                  <p:nvPr/>
                </p:nvSpPr>
                <p:spPr>
                  <a:xfrm rot="2262000">
                    <a:off x="2215800" y="2790360"/>
                    <a:ext cx="45360" cy="192600"/>
                  </a:xfrm>
                  <a:prstGeom prst="ellipse">
                    <a:avLst/>
                  </a:prstGeom>
                  <a:solidFill>
                    <a:srgbClr val="ffffff">
                      <a:alpha val="86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1711"/>
                <p:cNvGrpSpPr/>
                <p:nvPr/>
              </p:nvGrpSpPr>
              <p:grpSpPr>
                <a:xfrm>
                  <a:off x="2241720" y="2126160"/>
                  <a:ext cx="637920" cy="558360"/>
                  <a:chOff x="2241720" y="2126160"/>
                  <a:chExt cx="637920" cy="558360"/>
                </a:xfrm>
              </p:grpSpPr>
              <p:sp>
                <p:nvSpPr>
                  <p:cNvPr id="92" name="Freeform 1712"/>
                  <p:cNvSpPr/>
                  <p:nvPr/>
                </p:nvSpPr>
                <p:spPr>
                  <a:xfrm rot="1717800">
                    <a:off x="2378880" y="2398680"/>
                    <a:ext cx="15804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2" h="303">
                        <a:moveTo>
                          <a:pt x="544" y="303"/>
                        </a:moveTo>
                        <a:cubicBezTo>
                          <a:pt x="553" y="278"/>
                          <a:pt x="593" y="184"/>
                          <a:pt x="598" y="153"/>
                        </a:cubicBezTo>
                        <a:cubicBezTo>
                          <a:pt x="603" y="122"/>
                          <a:pt x="632" y="137"/>
                          <a:pt x="574" y="117"/>
                        </a:cubicBezTo>
                        <a:cubicBezTo>
                          <a:pt x="516" y="97"/>
                          <a:pt x="346" y="0"/>
                          <a:pt x="250" y="31"/>
                        </a:cubicBezTo>
                        <a:cubicBezTo>
                          <a:pt x="154" y="62"/>
                          <a:pt x="52" y="245"/>
                          <a:pt x="0" y="303"/>
                        </a:cubicBezTo>
                      </a:path>
                    </a:pathLst>
                  </a:custGeom>
                  <a:noFill/>
                  <a:ln cap="rnd" w="144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1713"/>
                  <p:cNvSpPr/>
                  <p:nvPr/>
                </p:nvSpPr>
                <p:spPr>
                  <a:xfrm rot="1717800">
                    <a:off x="2252880" y="2386440"/>
                    <a:ext cx="27252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272">
                        <a:moveTo>
                          <a:pt x="1089" y="0"/>
                        </a:moveTo>
                        <a:cubicBezTo>
                          <a:pt x="988" y="18"/>
                          <a:pt x="663" y="64"/>
                          <a:pt x="482" y="109"/>
                        </a:cubicBezTo>
                        <a:cubicBezTo>
                          <a:pt x="301" y="154"/>
                          <a:pt x="100" y="238"/>
                          <a:pt x="0" y="272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1714"/>
                  <p:cNvSpPr/>
                  <p:nvPr/>
                </p:nvSpPr>
                <p:spPr>
                  <a:xfrm rot="1717800">
                    <a:off x="2265120" y="2318760"/>
                    <a:ext cx="28368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272">
                        <a:moveTo>
                          <a:pt x="1134" y="272"/>
                        </a:moveTo>
                        <a:cubicBezTo>
                          <a:pt x="1024" y="241"/>
                          <a:pt x="663" y="129"/>
                          <a:pt x="474" y="84"/>
                        </a:cubicBezTo>
                        <a:cubicBezTo>
                          <a:pt x="285" y="39"/>
                          <a:pt x="99" y="17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1715"/>
                  <p:cNvSpPr/>
                  <p:nvPr/>
                </p:nvSpPr>
                <p:spPr>
                  <a:xfrm rot="1717800">
                    <a:off x="2245320" y="2274120"/>
                    <a:ext cx="2952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363">
                        <a:moveTo>
                          <a:pt x="1180" y="363"/>
                        </a:moveTo>
                        <a:cubicBezTo>
                          <a:pt x="1067" y="321"/>
                          <a:pt x="699" y="172"/>
                          <a:pt x="502" y="112"/>
                        </a:cubicBezTo>
                        <a:cubicBezTo>
                          <a:pt x="305" y="52"/>
                          <a:pt x="105" y="23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1716"/>
                  <p:cNvSpPr/>
                  <p:nvPr/>
                </p:nvSpPr>
                <p:spPr>
                  <a:xfrm rot="1717800">
                    <a:off x="2270520" y="2262600"/>
                    <a:ext cx="29340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3" h="461">
                        <a:moveTo>
                          <a:pt x="1173" y="461"/>
                        </a:moveTo>
                        <a:cubicBezTo>
                          <a:pt x="1088" y="425"/>
                          <a:pt x="862" y="323"/>
                          <a:pt x="666" y="246"/>
                        </a:cubicBezTo>
                        <a:cubicBezTo>
                          <a:pt x="470" y="169"/>
                          <a:pt x="139" y="5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1717"/>
                  <p:cNvSpPr/>
                  <p:nvPr/>
                </p:nvSpPr>
                <p:spPr>
                  <a:xfrm rot="1717800">
                    <a:off x="2301120" y="2277000"/>
                    <a:ext cx="283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453">
                        <a:moveTo>
                          <a:pt x="1134" y="453"/>
                        </a:moveTo>
                        <a:cubicBezTo>
                          <a:pt x="1034" y="407"/>
                          <a:pt x="722" y="254"/>
                          <a:pt x="533" y="178"/>
                        </a:cubicBezTo>
                        <a:cubicBezTo>
                          <a:pt x="344" y="102"/>
                          <a:pt x="111" y="37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1718"/>
                  <p:cNvSpPr/>
                  <p:nvPr/>
                </p:nvSpPr>
                <p:spPr>
                  <a:xfrm rot="1717800">
                    <a:off x="2373480" y="2224440"/>
                    <a:ext cx="21420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724">
                        <a:moveTo>
                          <a:pt x="856" y="724"/>
                        </a:moveTo>
                        <a:lnTo>
                          <a:pt x="372" y="234"/>
                        </a:lnTo>
                        <a:cubicBezTo>
                          <a:pt x="229" y="113"/>
                          <a:pt x="77" y="49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719"/>
                  <p:cNvSpPr/>
                  <p:nvPr/>
                </p:nvSpPr>
                <p:spPr>
                  <a:xfrm rot="1717800">
                    <a:off x="2339640" y="2227320"/>
                    <a:ext cx="2498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5">
                        <a:moveTo>
                          <a:pt x="998" y="635"/>
                        </a:moveTo>
                        <a:lnTo>
                          <a:pt x="220" y="11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720"/>
                  <p:cNvSpPr/>
                  <p:nvPr/>
                </p:nvSpPr>
                <p:spPr>
                  <a:xfrm rot="1717800">
                    <a:off x="2352960" y="2273400"/>
                    <a:ext cx="2498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5">
                        <a:moveTo>
                          <a:pt x="998" y="635"/>
                        </a:moveTo>
                        <a:cubicBezTo>
                          <a:pt x="882" y="554"/>
                          <a:pt x="466" y="255"/>
                          <a:pt x="300" y="149"/>
                        </a:cubicBezTo>
                        <a:cubicBezTo>
                          <a:pt x="134" y="43"/>
                          <a:pt x="62" y="3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721"/>
                  <p:cNvSpPr/>
                  <p:nvPr/>
                </p:nvSpPr>
                <p:spPr>
                  <a:xfrm rot="1717800">
                    <a:off x="2357640" y="2174040"/>
                    <a:ext cx="26280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0" h="980">
                        <a:moveTo>
                          <a:pt x="1050" y="980"/>
                        </a:moveTo>
                        <a:lnTo>
                          <a:pt x="378" y="234"/>
                        </a:lnTo>
                        <a:cubicBezTo>
                          <a:pt x="203" y="71"/>
                          <a:pt x="79" y="49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Line 1722"/>
                  <p:cNvSpPr/>
                  <p:nvPr/>
                </p:nvSpPr>
                <p:spPr>
                  <a:xfrm flipH="1" flipV="1">
                    <a:off x="2494440" y="2180880"/>
                    <a:ext cx="50040" cy="311040"/>
                  </a:xfrm>
                  <a:prstGeom prst="line">
                    <a:avLst/>
                  </a:prstGeom>
                  <a:ln w="25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723"/>
                  <p:cNvSpPr/>
                  <p:nvPr/>
                </p:nvSpPr>
                <p:spPr>
                  <a:xfrm rot="1717800">
                    <a:off x="2445480" y="2214720"/>
                    <a:ext cx="1587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997">
                        <a:moveTo>
                          <a:pt x="635" y="997"/>
                        </a:moveTo>
                        <a:cubicBezTo>
                          <a:pt x="569" y="887"/>
                          <a:pt x="345" y="500"/>
                          <a:pt x="239" y="334"/>
                        </a:cubicBezTo>
                        <a:cubicBezTo>
                          <a:pt x="133" y="168"/>
                          <a:pt x="50" y="70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Freeform 1724"/>
                  <p:cNvSpPr/>
                  <p:nvPr/>
                </p:nvSpPr>
                <p:spPr>
                  <a:xfrm rot="1717800">
                    <a:off x="2486160" y="2206800"/>
                    <a:ext cx="123120" cy="25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1026">
                        <a:moveTo>
                          <a:pt x="492" y="1026"/>
                        </a:moveTo>
                        <a:cubicBezTo>
                          <a:pt x="452" y="924"/>
                          <a:pt x="334" y="585"/>
                          <a:pt x="252" y="414"/>
                        </a:cubicBezTo>
                        <a:cubicBezTo>
                          <a:pt x="170" y="243"/>
                          <a:pt x="53" y="86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1725"/>
                  <p:cNvSpPr/>
                  <p:nvPr/>
                </p:nvSpPr>
                <p:spPr>
                  <a:xfrm rot="1717800">
                    <a:off x="2527560" y="2202120"/>
                    <a:ext cx="8244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086">
                        <a:moveTo>
                          <a:pt x="330" y="1086"/>
                        </a:moveTo>
                        <a:cubicBezTo>
                          <a:pt x="302" y="966"/>
                          <a:pt x="217" y="547"/>
                          <a:pt x="162" y="366"/>
                        </a:cubicBezTo>
                        <a:cubicBezTo>
                          <a:pt x="107" y="185"/>
                          <a:pt x="34" y="76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726"/>
                  <p:cNvSpPr/>
                  <p:nvPr/>
                </p:nvSpPr>
                <p:spPr>
                  <a:xfrm rot="1717800">
                    <a:off x="2575080" y="2210040"/>
                    <a:ext cx="41040" cy="29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160">
                        <a:moveTo>
                          <a:pt x="164" y="1160"/>
                        </a:moveTo>
                        <a:cubicBezTo>
                          <a:pt x="148" y="1008"/>
                          <a:pt x="93" y="439"/>
                          <a:pt x="66" y="246"/>
                        </a:cubicBezTo>
                        <a:cubicBezTo>
                          <a:pt x="39" y="53"/>
                          <a:pt x="14" y="5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727"/>
                  <p:cNvSpPr/>
                  <p:nvPr/>
                </p:nvSpPr>
                <p:spPr>
                  <a:xfrm rot="1717800">
                    <a:off x="2591640" y="2181600"/>
                    <a:ext cx="47520" cy="31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1259">
                        <a:moveTo>
                          <a:pt x="140" y="1259"/>
                        </a:moveTo>
                        <a:cubicBezTo>
                          <a:pt x="145" y="1113"/>
                          <a:pt x="191" y="594"/>
                          <a:pt x="168" y="384"/>
                        </a:cubicBezTo>
                        <a:cubicBezTo>
                          <a:pt x="145" y="174"/>
                          <a:pt x="35" y="80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728"/>
                  <p:cNvSpPr/>
                  <p:nvPr/>
                </p:nvSpPr>
                <p:spPr>
                  <a:xfrm rot="1717800">
                    <a:off x="2599560" y="2231280"/>
                    <a:ext cx="450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134">
                        <a:moveTo>
                          <a:pt x="0" y="1134"/>
                        </a:moveTo>
                        <a:cubicBezTo>
                          <a:pt x="19" y="988"/>
                          <a:pt x="85" y="445"/>
                          <a:pt x="115" y="256"/>
                        </a:cubicBezTo>
                        <a:cubicBezTo>
                          <a:pt x="145" y="67"/>
                          <a:pt x="167" y="53"/>
                          <a:pt x="181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729"/>
                  <p:cNvSpPr/>
                  <p:nvPr/>
                </p:nvSpPr>
                <p:spPr>
                  <a:xfrm rot="1717800">
                    <a:off x="2602080" y="2277720"/>
                    <a:ext cx="7920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52">
                        <a:moveTo>
                          <a:pt x="0" y="952"/>
                        </a:moveTo>
                        <a:cubicBezTo>
                          <a:pt x="43" y="837"/>
                          <a:pt x="203" y="422"/>
                          <a:pt x="256" y="263"/>
                        </a:cubicBezTo>
                        <a:cubicBezTo>
                          <a:pt x="309" y="104"/>
                          <a:pt x="304" y="55"/>
                          <a:pt x="317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730"/>
                  <p:cNvSpPr/>
                  <p:nvPr/>
                </p:nvSpPr>
                <p:spPr>
                  <a:xfrm rot="1717800">
                    <a:off x="2606400" y="2227680"/>
                    <a:ext cx="1587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1179">
                        <a:moveTo>
                          <a:pt x="0" y="1179"/>
                        </a:moveTo>
                        <a:cubicBezTo>
                          <a:pt x="70" y="1066"/>
                          <a:pt x="315" y="697"/>
                          <a:pt x="421" y="501"/>
                        </a:cubicBezTo>
                        <a:cubicBezTo>
                          <a:pt x="527" y="305"/>
                          <a:pt x="591" y="105"/>
                          <a:pt x="635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31"/>
                  <p:cNvSpPr/>
                  <p:nvPr/>
                </p:nvSpPr>
                <p:spPr>
                  <a:xfrm rot="1717800">
                    <a:off x="2587320" y="2291400"/>
                    <a:ext cx="20412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998">
                        <a:moveTo>
                          <a:pt x="0" y="998"/>
                        </a:moveTo>
                        <a:cubicBezTo>
                          <a:pt x="102" y="891"/>
                          <a:pt x="477" y="523"/>
                          <a:pt x="613" y="357"/>
                        </a:cubicBezTo>
                        <a:cubicBezTo>
                          <a:pt x="749" y="191"/>
                          <a:pt x="774" y="75"/>
                          <a:pt x="816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732"/>
                  <p:cNvSpPr/>
                  <p:nvPr/>
                </p:nvSpPr>
                <p:spPr>
                  <a:xfrm rot="1717800">
                    <a:off x="2581200" y="2358360"/>
                    <a:ext cx="23832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771">
                        <a:moveTo>
                          <a:pt x="0" y="771"/>
                        </a:moveTo>
                        <a:cubicBezTo>
                          <a:pt x="91" y="704"/>
                          <a:pt x="385" y="497"/>
                          <a:pt x="544" y="369"/>
                        </a:cubicBezTo>
                        <a:cubicBezTo>
                          <a:pt x="703" y="241"/>
                          <a:pt x="867" y="77"/>
                          <a:pt x="952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1733"/>
                  <p:cNvSpPr/>
                  <p:nvPr/>
                </p:nvSpPr>
                <p:spPr>
                  <a:xfrm rot="1717800">
                    <a:off x="2571120" y="2398680"/>
                    <a:ext cx="27216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8" h="635">
                        <a:moveTo>
                          <a:pt x="0" y="635"/>
                        </a:moveTo>
                        <a:cubicBezTo>
                          <a:pt x="109" y="581"/>
                          <a:pt x="471" y="417"/>
                          <a:pt x="652" y="311"/>
                        </a:cubicBezTo>
                        <a:cubicBezTo>
                          <a:pt x="833" y="205"/>
                          <a:pt x="997" y="65"/>
                          <a:pt x="1088" y="0"/>
                        </a:cubicBez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1734"/>
                  <p:cNvSpPr/>
                  <p:nvPr/>
                </p:nvSpPr>
                <p:spPr>
                  <a:xfrm rot="1717800">
                    <a:off x="2543040" y="2408040"/>
                    <a:ext cx="31788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0" h="635">
                        <a:moveTo>
                          <a:pt x="0" y="635"/>
                        </a:moveTo>
                        <a:cubicBezTo>
                          <a:pt x="120" y="588"/>
                          <a:pt x="537" y="430"/>
                          <a:pt x="719" y="352"/>
                        </a:cubicBezTo>
                        <a:cubicBezTo>
                          <a:pt x="901" y="274"/>
                          <a:pt x="999" y="225"/>
                          <a:pt x="1091" y="166"/>
                        </a:cubicBezTo>
                        <a:cubicBezTo>
                          <a:pt x="1183" y="107"/>
                          <a:pt x="1233" y="35"/>
                          <a:pt x="127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1735"/>
                  <p:cNvSpPr/>
                  <p:nvPr/>
                </p:nvSpPr>
                <p:spPr>
                  <a:xfrm rot="1717800">
                    <a:off x="2518920" y="2527200"/>
                    <a:ext cx="1940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87">
                        <a:moveTo>
                          <a:pt x="0" y="0"/>
                        </a:moveTo>
                        <a:cubicBezTo>
                          <a:pt x="63" y="14"/>
                          <a:pt x="255" y="81"/>
                          <a:pt x="384" y="84"/>
                        </a:cubicBezTo>
                        <a:cubicBezTo>
                          <a:pt x="513" y="87"/>
                          <a:pt x="694" y="33"/>
                          <a:pt x="776" y="2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736"/>
                  <p:cNvSpPr/>
                  <p:nvPr/>
                </p:nvSpPr>
                <p:spPr>
                  <a:xfrm rot="1717800">
                    <a:off x="2518200" y="2517120"/>
                    <a:ext cx="136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135">
                        <a:moveTo>
                          <a:pt x="0" y="0"/>
                        </a:moveTo>
                        <a:lnTo>
                          <a:pt x="289" y="99"/>
                        </a:lnTo>
                        <a:cubicBezTo>
                          <a:pt x="380" y="121"/>
                          <a:pt x="491" y="128"/>
                          <a:pt x="544" y="135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1737"/>
                  <p:cNvSpPr/>
                  <p:nvPr/>
                </p:nvSpPr>
                <p:spPr>
                  <a:xfrm rot="1717800">
                    <a:off x="2496960" y="2508840"/>
                    <a:ext cx="907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272">
                        <a:moveTo>
                          <a:pt x="0" y="0"/>
                        </a:moveTo>
                        <a:cubicBezTo>
                          <a:pt x="34" y="32"/>
                          <a:pt x="143" y="147"/>
                          <a:pt x="203" y="192"/>
                        </a:cubicBezTo>
                        <a:cubicBezTo>
                          <a:pt x="263" y="237"/>
                          <a:pt x="330" y="255"/>
                          <a:pt x="363" y="272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738"/>
                  <p:cNvSpPr/>
                  <p:nvPr/>
                </p:nvSpPr>
                <p:spPr>
                  <a:xfrm rot="1717800">
                    <a:off x="2486880" y="2496960"/>
                    <a:ext cx="648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306">
                        <a:moveTo>
                          <a:pt x="0" y="0"/>
                        </a:moveTo>
                        <a:cubicBezTo>
                          <a:pt x="24" y="33"/>
                          <a:pt x="103" y="147"/>
                          <a:pt x="146" y="198"/>
                        </a:cubicBezTo>
                        <a:cubicBezTo>
                          <a:pt x="189" y="249"/>
                          <a:pt x="236" y="284"/>
                          <a:pt x="260" y="306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Freeform 1739"/>
                  <p:cNvSpPr/>
                  <p:nvPr/>
                </p:nvSpPr>
                <p:spPr>
                  <a:xfrm rot="1717800">
                    <a:off x="2323080" y="2395440"/>
                    <a:ext cx="226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7" h="72">
                        <a:moveTo>
                          <a:pt x="0" y="27"/>
                        </a:moveTo>
                        <a:cubicBezTo>
                          <a:pt x="55" y="24"/>
                          <a:pt x="180" y="0"/>
                          <a:pt x="331" y="7"/>
                        </a:cubicBezTo>
                        <a:cubicBezTo>
                          <a:pt x="482" y="14"/>
                          <a:pt x="787" y="59"/>
                          <a:pt x="907" y="72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1740"/>
                  <p:cNvSpPr/>
                  <p:nvPr/>
                </p:nvSpPr>
                <p:spPr>
                  <a:xfrm rot="1717800">
                    <a:off x="2522880" y="2530080"/>
                    <a:ext cx="2268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7" h="56">
                        <a:moveTo>
                          <a:pt x="0" y="0"/>
                        </a:moveTo>
                        <a:cubicBezTo>
                          <a:pt x="86" y="8"/>
                          <a:pt x="366" y="42"/>
                          <a:pt x="517" y="49"/>
                        </a:cubicBezTo>
                        <a:cubicBezTo>
                          <a:pt x="668" y="56"/>
                          <a:pt x="826" y="46"/>
                          <a:pt x="907" y="45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741"/>
                  <p:cNvSpPr/>
                  <p:nvPr/>
                </p:nvSpPr>
                <p:spPr>
                  <a:xfrm rot="1717800">
                    <a:off x="2492640" y="2513880"/>
                    <a:ext cx="1587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363">
                        <a:moveTo>
                          <a:pt x="0" y="0"/>
                        </a:moveTo>
                        <a:cubicBezTo>
                          <a:pt x="57" y="40"/>
                          <a:pt x="235" y="178"/>
                          <a:pt x="341" y="238"/>
                        </a:cubicBezTo>
                        <a:cubicBezTo>
                          <a:pt x="447" y="298"/>
                          <a:pt x="574" y="337"/>
                          <a:pt x="635" y="363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1742"/>
                  <p:cNvSpPr/>
                  <p:nvPr/>
                </p:nvSpPr>
                <p:spPr>
                  <a:xfrm rot="1717800">
                    <a:off x="2592000" y="2228760"/>
                    <a:ext cx="8640" cy="260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043">
                        <a:moveTo>
                          <a:pt x="0" y="0"/>
                        </a:moveTo>
                        <a:cubicBezTo>
                          <a:pt x="6" y="84"/>
                          <a:pt x="35" y="330"/>
                          <a:pt x="35" y="504"/>
                        </a:cubicBezTo>
                        <a:cubicBezTo>
                          <a:pt x="35" y="678"/>
                          <a:pt x="7" y="931"/>
                          <a:pt x="0" y="1043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743"/>
                  <p:cNvSpPr/>
                  <p:nvPr/>
                </p:nvSpPr>
                <p:spPr>
                  <a:xfrm rot="1717800">
                    <a:off x="2387520" y="2415240"/>
                    <a:ext cx="13608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590">
                        <a:moveTo>
                          <a:pt x="544" y="0"/>
                        </a:moveTo>
                        <a:cubicBezTo>
                          <a:pt x="495" y="45"/>
                          <a:pt x="341" y="173"/>
                          <a:pt x="250" y="271"/>
                        </a:cubicBezTo>
                        <a:cubicBezTo>
                          <a:pt x="159" y="369"/>
                          <a:pt x="52" y="524"/>
                          <a:pt x="0" y="590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744"/>
                  <p:cNvSpPr/>
                  <p:nvPr/>
                </p:nvSpPr>
                <p:spPr>
                  <a:xfrm rot="1717800">
                    <a:off x="2358360" y="2439000"/>
                    <a:ext cx="12456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817">
                        <a:moveTo>
                          <a:pt x="498" y="0"/>
                        </a:moveTo>
                        <a:cubicBezTo>
                          <a:pt x="455" y="58"/>
                          <a:pt x="323" y="210"/>
                          <a:pt x="240" y="346"/>
                        </a:cubicBezTo>
                        <a:cubicBezTo>
                          <a:pt x="157" y="482"/>
                          <a:pt x="50" y="719"/>
                          <a:pt x="0" y="817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745"/>
                  <p:cNvSpPr/>
                  <p:nvPr/>
                </p:nvSpPr>
                <p:spPr>
                  <a:xfrm rot="1717800">
                    <a:off x="2483640" y="2505600"/>
                    <a:ext cx="792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680">
                        <a:moveTo>
                          <a:pt x="0" y="0"/>
                        </a:moveTo>
                        <a:cubicBezTo>
                          <a:pt x="27" y="48"/>
                          <a:pt x="120" y="212"/>
                          <a:pt x="164" y="288"/>
                        </a:cubicBezTo>
                        <a:cubicBezTo>
                          <a:pt x="208" y="364"/>
                          <a:pt x="238" y="391"/>
                          <a:pt x="264" y="456"/>
                        </a:cubicBezTo>
                        <a:cubicBezTo>
                          <a:pt x="290" y="521"/>
                          <a:pt x="306" y="633"/>
                          <a:pt x="317" y="68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1746"/>
                  <p:cNvSpPr/>
                  <p:nvPr/>
                </p:nvSpPr>
                <p:spPr>
                  <a:xfrm rot="2398800">
                    <a:off x="2568960" y="2496240"/>
                    <a:ext cx="1022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9" h="90">
                        <a:moveTo>
                          <a:pt x="0" y="90"/>
                        </a:moveTo>
                        <a:cubicBezTo>
                          <a:pt x="36" y="85"/>
                          <a:pt x="149" y="77"/>
                          <a:pt x="217" y="62"/>
                        </a:cubicBezTo>
                        <a:lnTo>
                          <a:pt x="409" y="0"/>
                        </a:lnTo>
                      </a:path>
                    </a:pathLst>
                  </a:custGeom>
                  <a:noFill/>
                  <a:ln cap="rnd" w="252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1747"/>
                  <p:cNvSpPr/>
                  <p:nvPr/>
                </p:nvSpPr>
                <p:spPr>
                  <a:xfrm rot="1717800">
                    <a:off x="2568960" y="2317320"/>
                    <a:ext cx="68040" cy="18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52">
                        <a:moveTo>
                          <a:pt x="0" y="952"/>
                        </a:moveTo>
                        <a:cubicBezTo>
                          <a:pt x="43" y="837"/>
                          <a:pt x="203" y="422"/>
                          <a:pt x="256" y="263"/>
                        </a:cubicBezTo>
                        <a:cubicBezTo>
                          <a:pt x="309" y="104"/>
                          <a:pt x="304" y="55"/>
                          <a:pt x="317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" name="Group 1748"/>
            <p:cNvGrpSpPr/>
            <p:nvPr/>
          </p:nvGrpSpPr>
          <p:grpSpPr>
            <a:xfrm>
              <a:off x="1908360" y="2661120"/>
              <a:ext cx="835920" cy="738360"/>
              <a:chOff x="1908360" y="2661120"/>
              <a:chExt cx="835920" cy="738360"/>
            </a:xfrm>
          </p:grpSpPr>
          <p:sp>
            <p:nvSpPr>
              <p:cNvPr id="129" name="Freeform 1749"/>
              <p:cNvSpPr/>
              <p:nvPr/>
            </p:nvSpPr>
            <p:spPr>
              <a:xfrm rot="2785800">
                <a:off x="2427120" y="3040200"/>
                <a:ext cx="102240" cy="22320"/>
              </a:xfrm>
              <a:custGeom>
                <a:avLst/>
                <a:gdLst/>
                <a:ahLst/>
                <a:rect l="l" t="t" r="r" b="b"/>
                <a:pathLst>
                  <a:path w="409" h="90">
                    <a:moveTo>
                      <a:pt x="0" y="90"/>
                    </a:moveTo>
                    <a:cubicBezTo>
                      <a:pt x="36" y="85"/>
                      <a:pt x="149" y="77"/>
                      <a:pt x="217" y="62"/>
                    </a:cubicBezTo>
                    <a:lnTo>
                      <a:pt x="409" y="0"/>
                    </a:lnTo>
                  </a:path>
                </a:pathLst>
              </a:custGeom>
              <a:noFill/>
              <a:ln cap="rnd" w="93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750"/>
              <p:cNvGrpSpPr/>
              <p:nvPr/>
            </p:nvGrpSpPr>
            <p:grpSpPr>
              <a:xfrm>
                <a:off x="1908360" y="2661120"/>
                <a:ext cx="835920" cy="738360"/>
                <a:chOff x="1908360" y="2661120"/>
                <a:chExt cx="835920" cy="738360"/>
              </a:xfrm>
            </p:grpSpPr>
            <p:grpSp>
              <p:nvGrpSpPr>
                <p:cNvPr id="131" name="Group 1751"/>
                <p:cNvGrpSpPr/>
                <p:nvPr/>
              </p:nvGrpSpPr>
              <p:grpSpPr>
                <a:xfrm>
                  <a:off x="1908360" y="2947680"/>
                  <a:ext cx="569160" cy="451800"/>
                  <a:chOff x="1908360" y="2947680"/>
                  <a:chExt cx="569160" cy="451800"/>
                </a:xfrm>
              </p:grpSpPr>
              <p:sp>
                <p:nvSpPr>
                  <p:cNvPr id="132" name="AutoShape 1752"/>
                  <p:cNvSpPr/>
                  <p:nvPr/>
                </p:nvSpPr>
                <p:spPr>
                  <a:xfrm rot="2785800">
                    <a:off x="2372040" y="2968200"/>
                    <a:ext cx="90720" cy="79200"/>
                  </a:xfrm>
                  <a:prstGeom prst="irregularSeal1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1753"/>
                  <p:cNvSpPr/>
                  <p:nvPr/>
                </p:nvSpPr>
                <p:spPr>
                  <a:xfrm rot="2785800">
                    <a:off x="2209320" y="2935800"/>
                    <a:ext cx="46080" cy="43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735">
                        <a:moveTo>
                          <a:pt x="185" y="0"/>
                        </a:moveTo>
                        <a:cubicBezTo>
                          <a:pt x="174" y="126"/>
                          <a:pt x="137" y="578"/>
                          <a:pt x="120" y="757"/>
                        </a:cubicBezTo>
                        <a:lnTo>
                          <a:pt x="84" y="1075"/>
                        </a:lnTo>
                        <a:lnTo>
                          <a:pt x="0" y="1735"/>
                        </a:lnTo>
                      </a:path>
                    </a:pathLst>
                  </a:custGeom>
                  <a:noFill/>
                  <a:ln w="11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Oval 1754"/>
                  <p:cNvSpPr/>
                  <p:nvPr/>
                </p:nvSpPr>
                <p:spPr>
                  <a:xfrm rot="3329400">
                    <a:off x="1977840" y="3229560"/>
                    <a:ext cx="45360" cy="192600"/>
                  </a:xfrm>
                  <a:prstGeom prst="ellipse">
                    <a:avLst/>
                  </a:prstGeom>
                  <a:solidFill>
                    <a:srgbClr val="ffffff">
                      <a:alpha val="86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1755"/>
                <p:cNvGrpSpPr/>
                <p:nvPr/>
              </p:nvGrpSpPr>
              <p:grpSpPr>
                <a:xfrm>
                  <a:off x="2162520" y="2661120"/>
                  <a:ext cx="581760" cy="596520"/>
                  <a:chOff x="2162520" y="2661120"/>
                  <a:chExt cx="581760" cy="596520"/>
                </a:xfrm>
              </p:grpSpPr>
              <p:sp>
                <p:nvSpPr>
                  <p:cNvPr id="136" name="Freeform 1756"/>
                  <p:cNvSpPr/>
                  <p:nvPr/>
                </p:nvSpPr>
                <p:spPr>
                  <a:xfrm rot="2785800">
                    <a:off x="2268000" y="2926800"/>
                    <a:ext cx="15804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2" h="303">
                        <a:moveTo>
                          <a:pt x="544" y="303"/>
                        </a:moveTo>
                        <a:cubicBezTo>
                          <a:pt x="553" y="278"/>
                          <a:pt x="593" y="184"/>
                          <a:pt x="598" y="153"/>
                        </a:cubicBezTo>
                        <a:cubicBezTo>
                          <a:pt x="603" y="122"/>
                          <a:pt x="632" y="137"/>
                          <a:pt x="574" y="117"/>
                        </a:cubicBezTo>
                        <a:cubicBezTo>
                          <a:pt x="516" y="97"/>
                          <a:pt x="346" y="0"/>
                          <a:pt x="250" y="31"/>
                        </a:cubicBezTo>
                        <a:cubicBezTo>
                          <a:pt x="154" y="62"/>
                          <a:pt x="52" y="245"/>
                          <a:pt x="0" y="303"/>
                        </a:cubicBezTo>
                      </a:path>
                    </a:pathLst>
                  </a:custGeom>
                  <a:noFill/>
                  <a:ln cap="rnd" w="144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1757"/>
                  <p:cNvSpPr/>
                  <p:nvPr/>
                </p:nvSpPr>
                <p:spPr>
                  <a:xfrm rot="2785800">
                    <a:off x="2149920" y="2894040"/>
                    <a:ext cx="27252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272">
                        <a:moveTo>
                          <a:pt x="1089" y="0"/>
                        </a:moveTo>
                        <a:cubicBezTo>
                          <a:pt x="988" y="18"/>
                          <a:pt x="663" y="64"/>
                          <a:pt x="482" y="109"/>
                        </a:cubicBezTo>
                        <a:cubicBezTo>
                          <a:pt x="301" y="154"/>
                          <a:pt x="100" y="238"/>
                          <a:pt x="0" y="272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758"/>
                  <p:cNvSpPr/>
                  <p:nvPr/>
                </p:nvSpPr>
                <p:spPr>
                  <a:xfrm rot="2785800">
                    <a:off x="2182320" y="2835360"/>
                    <a:ext cx="28368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272">
                        <a:moveTo>
                          <a:pt x="1134" y="272"/>
                        </a:moveTo>
                        <a:cubicBezTo>
                          <a:pt x="1024" y="241"/>
                          <a:pt x="663" y="129"/>
                          <a:pt x="474" y="84"/>
                        </a:cubicBezTo>
                        <a:cubicBezTo>
                          <a:pt x="285" y="39"/>
                          <a:pt x="99" y="17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1759"/>
                  <p:cNvSpPr/>
                  <p:nvPr/>
                </p:nvSpPr>
                <p:spPr>
                  <a:xfrm rot="2785800">
                    <a:off x="2173320" y="2787480"/>
                    <a:ext cx="2952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363">
                        <a:moveTo>
                          <a:pt x="1180" y="363"/>
                        </a:moveTo>
                        <a:cubicBezTo>
                          <a:pt x="1067" y="321"/>
                          <a:pt x="699" y="172"/>
                          <a:pt x="502" y="112"/>
                        </a:cubicBezTo>
                        <a:cubicBezTo>
                          <a:pt x="305" y="52"/>
                          <a:pt x="105" y="23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1760"/>
                  <p:cNvSpPr/>
                  <p:nvPr/>
                </p:nvSpPr>
                <p:spPr>
                  <a:xfrm rot="2785800">
                    <a:off x="2197080" y="2783880"/>
                    <a:ext cx="29340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3" h="461">
                        <a:moveTo>
                          <a:pt x="1173" y="461"/>
                        </a:moveTo>
                        <a:cubicBezTo>
                          <a:pt x="1088" y="425"/>
                          <a:pt x="862" y="323"/>
                          <a:pt x="666" y="246"/>
                        </a:cubicBezTo>
                        <a:cubicBezTo>
                          <a:pt x="470" y="169"/>
                          <a:pt x="139" y="5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761"/>
                  <p:cNvSpPr/>
                  <p:nvPr/>
                </p:nvSpPr>
                <p:spPr>
                  <a:xfrm rot="2785800">
                    <a:off x="2222280" y="2805120"/>
                    <a:ext cx="283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453">
                        <a:moveTo>
                          <a:pt x="1134" y="453"/>
                        </a:moveTo>
                        <a:cubicBezTo>
                          <a:pt x="1034" y="407"/>
                          <a:pt x="722" y="254"/>
                          <a:pt x="533" y="178"/>
                        </a:cubicBezTo>
                        <a:cubicBezTo>
                          <a:pt x="344" y="102"/>
                          <a:pt x="111" y="37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1762"/>
                  <p:cNvSpPr/>
                  <p:nvPr/>
                </p:nvSpPr>
                <p:spPr>
                  <a:xfrm rot="2785800">
                    <a:off x="2298240" y="2765160"/>
                    <a:ext cx="21420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724">
                        <a:moveTo>
                          <a:pt x="856" y="724"/>
                        </a:moveTo>
                        <a:lnTo>
                          <a:pt x="372" y="234"/>
                        </a:lnTo>
                        <a:cubicBezTo>
                          <a:pt x="229" y="113"/>
                          <a:pt x="77" y="49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1763"/>
                  <p:cNvSpPr/>
                  <p:nvPr/>
                </p:nvSpPr>
                <p:spPr>
                  <a:xfrm rot="2785800">
                    <a:off x="2268000" y="2763360"/>
                    <a:ext cx="2498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5">
                        <a:moveTo>
                          <a:pt x="998" y="635"/>
                        </a:moveTo>
                        <a:lnTo>
                          <a:pt x="220" y="11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764"/>
                  <p:cNvSpPr/>
                  <p:nvPr/>
                </p:nvSpPr>
                <p:spPr>
                  <a:xfrm rot="2785800">
                    <a:off x="2266560" y="2811240"/>
                    <a:ext cx="2498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5">
                        <a:moveTo>
                          <a:pt x="998" y="635"/>
                        </a:moveTo>
                        <a:cubicBezTo>
                          <a:pt x="882" y="554"/>
                          <a:pt x="466" y="255"/>
                          <a:pt x="300" y="149"/>
                        </a:cubicBezTo>
                        <a:cubicBezTo>
                          <a:pt x="134" y="43"/>
                          <a:pt x="62" y="3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765"/>
                  <p:cNvSpPr/>
                  <p:nvPr/>
                </p:nvSpPr>
                <p:spPr>
                  <a:xfrm rot="2785800">
                    <a:off x="2288160" y="2718000"/>
                    <a:ext cx="26280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0" h="980">
                        <a:moveTo>
                          <a:pt x="1050" y="980"/>
                        </a:moveTo>
                        <a:lnTo>
                          <a:pt x="378" y="234"/>
                        </a:lnTo>
                        <a:cubicBezTo>
                          <a:pt x="203" y="71"/>
                          <a:pt x="79" y="49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1766"/>
                  <p:cNvSpPr/>
                  <p:nvPr/>
                </p:nvSpPr>
                <p:spPr>
                  <a:xfrm flipV="1">
                    <a:off x="2412360" y="2732400"/>
                    <a:ext cx="47520" cy="311400"/>
                  </a:xfrm>
                  <a:prstGeom prst="line">
                    <a:avLst/>
                  </a:prstGeom>
                  <a:ln w="25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767"/>
                  <p:cNvSpPr/>
                  <p:nvPr/>
                </p:nvSpPr>
                <p:spPr>
                  <a:xfrm rot="2785800">
                    <a:off x="2360520" y="2767680"/>
                    <a:ext cx="1587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997">
                        <a:moveTo>
                          <a:pt x="635" y="997"/>
                        </a:moveTo>
                        <a:cubicBezTo>
                          <a:pt x="569" y="887"/>
                          <a:pt x="345" y="500"/>
                          <a:pt x="239" y="334"/>
                        </a:cubicBezTo>
                        <a:cubicBezTo>
                          <a:pt x="133" y="168"/>
                          <a:pt x="50" y="70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768"/>
                  <p:cNvSpPr/>
                  <p:nvPr/>
                </p:nvSpPr>
                <p:spPr>
                  <a:xfrm rot="2785800">
                    <a:off x="2401560" y="2766960"/>
                    <a:ext cx="123120" cy="25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1026">
                        <a:moveTo>
                          <a:pt x="492" y="1026"/>
                        </a:moveTo>
                        <a:cubicBezTo>
                          <a:pt x="452" y="924"/>
                          <a:pt x="334" y="585"/>
                          <a:pt x="252" y="414"/>
                        </a:cubicBezTo>
                        <a:cubicBezTo>
                          <a:pt x="170" y="243"/>
                          <a:pt x="53" y="86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769"/>
                  <p:cNvSpPr/>
                  <p:nvPr/>
                </p:nvSpPr>
                <p:spPr>
                  <a:xfrm rot="2785800">
                    <a:off x="2441520" y="2768400"/>
                    <a:ext cx="8244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086">
                        <a:moveTo>
                          <a:pt x="330" y="1086"/>
                        </a:moveTo>
                        <a:cubicBezTo>
                          <a:pt x="302" y="966"/>
                          <a:pt x="217" y="547"/>
                          <a:pt x="162" y="366"/>
                        </a:cubicBezTo>
                        <a:cubicBezTo>
                          <a:pt x="107" y="185"/>
                          <a:pt x="34" y="76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770"/>
                  <p:cNvSpPr/>
                  <p:nvPr/>
                </p:nvSpPr>
                <p:spPr>
                  <a:xfrm rot="2785800">
                    <a:off x="2482560" y="2783880"/>
                    <a:ext cx="41040" cy="29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160">
                        <a:moveTo>
                          <a:pt x="164" y="1160"/>
                        </a:moveTo>
                        <a:cubicBezTo>
                          <a:pt x="148" y="1008"/>
                          <a:pt x="93" y="439"/>
                          <a:pt x="66" y="246"/>
                        </a:cubicBezTo>
                        <a:cubicBezTo>
                          <a:pt x="39" y="53"/>
                          <a:pt x="14" y="5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771"/>
                  <p:cNvSpPr/>
                  <p:nvPr/>
                </p:nvSpPr>
                <p:spPr>
                  <a:xfrm rot="2785800">
                    <a:off x="2502720" y="2762280"/>
                    <a:ext cx="47520" cy="31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1259">
                        <a:moveTo>
                          <a:pt x="140" y="1259"/>
                        </a:moveTo>
                        <a:cubicBezTo>
                          <a:pt x="145" y="1113"/>
                          <a:pt x="191" y="594"/>
                          <a:pt x="168" y="384"/>
                        </a:cubicBezTo>
                        <a:cubicBezTo>
                          <a:pt x="145" y="174"/>
                          <a:pt x="35" y="80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72"/>
                  <p:cNvSpPr/>
                  <p:nvPr/>
                </p:nvSpPr>
                <p:spPr>
                  <a:xfrm rot="2785800">
                    <a:off x="2500200" y="2812320"/>
                    <a:ext cx="450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134">
                        <a:moveTo>
                          <a:pt x="0" y="1134"/>
                        </a:moveTo>
                        <a:cubicBezTo>
                          <a:pt x="19" y="988"/>
                          <a:pt x="85" y="445"/>
                          <a:pt x="115" y="256"/>
                        </a:cubicBezTo>
                        <a:cubicBezTo>
                          <a:pt x="145" y="67"/>
                          <a:pt x="167" y="53"/>
                          <a:pt x="181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773"/>
                  <p:cNvSpPr/>
                  <p:nvPr/>
                </p:nvSpPr>
                <p:spPr>
                  <a:xfrm rot="2785800">
                    <a:off x="2494440" y="2863440"/>
                    <a:ext cx="7920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52">
                        <a:moveTo>
                          <a:pt x="0" y="952"/>
                        </a:moveTo>
                        <a:cubicBezTo>
                          <a:pt x="43" y="837"/>
                          <a:pt x="203" y="422"/>
                          <a:pt x="256" y="263"/>
                        </a:cubicBezTo>
                        <a:cubicBezTo>
                          <a:pt x="309" y="104"/>
                          <a:pt x="304" y="55"/>
                          <a:pt x="317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1774"/>
                  <p:cNvSpPr/>
                  <p:nvPr/>
                </p:nvSpPr>
                <p:spPr>
                  <a:xfrm rot="2785800">
                    <a:off x="2503080" y="2828520"/>
                    <a:ext cx="1587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1179">
                        <a:moveTo>
                          <a:pt x="0" y="1179"/>
                        </a:moveTo>
                        <a:cubicBezTo>
                          <a:pt x="70" y="1066"/>
                          <a:pt x="315" y="697"/>
                          <a:pt x="421" y="501"/>
                        </a:cubicBezTo>
                        <a:cubicBezTo>
                          <a:pt x="527" y="305"/>
                          <a:pt x="591" y="105"/>
                          <a:pt x="635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1775"/>
                  <p:cNvSpPr/>
                  <p:nvPr/>
                </p:nvSpPr>
                <p:spPr>
                  <a:xfrm rot="2785800">
                    <a:off x="2471400" y="2890800"/>
                    <a:ext cx="20412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998">
                        <a:moveTo>
                          <a:pt x="0" y="998"/>
                        </a:moveTo>
                        <a:cubicBezTo>
                          <a:pt x="102" y="891"/>
                          <a:pt x="477" y="523"/>
                          <a:pt x="613" y="357"/>
                        </a:cubicBezTo>
                        <a:cubicBezTo>
                          <a:pt x="749" y="191"/>
                          <a:pt x="774" y="75"/>
                          <a:pt x="816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776"/>
                  <p:cNvSpPr/>
                  <p:nvPr/>
                </p:nvSpPr>
                <p:spPr>
                  <a:xfrm rot="2785800">
                    <a:off x="2453040" y="2959560"/>
                    <a:ext cx="23832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771">
                        <a:moveTo>
                          <a:pt x="0" y="771"/>
                        </a:moveTo>
                        <a:cubicBezTo>
                          <a:pt x="91" y="704"/>
                          <a:pt x="385" y="497"/>
                          <a:pt x="544" y="369"/>
                        </a:cubicBezTo>
                        <a:cubicBezTo>
                          <a:pt x="703" y="241"/>
                          <a:pt x="867" y="77"/>
                          <a:pt x="952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1777"/>
                  <p:cNvSpPr/>
                  <p:nvPr/>
                </p:nvSpPr>
                <p:spPr>
                  <a:xfrm rot="2785800">
                    <a:off x="2435400" y="3000600"/>
                    <a:ext cx="27216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8" h="635">
                        <a:moveTo>
                          <a:pt x="0" y="635"/>
                        </a:moveTo>
                        <a:cubicBezTo>
                          <a:pt x="109" y="581"/>
                          <a:pt x="471" y="417"/>
                          <a:pt x="652" y="311"/>
                        </a:cubicBezTo>
                        <a:cubicBezTo>
                          <a:pt x="833" y="205"/>
                          <a:pt x="997" y="65"/>
                          <a:pt x="1088" y="0"/>
                        </a:cubicBez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1778"/>
                  <p:cNvSpPr/>
                  <p:nvPr/>
                </p:nvSpPr>
                <p:spPr>
                  <a:xfrm rot="2785800">
                    <a:off x="2404800" y="3008160"/>
                    <a:ext cx="31788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0" h="635">
                        <a:moveTo>
                          <a:pt x="0" y="635"/>
                        </a:moveTo>
                        <a:cubicBezTo>
                          <a:pt x="120" y="588"/>
                          <a:pt x="537" y="430"/>
                          <a:pt x="719" y="352"/>
                        </a:cubicBezTo>
                        <a:cubicBezTo>
                          <a:pt x="901" y="274"/>
                          <a:pt x="999" y="225"/>
                          <a:pt x="1091" y="166"/>
                        </a:cubicBezTo>
                        <a:cubicBezTo>
                          <a:pt x="1183" y="107"/>
                          <a:pt x="1233" y="35"/>
                          <a:pt x="127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1779"/>
                  <p:cNvSpPr/>
                  <p:nvPr/>
                </p:nvSpPr>
                <p:spPr>
                  <a:xfrm rot="2785800">
                    <a:off x="2369160" y="3098160"/>
                    <a:ext cx="1940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87">
                        <a:moveTo>
                          <a:pt x="0" y="0"/>
                        </a:moveTo>
                        <a:cubicBezTo>
                          <a:pt x="63" y="14"/>
                          <a:pt x="255" y="81"/>
                          <a:pt x="384" y="84"/>
                        </a:cubicBezTo>
                        <a:cubicBezTo>
                          <a:pt x="513" y="87"/>
                          <a:pt x="694" y="33"/>
                          <a:pt x="776" y="2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780"/>
                  <p:cNvSpPr/>
                  <p:nvPr/>
                </p:nvSpPr>
                <p:spPr>
                  <a:xfrm rot="2785800">
                    <a:off x="2370960" y="3079800"/>
                    <a:ext cx="136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135">
                        <a:moveTo>
                          <a:pt x="0" y="0"/>
                        </a:moveTo>
                        <a:lnTo>
                          <a:pt x="289" y="99"/>
                        </a:lnTo>
                        <a:cubicBezTo>
                          <a:pt x="380" y="121"/>
                          <a:pt x="491" y="128"/>
                          <a:pt x="544" y="135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781"/>
                  <p:cNvSpPr/>
                  <p:nvPr/>
                </p:nvSpPr>
                <p:spPr>
                  <a:xfrm rot="2785800">
                    <a:off x="2349360" y="3057840"/>
                    <a:ext cx="907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272">
                        <a:moveTo>
                          <a:pt x="0" y="0"/>
                        </a:moveTo>
                        <a:cubicBezTo>
                          <a:pt x="34" y="32"/>
                          <a:pt x="143" y="147"/>
                          <a:pt x="203" y="192"/>
                        </a:cubicBezTo>
                        <a:cubicBezTo>
                          <a:pt x="263" y="237"/>
                          <a:pt x="330" y="255"/>
                          <a:pt x="363" y="272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1782"/>
                  <p:cNvSpPr/>
                  <p:nvPr/>
                </p:nvSpPr>
                <p:spPr>
                  <a:xfrm rot="2785800">
                    <a:off x="2342880" y="3039120"/>
                    <a:ext cx="648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306">
                        <a:moveTo>
                          <a:pt x="0" y="0"/>
                        </a:moveTo>
                        <a:cubicBezTo>
                          <a:pt x="24" y="33"/>
                          <a:pt x="103" y="147"/>
                          <a:pt x="146" y="198"/>
                        </a:cubicBezTo>
                        <a:cubicBezTo>
                          <a:pt x="189" y="249"/>
                          <a:pt x="236" y="284"/>
                          <a:pt x="260" y="306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1783"/>
                  <p:cNvSpPr/>
                  <p:nvPr/>
                </p:nvSpPr>
                <p:spPr>
                  <a:xfrm rot="2785800">
                    <a:off x="2222640" y="2918520"/>
                    <a:ext cx="226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7" h="72">
                        <a:moveTo>
                          <a:pt x="0" y="27"/>
                        </a:moveTo>
                        <a:cubicBezTo>
                          <a:pt x="55" y="24"/>
                          <a:pt x="180" y="0"/>
                          <a:pt x="331" y="7"/>
                        </a:cubicBezTo>
                        <a:cubicBezTo>
                          <a:pt x="482" y="14"/>
                          <a:pt x="787" y="59"/>
                          <a:pt x="907" y="72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784"/>
                  <p:cNvSpPr/>
                  <p:nvPr/>
                </p:nvSpPr>
                <p:spPr>
                  <a:xfrm rot="2785800">
                    <a:off x="2372400" y="3107880"/>
                    <a:ext cx="2268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7" h="56">
                        <a:moveTo>
                          <a:pt x="0" y="0"/>
                        </a:moveTo>
                        <a:cubicBezTo>
                          <a:pt x="86" y="8"/>
                          <a:pt x="366" y="42"/>
                          <a:pt x="517" y="49"/>
                        </a:cubicBezTo>
                        <a:cubicBezTo>
                          <a:pt x="668" y="56"/>
                          <a:pt x="826" y="46"/>
                          <a:pt x="907" y="45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1785"/>
                  <p:cNvSpPr/>
                  <p:nvPr/>
                </p:nvSpPr>
                <p:spPr>
                  <a:xfrm rot="2785800">
                    <a:off x="2338920" y="3070800"/>
                    <a:ext cx="1587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363">
                        <a:moveTo>
                          <a:pt x="0" y="0"/>
                        </a:moveTo>
                        <a:cubicBezTo>
                          <a:pt x="57" y="40"/>
                          <a:pt x="235" y="178"/>
                          <a:pt x="341" y="238"/>
                        </a:cubicBezTo>
                        <a:cubicBezTo>
                          <a:pt x="447" y="298"/>
                          <a:pt x="574" y="337"/>
                          <a:pt x="635" y="363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1786"/>
                  <p:cNvSpPr/>
                  <p:nvPr/>
                </p:nvSpPr>
                <p:spPr>
                  <a:xfrm rot="2785800">
                    <a:off x="2497680" y="2802600"/>
                    <a:ext cx="8640" cy="260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043">
                        <a:moveTo>
                          <a:pt x="0" y="0"/>
                        </a:moveTo>
                        <a:cubicBezTo>
                          <a:pt x="6" y="84"/>
                          <a:pt x="35" y="330"/>
                          <a:pt x="35" y="504"/>
                        </a:cubicBezTo>
                        <a:cubicBezTo>
                          <a:pt x="35" y="678"/>
                          <a:pt x="7" y="931"/>
                          <a:pt x="0" y="1043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87"/>
                  <p:cNvSpPr/>
                  <p:nvPr/>
                </p:nvSpPr>
                <p:spPr>
                  <a:xfrm rot="2785800">
                    <a:off x="2260800" y="2940120"/>
                    <a:ext cx="13608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590">
                        <a:moveTo>
                          <a:pt x="544" y="0"/>
                        </a:moveTo>
                        <a:cubicBezTo>
                          <a:pt x="495" y="45"/>
                          <a:pt x="341" y="173"/>
                          <a:pt x="250" y="271"/>
                        </a:cubicBezTo>
                        <a:cubicBezTo>
                          <a:pt x="159" y="369"/>
                          <a:pt x="52" y="524"/>
                          <a:pt x="0" y="590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788"/>
                  <p:cNvSpPr/>
                  <p:nvPr/>
                </p:nvSpPr>
                <p:spPr>
                  <a:xfrm rot="2785800">
                    <a:off x="2216880" y="2950560"/>
                    <a:ext cx="12456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817">
                        <a:moveTo>
                          <a:pt x="498" y="0"/>
                        </a:moveTo>
                        <a:cubicBezTo>
                          <a:pt x="455" y="58"/>
                          <a:pt x="323" y="210"/>
                          <a:pt x="240" y="346"/>
                        </a:cubicBezTo>
                        <a:cubicBezTo>
                          <a:pt x="157" y="482"/>
                          <a:pt x="50" y="719"/>
                          <a:pt x="0" y="817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789"/>
                  <p:cNvSpPr/>
                  <p:nvPr/>
                </p:nvSpPr>
                <p:spPr>
                  <a:xfrm rot="2785800">
                    <a:off x="2322360" y="3046320"/>
                    <a:ext cx="792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680">
                        <a:moveTo>
                          <a:pt x="0" y="0"/>
                        </a:moveTo>
                        <a:cubicBezTo>
                          <a:pt x="27" y="48"/>
                          <a:pt x="120" y="212"/>
                          <a:pt x="164" y="288"/>
                        </a:cubicBezTo>
                        <a:cubicBezTo>
                          <a:pt x="208" y="364"/>
                          <a:pt x="238" y="391"/>
                          <a:pt x="264" y="456"/>
                        </a:cubicBezTo>
                        <a:cubicBezTo>
                          <a:pt x="290" y="521"/>
                          <a:pt x="306" y="633"/>
                          <a:pt x="317" y="68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1790"/>
                  <p:cNvSpPr/>
                  <p:nvPr/>
                </p:nvSpPr>
                <p:spPr>
                  <a:xfrm rot="3466800">
                    <a:off x="2428560" y="3070440"/>
                    <a:ext cx="1022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9" h="90">
                        <a:moveTo>
                          <a:pt x="0" y="90"/>
                        </a:moveTo>
                        <a:cubicBezTo>
                          <a:pt x="36" y="85"/>
                          <a:pt x="149" y="77"/>
                          <a:pt x="217" y="62"/>
                        </a:cubicBezTo>
                        <a:lnTo>
                          <a:pt x="409" y="0"/>
                        </a:lnTo>
                      </a:path>
                    </a:pathLst>
                  </a:custGeom>
                  <a:noFill/>
                  <a:ln cap="rnd" w="252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1791"/>
                  <p:cNvSpPr/>
                  <p:nvPr/>
                </p:nvSpPr>
                <p:spPr>
                  <a:xfrm rot="2785800">
                    <a:off x="2460240" y="2890800"/>
                    <a:ext cx="68040" cy="18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52">
                        <a:moveTo>
                          <a:pt x="0" y="952"/>
                        </a:moveTo>
                        <a:cubicBezTo>
                          <a:pt x="43" y="837"/>
                          <a:pt x="203" y="422"/>
                          <a:pt x="256" y="263"/>
                        </a:cubicBezTo>
                        <a:cubicBezTo>
                          <a:pt x="309" y="104"/>
                          <a:pt x="304" y="55"/>
                          <a:pt x="317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2" name="Group 1792"/>
            <p:cNvGrpSpPr/>
            <p:nvPr/>
          </p:nvGrpSpPr>
          <p:grpSpPr>
            <a:xfrm>
              <a:off x="2411280" y="2950200"/>
              <a:ext cx="835920" cy="738360"/>
              <a:chOff x="2411280" y="2950200"/>
              <a:chExt cx="835920" cy="738360"/>
            </a:xfrm>
          </p:grpSpPr>
          <p:sp>
            <p:nvSpPr>
              <p:cNvPr id="173" name="Freeform 1793"/>
              <p:cNvSpPr/>
              <p:nvPr/>
            </p:nvSpPr>
            <p:spPr>
              <a:xfrm rot="2785800">
                <a:off x="2930040" y="3329280"/>
                <a:ext cx="102240" cy="22320"/>
              </a:xfrm>
              <a:custGeom>
                <a:avLst/>
                <a:gdLst/>
                <a:ahLst/>
                <a:rect l="l" t="t" r="r" b="b"/>
                <a:pathLst>
                  <a:path w="409" h="90">
                    <a:moveTo>
                      <a:pt x="0" y="90"/>
                    </a:moveTo>
                    <a:cubicBezTo>
                      <a:pt x="36" y="85"/>
                      <a:pt x="149" y="77"/>
                      <a:pt x="217" y="62"/>
                    </a:cubicBezTo>
                    <a:lnTo>
                      <a:pt x="409" y="0"/>
                    </a:lnTo>
                  </a:path>
                </a:pathLst>
              </a:custGeom>
              <a:noFill/>
              <a:ln cap="rnd" w="93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Group 1794"/>
              <p:cNvGrpSpPr/>
              <p:nvPr/>
            </p:nvGrpSpPr>
            <p:grpSpPr>
              <a:xfrm>
                <a:off x="2411280" y="2950200"/>
                <a:ext cx="835920" cy="738360"/>
                <a:chOff x="2411280" y="2950200"/>
                <a:chExt cx="835920" cy="738360"/>
              </a:xfrm>
            </p:grpSpPr>
            <p:grpSp>
              <p:nvGrpSpPr>
                <p:cNvPr id="175" name="Group 1795"/>
                <p:cNvGrpSpPr/>
                <p:nvPr/>
              </p:nvGrpSpPr>
              <p:grpSpPr>
                <a:xfrm>
                  <a:off x="2411280" y="3236760"/>
                  <a:ext cx="569160" cy="451800"/>
                  <a:chOff x="2411280" y="3236760"/>
                  <a:chExt cx="569160" cy="451800"/>
                </a:xfrm>
              </p:grpSpPr>
              <p:sp>
                <p:nvSpPr>
                  <p:cNvPr id="176" name="AutoShape 1796"/>
                  <p:cNvSpPr/>
                  <p:nvPr/>
                </p:nvSpPr>
                <p:spPr>
                  <a:xfrm rot="2785800">
                    <a:off x="2874960" y="3257280"/>
                    <a:ext cx="90720" cy="79200"/>
                  </a:xfrm>
                  <a:prstGeom prst="irregularSeal1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1797"/>
                  <p:cNvSpPr/>
                  <p:nvPr/>
                </p:nvSpPr>
                <p:spPr>
                  <a:xfrm rot="2785800">
                    <a:off x="2712240" y="3224880"/>
                    <a:ext cx="46080" cy="43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735">
                        <a:moveTo>
                          <a:pt x="185" y="0"/>
                        </a:moveTo>
                        <a:cubicBezTo>
                          <a:pt x="174" y="126"/>
                          <a:pt x="137" y="578"/>
                          <a:pt x="120" y="757"/>
                        </a:cubicBezTo>
                        <a:lnTo>
                          <a:pt x="84" y="1075"/>
                        </a:lnTo>
                        <a:lnTo>
                          <a:pt x="0" y="1735"/>
                        </a:lnTo>
                      </a:path>
                    </a:pathLst>
                  </a:custGeom>
                  <a:noFill/>
                  <a:ln w="11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Oval 1798"/>
                  <p:cNvSpPr/>
                  <p:nvPr/>
                </p:nvSpPr>
                <p:spPr>
                  <a:xfrm rot="3329400">
                    <a:off x="2480760" y="3518640"/>
                    <a:ext cx="45360" cy="192600"/>
                  </a:xfrm>
                  <a:prstGeom prst="ellipse">
                    <a:avLst/>
                  </a:prstGeom>
                  <a:solidFill>
                    <a:srgbClr val="ffffff">
                      <a:alpha val="86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1799"/>
                <p:cNvGrpSpPr/>
                <p:nvPr/>
              </p:nvGrpSpPr>
              <p:grpSpPr>
                <a:xfrm>
                  <a:off x="2665440" y="2950200"/>
                  <a:ext cx="581760" cy="596520"/>
                  <a:chOff x="2665440" y="2950200"/>
                  <a:chExt cx="581760" cy="596520"/>
                </a:xfrm>
              </p:grpSpPr>
              <p:sp>
                <p:nvSpPr>
                  <p:cNvPr id="180" name="Freeform 1800"/>
                  <p:cNvSpPr/>
                  <p:nvPr/>
                </p:nvSpPr>
                <p:spPr>
                  <a:xfrm rot="2785800">
                    <a:off x="2770920" y="3215880"/>
                    <a:ext cx="15804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2" h="303">
                        <a:moveTo>
                          <a:pt x="544" y="303"/>
                        </a:moveTo>
                        <a:cubicBezTo>
                          <a:pt x="553" y="278"/>
                          <a:pt x="593" y="184"/>
                          <a:pt x="598" y="153"/>
                        </a:cubicBezTo>
                        <a:cubicBezTo>
                          <a:pt x="603" y="122"/>
                          <a:pt x="632" y="137"/>
                          <a:pt x="574" y="117"/>
                        </a:cubicBezTo>
                        <a:cubicBezTo>
                          <a:pt x="516" y="97"/>
                          <a:pt x="346" y="0"/>
                          <a:pt x="250" y="31"/>
                        </a:cubicBezTo>
                        <a:cubicBezTo>
                          <a:pt x="154" y="62"/>
                          <a:pt x="52" y="245"/>
                          <a:pt x="0" y="303"/>
                        </a:cubicBezTo>
                      </a:path>
                    </a:pathLst>
                  </a:custGeom>
                  <a:noFill/>
                  <a:ln cap="rnd" w="144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801"/>
                  <p:cNvSpPr/>
                  <p:nvPr/>
                </p:nvSpPr>
                <p:spPr>
                  <a:xfrm rot="2785800">
                    <a:off x="2652840" y="3183120"/>
                    <a:ext cx="27252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272">
                        <a:moveTo>
                          <a:pt x="1089" y="0"/>
                        </a:moveTo>
                        <a:cubicBezTo>
                          <a:pt x="988" y="18"/>
                          <a:pt x="663" y="64"/>
                          <a:pt x="482" y="109"/>
                        </a:cubicBezTo>
                        <a:cubicBezTo>
                          <a:pt x="301" y="154"/>
                          <a:pt x="100" y="238"/>
                          <a:pt x="0" y="272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1802"/>
                  <p:cNvSpPr/>
                  <p:nvPr/>
                </p:nvSpPr>
                <p:spPr>
                  <a:xfrm rot="2785800">
                    <a:off x="2685240" y="3124440"/>
                    <a:ext cx="28368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272">
                        <a:moveTo>
                          <a:pt x="1134" y="272"/>
                        </a:moveTo>
                        <a:cubicBezTo>
                          <a:pt x="1024" y="241"/>
                          <a:pt x="663" y="129"/>
                          <a:pt x="474" y="84"/>
                        </a:cubicBezTo>
                        <a:cubicBezTo>
                          <a:pt x="285" y="39"/>
                          <a:pt x="99" y="17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1803"/>
                  <p:cNvSpPr/>
                  <p:nvPr/>
                </p:nvSpPr>
                <p:spPr>
                  <a:xfrm rot="2785800">
                    <a:off x="2676240" y="3076560"/>
                    <a:ext cx="2952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363">
                        <a:moveTo>
                          <a:pt x="1180" y="363"/>
                        </a:moveTo>
                        <a:cubicBezTo>
                          <a:pt x="1067" y="321"/>
                          <a:pt x="699" y="172"/>
                          <a:pt x="502" y="112"/>
                        </a:cubicBezTo>
                        <a:cubicBezTo>
                          <a:pt x="305" y="52"/>
                          <a:pt x="105" y="23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804"/>
                  <p:cNvSpPr/>
                  <p:nvPr/>
                </p:nvSpPr>
                <p:spPr>
                  <a:xfrm rot="2785800">
                    <a:off x="2700000" y="3072960"/>
                    <a:ext cx="29340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3" h="461">
                        <a:moveTo>
                          <a:pt x="1173" y="461"/>
                        </a:moveTo>
                        <a:cubicBezTo>
                          <a:pt x="1088" y="425"/>
                          <a:pt x="862" y="323"/>
                          <a:pt x="666" y="246"/>
                        </a:cubicBezTo>
                        <a:cubicBezTo>
                          <a:pt x="470" y="169"/>
                          <a:pt x="139" y="5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805"/>
                  <p:cNvSpPr/>
                  <p:nvPr/>
                </p:nvSpPr>
                <p:spPr>
                  <a:xfrm rot="2785800">
                    <a:off x="2725200" y="3094200"/>
                    <a:ext cx="283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453">
                        <a:moveTo>
                          <a:pt x="1134" y="453"/>
                        </a:moveTo>
                        <a:cubicBezTo>
                          <a:pt x="1034" y="407"/>
                          <a:pt x="722" y="254"/>
                          <a:pt x="533" y="178"/>
                        </a:cubicBezTo>
                        <a:cubicBezTo>
                          <a:pt x="344" y="102"/>
                          <a:pt x="111" y="37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1806"/>
                  <p:cNvSpPr/>
                  <p:nvPr/>
                </p:nvSpPr>
                <p:spPr>
                  <a:xfrm rot="2785800">
                    <a:off x="2801160" y="3054240"/>
                    <a:ext cx="21420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724">
                        <a:moveTo>
                          <a:pt x="856" y="724"/>
                        </a:moveTo>
                        <a:lnTo>
                          <a:pt x="372" y="234"/>
                        </a:lnTo>
                        <a:cubicBezTo>
                          <a:pt x="229" y="113"/>
                          <a:pt x="77" y="49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1807"/>
                  <p:cNvSpPr/>
                  <p:nvPr/>
                </p:nvSpPr>
                <p:spPr>
                  <a:xfrm rot="2785800">
                    <a:off x="2770920" y="3052440"/>
                    <a:ext cx="2498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5">
                        <a:moveTo>
                          <a:pt x="998" y="635"/>
                        </a:moveTo>
                        <a:lnTo>
                          <a:pt x="220" y="11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1808"/>
                  <p:cNvSpPr/>
                  <p:nvPr/>
                </p:nvSpPr>
                <p:spPr>
                  <a:xfrm rot="2785800">
                    <a:off x="2769480" y="3100320"/>
                    <a:ext cx="2498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5">
                        <a:moveTo>
                          <a:pt x="998" y="635"/>
                        </a:moveTo>
                        <a:cubicBezTo>
                          <a:pt x="882" y="554"/>
                          <a:pt x="466" y="255"/>
                          <a:pt x="300" y="149"/>
                        </a:cubicBezTo>
                        <a:cubicBezTo>
                          <a:pt x="134" y="43"/>
                          <a:pt x="62" y="3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1809"/>
                  <p:cNvSpPr/>
                  <p:nvPr/>
                </p:nvSpPr>
                <p:spPr>
                  <a:xfrm rot="2785800">
                    <a:off x="2791080" y="3007080"/>
                    <a:ext cx="26280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0" h="980">
                        <a:moveTo>
                          <a:pt x="1050" y="980"/>
                        </a:moveTo>
                        <a:lnTo>
                          <a:pt x="378" y="234"/>
                        </a:lnTo>
                        <a:cubicBezTo>
                          <a:pt x="203" y="71"/>
                          <a:pt x="79" y="49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810"/>
                  <p:cNvSpPr/>
                  <p:nvPr/>
                </p:nvSpPr>
                <p:spPr>
                  <a:xfrm flipV="1">
                    <a:off x="2915280" y="3021480"/>
                    <a:ext cx="47520" cy="311400"/>
                  </a:xfrm>
                  <a:prstGeom prst="line">
                    <a:avLst/>
                  </a:prstGeom>
                  <a:ln w="25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811"/>
                  <p:cNvSpPr/>
                  <p:nvPr/>
                </p:nvSpPr>
                <p:spPr>
                  <a:xfrm rot="2785800">
                    <a:off x="2863440" y="3056760"/>
                    <a:ext cx="1587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997">
                        <a:moveTo>
                          <a:pt x="635" y="997"/>
                        </a:moveTo>
                        <a:cubicBezTo>
                          <a:pt x="569" y="887"/>
                          <a:pt x="345" y="500"/>
                          <a:pt x="239" y="334"/>
                        </a:cubicBezTo>
                        <a:cubicBezTo>
                          <a:pt x="133" y="168"/>
                          <a:pt x="50" y="70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1812"/>
                  <p:cNvSpPr/>
                  <p:nvPr/>
                </p:nvSpPr>
                <p:spPr>
                  <a:xfrm rot="2785800">
                    <a:off x="2904480" y="3056040"/>
                    <a:ext cx="123120" cy="25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1026">
                        <a:moveTo>
                          <a:pt x="492" y="1026"/>
                        </a:moveTo>
                        <a:cubicBezTo>
                          <a:pt x="452" y="924"/>
                          <a:pt x="334" y="585"/>
                          <a:pt x="252" y="414"/>
                        </a:cubicBezTo>
                        <a:cubicBezTo>
                          <a:pt x="170" y="243"/>
                          <a:pt x="53" y="86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1813"/>
                  <p:cNvSpPr/>
                  <p:nvPr/>
                </p:nvSpPr>
                <p:spPr>
                  <a:xfrm rot="2785800">
                    <a:off x="2944440" y="3057480"/>
                    <a:ext cx="8244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086">
                        <a:moveTo>
                          <a:pt x="330" y="1086"/>
                        </a:moveTo>
                        <a:cubicBezTo>
                          <a:pt x="302" y="966"/>
                          <a:pt x="217" y="547"/>
                          <a:pt x="162" y="366"/>
                        </a:cubicBezTo>
                        <a:cubicBezTo>
                          <a:pt x="107" y="185"/>
                          <a:pt x="34" y="76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814"/>
                  <p:cNvSpPr/>
                  <p:nvPr/>
                </p:nvSpPr>
                <p:spPr>
                  <a:xfrm rot="2785800">
                    <a:off x="2985480" y="3072960"/>
                    <a:ext cx="41040" cy="29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160">
                        <a:moveTo>
                          <a:pt x="164" y="1160"/>
                        </a:moveTo>
                        <a:cubicBezTo>
                          <a:pt x="148" y="1008"/>
                          <a:pt x="93" y="439"/>
                          <a:pt x="66" y="246"/>
                        </a:cubicBezTo>
                        <a:cubicBezTo>
                          <a:pt x="39" y="53"/>
                          <a:pt x="14" y="5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1815"/>
                  <p:cNvSpPr/>
                  <p:nvPr/>
                </p:nvSpPr>
                <p:spPr>
                  <a:xfrm rot="2785800">
                    <a:off x="3005640" y="3051360"/>
                    <a:ext cx="47520" cy="31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1259">
                        <a:moveTo>
                          <a:pt x="140" y="1259"/>
                        </a:moveTo>
                        <a:cubicBezTo>
                          <a:pt x="145" y="1113"/>
                          <a:pt x="191" y="594"/>
                          <a:pt x="168" y="384"/>
                        </a:cubicBezTo>
                        <a:cubicBezTo>
                          <a:pt x="145" y="174"/>
                          <a:pt x="35" y="80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1816"/>
                  <p:cNvSpPr/>
                  <p:nvPr/>
                </p:nvSpPr>
                <p:spPr>
                  <a:xfrm rot="2785800">
                    <a:off x="3003120" y="3101400"/>
                    <a:ext cx="450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134">
                        <a:moveTo>
                          <a:pt x="0" y="1134"/>
                        </a:moveTo>
                        <a:cubicBezTo>
                          <a:pt x="19" y="988"/>
                          <a:pt x="85" y="445"/>
                          <a:pt x="115" y="256"/>
                        </a:cubicBezTo>
                        <a:cubicBezTo>
                          <a:pt x="145" y="67"/>
                          <a:pt x="167" y="53"/>
                          <a:pt x="181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1817"/>
                  <p:cNvSpPr/>
                  <p:nvPr/>
                </p:nvSpPr>
                <p:spPr>
                  <a:xfrm rot="2785800">
                    <a:off x="2997360" y="3152520"/>
                    <a:ext cx="7920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52">
                        <a:moveTo>
                          <a:pt x="0" y="952"/>
                        </a:moveTo>
                        <a:cubicBezTo>
                          <a:pt x="43" y="837"/>
                          <a:pt x="203" y="422"/>
                          <a:pt x="256" y="263"/>
                        </a:cubicBezTo>
                        <a:cubicBezTo>
                          <a:pt x="309" y="104"/>
                          <a:pt x="304" y="55"/>
                          <a:pt x="317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1818"/>
                  <p:cNvSpPr/>
                  <p:nvPr/>
                </p:nvSpPr>
                <p:spPr>
                  <a:xfrm rot="2785800">
                    <a:off x="3006000" y="3117600"/>
                    <a:ext cx="1587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1179">
                        <a:moveTo>
                          <a:pt x="0" y="1179"/>
                        </a:moveTo>
                        <a:cubicBezTo>
                          <a:pt x="70" y="1066"/>
                          <a:pt x="315" y="697"/>
                          <a:pt x="421" y="501"/>
                        </a:cubicBezTo>
                        <a:cubicBezTo>
                          <a:pt x="527" y="305"/>
                          <a:pt x="591" y="105"/>
                          <a:pt x="635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1819"/>
                  <p:cNvSpPr/>
                  <p:nvPr/>
                </p:nvSpPr>
                <p:spPr>
                  <a:xfrm rot="2785800">
                    <a:off x="2974320" y="3179880"/>
                    <a:ext cx="20412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998">
                        <a:moveTo>
                          <a:pt x="0" y="998"/>
                        </a:moveTo>
                        <a:cubicBezTo>
                          <a:pt x="102" y="891"/>
                          <a:pt x="477" y="523"/>
                          <a:pt x="613" y="357"/>
                        </a:cubicBezTo>
                        <a:cubicBezTo>
                          <a:pt x="749" y="191"/>
                          <a:pt x="774" y="75"/>
                          <a:pt x="816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820"/>
                  <p:cNvSpPr/>
                  <p:nvPr/>
                </p:nvSpPr>
                <p:spPr>
                  <a:xfrm rot="2785800">
                    <a:off x="2955960" y="3248640"/>
                    <a:ext cx="23832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771">
                        <a:moveTo>
                          <a:pt x="0" y="771"/>
                        </a:moveTo>
                        <a:cubicBezTo>
                          <a:pt x="91" y="704"/>
                          <a:pt x="385" y="497"/>
                          <a:pt x="544" y="369"/>
                        </a:cubicBezTo>
                        <a:cubicBezTo>
                          <a:pt x="703" y="241"/>
                          <a:pt x="867" y="77"/>
                          <a:pt x="952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1821"/>
                  <p:cNvSpPr/>
                  <p:nvPr/>
                </p:nvSpPr>
                <p:spPr>
                  <a:xfrm rot="2785800">
                    <a:off x="2938320" y="3289680"/>
                    <a:ext cx="27216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8" h="635">
                        <a:moveTo>
                          <a:pt x="0" y="635"/>
                        </a:moveTo>
                        <a:cubicBezTo>
                          <a:pt x="109" y="581"/>
                          <a:pt x="471" y="417"/>
                          <a:pt x="652" y="311"/>
                        </a:cubicBezTo>
                        <a:cubicBezTo>
                          <a:pt x="833" y="205"/>
                          <a:pt x="997" y="65"/>
                          <a:pt x="1088" y="0"/>
                        </a:cubicBez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1822"/>
                  <p:cNvSpPr/>
                  <p:nvPr/>
                </p:nvSpPr>
                <p:spPr>
                  <a:xfrm rot="2785800">
                    <a:off x="2907720" y="3297240"/>
                    <a:ext cx="31788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0" h="635">
                        <a:moveTo>
                          <a:pt x="0" y="635"/>
                        </a:moveTo>
                        <a:cubicBezTo>
                          <a:pt x="120" y="588"/>
                          <a:pt x="537" y="430"/>
                          <a:pt x="719" y="352"/>
                        </a:cubicBezTo>
                        <a:cubicBezTo>
                          <a:pt x="901" y="274"/>
                          <a:pt x="999" y="225"/>
                          <a:pt x="1091" y="166"/>
                        </a:cubicBezTo>
                        <a:cubicBezTo>
                          <a:pt x="1183" y="107"/>
                          <a:pt x="1233" y="35"/>
                          <a:pt x="127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823"/>
                  <p:cNvSpPr/>
                  <p:nvPr/>
                </p:nvSpPr>
                <p:spPr>
                  <a:xfrm rot="2785800">
                    <a:off x="2872080" y="3387240"/>
                    <a:ext cx="1940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87">
                        <a:moveTo>
                          <a:pt x="0" y="0"/>
                        </a:moveTo>
                        <a:cubicBezTo>
                          <a:pt x="63" y="14"/>
                          <a:pt x="255" y="81"/>
                          <a:pt x="384" y="84"/>
                        </a:cubicBezTo>
                        <a:cubicBezTo>
                          <a:pt x="513" y="87"/>
                          <a:pt x="694" y="33"/>
                          <a:pt x="776" y="2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824"/>
                  <p:cNvSpPr/>
                  <p:nvPr/>
                </p:nvSpPr>
                <p:spPr>
                  <a:xfrm rot="2785800">
                    <a:off x="2873880" y="3368880"/>
                    <a:ext cx="136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135">
                        <a:moveTo>
                          <a:pt x="0" y="0"/>
                        </a:moveTo>
                        <a:lnTo>
                          <a:pt x="289" y="99"/>
                        </a:lnTo>
                        <a:cubicBezTo>
                          <a:pt x="380" y="121"/>
                          <a:pt x="491" y="128"/>
                          <a:pt x="544" y="135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825"/>
                  <p:cNvSpPr/>
                  <p:nvPr/>
                </p:nvSpPr>
                <p:spPr>
                  <a:xfrm rot="2785800">
                    <a:off x="2852280" y="3346920"/>
                    <a:ext cx="907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272">
                        <a:moveTo>
                          <a:pt x="0" y="0"/>
                        </a:moveTo>
                        <a:cubicBezTo>
                          <a:pt x="34" y="32"/>
                          <a:pt x="143" y="147"/>
                          <a:pt x="203" y="192"/>
                        </a:cubicBezTo>
                        <a:cubicBezTo>
                          <a:pt x="263" y="237"/>
                          <a:pt x="330" y="255"/>
                          <a:pt x="363" y="272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826"/>
                  <p:cNvSpPr/>
                  <p:nvPr/>
                </p:nvSpPr>
                <p:spPr>
                  <a:xfrm rot="2785800">
                    <a:off x="2845800" y="3328200"/>
                    <a:ext cx="648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306">
                        <a:moveTo>
                          <a:pt x="0" y="0"/>
                        </a:moveTo>
                        <a:cubicBezTo>
                          <a:pt x="24" y="33"/>
                          <a:pt x="103" y="147"/>
                          <a:pt x="146" y="198"/>
                        </a:cubicBezTo>
                        <a:cubicBezTo>
                          <a:pt x="189" y="249"/>
                          <a:pt x="236" y="284"/>
                          <a:pt x="260" y="306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1827"/>
                  <p:cNvSpPr/>
                  <p:nvPr/>
                </p:nvSpPr>
                <p:spPr>
                  <a:xfrm rot="2785800">
                    <a:off x="2725560" y="3207600"/>
                    <a:ext cx="226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7" h="72">
                        <a:moveTo>
                          <a:pt x="0" y="27"/>
                        </a:moveTo>
                        <a:cubicBezTo>
                          <a:pt x="55" y="24"/>
                          <a:pt x="180" y="0"/>
                          <a:pt x="331" y="7"/>
                        </a:cubicBezTo>
                        <a:cubicBezTo>
                          <a:pt x="482" y="14"/>
                          <a:pt x="787" y="59"/>
                          <a:pt x="907" y="72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1828"/>
                  <p:cNvSpPr/>
                  <p:nvPr/>
                </p:nvSpPr>
                <p:spPr>
                  <a:xfrm rot="2785800">
                    <a:off x="2875320" y="3396960"/>
                    <a:ext cx="2268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7" h="56">
                        <a:moveTo>
                          <a:pt x="0" y="0"/>
                        </a:moveTo>
                        <a:cubicBezTo>
                          <a:pt x="86" y="8"/>
                          <a:pt x="366" y="42"/>
                          <a:pt x="517" y="49"/>
                        </a:cubicBezTo>
                        <a:cubicBezTo>
                          <a:pt x="668" y="56"/>
                          <a:pt x="826" y="46"/>
                          <a:pt x="907" y="45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829"/>
                  <p:cNvSpPr/>
                  <p:nvPr/>
                </p:nvSpPr>
                <p:spPr>
                  <a:xfrm rot="2785800">
                    <a:off x="2841840" y="3359880"/>
                    <a:ext cx="1587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363">
                        <a:moveTo>
                          <a:pt x="0" y="0"/>
                        </a:moveTo>
                        <a:cubicBezTo>
                          <a:pt x="57" y="40"/>
                          <a:pt x="235" y="178"/>
                          <a:pt x="341" y="238"/>
                        </a:cubicBezTo>
                        <a:cubicBezTo>
                          <a:pt x="447" y="298"/>
                          <a:pt x="574" y="337"/>
                          <a:pt x="635" y="363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1830"/>
                  <p:cNvSpPr/>
                  <p:nvPr/>
                </p:nvSpPr>
                <p:spPr>
                  <a:xfrm rot="2785800">
                    <a:off x="3000600" y="3091680"/>
                    <a:ext cx="8640" cy="260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043">
                        <a:moveTo>
                          <a:pt x="0" y="0"/>
                        </a:moveTo>
                        <a:cubicBezTo>
                          <a:pt x="6" y="84"/>
                          <a:pt x="35" y="330"/>
                          <a:pt x="35" y="504"/>
                        </a:cubicBezTo>
                        <a:cubicBezTo>
                          <a:pt x="35" y="678"/>
                          <a:pt x="7" y="931"/>
                          <a:pt x="0" y="1043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1831"/>
                  <p:cNvSpPr/>
                  <p:nvPr/>
                </p:nvSpPr>
                <p:spPr>
                  <a:xfrm rot="2785800">
                    <a:off x="2763720" y="3229200"/>
                    <a:ext cx="13608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590">
                        <a:moveTo>
                          <a:pt x="544" y="0"/>
                        </a:moveTo>
                        <a:cubicBezTo>
                          <a:pt x="495" y="45"/>
                          <a:pt x="341" y="173"/>
                          <a:pt x="250" y="271"/>
                        </a:cubicBezTo>
                        <a:cubicBezTo>
                          <a:pt x="159" y="369"/>
                          <a:pt x="52" y="524"/>
                          <a:pt x="0" y="590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1832"/>
                  <p:cNvSpPr/>
                  <p:nvPr/>
                </p:nvSpPr>
                <p:spPr>
                  <a:xfrm rot="2785800">
                    <a:off x="2719800" y="3239640"/>
                    <a:ext cx="12456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817">
                        <a:moveTo>
                          <a:pt x="498" y="0"/>
                        </a:moveTo>
                        <a:cubicBezTo>
                          <a:pt x="455" y="58"/>
                          <a:pt x="323" y="210"/>
                          <a:pt x="240" y="346"/>
                        </a:cubicBezTo>
                        <a:cubicBezTo>
                          <a:pt x="157" y="482"/>
                          <a:pt x="50" y="719"/>
                          <a:pt x="0" y="817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1833"/>
                  <p:cNvSpPr/>
                  <p:nvPr/>
                </p:nvSpPr>
                <p:spPr>
                  <a:xfrm rot="2785800">
                    <a:off x="2825280" y="3335400"/>
                    <a:ext cx="792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680">
                        <a:moveTo>
                          <a:pt x="0" y="0"/>
                        </a:moveTo>
                        <a:cubicBezTo>
                          <a:pt x="27" y="48"/>
                          <a:pt x="120" y="212"/>
                          <a:pt x="164" y="288"/>
                        </a:cubicBezTo>
                        <a:cubicBezTo>
                          <a:pt x="208" y="364"/>
                          <a:pt x="238" y="391"/>
                          <a:pt x="264" y="456"/>
                        </a:cubicBezTo>
                        <a:cubicBezTo>
                          <a:pt x="290" y="521"/>
                          <a:pt x="306" y="633"/>
                          <a:pt x="317" y="68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1834"/>
                  <p:cNvSpPr/>
                  <p:nvPr/>
                </p:nvSpPr>
                <p:spPr>
                  <a:xfrm rot="3466800">
                    <a:off x="2931480" y="3359520"/>
                    <a:ext cx="1022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9" h="90">
                        <a:moveTo>
                          <a:pt x="0" y="90"/>
                        </a:moveTo>
                        <a:cubicBezTo>
                          <a:pt x="36" y="85"/>
                          <a:pt x="149" y="77"/>
                          <a:pt x="217" y="62"/>
                        </a:cubicBezTo>
                        <a:lnTo>
                          <a:pt x="409" y="0"/>
                        </a:lnTo>
                      </a:path>
                    </a:pathLst>
                  </a:custGeom>
                  <a:noFill/>
                  <a:ln cap="rnd" w="252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1835"/>
                  <p:cNvSpPr/>
                  <p:nvPr/>
                </p:nvSpPr>
                <p:spPr>
                  <a:xfrm rot="2785800">
                    <a:off x="2963160" y="3179880"/>
                    <a:ext cx="68040" cy="18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52">
                        <a:moveTo>
                          <a:pt x="0" y="952"/>
                        </a:moveTo>
                        <a:cubicBezTo>
                          <a:pt x="43" y="837"/>
                          <a:pt x="203" y="422"/>
                          <a:pt x="256" y="263"/>
                        </a:cubicBezTo>
                        <a:cubicBezTo>
                          <a:pt x="309" y="104"/>
                          <a:pt x="304" y="55"/>
                          <a:pt x="317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16" name="Group 4015"/>
          <p:cNvGrpSpPr/>
          <p:nvPr/>
        </p:nvGrpSpPr>
        <p:grpSpPr>
          <a:xfrm>
            <a:off x="1236240" y="2323080"/>
            <a:ext cx="2062080" cy="2048760"/>
            <a:chOff x="1236240" y="2323080"/>
            <a:chExt cx="2062080" cy="2048760"/>
          </a:xfrm>
        </p:grpSpPr>
        <p:grpSp>
          <p:nvGrpSpPr>
            <p:cNvPr id="217" name="Group 2177"/>
            <p:cNvGrpSpPr/>
            <p:nvPr/>
          </p:nvGrpSpPr>
          <p:grpSpPr>
            <a:xfrm>
              <a:off x="1236240" y="2323080"/>
              <a:ext cx="2062080" cy="2048760"/>
              <a:chOff x="1236240" y="2323080"/>
              <a:chExt cx="2062080" cy="2048760"/>
            </a:xfrm>
          </p:grpSpPr>
          <p:grpSp>
            <p:nvGrpSpPr>
              <p:cNvPr id="218" name="Group 5"/>
              <p:cNvGrpSpPr/>
              <p:nvPr/>
            </p:nvGrpSpPr>
            <p:grpSpPr>
              <a:xfrm>
                <a:off x="2363400" y="2697840"/>
                <a:ext cx="915480" cy="634680"/>
                <a:chOff x="2363400" y="2697840"/>
                <a:chExt cx="915480" cy="634680"/>
              </a:xfrm>
            </p:grpSpPr>
            <p:sp>
              <p:nvSpPr>
                <p:cNvPr id="219" name="Freeform 6"/>
                <p:cNvSpPr/>
                <p:nvPr/>
              </p:nvSpPr>
              <p:spPr>
                <a:xfrm rot="3630600">
                  <a:off x="2940480" y="308772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7"/>
                <p:cNvGrpSpPr/>
                <p:nvPr/>
              </p:nvGrpSpPr>
              <p:grpSpPr>
                <a:xfrm>
                  <a:off x="2363400" y="2697840"/>
                  <a:ext cx="915480" cy="634680"/>
                  <a:chOff x="2363400" y="2697840"/>
                  <a:chExt cx="915480" cy="634680"/>
                </a:xfrm>
              </p:grpSpPr>
              <p:grpSp>
                <p:nvGrpSpPr>
                  <p:cNvPr id="221" name="Group 8"/>
                  <p:cNvGrpSpPr/>
                  <p:nvPr/>
                </p:nvGrpSpPr>
                <p:grpSpPr>
                  <a:xfrm>
                    <a:off x="2363400" y="2982600"/>
                    <a:ext cx="636480" cy="321480"/>
                    <a:chOff x="2363400" y="2982600"/>
                    <a:chExt cx="636480" cy="321480"/>
                  </a:xfrm>
                </p:grpSpPr>
                <p:sp>
                  <p:nvSpPr>
                    <p:cNvPr id="222" name="AutoShape 9"/>
                    <p:cNvSpPr/>
                    <p:nvPr/>
                  </p:nvSpPr>
                  <p:spPr>
                    <a:xfrm rot="3630600">
                      <a:off x="2897640" y="300168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10"/>
                    <p:cNvSpPr/>
                    <p:nvPr/>
                  </p:nvSpPr>
                  <p:spPr>
                    <a:xfrm rot="3630600">
                      <a:off x="2705760" y="291996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Oval 11"/>
                    <p:cNvSpPr/>
                    <p:nvPr/>
                  </p:nvSpPr>
                  <p:spPr>
                    <a:xfrm rot="4174200">
                      <a:off x="2438640" y="315252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12"/>
                  <p:cNvGrpSpPr/>
                  <p:nvPr/>
                </p:nvGrpSpPr>
                <p:grpSpPr>
                  <a:xfrm>
                    <a:off x="2678760" y="2697840"/>
                    <a:ext cx="600120" cy="634680"/>
                    <a:chOff x="2678760" y="2697840"/>
                    <a:chExt cx="600120" cy="634680"/>
                  </a:xfrm>
                </p:grpSpPr>
                <p:sp>
                  <p:nvSpPr>
                    <p:cNvPr id="226" name="Freeform 13"/>
                    <p:cNvSpPr/>
                    <p:nvPr/>
                  </p:nvSpPr>
                  <p:spPr>
                    <a:xfrm rot="3630600">
                      <a:off x="2806200" y="294444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14"/>
                    <p:cNvSpPr/>
                    <p:nvPr/>
                  </p:nvSpPr>
                  <p:spPr>
                    <a:xfrm rot="3630600">
                      <a:off x="2698920" y="289836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Freeform 15"/>
                    <p:cNvSpPr/>
                    <p:nvPr/>
                  </p:nvSpPr>
                  <p:spPr>
                    <a:xfrm rot="3630600">
                      <a:off x="2744280" y="2850480"/>
                      <a:ext cx="28404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6"/>
                    <p:cNvSpPr/>
                    <p:nvPr/>
                  </p:nvSpPr>
                  <p:spPr>
                    <a:xfrm rot="3630600">
                      <a:off x="2743920" y="280332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17"/>
                    <p:cNvSpPr/>
                    <p:nvPr/>
                  </p:nvSpPr>
                  <p:spPr>
                    <a:xfrm rot="3630600">
                      <a:off x="2765160" y="280440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Freeform 18"/>
                    <p:cNvSpPr/>
                    <p:nvPr/>
                  </p:nvSpPr>
                  <p:spPr>
                    <a:xfrm rot="3630600">
                      <a:off x="2784960" y="2830680"/>
                      <a:ext cx="2840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9"/>
                    <p:cNvSpPr/>
                    <p:nvPr/>
                  </p:nvSpPr>
                  <p:spPr>
                    <a:xfrm rot="3630600">
                      <a:off x="2861280" y="2800800"/>
                      <a:ext cx="21420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Freeform 20"/>
                    <p:cNvSpPr/>
                    <p:nvPr/>
                  </p:nvSpPr>
                  <p:spPr>
                    <a:xfrm rot="3630600">
                      <a:off x="2834280" y="279648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Freeform 21"/>
                    <p:cNvSpPr/>
                    <p:nvPr/>
                  </p:nvSpPr>
                  <p:spPr>
                    <a:xfrm rot="3630600">
                      <a:off x="2821320" y="284256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2"/>
                    <p:cNvSpPr/>
                    <p:nvPr/>
                  </p:nvSpPr>
                  <p:spPr>
                    <a:xfrm rot="3630600">
                      <a:off x="2854080" y="2757600"/>
                      <a:ext cx="262800" cy="24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Line 23"/>
                    <p:cNvSpPr/>
                    <p:nvPr/>
                  </p:nvSpPr>
                  <p:spPr>
                    <a:xfrm flipV="1">
                      <a:off x="2929680" y="2784600"/>
                      <a:ext cx="121680" cy="29052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Freeform 24"/>
                    <p:cNvSpPr/>
                    <p:nvPr/>
                  </p:nvSpPr>
                  <p:spPr>
                    <a:xfrm rot="3630600">
                      <a:off x="2913840" y="2810520"/>
                      <a:ext cx="15876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5"/>
                    <p:cNvSpPr/>
                    <p:nvPr/>
                  </p:nvSpPr>
                  <p:spPr>
                    <a:xfrm rot="3630600">
                      <a:off x="2953440" y="2815560"/>
                      <a:ext cx="123120" cy="25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26"/>
                    <p:cNvSpPr/>
                    <p:nvPr/>
                  </p:nvSpPr>
                  <p:spPr>
                    <a:xfrm rot="3630600">
                      <a:off x="2990520" y="2821680"/>
                      <a:ext cx="8244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Freeform 27"/>
                    <p:cNvSpPr/>
                    <p:nvPr/>
                  </p:nvSpPr>
                  <p:spPr>
                    <a:xfrm rot="3630600">
                      <a:off x="3025080" y="284148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8"/>
                    <p:cNvSpPr/>
                    <p:nvPr/>
                  </p:nvSpPr>
                  <p:spPr>
                    <a:xfrm rot="3630600">
                      <a:off x="3047040" y="2825280"/>
                      <a:ext cx="4752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29"/>
                    <p:cNvSpPr/>
                    <p:nvPr/>
                  </p:nvSpPr>
                  <p:spPr>
                    <a:xfrm rot="3630600">
                      <a:off x="3035880" y="287388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Freeform 30"/>
                    <p:cNvSpPr/>
                    <p:nvPr/>
                  </p:nvSpPr>
                  <p:spPr>
                    <a:xfrm rot="3630600">
                      <a:off x="3022920" y="2926440"/>
                      <a:ext cx="79200" cy="23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31"/>
                    <p:cNvSpPr/>
                    <p:nvPr/>
                  </p:nvSpPr>
                  <p:spPr>
                    <a:xfrm rot="3630600">
                      <a:off x="3031920" y="290376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32"/>
                    <p:cNvSpPr/>
                    <p:nvPr/>
                  </p:nvSpPr>
                  <p:spPr>
                    <a:xfrm rot="3630600">
                      <a:off x="2990520" y="296280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Freeform 33"/>
                    <p:cNvSpPr/>
                    <p:nvPr/>
                  </p:nvSpPr>
                  <p:spPr>
                    <a:xfrm rot="3630600">
                      <a:off x="2962800" y="3029760"/>
                      <a:ext cx="23832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4"/>
                    <p:cNvSpPr/>
                    <p:nvPr/>
                  </p:nvSpPr>
                  <p:spPr>
                    <a:xfrm rot="3630600">
                      <a:off x="2938680" y="307008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35"/>
                    <p:cNvSpPr/>
                    <p:nvPr/>
                  </p:nvSpPr>
                  <p:spPr>
                    <a:xfrm rot="3630600">
                      <a:off x="2906640" y="307548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Freeform 36"/>
                    <p:cNvSpPr/>
                    <p:nvPr/>
                  </p:nvSpPr>
                  <p:spPr>
                    <a:xfrm rot="3630600">
                      <a:off x="2868480" y="314100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7"/>
                    <p:cNvSpPr/>
                    <p:nvPr/>
                  </p:nvSpPr>
                  <p:spPr>
                    <a:xfrm rot="3630600">
                      <a:off x="2874600" y="311652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38"/>
                    <p:cNvSpPr/>
                    <p:nvPr/>
                  </p:nvSpPr>
                  <p:spPr>
                    <a:xfrm rot="3630600">
                      <a:off x="2855520" y="3083400"/>
                      <a:ext cx="9072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Freeform 39"/>
                    <p:cNvSpPr/>
                    <p:nvPr/>
                  </p:nvSpPr>
                  <p:spPr>
                    <a:xfrm rot="3630600">
                      <a:off x="2853000" y="306036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40"/>
                    <p:cNvSpPr/>
                    <p:nvPr/>
                  </p:nvSpPr>
                  <p:spPr>
                    <a:xfrm rot="3630600">
                      <a:off x="2770560" y="293508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Freeform 41"/>
                    <p:cNvSpPr/>
                    <p:nvPr/>
                  </p:nvSpPr>
                  <p:spPr>
                    <a:xfrm rot="3630600">
                      <a:off x="2870280" y="315540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Freeform 42"/>
                    <p:cNvSpPr/>
                    <p:nvPr/>
                  </p:nvSpPr>
                  <p:spPr>
                    <a:xfrm rot="3630600">
                      <a:off x="2838240" y="310176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3"/>
                    <p:cNvSpPr/>
                    <p:nvPr/>
                  </p:nvSpPr>
                  <p:spPr>
                    <a:xfrm rot="3630600">
                      <a:off x="3039120" y="2859480"/>
                      <a:ext cx="8640" cy="26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Freeform 44"/>
                    <p:cNvSpPr/>
                    <p:nvPr/>
                  </p:nvSpPr>
                  <p:spPr>
                    <a:xfrm rot="3630600">
                      <a:off x="2787480" y="295200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Freeform 45"/>
                    <p:cNvSpPr/>
                    <p:nvPr/>
                  </p:nvSpPr>
                  <p:spPr>
                    <a:xfrm rot="3630600">
                      <a:off x="2736000" y="2949120"/>
                      <a:ext cx="124560" cy="20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6"/>
                    <p:cNvSpPr/>
                    <p:nvPr/>
                  </p:nvSpPr>
                  <p:spPr>
                    <a:xfrm rot="3630600">
                      <a:off x="2819520" y="306252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Freeform 47"/>
                    <p:cNvSpPr/>
                    <p:nvPr/>
                  </p:nvSpPr>
                  <p:spPr>
                    <a:xfrm rot="4311600">
                      <a:off x="2934360" y="311724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48"/>
                    <p:cNvSpPr/>
                    <p:nvPr/>
                  </p:nvSpPr>
                  <p:spPr>
                    <a:xfrm rot="3630600">
                      <a:off x="2989800" y="294444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2" name="Group 205"/>
              <p:cNvGrpSpPr/>
              <p:nvPr/>
            </p:nvGrpSpPr>
            <p:grpSpPr>
              <a:xfrm>
                <a:off x="1315440" y="3318480"/>
                <a:ext cx="896760" cy="645480"/>
                <a:chOff x="1315440" y="3318480"/>
                <a:chExt cx="896760" cy="645480"/>
              </a:xfrm>
            </p:grpSpPr>
            <p:sp>
              <p:nvSpPr>
                <p:cNvPr id="263" name="Freeform 206"/>
                <p:cNvSpPr/>
                <p:nvPr/>
              </p:nvSpPr>
              <p:spPr>
                <a:xfrm rot="14170800">
                  <a:off x="1545840" y="355716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4" name="Group 207"/>
                <p:cNvGrpSpPr/>
                <p:nvPr/>
              </p:nvGrpSpPr>
              <p:grpSpPr>
                <a:xfrm>
                  <a:off x="1315440" y="3318480"/>
                  <a:ext cx="896760" cy="645480"/>
                  <a:chOff x="1315440" y="3318480"/>
                  <a:chExt cx="896760" cy="645480"/>
                </a:xfrm>
              </p:grpSpPr>
              <p:grpSp>
                <p:nvGrpSpPr>
                  <p:cNvPr id="265" name="Group 208"/>
                  <p:cNvGrpSpPr/>
                  <p:nvPr/>
                </p:nvGrpSpPr>
                <p:grpSpPr>
                  <a:xfrm>
                    <a:off x="1592280" y="3318480"/>
                    <a:ext cx="619920" cy="363600"/>
                    <a:chOff x="1592280" y="3318480"/>
                    <a:chExt cx="619920" cy="363600"/>
                  </a:xfrm>
                </p:grpSpPr>
                <p:sp>
                  <p:nvSpPr>
                    <p:cNvPr id="266" name="AutoShape 209"/>
                    <p:cNvSpPr/>
                    <p:nvPr/>
                  </p:nvSpPr>
                  <p:spPr>
                    <a:xfrm rot="14170800">
                      <a:off x="1604880" y="358272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Freeform 210"/>
                    <p:cNvSpPr/>
                    <p:nvPr/>
                  </p:nvSpPr>
                  <p:spPr>
                    <a:xfrm rot="14170800">
                      <a:off x="1833480" y="329364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Oval 211"/>
                    <p:cNvSpPr/>
                    <p:nvPr/>
                  </p:nvSpPr>
                  <p:spPr>
                    <a:xfrm rot="14714400">
                      <a:off x="2092320" y="328284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212"/>
                  <p:cNvGrpSpPr/>
                  <p:nvPr/>
                </p:nvGrpSpPr>
                <p:grpSpPr>
                  <a:xfrm>
                    <a:off x="1315440" y="3342240"/>
                    <a:ext cx="597960" cy="621720"/>
                    <a:chOff x="1315440" y="3342240"/>
                    <a:chExt cx="597960" cy="621720"/>
                  </a:xfrm>
                </p:grpSpPr>
                <p:sp>
                  <p:nvSpPr>
                    <p:cNvPr id="270" name="Freeform 213"/>
                    <p:cNvSpPr/>
                    <p:nvPr/>
                  </p:nvSpPr>
                  <p:spPr>
                    <a:xfrm rot="14170800">
                      <a:off x="1632960" y="363888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214"/>
                    <p:cNvSpPr/>
                    <p:nvPr/>
                  </p:nvSpPr>
                  <p:spPr>
                    <a:xfrm rot="14170800">
                      <a:off x="1629360" y="368892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Freeform 215"/>
                    <p:cNvSpPr/>
                    <p:nvPr/>
                  </p:nvSpPr>
                  <p:spPr>
                    <a:xfrm rot="14170800">
                      <a:off x="1576440" y="3740400"/>
                      <a:ext cx="28404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Freeform 216"/>
                    <p:cNvSpPr/>
                    <p:nvPr/>
                  </p:nvSpPr>
                  <p:spPr>
                    <a:xfrm rot="14170800">
                      <a:off x="1567800" y="376488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217"/>
                    <p:cNvSpPr/>
                    <p:nvPr/>
                  </p:nvSpPr>
                  <p:spPr>
                    <a:xfrm rot="14170800">
                      <a:off x="1547640" y="374076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Freeform 218"/>
                    <p:cNvSpPr/>
                    <p:nvPr/>
                  </p:nvSpPr>
                  <p:spPr>
                    <a:xfrm rot="14170800">
                      <a:off x="1535760" y="3718080"/>
                      <a:ext cx="2840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219"/>
                    <p:cNvSpPr/>
                    <p:nvPr/>
                  </p:nvSpPr>
                  <p:spPr>
                    <a:xfrm rot="14170800">
                      <a:off x="1528920" y="3683880"/>
                      <a:ext cx="21420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220"/>
                    <p:cNvSpPr/>
                    <p:nvPr/>
                  </p:nvSpPr>
                  <p:spPr>
                    <a:xfrm rot="14170800">
                      <a:off x="1521360" y="370944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Freeform 221"/>
                    <p:cNvSpPr/>
                    <p:nvPr/>
                  </p:nvSpPr>
                  <p:spPr>
                    <a:xfrm rot="14170800">
                      <a:off x="1531080" y="366228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Freeform 222"/>
                    <p:cNvSpPr/>
                    <p:nvPr/>
                  </p:nvSpPr>
                  <p:spPr>
                    <a:xfrm rot="14170800">
                      <a:off x="1488600" y="3664080"/>
                      <a:ext cx="262800" cy="24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223"/>
                    <p:cNvSpPr/>
                    <p:nvPr/>
                  </p:nvSpPr>
                  <p:spPr>
                    <a:xfrm flipH="1">
                      <a:off x="1561680" y="3587760"/>
                      <a:ext cx="99720" cy="29916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Freeform 224"/>
                    <p:cNvSpPr/>
                    <p:nvPr/>
                  </p:nvSpPr>
                  <p:spPr>
                    <a:xfrm rot="14170800">
                      <a:off x="1528920" y="3607560"/>
                      <a:ext cx="15876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Freeform 225"/>
                    <p:cNvSpPr/>
                    <p:nvPr/>
                  </p:nvSpPr>
                  <p:spPr>
                    <a:xfrm rot="14170800">
                      <a:off x="1524240" y="3597120"/>
                      <a:ext cx="123120" cy="25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226"/>
                    <p:cNvSpPr/>
                    <p:nvPr/>
                  </p:nvSpPr>
                  <p:spPr>
                    <a:xfrm rot="14170800">
                      <a:off x="1526760" y="3576960"/>
                      <a:ext cx="8244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Freeform 227"/>
                    <p:cNvSpPr/>
                    <p:nvPr/>
                  </p:nvSpPr>
                  <p:spPr>
                    <a:xfrm rot="14170800">
                      <a:off x="1531800" y="353988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Freeform 228"/>
                    <p:cNvSpPr/>
                    <p:nvPr/>
                  </p:nvSpPr>
                  <p:spPr>
                    <a:xfrm rot="14170800">
                      <a:off x="1503360" y="3533040"/>
                      <a:ext cx="4752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229"/>
                    <p:cNvSpPr/>
                    <p:nvPr/>
                  </p:nvSpPr>
                  <p:spPr>
                    <a:xfrm rot="14170800">
                      <a:off x="1514880" y="351468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Freeform 230"/>
                    <p:cNvSpPr/>
                    <p:nvPr/>
                  </p:nvSpPr>
                  <p:spPr>
                    <a:xfrm rot="14170800">
                      <a:off x="1491120" y="3507840"/>
                      <a:ext cx="79200" cy="23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Freeform 231"/>
                    <p:cNvSpPr/>
                    <p:nvPr/>
                  </p:nvSpPr>
                  <p:spPr>
                    <a:xfrm rot="14170800">
                      <a:off x="1402200" y="347796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232"/>
                    <p:cNvSpPr/>
                    <p:nvPr/>
                  </p:nvSpPr>
                  <p:spPr>
                    <a:xfrm rot="14170800">
                      <a:off x="1395360" y="346284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Freeform 233"/>
                    <p:cNvSpPr/>
                    <p:nvPr/>
                  </p:nvSpPr>
                  <p:spPr>
                    <a:xfrm rot="14170800">
                      <a:off x="1386360" y="3451680"/>
                      <a:ext cx="23832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Freeform 234"/>
                    <p:cNvSpPr/>
                    <p:nvPr/>
                  </p:nvSpPr>
                  <p:spPr>
                    <a:xfrm rot="14170800">
                      <a:off x="1374120" y="344484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235"/>
                    <p:cNvSpPr/>
                    <p:nvPr/>
                  </p:nvSpPr>
                  <p:spPr>
                    <a:xfrm rot="14170800">
                      <a:off x="1360080" y="343872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Freeform 236"/>
                    <p:cNvSpPr/>
                    <p:nvPr/>
                  </p:nvSpPr>
                  <p:spPr>
                    <a:xfrm rot="14170800">
                      <a:off x="1521720" y="350280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237"/>
                    <p:cNvSpPr/>
                    <p:nvPr/>
                  </p:nvSpPr>
                  <p:spPr>
                    <a:xfrm rot="14170800">
                      <a:off x="1575360" y="351396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238"/>
                    <p:cNvSpPr/>
                    <p:nvPr/>
                  </p:nvSpPr>
                  <p:spPr>
                    <a:xfrm rot="14170800">
                      <a:off x="1640880" y="3509280"/>
                      <a:ext cx="9072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Freeform 239"/>
                    <p:cNvSpPr/>
                    <p:nvPr/>
                  </p:nvSpPr>
                  <p:spPr>
                    <a:xfrm rot="14170800">
                      <a:off x="1671120" y="352296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240"/>
                    <p:cNvSpPr/>
                    <p:nvPr/>
                  </p:nvSpPr>
                  <p:spPr>
                    <a:xfrm rot="14170800">
                      <a:off x="1602720" y="370548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241"/>
                    <p:cNvSpPr/>
                    <p:nvPr/>
                  </p:nvSpPr>
                  <p:spPr>
                    <a:xfrm rot="14170800">
                      <a:off x="1486800" y="349776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Freeform 242"/>
                    <p:cNvSpPr/>
                    <p:nvPr/>
                  </p:nvSpPr>
                  <p:spPr>
                    <a:xfrm rot="14170800">
                      <a:off x="1587960" y="346932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243"/>
                    <p:cNvSpPr/>
                    <p:nvPr/>
                  </p:nvSpPr>
                  <p:spPr>
                    <a:xfrm rot="14170800">
                      <a:off x="1549440" y="3551040"/>
                      <a:ext cx="8640" cy="26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Freeform 244"/>
                    <p:cNvSpPr/>
                    <p:nvPr/>
                  </p:nvSpPr>
                  <p:spPr>
                    <a:xfrm rot="14170800">
                      <a:off x="1670400" y="355716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245"/>
                    <p:cNvSpPr/>
                    <p:nvPr/>
                  </p:nvSpPr>
                  <p:spPr>
                    <a:xfrm rot="14170800">
                      <a:off x="1731600" y="3499200"/>
                      <a:ext cx="124560" cy="20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246"/>
                    <p:cNvSpPr/>
                    <p:nvPr/>
                  </p:nvSpPr>
                  <p:spPr>
                    <a:xfrm rot="14170800">
                      <a:off x="1685880" y="342504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247"/>
                    <p:cNvSpPr/>
                    <p:nvPr/>
                  </p:nvSpPr>
                  <p:spPr>
                    <a:xfrm rot="14852400">
                      <a:off x="1550160" y="352728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248"/>
                    <p:cNvSpPr/>
                    <p:nvPr/>
                  </p:nvSpPr>
                  <p:spPr>
                    <a:xfrm rot="14170800">
                      <a:off x="1536120" y="354384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6" name="Group 249"/>
              <p:cNvGrpSpPr/>
              <p:nvPr/>
            </p:nvGrpSpPr>
            <p:grpSpPr>
              <a:xfrm>
                <a:off x="2346840" y="3164040"/>
                <a:ext cx="905040" cy="669960"/>
                <a:chOff x="2346840" y="3164040"/>
                <a:chExt cx="905040" cy="669960"/>
              </a:xfrm>
            </p:grpSpPr>
            <p:sp>
              <p:nvSpPr>
                <p:cNvPr id="307" name="Freeform 250"/>
                <p:cNvSpPr/>
                <p:nvPr/>
              </p:nvSpPr>
              <p:spPr>
                <a:xfrm rot="5847600">
                  <a:off x="2908440" y="356508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Group 251"/>
                <p:cNvGrpSpPr/>
                <p:nvPr/>
              </p:nvGrpSpPr>
              <p:grpSpPr>
                <a:xfrm>
                  <a:off x="2346840" y="3164040"/>
                  <a:ext cx="905040" cy="669960"/>
                  <a:chOff x="2346840" y="3164040"/>
                  <a:chExt cx="905040" cy="669960"/>
                </a:xfrm>
              </p:grpSpPr>
              <p:grpSp>
                <p:nvGrpSpPr>
                  <p:cNvPr id="309" name="Group 252"/>
                  <p:cNvGrpSpPr/>
                  <p:nvPr/>
                </p:nvGrpSpPr>
                <p:grpSpPr>
                  <a:xfrm>
                    <a:off x="2346840" y="3328560"/>
                    <a:ext cx="654120" cy="222840"/>
                    <a:chOff x="2346840" y="3328560"/>
                    <a:chExt cx="654120" cy="222840"/>
                  </a:xfrm>
                </p:grpSpPr>
                <p:sp>
                  <p:nvSpPr>
                    <p:cNvPr id="310" name="AutoShape 253"/>
                    <p:cNvSpPr/>
                    <p:nvPr/>
                  </p:nvSpPr>
                  <p:spPr>
                    <a:xfrm rot="5847600">
                      <a:off x="2910240" y="346140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Freeform 254"/>
                    <p:cNvSpPr/>
                    <p:nvPr/>
                  </p:nvSpPr>
                  <p:spPr>
                    <a:xfrm rot="5847600">
                      <a:off x="2703600" y="323172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Oval 255"/>
                    <p:cNvSpPr/>
                    <p:nvPr/>
                  </p:nvSpPr>
                  <p:spPr>
                    <a:xfrm rot="6391200">
                      <a:off x="2422800" y="328104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256"/>
                  <p:cNvGrpSpPr/>
                  <p:nvPr/>
                </p:nvGrpSpPr>
                <p:grpSpPr>
                  <a:xfrm>
                    <a:off x="2724840" y="3164040"/>
                    <a:ext cx="527040" cy="669960"/>
                    <a:chOff x="2724840" y="3164040"/>
                    <a:chExt cx="527040" cy="669960"/>
                  </a:xfrm>
                </p:grpSpPr>
                <p:sp>
                  <p:nvSpPr>
                    <p:cNvPr id="314" name="Freeform 257"/>
                    <p:cNvSpPr/>
                    <p:nvPr/>
                  </p:nvSpPr>
                  <p:spPr>
                    <a:xfrm rot="5847600">
                      <a:off x="2865600" y="338148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258"/>
                    <p:cNvSpPr/>
                    <p:nvPr/>
                  </p:nvSpPr>
                  <p:spPr>
                    <a:xfrm rot="5847600">
                      <a:off x="2798640" y="331524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Freeform 259"/>
                    <p:cNvSpPr/>
                    <p:nvPr/>
                  </p:nvSpPr>
                  <p:spPr>
                    <a:xfrm rot="5847600">
                      <a:off x="2862720" y="3307680"/>
                      <a:ext cx="28404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Freeform 260"/>
                    <p:cNvSpPr/>
                    <p:nvPr/>
                  </p:nvSpPr>
                  <p:spPr>
                    <a:xfrm rot="5847600">
                      <a:off x="2882880" y="327096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261"/>
                    <p:cNvSpPr/>
                    <p:nvPr/>
                  </p:nvSpPr>
                  <p:spPr>
                    <a:xfrm rot="5847600">
                      <a:off x="2891520" y="328176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262"/>
                    <p:cNvSpPr/>
                    <p:nvPr/>
                  </p:nvSpPr>
                  <p:spPr>
                    <a:xfrm rot="5847600">
                      <a:off x="2893320" y="3311640"/>
                      <a:ext cx="2840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Freeform 263"/>
                    <p:cNvSpPr/>
                    <p:nvPr/>
                  </p:nvSpPr>
                  <p:spPr>
                    <a:xfrm rot="5847600">
                      <a:off x="2958840" y="3305880"/>
                      <a:ext cx="21420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264"/>
                    <p:cNvSpPr/>
                    <p:nvPr/>
                  </p:nvSpPr>
                  <p:spPr>
                    <a:xfrm rot="5847600">
                      <a:off x="2943360" y="329904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265"/>
                    <p:cNvSpPr/>
                    <p:nvPr/>
                  </p:nvSpPr>
                  <p:spPr>
                    <a:xfrm rot="5847600">
                      <a:off x="2905200" y="332820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Freeform 266"/>
                    <p:cNvSpPr/>
                    <p:nvPr/>
                  </p:nvSpPr>
                  <p:spPr>
                    <a:xfrm rot="5847600">
                      <a:off x="2955240" y="3275280"/>
                      <a:ext cx="262800" cy="24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267"/>
                    <p:cNvSpPr/>
                    <p:nvPr/>
                  </p:nvSpPr>
                  <p:spPr>
                    <a:xfrm flipV="1">
                      <a:off x="2924640" y="3360960"/>
                      <a:ext cx="271800" cy="15912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268"/>
                    <p:cNvSpPr/>
                    <p:nvPr/>
                  </p:nvSpPr>
                  <p:spPr>
                    <a:xfrm rot="5847600">
                      <a:off x="2980080" y="3321720"/>
                      <a:ext cx="15876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Freeform 269"/>
                    <p:cNvSpPr/>
                    <p:nvPr/>
                  </p:nvSpPr>
                  <p:spPr>
                    <a:xfrm rot="5847600">
                      <a:off x="3010320" y="3337920"/>
                      <a:ext cx="123120" cy="25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270"/>
                    <p:cNvSpPr/>
                    <p:nvPr/>
                  </p:nvSpPr>
                  <p:spPr>
                    <a:xfrm rot="5847600">
                      <a:off x="3035520" y="3351600"/>
                      <a:ext cx="8244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271"/>
                    <p:cNvSpPr/>
                    <p:nvPr/>
                  </p:nvSpPr>
                  <p:spPr>
                    <a:xfrm rot="5847600">
                      <a:off x="3050280" y="337356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Freeform 272"/>
                    <p:cNvSpPr/>
                    <p:nvPr/>
                  </p:nvSpPr>
                  <p:spPr>
                    <a:xfrm rot="5847600">
                      <a:off x="3069000" y="3373560"/>
                      <a:ext cx="4752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Freeform 273"/>
                    <p:cNvSpPr/>
                    <p:nvPr/>
                  </p:nvSpPr>
                  <p:spPr>
                    <a:xfrm rot="5847600">
                      <a:off x="3040560" y="340776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274"/>
                    <p:cNvSpPr/>
                    <p:nvPr/>
                  </p:nvSpPr>
                  <p:spPr>
                    <a:xfrm rot="5847600">
                      <a:off x="3008880" y="3457440"/>
                      <a:ext cx="79200" cy="23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Freeform 275"/>
                    <p:cNvSpPr/>
                    <p:nvPr/>
                  </p:nvSpPr>
                  <p:spPr>
                    <a:xfrm rot="5847600">
                      <a:off x="3004560" y="346248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Freeform 276"/>
                    <p:cNvSpPr/>
                    <p:nvPr/>
                  </p:nvSpPr>
                  <p:spPr>
                    <a:xfrm rot="5847600">
                      <a:off x="2945160" y="350316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277"/>
                    <p:cNvSpPr/>
                    <p:nvPr/>
                  </p:nvSpPr>
                  <p:spPr>
                    <a:xfrm rot="5847600">
                      <a:off x="2896200" y="3555720"/>
                      <a:ext cx="23832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Freeform 278"/>
                    <p:cNvSpPr/>
                    <p:nvPr/>
                  </p:nvSpPr>
                  <p:spPr>
                    <a:xfrm rot="5847600">
                      <a:off x="2859840" y="358776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Freeform 279"/>
                    <p:cNvSpPr/>
                    <p:nvPr/>
                  </p:nvSpPr>
                  <p:spPr>
                    <a:xfrm rot="5847600">
                      <a:off x="2826360" y="358632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280"/>
                    <p:cNvSpPr/>
                    <p:nvPr/>
                  </p:nvSpPr>
                  <p:spPr>
                    <a:xfrm rot="5847600">
                      <a:off x="2810160" y="359244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Freeform 281"/>
                    <p:cNvSpPr/>
                    <p:nvPr/>
                  </p:nvSpPr>
                  <p:spPr>
                    <a:xfrm rot="5847600">
                      <a:off x="2832120" y="355752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Freeform 282"/>
                    <p:cNvSpPr/>
                    <p:nvPr/>
                  </p:nvSpPr>
                  <p:spPr>
                    <a:xfrm rot="5847600">
                      <a:off x="2830680" y="3502800"/>
                      <a:ext cx="9072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283"/>
                    <p:cNvSpPr/>
                    <p:nvPr/>
                  </p:nvSpPr>
                  <p:spPr>
                    <a:xfrm rot="5847600">
                      <a:off x="2842560" y="347364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Freeform 284"/>
                    <p:cNvSpPr/>
                    <p:nvPr/>
                  </p:nvSpPr>
                  <p:spPr>
                    <a:xfrm rot="5847600">
                      <a:off x="2853000" y="337896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Freeform 285"/>
                    <p:cNvSpPr/>
                    <p:nvPr/>
                  </p:nvSpPr>
                  <p:spPr>
                    <a:xfrm rot="5847600">
                      <a:off x="2801520" y="361548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286"/>
                    <p:cNvSpPr/>
                    <p:nvPr/>
                  </p:nvSpPr>
                  <p:spPr>
                    <a:xfrm rot="5847600">
                      <a:off x="2792160" y="352512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Freeform 287"/>
                    <p:cNvSpPr/>
                    <p:nvPr/>
                  </p:nvSpPr>
                  <p:spPr>
                    <a:xfrm rot="5847600">
                      <a:off x="3062520" y="3389760"/>
                      <a:ext cx="8640" cy="26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Freeform 288"/>
                    <p:cNvSpPr/>
                    <p:nvPr/>
                  </p:nvSpPr>
                  <p:spPr>
                    <a:xfrm rot="5847600">
                      <a:off x="2827080" y="336240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289"/>
                    <p:cNvSpPr/>
                    <p:nvPr/>
                  </p:nvSpPr>
                  <p:spPr>
                    <a:xfrm rot="5847600">
                      <a:off x="2771640" y="3319920"/>
                      <a:ext cx="124560" cy="20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Freeform 290"/>
                    <p:cNvSpPr/>
                    <p:nvPr/>
                  </p:nvSpPr>
                  <p:spPr>
                    <a:xfrm rot="5847600">
                      <a:off x="2784960" y="345096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Freeform 291"/>
                    <p:cNvSpPr/>
                    <p:nvPr/>
                  </p:nvSpPr>
                  <p:spPr>
                    <a:xfrm rot="6528600">
                      <a:off x="2885760" y="358524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Freeform 292"/>
                    <p:cNvSpPr/>
                    <p:nvPr/>
                  </p:nvSpPr>
                  <p:spPr>
                    <a:xfrm rot="5847600">
                      <a:off x="2989800" y="345384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50" name="Group 293"/>
              <p:cNvGrpSpPr/>
              <p:nvPr/>
            </p:nvGrpSpPr>
            <p:grpSpPr>
              <a:xfrm>
                <a:off x="1443240" y="3374640"/>
                <a:ext cx="747720" cy="833400"/>
                <a:chOff x="1443240" y="3374640"/>
                <a:chExt cx="747720" cy="833400"/>
              </a:xfrm>
            </p:grpSpPr>
            <p:sp>
              <p:nvSpPr>
                <p:cNvPr id="351" name="Freeform 294"/>
                <p:cNvSpPr/>
                <p:nvPr/>
              </p:nvSpPr>
              <p:spPr>
                <a:xfrm rot="12755400">
                  <a:off x="1660320" y="383220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2" name="Group 295"/>
                <p:cNvGrpSpPr/>
                <p:nvPr/>
              </p:nvGrpSpPr>
              <p:grpSpPr>
                <a:xfrm>
                  <a:off x="1443240" y="3374640"/>
                  <a:ext cx="747720" cy="833400"/>
                  <a:chOff x="1443240" y="3374640"/>
                  <a:chExt cx="747720" cy="833400"/>
                </a:xfrm>
              </p:grpSpPr>
              <p:grpSp>
                <p:nvGrpSpPr>
                  <p:cNvPr id="353" name="Group 296"/>
                  <p:cNvGrpSpPr/>
                  <p:nvPr/>
                </p:nvGrpSpPr>
                <p:grpSpPr>
                  <a:xfrm>
                    <a:off x="1722240" y="3374640"/>
                    <a:ext cx="468720" cy="554400"/>
                    <a:chOff x="1722240" y="3374640"/>
                    <a:chExt cx="468720" cy="554400"/>
                  </a:xfrm>
                </p:grpSpPr>
                <p:sp>
                  <p:nvSpPr>
                    <p:cNvPr id="354" name="AutoShape 297"/>
                    <p:cNvSpPr/>
                    <p:nvPr/>
                  </p:nvSpPr>
                  <p:spPr>
                    <a:xfrm rot="12755400">
                      <a:off x="1736280" y="383148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Freeform 298"/>
                    <p:cNvSpPr/>
                    <p:nvPr/>
                  </p:nvSpPr>
                  <p:spPr>
                    <a:xfrm rot="12755400">
                      <a:off x="1903320" y="346932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Oval 299"/>
                    <p:cNvSpPr/>
                    <p:nvPr/>
                  </p:nvSpPr>
                  <p:spPr>
                    <a:xfrm rot="13298400">
                      <a:off x="2087280" y="336528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300"/>
                  <p:cNvGrpSpPr/>
                  <p:nvPr/>
                </p:nvGrpSpPr>
                <p:grpSpPr>
                  <a:xfrm>
                    <a:off x="1443240" y="3645360"/>
                    <a:ext cx="622800" cy="562680"/>
                    <a:chOff x="1443240" y="3645360"/>
                    <a:chExt cx="622800" cy="562680"/>
                  </a:xfrm>
                </p:grpSpPr>
                <p:sp>
                  <p:nvSpPr>
                    <p:cNvPr id="358" name="Freeform 301"/>
                    <p:cNvSpPr/>
                    <p:nvPr/>
                  </p:nvSpPr>
                  <p:spPr>
                    <a:xfrm rot="12755400">
                      <a:off x="1781280" y="385848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Freeform 302"/>
                    <p:cNvSpPr/>
                    <p:nvPr/>
                  </p:nvSpPr>
                  <p:spPr>
                    <a:xfrm rot="12755400">
                      <a:off x="1791360" y="388296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Freeform 303"/>
                    <p:cNvSpPr/>
                    <p:nvPr/>
                  </p:nvSpPr>
                  <p:spPr>
                    <a:xfrm rot="12755400">
                      <a:off x="1762920" y="3948840"/>
                      <a:ext cx="28404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Freeform 304"/>
                    <p:cNvSpPr/>
                    <p:nvPr/>
                  </p:nvSpPr>
                  <p:spPr>
                    <a:xfrm rot="12755400">
                      <a:off x="1769040" y="397224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Freeform 305"/>
                    <p:cNvSpPr/>
                    <p:nvPr/>
                  </p:nvSpPr>
                  <p:spPr>
                    <a:xfrm rot="12755400">
                      <a:off x="1746000" y="395712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306"/>
                    <p:cNvSpPr/>
                    <p:nvPr/>
                  </p:nvSpPr>
                  <p:spPr>
                    <a:xfrm rot="12755400">
                      <a:off x="1725480" y="3943080"/>
                      <a:ext cx="28404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Freeform 307"/>
                    <p:cNvSpPr/>
                    <p:nvPr/>
                  </p:nvSpPr>
                  <p:spPr>
                    <a:xfrm rot="12755400">
                      <a:off x="1722240" y="3925440"/>
                      <a:ext cx="214200" cy="18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Freeform 308"/>
                    <p:cNvSpPr/>
                    <p:nvPr/>
                  </p:nvSpPr>
                  <p:spPr>
                    <a:xfrm rot="12755400">
                      <a:off x="1719360" y="394596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309"/>
                    <p:cNvSpPr/>
                    <p:nvPr/>
                  </p:nvSpPr>
                  <p:spPr>
                    <a:xfrm rot="12755400">
                      <a:off x="1709280" y="389880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Freeform 310"/>
                    <p:cNvSpPr/>
                    <p:nvPr/>
                  </p:nvSpPr>
                  <p:spPr>
                    <a:xfrm rot="12755400">
                      <a:off x="1687680" y="3911400"/>
                      <a:ext cx="262800" cy="24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311"/>
                    <p:cNvSpPr/>
                    <p:nvPr/>
                  </p:nvSpPr>
                  <p:spPr>
                    <a:xfrm>
                      <a:off x="1777680" y="3835440"/>
                      <a:ext cx="28440" cy="31392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312"/>
                    <p:cNvSpPr/>
                    <p:nvPr/>
                  </p:nvSpPr>
                  <p:spPr>
                    <a:xfrm rot="12755400">
                      <a:off x="1707840" y="3863520"/>
                      <a:ext cx="15876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Freeform 313"/>
                    <p:cNvSpPr/>
                    <p:nvPr/>
                  </p:nvSpPr>
                  <p:spPr>
                    <a:xfrm rot="12755400">
                      <a:off x="1702080" y="3863160"/>
                      <a:ext cx="123120" cy="25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Freeform 314"/>
                    <p:cNvSpPr/>
                    <p:nvPr/>
                  </p:nvSpPr>
                  <p:spPr>
                    <a:xfrm rot="12755400">
                      <a:off x="1701360" y="3850920"/>
                      <a:ext cx="82440" cy="27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315"/>
                    <p:cNvSpPr/>
                    <p:nvPr/>
                  </p:nvSpPr>
                  <p:spPr>
                    <a:xfrm rot="12755400">
                      <a:off x="1695960" y="382284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Freeform 316"/>
                    <p:cNvSpPr/>
                    <p:nvPr/>
                  </p:nvSpPr>
                  <p:spPr>
                    <a:xfrm rot="12755400">
                      <a:off x="1672200" y="3825360"/>
                      <a:ext cx="4752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Freeform 317"/>
                    <p:cNvSpPr/>
                    <p:nvPr/>
                  </p:nvSpPr>
                  <p:spPr>
                    <a:xfrm rot="12755400">
                      <a:off x="1668960" y="380628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318"/>
                    <p:cNvSpPr/>
                    <p:nvPr/>
                  </p:nvSpPr>
                  <p:spPr>
                    <a:xfrm rot="12755400">
                      <a:off x="1634400" y="3803760"/>
                      <a:ext cx="79200" cy="23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Freeform 319"/>
                    <p:cNvSpPr/>
                    <p:nvPr/>
                  </p:nvSpPr>
                  <p:spPr>
                    <a:xfrm rot="12755400">
                      <a:off x="1549080" y="379404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Freeform 320"/>
                    <p:cNvSpPr/>
                    <p:nvPr/>
                  </p:nvSpPr>
                  <p:spPr>
                    <a:xfrm rot="12755400">
                      <a:off x="1525680" y="377568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Freeform 321"/>
                    <p:cNvSpPr/>
                    <p:nvPr/>
                  </p:nvSpPr>
                  <p:spPr>
                    <a:xfrm rot="12755400">
                      <a:off x="1500120" y="3764520"/>
                      <a:ext cx="238320" cy="19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Freeform 322"/>
                    <p:cNvSpPr/>
                    <p:nvPr/>
                  </p:nvSpPr>
                  <p:spPr>
                    <a:xfrm rot="12755400">
                      <a:off x="1477800" y="375804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Freeform 323"/>
                    <p:cNvSpPr/>
                    <p:nvPr/>
                  </p:nvSpPr>
                  <p:spPr>
                    <a:xfrm rot="12755400">
                      <a:off x="1460880" y="374868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324"/>
                    <p:cNvSpPr/>
                    <p:nvPr/>
                  </p:nvSpPr>
                  <p:spPr>
                    <a:xfrm rot="12755400">
                      <a:off x="1612080" y="377352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Freeform 325"/>
                    <p:cNvSpPr/>
                    <p:nvPr/>
                  </p:nvSpPr>
                  <p:spPr>
                    <a:xfrm rot="12755400">
                      <a:off x="1670760" y="377280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Freeform 326"/>
                    <p:cNvSpPr/>
                    <p:nvPr/>
                  </p:nvSpPr>
                  <p:spPr>
                    <a:xfrm rot="12755400">
                      <a:off x="1737360" y="3750120"/>
                      <a:ext cx="907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Freeform 327"/>
                    <p:cNvSpPr/>
                    <p:nvPr/>
                  </p:nvSpPr>
                  <p:spPr>
                    <a:xfrm rot="12755400">
                      <a:off x="1773360" y="375552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Freeform 328"/>
                    <p:cNvSpPr/>
                    <p:nvPr/>
                  </p:nvSpPr>
                  <p:spPr>
                    <a:xfrm rot="12755400">
                      <a:off x="1765800" y="392040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Freeform 329"/>
                    <p:cNvSpPr/>
                    <p:nvPr/>
                  </p:nvSpPr>
                  <p:spPr>
                    <a:xfrm rot="12755400">
                      <a:off x="1575000" y="377640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Freeform 330"/>
                    <p:cNvSpPr/>
                    <p:nvPr/>
                  </p:nvSpPr>
                  <p:spPr>
                    <a:xfrm rot="12755400">
                      <a:off x="1674720" y="372060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331"/>
                    <p:cNvSpPr/>
                    <p:nvPr/>
                  </p:nvSpPr>
                  <p:spPr>
                    <a:xfrm rot="12755400">
                      <a:off x="1712520" y="3833280"/>
                      <a:ext cx="8640" cy="26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Freeform 332"/>
                    <p:cNvSpPr/>
                    <p:nvPr/>
                  </p:nvSpPr>
                  <p:spPr>
                    <a:xfrm rot="12755400">
                      <a:off x="1798200" y="376992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Freeform 333"/>
                    <p:cNvSpPr/>
                    <p:nvPr/>
                  </p:nvSpPr>
                  <p:spPr>
                    <a:xfrm rot="12755400">
                      <a:off x="1842480" y="3692520"/>
                      <a:ext cx="124560" cy="20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Freeform 334"/>
                    <p:cNvSpPr/>
                    <p:nvPr/>
                  </p:nvSpPr>
                  <p:spPr>
                    <a:xfrm rot="12755400">
                      <a:off x="1765800" y="365292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Freeform 335"/>
                    <p:cNvSpPr/>
                    <p:nvPr/>
                  </p:nvSpPr>
                  <p:spPr>
                    <a:xfrm rot="13436400">
                      <a:off x="1652040" y="380268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Freeform 336"/>
                    <p:cNvSpPr/>
                    <p:nvPr/>
                  </p:nvSpPr>
                  <p:spPr>
                    <a:xfrm rot="12755400">
                      <a:off x="1678680" y="382392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94" name="Group 381"/>
              <p:cNvGrpSpPr/>
              <p:nvPr/>
            </p:nvGrpSpPr>
            <p:grpSpPr>
              <a:xfrm>
                <a:off x="1618200" y="3407400"/>
                <a:ext cx="665280" cy="880560"/>
                <a:chOff x="1618200" y="3407400"/>
                <a:chExt cx="665280" cy="880560"/>
              </a:xfrm>
            </p:grpSpPr>
            <p:sp>
              <p:nvSpPr>
                <p:cNvPr id="395" name="Freeform 382"/>
                <p:cNvSpPr/>
                <p:nvPr/>
              </p:nvSpPr>
              <p:spPr>
                <a:xfrm rot="11859600">
                  <a:off x="1834560" y="396360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Group 383"/>
                <p:cNvGrpSpPr/>
                <p:nvPr/>
              </p:nvGrpSpPr>
              <p:grpSpPr>
                <a:xfrm>
                  <a:off x="1618200" y="3407400"/>
                  <a:ext cx="665280" cy="880560"/>
                  <a:chOff x="1618200" y="3407400"/>
                  <a:chExt cx="665280" cy="880560"/>
                </a:xfrm>
              </p:grpSpPr>
              <p:grpSp>
                <p:nvGrpSpPr>
                  <p:cNvPr id="397" name="Group 384"/>
                  <p:cNvGrpSpPr/>
                  <p:nvPr/>
                </p:nvGrpSpPr>
                <p:grpSpPr>
                  <a:xfrm>
                    <a:off x="1905480" y="3407400"/>
                    <a:ext cx="331200" cy="627840"/>
                    <a:chOff x="1905480" y="3407400"/>
                    <a:chExt cx="331200" cy="627840"/>
                  </a:xfrm>
                </p:grpSpPr>
                <p:sp>
                  <p:nvSpPr>
                    <p:cNvPr id="398" name="AutoShape 385"/>
                    <p:cNvSpPr/>
                    <p:nvPr/>
                  </p:nvSpPr>
                  <p:spPr>
                    <a:xfrm rot="11859600">
                      <a:off x="1915200" y="394380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386"/>
                    <p:cNvSpPr/>
                    <p:nvPr/>
                  </p:nvSpPr>
                  <p:spPr>
                    <a:xfrm rot="11859600">
                      <a:off x="2029680" y="355032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Oval 387"/>
                    <p:cNvSpPr/>
                    <p:nvPr/>
                  </p:nvSpPr>
                  <p:spPr>
                    <a:xfrm rot="12403800">
                      <a:off x="2150280" y="340740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Group 388"/>
                  <p:cNvGrpSpPr/>
                  <p:nvPr/>
                </p:nvGrpSpPr>
                <p:grpSpPr>
                  <a:xfrm>
                    <a:off x="1618200" y="3756240"/>
                    <a:ext cx="665280" cy="531720"/>
                    <a:chOff x="1618200" y="3756240"/>
                    <a:chExt cx="665280" cy="531720"/>
                  </a:xfrm>
                </p:grpSpPr>
                <p:sp>
                  <p:nvSpPr>
                    <p:cNvPr id="402" name="Freeform 389"/>
                    <p:cNvSpPr/>
                    <p:nvPr/>
                  </p:nvSpPr>
                  <p:spPr>
                    <a:xfrm rot="11859600">
                      <a:off x="1963800" y="394992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Freeform 390"/>
                    <p:cNvSpPr/>
                    <p:nvPr/>
                  </p:nvSpPr>
                  <p:spPr>
                    <a:xfrm rot="11859600">
                      <a:off x="1977120" y="395604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Freeform 391"/>
                    <p:cNvSpPr/>
                    <p:nvPr/>
                  </p:nvSpPr>
                  <p:spPr>
                    <a:xfrm rot="11859600">
                      <a:off x="1966680" y="4025880"/>
                      <a:ext cx="28404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392"/>
                    <p:cNvSpPr/>
                    <p:nvPr/>
                  </p:nvSpPr>
                  <p:spPr>
                    <a:xfrm rot="11859600">
                      <a:off x="1981080" y="404496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Freeform 393"/>
                    <p:cNvSpPr/>
                    <p:nvPr/>
                  </p:nvSpPr>
                  <p:spPr>
                    <a:xfrm rot="11859600">
                      <a:off x="1958040" y="403596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Freeform 394"/>
                    <p:cNvSpPr/>
                    <p:nvPr/>
                  </p:nvSpPr>
                  <p:spPr>
                    <a:xfrm rot="11859600">
                      <a:off x="1935000" y="4028760"/>
                      <a:ext cx="28404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Freeform 395"/>
                    <p:cNvSpPr/>
                    <p:nvPr/>
                  </p:nvSpPr>
                  <p:spPr>
                    <a:xfrm rot="11859600">
                      <a:off x="1937160" y="4020480"/>
                      <a:ext cx="214200" cy="18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Freeform 396"/>
                    <p:cNvSpPr/>
                    <p:nvPr/>
                  </p:nvSpPr>
                  <p:spPr>
                    <a:xfrm rot="11859600">
                      <a:off x="1936080" y="403740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Freeform 397"/>
                    <p:cNvSpPr/>
                    <p:nvPr/>
                  </p:nvSpPr>
                  <p:spPr>
                    <a:xfrm rot="11859600">
                      <a:off x="1914480" y="399456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Freeform 398"/>
                    <p:cNvSpPr/>
                    <p:nvPr/>
                  </p:nvSpPr>
                  <p:spPr>
                    <a:xfrm rot="11859600">
                      <a:off x="1907640" y="4008600"/>
                      <a:ext cx="262800" cy="24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399"/>
                    <p:cNvSpPr/>
                    <p:nvPr/>
                  </p:nvSpPr>
                  <p:spPr>
                    <a:xfrm>
                      <a:off x="1947600" y="3949920"/>
                      <a:ext cx="108360" cy="29628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Freeform 400"/>
                    <p:cNvSpPr/>
                    <p:nvPr/>
                  </p:nvSpPr>
                  <p:spPr>
                    <a:xfrm rot="11859600">
                      <a:off x="1916640" y="3970800"/>
                      <a:ext cx="15876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Freeform 401"/>
                    <p:cNvSpPr/>
                    <p:nvPr/>
                  </p:nvSpPr>
                  <p:spPr>
                    <a:xfrm rot="11859600">
                      <a:off x="1912680" y="3975840"/>
                      <a:ext cx="123120" cy="25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Freeform 402"/>
                    <p:cNvSpPr/>
                    <p:nvPr/>
                  </p:nvSpPr>
                  <p:spPr>
                    <a:xfrm rot="11859600">
                      <a:off x="1911240" y="3969720"/>
                      <a:ext cx="82440" cy="27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Freeform 403"/>
                    <p:cNvSpPr/>
                    <p:nvPr/>
                  </p:nvSpPr>
                  <p:spPr>
                    <a:xfrm rot="11859600">
                      <a:off x="1902240" y="394884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404"/>
                    <p:cNvSpPr/>
                    <p:nvPr/>
                  </p:nvSpPr>
                  <p:spPr>
                    <a:xfrm rot="11859600">
                      <a:off x="1882800" y="3956040"/>
                      <a:ext cx="4752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Freeform 405"/>
                    <p:cNvSpPr/>
                    <p:nvPr/>
                  </p:nvSpPr>
                  <p:spPr>
                    <a:xfrm rot="11859600">
                      <a:off x="1870920" y="393912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Freeform 406"/>
                    <p:cNvSpPr/>
                    <p:nvPr/>
                  </p:nvSpPr>
                  <p:spPr>
                    <a:xfrm rot="11859600">
                      <a:off x="1830240" y="3942360"/>
                      <a:ext cx="79200" cy="23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407"/>
                    <p:cNvSpPr/>
                    <p:nvPr/>
                  </p:nvSpPr>
                  <p:spPr>
                    <a:xfrm rot="11859600">
                      <a:off x="1751040" y="394380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Freeform 408"/>
                    <p:cNvSpPr/>
                    <p:nvPr/>
                  </p:nvSpPr>
                  <p:spPr>
                    <a:xfrm rot="11859600">
                      <a:off x="1717200" y="392688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Freeform 409"/>
                    <p:cNvSpPr/>
                    <p:nvPr/>
                  </p:nvSpPr>
                  <p:spPr>
                    <a:xfrm rot="11859600">
                      <a:off x="1681560" y="3919320"/>
                      <a:ext cx="238320" cy="19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410"/>
                    <p:cNvSpPr/>
                    <p:nvPr/>
                  </p:nvSpPr>
                  <p:spPr>
                    <a:xfrm rot="11859600">
                      <a:off x="1653480" y="391500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Freeform 411"/>
                    <p:cNvSpPr/>
                    <p:nvPr/>
                  </p:nvSpPr>
                  <p:spPr>
                    <a:xfrm rot="11859600">
                      <a:off x="1634400" y="390420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Freeform 412"/>
                    <p:cNvSpPr/>
                    <p:nvPr/>
                  </p:nvSpPr>
                  <p:spPr>
                    <a:xfrm rot="11859600">
                      <a:off x="1771200" y="390744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413"/>
                    <p:cNvSpPr/>
                    <p:nvPr/>
                  </p:nvSpPr>
                  <p:spPr>
                    <a:xfrm rot="11859600">
                      <a:off x="1830240" y="389880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Freeform 414"/>
                    <p:cNvSpPr/>
                    <p:nvPr/>
                  </p:nvSpPr>
                  <p:spPr>
                    <a:xfrm rot="11859600">
                      <a:off x="1893960" y="3865320"/>
                      <a:ext cx="907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Freeform 415"/>
                    <p:cNvSpPr/>
                    <p:nvPr/>
                  </p:nvSpPr>
                  <p:spPr>
                    <a:xfrm rot="11859600">
                      <a:off x="1931760" y="386424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416"/>
                    <p:cNvSpPr/>
                    <p:nvPr/>
                  </p:nvSpPr>
                  <p:spPr>
                    <a:xfrm rot="11859600">
                      <a:off x="1956240" y="400536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Freeform 417"/>
                    <p:cNvSpPr/>
                    <p:nvPr/>
                  </p:nvSpPr>
                  <p:spPr>
                    <a:xfrm rot="11859600">
                      <a:off x="1734840" y="391572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Freeform 418"/>
                    <p:cNvSpPr/>
                    <p:nvPr/>
                  </p:nvSpPr>
                  <p:spPr>
                    <a:xfrm rot="11859600">
                      <a:off x="1827360" y="384372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419"/>
                    <p:cNvSpPr/>
                    <p:nvPr/>
                  </p:nvSpPr>
                  <p:spPr>
                    <a:xfrm rot="11859600">
                      <a:off x="1917360" y="3959280"/>
                      <a:ext cx="8640" cy="26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Freeform 420"/>
                    <p:cNvSpPr/>
                    <p:nvPr/>
                  </p:nvSpPr>
                  <p:spPr>
                    <a:xfrm rot="11859600">
                      <a:off x="1967400" y="386172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Freeform 421"/>
                    <p:cNvSpPr/>
                    <p:nvPr/>
                  </p:nvSpPr>
                  <p:spPr>
                    <a:xfrm rot="11859600">
                      <a:off x="1997640" y="3775680"/>
                      <a:ext cx="124560" cy="20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422"/>
                    <p:cNvSpPr/>
                    <p:nvPr/>
                  </p:nvSpPr>
                  <p:spPr>
                    <a:xfrm rot="11859600">
                      <a:off x="1909800" y="376380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Freeform 423"/>
                    <p:cNvSpPr/>
                    <p:nvPr/>
                  </p:nvSpPr>
                  <p:spPr>
                    <a:xfrm rot="12540600">
                      <a:off x="1818720" y="393732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Freeform 424"/>
                    <p:cNvSpPr/>
                    <p:nvPr/>
                  </p:nvSpPr>
                  <p:spPr>
                    <a:xfrm rot="11859600">
                      <a:off x="1871280" y="395280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8" name="Group 513"/>
              <p:cNvGrpSpPr/>
              <p:nvPr/>
            </p:nvGrpSpPr>
            <p:grpSpPr>
              <a:xfrm>
                <a:off x="1324440" y="2599920"/>
                <a:ext cx="851760" cy="716040"/>
                <a:chOff x="1324440" y="2599920"/>
                <a:chExt cx="851760" cy="716040"/>
              </a:xfrm>
            </p:grpSpPr>
            <p:sp>
              <p:nvSpPr>
                <p:cNvPr id="439" name="Freeform 514"/>
                <p:cNvSpPr/>
                <p:nvPr/>
              </p:nvSpPr>
              <p:spPr>
                <a:xfrm rot="17901600">
                  <a:off x="1625400" y="285840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Group 515"/>
                <p:cNvGrpSpPr/>
                <p:nvPr/>
              </p:nvGrpSpPr>
              <p:grpSpPr>
                <a:xfrm>
                  <a:off x="1324440" y="2599920"/>
                  <a:ext cx="851760" cy="716040"/>
                  <a:chOff x="1324440" y="2599920"/>
                  <a:chExt cx="851760" cy="716040"/>
                </a:xfrm>
              </p:grpSpPr>
              <p:grpSp>
                <p:nvGrpSpPr>
                  <p:cNvPr id="441" name="Group 516"/>
                  <p:cNvGrpSpPr/>
                  <p:nvPr/>
                </p:nvGrpSpPr>
                <p:grpSpPr>
                  <a:xfrm>
                    <a:off x="1597680" y="2882880"/>
                    <a:ext cx="578520" cy="433080"/>
                    <a:chOff x="1597680" y="2882880"/>
                    <a:chExt cx="578520" cy="433080"/>
                  </a:xfrm>
                </p:grpSpPr>
                <p:sp>
                  <p:nvSpPr>
                    <p:cNvPr id="442" name="AutoShape 517"/>
                    <p:cNvSpPr/>
                    <p:nvPr/>
                  </p:nvSpPr>
                  <p:spPr>
                    <a:xfrm rot="17901600">
                      <a:off x="1608480" y="290196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Freeform 518"/>
                    <p:cNvSpPr/>
                    <p:nvPr/>
                  </p:nvSpPr>
                  <p:spPr>
                    <a:xfrm rot="17901600">
                      <a:off x="1825920" y="285552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Oval 519"/>
                    <p:cNvSpPr/>
                    <p:nvPr/>
                  </p:nvSpPr>
                  <p:spPr>
                    <a:xfrm rot="18445800">
                      <a:off x="2063160" y="314316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520"/>
                  <p:cNvGrpSpPr/>
                  <p:nvPr/>
                </p:nvGrpSpPr>
                <p:grpSpPr>
                  <a:xfrm>
                    <a:off x="1324440" y="2599920"/>
                    <a:ext cx="557640" cy="639360"/>
                    <a:chOff x="1324440" y="2599920"/>
                    <a:chExt cx="557640" cy="639360"/>
                  </a:xfrm>
                </p:grpSpPr>
                <p:sp>
                  <p:nvSpPr>
                    <p:cNvPr id="446" name="Freeform 521"/>
                    <p:cNvSpPr/>
                    <p:nvPr/>
                  </p:nvSpPr>
                  <p:spPr>
                    <a:xfrm rot="17901600">
                      <a:off x="1555560" y="298404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522"/>
                    <p:cNvSpPr/>
                    <p:nvPr/>
                  </p:nvSpPr>
                  <p:spPr>
                    <a:xfrm rot="17901600">
                      <a:off x="1482480" y="305676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Freeform 523"/>
                    <p:cNvSpPr/>
                    <p:nvPr/>
                  </p:nvSpPr>
                  <p:spPr>
                    <a:xfrm rot="17901600">
                      <a:off x="1409040" y="3039120"/>
                      <a:ext cx="28404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Freeform 524"/>
                    <p:cNvSpPr/>
                    <p:nvPr/>
                  </p:nvSpPr>
                  <p:spPr>
                    <a:xfrm rot="17901600">
                      <a:off x="1370160" y="304200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525"/>
                    <p:cNvSpPr/>
                    <p:nvPr/>
                  </p:nvSpPr>
                  <p:spPr>
                    <a:xfrm rot="17901600">
                      <a:off x="1371600" y="300528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Freeform 526"/>
                    <p:cNvSpPr/>
                    <p:nvPr/>
                  </p:nvSpPr>
                  <p:spPr>
                    <a:xfrm rot="17901600">
                      <a:off x="1389960" y="2980800"/>
                      <a:ext cx="2840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Freeform 527"/>
                    <p:cNvSpPr/>
                    <p:nvPr/>
                  </p:nvSpPr>
                  <p:spPr>
                    <a:xfrm rot="17901600">
                      <a:off x="1405800" y="2909880"/>
                      <a:ext cx="21420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528"/>
                    <p:cNvSpPr/>
                    <p:nvPr/>
                  </p:nvSpPr>
                  <p:spPr>
                    <a:xfrm rot="17901600">
                      <a:off x="1379520" y="293652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Freeform 529"/>
                    <p:cNvSpPr/>
                    <p:nvPr/>
                  </p:nvSpPr>
                  <p:spPr>
                    <a:xfrm rot="17901600">
                      <a:off x="1425960" y="292284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Freeform 530"/>
                    <p:cNvSpPr/>
                    <p:nvPr/>
                  </p:nvSpPr>
                  <p:spPr>
                    <a:xfrm rot="17901600">
                      <a:off x="1362960" y="2869200"/>
                      <a:ext cx="262800" cy="24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Line 531"/>
                    <p:cNvSpPr/>
                    <p:nvPr/>
                  </p:nvSpPr>
                  <p:spPr>
                    <a:xfrm flipH="1">
                      <a:off x="1378800" y="2935440"/>
                      <a:ext cx="311040" cy="5148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Freeform 532"/>
                    <p:cNvSpPr/>
                    <p:nvPr/>
                  </p:nvSpPr>
                  <p:spPr>
                    <a:xfrm rot="17901600">
                      <a:off x="1457640" y="2831400"/>
                      <a:ext cx="15876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Freeform 533"/>
                    <p:cNvSpPr/>
                    <p:nvPr/>
                  </p:nvSpPr>
                  <p:spPr>
                    <a:xfrm rot="17901600">
                      <a:off x="1470960" y="2804400"/>
                      <a:ext cx="123120" cy="25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534"/>
                    <p:cNvSpPr/>
                    <p:nvPr/>
                  </p:nvSpPr>
                  <p:spPr>
                    <a:xfrm rot="17901600">
                      <a:off x="1494360" y="2775600"/>
                      <a:ext cx="8244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Freeform 535"/>
                    <p:cNvSpPr/>
                    <p:nvPr/>
                  </p:nvSpPr>
                  <p:spPr>
                    <a:xfrm rot="17901600">
                      <a:off x="1532160" y="273924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Freeform 536"/>
                    <p:cNvSpPr/>
                    <p:nvPr/>
                  </p:nvSpPr>
                  <p:spPr>
                    <a:xfrm rot="17901600">
                      <a:off x="1512360" y="2707560"/>
                      <a:ext cx="4752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Freeform 537"/>
                    <p:cNvSpPr/>
                    <p:nvPr/>
                  </p:nvSpPr>
                  <p:spPr>
                    <a:xfrm rot="17901600">
                      <a:off x="1548000" y="271620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Freeform 538"/>
                    <p:cNvSpPr/>
                    <p:nvPr/>
                  </p:nvSpPr>
                  <p:spPr>
                    <a:xfrm rot="17901600">
                      <a:off x="1554480" y="2719080"/>
                      <a:ext cx="79200" cy="23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Freeform 539"/>
                    <p:cNvSpPr/>
                    <p:nvPr/>
                  </p:nvSpPr>
                  <p:spPr>
                    <a:xfrm rot="17901600">
                      <a:off x="1492920" y="264636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Freeform 540"/>
                    <p:cNvSpPr/>
                    <p:nvPr/>
                  </p:nvSpPr>
                  <p:spPr>
                    <a:xfrm rot="17901600">
                      <a:off x="1511280" y="266544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Freeform 541"/>
                    <p:cNvSpPr/>
                    <p:nvPr/>
                  </p:nvSpPr>
                  <p:spPr>
                    <a:xfrm rot="17901600">
                      <a:off x="1532520" y="2682720"/>
                      <a:ext cx="23832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Freeform 542"/>
                    <p:cNvSpPr/>
                    <p:nvPr/>
                  </p:nvSpPr>
                  <p:spPr>
                    <a:xfrm rot="17901600">
                      <a:off x="1539000" y="269280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Freeform 543"/>
                    <p:cNvSpPr/>
                    <p:nvPr/>
                  </p:nvSpPr>
                  <p:spPr>
                    <a:xfrm rot="17901600">
                      <a:off x="1525680" y="269784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Freeform 544"/>
                    <p:cNvSpPr/>
                    <p:nvPr/>
                  </p:nvSpPr>
                  <p:spPr>
                    <a:xfrm rot="17901600">
                      <a:off x="1638000" y="285264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Freeform 545"/>
                    <p:cNvSpPr/>
                    <p:nvPr/>
                  </p:nvSpPr>
                  <p:spPr>
                    <a:xfrm rot="17901600">
                      <a:off x="1663560" y="287640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Freeform 546"/>
                    <p:cNvSpPr/>
                    <p:nvPr/>
                  </p:nvSpPr>
                  <p:spPr>
                    <a:xfrm rot="17901600">
                      <a:off x="1695240" y="2902680"/>
                      <a:ext cx="9072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Freeform 547"/>
                    <p:cNvSpPr/>
                    <p:nvPr/>
                  </p:nvSpPr>
                  <p:spPr>
                    <a:xfrm rot="17901600">
                      <a:off x="1700640" y="292212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548"/>
                    <p:cNvSpPr/>
                    <p:nvPr/>
                  </p:nvSpPr>
                  <p:spPr>
                    <a:xfrm rot="17901600">
                      <a:off x="1489320" y="303444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Freeform 549"/>
                    <p:cNvSpPr/>
                    <p:nvPr/>
                  </p:nvSpPr>
                  <p:spPr>
                    <a:xfrm rot="17901600">
                      <a:off x="1621080" y="283608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Freeform 550"/>
                    <p:cNvSpPr/>
                    <p:nvPr/>
                  </p:nvSpPr>
                  <p:spPr>
                    <a:xfrm rot="17901600">
                      <a:off x="1677600" y="286128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551"/>
                    <p:cNvSpPr/>
                    <p:nvPr/>
                  </p:nvSpPr>
                  <p:spPr>
                    <a:xfrm rot="17901600">
                      <a:off x="1552320" y="2753640"/>
                      <a:ext cx="8640" cy="26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Freeform 552"/>
                    <p:cNvSpPr/>
                    <p:nvPr/>
                  </p:nvSpPr>
                  <p:spPr>
                    <a:xfrm rot="17901600">
                      <a:off x="1619280" y="295020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Freeform 553"/>
                    <p:cNvSpPr/>
                    <p:nvPr/>
                  </p:nvSpPr>
                  <p:spPr>
                    <a:xfrm rot="17901600">
                      <a:off x="1676880" y="2956680"/>
                      <a:ext cx="124560" cy="20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554"/>
                    <p:cNvSpPr/>
                    <p:nvPr/>
                  </p:nvSpPr>
                  <p:spPr>
                    <a:xfrm rot="17901600">
                      <a:off x="1748520" y="287100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Freeform 555"/>
                    <p:cNvSpPr/>
                    <p:nvPr/>
                  </p:nvSpPr>
                  <p:spPr>
                    <a:xfrm rot="18583200">
                      <a:off x="1653840" y="284796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Freeform 556"/>
                    <p:cNvSpPr/>
                    <p:nvPr/>
                  </p:nvSpPr>
                  <p:spPr>
                    <a:xfrm rot="17901600">
                      <a:off x="1571400" y="278568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82" name="Group 557"/>
              <p:cNvGrpSpPr/>
              <p:nvPr/>
            </p:nvGrpSpPr>
            <p:grpSpPr>
              <a:xfrm>
                <a:off x="1928160" y="3426480"/>
                <a:ext cx="669600" cy="930960"/>
                <a:chOff x="1928160" y="3426480"/>
                <a:chExt cx="669600" cy="930960"/>
              </a:xfrm>
            </p:grpSpPr>
            <p:sp>
              <p:nvSpPr>
                <p:cNvPr id="483" name="Freeform 558"/>
                <p:cNvSpPr/>
                <p:nvPr/>
              </p:nvSpPr>
              <p:spPr>
                <a:xfrm rot="10320000">
                  <a:off x="2124720" y="406044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4" name="Group 559"/>
                <p:cNvGrpSpPr/>
                <p:nvPr/>
              </p:nvGrpSpPr>
              <p:grpSpPr>
                <a:xfrm>
                  <a:off x="1928160" y="3426480"/>
                  <a:ext cx="669600" cy="930960"/>
                  <a:chOff x="1928160" y="3426480"/>
                  <a:chExt cx="669600" cy="930960"/>
                </a:xfrm>
              </p:grpSpPr>
              <p:grpSp>
                <p:nvGrpSpPr>
                  <p:cNvPr id="485" name="Group 560"/>
                  <p:cNvGrpSpPr/>
                  <p:nvPr/>
                </p:nvGrpSpPr>
                <p:grpSpPr>
                  <a:xfrm>
                    <a:off x="2184120" y="3426480"/>
                    <a:ext cx="113400" cy="666360"/>
                    <a:chOff x="2184120" y="3426480"/>
                    <a:chExt cx="113400" cy="666360"/>
                  </a:xfrm>
                </p:grpSpPr>
                <p:sp>
                  <p:nvSpPr>
                    <p:cNvPr id="486" name="AutoShape 561"/>
                    <p:cNvSpPr/>
                    <p:nvPr/>
                  </p:nvSpPr>
                  <p:spPr>
                    <a:xfrm rot="10320000">
                      <a:off x="2201400" y="400752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Freeform 562"/>
                    <p:cNvSpPr/>
                    <p:nvPr/>
                  </p:nvSpPr>
                  <p:spPr>
                    <a:xfrm rot="10320000">
                      <a:off x="2213640" y="359568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Oval 563"/>
                    <p:cNvSpPr/>
                    <p:nvPr/>
                  </p:nvSpPr>
                  <p:spPr>
                    <a:xfrm rot="10863600">
                      <a:off x="2207520" y="342648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Group 564"/>
                  <p:cNvGrpSpPr/>
                  <p:nvPr/>
                </p:nvGrpSpPr>
                <p:grpSpPr>
                  <a:xfrm>
                    <a:off x="1928160" y="3799440"/>
                    <a:ext cx="669600" cy="558000"/>
                    <a:chOff x="1928160" y="3799440"/>
                    <a:chExt cx="669600" cy="558000"/>
                  </a:xfrm>
                </p:grpSpPr>
                <p:sp>
                  <p:nvSpPr>
                    <p:cNvPr id="490" name="Freeform 565"/>
                    <p:cNvSpPr/>
                    <p:nvPr/>
                  </p:nvSpPr>
                  <p:spPr>
                    <a:xfrm rot="10320000">
                      <a:off x="2243880" y="397728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566"/>
                    <p:cNvSpPr/>
                    <p:nvPr/>
                  </p:nvSpPr>
                  <p:spPr>
                    <a:xfrm rot="10320000">
                      <a:off x="2251440" y="395280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Freeform 567"/>
                    <p:cNvSpPr/>
                    <p:nvPr/>
                  </p:nvSpPr>
                  <p:spPr>
                    <a:xfrm rot="10320000">
                      <a:off x="2271600" y="4018320"/>
                      <a:ext cx="28404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Freeform 568"/>
                    <p:cNvSpPr/>
                    <p:nvPr/>
                  </p:nvSpPr>
                  <p:spPr>
                    <a:xfrm rot="10320000">
                      <a:off x="2297160" y="402516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569"/>
                    <p:cNvSpPr/>
                    <p:nvPr/>
                  </p:nvSpPr>
                  <p:spPr>
                    <a:xfrm rot="10320000">
                      <a:off x="2278080" y="402660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Freeform 570"/>
                    <p:cNvSpPr/>
                    <p:nvPr/>
                  </p:nvSpPr>
                  <p:spPr>
                    <a:xfrm rot="10320000">
                      <a:off x="2253960" y="4032360"/>
                      <a:ext cx="2840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Freeform 571"/>
                    <p:cNvSpPr/>
                    <p:nvPr/>
                  </p:nvSpPr>
                  <p:spPr>
                    <a:xfrm rot="10320000">
                      <a:off x="2270160" y="4035600"/>
                      <a:ext cx="21420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Freeform 572"/>
                    <p:cNvSpPr/>
                    <p:nvPr/>
                  </p:nvSpPr>
                  <p:spPr>
                    <a:xfrm rot="10320000">
                      <a:off x="2270160" y="404388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Freeform 573"/>
                    <p:cNvSpPr/>
                    <p:nvPr/>
                  </p:nvSpPr>
                  <p:spPr>
                    <a:xfrm rot="10320000">
                      <a:off x="2232000" y="401472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Freeform 574"/>
                    <p:cNvSpPr/>
                    <p:nvPr/>
                  </p:nvSpPr>
                  <p:spPr>
                    <a:xfrm rot="10320000">
                      <a:off x="2250360" y="4024080"/>
                      <a:ext cx="262800" cy="24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Line 575"/>
                    <p:cNvSpPr/>
                    <p:nvPr/>
                  </p:nvSpPr>
                  <p:spPr>
                    <a:xfrm>
                      <a:off x="2220840" y="4022640"/>
                      <a:ext cx="225720" cy="21960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Freeform 576"/>
                    <p:cNvSpPr/>
                    <p:nvPr/>
                  </p:nvSpPr>
                  <p:spPr>
                    <a:xfrm rot="10320000">
                      <a:off x="2248200" y="4008600"/>
                      <a:ext cx="15876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Freeform 577"/>
                    <p:cNvSpPr/>
                    <p:nvPr/>
                  </p:nvSpPr>
                  <p:spPr>
                    <a:xfrm rot="10320000">
                      <a:off x="2250360" y="4022280"/>
                      <a:ext cx="123120" cy="25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Freeform 578"/>
                    <p:cNvSpPr/>
                    <p:nvPr/>
                  </p:nvSpPr>
                  <p:spPr>
                    <a:xfrm rot="10320000">
                      <a:off x="2251440" y="4024800"/>
                      <a:ext cx="8244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Freeform 579"/>
                    <p:cNvSpPr/>
                    <p:nvPr/>
                  </p:nvSpPr>
                  <p:spPr>
                    <a:xfrm rot="10320000">
                      <a:off x="2240280" y="401760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Freeform 580"/>
                    <p:cNvSpPr/>
                    <p:nvPr/>
                  </p:nvSpPr>
                  <p:spPr>
                    <a:xfrm rot="10320000">
                      <a:off x="2230920" y="4030200"/>
                      <a:ext cx="4752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Freeform 581"/>
                    <p:cNvSpPr/>
                    <p:nvPr/>
                  </p:nvSpPr>
                  <p:spPr>
                    <a:xfrm rot="10320000">
                      <a:off x="2206080" y="402228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Freeform 582"/>
                    <p:cNvSpPr/>
                    <p:nvPr/>
                  </p:nvSpPr>
                  <p:spPr>
                    <a:xfrm rot="10320000">
                      <a:off x="2159640" y="4037760"/>
                      <a:ext cx="79200" cy="23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Freeform 583"/>
                    <p:cNvSpPr/>
                    <p:nvPr/>
                  </p:nvSpPr>
                  <p:spPr>
                    <a:xfrm rot="10320000">
                      <a:off x="2097000" y="405288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584"/>
                    <p:cNvSpPr/>
                    <p:nvPr/>
                  </p:nvSpPr>
                  <p:spPr>
                    <a:xfrm rot="10320000">
                      <a:off x="2046960" y="404460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Freeform 585"/>
                    <p:cNvSpPr/>
                    <p:nvPr/>
                  </p:nvSpPr>
                  <p:spPr>
                    <a:xfrm rot="10320000">
                      <a:off x="1998000" y="4048920"/>
                      <a:ext cx="23832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Freeform 586"/>
                    <p:cNvSpPr/>
                    <p:nvPr/>
                  </p:nvSpPr>
                  <p:spPr>
                    <a:xfrm rot="10320000">
                      <a:off x="1961640" y="405108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Freeform 587"/>
                    <p:cNvSpPr/>
                    <p:nvPr/>
                  </p:nvSpPr>
                  <p:spPr>
                    <a:xfrm rot="10320000">
                      <a:off x="1937520" y="404064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Freeform 588"/>
                    <p:cNvSpPr/>
                    <p:nvPr/>
                  </p:nvSpPr>
                  <p:spPr>
                    <a:xfrm rot="10320000">
                      <a:off x="2038320" y="401724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Freeform 589"/>
                    <p:cNvSpPr/>
                    <p:nvPr/>
                  </p:nvSpPr>
                  <p:spPr>
                    <a:xfrm rot="10320000">
                      <a:off x="2093760" y="399636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Freeform 590"/>
                    <p:cNvSpPr/>
                    <p:nvPr/>
                  </p:nvSpPr>
                  <p:spPr>
                    <a:xfrm rot="10320000">
                      <a:off x="2146320" y="3946320"/>
                      <a:ext cx="9072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Freeform 591"/>
                    <p:cNvSpPr/>
                    <p:nvPr/>
                  </p:nvSpPr>
                  <p:spPr>
                    <a:xfrm rot="10320000">
                      <a:off x="2182680" y="393444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Freeform 592"/>
                    <p:cNvSpPr/>
                    <p:nvPr/>
                  </p:nvSpPr>
                  <p:spPr>
                    <a:xfrm rot="10320000">
                      <a:off x="2245320" y="401904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Freeform 593"/>
                    <p:cNvSpPr/>
                    <p:nvPr/>
                  </p:nvSpPr>
                  <p:spPr>
                    <a:xfrm rot="10320000">
                      <a:off x="2005920" y="403416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Freeform 594"/>
                    <p:cNvSpPr/>
                    <p:nvPr/>
                  </p:nvSpPr>
                  <p:spPr>
                    <a:xfrm rot="10320000">
                      <a:off x="2078280" y="393948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Freeform 595"/>
                    <p:cNvSpPr/>
                    <p:nvPr/>
                  </p:nvSpPr>
                  <p:spPr>
                    <a:xfrm rot="10320000">
                      <a:off x="2253600" y="4029840"/>
                      <a:ext cx="8640" cy="26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596"/>
                    <p:cNvSpPr/>
                    <p:nvPr/>
                  </p:nvSpPr>
                  <p:spPr>
                    <a:xfrm rot="10320000">
                      <a:off x="2225520" y="389808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Freeform 597"/>
                    <p:cNvSpPr/>
                    <p:nvPr/>
                  </p:nvSpPr>
                  <p:spPr>
                    <a:xfrm rot="10320000">
                      <a:off x="2228760" y="3806640"/>
                      <a:ext cx="124560" cy="20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Freeform 598"/>
                    <p:cNvSpPr/>
                    <p:nvPr/>
                  </p:nvSpPr>
                  <p:spPr>
                    <a:xfrm rot="10320000">
                      <a:off x="2139120" y="384552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Freeform 599"/>
                    <p:cNvSpPr/>
                    <p:nvPr/>
                  </p:nvSpPr>
                  <p:spPr>
                    <a:xfrm rot="11001600">
                      <a:off x="2099520" y="404352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Freeform 600"/>
                    <p:cNvSpPr/>
                    <p:nvPr/>
                  </p:nvSpPr>
                  <p:spPr>
                    <a:xfrm rot="10320000">
                      <a:off x="2189160" y="403416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26" name="Group 689"/>
              <p:cNvGrpSpPr/>
              <p:nvPr/>
            </p:nvGrpSpPr>
            <p:grpSpPr>
              <a:xfrm>
                <a:off x="2263680" y="3411720"/>
                <a:ext cx="699840" cy="866880"/>
                <a:chOff x="2263680" y="3411720"/>
                <a:chExt cx="699840" cy="866880"/>
              </a:xfrm>
            </p:grpSpPr>
            <p:sp>
              <p:nvSpPr>
                <p:cNvPr id="527" name="Freeform 690"/>
                <p:cNvSpPr/>
                <p:nvPr/>
              </p:nvSpPr>
              <p:spPr>
                <a:xfrm rot="8447400">
                  <a:off x="2518200" y="399312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8" name="Group 691"/>
                <p:cNvGrpSpPr/>
                <p:nvPr/>
              </p:nvGrpSpPr>
              <p:grpSpPr>
                <a:xfrm>
                  <a:off x="2263680" y="3411720"/>
                  <a:ext cx="699840" cy="866880"/>
                  <a:chOff x="2263680" y="3411720"/>
                  <a:chExt cx="699840" cy="866880"/>
                </a:xfrm>
              </p:grpSpPr>
              <p:grpSp>
                <p:nvGrpSpPr>
                  <p:cNvPr id="529" name="Group 692"/>
                  <p:cNvGrpSpPr/>
                  <p:nvPr/>
                </p:nvGrpSpPr>
                <p:grpSpPr>
                  <a:xfrm>
                    <a:off x="2263680" y="3411720"/>
                    <a:ext cx="414000" cy="594000"/>
                    <a:chOff x="2263680" y="3411720"/>
                    <a:chExt cx="414000" cy="594000"/>
                  </a:xfrm>
                </p:grpSpPr>
                <p:sp>
                  <p:nvSpPr>
                    <p:cNvPr id="530" name="AutoShape 693"/>
                    <p:cNvSpPr/>
                    <p:nvPr/>
                  </p:nvSpPr>
                  <p:spPr>
                    <a:xfrm rot="8447400">
                      <a:off x="2571840" y="390672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Freeform 694"/>
                    <p:cNvSpPr/>
                    <p:nvPr/>
                  </p:nvSpPr>
                  <p:spPr>
                    <a:xfrm rot="8447400">
                      <a:off x="2463840" y="353412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Oval 695"/>
                    <p:cNvSpPr/>
                    <p:nvPr/>
                  </p:nvSpPr>
                  <p:spPr>
                    <a:xfrm rot="8991600">
                      <a:off x="2309040" y="340992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Group 696"/>
                  <p:cNvGrpSpPr/>
                  <p:nvPr/>
                </p:nvGrpSpPr>
                <p:grpSpPr>
                  <a:xfrm>
                    <a:off x="2352960" y="3687120"/>
                    <a:ext cx="610560" cy="591480"/>
                    <a:chOff x="2352960" y="3687120"/>
                    <a:chExt cx="610560" cy="591480"/>
                  </a:xfrm>
                </p:grpSpPr>
                <p:sp>
                  <p:nvSpPr>
                    <p:cNvPr id="534" name="Freeform 697"/>
                    <p:cNvSpPr/>
                    <p:nvPr/>
                  </p:nvSpPr>
                  <p:spPr>
                    <a:xfrm rot="8447400">
                      <a:off x="2587320" y="384192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Freeform 698"/>
                    <p:cNvSpPr/>
                    <p:nvPr/>
                  </p:nvSpPr>
                  <p:spPr>
                    <a:xfrm rot="8447400">
                      <a:off x="2570400" y="378756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Freeform 699"/>
                    <p:cNvSpPr/>
                    <p:nvPr/>
                  </p:nvSpPr>
                  <p:spPr>
                    <a:xfrm rot="8447400">
                      <a:off x="2620440" y="3830040"/>
                      <a:ext cx="28404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Freeform 700"/>
                    <p:cNvSpPr/>
                    <p:nvPr/>
                  </p:nvSpPr>
                  <p:spPr>
                    <a:xfrm rot="8447400">
                      <a:off x="2651040" y="381816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Freeform 701"/>
                    <p:cNvSpPr/>
                    <p:nvPr/>
                  </p:nvSpPr>
                  <p:spPr>
                    <a:xfrm rot="8447400">
                      <a:off x="2641680" y="382788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Freeform 702"/>
                    <p:cNvSpPr/>
                    <p:nvPr/>
                  </p:nvSpPr>
                  <p:spPr>
                    <a:xfrm rot="8447400">
                      <a:off x="2624760" y="3847680"/>
                      <a:ext cx="28404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Freeform 703"/>
                    <p:cNvSpPr/>
                    <p:nvPr/>
                  </p:nvSpPr>
                  <p:spPr>
                    <a:xfrm rot="8447400">
                      <a:off x="2662560" y="3855600"/>
                      <a:ext cx="214200" cy="18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Freeform 704"/>
                    <p:cNvSpPr/>
                    <p:nvPr/>
                  </p:nvSpPr>
                  <p:spPr>
                    <a:xfrm rot="8447400">
                      <a:off x="2658960" y="385560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Freeform 705"/>
                    <p:cNvSpPr/>
                    <p:nvPr/>
                  </p:nvSpPr>
                  <p:spPr>
                    <a:xfrm rot="8447400">
                      <a:off x="2611080" y="385056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Freeform 706"/>
                    <p:cNvSpPr/>
                    <p:nvPr/>
                  </p:nvSpPr>
                  <p:spPr>
                    <a:xfrm rot="8447400">
                      <a:off x="2652480" y="3838680"/>
                      <a:ext cx="262800" cy="24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Line 707"/>
                    <p:cNvSpPr/>
                    <p:nvPr/>
                  </p:nvSpPr>
                  <p:spPr>
                    <a:xfrm>
                      <a:off x="2582280" y="3939120"/>
                      <a:ext cx="307440" cy="7128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Freeform 708"/>
                    <p:cNvSpPr/>
                    <p:nvPr/>
                  </p:nvSpPr>
                  <p:spPr>
                    <a:xfrm rot="8447400">
                      <a:off x="2651400" y="3853080"/>
                      <a:ext cx="15876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Freeform 709"/>
                    <p:cNvSpPr/>
                    <p:nvPr/>
                  </p:nvSpPr>
                  <p:spPr>
                    <a:xfrm rot="8447400">
                      <a:off x="2664720" y="3872520"/>
                      <a:ext cx="123120" cy="25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Freeform 710"/>
                    <p:cNvSpPr/>
                    <p:nvPr/>
                  </p:nvSpPr>
                  <p:spPr>
                    <a:xfrm rot="8447400">
                      <a:off x="2674080" y="3883680"/>
                      <a:ext cx="82440" cy="27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Freeform 711"/>
                    <p:cNvSpPr/>
                    <p:nvPr/>
                  </p:nvSpPr>
                  <p:spPr>
                    <a:xfrm rot="8447400">
                      <a:off x="2669040" y="389304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Freeform 712"/>
                    <p:cNvSpPr/>
                    <p:nvPr/>
                  </p:nvSpPr>
                  <p:spPr>
                    <a:xfrm rot="8447400">
                      <a:off x="2673360" y="3904920"/>
                      <a:ext cx="4752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Freeform 713"/>
                    <p:cNvSpPr/>
                    <p:nvPr/>
                  </p:nvSpPr>
                  <p:spPr>
                    <a:xfrm rot="8447400">
                      <a:off x="2640240" y="391428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Freeform 714"/>
                    <p:cNvSpPr/>
                    <p:nvPr/>
                  </p:nvSpPr>
                  <p:spPr>
                    <a:xfrm rot="8447400">
                      <a:off x="2593800" y="3945960"/>
                      <a:ext cx="79200" cy="23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Freeform 715"/>
                    <p:cNvSpPr/>
                    <p:nvPr/>
                  </p:nvSpPr>
                  <p:spPr>
                    <a:xfrm rot="8447400">
                      <a:off x="2557080" y="396648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Freeform 716"/>
                    <p:cNvSpPr/>
                    <p:nvPr/>
                  </p:nvSpPr>
                  <p:spPr>
                    <a:xfrm rot="8447400">
                      <a:off x="2495160" y="397728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Freeform 717"/>
                    <p:cNvSpPr/>
                    <p:nvPr/>
                  </p:nvSpPr>
                  <p:spPr>
                    <a:xfrm rot="8447400">
                      <a:off x="2438280" y="4001040"/>
                      <a:ext cx="238320" cy="19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Freeform 718"/>
                    <p:cNvSpPr/>
                    <p:nvPr/>
                  </p:nvSpPr>
                  <p:spPr>
                    <a:xfrm rot="8447400">
                      <a:off x="2396880" y="401544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Freeform 719"/>
                    <p:cNvSpPr/>
                    <p:nvPr/>
                  </p:nvSpPr>
                  <p:spPr>
                    <a:xfrm rot="8447400">
                      <a:off x="2367360" y="400716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Freeform 720"/>
                    <p:cNvSpPr/>
                    <p:nvPr/>
                  </p:nvSpPr>
                  <p:spPr>
                    <a:xfrm rot="8447400">
                      <a:off x="2415240" y="397692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Freeform 721"/>
                    <p:cNvSpPr/>
                    <p:nvPr/>
                  </p:nvSpPr>
                  <p:spPr>
                    <a:xfrm rot="8447400">
                      <a:off x="2458800" y="394452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Freeform 722"/>
                    <p:cNvSpPr/>
                    <p:nvPr/>
                  </p:nvSpPr>
                  <p:spPr>
                    <a:xfrm rot="8447400">
                      <a:off x="2489760" y="3883680"/>
                      <a:ext cx="907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Freeform 723"/>
                    <p:cNvSpPr/>
                    <p:nvPr/>
                  </p:nvSpPr>
                  <p:spPr>
                    <a:xfrm rot="8447400">
                      <a:off x="2519280" y="386100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Freeform 724"/>
                    <p:cNvSpPr/>
                    <p:nvPr/>
                  </p:nvSpPr>
                  <p:spPr>
                    <a:xfrm rot="8447400">
                      <a:off x="2589840" y="386280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725"/>
                    <p:cNvSpPr/>
                    <p:nvPr/>
                  </p:nvSpPr>
                  <p:spPr>
                    <a:xfrm rot="8447400">
                      <a:off x="2391480" y="399996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Freeform 726"/>
                    <p:cNvSpPr/>
                    <p:nvPr/>
                  </p:nvSpPr>
                  <p:spPr>
                    <a:xfrm rot="8447400">
                      <a:off x="2429640" y="389412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Freeform 727"/>
                    <p:cNvSpPr/>
                    <p:nvPr/>
                  </p:nvSpPr>
                  <p:spPr>
                    <a:xfrm rot="8447400">
                      <a:off x="2680920" y="3906720"/>
                      <a:ext cx="8640" cy="26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Freeform 728"/>
                    <p:cNvSpPr/>
                    <p:nvPr/>
                  </p:nvSpPr>
                  <p:spPr>
                    <a:xfrm rot="8447400">
                      <a:off x="2549880" y="378360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Freeform 729"/>
                    <p:cNvSpPr/>
                    <p:nvPr/>
                  </p:nvSpPr>
                  <p:spPr>
                    <a:xfrm rot="8447400">
                      <a:off x="2521080" y="3703320"/>
                      <a:ext cx="124560" cy="20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Freeform 730"/>
                    <p:cNvSpPr/>
                    <p:nvPr/>
                  </p:nvSpPr>
                  <p:spPr>
                    <a:xfrm rot="8447400">
                      <a:off x="2459160" y="379692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731"/>
                    <p:cNvSpPr/>
                    <p:nvPr/>
                  </p:nvSpPr>
                  <p:spPr>
                    <a:xfrm rot="9128400">
                      <a:off x="2487240" y="399168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Freeform 732"/>
                    <p:cNvSpPr/>
                    <p:nvPr/>
                  </p:nvSpPr>
                  <p:spPr>
                    <a:xfrm rot="8447400">
                      <a:off x="2603160" y="393444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70" name="Group 733"/>
              <p:cNvGrpSpPr/>
              <p:nvPr/>
            </p:nvGrpSpPr>
            <p:grpSpPr>
              <a:xfrm>
                <a:off x="2130120" y="3438360"/>
                <a:ext cx="654120" cy="933480"/>
                <a:chOff x="2130120" y="3438360"/>
                <a:chExt cx="654120" cy="933480"/>
              </a:xfrm>
            </p:grpSpPr>
            <p:sp>
              <p:nvSpPr>
                <p:cNvPr id="571" name="Freeform 734"/>
                <p:cNvSpPr/>
                <p:nvPr/>
              </p:nvSpPr>
              <p:spPr>
                <a:xfrm rot="9403800">
                  <a:off x="2319840" y="406980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2" name="Group 735"/>
                <p:cNvGrpSpPr/>
                <p:nvPr/>
              </p:nvGrpSpPr>
              <p:grpSpPr>
                <a:xfrm>
                  <a:off x="2130120" y="3438360"/>
                  <a:ext cx="654120" cy="933480"/>
                  <a:chOff x="2130120" y="3438360"/>
                  <a:chExt cx="654120" cy="933480"/>
                </a:xfrm>
              </p:grpSpPr>
              <p:grpSp>
                <p:nvGrpSpPr>
                  <p:cNvPr id="573" name="Group 736"/>
                  <p:cNvGrpSpPr/>
                  <p:nvPr/>
                </p:nvGrpSpPr>
                <p:grpSpPr>
                  <a:xfrm>
                    <a:off x="2233800" y="3438360"/>
                    <a:ext cx="257040" cy="654840"/>
                    <a:chOff x="2233800" y="3438360"/>
                    <a:chExt cx="257040" cy="654840"/>
                  </a:xfrm>
                </p:grpSpPr>
                <p:sp>
                  <p:nvSpPr>
                    <p:cNvPr id="574" name="AutoShape 737"/>
                    <p:cNvSpPr/>
                    <p:nvPr/>
                  </p:nvSpPr>
                  <p:spPr>
                    <a:xfrm rot="9403800">
                      <a:off x="2387880" y="399888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Freeform 738"/>
                    <p:cNvSpPr/>
                    <p:nvPr/>
                  </p:nvSpPr>
                  <p:spPr>
                    <a:xfrm rot="9403800">
                      <a:off x="2338560" y="359820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Oval 739"/>
                    <p:cNvSpPr/>
                    <p:nvPr/>
                  </p:nvSpPr>
                  <p:spPr>
                    <a:xfrm rot="9947400">
                      <a:off x="2256480" y="344088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Group 740"/>
                  <p:cNvGrpSpPr/>
                  <p:nvPr/>
                </p:nvGrpSpPr>
                <p:grpSpPr>
                  <a:xfrm>
                    <a:off x="2130120" y="3775320"/>
                    <a:ext cx="654120" cy="596520"/>
                    <a:chOff x="2130120" y="3775320"/>
                    <a:chExt cx="654120" cy="596520"/>
                  </a:xfrm>
                </p:grpSpPr>
                <p:sp>
                  <p:nvSpPr>
                    <p:cNvPr id="578" name="Freeform 741"/>
                    <p:cNvSpPr/>
                    <p:nvPr/>
                  </p:nvSpPr>
                  <p:spPr>
                    <a:xfrm rot="9403800">
                      <a:off x="2419200" y="394992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Freeform 742"/>
                    <p:cNvSpPr/>
                    <p:nvPr/>
                  </p:nvSpPr>
                  <p:spPr>
                    <a:xfrm rot="9403800">
                      <a:off x="2417040" y="390960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743"/>
                    <p:cNvSpPr/>
                    <p:nvPr/>
                  </p:nvSpPr>
                  <p:spPr>
                    <a:xfrm rot="9403800">
                      <a:off x="2453040" y="3965760"/>
                      <a:ext cx="28404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Freeform 744"/>
                    <p:cNvSpPr/>
                    <p:nvPr/>
                  </p:nvSpPr>
                  <p:spPr>
                    <a:xfrm rot="9403800">
                      <a:off x="2482560" y="396360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Freeform 745"/>
                    <p:cNvSpPr/>
                    <p:nvPr/>
                  </p:nvSpPr>
                  <p:spPr>
                    <a:xfrm rot="9403800">
                      <a:off x="2467440" y="396972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746"/>
                    <p:cNvSpPr/>
                    <p:nvPr/>
                  </p:nvSpPr>
                  <p:spPr>
                    <a:xfrm rot="9403800">
                      <a:off x="2446560" y="3982680"/>
                      <a:ext cx="2840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Freeform 747"/>
                    <p:cNvSpPr/>
                    <p:nvPr/>
                  </p:nvSpPr>
                  <p:spPr>
                    <a:xfrm rot="9403800">
                      <a:off x="2472840" y="3989880"/>
                      <a:ext cx="21420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Freeform 748"/>
                    <p:cNvSpPr/>
                    <p:nvPr/>
                  </p:nvSpPr>
                  <p:spPr>
                    <a:xfrm rot="9403800">
                      <a:off x="2471400" y="399384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749"/>
                    <p:cNvSpPr/>
                    <p:nvPr/>
                  </p:nvSpPr>
                  <p:spPr>
                    <a:xfrm rot="9403800">
                      <a:off x="2426760" y="397584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Freeform 750"/>
                    <p:cNvSpPr/>
                    <p:nvPr/>
                  </p:nvSpPr>
                  <p:spPr>
                    <a:xfrm rot="9403800">
                      <a:off x="2457720" y="3976200"/>
                      <a:ext cx="262800" cy="24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Line 751"/>
                    <p:cNvSpPr/>
                    <p:nvPr/>
                  </p:nvSpPr>
                  <p:spPr>
                    <a:xfrm>
                      <a:off x="2401560" y="4021560"/>
                      <a:ext cx="275400" cy="15264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752"/>
                    <p:cNvSpPr/>
                    <p:nvPr/>
                  </p:nvSpPr>
                  <p:spPr>
                    <a:xfrm rot="9403800">
                      <a:off x="2454480" y="3975840"/>
                      <a:ext cx="15876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Freeform 753"/>
                    <p:cNvSpPr/>
                    <p:nvPr/>
                  </p:nvSpPr>
                  <p:spPr>
                    <a:xfrm rot="9403800">
                      <a:off x="2461320" y="3992760"/>
                      <a:ext cx="123120" cy="25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Freeform 754"/>
                    <p:cNvSpPr/>
                    <p:nvPr/>
                  </p:nvSpPr>
                  <p:spPr>
                    <a:xfrm rot="9403800">
                      <a:off x="2466000" y="3999960"/>
                      <a:ext cx="8244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755"/>
                    <p:cNvSpPr/>
                    <p:nvPr/>
                  </p:nvSpPr>
                  <p:spPr>
                    <a:xfrm rot="9403800">
                      <a:off x="2456280" y="400140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Freeform 756"/>
                    <p:cNvSpPr/>
                    <p:nvPr/>
                  </p:nvSpPr>
                  <p:spPr>
                    <a:xfrm rot="9403800">
                      <a:off x="2453760" y="4014720"/>
                      <a:ext cx="4752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Freeform 757"/>
                    <p:cNvSpPr/>
                    <p:nvPr/>
                  </p:nvSpPr>
                  <p:spPr>
                    <a:xfrm rot="9403800">
                      <a:off x="2423880" y="401400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Freeform 758"/>
                    <p:cNvSpPr/>
                    <p:nvPr/>
                  </p:nvSpPr>
                  <p:spPr>
                    <a:xfrm rot="9403800">
                      <a:off x="2376360" y="4037760"/>
                      <a:ext cx="79200" cy="23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Freeform 759"/>
                    <p:cNvSpPr/>
                    <p:nvPr/>
                  </p:nvSpPr>
                  <p:spPr>
                    <a:xfrm rot="9403800">
                      <a:off x="2326320" y="405756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Freeform 760"/>
                    <p:cNvSpPr/>
                    <p:nvPr/>
                  </p:nvSpPr>
                  <p:spPr>
                    <a:xfrm rot="9403800">
                      <a:off x="2269080" y="405792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Freeform 761"/>
                    <p:cNvSpPr/>
                    <p:nvPr/>
                  </p:nvSpPr>
                  <p:spPr>
                    <a:xfrm rot="9403800">
                      <a:off x="2214720" y="4071240"/>
                      <a:ext cx="23832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Freeform 762"/>
                    <p:cNvSpPr/>
                    <p:nvPr/>
                  </p:nvSpPr>
                  <p:spPr>
                    <a:xfrm rot="9403800">
                      <a:off x="2175120" y="407880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Freeform 763"/>
                    <p:cNvSpPr/>
                    <p:nvPr/>
                  </p:nvSpPr>
                  <p:spPr>
                    <a:xfrm rot="9403800">
                      <a:off x="2148120" y="406908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Freeform 764"/>
                    <p:cNvSpPr/>
                    <p:nvPr/>
                  </p:nvSpPr>
                  <p:spPr>
                    <a:xfrm rot="9403800">
                      <a:off x="2223720" y="403884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Freeform 765"/>
                    <p:cNvSpPr/>
                    <p:nvPr/>
                  </p:nvSpPr>
                  <p:spPr>
                    <a:xfrm rot="9403800">
                      <a:off x="2274120" y="401184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Freeform 766"/>
                    <p:cNvSpPr/>
                    <p:nvPr/>
                  </p:nvSpPr>
                  <p:spPr>
                    <a:xfrm rot="9403800">
                      <a:off x="2316960" y="3954600"/>
                      <a:ext cx="9072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Freeform 767"/>
                    <p:cNvSpPr/>
                    <p:nvPr/>
                  </p:nvSpPr>
                  <p:spPr>
                    <a:xfrm rot="9403800">
                      <a:off x="2350440" y="393696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Freeform 768"/>
                    <p:cNvSpPr/>
                    <p:nvPr/>
                  </p:nvSpPr>
                  <p:spPr>
                    <a:xfrm rot="9403800">
                      <a:off x="2422440" y="398124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Freeform 769"/>
                    <p:cNvSpPr/>
                    <p:nvPr/>
                  </p:nvSpPr>
                  <p:spPr>
                    <a:xfrm rot="9403800">
                      <a:off x="2194920" y="405936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reeform 770"/>
                    <p:cNvSpPr/>
                    <p:nvPr/>
                  </p:nvSpPr>
                  <p:spPr>
                    <a:xfrm rot="9403800">
                      <a:off x="2251440" y="395676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Freeform 771"/>
                    <p:cNvSpPr/>
                    <p:nvPr/>
                  </p:nvSpPr>
                  <p:spPr>
                    <a:xfrm rot="9403800">
                      <a:off x="2469240" y="4014000"/>
                      <a:ext cx="8640" cy="26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Freeform 772"/>
                    <p:cNvSpPr/>
                    <p:nvPr/>
                  </p:nvSpPr>
                  <p:spPr>
                    <a:xfrm rot="9403800">
                      <a:off x="2390400" y="387972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Freeform 773"/>
                    <p:cNvSpPr/>
                    <p:nvPr/>
                  </p:nvSpPr>
                  <p:spPr>
                    <a:xfrm rot="9403800">
                      <a:off x="2377080" y="3791520"/>
                      <a:ext cx="124560" cy="20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Freeform 774"/>
                    <p:cNvSpPr/>
                    <p:nvPr/>
                  </p:nvSpPr>
                  <p:spPr>
                    <a:xfrm rot="9403800">
                      <a:off x="2296800" y="385884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Freeform 775"/>
                    <p:cNvSpPr/>
                    <p:nvPr/>
                  </p:nvSpPr>
                  <p:spPr>
                    <a:xfrm rot="10085400">
                      <a:off x="2290680" y="406008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Freeform 776"/>
                    <p:cNvSpPr/>
                    <p:nvPr/>
                  </p:nvSpPr>
                  <p:spPr>
                    <a:xfrm rot="9403800">
                      <a:off x="2396880" y="402876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4" name="Group 777"/>
              <p:cNvGrpSpPr/>
              <p:nvPr/>
            </p:nvGrpSpPr>
            <p:grpSpPr>
              <a:xfrm>
                <a:off x="1236240" y="3100320"/>
                <a:ext cx="939600" cy="669240"/>
                <a:chOff x="1236240" y="3100320"/>
                <a:chExt cx="939600" cy="669240"/>
              </a:xfrm>
            </p:grpSpPr>
            <p:sp>
              <p:nvSpPr>
                <p:cNvPr id="615" name="Freeform 778"/>
                <p:cNvSpPr/>
                <p:nvPr/>
              </p:nvSpPr>
              <p:spPr>
                <a:xfrm rot="15342000">
                  <a:off x="1475280" y="333576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6" name="Group 779"/>
                <p:cNvGrpSpPr/>
                <p:nvPr/>
              </p:nvGrpSpPr>
              <p:grpSpPr>
                <a:xfrm>
                  <a:off x="1236240" y="3100320"/>
                  <a:ext cx="939600" cy="669240"/>
                  <a:chOff x="1236240" y="3100320"/>
                  <a:chExt cx="939600" cy="669240"/>
                </a:xfrm>
              </p:grpSpPr>
              <p:grpSp>
                <p:nvGrpSpPr>
                  <p:cNvPr id="617" name="Group 780"/>
                  <p:cNvGrpSpPr/>
                  <p:nvPr/>
                </p:nvGrpSpPr>
                <p:grpSpPr>
                  <a:xfrm>
                    <a:off x="1509120" y="3303720"/>
                    <a:ext cx="666720" cy="165600"/>
                    <a:chOff x="1509120" y="3303720"/>
                    <a:chExt cx="666720" cy="165600"/>
                  </a:xfrm>
                </p:grpSpPr>
                <p:sp>
                  <p:nvSpPr>
                    <p:cNvPr id="618" name="AutoShape 781"/>
                    <p:cNvSpPr/>
                    <p:nvPr/>
                  </p:nvSpPr>
                  <p:spPr>
                    <a:xfrm rot="15342000">
                      <a:off x="1513080" y="337572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Freeform 782"/>
                    <p:cNvSpPr/>
                    <p:nvPr/>
                  </p:nvSpPr>
                  <p:spPr>
                    <a:xfrm rot="15342000">
                      <a:off x="1767600" y="316260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Oval 783"/>
                    <p:cNvSpPr/>
                    <p:nvPr/>
                  </p:nvSpPr>
                  <p:spPr>
                    <a:xfrm rot="15885600">
                      <a:off x="2054880" y="324504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Group 784"/>
                  <p:cNvGrpSpPr/>
                  <p:nvPr/>
                </p:nvGrpSpPr>
                <p:grpSpPr>
                  <a:xfrm>
                    <a:off x="1236240" y="3100320"/>
                    <a:ext cx="578520" cy="669240"/>
                    <a:chOff x="1236240" y="3100320"/>
                    <a:chExt cx="578520" cy="669240"/>
                  </a:xfrm>
                </p:grpSpPr>
                <p:sp>
                  <p:nvSpPr>
                    <p:cNvPr id="622" name="Freeform 785"/>
                    <p:cNvSpPr/>
                    <p:nvPr/>
                  </p:nvSpPr>
                  <p:spPr>
                    <a:xfrm rot="15342000">
                      <a:off x="1519920" y="344988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Freeform 786"/>
                    <p:cNvSpPr/>
                    <p:nvPr/>
                  </p:nvSpPr>
                  <p:spPr>
                    <a:xfrm rot="15342000">
                      <a:off x="1497600" y="351468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Freeform 787"/>
                    <p:cNvSpPr/>
                    <p:nvPr/>
                  </p:nvSpPr>
                  <p:spPr>
                    <a:xfrm rot="15342000">
                      <a:off x="1429920" y="3547800"/>
                      <a:ext cx="28404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Freeform 788"/>
                    <p:cNvSpPr/>
                    <p:nvPr/>
                  </p:nvSpPr>
                  <p:spPr>
                    <a:xfrm rot="15342000">
                      <a:off x="1409400" y="356976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Freeform 789"/>
                    <p:cNvSpPr/>
                    <p:nvPr/>
                  </p:nvSpPr>
                  <p:spPr>
                    <a:xfrm rot="15342000">
                      <a:off x="1394280" y="353880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Freeform 790"/>
                    <p:cNvSpPr/>
                    <p:nvPr/>
                  </p:nvSpPr>
                  <p:spPr>
                    <a:xfrm rot="15342000">
                      <a:off x="1391400" y="3511800"/>
                      <a:ext cx="2840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Freeform 791"/>
                    <p:cNvSpPr/>
                    <p:nvPr/>
                  </p:nvSpPr>
                  <p:spPr>
                    <a:xfrm rot="15342000">
                      <a:off x="1387440" y="3463560"/>
                      <a:ext cx="21420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Freeform 792"/>
                    <p:cNvSpPr/>
                    <p:nvPr/>
                  </p:nvSpPr>
                  <p:spPr>
                    <a:xfrm rot="15342000">
                      <a:off x="1373760" y="349164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Freeform 793"/>
                    <p:cNvSpPr/>
                    <p:nvPr/>
                  </p:nvSpPr>
                  <p:spPr>
                    <a:xfrm rot="15342000">
                      <a:off x="1398600" y="345024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Freeform 794"/>
                    <p:cNvSpPr/>
                    <p:nvPr/>
                  </p:nvSpPr>
                  <p:spPr>
                    <a:xfrm rot="15342000">
                      <a:off x="1343520" y="3438000"/>
                      <a:ext cx="262800" cy="24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Line 795"/>
                    <p:cNvSpPr/>
                    <p:nvPr/>
                  </p:nvSpPr>
                  <p:spPr>
                    <a:xfrm flipH="1">
                      <a:off x="1386720" y="3386880"/>
                      <a:ext cx="193680" cy="24840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Freeform 796"/>
                    <p:cNvSpPr/>
                    <p:nvPr/>
                  </p:nvSpPr>
                  <p:spPr>
                    <a:xfrm rot="15342000">
                      <a:off x="1402560" y="3380400"/>
                      <a:ext cx="15876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Freeform 797"/>
                    <p:cNvSpPr/>
                    <p:nvPr/>
                  </p:nvSpPr>
                  <p:spPr>
                    <a:xfrm rot="15342000">
                      <a:off x="1401480" y="3363120"/>
                      <a:ext cx="123120" cy="25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Freeform 798"/>
                    <p:cNvSpPr/>
                    <p:nvPr/>
                  </p:nvSpPr>
                  <p:spPr>
                    <a:xfrm rot="15342000">
                      <a:off x="1409400" y="3337200"/>
                      <a:ext cx="8244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Freeform 799"/>
                    <p:cNvSpPr/>
                    <p:nvPr/>
                  </p:nvSpPr>
                  <p:spPr>
                    <a:xfrm rot="15342000">
                      <a:off x="1424520" y="329688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Freeform 800"/>
                    <p:cNvSpPr/>
                    <p:nvPr/>
                  </p:nvSpPr>
                  <p:spPr>
                    <a:xfrm rot="15342000">
                      <a:off x="1396080" y="3281400"/>
                      <a:ext cx="4752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Freeform 801"/>
                    <p:cNvSpPr/>
                    <p:nvPr/>
                  </p:nvSpPr>
                  <p:spPr>
                    <a:xfrm rot="15342000">
                      <a:off x="1417680" y="326844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Freeform 802"/>
                    <p:cNvSpPr/>
                    <p:nvPr/>
                  </p:nvSpPr>
                  <p:spPr>
                    <a:xfrm rot="15342000">
                      <a:off x="1404720" y="3261240"/>
                      <a:ext cx="79200" cy="23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Freeform 803"/>
                    <p:cNvSpPr/>
                    <p:nvPr/>
                  </p:nvSpPr>
                  <p:spPr>
                    <a:xfrm rot="15342000">
                      <a:off x="1319040" y="321444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Freeform 804"/>
                    <p:cNvSpPr/>
                    <p:nvPr/>
                  </p:nvSpPr>
                  <p:spPr>
                    <a:xfrm rot="15342000">
                      <a:off x="1324080" y="320688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Freeform 805"/>
                    <p:cNvSpPr/>
                    <p:nvPr/>
                  </p:nvSpPr>
                  <p:spPr>
                    <a:xfrm rot="15342000">
                      <a:off x="1327320" y="3200760"/>
                      <a:ext cx="23832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Freeform 806"/>
                    <p:cNvSpPr/>
                    <p:nvPr/>
                  </p:nvSpPr>
                  <p:spPr>
                    <a:xfrm rot="15342000">
                      <a:off x="1322640" y="319716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Freeform 807"/>
                    <p:cNvSpPr/>
                    <p:nvPr/>
                  </p:nvSpPr>
                  <p:spPr>
                    <a:xfrm rot="15342000">
                      <a:off x="1310760" y="319464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Freeform 808"/>
                    <p:cNvSpPr/>
                    <p:nvPr/>
                  </p:nvSpPr>
                  <p:spPr>
                    <a:xfrm rot="15342000">
                      <a:off x="1468080" y="329184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Freeform 809"/>
                    <p:cNvSpPr/>
                    <p:nvPr/>
                  </p:nvSpPr>
                  <p:spPr>
                    <a:xfrm rot="15342000">
                      <a:off x="1514880" y="330984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Freeform 810"/>
                    <p:cNvSpPr/>
                    <p:nvPr/>
                  </p:nvSpPr>
                  <p:spPr>
                    <a:xfrm rot="15342000">
                      <a:off x="1573200" y="3318840"/>
                      <a:ext cx="9072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Freeform 811"/>
                    <p:cNvSpPr/>
                    <p:nvPr/>
                  </p:nvSpPr>
                  <p:spPr>
                    <a:xfrm rot="15342000">
                      <a:off x="1596600" y="333720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Freeform 812"/>
                    <p:cNvSpPr/>
                    <p:nvPr/>
                  </p:nvSpPr>
                  <p:spPr>
                    <a:xfrm rot="15342000">
                      <a:off x="1476000" y="351576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Freeform 813"/>
                    <p:cNvSpPr/>
                    <p:nvPr/>
                  </p:nvSpPr>
                  <p:spPr>
                    <a:xfrm rot="15342000">
                      <a:off x="1437120" y="328104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Freeform 814"/>
                    <p:cNvSpPr/>
                    <p:nvPr/>
                  </p:nvSpPr>
                  <p:spPr>
                    <a:xfrm rot="15342000">
                      <a:off x="1531080" y="327456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Freeform 815"/>
                    <p:cNvSpPr/>
                    <p:nvPr/>
                  </p:nvSpPr>
                  <p:spPr>
                    <a:xfrm rot="15342000">
                      <a:off x="1443240" y="3308400"/>
                      <a:ext cx="8640" cy="26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Freeform 816"/>
                    <p:cNvSpPr/>
                    <p:nvPr/>
                  </p:nvSpPr>
                  <p:spPr>
                    <a:xfrm rot="15342000">
                      <a:off x="1570320" y="337968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Freeform 817"/>
                    <p:cNvSpPr/>
                    <p:nvPr/>
                  </p:nvSpPr>
                  <p:spPr>
                    <a:xfrm rot="15342000">
                      <a:off x="1638000" y="3341880"/>
                      <a:ext cx="124560" cy="20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Freeform 818"/>
                    <p:cNvSpPr/>
                    <p:nvPr/>
                  </p:nvSpPr>
                  <p:spPr>
                    <a:xfrm rot="15342000">
                      <a:off x="1627560" y="324972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Freeform 819"/>
                    <p:cNvSpPr/>
                    <p:nvPr/>
                  </p:nvSpPr>
                  <p:spPr>
                    <a:xfrm rot="16023600">
                      <a:off x="1488960" y="330912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Freeform 820"/>
                    <p:cNvSpPr/>
                    <p:nvPr/>
                  </p:nvSpPr>
                  <p:spPr>
                    <a:xfrm rot="15342000">
                      <a:off x="1444680" y="330984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58" name="Group 821"/>
              <p:cNvGrpSpPr/>
              <p:nvPr/>
            </p:nvGrpSpPr>
            <p:grpSpPr>
              <a:xfrm>
                <a:off x="2314080" y="2510640"/>
                <a:ext cx="794520" cy="787320"/>
                <a:chOff x="2314080" y="2510640"/>
                <a:chExt cx="794520" cy="787320"/>
              </a:xfrm>
            </p:grpSpPr>
            <p:sp>
              <p:nvSpPr>
                <p:cNvPr id="659" name="Freeform 822"/>
                <p:cNvSpPr/>
                <p:nvPr/>
              </p:nvSpPr>
              <p:spPr>
                <a:xfrm rot="2410200">
                  <a:off x="2795760" y="288108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0" name="Group 823"/>
                <p:cNvGrpSpPr/>
                <p:nvPr/>
              </p:nvGrpSpPr>
              <p:grpSpPr>
                <a:xfrm>
                  <a:off x="2314080" y="2510640"/>
                  <a:ext cx="794520" cy="787320"/>
                  <a:chOff x="2314080" y="2510640"/>
                  <a:chExt cx="794520" cy="787320"/>
                </a:xfrm>
              </p:grpSpPr>
              <p:grpSp>
                <p:nvGrpSpPr>
                  <p:cNvPr id="661" name="Group 824"/>
                  <p:cNvGrpSpPr/>
                  <p:nvPr/>
                </p:nvGrpSpPr>
                <p:grpSpPr>
                  <a:xfrm>
                    <a:off x="2314080" y="2796120"/>
                    <a:ext cx="527400" cy="501840"/>
                    <a:chOff x="2314080" y="2796120"/>
                    <a:chExt cx="527400" cy="501840"/>
                  </a:xfrm>
                </p:grpSpPr>
                <p:sp>
                  <p:nvSpPr>
                    <p:cNvPr id="662" name="AutoShape 825"/>
                    <p:cNvSpPr/>
                    <p:nvPr/>
                  </p:nvSpPr>
                  <p:spPr>
                    <a:xfrm rot="2410200">
                      <a:off x="2735640" y="281592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Freeform 826"/>
                    <p:cNvSpPr/>
                    <p:nvPr/>
                  </p:nvSpPr>
                  <p:spPr>
                    <a:xfrm rot="2410200">
                      <a:off x="2590200" y="280296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Oval 827"/>
                    <p:cNvSpPr/>
                    <p:nvPr/>
                  </p:nvSpPr>
                  <p:spPr>
                    <a:xfrm rot="2953800">
                      <a:off x="2378880" y="312120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5" name="Group 828"/>
                  <p:cNvGrpSpPr/>
                  <p:nvPr/>
                </p:nvGrpSpPr>
                <p:grpSpPr>
                  <a:xfrm>
                    <a:off x="2516400" y="2510640"/>
                    <a:ext cx="592200" cy="572040"/>
                    <a:chOff x="2516400" y="2510640"/>
                    <a:chExt cx="592200" cy="572040"/>
                  </a:xfrm>
                </p:grpSpPr>
                <p:sp>
                  <p:nvSpPr>
                    <p:cNvPr id="666" name="Freeform 829"/>
                    <p:cNvSpPr/>
                    <p:nvPr/>
                  </p:nvSpPr>
                  <p:spPr>
                    <a:xfrm rot="2410200">
                      <a:off x="2627640" y="278208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Freeform 830"/>
                    <p:cNvSpPr/>
                    <p:nvPr/>
                  </p:nvSpPr>
                  <p:spPr>
                    <a:xfrm rot="2410200">
                      <a:off x="2505960" y="275652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Freeform 831"/>
                    <p:cNvSpPr/>
                    <p:nvPr/>
                  </p:nvSpPr>
                  <p:spPr>
                    <a:xfrm rot="2410200">
                      <a:off x="2531160" y="2694240"/>
                      <a:ext cx="28404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Freeform 832"/>
                    <p:cNvSpPr/>
                    <p:nvPr/>
                  </p:nvSpPr>
                  <p:spPr>
                    <a:xfrm rot="2410200">
                      <a:off x="2518560" y="264708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833"/>
                    <p:cNvSpPr/>
                    <p:nvPr/>
                  </p:nvSpPr>
                  <p:spPr>
                    <a:xfrm rot="2410200">
                      <a:off x="2543040" y="264060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Freeform 834"/>
                    <p:cNvSpPr/>
                    <p:nvPr/>
                  </p:nvSpPr>
                  <p:spPr>
                    <a:xfrm rot="2410200">
                      <a:off x="2570760" y="2659680"/>
                      <a:ext cx="28404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Freeform 835"/>
                    <p:cNvSpPr/>
                    <p:nvPr/>
                  </p:nvSpPr>
                  <p:spPr>
                    <a:xfrm rot="2410200">
                      <a:off x="2645640" y="2615040"/>
                      <a:ext cx="214200" cy="18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Freeform 836"/>
                    <p:cNvSpPr/>
                    <p:nvPr/>
                  </p:nvSpPr>
                  <p:spPr>
                    <a:xfrm rot="2410200">
                      <a:off x="2614320" y="261432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Freeform 837"/>
                    <p:cNvSpPr/>
                    <p:nvPr/>
                  </p:nvSpPr>
                  <p:spPr>
                    <a:xfrm rot="2410200">
                      <a:off x="2617920" y="266256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Freeform 838"/>
                    <p:cNvSpPr/>
                    <p:nvPr/>
                  </p:nvSpPr>
                  <p:spPr>
                    <a:xfrm rot="2410200">
                      <a:off x="2633760" y="2566440"/>
                      <a:ext cx="262800" cy="24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Line 839"/>
                    <p:cNvSpPr/>
                    <p:nvPr/>
                  </p:nvSpPr>
                  <p:spPr>
                    <a:xfrm flipV="1">
                      <a:off x="2780640" y="2576520"/>
                      <a:ext cx="13320" cy="31500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840"/>
                    <p:cNvSpPr/>
                    <p:nvPr/>
                  </p:nvSpPr>
                  <p:spPr>
                    <a:xfrm rot="2410200">
                      <a:off x="2711880" y="2613600"/>
                      <a:ext cx="15876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Freeform 841"/>
                    <p:cNvSpPr/>
                    <p:nvPr/>
                  </p:nvSpPr>
                  <p:spPr>
                    <a:xfrm rot="2410200">
                      <a:off x="2753280" y="2610000"/>
                      <a:ext cx="123120" cy="25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Freeform 842"/>
                    <p:cNvSpPr/>
                    <p:nvPr/>
                  </p:nvSpPr>
                  <p:spPr>
                    <a:xfrm rot="2410200">
                      <a:off x="2793960" y="2609640"/>
                      <a:ext cx="82440" cy="27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Freeform 843"/>
                    <p:cNvSpPr/>
                    <p:nvPr/>
                  </p:nvSpPr>
                  <p:spPr>
                    <a:xfrm rot="2410200">
                      <a:off x="2837520" y="262260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Freeform 844"/>
                    <p:cNvSpPr/>
                    <p:nvPr/>
                  </p:nvSpPr>
                  <p:spPr>
                    <a:xfrm rot="2410200">
                      <a:off x="2856960" y="2598480"/>
                      <a:ext cx="4752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Freeform 845"/>
                    <p:cNvSpPr/>
                    <p:nvPr/>
                  </p:nvSpPr>
                  <p:spPr>
                    <a:xfrm rot="2410200">
                      <a:off x="2858040" y="264888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Freeform 846"/>
                    <p:cNvSpPr/>
                    <p:nvPr/>
                  </p:nvSpPr>
                  <p:spPr>
                    <a:xfrm rot="2410200">
                      <a:off x="2855160" y="2698560"/>
                      <a:ext cx="79200" cy="23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Freeform 847"/>
                    <p:cNvSpPr/>
                    <p:nvPr/>
                  </p:nvSpPr>
                  <p:spPr>
                    <a:xfrm rot="2410200">
                      <a:off x="2863080" y="265824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Freeform 848"/>
                    <p:cNvSpPr/>
                    <p:nvPr/>
                  </p:nvSpPr>
                  <p:spPr>
                    <a:xfrm rot="2410200">
                      <a:off x="2835720" y="272196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Freeform 849"/>
                    <p:cNvSpPr/>
                    <p:nvPr/>
                  </p:nvSpPr>
                  <p:spPr>
                    <a:xfrm rot="2410200">
                      <a:off x="2821680" y="2790000"/>
                      <a:ext cx="238320" cy="19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Freeform 850"/>
                    <p:cNvSpPr/>
                    <p:nvPr/>
                  </p:nvSpPr>
                  <p:spPr>
                    <a:xfrm rot="2410200">
                      <a:off x="2806560" y="283140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Freeform 851"/>
                    <p:cNvSpPr/>
                    <p:nvPr/>
                  </p:nvSpPr>
                  <p:spPr>
                    <a:xfrm rot="2410200">
                      <a:off x="2776680" y="283968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Freeform 852"/>
                    <p:cNvSpPr/>
                    <p:nvPr/>
                  </p:nvSpPr>
                  <p:spPr>
                    <a:xfrm rot="2410200">
                      <a:off x="2743920" y="294012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Freeform 853"/>
                    <p:cNvSpPr/>
                    <p:nvPr/>
                  </p:nvSpPr>
                  <p:spPr>
                    <a:xfrm rot="2410200">
                      <a:off x="2744640" y="292464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Freeform 854"/>
                    <p:cNvSpPr/>
                    <p:nvPr/>
                  </p:nvSpPr>
                  <p:spPr>
                    <a:xfrm rot="2410200">
                      <a:off x="2723040" y="2907000"/>
                      <a:ext cx="907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Freeform 855"/>
                    <p:cNvSpPr/>
                    <p:nvPr/>
                  </p:nvSpPr>
                  <p:spPr>
                    <a:xfrm rot="2410200">
                      <a:off x="2714400" y="289080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Freeform 856"/>
                    <p:cNvSpPr/>
                    <p:nvPr/>
                  </p:nvSpPr>
                  <p:spPr>
                    <a:xfrm rot="2410200">
                      <a:off x="2578320" y="277560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857"/>
                    <p:cNvSpPr/>
                    <p:nvPr/>
                  </p:nvSpPr>
                  <p:spPr>
                    <a:xfrm rot="2410200">
                      <a:off x="2747880" y="294804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Freeform 858"/>
                    <p:cNvSpPr/>
                    <p:nvPr/>
                  </p:nvSpPr>
                  <p:spPr>
                    <a:xfrm rot="2410200">
                      <a:off x="2715120" y="291780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Freeform 859"/>
                    <p:cNvSpPr/>
                    <p:nvPr/>
                  </p:nvSpPr>
                  <p:spPr>
                    <a:xfrm rot="2410200">
                      <a:off x="2853360" y="2641320"/>
                      <a:ext cx="8640" cy="26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Freeform 860"/>
                    <p:cNvSpPr/>
                    <p:nvPr/>
                  </p:nvSpPr>
                  <p:spPr>
                    <a:xfrm rot="2410200">
                      <a:off x="2625840" y="279720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Freeform 861"/>
                    <p:cNvSpPr/>
                    <p:nvPr/>
                  </p:nvSpPr>
                  <p:spPr>
                    <a:xfrm rot="2410200">
                      <a:off x="2586600" y="2812320"/>
                      <a:ext cx="124560" cy="20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Freeform 862"/>
                    <p:cNvSpPr/>
                    <p:nvPr/>
                  </p:nvSpPr>
                  <p:spPr>
                    <a:xfrm rot="2410200">
                      <a:off x="2700000" y="289908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Freeform 863"/>
                    <p:cNvSpPr/>
                    <p:nvPr/>
                  </p:nvSpPr>
                  <p:spPr>
                    <a:xfrm rot="3091200">
                      <a:off x="2800440" y="291132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Freeform 864"/>
                    <p:cNvSpPr/>
                    <p:nvPr/>
                  </p:nvSpPr>
                  <p:spPr>
                    <a:xfrm rot="2410200">
                      <a:off x="2820960" y="273024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02" name="Group 865"/>
              <p:cNvGrpSpPr/>
              <p:nvPr/>
            </p:nvGrpSpPr>
            <p:grpSpPr>
              <a:xfrm>
                <a:off x="2358360" y="2868840"/>
                <a:ext cx="939960" cy="668520"/>
                <a:chOff x="2358360" y="2868840"/>
                <a:chExt cx="939960" cy="668520"/>
              </a:xfrm>
            </p:grpSpPr>
            <p:sp>
              <p:nvSpPr>
                <p:cNvPr id="703" name="Freeform 866"/>
                <p:cNvSpPr/>
                <p:nvPr/>
              </p:nvSpPr>
              <p:spPr>
                <a:xfrm rot="4501200">
                  <a:off x="2956320" y="327924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" name="Group 867"/>
                <p:cNvGrpSpPr/>
                <p:nvPr/>
              </p:nvGrpSpPr>
              <p:grpSpPr>
                <a:xfrm>
                  <a:off x="2358360" y="2868840"/>
                  <a:ext cx="939960" cy="668520"/>
                  <a:chOff x="2358360" y="2868840"/>
                  <a:chExt cx="939960" cy="668520"/>
                </a:xfrm>
              </p:grpSpPr>
              <p:grpSp>
                <p:nvGrpSpPr>
                  <p:cNvPr id="705" name="Group 868"/>
                  <p:cNvGrpSpPr/>
                  <p:nvPr/>
                </p:nvGrpSpPr>
                <p:grpSpPr>
                  <a:xfrm>
                    <a:off x="2358360" y="3168720"/>
                    <a:ext cx="666720" cy="171000"/>
                    <a:chOff x="2358360" y="3168720"/>
                    <a:chExt cx="666720" cy="171000"/>
                  </a:xfrm>
                </p:grpSpPr>
                <p:sp>
                  <p:nvSpPr>
                    <p:cNvPr id="706" name="AutoShape 869"/>
                    <p:cNvSpPr/>
                    <p:nvPr/>
                  </p:nvSpPr>
                  <p:spPr>
                    <a:xfrm rot="4501200">
                      <a:off x="2929680" y="318312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Freeform 870"/>
                    <p:cNvSpPr/>
                    <p:nvPr/>
                  </p:nvSpPr>
                  <p:spPr>
                    <a:xfrm rot="4501200">
                      <a:off x="2720160" y="304452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Oval 871"/>
                    <p:cNvSpPr/>
                    <p:nvPr/>
                  </p:nvSpPr>
                  <p:spPr>
                    <a:xfrm rot="5044800">
                      <a:off x="2433600" y="320616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Group 872"/>
                  <p:cNvGrpSpPr/>
                  <p:nvPr/>
                </p:nvGrpSpPr>
                <p:grpSpPr>
                  <a:xfrm>
                    <a:off x="2717640" y="2868840"/>
                    <a:ext cx="580680" cy="668520"/>
                    <a:chOff x="2717640" y="2868840"/>
                    <a:chExt cx="580680" cy="668520"/>
                  </a:xfrm>
                </p:grpSpPr>
                <p:sp>
                  <p:nvSpPr>
                    <p:cNvPr id="710" name="Freeform 873"/>
                    <p:cNvSpPr/>
                    <p:nvPr/>
                  </p:nvSpPr>
                  <p:spPr>
                    <a:xfrm rot="4501200">
                      <a:off x="2854440" y="311328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874"/>
                    <p:cNvSpPr/>
                    <p:nvPr/>
                  </p:nvSpPr>
                  <p:spPr>
                    <a:xfrm rot="4501200">
                      <a:off x="2761560" y="305604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875"/>
                    <p:cNvSpPr/>
                    <p:nvPr/>
                  </p:nvSpPr>
                  <p:spPr>
                    <a:xfrm rot="4501200">
                      <a:off x="2817360" y="3022560"/>
                      <a:ext cx="28404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Freeform 876"/>
                    <p:cNvSpPr/>
                    <p:nvPr/>
                  </p:nvSpPr>
                  <p:spPr>
                    <a:xfrm rot="4501200">
                      <a:off x="2825640" y="297792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Freeform 877"/>
                    <p:cNvSpPr/>
                    <p:nvPr/>
                  </p:nvSpPr>
                  <p:spPr>
                    <a:xfrm rot="4501200">
                      <a:off x="2842560" y="298368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Freeform 878"/>
                    <p:cNvSpPr/>
                    <p:nvPr/>
                  </p:nvSpPr>
                  <p:spPr>
                    <a:xfrm rot="4501200">
                      <a:off x="2855880" y="3012480"/>
                      <a:ext cx="2840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Freeform 879"/>
                    <p:cNvSpPr/>
                    <p:nvPr/>
                  </p:nvSpPr>
                  <p:spPr>
                    <a:xfrm rot="4501200">
                      <a:off x="2929680" y="2993040"/>
                      <a:ext cx="21420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Freeform 880"/>
                    <p:cNvSpPr/>
                    <p:nvPr/>
                  </p:nvSpPr>
                  <p:spPr>
                    <a:xfrm rot="4501200">
                      <a:off x="2907360" y="298656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Freeform 881"/>
                    <p:cNvSpPr/>
                    <p:nvPr/>
                  </p:nvSpPr>
                  <p:spPr>
                    <a:xfrm rot="4501200">
                      <a:off x="2882880" y="302832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Freeform 882"/>
                    <p:cNvSpPr/>
                    <p:nvPr/>
                  </p:nvSpPr>
                  <p:spPr>
                    <a:xfrm rot="4501200">
                      <a:off x="2925000" y="2954520"/>
                      <a:ext cx="262800" cy="24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Line 883"/>
                    <p:cNvSpPr/>
                    <p:nvPr/>
                  </p:nvSpPr>
                  <p:spPr>
                    <a:xfrm flipV="1">
                      <a:off x="2953440" y="3000960"/>
                      <a:ext cx="190800" cy="25092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Freeform 884"/>
                    <p:cNvSpPr/>
                    <p:nvPr/>
                  </p:nvSpPr>
                  <p:spPr>
                    <a:xfrm rot="4501200">
                      <a:off x="2970720" y="3007440"/>
                      <a:ext cx="15876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Freeform 885"/>
                    <p:cNvSpPr/>
                    <p:nvPr/>
                  </p:nvSpPr>
                  <p:spPr>
                    <a:xfrm rot="4501200">
                      <a:off x="3007440" y="3017880"/>
                      <a:ext cx="123120" cy="25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Freeform 886"/>
                    <p:cNvSpPr/>
                    <p:nvPr/>
                  </p:nvSpPr>
                  <p:spPr>
                    <a:xfrm rot="4501200">
                      <a:off x="3040200" y="3027960"/>
                      <a:ext cx="8244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Freeform 887"/>
                    <p:cNvSpPr/>
                    <p:nvPr/>
                  </p:nvSpPr>
                  <p:spPr>
                    <a:xfrm rot="4501200">
                      <a:off x="3067200" y="304992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Freeform 888"/>
                    <p:cNvSpPr/>
                    <p:nvPr/>
                  </p:nvSpPr>
                  <p:spPr>
                    <a:xfrm rot="4501200">
                      <a:off x="3089160" y="3040200"/>
                      <a:ext cx="4752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Freeform 889"/>
                    <p:cNvSpPr/>
                    <p:nvPr/>
                  </p:nvSpPr>
                  <p:spPr>
                    <a:xfrm rot="4501200">
                      <a:off x="3070440" y="308484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Freeform 890"/>
                    <p:cNvSpPr/>
                    <p:nvPr/>
                  </p:nvSpPr>
                  <p:spPr>
                    <a:xfrm rot="4501200">
                      <a:off x="3049920" y="3137760"/>
                      <a:ext cx="79200" cy="23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Freeform 891"/>
                    <p:cNvSpPr/>
                    <p:nvPr/>
                  </p:nvSpPr>
                  <p:spPr>
                    <a:xfrm rot="4501200">
                      <a:off x="3055680" y="312660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Freeform 892"/>
                    <p:cNvSpPr/>
                    <p:nvPr/>
                  </p:nvSpPr>
                  <p:spPr>
                    <a:xfrm rot="4501200">
                      <a:off x="3006000" y="317988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Freeform 893"/>
                    <p:cNvSpPr/>
                    <p:nvPr/>
                  </p:nvSpPr>
                  <p:spPr>
                    <a:xfrm rot="4501200">
                      <a:off x="2968920" y="3243240"/>
                      <a:ext cx="23832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Freeform 894"/>
                    <p:cNvSpPr/>
                    <p:nvPr/>
                  </p:nvSpPr>
                  <p:spPr>
                    <a:xfrm rot="4501200">
                      <a:off x="2939400" y="328104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Freeform 895"/>
                    <p:cNvSpPr/>
                    <p:nvPr/>
                  </p:nvSpPr>
                  <p:spPr>
                    <a:xfrm rot="4501200">
                      <a:off x="2906280" y="328356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Freeform 896"/>
                    <p:cNvSpPr/>
                    <p:nvPr/>
                  </p:nvSpPr>
                  <p:spPr>
                    <a:xfrm rot="4501200">
                      <a:off x="2872080" y="332460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Freeform 897"/>
                    <p:cNvSpPr/>
                    <p:nvPr/>
                  </p:nvSpPr>
                  <p:spPr>
                    <a:xfrm rot="4501200">
                      <a:off x="2883240" y="329472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Freeform 898"/>
                    <p:cNvSpPr/>
                    <p:nvPr/>
                  </p:nvSpPr>
                  <p:spPr>
                    <a:xfrm rot="4501200">
                      <a:off x="2869560" y="3252240"/>
                      <a:ext cx="9072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899"/>
                    <p:cNvSpPr/>
                    <p:nvPr/>
                  </p:nvSpPr>
                  <p:spPr>
                    <a:xfrm rot="4501200">
                      <a:off x="2872080" y="322524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Freeform 900"/>
                    <p:cNvSpPr/>
                    <p:nvPr/>
                  </p:nvSpPr>
                  <p:spPr>
                    <a:xfrm rot="4501200">
                      <a:off x="2828160" y="310464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Freeform 901"/>
                    <p:cNvSpPr/>
                    <p:nvPr/>
                  </p:nvSpPr>
                  <p:spPr>
                    <a:xfrm rot="4501200">
                      <a:off x="2870280" y="334296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Freeform 902"/>
                    <p:cNvSpPr/>
                    <p:nvPr/>
                  </p:nvSpPr>
                  <p:spPr>
                    <a:xfrm rot="4501200">
                      <a:off x="2844360" y="327312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Freeform 903"/>
                    <p:cNvSpPr/>
                    <p:nvPr/>
                  </p:nvSpPr>
                  <p:spPr>
                    <a:xfrm rot="4501200">
                      <a:off x="3080880" y="3067560"/>
                      <a:ext cx="8640" cy="26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Freeform 904"/>
                    <p:cNvSpPr/>
                    <p:nvPr/>
                  </p:nvSpPr>
                  <p:spPr>
                    <a:xfrm rot="4501200">
                      <a:off x="2826000" y="311184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Freeform 905"/>
                    <p:cNvSpPr/>
                    <p:nvPr/>
                  </p:nvSpPr>
                  <p:spPr>
                    <a:xfrm rot="4501200">
                      <a:off x="2769840" y="3093480"/>
                      <a:ext cx="124560" cy="20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Freeform 906"/>
                    <p:cNvSpPr/>
                    <p:nvPr/>
                  </p:nvSpPr>
                  <p:spPr>
                    <a:xfrm rot="4501200">
                      <a:off x="2827440" y="321948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Freeform 907"/>
                    <p:cNvSpPr/>
                    <p:nvPr/>
                  </p:nvSpPr>
                  <p:spPr>
                    <a:xfrm rot="5182200">
                      <a:off x="2943360" y="330624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Freeform 908"/>
                    <p:cNvSpPr/>
                    <p:nvPr/>
                  </p:nvSpPr>
                  <p:spPr>
                    <a:xfrm rot="4501200">
                      <a:off x="3020760" y="314604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46" name="Group 953"/>
              <p:cNvGrpSpPr/>
              <p:nvPr/>
            </p:nvGrpSpPr>
            <p:grpSpPr>
              <a:xfrm>
                <a:off x="2299680" y="3418920"/>
                <a:ext cx="818640" cy="765000"/>
                <a:chOff x="2299680" y="3418920"/>
                <a:chExt cx="818640" cy="765000"/>
              </a:xfrm>
            </p:grpSpPr>
            <p:sp>
              <p:nvSpPr>
                <p:cNvPr id="747" name="Freeform 954"/>
                <p:cNvSpPr/>
                <p:nvPr/>
              </p:nvSpPr>
              <p:spPr>
                <a:xfrm rot="7509000">
                  <a:off x="2695680" y="390636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8" name="Group 955"/>
                <p:cNvGrpSpPr/>
                <p:nvPr/>
              </p:nvGrpSpPr>
              <p:grpSpPr>
                <a:xfrm>
                  <a:off x="2299680" y="3418920"/>
                  <a:ext cx="818640" cy="765000"/>
                  <a:chOff x="2299680" y="3418920"/>
                  <a:chExt cx="818640" cy="765000"/>
                </a:xfrm>
              </p:grpSpPr>
              <p:grpSp>
                <p:nvGrpSpPr>
                  <p:cNvPr id="749" name="Group 956"/>
                  <p:cNvGrpSpPr/>
                  <p:nvPr/>
                </p:nvGrpSpPr>
                <p:grpSpPr>
                  <a:xfrm>
                    <a:off x="2299680" y="3418920"/>
                    <a:ext cx="537120" cy="489600"/>
                    <a:chOff x="2299680" y="3418920"/>
                    <a:chExt cx="537120" cy="489600"/>
                  </a:xfrm>
                </p:grpSpPr>
                <p:sp>
                  <p:nvSpPr>
                    <p:cNvPr id="750" name="AutoShape 957"/>
                    <p:cNvSpPr/>
                    <p:nvPr/>
                  </p:nvSpPr>
                  <p:spPr>
                    <a:xfrm rot="7509000">
                      <a:off x="2732760" y="380880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Freeform 958"/>
                    <p:cNvSpPr/>
                    <p:nvPr/>
                  </p:nvSpPr>
                  <p:spPr>
                    <a:xfrm rot="7509000">
                      <a:off x="2576880" y="347868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Oval 959"/>
                    <p:cNvSpPr/>
                    <p:nvPr/>
                  </p:nvSpPr>
                  <p:spPr>
                    <a:xfrm rot="8053200">
                      <a:off x="2361600" y="340596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3" name="Group 960"/>
                  <p:cNvGrpSpPr/>
                  <p:nvPr/>
                </p:nvGrpSpPr>
                <p:grpSpPr>
                  <a:xfrm>
                    <a:off x="2553840" y="3573360"/>
                    <a:ext cx="564480" cy="610560"/>
                    <a:chOff x="2553840" y="3573360"/>
                    <a:chExt cx="564480" cy="610560"/>
                  </a:xfrm>
                </p:grpSpPr>
                <p:sp>
                  <p:nvSpPr>
                    <p:cNvPr id="754" name="Freeform 961"/>
                    <p:cNvSpPr/>
                    <p:nvPr/>
                  </p:nvSpPr>
                  <p:spPr>
                    <a:xfrm rot="7509000">
                      <a:off x="2727720" y="373356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Freeform 962"/>
                    <p:cNvSpPr/>
                    <p:nvPr/>
                  </p:nvSpPr>
                  <p:spPr>
                    <a:xfrm rot="7509000">
                      <a:off x="2694240" y="367056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Freeform 963"/>
                    <p:cNvSpPr/>
                    <p:nvPr/>
                  </p:nvSpPr>
                  <p:spPr>
                    <a:xfrm rot="7509000">
                      <a:off x="2753640" y="3696480"/>
                      <a:ext cx="28404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Freeform 964"/>
                    <p:cNvSpPr/>
                    <p:nvPr/>
                  </p:nvSpPr>
                  <p:spPr>
                    <a:xfrm rot="7509000">
                      <a:off x="2782800" y="367488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Freeform 965"/>
                    <p:cNvSpPr/>
                    <p:nvPr/>
                  </p:nvSpPr>
                  <p:spPr>
                    <a:xfrm rot="7509000">
                      <a:off x="2779920" y="368640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Freeform 966"/>
                    <p:cNvSpPr/>
                    <p:nvPr/>
                  </p:nvSpPr>
                  <p:spPr>
                    <a:xfrm rot="7509000">
                      <a:off x="2768760" y="3711600"/>
                      <a:ext cx="2840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967"/>
                    <p:cNvSpPr/>
                    <p:nvPr/>
                  </p:nvSpPr>
                  <p:spPr>
                    <a:xfrm rot="7509000">
                      <a:off x="2817720" y="3716640"/>
                      <a:ext cx="21420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Freeform 968"/>
                    <p:cNvSpPr/>
                    <p:nvPr/>
                  </p:nvSpPr>
                  <p:spPr>
                    <a:xfrm rot="7509000">
                      <a:off x="2809800" y="371340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2" name="Freeform 969"/>
                    <p:cNvSpPr/>
                    <p:nvPr/>
                  </p:nvSpPr>
                  <p:spPr>
                    <a:xfrm rot="7509000">
                      <a:off x="2762640" y="372132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Freeform 970"/>
                    <p:cNvSpPr/>
                    <p:nvPr/>
                  </p:nvSpPr>
                  <p:spPr>
                    <a:xfrm rot="7509000">
                      <a:off x="2810880" y="3695400"/>
                      <a:ext cx="262800" cy="24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Line 971"/>
                    <p:cNvSpPr/>
                    <p:nvPr/>
                  </p:nvSpPr>
                  <p:spPr>
                    <a:xfrm flipV="1">
                      <a:off x="2742120" y="3836520"/>
                      <a:ext cx="314640" cy="1440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5" name="Freeform 972"/>
                    <p:cNvSpPr/>
                    <p:nvPr/>
                  </p:nvSpPr>
                  <p:spPr>
                    <a:xfrm rot="7509000">
                      <a:off x="2816640" y="3724200"/>
                      <a:ext cx="15876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Freeform 973"/>
                    <p:cNvSpPr/>
                    <p:nvPr/>
                  </p:nvSpPr>
                  <p:spPr>
                    <a:xfrm rot="7509000">
                      <a:off x="2836080" y="3743640"/>
                      <a:ext cx="123120" cy="25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Freeform 974"/>
                    <p:cNvSpPr/>
                    <p:nvPr/>
                  </p:nvSpPr>
                  <p:spPr>
                    <a:xfrm rot="7509000">
                      <a:off x="2850840" y="3756960"/>
                      <a:ext cx="8244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Freeform 975"/>
                    <p:cNvSpPr/>
                    <p:nvPr/>
                  </p:nvSpPr>
                  <p:spPr>
                    <a:xfrm rot="7509000">
                      <a:off x="2851200" y="377244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Freeform 976"/>
                    <p:cNvSpPr/>
                    <p:nvPr/>
                  </p:nvSpPr>
                  <p:spPr>
                    <a:xfrm rot="7509000">
                      <a:off x="2862000" y="3781800"/>
                      <a:ext cx="4752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Freeform 977"/>
                    <p:cNvSpPr/>
                    <p:nvPr/>
                  </p:nvSpPr>
                  <p:spPr>
                    <a:xfrm rot="7509000">
                      <a:off x="2828520" y="380016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Freeform 978"/>
                    <p:cNvSpPr/>
                    <p:nvPr/>
                  </p:nvSpPr>
                  <p:spPr>
                    <a:xfrm rot="7509000">
                      <a:off x="2785680" y="3839400"/>
                      <a:ext cx="79200" cy="23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Freeform 979"/>
                    <p:cNvSpPr/>
                    <p:nvPr/>
                  </p:nvSpPr>
                  <p:spPr>
                    <a:xfrm rot="7509000">
                      <a:off x="2761920" y="385740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Freeform 980"/>
                    <p:cNvSpPr/>
                    <p:nvPr/>
                  </p:nvSpPr>
                  <p:spPr>
                    <a:xfrm rot="7509000">
                      <a:off x="2698200" y="387864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Freeform 981"/>
                    <p:cNvSpPr/>
                    <p:nvPr/>
                  </p:nvSpPr>
                  <p:spPr>
                    <a:xfrm rot="7509000">
                      <a:off x="2641680" y="3914280"/>
                      <a:ext cx="23832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Freeform 982"/>
                    <p:cNvSpPr/>
                    <p:nvPr/>
                  </p:nvSpPr>
                  <p:spPr>
                    <a:xfrm rot="7509000">
                      <a:off x="2600640" y="393516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Freeform 983"/>
                    <p:cNvSpPr/>
                    <p:nvPr/>
                  </p:nvSpPr>
                  <p:spPr>
                    <a:xfrm rot="7509000">
                      <a:off x="2569320" y="392868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984"/>
                    <p:cNvSpPr/>
                    <p:nvPr/>
                  </p:nvSpPr>
                  <p:spPr>
                    <a:xfrm rot="7509000">
                      <a:off x="2590920" y="390600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Freeform 985"/>
                    <p:cNvSpPr/>
                    <p:nvPr/>
                  </p:nvSpPr>
                  <p:spPr>
                    <a:xfrm rot="7509000">
                      <a:off x="2626920" y="387108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Freeform 986"/>
                    <p:cNvSpPr/>
                    <p:nvPr/>
                  </p:nvSpPr>
                  <p:spPr>
                    <a:xfrm rot="7509000">
                      <a:off x="2646000" y="3809160"/>
                      <a:ext cx="9072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Freeform 987"/>
                    <p:cNvSpPr/>
                    <p:nvPr/>
                  </p:nvSpPr>
                  <p:spPr>
                    <a:xfrm rot="7509000">
                      <a:off x="2669400" y="378252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Freeform 988"/>
                    <p:cNvSpPr/>
                    <p:nvPr/>
                  </p:nvSpPr>
                  <p:spPr>
                    <a:xfrm rot="7509000">
                      <a:off x="2727000" y="374472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Freeform 989"/>
                    <p:cNvSpPr/>
                    <p:nvPr/>
                  </p:nvSpPr>
                  <p:spPr>
                    <a:xfrm rot="7509000">
                      <a:off x="2572920" y="393048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Freeform 990"/>
                    <p:cNvSpPr/>
                    <p:nvPr/>
                  </p:nvSpPr>
                  <p:spPr>
                    <a:xfrm rot="7509000">
                      <a:off x="2592360" y="382572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Freeform 991"/>
                    <p:cNvSpPr/>
                    <p:nvPr/>
                  </p:nvSpPr>
                  <p:spPr>
                    <a:xfrm rot="7509000">
                      <a:off x="2863800" y="3787200"/>
                      <a:ext cx="8640" cy="26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Freeform 992"/>
                    <p:cNvSpPr/>
                    <p:nvPr/>
                  </p:nvSpPr>
                  <p:spPr>
                    <a:xfrm rot="7509000">
                      <a:off x="2686680" y="368928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Freeform 993"/>
                    <p:cNvSpPr/>
                    <p:nvPr/>
                  </p:nvSpPr>
                  <p:spPr>
                    <a:xfrm rot="7509000">
                      <a:off x="2644920" y="3619800"/>
                      <a:ext cx="124560" cy="20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Freeform 994"/>
                    <p:cNvSpPr/>
                    <p:nvPr/>
                  </p:nvSpPr>
                  <p:spPr>
                    <a:xfrm rot="7509000">
                      <a:off x="2606400" y="373392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Freeform 995"/>
                    <p:cNvSpPr/>
                    <p:nvPr/>
                  </p:nvSpPr>
                  <p:spPr>
                    <a:xfrm rot="8190000">
                      <a:off x="2666520" y="391320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Freeform 996"/>
                    <p:cNvSpPr/>
                    <p:nvPr/>
                  </p:nvSpPr>
                  <p:spPr>
                    <a:xfrm rot="7509000">
                      <a:off x="2784600" y="382824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90" name="Group 997"/>
              <p:cNvGrpSpPr/>
              <p:nvPr/>
            </p:nvGrpSpPr>
            <p:grpSpPr>
              <a:xfrm>
                <a:off x="1426680" y="2454480"/>
                <a:ext cx="764640" cy="810360"/>
                <a:chOff x="1426680" y="2454480"/>
                <a:chExt cx="764640" cy="810360"/>
              </a:xfrm>
            </p:grpSpPr>
            <p:sp>
              <p:nvSpPr>
                <p:cNvPr id="791" name="Freeform 998"/>
                <p:cNvSpPr/>
                <p:nvPr/>
              </p:nvSpPr>
              <p:spPr>
                <a:xfrm rot="18788400">
                  <a:off x="1761480" y="270180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2" name="Group 999"/>
                <p:cNvGrpSpPr/>
                <p:nvPr/>
              </p:nvGrpSpPr>
              <p:grpSpPr>
                <a:xfrm>
                  <a:off x="1426680" y="2454480"/>
                  <a:ext cx="764640" cy="810360"/>
                  <a:chOff x="1426680" y="2454480"/>
                  <a:chExt cx="764640" cy="810360"/>
                </a:xfrm>
              </p:grpSpPr>
              <p:grpSp>
                <p:nvGrpSpPr>
                  <p:cNvPr id="793" name="Group 1000"/>
                  <p:cNvGrpSpPr/>
                  <p:nvPr/>
                </p:nvGrpSpPr>
                <p:grpSpPr>
                  <a:xfrm>
                    <a:off x="1712520" y="2716560"/>
                    <a:ext cx="478800" cy="548280"/>
                    <a:chOff x="1712520" y="2716560"/>
                    <a:chExt cx="478800" cy="548280"/>
                  </a:xfrm>
                </p:grpSpPr>
                <p:sp>
                  <p:nvSpPr>
                    <p:cNvPr id="794" name="AutoShape 1001"/>
                    <p:cNvSpPr/>
                    <p:nvPr/>
                  </p:nvSpPr>
                  <p:spPr>
                    <a:xfrm rot="18788400">
                      <a:off x="1726920" y="273708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Freeform 1002"/>
                    <p:cNvSpPr/>
                    <p:nvPr/>
                  </p:nvSpPr>
                  <p:spPr>
                    <a:xfrm rot="18788400">
                      <a:off x="1904760" y="273564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Oval 1003"/>
                    <p:cNvSpPr/>
                    <p:nvPr/>
                  </p:nvSpPr>
                  <p:spPr>
                    <a:xfrm rot="19332000">
                      <a:off x="2091600" y="307836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7" name="Group 1004"/>
                  <p:cNvGrpSpPr/>
                  <p:nvPr/>
                </p:nvGrpSpPr>
                <p:grpSpPr>
                  <a:xfrm>
                    <a:off x="1426680" y="2454480"/>
                    <a:ext cx="584280" cy="580320"/>
                    <a:chOff x="1426680" y="2454480"/>
                    <a:chExt cx="584280" cy="580320"/>
                  </a:xfrm>
                </p:grpSpPr>
                <p:sp>
                  <p:nvSpPr>
                    <p:cNvPr id="798" name="Freeform 1005"/>
                    <p:cNvSpPr/>
                    <p:nvPr/>
                  </p:nvSpPr>
                  <p:spPr>
                    <a:xfrm rot="18788400">
                      <a:off x="1654560" y="281160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Freeform 1006"/>
                    <p:cNvSpPr/>
                    <p:nvPr/>
                  </p:nvSpPr>
                  <p:spPr>
                    <a:xfrm rot="18788400">
                      <a:off x="1564560" y="287784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Freeform 1007"/>
                    <p:cNvSpPr/>
                    <p:nvPr/>
                  </p:nvSpPr>
                  <p:spPr>
                    <a:xfrm rot="18788400">
                      <a:off x="1497240" y="2843640"/>
                      <a:ext cx="28404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Freeform 1008"/>
                    <p:cNvSpPr/>
                    <p:nvPr/>
                  </p:nvSpPr>
                  <p:spPr>
                    <a:xfrm rot="18788400">
                      <a:off x="1456200" y="283752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Freeform 1009"/>
                    <p:cNvSpPr/>
                    <p:nvPr/>
                  </p:nvSpPr>
                  <p:spPr>
                    <a:xfrm rot="18788400">
                      <a:off x="1463760" y="280188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Freeform 1010"/>
                    <p:cNvSpPr/>
                    <p:nvPr/>
                  </p:nvSpPr>
                  <p:spPr>
                    <a:xfrm rot="18788400">
                      <a:off x="1487880" y="2781360"/>
                      <a:ext cx="2840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Freeform 1011"/>
                    <p:cNvSpPr/>
                    <p:nvPr/>
                  </p:nvSpPr>
                  <p:spPr>
                    <a:xfrm rot="18788400">
                      <a:off x="1514520" y="2706840"/>
                      <a:ext cx="21420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Freeform 1012"/>
                    <p:cNvSpPr/>
                    <p:nvPr/>
                  </p:nvSpPr>
                  <p:spPr>
                    <a:xfrm rot="18788400">
                      <a:off x="1484640" y="273096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Freeform 1013"/>
                    <p:cNvSpPr/>
                    <p:nvPr/>
                  </p:nvSpPr>
                  <p:spPr>
                    <a:xfrm rot="18788400">
                      <a:off x="1532520" y="272988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Freeform 1014"/>
                    <p:cNvSpPr/>
                    <p:nvPr/>
                  </p:nvSpPr>
                  <p:spPr>
                    <a:xfrm rot="18788400">
                      <a:off x="1474200" y="2661840"/>
                      <a:ext cx="262800" cy="24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Line 1015"/>
                    <p:cNvSpPr/>
                    <p:nvPr/>
                  </p:nvSpPr>
                  <p:spPr>
                    <a:xfrm flipH="1" flipV="1">
                      <a:off x="1495080" y="2750040"/>
                      <a:ext cx="313560" cy="2952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Freeform 1016"/>
                    <p:cNvSpPr/>
                    <p:nvPr/>
                  </p:nvSpPr>
                  <p:spPr>
                    <a:xfrm rot="18788400">
                      <a:off x="1576440" y="2635920"/>
                      <a:ext cx="15876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Freeform 1017"/>
                    <p:cNvSpPr/>
                    <p:nvPr/>
                  </p:nvSpPr>
                  <p:spPr>
                    <a:xfrm rot="18788400">
                      <a:off x="1595880" y="2608920"/>
                      <a:ext cx="123120" cy="25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Freeform 1018"/>
                    <p:cNvSpPr/>
                    <p:nvPr/>
                  </p:nvSpPr>
                  <p:spPr>
                    <a:xfrm rot="18788400">
                      <a:off x="1624680" y="2581560"/>
                      <a:ext cx="8244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Freeform 1019"/>
                    <p:cNvSpPr/>
                    <p:nvPr/>
                  </p:nvSpPr>
                  <p:spPr>
                    <a:xfrm rot="18788400">
                      <a:off x="1668960" y="254988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Freeform 1020"/>
                    <p:cNvSpPr/>
                    <p:nvPr/>
                  </p:nvSpPr>
                  <p:spPr>
                    <a:xfrm rot="18788400">
                      <a:off x="1654560" y="2514960"/>
                      <a:ext cx="4752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Freeform 1021"/>
                    <p:cNvSpPr/>
                    <p:nvPr/>
                  </p:nvSpPr>
                  <p:spPr>
                    <a:xfrm rot="18788400">
                      <a:off x="1690920" y="253224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Freeform 1022"/>
                    <p:cNvSpPr/>
                    <p:nvPr/>
                  </p:nvSpPr>
                  <p:spPr>
                    <a:xfrm rot="18788400">
                      <a:off x="1701360" y="2542680"/>
                      <a:ext cx="79200" cy="23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Freeform 1023"/>
                    <p:cNvSpPr/>
                    <p:nvPr/>
                  </p:nvSpPr>
                  <p:spPr>
                    <a:xfrm rot="18788400">
                      <a:off x="1652040" y="246564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Freeform 1024"/>
                    <p:cNvSpPr/>
                    <p:nvPr/>
                  </p:nvSpPr>
                  <p:spPr>
                    <a:xfrm rot="18788400">
                      <a:off x="1670040" y="249516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Freeform 1025"/>
                    <p:cNvSpPr/>
                    <p:nvPr/>
                  </p:nvSpPr>
                  <p:spPr>
                    <a:xfrm rot="18788400">
                      <a:off x="1692720" y="2522520"/>
                      <a:ext cx="23832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Freeform 1026"/>
                    <p:cNvSpPr/>
                    <p:nvPr/>
                  </p:nvSpPr>
                  <p:spPr>
                    <a:xfrm rot="18788400">
                      <a:off x="1699920" y="253908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Freeform 1027"/>
                    <p:cNvSpPr/>
                    <p:nvPr/>
                  </p:nvSpPr>
                  <p:spPr>
                    <a:xfrm rot="18788400">
                      <a:off x="1685160" y="254628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Freeform 1028"/>
                    <p:cNvSpPr/>
                    <p:nvPr/>
                  </p:nvSpPr>
                  <p:spPr>
                    <a:xfrm rot="18788400">
                      <a:off x="1774080" y="271080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Freeform 1029"/>
                    <p:cNvSpPr/>
                    <p:nvPr/>
                  </p:nvSpPr>
                  <p:spPr>
                    <a:xfrm rot="18788400">
                      <a:off x="1792440" y="273276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Freeform 1030"/>
                    <p:cNvSpPr/>
                    <p:nvPr/>
                  </p:nvSpPr>
                  <p:spPr>
                    <a:xfrm rot="18788400">
                      <a:off x="1812240" y="2760120"/>
                      <a:ext cx="9072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Freeform 1031"/>
                    <p:cNvSpPr/>
                    <p:nvPr/>
                  </p:nvSpPr>
                  <p:spPr>
                    <a:xfrm rot="18788400">
                      <a:off x="1811520" y="277668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Freeform 1032"/>
                    <p:cNvSpPr/>
                    <p:nvPr/>
                  </p:nvSpPr>
                  <p:spPr>
                    <a:xfrm rot="18788400">
                      <a:off x="1583640" y="285300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Freeform 1033"/>
                    <p:cNvSpPr/>
                    <p:nvPr/>
                  </p:nvSpPr>
                  <p:spPr>
                    <a:xfrm rot="18788400">
                      <a:off x="1762200" y="269460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Freeform 1034"/>
                    <p:cNvSpPr/>
                    <p:nvPr/>
                  </p:nvSpPr>
                  <p:spPr>
                    <a:xfrm rot="18788400">
                      <a:off x="1801800" y="272376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Freeform 1035"/>
                    <p:cNvSpPr/>
                    <p:nvPr/>
                  </p:nvSpPr>
                  <p:spPr>
                    <a:xfrm rot="18788400">
                      <a:off x="1688760" y="2565360"/>
                      <a:ext cx="8640" cy="26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Freeform 1036"/>
                    <p:cNvSpPr/>
                    <p:nvPr/>
                  </p:nvSpPr>
                  <p:spPr>
                    <a:xfrm rot="18788400">
                      <a:off x="1715400" y="279108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Freeform 1037"/>
                    <p:cNvSpPr/>
                    <p:nvPr/>
                  </p:nvSpPr>
                  <p:spPr>
                    <a:xfrm rot="18788400">
                      <a:off x="1762920" y="2809800"/>
                      <a:ext cx="124560" cy="20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Freeform 1038"/>
                    <p:cNvSpPr/>
                    <p:nvPr/>
                  </p:nvSpPr>
                  <p:spPr>
                    <a:xfrm rot="18788400">
                      <a:off x="1859400" y="273996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Freeform 1039"/>
                    <p:cNvSpPr/>
                    <p:nvPr/>
                  </p:nvSpPr>
                  <p:spPr>
                    <a:xfrm rot="19470000">
                      <a:off x="1791720" y="269856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Freeform 1040"/>
                    <p:cNvSpPr/>
                    <p:nvPr/>
                  </p:nvSpPr>
                  <p:spPr>
                    <a:xfrm rot="18788400">
                      <a:off x="1708200" y="261072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34" name="Group 1041"/>
              <p:cNvGrpSpPr/>
              <p:nvPr/>
            </p:nvGrpSpPr>
            <p:grpSpPr>
              <a:xfrm>
                <a:off x="1889280" y="2346120"/>
                <a:ext cx="666000" cy="922680"/>
                <a:chOff x="1889280" y="2346120"/>
                <a:chExt cx="666000" cy="922680"/>
              </a:xfrm>
            </p:grpSpPr>
            <p:sp>
              <p:nvSpPr>
                <p:cNvPr id="835" name="Freeform 1042"/>
                <p:cNvSpPr/>
                <p:nvPr/>
              </p:nvSpPr>
              <p:spPr>
                <a:xfrm rot="21359400">
                  <a:off x="2257560" y="261576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6" name="Group 1043"/>
                <p:cNvGrpSpPr/>
                <p:nvPr/>
              </p:nvGrpSpPr>
              <p:grpSpPr>
                <a:xfrm>
                  <a:off x="1889280" y="2346120"/>
                  <a:ext cx="666000" cy="922680"/>
                  <a:chOff x="1889280" y="2346120"/>
                  <a:chExt cx="666000" cy="922680"/>
                </a:xfrm>
              </p:grpSpPr>
              <p:grpSp>
                <p:nvGrpSpPr>
                  <p:cNvPr id="837" name="Group 1044"/>
                  <p:cNvGrpSpPr/>
                  <p:nvPr/>
                </p:nvGrpSpPr>
                <p:grpSpPr>
                  <a:xfrm>
                    <a:off x="2185200" y="2603880"/>
                    <a:ext cx="98640" cy="664920"/>
                    <a:chOff x="2185200" y="2603880"/>
                    <a:chExt cx="98640" cy="664920"/>
                  </a:xfrm>
                </p:grpSpPr>
                <p:sp>
                  <p:nvSpPr>
                    <p:cNvPr id="838" name="AutoShape 1045"/>
                    <p:cNvSpPr/>
                    <p:nvPr/>
                  </p:nvSpPr>
                  <p:spPr>
                    <a:xfrm rot="21359400">
                      <a:off x="2190240" y="260676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Freeform 1046"/>
                    <p:cNvSpPr/>
                    <p:nvPr/>
                  </p:nvSpPr>
                  <p:spPr>
                    <a:xfrm rot="21359400">
                      <a:off x="2206800" y="266472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Oval 1047"/>
                    <p:cNvSpPr/>
                    <p:nvPr/>
                  </p:nvSpPr>
                  <p:spPr>
                    <a:xfrm rot="302400">
                      <a:off x="2193480" y="307440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1" name="Group 1048"/>
                  <p:cNvGrpSpPr/>
                  <p:nvPr/>
                </p:nvGrpSpPr>
                <p:grpSpPr>
                  <a:xfrm>
                    <a:off x="1889280" y="2346120"/>
                    <a:ext cx="666000" cy="541800"/>
                    <a:chOff x="1889280" y="2346120"/>
                    <a:chExt cx="666000" cy="541800"/>
                  </a:xfrm>
                </p:grpSpPr>
                <p:sp>
                  <p:nvSpPr>
                    <p:cNvPr id="842" name="Freeform 1049"/>
                    <p:cNvSpPr/>
                    <p:nvPr/>
                  </p:nvSpPr>
                  <p:spPr>
                    <a:xfrm rot="21359400">
                      <a:off x="2078640" y="263520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Freeform 1050"/>
                    <p:cNvSpPr/>
                    <p:nvPr/>
                  </p:nvSpPr>
                  <p:spPr>
                    <a:xfrm rot="21359400">
                      <a:off x="1954800" y="266292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Freeform 1051"/>
                    <p:cNvSpPr/>
                    <p:nvPr/>
                  </p:nvSpPr>
                  <p:spPr>
                    <a:xfrm rot="21359400">
                      <a:off x="1927800" y="2596320"/>
                      <a:ext cx="28404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Freeform 1052"/>
                    <p:cNvSpPr/>
                    <p:nvPr/>
                  </p:nvSpPr>
                  <p:spPr>
                    <a:xfrm rot="21359400">
                      <a:off x="1891800" y="256392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6" name="Freeform 1053"/>
                    <p:cNvSpPr/>
                    <p:nvPr/>
                  </p:nvSpPr>
                  <p:spPr>
                    <a:xfrm rot="21359400">
                      <a:off x="1914120" y="254016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Freeform 1054"/>
                    <p:cNvSpPr/>
                    <p:nvPr/>
                  </p:nvSpPr>
                  <p:spPr>
                    <a:xfrm rot="21359400">
                      <a:off x="1947960" y="2537640"/>
                      <a:ext cx="28404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Freeform 1055"/>
                    <p:cNvSpPr/>
                    <p:nvPr/>
                  </p:nvSpPr>
                  <p:spPr>
                    <a:xfrm rot="21359400">
                      <a:off x="2003760" y="2468160"/>
                      <a:ext cx="214200" cy="18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Freeform 1056"/>
                    <p:cNvSpPr/>
                    <p:nvPr/>
                  </p:nvSpPr>
                  <p:spPr>
                    <a:xfrm rot="21359400">
                      <a:off x="1968120" y="248076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Freeform 1057"/>
                    <p:cNvSpPr/>
                    <p:nvPr/>
                  </p:nvSpPr>
                  <p:spPr>
                    <a:xfrm rot="21359400">
                      <a:off x="2004480" y="251244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Freeform 1058"/>
                    <p:cNvSpPr/>
                    <p:nvPr/>
                  </p:nvSpPr>
                  <p:spPr>
                    <a:xfrm rot="21359400">
                      <a:off x="1976760" y="2415600"/>
                      <a:ext cx="262800" cy="24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Line 1059"/>
                    <p:cNvSpPr/>
                    <p:nvPr/>
                  </p:nvSpPr>
                  <p:spPr>
                    <a:xfrm flipH="1" flipV="1">
                      <a:off x="2050560" y="2437920"/>
                      <a:ext cx="209880" cy="23508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Freeform 1060"/>
                    <p:cNvSpPr/>
                    <p:nvPr/>
                  </p:nvSpPr>
                  <p:spPr>
                    <a:xfrm rot="21359400">
                      <a:off x="2081880" y="2430720"/>
                      <a:ext cx="15876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Freeform 1061"/>
                    <p:cNvSpPr/>
                    <p:nvPr/>
                  </p:nvSpPr>
                  <p:spPr>
                    <a:xfrm rot="21359400">
                      <a:off x="2116800" y="2410920"/>
                      <a:ext cx="123120" cy="25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Freeform 1062"/>
                    <p:cNvSpPr/>
                    <p:nvPr/>
                  </p:nvSpPr>
                  <p:spPr>
                    <a:xfrm rot="21359400">
                      <a:off x="2157120" y="2394360"/>
                      <a:ext cx="82440" cy="27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Freeform 1063"/>
                    <p:cNvSpPr/>
                    <p:nvPr/>
                  </p:nvSpPr>
                  <p:spPr>
                    <a:xfrm rot="21359400">
                      <a:off x="2209680" y="238500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Freeform 1064"/>
                    <p:cNvSpPr/>
                    <p:nvPr/>
                  </p:nvSpPr>
                  <p:spPr>
                    <a:xfrm rot="21359400">
                      <a:off x="2214000" y="2348280"/>
                      <a:ext cx="4752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Freeform 1065"/>
                    <p:cNvSpPr/>
                    <p:nvPr/>
                  </p:nvSpPr>
                  <p:spPr>
                    <a:xfrm rot="21359400">
                      <a:off x="2239560" y="238896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Freeform 1066"/>
                    <p:cNvSpPr/>
                    <p:nvPr/>
                  </p:nvSpPr>
                  <p:spPr>
                    <a:xfrm rot="21359400">
                      <a:off x="2251440" y="2421360"/>
                      <a:ext cx="79200" cy="23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Freeform 1067"/>
                    <p:cNvSpPr/>
                    <p:nvPr/>
                  </p:nvSpPr>
                  <p:spPr>
                    <a:xfrm rot="21359400">
                      <a:off x="2237400" y="235116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Freeform 1068"/>
                    <p:cNvSpPr/>
                    <p:nvPr/>
                  </p:nvSpPr>
                  <p:spPr>
                    <a:xfrm rot="21359400">
                      <a:off x="2239560" y="240624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Freeform 1069"/>
                    <p:cNvSpPr/>
                    <p:nvPr/>
                  </p:nvSpPr>
                  <p:spPr>
                    <a:xfrm rot="21359400">
                      <a:off x="2252520" y="2461320"/>
                      <a:ext cx="238320" cy="19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Freeform 1070"/>
                    <p:cNvSpPr/>
                    <p:nvPr/>
                  </p:nvSpPr>
                  <p:spPr>
                    <a:xfrm rot="21359400">
                      <a:off x="2253960" y="249372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Freeform 1071"/>
                    <p:cNvSpPr/>
                    <p:nvPr/>
                  </p:nvSpPr>
                  <p:spPr>
                    <a:xfrm rot="21359400">
                      <a:off x="2232000" y="250524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Freeform 1072"/>
                    <p:cNvSpPr/>
                    <p:nvPr/>
                  </p:nvSpPr>
                  <p:spPr>
                    <a:xfrm rot="21359400">
                      <a:off x="2248200" y="266220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Freeform 1073"/>
                    <p:cNvSpPr/>
                    <p:nvPr/>
                  </p:nvSpPr>
                  <p:spPr>
                    <a:xfrm rot="21359400">
                      <a:off x="2250360" y="266940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Freeform 1074"/>
                    <p:cNvSpPr/>
                    <p:nvPr/>
                  </p:nvSpPr>
                  <p:spPr>
                    <a:xfrm rot="21359400">
                      <a:off x="2241360" y="2683080"/>
                      <a:ext cx="907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Freeform 1075"/>
                    <p:cNvSpPr/>
                    <p:nvPr/>
                  </p:nvSpPr>
                  <p:spPr>
                    <a:xfrm rot="21359400">
                      <a:off x="2230200" y="268488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Freeform 1076"/>
                    <p:cNvSpPr/>
                    <p:nvPr/>
                  </p:nvSpPr>
                  <p:spPr>
                    <a:xfrm rot="21359400">
                      <a:off x="2008800" y="264888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Freeform 1077"/>
                    <p:cNvSpPr/>
                    <p:nvPr/>
                  </p:nvSpPr>
                  <p:spPr>
                    <a:xfrm rot="21359400">
                      <a:off x="2248920" y="265464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Freeform 1078"/>
                    <p:cNvSpPr/>
                    <p:nvPr/>
                  </p:nvSpPr>
                  <p:spPr>
                    <a:xfrm rot="21359400">
                      <a:off x="2241000" y="266940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Freeform 1079"/>
                    <p:cNvSpPr/>
                    <p:nvPr/>
                  </p:nvSpPr>
                  <p:spPr>
                    <a:xfrm rot="21359400">
                      <a:off x="2228040" y="2403000"/>
                      <a:ext cx="8640" cy="26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Freeform 1080"/>
                    <p:cNvSpPr/>
                    <p:nvPr/>
                  </p:nvSpPr>
                  <p:spPr>
                    <a:xfrm rot="21359400">
                      <a:off x="2116080" y="264492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Freeform 1081"/>
                    <p:cNvSpPr/>
                    <p:nvPr/>
                  </p:nvSpPr>
                  <p:spPr>
                    <a:xfrm rot="21359400">
                      <a:off x="2120040" y="2679120"/>
                      <a:ext cx="124560" cy="20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Freeform 1082"/>
                    <p:cNvSpPr/>
                    <p:nvPr/>
                  </p:nvSpPr>
                  <p:spPr>
                    <a:xfrm rot="21359400">
                      <a:off x="2256120" y="268236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Freeform 1083"/>
                    <p:cNvSpPr/>
                    <p:nvPr/>
                  </p:nvSpPr>
                  <p:spPr>
                    <a:xfrm rot="440400">
                      <a:off x="2281320" y="263412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Freeform 1084"/>
                    <p:cNvSpPr/>
                    <p:nvPr/>
                  </p:nvSpPr>
                  <p:spPr>
                    <a:xfrm rot="21359400">
                      <a:off x="2230920" y="247968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78" name="Group 1129"/>
              <p:cNvGrpSpPr/>
              <p:nvPr/>
            </p:nvGrpSpPr>
            <p:grpSpPr>
              <a:xfrm>
                <a:off x="1269360" y="2787120"/>
                <a:ext cx="888480" cy="670680"/>
                <a:chOff x="1269360" y="2787120"/>
                <a:chExt cx="888480" cy="670680"/>
              </a:xfrm>
            </p:grpSpPr>
            <p:sp>
              <p:nvSpPr>
                <p:cNvPr id="879" name="Freeform 1130"/>
                <p:cNvSpPr/>
                <p:nvPr/>
              </p:nvSpPr>
              <p:spPr>
                <a:xfrm rot="16936800">
                  <a:off x="1513080" y="303876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0" name="Group 1131"/>
                <p:cNvGrpSpPr/>
                <p:nvPr/>
              </p:nvGrpSpPr>
              <p:grpSpPr>
                <a:xfrm>
                  <a:off x="1269360" y="2787120"/>
                  <a:ext cx="888480" cy="670680"/>
                  <a:chOff x="1269360" y="2787120"/>
                  <a:chExt cx="888480" cy="670680"/>
                </a:xfrm>
              </p:grpSpPr>
              <p:grpSp>
                <p:nvGrpSpPr>
                  <p:cNvPr id="881" name="Group 1132"/>
                  <p:cNvGrpSpPr/>
                  <p:nvPr/>
                </p:nvGrpSpPr>
                <p:grpSpPr>
                  <a:xfrm>
                    <a:off x="1514160" y="3073320"/>
                    <a:ext cx="643680" cy="275040"/>
                    <a:chOff x="1514160" y="3073320"/>
                    <a:chExt cx="643680" cy="275040"/>
                  </a:xfrm>
                </p:grpSpPr>
                <p:sp>
                  <p:nvSpPr>
                    <p:cNvPr id="882" name="AutoShape 1133"/>
                    <p:cNvSpPr/>
                    <p:nvPr/>
                  </p:nvSpPr>
                  <p:spPr>
                    <a:xfrm rot="16936800">
                      <a:off x="1517040" y="308628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3" name="Freeform 1134"/>
                    <p:cNvSpPr/>
                    <p:nvPr/>
                  </p:nvSpPr>
                  <p:spPr>
                    <a:xfrm rot="16936800">
                      <a:off x="1762920" y="298044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Oval 1135"/>
                    <p:cNvSpPr/>
                    <p:nvPr/>
                  </p:nvSpPr>
                  <p:spPr>
                    <a:xfrm rot="17481000">
                      <a:off x="2037240" y="319572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5" name="Group 1136"/>
                  <p:cNvGrpSpPr/>
                  <p:nvPr/>
                </p:nvGrpSpPr>
                <p:grpSpPr>
                  <a:xfrm>
                    <a:off x="1269360" y="2787120"/>
                    <a:ext cx="520560" cy="670680"/>
                    <a:chOff x="1269360" y="2787120"/>
                    <a:chExt cx="520560" cy="670680"/>
                  </a:xfrm>
                </p:grpSpPr>
                <p:sp>
                  <p:nvSpPr>
                    <p:cNvPr id="886" name="Freeform 1137"/>
                    <p:cNvSpPr/>
                    <p:nvPr/>
                  </p:nvSpPr>
                  <p:spPr>
                    <a:xfrm rot="16936800">
                      <a:off x="1486800" y="317016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7" name="Freeform 1138"/>
                    <p:cNvSpPr/>
                    <p:nvPr/>
                  </p:nvSpPr>
                  <p:spPr>
                    <a:xfrm rot="16936800">
                      <a:off x="1433880" y="324432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Freeform 1139"/>
                    <p:cNvSpPr/>
                    <p:nvPr/>
                  </p:nvSpPr>
                  <p:spPr>
                    <a:xfrm rot="16936800">
                      <a:off x="1357920" y="3246480"/>
                      <a:ext cx="28404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Freeform 1140"/>
                    <p:cNvSpPr/>
                    <p:nvPr/>
                  </p:nvSpPr>
                  <p:spPr>
                    <a:xfrm rot="16936800">
                      <a:off x="1324080" y="325800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Freeform 1141"/>
                    <p:cNvSpPr/>
                    <p:nvPr/>
                  </p:nvSpPr>
                  <p:spPr>
                    <a:xfrm rot="16936800">
                      <a:off x="1319400" y="322200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Freeform 1142"/>
                    <p:cNvSpPr/>
                    <p:nvPr/>
                  </p:nvSpPr>
                  <p:spPr>
                    <a:xfrm rot="16936800">
                      <a:off x="1329480" y="3194640"/>
                      <a:ext cx="2840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Freeform 1143"/>
                    <p:cNvSpPr/>
                    <p:nvPr/>
                  </p:nvSpPr>
                  <p:spPr>
                    <a:xfrm rot="16936800">
                      <a:off x="1336320" y="3130200"/>
                      <a:ext cx="21420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Freeform 1144"/>
                    <p:cNvSpPr/>
                    <p:nvPr/>
                  </p:nvSpPr>
                  <p:spPr>
                    <a:xfrm rot="16936800">
                      <a:off x="1314720" y="315900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Freeform 1145"/>
                    <p:cNvSpPr/>
                    <p:nvPr/>
                  </p:nvSpPr>
                  <p:spPr>
                    <a:xfrm rot="16936800">
                      <a:off x="1355400" y="313308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Freeform 1146"/>
                    <p:cNvSpPr/>
                    <p:nvPr/>
                  </p:nvSpPr>
                  <p:spPr>
                    <a:xfrm rot="16936800">
                      <a:off x="1291320" y="3095280"/>
                      <a:ext cx="262800" cy="24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6" name="Line 1147"/>
                    <p:cNvSpPr/>
                    <p:nvPr/>
                  </p:nvSpPr>
                  <p:spPr>
                    <a:xfrm flipH="1">
                      <a:off x="1310400" y="3109680"/>
                      <a:ext cx="284400" cy="13572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Freeform 1148"/>
                    <p:cNvSpPr/>
                    <p:nvPr/>
                  </p:nvSpPr>
                  <p:spPr>
                    <a:xfrm rot="16936800">
                      <a:off x="1374480" y="3047040"/>
                      <a:ext cx="15876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Freeform 1149"/>
                    <p:cNvSpPr/>
                    <p:nvPr/>
                  </p:nvSpPr>
                  <p:spPr>
                    <a:xfrm rot="16936800">
                      <a:off x="1381680" y="3022560"/>
                      <a:ext cx="123120" cy="25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Freeform 1150"/>
                    <p:cNvSpPr/>
                    <p:nvPr/>
                  </p:nvSpPr>
                  <p:spPr>
                    <a:xfrm rot="16936800">
                      <a:off x="1398960" y="2993400"/>
                      <a:ext cx="8244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0" name="Freeform 1151"/>
                    <p:cNvSpPr/>
                    <p:nvPr/>
                  </p:nvSpPr>
                  <p:spPr>
                    <a:xfrm rot="16936800">
                      <a:off x="1428480" y="295344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1" name="Freeform 1152"/>
                    <p:cNvSpPr/>
                    <p:nvPr/>
                  </p:nvSpPr>
                  <p:spPr>
                    <a:xfrm rot="16936800">
                      <a:off x="1404360" y="2926800"/>
                      <a:ext cx="4752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Freeform 1153"/>
                    <p:cNvSpPr/>
                    <p:nvPr/>
                  </p:nvSpPr>
                  <p:spPr>
                    <a:xfrm rot="16936800">
                      <a:off x="1436400" y="292608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Freeform 1154"/>
                    <p:cNvSpPr/>
                    <p:nvPr/>
                  </p:nvSpPr>
                  <p:spPr>
                    <a:xfrm rot="16936800">
                      <a:off x="1436400" y="2923920"/>
                      <a:ext cx="79200" cy="23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Freeform 1155"/>
                    <p:cNvSpPr/>
                    <p:nvPr/>
                  </p:nvSpPr>
                  <p:spPr>
                    <a:xfrm rot="16936800">
                      <a:off x="1363680" y="285912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Freeform 1156"/>
                    <p:cNvSpPr/>
                    <p:nvPr/>
                  </p:nvSpPr>
                  <p:spPr>
                    <a:xfrm rot="16936800">
                      <a:off x="1379520" y="286668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Freeform 1157"/>
                    <p:cNvSpPr/>
                    <p:nvPr/>
                  </p:nvSpPr>
                  <p:spPr>
                    <a:xfrm rot="16936800">
                      <a:off x="1396080" y="2873520"/>
                      <a:ext cx="23832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7" name="Freeform 1158"/>
                    <p:cNvSpPr/>
                    <p:nvPr/>
                  </p:nvSpPr>
                  <p:spPr>
                    <a:xfrm rot="16936800">
                      <a:off x="1399320" y="287748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8" name="Freeform 1159"/>
                    <p:cNvSpPr/>
                    <p:nvPr/>
                  </p:nvSpPr>
                  <p:spPr>
                    <a:xfrm rot="16936800">
                      <a:off x="1387080" y="287964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Freeform 1160"/>
                    <p:cNvSpPr/>
                    <p:nvPr/>
                  </p:nvSpPr>
                  <p:spPr>
                    <a:xfrm rot="16936800">
                      <a:off x="1521360" y="301716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Freeform 1161"/>
                    <p:cNvSpPr/>
                    <p:nvPr/>
                  </p:nvSpPr>
                  <p:spPr>
                    <a:xfrm rot="16936800">
                      <a:off x="1555560" y="304056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Freeform 1162"/>
                    <p:cNvSpPr/>
                    <p:nvPr/>
                  </p:nvSpPr>
                  <p:spPr>
                    <a:xfrm rot="16936800">
                      <a:off x="1598760" y="3062880"/>
                      <a:ext cx="9072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Freeform 1163"/>
                    <p:cNvSpPr/>
                    <p:nvPr/>
                  </p:nvSpPr>
                  <p:spPr>
                    <a:xfrm rot="16936800">
                      <a:off x="1611000" y="308340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3" name="Freeform 1164"/>
                    <p:cNvSpPr/>
                    <p:nvPr/>
                  </p:nvSpPr>
                  <p:spPr>
                    <a:xfrm rot="16936800">
                      <a:off x="1428120" y="322848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Freeform 1165"/>
                    <p:cNvSpPr/>
                    <p:nvPr/>
                  </p:nvSpPr>
                  <p:spPr>
                    <a:xfrm rot="16936800">
                      <a:off x="1499040" y="300132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Freeform 1166"/>
                    <p:cNvSpPr/>
                    <p:nvPr/>
                  </p:nvSpPr>
                  <p:spPr>
                    <a:xfrm rot="16936800">
                      <a:off x="1572120" y="301824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Freeform 1167"/>
                    <p:cNvSpPr/>
                    <p:nvPr/>
                  </p:nvSpPr>
                  <p:spPr>
                    <a:xfrm rot="16936800">
                      <a:off x="1448280" y="2966760"/>
                      <a:ext cx="8640" cy="26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Freeform 1168"/>
                    <p:cNvSpPr/>
                    <p:nvPr/>
                  </p:nvSpPr>
                  <p:spPr>
                    <a:xfrm rot="16936800">
                      <a:off x="1549080" y="312156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Freeform 1169"/>
                    <p:cNvSpPr/>
                    <p:nvPr/>
                  </p:nvSpPr>
                  <p:spPr>
                    <a:xfrm rot="16936800">
                      <a:off x="1614240" y="3112560"/>
                      <a:ext cx="124560" cy="20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9" name="Freeform 1170"/>
                    <p:cNvSpPr/>
                    <p:nvPr/>
                  </p:nvSpPr>
                  <p:spPr>
                    <a:xfrm rot="16936800">
                      <a:off x="1655640" y="301680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0" name="Freeform 1171"/>
                    <p:cNvSpPr/>
                    <p:nvPr/>
                  </p:nvSpPr>
                  <p:spPr>
                    <a:xfrm rot="17617800">
                      <a:off x="1537560" y="302112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Freeform 1172"/>
                    <p:cNvSpPr/>
                    <p:nvPr/>
                  </p:nvSpPr>
                  <p:spPr>
                    <a:xfrm rot="16936800">
                      <a:off x="1463400" y="298584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22" name="Group 1261"/>
              <p:cNvGrpSpPr/>
              <p:nvPr/>
            </p:nvGrpSpPr>
            <p:grpSpPr>
              <a:xfrm>
                <a:off x="1698840" y="2323080"/>
                <a:ext cx="664200" cy="939600"/>
                <a:chOff x="1698840" y="2323080"/>
                <a:chExt cx="664200" cy="939600"/>
              </a:xfrm>
            </p:grpSpPr>
            <p:sp>
              <p:nvSpPr>
                <p:cNvPr id="923" name="Freeform 1262"/>
                <p:cNvSpPr/>
                <p:nvPr/>
              </p:nvSpPr>
              <p:spPr>
                <a:xfrm rot="20478600">
                  <a:off x="2066760" y="260316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4" name="Group 1263"/>
                <p:cNvGrpSpPr/>
                <p:nvPr/>
              </p:nvGrpSpPr>
              <p:grpSpPr>
                <a:xfrm>
                  <a:off x="1698840" y="2323080"/>
                  <a:ext cx="664200" cy="939600"/>
                  <a:chOff x="1698840" y="2323080"/>
                  <a:chExt cx="664200" cy="939600"/>
                </a:xfrm>
              </p:grpSpPr>
              <p:grpSp>
                <p:nvGrpSpPr>
                  <p:cNvPr id="925" name="Group 1264"/>
                  <p:cNvGrpSpPr/>
                  <p:nvPr/>
                </p:nvGrpSpPr>
                <p:grpSpPr>
                  <a:xfrm>
                    <a:off x="1996560" y="2599920"/>
                    <a:ext cx="208080" cy="662760"/>
                    <a:chOff x="1996560" y="2599920"/>
                    <a:chExt cx="208080" cy="662760"/>
                  </a:xfrm>
                </p:grpSpPr>
                <p:sp>
                  <p:nvSpPr>
                    <p:cNvPr id="926" name="AutoShape 1265"/>
                    <p:cNvSpPr/>
                    <p:nvPr/>
                  </p:nvSpPr>
                  <p:spPr>
                    <a:xfrm rot="20478600">
                      <a:off x="2006640" y="261216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Freeform 1266"/>
                    <p:cNvSpPr/>
                    <p:nvPr/>
                  </p:nvSpPr>
                  <p:spPr>
                    <a:xfrm rot="20478600">
                      <a:off x="2082600" y="266328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Oval 1267"/>
                    <p:cNvSpPr/>
                    <p:nvPr/>
                  </p:nvSpPr>
                  <p:spPr>
                    <a:xfrm rot="21022800">
                      <a:off x="2143080" y="306756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9" name="Group 1268"/>
                  <p:cNvGrpSpPr/>
                  <p:nvPr/>
                </p:nvGrpSpPr>
                <p:grpSpPr>
                  <a:xfrm>
                    <a:off x="1698840" y="2323080"/>
                    <a:ext cx="664200" cy="589680"/>
                    <a:chOff x="1698840" y="2323080"/>
                    <a:chExt cx="664200" cy="589680"/>
                  </a:xfrm>
                </p:grpSpPr>
                <p:sp>
                  <p:nvSpPr>
                    <p:cNvPr id="930" name="Freeform 1269"/>
                    <p:cNvSpPr/>
                    <p:nvPr/>
                  </p:nvSpPr>
                  <p:spPr>
                    <a:xfrm rot="20478600">
                      <a:off x="1904400" y="265932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Freeform 1270"/>
                    <p:cNvSpPr/>
                    <p:nvPr/>
                  </p:nvSpPr>
                  <p:spPr>
                    <a:xfrm rot="20478600">
                      <a:off x="1788840" y="270288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Freeform 1271"/>
                    <p:cNvSpPr/>
                    <p:nvPr/>
                  </p:nvSpPr>
                  <p:spPr>
                    <a:xfrm rot="20478600">
                      <a:off x="1745640" y="2643840"/>
                      <a:ext cx="28404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3" name="Freeform 1272"/>
                    <p:cNvSpPr/>
                    <p:nvPr/>
                  </p:nvSpPr>
                  <p:spPr>
                    <a:xfrm rot="20478600">
                      <a:off x="1705320" y="262008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Freeform 1273"/>
                    <p:cNvSpPr/>
                    <p:nvPr/>
                  </p:nvSpPr>
                  <p:spPr>
                    <a:xfrm rot="20478600">
                      <a:off x="1723680" y="259092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Freeform 1274"/>
                    <p:cNvSpPr/>
                    <p:nvPr/>
                  </p:nvSpPr>
                  <p:spPr>
                    <a:xfrm rot="20478600">
                      <a:off x="1755720" y="2581920"/>
                      <a:ext cx="28404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Freeform 1275"/>
                    <p:cNvSpPr/>
                    <p:nvPr/>
                  </p:nvSpPr>
                  <p:spPr>
                    <a:xfrm rot="20478600">
                      <a:off x="1801800" y="2508120"/>
                      <a:ext cx="214200" cy="18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Freeform 1276"/>
                    <p:cNvSpPr/>
                    <p:nvPr/>
                  </p:nvSpPr>
                  <p:spPr>
                    <a:xfrm rot="20478600">
                      <a:off x="1767600" y="252504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8" name="Freeform 1277"/>
                    <p:cNvSpPr/>
                    <p:nvPr/>
                  </p:nvSpPr>
                  <p:spPr>
                    <a:xfrm rot="20478600">
                      <a:off x="1810440" y="254628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Freeform 1278"/>
                    <p:cNvSpPr/>
                    <p:nvPr/>
                  </p:nvSpPr>
                  <p:spPr>
                    <a:xfrm rot="20478600">
                      <a:off x="1769760" y="2457000"/>
                      <a:ext cx="262800" cy="24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" name="Line 1279"/>
                    <p:cNvSpPr/>
                    <p:nvPr/>
                  </p:nvSpPr>
                  <p:spPr>
                    <a:xfrm flipH="1" flipV="1">
                      <a:off x="1820160" y="2496960"/>
                      <a:ext cx="262440" cy="17424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Freeform 1280"/>
                    <p:cNvSpPr/>
                    <p:nvPr/>
                  </p:nvSpPr>
                  <p:spPr>
                    <a:xfrm rot="20478600">
                      <a:off x="1877760" y="2458080"/>
                      <a:ext cx="15876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Freeform 1281"/>
                    <p:cNvSpPr/>
                    <p:nvPr/>
                  </p:nvSpPr>
                  <p:spPr>
                    <a:xfrm rot="20478600">
                      <a:off x="1908000" y="2434320"/>
                      <a:ext cx="123120" cy="25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Freeform 1282"/>
                    <p:cNvSpPr/>
                    <p:nvPr/>
                  </p:nvSpPr>
                  <p:spPr>
                    <a:xfrm rot="20478600">
                      <a:off x="1945080" y="2413080"/>
                      <a:ext cx="82440" cy="27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Freeform 1283"/>
                    <p:cNvSpPr/>
                    <p:nvPr/>
                  </p:nvSpPr>
                  <p:spPr>
                    <a:xfrm rot="20478600">
                      <a:off x="1996560" y="239544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Freeform 1284"/>
                    <p:cNvSpPr/>
                    <p:nvPr/>
                  </p:nvSpPr>
                  <p:spPr>
                    <a:xfrm rot="20478600">
                      <a:off x="1994400" y="2357640"/>
                      <a:ext cx="4752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Freeform 1285"/>
                    <p:cNvSpPr/>
                    <p:nvPr/>
                  </p:nvSpPr>
                  <p:spPr>
                    <a:xfrm rot="20478600">
                      <a:off x="2025720" y="239148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Freeform 1286"/>
                    <p:cNvSpPr/>
                    <p:nvPr/>
                  </p:nvSpPr>
                  <p:spPr>
                    <a:xfrm rot="20478600">
                      <a:off x="2039400" y="2415960"/>
                      <a:ext cx="79200" cy="23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8" name="Freeform 1287"/>
                    <p:cNvSpPr/>
                    <p:nvPr/>
                  </p:nvSpPr>
                  <p:spPr>
                    <a:xfrm rot="20478600">
                      <a:off x="2013480" y="234036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Freeform 1288"/>
                    <p:cNvSpPr/>
                    <p:nvPr/>
                  </p:nvSpPr>
                  <p:spPr>
                    <a:xfrm rot="20478600">
                      <a:off x="2023560" y="238824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Freeform 1289"/>
                    <p:cNvSpPr/>
                    <p:nvPr/>
                  </p:nvSpPr>
                  <p:spPr>
                    <a:xfrm rot="20478600">
                      <a:off x="2042280" y="2434680"/>
                      <a:ext cx="238320" cy="19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Freeform 1290"/>
                    <p:cNvSpPr/>
                    <p:nvPr/>
                  </p:nvSpPr>
                  <p:spPr>
                    <a:xfrm rot="20478600">
                      <a:off x="2046600" y="246276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Freeform 1291"/>
                    <p:cNvSpPr/>
                    <p:nvPr/>
                  </p:nvSpPr>
                  <p:spPr>
                    <a:xfrm rot="20478600">
                      <a:off x="2027880" y="247284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Freeform 1292"/>
                    <p:cNvSpPr/>
                    <p:nvPr/>
                  </p:nvSpPr>
                  <p:spPr>
                    <a:xfrm rot="20478600">
                      <a:off x="2067840" y="263880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4" name="Freeform 1293"/>
                    <p:cNvSpPr/>
                    <p:nvPr/>
                  </p:nvSpPr>
                  <p:spPr>
                    <a:xfrm rot="20478600">
                      <a:off x="2074320" y="265248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Freeform 1294"/>
                    <p:cNvSpPr/>
                    <p:nvPr/>
                  </p:nvSpPr>
                  <p:spPr>
                    <a:xfrm rot="20478600">
                      <a:off x="2073600" y="2673000"/>
                      <a:ext cx="907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Freeform 1295"/>
                    <p:cNvSpPr/>
                    <p:nvPr/>
                  </p:nvSpPr>
                  <p:spPr>
                    <a:xfrm rot="20478600">
                      <a:off x="2064960" y="268092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Freeform 1296"/>
                    <p:cNvSpPr/>
                    <p:nvPr/>
                  </p:nvSpPr>
                  <p:spPr>
                    <a:xfrm rot="20478600">
                      <a:off x="1832040" y="268272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Freeform 1297"/>
                    <p:cNvSpPr/>
                    <p:nvPr/>
                  </p:nvSpPr>
                  <p:spPr>
                    <a:xfrm rot="20478600">
                      <a:off x="2064960" y="262728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Freeform 1298"/>
                    <p:cNvSpPr/>
                    <p:nvPr/>
                  </p:nvSpPr>
                  <p:spPr>
                    <a:xfrm rot="20478600">
                      <a:off x="2071800" y="265068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Freeform 1299"/>
                    <p:cNvSpPr/>
                    <p:nvPr/>
                  </p:nvSpPr>
                  <p:spPr>
                    <a:xfrm rot="20478600">
                      <a:off x="2016000" y="2412720"/>
                      <a:ext cx="8640" cy="26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Freeform 1300"/>
                    <p:cNvSpPr/>
                    <p:nvPr/>
                  </p:nvSpPr>
                  <p:spPr>
                    <a:xfrm rot="20478600">
                      <a:off x="1952280" y="266076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Freeform 1301"/>
                    <p:cNvSpPr/>
                    <p:nvPr/>
                  </p:nvSpPr>
                  <p:spPr>
                    <a:xfrm rot="20478600">
                      <a:off x="1972080" y="2693520"/>
                      <a:ext cx="124560" cy="20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Freeform 1302"/>
                    <p:cNvSpPr/>
                    <p:nvPr/>
                  </p:nvSpPr>
                  <p:spPr>
                    <a:xfrm rot="20478600">
                      <a:off x="2101320" y="266868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Freeform 1303"/>
                    <p:cNvSpPr/>
                    <p:nvPr/>
                  </p:nvSpPr>
                  <p:spPr>
                    <a:xfrm rot="21160200">
                      <a:off x="2094480" y="261504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Freeform 1304"/>
                    <p:cNvSpPr/>
                    <p:nvPr/>
                  </p:nvSpPr>
                  <p:spPr>
                    <a:xfrm rot="20478600">
                      <a:off x="2026800" y="248004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66" name="Group 1305"/>
              <p:cNvGrpSpPr/>
              <p:nvPr/>
            </p:nvGrpSpPr>
            <p:grpSpPr>
              <a:xfrm>
                <a:off x="2313360" y="3365640"/>
                <a:ext cx="871920" cy="662760"/>
                <a:chOff x="2313360" y="3365640"/>
                <a:chExt cx="871920" cy="662760"/>
              </a:xfrm>
            </p:grpSpPr>
            <p:sp>
              <p:nvSpPr>
                <p:cNvPr id="967" name="Freeform 1306"/>
                <p:cNvSpPr/>
                <p:nvPr/>
              </p:nvSpPr>
              <p:spPr>
                <a:xfrm rot="6734400">
                  <a:off x="2802960" y="374724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8" name="Group 1307"/>
                <p:cNvGrpSpPr/>
                <p:nvPr/>
              </p:nvGrpSpPr>
              <p:grpSpPr>
                <a:xfrm>
                  <a:off x="2313360" y="3365640"/>
                  <a:ext cx="871920" cy="662760"/>
                  <a:chOff x="2313360" y="3365640"/>
                  <a:chExt cx="871920" cy="662760"/>
                </a:xfrm>
              </p:grpSpPr>
              <p:grpSp>
                <p:nvGrpSpPr>
                  <p:cNvPr id="969" name="Group 1308"/>
                  <p:cNvGrpSpPr/>
                  <p:nvPr/>
                </p:nvGrpSpPr>
                <p:grpSpPr>
                  <a:xfrm>
                    <a:off x="2313360" y="3365640"/>
                    <a:ext cx="609480" cy="375840"/>
                    <a:chOff x="2313360" y="3365640"/>
                    <a:chExt cx="609480" cy="375840"/>
                  </a:xfrm>
                </p:grpSpPr>
                <p:sp>
                  <p:nvSpPr>
                    <p:cNvPr id="970" name="AutoShape 1309"/>
                    <p:cNvSpPr/>
                    <p:nvPr/>
                  </p:nvSpPr>
                  <p:spPr>
                    <a:xfrm rot="6734400">
                      <a:off x="2823480" y="364464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Freeform 1310"/>
                    <p:cNvSpPr/>
                    <p:nvPr/>
                  </p:nvSpPr>
                  <p:spPr>
                    <a:xfrm rot="6734400">
                      <a:off x="2637720" y="335844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Oval 1311"/>
                    <p:cNvSpPr/>
                    <p:nvPr/>
                  </p:nvSpPr>
                  <p:spPr>
                    <a:xfrm rot="7278000">
                      <a:off x="2384640" y="333864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3" name="Group 1312"/>
                  <p:cNvGrpSpPr/>
                  <p:nvPr/>
                </p:nvGrpSpPr>
                <p:grpSpPr>
                  <a:xfrm>
                    <a:off x="2640240" y="3371760"/>
                    <a:ext cx="545040" cy="656640"/>
                    <a:chOff x="2640240" y="3371760"/>
                    <a:chExt cx="545040" cy="656640"/>
                  </a:xfrm>
                </p:grpSpPr>
                <p:sp>
                  <p:nvSpPr>
                    <p:cNvPr id="974" name="Freeform 1313"/>
                    <p:cNvSpPr/>
                    <p:nvPr/>
                  </p:nvSpPr>
                  <p:spPr>
                    <a:xfrm rot="6734400">
                      <a:off x="2800800" y="356508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5" name="Freeform 1314"/>
                    <p:cNvSpPr/>
                    <p:nvPr/>
                  </p:nvSpPr>
                  <p:spPr>
                    <a:xfrm rot="6734400">
                      <a:off x="2751120" y="349848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Freeform 1315"/>
                    <p:cNvSpPr/>
                    <p:nvPr/>
                  </p:nvSpPr>
                  <p:spPr>
                    <a:xfrm rot="6734400">
                      <a:off x="2814480" y="3508920"/>
                      <a:ext cx="28404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Freeform 1316"/>
                    <p:cNvSpPr/>
                    <p:nvPr/>
                  </p:nvSpPr>
                  <p:spPr>
                    <a:xfrm rot="6734400">
                      <a:off x="2840760" y="348012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Freeform 1317"/>
                    <p:cNvSpPr/>
                    <p:nvPr/>
                  </p:nvSpPr>
                  <p:spPr>
                    <a:xfrm rot="6734400">
                      <a:off x="2843280" y="349200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Freeform 1318"/>
                    <p:cNvSpPr/>
                    <p:nvPr/>
                  </p:nvSpPr>
                  <p:spPr>
                    <a:xfrm rot="6734400">
                      <a:off x="2837880" y="3520080"/>
                      <a:ext cx="28404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Freeform 1319"/>
                    <p:cNvSpPr/>
                    <p:nvPr/>
                  </p:nvSpPr>
                  <p:spPr>
                    <a:xfrm rot="6734400">
                      <a:off x="2895480" y="3520800"/>
                      <a:ext cx="214200" cy="18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Freeform 1320"/>
                    <p:cNvSpPr/>
                    <p:nvPr/>
                  </p:nvSpPr>
                  <p:spPr>
                    <a:xfrm rot="6734400">
                      <a:off x="2884320" y="351576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Freeform 1321"/>
                    <p:cNvSpPr/>
                    <p:nvPr/>
                  </p:nvSpPr>
                  <p:spPr>
                    <a:xfrm rot="6734400">
                      <a:off x="2840040" y="353412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Freeform 1322"/>
                    <p:cNvSpPr/>
                    <p:nvPr/>
                  </p:nvSpPr>
                  <p:spPr>
                    <a:xfrm rot="6734400">
                      <a:off x="2890440" y="3495600"/>
                      <a:ext cx="262800" cy="24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Line 1323"/>
                    <p:cNvSpPr/>
                    <p:nvPr/>
                  </p:nvSpPr>
                  <p:spPr>
                    <a:xfrm flipV="1">
                      <a:off x="2834280" y="3610800"/>
                      <a:ext cx="303840" cy="8424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Freeform 1324"/>
                    <p:cNvSpPr/>
                    <p:nvPr/>
                  </p:nvSpPr>
                  <p:spPr>
                    <a:xfrm rot="6734400">
                      <a:off x="2903760" y="3533400"/>
                      <a:ext cx="15876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Freeform 1325"/>
                    <p:cNvSpPr/>
                    <p:nvPr/>
                  </p:nvSpPr>
                  <p:spPr>
                    <a:xfrm rot="6734400">
                      <a:off x="2928960" y="3552120"/>
                      <a:ext cx="123120" cy="25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Freeform 1326"/>
                    <p:cNvSpPr/>
                    <p:nvPr/>
                  </p:nvSpPr>
                  <p:spPr>
                    <a:xfrm rot="6734400">
                      <a:off x="2948400" y="3566160"/>
                      <a:ext cx="82440" cy="27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Freeform 1327"/>
                    <p:cNvSpPr/>
                    <p:nvPr/>
                  </p:nvSpPr>
                  <p:spPr>
                    <a:xfrm rot="6734400">
                      <a:off x="2955240" y="358596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Freeform 1328"/>
                    <p:cNvSpPr/>
                    <p:nvPr/>
                  </p:nvSpPr>
                  <p:spPr>
                    <a:xfrm rot="6734400">
                      <a:off x="2970360" y="3591360"/>
                      <a:ext cx="4752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Freeform 1329"/>
                    <p:cNvSpPr/>
                    <p:nvPr/>
                  </p:nvSpPr>
                  <p:spPr>
                    <a:xfrm rot="6734400">
                      <a:off x="2938320" y="361728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Freeform 1330"/>
                    <p:cNvSpPr/>
                    <p:nvPr/>
                  </p:nvSpPr>
                  <p:spPr>
                    <a:xfrm rot="6734400">
                      <a:off x="2899440" y="3661920"/>
                      <a:ext cx="79200" cy="23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Freeform 1331"/>
                    <p:cNvSpPr/>
                    <p:nvPr/>
                  </p:nvSpPr>
                  <p:spPr>
                    <a:xfrm rot="6734400">
                      <a:off x="2886480" y="367524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Freeform 1332"/>
                    <p:cNvSpPr/>
                    <p:nvPr/>
                  </p:nvSpPr>
                  <p:spPr>
                    <a:xfrm rot="6734400">
                      <a:off x="2823480" y="370584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Freeform 1333"/>
                    <p:cNvSpPr/>
                    <p:nvPr/>
                  </p:nvSpPr>
                  <p:spPr>
                    <a:xfrm rot="6734400">
                      <a:off x="2769120" y="3749400"/>
                      <a:ext cx="238320" cy="19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Freeform 1334"/>
                    <p:cNvSpPr/>
                    <p:nvPr/>
                  </p:nvSpPr>
                  <p:spPr>
                    <a:xfrm rot="6734400">
                      <a:off x="2729880" y="377604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Freeform 1335"/>
                    <p:cNvSpPr/>
                    <p:nvPr/>
                  </p:nvSpPr>
                  <p:spPr>
                    <a:xfrm rot="6734400">
                      <a:off x="2696760" y="377172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Freeform 1336"/>
                    <p:cNvSpPr/>
                    <p:nvPr/>
                  </p:nvSpPr>
                  <p:spPr>
                    <a:xfrm rot="6734400">
                      <a:off x="2699280" y="376020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Freeform 1337"/>
                    <p:cNvSpPr/>
                    <p:nvPr/>
                  </p:nvSpPr>
                  <p:spPr>
                    <a:xfrm rot="6734400">
                      <a:off x="2728440" y="372420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Freeform 1338"/>
                    <p:cNvSpPr/>
                    <p:nvPr/>
                  </p:nvSpPr>
                  <p:spPr>
                    <a:xfrm rot="6734400">
                      <a:off x="2737440" y="3664800"/>
                      <a:ext cx="907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Freeform 1339"/>
                    <p:cNvSpPr/>
                    <p:nvPr/>
                  </p:nvSpPr>
                  <p:spPr>
                    <a:xfrm rot="6734400">
                      <a:off x="2755800" y="363636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Freeform 1340"/>
                    <p:cNvSpPr/>
                    <p:nvPr/>
                  </p:nvSpPr>
                  <p:spPr>
                    <a:xfrm rot="6734400">
                      <a:off x="2794680" y="356904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Freeform 1341"/>
                    <p:cNvSpPr/>
                    <p:nvPr/>
                  </p:nvSpPr>
                  <p:spPr>
                    <a:xfrm rot="6734400">
                      <a:off x="2685240" y="378432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Freeform 1342"/>
                    <p:cNvSpPr/>
                    <p:nvPr/>
                  </p:nvSpPr>
                  <p:spPr>
                    <a:xfrm rot="6734400">
                      <a:off x="2691000" y="368496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Freeform 1343"/>
                    <p:cNvSpPr/>
                    <p:nvPr/>
                  </p:nvSpPr>
                  <p:spPr>
                    <a:xfrm rot="6734400">
                      <a:off x="2967120" y="3601080"/>
                      <a:ext cx="8640" cy="26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Freeform 1344"/>
                    <p:cNvSpPr/>
                    <p:nvPr/>
                  </p:nvSpPr>
                  <p:spPr>
                    <a:xfrm rot="6734400">
                      <a:off x="2758680" y="353268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Freeform 1345"/>
                    <p:cNvSpPr/>
                    <p:nvPr/>
                  </p:nvSpPr>
                  <p:spPr>
                    <a:xfrm rot="6734400">
                      <a:off x="2709000" y="3474720"/>
                      <a:ext cx="124560" cy="20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Freeform 1346"/>
                    <p:cNvSpPr/>
                    <p:nvPr/>
                  </p:nvSpPr>
                  <p:spPr>
                    <a:xfrm rot="6734400">
                      <a:off x="2693880" y="360000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Freeform 1347"/>
                    <p:cNvSpPr/>
                    <p:nvPr/>
                  </p:nvSpPr>
                  <p:spPr>
                    <a:xfrm rot="7416000">
                      <a:off x="2775600" y="376092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Freeform 1348"/>
                    <p:cNvSpPr/>
                    <p:nvPr/>
                  </p:nvSpPr>
                  <p:spPr>
                    <a:xfrm rot="6734400">
                      <a:off x="2890080" y="365364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10" name="Group 1924"/>
              <p:cNvGrpSpPr/>
              <p:nvPr/>
            </p:nvGrpSpPr>
            <p:grpSpPr>
              <a:xfrm>
                <a:off x="2293200" y="2413080"/>
                <a:ext cx="721080" cy="849600"/>
                <a:chOff x="2293200" y="2413080"/>
                <a:chExt cx="721080" cy="849600"/>
              </a:xfrm>
            </p:grpSpPr>
            <p:sp>
              <p:nvSpPr>
                <p:cNvPr id="1011" name="Freeform 1925"/>
                <p:cNvSpPr/>
                <p:nvPr/>
              </p:nvSpPr>
              <p:spPr>
                <a:xfrm rot="1737600">
                  <a:off x="2693160" y="275616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2" name="Group 1926"/>
                <p:cNvGrpSpPr/>
                <p:nvPr/>
              </p:nvGrpSpPr>
              <p:grpSpPr>
                <a:xfrm>
                  <a:off x="2293200" y="2413080"/>
                  <a:ext cx="721080" cy="849600"/>
                  <a:chOff x="2293200" y="2413080"/>
                  <a:chExt cx="721080" cy="849600"/>
                </a:xfrm>
              </p:grpSpPr>
              <p:grpSp>
                <p:nvGrpSpPr>
                  <p:cNvPr id="1013" name="Group 1927"/>
                  <p:cNvGrpSpPr/>
                  <p:nvPr/>
                </p:nvGrpSpPr>
                <p:grpSpPr>
                  <a:xfrm>
                    <a:off x="2293200" y="2687400"/>
                    <a:ext cx="438120" cy="575280"/>
                    <a:chOff x="2293200" y="2687400"/>
                    <a:chExt cx="438120" cy="575280"/>
                  </a:xfrm>
                </p:grpSpPr>
                <p:sp>
                  <p:nvSpPr>
                    <p:cNvPr id="1014" name="AutoShape 1928"/>
                    <p:cNvSpPr/>
                    <p:nvPr/>
                  </p:nvSpPr>
                  <p:spPr>
                    <a:xfrm rot="1737600">
                      <a:off x="2626920" y="270432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Freeform 1929"/>
                    <p:cNvSpPr/>
                    <p:nvPr/>
                  </p:nvSpPr>
                  <p:spPr>
                    <a:xfrm rot="1737600">
                      <a:off x="2516760" y="272052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Oval 1930"/>
                    <p:cNvSpPr/>
                    <p:nvPr/>
                  </p:nvSpPr>
                  <p:spPr>
                    <a:xfrm rot="2281200">
                      <a:off x="2347560" y="307656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7" name="Group 1931"/>
                  <p:cNvGrpSpPr/>
                  <p:nvPr/>
                </p:nvGrpSpPr>
                <p:grpSpPr>
                  <a:xfrm>
                    <a:off x="2377080" y="2413080"/>
                    <a:ext cx="637200" cy="559080"/>
                    <a:chOff x="2377080" y="2413080"/>
                    <a:chExt cx="637200" cy="559080"/>
                  </a:xfrm>
                </p:grpSpPr>
                <p:sp>
                  <p:nvSpPr>
                    <p:cNvPr id="1018" name="Freeform 1932"/>
                    <p:cNvSpPr/>
                    <p:nvPr/>
                  </p:nvSpPr>
                  <p:spPr>
                    <a:xfrm rot="1737600">
                      <a:off x="2513160" y="268596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Freeform 1933"/>
                    <p:cNvSpPr/>
                    <p:nvPr/>
                  </p:nvSpPr>
                  <p:spPr>
                    <a:xfrm rot="1737600">
                      <a:off x="2387520" y="267336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Freeform 1934"/>
                    <p:cNvSpPr/>
                    <p:nvPr/>
                  </p:nvSpPr>
                  <p:spPr>
                    <a:xfrm rot="1737600">
                      <a:off x="2400480" y="2605680"/>
                      <a:ext cx="28404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Freeform 1935"/>
                    <p:cNvSpPr/>
                    <p:nvPr/>
                  </p:nvSpPr>
                  <p:spPr>
                    <a:xfrm rot="1737600">
                      <a:off x="2380320" y="256104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2" name="Freeform 1936"/>
                    <p:cNvSpPr/>
                    <p:nvPr/>
                  </p:nvSpPr>
                  <p:spPr>
                    <a:xfrm rot="1737600">
                      <a:off x="2405520" y="254952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Freeform 1937"/>
                    <p:cNvSpPr/>
                    <p:nvPr/>
                  </p:nvSpPr>
                  <p:spPr>
                    <a:xfrm rot="1737600">
                      <a:off x="2436120" y="2564280"/>
                      <a:ext cx="28404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Freeform 1938"/>
                    <p:cNvSpPr/>
                    <p:nvPr/>
                  </p:nvSpPr>
                  <p:spPr>
                    <a:xfrm rot="1737600">
                      <a:off x="2508480" y="2511720"/>
                      <a:ext cx="21420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Freeform 1939"/>
                    <p:cNvSpPr/>
                    <p:nvPr/>
                  </p:nvSpPr>
                  <p:spPr>
                    <a:xfrm rot="1737600">
                      <a:off x="2475000" y="251460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Freeform 1940"/>
                    <p:cNvSpPr/>
                    <p:nvPr/>
                  </p:nvSpPr>
                  <p:spPr>
                    <a:xfrm rot="1737600">
                      <a:off x="2487960" y="256068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Freeform 1941"/>
                    <p:cNvSpPr/>
                    <p:nvPr/>
                  </p:nvSpPr>
                  <p:spPr>
                    <a:xfrm rot="1737600">
                      <a:off x="2493000" y="2461320"/>
                      <a:ext cx="262800" cy="24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8" name="Line 1942"/>
                    <p:cNvSpPr/>
                    <p:nvPr/>
                  </p:nvSpPr>
                  <p:spPr>
                    <a:xfrm flipH="1" flipV="1">
                      <a:off x="2630520" y="2468160"/>
                      <a:ext cx="48240" cy="31140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9" name="Freeform 1943"/>
                    <p:cNvSpPr/>
                    <p:nvPr/>
                  </p:nvSpPr>
                  <p:spPr>
                    <a:xfrm rot="1737600">
                      <a:off x="2580120" y="2502000"/>
                      <a:ext cx="15876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Freeform 1944"/>
                    <p:cNvSpPr/>
                    <p:nvPr/>
                  </p:nvSpPr>
                  <p:spPr>
                    <a:xfrm rot="1737600">
                      <a:off x="2621160" y="2494440"/>
                      <a:ext cx="123120" cy="25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1" name="Freeform 1945"/>
                    <p:cNvSpPr/>
                    <p:nvPr/>
                  </p:nvSpPr>
                  <p:spPr>
                    <a:xfrm rot="1737600">
                      <a:off x="2662920" y="2490120"/>
                      <a:ext cx="8244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Freeform 1946"/>
                    <p:cNvSpPr/>
                    <p:nvPr/>
                  </p:nvSpPr>
                  <p:spPr>
                    <a:xfrm rot="1737600">
                      <a:off x="2710440" y="249804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Freeform 1947"/>
                    <p:cNvSpPr/>
                    <p:nvPr/>
                  </p:nvSpPr>
                  <p:spPr>
                    <a:xfrm rot="1737600">
                      <a:off x="2727000" y="2469600"/>
                      <a:ext cx="4752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Freeform 1948"/>
                    <p:cNvSpPr/>
                    <p:nvPr/>
                  </p:nvSpPr>
                  <p:spPr>
                    <a:xfrm rot="1737600">
                      <a:off x="2734920" y="251928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5" name="Freeform 1949"/>
                    <p:cNvSpPr/>
                    <p:nvPr/>
                  </p:nvSpPr>
                  <p:spPr>
                    <a:xfrm rot="1737600">
                      <a:off x="2737080" y="2565720"/>
                      <a:ext cx="79200" cy="23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Freeform 1950"/>
                    <p:cNvSpPr/>
                    <p:nvPr/>
                  </p:nvSpPr>
                  <p:spPr>
                    <a:xfrm rot="1737600">
                      <a:off x="2741760" y="251640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Freeform 1951"/>
                    <p:cNvSpPr/>
                    <p:nvPr/>
                  </p:nvSpPr>
                  <p:spPr>
                    <a:xfrm rot="1737600">
                      <a:off x="2721960" y="257976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Freeform 1952"/>
                    <p:cNvSpPr/>
                    <p:nvPr/>
                  </p:nvSpPr>
                  <p:spPr>
                    <a:xfrm rot="1737600">
                      <a:off x="2716200" y="2647080"/>
                      <a:ext cx="23832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Freeform 1953"/>
                    <p:cNvSpPr/>
                    <p:nvPr/>
                  </p:nvSpPr>
                  <p:spPr>
                    <a:xfrm rot="1737600">
                      <a:off x="2705400" y="268740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Freeform 1954"/>
                    <p:cNvSpPr/>
                    <p:nvPr/>
                  </p:nvSpPr>
                  <p:spPr>
                    <a:xfrm rot="1737600">
                      <a:off x="2677680" y="269712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Freeform 1955"/>
                    <p:cNvSpPr/>
                    <p:nvPr/>
                  </p:nvSpPr>
                  <p:spPr>
                    <a:xfrm rot="1737600">
                      <a:off x="2652480" y="281520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2" name="Freeform 1956"/>
                    <p:cNvSpPr/>
                    <p:nvPr/>
                  </p:nvSpPr>
                  <p:spPr>
                    <a:xfrm rot="1737600">
                      <a:off x="2652120" y="280548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3" name="Freeform 1957"/>
                    <p:cNvSpPr/>
                    <p:nvPr/>
                  </p:nvSpPr>
                  <p:spPr>
                    <a:xfrm rot="1737600">
                      <a:off x="2631240" y="2796840"/>
                      <a:ext cx="9072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Freeform 1958"/>
                    <p:cNvSpPr/>
                    <p:nvPr/>
                  </p:nvSpPr>
                  <p:spPr>
                    <a:xfrm rot="1737600">
                      <a:off x="2620800" y="278460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Freeform 1959"/>
                    <p:cNvSpPr/>
                    <p:nvPr/>
                  </p:nvSpPr>
                  <p:spPr>
                    <a:xfrm rot="1737600">
                      <a:off x="2457720" y="268272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6" name="Freeform 1960"/>
                    <p:cNvSpPr/>
                    <p:nvPr/>
                  </p:nvSpPr>
                  <p:spPr>
                    <a:xfrm rot="1737600">
                      <a:off x="2657160" y="281880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Freeform 1961"/>
                    <p:cNvSpPr/>
                    <p:nvPr/>
                  </p:nvSpPr>
                  <p:spPr>
                    <a:xfrm rot="1737600">
                      <a:off x="2626920" y="280188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8" name="Freeform 1962"/>
                    <p:cNvSpPr/>
                    <p:nvPr/>
                  </p:nvSpPr>
                  <p:spPr>
                    <a:xfrm rot="1737600">
                      <a:off x="2727000" y="2516760"/>
                      <a:ext cx="8640" cy="26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Freeform 1963"/>
                    <p:cNvSpPr/>
                    <p:nvPr/>
                  </p:nvSpPr>
                  <p:spPr>
                    <a:xfrm rot="1737600">
                      <a:off x="2522160" y="270216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Freeform 1964"/>
                    <p:cNvSpPr/>
                    <p:nvPr/>
                  </p:nvSpPr>
                  <p:spPr>
                    <a:xfrm rot="1737600">
                      <a:off x="2492280" y="2725920"/>
                      <a:ext cx="124560" cy="20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1" name="Freeform 1965"/>
                    <p:cNvSpPr/>
                    <p:nvPr/>
                  </p:nvSpPr>
                  <p:spPr>
                    <a:xfrm rot="1737600">
                      <a:off x="2617200" y="279324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2" name="Freeform 1966"/>
                    <p:cNvSpPr/>
                    <p:nvPr/>
                  </p:nvSpPr>
                  <p:spPr>
                    <a:xfrm rot="2418600">
                      <a:off x="2703240" y="278460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Freeform 1967"/>
                    <p:cNvSpPr/>
                    <p:nvPr/>
                  </p:nvSpPr>
                  <p:spPr>
                    <a:xfrm rot="1737600">
                      <a:off x="2704320" y="260532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54" name="Group 2015"/>
              <p:cNvGrpSpPr/>
              <p:nvPr/>
            </p:nvGrpSpPr>
            <p:grpSpPr>
              <a:xfrm>
                <a:off x="2179800" y="2353320"/>
                <a:ext cx="665280" cy="879840"/>
                <a:chOff x="2179800" y="2353320"/>
                <a:chExt cx="665280" cy="879840"/>
              </a:xfrm>
            </p:grpSpPr>
            <p:sp>
              <p:nvSpPr>
                <p:cNvPr id="1055" name="Freeform 2016"/>
                <p:cNvSpPr/>
                <p:nvPr/>
              </p:nvSpPr>
              <p:spPr>
                <a:xfrm rot="1077600">
                  <a:off x="2525760" y="265608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6" name="Group 2017"/>
                <p:cNvGrpSpPr/>
                <p:nvPr/>
              </p:nvGrpSpPr>
              <p:grpSpPr>
                <a:xfrm>
                  <a:off x="2179800" y="2353320"/>
                  <a:ext cx="665280" cy="879840"/>
                  <a:chOff x="2179800" y="2353320"/>
                  <a:chExt cx="665280" cy="879840"/>
                </a:xfrm>
              </p:grpSpPr>
              <p:grpSp>
                <p:nvGrpSpPr>
                  <p:cNvPr id="1057" name="Group 2018"/>
                  <p:cNvGrpSpPr/>
                  <p:nvPr/>
                </p:nvGrpSpPr>
                <p:grpSpPr>
                  <a:xfrm>
                    <a:off x="2223720" y="2606760"/>
                    <a:ext cx="334080" cy="626400"/>
                    <a:chOff x="2223720" y="2606760"/>
                    <a:chExt cx="334080" cy="626400"/>
                  </a:xfrm>
                </p:grpSpPr>
                <p:sp>
                  <p:nvSpPr>
                    <p:cNvPr id="1058" name="AutoShape 2019"/>
                    <p:cNvSpPr/>
                    <p:nvPr/>
                  </p:nvSpPr>
                  <p:spPr>
                    <a:xfrm rot="1077600">
                      <a:off x="2456640" y="2618640"/>
                      <a:ext cx="90720" cy="79200"/>
                    </a:xfrm>
                    <a:prstGeom prst="irregularSeal1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Freeform 2020"/>
                    <p:cNvSpPr/>
                    <p:nvPr/>
                  </p:nvSpPr>
                  <p:spPr>
                    <a:xfrm rot="1077600">
                      <a:off x="2385720" y="2656800"/>
                      <a:ext cx="4608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35">
                          <a:moveTo>
                            <a:pt x="185" y="0"/>
                          </a:moveTo>
                          <a:cubicBezTo>
                            <a:pt x="174" y="126"/>
                            <a:pt x="137" y="578"/>
                            <a:pt x="120" y="757"/>
                          </a:cubicBezTo>
                          <a:lnTo>
                            <a:pt x="84" y="1075"/>
                          </a:lnTo>
                          <a:lnTo>
                            <a:pt x="0" y="1735"/>
                          </a:lnTo>
                        </a:path>
                      </a:pathLst>
                    </a:custGeom>
                    <a:noFill/>
                    <a:ln w="11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Oval 2021"/>
                    <p:cNvSpPr/>
                    <p:nvPr/>
                  </p:nvSpPr>
                  <p:spPr>
                    <a:xfrm rot="1621200">
                      <a:off x="2264760" y="3040560"/>
                      <a:ext cx="45360" cy="192600"/>
                    </a:xfrm>
                    <a:prstGeom prst="ellipse">
                      <a:avLst/>
                    </a:prstGeom>
                    <a:solidFill>
                      <a:srgbClr val="ffffff">
                        <a:alpha val="19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1" name="Group 2022"/>
                  <p:cNvGrpSpPr/>
                  <p:nvPr/>
                </p:nvGrpSpPr>
                <p:grpSpPr>
                  <a:xfrm>
                    <a:off x="2179800" y="2353320"/>
                    <a:ext cx="665280" cy="532800"/>
                    <a:chOff x="2179800" y="2353320"/>
                    <a:chExt cx="665280" cy="532800"/>
                  </a:xfrm>
                </p:grpSpPr>
                <p:sp>
                  <p:nvSpPr>
                    <p:cNvPr id="1062" name="Freeform 2023"/>
                    <p:cNvSpPr/>
                    <p:nvPr/>
                  </p:nvSpPr>
                  <p:spPr>
                    <a:xfrm rot="1077600">
                      <a:off x="2340720" y="2615760"/>
                      <a:ext cx="15804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03">
                          <a:moveTo>
                            <a:pt x="544" y="303"/>
                          </a:moveTo>
                          <a:cubicBezTo>
                            <a:pt x="553" y="278"/>
                            <a:pt x="593" y="184"/>
                            <a:pt x="598" y="153"/>
                          </a:cubicBezTo>
                          <a:cubicBezTo>
                            <a:pt x="603" y="122"/>
                            <a:pt x="632" y="137"/>
                            <a:pt x="574" y="117"/>
                          </a:cubicBezTo>
                          <a:cubicBezTo>
                            <a:pt x="516" y="97"/>
                            <a:pt x="346" y="0"/>
                            <a:pt x="250" y="31"/>
                          </a:cubicBezTo>
                          <a:cubicBezTo>
                            <a:pt x="154" y="62"/>
                            <a:pt x="52" y="245"/>
                            <a:pt x="0" y="303"/>
                          </a:cubicBezTo>
                        </a:path>
                      </a:pathLst>
                    </a:custGeom>
                    <a:noFill/>
                    <a:ln cap="rnd" w="144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3" name="Freeform 2024"/>
                    <p:cNvSpPr/>
                    <p:nvPr/>
                  </p:nvSpPr>
                  <p:spPr>
                    <a:xfrm rot="1077600">
                      <a:off x="2212920" y="2616840"/>
                      <a:ext cx="2725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272">
                          <a:moveTo>
                            <a:pt x="1089" y="0"/>
                          </a:moveTo>
                          <a:cubicBezTo>
                            <a:pt x="988" y="18"/>
                            <a:pt x="663" y="64"/>
                            <a:pt x="482" y="109"/>
                          </a:cubicBezTo>
                          <a:cubicBezTo>
                            <a:pt x="301" y="154"/>
                            <a:pt x="100" y="238"/>
                            <a:pt x="0" y="2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Freeform 2025"/>
                    <p:cNvSpPr/>
                    <p:nvPr/>
                  </p:nvSpPr>
                  <p:spPr>
                    <a:xfrm rot="1077600">
                      <a:off x="2212200" y="2547000"/>
                      <a:ext cx="28404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272">
                          <a:moveTo>
                            <a:pt x="1134" y="272"/>
                          </a:moveTo>
                          <a:cubicBezTo>
                            <a:pt x="1024" y="241"/>
                            <a:pt x="663" y="129"/>
                            <a:pt x="474" y="84"/>
                          </a:cubicBezTo>
                          <a:cubicBezTo>
                            <a:pt x="285" y="39"/>
                            <a:pt x="99" y="1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Freeform 2026"/>
                    <p:cNvSpPr/>
                    <p:nvPr/>
                  </p:nvSpPr>
                  <p:spPr>
                    <a:xfrm rot="1077600">
                      <a:off x="2186640" y="2505240"/>
                      <a:ext cx="29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363">
                          <a:moveTo>
                            <a:pt x="1180" y="363"/>
                          </a:moveTo>
                          <a:cubicBezTo>
                            <a:pt x="1067" y="321"/>
                            <a:pt x="699" y="172"/>
                            <a:pt x="502" y="112"/>
                          </a:cubicBezTo>
                          <a:cubicBezTo>
                            <a:pt x="305" y="52"/>
                            <a:pt x="105" y="23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6" name="Freeform 2027"/>
                    <p:cNvSpPr/>
                    <p:nvPr/>
                  </p:nvSpPr>
                  <p:spPr>
                    <a:xfrm rot="1077600">
                      <a:off x="2211120" y="2489760"/>
                      <a:ext cx="2937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3" h="461">
                          <a:moveTo>
                            <a:pt x="1173" y="461"/>
                          </a:moveTo>
                          <a:cubicBezTo>
                            <a:pt x="1088" y="425"/>
                            <a:pt x="862" y="323"/>
                            <a:pt x="666" y="246"/>
                          </a:cubicBezTo>
                          <a:cubicBezTo>
                            <a:pt x="470" y="169"/>
                            <a:pt x="139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7" name="Freeform 2028"/>
                    <p:cNvSpPr/>
                    <p:nvPr/>
                  </p:nvSpPr>
                  <p:spPr>
                    <a:xfrm rot="1077600">
                      <a:off x="2244240" y="2498400"/>
                      <a:ext cx="28404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4" h="453">
                          <a:moveTo>
                            <a:pt x="1134" y="453"/>
                          </a:moveTo>
                          <a:cubicBezTo>
                            <a:pt x="1034" y="407"/>
                            <a:pt x="722" y="254"/>
                            <a:pt x="533" y="178"/>
                          </a:cubicBezTo>
                          <a:cubicBezTo>
                            <a:pt x="344" y="102"/>
                            <a:pt x="111" y="37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Freeform 2029"/>
                    <p:cNvSpPr/>
                    <p:nvPr/>
                  </p:nvSpPr>
                  <p:spPr>
                    <a:xfrm rot="1077600">
                      <a:off x="2311920" y="2439720"/>
                      <a:ext cx="214200" cy="18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724">
                          <a:moveTo>
                            <a:pt x="856" y="724"/>
                          </a:moveTo>
                          <a:lnTo>
                            <a:pt x="372" y="234"/>
                          </a:lnTo>
                          <a:cubicBezTo>
                            <a:pt x="229" y="113"/>
                            <a:pt x="77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9" name="Freeform 2030"/>
                    <p:cNvSpPr/>
                    <p:nvPr/>
                  </p:nvSpPr>
                  <p:spPr>
                    <a:xfrm rot="1077600">
                      <a:off x="2277720" y="244512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lnTo>
                            <a:pt x="220" y="1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0" name="Freeform 2031"/>
                    <p:cNvSpPr/>
                    <p:nvPr/>
                  </p:nvSpPr>
                  <p:spPr>
                    <a:xfrm rot="1077600">
                      <a:off x="2299320" y="2488320"/>
                      <a:ext cx="249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8" h="635">
                          <a:moveTo>
                            <a:pt x="998" y="635"/>
                          </a:moveTo>
                          <a:cubicBezTo>
                            <a:pt x="882" y="554"/>
                            <a:pt x="466" y="255"/>
                            <a:pt x="300" y="149"/>
                          </a:cubicBezTo>
                          <a:cubicBezTo>
                            <a:pt x="134" y="43"/>
                            <a:pt x="62" y="3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Freeform 2032"/>
                    <p:cNvSpPr/>
                    <p:nvPr/>
                  </p:nvSpPr>
                  <p:spPr>
                    <a:xfrm rot="1077600">
                      <a:off x="2293200" y="2387520"/>
                      <a:ext cx="262800" cy="24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980">
                          <a:moveTo>
                            <a:pt x="1050" y="980"/>
                          </a:moveTo>
                          <a:lnTo>
                            <a:pt x="378" y="234"/>
                          </a:lnTo>
                          <a:cubicBezTo>
                            <a:pt x="203" y="71"/>
                            <a:pt x="79" y="49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2" name="Line 2033"/>
                    <p:cNvSpPr/>
                    <p:nvPr/>
                  </p:nvSpPr>
                  <p:spPr>
                    <a:xfrm flipH="1" flipV="1">
                      <a:off x="2408400" y="2395080"/>
                      <a:ext cx="106920" cy="297000"/>
                    </a:xfrm>
                    <a:prstGeom prst="line">
                      <a:avLst/>
                    </a:prstGeom>
                    <a:ln w="252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3" name="Freeform 2034"/>
                    <p:cNvSpPr/>
                    <p:nvPr/>
                  </p:nvSpPr>
                  <p:spPr>
                    <a:xfrm rot="1077600">
                      <a:off x="2387880" y="2421360"/>
                      <a:ext cx="15876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997">
                          <a:moveTo>
                            <a:pt x="635" y="997"/>
                          </a:moveTo>
                          <a:cubicBezTo>
                            <a:pt x="569" y="887"/>
                            <a:pt x="345" y="500"/>
                            <a:pt x="239" y="334"/>
                          </a:cubicBezTo>
                          <a:cubicBezTo>
                            <a:pt x="133" y="168"/>
                            <a:pt x="50" y="7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Freeform 2035"/>
                    <p:cNvSpPr/>
                    <p:nvPr/>
                  </p:nvSpPr>
                  <p:spPr>
                    <a:xfrm rot="1077600">
                      <a:off x="2427480" y="2408760"/>
                      <a:ext cx="123120" cy="25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2" h="1026">
                          <a:moveTo>
                            <a:pt x="492" y="1026"/>
                          </a:moveTo>
                          <a:cubicBezTo>
                            <a:pt x="452" y="924"/>
                            <a:pt x="334" y="585"/>
                            <a:pt x="252" y="414"/>
                          </a:cubicBezTo>
                          <a:cubicBezTo>
                            <a:pt x="170" y="243"/>
                            <a:pt x="53" y="8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5" name="Freeform 2036"/>
                    <p:cNvSpPr/>
                    <p:nvPr/>
                  </p:nvSpPr>
                  <p:spPr>
                    <a:xfrm rot="1077600">
                      <a:off x="2469600" y="2400120"/>
                      <a:ext cx="82440" cy="27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1086">
                          <a:moveTo>
                            <a:pt x="330" y="1086"/>
                          </a:moveTo>
                          <a:cubicBezTo>
                            <a:pt x="302" y="966"/>
                            <a:pt x="217" y="547"/>
                            <a:pt x="162" y="366"/>
                          </a:cubicBezTo>
                          <a:cubicBezTo>
                            <a:pt x="107" y="185"/>
                            <a:pt x="34" y="76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6" name="Freeform 2037"/>
                    <p:cNvSpPr/>
                    <p:nvPr/>
                  </p:nvSpPr>
                  <p:spPr>
                    <a:xfrm rot="1077600">
                      <a:off x="2519640" y="2402640"/>
                      <a:ext cx="41040" cy="29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160">
                          <a:moveTo>
                            <a:pt x="164" y="1160"/>
                          </a:moveTo>
                          <a:cubicBezTo>
                            <a:pt x="148" y="1008"/>
                            <a:pt x="93" y="439"/>
                            <a:pt x="66" y="246"/>
                          </a:cubicBezTo>
                          <a:cubicBezTo>
                            <a:pt x="39" y="53"/>
                            <a:pt x="14" y="51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7" name="Freeform 2038"/>
                    <p:cNvSpPr/>
                    <p:nvPr/>
                  </p:nvSpPr>
                  <p:spPr>
                    <a:xfrm rot="1077600">
                      <a:off x="2532600" y="2370960"/>
                      <a:ext cx="4752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259">
                          <a:moveTo>
                            <a:pt x="140" y="1259"/>
                          </a:moveTo>
                          <a:cubicBezTo>
                            <a:pt x="145" y="1113"/>
                            <a:pt x="191" y="594"/>
                            <a:pt x="168" y="384"/>
                          </a:cubicBezTo>
                          <a:cubicBezTo>
                            <a:pt x="145" y="174"/>
                            <a:pt x="35" y="80"/>
                            <a:pt x="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8" name="Freeform 2039"/>
                    <p:cNvSpPr/>
                    <p:nvPr/>
                  </p:nvSpPr>
                  <p:spPr>
                    <a:xfrm rot="1077600">
                      <a:off x="2547360" y="2419200"/>
                      <a:ext cx="450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34">
                          <a:moveTo>
                            <a:pt x="0" y="1134"/>
                          </a:moveTo>
                          <a:cubicBezTo>
                            <a:pt x="19" y="988"/>
                            <a:pt x="85" y="445"/>
                            <a:pt x="115" y="256"/>
                          </a:cubicBezTo>
                          <a:cubicBezTo>
                            <a:pt x="145" y="67"/>
                            <a:pt x="167" y="53"/>
                            <a:pt x="181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9" name="Freeform 2040"/>
                    <p:cNvSpPr/>
                    <p:nvPr/>
                  </p:nvSpPr>
                  <p:spPr>
                    <a:xfrm rot="1077600">
                      <a:off x="2553480" y="2461320"/>
                      <a:ext cx="79200" cy="23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Freeform 2041"/>
                    <p:cNvSpPr/>
                    <p:nvPr/>
                  </p:nvSpPr>
                  <p:spPr>
                    <a:xfrm rot="1077600">
                      <a:off x="2553120" y="2404080"/>
                      <a:ext cx="158760" cy="29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1179">
                          <a:moveTo>
                            <a:pt x="0" y="1179"/>
                          </a:moveTo>
                          <a:cubicBezTo>
                            <a:pt x="70" y="1066"/>
                            <a:pt x="315" y="697"/>
                            <a:pt x="421" y="501"/>
                          </a:cubicBezTo>
                          <a:cubicBezTo>
                            <a:pt x="527" y="305"/>
                            <a:pt x="591" y="105"/>
                            <a:pt x="635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1" name="Freeform 2042"/>
                    <p:cNvSpPr/>
                    <p:nvPr/>
                  </p:nvSpPr>
                  <p:spPr>
                    <a:xfrm rot="1077600">
                      <a:off x="2541600" y="2466000"/>
                      <a:ext cx="20412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6" h="998">
                          <a:moveTo>
                            <a:pt x="0" y="998"/>
                          </a:moveTo>
                          <a:cubicBezTo>
                            <a:pt x="102" y="891"/>
                            <a:pt x="477" y="523"/>
                            <a:pt x="613" y="357"/>
                          </a:cubicBezTo>
                          <a:cubicBezTo>
                            <a:pt x="749" y="191"/>
                            <a:pt x="774" y="75"/>
                            <a:pt x="816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Freeform 2043"/>
                    <p:cNvSpPr/>
                    <p:nvPr/>
                  </p:nvSpPr>
                  <p:spPr>
                    <a:xfrm rot="1077600">
                      <a:off x="2542680" y="2530440"/>
                      <a:ext cx="238320" cy="19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771">
                          <a:moveTo>
                            <a:pt x="0" y="771"/>
                          </a:moveTo>
                          <a:cubicBezTo>
                            <a:pt x="91" y="704"/>
                            <a:pt x="385" y="497"/>
                            <a:pt x="544" y="369"/>
                          </a:cubicBezTo>
                          <a:cubicBezTo>
                            <a:pt x="703" y="241"/>
                            <a:pt x="867" y="77"/>
                            <a:pt x="952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3" name="Freeform 2044"/>
                    <p:cNvSpPr/>
                    <p:nvPr/>
                  </p:nvSpPr>
                  <p:spPr>
                    <a:xfrm rot="1077600">
                      <a:off x="2536560" y="2568600"/>
                      <a:ext cx="27252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635">
                          <a:moveTo>
                            <a:pt x="0" y="635"/>
                          </a:moveTo>
                          <a:cubicBezTo>
                            <a:pt x="109" y="581"/>
                            <a:pt x="471" y="417"/>
                            <a:pt x="652" y="311"/>
                          </a:cubicBezTo>
                          <a:cubicBezTo>
                            <a:pt x="833" y="205"/>
                            <a:pt x="997" y="65"/>
                            <a:pt x="1088" y="0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4" name="Freeform 2045"/>
                    <p:cNvSpPr/>
                    <p:nvPr/>
                  </p:nvSpPr>
                  <p:spPr>
                    <a:xfrm rot="1077600">
                      <a:off x="2510280" y="2579400"/>
                      <a:ext cx="3178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0" h="635">
                          <a:moveTo>
                            <a:pt x="0" y="635"/>
                          </a:moveTo>
                          <a:cubicBezTo>
                            <a:pt x="120" y="588"/>
                            <a:pt x="537" y="430"/>
                            <a:pt x="719" y="352"/>
                          </a:cubicBezTo>
                          <a:cubicBezTo>
                            <a:pt x="901" y="274"/>
                            <a:pt x="999" y="225"/>
                            <a:pt x="1091" y="166"/>
                          </a:cubicBezTo>
                          <a:cubicBezTo>
                            <a:pt x="1183" y="107"/>
                            <a:pt x="1233" y="35"/>
                            <a:pt x="1270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Freeform 2046"/>
                    <p:cNvSpPr/>
                    <p:nvPr/>
                  </p:nvSpPr>
                  <p:spPr>
                    <a:xfrm rot="1077600">
                      <a:off x="2496600" y="2712960"/>
                      <a:ext cx="1944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" h="87">
                          <a:moveTo>
                            <a:pt x="0" y="0"/>
                          </a:moveTo>
                          <a:cubicBezTo>
                            <a:pt x="63" y="14"/>
                            <a:pt x="255" y="81"/>
                            <a:pt x="384" y="84"/>
                          </a:cubicBezTo>
                          <a:cubicBezTo>
                            <a:pt x="513" y="87"/>
                            <a:pt x="694" y="33"/>
                            <a:pt x="776" y="2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Freeform 2047"/>
                    <p:cNvSpPr/>
                    <p:nvPr/>
                  </p:nvSpPr>
                  <p:spPr>
                    <a:xfrm rot="1077600">
                      <a:off x="2495880" y="2709720"/>
                      <a:ext cx="136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135">
                          <a:moveTo>
                            <a:pt x="0" y="0"/>
                          </a:moveTo>
                          <a:lnTo>
                            <a:pt x="289" y="99"/>
                          </a:lnTo>
                          <a:cubicBezTo>
                            <a:pt x="380" y="121"/>
                            <a:pt x="491" y="128"/>
                            <a:pt x="544" y="13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7" name="Freeform 2048"/>
                    <p:cNvSpPr/>
                    <p:nvPr/>
                  </p:nvSpPr>
                  <p:spPr>
                    <a:xfrm rot="1077600">
                      <a:off x="2477160" y="2708640"/>
                      <a:ext cx="907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2">
                          <a:moveTo>
                            <a:pt x="0" y="0"/>
                          </a:moveTo>
                          <a:cubicBezTo>
                            <a:pt x="34" y="32"/>
                            <a:pt x="143" y="147"/>
                            <a:pt x="203" y="192"/>
                          </a:cubicBezTo>
                          <a:cubicBezTo>
                            <a:pt x="263" y="237"/>
                            <a:pt x="330" y="255"/>
                            <a:pt x="363" y="272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8" name="Freeform 2049"/>
                    <p:cNvSpPr/>
                    <p:nvPr/>
                  </p:nvSpPr>
                  <p:spPr>
                    <a:xfrm rot="1077600">
                      <a:off x="2465640" y="270072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06">
                          <a:moveTo>
                            <a:pt x="0" y="0"/>
                          </a:moveTo>
                          <a:cubicBezTo>
                            <a:pt x="24" y="33"/>
                            <a:pt x="103" y="147"/>
                            <a:pt x="146" y="198"/>
                          </a:cubicBezTo>
                          <a:cubicBezTo>
                            <a:pt x="189" y="249"/>
                            <a:pt x="236" y="284"/>
                            <a:pt x="260" y="306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9" name="Freeform 2050"/>
                    <p:cNvSpPr/>
                    <p:nvPr/>
                  </p:nvSpPr>
                  <p:spPr>
                    <a:xfrm rot="1077600">
                      <a:off x="2279160" y="2617560"/>
                      <a:ext cx="227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72">
                          <a:moveTo>
                            <a:pt x="0" y="27"/>
                          </a:moveTo>
                          <a:cubicBezTo>
                            <a:pt x="55" y="24"/>
                            <a:pt x="180" y="0"/>
                            <a:pt x="331" y="7"/>
                          </a:cubicBezTo>
                          <a:cubicBezTo>
                            <a:pt x="482" y="14"/>
                            <a:pt x="787" y="59"/>
                            <a:pt x="907" y="72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0" name="Freeform 2051"/>
                    <p:cNvSpPr/>
                    <p:nvPr/>
                  </p:nvSpPr>
                  <p:spPr>
                    <a:xfrm rot="1077600">
                      <a:off x="2500200" y="2712960"/>
                      <a:ext cx="227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7" h="56">
                          <a:moveTo>
                            <a:pt x="0" y="0"/>
                          </a:moveTo>
                          <a:cubicBezTo>
                            <a:pt x="86" y="8"/>
                            <a:pt x="366" y="42"/>
                            <a:pt x="517" y="49"/>
                          </a:cubicBezTo>
                          <a:cubicBezTo>
                            <a:pt x="668" y="56"/>
                            <a:pt x="826" y="46"/>
                            <a:pt x="907" y="45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Freeform 2052"/>
                    <p:cNvSpPr/>
                    <p:nvPr/>
                  </p:nvSpPr>
                  <p:spPr>
                    <a:xfrm rot="1077600">
                      <a:off x="2475720" y="2707560"/>
                      <a:ext cx="1587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5" h="363">
                          <a:moveTo>
                            <a:pt x="0" y="0"/>
                          </a:moveTo>
                          <a:cubicBezTo>
                            <a:pt x="57" y="40"/>
                            <a:pt x="235" y="178"/>
                            <a:pt x="341" y="238"/>
                          </a:cubicBezTo>
                          <a:cubicBezTo>
                            <a:pt x="447" y="298"/>
                            <a:pt x="574" y="337"/>
                            <a:pt x="635" y="363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2" name="Freeform 2053"/>
                    <p:cNvSpPr/>
                    <p:nvPr/>
                  </p:nvSpPr>
                  <p:spPr>
                    <a:xfrm rot="1077600">
                      <a:off x="2536920" y="2421720"/>
                      <a:ext cx="8640" cy="26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043">
                          <a:moveTo>
                            <a:pt x="0" y="0"/>
                          </a:moveTo>
                          <a:cubicBezTo>
                            <a:pt x="6" y="84"/>
                            <a:pt x="35" y="330"/>
                            <a:pt x="35" y="504"/>
                          </a:cubicBezTo>
                          <a:cubicBezTo>
                            <a:pt x="35" y="678"/>
                            <a:pt x="7" y="931"/>
                            <a:pt x="0" y="104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Freeform 2054"/>
                    <p:cNvSpPr/>
                    <p:nvPr/>
                  </p:nvSpPr>
                  <p:spPr>
                    <a:xfrm rot="1077600">
                      <a:off x="2359080" y="2631960"/>
                      <a:ext cx="136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590">
                          <a:moveTo>
                            <a:pt x="544" y="0"/>
                          </a:moveTo>
                          <a:cubicBezTo>
                            <a:pt x="495" y="45"/>
                            <a:pt x="341" y="173"/>
                            <a:pt x="250" y="271"/>
                          </a:cubicBezTo>
                          <a:cubicBezTo>
                            <a:pt x="159" y="369"/>
                            <a:pt x="52" y="524"/>
                            <a:pt x="0" y="590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4" name="Freeform 2055"/>
                    <p:cNvSpPr/>
                    <p:nvPr/>
                  </p:nvSpPr>
                  <p:spPr>
                    <a:xfrm rot="1077600">
                      <a:off x="2339640" y="2660760"/>
                      <a:ext cx="124560" cy="20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817">
                          <a:moveTo>
                            <a:pt x="498" y="0"/>
                          </a:moveTo>
                          <a:cubicBezTo>
                            <a:pt x="455" y="58"/>
                            <a:pt x="323" y="210"/>
                            <a:pt x="240" y="346"/>
                          </a:cubicBezTo>
                          <a:cubicBezTo>
                            <a:pt x="157" y="482"/>
                            <a:pt x="50" y="719"/>
                            <a:pt x="0" y="817"/>
                          </a:cubicBezTo>
                        </a:path>
                      </a:pathLst>
                    </a:custGeom>
                    <a:noFill/>
                    <a:ln w="14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5" name="Freeform 2056"/>
                    <p:cNvSpPr/>
                    <p:nvPr/>
                  </p:nvSpPr>
                  <p:spPr>
                    <a:xfrm rot="1077600">
                      <a:off x="2472840" y="2707920"/>
                      <a:ext cx="7920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680">
                          <a:moveTo>
                            <a:pt x="0" y="0"/>
                          </a:moveTo>
                          <a:cubicBezTo>
                            <a:pt x="27" y="48"/>
                            <a:pt x="120" y="212"/>
                            <a:pt x="164" y="288"/>
                          </a:cubicBezTo>
                          <a:cubicBezTo>
                            <a:pt x="208" y="364"/>
                            <a:pt x="238" y="391"/>
                            <a:pt x="264" y="456"/>
                          </a:cubicBezTo>
                          <a:cubicBezTo>
                            <a:pt x="290" y="521"/>
                            <a:pt x="306" y="633"/>
                            <a:pt x="317" y="68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6" name="Freeform 2057"/>
                    <p:cNvSpPr/>
                    <p:nvPr/>
                  </p:nvSpPr>
                  <p:spPr>
                    <a:xfrm rot="1758600">
                      <a:off x="2541240" y="268236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252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7" name="Freeform 2058"/>
                    <p:cNvSpPr/>
                    <p:nvPr/>
                  </p:nvSpPr>
                  <p:spPr>
                    <a:xfrm rot="1077600">
                      <a:off x="2523600" y="2507760"/>
                      <a:ext cx="6804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952">
                          <a:moveTo>
                            <a:pt x="0" y="952"/>
                          </a:moveTo>
                          <a:cubicBezTo>
                            <a:pt x="43" y="837"/>
                            <a:pt x="203" y="422"/>
                            <a:pt x="256" y="263"/>
                          </a:cubicBezTo>
                          <a:cubicBezTo>
                            <a:pt x="309" y="104"/>
                            <a:pt x="304" y="55"/>
                            <a:pt x="317" y="0"/>
                          </a:cubicBezTo>
                        </a:path>
                      </a:pathLst>
                    </a:custGeom>
                    <a:noFill/>
                    <a:ln w="252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98" name="Group 2228"/>
            <p:cNvGrpSpPr/>
            <p:nvPr/>
          </p:nvGrpSpPr>
          <p:grpSpPr>
            <a:xfrm>
              <a:off x="1496520" y="2657160"/>
              <a:ext cx="1579680" cy="1400760"/>
              <a:chOff x="1496520" y="2657160"/>
              <a:chExt cx="1579680" cy="1400760"/>
            </a:xfrm>
          </p:grpSpPr>
          <p:grpSp>
            <p:nvGrpSpPr>
              <p:cNvPr id="1099" name="Group 2063"/>
              <p:cNvGrpSpPr/>
              <p:nvPr/>
            </p:nvGrpSpPr>
            <p:grpSpPr>
              <a:xfrm>
                <a:off x="2432160" y="3017160"/>
                <a:ext cx="644040" cy="628560"/>
                <a:chOff x="2432160" y="3017160"/>
                <a:chExt cx="644040" cy="628560"/>
              </a:xfrm>
            </p:grpSpPr>
            <p:sp>
              <p:nvSpPr>
                <p:cNvPr id="1100" name="Freeform 2064"/>
                <p:cNvSpPr/>
                <p:nvPr/>
              </p:nvSpPr>
              <p:spPr>
                <a:xfrm rot="2456400">
                  <a:off x="2552040" y="3313080"/>
                  <a:ext cx="173160" cy="8244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2065"/>
                <p:cNvSpPr/>
                <p:nvPr/>
              </p:nvSpPr>
              <p:spPr>
                <a:xfrm rot="2456400">
                  <a:off x="2419920" y="3284280"/>
                  <a:ext cx="298440" cy="7416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2066"/>
                <p:cNvSpPr/>
                <p:nvPr/>
              </p:nvSpPr>
              <p:spPr>
                <a:xfrm rot="2456400">
                  <a:off x="2448360" y="3215880"/>
                  <a:ext cx="310680" cy="7416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2067"/>
                <p:cNvSpPr/>
                <p:nvPr/>
              </p:nvSpPr>
              <p:spPr>
                <a:xfrm rot="2456400">
                  <a:off x="2435040" y="3164400"/>
                  <a:ext cx="323280" cy="9900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2068"/>
                <p:cNvSpPr/>
                <p:nvPr/>
              </p:nvSpPr>
              <p:spPr>
                <a:xfrm rot="2456400">
                  <a:off x="2461680" y="3157920"/>
                  <a:ext cx="321120" cy="12564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2069"/>
                <p:cNvSpPr/>
                <p:nvPr/>
              </p:nvSpPr>
              <p:spPr>
                <a:xfrm rot="2456400">
                  <a:off x="2491560" y="3179520"/>
                  <a:ext cx="310680" cy="12348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2070"/>
                <p:cNvSpPr/>
                <p:nvPr/>
              </p:nvSpPr>
              <p:spPr>
                <a:xfrm rot="2456400">
                  <a:off x="2573280" y="3131640"/>
                  <a:ext cx="234360" cy="19764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071"/>
                <p:cNvSpPr/>
                <p:nvPr/>
              </p:nvSpPr>
              <p:spPr>
                <a:xfrm rot="2456400">
                  <a:off x="2539080" y="3130920"/>
                  <a:ext cx="273240" cy="1731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072"/>
                <p:cNvSpPr/>
                <p:nvPr/>
              </p:nvSpPr>
              <p:spPr>
                <a:xfrm rot="2456400">
                  <a:off x="2543040" y="3183120"/>
                  <a:ext cx="273240" cy="1731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2073"/>
                <p:cNvSpPr/>
                <p:nvPr/>
              </p:nvSpPr>
              <p:spPr>
                <a:xfrm rot="2456400">
                  <a:off x="2560320" y="3078360"/>
                  <a:ext cx="287640" cy="26748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2074"/>
                <p:cNvSpPr/>
                <p:nvPr/>
              </p:nvSpPr>
              <p:spPr>
                <a:xfrm flipV="1">
                  <a:off x="2718360" y="3089880"/>
                  <a:ext cx="19080" cy="34380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2075"/>
                <p:cNvSpPr/>
                <p:nvPr/>
              </p:nvSpPr>
              <p:spPr>
                <a:xfrm rot="2456400">
                  <a:off x="2645640" y="3130200"/>
                  <a:ext cx="173880" cy="27216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2076"/>
                <p:cNvSpPr/>
                <p:nvPr/>
              </p:nvSpPr>
              <p:spPr>
                <a:xfrm rot="2456400">
                  <a:off x="2690640" y="3126960"/>
                  <a:ext cx="134640" cy="2800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2077"/>
                <p:cNvSpPr/>
                <p:nvPr/>
              </p:nvSpPr>
              <p:spPr>
                <a:xfrm rot="2456400">
                  <a:off x="2734920" y="3127320"/>
                  <a:ext cx="90360" cy="2966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2078"/>
                <p:cNvSpPr/>
                <p:nvPr/>
              </p:nvSpPr>
              <p:spPr>
                <a:xfrm rot="2456400">
                  <a:off x="2782800" y="3141360"/>
                  <a:ext cx="44640" cy="3168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2079"/>
                <p:cNvSpPr/>
                <p:nvPr/>
              </p:nvSpPr>
              <p:spPr>
                <a:xfrm rot="2456400">
                  <a:off x="2803680" y="3115080"/>
                  <a:ext cx="52200" cy="3438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2080"/>
                <p:cNvSpPr/>
                <p:nvPr/>
              </p:nvSpPr>
              <p:spPr>
                <a:xfrm rot="2456400">
                  <a:off x="2804760" y="3170160"/>
                  <a:ext cx="49320" cy="30960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2081"/>
                <p:cNvSpPr/>
                <p:nvPr/>
              </p:nvSpPr>
              <p:spPr>
                <a:xfrm rot="2456400">
                  <a:off x="2800800" y="3224880"/>
                  <a:ext cx="86760" cy="2599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2082"/>
                <p:cNvSpPr/>
                <p:nvPr/>
              </p:nvSpPr>
              <p:spPr>
                <a:xfrm rot="2456400">
                  <a:off x="2809800" y="3181320"/>
                  <a:ext cx="173880" cy="321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2083"/>
                <p:cNvSpPr/>
                <p:nvPr/>
              </p:nvSpPr>
              <p:spPr>
                <a:xfrm rot="2456400">
                  <a:off x="2779200" y="3250800"/>
                  <a:ext cx="223560" cy="27252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2084"/>
                <p:cNvSpPr/>
                <p:nvPr/>
              </p:nvSpPr>
              <p:spPr>
                <a:xfrm rot="2456400">
                  <a:off x="2763000" y="3325680"/>
                  <a:ext cx="260640" cy="210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2085"/>
                <p:cNvSpPr/>
                <p:nvPr/>
              </p:nvSpPr>
              <p:spPr>
                <a:xfrm rot="2456400">
                  <a:off x="2746800" y="3370680"/>
                  <a:ext cx="298080" cy="1731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2086"/>
                <p:cNvSpPr/>
                <p:nvPr/>
              </p:nvSpPr>
              <p:spPr>
                <a:xfrm rot="2456400">
                  <a:off x="2714040" y="3379680"/>
                  <a:ext cx="347760" cy="1731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2087"/>
                <p:cNvSpPr/>
                <p:nvPr/>
              </p:nvSpPr>
              <p:spPr>
                <a:xfrm rot="2456400">
                  <a:off x="2677680" y="3488040"/>
                  <a:ext cx="212400" cy="234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2088"/>
                <p:cNvSpPr/>
                <p:nvPr/>
              </p:nvSpPr>
              <p:spPr>
                <a:xfrm rot="2456400">
                  <a:off x="2678400" y="3470760"/>
                  <a:ext cx="149040" cy="3672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2089"/>
                <p:cNvSpPr/>
                <p:nvPr/>
              </p:nvSpPr>
              <p:spPr>
                <a:xfrm rot="2456400">
                  <a:off x="2654640" y="3450960"/>
                  <a:ext cx="99360" cy="7416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2090"/>
                <p:cNvSpPr/>
                <p:nvPr/>
              </p:nvSpPr>
              <p:spPr>
                <a:xfrm rot="2456400">
                  <a:off x="2645640" y="3432240"/>
                  <a:ext cx="70920" cy="835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2091"/>
                <p:cNvSpPr/>
                <p:nvPr/>
              </p:nvSpPr>
              <p:spPr>
                <a:xfrm rot="2456400">
                  <a:off x="2499120" y="3305880"/>
                  <a:ext cx="248400" cy="194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2092"/>
                <p:cNvSpPr/>
                <p:nvPr/>
              </p:nvSpPr>
              <p:spPr>
                <a:xfrm rot="2456400">
                  <a:off x="2681640" y="3496320"/>
                  <a:ext cx="248400" cy="1512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2093"/>
                <p:cNvSpPr/>
                <p:nvPr/>
              </p:nvSpPr>
              <p:spPr>
                <a:xfrm rot="2456400">
                  <a:off x="2645640" y="3462840"/>
                  <a:ext cx="173880" cy="9900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2094"/>
                <p:cNvSpPr/>
                <p:nvPr/>
              </p:nvSpPr>
              <p:spPr>
                <a:xfrm rot="2456400">
                  <a:off x="2799720" y="3161520"/>
                  <a:ext cx="9360" cy="28476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2095"/>
                <p:cNvSpPr/>
                <p:nvPr/>
              </p:nvSpPr>
              <p:spPr>
                <a:xfrm rot="2456400">
                  <a:off x="2549520" y="3329640"/>
                  <a:ext cx="149040" cy="16092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2096"/>
                <p:cNvSpPr/>
                <p:nvPr/>
              </p:nvSpPr>
              <p:spPr>
                <a:xfrm rot="2456400">
                  <a:off x="2506320" y="3345840"/>
                  <a:ext cx="136440" cy="2232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2097"/>
                <p:cNvSpPr/>
                <p:nvPr/>
              </p:nvSpPr>
              <p:spPr>
                <a:xfrm rot="2456400">
                  <a:off x="2629440" y="3441240"/>
                  <a:ext cx="8676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2098"/>
                <p:cNvSpPr/>
                <p:nvPr/>
              </p:nvSpPr>
              <p:spPr>
                <a:xfrm rot="3137400">
                  <a:off x="2739600" y="3456000"/>
                  <a:ext cx="111960" cy="244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2099"/>
                <p:cNvSpPr/>
                <p:nvPr/>
              </p:nvSpPr>
              <p:spPr>
                <a:xfrm rot="2456400">
                  <a:off x="2763720" y="3259080"/>
                  <a:ext cx="74520" cy="1983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Group 130"/>
              <p:cNvGrpSpPr/>
              <p:nvPr/>
            </p:nvGrpSpPr>
            <p:grpSpPr>
              <a:xfrm>
                <a:off x="1496520" y="2801520"/>
                <a:ext cx="644760" cy="629640"/>
                <a:chOff x="1496520" y="2801520"/>
                <a:chExt cx="644760" cy="629640"/>
              </a:xfrm>
            </p:grpSpPr>
            <p:sp>
              <p:nvSpPr>
                <p:cNvPr id="1137" name="Freeform 131"/>
                <p:cNvSpPr/>
                <p:nvPr/>
              </p:nvSpPr>
              <p:spPr>
                <a:xfrm rot="2456400">
                  <a:off x="1616760" y="3097800"/>
                  <a:ext cx="173160" cy="828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132"/>
                <p:cNvSpPr/>
                <p:nvPr/>
              </p:nvSpPr>
              <p:spPr>
                <a:xfrm rot="2456400">
                  <a:off x="1484280" y="3069360"/>
                  <a:ext cx="298440" cy="7452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133"/>
                <p:cNvSpPr/>
                <p:nvPr/>
              </p:nvSpPr>
              <p:spPr>
                <a:xfrm rot="2456400">
                  <a:off x="1513080" y="3000960"/>
                  <a:ext cx="310680" cy="7452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134"/>
                <p:cNvSpPr/>
                <p:nvPr/>
              </p:nvSpPr>
              <p:spPr>
                <a:xfrm rot="2456400">
                  <a:off x="1499760" y="2949480"/>
                  <a:ext cx="323280" cy="9936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135"/>
                <p:cNvSpPr/>
                <p:nvPr/>
              </p:nvSpPr>
              <p:spPr>
                <a:xfrm rot="2456400">
                  <a:off x="1526040" y="2943000"/>
                  <a:ext cx="321120" cy="12636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136"/>
                <p:cNvSpPr/>
                <p:nvPr/>
              </p:nvSpPr>
              <p:spPr>
                <a:xfrm rot="2456400">
                  <a:off x="1555920" y="2964240"/>
                  <a:ext cx="310680" cy="1238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137"/>
                <p:cNvSpPr/>
                <p:nvPr/>
              </p:nvSpPr>
              <p:spPr>
                <a:xfrm rot="2456400">
                  <a:off x="1638360" y="2915640"/>
                  <a:ext cx="234360" cy="19836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138"/>
                <p:cNvSpPr/>
                <p:nvPr/>
              </p:nvSpPr>
              <p:spPr>
                <a:xfrm rot="2456400">
                  <a:off x="1604160" y="2915280"/>
                  <a:ext cx="273240" cy="1738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139"/>
                <p:cNvSpPr/>
                <p:nvPr/>
              </p:nvSpPr>
              <p:spPr>
                <a:xfrm rot="2456400">
                  <a:off x="1607760" y="2967480"/>
                  <a:ext cx="273240" cy="1738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140"/>
                <p:cNvSpPr/>
                <p:nvPr/>
              </p:nvSpPr>
              <p:spPr>
                <a:xfrm rot="2456400">
                  <a:off x="1625040" y="2862720"/>
                  <a:ext cx="287640" cy="2685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141"/>
                <p:cNvSpPr/>
                <p:nvPr/>
              </p:nvSpPr>
              <p:spPr>
                <a:xfrm flipV="1">
                  <a:off x="1783080" y="2874240"/>
                  <a:ext cx="19800" cy="3445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142"/>
                <p:cNvSpPr/>
                <p:nvPr/>
              </p:nvSpPr>
              <p:spPr>
                <a:xfrm rot="2456400">
                  <a:off x="1710360" y="2914920"/>
                  <a:ext cx="173880" cy="2728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143"/>
                <p:cNvSpPr/>
                <p:nvPr/>
              </p:nvSpPr>
              <p:spPr>
                <a:xfrm rot="2456400">
                  <a:off x="1755720" y="2911680"/>
                  <a:ext cx="134640" cy="28116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144"/>
                <p:cNvSpPr/>
                <p:nvPr/>
              </p:nvSpPr>
              <p:spPr>
                <a:xfrm rot="2456400">
                  <a:off x="1800000" y="2911680"/>
                  <a:ext cx="90360" cy="29736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145"/>
                <p:cNvSpPr/>
                <p:nvPr/>
              </p:nvSpPr>
              <p:spPr>
                <a:xfrm rot="2456400">
                  <a:off x="1847880" y="2925360"/>
                  <a:ext cx="44640" cy="31788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146"/>
                <p:cNvSpPr/>
                <p:nvPr/>
              </p:nvSpPr>
              <p:spPr>
                <a:xfrm rot="2456400">
                  <a:off x="1868760" y="2899080"/>
                  <a:ext cx="52200" cy="34488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147"/>
                <p:cNvSpPr/>
                <p:nvPr/>
              </p:nvSpPr>
              <p:spPr>
                <a:xfrm rot="2456400">
                  <a:off x="1869480" y="2954880"/>
                  <a:ext cx="49320" cy="310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148"/>
                <p:cNvSpPr/>
                <p:nvPr/>
              </p:nvSpPr>
              <p:spPr>
                <a:xfrm rot="2456400">
                  <a:off x="1866240" y="3009600"/>
                  <a:ext cx="86760" cy="2606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149"/>
                <p:cNvSpPr/>
                <p:nvPr/>
              </p:nvSpPr>
              <p:spPr>
                <a:xfrm rot="2456400">
                  <a:off x="1874880" y="2965680"/>
                  <a:ext cx="173880" cy="32292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150"/>
                <p:cNvSpPr/>
                <p:nvPr/>
              </p:nvSpPr>
              <p:spPr>
                <a:xfrm rot="2456400">
                  <a:off x="1844280" y="3035160"/>
                  <a:ext cx="223560" cy="27324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151"/>
                <p:cNvSpPr/>
                <p:nvPr/>
              </p:nvSpPr>
              <p:spPr>
                <a:xfrm rot="2456400">
                  <a:off x="1828440" y="3110400"/>
                  <a:ext cx="260640" cy="21132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152"/>
                <p:cNvSpPr/>
                <p:nvPr/>
              </p:nvSpPr>
              <p:spPr>
                <a:xfrm rot="2456400">
                  <a:off x="1811520" y="3155040"/>
                  <a:ext cx="298080" cy="17388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153"/>
                <p:cNvSpPr/>
                <p:nvPr/>
              </p:nvSpPr>
              <p:spPr>
                <a:xfrm rot="2456400">
                  <a:off x="1778760" y="3164400"/>
                  <a:ext cx="347760" cy="17388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154"/>
                <p:cNvSpPr/>
                <p:nvPr/>
              </p:nvSpPr>
              <p:spPr>
                <a:xfrm rot="2456400">
                  <a:off x="1742400" y="3273120"/>
                  <a:ext cx="212400" cy="237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155"/>
                <p:cNvSpPr/>
                <p:nvPr/>
              </p:nvSpPr>
              <p:spPr>
                <a:xfrm rot="2456400">
                  <a:off x="1743120" y="3255840"/>
                  <a:ext cx="149040" cy="3672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156"/>
                <p:cNvSpPr/>
                <p:nvPr/>
              </p:nvSpPr>
              <p:spPr>
                <a:xfrm rot="2456400">
                  <a:off x="1719360" y="3236040"/>
                  <a:ext cx="99360" cy="7452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157"/>
                <p:cNvSpPr/>
                <p:nvPr/>
              </p:nvSpPr>
              <p:spPr>
                <a:xfrm rot="2456400">
                  <a:off x="1710360" y="3217320"/>
                  <a:ext cx="70920" cy="835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158"/>
                <p:cNvSpPr/>
                <p:nvPr/>
              </p:nvSpPr>
              <p:spPr>
                <a:xfrm rot="2456400">
                  <a:off x="1563840" y="3090960"/>
                  <a:ext cx="248400" cy="194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159"/>
                <p:cNvSpPr/>
                <p:nvPr/>
              </p:nvSpPr>
              <p:spPr>
                <a:xfrm rot="2456400">
                  <a:off x="1746360" y="3281400"/>
                  <a:ext cx="248400" cy="1512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160"/>
                <p:cNvSpPr/>
                <p:nvPr/>
              </p:nvSpPr>
              <p:spPr>
                <a:xfrm rot="2456400">
                  <a:off x="1710360" y="3247920"/>
                  <a:ext cx="173880" cy="9936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161"/>
                <p:cNvSpPr/>
                <p:nvPr/>
              </p:nvSpPr>
              <p:spPr>
                <a:xfrm rot="2456400">
                  <a:off x="1864800" y="2945880"/>
                  <a:ext cx="9360" cy="2858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162"/>
                <p:cNvSpPr/>
                <p:nvPr/>
              </p:nvSpPr>
              <p:spPr>
                <a:xfrm rot="2456400">
                  <a:off x="1614240" y="3114720"/>
                  <a:ext cx="149040" cy="16164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163"/>
                <p:cNvSpPr/>
                <p:nvPr/>
              </p:nvSpPr>
              <p:spPr>
                <a:xfrm rot="2456400">
                  <a:off x="1570680" y="3130920"/>
                  <a:ext cx="136440" cy="2239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164"/>
                <p:cNvSpPr/>
                <p:nvPr/>
              </p:nvSpPr>
              <p:spPr>
                <a:xfrm rot="2456400">
                  <a:off x="1694160" y="3226320"/>
                  <a:ext cx="8676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165"/>
                <p:cNvSpPr/>
                <p:nvPr/>
              </p:nvSpPr>
              <p:spPr>
                <a:xfrm rot="3137400">
                  <a:off x="1804320" y="3241080"/>
                  <a:ext cx="111960" cy="244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166"/>
                <p:cNvSpPr/>
                <p:nvPr/>
              </p:nvSpPr>
              <p:spPr>
                <a:xfrm rot="2456400">
                  <a:off x="1828440" y="3043440"/>
                  <a:ext cx="74520" cy="198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3" name="Group 1437"/>
              <p:cNvGrpSpPr/>
              <p:nvPr/>
            </p:nvGrpSpPr>
            <p:grpSpPr>
              <a:xfrm>
                <a:off x="1725840" y="2662920"/>
                <a:ext cx="640080" cy="604440"/>
                <a:chOff x="1725840" y="2662920"/>
                <a:chExt cx="640080" cy="604440"/>
              </a:xfrm>
            </p:grpSpPr>
            <p:grpSp>
              <p:nvGrpSpPr>
                <p:cNvPr id="1174" name="Group 1438"/>
                <p:cNvGrpSpPr/>
                <p:nvPr/>
              </p:nvGrpSpPr>
              <p:grpSpPr>
                <a:xfrm>
                  <a:off x="1792080" y="2662920"/>
                  <a:ext cx="573840" cy="561240"/>
                  <a:chOff x="1792080" y="2662920"/>
                  <a:chExt cx="573840" cy="561240"/>
                </a:xfrm>
              </p:grpSpPr>
              <p:sp>
                <p:nvSpPr>
                  <p:cNvPr id="1175" name="Freeform 1439"/>
                  <p:cNvSpPr/>
                  <p:nvPr/>
                </p:nvSpPr>
                <p:spPr>
                  <a:xfrm rot="2456400">
                    <a:off x="1899000" y="2927160"/>
                    <a:ext cx="15408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2" h="303">
                        <a:moveTo>
                          <a:pt x="544" y="303"/>
                        </a:moveTo>
                        <a:cubicBezTo>
                          <a:pt x="553" y="278"/>
                          <a:pt x="593" y="184"/>
                          <a:pt x="598" y="153"/>
                        </a:cubicBezTo>
                        <a:cubicBezTo>
                          <a:pt x="603" y="122"/>
                          <a:pt x="632" y="137"/>
                          <a:pt x="574" y="117"/>
                        </a:cubicBezTo>
                        <a:cubicBezTo>
                          <a:pt x="516" y="97"/>
                          <a:pt x="346" y="0"/>
                          <a:pt x="250" y="31"/>
                        </a:cubicBezTo>
                        <a:cubicBezTo>
                          <a:pt x="154" y="62"/>
                          <a:pt x="52" y="245"/>
                          <a:pt x="0" y="303"/>
                        </a:cubicBezTo>
                      </a:path>
                    </a:pathLst>
                  </a:custGeom>
                  <a:noFill/>
                  <a:ln cap="rnd" w="144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Freeform 1440"/>
                  <p:cNvSpPr/>
                  <p:nvPr/>
                </p:nvSpPr>
                <p:spPr>
                  <a:xfrm rot="2456400">
                    <a:off x="1781280" y="2901960"/>
                    <a:ext cx="2660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272">
                        <a:moveTo>
                          <a:pt x="1089" y="0"/>
                        </a:moveTo>
                        <a:cubicBezTo>
                          <a:pt x="988" y="18"/>
                          <a:pt x="663" y="64"/>
                          <a:pt x="482" y="109"/>
                        </a:cubicBezTo>
                        <a:cubicBezTo>
                          <a:pt x="301" y="154"/>
                          <a:pt x="100" y="238"/>
                          <a:pt x="0" y="272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Freeform 1441"/>
                  <p:cNvSpPr/>
                  <p:nvPr/>
                </p:nvSpPr>
                <p:spPr>
                  <a:xfrm rot="2456400">
                    <a:off x="1806480" y="2840400"/>
                    <a:ext cx="276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272">
                        <a:moveTo>
                          <a:pt x="1134" y="272"/>
                        </a:moveTo>
                        <a:cubicBezTo>
                          <a:pt x="1024" y="241"/>
                          <a:pt x="663" y="129"/>
                          <a:pt x="474" y="84"/>
                        </a:cubicBezTo>
                        <a:cubicBezTo>
                          <a:pt x="285" y="39"/>
                          <a:pt x="99" y="17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Freeform 1442"/>
                  <p:cNvSpPr/>
                  <p:nvPr/>
                </p:nvSpPr>
                <p:spPr>
                  <a:xfrm rot="2456400">
                    <a:off x="1794600" y="2795040"/>
                    <a:ext cx="28836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363">
                        <a:moveTo>
                          <a:pt x="1180" y="363"/>
                        </a:moveTo>
                        <a:cubicBezTo>
                          <a:pt x="1067" y="321"/>
                          <a:pt x="699" y="172"/>
                          <a:pt x="502" y="112"/>
                        </a:cubicBezTo>
                        <a:cubicBezTo>
                          <a:pt x="305" y="52"/>
                          <a:pt x="105" y="23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1443"/>
                  <p:cNvSpPr/>
                  <p:nvPr/>
                </p:nvSpPr>
                <p:spPr>
                  <a:xfrm rot="2456400">
                    <a:off x="1818360" y="2788920"/>
                    <a:ext cx="28656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3" h="461">
                        <a:moveTo>
                          <a:pt x="1173" y="461"/>
                        </a:moveTo>
                        <a:cubicBezTo>
                          <a:pt x="1088" y="425"/>
                          <a:pt x="862" y="323"/>
                          <a:pt x="666" y="246"/>
                        </a:cubicBezTo>
                        <a:cubicBezTo>
                          <a:pt x="470" y="169"/>
                          <a:pt x="139" y="5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1444"/>
                  <p:cNvSpPr/>
                  <p:nvPr/>
                </p:nvSpPr>
                <p:spPr>
                  <a:xfrm rot="2456400">
                    <a:off x="1845000" y="2808000"/>
                    <a:ext cx="2768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453">
                        <a:moveTo>
                          <a:pt x="1134" y="453"/>
                        </a:moveTo>
                        <a:cubicBezTo>
                          <a:pt x="1034" y="407"/>
                          <a:pt x="722" y="254"/>
                          <a:pt x="533" y="178"/>
                        </a:cubicBezTo>
                        <a:cubicBezTo>
                          <a:pt x="344" y="102"/>
                          <a:pt x="111" y="37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Freeform 1445"/>
                  <p:cNvSpPr/>
                  <p:nvPr/>
                </p:nvSpPr>
                <p:spPr>
                  <a:xfrm rot="2456400">
                    <a:off x="1918440" y="2764800"/>
                    <a:ext cx="20916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724">
                        <a:moveTo>
                          <a:pt x="856" y="724"/>
                        </a:moveTo>
                        <a:lnTo>
                          <a:pt x="372" y="234"/>
                        </a:lnTo>
                        <a:cubicBezTo>
                          <a:pt x="229" y="113"/>
                          <a:pt x="77" y="49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Freeform 1446"/>
                  <p:cNvSpPr/>
                  <p:nvPr/>
                </p:nvSpPr>
                <p:spPr>
                  <a:xfrm rot="2456400">
                    <a:off x="1887480" y="2764080"/>
                    <a:ext cx="243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5">
                        <a:moveTo>
                          <a:pt x="998" y="635"/>
                        </a:moveTo>
                        <a:lnTo>
                          <a:pt x="220" y="11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Freeform 1447"/>
                  <p:cNvSpPr/>
                  <p:nvPr/>
                </p:nvSpPr>
                <p:spPr>
                  <a:xfrm rot="2456400">
                    <a:off x="1890720" y="2811240"/>
                    <a:ext cx="243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5">
                        <a:moveTo>
                          <a:pt x="998" y="635"/>
                        </a:moveTo>
                        <a:cubicBezTo>
                          <a:pt x="882" y="554"/>
                          <a:pt x="466" y="255"/>
                          <a:pt x="300" y="149"/>
                        </a:cubicBezTo>
                        <a:cubicBezTo>
                          <a:pt x="134" y="43"/>
                          <a:pt x="62" y="3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Freeform 1448"/>
                  <p:cNvSpPr/>
                  <p:nvPr/>
                </p:nvSpPr>
                <p:spPr>
                  <a:xfrm rot="2456400">
                    <a:off x="1906920" y="2717280"/>
                    <a:ext cx="25632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0" h="980">
                        <a:moveTo>
                          <a:pt x="1050" y="980"/>
                        </a:moveTo>
                        <a:lnTo>
                          <a:pt x="378" y="234"/>
                        </a:lnTo>
                        <a:cubicBezTo>
                          <a:pt x="203" y="71"/>
                          <a:pt x="79" y="49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1449"/>
                  <p:cNvSpPr/>
                  <p:nvPr/>
                </p:nvSpPr>
                <p:spPr>
                  <a:xfrm flipV="1">
                    <a:off x="2046960" y="2728080"/>
                    <a:ext cx="17280" cy="307080"/>
                  </a:xfrm>
                  <a:prstGeom prst="line">
                    <a:avLst/>
                  </a:prstGeom>
                  <a:ln w="25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Freeform 1450"/>
                  <p:cNvSpPr/>
                  <p:nvPr/>
                </p:nvSpPr>
                <p:spPr>
                  <a:xfrm rot="2456400">
                    <a:off x="1982160" y="2764080"/>
                    <a:ext cx="15480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997">
                        <a:moveTo>
                          <a:pt x="635" y="997"/>
                        </a:moveTo>
                        <a:cubicBezTo>
                          <a:pt x="569" y="887"/>
                          <a:pt x="345" y="500"/>
                          <a:pt x="239" y="334"/>
                        </a:cubicBezTo>
                        <a:cubicBezTo>
                          <a:pt x="133" y="168"/>
                          <a:pt x="50" y="70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Freeform 1451"/>
                  <p:cNvSpPr/>
                  <p:nvPr/>
                </p:nvSpPr>
                <p:spPr>
                  <a:xfrm rot="2456400">
                    <a:off x="2022840" y="2760480"/>
                    <a:ext cx="1198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1026">
                        <a:moveTo>
                          <a:pt x="492" y="1026"/>
                        </a:moveTo>
                        <a:cubicBezTo>
                          <a:pt x="452" y="924"/>
                          <a:pt x="334" y="585"/>
                          <a:pt x="252" y="414"/>
                        </a:cubicBezTo>
                        <a:cubicBezTo>
                          <a:pt x="170" y="243"/>
                          <a:pt x="53" y="86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1452"/>
                  <p:cNvSpPr/>
                  <p:nvPr/>
                </p:nvSpPr>
                <p:spPr>
                  <a:xfrm rot="2456400">
                    <a:off x="2062080" y="2760840"/>
                    <a:ext cx="8028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086">
                        <a:moveTo>
                          <a:pt x="330" y="1086"/>
                        </a:moveTo>
                        <a:cubicBezTo>
                          <a:pt x="302" y="966"/>
                          <a:pt x="217" y="547"/>
                          <a:pt x="162" y="366"/>
                        </a:cubicBezTo>
                        <a:cubicBezTo>
                          <a:pt x="107" y="185"/>
                          <a:pt x="34" y="76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Freeform 1453"/>
                  <p:cNvSpPr/>
                  <p:nvPr/>
                </p:nvSpPr>
                <p:spPr>
                  <a:xfrm rot="2456400">
                    <a:off x="2104920" y="2773440"/>
                    <a:ext cx="39960" cy="28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160">
                        <a:moveTo>
                          <a:pt x="164" y="1160"/>
                        </a:moveTo>
                        <a:cubicBezTo>
                          <a:pt x="148" y="1008"/>
                          <a:pt x="93" y="439"/>
                          <a:pt x="66" y="246"/>
                        </a:cubicBezTo>
                        <a:cubicBezTo>
                          <a:pt x="39" y="53"/>
                          <a:pt x="14" y="5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Freeform 1454"/>
                  <p:cNvSpPr/>
                  <p:nvPr/>
                </p:nvSpPr>
                <p:spPr>
                  <a:xfrm rot="2456400">
                    <a:off x="2123640" y="2750040"/>
                    <a:ext cx="4644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1259">
                        <a:moveTo>
                          <a:pt x="140" y="1259"/>
                        </a:moveTo>
                        <a:cubicBezTo>
                          <a:pt x="145" y="1113"/>
                          <a:pt x="191" y="594"/>
                          <a:pt x="168" y="384"/>
                        </a:cubicBezTo>
                        <a:cubicBezTo>
                          <a:pt x="145" y="174"/>
                          <a:pt x="35" y="80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Freeform 1455"/>
                  <p:cNvSpPr/>
                  <p:nvPr/>
                </p:nvSpPr>
                <p:spPr>
                  <a:xfrm rot="2456400">
                    <a:off x="2124360" y="2799360"/>
                    <a:ext cx="4392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134">
                        <a:moveTo>
                          <a:pt x="0" y="1134"/>
                        </a:moveTo>
                        <a:cubicBezTo>
                          <a:pt x="19" y="988"/>
                          <a:pt x="85" y="445"/>
                          <a:pt x="115" y="256"/>
                        </a:cubicBezTo>
                        <a:cubicBezTo>
                          <a:pt x="145" y="67"/>
                          <a:pt x="167" y="53"/>
                          <a:pt x="181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Freeform 1456"/>
                  <p:cNvSpPr/>
                  <p:nvPr/>
                </p:nvSpPr>
                <p:spPr>
                  <a:xfrm rot="2456400">
                    <a:off x="2121120" y="2848320"/>
                    <a:ext cx="7740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52">
                        <a:moveTo>
                          <a:pt x="0" y="952"/>
                        </a:moveTo>
                        <a:cubicBezTo>
                          <a:pt x="43" y="837"/>
                          <a:pt x="203" y="422"/>
                          <a:pt x="256" y="263"/>
                        </a:cubicBezTo>
                        <a:cubicBezTo>
                          <a:pt x="309" y="104"/>
                          <a:pt x="304" y="55"/>
                          <a:pt x="317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Freeform 1457"/>
                  <p:cNvSpPr/>
                  <p:nvPr/>
                </p:nvSpPr>
                <p:spPr>
                  <a:xfrm rot="2456400">
                    <a:off x="2129040" y="2809800"/>
                    <a:ext cx="15480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1179">
                        <a:moveTo>
                          <a:pt x="0" y="1179"/>
                        </a:moveTo>
                        <a:cubicBezTo>
                          <a:pt x="70" y="1066"/>
                          <a:pt x="315" y="697"/>
                          <a:pt x="421" y="501"/>
                        </a:cubicBezTo>
                        <a:cubicBezTo>
                          <a:pt x="527" y="305"/>
                          <a:pt x="591" y="105"/>
                          <a:pt x="635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Freeform 1458"/>
                  <p:cNvSpPr/>
                  <p:nvPr/>
                </p:nvSpPr>
                <p:spPr>
                  <a:xfrm rot="2456400">
                    <a:off x="2101680" y="2871360"/>
                    <a:ext cx="19908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998">
                        <a:moveTo>
                          <a:pt x="0" y="998"/>
                        </a:moveTo>
                        <a:cubicBezTo>
                          <a:pt x="102" y="891"/>
                          <a:pt x="477" y="523"/>
                          <a:pt x="613" y="357"/>
                        </a:cubicBezTo>
                        <a:cubicBezTo>
                          <a:pt x="749" y="191"/>
                          <a:pt x="774" y="75"/>
                          <a:pt x="816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Freeform 1459"/>
                  <p:cNvSpPr/>
                  <p:nvPr/>
                </p:nvSpPr>
                <p:spPr>
                  <a:xfrm rot="2456400">
                    <a:off x="2087280" y="2937960"/>
                    <a:ext cx="23256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771">
                        <a:moveTo>
                          <a:pt x="0" y="771"/>
                        </a:moveTo>
                        <a:cubicBezTo>
                          <a:pt x="91" y="704"/>
                          <a:pt x="385" y="497"/>
                          <a:pt x="544" y="369"/>
                        </a:cubicBezTo>
                        <a:cubicBezTo>
                          <a:pt x="703" y="241"/>
                          <a:pt x="867" y="77"/>
                          <a:pt x="952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Freeform 1460"/>
                  <p:cNvSpPr/>
                  <p:nvPr/>
                </p:nvSpPr>
                <p:spPr>
                  <a:xfrm rot="2456400">
                    <a:off x="2072520" y="2978280"/>
                    <a:ext cx="26568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8" h="635">
                        <a:moveTo>
                          <a:pt x="0" y="635"/>
                        </a:moveTo>
                        <a:cubicBezTo>
                          <a:pt x="109" y="581"/>
                          <a:pt x="471" y="417"/>
                          <a:pt x="652" y="311"/>
                        </a:cubicBezTo>
                        <a:cubicBezTo>
                          <a:pt x="833" y="205"/>
                          <a:pt x="997" y="65"/>
                          <a:pt x="1088" y="0"/>
                        </a:cubicBez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Freeform 1461"/>
                  <p:cNvSpPr/>
                  <p:nvPr/>
                </p:nvSpPr>
                <p:spPr>
                  <a:xfrm rot="2456400">
                    <a:off x="2043000" y="2986200"/>
                    <a:ext cx="309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0" h="635">
                        <a:moveTo>
                          <a:pt x="0" y="635"/>
                        </a:moveTo>
                        <a:cubicBezTo>
                          <a:pt x="120" y="588"/>
                          <a:pt x="537" y="430"/>
                          <a:pt x="719" y="352"/>
                        </a:cubicBezTo>
                        <a:cubicBezTo>
                          <a:pt x="901" y="274"/>
                          <a:pt x="999" y="225"/>
                          <a:pt x="1091" y="166"/>
                        </a:cubicBezTo>
                        <a:cubicBezTo>
                          <a:pt x="1183" y="107"/>
                          <a:pt x="1233" y="35"/>
                          <a:pt x="127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Freeform 1462"/>
                  <p:cNvSpPr/>
                  <p:nvPr/>
                </p:nvSpPr>
                <p:spPr>
                  <a:xfrm rot="2456400">
                    <a:off x="2010960" y="3083040"/>
                    <a:ext cx="1893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87">
                        <a:moveTo>
                          <a:pt x="0" y="0"/>
                        </a:moveTo>
                        <a:cubicBezTo>
                          <a:pt x="63" y="14"/>
                          <a:pt x="255" y="81"/>
                          <a:pt x="384" y="84"/>
                        </a:cubicBezTo>
                        <a:cubicBezTo>
                          <a:pt x="513" y="87"/>
                          <a:pt x="694" y="33"/>
                          <a:pt x="776" y="2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Freeform 1463"/>
                  <p:cNvSpPr/>
                  <p:nvPr/>
                </p:nvSpPr>
                <p:spPr>
                  <a:xfrm rot="2456400">
                    <a:off x="2012040" y="3067920"/>
                    <a:ext cx="13284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135">
                        <a:moveTo>
                          <a:pt x="0" y="0"/>
                        </a:moveTo>
                        <a:lnTo>
                          <a:pt x="289" y="99"/>
                        </a:lnTo>
                        <a:cubicBezTo>
                          <a:pt x="380" y="121"/>
                          <a:pt x="491" y="128"/>
                          <a:pt x="544" y="135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Freeform 1464"/>
                  <p:cNvSpPr/>
                  <p:nvPr/>
                </p:nvSpPr>
                <p:spPr>
                  <a:xfrm rot="2456400">
                    <a:off x="1990080" y="3050280"/>
                    <a:ext cx="88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272">
                        <a:moveTo>
                          <a:pt x="0" y="0"/>
                        </a:moveTo>
                        <a:cubicBezTo>
                          <a:pt x="34" y="32"/>
                          <a:pt x="143" y="147"/>
                          <a:pt x="203" y="192"/>
                        </a:cubicBezTo>
                        <a:cubicBezTo>
                          <a:pt x="263" y="237"/>
                          <a:pt x="330" y="255"/>
                          <a:pt x="363" y="272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Freeform 1465"/>
                  <p:cNvSpPr/>
                  <p:nvPr/>
                </p:nvSpPr>
                <p:spPr>
                  <a:xfrm rot="2456400">
                    <a:off x="1982520" y="3033720"/>
                    <a:ext cx="63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306">
                        <a:moveTo>
                          <a:pt x="0" y="0"/>
                        </a:moveTo>
                        <a:cubicBezTo>
                          <a:pt x="24" y="33"/>
                          <a:pt x="103" y="147"/>
                          <a:pt x="146" y="198"/>
                        </a:cubicBezTo>
                        <a:cubicBezTo>
                          <a:pt x="189" y="249"/>
                          <a:pt x="236" y="284"/>
                          <a:pt x="260" y="306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Freeform 1466"/>
                  <p:cNvSpPr/>
                  <p:nvPr/>
                </p:nvSpPr>
                <p:spPr>
                  <a:xfrm rot="2456400">
                    <a:off x="1852200" y="2920680"/>
                    <a:ext cx="2214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07" h="72">
                        <a:moveTo>
                          <a:pt x="0" y="27"/>
                        </a:moveTo>
                        <a:cubicBezTo>
                          <a:pt x="55" y="24"/>
                          <a:pt x="180" y="0"/>
                          <a:pt x="331" y="7"/>
                        </a:cubicBezTo>
                        <a:cubicBezTo>
                          <a:pt x="482" y="14"/>
                          <a:pt x="787" y="59"/>
                          <a:pt x="907" y="72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Freeform 1467"/>
                  <p:cNvSpPr/>
                  <p:nvPr/>
                </p:nvSpPr>
                <p:spPr>
                  <a:xfrm rot="2456400">
                    <a:off x="2014560" y="3090600"/>
                    <a:ext cx="2214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7" h="56">
                        <a:moveTo>
                          <a:pt x="0" y="0"/>
                        </a:moveTo>
                        <a:cubicBezTo>
                          <a:pt x="86" y="8"/>
                          <a:pt x="366" y="42"/>
                          <a:pt x="517" y="49"/>
                        </a:cubicBezTo>
                        <a:cubicBezTo>
                          <a:pt x="668" y="56"/>
                          <a:pt x="826" y="46"/>
                          <a:pt x="907" y="45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Freeform 1468"/>
                  <p:cNvSpPr/>
                  <p:nvPr/>
                </p:nvSpPr>
                <p:spPr>
                  <a:xfrm rot="2456400">
                    <a:off x="1982160" y="3060720"/>
                    <a:ext cx="1548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363">
                        <a:moveTo>
                          <a:pt x="0" y="0"/>
                        </a:moveTo>
                        <a:cubicBezTo>
                          <a:pt x="57" y="40"/>
                          <a:pt x="235" y="178"/>
                          <a:pt x="341" y="238"/>
                        </a:cubicBezTo>
                        <a:cubicBezTo>
                          <a:pt x="447" y="298"/>
                          <a:pt x="574" y="337"/>
                          <a:pt x="635" y="363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Freeform 1469"/>
                  <p:cNvSpPr/>
                  <p:nvPr/>
                </p:nvSpPr>
                <p:spPr>
                  <a:xfrm rot="2456400">
                    <a:off x="2120040" y="2791080"/>
                    <a:ext cx="8280" cy="25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043">
                        <a:moveTo>
                          <a:pt x="0" y="0"/>
                        </a:moveTo>
                        <a:cubicBezTo>
                          <a:pt x="6" y="84"/>
                          <a:pt x="35" y="330"/>
                          <a:pt x="35" y="504"/>
                        </a:cubicBezTo>
                        <a:cubicBezTo>
                          <a:pt x="35" y="678"/>
                          <a:pt x="7" y="931"/>
                          <a:pt x="0" y="1043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Freeform 1470"/>
                  <p:cNvSpPr/>
                  <p:nvPr/>
                </p:nvSpPr>
                <p:spPr>
                  <a:xfrm rot="2456400">
                    <a:off x="1896480" y="2941560"/>
                    <a:ext cx="13284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590">
                        <a:moveTo>
                          <a:pt x="544" y="0"/>
                        </a:moveTo>
                        <a:cubicBezTo>
                          <a:pt x="495" y="45"/>
                          <a:pt x="341" y="173"/>
                          <a:pt x="250" y="271"/>
                        </a:cubicBezTo>
                        <a:cubicBezTo>
                          <a:pt x="159" y="369"/>
                          <a:pt x="52" y="524"/>
                          <a:pt x="0" y="590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Freeform 1471"/>
                  <p:cNvSpPr/>
                  <p:nvPr/>
                </p:nvSpPr>
                <p:spPr>
                  <a:xfrm rot="2456400">
                    <a:off x="1857960" y="2956320"/>
                    <a:ext cx="12168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817">
                        <a:moveTo>
                          <a:pt x="498" y="0"/>
                        </a:moveTo>
                        <a:cubicBezTo>
                          <a:pt x="455" y="58"/>
                          <a:pt x="323" y="210"/>
                          <a:pt x="240" y="346"/>
                        </a:cubicBezTo>
                        <a:cubicBezTo>
                          <a:pt x="157" y="482"/>
                          <a:pt x="50" y="719"/>
                          <a:pt x="0" y="817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Freeform 1472"/>
                  <p:cNvSpPr/>
                  <p:nvPr/>
                </p:nvSpPr>
                <p:spPr>
                  <a:xfrm rot="2456400">
                    <a:off x="1967760" y="3042000"/>
                    <a:ext cx="77400" cy="165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680">
                        <a:moveTo>
                          <a:pt x="0" y="0"/>
                        </a:moveTo>
                        <a:cubicBezTo>
                          <a:pt x="27" y="48"/>
                          <a:pt x="120" y="212"/>
                          <a:pt x="164" y="288"/>
                        </a:cubicBezTo>
                        <a:cubicBezTo>
                          <a:pt x="208" y="364"/>
                          <a:pt x="238" y="391"/>
                          <a:pt x="264" y="456"/>
                        </a:cubicBezTo>
                        <a:cubicBezTo>
                          <a:pt x="290" y="521"/>
                          <a:pt x="306" y="633"/>
                          <a:pt x="317" y="68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Freeform 1473"/>
                  <p:cNvSpPr/>
                  <p:nvPr/>
                </p:nvSpPr>
                <p:spPr>
                  <a:xfrm rot="3137400">
                    <a:off x="2066760" y="3054600"/>
                    <a:ext cx="997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09" h="90">
                        <a:moveTo>
                          <a:pt x="0" y="90"/>
                        </a:moveTo>
                        <a:cubicBezTo>
                          <a:pt x="36" y="85"/>
                          <a:pt x="149" y="77"/>
                          <a:pt x="217" y="62"/>
                        </a:cubicBezTo>
                        <a:lnTo>
                          <a:pt x="409" y="0"/>
                        </a:lnTo>
                      </a:path>
                    </a:pathLst>
                  </a:custGeom>
                  <a:noFill/>
                  <a:ln cap="rnd" w="252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Freeform 1474"/>
                  <p:cNvSpPr/>
                  <p:nvPr/>
                </p:nvSpPr>
                <p:spPr>
                  <a:xfrm rot="2456400">
                    <a:off x="2087640" y="2878560"/>
                    <a:ext cx="66600" cy="177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52">
                        <a:moveTo>
                          <a:pt x="0" y="952"/>
                        </a:moveTo>
                        <a:cubicBezTo>
                          <a:pt x="43" y="837"/>
                          <a:pt x="203" y="422"/>
                          <a:pt x="256" y="263"/>
                        </a:cubicBezTo>
                        <a:cubicBezTo>
                          <a:pt x="309" y="104"/>
                          <a:pt x="304" y="55"/>
                          <a:pt x="317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1" name="Group 1475"/>
                <p:cNvGrpSpPr/>
                <p:nvPr/>
              </p:nvGrpSpPr>
              <p:grpSpPr>
                <a:xfrm>
                  <a:off x="1725840" y="2946960"/>
                  <a:ext cx="407880" cy="320400"/>
                  <a:chOff x="1725840" y="2946960"/>
                  <a:chExt cx="407880" cy="320400"/>
                </a:xfrm>
              </p:grpSpPr>
              <p:sp>
                <p:nvSpPr>
                  <p:cNvPr id="1212" name="Freeform 1476"/>
                  <p:cNvSpPr/>
                  <p:nvPr/>
                </p:nvSpPr>
                <p:spPr>
                  <a:xfrm>
                    <a:off x="1725840" y="2946960"/>
                    <a:ext cx="28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8">
                        <a:moveTo>
                          <a:pt x="182" y="7"/>
                        </a:moveTo>
                        <a:cubicBezTo>
                          <a:pt x="166" y="6"/>
                          <a:pt x="118" y="0"/>
                          <a:pt x="88" y="0"/>
                        </a:cubicBezTo>
                        <a:lnTo>
                          <a:pt x="0" y="8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Freeform 1477"/>
                  <p:cNvSpPr/>
                  <p:nvPr/>
                </p:nvSpPr>
                <p:spPr>
                  <a:xfrm rot="18411600">
                    <a:off x="1802520" y="3124800"/>
                    <a:ext cx="28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8">
                        <a:moveTo>
                          <a:pt x="182" y="7"/>
                        </a:moveTo>
                        <a:cubicBezTo>
                          <a:pt x="166" y="6"/>
                          <a:pt x="118" y="0"/>
                          <a:pt x="88" y="0"/>
                        </a:cubicBezTo>
                        <a:lnTo>
                          <a:pt x="0" y="8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Freeform 1478"/>
                  <p:cNvSpPr/>
                  <p:nvPr/>
                </p:nvSpPr>
                <p:spPr>
                  <a:xfrm rot="4293600">
                    <a:off x="1941840" y="3125160"/>
                    <a:ext cx="28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8">
                        <a:moveTo>
                          <a:pt x="182" y="7"/>
                        </a:moveTo>
                        <a:cubicBezTo>
                          <a:pt x="166" y="6"/>
                          <a:pt x="118" y="0"/>
                          <a:pt x="88" y="0"/>
                        </a:cubicBezTo>
                        <a:lnTo>
                          <a:pt x="0" y="8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Freeform 1479"/>
                  <p:cNvSpPr/>
                  <p:nvPr/>
                </p:nvSpPr>
                <p:spPr>
                  <a:xfrm rot="20005800">
                    <a:off x="1797120" y="3059640"/>
                    <a:ext cx="2815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8">
                        <a:moveTo>
                          <a:pt x="182" y="7"/>
                        </a:moveTo>
                        <a:cubicBezTo>
                          <a:pt x="166" y="6"/>
                          <a:pt x="118" y="0"/>
                          <a:pt x="88" y="0"/>
                        </a:cubicBezTo>
                        <a:lnTo>
                          <a:pt x="0" y="8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Freeform 1480"/>
                  <p:cNvSpPr/>
                  <p:nvPr/>
                </p:nvSpPr>
                <p:spPr>
                  <a:xfrm rot="17041800">
                    <a:off x="1872720" y="3122640"/>
                    <a:ext cx="281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8">
                        <a:moveTo>
                          <a:pt x="182" y="7"/>
                        </a:moveTo>
                        <a:cubicBezTo>
                          <a:pt x="166" y="6"/>
                          <a:pt x="118" y="0"/>
                          <a:pt x="88" y="0"/>
                        </a:cubicBez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7" name="Group 1571"/>
              <p:cNvGrpSpPr/>
              <p:nvPr/>
            </p:nvGrpSpPr>
            <p:grpSpPr>
              <a:xfrm>
                <a:off x="1581120" y="3167280"/>
                <a:ext cx="640800" cy="603360"/>
                <a:chOff x="1581120" y="3167280"/>
                <a:chExt cx="640800" cy="603360"/>
              </a:xfrm>
            </p:grpSpPr>
            <p:grpSp>
              <p:nvGrpSpPr>
                <p:cNvPr id="1218" name="Group 1572"/>
                <p:cNvGrpSpPr/>
                <p:nvPr/>
              </p:nvGrpSpPr>
              <p:grpSpPr>
                <a:xfrm>
                  <a:off x="1647720" y="3167280"/>
                  <a:ext cx="574200" cy="561240"/>
                  <a:chOff x="1647720" y="3167280"/>
                  <a:chExt cx="574200" cy="561240"/>
                </a:xfrm>
              </p:grpSpPr>
              <p:sp>
                <p:nvSpPr>
                  <p:cNvPr id="1219" name="Freeform 1573"/>
                  <p:cNvSpPr/>
                  <p:nvPr/>
                </p:nvSpPr>
                <p:spPr>
                  <a:xfrm rot="2456400">
                    <a:off x="1754640" y="3431520"/>
                    <a:ext cx="15444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2" h="303">
                        <a:moveTo>
                          <a:pt x="544" y="303"/>
                        </a:moveTo>
                        <a:cubicBezTo>
                          <a:pt x="553" y="278"/>
                          <a:pt x="593" y="184"/>
                          <a:pt x="598" y="153"/>
                        </a:cubicBezTo>
                        <a:cubicBezTo>
                          <a:pt x="603" y="122"/>
                          <a:pt x="632" y="137"/>
                          <a:pt x="574" y="117"/>
                        </a:cubicBezTo>
                        <a:cubicBezTo>
                          <a:pt x="516" y="97"/>
                          <a:pt x="346" y="0"/>
                          <a:pt x="250" y="31"/>
                        </a:cubicBezTo>
                        <a:cubicBezTo>
                          <a:pt x="154" y="62"/>
                          <a:pt x="52" y="245"/>
                          <a:pt x="0" y="303"/>
                        </a:cubicBezTo>
                      </a:path>
                    </a:pathLst>
                  </a:custGeom>
                  <a:noFill/>
                  <a:ln cap="rnd" w="144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Freeform 1574"/>
                  <p:cNvSpPr/>
                  <p:nvPr/>
                </p:nvSpPr>
                <p:spPr>
                  <a:xfrm rot="2456400">
                    <a:off x="1636920" y="3405600"/>
                    <a:ext cx="2660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272">
                        <a:moveTo>
                          <a:pt x="1089" y="0"/>
                        </a:moveTo>
                        <a:cubicBezTo>
                          <a:pt x="988" y="18"/>
                          <a:pt x="663" y="64"/>
                          <a:pt x="482" y="109"/>
                        </a:cubicBezTo>
                        <a:cubicBezTo>
                          <a:pt x="301" y="154"/>
                          <a:pt x="100" y="238"/>
                          <a:pt x="0" y="272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Freeform 1575"/>
                  <p:cNvSpPr/>
                  <p:nvPr/>
                </p:nvSpPr>
                <p:spPr>
                  <a:xfrm rot="2456400">
                    <a:off x="1662120" y="3344760"/>
                    <a:ext cx="2772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272">
                        <a:moveTo>
                          <a:pt x="1134" y="272"/>
                        </a:moveTo>
                        <a:cubicBezTo>
                          <a:pt x="1024" y="241"/>
                          <a:pt x="663" y="129"/>
                          <a:pt x="474" y="84"/>
                        </a:cubicBezTo>
                        <a:cubicBezTo>
                          <a:pt x="285" y="39"/>
                          <a:pt x="99" y="17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Freeform 1576"/>
                  <p:cNvSpPr/>
                  <p:nvPr/>
                </p:nvSpPr>
                <p:spPr>
                  <a:xfrm rot="2456400">
                    <a:off x="1650240" y="3298680"/>
                    <a:ext cx="28836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363">
                        <a:moveTo>
                          <a:pt x="1180" y="363"/>
                        </a:moveTo>
                        <a:cubicBezTo>
                          <a:pt x="1067" y="321"/>
                          <a:pt x="699" y="172"/>
                          <a:pt x="502" y="112"/>
                        </a:cubicBezTo>
                        <a:cubicBezTo>
                          <a:pt x="305" y="52"/>
                          <a:pt x="105" y="23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Freeform 1577"/>
                  <p:cNvSpPr/>
                  <p:nvPr/>
                </p:nvSpPr>
                <p:spPr>
                  <a:xfrm rot="2456400">
                    <a:off x="1673640" y="3292920"/>
                    <a:ext cx="28656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3" h="461">
                        <a:moveTo>
                          <a:pt x="1173" y="461"/>
                        </a:moveTo>
                        <a:cubicBezTo>
                          <a:pt x="1088" y="425"/>
                          <a:pt x="862" y="323"/>
                          <a:pt x="666" y="246"/>
                        </a:cubicBezTo>
                        <a:cubicBezTo>
                          <a:pt x="470" y="169"/>
                          <a:pt x="139" y="5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Freeform 1578"/>
                  <p:cNvSpPr/>
                  <p:nvPr/>
                </p:nvSpPr>
                <p:spPr>
                  <a:xfrm rot="2456400">
                    <a:off x="1700640" y="3312000"/>
                    <a:ext cx="2772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453">
                        <a:moveTo>
                          <a:pt x="1134" y="453"/>
                        </a:moveTo>
                        <a:cubicBezTo>
                          <a:pt x="1034" y="407"/>
                          <a:pt x="722" y="254"/>
                          <a:pt x="533" y="178"/>
                        </a:cubicBezTo>
                        <a:cubicBezTo>
                          <a:pt x="344" y="102"/>
                          <a:pt x="111" y="37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1579"/>
                  <p:cNvSpPr/>
                  <p:nvPr/>
                </p:nvSpPr>
                <p:spPr>
                  <a:xfrm rot="2456400">
                    <a:off x="1773720" y="3269160"/>
                    <a:ext cx="20916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724">
                        <a:moveTo>
                          <a:pt x="856" y="724"/>
                        </a:moveTo>
                        <a:lnTo>
                          <a:pt x="372" y="234"/>
                        </a:lnTo>
                        <a:cubicBezTo>
                          <a:pt x="229" y="113"/>
                          <a:pt x="77" y="49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Freeform 1580"/>
                  <p:cNvSpPr/>
                  <p:nvPr/>
                </p:nvSpPr>
                <p:spPr>
                  <a:xfrm rot="2456400">
                    <a:off x="1743120" y="3268800"/>
                    <a:ext cx="243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5">
                        <a:moveTo>
                          <a:pt x="998" y="635"/>
                        </a:moveTo>
                        <a:lnTo>
                          <a:pt x="220" y="11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Freeform 1581"/>
                  <p:cNvSpPr/>
                  <p:nvPr/>
                </p:nvSpPr>
                <p:spPr>
                  <a:xfrm rot="2456400">
                    <a:off x="1746360" y="3315600"/>
                    <a:ext cx="243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5">
                        <a:moveTo>
                          <a:pt x="998" y="635"/>
                        </a:moveTo>
                        <a:cubicBezTo>
                          <a:pt x="882" y="554"/>
                          <a:pt x="466" y="255"/>
                          <a:pt x="300" y="149"/>
                        </a:cubicBezTo>
                        <a:cubicBezTo>
                          <a:pt x="134" y="43"/>
                          <a:pt x="62" y="3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1582"/>
                  <p:cNvSpPr/>
                  <p:nvPr/>
                </p:nvSpPr>
                <p:spPr>
                  <a:xfrm rot="2456400">
                    <a:off x="1762200" y="3222000"/>
                    <a:ext cx="25668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0" h="980">
                        <a:moveTo>
                          <a:pt x="1050" y="980"/>
                        </a:moveTo>
                        <a:lnTo>
                          <a:pt x="378" y="234"/>
                        </a:lnTo>
                        <a:cubicBezTo>
                          <a:pt x="203" y="71"/>
                          <a:pt x="79" y="49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1583"/>
                  <p:cNvSpPr/>
                  <p:nvPr/>
                </p:nvSpPr>
                <p:spPr>
                  <a:xfrm flipV="1">
                    <a:off x="1902960" y="3231720"/>
                    <a:ext cx="16920" cy="307080"/>
                  </a:xfrm>
                  <a:prstGeom prst="line">
                    <a:avLst/>
                  </a:prstGeom>
                  <a:ln w="25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Freeform 1584"/>
                  <p:cNvSpPr/>
                  <p:nvPr/>
                </p:nvSpPr>
                <p:spPr>
                  <a:xfrm rot="2456400">
                    <a:off x="1838160" y="3268440"/>
                    <a:ext cx="15516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997">
                        <a:moveTo>
                          <a:pt x="635" y="997"/>
                        </a:moveTo>
                        <a:cubicBezTo>
                          <a:pt x="569" y="887"/>
                          <a:pt x="345" y="500"/>
                          <a:pt x="239" y="334"/>
                        </a:cubicBezTo>
                        <a:cubicBezTo>
                          <a:pt x="133" y="168"/>
                          <a:pt x="50" y="70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1585"/>
                  <p:cNvSpPr/>
                  <p:nvPr/>
                </p:nvSpPr>
                <p:spPr>
                  <a:xfrm rot="2456400">
                    <a:off x="1878120" y="3265200"/>
                    <a:ext cx="12024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1026">
                        <a:moveTo>
                          <a:pt x="492" y="1026"/>
                        </a:moveTo>
                        <a:cubicBezTo>
                          <a:pt x="452" y="924"/>
                          <a:pt x="334" y="585"/>
                          <a:pt x="252" y="414"/>
                        </a:cubicBezTo>
                        <a:cubicBezTo>
                          <a:pt x="170" y="243"/>
                          <a:pt x="53" y="86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Freeform 1586"/>
                  <p:cNvSpPr/>
                  <p:nvPr/>
                </p:nvSpPr>
                <p:spPr>
                  <a:xfrm rot="2456400">
                    <a:off x="1917720" y="3265560"/>
                    <a:ext cx="8064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086">
                        <a:moveTo>
                          <a:pt x="330" y="1086"/>
                        </a:moveTo>
                        <a:cubicBezTo>
                          <a:pt x="302" y="966"/>
                          <a:pt x="217" y="547"/>
                          <a:pt x="162" y="366"/>
                        </a:cubicBezTo>
                        <a:cubicBezTo>
                          <a:pt x="107" y="185"/>
                          <a:pt x="34" y="76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Freeform 1587"/>
                  <p:cNvSpPr/>
                  <p:nvPr/>
                </p:nvSpPr>
                <p:spPr>
                  <a:xfrm rot="2456400">
                    <a:off x="1960560" y="3277800"/>
                    <a:ext cx="399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160">
                        <a:moveTo>
                          <a:pt x="164" y="1160"/>
                        </a:moveTo>
                        <a:cubicBezTo>
                          <a:pt x="148" y="1008"/>
                          <a:pt x="93" y="439"/>
                          <a:pt x="66" y="246"/>
                        </a:cubicBezTo>
                        <a:cubicBezTo>
                          <a:pt x="39" y="53"/>
                          <a:pt x="14" y="5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Freeform 1588"/>
                  <p:cNvSpPr/>
                  <p:nvPr/>
                </p:nvSpPr>
                <p:spPr>
                  <a:xfrm rot="2456400">
                    <a:off x="1979280" y="3254760"/>
                    <a:ext cx="464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1259">
                        <a:moveTo>
                          <a:pt x="140" y="1259"/>
                        </a:moveTo>
                        <a:cubicBezTo>
                          <a:pt x="145" y="1113"/>
                          <a:pt x="191" y="594"/>
                          <a:pt x="168" y="384"/>
                        </a:cubicBezTo>
                        <a:cubicBezTo>
                          <a:pt x="145" y="174"/>
                          <a:pt x="35" y="80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Freeform 1589"/>
                  <p:cNvSpPr/>
                  <p:nvPr/>
                </p:nvSpPr>
                <p:spPr>
                  <a:xfrm rot="2456400">
                    <a:off x="1979640" y="3304080"/>
                    <a:ext cx="4392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134">
                        <a:moveTo>
                          <a:pt x="0" y="1134"/>
                        </a:moveTo>
                        <a:cubicBezTo>
                          <a:pt x="19" y="988"/>
                          <a:pt x="85" y="445"/>
                          <a:pt x="115" y="256"/>
                        </a:cubicBezTo>
                        <a:cubicBezTo>
                          <a:pt x="145" y="67"/>
                          <a:pt x="167" y="53"/>
                          <a:pt x="181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Freeform 1590"/>
                  <p:cNvSpPr/>
                  <p:nvPr/>
                </p:nvSpPr>
                <p:spPr>
                  <a:xfrm rot="2456400">
                    <a:off x="1976760" y="3352680"/>
                    <a:ext cx="7740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52">
                        <a:moveTo>
                          <a:pt x="0" y="952"/>
                        </a:moveTo>
                        <a:cubicBezTo>
                          <a:pt x="43" y="837"/>
                          <a:pt x="203" y="422"/>
                          <a:pt x="256" y="263"/>
                        </a:cubicBezTo>
                        <a:cubicBezTo>
                          <a:pt x="309" y="104"/>
                          <a:pt x="304" y="55"/>
                          <a:pt x="317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Freeform 1591"/>
                  <p:cNvSpPr/>
                  <p:nvPr/>
                </p:nvSpPr>
                <p:spPr>
                  <a:xfrm rot="2456400">
                    <a:off x="1983960" y="3314160"/>
                    <a:ext cx="155160" cy="28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1179">
                        <a:moveTo>
                          <a:pt x="0" y="1179"/>
                        </a:moveTo>
                        <a:cubicBezTo>
                          <a:pt x="70" y="1066"/>
                          <a:pt x="315" y="697"/>
                          <a:pt x="421" y="501"/>
                        </a:cubicBezTo>
                        <a:cubicBezTo>
                          <a:pt x="527" y="305"/>
                          <a:pt x="591" y="105"/>
                          <a:pt x="635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Freeform 1592"/>
                  <p:cNvSpPr/>
                  <p:nvPr/>
                </p:nvSpPr>
                <p:spPr>
                  <a:xfrm rot="2456400">
                    <a:off x="1956960" y="3375360"/>
                    <a:ext cx="19944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998">
                        <a:moveTo>
                          <a:pt x="0" y="998"/>
                        </a:moveTo>
                        <a:cubicBezTo>
                          <a:pt x="102" y="891"/>
                          <a:pt x="477" y="523"/>
                          <a:pt x="613" y="357"/>
                        </a:cubicBezTo>
                        <a:cubicBezTo>
                          <a:pt x="749" y="191"/>
                          <a:pt x="774" y="75"/>
                          <a:pt x="816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Freeform 1593"/>
                  <p:cNvSpPr/>
                  <p:nvPr/>
                </p:nvSpPr>
                <p:spPr>
                  <a:xfrm rot="2456400">
                    <a:off x="1942920" y="3442680"/>
                    <a:ext cx="2325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771">
                        <a:moveTo>
                          <a:pt x="0" y="771"/>
                        </a:moveTo>
                        <a:cubicBezTo>
                          <a:pt x="91" y="704"/>
                          <a:pt x="385" y="497"/>
                          <a:pt x="544" y="369"/>
                        </a:cubicBezTo>
                        <a:cubicBezTo>
                          <a:pt x="703" y="241"/>
                          <a:pt x="867" y="77"/>
                          <a:pt x="952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Freeform 1594"/>
                  <p:cNvSpPr/>
                  <p:nvPr/>
                </p:nvSpPr>
                <p:spPr>
                  <a:xfrm rot="2456400">
                    <a:off x="1928160" y="3482640"/>
                    <a:ext cx="2656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8" h="635">
                        <a:moveTo>
                          <a:pt x="0" y="635"/>
                        </a:moveTo>
                        <a:cubicBezTo>
                          <a:pt x="109" y="581"/>
                          <a:pt x="471" y="417"/>
                          <a:pt x="652" y="311"/>
                        </a:cubicBezTo>
                        <a:cubicBezTo>
                          <a:pt x="833" y="205"/>
                          <a:pt x="997" y="65"/>
                          <a:pt x="1088" y="0"/>
                        </a:cubicBez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Freeform 1595"/>
                  <p:cNvSpPr/>
                  <p:nvPr/>
                </p:nvSpPr>
                <p:spPr>
                  <a:xfrm rot="2456400">
                    <a:off x="1898640" y="3490560"/>
                    <a:ext cx="3103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0" h="635">
                        <a:moveTo>
                          <a:pt x="0" y="635"/>
                        </a:moveTo>
                        <a:cubicBezTo>
                          <a:pt x="120" y="588"/>
                          <a:pt x="537" y="430"/>
                          <a:pt x="719" y="352"/>
                        </a:cubicBezTo>
                        <a:cubicBezTo>
                          <a:pt x="901" y="274"/>
                          <a:pt x="999" y="225"/>
                          <a:pt x="1091" y="166"/>
                        </a:cubicBezTo>
                        <a:cubicBezTo>
                          <a:pt x="1183" y="107"/>
                          <a:pt x="1233" y="35"/>
                          <a:pt x="127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1596"/>
                  <p:cNvSpPr/>
                  <p:nvPr/>
                </p:nvSpPr>
                <p:spPr>
                  <a:xfrm rot="2456400">
                    <a:off x="1866960" y="3587400"/>
                    <a:ext cx="1897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87">
                        <a:moveTo>
                          <a:pt x="0" y="0"/>
                        </a:moveTo>
                        <a:cubicBezTo>
                          <a:pt x="63" y="14"/>
                          <a:pt x="255" y="81"/>
                          <a:pt x="384" y="84"/>
                        </a:cubicBezTo>
                        <a:cubicBezTo>
                          <a:pt x="513" y="87"/>
                          <a:pt x="694" y="33"/>
                          <a:pt x="776" y="2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Freeform 1597"/>
                  <p:cNvSpPr/>
                  <p:nvPr/>
                </p:nvSpPr>
                <p:spPr>
                  <a:xfrm rot="2456400">
                    <a:off x="1867680" y="3571560"/>
                    <a:ext cx="13284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135">
                        <a:moveTo>
                          <a:pt x="0" y="0"/>
                        </a:moveTo>
                        <a:lnTo>
                          <a:pt x="289" y="99"/>
                        </a:lnTo>
                        <a:cubicBezTo>
                          <a:pt x="380" y="121"/>
                          <a:pt x="491" y="128"/>
                          <a:pt x="544" y="135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Freeform 1598"/>
                  <p:cNvSpPr/>
                  <p:nvPr/>
                </p:nvSpPr>
                <p:spPr>
                  <a:xfrm rot="2456400">
                    <a:off x="1846080" y="3554280"/>
                    <a:ext cx="88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272">
                        <a:moveTo>
                          <a:pt x="0" y="0"/>
                        </a:moveTo>
                        <a:cubicBezTo>
                          <a:pt x="34" y="32"/>
                          <a:pt x="143" y="147"/>
                          <a:pt x="203" y="192"/>
                        </a:cubicBezTo>
                        <a:cubicBezTo>
                          <a:pt x="263" y="237"/>
                          <a:pt x="330" y="255"/>
                          <a:pt x="363" y="272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Freeform 1599"/>
                  <p:cNvSpPr/>
                  <p:nvPr/>
                </p:nvSpPr>
                <p:spPr>
                  <a:xfrm rot="2456400">
                    <a:off x="1838160" y="3537720"/>
                    <a:ext cx="63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306">
                        <a:moveTo>
                          <a:pt x="0" y="0"/>
                        </a:moveTo>
                        <a:cubicBezTo>
                          <a:pt x="24" y="33"/>
                          <a:pt x="103" y="147"/>
                          <a:pt x="146" y="198"/>
                        </a:cubicBezTo>
                        <a:cubicBezTo>
                          <a:pt x="189" y="249"/>
                          <a:pt x="236" y="284"/>
                          <a:pt x="260" y="306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Freeform 1600"/>
                  <p:cNvSpPr/>
                  <p:nvPr/>
                </p:nvSpPr>
                <p:spPr>
                  <a:xfrm rot="2456400">
                    <a:off x="1707120" y="3425040"/>
                    <a:ext cx="221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07" h="72">
                        <a:moveTo>
                          <a:pt x="0" y="27"/>
                        </a:moveTo>
                        <a:cubicBezTo>
                          <a:pt x="55" y="24"/>
                          <a:pt x="180" y="0"/>
                          <a:pt x="331" y="7"/>
                        </a:cubicBezTo>
                        <a:cubicBezTo>
                          <a:pt x="482" y="14"/>
                          <a:pt x="787" y="59"/>
                          <a:pt x="907" y="72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Freeform 1601"/>
                  <p:cNvSpPr/>
                  <p:nvPr/>
                </p:nvSpPr>
                <p:spPr>
                  <a:xfrm rot="2456400">
                    <a:off x="1870200" y="3594600"/>
                    <a:ext cx="2214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7" h="56">
                        <a:moveTo>
                          <a:pt x="0" y="0"/>
                        </a:moveTo>
                        <a:cubicBezTo>
                          <a:pt x="86" y="8"/>
                          <a:pt x="366" y="42"/>
                          <a:pt x="517" y="49"/>
                        </a:cubicBezTo>
                        <a:cubicBezTo>
                          <a:pt x="668" y="56"/>
                          <a:pt x="826" y="46"/>
                          <a:pt x="907" y="45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Freeform 1602"/>
                  <p:cNvSpPr/>
                  <p:nvPr/>
                </p:nvSpPr>
                <p:spPr>
                  <a:xfrm rot="2456400">
                    <a:off x="1838160" y="3565080"/>
                    <a:ext cx="15516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363">
                        <a:moveTo>
                          <a:pt x="0" y="0"/>
                        </a:moveTo>
                        <a:cubicBezTo>
                          <a:pt x="57" y="40"/>
                          <a:pt x="235" y="178"/>
                          <a:pt x="341" y="238"/>
                        </a:cubicBezTo>
                        <a:cubicBezTo>
                          <a:pt x="447" y="298"/>
                          <a:pt x="574" y="337"/>
                          <a:pt x="635" y="363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Freeform 1603"/>
                  <p:cNvSpPr/>
                  <p:nvPr/>
                </p:nvSpPr>
                <p:spPr>
                  <a:xfrm rot="2456400">
                    <a:off x="1975320" y="3296160"/>
                    <a:ext cx="828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043">
                        <a:moveTo>
                          <a:pt x="0" y="0"/>
                        </a:moveTo>
                        <a:cubicBezTo>
                          <a:pt x="6" y="84"/>
                          <a:pt x="35" y="330"/>
                          <a:pt x="35" y="504"/>
                        </a:cubicBezTo>
                        <a:cubicBezTo>
                          <a:pt x="35" y="678"/>
                          <a:pt x="7" y="931"/>
                          <a:pt x="0" y="1043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Freeform 1604"/>
                  <p:cNvSpPr/>
                  <p:nvPr/>
                </p:nvSpPr>
                <p:spPr>
                  <a:xfrm rot="2456400">
                    <a:off x="1752480" y="3446280"/>
                    <a:ext cx="13284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590">
                        <a:moveTo>
                          <a:pt x="544" y="0"/>
                        </a:moveTo>
                        <a:cubicBezTo>
                          <a:pt x="495" y="45"/>
                          <a:pt x="341" y="173"/>
                          <a:pt x="250" y="271"/>
                        </a:cubicBezTo>
                        <a:cubicBezTo>
                          <a:pt x="159" y="369"/>
                          <a:pt x="52" y="524"/>
                          <a:pt x="0" y="590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Freeform 1605"/>
                  <p:cNvSpPr/>
                  <p:nvPr/>
                </p:nvSpPr>
                <p:spPr>
                  <a:xfrm rot="2456400">
                    <a:off x="1713600" y="3460680"/>
                    <a:ext cx="121680" cy="19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817">
                        <a:moveTo>
                          <a:pt x="498" y="0"/>
                        </a:moveTo>
                        <a:cubicBezTo>
                          <a:pt x="455" y="58"/>
                          <a:pt x="323" y="210"/>
                          <a:pt x="240" y="346"/>
                        </a:cubicBezTo>
                        <a:cubicBezTo>
                          <a:pt x="157" y="482"/>
                          <a:pt x="50" y="719"/>
                          <a:pt x="0" y="817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Freeform 1606"/>
                  <p:cNvSpPr/>
                  <p:nvPr/>
                </p:nvSpPr>
                <p:spPr>
                  <a:xfrm rot="2456400">
                    <a:off x="1823400" y="3546000"/>
                    <a:ext cx="7740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680">
                        <a:moveTo>
                          <a:pt x="0" y="0"/>
                        </a:moveTo>
                        <a:cubicBezTo>
                          <a:pt x="27" y="48"/>
                          <a:pt x="120" y="212"/>
                          <a:pt x="164" y="288"/>
                        </a:cubicBezTo>
                        <a:cubicBezTo>
                          <a:pt x="208" y="364"/>
                          <a:pt x="238" y="391"/>
                          <a:pt x="264" y="456"/>
                        </a:cubicBezTo>
                        <a:cubicBezTo>
                          <a:pt x="290" y="521"/>
                          <a:pt x="306" y="633"/>
                          <a:pt x="317" y="68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Freeform 1607"/>
                  <p:cNvSpPr/>
                  <p:nvPr/>
                </p:nvSpPr>
                <p:spPr>
                  <a:xfrm rot="3137400">
                    <a:off x="1922400" y="3558960"/>
                    <a:ext cx="997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409" h="90">
                        <a:moveTo>
                          <a:pt x="0" y="90"/>
                        </a:moveTo>
                        <a:cubicBezTo>
                          <a:pt x="36" y="85"/>
                          <a:pt x="149" y="77"/>
                          <a:pt x="217" y="62"/>
                        </a:cubicBezTo>
                        <a:lnTo>
                          <a:pt x="409" y="0"/>
                        </a:lnTo>
                      </a:path>
                    </a:pathLst>
                  </a:custGeom>
                  <a:noFill/>
                  <a:ln cap="rnd" w="252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1608"/>
                  <p:cNvSpPr/>
                  <p:nvPr/>
                </p:nvSpPr>
                <p:spPr>
                  <a:xfrm rot="2456400">
                    <a:off x="1942920" y="3383280"/>
                    <a:ext cx="6660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52">
                        <a:moveTo>
                          <a:pt x="0" y="952"/>
                        </a:moveTo>
                        <a:cubicBezTo>
                          <a:pt x="43" y="837"/>
                          <a:pt x="203" y="422"/>
                          <a:pt x="256" y="263"/>
                        </a:cubicBezTo>
                        <a:cubicBezTo>
                          <a:pt x="309" y="104"/>
                          <a:pt x="304" y="55"/>
                          <a:pt x="317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5" name="Group 1609"/>
                <p:cNvGrpSpPr/>
                <p:nvPr/>
              </p:nvGrpSpPr>
              <p:grpSpPr>
                <a:xfrm>
                  <a:off x="1581120" y="3451320"/>
                  <a:ext cx="407520" cy="319320"/>
                  <a:chOff x="1581120" y="3451320"/>
                  <a:chExt cx="407520" cy="319320"/>
                </a:xfrm>
              </p:grpSpPr>
              <p:sp>
                <p:nvSpPr>
                  <p:cNvPr id="1256" name="Freeform 1610"/>
                  <p:cNvSpPr/>
                  <p:nvPr/>
                </p:nvSpPr>
                <p:spPr>
                  <a:xfrm>
                    <a:off x="1581120" y="3451320"/>
                    <a:ext cx="28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8">
                        <a:moveTo>
                          <a:pt x="182" y="7"/>
                        </a:moveTo>
                        <a:cubicBezTo>
                          <a:pt x="166" y="6"/>
                          <a:pt x="118" y="0"/>
                          <a:pt x="88" y="0"/>
                        </a:cubicBezTo>
                        <a:lnTo>
                          <a:pt x="0" y="8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Freeform 1611"/>
                  <p:cNvSpPr/>
                  <p:nvPr/>
                </p:nvSpPr>
                <p:spPr>
                  <a:xfrm rot="18411600">
                    <a:off x="1658520" y="3628800"/>
                    <a:ext cx="28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8">
                        <a:moveTo>
                          <a:pt x="182" y="7"/>
                        </a:moveTo>
                        <a:cubicBezTo>
                          <a:pt x="166" y="6"/>
                          <a:pt x="118" y="0"/>
                          <a:pt x="88" y="0"/>
                        </a:cubicBezTo>
                        <a:lnTo>
                          <a:pt x="0" y="8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Freeform 1612"/>
                  <p:cNvSpPr/>
                  <p:nvPr/>
                </p:nvSpPr>
                <p:spPr>
                  <a:xfrm rot="4293600">
                    <a:off x="1797480" y="3628800"/>
                    <a:ext cx="28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8">
                        <a:moveTo>
                          <a:pt x="182" y="7"/>
                        </a:moveTo>
                        <a:cubicBezTo>
                          <a:pt x="166" y="6"/>
                          <a:pt x="118" y="0"/>
                          <a:pt x="88" y="0"/>
                        </a:cubicBezTo>
                        <a:lnTo>
                          <a:pt x="0" y="8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Freeform 1613"/>
                  <p:cNvSpPr/>
                  <p:nvPr/>
                </p:nvSpPr>
                <p:spPr>
                  <a:xfrm rot="20005800">
                    <a:off x="1652400" y="3563640"/>
                    <a:ext cx="2815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8">
                        <a:moveTo>
                          <a:pt x="182" y="7"/>
                        </a:moveTo>
                        <a:cubicBezTo>
                          <a:pt x="166" y="6"/>
                          <a:pt x="118" y="0"/>
                          <a:pt x="88" y="0"/>
                        </a:cubicBezTo>
                        <a:lnTo>
                          <a:pt x="0" y="8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Freeform 1614"/>
                  <p:cNvSpPr/>
                  <p:nvPr/>
                </p:nvSpPr>
                <p:spPr>
                  <a:xfrm rot="17041800">
                    <a:off x="1728360" y="3626280"/>
                    <a:ext cx="28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8">
                        <a:moveTo>
                          <a:pt x="182" y="7"/>
                        </a:moveTo>
                        <a:cubicBezTo>
                          <a:pt x="166" y="6"/>
                          <a:pt x="118" y="0"/>
                          <a:pt x="88" y="0"/>
                        </a:cubicBez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1" name="Group 2100"/>
              <p:cNvGrpSpPr/>
              <p:nvPr/>
            </p:nvGrpSpPr>
            <p:grpSpPr>
              <a:xfrm>
                <a:off x="2215800" y="3304800"/>
                <a:ext cx="644760" cy="629640"/>
                <a:chOff x="2215800" y="3304800"/>
                <a:chExt cx="644760" cy="629640"/>
              </a:xfrm>
            </p:grpSpPr>
            <p:sp>
              <p:nvSpPr>
                <p:cNvPr id="1262" name="Freeform 2101"/>
                <p:cNvSpPr/>
                <p:nvPr/>
              </p:nvSpPr>
              <p:spPr>
                <a:xfrm rot="2456400">
                  <a:off x="2336040" y="3601080"/>
                  <a:ext cx="173160" cy="828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2102"/>
                <p:cNvSpPr/>
                <p:nvPr/>
              </p:nvSpPr>
              <p:spPr>
                <a:xfrm rot="2456400">
                  <a:off x="2203560" y="3572640"/>
                  <a:ext cx="298440" cy="7452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2103"/>
                <p:cNvSpPr/>
                <p:nvPr/>
              </p:nvSpPr>
              <p:spPr>
                <a:xfrm rot="2456400">
                  <a:off x="2232360" y="3504240"/>
                  <a:ext cx="310680" cy="7452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Freeform 2104"/>
                <p:cNvSpPr/>
                <p:nvPr/>
              </p:nvSpPr>
              <p:spPr>
                <a:xfrm rot="2456400">
                  <a:off x="2219040" y="3452760"/>
                  <a:ext cx="323280" cy="9936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2105"/>
                <p:cNvSpPr/>
                <p:nvPr/>
              </p:nvSpPr>
              <p:spPr>
                <a:xfrm rot="2456400">
                  <a:off x="2245320" y="3446280"/>
                  <a:ext cx="321120" cy="12636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2106"/>
                <p:cNvSpPr/>
                <p:nvPr/>
              </p:nvSpPr>
              <p:spPr>
                <a:xfrm rot="2456400">
                  <a:off x="2275200" y="3467520"/>
                  <a:ext cx="310680" cy="1238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2107"/>
                <p:cNvSpPr/>
                <p:nvPr/>
              </p:nvSpPr>
              <p:spPr>
                <a:xfrm rot="2456400">
                  <a:off x="2357640" y="3418920"/>
                  <a:ext cx="234360" cy="19836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2108"/>
                <p:cNvSpPr/>
                <p:nvPr/>
              </p:nvSpPr>
              <p:spPr>
                <a:xfrm rot="2456400">
                  <a:off x="2323440" y="3418560"/>
                  <a:ext cx="273240" cy="1738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Freeform 2109"/>
                <p:cNvSpPr/>
                <p:nvPr/>
              </p:nvSpPr>
              <p:spPr>
                <a:xfrm rot="2456400">
                  <a:off x="2327040" y="3470760"/>
                  <a:ext cx="273240" cy="1738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2110"/>
                <p:cNvSpPr/>
                <p:nvPr/>
              </p:nvSpPr>
              <p:spPr>
                <a:xfrm rot="2456400">
                  <a:off x="2344320" y="3366000"/>
                  <a:ext cx="287640" cy="2685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2111"/>
                <p:cNvSpPr/>
                <p:nvPr/>
              </p:nvSpPr>
              <p:spPr>
                <a:xfrm flipV="1">
                  <a:off x="2502360" y="3377520"/>
                  <a:ext cx="19800" cy="3445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2112"/>
                <p:cNvSpPr/>
                <p:nvPr/>
              </p:nvSpPr>
              <p:spPr>
                <a:xfrm rot="2456400">
                  <a:off x="2429640" y="3418200"/>
                  <a:ext cx="173880" cy="2728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2113"/>
                <p:cNvSpPr/>
                <p:nvPr/>
              </p:nvSpPr>
              <p:spPr>
                <a:xfrm rot="2456400">
                  <a:off x="2475000" y="3414960"/>
                  <a:ext cx="134640" cy="28116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2114"/>
                <p:cNvSpPr/>
                <p:nvPr/>
              </p:nvSpPr>
              <p:spPr>
                <a:xfrm rot="2456400">
                  <a:off x="2519280" y="3414960"/>
                  <a:ext cx="90360" cy="29736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2115"/>
                <p:cNvSpPr/>
                <p:nvPr/>
              </p:nvSpPr>
              <p:spPr>
                <a:xfrm rot="2456400">
                  <a:off x="2567160" y="3428640"/>
                  <a:ext cx="44640" cy="31788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2116"/>
                <p:cNvSpPr/>
                <p:nvPr/>
              </p:nvSpPr>
              <p:spPr>
                <a:xfrm rot="2456400">
                  <a:off x="2588040" y="3402360"/>
                  <a:ext cx="52200" cy="34488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2117"/>
                <p:cNvSpPr/>
                <p:nvPr/>
              </p:nvSpPr>
              <p:spPr>
                <a:xfrm rot="2456400">
                  <a:off x="2588760" y="3458160"/>
                  <a:ext cx="49320" cy="310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2118"/>
                <p:cNvSpPr/>
                <p:nvPr/>
              </p:nvSpPr>
              <p:spPr>
                <a:xfrm rot="2456400">
                  <a:off x="2585520" y="3512880"/>
                  <a:ext cx="86760" cy="2606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2119"/>
                <p:cNvSpPr/>
                <p:nvPr/>
              </p:nvSpPr>
              <p:spPr>
                <a:xfrm rot="2456400">
                  <a:off x="2594160" y="3468960"/>
                  <a:ext cx="173880" cy="32292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2120"/>
                <p:cNvSpPr/>
                <p:nvPr/>
              </p:nvSpPr>
              <p:spPr>
                <a:xfrm rot="2456400">
                  <a:off x="2563560" y="3538440"/>
                  <a:ext cx="223560" cy="27324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2121"/>
                <p:cNvSpPr/>
                <p:nvPr/>
              </p:nvSpPr>
              <p:spPr>
                <a:xfrm rot="2456400">
                  <a:off x="2547720" y="3613680"/>
                  <a:ext cx="260640" cy="21132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2122"/>
                <p:cNvSpPr/>
                <p:nvPr/>
              </p:nvSpPr>
              <p:spPr>
                <a:xfrm rot="2456400">
                  <a:off x="2530800" y="3658320"/>
                  <a:ext cx="298080" cy="17388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2123"/>
                <p:cNvSpPr/>
                <p:nvPr/>
              </p:nvSpPr>
              <p:spPr>
                <a:xfrm rot="2456400">
                  <a:off x="2498040" y="3667680"/>
                  <a:ext cx="347760" cy="17388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Freeform 2124"/>
                <p:cNvSpPr/>
                <p:nvPr/>
              </p:nvSpPr>
              <p:spPr>
                <a:xfrm rot="2456400">
                  <a:off x="2461680" y="3776400"/>
                  <a:ext cx="212400" cy="237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2125"/>
                <p:cNvSpPr/>
                <p:nvPr/>
              </p:nvSpPr>
              <p:spPr>
                <a:xfrm rot="2456400">
                  <a:off x="2462400" y="3759120"/>
                  <a:ext cx="149040" cy="3672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2126"/>
                <p:cNvSpPr/>
                <p:nvPr/>
              </p:nvSpPr>
              <p:spPr>
                <a:xfrm rot="2456400">
                  <a:off x="2438640" y="3739320"/>
                  <a:ext cx="99360" cy="7452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Freeform 2127"/>
                <p:cNvSpPr/>
                <p:nvPr/>
              </p:nvSpPr>
              <p:spPr>
                <a:xfrm rot="2456400">
                  <a:off x="2429640" y="3720600"/>
                  <a:ext cx="70920" cy="835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2128"/>
                <p:cNvSpPr/>
                <p:nvPr/>
              </p:nvSpPr>
              <p:spPr>
                <a:xfrm rot="2456400">
                  <a:off x="2283120" y="3594240"/>
                  <a:ext cx="248400" cy="194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2129"/>
                <p:cNvSpPr/>
                <p:nvPr/>
              </p:nvSpPr>
              <p:spPr>
                <a:xfrm rot="2456400">
                  <a:off x="2465640" y="3784680"/>
                  <a:ext cx="248400" cy="1512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Freeform 2130"/>
                <p:cNvSpPr/>
                <p:nvPr/>
              </p:nvSpPr>
              <p:spPr>
                <a:xfrm rot="2456400">
                  <a:off x="2429640" y="3751200"/>
                  <a:ext cx="173880" cy="9936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2131"/>
                <p:cNvSpPr/>
                <p:nvPr/>
              </p:nvSpPr>
              <p:spPr>
                <a:xfrm rot="2456400">
                  <a:off x="2584080" y="3449160"/>
                  <a:ext cx="9360" cy="2858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2132"/>
                <p:cNvSpPr/>
                <p:nvPr/>
              </p:nvSpPr>
              <p:spPr>
                <a:xfrm rot="2456400">
                  <a:off x="2333520" y="3618000"/>
                  <a:ext cx="149040" cy="16164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Freeform 2133"/>
                <p:cNvSpPr/>
                <p:nvPr/>
              </p:nvSpPr>
              <p:spPr>
                <a:xfrm rot="2456400">
                  <a:off x="2289960" y="3634200"/>
                  <a:ext cx="136440" cy="2239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2134"/>
                <p:cNvSpPr/>
                <p:nvPr/>
              </p:nvSpPr>
              <p:spPr>
                <a:xfrm rot="2456400">
                  <a:off x="2413440" y="3729600"/>
                  <a:ext cx="8676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2135"/>
                <p:cNvSpPr/>
                <p:nvPr/>
              </p:nvSpPr>
              <p:spPr>
                <a:xfrm rot="3137400">
                  <a:off x="2523600" y="3744360"/>
                  <a:ext cx="111960" cy="244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2136"/>
                <p:cNvSpPr/>
                <p:nvPr/>
              </p:nvSpPr>
              <p:spPr>
                <a:xfrm rot="2456400">
                  <a:off x="2547720" y="3546720"/>
                  <a:ext cx="74520" cy="198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8" name="Group 2138"/>
              <p:cNvGrpSpPr/>
              <p:nvPr/>
            </p:nvGrpSpPr>
            <p:grpSpPr>
              <a:xfrm>
                <a:off x="2144520" y="2657160"/>
                <a:ext cx="644760" cy="629640"/>
                <a:chOff x="2144520" y="2657160"/>
                <a:chExt cx="644760" cy="629640"/>
              </a:xfrm>
            </p:grpSpPr>
            <p:sp>
              <p:nvSpPr>
                <p:cNvPr id="1299" name="Freeform 2139"/>
                <p:cNvSpPr/>
                <p:nvPr/>
              </p:nvSpPr>
              <p:spPr>
                <a:xfrm rot="2456400">
                  <a:off x="2264760" y="2953440"/>
                  <a:ext cx="173160" cy="828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2140"/>
                <p:cNvSpPr/>
                <p:nvPr/>
              </p:nvSpPr>
              <p:spPr>
                <a:xfrm rot="2456400">
                  <a:off x="2132280" y="2925000"/>
                  <a:ext cx="298440" cy="7452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Freeform 2141"/>
                <p:cNvSpPr/>
                <p:nvPr/>
              </p:nvSpPr>
              <p:spPr>
                <a:xfrm rot="2456400">
                  <a:off x="2161080" y="2856600"/>
                  <a:ext cx="310680" cy="7452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2142"/>
                <p:cNvSpPr/>
                <p:nvPr/>
              </p:nvSpPr>
              <p:spPr>
                <a:xfrm rot="2456400">
                  <a:off x="2147760" y="2805120"/>
                  <a:ext cx="323280" cy="9936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2143"/>
                <p:cNvSpPr/>
                <p:nvPr/>
              </p:nvSpPr>
              <p:spPr>
                <a:xfrm rot="2456400">
                  <a:off x="2174040" y="2798640"/>
                  <a:ext cx="321120" cy="12636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2144"/>
                <p:cNvSpPr/>
                <p:nvPr/>
              </p:nvSpPr>
              <p:spPr>
                <a:xfrm rot="2456400">
                  <a:off x="2203920" y="2819880"/>
                  <a:ext cx="310680" cy="1238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Freeform 2145"/>
                <p:cNvSpPr/>
                <p:nvPr/>
              </p:nvSpPr>
              <p:spPr>
                <a:xfrm rot="2456400">
                  <a:off x="2286360" y="2771280"/>
                  <a:ext cx="234360" cy="19836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Freeform 2146"/>
                <p:cNvSpPr/>
                <p:nvPr/>
              </p:nvSpPr>
              <p:spPr>
                <a:xfrm rot="2456400">
                  <a:off x="2252160" y="2770920"/>
                  <a:ext cx="273240" cy="1738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2147"/>
                <p:cNvSpPr/>
                <p:nvPr/>
              </p:nvSpPr>
              <p:spPr>
                <a:xfrm rot="2456400">
                  <a:off x="2255760" y="2823120"/>
                  <a:ext cx="273240" cy="1738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2148"/>
                <p:cNvSpPr/>
                <p:nvPr/>
              </p:nvSpPr>
              <p:spPr>
                <a:xfrm rot="2456400">
                  <a:off x="2273040" y="2718360"/>
                  <a:ext cx="287640" cy="2685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2149"/>
                <p:cNvSpPr/>
                <p:nvPr/>
              </p:nvSpPr>
              <p:spPr>
                <a:xfrm flipV="1">
                  <a:off x="2431080" y="2729880"/>
                  <a:ext cx="19800" cy="3445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2150"/>
                <p:cNvSpPr/>
                <p:nvPr/>
              </p:nvSpPr>
              <p:spPr>
                <a:xfrm rot="2456400">
                  <a:off x="2358360" y="2770560"/>
                  <a:ext cx="173880" cy="2728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Freeform 2151"/>
                <p:cNvSpPr/>
                <p:nvPr/>
              </p:nvSpPr>
              <p:spPr>
                <a:xfrm rot="2456400">
                  <a:off x="2403720" y="2767320"/>
                  <a:ext cx="134640" cy="28116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2152"/>
                <p:cNvSpPr/>
                <p:nvPr/>
              </p:nvSpPr>
              <p:spPr>
                <a:xfrm rot="2456400">
                  <a:off x="2448000" y="2767320"/>
                  <a:ext cx="90360" cy="29736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2153"/>
                <p:cNvSpPr/>
                <p:nvPr/>
              </p:nvSpPr>
              <p:spPr>
                <a:xfrm rot="2456400">
                  <a:off x="2495880" y="2781000"/>
                  <a:ext cx="44640" cy="31788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Freeform 2154"/>
                <p:cNvSpPr/>
                <p:nvPr/>
              </p:nvSpPr>
              <p:spPr>
                <a:xfrm rot="2456400">
                  <a:off x="2516760" y="2754720"/>
                  <a:ext cx="52200" cy="34488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Freeform 2155"/>
                <p:cNvSpPr/>
                <p:nvPr/>
              </p:nvSpPr>
              <p:spPr>
                <a:xfrm rot="2456400">
                  <a:off x="2517480" y="2810520"/>
                  <a:ext cx="49320" cy="310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2156"/>
                <p:cNvSpPr/>
                <p:nvPr/>
              </p:nvSpPr>
              <p:spPr>
                <a:xfrm rot="2456400">
                  <a:off x="2514240" y="2865240"/>
                  <a:ext cx="86760" cy="2606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Freeform 2157"/>
                <p:cNvSpPr/>
                <p:nvPr/>
              </p:nvSpPr>
              <p:spPr>
                <a:xfrm rot="2456400">
                  <a:off x="2522880" y="2821320"/>
                  <a:ext cx="173880" cy="32292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2158"/>
                <p:cNvSpPr/>
                <p:nvPr/>
              </p:nvSpPr>
              <p:spPr>
                <a:xfrm rot="2456400">
                  <a:off x="2492280" y="2890800"/>
                  <a:ext cx="223560" cy="27324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2159"/>
                <p:cNvSpPr/>
                <p:nvPr/>
              </p:nvSpPr>
              <p:spPr>
                <a:xfrm rot="2456400">
                  <a:off x="2476440" y="2966040"/>
                  <a:ext cx="260640" cy="21132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2160"/>
                <p:cNvSpPr/>
                <p:nvPr/>
              </p:nvSpPr>
              <p:spPr>
                <a:xfrm rot="2456400">
                  <a:off x="2459520" y="3010680"/>
                  <a:ext cx="298080" cy="17388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2161"/>
                <p:cNvSpPr/>
                <p:nvPr/>
              </p:nvSpPr>
              <p:spPr>
                <a:xfrm rot="2456400">
                  <a:off x="2426760" y="3020040"/>
                  <a:ext cx="347760" cy="17388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2162"/>
                <p:cNvSpPr/>
                <p:nvPr/>
              </p:nvSpPr>
              <p:spPr>
                <a:xfrm rot="2456400">
                  <a:off x="2390400" y="3128760"/>
                  <a:ext cx="212400" cy="237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2163"/>
                <p:cNvSpPr/>
                <p:nvPr/>
              </p:nvSpPr>
              <p:spPr>
                <a:xfrm rot="2456400">
                  <a:off x="2391120" y="3111480"/>
                  <a:ext cx="149040" cy="3672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2164"/>
                <p:cNvSpPr/>
                <p:nvPr/>
              </p:nvSpPr>
              <p:spPr>
                <a:xfrm rot="2456400">
                  <a:off x="2367360" y="3091680"/>
                  <a:ext cx="99360" cy="7452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2165"/>
                <p:cNvSpPr/>
                <p:nvPr/>
              </p:nvSpPr>
              <p:spPr>
                <a:xfrm rot="2456400">
                  <a:off x="2358360" y="3072960"/>
                  <a:ext cx="70920" cy="835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2166"/>
                <p:cNvSpPr/>
                <p:nvPr/>
              </p:nvSpPr>
              <p:spPr>
                <a:xfrm rot="2456400">
                  <a:off x="2211840" y="2946600"/>
                  <a:ext cx="248400" cy="194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2167"/>
                <p:cNvSpPr/>
                <p:nvPr/>
              </p:nvSpPr>
              <p:spPr>
                <a:xfrm rot="2456400">
                  <a:off x="2394360" y="3137040"/>
                  <a:ext cx="248400" cy="1512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2168"/>
                <p:cNvSpPr/>
                <p:nvPr/>
              </p:nvSpPr>
              <p:spPr>
                <a:xfrm rot="2456400">
                  <a:off x="2358360" y="3103560"/>
                  <a:ext cx="173880" cy="9936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2169"/>
                <p:cNvSpPr/>
                <p:nvPr/>
              </p:nvSpPr>
              <p:spPr>
                <a:xfrm rot="2456400">
                  <a:off x="2512800" y="2801520"/>
                  <a:ext cx="9360" cy="2858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2170"/>
                <p:cNvSpPr/>
                <p:nvPr/>
              </p:nvSpPr>
              <p:spPr>
                <a:xfrm rot="2456400">
                  <a:off x="2262240" y="2970360"/>
                  <a:ext cx="149040" cy="16164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2171"/>
                <p:cNvSpPr/>
                <p:nvPr/>
              </p:nvSpPr>
              <p:spPr>
                <a:xfrm rot="2456400">
                  <a:off x="2218680" y="2986560"/>
                  <a:ext cx="136440" cy="2239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2172"/>
                <p:cNvSpPr/>
                <p:nvPr/>
              </p:nvSpPr>
              <p:spPr>
                <a:xfrm rot="2456400">
                  <a:off x="2342160" y="3081960"/>
                  <a:ext cx="8676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2173"/>
                <p:cNvSpPr/>
                <p:nvPr/>
              </p:nvSpPr>
              <p:spPr>
                <a:xfrm rot="3137400">
                  <a:off x="2452320" y="3096720"/>
                  <a:ext cx="111960" cy="244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2174"/>
                <p:cNvSpPr/>
                <p:nvPr/>
              </p:nvSpPr>
              <p:spPr>
                <a:xfrm rot="2456400">
                  <a:off x="2476440" y="2899080"/>
                  <a:ext cx="74520" cy="198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5" name="Group 2180"/>
              <p:cNvGrpSpPr/>
              <p:nvPr/>
            </p:nvGrpSpPr>
            <p:grpSpPr>
              <a:xfrm>
                <a:off x="1797120" y="3454560"/>
                <a:ext cx="640800" cy="603360"/>
                <a:chOff x="1797120" y="3454560"/>
                <a:chExt cx="640800" cy="603360"/>
              </a:xfrm>
            </p:grpSpPr>
            <p:grpSp>
              <p:nvGrpSpPr>
                <p:cNvPr id="1336" name="Group 2181"/>
                <p:cNvGrpSpPr/>
                <p:nvPr/>
              </p:nvGrpSpPr>
              <p:grpSpPr>
                <a:xfrm>
                  <a:off x="1863720" y="3454560"/>
                  <a:ext cx="574200" cy="561240"/>
                  <a:chOff x="1863720" y="3454560"/>
                  <a:chExt cx="574200" cy="561240"/>
                </a:xfrm>
              </p:grpSpPr>
              <p:sp>
                <p:nvSpPr>
                  <p:cNvPr id="1337" name="Freeform 2182"/>
                  <p:cNvSpPr/>
                  <p:nvPr/>
                </p:nvSpPr>
                <p:spPr>
                  <a:xfrm rot="2456400">
                    <a:off x="1970640" y="3718800"/>
                    <a:ext cx="15444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2" h="303">
                        <a:moveTo>
                          <a:pt x="544" y="303"/>
                        </a:moveTo>
                        <a:cubicBezTo>
                          <a:pt x="553" y="278"/>
                          <a:pt x="593" y="184"/>
                          <a:pt x="598" y="153"/>
                        </a:cubicBezTo>
                        <a:cubicBezTo>
                          <a:pt x="603" y="122"/>
                          <a:pt x="632" y="137"/>
                          <a:pt x="574" y="117"/>
                        </a:cubicBezTo>
                        <a:cubicBezTo>
                          <a:pt x="516" y="97"/>
                          <a:pt x="346" y="0"/>
                          <a:pt x="250" y="31"/>
                        </a:cubicBezTo>
                        <a:cubicBezTo>
                          <a:pt x="154" y="62"/>
                          <a:pt x="52" y="245"/>
                          <a:pt x="0" y="303"/>
                        </a:cubicBezTo>
                      </a:path>
                    </a:pathLst>
                  </a:custGeom>
                  <a:noFill/>
                  <a:ln cap="rnd" w="144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Freeform 2183"/>
                  <p:cNvSpPr/>
                  <p:nvPr/>
                </p:nvSpPr>
                <p:spPr>
                  <a:xfrm rot="2456400">
                    <a:off x="1852920" y="3692880"/>
                    <a:ext cx="2660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272">
                        <a:moveTo>
                          <a:pt x="1089" y="0"/>
                        </a:moveTo>
                        <a:cubicBezTo>
                          <a:pt x="988" y="18"/>
                          <a:pt x="663" y="64"/>
                          <a:pt x="482" y="109"/>
                        </a:cubicBezTo>
                        <a:cubicBezTo>
                          <a:pt x="301" y="154"/>
                          <a:pt x="100" y="238"/>
                          <a:pt x="0" y="272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184"/>
                  <p:cNvSpPr/>
                  <p:nvPr/>
                </p:nvSpPr>
                <p:spPr>
                  <a:xfrm rot="2456400">
                    <a:off x="1878120" y="3632040"/>
                    <a:ext cx="2772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272">
                        <a:moveTo>
                          <a:pt x="1134" y="272"/>
                        </a:moveTo>
                        <a:cubicBezTo>
                          <a:pt x="1024" y="241"/>
                          <a:pt x="663" y="129"/>
                          <a:pt x="474" y="84"/>
                        </a:cubicBezTo>
                        <a:cubicBezTo>
                          <a:pt x="285" y="39"/>
                          <a:pt x="99" y="17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Freeform 2185"/>
                  <p:cNvSpPr/>
                  <p:nvPr/>
                </p:nvSpPr>
                <p:spPr>
                  <a:xfrm rot="2456400">
                    <a:off x="1866240" y="3585960"/>
                    <a:ext cx="28836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363">
                        <a:moveTo>
                          <a:pt x="1180" y="363"/>
                        </a:moveTo>
                        <a:cubicBezTo>
                          <a:pt x="1067" y="321"/>
                          <a:pt x="699" y="172"/>
                          <a:pt x="502" y="112"/>
                        </a:cubicBezTo>
                        <a:cubicBezTo>
                          <a:pt x="305" y="52"/>
                          <a:pt x="105" y="23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Freeform 2186"/>
                  <p:cNvSpPr/>
                  <p:nvPr/>
                </p:nvSpPr>
                <p:spPr>
                  <a:xfrm rot="2456400">
                    <a:off x="1889640" y="3580200"/>
                    <a:ext cx="28656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3" h="461">
                        <a:moveTo>
                          <a:pt x="1173" y="461"/>
                        </a:moveTo>
                        <a:cubicBezTo>
                          <a:pt x="1088" y="425"/>
                          <a:pt x="862" y="323"/>
                          <a:pt x="666" y="246"/>
                        </a:cubicBezTo>
                        <a:cubicBezTo>
                          <a:pt x="470" y="169"/>
                          <a:pt x="139" y="5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187"/>
                  <p:cNvSpPr/>
                  <p:nvPr/>
                </p:nvSpPr>
                <p:spPr>
                  <a:xfrm rot="2456400">
                    <a:off x="1916640" y="3599280"/>
                    <a:ext cx="2772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453">
                        <a:moveTo>
                          <a:pt x="1134" y="453"/>
                        </a:moveTo>
                        <a:cubicBezTo>
                          <a:pt x="1034" y="407"/>
                          <a:pt x="722" y="254"/>
                          <a:pt x="533" y="178"/>
                        </a:cubicBezTo>
                        <a:cubicBezTo>
                          <a:pt x="344" y="102"/>
                          <a:pt x="111" y="37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Freeform 2188"/>
                  <p:cNvSpPr/>
                  <p:nvPr/>
                </p:nvSpPr>
                <p:spPr>
                  <a:xfrm rot="2456400">
                    <a:off x="1989720" y="3556440"/>
                    <a:ext cx="20916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724">
                        <a:moveTo>
                          <a:pt x="856" y="724"/>
                        </a:moveTo>
                        <a:lnTo>
                          <a:pt x="372" y="234"/>
                        </a:lnTo>
                        <a:cubicBezTo>
                          <a:pt x="229" y="113"/>
                          <a:pt x="77" y="49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Freeform 2189"/>
                  <p:cNvSpPr/>
                  <p:nvPr/>
                </p:nvSpPr>
                <p:spPr>
                  <a:xfrm rot="2456400">
                    <a:off x="1959120" y="3556080"/>
                    <a:ext cx="243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5">
                        <a:moveTo>
                          <a:pt x="998" y="635"/>
                        </a:moveTo>
                        <a:lnTo>
                          <a:pt x="220" y="11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2190"/>
                  <p:cNvSpPr/>
                  <p:nvPr/>
                </p:nvSpPr>
                <p:spPr>
                  <a:xfrm rot="2456400">
                    <a:off x="1962360" y="3602880"/>
                    <a:ext cx="243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5">
                        <a:moveTo>
                          <a:pt x="998" y="635"/>
                        </a:moveTo>
                        <a:cubicBezTo>
                          <a:pt x="882" y="554"/>
                          <a:pt x="466" y="255"/>
                          <a:pt x="300" y="149"/>
                        </a:cubicBezTo>
                        <a:cubicBezTo>
                          <a:pt x="134" y="43"/>
                          <a:pt x="62" y="3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Freeform 2191"/>
                  <p:cNvSpPr/>
                  <p:nvPr/>
                </p:nvSpPr>
                <p:spPr>
                  <a:xfrm rot="2456400">
                    <a:off x="1978200" y="3509280"/>
                    <a:ext cx="25668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0" h="980">
                        <a:moveTo>
                          <a:pt x="1050" y="980"/>
                        </a:moveTo>
                        <a:lnTo>
                          <a:pt x="378" y="234"/>
                        </a:lnTo>
                        <a:cubicBezTo>
                          <a:pt x="203" y="71"/>
                          <a:pt x="79" y="49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2192"/>
                  <p:cNvSpPr/>
                  <p:nvPr/>
                </p:nvSpPr>
                <p:spPr>
                  <a:xfrm flipV="1">
                    <a:off x="2118960" y="3519000"/>
                    <a:ext cx="16920" cy="307080"/>
                  </a:xfrm>
                  <a:prstGeom prst="line">
                    <a:avLst/>
                  </a:prstGeom>
                  <a:ln w="25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2193"/>
                  <p:cNvSpPr/>
                  <p:nvPr/>
                </p:nvSpPr>
                <p:spPr>
                  <a:xfrm rot="2456400">
                    <a:off x="2054160" y="3555720"/>
                    <a:ext cx="15516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997">
                        <a:moveTo>
                          <a:pt x="635" y="997"/>
                        </a:moveTo>
                        <a:cubicBezTo>
                          <a:pt x="569" y="887"/>
                          <a:pt x="345" y="500"/>
                          <a:pt x="239" y="334"/>
                        </a:cubicBezTo>
                        <a:cubicBezTo>
                          <a:pt x="133" y="168"/>
                          <a:pt x="50" y="70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Freeform 2194"/>
                  <p:cNvSpPr/>
                  <p:nvPr/>
                </p:nvSpPr>
                <p:spPr>
                  <a:xfrm rot="2456400">
                    <a:off x="2094120" y="3552480"/>
                    <a:ext cx="12024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1026">
                        <a:moveTo>
                          <a:pt x="492" y="1026"/>
                        </a:moveTo>
                        <a:cubicBezTo>
                          <a:pt x="452" y="924"/>
                          <a:pt x="334" y="585"/>
                          <a:pt x="252" y="414"/>
                        </a:cubicBezTo>
                        <a:cubicBezTo>
                          <a:pt x="170" y="243"/>
                          <a:pt x="53" y="86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Freeform 2195"/>
                  <p:cNvSpPr/>
                  <p:nvPr/>
                </p:nvSpPr>
                <p:spPr>
                  <a:xfrm rot="2456400">
                    <a:off x="2133720" y="3552840"/>
                    <a:ext cx="8064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086">
                        <a:moveTo>
                          <a:pt x="330" y="1086"/>
                        </a:moveTo>
                        <a:cubicBezTo>
                          <a:pt x="302" y="966"/>
                          <a:pt x="217" y="547"/>
                          <a:pt x="162" y="366"/>
                        </a:cubicBezTo>
                        <a:cubicBezTo>
                          <a:pt x="107" y="185"/>
                          <a:pt x="34" y="76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2196"/>
                  <p:cNvSpPr/>
                  <p:nvPr/>
                </p:nvSpPr>
                <p:spPr>
                  <a:xfrm rot="2456400">
                    <a:off x="2176560" y="3565080"/>
                    <a:ext cx="399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160">
                        <a:moveTo>
                          <a:pt x="164" y="1160"/>
                        </a:moveTo>
                        <a:cubicBezTo>
                          <a:pt x="148" y="1008"/>
                          <a:pt x="93" y="439"/>
                          <a:pt x="66" y="246"/>
                        </a:cubicBezTo>
                        <a:cubicBezTo>
                          <a:pt x="39" y="53"/>
                          <a:pt x="14" y="5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Freeform 2197"/>
                  <p:cNvSpPr/>
                  <p:nvPr/>
                </p:nvSpPr>
                <p:spPr>
                  <a:xfrm rot="2456400">
                    <a:off x="2195280" y="3542040"/>
                    <a:ext cx="464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1259">
                        <a:moveTo>
                          <a:pt x="140" y="1259"/>
                        </a:moveTo>
                        <a:cubicBezTo>
                          <a:pt x="145" y="1113"/>
                          <a:pt x="191" y="594"/>
                          <a:pt x="168" y="384"/>
                        </a:cubicBezTo>
                        <a:cubicBezTo>
                          <a:pt x="145" y="174"/>
                          <a:pt x="35" y="80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Freeform 2198"/>
                  <p:cNvSpPr/>
                  <p:nvPr/>
                </p:nvSpPr>
                <p:spPr>
                  <a:xfrm rot="2456400">
                    <a:off x="2195640" y="3591360"/>
                    <a:ext cx="4392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134">
                        <a:moveTo>
                          <a:pt x="0" y="1134"/>
                        </a:moveTo>
                        <a:cubicBezTo>
                          <a:pt x="19" y="988"/>
                          <a:pt x="85" y="445"/>
                          <a:pt x="115" y="256"/>
                        </a:cubicBezTo>
                        <a:cubicBezTo>
                          <a:pt x="145" y="67"/>
                          <a:pt x="167" y="53"/>
                          <a:pt x="181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2199"/>
                  <p:cNvSpPr/>
                  <p:nvPr/>
                </p:nvSpPr>
                <p:spPr>
                  <a:xfrm rot="2456400">
                    <a:off x="2192760" y="3639960"/>
                    <a:ext cx="7740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52">
                        <a:moveTo>
                          <a:pt x="0" y="952"/>
                        </a:moveTo>
                        <a:cubicBezTo>
                          <a:pt x="43" y="837"/>
                          <a:pt x="203" y="422"/>
                          <a:pt x="256" y="263"/>
                        </a:cubicBezTo>
                        <a:cubicBezTo>
                          <a:pt x="309" y="104"/>
                          <a:pt x="304" y="55"/>
                          <a:pt x="317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Freeform 2200"/>
                  <p:cNvSpPr/>
                  <p:nvPr/>
                </p:nvSpPr>
                <p:spPr>
                  <a:xfrm rot="2456400">
                    <a:off x="2199960" y="3601440"/>
                    <a:ext cx="155160" cy="28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1179">
                        <a:moveTo>
                          <a:pt x="0" y="1179"/>
                        </a:moveTo>
                        <a:cubicBezTo>
                          <a:pt x="70" y="1066"/>
                          <a:pt x="315" y="697"/>
                          <a:pt x="421" y="501"/>
                        </a:cubicBezTo>
                        <a:cubicBezTo>
                          <a:pt x="527" y="305"/>
                          <a:pt x="591" y="105"/>
                          <a:pt x="635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Freeform 2201"/>
                  <p:cNvSpPr/>
                  <p:nvPr/>
                </p:nvSpPr>
                <p:spPr>
                  <a:xfrm rot="2456400">
                    <a:off x="2172960" y="3662640"/>
                    <a:ext cx="19944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998">
                        <a:moveTo>
                          <a:pt x="0" y="998"/>
                        </a:moveTo>
                        <a:cubicBezTo>
                          <a:pt x="102" y="891"/>
                          <a:pt x="477" y="523"/>
                          <a:pt x="613" y="357"/>
                        </a:cubicBezTo>
                        <a:cubicBezTo>
                          <a:pt x="749" y="191"/>
                          <a:pt x="774" y="75"/>
                          <a:pt x="816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2202"/>
                  <p:cNvSpPr/>
                  <p:nvPr/>
                </p:nvSpPr>
                <p:spPr>
                  <a:xfrm rot="2456400">
                    <a:off x="2158920" y="3729960"/>
                    <a:ext cx="2325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771">
                        <a:moveTo>
                          <a:pt x="0" y="771"/>
                        </a:moveTo>
                        <a:cubicBezTo>
                          <a:pt x="91" y="704"/>
                          <a:pt x="385" y="497"/>
                          <a:pt x="544" y="369"/>
                        </a:cubicBezTo>
                        <a:cubicBezTo>
                          <a:pt x="703" y="241"/>
                          <a:pt x="867" y="77"/>
                          <a:pt x="952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Freeform 2203"/>
                  <p:cNvSpPr/>
                  <p:nvPr/>
                </p:nvSpPr>
                <p:spPr>
                  <a:xfrm rot="2456400">
                    <a:off x="2144160" y="3769920"/>
                    <a:ext cx="2656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8" h="635">
                        <a:moveTo>
                          <a:pt x="0" y="635"/>
                        </a:moveTo>
                        <a:cubicBezTo>
                          <a:pt x="109" y="581"/>
                          <a:pt x="471" y="417"/>
                          <a:pt x="652" y="311"/>
                        </a:cubicBezTo>
                        <a:cubicBezTo>
                          <a:pt x="833" y="205"/>
                          <a:pt x="997" y="65"/>
                          <a:pt x="1088" y="0"/>
                        </a:cubicBez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Freeform 2204"/>
                  <p:cNvSpPr/>
                  <p:nvPr/>
                </p:nvSpPr>
                <p:spPr>
                  <a:xfrm rot="2456400">
                    <a:off x="2114640" y="3777840"/>
                    <a:ext cx="3103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0" h="635">
                        <a:moveTo>
                          <a:pt x="0" y="635"/>
                        </a:moveTo>
                        <a:cubicBezTo>
                          <a:pt x="120" y="588"/>
                          <a:pt x="537" y="430"/>
                          <a:pt x="719" y="352"/>
                        </a:cubicBezTo>
                        <a:cubicBezTo>
                          <a:pt x="901" y="274"/>
                          <a:pt x="999" y="225"/>
                          <a:pt x="1091" y="166"/>
                        </a:cubicBezTo>
                        <a:cubicBezTo>
                          <a:pt x="1183" y="107"/>
                          <a:pt x="1233" y="35"/>
                          <a:pt x="127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2205"/>
                  <p:cNvSpPr/>
                  <p:nvPr/>
                </p:nvSpPr>
                <p:spPr>
                  <a:xfrm rot="2456400">
                    <a:off x="2082960" y="3874680"/>
                    <a:ext cx="1897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87">
                        <a:moveTo>
                          <a:pt x="0" y="0"/>
                        </a:moveTo>
                        <a:cubicBezTo>
                          <a:pt x="63" y="14"/>
                          <a:pt x="255" y="81"/>
                          <a:pt x="384" y="84"/>
                        </a:cubicBezTo>
                        <a:cubicBezTo>
                          <a:pt x="513" y="87"/>
                          <a:pt x="694" y="33"/>
                          <a:pt x="776" y="2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Freeform 2206"/>
                  <p:cNvSpPr/>
                  <p:nvPr/>
                </p:nvSpPr>
                <p:spPr>
                  <a:xfrm rot="2456400">
                    <a:off x="2083680" y="3858840"/>
                    <a:ext cx="13284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135">
                        <a:moveTo>
                          <a:pt x="0" y="0"/>
                        </a:moveTo>
                        <a:lnTo>
                          <a:pt x="289" y="99"/>
                        </a:lnTo>
                        <a:cubicBezTo>
                          <a:pt x="380" y="121"/>
                          <a:pt x="491" y="128"/>
                          <a:pt x="544" y="135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Freeform 2207"/>
                  <p:cNvSpPr/>
                  <p:nvPr/>
                </p:nvSpPr>
                <p:spPr>
                  <a:xfrm rot="2456400">
                    <a:off x="2062080" y="3841560"/>
                    <a:ext cx="88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272">
                        <a:moveTo>
                          <a:pt x="0" y="0"/>
                        </a:moveTo>
                        <a:cubicBezTo>
                          <a:pt x="34" y="32"/>
                          <a:pt x="143" y="147"/>
                          <a:pt x="203" y="192"/>
                        </a:cubicBezTo>
                        <a:cubicBezTo>
                          <a:pt x="263" y="237"/>
                          <a:pt x="330" y="255"/>
                          <a:pt x="363" y="272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2208"/>
                  <p:cNvSpPr/>
                  <p:nvPr/>
                </p:nvSpPr>
                <p:spPr>
                  <a:xfrm rot="2456400">
                    <a:off x="2054160" y="3825000"/>
                    <a:ext cx="63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306">
                        <a:moveTo>
                          <a:pt x="0" y="0"/>
                        </a:moveTo>
                        <a:cubicBezTo>
                          <a:pt x="24" y="33"/>
                          <a:pt x="103" y="147"/>
                          <a:pt x="146" y="198"/>
                        </a:cubicBezTo>
                        <a:cubicBezTo>
                          <a:pt x="189" y="249"/>
                          <a:pt x="236" y="284"/>
                          <a:pt x="260" y="306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Freeform 2209"/>
                  <p:cNvSpPr/>
                  <p:nvPr/>
                </p:nvSpPr>
                <p:spPr>
                  <a:xfrm rot="2456400">
                    <a:off x="1923120" y="3712320"/>
                    <a:ext cx="221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07" h="72">
                        <a:moveTo>
                          <a:pt x="0" y="27"/>
                        </a:moveTo>
                        <a:cubicBezTo>
                          <a:pt x="55" y="24"/>
                          <a:pt x="180" y="0"/>
                          <a:pt x="331" y="7"/>
                        </a:cubicBezTo>
                        <a:cubicBezTo>
                          <a:pt x="482" y="14"/>
                          <a:pt x="787" y="59"/>
                          <a:pt x="907" y="72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Freeform 2210"/>
                  <p:cNvSpPr/>
                  <p:nvPr/>
                </p:nvSpPr>
                <p:spPr>
                  <a:xfrm rot="2456400">
                    <a:off x="2086200" y="3881880"/>
                    <a:ext cx="2214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7" h="56">
                        <a:moveTo>
                          <a:pt x="0" y="0"/>
                        </a:moveTo>
                        <a:cubicBezTo>
                          <a:pt x="86" y="8"/>
                          <a:pt x="366" y="42"/>
                          <a:pt x="517" y="49"/>
                        </a:cubicBezTo>
                        <a:cubicBezTo>
                          <a:pt x="668" y="56"/>
                          <a:pt x="826" y="46"/>
                          <a:pt x="907" y="45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2211"/>
                  <p:cNvSpPr/>
                  <p:nvPr/>
                </p:nvSpPr>
                <p:spPr>
                  <a:xfrm rot="2456400">
                    <a:off x="2054160" y="3852360"/>
                    <a:ext cx="15516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363">
                        <a:moveTo>
                          <a:pt x="0" y="0"/>
                        </a:moveTo>
                        <a:cubicBezTo>
                          <a:pt x="57" y="40"/>
                          <a:pt x="235" y="178"/>
                          <a:pt x="341" y="238"/>
                        </a:cubicBezTo>
                        <a:cubicBezTo>
                          <a:pt x="447" y="298"/>
                          <a:pt x="574" y="337"/>
                          <a:pt x="635" y="363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Freeform 2212"/>
                  <p:cNvSpPr/>
                  <p:nvPr/>
                </p:nvSpPr>
                <p:spPr>
                  <a:xfrm rot="2456400">
                    <a:off x="2191320" y="3583440"/>
                    <a:ext cx="828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043">
                        <a:moveTo>
                          <a:pt x="0" y="0"/>
                        </a:moveTo>
                        <a:cubicBezTo>
                          <a:pt x="6" y="84"/>
                          <a:pt x="35" y="330"/>
                          <a:pt x="35" y="504"/>
                        </a:cubicBezTo>
                        <a:cubicBezTo>
                          <a:pt x="35" y="678"/>
                          <a:pt x="7" y="931"/>
                          <a:pt x="0" y="1043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Freeform 2213"/>
                  <p:cNvSpPr/>
                  <p:nvPr/>
                </p:nvSpPr>
                <p:spPr>
                  <a:xfrm rot="2456400">
                    <a:off x="1968480" y="3733560"/>
                    <a:ext cx="13284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590">
                        <a:moveTo>
                          <a:pt x="544" y="0"/>
                        </a:moveTo>
                        <a:cubicBezTo>
                          <a:pt x="495" y="45"/>
                          <a:pt x="341" y="173"/>
                          <a:pt x="250" y="271"/>
                        </a:cubicBezTo>
                        <a:cubicBezTo>
                          <a:pt x="159" y="369"/>
                          <a:pt x="52" y="524"/>
                          <a:pt x="0" y="590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2214"/>
                  <p:cNvSpPr/>
                  <p:nvPr/>
                </p:nvSpPr>
                <p:spPr>
                  <a:xfrm rot="2456400">
                    <a:off x="1929600" y="3747960"/>
                    <a:ext cx="121680" cy="19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817">
                        <a:moveTo>
                          <a:pt x="498" y="0"/>
                        </a:moveTo>
                        <a:cubicBezTo>
                          <a:pt x="455" y="58"/>
                          <a:pt x="323" y="210"/>
                          <a:pt x="240" y="346"/>
                        </a:cubicBezTo>
                        <a:cubicBezTo>
                          <a:pt x="157" y="482"/>
                          <a:pt x="50" y="719"/>
                          <a:pt x="0" y="817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Freeform 2215"/>
                  <p:cNvSpPr/>
                  <p:nvPr/>
                </p:nvSpPr>
                <p:spPr>
                  <a:xfrm rot="2456400">
                    <a:off x="2039400" y="3833280"/>
                    <a:ext cx="7740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680">
                        <a:moveTo>
                          <a:pt x="0" y="0"/>
                        </a:moveTo>
                        <a:cubicBezTo>
                          <a:pt x="27" y="48"/>
                          <a:pt x="120" y="212"/>
                          <a:pt x="164" y="288"/>
                        </a:cubicBezTo>
                        <a:cubicBezTo>
                          <a:pt x="208" y="364"/>
                          <a:pt x="238" y="391"/>
                          <a:pt x="264" y="456"/>
                        </a:cubicBezTo>
                        <a:cubicBezTo>
                          <a:pt x="290" y="521"/>
                          <a:pt x="306" y="633"/>
                          <a:pt x="317" y="68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Freeform 2216"/>
                  <p:cNvSpPr/>
                  <p:nvPr/>
                </p:nvSpPr>
                <p:spPr>
                  <a:xfrm rot="3137400">
                    <a:off x="2138400" y="3846240"/>
                    <a:ext cx="997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409" h="90">
                        <a:moveTo>
                          <a:pt x="0" y="90"/>
                        </a:moveTo>
                        <a:cubicBezTo>
                          <a:pt x="36" y="85"/>
                          <a:pt x="149" y="77"/>
                          <a:pt x="217" y="62"/>
                        </a:cubicBezTo>
                        <a:lnTo>
                          <a:pt x="409" y="0"/>
                        </a:lnTo>
                      </a:path>
                    </a:pathLst>
                  </a:custGeom>
                  <a:noFill/>
                  <a:ln cap="rnd" w="252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2217"/>
                  <p:cNvSpPr/>
                  <p:nvPr/>
                </p:nvSpPr>
                <p:spPr>
                  <a:xfrm rot="2456400">
                    <a:off x="2158920" y="3670560"/>
                    <a:ext cx="6660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52">
                        <a:moveTo>
                          <a:pt x="0" y="952"/>
                        </a:moveTo>
                        <a:cubicBezTo>
                          <a:pt x="43" y="837"/>
                          <a:pt x="203" y="422"/>
                          <a:pt x="256" y="263"/>
                        </a:cubicBezTo>
                        <a:cubicBezTo>
                          <a:pt x="309" y="104"/>
                          <a:pt x="304" y="55"/>
                          <a:pt x="317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2218"/>
                <p:cNvGrpSpPr/>
                <p:nvPr/>
              </p:nvGrpSpPr>
              <p:grpSpPr>
                <a:xfrm>
                  <a:off x="1797120" y="3738600"/>
                  <a:ext cx="407520" cy="319320"/>
                  <a:chOff x="1797120" y="3738600"/>
                  <a:chExt cx="407520" cy="319320"/>
                </a:xfrm>
              </p:grpSpPr>
              <p:sp>
                <p:nvSpPr>
                  <p:cNvPr id="1374" name="Freeform 2219"/>
                  <p:cNvSpPr/>
                  <p:nvPr/>
                </p:nvSpPr>
                <p:spPr>
                  <a:xfrm>
                    <a:off x="1797120" y="3738600"/>
                    <a:ext cx="28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8">
                        <a:moveTo>
                          <a:pt x="182" y="7"/>
                        </a:moveTo>
                        <a:cubicBezTo>
                          <a:pt x="166" y="6"/>
                          <a:pt x="118" y="0"/>
                          <a:pt x="88" y="0"/>
                        </a:cubicBezTo>
                        <a:lnTo>
                          <a:pt x="0" y="8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2220"/>
                  <p:cNvSpPr/>
                  <p:nvPr/>
                </p:nvSpPr>
                <p:spPr>
                  <a:xfrm rot="18411600">
                    <a:off x="1874520" y="3916080"/>
                    <a:ext cx="28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8">
                        <a:moveTo>
                          <a:pt x="182" y="7"/>
                        </a:moveTo>
                        <a:cubicBezTo>
                          <a:pt x="166" y="6"/>
                          <a:pt x="118" y="0"/>
                          <a:pt x="88" y="0"/>
                        </a:cubicBezTo>
                        <a:lnTo>
                          <a:pt x="0" y="8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Freeform 2221"/>
                  <p:cNvSpPr/>
                  <p:nvPr/>
                </p:nvSpPr>
                <p:spPr>
                  <a:xfrm rot="4293600">
                    <a:off x="2013480" y="3916080"/>
                    <a:ext cx="28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8">
                        <a:moveTo>
                          <a:pt x="182" y="7"/>
                        </a:moveTo>
                        <a:cubicBezTo>
                          <a:pt x="166" y="6"/>
                          <a:pt x="118" y="0"/>
                          <a:pt x="88" y="0"/>
                        </a:cubicBezTo>
                        <a:lnTo>
                          <a:pt x="0" y="8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Freeform 2222"/>
                  <p:cNvSpPr/>
                  <p:nvPr/>
                </p:nvSpPr>
                <p:spPr>
                  <a:xfrm rot="20005800">
                    <a:off x="1868400" y="3850920"/>
                    <a:ext cx="2815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8">
                        <a:moveTo>
                          <a:pt x="182" y="7"/>
                        </a:moveTo>
                        <a:cubicBezTo>
                          <a:pt x="166" y="6"/>
                          <a:pt x="118" y="0"/>
                          <a:pt x="88" y="0"/>
                        </a:cubicBezTo>
                        <a:lnTo>
                          <a:pt x="0" y="8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2223"/>
                  <p:cNvSpPr/>
                  <p:nvPr/>
                </p:nvSpPr>
                <p:spPr>
                  <a:xfrm rot="17041800">
                    <a:off x="1944360" y="3913560"/>
                    <a:ext cx="28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8">
                        <a:moveTo>
                          <a:pt x="182" y="7"/>
                        </a:moveTo>
                        <a:cubicBezTo>
                          <a:pt x="166" y="6"/>
                          <a:pt x="118" y="0"/>
                          <a:pt x="88" y="0"/>
                        </a:cubicBez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79" name="Group 2236"/>
          <p:cNvGrpSpPr/>
          <p:nvPr/>
        </p:nvGrpSpPr>
        <p:grpSpPr>
          <a:xfrm>
            <a:off x="2302560" y="2814840"/>
            <a:ext cx="937440" cy="660240"/>
            <a:chOff x="2302560" y="2814840"/>
            <a:chExt cx="937440" cy="660240"/>
          </a:xfrm>
        </p:grpSpPr>
        <p:sp>
          <p:nvSpPr>
            <p:cNvPr id="1380" name="Freeform 2237"/>
            <p:cNvSpPr/>
            <p:nvPr/>
          </p:nvSpPr>
          <p:spPr>
            <a:xfrm rot="4151400">
              <a:off x="2897280" y="321984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1" name="Group 2238"/>
            <p:cNvGrpSpPr/>
            <p:nvPr/>
          </p:nvGrpSpPr>
          <p:grpSpPr>
            <a:xfrm>
              <a:off x="2302560" y="2814840"/>
              <a:ext cx="937440" cy="660240"/>
              <a:chOff x="2302560" y="2814840"/>
              <a:chExt cx="937440" cy="660240"/>
            </a:xfrm>
          </p:grpSpPr>
          <p:grpSp>
            <p:nvGrpSpPr>
              <p:cNvPr id="1382" name="Group 2239"/>
              <p:cNvGrpSpPr/>
              <p:nvPr/>
            </p:nvGrpSpPr>
            <p:grpSpPr>
              <a:xfrm>
                <a:off x="2302560" y="3110760"/>
                <a:ext cx="659880" cy="230760"/>
                <a:chOff x="2302560" y="3110760"/>
                <a:chExt cx="659880" cy="230760"/>
              </a:xfrm>
            </p:grpSpPr>
            <p:sp>
              <p:nvSpPr>
                <p:cNvPr id="1383" name="AutoShape 2240"/>
                <p:cNvSpPr/>
                <p:nvPr/>
              </p:nvSpPr>
              <p:spPr>
                <a:xfrm rot="4151400">
                  <a:off x="2863440" y="312732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2241"/>
                <p:cNvSpPr/>
                <p:nvPr/>
              </p:nvSpPr>
              <p:spPr>
                <a:xfrm rot="4151400">
                  <a:off x="2659320" y="301212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Oval 2242"/>
                <p:cNvSpPr/>
                <p:nvPr/>
              </p:nvSpPr>
              <p:spPr>
                <a:xfrm rot="4695000">
                  <a:off x="2378520" y="3203280"/>
                  <a:ext cx="45360" cy="192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6" name="Group 2243"/>
              <p:cNvGrpSpPr/>
              <p:nvPr/>
            </p:nvGrpSpPr>
            <p:grpSpPr>
              <a:xfrm>
                <a:off x="2647080" y="2814840"/>
                <a:ext cx="592920" cy="660240"/>
                <a:chOff x="2647080" y="2814840"/>
                <a:chExt cx="592920" cy="660240"/>
              </a:xfrm>
            </p:grpSpPr>
            <p:sp>
              <p:nvSpPr>
                <p:cNvPr id="1387" name="Freeform 2244"/>
                <p:cNvSpPr/>
                <p:nvPr/>
              </p:nvSpPr>
              <p:spPr>
                <a:xfrm rot="4151400">
                  <a:off x="2781720" y="3062160"/>
                  <a:ext cx="15840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2245"/>
                <p:cNvSpPr/>
                <p:nvPr/>
              </p:nvSpPr>
              <p:spPr>
                <a:xfrm rot="4151400">
                  <a:off x="2682720" y="3009600"/>
                  <a:ext cx="27288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2246"/>
                <p:cNvSpPr/>
                <p:nvPr/>
              </p:nvSpPr>
              <p:spPr>
                <a:xfrm rot="4151400">
                  <a:off x="2734560" y="2969640"/>
                  <a:ext cx="284040" cy="676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2247"/>
                <p:cNvSpPr/>
                <p:nvPr/>
              </p:nvSpPr>
              <p:spPr>
                <a:xfrm rot="4151400">
                  <a:off x="2739600" y="292356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2248"/>
                <p:cNvSpPr/>
                <p:nvPr/>
              </p:nvSpPr>
              <p:spPr>
                <a:xfrm rot="4151400">
                  <a:off x="2758680" y="292788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2249"/>
                <p:cNvSpPr/>
                <p:nvPr/>
              </p:nvSpPr>
              <p:spPr>
                <a:xfrm rot="4151400">
                  <a:off x="2774520" y="2955960"/>
                  <a:ext cx="284040" cy="1130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Freeform 2250"/>
                <p:cNvSpPr/>
                <p:nvPr/>
              </p:nvSpPr>
              <p:spPr>
                <a:xfrm rot="4151400">
                  <a:off x="2849760" y="2931840"/>
                  <a:ext cx="214560" cy="1807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2251"/>
                <p:cNvSpPr/>
                <p:nvPr/>
              </p:nvSpPr>
              <p:spPr>
                <a:xfrm rot="4151400">
                  <a:off x="2825640" y="292644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2252"/>
                <p:cNvSpPr/>
                <p:nvPr/>
              </p:nvSpPr>
              <p:spPr>
                <a:xfrm rot="4151400">
                  <a:off x="2805840" y="29703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2253"/>
                <p:cNvSpPr/>
                <p:nvPr/>
              </p:nvSpPr>
              <p:spPr>
                <a:xfrm rot="4151400">
                  <a:off x="2844000" y="2891520"/>
                  <a:ext cx="263160" cy="24480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2254"/>
                <p:cNvSpPr/>
                <p:nvPr/>
              </p:nvSpPr>
              <p:spPr>
                <a:xfrm flipV="1">
                  <a:off x="2890800" y="2930040"/>
                  <a:ext cx="164160" cy="2685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2255"/>
                <p:cNvSpPr/>
                <p:nvPr/>
              </p:nvSpPr>
              <p:spPr>
                <a:xfrm rot="4151400">
                  <a:off x="2895480" y="2945160"/>
                  <a:ext cx="159120" cy="249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2256"/>
                <p:cNvSpPr/>
                <p:nvPr/>
              </p:nvSpPr>
              <p:spPr>
                <a:xfrm rot="4151400">
                  <a:off x="2933280" y="2953080"/>
                  <a:ext cx="123120" cy="25632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2257"/>
                <p:cNvSpPr/>
                <p:nvPr/>
              </p:nvSpPr>
              <p:spPr>
                <a:xfrm rot="4151400">
                  <a:off x="2967840" y="2961360"/>
                  <a:ext cx="82440" cy="2714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2258"/>
                <p:cNvSpPr/>
                <p:nvPr/>
              </p:nvSpPr>
              <p:spPr>
                <a:xfrm rot="4151400">
                  <a:off x="2998080" y="298296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Freeform 2259"/>
                <p:cNvSpPr/>
                <p:nvPr/>
              </p:nvSpPr>
              <p:spPr>
                <a:xfrm rot="4151400">
                  <a:off x="3020040" y="2970720"/>
                  <a:ext cx="47520" cy="3146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2260"/>
                <p:cNvSpPr/>
                <p:nvPr/>
              </p:nvSpPr>
              <p:spPr>
                <a:xfrm rot="4151400">
                  <a:off x="3004200" y="301716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2261"/>
                <p:cNvSpPr/>
                <p:nvPr/>
              </p:nvSpPr>
              <p:spPr>
                <a:xfrm rot="4151400">
                  <a:off x="2986920" y="3070440"/>
                  <a:ext cx="79200" cy="237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2262"/>
                <p:cNvSpPr/>
                <p:nvPr/>
              </p:nvSpPr>
              <p:spPr>
                <a:xfrm rot="4151400">
                  <a:off x="2994120" y="3054600"/>
                  <a:ext cx="15912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Freeform 2263"/>
                <p:cNvSpPr/>
                <p:nvPr/>
              </p:nvSpPr>
              <p:spPr>
                <a:xfrm rot="4151400">
                  <a:off x="2948040" y="3110760"/>
                  <a:ext cx="20448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Freeform 2264"/>
                <p:cNvSpPr/>
                <p:nvPr/>
              </p:nvSpPr>
              <p:spPr>
                <a:xfrm rot="4151400">
                  <a:off x="2914200" y="3175200"/>
                  <a:ext cx="238320" cy="192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2265"/>
                <p:cNvSpPr/>
                <p:nvPr/>
              </p:nvSpPr>
              <p:spPr>
                <a:xfrm rot="4151400">
                  <a:off x="2886840" y="321444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Freeform 2266"/>
                <p:cNvSpPr/>
                <p:nvPr/>
              </p:nvSpPr>
              <p:spPr>
                <a:xfrm rot="4151400">
                  <a:off x="2854080" y="3218760"/>
                  <a:ext cx="31824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Freeform 2267"/>
                <p:cNvSpPr/>
                <p:nvPr/>
              </p:nvSpPr>
              <p:spPr>
                <a:xfrm rot="4151400">
                  <a:off x="2817720" y="326952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Freeform 2268"/>
                <p:cNvSpPr/>
                <p:nvPr/>
              </p:nvSpPr>
              <p:spPr>
                <a:xfrm rot="4151400">
                  <a:off x="2826720" y="324108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Freeform 2269"/>
                <p:cNvSpPr/>
                <p:nvPr/>
              </p:nvSpPr>
              <p:spPr>
                <a:xfrm rot="4151400">
                  <a:off x="2810520" y="3202200"/>
                  <a:ext cx="90720" cy="676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Freeform 2270"/>
                <p:cNvSpPr/>
                <p:nvPr/>
              </p:nvSpPr>
              <p:spPr>
                <a:xfrm rot="4151400">
                  <a:off x="2810880" y="317664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Freeform 2271"/>
                <p:cNvSpPr/>
                <p:nvPr/>
              </p:nvSpPr>
              <p:spPr>
                <a:xfrm rot="4151400">
                  <a:off x="2751840" y="305316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Freeform 2272"/>
                <p:cNvSpPr/>
                <p:nvPr/>
              </p:nvSpPr>
              <p:spPr>
                <a:xfrm rot="4151400">
                  <a:off x="2817360" y="328572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Freeform 2273"/>
                <p:cNvSpPr/>
                <p:nvPr/>
              </p:nvSpPr>
              <p:spPr>
                <a:xfrm rot="4151400">
                  <a:off x="2788200" y="3222720"/>
                  <a:ext cx="15912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Freeform 2274"/>
                <p:cNvSpPr/>
                <p:nvPr/>
              </p:nvSpPr>
              <p:spPr>
                <a:xfrm rot="4151400">
                  <a:off x="3011760" y="3000600"/>
                  <a:ext cx="8640" cy="2606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Freeform 2275"/>
                <p:cNvSpPr/>
                <p:nvPr/>
              </p:nvSpPr>
              <p:spPr>
                <a:xfrm rot="4151400">
                  <a:off x="2756880" y="306468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Freeform 2276"/>
                <p:cNvSpPr/>
                <p:nvPr/>
              </p:nvSpPr>
              <p:spPr>
                <a:xfrm rot="4151400">
                  <a:off x="2702160" y="3053160"/>
                  <a:ext cx="124560" cy="2041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Freeform 2277"/>
                <p:cNvSpPr/>
                <p:nvPr/>
              </p:nvSpPr>
              <p:spPr>
                <a:xfrm rot="4151400">
                  <a:off x="2770560" y="317484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Freeform 2278"/>
                <p:cNvSpPr/>
                <p:nvPr/>
              </p:nvSpPr>
              <p:spPr>
                <a:xfrm rot="4832400">
                  <a:off x="2886840" y="324900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Freeform 2279"/>
                <p:cNvSpPr/>
                <p:nvPr/>
              </p:nvSpPr>
              <p:spPr>
                <a:xfrm rot="4151400">
                  <a:off x="2955960" y="3082320"/>
                  <a:ext cx="6840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3" name="Group 2280"/>
          <p:cNvGrpSpPr/>
          <p:nvPr/>
        </p:nvGrpSpPr>
        <p:grpSpPr>
          <a:xfrm>
            <a:off x="1232640" y="3228840"/>
            <a:ext cx="929160" cy="649440"/>
            <a:chOff x="1232640" y="3228840"/>
            <a:chExt cx="929160" cy="649440"/>
          </a:xfrm>
        </p:grpSpPr>
        <p:sp>
          <p:nvSpPr>
            <p:cNvPr id="1424" name="Freeform 2281"/>
            <p:cNvSpPr/>
            <p:nvPr/>
          </p:nvSpPr>
          <p:spPr>
            <a:xfrm rot="14691600">
              <a:off x="1471320" y="345672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5" name="Group 2282"/>
            <p:cNvGrpSpPr/>
            <p:nvPr/>
          </p:nvGrpSpPr>
          <p:grpSpPr>
            <a:xfrm>
              <a:off x="1232640" y="3228840"/>
              <a:ext cx="929160" cy="649440"/>
              <a:chOff x="1232640" y="3228840"/>
              <a:chExt cx="929160" cy="649440"/>
            </a:xfrm>
          </p:grpSpPr>
          <p:grpSp>
            <p:nvGrpSpPr>
              <p:cNvPr id="1426" name="Group 2283"/>
              <p:cNvGrpSpPr/>
              <p:nvPr/>
            </p:nvGrpSpPr>
            <p:grpSpPr>
              <a:xfrm>
                <a:off x="1511640" y="3310200"/>
                <a:ext cx="650160" cy="276840"/>
                <a:chOff x="1511640" y="3310200"/>
                <a:chExt cx="650160" cy="276840"/>
              </a:xfrm>
            </p:grpSpPr>
            <p:sp>
              <p:nvSpPr>
                <p:cNvPr id="1427" name="AutoShape 2284"/>
                <p:cNvSpPr/>
                <p:nvPr/>
              </p:nvSpPr>
              <p:spPr>
                <a:xfrm rot="14691600">
                  <a:off x="1521360" y="348948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2285"/>
                <p:cNvSpPr/>
                <p:nvPr/>
              </p:nvSpPr>
              <p:spPr>
                <a:xfrm rot="14691600">
                  <a:off x="1764720" y="323316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Oval 2286"/>
                <p:cNvSpPr/>
                <p:nvPr/>
              </p:nvSpPr>
              <p:spPr>
                <a:xfrm rot="15235800">
                  <a:off x="2040120" y="326196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0" name="Group 2287"/>
              <p:cNvGrpSpPr/>
              <p:nvPr/>
            </p:nvGrpSpPr>
            <p:grpSpPr>
              <a:xfrm>
                <a:off x="1232640" y="3228840"/>
                <a:ext cx="597960" cy="649440"/>
                <a:chOff x="1232640" y="3228840"/>
                <a:chExt cx="597960" cy="649440"/>
              </a:xfrm>
            </p:grpSpPr>
            <p:sp>
              <p:nvSpPr>
                <p:cNvPr id="1431" name="Freeform 2288"/>
                <p:cNvSpPr/>
                <p:nvPr/>
              </p:nvSpPr>
              <p:spPr>
                <a:xfrm rot="14691600">
                  <a:off x="1540800" y="355428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Freeform 2289"/>
                <p:cNvSpPr/>
                <p:nvPr/>
              </p:nvSpPr>
              <p:spPr>
                <a:xfrm rot="14691600">
                  <a:off x="1529640" y="361152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Freeform 2290"/>
                <p:cNvSpPr/>
                <p:nvPr/>
              </p:nvSpPr>
              <p:spPr>
                <a:xfrm rot="14691600">
                  <a:off x="1468800" y="3655800"/>
                  <a:ext cx="284040" cy="676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Freeform 2291"/>
                <p:cNvSpPr/>
                <p:nvPr/>
              </p:nvSpPr>
              <p:spPr>
                <a:xfrm rot="14691600">
                  <a:off x="1455120" y="367956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Freeform 2292"/>
                <p:cNvSpPr/>
                <p:nvPr/>
              </p:nvSpPr>
              <p:spPr>
                <a:xfrm rot="14691600">
                  <a:off x="1436760" y="365220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Freeform 2293"/>
                <p:cNvSpPr/>
                <p:nvPr/>
              </p:nvSpPr>
              <p:spPr>
                <a:xfrm rot="14691600">
                  <a:off x="1428840" y="3627360"/>
                  <a:ext cx="284040" cy="1130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Freeform 2294"/>
                <p:cNvSpPr/>
                <p:nvPr/>
              </p:nvSpPr>
              <p:spPr>
                <a:xfrm rot="14691600">
                  <a:off x="1422720" y="3586680"/>
                  <a:ext cx="214200" cy="1807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Freeform 2295"/>
                <p:cNvSpPr/>
                <p:nvPr/>
              </p:nvSpPr>
              <p:spPr>
                <a:xfrm rot="14691600">
                  <a:off x="1412640" y="36136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9" name="Freeform 2296"/>
                <p:cNvSpPr/>
                <p:nvPr/>
              </p:nvSpPr>
              <p:spPr>
                <a:xfrm rot="14691600">
                  <a:off x="1429200" y="356832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Freeform 2297"/>
                <p:cNvSpPr/>
                <p:nvPr/>
              </p:nvSpPr>
              <p:spPr>
                <a:xfrm rot="14691600">
                  <a:off x="1380240" y="3564360"/>
                  <a:ext cx="262800" cy="24480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Line 2298"/>
                <p:cNvSpPr/>
                <p:nvPr/>
              </p:nvSpPr>
              <p:spPr>
                <a:xfrm flipH="1">
                  <a:off x="1439280" y="3496680"/>
                  <a:ext cx="143640" cy="2804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Freeform 2299"/>
                <p:cNvSpPr/>
                <p:nvPr/>
              </p:nvSpPr>
              <p:spPr>
                <a:xfrm rot="14691600">
                  <a:off x="1429200" y="3506760"/>
                  <a:ext cx="158760" cy="249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Freeform 2300"/>
                <p:cNvSpPr/>
                <p:nvPr/>
              </p:nvSpPr>
              <p:spPr>
                <a:xfrm rot="14691600">
                  <a:off x="1425600" y="3492720"/>
                  <a:ext cx="123120" cy="25632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Freeform 2301"/>
                <p:cNvSpPr/>
                <p:nvPr/>
              </p:nvSpPr>
              <p:spPr>
                <a:xfrm rot="14691600">
                  <a:off x="1430640" y="3470400"/>
                  <a:ext cx="82440" cy="2714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Freeform 2302"/>
                <p:cNvSpPr/>
                <p:nvPr/>
              </p:nvSpPr>
              <p:spPr>
                <a:xfrm rot="14691600">
                  <a:off x="1439640" y="343116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Freeform 2303"/>
                <p:cNvSpPr/>
                <p:nvPr/>
              </p:nvSpPr>
              <p:spPr>
                <a:xfrm rot="14691600">
                  <a:off x="1410840" y="3420360"/>
                  <a:ext cx="47520" cy="3146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Freeform 2304"/>
                <p:cNvSpPr/>
                <p:nvPr/>
              </p:nvSpPr>
              <p:spPr>
                <a:xfrm rot="14691600">
                  <a:off x="1427040" y="340416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Freeform 2305"/>
                <p:cNvSpPr/>
                <p:nvPr/>
              </p:nvSpPr>
              <p:spPr>
                <a:xfrm rot="14691600">
                  <a:off x="1408320" y="3396600"/>
                  <a:ext cx="79200" cy="237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Freeform 2306"/>
                <p:cNvSpPr/>
                <p:nvPr/>
              </p:nvSpPr>
              <p:spPr>
                <a:xfrm rot="14691600">
                  <a:off x="1320120" y="335916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Freeform 2307"/>
                <p:cNvSpPr/>
                <p:nvPr/>
              </p:nvSpPr>
              <p:spPr>
                <a:xfrm rot="14691600">
                  <a:off x="1318680" y="334692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Freeform 2308"/>
                <p:cNvSpPr/>
                <p:nvPr/>
              </p:nvSpPr>
              <p:spPr>
                <a:xfrm rot="14691600">
                  <a:off x="1315440" y="3337560"/>
                  <a:ext cx="238320" cy="192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Freeform 2309"/>
                <p:cNvSpPr/>
                <p:nvPr/>
              </p:nvSpPr>
              <p:spPr>
                <a:xfrm rot="14691600">
                  <a:off x="1306800" y="333180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Freeform 2310"/>
                <p:cNvSpPr/>
                <p:nvPr/>
              </p:nvSpPr>
              <p:spPr>
                <a:xfrm rot="14691600">
                  <a:off x="1293840" y="332712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Freeform 2311"/>
                <p:cNvSpPr/>
                <p:nvPr/>
              </p:nvSpPr>
              <p:spPr>
                <a:xfrm rot="14691600">
                  <a:off x="1455120" y="340596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Freeform 2312"/>
                <p:cNvSpPr/>
                <p:nvPr/>
              </p:nvSpPr>
              <p:spPr>
                <a:xfrm rot="14691600">
                  <a:off x="1505520" y="342072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Freeform 2313"/>
                <p:cNvSpPr/>
                <p:nvPr/>
              </p:nvSpPr>
              <p:spPr>
                <a:xfrm rot="14691600">
                  <a:off x="1568880" y="3422520"/>
                  <a:ext cx="90720" cy="676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Freeform 2314"/>
                <p:cNvSpPr/>
                <p:nvPr/>
              </p:nvSpPr>
              <p:spPr>
                <a:xfrm rot="14691600">
                  <a:off x="1596240" y="343836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Freeform 2315"/>
                <p:cNvSpPr/>
                <p:nvPr/>
              </p:nvSpPr>
              <p:spPr>
                <a:xfrm rot="14691600">
                  <a:off x="1504800" y="362124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Freeform 2316"/>
                <p:cNvSpPr/>
                <p:nvPr/>
              </p:nvSpPr>
              <p:spPr>
                <a:xfrm rot="14691600">
                  <a:off x="1421640" y="339840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Freeform 2317"/>
                <p:cNvSpPr/>
                <p:nvPr/>
              </p:nvSpPr>
              <p:spPr>
                <a:xfrm rot="14691600">
                  <a:off x="1520280" y="338004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Freeform 2318"/>
                <p:cNvSpPr/>
                <p:nvPr/>
              </p:nvSpPr>
              <p:spPr>
                <a:xfrm rot="14691600">
                  <a:off x="1458000" y="3442680"/>
                  <a:ext cx="8640" cy="2606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Freeform 2319"/>
                <p:cNvSpPr/>
                <p:nvPr/>
              </p:nvSpPr>
              <p:spPr>
                <a:xfrm rot="14691600">
                  <a:off x="1584360" y="347724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Freeform 2320"/>
                <p:cNvSpPr/>
                <p:nvPr/>
              </p:nvSpPr>
              <p:spPr>
                <a:xfrm rot="14691600">
                  <a:off x="1649520" y="3428280"/>
                  <a:ext cx="124560" cy="2041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Freeform 2321"/>
                <p:cNvSpPr/>
                <p:nvPr/>
              </p:nvSpPr>
              <p:spPr>
                <a:xfrm rot="14691600">
                  <a:off x="1618200" y="334440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Freeform 2322"/>
                <p:cNvSpPr/>
                <p:nvPr/>
              </p:nvSpPr>
              <p:spPr>
                <a:xfrm rot="15373200">
                  <a:off x="1479600" y="342756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2323"/>
                <p:cNvSpPr/>
                <p:nvPr/>
              </p:nvSpPr>
              <p:spPr>
                <a:xfrm rot="14691600">
                  <a:off x="1451520" y="343836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67" name="Group 2324"/>
          <p:cNvGrpSpPr/>
          <p:nvPr/>
        </p:nvGrpSpPr>
        <p:grpSpPr>
          <a:xfrm>
            <a:off x="2269800" y="3297600"/>
            <a:ext cx="881640" cy="667440"/>
            <a:chOff x="2269800" y="3297600"/>
            <a:chExt cx="881640" cy="667440"/>
          </a:xfrm>
        </p:grpSpPr>
        <p:sp>
          <p:nvSpPr>
            <p:cNvPr id="1468" name="Freeform 2325"/>
            <p:cNvSpPr/>
            <p:nvPr/>
          </p:nvSpPr>
          <p:spPr>
            <a:xfrm rot="6368400">
              <a:off x="2793600" y="368712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9" name="Group 2326"/>
            <p:cNvGrpSpPr/>
            <p:nvPr/>
          </p:nvGrpSpPr>
          <p:grpSpPr>
            <a:xfrm>
              <a:off x="2269800" y="3297600"/>
              <a:ext cx="881640" cy="667440"/>
              <a:chOff x="2269800" y="3297600"/>
              <a:chExt cx="881640" cy="667440"/>
            </a:xfrm>
          </p:grpSpPr>
          <p:grpSp>
            <p:nvGrpSpPr>
              <p:cNvPr id="1470" name="Group 2327"/>
              <p:cNvGrpSpPr/>
              <p:nvPr/>
            </p:nvGrpSpPr>
            <p:grpSpPr>
              <a:xfrm>
                <a:off x="2269800" y="3362400"/>
                <a:ext cx="632880" cy="315360"/>
                <a:chOff x="2269800" y="3362400"/>
                <a:chExt cx="632880" cy="315360"/>
              </a:xfrm>
            </p:grpSpPr>
            <p:sp>
              <p:nvSpPr>
                <p:cNvPr id="1471" name="AutoShape 2328"/>
                <p:cNvSpPr/>
                <p:nvPr/>
              </p:nvSpPr>
              <p:spPr>
                <a:xfrm rot="6368400">
                  <a:off x="2806560" y="358344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Freeform 2329"/>
                <p:cNvSpPr/>
                <p:nvPr/>
              </p:nvSpPr>
              <p:spPr>
                <a:xfrm rot="6368400">
                  <a:off x="2610720" y="331992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Oval 2330"/>
                <p:cNvSpPr/>
                <p:nvPr/>
              </p:nvSpPr>
              <p:spPr>
                <a:xfrm rot="6912600">
                  <a:off x="2343960" y="332748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4" name="Group 2331"/>
              <p:cNvGrpSpPr/>
              <p:nvPr/>
            </p:nvGrpSpPr>
            <p:grpSpPr>
              <a:xfrm>
                <a:off x="2624760" y="3297600"/>
                <a:ext cx="526680" cy="667440"/>
                <a:chOff x="2624760" y="3297600"/>
                <a:chExt cx="526680" cy="667440"/>
              </a:xfrm>
            </p:grpSpPr>
            <p:sp>
              <p:nvSpPr>
                <p:cNvPr id="1475" name="Freeform 2332"/>
                <p:cNvSpPr/>
                <p:nvPr/>
              </p:nvSpPr>
              <p:spPr>
                <a:xfrm rot="6368400">
                  <a:off x="2774880" y="350280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Freeform 2333"/>
                <p:cNvSpPr/>
                <p:nvPr/>
              </p:nvSpPr>
              <p:spPr>
                <a:xfrm rot="6368400">
                  <a:off x="2718360" y="343584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Freeform 2334"/>
                <p:cNvSpPr/>
                <p:nvPr/>
              </p:nvSpPr>
              <p:spPr>
                <a:xfrm rot="6368400">
                  <a:off x="2782800" y="3439080"/>
                  <a:ext cx="284040" cy="676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Freeform 2335"/>
                <p:cNvSpPr/>
                <p:nvPr/>
              </p:nvSpPr>
              <p:spPr>
                <a:xfrm rot="6368400">
                  <a:off x="2806200" y="340668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Freeform 2336"/>
                <p:cNvSpPr/>
                <p:nvPr/>
              </p:nvSpPr>
              <p:spPr>
                <a:xfrm rot="6368400">
                  <a:off x="2811240" y="341820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Freeform 2337"/>
                <p:cNvSpPr/>
                <p:nvPr/>
              </p:nvSpPr>
              <p:spPr>
                <a:xfrm rot="6368400">
                  <a:off x="2809080" y="3447360"/>
                  <a:ext cx="284040" cy="1130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Freeform 2338"/>
                <p:cNvSpPr/>
                <p:nvPr/>
              </p:nvSpPr>
              <p:spPr>
                <a:xfrm rot="6368400">
                  <a:off x="2869920" y="3445560"/>
                  <a:ext cx="214200" cy="1807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Freeform 2339"/>
                <p:cNvSpPr/>
                <p:nvPr/>
              </p:nvSpPr>
              <p:spPr>
                <a:xfrm rot="6368400">
                  <a:off x="2856960" y="343980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Freeform 2340"/>
                <p:cNvSpPr/>
                <p:nvPr/>
              </p:nvSpPr>
              <p:spPr>
                <a:xfrm rot="6368400">
                  <a:off x="2814840" y="346284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Freeform 2341"/>
                <p:cNvSpPr/>
                <p:nvPr/>
              </p:nvSpPr>
              <p:spPr>
                <a:xfrm rot="6368400">
                  <a:off x="2865600" y="3418560"/>
                  <a:ext cx="262800" cy="24480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Line 2342"/>
                <p:cNvSpPr/>
                <p:nvPr/>
              </p:nvSpPr>
              <p:spPr>
                <a:xfrm flipV="1">
                  <a:off x="2818440" y="3521160"/>
                  <a:ext cx="293040" cy="1159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Freeform 2343"/>
                <p:cNvSpPr/>
                <p:nvPr/>
              </p:nvSpPr>
              <p:spPr>
                <a:xfrm rot="6368400">
                  <a:off x="2883600" y="3459960"/>
                  <a:ext cx="158760" cy="249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Freeform 2344"/>
                <p:cNvSpPr/>
                <p:nvPr/>
              </p:nvSpPr>
              <p:spPr>
                <a:xfrm rot="6368400">
                  <a:off x="2910960" y="3478320"/>
                  <a:ext cx="123120" cy="25632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Freeform 2345"/>
                <p:cNvSpPr/>
                <p:nvPr/>
              </p:nvSpPr>
              <p:spPr>
                <a:xfrm rot="6368400">
                  <a:off x="2932560" y="3492360"/>
                  <a:ext cx="82440" cy="2714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Freeform 2346"/>
                <p:cNvSpPr/>
                <p:nvPr/>
              </p:nvSpPr>
              <p:spPr>
                <a:xfrm rot="6368400">
                  <a:off x="2942640" y="351288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Freeform 2347"/>
                <p:cNvSpPr/>
                <p:nvPr/>
              </p:nvSpPr>
              <p:spPr>
                <a:xfrm rot="6368400">
                  <a:off x="2959200" y="3516120"/>
                  <a:ext cx="47520" cy="3146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Freeform 2348"/>
                <p:cNvSpPr/>
                <p:nvPr/>
              </p:nvSpPr>
              <p:spPr>
                <a:xfrm rot="6368400">
                  <a:off x="2928600" y="354564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Freeform 2349"/>
                <p:cNvSpPr/>
                <p:nvPr/>
              </p:nvSpPr>
              <p:spPr>
                <a:xfrm rot="6368400">
                  <a:off x="2892600" y="3592800"/>
                  <a:ext cx="79200" cy="237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Freeform 2350"/>
                <p:cNvSpPr/>
                <p:nvPr/>
              </p:nvSpPr>
              <p:spPr>
                <a:xfrm rot="6368400">
                  <a:off x="2883240" y="360288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Freeform 2351"/>
                <p:cNvSpPr/>
                <p:nvPr/>
              </p:nvSpPr>
              <p:spPr>
                <a:xfrm rot="6368400">
                  <a:off x="2821320" y="363780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Freeform 2352"/>
                <p:cNvSpPr/>
                <p:nvPr/>
              </p:nvSpPr>
              <p:spPr>
                <a:xfrm rot="6368400">
                  <a:off x="2769480" y="3685680"/>
                  <a:ext cx="238320" cy="192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2353"/>
                <p:cNvSpPr/>
                <p:nvPr/>
              </p:nvSpPr>
              <p:spPr>
                <a:xfrm rot="6368400">
                  <a:off x="2730960" y="371376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Freeform 2354"/>
                <p:cNvSpPr/>
                <p:nvPr/>
              </p:nvSpPr>
              <p:spPr>
                <a:xfrm rot="6368400">
                  <a:off x="2697480" y="371088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Freeform 2355"/>
                <p:cNvSpPr/>
                <p:nvPr/>
              </p:nvSpPr>
              <p:spPr>
                <a:xfrm rot="6368400">
                  <a:off x="2691720" y="370620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Freeform 2356"/>
                <p:cNvSpPr/>
                <p:nvPr/>
              </p:nvSpPr>
              <p:spPr>
                <a:xfrm rot="6368400">
                  <a:off x="2718000" y="367056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Freeform 2357"/>
                <p:cNvSpPr/>
                <p:nvPr/>
              </p:nvSpPr>
              <p:spPr>
                <a:xfrm rot="6368400">
                  <a:off x="2722680" y="3612600"/>
                  <a:ext cx="90720" cy="676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Freeform 2358"/>
                <p:cNvSpPr/>
                <p:nvPr/>
              </p:nvSpPr>
              <p:spPr>
                <a:xfrm rot="6368400">
                  <a:off x="2738520" y="358344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Freeform 2359"/>
                <p:cNvSpPr/>
                <p:nvPr/>
              </p:nvSpPr>
              <p:spPr>
                <a:xfrm rot="6368400">
                  <a:off x="2766600" y="350424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Freeform 2360"/>
                <p:cNvSpPr/>
                <p:nvPr/>
              </p:nvSpPr>
              <p:spPr>
                <a:xfrm rot="6368400">
                  <a:off x="2680560" y="372996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Freeform 2361"/>
                <p:cNvSpPr/>
                <p:nvPr/>
              </p:nvSpPr>
              <p:spPr>
                <a:xfrm rot="6368400">
                  <a:off x="2679480" y="363348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2362"/>
                <p:cNvSpPr/>
                <p:nvPr/>
              </p:nvSpPr>
              <p:spPr>
                <a:xfrm rot="6368400">
                  <a:off x="2954880" y="3528720"/>
                  <a:ext cx="8640" cy="2606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Freeform 2363"/>
                <p:cNvSpPr/>
                <p:nvPr/>
              </p:nvSpPr>
              <p:spPr>
                <a:xfrm rot="6368400">
                  <a:off x="2733840" y="347616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Freeform 2364"/>
                <p:cNvSpPr/>
                <p:nvPr/>
              </p:nvSpPr>
              <p:spPr>
                <a:xfrm rot="6368400">
                  <a:off x="2681280" y="3424320"/>
                  <a:ext cx="124560" cy="2041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Freeform 2365"/>
                <p:cNvSpPr/>
                <p:nvPr/>
              </p:nvSpPr>
              <p:spPr>
                <a:xfrm rot="6368400">
                  <a:off x="2677680" y="355284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Freeform 2366"/>
                <p:cNvSpPr/>
                <p:nvPr/>
              </p:nvSpPr>
              <p:spPr>
                <a:xfrm rot="7049400">
                  <a:off x="2768040" y="370332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Freeform 2367"/>
                <p:cNvSpPr/>
                <p:nvPr/>
              </p:nvSpPr>
              <p:spPr>
                <a:xfrm rot="6368400">
                  <a:off x="2879280" y="358560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11" name="Group 2368"/>
          <p:cNvGrpSpPr/>
          <p:nvPr/>
        </p:nvGrpSpPr>
        <p:grpSpPr>
          <a:xfrm>
            <a:off x="1310760" y="3378960"/>
            <a:ext cx="800640" cy="779400"/>
            <a:chOff x="1310760" y="3378960"/>
            <a:chExt cx="800640" cy="779400"/>
          </a:xfrm>
        </p:grpSpPr>
        <p:sp>
          <p:nvSpPr>
            <p:cNvPr id="1512" name="Freeform 2369"/>
            <p:cNvSpPr/>
            <p:nvPr/>
          </p:nvSpPr>
          <p:spPr>
            <a:xfrm rot="13275600">
              <a:off x="1519560" y="376344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3" name="Group 2370"/>
            <p:cNvGrpSpPr/>
            <p:nvPr/>
          </p:nvGrpSpPr>
          <p:grpSpPr>
            <a:xfrm>
              <a:off x="1310760" y="3378960"/>
              <a:ext cx="800640" cy="779400"/>
              <a:chOff x="1310760" y="3378960"/>
              <a:chExt cx="800640" cy="779400"/>
            </a:xfrm>
          </p:grpSpPr>
          <p:grpSp>
            <p:nvGrpSpPr>
              <p:cNvPr id="1514" name="Group 2371"/>
              <p:cNvGrpSpPr/>
              <p:nvPr/>
            </p:nvGrpSpPr>
            <p:grpSpPr>
              <a:xfrm>
                <a:off x="1576080" y="3378960"/>
                <a:ext cx="535320" cy="493920"/>
                <a:chOff x="1576080" y="3378960"/>
                <a:chExt cx="535320" cy="493920"/>
              </a:xfrm>
            </p:grpSpPr>
            <p:sp>
              <p:nvSpPr>
                <p:cNvPr id="1515" name="AutoShape 2372"/>
                <p:cNvSpPr/>
                <p:nvPr/>
              </p:nvSpPr>
              <p:spPr>
                <a:xfrm rot="13275600">
                  <a:off x="1590480" y="377352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Freeform 2373"/>
                <p:cNvSpPr/>
                <p:nvPr/>
              </p:nvSpPr>
              <p:spPr>
                <a:xfrm rot="13275600">
                  <a:off x="1783800" y="343512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Oval 2374"/>
                <p:cNvSpPr/>
                <p:nvPr/>
              </p:nvSpPr>
              <p:spPr>
                <a:xfrm rot="13819200">
                  <a:off x="1999800" y="336168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8" name="Group 2375"/>
              <p:cNvGrpSpPr/>
              <p:nvPr/>
            </p:nvGrpSpPr>
            <p:grpSpPr>
              <a:xfrm>
                <a:off x="1310760" y="3581640"/>
                <a:ext cx="587880" cy="576720"/>
                <a:chOff x="1310760" y="3581640"/>
                <a:chExt cx="587880" cy="576720"/>
              </a:xfrm>
            </p:grpSpPr>
            <p:sp>
              <p:nvSpPr>
                <p:cNvPr id="1519" name="Freeform 2376"/>
                <p:cNvSpPr/>
                <p:nvPr/>
              </p:nvSpPr>
              <p:spPr>
                <a:xfrm rot="13275600">
                  <a:off x="1630800" y="381168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Freeform 2377"/>
                <p:cNvSpPr/>
                <p:nvPr/>
              </p:nvSpPr>
              <p:spPr>
                <a:xfrm rot="13275600">
                  <a:off x="1637280" y="384588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Freeform 2378"/>
                <p:cNvSpPr/>
                <p:nvPr/>
              </p:nvSpPr>
              <p:spPr>
                <a:xfrm rot="13275600">
                  <a:off x="1598760" y="3908520"/>
                  <a:ext cx="284040" cy="676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Freeform 2379"/>
                <p:cNvSpPr/>
                <p:nvPr/>
              </p:nvSpPr>
              <p:spPr>
                <a:xfrm rot="13275600">
                  <a:off x="1599840" y="393264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2380"/>
                <p:cNvSpPr/>
                <p:nvPr/>
              </p:nvSpPr>
              <p:spPr>
                <a:xfrm rot="13275600">
                  <a:off x="1577160" y="391392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Freeform 2381"/>
                <p:cNvSpPr/>
                <p:nvPr/>
              </p:nvSpPr>
              <p:spPr>
                <a:xfrm rot="13275600">
                  <a:off x="1559880" y="3896280"/>
                  <a:ext cx="284040" cy="1130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Freeform 2382"/>
                <p:cNvSpPr/>
                <p:nvPr/>
              </p:nvSpPr>
              <p:spPr>
                <a:xfrm rot="13275600">
                  <a:off x="1554480" y="3872880"/>
                  <a:ext cx="214200" cy="1807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Freeform 2383"/>
                <p:cNvSpPr/>
                <p:nvPr/>
              </p:nvSpPr>
              <p:spPr>
                <a:xfrm rot="13275600">
                  <a:off x="1549800" y="389520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Freeform 2384"/>
                <p:cNvSpPr/>
                <p:nvPr/>
              </p:nvSpPr>
              <p:spPr>
                <a:xfrm rot="13275600">
                  <a:off x="1546920" y="384732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Freeform 2385"/>
                <p:cNvSpPr/>
                <p:nvPr/>
              </p:nvSpPr>
              <p:spPr>
                <a:xfrm rot="13275600">
                  <a:off x="1517400" y="3857040"/>
                  <a:ext cx="262800" cy="24480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Line 2386"/>
                <p:cNvSpPr/>
                <p:nvPr/>
              </p:nvSpPr>
              <p:spPr>
                <a:xfrm flipH="1">
                  <a:off x="1618560" y="3776760"/>
                  <a:ext cx="19080" cy="3146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Freeform 2387"/>
                <p:cNvSpPr/>
                <p:nvPr/>
              </p:nvSpPr>
              <p:spPr>
                <a:xfrm rot="13275600">
                  <a:off x="1544040" y="3805200"/>
                  <a:ext cx="158760" cy="249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2388"/>
                <p:cNvSpPr/>
                <p:nvPr/>
              </p:nvSpPr>
              <p:spPr>
                <a:xfrm rot="13275600">
                  <a:off x="1538640" y="3800880"/>
                  <a:ext cx="123120" cy="25632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Freeform 2389"/>
                <p:cNvSpPr/>
                <p:nvPr/>
              </p:nvSpPr>
              <p:spPr>
                <a:xfrm rot="13275600">
                  <a:off x="1538640" y="3785760"/>
                  <a:ext cx="82440" cy="2714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2390"/>
                <p:cNvSpPr/>
                <p:nvPr/>
              </p:nvSpPr>
              <p:spPr>
                <a:xfrm rot="13275600">
                  <a:off x="1536480" y="375372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2391"/>
                <p:cNvSpPr/>
                <p:nvPr/>
              </p:nvSpPr>
              <p:spPr>
                <a:xfrm rot="13275600">
                  <a:off x="1510920" y="3753000"/>
                  <a:ext cx="47520" cy="3146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2392"/>
                <p:cNvSpPr/>
                <p:nvPr/>
              </p:nvSpPr>
              <p:spPr>
                <a:xfrm rot="13275600">
                  <a:off x="1513080" y="373320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Freeform 2393"/>
                <p:cNvSpPr/>
                <p:nvPr/>
              </p:nvSpPr>
              <p:spPr>
                <a:xfrm rot="13275600">
                  <a:off x="1482120" y="3728880"/>
                  <a:ext cx="79200" cy="237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Freeform 2394"/>
                <p:cNvSpPr/>
                <p:nvPr/>
              </p:nvSpPr>
              <p:spPr>
                <a:xfrm rot="13275600">
                  <a:off x="1394280" y="371196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Freeform 2395"/>
                <p:cNvSpPr/>
                <p:nvPr/>
              </p:nvSpPr>
              <p:spPr>
                <a:xfrm rot="13275600">
                  <a:off x="1377000" y="369396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Freeform 2396"/>
                <p:cNvSpPr/>
                <p:nvPr/>
              </p:nvSpPr>
              <p:spPr>
                <a:xfrm rot="13275600">
                  <a:off x="1357560" y="3682440"/>
                  <a:ext cx="238320" cy="192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Freeform 2397"/>
                <p:cNvSpPr/>
                <p:nvPr/>
              </p:nvSpPr>
              <p:spPr>
                <a:xfrm rot="13275600">
                  <a:off x="1339200" y="367488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Freeform 2398"/>
                <p:cNvSpPr/>
                <p:nvPr/>
              </p:nvSpPr>
              <p:spPr>
                <a:xfrm rot="13275600">
                  <a:off x="1323720" y="366660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2399"/>
                <p:cNvSpPr/>
                <p:nvPr/>
              </p:nvSpPr>
              <p:spPr>
                <a:xfrm rot="13275600">
                  <a:off x="1480320" y="370512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Freeform 2400"/>
                <p:cNvSpPr/>
                <p:nvPr/>
              </p:nvSpPr>
              <p:spPr>
                <a:xfrm rot="13275600">
                  <a:off x="1537920" y="370908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Freeform 2401"/>
                <p:cNvSpPr/>
                <p:nvPr/>
              </p:nvSpPr>
              <p:spPr>
                <a:xfrm rot="13275600">
                  <a:off x="1605240" y="3693240"/>
                  <a:ext cx="90720" cy="676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Freeform 2402"/>
                <p:cNvSpPr/>
                <p:nvPr/>
              </p:nvSpPr>
              <p:spPr>
                <a:xfrm rot="13275600">
                  <a:off x="1639440" y="370152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Freeform 2403"/>
                <p:cNvSpPr/>
                <p:nvPr/>
              </p:nvSpPr>
              <p:spPr>
                <a:xfrm rot="13275600">
                  <a:off x="1609920" y="387612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Freeform 2404"/>
                <p:cNvSpPr/>
                <p:nvPr/>
              </p:nvSpPr>
              <p:spPr>
                <a:xfrm rot="13275600">
                  <a:off x="1443600" y="370512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2405"/>
                <p:cNvSpPr/>
                <p:nvPr/>
              </p:nvSpPr>
              <p:spPr>
                <a:xfrm rot="13275600">
                  <a:off x="1545480" y="365904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Freeform 2406"/>
                <p:cNvSpPr/>
                <p:nvPr/>
              </p:nvSpPr>
              <p:spPr>
                <a:xfrm rot="13275600">
                  <a:off x="1553400" y="3764160"/>
                  <a:ext cx="8640" cy="2606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Freeform 2407"/>
                <p:cNvSpPr/>
                <p:nvPr/>
              </p:nvSpPr>
              <p:spPr>
                <a:xfrm rot="13275600">
                  <a:off x="1655640" y="372492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2408"/>
                <p:cNvSpPr/>
                <p:nvPr/>
              </p:nvSpPr>
              <p:spPr>
                <a:xfrm rot="13275600">
                  <a:off x="1706760" y="3654000"/>
                  <a:ext cx="124560" cy="2041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2409"/>
                <p:cNvSpPr/>
                <p:nvPr/>
              </p:nvSpPr>
              <p:spPr>
                <a:xfrm rot="13275600">
                  <a:off x="1640160" y="360000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Freeform 2410"/>
                <p:cNvSpPr/>
                <p:nvPr/>
              </p:nvSpPr>
              <p:spPr>
                <a:xfrm rot="13957200">
                  <a:off x="1515960" y="373356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Freeform 2411"/>
                <p:cNvSpPr/>
                <p:nvPr/>
              </p:nvSpPr>
              <p:spPr>
                <a:xfrm rot="13275600">
                  <a:off x="1527480" y="375480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5" name="Group 2456"/>
          <p:cNvGrpSpPr/>
          <p:nvPr/>
        </p:nvGrpSpPr>
        <p:grpSpPr>
          <a:xfrm>
            <a:off x="1307520" y="2542320"/>
            <a:ext cx="807480" cy="776880"/>
            <a:chOff x="1307520" y="2542320"/>
            <a:chExt cx="807480" cy="776880"/>
          </a:xfrm>
        </p:grpSpPr>
        <p:sp>
          <p:nvSpPr>
            <p:cNvPr id="1556" name="Freeform 2457"/>
            <p:cNvSpPr/>
            <p:nvPr/>
          </p:nvSpPr>
          <p:spPr>
            <a:xfrm rot="18422400">
              <a:off x="1631520" y="279576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7" name="Group 2458"/>
            <p:cNvGrpSpPr/>
            <p:nvPr/>
          </p:nvGrpSpPr>
          <p:grpSpPr>
            <a:xfrm>
              <a:off x="1307520" y="2542320"/>
              <a:ext cx="807480" cy="776880"/>
              <a:chOff x="1307520" y="2542320"/>
              <a:chExt cx="807480" cy="776880"/>
            </a:xfrm>
          </p:grpSpPr>
          <p:grpSp>
            <p:nvGrpSpPr>
              <p:cNvPr id="1558" name="Group 2459"/>
              <p:cNvGrpSpPr/>
              <p:nvPr/>
            </p:nvGrpSpPr>
            <p:grpSpPr>
              <a:xfrm>
                <a:off x="1590480" y="2814840"/>
                <a:ext cx="524520" cy="504360"/>
                <a:chOff x="1590480" y="2814840"/>
                <a:chExt cx="524520" cy="504360"/>
              </a:xfrm>
            </p:grpSpPr>
            <p:sp>
              <p:nvSpPr>
                <p:cNvPr id="1559" name="AutoShape 2460"/>
                <p:cNvSpPr/>
                <p:nvPr/>
              </p:nvSpPr>
              <p:spPr>
                <a:xfrm rot="18422400">
                  <a:off x="1603800" y="283500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2461"/>
                <p:cNvSpPr/>
                <p:nvPr/>
              </p:nvSpPr>
              <p:spPr>
                <a:xfrm rot="18422400">
                  <a:off x="1799280" y="281628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Oval 2462"/>
                <p:cNvSpPr/>
                <p:nvPr/>
              </p:nvSpPr>
              <p:spPr>
                <a:xfrm rot="18966600">
                  <a:off x="2008800" y="313776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2" name="Group 2463"/>
              <p:cNvGrpSpPr/>
              <p:nvPr/>
            </p:nvGrpSpPr>
            <p:grpSpPr>
              <a:xfrm>
                <a:off x="1307520" y="2542320"/>
                <a:ext cx="564480" cy="604080"/>
                <a:chOff x="1307520" y="2542320"/>
                <a:chExt cx="564480" cy="604080"/>
              </a:xfrm>
            </p:grpSpPr>
            <p:sp>
              <p:nvSpPr>
                <p:cNvPr id="1563" name="Freeform 2464"/>
                <p:cNvSpPr/>
                <p:nvPr/>
              </p:nvSpPr>
              <p:spPr>
                <a:xfrm rot="18422400">
                  <a:off x="1539000" y="291348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Freeform 2465"/>
                <p:cNvSpPr/>
                <p:nvPr/>
              </p:nvSpPr>
              <p:spPr>
                <a:xfrm rot="18422400">
                  <a:off x="1455840" y="298296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Freeform 2466"/>
                <p:cNvSpPr/>
                <p:nvPr/>
              </p:nvSpPr>
              <p:spPr>
                <a:xfrm rot="18422400">
                  <a:off x="1386000" y="2954880"/>
                  <a:ext cx="284040" cy="676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Freeform 2467"/>
                <p:cNvSpPr/>
                <p:nvPr/>
              </p:nvSpPr>
              <p:spPr>
                <a:xfrm rot="18422400">
                  <a:off x="1345320" y="295272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Freeform 2468"/>
                <p:cNvSpPr/>
                <p:nvPr/>
              </p:nvSpPr>
              <p:spPr>
                <a:xfrm rot="18422400">
                  <a:off x="1350360" y="291672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Freeform 2469"/>
                <p:cNvSpPr/>
                <p:nvPr/>
              </p:nvSpPr>
              <p:spPr>
                <a:xfrm rot="18422400">
                  <a:off x="1372320" y="2894040"/>
                  <a:ext cx="284040" cy="1130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2470"/>
                <p:cNvSpPr/>
                <p:nvPr/>
              </p:nvSpPr>
              <p:spPr>
                <a:xfrm rot="18422400">
                  <a:off x="1394280" y="2820600"/>
                  <a:ext cx="214200" cy="1807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Freeform 2471"/>
                <p:cNvSpPr/>
                <p:nvPr/>
              </p:nvSpPr>
              <p:spPr>
                <a:xfrm rot="18422400">
                  <a:off x="1365840" y="28461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Freeform 2472"/>
                <p:cNvSpPr/>
                <p:nvPr/>
              </p:nvSpPr>
              <p:spPr>
                <a:xfrm rot="18422400">
                  <a:off x="1413720" y="28396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Freeform 2473"/>
                <p:cNvSpPr/>
                <p:nvPr/>
              </p:nvSpPr>
              <p:spPr>
                <a:xfrm rot="18422400">
                  <a:off x="1352880" y="2777400"/>
                  <a:ext cx="262800" cy="24480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Line 2474"/>
                <p:cNvSpPr/>
                <p:nvPr/>
              </p:nvSpPr>
              <p:spPr>
                <a:xfrm flipH="1">
                  <a:off x="1370520" y="2873880"/>
                  <a:ext cx="315360" cy="39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Freeform 2475"/>
                <p:cNvSpPr/>
                <p:nvPr/>
              </p:nvSpPr>
              <p:spPr>
                <a:xfrm rot="18422400">
                  <a:off x="1452240" y="2746440"/>
                  <a:ext cx="158760" cy="249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Freeform 2476"/>
                <p:cNvSpPr/>
                <p:nvPr/>
              </p:nvSpPr>
              <p:spPr>
                <a:xfrm rot="18422400">
                  <a:off x="1469520" y="2719080"/>
                  <a:ext cx="123120" cy="25632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Freeform 2477"/>
                <p:cNvSpPr/>
                <p:nvPr/>
              </p:nvSpPr>
              <p:spPr>
                <a:xfrm rot="18422400">
                  <a:off x="1495800" y="2691000"/>
                  <a:ext cx="82440" cy="2714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Freeform 2478"/>
                <p:cNvSpPr/>
                <p:nvPr/>
              </p:nvSpPr>
              <p:spPr>
                <a:xfrm rot="18422400">
                  <a:off x="1537560" y="265752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2479"/>
                <p:cNvSpPr/>
                <p:nvPr/>
              </p:nvSpPr>
              <p:spPr>
                <a:xfrm rot="18422400">
                  <a:off x="1520640" y="2623320"/>
                  <a:ext cx="47520" cy="3146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Freeform 2480"/>
                <p:cNvSpPr/>
                <p:nvPr/>
              </p:nvSpPr>
              <p:spPr>
                <a:xfrm rot="18422400">
                  <a:off x="1557000" y="263736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Freeform 2481"/>
                <p:cNvSpPr/>
                <p:nvPr/>
              </p:nvSpPr>
              <p:spPr>
                <a:xfrm rot="18422400">
                  <a:off x="1566360" y="2644200"/>
                  <a:ext cx="79200" cy="237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Freeform 2482"/>
                <p:cNvSpPr/>
                <p:nvPr/>
              </p:nvSpPr>
              <p:spPr>
                <a:xfrm rot="18422400">
                  <a:off x="1512000" y="256932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Freeform 2483"/>
                <p:cNvSpPr/>
                <p:nvPr/>
              </p:nvSpPr>
              <p:spPr>
                <a:xfrm rot="18422400">
                  <a:off x="1530000" y="259416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Freeform 2484"/>
                <p:cNvSpPr/>
                <p:nvPr/>
              </p:nvSpPr>
              <p:spPr>
                <a:xfrm rot="18422400">
                  <a:off x="1552320" y="2617200"/>
                  <a:ext cx="238320" cy="192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Freeform 2485"/>
                <p:cNvSpPr/>
                <p:nvPr/>
              </p:nvSpPr>
              <p:spPr>
                <a:xfrm rot="18422400">
                  <a:off x="1559520" y="263088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Freeform 2486"/>
                <p:cNvSpPr/>
                <p:nvPr/>
              </p:nvSpPr>
              <p:spPr>
                <a:xfrm rot="18422400">
                  <a:off x="1545480" y="263736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Freeform 2487"/>
                <p:cNvSpPr/>
                <p:nvPr/>
              </p:nvSpPr>
              <p:spPr>
                <a:xfrm rot="18422400">
                  <a:off x="1644480" y="279864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2488"/>
                <p:cNvSpPr/>
                <p:nvPr/>
              </p:nvSpPr>
              <p:spPr>
                <a:xfrm rot="18422400">
                  <a:off x="1665360" y="282132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2489"/>
                <p:cNvSpPr/>
                <p:nvPr/>
              </p:nvSpPr>
              <p:spPr>
                <a:xfrm rot="18422400">
                  <a:off x="1690560" y="2849040"/>
                  <a:ext cx="90720" cy="676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2490"/>
                <p:cNvSpPr/>
                <p:nvPr/>
              </p:nvSpPr>
              <p:spPr>
                <a:xfrm rot="18422400">
                  <a:off x="1692000" y="286704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Freeform 2491"/>
                <p:cNvSpPr/>
                <p:nvPr/>
              </p:nvSpPr>
              <p:spPr>
                <a:xfrm rot="18422400">
                  <a:off x="1470240" y="295848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2492"/>
                <p:cNvSpPr/>
                <p:nvPr/>
              </p:nvSpPr>
              <p:spPr>
                <a:xfrm rot="18422400">
                  <a:off x="1630440" y="278208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Freeform 2493"/>
                <p:cNvSpPr/>
                <p:nvPr/>
              </p:nvSpPr>
              <p:spPr>
                <a:xfrm rot="18422400">
                  <a:off x="1676880" y="281016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Freeform 2494"/>
                <p:cNvSpPr/>
                <p:nvPr/>
              </p:nvSpPr>
              <p:spPr>
                <a:xfrm rot="18422400">
                  <a:off x="1557720" y="2672640"/>
                  <a:ext cx="8640" cy="2606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Freeform 2495"/>
                <p:cNvSpPr/>
                <p:nvPr/>
              </p:nvSpPr>
              <p:spPr>
                <a:xfrm rot="18422400">
                  <a:off x="1601640" y="288720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Freeform 2496"/>
                <p:cNvSpPr/>
                <p:nvPr/>
              </p:nvSpPr>
              <p:spPr>
                <a:xfrm rot="18422400">
                  <a:off x="1653840" y="2901600"/>
                  <a:ext cx="124560" cy="2041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Freeform 2497"/>
                <p:cNvSpPr/>
                <p:nvPr/>
              </p:nvSpPr>
              <p:spPr>
                <a:xfrm rot="18422400">
                  <a:off x="1740600" y="282420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Freeform 2498"/>
                <p:cNvSpPr/>
                <p:nvPr/>
              </p:nvSpPr>
              <p:spPr>
                <a:xfrm rot="19104000">
                  <a:off x="1661040" y="278964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Freeform 2499"/>
                <p:cNvSpPr/>
                <p:nvPr/>
              </p:nvSpPr>
              <p:spPr>
                <a:xfrm rot="18422400">
                  <a:off x="1577160" y="271224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99" name="Group 2632"/>
          <p:cNvGrpSpPr/>
          <p:nvPr/>
        </p:nvGrpSpPr>
        <p:grpSpPr>
          <a:xfrm>
            <a:off x="1180080" y="3008520"/>
            <a:ext cx="927000" cy="667800"/>
            <a:chOff x="1180080" y="3008520"/>
            <a:chExt cx="927000" cy="667800"/>
          </a:xfrm>
        </p:grpSpPr>
        <p:sp>
          <p:nvSpPr>
            <p:cNvPr id="1600" name="Freeform 2633"/>
            <p:cNvSpPr/>
            <p:nvPr/>
          </p:nvSpPr>
          <p:spPr>
            <a:xfrm rot="15863400">
              <a:off x="1411560" y="324432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1" name="Group 2634"/>
            <p:cNvGrpSpPr/>
            <p:nvPr/>
          </p:nvGrpSpPr>
          <p:grpSpPr>
            <a:xfrm>
              <a:off x="1180080" y="3008520"/>
              <a:ext cx="927000" cy="667800"/>
              <a:chOff x="1180080" y="3008520"/>
              <a:chExt cx="927000" cy="667800"/>
            </a:xfrm>
          </p:grpSpPr>
          <p:grpSp>
            <p:nvGrpSpPr>
              <p:cNvPr id="1602" name="Group 2635"/>
              <p:cNvGrpSpPr/>
              <p:nvPr/>
            </p:nvGrpSpPr>
            <p:grpSpPr>
              <a:xfrm>
                <a:off x="1440720" y="3279240"/>
                <a:ext cx="666360" cy="97920"/>
                <a:chOff x="1440720" y="3279240"/>
                <a:chExt cx="666360" cy="97920"/>
              </a:xfrm>
            </p:grpSpPr>
            <p:sp>
              <p:nvSpPr>
                <p:cNvPr id="1603" name="AutoShape 2636"/>
                <p:cNvSpPr/>
                <p:nvPr/>
              </p:nvSpPr>
              <p:spPr>
                <a:xfrm rot="15863400">
                  <a:off x="1439280" y="328824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Freeform 2637"/>
                <p:cNvSpPr/>
                <p:nvPr/>
              </p:nvSpPr>
              <p:spPr>
                <a:xfrm rot="15863400">
                  <a:off x="1696320" y="311004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Oval 2638"/>
                <p:cNvSpPr/>
                <p:nvPr/>
              </p:nvSpPr>
              <p:spPr>
                <a:xfrm rot="16407000">
                  <a:off x="1986480" y="323676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6" name="Group 2639"/>
              <p:cNvGrpSpPr/>
              <p:nvPr/>
            </p:nvGrpSpPr>
            <p:grpSpPr>
              <a:xfrm>
                <a:off x="1180080" y="3008520"/>
                <a:ext cx="548640" cy="667800"/>
                <a:chOff x="1180080" y="3008520"/>
                <a:chExt cx="548640" cy="667800"/>
              </a:xfrm>
            </p:grpSpPr>
            <p:sp>
              <p:nvSpPr>
                <p:cNvPr id="1607" name="Freeform 2640"/>
                <p:cNvSpPr/>
                <p:nvPr/>
              </p:nvSpPr>
              <p:spPr>
                <a:xfrm rot="15863400">
                  <a:off x="1433880" y="336744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Freeform 2641"/>
                <p:cNvSpPr/>
                <p:nvPr/>
              </p:nvSpPr>
              <p:spPr>
                <a:xfrm rot="15863400">
                  <a:off x="1402560" y="343692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Freeform 2642"/>
                <p:cNvSpPr/>
                <p:nvPr/>
              </p:nvSpPr>
              <p:spPr>
                <a:xfrm rot="15863400">
                  <a:off x="1330560" y="3459960"/>
                  <a:ext cx="284040" cy="6804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Freeform 2643"/>
                <p:cNvSpPr/>
                <p:nvPr/>
              </p:nvSpPr>
              <p:spPr>
                <a:xfrm rot="15863400">
                  <a:off x="1305000" y="347940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Freeform 2644"/>
                <p:cNvSpPr/>
                <p:nvPr/>
              </p:nvSpPr>
              <p:spPr>
                <a:xfrm rot="15863400">
                  <a:off x="1293480" y="344664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Freeform 2645"/>
                <p:cNvSpPr/>
                <p:nvPr/>
              </p:nvSpPr>
              <p:spPr>
                <a:xfrm rot="15863400">
                  <a:off x="1294560" y="3418560"/>
                  <a:ext cx="284040" cy="11340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Freeform 2646"/>
                <p:cNvSpPr/>
                <p:nvPr/>
              </p:nvSpPr>
              <p:spPr>
                <a:xfrm rot="15863400">
                  <a:off x="1293120" y="3364200"/>
                  <a:ext cx="214200" cy="18108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Freeform 2647"/>
                <p:cNvSpPr/>
                <p:nvPr/>
              </p:nvSpPr>
              <p:spPr>
                <a:xfrm rot="15863400">
                  <a:off x="1276920" y="33933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Freeform 2648"/>
                <p:cNvSpPr/>
                <p:nvPr/>
              </p:nvSpPr>
              <p:spPr>
                <a:xfrm rot="15863400">
                  <a:off x="1307880" y="33562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Freeform 2649"/>
                <p:cNvSpPr/>
                <p:nvPr/>
              </p:nvSpPr>
              <p:spPr>
                <a:xfrm rot="15863400">
                  <a:off x="1248480" y="3335400"/>
                  <a:ext cx="262800" cy="2451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Line 2650"/>
                <p:cNvSpPr/>
                <p:nvPr/>
              </p:nvSpPr>
              <p:spPr>
                <a:xfrm flipH="1">
                  <a:off x="1280880" y="3302640"/>
                  <a:ext cx="229680" cy="2167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Freeform 2651"/>
                <p:cNvSpPr/>
                <p:nvPr/>
              </p:nvSpPr>
              <p:spPr>
                <a:xfrm rot="15863400">
                  <a:off x="1316160" y="3280320"/>
                  <a:ext cx="158760" cy="2494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Freeform 2652"/>
                <p:cNvSpPr/>
                <p:nvPr/>
              </p:nvSpPr>
              <p:spPr>
                <a:xfrm rot="15863400">
                  <a:off x="1317240" y="3259800"/>
                  <a:ext cx="123120" cy="2566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Freeform 2653"/>
                <p:cNvSpPr/>
                <p:nvPr/>
              </p:nvSpPr>
              <p:spPr>
                <a:xfrm rot="15863400">
                  <a:off x="1328040" y="3232800"/>
                  <a:ext cx="82440" cy="2718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Freeform 2654"/>
                <p:cNvSpPr/>
                <p:nvPr/>
              </p:nvSpPr>
              <p:spPr>
                <a:xfrm rot="15863400">
                  <a:off x="1347480" y="319140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Freeform 2655"/>
                <p:cNvSpPr/>
                <p:nvPr/>
              </p:nvSpPr>
              <p:spPr>
                <a:xfrm rot="15863400">
                  <a:off x="1319760" y="3172320"/>
                  <a:ext cx="47520" cy="3150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Freeform 2656"/>
                <p:cNvSpPr/>
                <p:nvPr/>
              </p:nvSpPr>
              <p:spPr>
                <a:xfrm rot="15863400">
                  <a:off x="1345680" y="316296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Freeform 2657"/>
                <p:cNvSpPr/>
                <p:nvPr/>
              </p:nvSpPr>
              <p:spPr>
                <a:xfrm rot="15863400">
                  <a:off x="1337400" y="3156480"/>
                  <a:ext cx="79200" cy="2383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Freeform 2658"/>
                <p:cNvSpPr/>
                <p:nvPr/>
              </p:nvSpPr>
              <p:spPr>
                <a:xfrm rot="15863400">
                  <a:off x="1254960" y="310356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Freeform 2659"/>
                <p:cNvSpPr/>
                <p:nvPr/>
              </p:nvSpPr>
              <p:spPr>
                <a:xfrm rot="15863400">
                  <a:off x="1263960" y="310032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Freeform 2660"/>
                <p:cNvSpPr/>
                <p:nvPr/>
              </p:nvSpPr>
              <p:spPr>
                <a:xfrm rot="15863400">
                  <a:off x="1272600" y="3097800"/>
                  <a:ext cx="238320" cy="19296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Freeform 2661"/>
                <p:cNvSpPr/>
                <p:nvPr/>
              </p:nvSpPr>
              <p:spPr>
                <a:xfrm rot="15863400">
                  <a:off x="1270800" y="309600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Freeform 2662"/>
                <p:cNvSpPr/>
                <p:nvPr/>
              </p:nvSpPr>
              <p:spPr>
                <a:xfrm rot="15863400">
                  <a:off x="1259280" y="309492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Freeform 2663"/>
                <p:cNvSpPr/>
                <p:nvPr/>
              </p:nvSpPr>
              <p:spPr>
                <a:xfrm rot="15863400">
                  <a:off x="1410840" y="320652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Freeform 2664"/>
                <p:cNvSpPr/>
                <p:nvPr/>
              </p:nvSpPr>
              <p:spPr>
                <a:xfrm rot="15863400">
                  <a:off x="1453680" y="322704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Freeform 2665"/>
                <p:cNvSpPr/>
                <p:nvPr/>
              </p:nvSpPr>
              <p:spPr>
                <a:xfrm rot="15863400">
                  <a:off x="1508040" y="3241080"/>
                  <a:ext cx="90720" cy="6804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Freeform 2666"/>
                <p:cNvSpPr/>
                <p:nvPr/>
              </p:nvSpPr>
              <p:spPr>
                <a:xfrm rot="15863400">
                  <a:off x="1527840" y="326124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Freeform 2667"/>
                <p:cNvSpPr/>
                <p:nvPr/>
              </p:nvSpPr>
              <p:spPr>
                <a:xfrm rot="15863400">
                  <a:off x="1385640" y="343152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Freeform 2668"/>
                <p:cNvSpPr/>
                <p:nvPr/>
              </p:nvSpPr>
              <p:spPr>
                <a:xfrm rot="15863400">
                  <a:off x="1382760" y="319392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Freeform 2669"/>
                <p:cNvSpPr/>
                <p:nvPr/>
              </p:nvSpPr>
              <p:spPr>
                <a:xfrm rot="15863400">
                  <a:off x="1470960" y="319608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Freeform 2670"/>
                <p:cNvSpPr/>
                <p:nvPr/>
              </p:nvSpPr>
              <p:spPr>
                <a:xfrm rot="15863400">
                  <a:off x="1366920" y="3204000"/>
                  <a:ext cx="8640" cy="2610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Freeform 2671"/>
                <p:cNvSpPr/>
                <p:nvPr/>
              </p:nvSpPr>
              <p:spPr>
                <a:xfrm rot="15863400">
                  <a:off x="1490040" y="330336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Freeform 2672"/>
                <p:cNvSpPr/>
                <p:nvPr/>
              </p:nvSpPr>
              <p:spPr>
                <a:xfrm rot="15863400">
                  <a:off x="1558440" y="3275280"/>
                  <a:ext cx="124560" cy="20448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Freeform 2673"/>
                <p:cNvSpPr/>
                <p:nvPr/>
              </p:nvSpPr>
              <p:spPr>
                <a:xfrm rot="15863400">
                  <a:off x="1564200" y="317952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Freeform 2674"/>
                <p:cNvSpPr/>
                <p:nvPr/>
              </p:nvSpPr>
              <p:spPr>
                <a:xfrm rot="16544400">
                  <a:off x="1429920" y="321948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Freeform 2675"/>
                <p:cNvSpPr/>
                <p:nvPr/>
              </p:nvSpPr>
              <p:spPr>
                <a:xfrm rot="15863400">
                  <a:off x="1373760" y="321012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43" name="Group 2676"/>
          <p:cNvGrpSpPr/>
          <p:nvPr/>
        </p:nvGrpSpPr>
        <p:grpSpPr>
          <a:xfrm>
            <a:off x="2252880" y="2613240"/>
            <a:ext cx="853920" cy="717480"/>
            <a:chOff x="2252880" y="2613240"/>
            <a:chExt cx="853920" cy="717480"/>
          </a:xfrm>
        </p:grpSpPr>
        <p:sp>
          <p:nvSpPr>
            <p:cNvPr id="1644" name="Freeform 2677"/>
            <p:cNvSpPr/>
            <p:nvPr/>
          </p:nvSpPr>
          <p:spPr>
            <a:xfrm rot="2931600">
              <a:off x="2784960" y="299484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5" name="Group 2678"/>
            <p:cNvGrpSpPr/>
            <p:nvPr/>
          </p:nvGrpSpPr>
          <p:grpSpPr>
            <a:xfrm>
              <a:off x="2252880" y="2613240"/>
              <a:ext cx="853920" cy="717480"/>
              <a:chOff x="2252880" y="2613240"/>
              <a:chExt cx="853920" cy="717480"/>
            </a:xfrm>
          </p:grpSpPr>
          <p:grpSp>
            <p:nvGrpSpPr>
              <p:cNvPr id="1646" name="Group 2679"/>
              <p:cNvGrpSpPr/>
              <p:nvPr/>
            </p:nvGrpSpPr>
            <p:grpSpPr>
              <a:xfrm>
                <a:off x="2252880" y="2899440"/>
                <a:ext cx="583200" cy="431280"/>
                <a:chOff x="2252880" y="2899440"/>
                <a:chExt cx="583200" cy="431280"/>
              </a:xfrm>
            </p:grpSpPr>
            <p:sp>
              <p:nvSpPr>
                <p:cNvPr id="1647" name="AutoShape 2680"/>
                <p:cNvSpPr/>
                <p:nvPr/>
              </p:nvSpPr>
              <p:spPr>
                <a:xfrm rot="2931600">
                  <a:off x="2730960" y="291996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Freeform 2681"/>
                <p:cNvSpPr/>
                <p:nvPr/>
              </p:nvSpPr>
              <p:spPr>
                <a:xfrm rot="2931600">
                  <a:off x="2562480" y="288000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Oval 2682"/>
                <p:cNvSpPr/>
                <p:nvPr/>
              </p:nvSpPr>
              <p:spPr>
                <a:xfrm rot="3475200">
                  <a:off x="2323440" y="316368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0" name="Group 2683"/>
              <p:cNvGrpSpPr/>
              <p:nvPr/>
            </p:nvGrpSpPr>
            <p:grpSpPr>
              <a:xfrm>
                <a:off x="2518920" y="2613240"/>
                <a:ext cx="587880" cy="604800"/>
                <a:chOff x="2518920" y="2613240"/>
                <a:chExt cx="587880" cy="604800"/>
              </a:xfrm>
            </p:grpSpPr>
            <p:sp>
              <p:nvSpPr>
                <p:cNvPr id="1651" name="Freeform 2684"/>
                <p:cNvSpPr/>
                <p:nvPr/>
              </p:nvSpPr>
              <p:spPr>
                <a:xfrm rot="2931600">
                  <a:off x="2629080" y="287568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Freeform 2685"/>
                <p:cNvSpPr/>
                <p:nvPr/>
              </p:nvSpPr>
              <p:spPr>
                <a:xfrm rot="2931600">
                  <a:off x="2512440" y="284076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Freeform 2686"/>
                <p:cNvSpPr/>
                <p:nvPr/>
              </p:nvSpPr>
              <p:spPr>
                <a:xfrm rot="2931600">
                  <a:off x="2547000" y="2783520"/>
                  <a:ext cx="284040" cy="6804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Freeform 2687"/>
                <p:cNvSpPr/>
                <p:nvPr/>
              </p:nvSpPr>
              <p:spPr>
                <a:xfrm rot="2931600">
                  <a:off x="2539800" y="273564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Freeform 2688"/>
                <p:cNvSpPr/>
                <p:nvPr/>
              </p:nvSpPr>
              <p:spPr>
                <a:xfrm rot="2931600">
                  <a:off x="2562840" y="273276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Freeform 2689"/>
                <p:cNvSpPr/>
                <p:nvPr/>
              </p:nvSpPr>
              <p:spPr>
                <a:xfrm rot="2931600">
                  <a:off x="2587680" y="2755080"/>
                  <a:ext cx="284040" cy="11340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Freeform 2690"/>
                <p:cNvSpPr/>
                <p:nvPr/>
              </p:nvSpPr>
              <p:spPr>
                <a:xfrm rot="2931600">
                  <a:off x="2663640" y="2716920"/>
                  <a:ext cx="214200" cy="18108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Freeform 2691"/>
                <p:cNvSpPr/>
                <p:nvPr/>
              </p:nvSpPr>
              <p:spPr>
                <a:xfrm rot="2931600">
                  <a:off x="2634480" y="271404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Freeform 2692"/>
                <p:cNvSpPr/>
                <p:nvPr/>
              </p:nvSpPr>
              <p:spPr>
                <a:xfrm rot="2931600">
                  <a:off x="2630880" y="27622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Freeform 2693"/>
                <p:cNvSpPr/>
                <p:nvPr/>
              </p:nvSpPr>
              <p:spPr>
                <a:xfrm rot="2931600">
                  <a:off x="2654280" y="2670120"/>
                  <a:ext cx="262800" cy="2451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Line 2694"/>
                <p:cNvSpPr/>
                <p:nvPr/>
              </p:nvSpPr>
              <p:spPr>
                <a:xfrm flipV="1">
                  <a:off x="2770200" y="2685960"/>
                  <a:ext cx="60840" cy="3092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Freeform 2695"/>
                <p:cNvSpPr/>
                <p:nvPr/>
              </p:nvSpPr>
              <p:spPr>
                <a:xfrm rot="2931600">
                  <a:off x="2724480" y="2720520"/>
                  <a:ext cx="158760" cy="2494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Freeform 2696"/>
                <p:cNvSpPr/>
                <p:nvPr/>
              </p:nvSpPr>
              <p:spPr>
                <a:xfrm rot="2931600">
                  <a:off x="2765880" y="2720520"/>
                  <a:ext cx="123120" cy="2566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Freeform 2697"/>
                <p:cNvSpPr/>
                <p:nvPr/>
              </p:nvSpPr>
              <p:spPr>
                <a:xfrm rot="2931600">
                  <a:off x="2805120" y="2723760"/>
                  <a:ext cx="82440" cy="2718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Freeform 2698"/>
                <p:cNvSpPr/>
                <p:nvPr/>
              </p:nvSpPr>
              <p:spPr>
                <a:xfrm rot="2931600">
                  <a:off x="2845440" y="273960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Freeform 2699"/>
                <p:cNvSpPr/>
                <p:nvPr/>
              </p:nvSpPr>
              <p:spPr>
                <a:xfrm rot="2931600">
                  <a:off x="2865600" y="2718720"/>
                  <a:ext cx="47520" cy="3150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Freeform 2700"/>
                <p:cNvSpPr/>
                <p:nvPr/>
              </p:nvSpPr>
              <p:spPr>
                <a:xfrm rot="2931600">
                  <a:off x="2861640" y="276912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Freeform 2701"/>
                <p:cNvSpPr/>
                <p:nvPr/>
              </p:nvSpPr>
              <p:spPr>
                <a:xfrm rot="2931600">
                  <a:off x="2854800" y="2820600"/>
                  <a:ext cx="79200" cy="2383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Freeform 2702"/>
                <p:cNvSpPr/>
                <p:nvPr/>
              </p:nvSpPr>
              <p:spPr>
                <a:xfrm rot="2931600">
                  <a:off x="2864160" y="278712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2703"/>
                <p:cNvSpPr/>
                <p:nvPr/>
              </p:nvSpPr>
              <p:spPr>
                <a:xfrm rot="2931600">
                  <a:off x="2830680" y="284940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Freeform 2704"/>
                <p:cNvSpPr/>
                <p:nvPr/>
              </p:nvSpPr>
              <p:spPr>
                <a:xfrm rot="2931600">
                  <a:off x="2810520" y="2918160"/>
                  <a:ext cx="238320" cy="19296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Freeform 2705"/>
                <p:cNvSpPr/>
                <p:nvPr/>
              </p:nvSpPr>
              <p:spPr>
                <a:xfrm rot="2931600">
                  <a:off x="2791800" y="295920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Freeform 2706"/>
                <p:cNvSpPr/>
                <p:nvPr/>
              </p:nvSpPr>
              <p:spPr>
                <a:xfrm rot="2931600">
                  <a:off x="2760480" y="296676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Freeform 2707"/>
                <p:cNvSpPr/>
                <p:nvPr/>
              </p:nvSpPr>
              <p:spPr>
                <a:xfrm rot="2931600">
                  <a:off x="2724480" y="305244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Freeform 2708"/>
                <p:cNvSpPr/>
                <p:nvPr/>
              </p:nvSpPr>
              <p:spPr>
                <a:xfrm rot="2931600">
                  <a:off x="2726640" y="303300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2709"/>
                <p:cNvSpPr/>
                <p:nvPr/>
              </p:nvSpPr>
              <p:spPr>
                <a:xfrm rot="2931600">
                  <a:off x="2705400" y="3008520"/>
                  <a:ext cx="90720" cy="6804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Freeform 2710"/>
                <p:cNvSpPr/>
                <p:nvPr/>
              </p:nvSpPr>
              <p:spPr>
                <a:xfrm rot="2931600">
                  <a:off x="2698920" y="298872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Freeform 2711"/>
                <p:cNvSpPr/>
                <p:nvPr/>
              </p:nvSpPr>
              <p:spPr>
                <a:xfrm rot="2931600">
                  <a:off x="2585520" y="286776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Freeform 2712"/>
                <p:cNvSpPr/>
                <p:nvPr/>
              </p:nvSpPr>
              <p:spPr>
                <a:xfrm rot="2931600">
                  <a:off x="2727000" y="306324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Freeform 2713"/>
                <p:cNvSpPr/>
                <p:nvPr/>
              </p:nvSpPr>
              <p:spPr>
                <a:xfrm rot="2931600">
                  <a:off x="2693880" y="302256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2714"/>
                <p:cNvSpPr/>
                <p:nvPr/>
              </p:nvSpPr>
              <p:spPr>
                <a:xfrm rot="2931600">
                  <a:off x="2860200" y="2758320"/>
                  <a:ext cx="8640" cy="2610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Freeform 2715"/>
                <p:cNvSpPr/>
                <p:nvPr/>
              </p:nvSpPr>
              <p:spPr>
                <a:xfrm rot="2931600">
                  <a:off x="2619720" y="288828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Freeform 2716"/>
                <p:cNvSpPr/>
                <p:nvPr/>
              </p:nvSpPr>
              <p:spPr>
                <a:xfrm rot="2931600">
                  <a:off x="2574360" y="2896200"/>
                  <a:ext cx="124560" cy="20448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Freeform 2717"/>
                <p:cNvSpPr/>
                <p:nvPr/>
              </p:nvSpPr>
              <p:spPr>
                <a:xfrm rot="2931600">
                  <a:off x="2676600" y="299556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Freeform 2718"/>
                <p:cNvSpPr/>
                <p:nvPr/>
              </p:nvSpPr>
              <p:spPr>
                <a:xfrm rot="3612600">
                  <a:off x="2784600" y="302508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Freeform 2719"/>
                <p:cNvSpPr/>
                <p:nvPr/>
              </p:nvSpPr>
              <p:spPr>
                <a:xfrm rot="2931600">
                  <a:off x="2820240" y="284616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87" name="Group 2720"/>
          <p:cNvGrpSpPr/>
          <p:nvPr/>
        </p:nvGrpSpPr>
        <p:grpSpPr>
          <a:xfrm>
            <a:off x="2290680" y="3002760"/>
            <a:ext cx="927720" cy="668520"/>
            <a:chOff x="2290680" y="3002760"/>
            <a:chExt cx="927720" cy="668520"/>
          </a:xfrm>
        </p:grpSpPr>
        <p:sp>
          <p:nvSpPr>
            <p:cNvPr id="1688" name="Freeform 2721"/>
            <p:cNvSpPr/>
            <p:nvPr/>
          </p:nvSpPr>
          <p:spPr>
            <a:xfrm rot="5022000">
              <a:off x="2883240" y="341280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9" name="Group 2722"/>
            <p:cNvGrpSpPr/>
            <p:nvPr/>
          </p:nvGrpSpPr>
          <p:grpSpPr>
            <a:xfrm>
              <a:off x="2290680" y="3002760"/>
              <a:ext cx="927720" cy="668520"/>
              <a:chOff x="2290680" y="3002760"/>
              <a:chExt cx="927720" cy="668520"/>
            </a:xfrm>
          </p:grpSpPr>
          <p:grpSp>
            <p:nvGrpSpPr>
              <p:cNvPr id="1690" name="Group 2723"/>
              <p:cNvGrpSpPr/>
              <p:nvPr/>
            </p:nvGrpSpPr>
            <p:grpSpPr>
              <a:xfrm>
                <a:off x="2290680" y="3302640"/>
                <a:ext cx="666360" cy="99360"/>
                <a:chOff x="2290680" y="3302640"/>
                <a:chExt cx="666360" cy="99360"/>
              </a:xfrm>
            </p:grpSpPr>
            <p:sp>
              <p:nvSpPr>
                <p:cNvPr id="1691" name="AutoShape 2724"/>
                <p:cNvSpPr/>
                <p:nvPr/>
              </p:nvSpPr>
              <p:spPr>
                <a:xfrm rot="5022000">
                  <a:off x="2867040" y="331236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Freeform 2725"/>
                <p:cNvSpPr/>
                <p:nvPr/>
              </p:nvSpPr>
              <p:spPr>
                <a:xfrm rot="5022000">
                  <a:off x="2654640" y="313848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Oval 2726"/>
                <p:cNvSpPr/>
                <p:nvPr/>
              </p:nvSpPr>
              <p:spPr>
                <a:xfrm rot="5565600">
                  <a:off x="2364840" y="325656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4" name="Group 2727"/>
              <p:cNvGrpSpPr/>
              <p:nvPr/>
            </p:nvGrpSpPr>
            <p:grpSpPr>
              <a:xfrm>
                <a:off x="2667240" y="3002760"/>
                <a:ext cx="551160" cy="668520"/>
                <a:chOff x="2667240" y="3002760"/>
                <a:chExt cx="551160" cy="668520"/>
              </a:xfrm>
            </p:grpSpPr>
            <p:sp>
              <p:nvSpPr>
                <p:cNvPr id="1695" name="Freeform 2728"/>
                <p:cNvSpPr/>
                <p:nvPr/>
              </p:nvSpPr>
              <p:spPr>
                <a:xfrm rot="5022000">
                  <a:off x="2803680" y="323676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Freeform 2729"/>
                <p:cNvSpPr/>
                <p:nvPr/>
              </p:nvSpPr>
              <p:spPr>
                <a:xfrm rot="5022000">
                  <a:off x="2720160" y="317556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Freeform 2730"/>
                <p:cNvSpPr/>
                <p:nvPr/>
              </p:nvSpPr>
              <p:spPr>
                <a:xfrm rot="5022000">
                  <a:off x="2780280" y="3151440"/>
                  <a:ext cx="284040" cy="676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2731"/>
                <p:cNvSpPr/>
                <p:nvPr/>
              </p:nvSpPr>
              <p:spPr>
                <a:xfrm rot="5022000">
                  <a:off x="2793600" y="310896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Freeform 2732"/>
                <p:cNvSpPr/>
                <p:nvPr/>
              </p:nvSpPr>
              <p:spPr>
                <a:xfrm rot="5022000">
                  <a:off x="2807640" y="311760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Freeform 2733"/>
                <p:cNvSpPr/>
                <p:nvPr/>
              </p:nvSpPr>
              <p:spPr>
                <a:xfrm rot="5022000">
                  <a:off x="2816280" y="3147480"/>
                  <a:ext cx="284040" cy="1130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Freeform 2734"/>
                <p:cNvSpPr/>
                <p:nvPr/>
              </p:nvSpPr>
              <p:spPr>
                <a:xfrm rot="5022000">
                  <a:off x="2887920" y="3133440"/>
                  <a:ext cx="214200" cy="1807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Freeform 2735"/>
                <p:cNvSpPr/>
                <p:nvPr/>
              </p:nvSpPr>
              <p:spPr>
                <a:xfrm rot="5022000">
                  <a:off x="2867760" y="312660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Freeform 2736"/>
                <p:cNvSpPr/>
                <p:nvPr/>
              </p:nvSpPr>
              <p:spPr>
                <a:xfrm rot="5022000">
                  <a:off x="2837520" y="316404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2737"/>
                <p:cNvSpPr/>
                <p:nvPr/>
              </p:nvSpPr>
              <p:spPr>
                <a:xfrm rot="5022000">
                  <a:off x="2883960" y="3097800"/>
                  <a:ext cx="262800" cy="24480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Line 2738"/>
                <p:cNvSpPr/>
                <p:nvPr/>
              </p:nvSpPr>
              <p:spPr>
                <a:xfrm flipV="1">
                  <a:off x="2886840" y="3158280"/>
                  <a:ext cx="226440" cy="2192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Freeform 2739"/>
                <p:cNvSpPr/>
                <p:nvPr/>
              </p:nvSpPr>
              <p:spPr>
                <a:xfrm rot="5022000">
                  <a:off x="2921040" y="3149280"/>
                  <a:ext cx="158760" cy="249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2740"/>
                <p:cNvSpPr/>
                <p:nvPr/>
              </p:nvSpPr>
              <p:spPr>
                <a:xfrm rot="5022000">
                  <a:off x="2955600" y="3162240"/>
                  <a:ext cx="123120" cy="25632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2741"/>
                <p:cNvSpPr/>
                <p:nvPr/>
              </p:nvSpPr>
              <p:spPr>
                <a:xfrm rot="5022000">
                  <a:off x="2985840" y="3174120"/>
                  <a:ext cx="82440" cy="2714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2742"/>
                <p:cNvSpPr/>
                <p:nvPr/>
              </p:nvSpPr>
              <p:spPr>
                <a:xfrm rot="5022000">
                  <a:off x="3007800" y="319644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Freeform 2743"/>
                <p:cNvSpPr/>
                <p:nvPr/>
              </p:nvSpPr>
              <p:spPr>
                <a:xfrm rot="5022000">
                  <a:off x="3029040" y="3190680"/>
                  <a:ext cx="47520" cy="3146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Freeform 2744"/>
                <p:cNvSpPr/>
                <p:nvPr/>
              </p:nvSpPr>
              <p:spPr>
                <a:xfrm rot="5022000">
                  <a:off x="3006000" y="323172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Freeform 2745"/>
                <p:cNvSpPr/>
                <p:nvPr/>
              </p:nvSpPr>
              <p:spPr>
                <a:xfrm rot="5022000">
                  <a:off x="2980800" y="3283920"/>
                  <a:ext cx="79200" cy="237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Freeform 2746"/>
                <p:cNvSpPr/>
                <p:nvPr/>
              </p:nvSpPr>
              <p:spPr>
                <a:xfrm rot="5022000">
                  <a:off x="2983680" y="327960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Freeform 2747"/>
                <p:cNvSpPr/>
                <p:nvPr/>
              </p:nvSpPr>
              <p:spPr>
                <a:xfrm rot="5022000">
                  <a:off x="2929680" y="332856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Freeform 2748"/>
                <p:cNvSpPr/>
                <p:nvPr/>
              </p:nvSpPr>
              <p:spPr>
                <a:xfrm rot="5022000">
                  <a:off x="2887560" y="3387960"/>
                  <a:ext cx="238320" cy="192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Freeform 2749"/>
                <p:cNvSpPr/>
                <p:nvPr/>
              </p:nvSpPr>
              <p:spPr>
                <a:xfrm rot="5022000">
                  <a:off x="2854800" y="342360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Freeform 2750"/>
                <p:cNvSpPr/>
                <p:nvPr/>
              </p:nvSpPr>
              <p:spPr>
                <a:xfrm rot="5022000">
                  <a:off x="2821680" y="342504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Freeform 2751"/>
                <p:cNvSpPr/>
                <p:nvPr/>
              </p:nvSpPr>
              <p:spPr>
                <a:xfrm rot="5022000">
                  <a:off x="2792520" y="345168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Freeform 2752"/>
                <p:cNvSpPr/>
                <p:nvPr/>
              </p:nvSpPr>
              <p:spPr>
                <a:xfrm rot="5022000">
                  <a:off x="2808000" y="341928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Freeform 2753"/>
                <p:cNvSpPr/>
                <p:nvPr/>
              </p:nvSpPr>
              <p:spPr>
                <a:xfrm rot="5022000">
                  <a:off x="2798280" y="3371400"/>
                  <a:ext cx="90720" cy="676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Freeform 2754"/>
                <p:cNvSpPr/>
                <p:nvPr/>
              </p:nvSpPr>
              <p:spPr>
                <a:xfrm rot="5022000">
                  <a:off x="2804400" y="334332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Freeform 2755"/>
                <p:cNvSpPr/>
                <p:nvPr/>
              </p:nvSpPr>
              <p:spPr>
                <a:xfrm rot="5022000">
                  <a:off x="2782800" y="323028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Freeform 2756"/>
                <p:cNvSpPr/>
                <p:nvPr/>
              </p:nvSpPr>
              <p:spPr>
                <a:xfrm rot="5022000">
                  <a:off x="2788920" y="347220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Freeform 2757"/>
                <p:cNvSpPr/>
                <p:nvPr/>
              </p:nvSpPr>
              <p:spPr>
                <a:xfrm rot="5022000">
                  <a:off x="2768040" y="339372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Freeform 2758"/>
                <p:cNvSpPr/>
                <p:nvPr/>
              </p:nvSpPr>
              <p:spPr>
                <a:xfrm rot="5022000">
                  <a:off x="3021120" y="3213720"/>
                  <a:ext cx="8640" cy="2606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Freeform 2759"/>
                <p:cNvSpPr/>
                <p:nvPr/>
              </p:nvSpPr>
              <p:spPr>
                <a:xfrm rot="5022000">
                  <a:off x="2770200" y="322920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Freeform 2760"/>
                <p:cNvSpPr/>
                <p:nvPr/>
              </p:nvSpPr>
              <p:spPr>
                <a:xfrm rot="5022000">
                  <a:off x="2713320" y="3201840"/>
                  <a:ext cx="124560" cy="2041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Freeform 2761"/>
                <p:cNvSpPr/>
                <p:nvPr/>
              </p:nvSpPr>
              <p:spPr>
                <a:xfrm rot="5022000">
                  <a:off x="2754000" y="333180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Freeform 2762"/>
                <p:cNvSpPr/>
                <p:nvPr/>
              </p:nvSpPr>
              <p:spPr>
                <a:xfrm rot="5703000">
                  <a:off x="2865960" y="343728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Freeform 2763"/>
                <p:cNvSpPr/>
                <p:nvPr/>
              </p:nvSpPr>
              <p:spPr>
                <a:xfrm rot="5022000">
                  <a:off x="2955240" y="328716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31" name="Group 2808"/>
          <p:cNvGrpSpPr/>
          <p:nvPr/>
        </p:nvGrpSpPr>
        <p:grpSpPr>
          <a:xfrm>
            <a:off x="1446480" y="2395440"/>
            <a:ext cx="689760" cy="873000"/>
            <a:chOff x="1446480" y="2395440"/>
            <a:chExt cx="689760" cy="873000"/>
          </a:xfrm>
        </p:grpSpPr>
        <p:sp>
          <p:nvSpPr>
            <p:cNvPr id="1732" name="Freeform 2809"/>
            <p:cNvSpPr/>
            <p:nvPr/>
          </p:nvSpPr>
          <p:spPr>
            <a:xfrm rot="19309200">
              <a:off x="1789920" y="266004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3" name="Group 2810"/>
            <p:cNvGrpSpPr/>
            <p:nvPr/>
          </p:nvGrpSpPr>
          <p:grpSpPr>
            <a:xfrm>
              <a:off x="1446480" y="2395440"/>
              <a:ext cx="689760" cy="873000"/>
              <a:chOff x="1446480" y="2395440"/>
              <a:chExt cx="689760" cy="873000"/>
            </a:xfrm>
          </p:grpSpPr>
          <p:grpSp>
            <p:nvGrpSpPr>
              <p:cNvPr id="1734" name="Group 2811"/>
              <p:cNvGrpSpPr/>
              <p:nvPr/>
            </p:nvGrpSpPr>
            <p:grpSpPr>
              <a:xfrm>
                <a:off x="1731600" y="2669040"/>
                <a:ext cx="404640" cy="599400"/>
                <a:chOff x="1731600" y="2669040"/>
                <a:chExt cx="404640" cy="599400"/>
              </a:xfrm>
            </p:grpSpPr>
            <p:sp>
              <p:nvSpPr>
                <p:cNvPr id="1735" name="AutoShape 2812"/>
                <p:cNvSpPr/>
                <p:nvPr/>
              </p:nvSpPr>
              <p:spPr>
                <a:xfrm rot="19309200">
                  <a:off x="1746360" y="268848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Freeform 2813"/>
                <p:cNvSpPr/>
                <p:nvPr/>
              </p:nvSpPr>
              <p:spPr>
                <a:xfrm rot="19309200">
                  <a:off x="1895400" y="270900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7" name="Oval 2814"/>
                <p:cNvSpPr/>
                <p:nvPr/>
              </p:nvSpPr>
              <p:spPr>
                <a:xfrm rot="19852800">
                  <a:off x="2046960" y="307692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8" name="Group 2815"/>
              <p:cNvGrpSpPr/>
              <p:nvPr/>
            </p:nvGrpSpPr>
            <p:grpSpPr>
              <a:xfrm>
                <a:off x="1446480" y="2395440"/>
                <a:ext cx="613080" cy="593280"/>
                <a:chOff x="1446480" y="2395440"/>
                <a:chExt cx="613080" cy="593280"/>
              </a:xfrm>
            </p:grpSpPr>
            <p:sp>
              <p:nvSpPr>
                <p:cNvPr id="1739" name="Freeform 2816"/>
                <p:cNvSpPr/>
                <p:nvPr/>
              </p:nvSpPr>
              <p:spPr>
                <a:xfrm rot="19309200">
                  <a:off x="1662840" y="275616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Freeform 2817"/>
                <p:cNvSpPr/>
                <p:nvPr/>
              </p:nvSpPr>
              <p:spPr>
                <a:xfrm rot="19309200">
                  <a:off x="1564200" y="281700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Freeform 2818"/>
                <p:cNvSpPr/>
                <p:nvPr/>
              </p:nvSpPr>
              <p:spPr>
                <a:xfrm rot="19309200">
                  <a:off x="1503360" y="2773800"/>
                  <a:ext cx="284040" cy="6804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Freeform 2819"/>
                <p:cNvSpPr/>
                <p:nvPr/>
              </p:nvSpPr>
              <p:spPr>
                <a:xfrm rot="19309200">
                  <a:off x="1461240" y="276228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Freeform 2820"/>
                <p:cNvSpPr/>
                <p:nvPr/>
              </p:nvSpPr>
              <p:spPr>
                <a:xfrm rot="19309200">
                  <a:off x="1472400" y="272808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Freeform 2821"/>
                <p:cNvSpPr/>
                <p:nvPr/>
              </p:nvSpPr>
              <p:spPr>
                <a:xfrm rot="19309200">
                  <a:off x="1499400" y="2710440"/>
                  <a:ext cx="284040" cy="11340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Freeform 2822"/>
                <p:cNvSpPr/>
                <p:nvPr/>
              </p:nvSpPr>
              <p:spPr>
                <a:xfrm rot="19309200">
                  <a:off x="1531800" y="2635200"/>
                  <a:ext cx="214200" cy="18108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Freeform 2823"/>
                <p:cNvSpPr/>
                <p:nvPr/>
              </p:nvSpPr>
              <p:spPr>
                <a:xfrm rot="19309200">
                  <a:off x="1500480" y="265752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Freeform 2824"/>
                <p:cNvSpPr/>
                <p:nvPr/>
              </p:nvSpPr>
              <p:spPr>
                <a:xfrm rot="19309200">
                  <a:off x="1548000" y="26632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Freeform 2825"/>
                <p:cNvSpPr/>
                <p:nvPr/>
              </p:nvSpPr>
              <p:spPr>
                <a:xfrm rot="19309200">
                  <a:off x="1494000" y="2587680"/>
                  <a:ext cx="262800" cy="2451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Line 2826"/>
                <p:cNvSpPr/>
                <p:nvPr/>
              </p:nvSpPr>
              <p:spPr>
                <a:xfrm flipH="1" flipV="1">
                  <a:off x="1521000" y="2659680"/>
                  <a:ext cx="306000" cy="766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Freeform 2827"/>
                <p:cNvSpPr/>
                <p:nvPr/>
              </p:nvSpPr>
              <p:spPr>
                <a:xfrm rot="19309200">
                  <a:off x="1599840" y="2570040"/>
                  <a:ext cx="158760" cy="2494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Freeform 2828"/>
                <p:cNvSpPr/>
                <p:nvPr/>
              </p:nvSpPr>
              <p:spPr>
                <a:xfrm rot="19309200">
                  <a:off x="1622160" y="2543400"/>
                  <a:ext cx="123120" cy="2566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Freeform 2829"/>
                <p:cNvSpPr/>
                <p:nvPr/>
              </p:nvSpPr>
              <p:spPr>
                <a:xfrm rot="19309200">
                  <a:off x="1653840" y="2517120"/>
                  <a:ext cx="82440" cy="2718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Freeform 2830"/>
                <p:cNvSpPr/>
                <p:nvPr/>
              </p:nvSpPr>
              <p:spPr>
                <a:xfrm rot="19309200">
                  <a:off x="1701000" y="248976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Freeform 2831"/>
                <p:cNvSpPr/>
                <p:nvPr/>
              </p:nvSpPr>
              <p:spPr>
                <a:xfrm rot="19309200">
                  <a:off x="1690560" y="2453040"/>
                  <a:ext cx="47520" cy="3150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Freeform 2832"/>
                <p:cNvSpPr/>
                <p:nvPr/>
              </p:nvSpPr>
              <p:spPr>
                <a:xfrm rot="19309200">
                  <a:off x="1726200" y="247608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Freeform 2833"/>
                <p:cNvSpPr/>
                <p:nvPr/>
              </p:nvSpPr>
              <p:spPr>
                <a:xfrm rot="19309200">
                  <a:off x="1738440" y="2490480"/>
                  <a:ext cx="79200" cy="2383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Freeform 2834"/>
                <p:cNvSpPr/>
                <p:nvPr/>
              </p:nvSpPr>
              <p:spPr>
                <a:xfrm rot="19309200">
                  <a:off x="1695960" y="241308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Freeform 2835"/>
                <p:cNvSpPr/>
                <p:nvPr/>
              </p:nvSpPr>
              <p:spPr>
                <a:xfrm rot="19309200">
                  <a:off x="1712520" y="244836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Freeform 2836"/>
                <p:cNvSpPr/>
                <p:nvPr/>
              </p:nvSpPr>
              <p:spPr>
                <a:xfrm rot="19309200">
                  <a:off x="1735200" y="2481840"/>
                  <a:ext cx="238320" cy="19296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Freeform 2837"/>
                <p:cNvSpPr/>
                <p:nvPr/>
              </p:nvSpPr>
              <p:spPr>
                <a:xfrm rot="19309200">
                  <a:off x="1742400" y="250164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Freeform 2838"/>
                <p:cNvSpPr/>
                <p:nvPr/>
              </p:nvSpPr>
              <p:spPr>
                <a:xfrm rot="19309200">
                  <a:off x="1726200" y="251028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Freeform 2839"/>
                <p:cNvSpPr/>
                <p:nvPr/>
              </p:nvSpPr>
              <p:spPr>
                <a:xfrm rot="19309200">
                  <a:off x="1800000" y="267768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Freeform 2840"/>
                <p:cNvSpPr/>
                <p:nvPr/>
              </p:nvSpPr>
              <p:spPr>
                <a:xfrm rot="19309200">
                  <a:off x="1814760" y="269820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Freeform 2841"/>
                <p:cNvSpPr/>
                <p:nvPr/>
              </p:nvSpPr>
              <p:spPr>
                <a:xfrm rot="19309200">
                  <a:off x="1828080" y="2724120"/>
                  <a:ext cx="90720" cy="6804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Freeform 2842"/>
                <p:cNvSpPr/>
                <p:nvPr/>
              </p:nvSpPr>
              <p:spPr>
                <a:xfrm rot="19309200">
                  <a:off x="1824480" y="273816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Freeform 2843"/>
                <p:cNvSpPr/>
                <p:nvPr/>
              </p:nvSpPr>
              <p:spPr>
                <a:xfrm rot="19309200">
                  <a:off x="1590840" y="279216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Freeform 2844"/>
                <p:cNvSpPr/>
                <p:nvPr/>
              </p:nvSpPr>
              <p:spPr>
                <a:xfrm rot="19309200">
                  <a:off x="1791720" y="266256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Freeform 2845"/>
                <p:cNvSpPr/>
                <p:nvPr/>
              </p:nvSpPr>
              <p:spPr>
                <a:xfrm rot="19309200">
                  <a:off x="1820520" y="269172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Freeform 2846"/>
                <p:cNvSpPr/>
                <p:nvPr/>
              </p:nvSpPr>
              <p:spPr>
                <a:xfrm rot="19309200">
                  <a:off x="1721160" y="2505960"/>
                  <a:ext cx="8640" cy="2610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Freeform 2847"/>
                <p:cNvSpPr/>
                <p:nvPr/>
              </p:nvSpPr>
              <p:spPr>
                <a:xfrm rot="19309200">
                  <a:off x="1721520" y="274320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Freeform 2848"/>
                <p:cNvSpPr/>
                <p:nvPr/>
              </p:nvSpPr>
              <p:spPr>
                <a:xfrm rot="19309200">
                  <a:off x="1760760" y="2767680"/>
                  <a:ext cx="124560" cy="20448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Freeform 2849"/>
                <p:cNvSpPr/>
                <p:nvPr/>
              </p:nvSpPr>
              <p:spPr>
                <a:xfrm rot="19309200">
                  <a:off x="1869840" y="270972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Freeform 2850"/>
                <p:cNvSpPr/>
                <p:nvPr/>
              </p:nvSpPr>
              <p:spPr>
                <a:xfrm rot="19990800">
                  <a:off x="1820160" y="266184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Freeform 2851"/>
                <p:cNvSpPr/>
                <p:nvPr/>
              </p:nvSpPr>
              <p:spPr>
                <a:xfrm rot="19309200">
                  <a:off x="1739160" y="255816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5" name="Group 2852"/>
          <p:cNvGrpSpPr/>
          <p:nvPr/>
        </p:nvGrpSpPr>
        <p:grpSpPr>
          <a:xfrm>
            <a:off x="1931040" y="2373120"/>
            <a:ext cx="666360" cy="912240"/>
            <a:chOff x="1931040" y="2373120"/>
            <a:chExt cx="666360" cy="912240"/>
          </a:xfrm>
        </p:grpSpPr>
        <p:sp>
          <p:nvSpPr>
            <p:cNvPr id="1776" name="Freeform 2853"/>
            <p:cNvSpPr/>
            <p:nvPr/>
          </p:nvSpPr>
          <p:spPr>
            <a:xfrm rot="279600">
              <a:off x="2293920" y="265104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7" name="Group 2854"/>
            <p:cNvGrpSpPr/>
            <p:nvPr/>
          </p:nvGrpSpPr>
          <p:grpSpPr>
            <a:xfrm>
              <a:off x="1931040" y="2373120"/>
              <a:ext cx="666360" cy="912240"/>
              <a:chOff x="1931040" y="2373120"/>
              <a:chExt cx="666360" cy="912240"/>
            </a:xfrm>
          </p:grpSpPr>
          <p:grpSp>
            <p:nvGrpSpPr>
              <p:cNvPr id="1778" name="Group 2855"/>
              <p:cNvGrpSpPr/>
              <p:nvPr/>
            </p:nvGrpSpPr>
            <p:grpSpPr>
              <a:xfrm>
                <a:off x="2126160" y="2627640"/>
                <a:ext cx="191880" cy="657720"/>
                <a:chOff x="2126160" y="2627640"/>
                <a:chExt cx="191880" cy="657720"/>
              </a:xfrm>
            </p:grpSpPr>
            <p:sp>
              <p:nvSpPr>
                <p:cNvPr id="1779" name="AutoShape 2856"/>
                <p:cNvSpPr/>
                <p:nvPr/>
              </p:nvSpPr>
              <p:spPr>
                <a:xfrm rot="279600">
                  <a:off x="2224080" y="263088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Freeform 2857"/>
                <p:cNvSpPr/>
                <p:nvPr/>
              </p:nvSpPr>
              <p:spPr>
                <a:xfrm rot="279600">
                  <a:off x="2205360" y="268524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Oval 2858"/>
                <p:cNvSpPr/>
                <p:nvPr/>
              </p:nvSpPr>
              <p:spPr>
                <a:xfrm rot="823200">
                  <a:off x="2148120" y="308988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2" name="Group 2859"/>
              <p:cNvGrpSpPr/>
              <p:nvPr/>
            </p:nvGrpSpPr>
            <p:grpSpPr>
              <a:xfrm>
                <a:off x="1931040" y="2373120"/>
                <a:ext cx="666360" cy="529920"/>
                <a:chOff x="1931040" y="2373120"/>
                <a:chExt cx="666360" cy="529920"/>
              </a:xfrm>
            </p:grpSpPr>
            <p:sp>
              <p:nvSpPr>
                <p:cNvPr id="1783" name="Freeform 2860"/>
                <p:cNvSpPr/>
                <p:nvPr/>
              </p:nvSpPr>
              <p:spPr>
                <a:xfrm rot="279600">
                  <a:off x="2109240" y="264708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2861"/>
                <p:cNvSpPr/>
                <p:nvPr/>
              </p:nvSpPr>
              <p:spPr>
                <a:xfrm rot="279600">
                  <a:off x="1982880" y="266472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2862"/>
                <p:cNvSpPr/>
                <p:nvPr/>
              </p:nvSpPr>
              <p:spPr>
                <a:xfrm rot="279600">
                  <a:off x="1966320" y="2595240"/>
                  <a:ext cx="284040" cy="6804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2863"/>
                <p:cNvSpPr/>
                <p:nvPr/>
              </p:nvSpPr>
              <p:spPr>
                <a:xfrm rot="279600">
                  <a:off x="1933920" y="255888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Freeform 2864"/>
                <p:cNvSpPr/>
                <p:nvPr/>
              </p:nvSpPr>
              <p:spPr>
                <a:xfrm rot="279600">
                  <a:off x="1957320" y="253800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Freeform 2865"/>
                <p:cNvSpPr/>
                <p:nvPr/>
              </p:nvSpPr>
              <p:spPr>
                <a:xfrm rot="279600">
                  <a:off x="1990800" y="2540520"/>
                  <a:ext cx="284040" cy="11340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Freeform 2866"/>
                <p:cNvSpPr/>
                <p:nvPr/>
              </p:nvSpPr>
              <p:spPr>
                <a:xfrm rot="279600">
                  <a:off x="2052360" y="2474640"/>
                  <a:ext cx="214200" cy="18108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Freeform 2867"/>
                <p:cNvSpPr/>
                <p:nvPr/>
              </p:nvSpPr>
              <p:spPr>
                <a:xfrm rot="279600">
                  <a:off x="2016720" y="24843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Freeform 2868"/>
                <p:cNvSpPr/>
                <p:nvPr/>
              </p:nvSpPr>
              <p:spPr>
                <a:xfrm rot="279600">
                  <a:off x="2047680" y="25210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Freeform 2869"/>
                <p:cNvSpPr/>
                <p:nvPr/>
              </p:nvSpPr>
              <p:spPr>
                <a:xfrm rot="279600">
                  <a:off x="2028600" y="2422080"/>
                  <a:ext cx="262800" cy="2451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Line 2870"/>
                <p:cNvSpPr/>
                <p:nvPr/>
              </p:nvSpPr>
              <p:spPr>
                <a:xfrm flipH="1" flipV="1">
                  <a:off x="2118240" y="2436480"/>
                  <a:ext cx="172080" cy="2642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Freeform 2871"/>
                <p:cNvSpPr/>
                <p:nvPr/>
              </p:nvSpPr>
              <p:spPr>
                <a:xfrm rot="279600">
                  <a:off x="2130480" y="2444760"/>
                  <a:ext cx="158760" cy="2494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Freeform 2872"/>
                <p:cNvSpPr/>
                <p:nvPr/>
              </p:nvSpPr>
              <p:spPr>
                <a:xfrm rot="279600">
                  <a:off x="2167560" y="2427480"/>
                  <a:ext cx="123120" cy="2566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Freeform 2873"/>
                <p:cNvSpPr/>
                <p:nvPr/>
              </p:nvSpPr>
              <p:spPr>
                <a:xfrm rot="279600">
                  <a:off x="2208600" y="2414160"/>
                  <a:ext cx="82440" cy="2718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Freeform 2874"/>
                <p:cNvSpPr/>
                <p:nvPr/>
              </p:nvSpPr>
              <p:spPr>
                <a:xfrm rot="279600">
                  <a:off x="2261160" y="240948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Freeform 2875"/>
                <p:cNvSpPr/>
                <p:nvPr/>
              </p:nvSpPr>
              <p:spPr>
                <a:xfrm rot="279600">
                  <a:off x="2269080" y="2374200"/>
                  <a:ext cx="47520" cy="3150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Freeform 2876"/>
                <p:cNvSpPr/>
                <p:nvPr/>
              </p:nvSpPr>
              <p:spPr>
                <a:xfrm rot="279600">
                  <a:off x="2290680" y="241848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Freeform 2877"/>
                <p:cNvSpPr/>
                <p:nvPr/>
              </p:nvSpPr>
              <p:spPr>
                <a:xfrm rot="279600">
                  <a:off x="2300760" y="2454840"/>
                  <a:ext cx="79200" cy="2383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Freeform 2878"/>
                <p:cNvSpPr/>
                <p:nvPr/>
              </p:nvSpPr>
              <p:spPr>
                <a:xfrm rot="279600">
                  <a:off x="2292840" y="238896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Freeform 2879"/>
                <p:cNvSpPr/>
                <p:nvPr/>
              </p:nvSpPr>
              <p:spPr>
                <a:xfrm rot="279600">
                  <a:off x="2289600" y="244764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Freeform 2880"/>
                <p:cNvSpPr/>
                <p:nvPr/>
              </p:nvSpPr>
              <p:spPr>
                <a:xfrm rot="279600">
                  <a:off x="2298600" y="2507040"/>
                  <a:ext cx="238320" cy="19296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Freeform 2881"/>
                <p:cNvSpPr/>
                <p:nvPr/>
              </p:nvSpPr>
              <p:spPr>
                <a:xfrm rot="279600">
                  <a:off x="2297160" y="254232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Freeform 2882"/>
                <p:cNvSpPr/>
                <p:nvPr/>
              </p:nvSpPr>
              <p:spPr>
                <a:xfrm rot="279600">
                  <a:off x="2273400" y="255348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Freeform 2883"/>
                <p:cNvSpPr/>
                <p:nvPr/>
              </p:nvSpPr>
              <p:spPr>
                <a:xfrm rot="279600">
                  <a:off x="2277000" y="270252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Freeform 2884"/>
                <p:cNvSpPr/>
                <p:nvPr/>
              </p:nvSpPr>
              <p:spPr>
                <a:xfrm rot="279600">
                  <a:off x="2277360" y="270576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Freeform 2885"/>
                <p:cNvSpPr/>
                <p:nvPr/>
              </p:nvSpPr>
              <p:spPr>
                <a:xfrm rot="279600">
                  <a:off x="2263680" y="2714040"/>
                  <a:ext cx="90720" cy="6804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Freeform 2886"/>
                <p:cNvSpPr/>
                <p:nvPr/>
              </p:nvSpPr>
              <p:spPr>
                <a:xfrm rot="279600">
                  <a:off x="2252160" y="271188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Freeform 2887"/>
                <p:cNvSpPr/>
                <p:nvPr/>
              </p:nvSpPr>
              <p:spPr>
                <a:xfrm rot="279600">
                  <a:off x="2042280" y="265608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Freeform 2888"/>
                <p:cNvSpPr/>
                <p:nvPr/>
              </p:nvSpPr>
              <p:spPr>
                <a:xfrm rot="279600">
                  <a:off x="2279160" y="269820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Freeform 2889"/>
                <p:cNvSpPr/>
                <p:nvPr/>
              </p:nvSpPr>
              <p:spPr>
                <a:xfrm rot="279600">
                  <a:off x="2264040" y="270540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Freeform 2890"/>
                <p:cNvSpPr/>
                <p:nvPr/>
              </p:nvSpPr>
              <p:spPr>
                <a:xfrm rot="279600">
                  <a:off x="2279160" y="2427480"/>
                  <a:ext cx="8640" cy="2610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Freeform 2891"/>
                <p:cNvSpPr/>
                <p:nvPr/>
              </p:nvSpPr>
              <p:spPr>
                <a:xfrm rot="279600">
                  <a:off x="2139480" y="266040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Freeform 2892"/>
                <p:cNvSpPr/>
                <p:nvPr/>
              </p:nvSpPr>
              <p:spPr>
                <a:xfrm rot="279600">
                  <a:off x="2134440" y="2693880"/>
                  <a:ext cx="124560" cy="20448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Freeform 2893"/>
                <p:cNvSpPr/>
                <p:nvPr/>
              </p:nvSpPr>
              <p:spPr>
                <a:xfrm rot="279600">
                  <a:off x="2271240" y="271440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Freeform 2894"/>
                <p:cNvSpPr/>
                <p:nvPr/>
              </p:nvSpPr>
              <p:spPr>
                <a:xfrm rot="960600">
                  <a:off x="2314440" y="267300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Freeform 2895"/>
                <p:cNvSpPr/>
                <p:nvPr/>
              </p:nvSpPr>
              <p:spPr>
                <a:xfrm rot="279600">
                  <a:off x="2275920" y="250920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19" name="Group 2896"/>
          <p:cNvGrpSpPr/>
          <p:nvPr/>
        </p:nvGrpSpPr>
        <p:grpSpPr>
          <a:xfrm>
            <a:off x="1218240" y="2698920"/>
            <a:ext cx="874800" cy="660240"/>
            <a:chOff x="1218240" y="2698920"/>
            <a:chExt cx="874800" cy="660240"/>
          </a:xfrm>
        </p:grpSpPr>
        <p:sp>
          <p:nvSpPr>
            <p:cNvPr id="1820" name="Freeform 2897"/>
            <p:cNvSpPr/>
            <p:nvPr/>
          </p:nvSpPr>
          <p:spPr>
            <a:xfrm rot="17457600">
              <a:off x="1493280" y="295740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1" name="Group 2898"/>
            <p:cNvGrpSpPr/>
            <p:nvPr/>
          </p:nvGrpSpPr>
          <p:grpSpPr>
            <a:xfrm>
              <a:off x="1218240" y="2698920"/>
              <a:ext cx="874800" cy="660240"/>
              <a:chOff x="1218240" y="2698920"/>
              <a:chExt cx="874800" cy="660240"/>
            </a:xfrm>
          </p:grpSpPr>
          <p:grpSp>
            <p:nvGrpSpPr>
              <p:cNvPr id="1822" name="Group 2899"/>
              <p:cNvGrpSpPr/>
              <p:nvPr/>
            </p:nvGrpSpPr>
            <p:grpSpPr>
              <a:xfrm>
                <a:off x="1478160" y="2986560"/>
                <a:ext cx="614880" cy="363600"/>
                <a:chOff x="1478160" y="2986560"/>
                <a:chExt cx="614880" cy="363600"/>
              </a:xfrm>
            </p:grpSpPr>
            <p:sp>
              <p:nvSpPr>
                <p:cNvPr id="1823" name="AutoShape 2900"/>
                <p:cNvSpPr/>
                <p:nvPr/>
              </p:nvSpPr>
              <p:spPr>
                <a:xfrm rot="17457600">
                  <a:off x="1485720" y="300312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Freeform 2901"/>
                <p:cNvSpPr/>
                <p:nvPr/>
              </p:nvSpPr>
              <p:spPr>
                <a:xfrm rot="17457600">
                  <a:off x="1718280" y="293040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Oval 2902"/>
                <p:cNvSpPr/>
                <p:nvPr/>
              </p:nvSpPr>
              <p:spPr>
                <a:xfrm rot="18001200">
                  <a:off x="1975680" y="318564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6" name="Group 2903"/>
              <p:cNvGrpSpPr/>
              <p:nvPr/>
            </p:nvGrpSpPr>
            <p:grpSpPr>
              <a:xfrm>
                <a:off x="1218240" y="2698920"/>
                <a:ext cx="541800" cy="660240"/>
                <a:chOff x="1218240" y="2698920"/>
                <a:chExt cx="541800" cy="660240"/>
              </a:xfrm>
            </p:grpSpPr>
            <p:sp>
              <p:nvSpPr>
                <p:cNvPr id="1827" name="Freeform 2904"/>
                <p:cNvSpPr/>
                <p:nvPr/>
              </p:nvSpPr>
              <p:spPr>
                <a:xfrm rot="17457600">
                  <a:off x="1443600" y="308700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8" name="Freeform 2905"/>
                <p:cNvSpPr/>
                <p:nvPr/>
              </p:nvSpPr>
              <p:spPr>
                <a:xfrm rot="17457600">
                  <a:off x="1379520" y="316080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Freeform 2906"/>
                <p:cNvSpPr/>
                <p:nvPr/>
              </p:nvSpPr>
              <p:spPr>
                <a:xfrm rot="17457600">
                  <a:off x="1304280" y="3152520"/>
                  <a:ext cx="284040" cy="676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Freeform 2907"/>
                <p:cNvSpPr/>
                <p:nvPr/>
              </p:nvSpPr>
              <p:spPr>
                <a:xfrm rot="17457600">
                  <a:off x="1267560" y="315936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Freeform 2908"/>
                <p:cNvSpPr/>
                <p:nvPr/>
              </p:nvSpPr>
              <p:spPr>
                <a:xfrm rot="17457600">
                  <a:off x="1266120" y="312300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Freeform 2909"/>
                <p:cNvSpPr/>
                <p:nvPr/>
              </p:nvSpPr>
              <p:spPr>
                <a:xfrm rot="17457600">
                  <a:off x="1280520" y="3096720"/>
                  <a:ext cx="284040" cy="1130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Freeform 2910"/>
                <p:cNvSpPr/>
                <p:nvPr/>
              </p:nvSpPr>
              <p:spPr>
                <a:xfrm rot="17457600">
                  <a:off x="1292040" y="3028320"/>
                  <a:ext cx="214200" cy="1807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Freeform 2911"/>
                <p:cNvSpPr/>
                <p:nvPr/>
              </p:nvSpPr>
              <p:spPr>
                <a:xfrm rot="17457600">
                  <a:off x="1267920" y="305604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Freeform 2912"/>
                <p:cNvSpPr/>
                <p:nvPr/>
              </p:nvSpPr>
              <p:spPr>
                <a:xfrm rot="17457600">
                  <a:off x="1312200" y="30369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Freeform 2913"/>
                <p:cNvSpPr/>
                <p:nvPr/>
              </p:nvSpPr>
              <p:spPr>
                <a:xfrm rot="17457600">
                  <a:off x="1248120" y="2990160"/>
                  <a:ext cx="262800" cy="24480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Line 2914"/>
                <p:cNvSpPr/>
                <p:nvPr/>
              </p:nvSpPr>
              <p:spPr>
                <a:xfrm flipH="1">
                  <a:off x="1264320" y="3031920"/>
                  <a:ext cx="301680" cy="910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Freeform 2915"/>
                <p:cNvSpPr/>
                <p:nvPr/>
              </p:nvSpPr>
              <p:spPr>
                <a:xfrm rot="17457600">
                  <a:off x="1337760" y="2946960"/>
                  <a:ext cx="158760" cy="249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Freeform 2916"/>
                <p:cNvSpPr/>
                <p:nvPr/>
              </p:nvSpPr>
              <p:spPr>
                <a:xfrm rot="17457600">
                  <a:off x="1348200" y="2921400"/>
                  <a:ext cx="123120" cy="25632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Freeform 2917"/>
                <p:cNvSpPr/>
                <p:nvPr/>
              </p:nvSpPr>
              <p:spPr>
                <a:xfrm rot="17457600">
                  <a:off x="1368720" y="2891880"/>
                  <a:ext cx="82440" cy="2714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Freeform 2918"/>
                <p:cNvSpPr/>
                <p:nvPr/>
              </p:nvSpPr>
              <p:spPr>
                <a:xfrm rot="17457600">
                  <a:off x="1402920" y="285336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Freeform 2919"/>
                <p:cNvSpPr/>
                <p:nvPr/>
              </p:nvSpPr>
              <p:spPr>
                <a:xfrm rot="17457600">
                  <a:off x="1380600" y="2824200"/>
                  <a:ext cx="47520" cy="3146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Freeform 2920"/>
                <p:cNvSpPr/>
                <p:nvPr/>
              </p:nvSpPr>
              <p:spPr>
                <a:xfrm rot="17457600">
                  <a:off x="1415160" y="282816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Freeform 2921"/>
                <p:cNvSpPr/>
                <p:nvPr/>
              </p:nvSpPr>
              <p:spPr>
                <a:xfrm rot="17457600">
                  <a:off x="1418760" y="2828880"/>
                  <a:ext cx="79200" cy="237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Freeform 2922"/>
                <p:cNvSpPr/>
                <p:nvPr/>
              </p:nvSpPr>
              <p:spPr>
                <a:xfrm rot="17457600">
                  <a:off x="1352160" y="275940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Freeform 2923"/>
                <p:cNvSpPr/>
                <p:nvPr/>
              </p:nvSpPr>
              <p:spPr>
                <a:xfrm rot="17457600">
                  <a:off x="1369440" y="277308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Freeform 2924"/>
                <p:cNvSpPr/>
                <p:nvPr/>
              </p:nvSpPr>
              <p:spPr>
                <a:xfrm rot="17457600">
                  <a:off x="1389240" y="2785680"/>
                  <a:ext cx="238320" cy="192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Freeform 2925"/>
                <p:cNvSpPr/>
                <p:nvPr/>
              </p:nvSpPr>
              <p:spPr>
                <a:xfrm rot="17457600">
                  <a:off x="1393920" y="279252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Freeform 2926"/>
                <p:cNvSpPr/>
                <p:nvPr/>
              </p:nvSpPr>
              <p:spPr>
                <a:xfrm rot="17457600">
                  <a:off x="1381680" y="279648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Freeform 2927"/>
                <p:cNvSpPr/>
                <p:nvPr/>
              </p:nvSpPr>
              <p:spPr>
                <a:xfrm rot="17457600">
                  <a:off x="1504800" y="294372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Freeform 2928"/>
                <p:cNvSpPr/>
                <p:nvPr/>
              </p:nvSpPr>
              <p:spPr>
                <a:xfrm rot="17457600">
                  <a:off x="1534320" y="296748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Freeform 2929"/>
                <p:cNvSpPr/>
                <p:nvPr/>
              </p:nvSpPr>
              <p:spPr>
                <a:xfrm rot="17457600">
                  <a:off x="1571400" y="2992680"/>
                  <a:ext cx="90720" cy="676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Freeform 2930"/>
                <p:cNvSpPr/>
                <p:nvPr/>
              </p:nvSpPr>
              <p:spPr>
                <a:xfrm rot="17457600">
                  <a:off x="1579680" y="301284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Freeform 2931"/>
                <p:cNvSpPr/>
                <p:nvPr/>
              </p:nvSpPr>
              <p:spPr>
                <a:xfrm rot="17457600">
                  <a:off x="1380240" y="314100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Freeform 2932"/>
                <p:cNvSpPr/>
                <p:nvPr/>
              </p:nvSpPr>
              <p:spPr>
                <a:xfrm rot="17457600">
                  <a:off x="1485000" y="292752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6" name="Freeform 2933"/>
                <p:cNvSpPr/>
                <p:nvPr/>
              </p:nvSpPr>
              <p:spPr>
                <a:xfrm rot="17457600">
                  <a:off x="1549800" y="294948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Freeform 2934"/>
                <p:cNvSpPr/>
                <p:nvPr/>
              </p:nvSpPr>
              <p:spPr>
                <a:xfrm rot="17457600">
                  <a:off x="1423080" y="2867760"/>
                  <a:ext cx="8640" cy="2606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Freeform 2935"/>
                <p:cNvSpPr/>
                <p:nvPr/>
              </p:nvSpPr>
              <p:spPr>
                <a:xfrm rot="17457600">
                  <a:off x="1506960" y="304596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Freeform 2936"/>
                <p:cNvSpPr/>
                <p:nvPr/>
              </p:nvSpPr>
              <p:spPr>
                <a:xfrm rot="17457600">
                  <a:off x="1568520" y="3045960"/>
                  <a:ext cx="124560" cy="2041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Freeform 2937"/>
                <p:cNvSpPr/>
                <p:nvPr/>
              </p:nvSpPr>
              <p:spPr>
                <a:xfrm rot="17457600">
                  <a:off x="1626840" y="295452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Freeform 2938"/>
                <p:cNvSpPr/>
                <p:nvPr/>
              </p:nvSpPr>
              <p:spPr>
                <a:xfrm rot="18138600">
                  <a:off x="1520280" y="294300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Freeform 2939"/>
                <p:cNvSpPr/>
                <p:nvPr/>
              </p:nvSpPr>
              <p:spPr>
                <a:xfrm rot="17457600">
                  <a:off x="1440720" y="289332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63" name="Group 2940"/>
          <p:cNvGrpSpPr/>
          <p:nvPr/>
        </p:nvGrpSpPr>
        <p:grpSpPr>
          <a:xfrm>
            <a:off x="1735200" y="2332800"/>
            <a:ext cx="670320" cy="934920"/>
            <a:chOff x="1735200" y="2332800"/>
            <a:chExt cx="670320" cy="934920"/>
          </a:xfrm>
        </p:grpSpPr>
        <p:sp>
          <p:nvSpPr>
            <p:cNvPr id="1864" name="Freeform 2941"/>
            <p:cNvSpPr/>
            <p:nvPr/>
          </p:nvSpPr>
          <p:spPr>
            <a:xfrm rot="20999400">
              <a:off x="2106720" y="260892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5" name="Group 2942"/>
            <p:cNvGrpSpPr/>
            <p:nvPr/>
          </p:nvGrpSpPr>
          <p:grpSpPr>
            <a:xfrm>
              <a:off x="1735200" y="2332800"/>
              <a:ext cx="670320" cy="934920"/>
              <a:chOff x="1735200" y="2332800"/>
              <a:chExt cx="670320" cy="934920"/>
            </a:xfrm>
          </p:grpSpPr>
          <p:grpSp>
            <p:nvGrpSpPr>
              <p:cNvPr id="1866" name="Group 2943"/>
              <p:cNvGrpSpPr/>
              <p:nvPr/>
            </p:nvGrpSpPr>
            <p:grpSpPr>
              <a:xfrm>
                <a:off x="2035800" y="2600640"/>
                <a:ext cx="130680" cy="667080"/>
                <a:chOff x="2035800" y="2600640"/>
                <a:chExt cx="130680" cy="667080"/>
              </a:xfrm>
            </p:grpSpPr>
            <p:sp>
              <p:nvSpPr>
                <p:cNvPr id="1867" name="AutoShape 2944"/>
                <p:cNvSpPr/>
                <p:nvPr/>
              </p:nvSpPr>
              <p:spPr>
                <a:xfrm rot="20999400">
                  <a:off x="2041920" y="260784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Freeform 2945"/>
                <p:cNvSpPr/>
                <p:nvPr/>
              </p:nvSpPr>
              <p:spPr>
                <a:xfrm rot="20999400">
                  <a:off x="2082600" y="266472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Oval 2946"/>
                <p:cNvSpPr/>
                <p:nvPr/>
              </p:nvSpPr>
              <p:spPr>
                <a:xfrm rot="21543600">
                  <a:off x="2099520" y="307440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0" name="Group 2947"/>
              <p:cNvGrpSpPr/>
              <p:nvPr/>
            </p:nvGrpSpPr>
            <p:grpSpPr>
              <a:xfrm>
                <a:off x="1735200" y="2332800"/>
                <a:ext cx="670320" cy="565560"/>
                <a:chOff x="1735200" y="2332800"/>
                <a:chExt cx="670320" cy="565560"/>
              </a:xfrm>
            </p:grpSpPr>
            <p:sp>
              <p:nvSpPr>
                <p:cNvPr id="1871" name="Freeform 2948"/>
                <p:cNvSpPr/>
                <p:nvPr/>
              </p:nvSpPr>
              <p:spPr>
                <a:xfrm rot="20999400">
                  <a:off x="1933200" y="264420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2" name="Freeform 2949"/>
                <p:cNvSpPr/>
                <p:nvPr/>
              </p:nvSpPr>
              <p:spPr>
                <a:xfrm rot="20999400">
                  <a:off x="1812240" y="267840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Freeform 2950"/>
                <p:cNvSpPr/>
                <p:nvPr/>
              </p:nvSpPr>
              <p:spPr>
                <a:xfrm rot="20999400">
                  <a:off x="1778400" y="2614320"/>
                  <a:ext cx="284040" cy="6804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Freeform 2951"/>
                <p:cNvSpPr/>
                <p:nvPr/>
              </p:nvSpPr>
              <p:spPr>
                <a:xfrm rot="20999400">
                  <a:off x="1740600" y="258552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Freeform 2952"/>
                <p:cNvSpPr/>
                <p:nvPr/>
              </p:nvSpPr>
              <p:spPr>
                <a:xfrm rot="20999400">
                  <a:off x="1761120" y="255924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Freeform 2953"/>
                <p:cNvSpPr/>
                <p:nvPr/>
              </p:nvSpPr>
              <p:spPr>
                <a:xfrm rot="20999400">
                  <a:off x="1794600" y="2554560"/>
                  <a:ext cx="284040" cy="11340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Freeform 2954"/>
                <p:cNvSpPr/>
                <p:nvPr/>
              </p:nvSpPr>
              <p:spPr>
                <a:xfrm rot="20999400">
                  <a:off x="1846800" y="2482560"/>
                  <a:ext cx="214200" cy="18108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Freeform 2955"/>
                <p:cNvSpPr/>
                <p:nvPr/>
              </p:nvSpPr>
              <p:spPr>
                <a:xfrm rot="20999400">
                  <a:off x="1811520" y="24969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Freeform 2956"/>
                <p:cNvSpPr/>
                <p:nvPr/>
              </p:nvSpPr>
              <p:spPr>
                <a:xfrm rot="20999400">
                  <a:off x="1850760" y="25246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Freeform 2957"/>
                <p:cNvSpPr/>
                <p:nvPr/>
              </p:nvSpPr>
              <p:spPr>
                <a:xfrm rot="20999400">
                  <a:off x="1817640" y="2430720"/>
                  <a:ext cx="262800" cy="2451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Line 2958"/>
                <p:cNvSpPr/>
                <p:nvPr/>
              </p:nvSpPr>
              <p:spPr>
                <a:xfrm flipH="1" flipV="1">
                  <a:off x="1881000" y="2459160"/>
                  <a:ext cx="233640" cy="2120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Freeform 2959"/>
                <p:cNvSpPr/>
                <p:nvPr/>
              </p:nvSpPr>
              <p:spPr>
                <a:xfrm rot="20999400">
                  <a:off x="1924200" y="2440080"/>
                  <a:ext cx="158760" cy="2494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Freeform 2960"/>
                <p:cNvSpPr/>
                <p:nvPr/>
              </p:nvSpPr>
              <p:spPr>
                <a:xfrm rot="20999400">
                  <a:off x="1957320" y="2418120"/>
                  <a:ext cx="123120" cy="2566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Freeform 2961"/>
                <p:cNvSpPr/>
                <p:nvPr/>
              </p:nvSpPr>
              <p:spPr>
                <a:xfrm rot="20999400">
                  <a:off x="1996200" y="2399760"/>
                  <a:ext cx="82440" cy="2718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Freeform 2962"/>
                <p:cNvSpPr/>
                <p:nvPr/>
              </p:nvSpPr>
              <p:spPr>
                <a:xfrm rot="20999400">
                  <a:off x="2049120" y="238680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Freeform 2963"/>
                <p:cNvSpPr/>
                <p:nvPr/>
              </p:nvSpPr>
              <p:spPr>
                <a:xfrm rot="20999400">
                  <a:off x="2050920" y="2349720"/>
                  <a:ext cx="47520" cy="3150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Freeform 2964"/>
                <p:cNvSpPr/>
                <p:nvPr/>
              </p:nvSpPr>
              <p:spPr>
                <a:xfrm rot="20999400">
                  <a:off x="2078640" y="238788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Freeform 2965"/>
                <p:cNvSpPr/>
                <p:nvPr/>
              </p:nvSpPr>
              <p:spPr>
                <a:xfrm rot="20999400">
                  <a:off x="2091240" y="2417040"/>
                  <a:ext cx="79200" cy="2383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2966"/>
                <p:cNvSpPr/>
                <p:nvPr/>
              </p:nvSpPr>
              <p:spPr>
                <a:xfrm rot="20999400">
                  <a:off x="2072880" y="234432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2967"/>
                <p:cNvSpPr/>
                <p:nvPr/>
              </p:nvSpPr>
              <p:spPr>
                <a:xfrm rot="20999400">
                  <a:off x="2078280" y="239652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2968"/>
                <p:cNvSpPr/>
                <p:nvPr/>
              </p:nvSpPr>
              <p:spPr>
                <a:xfrm rot="20999400">
                  <a:off x="2094120" y="2448360"/>
                  <a:ext cx="238320" cy="19296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2969"/>
                <p:cNvSpPr/>
                <p:nvPr/>
              </p:nvSpPr>
              <p:spPr>
                <a:xfrm rot="20999400">
                  <a:off x="2097000" y="247896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2970"/>
                <p:cNvSpPr/>
                <p:nvPr/>
              </p:nvSpPr>
              <p:spPr>
                <a:xfrm rot="20999400">
                  <a:off x="2076120" y="249012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2971"/>
                <p:cNvSpPr/>
                <p:nvPr/>
              </p:nvSpPr>
              <p:spPr>
                <a:xfrm rot="20999400">
                  <a:off x="2102040" y="265140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2972"/>
                <p:cNvSpPr/>
                <p:nvPr/>
              </p:nvSpPr>
              <p:spPr>
                <a:xfrm rot="20999400">
                  <a:off x="2106000" y="266148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2973"/>
                <p:cNvSpPr/>
                <p:nvPr/>
              </p:nvSpPr>
              <p:spPr>
                <a:xfrm rot="20999400">
                  <a:off x="2099520" y="2678400"/>
                  <a:ext cx="90720" cy="6804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2974"/>
                <p:cNvSpPr/>
                <p:nvPr/>
              </p:nvSpPr>
              <p:spPr>
                <a:xfrm rot="20999400">
                  <a:off x="2089440" y="268236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Freeform 2975"/>
                <p:cNvSpPr/>
                <p:nvPr/>
              </p:nvSpPr>
              <p:spPr>
                <a:xfrm rot="20999400">
                  <a:off x="1862280" y="266148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Freeform 2976"/>
                <p:cNvSpPr/>
                <p:nvPr/>
              </p:nvSpPr>
              <p:spPr>
                <a:xfrm rot="20999400">
                  <a:off x="2101320" y="264240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Freeform 2977"/>
                <p:cNvSpPr/>
                <p:nvPr/>
              </p:nvSpPr>
              <p:spPr>
                <a:xfrm rot="20999400">
                  <a:off x="2099160" y="266076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2978"/>
                <p:cNvSpPr/>
                <p:nvPr/>
              </p:nvSpPr>
              <p:spPr>
                <a:xfrm rot="20999400">
                  <a:off x="2067480" y="2404800"/>
                  <a:ext cx="8640" cy="2610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Freeform 2979"/>
                <p:cNvSpPr/>
                <p:nvPr/>
              </p:nvSpPr>
              <p:spPr>
                <a:xfrm rot="20999400">
                  <a:off x="1975320" y="265104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Freeform 2980"/>
                <p:cNvSpPr/>
                <p:nvPr/>
              </p:nvSpPr>
              <p:spPr>
                <a:xfrm rot="20999400">
                  <a:off x="1985760" y="2684520"/>
                  <a:ext cx="124560" cy="20448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2981"/>
                <p:cNvSpPr/>
                <p:nvPr/>
              </p:nvSpPr>
              <p:spPr>
                <a:xfrm rot="20999400">
                  <a:off x="2120040" y="267660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2982"/>
                <p:cNvSpPr/>
                <p:nvPr/>
              </p:nvSpPr>
              <p:spPr>
                <a:xfrm rot="80400">
                  <a:off x="2132640" y="262512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2983"/>
                <p:cNvSpPr/>
                <p:nvPr/>
              </p:nvSpPr>
              <p:spPr>
                <a:xfrm rot="20999400">
                  <a:off x="2074320" y="247788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07" name="Group 3028"/>
          <p:cNvGrpSpPr/>
          <p:nvPr/>
        </p:nvGrpSpPr>
        <p:grpSpPr>
          <a:xfrm>
            <a:off x="2238480" y="2489040"/>
            <a:ext cx="780480" cy="803880"/>
            <a:chOff x="2238480" y="2489040"/>
            <a:chExt cx="780480" cy="803880"/>
          </a:xfrm>
        </p:grpSpPr>
        <p:sp>
          <p:nvSpPr>
            <p:cNvPr id="1908" name="Freeform 3029"/>
            <p:cNvSpPr/>
            <p:nvPr/>
          </p:nvSpPr>
          <p:spPr>
            <a:xfrm rot="2258400">
              <a:off x="2703240" y="285444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9" name="Group 3030"/>
            <p:cNvGrpSpPr/>
            <p:nvPr/>
          </p:nvGrpSpPr>
          <p:grpSpPr>
            <a:xfrm>
              <a:off x="2238480" y="2489040"/>
              <a:ext cx="780480" cy="803880"/>
              <a:chOff x="2238480" y="2489040"/>
              <a:chExt cx="780480" cy="803880"/>
            </a:xfrm>
          </p:grpSpPr>
          <p:grpSp>
            <p:nvGrpSpPr>
              <p:cNvPr id="1910" name="Group 3031"/>
              <p:cNvGrpSpPr/>
              <p:nvPr/>
            </p:nvGrpSpPr>
            <p:grpSpPr>
              <a:xfrm>
                <a:off x="2238480" y="2772720"/>
                <a:ext cx="509040" cy="520200"/>
                <a:chOff x="2238480" y="2772720"/>
                <a:chExt cx="509040" cy="520200"/>
              </a:xfrm>
            </p:grpSpPr>
            <p:sp>
              <p:nvSpPr>
                <p:cNvPr id="1911" name="AutoShape 3032"/>
                <p:cNvSpPr/>
                <p:nvPr/>
              </p:nvSpPr>
              <p:spPr>
                <a:xfrm rot="2258400">
                  <a:off x="2641680" y="279216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Freeform 3033"/>
                <p:cNvSpPr/>
                <p:nvPr/>
              </p:nvSpPr>
              <p:spPr>
                <a:xfrm rot="2258400">
                  <a:off x="2503440" y="278604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Oval 3034"/>
                <p:cNvSpPr/>
                <p:nvPr/>
              </p:nvSpPr>
              <p:spPr>
                <a:xfrm rot="2802600">
                  <a:off x="2301120" y="311364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4" name="Group 3035"/>
              <p:cNvGrpSpPr/>
              <p:nvPr/>
            </p:nvGrpSpPr>
            <p:grpSpPr>
              <a:xfrm>
                <a:off x="2417400" y="2489040"/>
                <a:ext cx="601560" cy="564840"/>
                <a:chOff x="2417400" y="2489040"/>
                <a:chExt cx="601560" cy="564840"/>
              </a:xfrm>
            </p:grpSpPr>
            <p:sp>
              <p:nvSpPr>
                <p:cNvPr id="1915" name="Freeform 3036"/>
                <p:cNvSpPr/>
                <p:nvPr/>
              </p:nvSpPr>
              <p:spPr>
                <a:xfrm rot="2258400">
                  <a:off x="2532240" y="276192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Freeform 3037"/>
                <p:cNvSpPr/>
                <p:nvPr/>
              </p:nvSpPr>
              <p:spPr>
                <a:xfrm rot="2258400">
                  <a:off x="2409480" y="273888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Freeform 3038"/>
                <p:cNvSpPr/>
                <p:nvPr/>
              </p:nvSpPr>
              <p:spPr>
                <a:xfrm rot="2258400">
                  <a:off x="2432160" y="2675160"/>
                  <a:ext cx="284040" cy="676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Freeform 3039"/>
                <p:cNvSpPr/>
                <p:nvPr/>
              </p:nvSpPr>
              <p:spPr>
                <a:xfrm rot="2258400">
                  <a:off x="2417400" y="262836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Freeform 3040"/>
                <p:cNvSpPr/>
                <p:nvPr/>
              </p:nvSpPr>
              <p:spPr>
                <a:xfrm rot="2258400">
                  <a:off x="2442240" y="262080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Freeform 3041"/>
                <p:cNvSpPr/>
                <p:nvPr/>
              </p:nvSpPr>
              <p:spPr>
                <a:xfrm rot="2258400">
                  <a:off x="2470680" y="2639160"/>
                  <a:ext cx="284040" cy="1130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Freeform 3042"/>
                <p:cNvSpPr/>
                <p:nvPr/>
              </p:nvSpPr>
              <p:spPr>
                <a:xfrm rot="2258400">
                  <a:off x="2545200" y="2592720"/>
                  <a:ext cx="214200" cy="1807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Freeform 3043"/>
                <p:cNvSpPr/>
                <p:nvPr/>
              </p:nvSpPr>
              <p:spPr>
                <a:xfrm rot="2258400">
                  <a:off x="2513160" y="25930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Freeform 3044"/>
                <p:cNvSpPr/>
                <p:nvPr/>
              </p:nvSpPr>
              <p:spPr>
                <a:xfrm rot="2258400">
                  <a:off x="2519280" y="26409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Freeform 3045"/>
                <p:cNvSpPr/>
                <p:nvPr/>
              </p:nvSpPr>
              <p:spPr>
                <a:xfrm rot="2258400">
                  <a:off x="2532240" y="2543760"/>
                  <a:ext cx="262800" cy="24480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Line 3046"/>
                <p:cNvSpPr/>
                <p:nvPr/>
              </p:nvSpPr>
              <p:spPr>
                <a:xfrm flipH="1" flipV="1">
                  <a:off x="2687400" y="2552760"/>
                  <a:ext cx="720" cy="3153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Freeform 3047"/>
                <p:cNvSpPr/>
                <p:nvPr/>
              </p:nvSpPr>
              <p:spPr>
                <a:xfrm rot="2258400">
                  <a:off x="2612520" y="2589480"/>
                  <a:ext cx="158760" cy="249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Freeform 3048"/>
                <p:cNvSpPr/>
                <p:nvPr/>
              </p:nvSpPr>
              <p:spPr>
                <a:xfrm rot="2258400">
                  <a:off x="2654280" y="2585160"/>
                  <a:ext cx="123120" cy="25632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Freeform 3049"/>
                <p:cNvSpPr/>
                <p:nvPr/>
              </p:nvSpPr>
              <p:spPr>
                <a:xfrm rot="2258400">
                  <a:off x="2694960" y="2584080"/>
                  <a:ext cx="82440" cy="2714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Freeform 3050"/>
                <p:cNvSpPr/>
                <p:nvPr/>
              </p:nvSpPr>
              <p:spPr>
                <a:xfrm rot="2258400">
                  <a:off x="2739960" y="259560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Freeform 3051"/>
                <p:cNvSpPr/>
                <p:nvPr/>
              </p:nvSpPr>
              <p:spPr>
                <a:xfrm rot="2258400">
                  <a:off x="2758320" y="2570760"/>
                  <a:ext cx="47520" cy="3146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Freeform 3052"/>
                <p:cNvSpPr/>
                <p:nvPr/>
              </p:nvSpPr>
              <p:spPr>
                <a:xfrm rot="2258400">
                  <a:off x="2760840" y="262116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Freeform 3053"/>
                <p:cNvSpPr/>
                <p:nvPr/>
              </p:nvSpPr>
              <p:spPr>
                <a:xfrm rot="2258400">
                  <a:off x="2759400" y="2670120"/>
                  <a:ext cx="79200" cy="237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Freeform 3054"/>
                <p:cNvSpPr/>
                <p:nvPr/>
              </p:nvSpPr>
              <p:spPr>
                <a:xfrm rot="2258400">
                  <a:off x="2766600" y="262764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Freeform 3055"/>
                <p:cNvSpPr/>
                <p:nvPr/>
              </p:nvSpPr>
              <p:spPr>
                <a:xfrm rot="2258400">
                  <a:off x="2741040" y="269136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Freeform 3056"/>
                <p:cNvSpPr/>
                <p:nvPr/>
              </p:nvSpPr>
              <p:spPr>
                <a:xfrm rot="2258400">
                  <a:off x="2728800" y="2759400"/>
                  <a:ext cx="238320" cy="192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Freeform 3057"/>
                <p:cNvSpPr/>
                <p:nvPr/>
              </p:nvSpPr>
              <p:spPr>
                <a:xfrm rot="2258400">
                  <a:off x="2714760" y="280044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Freeform 3058"/>
                <p:cNvSpPr/>
                <p:nvPr/>
              </p:nvSpPr>
              <p:spPr>
                <a:xfrm rot="2258400">
                  <a:off x="2685600" y="280908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Freeform 3059"/>
                <p:cNvSpPr/>
                <p:nvPr/>
              </p:nvSpPr>
              <p:spPr>
                <a:xfrm rot="2258400">
                  <a:off x="2654280" y="291384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Freeform 3060"/>
                <p:cNvSpPr/>
                <p:nvPr/>
              </p:nvSpPr>
              <p:spPr>
                <a:xfrm rot="2258400">
                  <a:off x="2654640" y="289944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Freeform 3061"/>
                <p:cNvSpPr/>
                <p:nvPr/>
              </p:nvSpPr>
              <p:spPr>
                <a:xfrm rot="2258400">
                  <a:off x="2632680" y="2884320"/>
                  <a:ext cx="90720" cy="676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Freeform 3062"/>
                <p:cNvSpPr/>
                <p:nvPr/>
              </p:nvSpPr>
              <p:spPr>
                <a:xfrm rot="2258400">
                  <a:off x="2623680" y="286848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Freeform 3063"/>
                <p:cNvSpPr/>
                <p:nvPr/>
              </p:nvSpPr>
              <p:spPr>
                <a:xfrm rot="2258400">
                  <a:off x="2481480" y="275616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Freeform 3064"/>
                <p:cNvSpPr/>
                <p:nvPr/>
              </p:nvSpPr>
              <p:spPr>
                <a:xfrm rot="2258400">
                  <a:off x="2658240" y="292032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Freeform 3065"/>
                <p:cNvSpPr/>
                <p:nvPr/>
              </p:nvSpPr>
              <p:spPr>
                <a:xfrm rot="2258400">
                  <a:off x="2625840" y="289368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Freeform 3066"/>
                <p:cNvSpPr/>
                <p:nvPr/>
              </p:nvSpPr>
              <p:spPr>
                <a:xfrm rot="2258400">
                  <a:off x="2755800" y="2614320"/>
                  <a:ext cx="8640" cy="2606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Freeform 3067"/>
                <p:cNvSpPr/>
                <p:nvPr/>
              </p:nvSpPr>
              <p:spPr>
                <a:xfrm rot="2258400">
                  <a:off x="2532600" y="277740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3068"/>
                <p:cNvSpPr/>
                <p:nvPr/>
              </p:nvSpPr>
              <p:spPr>
                <a:xfrm rot="2258400">
                  <a:off x="2495160" y="2794680"/>
                  <a:ext cx="124560" cy="2041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Freeform 3069"/>
                <p:cNvSpPr/>
                <p:nvPr/>
              </p:nvSpPr>
              <p:spPr>
                <a:xfrm rot="2258400">
                  <a:off x="2611800" y="287748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Freeform 3070"/>
                <p:cNvSpPr/>
                <p:nvPr/>
              </p:nvSpPr>
              <p:spPr>
                <a:xfrm rot="2939400">
                  <a:off x="2709000" y="288432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Freeform 3071"/>
                <p:cNvSpPr/>
                <p:nvPr/>
              </p:nvSpPr>
              <p:spPr>
                <a:xfrm rot="2258400">
                  <a:off x="2725200" y="270360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51" name="Group 3126"/>
          <p:cNvGrpSpPr/>
          <p:nvPr/>
        </p:nvGrpSpPr>
        <p:grpSpPr>
          <a:xfrm>
            <a:off x="1403280" y="2349360"/>
            <a:ext cx="1728720" cy="1728720"/>
            <a:chOff x="1403280" y="2349360"/>
            <a:chExt cx="1728720" cy="1728720"/>
          </a:xfrm>
        </p:grpSpPr>
        <p:sp>
          <p:nvSpPr>
            <p:cNvPr id="1952" name="Rectangle 3124"/>
            <p:cNvSpPr/>
            <p:nvPr/>
          </p:nvSpPr>
          <p:spPr>
            <a:xfrm>
              <a:off x="1403280" y="2349360"/>
              <a:ext cx="172872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Group 3072"/>
            <p:cNvGrpSpPr/>
            <p:nvPr/>
          </p:nvGrpSpPr>
          <p:grpSpPr>
            <a:xfrm>
              <a:off x="2176200" y="2413800"/>
              <a:ext cx="701640" cy="858960"/>
              <a:chOff x="2176200" y="2413800"/>
              <a:chExt cx="701640" cy="858960"/>
            </a:xfrm>
          </p:grpSpPr>
          <p:sp>
            <p:nvSpPr>
              <p:cNvPr id="1954" name="Freeform 3073"/>
              <p:cNvSpPr/>
              <p:nvPr/>
            </p:nvSpPr>
            <p:spPr>
              <a:xfrm rot="1598400">
                <a:off x="2556720" y="2749320"/>
                <a:ext cx="102240" cy="22320"/>
              </a:xfrm>
              <a:custGeom>
                <a:avLst/>
                <a:gdLst/>
                <a:ahLst/>
                <a:rect l="l" t="t" r="r" b="b"/>
                <a:pathLst>
                  <a:path w="409" h="90">
                    <a:moveTo>
                      <a:pt x="0" y="90"/>
                    </a:moveTo>
                    <a:cubicBezTo>
                      <a:pt x="36" y="85"/>
                      <a:pt x="149" y="77"/>
                      <a:pt x="217" y="62"/>
                    </a:cubicBezTo>
                    <a:lnTo>
                      <a:pt x="409" y="0"/>
                    </a:lnTo>
                  </a:path>
                </a:pathLst>
              </a:custGeom>
              <a:noFill/>
              <a:ln cap="rnd" w="93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5" name="Group 3074"/>
              <p:cNvGrpSpPr/>
              <p:nvPr/>
            </p:nvGrpSpPr>
            <p:grpSpPr>
              <a:xfrm>
                <a:off x="2176200" y="2413800"/>
                <a:ext cx="701640" cy="858960"/>
                <a:chOff x="2176200" y="2413800"/>
                <a:chExt cx="701640" cy="858960"/>
              </a:xfrm>
            </p:grpSpPr>
            <p:grpSp>
              <p:nvGrpSpPr>
                <p:cNvPr id="1956" name="Group 3075"/>
                <p:cNvGrpSpPr/>
                <p:nvPr/>
              </p:nvGrpSpPr>
              <p:grpSpPr>
                <a:xfrm>
                  <a:off x="2176200" y="2684520"/>
                  <a:ext cx="417240" cy="588240"/>
                  <a:chOff x="2176200" y="2684520"/>
                  <a:chExt cx="417240" cy="588240"/>
                </a:xfrm>
              </p:grpSpPr>
              <p:sp>
                <p:nvSpPr>
                  <p:cNvPr id="1957" name="AutoShape 3076"/>
                  <p:cNvSpPr/>
                  <p:nvPr/>
                </p:nvSpPr>
                <p:spPr>
                  <a:xfrm rot="1598400">
                    <a:off x="2489760" y="2700360"/>
                    <a:ext cx="90720" cy="79200"/>
                  </a:xfrm>
                  <a:prstGeom prst="irregularSeal1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Freeform 3077"/>
                  <p:cNvSpPr/>
                  <p:nvPr/>
                </p:nvSpPr>
                <p:spPr>
                  <a:xfrm rot="1598400">
                    <a:off x="2387520" y="2722320"/>
                    <a:ext cx="46080" cy="43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735">
                        <a:moveTo>
                          <a:pt x="185" y="0"/>
                        </a:moveTo>
                        <a:cubicBezTo>
                          <a:pt x="174" y="126"/>
                          <a:pt x="137" y="578"/>
                          <a:pt x="120" y="757"/>
                        </a:cubicBezTo>
                        <a:lnTo>
                          <a:pt x="84" y="1075"/>
                        </a:lnTo>
                        <a:lnTo>
                          <a:pt x="0" y="1735"/>
                        </a:lnTo>
                      </a:path>
                    </a:pathLst>
                  </a:custGeom>
                  <a:noFill/>
                  <a:ln w="11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Oval 3078"/>
                  <p:cNvSpPr/>
                  <p:nvPr/>
                </p:nvSpPr>
                <p:spPr>
                  <a:xfrm rot="2142600">
                    <a:off x="2228040" y="3084840"/>
                    <a:ext cx="45360" cy="192600"/>
                  </a:xfrm>
                  <a:prstGeom prst="ellipse">
                    <a:avLst/>
                  </a:prstGeom>
                  <a:solidFill>
                    <a:srgbClr val="ffffff">
                      <a:alpha val="86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0" name="Group 3079"/>
                <p:cNvGrpSpPr/>
                <p:nvPr/>
              </p:nvGrpSpPr>
              <p:grpSpPr>
                <a:xfrm>
                  <a:off x="2233080" y="2413800"/>
                  <a:ext cx="644760" cy="555120"/>
                  <a:chOff x="2233080" y="2413800"/>
                  <a:chExt cx="644760" cy="555120"/>
                </a:xfrm>
              </p:grpSpPr>
              <p:sp>
                <p:nvSpPr>
                  <p:cNvPr id="1961" name="Freeform 3080"/>
                  <p:cNvSpPr/>
                  <p:nvPr/>
                </p:nvSpPr>
                <p:spPr>
                  <a:xfrm rot="1598400">
                    <a:off x="2375280" y="2685240"/>
                    <a:ext cx="15804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2" h="303">
                        <a:moveTo>
                          <a:pt x="544" y="303"/>
                        </a:moveTo>
                        <a:cubicBezTo>
                          <a:pt x="553" y="278"/>
                          <a:pt x="593" y="184"/>
                          <a:pt x="598" y="153"/>
                        </a:cubicBezTo>
                        <a:cubicBezTo>
                          <a:pt x="603" y="122"/>
                          <a:pt x="632" y="137"/>
                          <a:pt x="574" y="117"/>
                        </a:cubicBezTo>
                        <a:cubicBezTo>
                          <a:pt x="516" y="97"/>
                          <a:pt x="346" y="0"/>
                          <a:pt x="250" y="31"/>
                        </a:cubicBezTo>
                        <a:cubicBezTo>
                          <a:pt x="154" y="62"/>
                          <a:pt x="52" y="245"/>
                          <a:pt x="0" y="303"/>
                        </a:cubicBezTo>
                      </a:path>
                    </a:pathLst>
                  </a:custGeom>
                  <a:noFill/>
                  <a:ln cap="rnd" w="144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Freeform 3081"/>
                  <p:cNvSpPr/>
                  <p:nvPr/>
                </p:nvSpPr>
                <p:spPr>
                  <a:xfrm rot="1598400">
                    <a:off x="2248560" y="2675880"/>
                    <a:ext cx="27252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272">
                        <a:moveTo>
                          <a:pt x="1089" y="0"/>
                        </a:moveTo>
                        <a:cubicBezTo>
                          <a:pt x="988" y="18"/>
                          <a:pt x="663" y="64"/>
                          <a:pt x="482" y="109"/>
                        </a:cubicBezTo>
                        <a:cubicBezTo>
                          <a:pt x="301" y="154"/>
                          <a:pt x="100" y="238"/>
                          <a:pt x="0" y="272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3" name="Freeform 3082"/>
                  <p:cNvSpPr/>
                  <p:nvPr/>
                </p:nvSpPr>
                <p:spPr>
                  <a:xfrm rot="1598400">
                    <a:off x="2258640" y="2607480"/>
                    <a:ext cx="2840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272">
                        <a:moveTo>
                          <a:pt x="1134" y="272"/>
                        </a:moveTo>
                        <a:cubicBezTo>
                          <a:pt x="1024" y="241"/>
                          <a:pt x="663" y="129"/>
                          <a:pt x="474" y="84"/>
                        </a:cubicBezTo>
                        <a:cubicBezTo>
                          <a:pt x="285" y="39"/>
                          <a:pt x="99" y="17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Freeform 3083"/>
                  <p:cNvSpPr/>
                  <p:nvPr/>
                </p:nvSpPr>
                <p:spPr>
                  <a:xfrm rot="1598400">
                    <a:off x="2237400" y="2562840"/>
                    <a:ext cx="2955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363">
                        <a:moveTo>
                          <a:pt x="1180" y="363"/>
                        </a:moveTo>
                        <a:cubicBezTo>
                          <a:pt x="1067" y="321"/>
                          <a:pt x="699" y="172"/>
                          <a:pt x="502" y="112"/>
                        </a:cubicBezTo>
                        <a:cubicBezTo>
                          <a:pt x="305" y="52"/>
                          <a:pt x="105" y="23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Freeform 3084"/>
                  <p:cNvSpPr/>
                  <p:nvPr/>
                </p:nvSpPr>
                <p:spPr>
                  <a:xfrm rot="1598400">
                    <a:off x="2262600" y="2550960"/>
                    <a:ext cx="29376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3" h="461">
                        <a:moveTo>
                          <a:pt x="1173" y="461"/>
                        </a:moveTo>
                        <a:cubicBezTo>
                          <a:pt x="1088" y="425"/>
                          <a:pt x="862" y="323"/>
                          <a:pt x="666" y="246"/>
                        </a:cubicBezTo>
                        <a:cubicBezTo>
                          <a:pt x="470" y="169"/>
                          <a:pt x="139" y="5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6" name="Freeform 3085"/>
                  <p:cNvSpPr/>
                  <p:nvPr/>
                </p:nvSpPr>
                <p:spPr>
                  <a:xfrm rot="1598400">
                    <a:off x="2293920" y="2564280"/>
                    <a:ext cx="284040" cy="11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453">
                        <a:moveTo>
                          <a:pt x="1134" y="453"/>
                        </a:moveTo>
                        <a:cubicBezTo>
                          <a:pt x="1034" y="407"/>
                          <a:pt x="722" y="254"/>
                          <a:pt x="533" y="178"/>
                        </a:cubicBezTo>
                        <a:cubicBezTo>
                          <a:pt x="344" y="102"/>
                          <a:pt x="111" y="37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Freeform 3086"/>
                  <p:cNvSpPr/>
                  <p:nvPr/>
                </p:nvSpPr>
                <p:spPr>
                  <a:xfrm rot="1598400">
                    <a:off x="2365200" y="2510640"/>
                    <a:ext cx="214200" cy="1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724">
                        <a:moveTo>
                          <a:pt x="856" y="724"/>
                        </a:moveTo>
                        <a:lnTo>
                          <a:pt x="372" y="234"/>
                        </a:lnTo>
                        <a:cubicBezTo>
                          <a:pt x="229" y="113"/>
                          <a:pt x="77" y="49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Freeform 3087"/>
                  <p:cNvSpPr/>
                  <p:nvPr/>
                </p:nvSpPr>
                <p:spPr>
                  <a:xfrm rot="1598400">
                    <a:off x="2331720" y="2513880"/>
                    <a:ext cx="2498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5">
                        <a:moveTo>
                          <a:pt x="998" y="635"/>
                        </a:moveTo>
                        <a:lnTo>
                          <a:pt x="220" y="11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Freeform 3088"/>
                  <p:cNvSpPr/>
                  <p:nvPr/>
                </p:nvSpPr>
                <p:spPr>
                  <a:xfrm rot="1598400">
                    <a:off x="2346480" y="2559600"/>
                    <a:ext cx="2498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35">
                        <a:moveTo>
                          <a:pt x="998" y="635"/>
                        </a:moveTo>
                        <a:cubicBezTo>
                          <a:pt x="882" y="554"/>
                          <a:pt x="466" y="255"/>
                          <a:pt x="300" y="149"/>
                        </a:cubicBezTo>
                        <a:cubicBezTo>
                          <a:pt x="134" y="43"/>
                          <a:pt x="62" y="3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Freeform 3089"/>
                  <p:cNvSpPr/>
                  <p:nvPr/>
                </p:nvSpPr>
                <p:spPr>
                  <a:xfrm rot="1598400">
                    <a:off x="2349000" y="2459520"/>
                    <a:ext cx="262800" cy="24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0" h="980">
                        <a:moveTo>
                          <a:pt x="1050" y="980"/>
                        </a:moveTo>
                        <a:lnTo>
                          <a:pt x="378" y="234"/>
                        </a:lnTo>
                        <a:cubicBezTo>
                          <a:pt x="203" y="71"/>
                          <a:pt x="79" y="49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Line 3090"/>
                  <p:cNvSpPr/>
                  <p:nvPr/>
                </p:nvSpPr>
                <p:spPr>
                  <a:xfrm flipH="1" flipV="1">
                    <a:off x="2482200" y="2466000"/>
                    <a:ext cx="60840" cy="309600"/>
                  </a:xfrm>
                  <a:prstGeom prst="line">
                    <a:avLst/>
                  </a:prstGeom>
                  <a:ln w="25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Freeform 3091"/>
                  <p:cNvSpPr/>
                  <p:nvPr/>
                </p:nvSpPr>
                <p:spPr>
                  <a:xfrm rot="1598400">
                    <a:off x="2438280" y="2499480"/>
                    <a:ext cx="15876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997">
                        <a:moveTo>
                          <a:pt x="635" y="997"/>
                        </a:moveTo>
                        <a:cubicBezTo>
                          <a:pt x="569" y="887"/>
                          <a:pt x="345" y="500"/>
                          <a:pt x="239" y="334"/>
                        </a:cubicBezTo>
                        <a:cubicBezTo>
                          <a:pt x="133" y="168"/>
                          <a:pt x="50" y="70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Freeform 3092"/>
                  <p:cNvSpPr/>
                  <p:nvPr/>
                </p:nvSpPr>
                <p:spPr>
                  <a:xfrm rot="1598400">
                    <a:off x="2478600" y="2490120"/>
                    <a:ext cx="12312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1026">
                        <a:moveTo>
                          <a:pt x="492" y="1026"/>
                        </a:moveTo>
                        <a:cubicBezTo>
                          <a:pt x="452" y="924"/>
                          <a:pt x="334" y="585"/>
                          <a:pt x="252" y="414"/>
                        </a:cubicBezTo>
                        <a:cubicBezTo>
                          <a:pt x="170" y="243"/>
                          <a:pt x="53" y="86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4" name="Freeform 3093"/>
                  <p:cNvSpPr/>
                  <p:nvPr/>
                </p:nvSpPr>
                <p:spPr>
                  <a:xfrm rot="1598400">
                    <a:off x="2520720" y="2485080"/>
                    <a:ext cx="8244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086">
                        <a:moveTo>
                          <a:pt x="330" y="1086"/>
                        </a:moveTo>
                        <a:cubicBezTo>
                          <a:pt x="302" y="966"/>
                          <a:pt x="217" y="547"/>
                          <a:pt x="162" y="366"/>
                        </a:cubicBezTo>
                        <a:cubicBezTo>
                          <a:pt x="107" y="185"/>
                          <a:pt x="34" y="76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Freeform 3094"/>
                  <p:cNvSpPr/>
                  <p:nvPr/>
                </p:nvSpPr>
                <p:spPr>
                  <a:xfrm rot="1598400">
                    <a:off x="2569320" y="2491920"/>
                    <a:ext cx="41040" cy="29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160">
                        <a:moveTo>
                          <a:pt x="164" y="1160"/>
                        </a:moveTo>
                        <a:cubicBezTo>
                          <a:pt x="148" y="1008"/>
                          <a:pt x="93" y="439"/>
                          <a:pt x="66" y="246"/>
                        </a:cubicBezTo>
                        <a:cubicBezTo>
                          <a:pt x="39" y="53"/>
                          <a:pt x="14" y="51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Freeform 3095"/>
                  <p:cNvSpPr/>
                  <p:nvPr/>
                </p:nvSpPr>
                <p:spPr>
                  <a:xfrm rot="1598400">
                    <a:off x="2584800" y="2462760"/>
                    <a:ext cx="47520" cy="31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1259">
                        <a:moveTo>
                          <a:pt x="140" y="1259"/>
                        </a:moveTo>
                        <a:cubicBezTo>
                          <a:pt x="145" y="1113"/>
                          <a:pt x="191" y="594"/>
                          <a:pt x="168" y="384"/>
                        </a:cubicBezTo>
                        <a:cubicBezTo>
                          <a:pt x="145" y="174"/>
                          <a:pt x="35" y="80"/>
                          <a:pt x="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Freeform 3096"/>
                  <p:cNvSpPr/>
                  <p:nvPr/>
                </p:nvSpPr>
                <p:spPr>
                  <a:xfrm rot="1598400">
                    <a:off x="2594160" y="2512440"/>
                    <a:ext cx="450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134">
                        <a:moveTo>
                          <a:pt x="0" y="1134"/>
                        </a:moveTo>
                        <a:cubicBezTo>
                          <a:pt x="19" y="988"/>
                          <a:pt x="85" y="445"/>
                          <a:pt x="115" y="256"/>
                        </a:cubicBezTo>
                        <a:cubicBezTo>
                          <a:pt x="145" y="67"/>
                          <a:pt x="167" y="53"/>
                          <a:pt x="181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Freeform 3097"/>
                  <p:cNvSpPr/>
                  <p:nvPr/>
                </p:nvSpPr>
                <p:spPr>
                  <a:xfrm rot="1598400">
                    <a:off x="2597040" y="2558160"/>
                    <a:ext cx="79200" cy="238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52">
                        <a:moveTo>
                          <a:pt x="0" y="952"/>
                        </a:moveTo>
                        <a:cubicBezTo>
                          <a:pt x="43" y="837"/>
                          <a:pt x="203" y="422"/>
                          <a:pt x="256" y="263"/>
                        </a:cubicBezTo>
                        <a:cubicBezTo>
                          <a:pt x="309" y="104"/>
                          <a:pt x="304" y="55"/>
                          <a:pt x="317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9" name="Freeform 3098"/>
                  <p:cNvSpPr/>
                  <p:nvPr/>
                </p:nvSpPr>
                <p:spPr>
                  <a:xfrm rot="1598400">
                    <a:off x="2600640" y="2506680"/>
                    <a:ext cx="1587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1179">
                        <a:moveTo>
                          <a:pt x="0" y="1179"/>
                        </a:moveTo>
                        <a:cubicBezTo>
                          <a:pt x="70" y="1066"/>
                          <a:pt x="315" y="697"/>
                          <a:pt x="421" y="501"/>
                        </a:cubicBezTo>
                        <a:cubicBezTo>
                          <a:pt x="527" y="305"/>
                          <a:pt x="591" y="105"/>
                          <a:pt x="635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Freeform 3099"/>
                  <p:cNvSpPr/>
                  <p:nvPr/>
                </p:nvSpPr>
                <p:spPr>
                  <a:xfrm rot="1598400">
                    <a:off x="2583000" y="2570400"/>
                    <a:ext cx="20412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816" h="998">
                        <a:moveTo>
                          <a:pt x="0" y="998"/>
                        </a:moveTo>
                        <a:cubicBezTo>
                          <a:pt x="102" y="891"/>
                          <a:pt x="477" y="523"/>
                          <a:pt x="613" y="357"/>
                        </a:cubicBezTo>
                        <a:cubicBezTo>
                          <a:pt x="749" y="191"/>
                          <a:pt x="774" y="75"/>
                          <a:pt x="816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Freeform 3100"/>
                  <p:cNvSpPr/>
                  <p:nvPr/>
                </p:nvSpPr>
                <p:spPr>
                  <a:xfrm rot="1598400">
                    <a:off x="2578320" y="2636640"/>
                    <a:ext cx="23832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771">
                        <a:moveTo>
                          <a:pt x="0" y="771"/>
                        </a:moveTo>
                        <a:cubicBezTo>
                          <a:pt x="91" y="704"/>
                          <a:pt x="385" y="497"/>
                          <a:pt x="544" y="369"/>
                        </a:cubicBezTo>
                        <a:cubicBezTo>
                          <a:pt x="703" y="241"/>
                          <a:pt x="867" y="77"/>
                          <a:pt x="952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Freeform 3101"/>
                  <p:cNvSpPr/>
                  <p:nvPr/>
                </p:nvSpPr>
                <p:spPr>
                  <a:xfrm rot="1598400">
                    <a:off x="2568960" y="2676960"/>
                    <a:ext cx="2725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8" h="635">
                        <a:moveTo>
                          <a:pt x="0" y="635"/>
                        </a:moveTo>
                        <a:cubicBezTo>
                          <a:pt x="109" y="581"/>
                          <a:pt x="471" y="417"/>
                          <a:pt x="652" y="311"/>
                        </a:cubicBezTo>
                        <a:cubicBezTo>
                          <a:pt x="833" y="205"/>
                          <a:pt x="997" y="65"/>
                          <a:pt x="1088" y="0"/>
                        </a:cubicBez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Freeform 3102"/>
                  <p:cNvSpPr/>
                  <p:nvPr/>
                </p:nvSpPr>
                <p:spPr>
                  <a:xfrm rot="1598400">
                    <a:off x="2541240" y="2686680"/>
                    <a:ext cx="31788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0" h="635">
                        <a:moveTo>
                          <a:pt x="0" y="635"/>
                        </a:moveTo>
                        <a:cubicBezTo>
                          <a:pt x="120" y="588"/>
                          <a:pt x="537" y="430"/>
                          <a:pt x="719" y="352"/>
                        </a:cubicBezTo>
                        <a:cubicBezTo>
                          <a:pt x="901" y="274"/>
                          <a:pt x="999" y="225"/>
                          <a:pt x="1091" y="166"/>
                        </a:cubicBezTo>
                        <a:cubicBezTo>
                          <a:pt x="1183" y="107"/>
                          <a:pt x="1233" y="35"/>
                          <a:pt x="1270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Freeform 3103"/>
                  <p:cNvSpPr/>
                  <p:nvPr/>
                </p:nvSpPr>
                <p:spPr>
                  <a:xfrm rot="1598400">
                    <a:off x="2518560" y="2808000"/>
                    <a:ext cx="1944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87">
                        <a:moveTo>
                          <a:pt x="0" y="0"/>
                        </a:moveTo>
                        <a:cubicBezTo>
                          <a:pt x="63" y="14"/>
                          <a:pt x="255" y="81"/>
                          <a:pt x="384" y="84"/>
                        </a:cubicBezTo>
                        <a:cubicBezTo>
                          <a:pt x="513" y="87"/>
                          <a:pt x="694" y="33"/>
                          <a:pt x="776" y="2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Freeform 3104"/>
                  <p:cNvSpPr/>
                  <p:nvPr/>
                </p:nvSpPr>
                <p:spPr>
                  <a:xfrm rot="1598400">
                    <a:off x="2518200" y="2799720"/>
                    <a:ext cx="136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135">
                        <a:moveTo>
                          <a:pt x="0" y="0"/>
                        </a:moveTo>
                        <a:lnTo>
                          <a:pt x="289" y="99"/>
                        </a:lnTo>
                        <a:cubicBezTo>
                          <a:pt x="380" y="121"/>
                          <a:pt x="491" y="128"/>
                          <a:pt x="544" y="135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6" name="Freeform 3105"/>
                  <p:cNvSpPr/>
                  <p:nvPr/>
                </p:nvSpPr>
                <p:spPr>
                  <a:xfrm rot="1598400">
                    <a:off x="2497320" y="2792880"/>
                    <a:ext cx="9072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272">
                        <a:moveTo>
                          <a:pt x="0" y="0"/>
                        </a:moveTo>
                        <a:cubicBezTo>
                          <a:pt x="34" y="32"/>
                          <a:pt x="143" y="147"/>
                          <a:pt x="203" y="192"/>
                        </a:cubicBezTo>
                        <a:cubicBezTo>
                          <a:pt x="263" y="237"/>
                          <a:pt x="330" y="255"/>
                          <a:pt x="363" y="272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7" name="Freeform 3106"/>
                  <p:cNvSpPr/>
                  <p:nvPr/>
                </p:nvSpPr>
                <p:spPr>
                  <a:xfrm rot="1598400">
                    <a:off x="2486520" y="2781360"/>
                    <a:ext cx="648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306">
                        <a:moveTo>
                          <a:pt x="0" y="0"/>
                        </a:moveTo>
                        <a:cubicBezTo>
                          <a:pt x="24" y="33"/>
                          <a:pt x="103" y="147"/>
                          <a:pt x="146" y="198"/>
                        </a:cubicBezTo>
                        <a:cubicBezTo>
                          <a:pt x="189" y="249"/>
                          <a:pt x="236" y="284"/>
                          <a:pt x="260" y="306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8" name="Freeform 3107"/>
                  <p:cNvSpPr/>
                  <p:nvPr/>
                </p:nvSpPr>
                <p:spPr>
                  <a:xfrm rot="1598400">
                    <a:off x="2318400" y="2683440"/>
                    <a:ext cx="22716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7" h="72">
                        <a:moveTo>
                          <a:pt x="0" y="27"/>
                        </a:moveTo>
                        <a:cubicBezTo>
                          <a:pt x="55" y="24"/>
                          <a:pt x="180" y="0"/>
                          <a:pt x="331" y="7"/>
                        </a:cubicBezTo>
                        <a:cubicBezTo>
                          <a:pt x="482" y="14"/>
                          <a:pt x="787" y="59"/>
                          <a:pt x="907" y="72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Freeform 3108"/>
                  <p:cNvSpPr/>
                  <p:nvPr/>
                </p:nvSpPr>
                <p:spPr>
                  <a:xfrm rot="1598400">
                    <a:off x="2522520" y="2811240"/>
                    <a:ext cx="22716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7" h="56">
                        <a:moveTo>
                          <a:pt x="0" y="0"/>
                        </a:moveTo>
                        <a:cubicBezTo>
                          <a:pt x="86" y="8"/>
                          <a:pt x="366" y="42"/>
                          <a:pt x="517" y="49"/>
                        </a:cubicBezTo>
                        <a:cubicBezTo>
                          <a:pt x="668" y="56"/>
                          <a:pt x="826" y="46"/>
                          <a:pt x="907" y="45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Freeform 3109"/>
                  <p:cNvSpPr/>
                  <p:nvPr/>
                </p:nvSpPr>
                <p:spPr>
                  <a:xfrm rot="1598400">
                    <a:off x="2494080" y="2796480"/>
                    <a:ext cx="1587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363">
                        <a:moveTo>
                          <a:pt x="0" y="0"/>
                        </a:moveTo>
                        <a:cubicBezTo>
                          <a:pt x="57" y="40"/>
                          <a:pt x="235" y="178"/>
                          <a:pt x="341" y="238"/>
                        </a:cubicBezTo>
                        <a:cubicBezTo>
                          <a:pt x="447" y="298"/>
                          <a:pt x="574" y="337"/>
                          <a:pt x="635" y="363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Freeform 3110"/>
                  <p:cNvSpPr/>
                  <p:nvPr/>
                </p:nvSpPr>
                <p:spPr>
                  <a:xfrm rot="1598400">
                    <a:off x="2585880" y="2510280"/>
                    <a:ext cx="8640" cy="26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043">
                        <a:moveTo>
                          <a:pt x="0" y="0"/>
                        </a:moveTo>
                        <a:cubicBezTo>
                          <a:pt x="6" y="84"/>
                          <a:pt x="35" y="330"/>
                          <a:pt x="35" y="504"/>
                        </a:cubicBezTo>
                        <a:cubicBezTo>
                          <a:pt x="35" y="678"/>
                          <a:pt x="7" y="931"/>
                          <a:pt x="0" y="1043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2" name="Freeform 3111"/>
                  <p:cNvSpPr/>
                  <p:nvPr/>
                </p:nvSpPr>
                <p:spPr>
                  <a:xfrm rot="1598400">
                    <a:off x="2386080" y="2702160"/>
                    <a:ext cx="13608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590">
                        <a:moveTo>
                          <a:pt x="544" y="0"/>
                        </a:moveTo>
                        <a:cubicBezTo>
                          <a:pt x="495" y="45"/>
                          <a:pt x="341" y="173"/>
                          <a:pt x="250" y="271"/>
                        </a:cubicBezTo>
                        <a:cubicBezTo>
                          <a:pt x="159" y="369"/>
                          <a:pt x="52" y="524"/>
                          <a:pt x="0" y="590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3" name="Freeform 3112"/>
                  <p:cNvSpPr/>
                  <p:nvPr/>
                </p:nvSpPr>
                <p:spPr>
                  <a:xfrm rot="1598400">
                    <a:off x="2358360" y="2726640"/>
                    <a:ext cx="12456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817">
                        <a:moveTo>
                          <a:pt x="498" y="0"/>
                        </a:moveTo>
                        <a:cubicBezTo>
                          <a:pt x="455" y="58"/>
                          <a:pt x="323" y="210"/>
                          <a:pt x="240" y="346"/>
                        </a:cubicBezTo>
                        <a:cubicBezTo>
                          <a:pt x="157" y="482"/>
                          <a:pt x="50" y="719"/>
                          <a:pt x="0" y="817"/>
                        </a:cubicBezTo>
                      </a:path>
                    </a:pathLst>
                  </a:custGeom>
                  <a:noFill/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Freeform 3113"/>
                  <p:cNvSpPr/>
                  <p:nvPr/>
                </p:nvSpPr>
                <p:spPr>
                  <a:xfrm rot="1598400">
                    <a:off x="2485440" y="2790000"/>
                    <a:ext cx="792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680">
                        <a:moveTo>
                          <a:pt x="0" y="0"/>
                        </a:moveTo>
                        <a:cubicBezTo>
                          <a:pt x="27" y="48"/>
                          <a:pt x="120" y="212"/>
                          <a:pt x="164" y="288"/>
                        </a:cubicBezTo>
                        <a:cubicBezTo>
                          <a:pt x="208" y="364"/>
                          <a:pt x="238" y="391"/>
                          <a:pt x="264" y="456"/>
                        </a:cubicBezTo>
                        <a:cubicBezTo>
                          <a:pt x="290" y="521"/>
                          <a:pt x="306" y="633"/>
                          <a:pt x="317" y="68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Freeform 3114"/>
                  <p:cNvSpPr/>
                  <p:nvPr/>
                </p:nvSpPr>
                <p:spPr>
                  <a:xfrm rot="2279400">
                    <a:off x="2567880" y="2777760"/>
                    <a:ext cx="1022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9" h="90">
                        <a:moveTo>
                          <a:pt x="0" y="90"/>
                        </a:moveTo>
                        <a:cubicBezTo>
                          <a:pt x="36" y="85"/>
                          <a:pt x="149" y="77"/>
                          <a:pt x="217" y="62"/>
                        </a:cubicBezTo>
                        <a:lnTo>
                          <a:pt x="409" y="0"/>
                        </a:lnTo>
                      </a:path>
                    </a:pathLst>
                  </a:custGeom>
                  <a:noFill/>
                  <a:ln cap="rnd" w="252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Freeform 3115"/>
                  <p:cNvSpPr/>
                  <p:nvPr/>
                </p:nvSpPr>
                <p:spPr>
                  <a:xfrm rot="1598400">
                    <a:off x="2564640" y="2598840"/>
                    <a:ext cx="68040" cy="18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52">
                        <a:moveTo>
                          <a:pt x="0" y="952"/>
                        </a:moveTo>
                        <a:cubicBezTo>
                          <a:pt x="43" y="837"/>
                          <a:pt x="203" y="422"/>
                          <a:pt x="256" y="263"/>
                        </a:cubicBezTo>
                        <a:cubicBezTo>
                          <a:pt x="309" y="104"/>
                          <a:pt x="304" y="55"/>
                          <a:pt x="317" y="0"/>
                        </a:cubicBezTo>
                      </a:path>
                    </a:pathLst>
                  </a:custGeom>
                  <a:noFill/>
                  <a:ln w="252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997" name="Group 4013"/>
          <p:cNvGrpSpPr/>
          <p:nvPr/>
        </p:nvGrpSpPr>
        <p:grpSpPr>
          <a:xfrm>
            <a:off x="1375560" y="2985840"/>
            <a:ext cx="1673640" cy="4043520"/>
            <a:chOff x="1375560" y="2985840"/>
            <a:chExt cx="1673640" cy="4043520"/>
          </a:xfrm>
        </p:grpSpPr>
        <p:sp>
          <p:nvSpPr>
            <p:cNvPr id="1998" name="Oval 204"/>
            <p:cNvSpPr/>
            <p:nvPr/>
          </p:nvSpPr>
          <p:spPr>
            <a:xfrm rot="2899200">
              <a:off x="1825560" y="3074760"/>
              <a:ext cx="561960" cy="7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81818">
                    <a:alpha val="235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9" name="Group 4012"/>
            <p:cNvGrpSpPr/>
            <p:nvPr/>
          </p:nvGrpSpPr>
          <p:grpSpPr>
            <a:xfrm>
              <a:off x="1375560" y="3327480"/>
              <a:ext cx="1673640" cy="3701880"/>
              <a:chOff x="1375560" y="3327480"/>
              <a:chExt cx="1673640" cy="3701880"/>
            </a:xfrm>
          </p:grpSpPr>
          <p:pic>
            <p:nvPicPr>
              <p:cNvPr id="2000" name="Picture 3120" descr="杆"/>
              <p:cNvPicPr/>
              <p:nvPr/>
            </p:nvPicPr>
            <p:blipFill>
              <a:blip r:embed="rId2"/>
              <a:stretch/>
            </p:blipFill>
            <p:spPr>
              <a:xfrm>
                <a:off x="1530360" y="3960720"/>
                <a:ext cx="959040" cy="3068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01" name="Group 4011"/>
              <p:cNvGrpSpPr/>
              <p:nvPr/>
            </p:nvGrpSpPr>
            <p:grpSpPr>
              <a:xfrm>
                <a:off x="1375560" y="3327480"/>
                <a:ext cx="1673640" cy="1021320"/>
                <a:chOff x="1375560" y="3327480"/>
                <a:chExt cx="1673640" cy="1021320"/>
              </a:xfrm>
            </p:grpSpPr>
            <p:grpSp>
              <p:nvGrpSpPr>
                <p:cNvPr id="2002" name="Group 4010"/>
                <p:cNvGrpSpPr/>
                <p:nvPr/>
              </p:nvGrpSpPr>
              <p:grpSpPr>
                <a:xfrm>
                  <a:off x="1454760" y="3327480"/>
                  <a:ext cx="1594440" cy="1014840"/>
                  <a:chOff x="1454760" y="3327480"/>
                  <a:chExt cx="1594440" cy="1014840"/>
                </a:xfrm>
              </p:grpSpPr>
              <p:grpSp>
                <p:nvGrpSpPr>
                  <p:cNvPr id="2003" name="Group 2412"/>
                  <p:cNvGrpSpPr/>
                  <p:nvPr/>
                </p:nvGrpSpPr>
                <p:grpSpPr>
                  <a:xfrm>
                    <a:off x="1454760" y="3361680"/>
                    <a:ext cx="699120" cy="859320"/>
                    <a:chOff x="1454760" y="3361680"/>
                    <a:chExt cx="699120" cy="859320"/>
                  </a:xfrm>
                </p:grpSpPr>
                <p:sp>
                  <p:nvSpPr>
                    <p:cNvPr id="2004" name="Freeform 2413"/>
                    <p:cNvSpPr/>
                    <p:nvPr/>
                  </p:nvSpPr>
                  <p:spPr>
                    <a:xfrm rot="12381000">
                      <a:off x="1673640" y="386388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05" name="Group 2414"/>
                    <p:cNvGrpSpPr/>
                    <p:nvPr/>
                  </p:nvGrpSpPr>
                  <p:grpSpPr>
                    <a:xfrm>
                      <a:off x="1454760" y="3361680"/>
                      <a:ext cx="699120" cy="859320"/>
                      <a:chOff x="1454760" y="3361680"/>
                      <a:chExt cx="699120" cy="859320"/>
                    </a:xfrm>
                  </p:grpSpPr>
                  <p:grpSp>
                    <p:nvGrpSpPr>
                      <p:cNvPr id="2006" name="Group 2415"/>
                      <p:cNvGrpSpPr/>
                      <p:nvPr/>
                    </p:nvGrpSpPr>
                    <p:grpSpPr>
                      <a:xfrm>
                        <a:off x="1739160" y="3361680"/>
                        <a:ext cx="414720" cy="589320"/>
                        <a:chOff x="1739160" y="3361680"/>
                        <a:chExt cx="414720" cy="589320"/>
                      </a:xfrm>
                    </p:grpSpPr>
                    <p:sp>
                      <p:nvSpPr>
                        <p:cNvPr id="2007" name="AutoShape 2416"/>
                        <p:cNvSpPr/>
                        <p:nvPr/>
                      </p:nvSpPr>
                      <p:spPr>
                        <a:xfrm rot="12381000">
                          <a:off x="1751760" y="3855600"/>
                          <a:ext cx="90720" cy="79200"/>
                        </a:xfrm>
                        <a:prstGeom prst="irregularSeal1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2320" bIns="-2232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8" name="Freeform 2417"/>
                        <p:cNvSpPr/>
                        <p:nvPr/>
                      </p:nvSpPr>
                      <p:spPr>
                        <a:xfrm rot="12381000">
                          <a:off x="1898280" y="3479040"/>
                          <a:ext cx="46080" cy="43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5" h="1735">
                              <a:moveTo>
                                <a:pt x="185" y="0"/>
                              </a:moveTo>
                              <a:cubicBezTo>
                                <a:pt x="174" y="126"/>
                                <a:pt x="137" y="578"/>
                                <a:pt x="120" y="757"/>
                              </a:cubicBezTo>
                              <a:lnTo>
                                <a:pt x="84" y="1075"/>
                              </a:lnTo>
                              <a:lnTo>
                                <a:pt x="0" y="1735"/>
                              </a:lnTo>
                            </a:path>
                          </a:pathLst>
                        </a:custGeom>
                        <a:noFill/>
                        <a:ln w="11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9" name="Oval 2418"/>
                        <p:cNvSpPr/>
                        <p:nvPr/>
                      </p:nvSpPr>
                      <p:spPr>
                        <a:xfrm rot="12924600">
                          <a:off x="2056680" y="3356640"/>
                          <a:ext cx="45360" cy="192600"/>
                        </a:xfrm>
                        <a:prstGeom prst="ellipse">
                          <a:avLst/>
                        </a:prstGeom>
                        <a:solidFill>
                          <a:srgbClr val="ffffff">
                            <a:alpha val="8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10" name="Group 2419"/>
                      <p:cNvGrpSpPr/>
                      <p:nvPr/>
                    </p:nvGrpSpPr>
                    <p:grpSpPr>
                      <a:xfrm>
                        <a:off x="1454760" y="3666600"/>
                        <a:ext cx="645840" cy="554400"/>
                        <a:chOff x="1454760" y="3666600"/>
                        <a:chExt cx="645840" cy="554400"/>
                      </a:xfrm>
                    </p:grpSpPr>
                    <p:sp>
                      <p:nvSpPr>
                        <p:cNvPr id="2011" name="Freeform 2420"/>
                        <p:cNvSpPr/>
                        <p:nvPr/>
                      </p:nvSpPr>
                      <p:spPr>
                        <a:xfrm rot="12381000">
                          <a:off x="1799280" y="3873960"/>
                          <a:ext cx="158040" cy="7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2" h="303">
                              <a:moveTo>
                                <a:pt x="544" y="303"/>
                              </a:moveTo>
                              <a:cubicBezTo>
                                <a:pt x="553" y="278"/>
                                <a:pt x="593" y="184"/>
                                <a:pt x="598" y="153"/>
                              </a:cubicBezTo>
                              <a:cubicBezTo>
                                <a:pt x="603" y="122"/>
                                <a:pt x="632" y="137"/>
                                <a:pt x="574" y="117"/>
                              </a:cubicBezTo>
                              <a:cubicBezTo>
                                <a:pt x="516" y="97"/>
                                <a:pt x="346" y="0"/>
                                <a:pt x="250" y="31"/>
                              </a:cubicBezTo>
                              <a:cubicBezTo>
                                <a:pt x="154" y="62"/>
                                <a:pt x="52" y="245"/>
                                <a:pt x="0" y="303"/>
                              </a:cubicBez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0" bIns="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2" name="Freeform 2421"/>
                        <p:cNvSpPr/>
                        <p:nvPr/>
                      </p:nvSpPr>
                      <p:spPr>
                        <a:xfrm rot="12381000">
                          <a:off x="1811520" y="3890880"/>
                          <a:ext cx="2725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9" h="272">
                              <a:moveTo>
                                <a:pt x="1089" y="0"/>
                              </a:moveTo>
                              <a:cubicBezTo>
                                <a:pt x="988" y="18"/>
                                <a:pt x="663" y="64"/>
                                <a:pt x="482" y="109"/>
                              </a:cubicBezTo>
                              <a:cubicBezTo>
                                <a:pt x="301" y="154"/>
                                <a:pt x="100" y="238"/>
                                <a:pt x="0" y="2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3" name="Freeform 2422"/>
                        <p:cNvSpPr/>
                        <p:nvPr/>
                      </p:nvSpPr>
                      <p:spPr>
                        <a:xfrm rot="12381000">
                          <a:off x="1790280" y="3959640"/>
                          <a:ext cx="28404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272">
                              <a:moveTo>
                                <a:pt x="1134" y="272"/>
                              </a:moveTo>
                              <a:cubicBezTo>
                                <a:pt x="1024" y="241"/>
                                <a:pt x="663" y="129"/>
                                <a:pt x="474" y="84"/>
                              </a:cubicBezTo>
                              <a:cubicBezTo>
                                <a:pt x="285" y="39"/>
                                <a:pt x="99" y="1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4" name="Freeform 2423"/>
                        <p:cNvSpPr/>
                        <p:nvPr/>
                      </p:nvSpPr>
                      <p:spPr>
                        <a:xfrm rot="12381000">
                          <a:off x="1800000" y="3980520"/>
                          <a:ext cx="2955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0" h="363">
                              <a:moveTo>
                                <a:pt x="1180" y="363"/>
                              </a:moveTo>
                              <a:cubicBezTo>
                                <a:pt x="1067" y="321"/>
                                <a:pt x="699" y="172"/>
                                <a:pt x="502" y="112"/>
                              </a:cubicBezTo>
                              <a:cubicBezTo>
                                <a:pt x="305" y="52"/>
                                <a:pt x="105" y="23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5" name="Freeform 2424"/>
                        <p:cNvSpPr/>
                        <p:nvPr/>
                      </p:nvSpPr>
                      <p:spPr>
                        <a:xfrm rot="12381000">
                          <a:off x="1776600" y="3968640"/>
                          <a:ext cx="293760" cy="11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3" h="461">
                              <a:moveTo>
                                <a:pt x="1173" y="461"/>
                              </a:moveTo>
                              <a:cubicBezTo>
                                <a:pt x="1088" y="425"/>
                                <a:pt x="862" y="323"/>
                                <a:pt x="666" y="246"/>
                              </a:cubicBezTo>
                              <a:cubicBezTo>
                                <a:pt x="470" y="169"/>
                                <a:pt x="139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6" name="Freeform 2425"/>
                        <p:cNvSpPr/>
                        <p:nvPr/>
                      </p:nvSpPr>
                      <p:spPr>
                        <a:xfrm rot="12381000">
                          <a:off x="1755000" y="3957480"/>
                          <a:ext cx="284040" cy="11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453">
                              <a:moveTo>
                                <a:pt x="1134" y="453"/>
                              </a:moveTo>
                              <a:cubicBezTo>
                                <a:pt x="1034" y="407"/>
                                <a:pt x="722" y="254"/>
                                <a:pt x="533" y="178"/>
                              </a:cubicBezTo>
                              <a:cubicBezTo>
                                <a:pt x="344" y="102"/>
                                <a:pt x="111" y="3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7" name="Freeform 2426"/>
                        <p:cNvSpPr/>
                        <p:nvPr/>
                      </p:nvSpPr>
                      <p:spPr>
                        <a:xfrm rot="12381000">
                          <a:off x="1753560" y="3943800"/>
                          <a:ext cx="214200" cy="18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6" h="724">
                              <a:moveTo>
                                <a:pt x="856" y="724"/>
                              </a:moveTo>
                              <a:lnTo>
                                <a:pt x="372" y="234"/>
                              </a:lnTo>
                              <a:cubicBezTo>
                                <a:pt x="229" y="113"/>
                                <a:pt x="77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8" name="Freeform 2427"/>
                        <p:cNvSpPr/>
                        <p:nvPr/>
                      </p:nvSpPr>
                      <p:spPr>
                        <a:xfrm rot="12381000">
                          <a:off x="1751760" y="396216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lnTo>
                                <a:pt x="220" y="1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9" name="Freeform 2428"/>
                        <p:cNvSpPr/>
                        <p:nvPr/>
                      </p:nvSpPr>
                      <p:spPr>
                        <a:xfrm rot="12381000">
                          <a:off x="1736640" y="391644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cubicBezTo>
                                <a:pt x="882" y="554"/>
                                <a:pt x="466" y="255"/>
                                <a:pt x="300" y="149"/>
                              </a:cubicBezTo>
                              <a:cubicBezTo>
                                <a:pt x="134" y="43"/>
                                <a:pt x="62" y="3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0" name="Freeform 2429"/>
                        <p:cNvSpPr/>
                        <p:nvPr/>
                      </p:nvSpPr>
                      <p:spPr>
                        <a:xfrm rot="12381000">
                          <a:off x="1721160" y="3930480"/>
                          <a:ext cx="262800" cy="244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50" h="980">
                              <a:moveTo>
                                <a:pt x="1050" y="980"/>
                              </a:moveTo>
                              <a:lnTo>
                                <a:pt x="378" y="234"/>
                              </a:lnTo>
                              <a:cubicBezTo>
                                <a:pt x="203" y="71"/>
                                <a:pt x="79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1" name="Line 2430"/>
                        <p:cNvSpPr/>
                        <p:nvPr/>
                      </p:nvSpPr>
                      <p:spPr>
                        <a:xfrm>
                          <a:off x="1789920" y="3859920"/>
                          <a:ext cx="62280" cy="308880"/>
                        </a:xfrm>
                        <a:prstGeom prst="line">
                          <a:avLst/>
                        </a:prstGeom>
                        <a:ln w="252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2" name="Freeform 2431"/>
                        <p:cNvSpPr/>
                        <p:nvPr/>
                      </p:nvSpPr>
                      <p:spPr>
                        <a:xfrm rot="12381000">
                          <a:off x="1736280" y="3887280"/>
                          <a:ext cx="158760" cy="24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997">
                              <a:moveTo>
                                <a:pt x="635" y="997"/>
                              </a:moveTo>
                              <a:cubicBezTo>
                                <a:pt x="569" y="887"/>
                                <a:pt x="345" y="500"/>
                                <a:pt x="239" y="334"/>
                              </a:cubicBezTo>
                              <a:cubicBezTo>
                                <a:pt x="133" y="168"/>
                                <a:pt x="50" y="7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3" name="Freeform 2432"/>
                        <p:cNvSpPr/>
                        <p:nvPr/>
                      </p:nvSpPr>
                      <p:spPr>
                        <a:xfrm rot="12381000">
                          <a:off x="1730880" y="3888720"/>
                          <a:ext cx="123120" cy="25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2" h="1026">
                              <a:moveTo>
                                <a:pt x="492" y="1026"/>
                              </a:moveTo>
                              <a:cubicBezTo>
                                <a:pt x="452" y="924"/>
                                <a:pt x="334" y="585"/>
                                <a:pt x="252" y="414"/>
                              </a:cubicBezTo>
                              <a:cubicBezTo>
                                <a:pt x="170" y="243"/>
                                <a:pt x="53" y="8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4" name="Freeform 2433"/>
                        <p:cNvSpPr/>
                        <p:nvPr/>
                      </p:nvSpPr>
                      <p:spPr>
                        <a:xfrm rot="12381000">
                          <a:off x="1730160" y="3879000"/>
                          <a:ext cx="82440" cy="27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0" h="1086">
                              <a:moveTo>
                                <a:pt x="330" y="1086"/>
                              </a:moveTo>
                              <a:cubicBezTo>
                                <a:pt x="302" y="966"/>
                                <a:pt x="217" y="547"/>
                                <a:pt x="162" y="366"/>
                              </a:cubicBezTo>
                              <a:cubicBezTo>
                                <a:pt x="107" y="185"/>
                                <a:pt x="34" y="7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5" name="Freeform 2434"/>
                        <p:cNvSpPr/>
                        <p:nvPr/>
                      </p:nvSpPr>
                      <p:spPr>
                        <a:xfrm rot="12381000">
                          <a:off x="1722960" y="3853440"/>
                          <a:ext cx="41040" cy="29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4" h="1160">
                              <a:moveTo>
                                <a:pt x="164" y="1160"/>
                              </a:moveTo>
                              <a:cubicBezTo>
                                <a:pt x="148" y="1008"/>
                                <a:pt x="93" y="439"/>
                                <a:pt x="66" y="246"/>
                              </a:cubicBezTo>
                              <a:cubicBezTo>
                                <a:pt x="39" y="53"/>
                                <a:pt x="14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6" name="Freeform 2435"/>
                        <p:cNvSpPr/>
                        <p:nvPr/>
                      </p:nvSpPr>
                      <p:spPr>
                        <a:xfrm rot="12381000">
                          <a:off x="1700640" y="3858480"/>
                          <a:ext cx="47520" cy="31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1" h="1259">
                              <a:moveTo>
                                <a:pt x="140" y="1259"/>
                              </a:moveTo>
                              <a:cubicBezTo>
                                <a:pt x="145" y="1113"/>
                                <a:pt x="191" y="594"/>
                                <a:pt x="168" y="384"/>
                              </a:cubicBezTo>
                              <a:cubicBezTo>
                                <a:pt x="145" y="174"/>
                                <a:pt x="35" y="8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7" name="Freeform 2436"/>
                        <p:cNvSpPr/>
                        <p:nvPr/>
                      </p:nvSpPr>
                      <p:spPr>
                        <a:xfrm rot="12381000">
                          <a:off x="1693800" y="3839760"/>
                          <a:ext cx="45000" cy="28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1" h="1134">
                              <a:moveTo>
                                <a:pt x="0" y="1134"/>
                              </a:moveTo>
                              <a:cubicBezTo>
                                <a:pt x="19" y="988"/>
                                <a:pt x="85" y="445"/>
                                <a:pt x="115" y="256"/>
                              </a:cubicBezTo>
                              <a:cubicBezTo>
                                <a:pt x="145" y="67"/>
                                <a:pt x="167" y="53"/>
                                <a:pt x="181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8" name="Freeform 2437"/>
                        <p:cNvSpPr/>
                        <p:nvPr/>
                      </p:nvSpPr>
                      <p:spPr>
                        <a:xfrm rot="12381000">
                          <a:off x="1656720" y="3839760"/>
                          <a:ext cx="79200" cy="23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9" name="Freeform 2438"/>
                        <p:cNvSpPr/>
                        <p:nvPr/>
                      </p:nvSpPr>
                      <p:spPr>
                        <a:xfrm rot="12381000">
                          <a:off x="1573200" y="3834360"/>
                          <a:ext cx="158760" cy="29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1179">
                              <a:moveTo>
                                <a:pt x="0" y="1179"/>
                              </a:moveTo>
                              <a:cubicBezTo>
                                <a:pt x="70" y="1066"/>
                                <a:pt x="315" y="697"/>
                                <a:pt x="421" y="501"/>
                              </a:cubicBezTo>
                              <a:cubicBezTo>
                                <a:pt x="527" y="305"/>
                                <a:pt x="591" y="105"/>
                                <a:pt x="635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0" name="Freeform 2439"/>
                        <p:cNvSpPr/>
                        <p:nvPr/>
                      </p:nvSpPr>
                      <p:spPr>
                        <a:xfrm rot="12381000">
                          <a:off x="1545480" y="3816360"/>
                          <a:ext cx="204120" cy="24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6" h="998">
                              <a:moveTo>
                                <a:pt x="0" y="998"/>
                              </a:moveTo>
                              <a:cubicBezTo>
                                <a:pt x="102" y="891"/>
                                <a:pt x="477" y="523"/>
                                <a:pt x="613" y="357"/>
                              </a:cubicBezTo>
                              <a:cubicBezTo>
                                <a:pt x="749" y="191"/>
                                <a:pt x="774" y="75"/>
                                <a:pt x="816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1" name="Freeform 2440"/>
                        <p:cNvSpPr/>
                        <p:nvPr/>
                      </p:nvSpPr>
                      <p:spPr>
                        <a:xfrm rot="12381000">
                          <a:off x="1515960" y="3806640"/>
                          <a:ext cx="238320" cy="19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2" h="771">
                              <a:moveTo>
                                <a:pt x="0" y="771"/>
                              </a:moveTo>
                              <a:cubicBezTo>
                                <a:pt x="91" y="704"/>
                                <a:pt x="385" y="497"/>
                                <a:pt x="544" y="369"/>
                              </a:cubicBezTo>
                              <a:cubicBezTo>
                                <a:pt x="703" y="241"/>
                                <a:pt x="867" y="77"/>
                                <a:pt x="952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2" name="Freeform 2441"/>
                        <p:cNvSpPr/>
                        <p:nvPr/>
                      </p:nvSpPr>
                      <p:spPr>
                        <a:xfrm rot="12381000">
                          <a:off x="1491120" y="3800520"/>
                          <a:ext cx="27252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8" h="635">
                              <a:moveTo>
                                <a:pt x="0" y="635"/>
                              </a:moveTo>
                              <a:cubicBezTo>
                                <a:pt x="109" y="581"/>
                                <a:pt x="471" y="417"/>
                                <a:pt x="652" y="311"/>
                              </a:cubicBezTo>
                              <a:cubicBezTo>
                                <a:pt x="833" y="205"/>
                                <a:pt x="997" y="65"/>
                                <a:pt x="1088" y="0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3" name="Freeform 2442"/>
                        <p:cNvSpPr/>
                        <p:nvPr/>
                      </p:nvSpPr>
                      <p:spPr>
                        <a:xfrm rot="12381000">
                          <a:off x="1473120" y="3790800"/>
                          <a:ext cx="31788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0" h="635">
                              <a:moveTo>
                                <a:pt x="0" y="635"/>
                              </a:moveTo>
                              <a:cubicBezTo>
                                <a:pt x="120" y="588"/>
                                <a:pt x="537" y="430"/>
                                <a:pt x="719" y="352"/>
                              </a:cubicBezTo>
                              <a:cubicBezTo>
                                <a:pt x="901" y="274"/>
                                <a:pt x="999" y="225"/>
                                <a:pt x="1091" y="166"/>
                              </a:cubicBezTo>
                              <a:cubicBezTo>
                                <a:pt x="1183" y="107"/>
                                <a:pt x="1233" y="35"/>
                                <a:pt x="127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4" name="Freeform 2443"/>
                        <p:cNvSpPr/>
                        <p:nvPr/>
                      </p:nvSpPr>
                      <p:spPr>
                        <a:xfrm rot="12381000">
                          <a:off x="1619280" y="3805920"/>
                          <a:ext cx="19440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6" h="87">
                              <a:moveTo>
                                <a:pt x="0" y="0"/>
                              </a:moveTo>
                              <a:cubicBezTo>
                                <a:pt x="63" y="14"/>
                                <a:pt x="255" y="81"/>
                                <a:pt x="384" y="84"/>
                              </a:cubicBezTo>
                              <a:cubicBezTo>
                                <a:pt x="513" y="87"/>
                                <a:pt x="694" y="33"/>
                                <a:pt x="776" y="2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5" name="Freeform 2444"/>
                        <p:cNvSpPr/>
                        <p:nvPr/>
                      </p:nvSpPr>
                      <p:spPr>
                        <a:xfrm rot="12381000">
                          <a:off x="1677960" y="3802320"/>
                          <a:ext cx="13608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135">
                              <a:moveTo>
                                <a:pt x="0" y="0"/>
                              </a:moveTo>
                              <a:lnTo>
                                <a:pt x="289" y="99"/>
                              </a:lnTo>
                              <a:cubicBezTo>
                                <a:pt x="380" y="121"/>
                                <a:pt x="491" y="128"/>
                                <a:pt x="544" y="13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6" name="Freeform 2445"/>
                        <p:cNvSpPr/>
                        <p:nvPr/>
                      </p:nvSpPr>
                      <p:spPr>
                        <a:xfrm rot="12381000">
                          <a:off x="1743840" y="3774600"/>
                          <a:ext cx="9072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3" h="272">
                              <a:moveTo>
                                <a:pt x="0" y="0"/>
                              </a:moveTo>
                              <a:cubicBezTo>
                                <a:pt x="34" y="32"/>
                                <a:pt x="143" y="147"/>
                                <a:pt x="203" y="192"/>
                              </a:cubicBezTo>
                              <a:cubicBezTo>
                                <a:pt x="263" y="237"/>
                                <a:pt x="330" y="255"/>
                                <a:pt x="363" y="272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7" name="Freeform 2446"/>
                        <p:cNvSpPr/>
                        <p:nvPr/>
                      </p:nvSpPr>
                      <p:spPr>
                        <a:xfrm rot="12381000">
                          <a:off x="1780920" y="3777480"/>
                          <a:ext cx="6480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0" h="306">
                              <a:moveTo>
                                <a:pt x="0" y="0"/>
                              </a:moveTo>
                              <a:cubicBezTo>
                                <a:pt x="24" y="33"/>
                                <a:pt x="103" y="147"/>
                                <a:pt x="146" y="198"/>
                              </a:cubicBezTo>
                              <a:cubicBezTo>
                                <a:pt x="189" y="249"/>
                                <a:pt x="236" y="284"/>
                                <a:pt x="260" y="306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8" name="Freeform 2447"/>
                        <p:cNvSpPr/>
                        <p:nvPr/>
                      </p:nvSpPr>
                      <p:spPr>
                        <a:xfrm rot="12381000">
                          <a:off x="1787040" y="3933360"/>
                          <a:ext cx="22716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72">
                              <a:moveTo>
                                <a:pt x="0" y="27"/>
                              </a:moveTo>
                              <a:cubicBezTo>
                                <a:pt x="55" y="24"/>
                                <a:pt x="180" y="0"/>
                                <a:pt x="331" y="7"/>
                              </a:cubicBezTo>
                              <a:cubicBezTo>
                                <a:pt x="482" y="14"/>
                                <a:pt x="787" y="59"/>
                                <a:pt x="907" y="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9" name="Freeform 2448"/>
                        <p:cNvSpPr/>
                        <p:nvPr/>
                      </p:nvSpPr>
                      <p:spPr>
                        <a:xfrm rot="12381000">
                          <a:off x="1582200" y="3810960"/>
                          <a:ext cx="22716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56">
                              <a:moveTo>
                                <a:pt x="0" y="0"/>
                              </a:moveTo>
                              <a:cubicBezTo>
                                <a:pt x="86" y="8"/>
                                <a:pt x="366" y="42"/>
                                <a:pt x="517" y="49"/>
                              </a:cubicBezTo>
                              <a:cubicBezTo>
                                <a:pt x="668" y="56"/>
                                <a:pt x="826" y="46"/>
                                <a:pt x="907" y="4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0" name="Freeform 2449"/>
                        <p:cNvSpPr/>
                        <p:nvPr/>
                      </p:nvSpPr>
                      <p:spPr>
                        <a:xfrm rot="12381000">
                          <a:off x="1679400" y="3748320"/>
                          <a:ext cx="1587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363">
                              <a:moveTo>
                                <a:pt x="0" y="0"/>
                              </a:moveTo>
                              <a:cubicBezTo>
                                <a:pt x="57" y="40"/>
                                <a:pt x="235" y="178"/>
                                <a:pt x="341" y="238"/>
                              </a:cubicBezTo>
                              <a:cubicBezTo>
                                <a:pt x="447" y="298"/>
                                <a:pt x="574" y="337"/>
                                <a:pt x="635" y="363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1" name="Freeform 2450"/>
                        <p:cNvSpPr/>
                        <p:nvPr/>
                      </p:nvSpPr>
                      <p:spPr>
                        <a:xfrm rot="12381000">
                          <a:off x="1738440" y="3864240"/>
                          <a:ext cx="8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" h="1043">
                              <a:moveTo>
                                <a:pt x="0" y="0"/>
                              </a:moveTo>
                              <a:cubicBezTo>
                                <a:pt x="6" y="84"/>
                                <a:pt x="35" y="330"/>
                                <a:pt x="35" y="504"/>
                              </a:cubicBezTo>
                              <a:cubicBezTo>
                                <a:pt x="35" y="678"/>
                                <a:pt x="7" y="931"/>
                                <a:pt x="0" y="1043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2" name="Freeform 2451"/>
                        <p:cNvSpPr/>
                        <p:nvPr/>
                      </p:nvSpPr>
                      <p:spPr>
                        <a:xfrm rot="12381000">
                          <a:off x="1810440" y="3785400"/>
                          <a:ext cx="136080" cy="147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590">
                              <a:moveTo>
                                <a:pt x="544" y="0"/>
                              </a:moveTo>
                              <a:cubicBezTo>
                                <a:pt x="495" y="45"/>
                                <a:pt x="341" y="173"/>
                                <a:pt x="250" y="271"/>
                              </a:cubicBezTo>
                              <a:cubicBezTo>
                                <a:pt x="159" y="369"/>
                                <a:pt x="52" y="524"/>
                                <a:pt x="0" y="590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3" name="Freeform 2452"/>
                        <p:cNvSpPr/>
                        <p:nvPr/>
                      </p:nvSpPr>
                      <p:spPr>
                        <a:xfrm rot="12381000">
                          <a:off x="1849320" y="3703680"/>
                          <a:ext cx="124560" cy="20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817">
                              <a:moveTo>
                                <a:pt x="498" y="0"/>
                              </a:moveTo>
                              <a:cubicBezTo>
                                <a:pt x="455" y="58"/>
                                <a:pt x="323" y="210"/>
                                <a:pt x="240" y="346"/>
                              </a:cubicBezTo>
                              <a:cubicBezTo>
                                <a:pt x="157" y="482"/>
                                <a:pt x="50" y="719"/>
                                <a:pt x="0" y="817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4" name="Freeform 2453"/>
                        <p:cNvSpPr/>
                        <p:nvPr/>
                      </p:nvSpPr>
                      <p:spPr>
                        <a:xfrm rot="12381000">
                          <a:off x="1767240" y="3675240"/>
                          <a:ext cx="79200" cy="169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680">
                              <a:moveTo>
                                <a:pt x="0" y="0"/>
                              </a:moveTo>
                              <a:cubicBezTo>
                                <a:pt x="27" y="48"/>
                                <a:pt x="120" y="212"/>
                                <a:pt x="164" y="288"/>
                              </a:cubicBezTo>
                              <a:cubicBezTo>
                                <a:pt x="208" y="364"/>
                                <a:pt x="238" y="391"/>
                                <a:pt x="264" y="456"/>
                              </a:cubicBezTo>
                              <a:cubicBezTo>
                                <a:pt x="290" y="521"/>
                                <a:pt x="306" y="633"/>
                                <a:pt x="317" y="68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5" name="Freeform 2454"/>
                        <p:cNvSpPr/>
                        <p:nvPr/>
                      </p:nvSpPr>
                      <p:spPr>
                        <a:xfrm rot="13062600">
                          <a:off x="1662120" y="3835800"/>
                          <a:ext cx="1022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9" h="90">
                              <a:moveTo>
                                <a:pt x="0" y="90"/>
                              </a:moveTo>
                              <a:cubicBezTo>
                                <a:pt x="36" y="85"/>
                                <a:pt x="149" y="77"/>
                                <a:pt x="217" y="62"/>
                              </a:cubicBezTo>
                              <a:lnTo>
                                <a:pt x="409" y="0"/>
                              </a:lnTo>
                            </a:path>
                          </a:pathLst>
                        </a:custGeom>
                        <a:noFill/>
                        <a:ln cap="rnd" w="252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6" name="Freeform 2455"/>
                        <p:cNvSpPr/>
                        <p:nvPr/>
                      </p:nvSpPr>
                      <p:spPr>
                        <a:xfrm rot="12381000">
                          <a:off x="1699920" y="3855240"/>
                          <a:ext cx="68040" cy="18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047" name="Group 2500"/>
                  <p:cNvGrpSpPr/>
                  <p:nvPr/>
                </p:nvGrpSpPr>
                <p:grpSpPr>
                  <a:xfrm>
                    <a:off x="1749960" y="3380760"/>
                    <a:ext cx="659880" cy="917640"/>
                    <a:chOff x="1749960" y="3380760"/>
                    <a:chExt cx="659880" cy="917640"/>
                  </a:xfrm>
                </p:grpSpPr>
                <p:sp>
                  <p:nvSpPr>
                    <p:cNvPr id="2048" name="Freeform 2501"/>
                    <p:cNvSpPr/>
                    <p:nvPr/>
                  </p:nvSpPr>
                  <p:spPr>
                    <a:xfrm rot="10841400">
                      <a:off x="1944360" y="400284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49" name="Group 2502"/>
                    <p:cNvGrpSpPr/>
                    <p:nvPr/>
                  </p:nvGrpSpPr>
                  <p:grpSpPr>
                    <a:xfrm>
                      <a:off x="1749960" y="3380760"/>
                      <a:ext cx="659880" cy="917640"/>
                      <a:chOff x="1749960" y="3380760"/>
                      <a:chExt cx="659880" cy="917640"/>
                    </a:xfrm>
                  </p:grpSpPr>
                  <p:grpSp>
                    <p:nvGrpSpPr>
                      <p:cNvPr id="2050" name="Group 2503"/>
                      <p:cNvGrpSpPr/>
                      <p:nvPr/>
                    </p:nvGrpSpPr>
                    <p:grpSpPr>
                      <a:xfrm>
                        <a:off x="2023560" y="3380760"/>
                        <a:ext cx="147600" cy="659880"/>
                        <a:chOff x="2023560" y="3380760"/>
                        <a:chExt cx="147600" cy="659880"/>
                      </a:xfrm>
                    </p:grpSpPr>
                    <p:sp>
                      <p:nvSpPr>
                        <p:cNvPr id="2051" name="AutoShape 2504"/>
                        <p:cNvSpPr/>
                        <p:nvPr/>
                      </p:nvSpPr>
                      <p:spPr>
                        <a:xfrm rot="10841400">
                          <a:off x="2023920" y="3960720"/>
                          <a:ext cx="90720" cy="79200"/>
                        </a:xfrm>
                        <a:prstGeom prst="irregularSeal1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2320" bIns="-2232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2" name="Freeform 2505"/>
                        <p:cNvSpPr/>
                        <p:nvPr/>
                      </p:nvSpPr>
                      <p:spPr>
                        <a:xfrm rot="10841400">
                          <a:off x="2071440" y="3549960"/>
                          <a:ext cx="46080" cy="43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5" h="1735">
                              <a:moveTo>
                                <a:pt x="185" y="0"/>
                              </a:moveTo>
                              <a:cubicBezTo>
                                <a:pt x="174" y="126"/>
                                <a:pt x="137" y="578"/>
                                <a:pt x="120" y="757"/>
                              </a:cubicBezTo>
                              <a:lnTo>
                                <a:pt x="84" y="1075"/>
                              </a:lnTo>
                              <a:lnTo>
                                <a:pt x="0" y="1735"/>
                              </a:lnTo>
                            </a:path>
                          </a:pathLst>
                        </a:custGeom>
                        <a:noFill/>
                        <a:ln w="11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3" name="Oval 2506"/>
                        <p:cNvSpPr/>
                        <p:nvPr/>
                      </p:nvSpPr>
                      <p:spPr>
                        <a:xfrm rot="11385000">
                          <a:off x="2109600" y="3383280"/>
                          <a:ext cx="45360" cy="192600"/>
                        </a:xfrm>
                        <a:prstGeom prst="ellipse">
                          <a:avLst/>
                        </a:prstGeom>
                        <a:solidFill>
                          <a:srgbClr val="ffffff">
                            <a:alpha val="8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54" name="Group 2507"/>
                      <p:cNvGrpSpPr/>
                      <p:nvPr/>
                    </p:nvGrpSpPr>
                    <p:grpSpPr>
                      <a:xfrm>
                        <a:off x="1749960" y="3767760"/>
                        <a:ext cx="659880" cy="530640"/>
                        <a:chOff x="1749960" y="3767760"/>
                        <a:chExt cx="659880" cy="530640"/>
                      </a:xfrm>
                    </p:grpSpPr>
                    <p:sp>
                      <p:nvSpPr>
                        <p:cNvPr id="2055" name="Freeform 2508"/>
                        <p:cNvSpPr/>
                        <p:nvPr/>
                      </p:nvSpPr>
                      <p:spPr>
                        <a:xfrm rot="10841400">
                          <a:off x="2070360" y="3942720"/>
                          <a:ext cx="158040" cy="7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2" h="303">
                              <a:moveTo>
                                <a:pt x="544" y="303"/>
                              </a:moveTo>
                              <a:cubicBezTo>
                                <a:pt x="553" y="278"/>
                                <a:pt x="593" y="184"/>
                                <a:pt x="598" y="153"/>
                              </a:cubicBezTo>
                              <a:cubicBezTo>
                                <a:pt x="603" y="122"/>
                                <a:pt x="632" y="137"/>
                                <a:pt x="574" y="117"/>
                              </a:cubicBezTo>
                              <a:cubicBezTo>
                                <a:pt x="516" y="97"/>
                                <a:pt x="346" y="0"/>
                                <a:pt x="250" y="31"/>
                              </a:cubicBezTo>
                              <a:cubicBezTo>
                                <a:pt x="154" y="62"/>
                                <a:pt x="52" y="245"/>
                                <a:pt x="0" y="303"/>
                              </a:cubicBez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0" bIns="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6" name="Freeform 2509"/>
                        <p:cNvSpPr/>
                        <p:nvPr/>
                      </p:nvSpPr>
                      <p:spPr>
                        <a:xfrm rot="10841400">
                          <a:off x="2081520" y="3927960"/>
                          <a:ext cx="2725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9" h="272">
                              <a:moveTo>
                                <a:pt x="1089" y="0"/>
                              </a:moveTo>
                              <a:cubicBezTo>
                                <a:pt x="988" y="18"/>
                                <a:pt x="663" y="64"/>
                                <a:pt x="482" y="109"/>
                              </a:cubicBezTo>
                              <a:cubicBezTo>
                                <a:pt x="301" y="154"/>
                                <a:pt x="100" y="238"/>
                                <a:pt x="0" y="2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7" name="Freeform 2510"/>
                        <p:cNvSpPr/>
                        <p:nvPr/>
                      </p:nvSpPr>
                      <p:spPr>
                        <a:xfrm rot="10841400">
                          <a:off x="2091960" y="3996360"/>
                          <a:ext cx="28368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272">
                              <a:moveTo>
                                <a:pt x="1134" y="272"/>
                              </a:moveTo>
                              <a:cubicBezTo>
                                <a:pt x="1024" y="241"/>
                                <a:pt x="663" y="129"/>
                                <a:pt x="474" y="84"/>
                              </a:cubicBezTo>
                              <a:cubicBezTo>
                                <a:pt x="285" y="39"/>
                                <a:pt x="99" y="1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8" name="Freeform 2511"/>
                        <p:cNvSpPr/>
                        <p:nvPr/>
                      </p:nvSpPr>
                      <p:spPr>
                        <a:xfrm rot="10841400">
                          <a:off x="2113920" y="4008240"/>
                          <a:ext cx="29520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0" h="363">
                              <a:moveTo>
                                <a:pt x="1180" y="363"/>
                              </a:moveTo>
                              <a:cubicBezTo>
                                <a:pt x="1067" y="321"/>
                                <a:pt x="699" y="172"/>
                                <a:pt x="502" y="112"/>
                              </a:cubicBezTo>
                              <a:cubicBezTo>
                                <a:pt x="305" y="52"/>
                                <a:pt x="105" y="23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9" name="Freeform 2512"/>
                        <p:cNvSpPr/>
                        <p:nvPr/>
                      </p:nvSpPr>
                      <p:spPr>
                        <a:xfrm rot="10841400">
                          <a:off x="2093040" y="4006080"/>
                          <a:ext cx="293400" cy="11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3" h="461">
                              <a:moveTo>
                                <a:pt x="1173" y="461"/>
                              </a:moveTo>
                              <a:cubicBezTo>
                                <a:pt x="1088" y="425"/>
                                <a:pt x="862" y="323"/>
                                <a:pt x="666" y="246"/>
                              </a:cubicBezTo>
                              <a:cubicBezTo>
                                <a:pt x="470" y="169"/>
                                <a:pt x="139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0" name="Freeform 2513"/>
                        <p:cNvSpPr/>
                        <p:nvPr/>
                      </p:nvSpPr>
                      <p:spPr>
                        <a:xfrm rot="10841400">
                          <a:off x="2068920" y="4007520"/>
                          <a:ext cx="283680" cy="11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453">
                              <a:moveTo>
                                <a:pt x="1134" y="453"/>
                              </a:moveTo>
                              <a:cubicBezTo>
                                <a:pt x="1034" y="407"/>
                                <a:pt x="722" y="254"/>
                                <a:pt x="533" y="178"/>
                              </a:cubicBezTo>
                              <a:cubicBezTo>
                                <a:pt x="344" y="102"/>
                                <a:pt x="111" y="3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1" name="Freeform 2514"/>
                        <p:cNvSpPr/>
                        <p:nvPr/>
                      </p:nvSpPr>
                      <p:spPr>
                        <a:xfrm rot="10841400">
                          <a:off x="2079360" y="4007520"/>
                          <a:ext cx="214200" cy="18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6" h="724">
                              <a:moveTo>
                                <a:pt x="856" y="724"/>
                              </a:moveTo>
                              <a:lnTo>
                                <a:pt x="372" y="234"/>
                              </a:lnTo>
                              <a:cubicBezTo>
                                <a:pt x="229" y="113"/>
                                <a:pt x="77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2" name="Freeform 2515"/>
                        <p:cNvSpPr/>
                        <p:nvPr/>
                      </p:nvSpPr>
                      <p:spPr>
                        <a:xfrm rot="10841400">
                          <a:off x="2079360" y="401868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lnTo>
                                <a:pt x="220" y="1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3" name="Freeform 2516"/>
                        <p:cNvSpPr/>
                        <p:nvPr/>
                      </p:nvSpPr>
                      <p:spPr>
                        <a:xfrm rot="10841400">
                          <a:off x="2045880" y="398412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cubicBezTo>
                                <a:pt x="882" y="554"/>
                                <a:pt x="466" y="255"/>
                                <a:pt x="300" y="149"/>
                              </a:cubicBezTo>
                              <a:cubicBezTo>
                                <a:pt x="134" y="43"/>
                                <a:pt x="62" y="3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4" name="Freeform 2517"/>
                        <p:cNvSpPr/>
                        <p:nvPr/>
                      </p:nvSpPr>
                      <p:spPr>
                        <a:xfrm rot="10841400">
                          <a:off x="2056320" y="3996000"/>
                          <a:ext cx="262800" cy="245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50" h="980">
                              <a:moveTo>
                                <a:pt x="1050" y="980"/>
                              </a:moveTo>
                              <a:lnTo>
                                <a:pt x="378" y="234"/>
                              </a:lnTo>
                              <a:cubicBezTo>
                                <a:pt x="203" y="71"/>
                                <a:pt x="79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5" name="Line 2518"/>
                        <p:cNvSpPr/>
                        <p:nvPr/>
                      </p:nvSpPr>
                      <p:spPr>
                        <a:xfrm>
                          <a:off x="2047320" y="3972240"/>
                          <a:ext cx="189720" cy="251640"/>
                        </a:xfrm>
                        <a:prstGeom prst="line">
                          <a:avLst/>
                        </a:prstGeom>
                        <a:ln w="252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6" name="Freeform 2519"/>
                        <p:cNvSpPr/>
                        <p:nvPr/>
                      </p:nvSpPr>
                      <p:spPr>
                        <a:xfrm rot="10841400">
                          <a:off x="2056680" y="3972240"/>
                          <a:ext cx="158760" cy="24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997">
                              <a:moveTo>
                                <a:pt x="635" y="997"/>
                              </a:moveTo>
                              <a:cubicBezTo>
                                <a:pt x="569" y="887"/>
                                <a:pt x="345" y="500"/>
                                <a:pt x="239" y="334"/>
                              </a:cubicBezTo>
                              <a:cubicBezTo>
                                <a:pt x="133" y="168"/>
                                <a:pt x="50" y="7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7" name="Freeform 2520"/>
                        <p:cNvSpPr/>
                        <p:nvPr/>
                      </p:nvSpPr>
                      <p:spPr>
                        <a:xfrm rot="10841400">
                          <a:off x="2056320" y="3983400"/>
                          <a:ext cx="123120" cy="256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2" h="1026">
                              <a:moveTo>
                                <a:pt x="492" y="1026"/>
                              </a:moveTo>
                              <a:cubicBezTo>
                                <a:pt x="452" y="924"/>
                                <a:pt x="334" y="585"/>
                                <a:pt x="252" y="414"/>
                              </a:cubicBezTo>
                              <a:cubicBezTo>
                                <a:pt x="170" y="243"/>
                                <a:pt x="53" y="8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8" name="Freeform 2521"/>
                        <p:cNvSpPr/>
                        <p:nvPr/>
                      </p:nvSpPr>
                      <p:spPr>
                        <a:xfrm rot="10841400">
                          <a:off x="2056320" y="3983400"/>
                          <a:ext cx="82440" cy="27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0" h="1086">
                              <a:moveTo>
                                <a:pt x="330" y="1086"/>
                              </a:moveTo>
                              <a:cubicBezTo>
                                <a:pt x="302" y="966"/>
                                <a:pt x="217" y="547"/>
                                <a:pt x="162" y="366"/>
                              </a:cubicBezTo>
                              <a:cubicBezTo>
                                <a:pt x="107" y="185"/>
                                <a:pt x="34" y="7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9" name="Freeform 2522"/>
                        <p:cNvSpPr/>
                        <p:nvPr/>
                      </p:nvSpPr>
                      <p:spPr>
                        <a:xfrm rot="10841400">
                          <a:off x="2045160" y="3971880"/>
                          <a:ext cx="41040" cy="29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4" h="1160">
                              <a:moveTo>
                                <a:pt x="164" y="1160"/>
                              </a:moveTo>
                              <a:cubicBezTo>
                                <a:pt x="148" y="1008"/>
                                <a:pt x="93" y="439"/>
                                <a:pt x="66" y="246"/>
                              </a:cubicBezTo>
                              <a:cubicBezTo>
                                <a:pt x="39" y="53"/>
                                <a:pt x="14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0" name="Freeform 2523"/>
                        <p:cNvSpPr/>
                        <p:nvPr/>
                      </p:nvSpPr>
                      <p:spPr>
                        <a:xfrm rot="10841400">
                          <a:off x="2032560" y="3983040"/>
                          <a:ext cx="47520" cy="31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1" h="1259">
                              <a:moveTo>
                                <a:pt x="140" y="1259"/>
                              </a:moveTo>
                              <a:cubicBezTo>
                                <a:pt x="145" y="1113"/>
                                <a:pt x="191" y="594"/>
                                <a:pt x="168" y="384"/>
                              </a:cubicBezTo>
                              <a:cubicBezTo>
                                <a:pt x="145" y="174"/>
                                <a:pt x="35" y="8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1" name="Freeform 2524"/>
                        <p:cNvSpPr/>
                        <p:nvPr/>
                      </p:nvSpPr>
                      <p:spPr>
                        <a:xfrm rot="10841400">
                          <a:off x="2011320" y="3971520"/>
                          <a:ext cx="45000" cy="28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1" h="1134">
                              <a:moveTo>
                                <a:pt x="0" y="1134"/>
                              </a:moveTo>
                              <a:cubicBezTo>
                                <a:pt x="19" y="988"/>
                                <a:pt x="85" y="445"/>
                                <a:pt x="115" y="256"/>
                              </a:cubicBezTo>
                              <a:cubicBezTo>
                                <a:pt x="145" y="67"/>
                                <a:pt x="167" y="53"/>
                                <a:pt x="181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2" name="Freeform 2525"/>
                        <p:cNvSpPr/>
                        <p:nvPr/>
                      </p:nvSpPr>
                      <p:spPr>
                        <a:xfrm rot="10841400">
                          <a:off x="1965960" y="3982320"/>
                          <a:ext cx="79200" cy="238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3" name="Freeform 2526"/>
                        <p:cNvSpPr/>
                        <p:nvPr/>
                      </p:nvSpPr>
                      <p:spPr>
                        <a:xfrm rot="10841400">
                          <a:off x="1897200" y="3993840"/>
                          <a:ext cx="158760" cy="29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1179">
                              <a:moveTo>
                                <a:pt x="0" y="1179"/>
                              </a:moveTo>
                              <a:cubicBezTo>
                                <a:pt x="70" y="1066"/>
                                <a:pt x="315" y="697"/>
                                <a:pt x="421" y="501"/>
                              </a:cubicBezTo>
                              <a:cubicBezTo>
                                <a:pt x="527" y="305"/>
                                <a:pt x="591" y="105"/>
                                <a:pt x="635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4" name="Freeform 2527"/>
                        <p:cNvSpPr/>
                        <p:nvPr/>
                      </p:nvSpPr>
                      <p:spPr>
                        <a:xfrm rot="10841400">
                          <a:off x="1852560" y="3981960"/>
                          <a:ext cx="204120" cy="24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6" h="998">
                              <a:moveTo>
                                <a:pt x="0" y="998"/>
                              </a:moveTo>
                              <a:cubicBezTo>
                                <a:pt x="102" y="891"/>
                                <a:pt x="477" y="523"/>
                                <a:pt x="613" y="357"/>
                              </a:cubicBezTo>
                              <a:cubicBezTo>
                                <a:pt x="749" y="191"/>
                                <a:pt x="774" y="75"/>
                                <a:pt x="816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5" name="Freeform 2528"/>
                        <p:cNvSpPr/>
                        <p:nvPr/>
                      </p:nvSpPr>
                      <p:spPr>
                        <a:xfrm rot="10841400">
                          <a:off x="1807560" y="3981600"/>
                          <a:ext cx="238320" cy="19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2" h="771">
                              <a:moveTo>
                                <a:pt x="0" y="771"/>
                              </a:moveTo>
                              <a:cubicBezTo>
                                <a:pt x="91" y="704"/>
                                <a:pt x="385" y="497"/>
                                <a:pt x="544" y="369"/>
                              </a:cubicBezTo>
                              <a:cubicBezTo>
                                <a:pt x="703" y="241"/>
                                <a:pt x="867" y="77"/>
                                <a:pt x="952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6" name="Freeform 2529"/>
                        <p:cNvSpPr/>
                        <p:nvPr/>
                      </p:nvSpPr>
                      <p:spPr>
                        <a:xfrm rot="10841400">
                          <a:off x="1773720" y="3981240"/>
                          <a:ext cx="27216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8" h="635">
                              <a:moveTo>
                                <a:pt x="0" y="635"/>
                              </a:moveTo>
                              <a:cubicBezTo>
                                <a:pt x="109" y="581"/>
                                <a:pt x="471" y="417"/>
                                <a:pt x="652" y="311"/>
                              </a:cubicBezTo>
                              <a:cubicBezTo>
                                <a:pt x="833" y="205"/>
                                <a:pt x="997" y="65"/>
                                <a:pt x="1088" y="0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7" name="Freeform 2530"/>
                        <p:cNvSpPr/>
                        <p:nvPr/>
                      </p:nvSpPr>
                      <p:spPr>
                        <a:xfrm rot="10841400">
                          <a:off x="1750680" y="3970080"/>
                          <a:ext cx="31788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0" h="635">
                              <a:moveTo>
                                <a:pt x="0" y="635"/>
                              </a:moveTo>
                              <a:cubicBezTo>
                                <a:pt x="120" y="588"/>
                                <a:pt x="537" y="430"/>
                                <a:pt x="719" y="352"/>
                              </a:cubicBezTo>
                              <a:cubicBezTo>
                                <a:pt x="901" y="274"/>
                                <a:pt x="999" y="225"/>
                                <a:pt x="1091" y="166"/>
                              </a:cubicBezTo>
                              <a:cubicBezTo>
                                <a:pt x="1183" y="107"/>
                                <a:pt x="1233" y="35"/>
                                <a:pt x="127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8" name="Freeform 2531"/>
                        <p:cNvSpPr/>
                        <p:nvPr/>
                      </p:nvSpPr>
                      <p:spPr>
                        <a:xfrm rot="10841400">
                          <a:off x="1865160" y="3953880"/>
                          <a:ext cx="19404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6" h="87">
                              <a:moveTo>
                                <a:pt x="0" y="0"/>
                              </a:moveTo>
                              <a:cubicBezTo>
                                <a:pt x="63" y="14"/>
                                <a:pt x="255" y="81"/>
                                <a:pt x="384" y="84"/>
                              </a:cubicBezTo>
                              <a:cubicBezTo>
                                <a:pt x="513" y="87"/>
                                <a:pt x="694" y="33"/>
                                <a:pt x="776" y="2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9" name="Freeform 2532"/>
                        <p:cNvSpPr/>
                        <p:nvPr/>
                      </p:nvSpPr>
                      <p:spPr>
                        <a:xfrm rot="10841400">
                          <a:off x="1922400" y="3936960"/>
                          <a:ext cx="13608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135">
                              <a:moveTo>
                                <a:pt x="0" y="0"/>
                              </a:moveTo>
                              <a:lnTo>
                                <a:pt x="289" y="99"/>
                              </a:lnTo>
                              <a:cubicBezTo>
                                <a:pt x="380" y="121"/>
                                <a:pt x="491" y="128"/>
                                <a:pt x="544" y="13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0" name="Freeform 2533"/>
                        <p:cNvSpPr/>
                        <p:nvPr/>
                      </p:nvSpPr>
                      <p:spPr>
                        <a:xfrm rot="10841400">
                          <a:off x="1979640" y="3891960"/>
                          <a:ext cx="907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3" h="272">
                              <a:moveTo>
                                <a:pt x="0" y="0"/>
                              </a:moveTo>
                              <a:cubicBezTo>
                                <a:pt x="34" y="32"/>
                                <a:pt x="143" y="147"/>
                                <a:pt x="203" y="192"/>
                              </a:cubicBezTo>
                              <a:cubicBezTo>
                                <a:pt x="263" y="237"/>
                                <a:pt x="330" y="255"/>
                                <a:pt x="363" y="272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1" name="Freeform 2534"/>
                        <p:cNvSpPr/>
                        <p:nvPr/>
                      </p:nvSpPr>
                      <p:spPr>
                        <a:xfrm rot="10841400">
                          <a:off x="2016720" y="3883680"/>
                          <a:ext cx="6480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0" h="306">
                              <a:moveTo>
                                <a:pt x="0" y="0"/>
                              </a:moveTo>
                              <a:cubicBezTo>
                                <a:pt x="24" y="33"/>
                                <a:pt x="103" y="147"/>
                                <a:pt x="146" y="198"/>
                              </a:cubicBezTo>
                              <a:cubicBezTo>
                                <a:pt x="189" y="249"/>
                                <a:pt x="236" y="284"/>
                                <a:pt x="260" y="306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2" name="Freeform 2535"/>
                        <p:cNvSpPr/>
                        <p:nvPr/>
                      </p:nvSpPr>
                      <p:spPr>
                        <a:xfrm rot="10841400">
                          <a:off x="2069640" y="3989160"/>
                          <a:ext cx="22680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72">
                              <a:moveTo>
                                <a:pt x="0" y="27"/>
                              </a:moveTo>
                              <a:cubicBezTo>
                                <a:pt x="55" y="24"/>
                                <a:pt x="180" y="0"/>
                                <a:pt x="331" y="7"/>
                              </a:cubicBezTo>
                              <a:cubicBezTo>
                                <a:pt x="482" y="14"/>
                                <a:pt x="787" y="59"/>
                                <a:pt x="907" y="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3" name="Freeform 2536"/>
                        <p:cNvSpPr/>
                        <p:nvPr/>
                      </p:nvSpPr>
                      <p:spPr>
                        <a:xfrm rot="10841400">
                          <a:off x="1831320" y="3967920"/>
                          <a:ext cx="226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56">
                              <a:moveTo>
                                <a:pt x="0" y="0"/>
                              </a:moveTo>
                              <a:cubicBezTo>
                                <a:pt x="86" y="8"/>
                                <a:pt x="366" y="42"/>
                                <a:pt x="517" y="49"/>
                              </a:cubicBezTo>
                              <a:cubicBezTo>
                                <a:pt x="668" y="56"/>
                                <a:pt x="826" y="46"/>
                                <a:pt x="907" y="4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4" name="Freeform 2537"/>
                        <p:cNvSpPr/>
                        <p:nvPr/>
                      </p:nvSpPr>
                      <p:spPr>
                        <a:xfrm rot="10841400">
                          <a:off x="1911600" y="3880440"/>
                          <a:ext cx="1587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363">
                              <a:moveTo>
                                <a:pt x="0" y="0"/>
                              </a:moveTo>
                              <a:cubicBezTo>
                                <a:pt x="57" y="40"/>
                                <a:pt x="235" y="178"/>
                                <a:pt x="341" y="238"/>
                              </a:cubicBezTo>
                              <a:cubicBezTo>
                                <a:pt x="447" y="298"/>
                                <a:pt x="574" y="337"/>
                                <a:pt x="635" y="363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5" name="Freeform 2538"/>
                        <p:cNvSpPr/>
                        <p:nvPr/>
                      </p:nvSpPr>
                      <p:spPr>
                        <a:xfrm rot="10841400">
                          <a:off x="2059200" y="3983040"/>
                          <a:ext cx="8640" cy="261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" h="1043">
                              <a:moveTo>
                                <a:pt x="0" y="0"/>
                              </a:moveTo>
                              <a:cubicBezTo>
                                <a:pt x="6" y="84"/>
                                <a:pt x="35" y="330"/>
                                <a:pt x="35" y="504"/>
                              </a:cubicBezTo>
                              <a:cubicBezTo>
                                <a:pt x="35" y="678"/>
                                <a:pt x="7" y="931"/>
                                <a:pt x="0" y="1043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6" name="Freeform 2539"/>
                        <p:cNvSpPr/>
                        <p:nvPr/>
                      </p:nvSpPr>
                      <p:spPr>
                        <a:xfrm rot="10841400">
                          <a:off x="2058480" y="3858840"/>
                          <a:ext cx="136080" cy="147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590">
                              <a:moveTo>
                                <a:pt x="544" y="0"/>
                              </a:moveTo>
                              <a:cubicBezTo>
                                <a:pt x="495" y="45"/>
                                <a:pt x="341" y="173"/>
                                <a:pt x="250" y="271"/>
                              </a:cubicBezTo>
                              <a:cubicBezTo>
                                <a:pt x="159" y="369"/>
                                <a:pt x="52" y="524"/>
                                <a:pt x="0" y="590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7" name="Freeform 2540"/>
                        <p:cNvSpPr/>
                        <p:nvPr/>
                      </p:nvSpPr>
                      <p:spPr>
                        <a:xfrm rot="10841400">
                          <a:off x="2071440" y="3768120"/>
                          <a:ext cx="124560" cy="20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817">
                              <a:moveTo>
                                <a:pt x="498" y="0"/>
                              </a:moveTo>
                              <a:cubicBezTo>
                                <a:pt x="455" y="58"/>
                                <a:pt x="323" y="210"/>
                                <a:pt x="240" y="346"/>
                              </a:cubicBezTo>
                              <a:cubicBezTo>
                                <a:pt x="157" y="482"/>
                                <a:pt x="50" y="719"/>
                                <a:pt x="0" y="817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8" name="Freeform 2541"/>
                        <p:cNvSpPr/>
                        <p:nvPr/>
                      </p:nvSpPr>
                      <p:spPr>
                        <a:xfrm rot="10841400">
                          <a:off x="1979640" y="3789720"/>
                          <a:ext cx="79200" cy="169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680">
                              <a:moveTo>
                                <a:pt x="0" y="0"/>
                              </a:moveTo>
                              <a:cubicBezTo>
                                <a:pt x="27" y="48"/>
                                <a:pt x="120" y="212"/>
                                <a:pt x="164" y="288"/>
                              </a:cubicBezTo>
                              <a:cubicBezTo>
                                <a:pt x="208" y="364"/>
                                <a:pt x="238" y="391"/>
                                <a:pt x="264" y="456"/>
                              </a:cubicBezTo>
                              <a:cubicBezTo>
                                <a:pt x="290" y="521"/>
                                <a:pt x="306" y="633"/>
                                <a:pt x="317" y="68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9" name="Freeform 2542"/>
                        <p:cNvSpPr/>
                        <p:nvPr/>
                      </p:nvSpPr>
                      <p:spPr>
                        <a:xfrm rot="11522400">
                          <a:off x="1921320" y="3982320"/>
                          <a:ext cx="1022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9" h="90">
                              <a:moveTo>
                                <a:pt x="0" y="90"/>
                              </a:moveTo>
                              <a:cubicBezTo>
                                <a:pt x="36" y="85"/>
                                <a:pt x="149" y="77"/>
                                <a:pt x="217" y="62"/>
                              </a:cubicBezTo>
                              <a:lnTo>
                                <a:pt x="409" y="0"/>
                              </a:lnTo>
                            </a:path>
                          </a:pathLst>
                        </a:custGeom>
                        <a:noFill/>
                        <a:ln cap="rnd" w="252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0" name="Freeform 2543"/>
                        <p:cNvSpPr/>
                        <p:nvPr/>
                      </p:nvSpPr>
                      <p:spPr>
                        <a:xfrm rot="10841400">
                          <a:off x="2000520" y="3983040"/>
                          <a:ext cx="68040" cy="18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091" name="Group 2544"/>
                  <p:cNvGrpSpPr/>
                  <p:nvPr/>
                </p:nvGrpSpPr>
                <p:grpSpPr>
                  <a:xfrm>
                    <a:off x="2162880" y="3381480"/>
                    <a:ext cx="630720" cy="911520"/>
                    <a:chOff x="2162880" y="3381480"/>
                    <a:chExt cx="630720" cy="911520"/>
                  </a:xfrm>
                </p:grpSpPr>
                <p:sp>
                  <p:nvSpPr>
                    <p:cNvPr id="2092" name="Freeform 2545"/>
                    <p:cNvSpPr/>
                    <p:nvPr/>
                  </p:nvSpPr>
                  <p:spPr>
                    <a:xfrm rot="8968200">
                      <a:off x="2343600" y="399600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93" name="Group 2546"/>
                    <p:cNvGrpSpPr/>
                    <p:nvPr/>
                  </p:nvGrpSpPr>
                  <p:grpSpPr>
                    <a:xfrm>
                      <a:off x="2162880" y="3381480"/>
                      <a:ext cx="630720" cy="911520"/>
                      <a:chOff x="2162880" y="3381480"/>
                      <a:chExt cx="630720" cy="911520"/>
                    </a:xfrm>
                  </p:grpSpPr>
                  <p:grpSp>
                    <p:nvGrpSpPr>
                      <p:cNvPr id="2094" name="Group 2547"/>
                      <p:cNvGrpSpPr/>
                      <p:nvPr/>
                    </p:nvGrpSpPr>
                    <p:grpSpPr>
                      <a:xfrm>
                        <a:off x="2178720" y="3381480"/>
                        <a:ext cx="331920" cy="632880"/>
                        <a:chOff x="2178720" y="3381480"/>
                        <a:chExt cx="331920" cy="632880"/>
                      </a:xfrm>
                    </p:grpSpPr>
                    <p:sp>
                      <p:nvSpPr>
                        <p:cNvPr id="2095" name="AutoShape 2548"/>
                        <p:cNvSpPr/>
                        <p:nvPr/>
                      </p:nvSpPr>
                      <p:spPr>
                        <a:xfrm rot="8968200">
                          <a:off x="2405880" y="3917520"/>
                          <a:ext cx="90720" cy="79200"/>
                        </a:xfrm>
                        <a:prstGeom prst="irregularSeal1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2320" bIns="-2232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6" name="Freeform 2549"/>
                        <p:cNvSpPr/>
                        <p:nvPr/>
                      </p:nvSpPr>
                      <p:spPr>
                        <a:xfrm rot="8968200">
                          <a:off x="2328480" y="3527640"/>
                          <a:ext cx="46080" cy="43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5" h="1735">
                              <a:moveTo>
                                <a:pt x="185" y="0"/>
                              </a:moveTo>
                              <a:cubicBezTo>
                                <a:pt x="174" y="126"/>
                                <a:pt x="137" y="578"/>
                                <a:pt x="120" y="757"/>
                              </a:cubicBezTo>
                              <a:lnTo>
                                <a:pt x="84" y="1075"/>
                              </a:lnTo>
                              <a:lnTo>
                                <a:pt x="0" y="1735"/>
                              </a:lnTo>
                            </a:path>
                          </a:pathLst>
                        </a:custGeom>
                        <a:noFill/>
                        <a:ln w="11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7" name="Oval 2550"/>
                        <p:cNvSpPr/>
                        <p:nvPr/>
                      </p:nvSpPr>
                      <p:spPr>
                        <a:xfrm rot="9511800">
                          <a:off x="2212200" y="3382920"/>
                          <a:ext cx="45360" cy="192600"/>
                        </a:xfrm>
                        <a:prstGeom prst="ellipse">
                          <a:avLst/>
                        </a:prstGeom>
                        <a:solidFill>
                          <a:srgbClr val="ffffff">
                            <a:alpha val="8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98" name="Group 2551"/>
                      <p:cNvGrpSpPr/>
                      <p:nvPr/>
                    </p:nvGrpSpPr>
                    <p:grpSpPr>
                      <a:xfrm>
                        <a:off x="2162880" y="3693240"/>
                        <a:ext cx="630720" cy="599760"/>
                        <a:chOff x="2162880" y="3693240"/>
                        <a:chExt cx="630720" cy="599760"/>
                      </a:xfrm>
                    </p:grpSpPr>
                    <p:sp>
                      <p:nvSpPr>
                        <p:cNvPr id="2099" name="Freeform 2552"/>
                        <p:cNvSpPr/>
                        <p:nvPr/>
                      </p:nvSpPr>
                      <p:spPr>
                        <a:xfrm rot="8968200">
                          <a:off x="2430360" y="3861000"/>
                          <a:ext cx="158040" cy="7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2" h="303">
                              <a:moveTo>
                                <a:pt x="544" y="303"/>
                              </a:moveTo>
                              <a:cubicBezTo>
                                <a:pt x="553" y="278"/>
                                <a:pt x="593" y="184"/>
                                <a:pt x="598" y="153"/>
                              </a:cubicBezTo>
                              <a:cubicBezTo>
                                <a:pt x="603" y="122"/>
                                <a:pt x="632" y="137"/>
                                <a:pt x="574" y="117"/>
                              </a:cubicBezTo>
                              <a:cubicBezTo>
                                <a:pt x="516" y="97"/>
                                <a:pt x="346" y="0"/>
                                <a:pt x="250" y="31"/>
                              </a:cubicBezTo>
                              <a:cubicBezTo>
                                <a:pt x="154" y="62"/>
                                <a:pt x="52" y="245"/>
                                <a:pt x="0" y="303"/>
                              </a:cubicBez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0" bIns="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0" name="Freeform 2553"/>
                        <p:cNvSpPr/>
                        <p:nvPr/>
                      </p:nvSpPr>
                      <p:spPr>
                        <a:xfrm rot="8968200">
                          <a:off x="2421720" y="3813480"/>
                          <a:ext cx="2725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9" h="272">
                              <a:moveTo>
                                <a:pt x="1089" y="0"/>
                              </a:moveTo>
                              <a:cubicBezTo>
                                <a:pt x="988" y="18"/>
                                <a:pt x="663" y="64"/>
                                <a:pt x="482" y="109"/>
                              </a:cubicBezTo>
                              <a:cubicBezTo>
                                <a:pt x="301" y="154"/>
                                <a:pt x="100" y="238"/>
                                <a:pt x="0" y="2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1" name="Freeform 2554"/>
                        <p:cNvSpPr/>
                        <p:nvPr/>
                      </p:nvSpPr>
                      <p:spPr>
                        <a:xfrm rot="8968200">
                          <a:off x="2465280" y="3863520"/>
                          <a:ext cx="28368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272">
                              <a:moveTo>
                                <a:pt x="1134" y="272"/>
                              </a:moveTo>
                              <a:cubicBezTo>
                                <a:pt x="1024" y="241"/>
                                <a:pt x="663" y="129"/>
                                <a:pt x="474" y="84"/>
                              </a:cubicBezTo>
                              <a:cubicBezTo>
                                <a:pt x="285" y="39"/>
                                <a:pt x="99" y="1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2" name="Freeform 2555"/>
                        <p:cNvSpPr/>
                        <p:nvPr/>
                      </p:nvSpPr>
                      <p:spPr>
                        <a:xfrm rot="8968200">
                          <a:off x="2495520" y="3857400"/>
                          <a:ext cx="29520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0" h="363">
                              <a:moveTo>
                                <a:pt x="1180" y="363"/>
                              </a:moveTo>
                              <a:cubicBezTo>
                                <a:pt x="1067" y="321"/>
                                <a:pt x="699" y="172"/>
                                <a:pt x="502" y="112"/>
                              </a:cubicBezTo>
                              <a:cubicBezTo>
                                <a:pt x="305" y="52"/>
                                <a:pt x="105" y="23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3" name="Freeform 2556"/>
                        <p:cNvSpPr/>
                        <p:nvPr/>
                      </p:nvSpPr>
                      <p:spPr>
                        <a:xfrm rot="8968200">
                          <a:off x="2483280" y="3865320"/>
                          <a:ext cx="293400" cy="11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3" h="461">
                              <a:moveTo>
                                <a:pt x="1173" y="461"/>
                              </a:moveTo>
                              <a:cubicBezTo>
                                <a:pt x="1088" y="425"/>
                                <a:pt x="862" y="323"/>
                                <a:pt x="666" y="246"/>
                              </a:cubicBezTo>
                              <a:cubicBezTo>
                                <a:pt x="470" y="169"/>
                                <a:pt x="139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4" name="Freeform 2557"/>
                        <p:cNvSpPr/>
                        <p:nvPr/>
                      </p:nvSpPr>
                      <p:spPr>
                        <a:xfrm rot="8968200">
                          <a:off x="2463480" y="3881520"/>
                          <a:ext cx="283680" cy="11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453">
                              <a:moveTo>
                                <a:pt x="1134" y="453"/>
                              </a:moveTo>
                              <a:cubicBezTo>
                                <a:pt x="1034" y="407"/>
                                <a:pt x="722" y="254"/>
                                <a:pt x="533" y="178"/>
                              </a:cubicBezTo>
                              <a:cubicBezTo>
                                <a:pt x="344" y="102"/>
                                <a:pt x="111" y="3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5" name="Freeform 2558"/>
                        <p:cNvSpPr/>
                        <p:nvPr/>
                      </p:nvSpPr>
                      <p:spPr>
                        <a:xfrm rot="8968200">
                          <a:off x="2494800" y="3889440"/>
                          <a:ext cx="214200" cy="18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6" h="724">
                              <a:moveTo>
                                <a:pt x="856" y="724"/>
                              </a:moveTo>
                              <a:lnTo>
                                <a:pt x="372" y="234"/>
                              </a:lnTo>
                              <a:cubicBezTo>
                                <a:pt x="229" y="113"/>
                                <a:pt x="77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6" name="Freeform 2559"/>
                        <p:cNvSpPr/>
                        <p:nvPr/>
                      </p:nvSpPr>
                      <p:spPr>
                        <a:xfrm rot="8968200">
                          <a:off x="2492640" y="389160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lnTo>
                                <a:pt x="220" y="1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7" name="Freeform 2560"/>
                        <p:cNvSpPr/>
                        <p:nvPr/>
                      </p:nvSpPr>
                      <p:spPr>
                        <a:xfrm rot="8968200">
                          <a:off x="2446200" y="387936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cubicBezTo>
                                <a:pt x="882" y="554"/>
                                <a:pt x="466" y="255"/>
                                <a:pt x="300" y="149"/>
                              </a:cubicBezTo>
                              <a:cubicBezTo>
                                <a:pt x="134" y="43"/>
                                <a:pt x="62" y="3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8" name="Freeform 2561"/>
                        <p:cNvSpPr/>
                        <p:nvPr/>
                      </p:nvSpPr>
                      <p:spPr>
                        <a:xfrm rot="8968200">
                          <a:off x="2482200" y="3874320"/>
                          <a:ext cx="262800" cy="245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50" h="980">
                              <a:moveTo>
                                <a:pt x="1050" y="980"/>
                              </a:moveTo>
                              <a:lnTo>
                                <a:pt x="378" y="234"/>
                              </a:lnTo>
                              <a:cubicBezTo>
                                <a:pt x="203" y="71"/>
                                <a:pt x="79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9" name="Line 2562"/>
                        <p:cNvSpPr/>
                        <p:nvPr/>
                      </p:nvSpPr>
                      <p:spPr>
                        <a:xfrm>
                          <a:off x="2417760" y="3944520"/>
                          <a:ext cx="292680" cy="117000"/>
                        </a:xfrm>
                        <a:prstGeom prst="line">
                          <a:avLst/>
                        </a:prstGeom>
                        <a:ln w="252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0" name="Freeform 2563"/>
                        <p:cNvSpPr/>
                        <p:nvPr/>
                      </p:nvSpPr>
                      <p:spPr>
                        <a:xfrm rot="8968200">
                          <a:off x="2478960" y="3880800"/>
                          <a:ext cx="158760" cy="24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997">
                              <a:moveTo>
                                <a:pt x="635" y="997"/>
                              </a:moveTo>
                              <a:cubicBezTo>
                                <a:pt x="569" y="887"/>
                                <a:pt x="345" y="500"/>
                                <a:pt x="239" y="334"/>
                              </a:cubicBezTo>
                              <a:cubicBezTo>
                                <a:pt x="133" y="168"/>
                                <a:pt x="50" y="7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1" name="Freeform 2564"/>
                        <p:cNvSpPr/>
                        <p:nvPr/>
                      </p:nvSpPr>
                      <p:spPr>
                        <a:xfrm rot="8968200">
                          <a:off x="2488680" y="3899160"/>
                          <a:ext cx="123120" cy="256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2" h="1026">
                              <a:moveTo>
                                <a:pt x="492" y="1026"/>
                              </a:moveTo>
                              <a:cubicBezTo>
                                <a:pt x="452" y="924"/>
                                <a:pt x="334" y="585"/>
                                <a:pt x="252" y="414"/>
                              </a:cubicBezTo>
                              <a:cubicBezTo>
                                <a:pt x="170" y="243"/>
                                <a:pt x="53" y="8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2" name="Freeform 2565"/>
                        <p:cNvSpPr/>
                        <p:nvPr/>
                      </p:nvSpPr>
                      <p:spPr>
                        <a:xfrm rot="8968200">
                          <a:off x="2495880" y="3908160"/>
                          <a:ext cx="82440" cy="27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0" h="1086">
                              <a:moveTo>
                                <a:pt x="330" y="1086"/>
                              </a:moveTo>
                              <a:cubicBezTo>
                                <a:pt x="302" y="966"/>
                                <a:pt x="217" y="547"/>
                                <a:pt x="162" y="366"/>
                              </a:cubicBezTo>
                              <a:cubicBezTo>
                                <a:pt x="107" y="185"/>
                                <a:pt x="34" y="7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3" name="Freeform 2566"/>
                        <p:cNvSpPr/>
                        <p:nvPr/>
                      </p:nvSpPr>
                      <p:spPr>
                        <a:xfrm rot="8968200">
                          <a:off x="2488320" y="3913560"/>
                          <a:ext cx="41040" cy="29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4" h="1160">
                              <a:moveTo>
                                <a:pt x="164" y="1160"/>
                              </a:moveTo>
                              <a:cubicBezTo>
                                <a:pt x="148" y="1008"/>
                                <a:pt x="93" y="439"/>
                                <a:pt x="66" y="246"/>
                              </a:cubicBezTo>
                              <a:cubicBezTo>
                                <a:pt x="39" y="53"/>
                                <a:pt x="14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4" name="Freeform 2567"/>
                        <p:cNvSpPr/>
                        <p:nvPr/>
                      </p:nvSpPr>
                      <p:spPr>
                        <a:xfrm rot="8968200">
                          <a:off x="2488680" y="3926520"/>
                          <a:ext cx="47520" cy="31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1" h="1259">
                              <a:moveTo>
                                <a:pt x="140" y="1259"/>
                              </a:moveTo>
                              <a:cubicBezTo>
                                <a:pt x="145" y="1113"/>
                                <a:pt x="191" y="594"/>
                                <a:pt x="168" y="384"/>
                              </a:cubicBezTo>
                              <a:cubicBezTo>
                                <a:pt x="145" y="174"/>
                                <a:pt x="35" y="8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5" name="Freeform 2568"/>
                        <p:cNvSpPr/>
                        <p:nvPr/>
                      </p:nvSpPr>
                      <p:spPr>
                        <a:xfrm rot="8968200">
                          <a:off x="2457000" y="3930480"/>
                          <a:ext cx="45000" cy="28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1" h="1134">
                              <a:moveTo>
                                <a:pt x="0" y="1134"/>
                              </a:moveTo>
                              <a:cubicBezTo>
                                <a:pt x="19" y="988"/>
                                <a:pt x="85" y="445"/>
                                <a:pt x="115" y="256"/>
                              </a:cubicBezTo>
                              <a:cubicBezTo>
                                <a:pt x="145" y="67"/>
                                <a:pt x="167" y="53"/>
                                <a:pt x="181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6" name="Freeform 2569"/>
                        <p:cNvSpPr/>
                        <p:nvPr/>
                      </p:nvSpPr>
                      <p:spPr>
                        <a:xfrm rot="8968200">
                          <a:off x="2409840" y="3957120"/>
                          <a:ext cx="79200" cy="238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7" name="Freeform 2570"/>
                        <p:cNvSpPr/>
                        <p:nvPr/>
                      </p:nvSpPr>
                      <p:spPr>
                        <a:xfrm rot="8968200">
                          <a:off x="2365560" y="3978000"/>
                          <a:ext cx="158760" cy="29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1179">
                              <a:moveTo>
                                <a:pt x="0" y="1179"/>
                              </a:moveTo>
                              <a:cubicBezTo>
                                <a:pt x="70" y="1066"/>
                                <a:pt x="315" y="697"/>
                                <a:pt x="421" y="501"/>
                              </a:cubicBezTo>
                              <a:cubicBezTo>
                                <a:pt x="527" y="305"/>
                                <a:pt x="591" y="105"/>
                                <a:pt x="635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8" name="Freeform 2571"/>
                        <p:cNvSpPr/>
                        <p:nvPr/>
                      </p:nvSpPr>
                      <p:spPr>
                        <a:xfrm rot="8968200">
                          <a:off x="2306160" y="3983040"/>
                          <a:ext cx="204120" cy="24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6" h="998">
                              <a:moveTo>
                                <a:pt x="0" y="998"/>
                              </a:moveTo>
                              <a:cubicBezTo>
                                <a:pt x="102" y="891"/>
                                <a:pt x="477" y="523"/>
                                <a:pt x="613" y="357"/>
                              </a:cubicBezTo>
                              <a:cubicBezTo>
                                <a:pt x="749" y="191"/>
                                <a:pt x="774" y="75"/>
                                <a:pt x="816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9" name="Freeform 2572"/>
                        <p:cNvSpPr/>
                        <p:nvPr/>
                      </p:nvSpPr>
                      <p:spPr>
                        <a:xfrm rot="8968200">
                          <a:off x="2250000" y="4001040"/>
                          <a:ext cx="238320" cy="19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2" h="771">
                              <a:moveTo>
                                <a:pt x="0" y="771"/>
                              </a:moveTo>
                              <a:cubicBezTo>
                                <a:pt x="91" y="704"/>
                                <a:pt x="385" y="497"/>
                                <a:pt x="544" y="369"/>
                              </a:cubicBezTo>
                              <a:cubicBezTo>
                                <a:pt x="703" y="241"/>
                                <a:pt x="867" y="77"/>
                                <a:pt x="952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0" name="Freeform 2573"/>
                        <p:cNvSpPr/>
                        <p:nvPr/>
                      </p:nvSpPr>
                      <p:spPr>
                        <a:xfrm rot="8968200">
                          <a:off x="2210040" y="4011840"/>
                          <a:ext cx="27216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8" h="635">
                              <a:moveTo>
                                <a:pt x="0" y="635"/>
                              </a:moveTo>
                              <a:cubicBezTo>
                                <a:pt x="109" y="581"/>
                                <a:pt x="471" y="417"/>
                                <a:pt x="652" y="311"/>
                              </a:cubicBezTo>
                              <a:cubicBezTo>
                                <a:pt x="833" y="205"/>
                                <a:pt x="997" y="65"/>
                                <a:pt x="1088" y="0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1" name="Freeform 2574"/>
                        <p:cNvSpPr/>
                        <p:nvPr/>
                      </p:nvSpPr>
                      <p:spPr>
                        <a:xfrm rot="8968200">
                          <a:off x="2181240" y="4002120"/>
                          <a:ext cx="31788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0" h="635">
                              <a:moveTo>
                                <a:pt x="0" y="635"/>
                              </a:moveTo>
                              <a:cubicBezTo>
                                <a:pt x="120" y="588"/>
                                <a:pt x="537" y="430"/>
                                <a:pt x="719" y="352"/>
                              </a:cubicBezTo>
                              <a:cubicBezTo>
                                <a:pt x="901" y="274"/>
                                <a:pt x="999" y="225"/>
                                <a:pt x="1091" y="166"/>
                              </a:cubicBezTo>
                              <a:cubicBezTo>
                                <a:pt x="1183" y="107"/>
                                <a:pt x="1233" y="35"/>
                                <a:pt x="127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2" name="Freeform 2575"/>
                        <p:cNvSpPr/>
                        <p:nvPr/>
                      </p:nvSpPr>
                      <p:spPr>
                        <a:xfrm rot="8968200">
                          <a:off x="2244240" y="3971520"/>
                          <a:ext cx="19404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6" h="87">
                              <a:moveTo>
                                <a:pt x="0" y="0"/>
                              </a:moveTo>
                              <a:cubicBezTo>
                                <a:pt x="63" y="14"/>
                                <a:pt x="255" y="81"/>
                                <a:pt x="384" y="84"/>
                              </a:cubicBezTo>
                              <a:cubicBezTo>
                                <a:pt x="513" y="87"/>
                                <a:pt x="694" y="33"/>
                                <a:pt x="776" y="2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3" name="Freeform 2576"/>
                        <p:cNvSpPr/>
                        <p:nvPr/>
                      </p:nvSpPr>
                      <p:spPr>
                        <a:xfrm rot="8968200">
                          <a:off x="2291400" y="3941640"/>
                          <a:ext cx="13608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135">
                              <a:moveTo>
                                <a:pt x="0" y="0"/>
                              </a:moveTo>
                              <a:lnTo>
                                <a:pt x="289" y="99"/>
                              </a:lnTo>
                              <a:cubicBezTo>
                                <a:pt x="380" y="121"/>
                                <a:pt x="491" y="128"/>
                                <a:pt x="544" y="13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4" name="Freeform 2577"/>
                        <p:cNvSpPr/>
                        <p:nvPr/>
                      </p:nvSpPr>
                      <p:spPr>
                        <a:xfrm rot="8968200">
                          <a:off x="2329200" y="3882600"/>
                          <a:ext cx="907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3" h="272">
                              <a:moveTo>
                                <a:pt x="0" y="0"/>
                              </a:moveTo>
                              <a:cubicBezTo>
                                <a:pt x="34" y="32"/>
                                <a:pt x="143" y="147"/>
                                <a:pt x="203" y="192"/>
                              </a:cubicBezTo>
                              <a:cubicBezTo>
                                <a:pt x="263" y="237"/>
                                <a:pt x="330" y="255"/>
                                <a:pt x="363" y="272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5" name="Freeform 2578"/>
                        <p:cNvSpPr/>
                        <p:nvPr/>
                      </p:nvSpPr>
                      <p:spPr>
                        <a:xfrm rot="8968200">
                          <a:off x="2360880" y="3862440"/>
                          <a:ext cx="6480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0" h="306">
                              <a:moveTo>
                                <a:pt x="0" y="0"/>
                              </a:moveTo>
                              <a:cubicBezTo>
                                <a:pt x="24" y="33"/>
                                <a:pt x="103" y="147"/>
                                <a:pt x="146" y="198"/>
                              </a:cubicBezTo>
                              <a:cubicBezTo>
                                <a:pt x="189" y="249"/>
                                <a:pt x="236" y="284"/>
                                <a:pt x="260" y="306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6" name="Freeform 2579"/>
                        <p:cNvSpPr/>
                        <p:nvPr/>
                      </p:nvSpPr>
                      <p:spPr>
                        <a:xfrm rot="8968200">
                          <a:off x="2433960" y="3887280"/>
                          <a:ext cx="22680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72">
                              <a:moveTo>
                                <a:pt x="0" y="27"/>
                              </a:moveTo>
                              <a:cubicBezTo>
                                <a:pt x="55" y="24"/>
                                <a:pt x="180" y="0"/>
                                <a:pt x="331" y="7"/>
                              </a:cubicBezTo>
                              <a:cubicBezTo>
                                <a:pt x="482" y="14"/>
                                <a:pt x="787" y="59"/>
                                <a:pt x="907" y="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7" name="Freeform 2580"/>
                        <p:cNvSpPr/>
                        <p:nvPr/>
                      </p:nvSpPr>
                      <p:spPr>
                        <a:xfrm rot="8968200">
                          <a:off x="2218320" y="3992760"/>
                          <a:ext cx="226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56">
                              <a:moveTo>
                                <a:pt x="0" y="0"/>
                              </a:moveTo>
                              <a:cubicBezTo>
                                <a:pt x="86" y="8"/>
                                <a:pt x="366" y="42"/>
                                <a:pt x="517" y="49"/>
                              </a:cubicBezTo>
                              <a:cubicBezTo>
                                <a:pt x="668" y="56"/>
                                <a:pt x="826" y="46"/>
                                <a:pt x="907" y="4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8" name="Freeform 2581"/>
                        <p:cNvSpPr/>
                        <p:nvPr/>
                      </p:nvSpPr>
                      <p:spPr>
                        <a:xfrm rot="8968200">
                          <a:off x="2265840" y="3888720"/>
                          <a:ext cx="1587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363">
                              <a:moveTo>
                                <a:pt x="0" y="0"/>
                              </a:moveTo>
                              <a:cubicBezTo>
                                <a:pt x="57" y="40"/>
                                <a:pt x="235" y="178"/>
                                <a:pt x="341" y="238"/>
                              </a:cubicBezTo>
                              <a:cubicBezTo>
                                <a:pt x="447" y="298"/>
                                <a:pt x="574" y="337"/>
                                <a:pt x="635" y="363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9" name="Freeform 2582"/>
                        <p:cNvSpPr/>
                        <p:nvPr/>
                      </p:nvSpPr>
                      <p:spPr>
                        <a:xfrm rot="8968200">
                          <a:off x="2500560" y="3926520"/>
                          <a:ext cx="8640" cy="261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" h="1043">
                              <a:moveTo>
                                <a:pt x="0" y="0"/>
                              </a:moveTo>
                              <a:cubicBezTo>
                                <a:pt x="6" y="84"/>
                                <a:pt x="35" y="330"/>
                                <a:pt x="35" y="504"/>
                              </a:cubicBezTo>
                              <a:cubicBezTo>
                                <a:pt x="35" y="678"/>
                                <a:pt x="7" y="931"/>
                                <a:pt x="0" y="1043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0" name="Freeform 2583"/>
                        <p:cNvSpPr/>
                        <p:nvPr/>
                      </p:nvSpPr>
                      <p:spPr>
                        <a:xfrm rot="8968200">
                          <a:off x="2397240" y="3795840"/>
                          <a:ext cx="136080" cy="147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590">
                              <a:moveTo>
                                <a:pt x="544" y="0"/>
                              </a:moveTo>
                              <a:cubicBezTo>
                                <a:pt x="495" y="45"/>
                                <a:pt x="341" y="173"/>
                                <a:pt x="250" y="271"/>
                              </a:cubicBezTo>
                              <a:cubicBezTo>
                                <a:pt x="159" y="369"/>
                                <a:pt x="52" y="524"/>
                                <a:pt x="0" y="590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1" name="Freeform 2584"/>
                        <p:cNvSpPr/>
                        <p:nvPr/>
                      </p:nvSpPr>
                      <p:spPr>
                        <a:xfrm rot="8968200">
                          <a:off x="2376360" y="3710520"/>
                          <a:ext cx="124560" cy="20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817">
                              <a:moveTo>
                                <a:pt x="498" y="0"/>
                              </a:moveTo>
                              <a:cubicBezTo>
                                <a:pt x="455" y="58"/>
                                <a:pt x="323" y="210"/>
                                <a:pt x="240" y="346"/>
                              </a:cubicBezTo>
                              <a:cubicBezTo>
                                <a:pt x="157" y="482"/>
                                <a:pt x="50" y="719"/>
                                <a:pt x="0" y="817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2" name="Freeform 2585"/>
                        <p:cNvSpPr/>
                        <p:nvPr/>
                      </p:nvSpPr>
                      <p:spPr>
                        <a:xfrm rot="8968200">
                          <a:off x="2304000" y="3790800"/>
                          <a:ext cx="79200" cy="169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680">
                              <a:moveTo>
                                <a:pt x="0" y="0"/>
                              </a:moveTo>
                              <a:cubicBezTo>
                                <a:pt x="27" y="48"/>
                                <a:pt x="120" y="212"/>
                                <a:pt x="164" y="288"/>
                              </a:cubicBezTo>
                              <a:cubicBezTo>
                                <a:pt x="208" y="364"/>
                                <a:pt x="238" y="391"/>
                                <a:pt x="264" y="456"/>
                              </a:cubicBezTo>
                              <a:cubicBezTo>
                                <a:pt x="290" y="521"/>
                                <a:pt x="306" y="633"/>
                                <a:pt x="317" y="68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3" name="Freeform 2586"/>
                        <p:cNvSpPr/>
                        <p:nvPr/>
                      </p:nvSpPr>
                      <p:spPr>
                        <a:xfrm rot="9649800">
                          <a:off x="2313720" y="3990240"/>
                          <a:ext cx="1022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9" h="90">
                              <a:moveTo>
                                <a:pt x="0" y="90"/>
                              </a:moveTo>
                              <a:cubicBezTo>
                                <a:pt x="36" y="85"/>
                                <a:pt x="149" y="77"/>
                                <a:pt x="217" y="62"/>
                              </a:cubicBezTo>
                              <a:lnTo>
                                <a:pt x="409" y="0"/>
                              </a:lnTo>
                            </a:path>
                          </a:pathLst>
                        </a:custGeom>
                        <a:noFill/>
                        <a:ln cap="rnd" w="252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4" name="Freeform 2587"/>
                        <p:cNvSpPr/>
                        <p:nvPr/>
                      </p:nvSpPr>
                      <p:spPr>
                        <a:xfrm rot="8968200">
                          <a:off x="2425680" y="3947040"/>
                          <a:ext cx="68040" cy="18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135" name="Group 2588"/>
                  <p:cNvGrpSpPr/>
                  <p:nvPr/>
                </p:nvGrpSpPr>
                <p:grpSpPr>
                  <a:xfrm>
                    <a:off x="1940400" y="3402360"/>
                    <a:ext cx="668520" cy="939960"/>
                    <a:chOff x="1940400" y="3402360"/>
                    <a:chExt cx="668520" cy="939960"/>
                  </a:xfrm>
                </p:grpSpPr>
                <p:sp>
                  <p:nvSpPr>
                    <p:cNvPr id="2136" name="Freeform 2589"/>
                    <p:cNvSpPr/>
                    <p:nvPr/>
                  </p:nvSpPr>
                  <p:spPr>
                    <a:xfrm rot="9924600">
                      <a:off x="2135880" y="404028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137" name="Group 2590"/>
                    <p:cNvGrpSpPr/>
                    <p:nvPr/>
                  </p:nvGrpSpPr>
                  <p:grpSpPr>
                    <a:xfrm>
                      <a:off x="1940400" y="3402360"/>
                      <a:ext cx="668520" cy="939960"/>
                      <a:chOff x="1940400" y="3402360"/>
                      <a:chExt cx="668520" cy="939960"/>
                    </a:xfrm>
                  </p:grpSpPr>
                  <p:grpSp>
                    <p:nvGrpSpPr>
                      <p:cNvPr id="2138" name="Group 2591"/>
                      <p:cNvGrpSpPr/>
                      <p:nvPr/>
                    </p:nvGrpSpPr>
                    <p:grpSpPr>
                      <a:xfrm>
                        <a:off x="2140920" y="3402360"/>
                        <a:ext cx="168120" cy="666720"/>
                        <a:chOff x="2140920" y="3402360"/>
                        <a:chExt cx="168120" cy="666720"/>
                      </a:xfrm>
                    </p:grpSpPr>
                    <p:sp>
                      <p:nvSpPr>
                        <p:cNvPr id="2139" name="AutoShape 2592"/>
                        <p:cNvSpPr/>
                        <p:nvPr/>
                      </p:nvSpPr>
                      <p:spPr>
                        <a:xfrm rot="9924600">
                          <a:off x="2209680" y="3979800"/>
                          <a:ext cx="90720" cy="79200"/>
                        </a:xfrm>
                        <a:prstGeom prst="irregularSeal1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2320" bIns="-2232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0" name="Freeform 2593"/>
                        <p:cNvSpPr/>
                        <p:nvPr/>
                      </p:nvSpPr>
                      <p:spPr>
                        <a:xfrm rot="9924600">
                          <a:off x="2194560" y="3570480"/>
                          <a:ext cx="46080" cy="43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5" h="1735">
                              <a:moveTo>
                                <a:pt x="185" y="0"/>
                              </a:moveTo>
                              <a:cubicBezTo>
                                <a:pt x="174" y="126"/>
                                <a:pt x="137" y="578"/>
                                <a:pt x="120" y="757"/>
                              </a:cubicBezTo>
                              <a:lnTo>
                                <a:pt x="84" y="1075"/>
                              </a:lnTo>
                              <a:lnTo>
                                <a:pt x="0" y="1735"/>
                              </a:lnTo>
                            </a:path>
                          </a:pathLst>
                        </a:custGeom>
                        <a:noFill/>
                        <a:ln w="11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1" name="Oval 2594"/>
                        <p:cNvSpPr/>
                        <p:nvPr/>
                      </p:nvSpPr>
                      <p:spPr>
                        <a:xfrm rot="10468800">
                          <a:off x="2155680" y="3404160"/>
                          <a:ext cx="45360" cy="192600"/>
                        </a:xfrm>
                        <a:prstGeom prst="ellipse">
                          <a:avLst/>
                        </a:prstGeom>
                        <a:solidFill>
                          <a:srgbClr val="ffffff">
                            <a:alpha val="8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142" name="Group 2595"/>
                      <p:cNvGrpSpPr/>
                      <p:nvPr/>
                    </p:nvGrpSpPr>
                    <p:grpSpPr>
                      <a:xfrm>
                        <a:off x="1940400" y="3762720"/>
                        <a:ext cx="668520" cy="579600"/>
                        <a:chOff x="1940400" y="3762720"/>
                        <a:chExt cx="668520" cy="579600"/>
                      </a:xfrm>
                    </p:grpSpPr>
                    <p:sp>
                      <p:nvSpPr>
                        <p:cNvPr id="2143" name="Freeform 2596"/>
                        <p:cNvSpPr/>
                        <p:nvPr/>
                      </p:nvSpPr>
                      <p:spPr>
                        <a:xfrm rot="9924600">
                          <a:off x="2247840" y="3940920"/>
                          <a:ext cx="158040" cy="7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2" h="303">
                              <a:moveTo>
                                <a:pt x="544" y="303"/>
                              </a:moveTo>
                              <a:cubicBezTo>
                                <a:pt x="553" y="278"/>
                                <a:pt x="593" y="184"/>
                                <a:pt x="598" y="153"/>
                              </a:cubicBezTo>
                              <a:cubicBezTo>
                                <a:pt x="603" y="122"/>
                                <a:pt x="632" y="137"/>
                                <a:pt x="574" y="117"/>
                              </a:cubicBezTo>
                              <a:cubicBezTo>
                                <a:pt x="516" y="97"/>
                                <a:pt x="346" y="0"/>
                                <a:pt x="250" y="31"/>
                              </a:cubicBezTo>
                              <a:cubicBezTo>
                                <a:pt x="154" y="62"/>
                                <a:pt x="52" y="245"/>
                                <a:pt x="0" y="303"/>
                              </a:cubicBez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0" bIns="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4" name="Freeform 2597"/>
                        <p:cNvSpPr/>
                        <p:nvPr/>
                      </p:nvSpPr>
                      <p:spPr>
                        <a:xfrm rot="9924600">
                          <a:off x="2251800" y="3909240"/>
                          <a:ext cx="2725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9" h="272">
                              <a:moveTo>
                                <a:pt x="1089" y="0"/>
                              </a:moveTo>
                              <a:cubicBezTo>
                                <a:pt x="988" y="18"/>
                                <a:pt x="663" y="64"/>
                                <a:pt x="482" y="109"/>
                              </a:cubicBezTo>
                              <a:cubicBezTo>
                                <a:pt x="301" y="154"/>
                                <a:pt x="100" y="238"/>
                                <a:pt x="0" y="2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5" name="Freeform 2598"/>
                        <p:cNvSpPr/>
                        <p:nvPr/>
                      </p:nvSpPr>
                      <p:spPr>
                        <a:xfrm rot="9924600">
                          <a:off x="2279520" y="3971520"/>
                          <a:ext cx="28368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272">
                              <a:moveTo>
                                <a:pt x="1134" y="272"/>
                              </a:moveTo>
                              <a:cubicBezTo>
                                <a:pt x="1024" y="241"/>
                                <a:pt x="663" y="129"/>
                                <a:pt x="474" y="84"/>
                              </a:cubicBezTo>
                              <a:cubicBezTo>
                                <a:pt x="285" y="39"/>
                                <a:pt x="99" y="1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6" name="Freeform 2599"/>
                        <p:cNvSpPr/>
                        <p:nvPr/>
                      </p:nvSpPr>
                      <p:spPr>
                        <a:xfrm rot="9924600">
                          <a:off x="2306880" y="3974400"/>
                          <a:ext cx="29520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0" h="363">
                              <a:moveTo>
                                <a:pt x="1180" y="363"/>
                              </a:moveTo>
                              <a:cubicBezTo>
                                <a:pt x="1067" y="321"/>
                                <a:pt x="699" y="172"/>
                                <a:pt x="502" y="112"/>
                              </a:cubicBezTo>
                              <a:cubicBezTo>
                                <a:pt x="305" y="52"/>
                                <a:pt x="105" y="23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7" name="Freeform 2600"/>
                        <p:cNvSpPr/>
                        <p:nvPr/>
                      </p:nvSpPr>
                      <p:spPr>
                        <a:xfrm rot="9924600">
                          <a:off x="2289240" y="3978000"/>
                          <a:ext cx="293400" cy="11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3" h="461">
                              <a:moveTo>
                                <a:pt x="1173" y="461"/>
                              </a:moveTo>
                              <a:cubicBezTo>
                                <a:pt x="1088" y="425"/>
                                <a:pt x="862" y="323"/>
                                <a:pt x="666" y="246"/>
                              </a:cubicBezTo>
                              <a:cubicBezTo>
                                <a:pt x="470" y="169"/>
                                <a:pt x="139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8" name="Freeform 2601"/>
                        <p:cNvSpPr/>
                        <p:nvPr/>
                      </p:nvSpPr>
                      <p:spPr>
                        <a:xfrm rot="9924600">
                          <a:off x="2266560" y="3987000"/>
                          <a:ext cx="283680" cy="11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453">
                              <a:moveTo>
                                <a:pt x="1134" y="453"/>
                              </a:moveTo>
                              <a:cubicBezTo>
                                <a:pt x="1034" y="407"/>
                                <a:pt x="722" y="254"/>
                                <a:pt x="533" y="178"/>
                              </a:cubicBezTo>
                              <a:cubicBezTo>
                                <a:pt x="344" y="102"/>
                                <a:pt x="111" y="3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9" name="Freeform 2602"/>
                        <p:cNvSpPr/>
                        <p:nvPr/>
                      </p:nvSpPr>
                      <p:spPr>
                        <a:xfrm rot="9924600">
                          <a:off x="2286720" y="3992400"/>
                          <a:ext cx="214200" cy="18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6" h="724">
                              <a:moveTo>
                                <a:pt x="856" y="724"/>
                              </a:moveTo>
                              <a:lnTo>
                                <a:pt x="372" y="234"/>
                              </a:lnTo>
                              <a:cubicBezTo>
                                <a:pt x="229" y="113"/>
                                <a:pt x="77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50" name="Freeform 2603"/>
                        <p:cNvSpPr/>
                        <p:nvPr/>
                      </p:nvSpPr>
                      <p:spPr>
                        <a:xfrm rot="9924600">
                          <a:off x="2286000" y="399852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lnTo>
                                <a:pt x="220" y="1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51" name="Freeform 2604"/>
                        <p:cNvSpPr/>
                        <p:nvPr/>
                      </p:nvSpPr>
                      <p:spPr>
                        <a:xfrm rot="9924600">
                          <a:off x="2244600" y="397404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cubicBezTo>
                                <a:pt x="882" y="554"/>
                                <a:pt x="466" y="255"/>
                                <a:pt x="300" y="149"/>
                              </a:cubicBezTo>
                              <a:cubicBezTo>
                                <a:pt x="134" y="43"/>
                                <a:pt x="62" y="3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52" name="Freeform 2605"/>
                        <p:cNvSpPr/>
                        <p:nvPr/>
                      </p:nvSpPr>
                      <p:spPr>
                        <a:xfrm rot="9924600">
                          <a:off x="2268720" y="3979800"/>
                          <a:ext cx="262800" cy="244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50" h="980">
                              <a:moveTo>
                                <a:pt x="1050" y="980"/>
                              </a:moveTo>
                              <a:lnTo>
                                <a:pt x="378" y="234"/>
                              </a:lnTo>
                              <a:cubicBezTo>
                                <a:pt x="203" y="71"/>
                                <a:pt x="79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53" name="Line 2606"/>
                        <p:cNvSpPr/>
                        <p:nvPr/>
                      </p:nvSpPr>
                      <p:spPr>
                        <a:xfrm>
                          <a:off x="2226240" y="3997800"/>
                          <a:ext cx="249480" cy="192600"/>
                        </a:xfrm>
                        <a:prstGeom prst="line">
                          <a:avLst/>
                        </a:prstGeom>
                        <a:ln w="252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54" name="Freeform 2607"/>
                        <p:cNvSpPr/>
                        <p:nvPr/>
                      </p:nvSpPr>
                      <p:spPr>
                        <a:xfrm rot="9924600">
                          <a:off x="2265480" y="3970800"/>
                          <a:ext cx="158760" cy="24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997">
                              <a:moveTo>
                                <a:pt x="635" y="997"/>
                              </a:moveTo>
                              <a:cubicBezTo>
                                <a:pt x="569" y="887"/>
                                <a:pt x="345" y="500"/>
                                <a:pt x="239" y="334"/>
                              </a:cubicBezTo>
                              <a:cubicBezTo>
                                <a:pt x="133" y="168"/>
                                <a:pt x="50" y="7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55" name="Freeform 2608"/>
                        <p:cNvSpPr/>
                        <p:nvPr/>
                      </p:nvSpPr>
                      <p:spPr>
                        <a:xfrm rot="9924600">
                          <a:off x="2269440" y="3985920"/>
                          <a:ext cx="123120" cy="25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2" h="1026">
                              <a:moveTo>
                                <a:pt x="492" y="1026"/>
                              </a:moveTo>
                              <a:cubicBezTo>
                                <a:pt x="452" y="924"/>
                                <a:pt x="334" y="585"/>
                                <a:pt x="252" y="414"/>
                              </a:cubicBezTo>
                              <a:cubicBezTo>
                                <a:pt x="170" y="243"/>
                                <a:pt x="53" y="8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56" name="Freeform 2609"/>
                        <p:cNvSpPr/>
                        <p:nvPr/>
                      </p:nvSpPr>
                      <p:spPr>
                        <a:xfrm rot="9924600">
                          <a:off x="2272320" y="3990600"/>
                          <a:ext cx="82440" cy="27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0" h="1086">
                              <a:moveTo>
                                <a:pt x="330" y="1086"/>
                              </a:moveTo>
                              <a:cubicBezTo>
                                <a:pt x="302" y="966"/>
                                <a:pt x="217" y="547"/>
                                <a:pt x="162" y="366"/>
                              </a:cubicBezTo>
                              <a:cubicBezTo>
                                <a:pt x="107" y="185"/>
                                <a:pt x="34" y="7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57" name="Freeform 2610"/>
                        <p:cNvSpPr/>
                        <p:nvPr/>
                      </p:nvSpPr>
                      <p:spPr>
                        <a:xfrm rot="9924600">
                          <a:off x="2261880" y="3987360"/>
                          <a:ext cx="41040" cy="29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4" h="1160">
                              <a:moveTo>
                                <a:pt x="164" y="1160"/>
                              </a:moveTo>
                              <a:cubicBezTo>
                                <a:pt x="148" y="1008"/>
                                <a:pt x="93" y="439"/>
                                <a:pt x="66" y="246"/>
                              </a:cubicBezTo>
                              <a:cubicBezTo>
                                <a:pt x="39" y="53"/>
                                <a:pt x="14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58" name="Freeform 2611"/>
                        <p:cNvSpPr/>
                        <p:nvPr/>
                      </p:nvSpPr>
                      <p:spPr>
                        <a:xfrm rot="9924600">
                          <a:off x="2255400" y="4000320"/>
                          <a:ext cx="47520" cy="31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1" h="1259">
                              <a:moveTo>
                                <a:pt x="140" y="1259"/>
                              </a:moveTo>
                              <a:cubicBezTo>
                                <a:pt x="145" y="1113"/>
                                <a:pt x="191" y="594"/>
                                <a:pt x="168" y="384"/>
                              </a:cubicBezTo>
                              <a:cubicBezTo>
                                <a:pt x="145" y="174"/>
                                <a:pt x="35" y="8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59" name="Freeform 2612"/>
                        <p:cNvSpPr/>
                        <p:nvPr/>
                      </p:nvSpPr>
                      <p:spPr>
                        <a:xfrm rot="9924600">
                          <a:off x="2228040" y="3995640"/>
                          <a:ext cx="45000" cy="28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1" h="1134">
                              <a:moveTo>
                                <a:pt x="0" y="1134"/>
                              </a:moveTo>
                              <a:cubicBezTo>
                                <a:pt x="19" y="988"/>
                                <a:pt x="85" y="445"/>
                                <a:pt x="115" y="256"/>
                              </a:cubicBezTo>
                              <a:cubicBezTo>
                                <a:pt x="145" y="67"/>
                                <a:pt x="167" y="53"/>
                                <a:pt x="181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0" name="Freeform 2613"/>
                        <p:cNvSpPr/>
                        <p:nvPr/>
                      </p:nvSpPr>
                      <p:spPr>
                        <a:xfrm rot="9924600">
                          <a:off x="2180880" y="4014720"/>
                          <a:ext cx="79200" cy="23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1" name="Freeform 2614"/>
                        <p:cNvSpPr/>
                        <p:nvPr/>
                      </p:nvSpPr>
                      <p:spPr>
                        <a:xfrm rot="9924600">
                          <a:off x="2123280" y="4032000"/>
                          <a:ext cx="158760" cy="29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1179">
                              <a:moveTo>
                                <a:pt x="0" y="1179"/>
                              </a:moveTo>
                              <a:cubicBezTo>
                                <a:pt x="70" y="1066"/>
                                <a:pt x="315" y="697"/>
                                <a:pt x="421" y="501"/>
                              </a:cubicBezTo>
                              <a:cubicBezTo>
                                <a:pt x="527" y="305"/>
                                <a:pt x="591" y="105"/>
                                <a:pt x="635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2" name="Freeform 2615"/>
                        <p:cNvSpPr/>
                        <p:nvPr/>
                      </p:nvSpPr>
                      <p:spPr>
                        <a:xfrm rot="9924600">
                          <a:off x="2070000" y="4027320"/>
                          <a:ext cx="204120" cy="24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6" h="998">
                              <a:moveTo>
                                <a:pt x="0" y="998"/>
                              </a:moveTo>
                              <a:cubicBezTo>
                                <a:pt x="102" y="891"/>
                                <a:pt x="477" y="523"/>
                                <a:pt x="613" y="357"/>
                              </a:cubicBezTo>
                              <a:cubicBezTo>
                                <a:pt x="749" y="191"/>
                                <a:pt x="774" y="75"/>
                                <a:pt x="816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3" name="Freeform 2616"/>
                        <p:cNvSpPr/>
                        <p:nvPr/>
                      </p:nvSpPr>
                      <p:spPr>
                        <a:xfrm rot="9924600">
                          <a:off x="2018520" y="4035600"/>
                          <a:ext cx="238320" cy="19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2" h="771">
                              <a:moveTo>
                                <a:pt x="0" y="771"/>
                              </a:moveTo>
                              <a:cubicBezTo>
                                <a:pt x="91" y="704"/>
                                <a:pt x="385" y="497"/>
                                <a:pt x="544" y="369"/>
                              </a:cubicBezTo>
                              <a:cubicBezTo>
                                <a:pt x="703" y="241"/>
                                <a:pt x="867" y="77"/>
                                <a:pt x="952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4" name="Freeform 2617"/>
                        <p:cNvSpPr/>
                        <p:nvPr/>
                      </p:nvSpPr>
                      <p:spPr>
                        <a:xfrm rot="9924600">
                          <a:off x="1980720" y="4039920"/>
                          <a:ext cx="27216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8" h="635">
                              <a:moveTo>
                                <a:pt x="0" y="635"/>
                              </a:moveTo>
                              <a:cubicBezTo>
                                <a:pt x="109" y="581"/>
                                <a:pt x="471" y="417"/>
                                <a:pt x="652" y="311"/>
                              </a:cubicBezTo>
                              <a:cubicBezTo>
                                <a:pt x="833" y="205"/>
                                <a:pt x="997" y="65"/>
                                <a:pt x="1088" y="0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5" name="Freeform 2618"/>
                        <p:cNvSpPr/>
                        <p:nvPr/>
                      </p:nvSpPr>
                      <p:spPr>
                        <a:xfrm rot="9924600">
                          <a:off x="1955160" y="4029480"/>
                          <a:ext cx="31788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0" h="635">
                              <a:moveTo>
                                <a:pt x="0" y="635"/>
                              </a:moveTo>
                              <a:cubicBezTo>
                                <a:pt x="120" y="588"/>
                                <a:pt x="537" y="430"/>
                                <a:pt x="719" y="352"/>
                              </a:cubicBezTo>
                              <a:cubicBezTo>
                                <a:pt x="901" y="274"/>
                                <a:pt x="999" y="225"/>
                                <a:pt x="1091" y="166"/>
                              </a:cubicBezTo>
                              <a:cubicBezTo>
                                <a:pt x="1183" y="107"/>
                                <a:pt x="1233" y="35"/>
                                <a:pt x="127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6" name="Freeform 2619"/>
                        <p:cNvSpPr/>
                        <p:nvPr/>
                      </p:nvSpPr>
                      <p:spPr>
                        <a:xfrm rot="9924600">
                          <a:off x="2045520" y="4002120"/>
                          <a:ext cx="19404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6" h="87">
                              <a:moveTo>
                                <a:pt x="0" y="0"/>
                              </a:moveTo>
                              <a:cubicBezTo>
                                <a:pt x="63" y="14"/>
                                <a:pt x="255" y="81"/>
                                <a:pt x="384" y="84"/>
                              </a:cubicBezTo>
                              <a:cubicBezTo>
                                <a:pt x="513" y="87"/>
                                <a:pt x="694" y="33"/>
                                <a:pt x="776" y="2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7" name="Freeform 2620"/>
                        <p:cNvSpPr/>
                        <p:nvPr/>
                      </p:nvSpPr>
                      <p:spPr>
                        <a:xfrm rot="9924600">
                          <a:off x="2098440" y="3978720"/>
                          <a:ext cx="13608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135">
                              <a:moveTo>
                                <a:pt x="0" y="0"/>
                              </a:moveTo>
                              <a:lnTo>
                                <a:pt x="289" y="99"/>
                              </a:lnTo>
                              <a:cubicBezTo>
                                <a:pt x="380" y="121"/>
                                <a:pt x="491" y="128"/>
                                <a:pt x="544" y="13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8" name="Freeform 2621"/>
                        <p:cNvSpPr/>
                        <p:nvPr/>
                      </p:nvSpPr>
                      <p:spPr>
                        <a:xfrm rot="9924600">
                          <a:off x="2147040" y="3925080"/>
                          <a:ext cx="9072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3" h="272">
                              <a:moveTo>
                                <a:pt x="0" y="0"/>
                              </a:moveTo>
                              <a:cubicBezTo>
                                <a:pt x="34" y="32"/>
                                <a:pt x="143" y="147"/>
                                <a:pt x="203" y="192"/>
                              </a:cubicBezTo>
                              <a:cubicBezTo>
                                <a:pt x="263" y="237"/>
                                <a:pt x="330" y="255"/>
                                <a:pt x="363" y="272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9" name="Freeform 2622"/>
                        <p:cNvSpPr/>
                        <p:nvPr/>
                      </p:nvSpPr>
                      <p:spPr>
                        <a:xfrm rot="9924600">
                          <a:off x="2182320" y="3910680"/>
                          <a:ext cx="6480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0" h="306">
                              <a:moveTo>
                                <a:pt x="0" y="0"/>
                              </a:moveTo>
                              <a:cubicBezTo>
                                <a:pt x="24" y="33"/>
                                <a:pt x="103" y="147"/>
                                <a:pt x="146" y="198"/>
                              </a:cubicBezTo>
                              <a:cubicBezTo>
                                <a:pt x="189" y="249"/>
                                <a:pt x="236" y="284"/>
                                <a:pt x="260" y="306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70" name="Freeform 2623"/>
                        <p:cNvSpPr/>
                        <p:nvPr/>
                      </p:nvSpPr>
                      <p:spPr>
                        <a:xfrm rot="9924600">
                          <a:off x="2250720" y="3978360"/>
                          <a:ext cx="22680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72">
                              <a:moveTo>
                                <a:pt x="0" y="27"/>
                              </a:moveTo>
                              <a:cubicBezTo>
                                <a:pt x="55" y="24"/>
                                <a:pt x="180" y="0"/>
                                <a:pt x="331" y="7"/>
                              </a:cubicBezTo>
                              <a:cubicBezTo>
                                <a:pt x="482" y="14"/>
                                <a:pt x="787" y="59"/>
                                <a:pt x="907" y="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71" name="Freeform 2624"/>
                        <p:cNvSpPr/>
                        <p:nvPr/>
                      </p:nvSpPr>
                      <p:spPr>
                        <a:xfrm rot="9924600">
                          <a:off x="2014560" y="4020480"/>
                          <a:ext cx="226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56">
                              <a:moveTo>
                                <a:pt x="0" y="0"/>
                              </a:moveTo>
                              <a:cubicBezTo>
                                <a:pt x="86" y="8"/>
                                <a:pt x="366" y="42"/>
                                <a:pt x="517" y="49"/>
                              </a:cubicBezTo>
                              <a:cubicBezTo>
                                <a:pt x="668" y="56"/>
                                <a:pt x="826" y="46"/>
                                <a:pt x="907" y="4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72" name="Freeform 2625"/>
                        <p:cNvSpPr/>
                        <p:nvPr/>
                      </p:nvSpPr>
                      <p:spPr>
                        <a:xfrm rot="9924600">
                          <a:off x="2080080" y="3922200"/>
                          <a:ext cx="1587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363">
                              <a:moveTo>
                                <a:pt x="0" y="0"/>
                              </a:moveTo>
                              <a:cubicBezTo>
                                <a:pt x="57" y="40"/>
                                <a:pt x="235" y="178"/>
                                <a:pt x="341" y="238"/>
                              </a:cubicBezTo>
                              <a:cubicBezTo>
                                <a:pt x="447" y="298"/>
                                <a:pt x="574" y="337"/>
                                <a:pt x="635" y="363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73" name="Freeform 2626"/>
                        <p:cNvSpPr/>
                        <p:nvPr/>
                      </p:nvSpPr>
                      <p:spPr>
                        <a:xfrm rot="9924600">
                          <a:off x="2275200" y="3999600"/>
                          <a:ext cx="8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" h="1043">
                              <a:moveTo>
                                <a:pt x="0" y="0"/>
                              </a:moveTo>
                              <a:cubicBezTo>
                                <a:pt x="6" y="84"/>
                                <a:pt x="35" y="330"/>
                                <a:pt x="35" y="504"/>
                              </a:cubicBezTo>
                              <a:cubicBezTo>
                                <a:pt x="35" y="678"/>
                                <a:pt x="7" y="931"/>
                                <a:pt x="0" y="1043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74" name="Freeform 2627"/>
                        <p:cNvSpPr/>
                        <p:nvPr/>
                      </p:nvSpPr>
                      <p:spPr>
                        <a:xfrm rot="9924600">
                          <a:off x="2224440" y="3865320"/>
                          <a:ext cx="136080" cy="147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590">
                              <a:moveTo>
                                <a:pt x="544" y="0"/>
                              </a:moveTo>
                              <a:cubicBezTo>
                                <a:pt x="495" y="45"/>
                                <a:pt x="341" y="173"/>
                                <a:pt x="250" y="271"/>
                              </a:cubicBezTo>
                              <a:cubicBezTo>
                                <a:pt x="159" y="369"/>
                                <a:pt x="52" y="524"/>
                                <a:pt x="0" y="590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75" name="Freeform 2628"/>
                        <p:cNvSpPr/>
                        <p:nvPr/>
                      </p:nvSpPr>
                      <p:spPr>
                        <a:xfrm rot="9924600">
                          <a:off x="2220480" y="3774960"/>
                          <a:ext cx="124560" cy="20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817">
                              <a:moveTo>
                                <a:pt x="498" y="0"/>
                              </a:moveTo>
                              <a:cubicBezTo>
                                <a:pt x="455" y="58"/>
                                <a:pt x="323" y="210"/>
                                <a:pt x="240" y="346"/>
                              </a:cubicBezTo>
                              <a:cubicBezTo>
                                <a:pt x="157" y="482"/>
                                <a:pt x="50" y="719"/>
                                <a:pt x="0" y="817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76" name="Freeform 2629"/>
                        <p:cNvSpPr/>
                        <p:nvPr/>
                      </p:nvSpPr>
                      <p:spPr>
                        <a:xfrm rot="9924600">
                          <a:off x="2134080" y="3826440"/>
                          <a:ext cx="79200" cy="169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680">
                              <a:moveTo>
                                <a:pt x="0" y="0"/>
                              </a:moveTo>
                              <a:cubicBezTo>
                                <a:pt x="27" y="48"/>
                                <a:pt x="120" y="212"/>
                                <a:pt x="164" y="288"/>
                              </a:cubicBezTo>
                              <a:cubicBezTo>
                                <a:pt x="208" y="364"/>
                                <a:pt x="238" y="391"/>
                                <a:pt x="264" y="456"/>
                              </a:cubicBezTo>
                              <a:cubicBezTo>
                                <a:pt x="290" y="521"/>
                                <a:pt x="306" y="633"/>
                                <a:pt x="317" y="68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77" name="Freeform 2630"/>
                        <p:cNvSpPr/>
                        <p:nvPr/>
                      </p:nvSpPr>
                      <p:spPr>
                        <a:xfrm rot="10605600">
                          <a:off x="2108520" y="4027320"/>
                          <a:ext cx="1022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9" h="90">
                              <a:moveTo>
                                <a:pt x="0" y="90"/>
                              </a:moveTo>
                              <a:cubicBezTo>
                                <a:pt x="36" y="85"/>
                                <a:pt x="149" y="77"/>
                                <a:pt x="217" y="62"/>
                              </a:cubicBezTo>
                              <a:lnTo>
                                <a:pt x="409" y="0"/>
                              </a:lnTo>
                            </a:path>
                          </a:pathLst>
                        </a:custGeom>
                        <a:noFill/>
                        <a:ln cap="rnd" w="252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78" name="Freeform 2631"/>
                        <p:cNvSpPr/>
                        <p:nvPr/>
                      </p:nvSpPr>
                      <p:spPr>
                        <a:xfrm rot="9924600">
                          <a:off x="2206440" y="4008240"/>
                          <a:ext cx="68040" cy="18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179" name="Group 2764"/>
                  <p:cNvGrpSpPr/>
                  <p:nvPr/>
                </p:nvGrpSpPr>
                <p:grpSpPr>
                  <a:xfrm>
                    <a:off x="2212920" y="3391200"/>
                    <a:ext cx="759600" cy="815760"/>
                    <a:chOff x="2212920" y="3391200"/>
                    <a:chExt cx="759600" cy="815760"/>
                  </a:xfrm>
                </p:grpSpPr>
                <p:sp>
                  <p:nvSpPr>
                    <p:cNvPr id="2180" name="Freeform 2765"/>
                    <p:cNvSpPr/>
                    <p:nvPr/>
                  </p:nvSpPr>
                  <p:spPr>
                    <a:xfrm rot="8029800">
                      <a:off x="2533680" y="393552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181" name="Group 2766"/>
                    <p:cNvGrpSpPr/>
                    <p:nvPr/>
                  </p:nvGrpSpPr>
                  <p:grpSpPr>
                    <a:xfrm>
                      <a:off x="2212920" y="3391200"/>
                      <a:ext cx="759600" cy="815760"/>
                      <a:chOff x="2212920" y="3391200"/>
                      <a:chExt cx="759600" cy="815760"/>
                    </a:xfrm>
                  </p:grpSpPr>
                  <p:grpSp>
                    <p:nvGrpSpPr>
                      <p:cNvPr id="2182" name="Group 2767"/>
                      <p:cNvGrpSpPr/>
                      <p:nvPr/>
                    </p:nvGrpSpPr>
                    <p:grpSpPr>
                      <a:xfrm>
                        <a:off x="2212920" y="3391200"/>
                        <a:ext cx="473400" cy="552960"/>
                        <a:chOff x="2212920" y="3391200"/>
                        <a:chExt cx="473400" cy="552960"/>
                      </a:xfrm>
                    </p:grpSpPr>
                    <p:sp>
                      <p:nvSpPr>
                        <p:cNvPr id="2183" name="AutoShape 2768"/>
                        <p:cNvSpPr/>
                        <p:nvPr/>
                      </p:nvSpPr>
                      <p:spPr>
                        <a:xfrm rot="8029800">
                          <a:off x="2580840" y="3844080"/>
                          <a:ext cx="90720" cy="79200"/>
                        </a:xfrm>
                        <a:prstGeom prst="irregularSeal1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2320" bIns="-2232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84" name="Freeform 2769"/>
                        <p:cNvSpPr/>
                        <p:nvPr/>
                      </p:nvSpPr>
                      <p:spPr>
                        <a:xfrm rot="8029800">
                          <a:off x="2450160" y="3488760"/>
                          <a:ext cx="46080" cy="43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5" h="1735">
                              <a:moveTo>
                                <a:pt x="185" y="0"/>
                              </a:moveTo>
                              <a:cubicBezTo>
                                <a:pt x="174" y="126"/>
                                <a:pt x="137" y="578"/>
                                <a:pt x="120" y="757"/>
                              </a:cubicBezTo>
                              <a:lnTo>
                                <a:pt x="84" y="1075"/>
                              </a:lnTo>
                              <a:lnTo>
                                <a:pt x="0" y="1735"/>
                              </a:lnTo>
                            </a:path>
                          </a:pathLst>
                        </a:custGeom>
                        <a:noFill/>
                        <a:ln w="11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85" name="Oval 2770"/>
                        <p:cNvSpPr/>
                        <p:nvPr/>
                      </p:nvSpPr>
                      <p:spPr>
                        <a:xfrm rot="8573400">
                          <a:off x="2266200" y="3385440"/>
                          <a:ext cx="45360" cy="192600"/>
                        </a:xfrm>
                        <a:prstGeom prst="ellipse">
                          <a:avLst/>
                        </a:prstGeom>
                        <a:solidFill>
                          <a:srgbClr val="ffffff">
                            <a:alpha val="8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186" name="Group 2771"/>
                      <p:cNvGrpSpPr/>
                      <p:nvPr/>
                    </p:nvGrpSpPr>
                    <p:grpSpPr>
                      <a:xfrm>
                        <a:off x="2385360" y="3627360"/>
                        <a:ext cx="587160" cy="579600"/>
                        <a:chOff x="2385360" y="3627360"/>
                        <a:chExt cx="587160" cy="579600"/>
                      </a:xfrm>
                    </p:grpSpPr>
                    <p:sp>
                      <p:nvSpPr>
                        <p:cNvPr id="2187" name="Freeform 2772"/>
                        <p:cNvSpPr/>
                        <p:nvPr/>
                      </p:nvSpPr>
                      <p:spPr>
                        <a:xfrm rot="8029800">
                          <a:off x="2586960" y="3773520"/>
                          <a:ext cx="158040" cy="7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2" h="303">
                              <a:moveTo>
                                <a:pt x="544" y="303"/>
                              </a:moveTo>
                              <a:cubicBezTo>
                                <a:pt x="553" y="278"/>
                                <a:pt x="593" y="184"/>
                                <a:pt x="598" y="153"/>
                              </a:cubicBezTo>
                              <a:cubicBezTo>
                                <a:pt x="603" y="122"/>
                                <a:pt x="632" y="137"/>
                                <a:pt x="574" y="117"/>
                              </a:cubicBezTo>
                              <a:cubicBezTo>
                                <a:pt x="516" y="97"/>
                                <a:pt x="346" y="0"/>
                                <a:pt x="250" y="31"/>
                              </a:cubicBezTo>
                              <a:cubicBezTo>
                                <a:pt x="154" y="62"/>
                                <a:pt x="52" y="245"/>
                                <a:pt x="0" y="303"/>
                              </a:cubicBez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0" bIns="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88" name="Freeform 2773"/>
                        <p:cNvSpPr/>
                        <p:nvPr/>
                      </p:nvSpPr>
                      <p:spPr>
                        <a:xfrm rot="8029800">
                          <a:off x="2563200" y="3715200"/>
                          <a:ext cx="2725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9" h="272">
                              <a:moveTo>
                                <a:pt x="1089" y="0"/>
                              </a:moveTo>
                              <a:cubicBezTo>
                                <a:pt x="988" y="18"/>
                                <a:pt x="663" y="64"/>
                                <a:pt x="482" y="109"/>
                              </a:cubicBezTo>
                              <a:cubicBezTo>
                                <a:pt x="301" y="154"/>
                                <a:pt x="100" y="238"/>
                                <a:pt x="0" y="2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89" name="Freeform 2774"/>
                        <p:cNvSpPr/>
                        <p:nvPr/>
                      </p:nvSpPr>
                      <p:spPr>
                        <a:xfrm rot="8029800">
                          <a:off x="2618280" y="3750480"/>
                          <a:ext cx="28404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272">
                              <a:moveTo>
                                <a:pt x="1134" y="272"/>
                              </a:moveTo>
                              <a:cubicBezTo>
                                <a:pt x="1024" y="241"/>
                                <a:pt x="663" y="129"/>
                                <a:pt x="474" y="84"/>
                              </a:cubicBezTo>
                              <a:cubicBezTo>
                                <a:pt x="285" y="39"/>
                                <a:pt x="99" y="1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0" name="Freeform 2775"/>
                        <p:cNvSpPr/>
                        <p:nvPr/>
                      </p:nvSpPr>
                      <p:spPr>
                        <a:xfrm rot="8029800">
                          <a:off x="2648160" y="3733920"/>
                          <a:ext cx="2955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0" h="363">
                              <a:moveTo>
                                <a:pt x="1180" y="363"/>
                              </a:moveTo>
                              <a:cubicBezTo>
                                <a:pt x="1067" y="321"/>
                                <a:pt x="699" y="172"/>
                                <a:pt x="502" y="112"/>
                              </a:cubicBezTo>
                              <a:cubicBezTo>
                                <a:pt x="305" y="52"/>
                                <a:pt x="105" y="23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1" name="Freeform 2776"/>
                        <p:cNvSpPr/>
                        <p:nvPr/>
                      </p:nvSpPr>
                      <p:spPr>
                        <a:xfrm rot="8029800">
                          <a:off x="2642040" y="3745080"/>
                          <a:ext cx="293760" cy="11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3" h="461">
                              <a:moveTo>
                                <a:pt x="1173" y="461"/>
                              </a:moveTo>
                              <a:cubicBezTo>
                                <a:pt x="1088" y="425"/>
                                <a:pt x="862" y="323"/>
                                <a:pt x="666" y="246"/>
                              </a:cubicBezTo>
                              <a:cubicBezTo>
                                <a:pt x="470" y="169"/>
                                <a:pt x="139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2" name="Freeform 2777"/>
                        <p:cNvSpPr/>
                        <p:nvPr/>
                      </p:nvSpPr>
                      <p:spPr>
                        <a:xfrm rot="8029800">
                          <a:off x="2627280" y="3767400"/>
                          <a:ext cx="284040" cy="11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453">
                              <a:moveTo>
                                <a:pt x="1134" y="453"/>
                              </a:moveTo>
                              <a:cubicBezTo>
                                <a:pt x="1034" y="407"/>
                                <a:pt x="722" y="254"/>
                                <a:pt x="533" y="178"/>
                              </a:cubicBezTo>
                              <a:cubicBezTo>
                                <a:pt x="344" y="102"/>
                                <a:pt x="111" y="3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3" name="Freeform 2778"/>
                        <p:cNvSpPr/>
                        <p:nvPr/>
                      </p:nvSpPr>
                      <p:spPr>
                        <a:xfrm rot="8029800">
                          <a:off x="2670120" y="3774240"/>
                          <a:ext cx="214200" cy="18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6" h="724">
                              <a:moveTo>
                                <a:pt x="856" y="724"/>
                              </a:moveTo>
                              <a:lnTo>
                                <a:pt x="372" y="234"/>
                              </a:lnTo>
                              <a:cubicBezTo>
                                <a:pt x="229" y="113"/>
                                <a:pt x="77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4" name="Freeform 2779"/>
                        <p:cNvSpPr/>
                        <p:nvPr/>
                      </p:nvSpPr>
                      <p:spPr>
                        <a:xfrm rot="8029800">
                          <a:off x="2664720" y="377244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lnTo>
                                <a:pt x="220" y="1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5" name="Freeform 2780"/>
                        <p:cNvSpPr/>
                        <p:nvPr/>
                      </p:nvSpPr>
                      <p:spPr>
                        <a:xfrm rot="8029800">
                          <a:off x="2616480" y="377316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cubicBezTo>
                                <a:pt x="882" y="554"/>
                                <a:pt x="466" y="255"/>
                                <a:pt x="300" y="149"/>
                              </a:cubicBezTo>
                              <a:cubicBezTo>
                                <a:pt x="134" y="43"/>
                                <a:pt x="62" y="3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6" name="Freeform 2781"/>
                        <p:cNvSpPr/>
                        <p:nvPr/>
                      </p:nvSpPr>
                      <p:spPr>
                        <a:xfrm rot="8029800">
                          <a:off x="2661480" y="3755520"/>
                          <a:ext cx="262800" cy="244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50" h="980">
                              <a:moveTo>
                                <a:pt x="1050" y="980"/>
                              </a:moveTo>
                              <a:lnTo>
                                <a:pt x="378" y="234"/>
                              </a:lnTo>
                              <a:cubicBezTo>
                                <a:pt x="203" y="71"/>
                                <a:pt x="79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7" name="Line 2782"/>
                        <p:cNvSpPr/>
                        <p:nvPr/>
                      </p:nvSpPr>
                      <p:spPr>
                        <a:xfrm>
                          <a:off x="2590200" y="3880440"/>
                          <a:ext cx="313200" cy="33480"/>
                        </a:xfrm>
                        <a:prstGeom prst="line">
                          <a:avLst/>
                        </a:prstGeom>
                        <a:ln w="252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8" name="Freeform 2783"/>
                        <p:cNvSpPr/>
                        <p:nvPr/>
                      </p:nvSpPr>
                      <p:spPr>
                        <a:xfrm rot="8029800">
                          <a:off x="2663280" y="3776760"/>
                          <a:ext cx="158760" cy="24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997">
                              <a:moveTo>
                                <a:pt x="635" y="997"/>
                              </a:moveTo>
                              <a:cubicBezTo>
                                <a:pt x="569" y="887"/>
                                <a:pt x="345" y="500"/>
                                <a:pt x="239" y="334"/>
                              </a:cubicBezTo>
                              <a:cubicBezTo>
                                <a:pt x="133" y="168"/>
                                <a:pt x="50" y="7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9" name="Freeform 2784"/>
                        <p:cNvSpPr/>
                        <p:nvPr/>
                      </p:nvSpPr>
                      <p:spPr>
                        <a:xfrm rot="8029800">
                          <a:off x="2678760" y="3796200"/>
                          <a:ext cx="123120" cy="25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2" h="1026">
                              <a:moveTo>
                                <a:pt x="492" y="1026"/>
                              </a:moveTo>
                              <a:cubicBezTo>
                                <a:pt x="452" y="924"/>
                                <a:pt x="334" y="585"/>
                                <a:pt x="252" y="414"/>
                              </a:cubicBezTo>
                              <a:cubicBezTo>
                                <a:pt x="170" y="243"/>
                                <a:pt x="53" y="8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0" name="Freeform 2785"/>
                        <p:cNvSpPr/>
                        <p:nvPr/>
                      </p:nvSpPr>
                      <p:spPr>
                        <a:xfrm rot="8029800">
                          <a:off x="2690640" y="3808800"/>
                          <a:ext cx="82440" cy="27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0" h="1086">
                              <a:moveTo>
                                <a:pt x="330" y="1086"/>
                              </a:moveTo>
                              <a:cubicBezTo>
                                <a:pt x="302" y="966"/>
                                <a:pt x="217" y="547"/>
                                <a:pt x="162" y="366"/>
                              </a:cubicBezTo>
                              <a:cubicBezTo>
                                <a:pt x="107" y="185"/>
                                <a:pt x="34" y="7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1" name="Freeform 2786"/>
                        <p:cNvSpPr/>
                        <p:nvPr/>
                      </p:nvSpPr>
                      <p:spPr>
                        <a:xfrm rot="8029800">
                          <a:off x="2687760" y="3821040"/>
                          <a:ext cx="41040" cy="29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4" h="1160">
                              <a:moveTo>
                                <a:pt x="164" y="1160"/>
                              </a:moveTo>
                              <a:cubicBezTo>
                                <a:pt x="148" y="1008"/>
                                <a:pt x="93" y="439"/>
                                <a:pt x="66" y="246"/>
                              </a:cubicBezTo>
                              <a:cubicBezTo>
                                <a:pt x="39" y="53"/>
                                <a:pt x="14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2" name="Freeform 2787"/>
                        <p:cNvSpPr/>
                        <p:nvPr/>
                      </p:nvSpPr>
                      <p:spPr>
                        <a:xfrm rot="8029800">
                          <a:off x="2695320" y="3831480"/>
                          <a:ext cx="47520" cy="31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1" h="1259">
                              <a:moveTo>
                                <a:pt x="140" y="1259"/>
                              </a:moveTo>
                              <a:cubicBezTo>
                                <a:pt x="145" y="1113"/>
                                <a:pt x="191" y="594"/>
                                <a:pt x="168" y="384"/>
                              </a:cubicBezTo>
                              <a:cubicBezTo>
                                <a:pt x="145" y="174"/>
                                <a:pt x="35" y="8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3" name="Freeform 2788"/>
                        <p:cNvSpPr/>
                        <p:nvPr/>
                      </p:nvSpPr>
                      <p:spPr>
                        <a:xfrm rot="8029800">
                          <a:off x="2661120" y="3844800"/>
                          <a:ext cx="45000" cy="28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1" h="1134">
                              <a:moveTo>
                                <a:pt x="0" y="1134"/>
                              </a:moveTo>
                              <a:cubicBezTo>
                                <a:pt x="19" y="988"/>
                                <a:pt x="85" y="445"/>
                                <a:pt x="115" y="256"/>
                              </a:cubicBezTo>
                              <a:cubicBezTo>
                                <a:pt x="145" y="67"/>
                                <a:pt x="167" y="53"/>
                                <a:pt x="181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4" name="Freeform 2789"/>
                        <p:cNvSpPr/>
                        <p:nvPr/>
                      </p:nvSpPr>
                      <p:spPr>
                        <a:xfrm rot="8029800">
                          <a:off x="2616480" y="3880080"/>
                          <a:ext cx="79200" cy="23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5" name="Freeform 2790"/>
                        <p:cNvSpPr/>
                        <p:nvPr/>
                      </p:nvSpPr>
                      <p:spPr>
                        <a:xfrm rot="8029800">
                          <a:off x="2585880" y="3899880"/>
                          <a:ext cx="158760" cy="29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1179">
                              <a:moveTo>
                                <a:pt x="0" y="1179"/>
                              </a:moveTo>
                              <a:cubicBezTo>
                                <a:pt x="70" y="1066"/>
                                <a:pt x="315" y="697"/>
                                <a:pt x="421" y="501"/>
                              </a:cubicBezTo>
                              <a:cubicBezTo>
                                <a:pt x="527" y="305"/>
                                <a:pt x="591" y="105"/>
                                <a:pt x="635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6" name="Freeform 2791"/>
                        <p:cNvSpPr/>
                        <p:nvPr/>
                      </p:nvSpPr>
                      <p:spPr>
                        <a:xfrm rot="8029800">
                          <a:off x="2522880" y="3915720"/>
                          <a:ext cx="204120" cy="24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6" h="998">
                              <a:moveTo>
                                <a:pt x="0" y="998"/>
                              </a:moveTo>
                              <a:cubicBezTo>
                                <a:pt x="102" y="891"/>
                                <a:pt x="477" y="523"/>
                                <a:pt x="613" y="357"/>
                              </a:cubicBezTo>
                              <a:cubicBezTo>
                                <a:pt x="749" y="191"/>
                                <a:pt x="774" y="75"/>
                                <a:pt x="816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7" name="Freeform 2792"/>
                        <p:cNvSpPr/>
                        <p:nvPr/>
                      </p:nvSpPr>
                      <p:spPr>
                        <a:xfrm rot="8029800">
                          <a:off x="2465280" y="3944880"/>
                          <a:ext cx="238320" cy="19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2" h="771">
                              <a:moveTo>
                                <a:pt x="0" y="771"/>
                              </a:moveTo>
                              <a:cubicBezTo>
                                <a:pt x="91" y="704"/>
                                <a:pt x="385" y="497"/>
                                <a:pt x="544" y="369"/>
                              </a:cubicBezTo>
                              <a:cubicBezTo>
                                <a:pt x="703" y="241"/>
                                <a:pt x="867" y="77"/>
                                <a:pt x="952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8" name="Freeform 2793"/>
                        <p:cNvSpPr/>
                        <p:nvPr/>
                      </p:nvSpPr>
                      <p:spPr>
                        <a:xfrm rot="8029800">
                          <a:off x="2424240" y="3961800"/>
                          <a:ext cx="27252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8" h="635">
                              <a:moveTo>
                                <a:pt x="0" y="635"/>
                              </a:moveTo>
                              <a:cubicBezTo>
                                <a:pt x="109" y="581"/>
                                <a:pt x="471" y="417"/>
                                <a:pt x="652" y="311"/>
                              </a:cubicBezTo>
                              <a:cubicBezTo>
                                <a:pt x="833" y="205"/>
                                <a:pt x="997" y="65"/>
                                <a:pt x="1088" y="0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9" name="Freeform 2794"/>
                        <p:cNvSpPr/>
                        <p:nvPr/>
                      </p:nvSpPr>
                      <p:spPr>
                        <a:xfrm rot="8029800">
                          <a:off x="2393640" y="3954600"/>
                          <a:ext cx="31788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0" h="635">
                              <a:moveTo>
                                <a:pt x="0" y="635"/>
                              </a:moveTo>
                              <a:cubicBezTo>
                                <a:pt x="120" y="588"/>
                                <a:pt x="537" y="430"/>
                                <a:pt x="719" y="352"/>
                              </a:cubicBezTo>
                              <a:cubicBezTo>
                                <a:pt x="901" y="274"/>
                                <a:pt x="999" y="225"/>
                                <a:pt x="1091" y="166"/>
                              </a:cubicBezTo>
                              <a:cubicBezTo>
                                <a:pt x="1183" y="107"/>
                                <a:pt x="1233" y="35"/>
                                <a:pt x="127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0" name="Freeform 2795"/>
                        <p:cNvSpPr/>
                        <p:nvPr/>
                      </p:nvSpPr>
                      <p:spPr>
                        <a:xfrm rot="8029800">
                          <a:off x="2429640" y="3926520"/>
                          <a:ext cx="19440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6" h="87">
                              <a:moveTo>
                                <a:pt x="0" y="0"/>
                              </a:moveTo>
                              <a:cubicBezTo>
                                <a:pt x="63" y="14"/>
                                <a:pt x="255" y="81"/>
                                <a:pt x="384" y="84"/>
                              </a:cubicBezTo>
                              <a:cubicBezTo>
                                <a:pt x="513" y="87"/>
                                <a:pt x="694" y="33"/>
                                <a:pt x="776" y="2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1" name="Freeform 2796"/>
                        <p:cNvSpPr/>
                        <p:nvPr/>
                      </p:nvSpPr>
                      <p:spPr>
                        <a:xfrm rot="8029800">
                          <a:off x="2469960" y="3893040"/>
                          <a:ext cx="13608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135">
                              <a:moveTo>
                                <a:pt x="0" y="0"/>
                              </a:moveTo>
                              <a:lnTo>
                                <a:pt x="289" y="99"/>
                              </a:lnTo>
                              <a:cubicBezTo>
                                <a:pt x="380" y="121"/>
                                <a:pt x="491" y="128"/>
                                <a:pt x="544" y="13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2" name="Freeform 2797"/>
                        <p:cNvSpPr/>
                        <p:nvPr/>
                      </p:nvSpPr>
                      <p:spPr>
                        <a:xfrm rot="8029800">
                          <a:off x="2495520" y="3831120"/>
                          <a:ext cx="9072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3" h="272">
                              <a:moveTo>
                                <a:pt x="0" y="0"/>
                              </a:moveTo>
                              <a:cubicBezTo>
                                <a:pt x="34" y="32"/>
                                <a:pt x="143" y="147"/>
                                <a:pt x="203" y="192"/>
                              </a:cubicBezTo>
                              <a:cubicBezTo>
                                <a:pt x="263" y="237"/>
                                <a:pt x="330" y="255"/>
                                <a:pt x="363" y="272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3" name="Freeform 2798"/>
                        <p:cNvSpPr/>
                        <p:nvPr/>
                      </p:nvSpPr>
                      <p:spPr>
                        <a:xfrm rot="8029800">
                          <a:off x="2522520" y="3806280"/>
                          <a:ext cx="6480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0" h="306">
                              <a:moveTo>
                                <a:pt x="0" y="0"/>
                              </a:moveTo>
                              <a:cubicBezTo>
                                <a:pt x="24" y="33"/>
                                <a:pt x="103" y="147"/>
                                <a:pt x="146" y="198"/>
                              </a:cubicBezTo>
                              <a:cubicBezTo>
                                <a:pt x="189" y="249"/>
                                <a:pt x="236" y="284"/>
                                <a:pt x="260" y="306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4" name="Freeform 2799"/>
                        <p:cNvSpPr/>
                        <p:nvPr/>
                      </p:nvSpPr>
                      <p:spPr>
                        <a:xfrm rot="8029800">
                          <a:off x="2588400" y="3790080"/>
                          <a:ext cx="22716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72">
                              <a:moveTo>
                                <a:pt x="0" y="27"/>
                              </a:moveTo>
                              <a:cubicBezTo>
                                <a:pt x="55" y="24"/>
                                <a:pt x="180" y="0"/>
                                <a:pt x="331" y="7"/>
                              </a:cubicBezTo>
                              <a:cubicBezTo>
                                <a:pt x="482" y="14"/>
                                <a:pt x="787" y="59"/>
                                <a:pt x="907" y="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5" name="Freeform 2800"/>
                        <p:cNvSpPr/>
                        <p:nvPr/>
                      </p:nvSpPr>
                      <p:spPr>
                        <a:xfrm rot="8029800">
                          <a:off x="2408400" y="3950640"/>
                          <a:ext cx="22716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56">
                              <a:moveTo>
                                <a:pt x="0" y="0"/>
                              </a:moveTo>
                              <a:cubicBezTo>
                                <a:pt x="86" y="8"/>
                                <a:pt x="366" y="42"/>
                                <a:pt x="517" y="49"/>
                              </a:cubicBezTo>
                              <a:cubicBezTo>
                                <a:pt x="668" y="56"/>
                                <a:pt x="826" y="46"/>
                                <a:pt x="907" y="4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6" name="Freeform 2801"/>
                        <p:cNvSpPr/>
                        <p:nvPr/>
                      </p:nvSpPr>
                      <p:spPr>
                        <a:xfrm rot="8029800">
                          <a:off x="2437920" y="3844440"/>
                          <a:ext cx="1587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363">
                              <a:moveTo>
                                <a:pt x="0" y="0"/>
                              </a:moveTo>
                              <a:cubicBezTo>
                                <a:pt x="57" y="40"/>
                                <a:pt x="235" y="178"/>
                                <a:pt x="341" y="238"/>
                              </a:cubicBezTo>
                              <a:cubicBezTo>
                                <a:pt x="447" y="298"/>
                                <a:pt x="574" y="337"/>
                                <a:pt x="635" y="363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7" name="Freeform 2802"/>
                        <p:cNvSpPr/>
                        <p:nvPr/>
                      </p:nvSpPr>
                      <p:spPr>
                        <a:xfrm rot="8029800">
                          <a:off x="2700000" y="3834720"/>
                          <a:ext cx="8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" h="1043">
                              <a:moveTo>
                                <a:pt x="0" y="0"/>
                              </a:moveTo>
                              <a:cubicBezTo>
                                <a:pt x="6" y="84"/>
                                <a:pt x="35" y="330"/>
                                <a:pt x="35" y="504"/>
                              </a:cubicBezTo>
                              <a:cubicBezTo>
                                <a:pt x="35" y="678"/>
                                <a:pt x="7" y="931"/>
                                <a:pt x="0" y="1043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8" name="Freeform 2803"/>
                        <p:cNvSpPr/>
                        <p:nvPr/>
                      </p:nvSpPr>
                      <p:spPr>
                        <a:xfrm rot="8029800">
                          <a:off x="2548080" y="3721680"/>
                          <a:ext cx="136080" cy="147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590">
                              <a:moveTo>
                                <a:pt x="544" y="0"/>
                              </a:moveTo>
                              <a:cubicBezTo>
                                <a:pt x="495" y="45"/>
                                <a:pt x="341" y="173"/>
                                <a:pt x="250" y="271"/>
                              </a:cubicBezTo>
                              <a:cubicBezTo>
                                <a:pt x="159" y="369"/>
                                <a:pt x="52" y="524"/>
                                <a:pt x="0" y="590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9" name="Freeform 2804"/>
                        <p:cNvSpPr/>
                        <p:nvPr/>
                      </p:nvSpPr>
                      <p:spPr>
                        <a:xfrm rot="8029800">
                          <a:off x="2512800" y="3645720"/>
                          <a:ext cx="124560" cy="20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817">
                              <a:moveTo>
                                <a:pt x="498" y="0"/>
                              </a:moveTo>
                              <a:cubicBezTo>
                                <a:pt x="455" y="58"/>
                                <a:pt x="323" y="210"/>
                                <a:pt x="240" y="346"/>
                              </a:cubicBezTo>
                              <a:cubicBezTo>
                                <a:pt x="157" y="482"/>
                                <a:pt x="50" y="719"/>
                                <a:pt x="0" y="817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0" name="Freeform 2805"/>
                        <p:cNvSpPr/>
                        <p:nvPr/>
                      </p:nvSpPr>
                      <p:spPr>
                        <a:xfrm rot="8029800">
                          <a:off x="2460600" y="3748680"/>
                          <a:ext cx="79200" cy="169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680">
                              <a:moveTo>
                                <a:pt x="0" y="0"/>
                              </a:moveTo>
                              <a:cubicBezTo>
                                <a:pt x="27" y="48"/>
                                <a:pt x="120" y="212"/>
                                <a:pt x="164" y="288"/>
                              </a:cubicBezTo>
                              <a:cubicBezTo>
                                <a:pt x="208" y="364"/>
                                <a:pt x="238" y="391"/>
                                <a:pt x="264" y="456"/>
                              </a:cubicBezTo>
                              <a:cubicBezTo>
                                <a:pt x="290" y="521"/>
                                <a:pt x="306" y="633"/>
                                <a:pt x="317" y="68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1" name="Freeform 2806"/>
                        <p:cNvSpPr/>
                        <p:nvPr/>
                      </p:nvSpPr>
                      <p:spPr>
                        <a:xfrm rot="8711400">
                          <a:off x="2503440" y="3938040"/>
                          <a:ext cx="1022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9" h="90">
                              <a:moveTo>
                                <a:pt x="0" y="90"/>
                              </a:moveTo>
                              <a:cubicBezTo>
                                <a:pt x="36" y="85"/>
                                <a:pt x="149" y="77"/>
                                <a:pt x="217" y="62"/>
                              </a:cubicBezTo>
                              <a:lnTo>
                                <a:pt x="409" y="0"/>
                              </a:lnTo>
                            </a:path>
                          </a:pathLst>
                        </a:custGeom>
                        <a:noFill/>
                        <a:ln cap="rnd" w="252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2" name="Freeform 2807"/>
                        <p:cNvSpPr/>
                        <p:nvPr/>
                      </p:nvSpPr>
                      <p:spPr>
                        <a:xfrm rot="8029800">
                          <a:off x="2621520" y="3868560"/>
                          <a:ext cx="68040" cy="18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223" name="Group 2984"/>
                  <p:cNvGrpSpPr/>
                  <p:nvPr/>
                </p:nvGrpSpPr>
                <p:grpSpPr>
                  <a:xfrm>
                    <a:off x="2208600" y="3327480"/>
                    <a:ext cx="840600" cy="735840"/>
                    <a:chOff x="2208600" y="3327480"/>
                    <a:chExt cx="840600" cy="735840"/>
                  </a:xfrm>
                </p:grpSpPr>
                <p:sp>
                  <p:nvSpPr>
                    <p:cNvPr id="2224" name="Freeform 2985"/>
                    <p:cNvSpPr/>
                    <p:nvPr/>
                  </p:nvSpPr>
                  <p:spPr>
                    <a:xfrm rot="7255800">
                      <a:off x="2638080" y="378288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25" name="Group 2986"/>
                    <p:cNvGrpSpPr/>
                    <p:nvPr/>
                  </p:nvGrpSpPr>
                  <p:grpSpPr>
                    <a:xfrm>
                      <a:off x="2208600" y="3327480"/>
                      <a:ext cx="840600" cy="735840"/>
                      <a:chOff x="2208600" y="3327480"/>
                      <a:chExt cx="840600" cy="735840"/>
                    </a:xfrm>
                  </p:grpSpPr>
                  <p:grpSp>
                    <p:nvGrpSpPr>
                      <p:cNvPr id="2226" name="Group 2987"/>
                      <p:cNvGrpSpPr/>
                      <p:nvPr/>
                    </p:nvGrpSpPr>
                    <p:grpSpPr>
                      <a:xfrm>
                        <a:off x="2208600" y="3327480"/>
                        <a:ext cx="564120" cy="455040"/>
                        <a:chOff x="2208600" y="3327480"/>
                        <a:chExt cx="564120" cy="455040"/>
                      </a:xfrm>
                    </p:grpSpPr>
                    <p:sp>
                      <p:nvSpPr>
                        <p:cNvPr id="2227" name="AutoShape 2988"/>
                        <p:cNvSpPr/>
                        <p:nvPr/>
                      </p:nvSpPr>
                      <p:spPr>
                        <a:xfrm rot="7255800">
                          <a:off x="2669760" y="3683520"/>
                          <a:ext cx="90720" cy="79200"/>
                        </a:xfrm>
                        <a:prstGeom prst="irregularSeal1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2320" bIns="-2232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8" name="Freeform 2989"/>
                        <p:cNvSpPr/>
                        <p:nvPr/>
                      </p:nvSpPr>
                      <p:spPr>
                        <a:xfrm rot="7255800">
                          <a:off x="2503080" y="3367080"/>
                          <a:ext cx="46080" cy="43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5" h="1735">
                              <a:moveTo>
                                <a:pt x="185" y="0"/>
                              </a:moveTo>
                              <a:cubicBezTo>
                                <a:pt x="174" y="126"/>
                                <a:pt x="137" y="578"/>
                                <a:pt x="120" y="757"/>
                              </a:cubicBezTo>
                              <a:lnTo>
                                <a:pt x="84" y="1075"/>
                              </a:lnTo>
                              <a:lnTo>
                                <a:pt x="0" y="1735"/>
                              </a:lnTo>
                            </a:path>
                          </a:pathLst>
                        </a:custGeom>
                        <a:noFill/>
                        <a:ln w="11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9" name="Oval 2990"/>
                        <p:cNvSpPr/>
                        <p:nvPr/>
                      </p:nvSpPr>
                      <p:spPr>
                        <a:xfrm rot="7799400">
                          <a:off x="2274120" y="3310200"/>
                          <a:ext cx="45360" cy="192600"/>
                        </a:xfrm>
                        <a:prstGeom prst="ellipse">
                          <a:avLst/>
                        </a:prstGeom>
                        <a:solidFill>
                          <a:srgbClr val="ffffff">
                            <a:alpha val="8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30" name="Group 2991"/>
                      <p:cNvGrpSpPr/>
                      <p:nvPr/>
                    </p:nvGrpSpPr>
                    <p:grpSpPr>
                      <a:xfrm>
                        <a:off x="2488320" y="3433680"/>
                        <a:ext cx="560880" cy="629640"/>
                        <a:chOff x="2488320" y="3433680"/>
                        <a:chExt cx="560880" cy="629640"/>
                      </a:xfrm>
                    </p:grpSpPr>
                    <p:sp>
                      <p:nvSpPr>
                        <p:cNvPr id="2231" name="Freeform 2992"/>
                        <p:cNvSpPr/>
                        <p:nvPr/>
                      </p:nvSpPr>
                      <p:spPr>
                        <a:xfrm rot="7255800">
                          <a:off x="2658960" y="3606120"/>
                          <a:ext cx="158040" cy="7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2" h="303">
                              <a:moveTo>
                                <a:pt x="544" y="303"/>
                              </a:moveTo>
                              <a:cubicBezTo>
                                <a:pt x="553" y="278"/>
                                <a:pt x="593" y="184"/>
                                <a:pt x="598" y="153"/>
                              </a:cubicBezTo>
                              <a:cubicBezTo>
                                <a:pt x="603" y="122"/>
                                <a:pt x="632" y="137"/>
                                <a:pt x="574" y="117"/>
                              </a:cubicBezTo>
                              <a:cubicBezTo>
                                <a:pt x="516" y="97"/>
                                <a:pt x="346" y="0"/>
                                <a:pt x="250" y="31"/>
                              </a:cubicBezTo>
                              <a:cubicBezTo>
                                <a:pt x="154" y="62"/>
                                <a:pt x="52" y="245"/>
                                <a:pt x="0" y="303"/>
                              </a:cubicBez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0" bIns="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2" name="Freeform 2993"/>
                        <p:cNvSpPr/>
                        <p:nvPr/>
                      </p:nvSpPr>
                      <p:spPr>
                        <a:xfrm rot="7255800">
                          <a:off x="2620440" y="3541680"/>
                          <a:ext cx="2725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9" h="272">
                              <a:moveTo>
                                <a:pt x="1089" y="0"/>
                              </a:moveTo>
                              <a:cubicBezTo>
                                <a:pt x="988" y="18"/>
                                <a:pt x="663" y="64"/>
                                <a:pt x="482" y="109"/>
                              </a:cubicBezTo>
                              <a:cubicBezTo>
                                <a:pt x="301" y="154"/>
                                <a:pt x="100" y="238"/>
                                <a:pt x="0" y="2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3" name="Freeform 2994"/>
                        <p:cNvSpPr/>
                        <p:nvPr/>
                      </p:nvSpPr>
                      <p:spPr>
                        <a:xfrm rot="7255800">
                          <a:off x="2682000" y="3562920"/>
                          <a:ext cx="28404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272">
                              <a:moveTo>
                                <a:pt x="1134" y="272"/>
                              </a:moveTo>
                              <a:cubicBezTo>
                                <a:pt x="1024" y="241"/>
                                <a:pt x="663" y="129"/>
                                <a:pt x="474" y="84"/>
                              </a:cubicBezTo>
                              <a:cubicBezTo>
                                <a:pt x="285" y="39"/>
                                <a:pt x="99" y="1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4" name="Freeform 2995"/>
                        <p:cNvSpPr/>
                        <p:nvPr/>
                      </p:nvSpPr>
                      <p:spPr>
                        <a:xfrm rot="7255800">
                          <a:off x="2709720" y="3538440"/>
                          <a:ext cx="2955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0" h="363">
                              <a:moveTo>
                                <a:pt x="1180" y="363"/>
                              </a:moveTo>
                              <a:cubicBezTo>
                                <a:pt x="1067" y="321"/>
                                <a:pt x="699" y="172"/>
                                <a:pt x="502" y="112"/>
                              </a:cubicBezTo>
                              <a:cubicBezTo>
                                <a:pt x="305" y="52"/>
                                <a:pt x="105" y="23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5" name="Freeform 2996"/>
                        <p:cNvSpPr/>
                        <p:nvPr/>
                      </p:nvSpPr>
                      <p:spPr>
                        <a:xfrm rot="7255800">
                          <a:off x="2709000" y="3550320"/>
                          <a:ext cx="293760" cy="11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3" h="461">
                              <a:moveTo>
                                <a:pt x="1173" y="461"/>
                              </a:moveTo>
                              <a:cubicBezTo>
                                <a:pt x="1088" y="425"/>
                                <a:pt x="862" y="323"/>
                                <a:pt x="666" y="246"/>
                              </a:cubicBezTo>
                              <a:cubicBezTo>
                                <a:pt x="470" y="169"/>
                                <a:pt x="139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6" name="Freeform 2997"/>
                        <p:cNvSpPr/>
                        <p:nvPr/>
                      </p:nvSpPr>
                      <p:spPr>
                        <a:xfrm rot="7255800">
                          <a:off x="2699280" y="3576600"/>
                          <a:ext cx="284040" cy="11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453">
                              <a:moveTo>
                                <a:pt x="1134" y="453"/>
                              </a:moveTo>
                              <a:cubicBezTo>
                                <a:pt x="1034" y="407"/>
                                <a:pt x="722" y="254"/>
                                <a:pt x="533" y="178"/>
                              </a:cubicBezTo>
                              <a:cubicBezTo>
                                <a:pt x="344" y="102"/>
                                <a:pt x="111" y="3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7" name="Freeform 2998"/>
                        <p:cNvSpPr/>
                        <p:nvPr/>
                      </p:nvSpPr>
                      <p:spPr>
                        <a:xfrm rot="7255800">
                          <a:off x="2751480" y="3580920"/>
                          <a:ext cx="214200" cy="18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6" h="724">
                              <a:moveTo>
                                <a:pt x="856" y="724"/>
                              </a:moveTo>
                              <a:lnTo>
                                <a:pt x="372" y="234"/>
                              </a:lnTo>
                              <a:cubicBezTo>
                                <a:pt x="229" y="113"/>
                                <a:pt x="77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8" name="Freeform 2999"/>
                        <p:cNvSpPr/>
                        <p:nvPr/>
                      </p:nvSpPr>
                      <p:spPr>
                        <a:xfrm rot="7255800">
                          <a:off x="2742480" y="357624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lnTo>
                                <a:pt x="220" y="1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9" name="Freeform 3000"/>
                        <p:cNvSpPr/>
                        <p:nvPr/>
                      </p:nvSpPr>
                      <p:spPr>
                        <a:xfrm rot="7255800">
                          <a:off x="2695680" y="358776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cubicBezTo>
                                <a:pt x="882" y="554"/>
                                <a:pt x="466" y="255"/>
                                <a:pt x="300" y="149"/>
                              </a:cubicBezTo>
                              <a:cubicBezTo>
                                <a:pt x="134" y="43"/>
                                <a:pt x="62" y="3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0" name="Freeform 3001"/>
                        <p:cNvSpPr/>
                        <p:nvPr/>
                      </p:nvSpPr>
                      <p:spPr>
                        <a:xfrm rot="7255800">
                          <a:off x="2745000" y="3558240"/>
                          <a:ext cx="262800" cy="244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50" h="980">
                              <a:moveTo>
                                <a:pt x="1050" y="980"/>
                              </a:moveTo>
                              <a:lnTo>
                                <a:pt x="378" y="234"/>
                              </a:lnTo>
                              <a:cubicBezTo>
                                <a:pt x="203" y="71"/>
                                <a:pt x="79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1" name="Line 3002"/>
                        <p:cNvSpPr/>
                        <p:nvPr/>
                      </p:nvSpPr>
                      <p:spPr>
                        <a:xfrm flipV="1">
                          <a:off x="2679120" y="3690720"/>
                          <a:ext cx="313200" cy="37440"/>
                        </a:xfrm>
                        <a:prstGeom prst="line">
                          <a:avLst/>
                        </a:prstGeom>
                        <a:ln w="252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360" bIns="-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2" name="Freeform 3003"/>
                        <p:cNvSpPr/>
                        <p:nvPr/>
                      </p:nvSpPr>
                      <p:spPr>
                        <a:xfrm rot="7255800">
                          <a:off x="2753280" y="3589920"/>
                          <a:ext cx="158760" cy="24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997">
                              <a:moveTo>
                                <a:pt x="635" y="997"/>
                              </a:moveTo>
                              <a:cubicBezTo>
                                <a:pt x="569" y="887"/>
                                <a:pt x="345" y="500"/>
                                <a:pt x="239" y="334"/>
                              </a:cubicBezTo>
                              <a:cubicBezTo>
                                <a:pt x="133" y="168"/>
                                <a:pt x="50" y="7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3" name="Freeform 3004"/>
                        <p:cNvSpPr/>
                        <p:nvPr/>
                      </p:nvSpPr>
                      <p:spPr>
                        <a:xfrm rot="7255800">
                          <a:off x="2774160" y="3609360"/>
                          <a:ext cx="123120" cy="25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2" h="1026">
                              <a:moveTo>
                                <a:pt x="492" y="1026"/>
                              </a:moveTo>
                              <a:cubicBezTo>
                                <a:pt x="452" y="924"/>
                                <a:pt x="334" y="585"/>
                                <a:pt x="252" y="414"/>
                              </a:cubicBezTo>
                              <a:cubicBezTo>
                                <a:pt x="170" y="243"/>
                                <a:pt x="53" y="8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4" name="Freeform 3005"/>
                        <p:cNvSpPr/>
                        <p:nvPr/>
                      </p:nvSpPr>
                      <p:spPr>
                        <a:xfrm rot="7255800">
                          <a:off x="2790720" y="3623400"/>
                          <a:ext cx="82440" cy="27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0" h="1086">
                              <a:moveTo>
                                <a:pt x="330" y="1086"/>
                              </a:moveTo>
                              <a:cubicBezTo>
                                <a:pt x="302" y="966"/>
                                <a:pt x="217" y="547"/>
                                <a:pt x="162" y="366"/>
                              </a:cubicBezTo>
                              <a:cubicBezTo>
                                <a:pt x="107" y="185"/>
                                <a:pt x="34" y="7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5" name="Freeform 3006"/>
                        <p:cNvSpPr/>
                        <p:nvPr/>
                      </p:nvSpPr>
                      <p:spPr>
                        <a:xfrm rot="7255800">
                          <a:off x="2793240" y="3639960"/>
                          <a:ext cx="41040" cy="29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4" h="1160">
                              <a:moveTo>
                                <a:pt x="164" y="1160"/>
                              </a:moveTo>
                              <a:cubicBezTo>
                                <a:pt x="148" y="1008"/>
                                <a:pt x="93" y="439"/>
                                <a:pt x="66" y="246"/>
                              </a:cubicBezTo>
                              <a:cubicBezTo>
                                <a:pt x="39" y="53"/>
                                <a:pt x="14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6" name="Freeform 3007"/>
                        <p:cNvSpPr/>
                        <p:nvPr/>
                      </p:nvSpPr>
                      <p:spPr>
                        <a:xfrm rot="7255800">
                          <a:off x="2805480" y="3648240"/>
                          <a:ext cx="47520" cy="31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1" h="1259">
                              <a:moveTo>
                                <a:pt x="140" y="1259"/>
                              </a:moveTo>
                              <a:cubicBezTo>
                                <a:pt x="145" y="1113"/>
                                <a:pt x="191" y="594"/>
                                <a:pt x="168" y="384"/>
                              </a:cubicBezTo>
                              <a:cubicBezTo>
                                <a:pt x="145" y="174"/>
                                <a:pt x="35" y="8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7" name="Freeform 3008"/>
                        <p:cNvSpPr/>
                        <p:nvPr/>
                      </p:nvSpPr>
                      <p:spPr>
                        <a:xfrm rot="7255800">
                          <a:off x="2772000" y="3669120"/>
                          <a:ext cx="45000" cy="28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1" h="1134">
                              <a:moveTo>
                                <a:pt x="0" y="1134"/>
                              </a:moveTo>
                              <a:cubicBezTo>
                                <a:pt x="19" y="988"/>
                                <a:pt x="85" y="445"/>
                                <a:pt x="115" y="256"/>
                              </a:cubicBezTo>
                              <a:cubicBezTo>
                                <a:pt x="145" y="67"/>
                                <a:pt x="167" y="53"/>
                                <a:pt x="181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8" name="Freeform 3009"/>
                        <p:cNvSpPr/>
                        <p:nvPr/>
                      </p:nvSpPr>
                      <p:spPr>
                        <a:xfrm rot="7255800">
                          <a:off x="2730600" y="3710160"/>
                          <a:ext cx="79200" cy="23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9" name="Freeform 3010"/>
                        <p:cNvSpPr/>
                        <p:nvPr/>
                      </p:nvSpPr>
                      <p:spPr>
                        <a:xfrm rot="7255800">
                          <a:off x="2710080" y="3727080"/>
                          <a:ext cx="158760" cy="29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1179">
                              <a:moveTo>
                                <a:pt x="0" y="1179"/>
                              </a:moveTo>
                              <a:cubicBezTo>
                                <a:pt x="70" y="1066"/>
                                <a:pt x="315" y="697"/>
                                <a:pt x="421" y="501"/>
                              </a:cubicBezTo>
                              <a:cubicBezTo>
                                <a:pt x="527" y="305"/>
                                <a:pt x="591" y="105"/>
                                <a:pt x="635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0" name="Freeform 3011"/>
                        <p:cNvSpPr/>
                        <p:nvPr/>
                      </p:nvSpPr>
                      <p:spPr>
                        <a:xfrm rot="7255800">
                          <a:off x="2646720" y="3751560"/>
                          <a:ext cx="204120" cy="24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6" h="998">
                              <a:moveTo>
                                <a:pt x="0" y="998"/>
                              </a:moveTo>
                              <a:cubicBezTo>
                                <a:pt x="102" y="891"/>
                                <a:pt x="477" y="523"/>
                                <a:pt x="613" y="357"/>
                              </a:cubicBezTo>
                              <a:cubicBezTo>
                                <a:pt x="749" y="191"/>
                                <a:pt x="774" y="75"/>
                                <a:pt x="816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1" name="Freeform 3012"/>
                        <p:cNvSpPr/>
                        <p:nvPr/>
                      </p:nvSpPr>
                      <p:spPr>
                        <a:xfrm rot="7255800">
                          <a:off x="2590560" y="3789360"/>
                          <a:ext cx="238320" cy="19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2" h="771">
                              <a:moveTo>
                                <a:pt x="0" y="771"/>
                              </a:moveTo>
                              <a:cubicBezTo>
                                <a:pt x="91" y="704"/>
                                <a:pt x="385" y="497"/>
                                <a:pt x="544" y="369"/>
                              </a:cubicBezTo>
                              <a:cubicBezTo>
                                <a:pt x="703" y="241"/>
                                <a:pt x="867" y="77"/>
                                <a:pt x="952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2" name="Freeform 3013"/>
                        <p:cNvSpPr/>
                        <p:nvPr/>
                      </p:nvSpPr>
                      <p:spPr>
                        <a:xfrm rot="7255800">
                          <a:off x="2549880" y="3812040"/>
                          <a:ext cx="27252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8" h="635">
                              <a:moveTo>
                                <a:pt x="0" y="635"/>
                              </a:moveTo>
                              <a:cubicBezTo>
                                <a:pt x="109" y="581"/>
                                <a:pt x="471" y="417"/>
                                <a:pt x="652" y="311"/>
                              </a:cubicBezTo>
                              <a:cubicBezTo>
                                <a:pt x="833" y="205"/>
                                <a:pt x="997" y="65"/>
                                <a:pt x="1088" y="0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3" name="Freeform 3014"/>
                        <p:cNvSpPr/>
                        <p:nvPr/>
                      </p:nvSpPr>
                      <p:spPr>
                        <a:xfrm rot="7255800">
                          <a:off x="2518200" y="3806640"/>
                          <a:ext cx="31788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0" h="635">
                              <a:moveTo>
                                <a:pt x="0" y="635"/>
                              </a:moveTo>
                              <a:cubicBezTo>
                                <a:pt x="120" y="588"/>
                                <a:pt x="537" y="430"/>
                                <a:pt x="719" y="352"/>
                              </a:cubicBezTo>
                              <a:cubicBezTo>
                                <a:pt x="901" y="274"/>
                                <a:pt x="999" y="225"/>
                                <a:pt x="1091" y="166"/>
                              </a:cubicBezTo>
                              <a:cubicBezTo>
                                <a:pt x="1183" y="107"/>
                                <a:pt x="1233" y="35"/>
                                <a:pt x="127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4" name="Freeform 3015"/>
                        <p:cNvSpPr/>
                        <p:nvPr/>
                      </p:nvSpPr>
                      <p:spPr>
                        <a:xfrm rot="7255800">
                          <a:off x="2532960" y="3787200"/>
                          <a:ext cx="19440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6" h="87">
                              <a:moveTo>
                                <a:pt x="0" y="0"/>
                              </a:moveTo>
                              <a:cubicBezTo>
                                <a:pt x="63" y="14"/>
                                <a:pt x="255" y="81"/>
                                <a:pt x="384" y="84"/>
                              </a:cubicBezTo>
                              <a:cubicBezTo>
                                <a:pt x="513" y="87"/>
                                <a:pt x="694" y="33"/>
                                <a:pt x="776" y="2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5" name="Freeform 3016"/>
                        <p:cNvSpPr/>
                        <p:nvPr/>
                      </p:nvSpPr>
                      <p:spPr>
                        <a:xfrm rot="7255800">
                          <a:off x="2566800" y="3751560"/>
                          <a:ext cx="13608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135">
                              <a:moveTo>
                                <a:pt x="0" y="0"/>
                              </a:moveTo>
                              <a:lnTo>
                                <a:pt x="289" y="99"/>
                              </a:lnTo>
                              <a:cubicBezTo>
                                <a:pt x="380" y="121"/>
                                <a:pt x="491" y="128"/>
                                <a:pt x="544" y="13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6" name="Freeform 3017"/>
                        <p:cNvSpPr/>
                        <p:nvPr/>
                      </p:nvSpPr>
                      <p:spPr>
                        <a:xfrm rot="7255800">
                          <a:off x="2582640" y="3690360"/>
                          <a:ext cx="9072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3" h="272">
                              <a:moveTo>
                                <a:pt x="0" y="0"/>
                              </a:moveTo>
                              <a:cubicBezTo>
                                <a:pt x="34" y="32"/>
                                <a:pt x="143" y="147"/>
                                <a:pt x="203" y="192"/>
                              </a:cubicBezTo>
                              <a:cubicBezTo>
                                <a:pt x="263" y="237"/>
                                <a:pt x="330" y="255"/>
                                <a:pt x="363" y="272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7" name="Freeform 3018"/>
                        <p:cNvSpPr/>
                        <p:nvPr/>
                      </p:nvSpPr>
                      <p:spPr>
                        <a:xfrm rot="7255800">
                          <a:off x="2604600" y="3663000"/>
                          <a:ext cx="6480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0" h="306">
                              <a:moveTo>
                                <a:pt x="0" y="0"/>
                              </a:moveTo>
                              <a:cubicBezTo>
                                <a:pt x="24" y="33"/>
                                <a:pt x="103" y="147"/>
                                <a:pt x="146" y="198"/>
                              </a:cubicBezTo>
                              <a:cubicBezTo>
                                <a:pt x="189" y="249"/>
                                <a:pt x="236" y="284"/>
                                <a:pt x="260" y="306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8" name="Freeform 3019"/>
                        <p:cNvSpPr/>
                        <p:nvPr/>
                      </p:nvSpPr>
                      <p:spPr>
                        <a:xfrm rot="7255800">
                          <a:off x="2656800" y="3614760"/>
                          <a:ext cx="22716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72">
                              <a:moveTo>
                                <a:pt x="0" y="27"/>
                              </a:moveTo>
                              <a:cubicBezTo>
                                <a:pt x="55" y="24"/>
                                <a:pt x="180" y="0"/>
                                <a:pt x="331" y="7"/>
                              </a:cubicBezTo>
                              <a:cubicBezTo>
                                <a:pt x="482" y="14"/>
                                <a:pt x="787" y="59"/>
                                <a:pt x="907" y="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9" name="Freeform 3020"/>
                        <p:cNvSpPr/>
                        <p:nvPr/>
                      </p:nvSpPr>
                      <p:spPr>
                        <a:xfrm rot="7255800">
                          <a:off x="2516760" y="3811320"/>
                          <a:ext cx="22716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56">
                              <a:moveTo>
                                <a:pt x="0" y="0"/>
                              </a:moveTo>
                              <a:cubicBezTo>
                                <a:pt x="86" y="8"/>
                                <a:pt x="366" y="42"/>
                                <a:pt x="517" y="49"/>
                              </a:cubicBezTo>
                              <a:cubicBezTo>
                                <a:pt x="668" y="56"/>
                                <a:pt x="826" y="46"/>
                                <a:pt x="907" y="4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0" name="Freeform 3021"/>
                        <p:cNvSpPr/>
                        <p:nvPr/>
                      </p:nvSpPr>
                      <p:spPr>
                        <a:xfrm rot="7255800">
                          <a:off x="2531520" y="3708360"/>
                          <a:ext cx="1587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363">
                              <a:moveTo>
                                <a:pt x="0" y="0"/>
                              </a:moveTo>
                              <a:cubicBezTo>
                                <a:pt x="57" y="40"/>
                                <a:pt x="235" y="178"/>
                                <a:pt x="341" y="238"/>
                              </a:cubicBezTo>
                              <a:cubicBezTo>
                                <a:pt x="447" y="298"/>
                                <a:pt x="574" y="337"/>
                                <a:pt x="635" y="363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1" name="Freeform 3022"/>
                        <p:cNvSpPr/>
                        <p:nvPr/>
                      </p:nvSpPr>
                      <p:spPr>
                        <a:xfrm rot="7255800">
                          <a:off x="2805480" y="3655080"/>
                          <a:ext cx="8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" h="1043">
                              <a:moveTo>
                                <a:pt x="0" y="0"/>
                              </a:moveTo>
                              <a:cubicBezTo>
                                <a:pt x="6" y="84"/>
                                <a:pt x="35" y="330"/>
                                <a:pt x="35" y="504"/>
                              </a:cubicBezTo>
                              <a:cubicBezTo>
                                <a:pt x="35" y="678"/>
                                <a:pt x="7" y="931"/>
                                <a:pt x="0" y="1043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2" name="Freeform 3023"/>
                        <p:cNvSpPr/>
                        <p:nvPr/>
                      </p:nvSpPr>
                      <p:spPr>
                        <a:xfrm rot="7255800">
                          <a:off x="2617560" y="3565800"/>
                          <a:ext cx="136080" cy="147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590">
                              <a:moveTo>
                                <a:pt x="544" y="0"/>
                              </a:moveTo>
                              <a:cubicBezTo>
                                <a:pt x="495" y="45"/>
                                <a:pt x="341" y="173"/>
                                <a:pt x="250" y="271"/>
                              </a:cubicBezTo>
                              <a:cubicBezTo>
                                <a:pt x="159" y="369"/>
                                <a:pt x="52" y="524"/>
                                <a:pt x="0" y="590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3" name="Freeform 3024"/>
                        <p:cNvSpPr/>
                        <p:nvPr/>
                      </p:nvSpPr>
                      <p:spPr>
                        <a:xfrm rot="7255800">
                          <a:off x="2572560" y="3500280"/>
                          <a:ext cx="124560" cy="20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817">
                              <a:moveTo>
                                <a:pt x="498" y="0"/>
                              </a:moveTo>
                              <a:cubicBezTo>
                                <a:pt x="455" y="58"/>
                                <a:pt x="323" y="210"/>
                                <a:pt x="240" y="346"/>
                              </a:cubicBezTo>
                              <a:cubicBezTo>
                                <a:pt x="157" y="482"/>
                                <a:pt x="50" y="719"/>
                                <a:pt x="0" y="817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4" name="Freeform 3025"/>
                        <p:cNvSpPr/>
                        <p:nvPr/>
                      </p:nvSpPr>
                      <p:spPr>
                        <a:xfrm rot="7255800">
                          <a:off x="2541960" y="3618360"/>
                          <a:ext cx="79200" cy="169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680">
                              <a:moveTo>
                                <a:pt x="0" y="0"/>
                              </a:moveTo>
                              <a:cubicBezTo>
                                <a:pt x="27" y="48"/>
                                <a:pt x="120" y="212"/>
                                <a:pt x="164" y="288"/>
                              </a:cubicBezTo>
                              <a:cubicBezTo>
                                <a:pt x="208" y="364"/>
                                <a:pt x="238" y="391"/>
                                <a:pt x="264" y="456"/>
                              </a:cubicBezTo>
                              <a:cubicBezTo>
                                <a:pt x="290" y="521"/>
                                <a:pt x="306" y="633"/>
                                <a:pt x="317" y="68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5" name="Freeform 3026"/>
                        <p:cNvSpPr/>
                        <p:nvPr/>
                      </p:nvSpPr>
                      <p:spPr>
                        <a:xfrm rot="7936800">
                          <a:off x="2609280" y="3792240"/>
                          <a:ext cx="1022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9" h="90">
                              <a:moveTo>
                                <a:pt x="0" y="90"/>
                              </a:moveTo>
                              <a:cubicBezTo>
                                <a:pt x="36" y="85"/>
                                <a:pt x="149" y="77"/>
                                <a:pt x="217" y="62"/>
                              </a:cubicBezTo>
                              <a:lnTo>
                                <a:pt x="409" y="0"/>
                              </a:lnTo>
                            </a:path>
                          </a:pathLst>
                        </a:custGeom>
                        <a:noFill/>
                        <a:ln cap="rnd" w="252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6" name="Freeform 3027"/>
                        <p:cNvSpPr/>
                        <p:nvPr/>
                      </p:nvSpPr>
                      <p:spPr>
                        <a:xfrm rot="7255800">
                          <a:off x="2726280" y="3699720"/>
                          <a:ext cx="68040" cy="18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267" name="Group 4009"/>
                <p:cNvGrpSpPr/>
                <p:nvPr/>
              </p:nvGrpSpPr>
              <p:grpSpPr>
                <a:xfrm>
                  <a:off x="1375560" y="3335760"/>
                  <a:ext cx="1670400" cy="1013040"/>
                  <a:chOff x="1375560" y="3335760"/>
                  <a:chExt cx="1670400" cy="1013040"/>
                </a:xfrm>
              </p:grpSpPr>
              <p:grpSp>
                <p:nvGrpSpPr>
                  <p:cNvPr id="2268" name="Group 3261"/>
                  <p:cNvGrpSpPr/>
                  <p:nvPr/>
                </p:nvGrpSpPr>
                <p:grpSpPr>
                  <a:xfrm>
                    <a:off x="1375560" y="3335760"/>
                    <a:ext cx="782280" cy="802080"/>
                    <a:chOff x="1375560" y="3335760"/>
                    <a:chExt cx="782280" cy="802080"/>
                  </a:xfrm>
                </p:grpSpPr>
                <p:sp>
                  <p:nvSpPr>
                    <p:cNvPr id="2269" name="Freeform 3262"/>
                    <p:cNvSpPr/>
                    <p:nvPr/>
                  </p:nvSpPr>
                  <p:spPr>
                    <a:xfrm rot="13074000">
                      <a:off x="1588680" y="374940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70" name="Group 3263"/>
                    <p:cNvGrpSpPr/>
                    <p:nvPr/>
                  </p:nvGrpSpPr>
                  <p:grpSpPr>
                    <a:xfrm>
                      <a:off x="1375560" y="3335760"/>
                      <a:ext cx="782280" cy="802080"/>
                      <a:chOff x="1375560" y="3335760"/>
                      <a:chExt cx="782280" cy="802080"/>
                    </a:xfrm>
                  </p:grpSpPr>
                  <p:grpSp>
                    <p:nvGrpSpPr>
                      <p:cNvPr id="2271" name="Group 3264"/>
                      <p:cNvGrpSpPr/>
                      <p:nvPr/>
                    </p:nvGrpSpPr>
                    <p:grpSpPr>
                      <a:xfrm>
                        <a:off x="1647000" y="3335760"/>
                        <a:ext cx="510840" cy="518760"/>
                        <a:chOff x="1647000" y="3335760"/>
                        <a:chExt cx="510840" cy="518760"/>
                      </a:xfrm>
                    </p:grpSpPr>
                    <p:sp>
                      <p:nvSpPr>
                        <p:cNvPr id="2272" name="AutoShape 3265"/>
                        <p:cNvSpPr/>
                        <p:nvPr/>
                      </p:nvSpPr>
                      <p:spPr>
                        <a:xfrm rot="13074000">
                          <a:off x="1661760" y="3755520"/>
                          <a:ext cx="90720" cy="79200"/>
                        </a:xfrm>
                        <a:prstGeom prst="irregularSeal1">
                          <a:avLst/>
                        </a:prstGeom>
                        <a:solidFill>
                          <a:srgbClr val="ffffff">
                            <a:alpha val="1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2320" bIns="-2232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3" name="Freeform 3266"/>
                        <p:cNvSpPr/>
                        <p:nvPr/>
                      </p:nvSpPr>
                      <p:spPr>
                        <a:xfrm rot="13074000">
                          <a:off x="1845000" y="3407040"/>
                          <a:ext cx="46080" cy="43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5" h="1735">
                              <a:moveTo>
                                <a:pt x="185" y="0"/>
                              </a:moveTo>
                              <a:cubicBezTo>
                                <a:pt x="174" y="126"/>
                                <a:pt x="137" y="578"/>
                                <a:pt x="120" y="757"/>
                              </a:cubicBezTo>
                              <a:lnTo>
                                <a:pt x="84" y="1075"/>
                              </a:lnTo>
                              <a:lnTo>
                                <a:pt x="0" y="1735"/>
                              </a:lnTo>
                            </a:path>
                          </a:pathLst>
                        </a:custGeom>
                        <a:noFill/>
                        <a:ln w="11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4" name="Oval 3267"/>
                        <p:cNvSpPr/>
                        <p:nvPr/>
                      </p:nvSpPr>
                      <p:spPr>
                        <a:xfrm rot="13617600">
                          <a:off x="2049120" y="3321360"/>
                          <a:ext cx="45360" cy="192600"/>
                        </a:xfrm>
                        <a:prstGeom prst="ellipse">
                          <a:avLst/>
                        </a:prstGeom>
                        <a:solidFill>
                          <a:srgbClr val="ffffff">
                            <a:alpha val="1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75" name="Group 3268"/>
                      <p:cNvGrpSpPr/>
                      <p:nvPr/>
                    </p:nvGrpSpPr>
                    <p:grpSpPr>
                      <a:xfrm>
                        <a:off x="1375560" y="3573360"/>
                        <a:ext cx="601200" cy="564480"/>
                        <a:chOff x="1375560" y="3573360"/>
                        <a:chExt cx="601200" cy="564480"/>
                      </a:xfrm>
                    </p:grpSpPr>
                    <p:sp>
                      <p:nvSpPr>
                        <p:cNvPr id="2276" name="Freeform 3269"/>
                        <p:cNvSpPr/>
                        <p:nvPr/>
                      </p:nvSpPr>
                      <p:spPr>
                        <a:xfrm rot="13074000">
                          <a:off x="1703880" y="3789360"/>
                          <a:ext cx="158040" cy="7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2" h="303">
                              <a:moveTo>
                                <a:pt x="544" y="303"/>
                              </a:moveTo>
                              <a:cubicBezTo>
                                <a:pt x="553" y="278"/>
                                <a:pt x="593" y="184"/>
                                <a:pt x="598" y="153"/>
                              </a:cubicBezTo>
                              <a:cubicBezTo>
                                <a:pt x="603" y="122"/>
                                <a:pt x="632" y="137"/>
                                <a:pt x="574" y="117"/>
                              </a:cubicBezTo>
                              <a:cubicBezTo>
                                <a:pt x="516" y="97"/>
                                <a:pt x="346" y="0"/>
                                <a:pt x="250" y="31"/>
                              </a:cubicBezTo>
                              <a:cubicBezTo>
                                <a:pt x="154" y="62"/>
                                <a:pt x="52" y="245"/>
                                <a:pt x="0" y="303"/>
                              </a:cubicBez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0" bIns="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7" name="Freeform 3270"/>
                        <p:cNvSpPr/>
                        <p:nvPr/>
                      </p:nvSpPr>
                      <p:spPr>
                        <a:xfrm rot="13074000">
                          <a:off x="1711800" y="3820320"/>
                          <a:ext cx="2725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9" h="272">
                              <a:moveTo>
                                <a:pt x="1089" y="0"/>
                              </a:moveTo>
                              <a:cubicBezTo>
                                <a:pt x="988" y="18"/>
                                <a:pt x="663" y="64"/>
                                <a:pt x="482" y="109"/>
                              </a:cubicBezTo>
                              <a:cubicBezTo>
                                <a:pt x="301" y="154"/>
                                <a:pt x="100" y="238"/>
                                <a:pt x="0" y="2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8" name="Freeform 3271"/>
                        <p:cNvSpPr/>
                        <p:nvPr/>
                      </p:nvSpPr>
                      <p:spPr>
                        <a:xfrm rot="13074000">
                          <a:off x="1677240" y="3884040"/>
                          <a:ext cx="28404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272">
                              <a:moveTo>
                                <a:pt x="1134" y="272"/>
                              </a:moveTo>
                              <a:cubicBezTo>
                                <a:pt x="1024" y="241"/>
                                <a:pt x="663" y="129"/>
                                <a:pt x="474" y="84"/>
                              </a:cubicBezTo>
                              <a:cubicBezTo>
                                <a:pt x="285" y="39"/>
                                <a:pt x="99" y="1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9" name="Freeform 3272"/>
                        <p:cNvSpPr/>
                        <p:nvPr/>
                      </p:nvSpPr>
                      <p:spPr>
                        <a:xfrm rot="13074000">
                          <a:off x="1680480" y="3908160"/>
                          <a:ext cx="2955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0" h="363">
                              <a:moveTo>
                                <a:pt x="1180" y="363"/>
                              </a:moveTo>
                              <a:cubicBezTo>
                                <a:pt x="1067" y="321"/>
                                <a:pt x="699" y="172"/>
                                <a:pt x="502" y="112"/>
                              </a:cubicBezTo>
                              <a:cubicBezTo>
                                <a:pt x="305" y="52"/>
                                <a:pt x="105" y="23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0" name="Freeform 3273"/>
                        <p:cNvSpPr/>
                        <p:nvPr/>
                      </p:nvSpPr>
                      <p:spPr>
                        <a:xfrm rot="13074000">
                          <a:off x="1657080" y="3890880"/>
                          <a:ext cx="293760" cy="11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3" h="461">
                              <a:moveTo>
                                <a:pt x="1173" y="461"/>
                              </a:moveTo>
                              <a:cubicBezTo>
                                <a:pt x="1088" y="425"/>
                                <a:pt x="862" y="323"/>
                                <a:pt x="666" y="246"/>
                              </a:cubicBezTo>
                              <a:cubicBezTo>
                                <a:pt x="470" y="169"/>
                                <a:pt x="139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1" name="Freeform 3274"/>
                        <p:cNvSpPr/>
                        <p:nvPr/>
                      </p:nvSpPr>
                      <p:spPr>
                        <a:xfrm rot="13074000">
                          <a:off x="1638720" y="3874320"/>
                          <a:ext cx="284040" cy="11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453">
                              <a:moveTo>
                                <a:pt x="1134" y="453"/>
                              </a:moveTo>
                              <a:cubicBezTo>
                                <a:pt x="1034" y="407"/>
                                <a:pt x="722" y="254"/>
                                <a:pt x="533" y="178"/>
                              </a:cubicBezTo>
                              <a:cubicBezTo>
                                <a:pt x="344" y="102"/>
                                <a:pt x="111" y="3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2" name="Freeform 3275"/>
                        <p:cNvSpPr/>
                        <p:nvPr/>
                      </p:nvSpPr>
                      <p:spPr>
                        <a:xfrm rot="13074000">
                          <a:off x="1633680" y="3853440"/>
                          <a:ext cx="214200" cy="18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6" h="724">
                              <a:moveTo>
                                <a:pt x="856" y="724"/>
                              </a:moveTo>
                              <a:lnTo>
                                <a:pt x="372" y="234"/>
                              </a:lnTo>
                              <a:cubicBezTo>
                                <a:pt x="229" y="113"/>
                                <a:pt x="77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3" name="Freeform 3276"/>
                        <p:cNvSpPr/>
                        <p:nvPr/>
                      </p:nvSpPr>
                      <p:spPr>
                        <a:xfrm rot="13074000">
                          <a:off x="1630080" y="387504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lnTo>
                                <a:pt x="220" y="1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4" name="Freeform 3277"/>
                        <p:cNvSpPr/>
                        <p:nvPr/>
                      </p:nvSpPr>
                      <p:spPr>
                        <a:xfrm rot="13074000">
                          <a:off x="1624320" y="382716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cubicBezTo>
                                <a:pt x="882" y="554"/>
                                <a:pt x="466" y="255"/>
                                <a:pt x="300" y="149"/>
                              </a:cubicBezTo>
                              <a:cubicBezTo>
                                <a:pt x="134" y="43"/>
                                <a:pt x="62" y="3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5" name="Freeform 3278"/>
                        <p:cNvSpPr/>
                        <p:nvPr/>
                      </p:nvSpPr>
                      <p:spPr>
                        <a:xfrm rot="13074000">
                          <a:off x="1597680" y="3837960"/>
                          <a:ext cx="262800" cy="244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50" h="980">
                              <a:moveTo>
                                <a:pt x="1050" y="980"/>
                              </a:moveTo>
                              <a:lnTo>
                                <a:pt x="378" y="234"/>
                              </a:lnTo>
                              <a:cubicBezTo>
                                <a:pt x="203" y="71"/>
                                <a:pt x="79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6" name="Line 3279"/>
                        <p:cNvSpPr/>
                        <p:nvPr/>
                      </p:nvSpPr>
                      <p:spPr>
                        <a:xfrm flipH="1">
                          <a:off x="1705680" y="3758760"/>
                          <a:ext cx="720" cy="315000"/>
                        </a:xfrm>
                        <a:prstGeom prst="line">
                          <a:avLst/>
                        </a:prstGeom>
                        <a:ln w="252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7" name="Freeform 3280"/>
                        <p:cNvSpPr/>
                        <p:nvPr/>
                      </p:nvSpPr>
                      <p:spPr>
                        <a:xfrm rot="13074000">
                          <a:off x="1621800" y="3787920"/>
                          <a:ext cx="158760" cy="24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997">
                              <a:moveTo>
                                <a:pt x="635" y="997"/>
                              </a:moveTo>
                              <a:cubicBezTo>
                                <a:pt x="569" y="887"/>
                                <a:pt x="345" y="500"/>
                                <a:pt x="239" y="334"/>
                              </a:cubicBezTo>
                              <a:cubicBezTo>
                                <a:pt x="133" y="168"/>
                                <a:pt x="50" y="7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8" name="Freeform 3281"/>
                        <p:cNvSpPr/>
                        <p:nvPr/>
                      </p:nvSpPr>
                      <p:spPr>
                        <a:xfrm rot="13074000">
                          <a:off x="1616400" y="3785040"/>
                          <a:ext cx="123120" cy="25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2" h="1026">
                              <a:moveTo>
                                <a:pt x="492" y="1026"/>
                              </a:moveTo>
                              <a:cubicBezTo>
                                <a:pt x="452" y="924"/>
                                <a:pt x="334" y="585"/>
                                <a:pt x="252" y="414"/>
                              </a:cubicBezTo>
                              <a:cubicBezTo>
                                <a:pt x="170" y="243"/>
                                <a:pt x="53" y="8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9" name="Freeform 3282"/>
                        <p:cNvSpPr/>
                        <p:nvPr/>
                      </p:nvSpPr>
                      <p:spPr>
                        <a:xfrm rot="13074000">
                          <a:off x="1616040" y="3771000"/>
                          <a:ext cx="82440" cy="27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0" h="1086">
                              <a:moveTo>
                                <a:pt x="330" y="1086"/>
                              </a:moveTo>
                              <a:cubicBezTo>
                                <a:pt x="302" y="966"/>
                                <a:pt x="217" y="547"/>
                                <a:pt x="162" y="366"/>
                              </a:cubicBezTo>
                              <a:cubicBezTo>
                                <a:pt x="107" y="185"/>
                                <a:pt x="34" y="7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0" name="Freeform 3283"/>
                        <p:cNvSpPr/>
                        <p:nvPr/>
                      </p:nvSpPr>
                      <p:spPr>
                        <a:xfrm rot="13074000">
                          <a:off x="1612800" y="3740400"/>
                          <a:ext cx="41040" cy="29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4" h="1160">
                              <a:moveTo>
                                <a:pt x="164" y="1160"/>
                              </a:moveTo>
                              <a:cubicBezTo>
                                <a:pt x="148" y="1008"/>
                                <a:pt x="93" y="439"/>
                                <a:pt x="66" y="246"/>
                              </a:cubicBezTo>
                              <a:cubicBezTo>
                                <a:pt x="39" y="53"/>
                                <a:pt x="14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1" name="Freeform 3284"/>
                        <p:cNvSpPr/>
                        <p:nvPr/>
                      </p:nvSpPr>
                      <p:spPr>
                        <a:xfrm rot="13074000">
                          <a:off x="1587600" y="3740760"/>
                          <a:ext cx="47520" cy="31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1" h="1259">
                              <a:moveTo>
                                <a:pt x="140" y="1259"/>
                              </a:moveTo>
                              <a:cubicBezTo>
                                <a:pt x="145" y="1113"/>
                                <a:pt x="191" y="594"/>
                                <a:pt x="168" y="384"/>
                              </a:cubicBezTo>
                              <a:cubicBezTo>
                                <a:pt x="145" y="174"/>
                                <a:pt x="35" y="8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2" name="Freeform 3285"/>
                        <p:cNvSpPr/>
                        <p:nvPr/>
                      </p:nvSpPr>
                      <p:spPr>
                        <a:xfrm rot="13074000">
                          <a:off x="1587960" y="3721320"/>
                          <a:ext cx="45000" cy="28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1" h="1134">
                              <a:moveTo>
                                <a:pt x="0" y="1134"/>
                              </a:moveTo>
                              <a:cubicBezTo>
                                <a:pt x="19" y="988"/>
                                <a:pt x="85" y="445"/>
                                <a:pt x="115" y="256"/>
                              </a:cubicBezTo>
                              <a:cubicBezTo>
                                <a:pt x="145" y="67"/>
                                <a:pt x="167" y="53"/>
                                <a:pt x="181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3" name="Freeform 3286"/>
                        <p:cNvSpPr/>
                        <p:nvPr/>
                      </p:nvSpPr>
                      <p:spPr>
                        <a:xfrm rot="13074000">
                          <a:off x="1555560" y="3717720"/>
                          <a:ext cx="79200" cy="23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4" name="Freeform 3287"/>
                        <p:cNvSpPr/>
                        <p:nvPr/>
                      </p:nvSpPr>
                      <p:spPr>
                        <a:xfrm rot="13074000">
                          <a:off x="1468800" y="3703320"/>
                          <a:ext cx="158760" cy="29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1179">
                              <a:moveTo>
                                <a:pt x="0" y="1179"/>
                              </a:moveTo>
                              <a:cubicBezTo>
                                <a:pt x="70" y="1066"/>
                                <a:pt x="315" y="697"/>
                                <a:pt x="421" y="501"/>
                              </a:cubicBezTo>
                              <a:cubicBezTo>
                                <a:pt x="527" y="305"/>
                                <a:pt x="591" y="105"/>
                                <a:pt x="635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5" name="Freeform 3288"/>
                        <p:cNvSpPr/>
                        <p:nvPr/>
                      </p:nvSpPr>
                      <p:spPr>
                        <a:xfrm rot="13074000">
                          <a:off x="1449000" y="3684960"/>
                          <a:ext cx="204120" cy="24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6" h="998">
                              <a:moveTo>
                                <a:pt x="0" y="998"/>
                              </a:moveTo>
                              <a:cubicBezTo>
                                <a:pt x="102" y="891"/>
                                <a:pt x="477" y="523"/>
                                <a:pt x="613" y="357"/>
                              </a:cubicBezTo>
                              <a:cubicBezTo>
                                <a:pt x="749" y="191"/>
                                <a:pt x="774" y="75"/>
                                <a:pt x="816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6" name="Freeform 3289"/>
                        <p:cNvSpPr/>
                        <p:nvPr/>
                      </p:nvSpPr>
                      <p:spPr>
                        <a:xfrm rot="13074000">
                          <a:off x="1427040" y="3673800"/>
                          <a:ext cx="238320" cy="19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2" h="771">
                              <a:moveTo>
                                <a:pt x="0" y="771"/>
                              </a:moveTo>
                              <a:cubicBezTo>
                                <a:pt x="91" y="704"/>
                                <a:pt x="385" y="497"/>
                                <a:pt x="544" y="369"/>
                              </a:cubicBezTo>
                              <a:cubicBezTo>
                                <a:pt x="703" y="241"/>
                                <a:pt x="867" y="77"/>
                                <a:pt x="952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7" name="Freeform 3290"/>
                        <p:cNvSpPr/>
                        <p:nvPr/>
                      </p:nvSpPr>
                      <p:spPr>
                        <a:xfrm rot="13074000">
                          <a:off x="1407240" y="3666240"/>
                          <a:ext cx="27252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8" h="635">
                              <a:moveTo>
                                <a:pt x="0" y="635"/>
                              </a:moveTo>
                              <a:cubicBezTo>
                                <a:pt x="109" y="581"/>
                                <a:pt x="471" y="417"/>
                                <a:pt x="652" y="311"/>
                              </a:cubicBezTo>
                              <a:cubicBezTo>
                                <a:pt x="833" y="205"/>
                                <a:pt x="997" y="65"/>
                                <a:pt x="1088" y="0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8" name="Freeform 3291"/>
                        <p:cNvSpPr/>
                        <p:nvPr/>
                      </p:nvSpPr>
                      <p:spPr>
                        <a:xfrm rot="13074000">
                          <a:off x="1390680" y="3658320"/>
                          <a:ext cx="31788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0" h="635">
                              <a:moveTo>
                                <a:pt x="0" y="635"/>
                              </a:moveTo>
                              <a:cubicBezTo>
                                <a:pt x="120" y="588"/>
                                <a:pt x="537" y="430"/>
                                <a:pt x="719" y="352"/>
                              </a:cubicBezTo>
                              <a:cubicBezTo>
                                <a:pt x="901" y="274"/>
                                <a:pt x="999" y="225"/>
                                <a:pt x="1091" y="166"/>
                              </a:cubicBezTo>
                              <a:cubicBezTo>
                                <a:pt x="1183" y="107"/>
                                <a:pt x="1233" y="35"/>
                                <a:pt x="127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9" name="Freeform 3292"/>
                        <p:cNvSpPr/>
                        <p:nvPr/>
                      </p:nvSpPr>
                      <p:spPr>
                        <a:xfrm rot="13074000">
                          <a:off x="1545840" y="3690720"/>
                          <a:ext cx="19440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6" h="87">
                              <a:moveTo>
                                <a:pt x="0" y="0"/>
                              </a:moveTo>
                              <a:cubicBezTo>
                                <a:pt x="63" y="14"/>
                                <a:pt x="255" y="81"/>
                                <a:pt x="384" y="84"/>
                              </a:cubicBezTo>
                              <a:cubicBezTo>
                                <a:pt x="513" y="87"/>
                                <a:pt x="694" y="33"/>
                                <a:pt x="776" y="2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0" name="Freeform 3293"/>
                        <p:cNvSpPr/>
                        <p:nvPr/>
                      </p:nvSpPr>
                      <p:spPr>
                        <a:xfrm rot="13074000">
                          <a:off x="1603800" y="3693240"/>
                          <a:ext cx="13608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135">
                              <a:moveTo>
                                <a:pt x="0" y="0"/>
                              </a:moveTo>
                              <a:lnTo>
                                <a:pt x="289" y="99"/>
                              </a:lnTo>
                              <a:cubicBezTo>
                                <a:pt x="380" y="121"/>
                                <a:pt x="491" y="128"/>
                                <a:pt x="544" y="13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1" name="Freeform 3294"/>
                        <p:cNvSpPr/>
                        <p:nvPr/>
                      </p:nvSpPr>
                      <p:spPr>
                        <a:xfrm rot="13074000">
                          <a:off x="1670760" y="3674520"/>
                          <a:ext cx="9072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3" h="272">
                              <a:moveTo>
                                <a:pt x="0" y="0"/>
                              </a:moveTo>
                              <a:cubicBezTo>
                                <a:pt x="34" y="32"/>
                                <a:pt x="143" y="147"/>
                                <a:pt x="203" y="192"/>
                              </a:cubicBezTo>
                              <a:cubicBezTo>
                                <a:pt x="263" y="237"/>
                                <a:pt x="330" y="255"/>
                                <a:pt x="363" y="272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2" name="Freeform 3295"/>
                        <p:cNvSpPr/>
                        <p:nvPr/>
                      </p:nvSpPr>
                      <p:spPr>
                        <a:xfrm rot="13074000">
                          <a:off x="1706040" y="3681720"/>
                          <a:ext cx="6480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0" h="306">
                              <a:moveTo>
                                <a:pt x="0" y="0"/>
                              </a:moveTo>
                              <a:cubicBezTo>
                                <a:pt x="24" y="33"/>
                                <a:pt x="103" y="147"/>
                                <a:pt x="146" y="198"/>
                              </a:cubicBezTo>
                              <a:cubicBezTo>
                                <a:pt x="189" y="249"/>
                                <a:pt x="236" y="284"/>
                                <a:pt x="260" y="306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3" name="Freeform 3296"/>
                        <p:cNvSpPr/>
                        <p:nvPr/>
                      </p:nvSpPr>
                      <p:spPr>
                        <a:xfrm rot="13074000">
                          <a:off x="1684800" y="3853080"/>
                          <a:ext cx="22716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72">
                              <a:moveTo>
                                <a:pt x="0" y="27"/>
                              </a:moveTo>
                              <a:cubicBezTo>
                                <a:pt x="55" y="24"/>
                                <a:pt x="180" y="0"/>
                                <a:pt x="331" y="7"/>
                              </a:cubicBezTo>
                              <a:cubicBezTo>
                                <a:pt x="482" y="14"/>
                                <a:pt x="787" y="59"/>
                                <a:pt x="907" y="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4" name="Freeform 3297"/>
                        <p:cNvSpPr/>
                        <p:nvPr/>
                      </p:nvSpPr>
                      <p:spPr>
                        <a:xfrm rot="13074000">
                          <a:off x="1509120" y="3692160"/>
                          <a:ext cx="22716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56">
                              <a:moveTo>
                                <a:pt x="0" y="0"/>
                              </a:moveTo>
                              <a:cubicBezTo>
                                <a:pt x="86" y="8"/>
                                <a:pt x="366" y="42"/>
                                <a:pt x="517" y="49"/>
                              </a:cubicBezTo>
                              <a:cubicBezTo>
                                <a:pt x="668" y="56"/>
                                <a:pt x="826" y="46"/>
                                <a:pt x="907" y="4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5" name="Freeform 3298"/>
                        <p:cNvSpPr/>
                        <p:nvPr/>
                      </p:nvSpPr>
                      <p:spPr>
                        <a:xfrm rot="13074000">
                          <a:off x="1609920" y="3642120"/>
                          <a:ext cx="1587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363">
                              <a:moveTo>
                                <a:pt x="0" y="0"/>
                              </a:moveTo>
                              <a:cubicBezTo>
                                <a:pt x="57" y="40"/>
                                <a:pt x="235" y="178"/>
                                <a:pt x="341" y="238"/>
                              </a:cubicBezTo>
                              <a:cubicBezTo>
                                <a:pt x="447" y="298"/>
                                <a:pt x="574" y="337"/>
                                <a:pt x="635" y="363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6" name="Freeform 3299"/>
                        <p:cNvSpPr/>
                        <p:nvPr/>
                      </p:nvSpPr>
                      <p:spPr>
                        <a:xfrm rot="13074000">
                          <a:off x="1629360" y="3751200"/>
                          <a:ext cx="8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" h="1043">
                              <a:moveTo>
                                <a:pt x="0" y="0"/>
                              </a:moveTo>
                              <a:cubicBezTo>
                                <a:pt x="6" y="84"/>
                                <a:pt x="35" y="330"/>
                                <a:pt x="35" y="504"/>
                              </a:cubicBezTo>
                              <a:cubicBezTo>
                                <a:pt x="35" y="678"/>
                                <a:pt x="7" y="931"/>
                                <a:pt x="0" y="1043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7" name="Freeform 3300"/>
                        <p:cNvSpPr/>
                        <p:nvPr/>
                      </p:nvSpPr>
                      <p:spPr>
                        <a:xfrm rot="13074000">
                          <a:off x="1725120" y="3701880"/>
                          <a:ext cx="136080" cy="147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590">
                              <a:moveTo>
                                <a:pt x="544" y="0"/>
                              </a:moveTo>
                              <a:cubicBezTo>
                                <a:pt x="495" y="45"/>
                                <a:pt x="341" y="173"/>
                                <a:pt x="250" y="271"/>
                              </a:cubicBezTo>
                              <a:cubicBezTo>
                                <a:pt x="159" y="369"/>
                                <a:pt x="52" y="524"/>
                                <a:pt x="0" y="590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8" name="Freeform 3301"/>
                        <p:cNvSpPr/>
                        <p:nvPr/>
                      </p:nvSpPr>
                      <p:spPr>
                        <a:xfrm rot="13074000">
                          <a:off x="1774080" y="3628440"/>
                          <a:ext cx="124560" cy="20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817">
                              <a:moveTo>
                                <a:pt x="498" y="0"/>
                              </a:moveTo>
                              <a:cubicBezTo>
                                <a:pt x="455" y="58"/>
                                <a:pt x="323" y="210"/>
                                <a:pt x="240" y="346"/>
                              </a:cubicBezTo>
                              <a:cubicBezTo>
                                <a:pt x="157" y="482"/>
                                <a:pt x="50" y="719"/>
                                <a:pt x="0" y="817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9" name="Freeform 3302"/>
                        <p:cNvSpPr/>
                        <p:nvPr/>
                      </p:nvSpPr>
                      <p:spPr>
                        <a:xfrm rot="13074000">
                          <a:off x="1703520" y="3579840"/>
                          <a:ext cx="79200" cy="169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680">
                              <a:moveTo>
                                <a:pt x="0" y="0"/>
                              </a:moveTo>
                              <a:cubicBezTo>
                                <a:pt x="27" y="48"/>
                                <a:pt x="120" y="212"/>
                                <a:pt x="164" y="288"/>
                              </a:cubicBezTo>
                              <a:cubicBezTo>
                                <a:pt x="208" y="364"/>
                                <a:pt x="238" y="391"/>
                                <a:pt x="264" y="456"/>
                              </a:cubicBezTo>
                              <a:cubicBezTo>
                                <a:pt x="290" y="521"/>
                                <a:pt x="306" y="633"/>
                                <a:pt x="317" y="68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0" name="Freeform 3303"/>
                        <p:cNvSpPr/>
                        <p:nvPr/>
                      </p:nvSpPr>
                      <p:spPr>
                        <a:xfrm rot="13755600">
                          <a:off x="1582920" y="3719880"/>
                          <a:ext cx="1022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9" h="90">
                              <a:moveTo>
                                <a:pt x="0" y="90"/>
                              </a:moveTo>
                              <a:cubicBezTo>
                                <a:pt x="36" y="85"/>
                                <a:pt x="149" y="77"/>
                                <a:pt x="217" y="62"/>
                              </a:cubicBezTo>
                              <a:lnTo>
                                <a:pt x="409" y="0"/>
                              </a:lnTo>
                            </a:path>
                          </a:pathLst>
                        </a:custGeom>
                        <a:noFill/>
                        <a:ln cap="rnd" w="252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1" name="Freeform 3304"/>
                        <p:cNvSpPr/>
                        <p:nvPr/>
                      </p:nvSpPr>
                      <p:spPr>
                        <a:xfrm rot="13074000">
                          <a:off x="1600200" y="3741480"/>
                          <a:ext cx="68040" cy="18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312" name="Group 3305"/>
                  <p:cNvGrpSpPr/>
                  <p:nvPr/>
                </p:nvGrpSpPr>
                <p:grpSpPr>
                  <a:xfrm>
                    <a:off x="1531080" y="3371760"/>
                    <a:ext cx="669960" cy="869760"/>
                    <a:chOff x="1531080" y="3371760"/>
                    <a:chExt cx="669960" cy="869760"/>
                  </a:xfrm>
                </p:grpSpPr>
                <p:sp>
                  <p:nvSpPr>
                    <p:cNvPr id="2313" name="Freeform 3306"/>
                    <p:cNvSpPr/>
                    <p:nvPr/>
                  </p:nvSpPr>
                  <p:spPr>
                    <a:xfrm rot="12179400">
                      <a:off x="1750320" y="389628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14" name="Group 3307"/>
                    <p:cNvGrpSpPr/>
                    <p:nvPr/>
                  </p:nvGrpSpPr>
                  <p:grpSpPr>
                    <a:xfrm>
                      <a:off x="1531080" y="3371760"/>
                      <a:ext cx="669960" cy="869760"/>
                      <a:chOff x="1531080" y="3371760"/>
                      <a:chExt cx="669960" cy="869760"/>
                    </a:xfrm>
                  </p:grpSpPr>
                  <p:grpSp>
                    <p:nvGrpSpPr>
                      <p:cNvPr id="2315" name="Group 3308"/>
                      <p:cNvGrpSpPr/>
                      <p:nvPr/>
                    </p:nvGrpSpPr>
                    <p:grpSpPr>
                      <a:xfrm>
                        <a:off x="1818000" y="3371760"/>
                        <a:ext cx="383040" cy="605880"/>
                        <a:chOff x="1818000" y="3371760"/>
                        <a:chExt cx="383040" cy="605880"/>
                      </a:xfrm>
                    </p:grpSpPr>
                    <p:sp>
                      <p:nvSpPr>
                        <p:cNvPr id="2316" name="AutoShape 3309"/>
                        <p:cNvSpPr/>
                        <p:nvPr/>
                      </p:nvSpPr>
                      <p:spPr>
                        <a:xfrm rot="12179400">
                          <a:off x="1829520" y="3883680"/>
                          <a:ext cx="90720" cy="79200"/>
                        </a:xfrm>
                        <a:prstGeom prst="irregularSeal1">
                          <a:avLst/>
                        </a:prstGeom>
                        <a:solidFill>
                          <a:srgbClr val="ffffff">
                            <a:alpha val="1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2320" bIns="-2232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7" name="Freeform 3310"/>
                        <p:cNvSpPr/>
                        <p:nvPr/>
                      </p:nvSpPr>
                      <p:spPr>
                        <a:xfrm rot="12179400">
                          <a:off x="1963800" y="3499560"/>
                          <a:ext cx="46080" cy="43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5" h="1735">
                              <a:moveTo>
                                <a:pt x="185" y="0"/>
                              </a:moveTo>
                              <a:cubicBezTo>
                                <a:pt x="174" y="126"/>
                                <a:pt x="137" y="578"/>
                                <a:pt x="120" y="757"/>
                              </a:cubicBezTo>
                              <a:lnTo>
                                <a:pt x="84" y="1075"/>
                              </a:lnTo>
                              <a:lnTo>
                                <a:pt x="0" y="1735"/>
                              </a:lnTo>
                            </a:path>
                          </a:pathLst>
                        </a:custGeom>
                        <a:noFill/>
                        <a:ln w="11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8" name="Oval 3311"/>
                        <p:cNvSpPr/>
                        <p:nvPr/>
                      </p:nvSpPr>
                      <p:spPr>
                        <a:xfrm rot="12723000">
                          <a:off x="2107800" y="3368880"/>
                          <a:ext cx="45360" cy="192600"/>
                        </a:xfrm>
                        <a:prstGeom prst="ellipse">
                          <a:avLst/>
                        </a:prstGeom>
                        <a:solidFill>
                          <a:srgbClr val="ffffff">
                            <a:alpha val="1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19" name="Group 3312"/>
                      <p:cNvGrpSpPr/>
                      <p:nvPr/>
                    </p:nvGrpSpPr>
                    <p:grpSpPr>
                      <a:xfrm>
                        <a:off x="1531080" y="3694680"/>
                        <a:ext cx="655560" cy="546840"/>
                        <a:chOff x="1531080" y="3694680"/>
                        <a:chExt cx="655560" cy="546840"/>
                      </a:xfrm>
                    </p:grpSpPr>
                    <p:sp>
                      <p:nvSpPr>
                        <p:cNvPr id="2320" name="Freeform 3313"/>
                        <p:cNvSpPr/>
                        <p:nvPr/>
                      </p:nvSpPr>
                      <p:spPr>
                        <a:xfrm rot="12179400">
                          <a:off x="1877760" y="3897000"/>
                          <a:ext cx="158040" cy="7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2" h="303">
                              <a:moveTo>
                                <a:pt x="544" y="303"/>
                              </a:moveTo>
                              <a:cubicBezTo>
                                <a:pt x="553" y="278"/>
                                <a:pt x="593" y="184"/>
                                <a:pt x="598" y="153"/>
                              </a:cubicBezTo>
                              <a:cubicBezTo>
                                <a:pt x="603" y="122"/>
                                <a:pt x="632" y="137"/>
                                <a:pt x="574" y="117"/>
                              </a:cubicBezTo>
                              <a:cubicBezTo>
                                <a:pt x="516" y="97"/>
                                <a:pt x="346" y="0"/>
                                <a:pt x="250" y="31"/>
                              </a:cubicBezTo>
                              <a:cubicBezTo>
                                <a:pt x="154" y="62"/>
                                <a:pt x="52" y="245"/>
                                <a:pt x="0" y="303"/>
                              </a:cubicBez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0" bIns="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1" name="Freeform 3314"/>
                        <p:cNvSpPr/>
                        <p:nvPr/>
                      </p:nvSpPr>
                      <p:spPr>
                        <a:xfrm rot="12179400">
                          <a:off x="1890360" y="3909960"/>
                          <a:ext cx="2725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9" h="272">
                              <a:moveTo>
                                <a:pt x="1089" y="0"/>
                              </a:moveTo>
                              <a:cubicBezTo>
                                <a:pt x="988" y="18"/>
                                <a:pt x="663" y="64"/>
                                <a:pt x="482" y="109"/>
                              </a:cubicBezTo>
                              <a:cubicBezTo>
                                <a:pt x="301" y="154"/>
                                <a:pt x="100" y="238"/>
                                <a:pt x="0" y="2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2" name="Freeform 3315"/>
                        <p:cNvSpPr/>
                        <p:nvPr/>
                      </p:nvSpPr>
                      <p:spPr>
                        <a:xfrm rot="12179400">
                          <a:off x="1873440" y="3979440"/>
                          <a:ext cx="28404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272">
                              <a:moveTo>
                                <a:pt x="1134" y="272"/>
                              </a:moveTo>
                              <a:cubicBezTo>
                                <a:pt x="1024" y="241"/>
                                <a:pt x="663" y="129"/>
                                <a:pt x="474" y="84"/>
                              </a:cubicBezTo>
                              <a:cubicBezTo>
                                <a:pt x="285" y="39"/>
                                <a:pt x="99" y="1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3" name="Freeform 3316"/>
                        <p:cNvSpPr/>
                        <p:nvPr/>
                      </p:nvSpPr>
                      <p:spPr>
                        <a:xfrm rot="12179400">
                          <a:off x="1884960" y="3999600"/>
                          <a:ext cx="2955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0" h="363">
                              <a:moveTo>
                                <a:pt x="1180" y="363"/>
                              </a:moveTo>
                              <a:cubicBezTo>
                                <a:pt x="1067" y="321"/>
                                <a:pt x="699" y="172"/>
                                <a:pt x="502" y="112"/>
                              </a:cubicBezTo>
                              <a:cubicBezTo>
                                <a:pt x="305" y="52"/>
                                <a:pt x="105" y="23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4" name="Freeform 3317"/>
                        <p:cNvSpPr/>
                        <p:nvPr/>
                      </p:nvSpPr>
                      <p:spPr>
                        <a:xfrm rot="12179400">
                          <a:off x="1861560" y="3988800"/>
                          <a:ext cx="293760" cy="11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3" h="461">
                              <a:moveTo>
                                <a:pt x="1173" y="461"/>
                              </a:moveTo>
                              <a:cubicBezTo>
                                <a:pt x="1088" y="425"/>
                                <a:pt x="862" y="323"/>
                                <a:pt x="666" y="246"/>
                              </a:cubicBezTo>
                              <a:cubicBezTo>
                                <a:pt x="470" y="169"/>
                                <a:pt x="139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5" name="Freeform 3318"/>
                        <p:cNvSpPr/>
                        <p:nvPr/>
                      </p:nvSpPr>
                      <p:spPr>
                        <a:xfrm rot="12179400">
                          <a:off x="1839600" y="3979080"/>
                          <a:ext cx="284040" cy="11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453">
                              <a:moveTo>
                                <a:pt x="1134" y="453"/>
                              </a:moveTo>
                              <a:cubicBezTo>
                                <a:pt x="1034" y="407"/>
                                <a:pt x="722" y="254"/>
                                <a:pt x="533" y="178"/>
                              </a:cubicBezTo>
                              <a:cubicBezTo>
                                <a:pt x="344" y="102"/>
                                <a:pt x="111" y="3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6" name="Freeform 3319"/>
                        <p:cNvSpPr/>
                        <p:nvPr/>
                      </p:nvSpPr>
                      <p:spPr>
                        <a:xfrm rot="12179400">
                          <a:off x="1839600" y="3967560"/>
                          <a:ext cx="214200" cy="18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6" h="724">
                              <a:moveTo>
                                <a:pt x="856" y="724"/>
                              </a:moveTo>
                              <a:lnTo>
                                <a:pt x="372" y="234"/>
                              </a:lnTo>
                              <a:cubicBezTo>
                                <a:pt x="229" y="113"/>
                                <a:pt x="77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7" name="Freeform 3320"/>
                        <p:cNvSpPr/>
                        <p:nvPr/>
                      </p:nvSpPr>
                      <p:spPr>
                        <a:xfrm rot="12179400">
                          <a:off x="1837800" y="398556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lnTo>
                                <a:pt x="220" y="1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8" name="Freeform 3321"/>
                        <p:cNvSpPr/>
                        <p:nvPr/>
                      </p:nvSpPr>
                      <p:spPr>
                        <a:xfrm rot="12179400">
                          <a:off x="1820160" y="394092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cubicBezTo>
                                <a:pt x="882" y="554"/>
                                <a:pt x="466" y="255"/>
                                <a:pt x="300" y="149"/>
                              </a:cubicBezTo>
                              <a:cubicBezTo>
                                <a:pt x="134" y="43"/>
                                <a:pt x="62" y="3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9" name="Freeform 3322"/>
                        <p:cNvSpPr/>
                        <p:nvPr/>
                      </p:nvSpPr>
                      <p:spPr>
                        <a:xfrm rot="12179400">
                          <a:off x="1807920" y="3954960"/>
                          <a:ext cx="262800" cy="244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50" h="980">
                              <a:moveTo>
                                <a:pt x="1050" y="980"/>
                              </a:moveTo>
                              <a:lnTo>
                                <a:pt x="378" y="234"/>
                              </a:lnTo>
                              <a:cubicBezTo>
                                <a:pt x="203" y="71"/>
                                <a:pt x="79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0" name="Line 3323"/>
                        <p:cNvSpPr/>
                        <p:nvPr/>
                      </p:nvSpPr>
                      <p:spPr>
                        <a:xfrm>
                          <a:off x="1865520" y="3888360"/>
                          <a:ext cx="80280" cy="304920"/>
                        </a:xfrm>
                        <a:prstGeom prst="line">
                          <a:avLst/>
                        </a:prstGeom>
                        <a:ln w="252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1" name="Freeform 3324"/>
                        <p:cNvSpPr/>
                        <p:nvPr/>
                      </p:nvSpPr>
                      <p:spPr>
                        <a:xfrm rot="12179400">
                          <a:off x="1820520" y="3913920"/>
                          <a:ext cx="158760" cy="24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997">
                              <a:moveTo>
                                <a:pt x="635" y="997"/>
                              </a:moveTo>
                              <a:cubicBezTo>
                                <a:pt x="569" y="887"/>
                                <a:pt x="345" y="500"/>
                                <a:pt x="239" y="334"/>
                              </a:cubicBezTo>
                              <a:cubicBezTo>
                                <a:pt x="133" y="168"/>
                                <a:pt x="50" y="7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2" name="Freeform 3325"/>
                        <p:cNvSpPr/>
                        <p:nvPr/>
                      </p:nvSpPr>
                      <p:spPr>
                        <a:xfrm rot="12179400">
                          <a:off x="1815840" y="3916440"/>
                          <a:ext cx="123120" cy="25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2" h="1026">
                              <a:moveTo>
                                <a:pt x="492" y="1026"/>
                              </a:moveTo>
                              <a:cubicBezTo>
                                <a:pt x="452" y="924"/>
                                <a:pt x="334" y="585"/>
                                <a:pt x="252" y="414"/>
                              </a:cubicBezTo>
                              <a:cubicBezTo>
                                <a:pt x="170" y="243"/>
                                <a:pt x="53" y="8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3" name="Freeform 3326"/>
                        <p:cNvSpPr/>
                        <p:nvPr/>
                      </p:nvSpPr>
                      <p:spPr>
                        <a:xfrm rot="12179400">
                          <a:off x="1814760" y="3908160"/>
                          <a:ext cx="82440" cy="27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0" h="1086">
                              <a:moveTo>
                                <a:pt x="330" y="1086"/>
                              </a:moveTo>
                              <a:cubicBezTo>
                                <a:pt x="302" y="966"/>
                                <a:pt x="217" y="547"/>
                                <a:pt x="162" y="366"/>
                              </a:cubicBezTo>
                              <a:cubicBezTo>
                                <a:pt x="107" y="185"/>
                                <a:pt x="34" y="7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4" name="Freeform 3327"/>
                        <p:cNvSpPr/>
                        <p:nvPr/>
                      </p:nvSpPr>
                      <p:spPr>
                        <a:xfrm rot="12179400">
                          <a:off x="1806840" y="3884400"/>
                          <a:ext cx="41040" cy="29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4" h="1160">
                              <a:moveTo>
                                <a:pt x="164" y="1160"/>
                              </a:moveTo>
                              <a:cubicBezTo>
                                <a:pt x="148" y="1008"/>
                                <a:pt x="93" y="439"/>
                                <a:pt x="66" y="246"/>
                              </a:cubicBezTo>
                              <a:cubicBezTo>
                                <a:pt x="39" y="53"/>
                                <a:pt x="14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5" name="Freeform 3328"/>
                        <p:cNvSpPr/>
                        <p:nvPr/>
                      </p:nvSpPr>
                      <p:spPr>
                        <a:xfrm rot="12179400">
                          <a:off x="1785600" y="3890160"/>
                          <a:ext cx="47520" cy="31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1" h="1259">
                              <a:moveTo>
                                <a:pt x="140" y="1259"/>
                              </a:moveTo>
                              <a:cubicBezTo>
                                <a:pt x="145" y="1113"/>
                                <a:pt x="191" y="594"/>
                                <a:pt x="168" y="384"/>
                              </a:cubicBezTo>
                              <a:cubicBezTo>
                                <a:pt x="145" y="174"/>
                                <a:pt x="35" y="8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6" name="Freeform 3329"/>
                        <p:cNvSpPr/>
                        <p:nvPr/>
                      </p:nvSpPr>
                      <p:spPr>
                        <a:xfrm rot="12179400">
                          <a:off x="1776600" y="3871800"/>
                          <a:ext cx="45000" cy="28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1" h="1134">
                              <a:moveTo>
                                <a:pt x="0" y="1134"/>
                              </a:moveTo>
                              <a:cubicBezTo>
                                <a:pt x="19" y="988"/>
                                <a:pt x="85" y="445"/>
                                <a:pt x="115" y="256"/>
                              </a:cubicBezTo>
                              <a:cubicBezTo>
                                <a:pt x="145" y="67"/>
                                <a:pt x="167" y="53"/>
                                <a:pt x="181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7" name="Freeform 3330"/>
                        <p:cNvSpPr/>
                        <p:nvPr/>
                      </p:nvSpPr>
                      <p:spPr>
                        <a:xfrm rot="12179400">
                          <a:off x="1738080" y="3873600"/>
                          <a:ext cx="79200" cy="23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8" name="Freeform 3331"/>
                        <p:cNvSpPr/>
                        <p:nvPr/>
                      </p:nvSpPr>
                      <p:spPr>
                        <a:xfrm rot="12179400">
                          <a:off x="1656360" y="3870720"/>
                          <a:ext cx="158760" cy="29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1179">
                              <a:moveTo>
                                <a:pt x="0" y="1179"/>
                              </a:moveTo>
                              <a:cubicBezTo>
                                <a:pt x="70" y="1066"/>
                                <a:pt x="315" y="697"/>
                                <a:pt x="421" y="501"/>
                              </a:cubicBezTo>
                              <a:cubicBezTo>
                                <a:pt x="527" y="305"/>
                                <a:pt x="591" y="105"/>
                                <a:pt x="635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9" name="Freeform 3332"/>
                        <p:cNvSpPr/>
                        <p:nvPr/>
                      </p:nvSpPr>
                      <p:spPr>
                        <a:xfrm rot="12179400">
                          <a:off x="1626120" y="3852720"/>
                          <a:ext cx="204120" cy="24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6" h="998">
                              <a:moveTo>
                                <a:pt x="0" y="998"/>
                              </a:moveTo>
                              <a:cubicBezTo>
                                <a:pt x="102" y="891"/>
                                <a:pt x="477" y="523"/>
                                <a:pt x="613" y="357"/>
                              </a:cubicBezTo>
                              <a:cubicBezTo>
                                <a:pt x="749" y="191"/>
                                <a:pt x="774" y="75"/>
                                <a:pt x="816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0" name="Freeform 3333"/>
                        <p:cNvSpPr/>
                        <p:nvPr/>
                      </p:nvSpPr>
                      <p:spPr>
                        <a:xfrm rot="12179400">
                          <a:off x="1593720" y="3844440"/>
                          <a:ext cx="238320" cy="19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2" h="771">
                              <a:moveTo>
                                <a:pt x="0" y="771"/>
                              </a:moveTo>
                              <a:cubicBezTo>
                                <a:pt x="91" y="704"/>
                                <a:pt x="385" y="497"/>
                                <a:pt x="544" y="369"/>
                              </a:cubicBezTo>
                              <a:cubicBezTo>
                                <a:pt x="703" y="241"/>
                                <a:pt x="867" y="77"/>
                                <a:pt x="952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1" name="Freeform 3334"/>
                        <p:cNvSpPr/>
                        <p:nvPr/>
                      </p:nvSpPr>
                      <p:spPr>
                        <a:xfrm rot="12179400">
                          <a:off x="1568160" y="3838680"/>
                          <a:ext cx="27252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8" h="635">
                              <a:moveTo>
                                <a:pt x="0" y="635"/>
                              </a:moveTo>
                              <a:cubicBezTo>
                                <a:pt x="109" y="581"/>
                                <a:pt x="471" y="417"/>
                                <a:pt x="652" y="311"/>
                              </a:cubicBezTo>
                              <a:cubicBezTo>
                                <a:pt x="833" y="205"/>
                                <a:pt x="997" y="65"/>
                                <a:pt x="1088" y="0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2" name="Freeform 3335"/>
                        <p:cNvSpPr/>
                        <p:nvPr/>
                      </p:nvSpPr>
                      <p:spPr>
                        <a:xfrm rot="12179400">
                          <a:off x="1549440" y="3828600"/>
                          <a:ext cx="31788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0" h="635">
                              <a:moveTo>
                                <a:pt x="0" y="635"/>
                              </a:moveTo>
                              <a:cubicBezTo>
                                <a:pt x="120" y="588"/>
                                <a:pt x="537" y="430"/>
                                <a:pt x="719" y="352"/>
                              </a:cubicBezTo>
                              <a:cubicBezTo>
                                <a:pt x="901" y="274"/>
                                <a:pt x="999" y="225"/>
                                <a:pt x="1091" y="166"/>
                              </a:cubicBezTo>
                              <a:cubicBezTo>
                                <a:pt x="1183" y="107"/>
                                <a:pt x="1233" y="35"/>
                                <a:pt x="127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3" name="Freeform 3336"/>
                        <p:cNvSpPr/>
                        <p:nvPr/>
                      </p:nvSpPr>
                      <p:spPr>
                        <a:xfrm rot="12179400">
                          <a:off x="1692360" y="3838680"/>
                          <a:ext cx="19440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6" h="87">
                              <a:moveTo>
                                <a:pt x="0" y="0"/>
                              </a:moveTo>
                              <a:cubicBezTo>
                                <a:pt x="63" y="14"/>
                                <a:pt x="255" y="81"/>
                                <a:pt x="384" y="84"/>
                              </a:cubicBezTo>
                              <a:cubicBezTo>
                                <a:pt x="513" y="87"/>
                                <a:pt x="694" y="33"/>
                                <a:pt x="776" y="2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4" name="Freeform 3337"/>
                        <p:cNvSpPr/>
                        <p:nvPr/>
                      </p:nvSpPr>
                      <p:spPr>
                        <a:xfrm rot="12179400">
                          <a:off x="1751400" y="3833280"/>
                          <a:ext cx="13608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135">
                              <a:moveTo>
                                <a:pt x="0" y="0"/>
                              </a:moveTo>
                              <a:lnTo>
                                <a:pt x="289" y="99"/>
                              </a:lnTo>
                              <a:cubicBezTo>
                                <a:pt x="380" y="121"/>
                                <a:pt x="491" y="128"/>
                                <a:pt x="544" y="13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5" name="Freeform 3338"/>
                        <p:cNvSpPr/>
                        <p:nvPr/>
                      </p:nvSpPr>
                      <p:spPr>
                        <a:xfrm rot="12179400">
                          <a:off x="1816560" y="3803400"/>
                          <a:ext cx="9072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3" h="272">
                              <a:moveTo>
                                <a:pt x="0" y="0"/>
                              </a:moveTo>
                              <a:cubicBezTo>
                                <a:pt x="34" y="32"/>
                                <a:pt x="143" y="147"/>
                                <a:pt x="203" y="192"/>
                              </a:cubicBezTo>
                              <a:cubicBezTo>
                                <a:pt x="263" y="237"/>
                                <a:pt x="330" y="255"/>
                                <a:pt x="363" y="272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6" name="Freeform 3339"/>
                        <p:cNvSpPr/>
                        <p:nvPr/>
                      </p:nvSpPr>
                      <p:spPr>
                        <a:xfrm rot="12179400">
                          <a:off x="1854000" y="3804480"/>
                          <a:ext cx="6480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0" h="306">
                              <a:moveTo>
                                <a:pt x="0" y="0"/>
                              </a:moveTo>
                              <a:cubicBezTo>
                                <a:pt x="24" y="33"/>
                                <a:pt x="103" y="147"/>
                                <a:pt x="146" y="198"/>
                              </a:cubicBezTo>
                              <a:cubicBezTo>
                                <a:pt x="189" y="249"/>
                                <a:pt x="236" y="284"/>
                                <a:pt x="260" y="306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7" name="Freeform 3340"/>
                        <p:cNvSpPr/>
                        <p:nvPr/>
                      </p:nvSpPr>
                      <p:spPr>
                        <a:xfrm rot="12179400">
                          <a:off x="1867320" y="3954960"/>
                          <a:ext cx="22716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72">
                              <a:moveTo>
                                <a:pt x="0" y="27"/>
                              </a:moveTo>
                              <a:cubicBezTo>
                                <a:pt x="55" y="24"/>
                                <a:pt x="180" y="0"/>
                                <a:pt x="331" y="7"/>
                              </a:cubicBezTo>
                              <a:cubicBezTo>
                                <a:pt x="482" y="14"/>
                                <a:pt x="787" y="59"/>
                                <a:pt x="907" y="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8" name="Freeform 3341"/>
                        <p:cNvSpPr/>
                        <p:nvPr/>
                      </p:nvSpPr>
                      <p:spPr>
                        <a:xfrm rot="12179400">
                          <a:off x="1655280" y="3845520"/>
                          <a:ext cx="22716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56">
                              <a:moveTo>
                                <a:pt x="0" y="0"/>
                              </a:moveTo>
                              <a:cubicBezTo>
                                <a:pt x="86" y="8"/>
                                <a:pt x="366" y="42"/>
                                <a:pt x="517" y="49"/>
                              </a:cubicBezTo>
                              <a:cubicBezTo>
                                <a:pt x="668" y="56"/>
                                <a:pt x="826" y="46"/>
                                <a:pt x="907" y="4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9" name="Freeform 3342"/>
                        <p:cNvSpPr/>
                        <p:nvPr/>
                      </p:nvSpPr>
                      <p:spPr>
                        <a:xfrm rot="12179400">
                          <a:off x="1751040" y="3778200"/>
                          <a:ext cx="1587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363">
                              <a:moveTo>
                                <a:pt x="0" y="0"/>
                              </a:moveTo>
                              <a:cubicBezTo>
                                <a:pt x="57" y="40"/>
                                <a:pt x="235" y="178"/>
                                <a:pt x="341" y="238"/>
                              </a:cubicBezTo>
                              <a:cubicBezTo>
                                <a:pt x="447" y="298"/>
                                <a:pt x="574" y="337"/>
                                <a:pt x="635" y="363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0" name="Freeform 3343"/>
                        <p:cNvSpPr/>
                        <p:nvPr/>
                      </p:nvSpPr>
                      <p:spPr>
                        <a:xfrm rot="12179400">
                          <a:off x="1822320" y="3895200"/>
                          <a:ext cx="8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" h="1043">
                              <a:moveTo>
                                <a:pt x="0" y="0"/>
                              </a:moveTo>
                              <a:cubicBezTo>
                                <a:pt x="6" y="84"/>
                                <a:pt x="35" y="330"/>
                                <a:pt x="35" y="504"/>
                              </a:cubicBezTo>
                              <a:cubicBezTo>
                                <a:pt x="35" y="678"/>
                                <a:pt x="7" y="931"/>
                                <a:pt x="0" y="1043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1" name="Freeform 3344"/>
                        <p:cNvSpPr/>
                        <p:nvPr/>
                      </p:nvSpPr>
                      <p:spPr>
                        <a:xfrm rot="12179400">
                          <a:off x="1885680" y="3808800"/>
                          <a:ext cx="136080" cy="147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590">
                              <a:moveTo>
                                <a:pt x="544" y="0"/>
                              </a:moveTo>
                              <a:cubicBezTo>
                                <a:pt x="495" y="45"/>
                                <a:pt x="341" y="173"/>
                                <a:pt x="250" y="271"/>
                              </a:cubicBezTo>
                              <a:cubicBezTo>
                                <a:pt x="159" y="369"/>
                                <a:pt x="52" y="524"/>
                                <a:pt x="0" y="590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2" name="Freeform 3345"/>
                        <p:cNvSpPr/>
                        <p:nvPr/>
                      </p:nvSpPr>
                      <p:spPr>
                        <a:xfrm rot="12179400">
                          <a:off x="1921680" y="3725280"/>
                          <a:ext cx="124560" cy="20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817">
                              <a:moveTo>
                                <a:pt x="498" y="0"/>
                              </a:moveTo>
                              <a:cubicBezTo>
                                <a:pt x="455" y="58"/>
                                <a:pt x="323" y="210"/>
                                <a:pt x="240" y="346"/>
                              </a:cubicBezTo>
                              <a:cubicBezTo>
                                <a:pt x="157" y="482"/>
                                <a:pt x="50" y="719"/>
                                <a:pt x="0" y="817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3" name="Freeform 3346"/>
                        <p:cNvSpPr/>
                        <p:nvPr/>
                      </p:nvSpPr>
                      <p:spPr>
                        <a:xfrm rot="12179400">
                          <a:off x="1837080" y="3702960"/>
                          <a:ext cx="79200" cy="169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680">
                              <a:moveTo>
                                <a:pt x="0" y="0"/>
                              </a:moveTo>
                              <a:cubicBezTo>
                                <a:pt x="27" y="48"/>
                                <a:pt x="120" y="212"/>
                                <a:pt x="164" y="288"/>
                              </a:cubicBezTo>
                              <a:cubicBezTo>
                                <a:pt x="208" y="364"/>
                                <a:pt x="238" y="391"/>
                                <a:pt x="264" y="456"/>
                              </a:cubicBezTo>
                              <a:cubicBezTo>
                                <a:pt x="290" y="521"/>
                                <a:pt x="306" y="633"/>
                                <a:pt x="317" y="68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4" name="Freeform 3347"/>
                        <p:cNvSpPr/>
                        <p:nvPr/>
                      </p:nvSpPr>
                      <p:spPr>
                        <a:xfrm rot="12859800">
                          <a:off x="1737360" y="3868920"/>
                          <a:ext cx="1022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9" h="90">
                              <a:moveTo>
                                <a:pt x="0" y="90"/>
                              </a:moveTo>
                              <a:cubicBezTo>
                                <a:pt x="36" y="85"/>
                                <a:pt x="149" y="77"/>
                                <a:pt x="217" y="62"/>
                              </a:cubicBezTo>
                              <a:lnTo>
                                <a:pt x="409" y="0"/>
                              </a:lnTo>
                            </a:path>
                          </a:pathLst>
                        </a:custGeom>
                        <a:noFill/>
                        <a:ln cap="rnd" w="252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5" name="Freeform 3348"/>
                        <p:cNvSpPr/>
                        <p:nvPr/>
                      </p:nvSpPr>
                      <p:spPr>
                        <a:xfrm rot="12179400">
                          <a:off x="1780560" y="3886920"/>
                          <a:ext cx="68040" cy="18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356" name="Group 3393"/>
                  <p:cNvGrpSpPr/>
                  <p:nvPr/>
                </p:nvGrpSpPr>
                <p:grpSpPr>
                  <a:xfrm>
                    <a:off x="1834920" y="3390480"/>
                    <a:ext cx="664200" cy="920520"/>
                    <a:chOff x="1834920" y="3390480"/>
                    <a:chExt cx="664200" cy="920520"/>
                  </a:xfrm>
                </p:grpSpPr>
                <p:sp>
                  <p:nvSpPr>
                    <p:cNvPr id="2357" name="Freeform 3394"/>
                    <p:cNvSpPr/>
                    <p:nvPr/>
                  </p:nvSpPr>
                  <p:spPr>
                    <a:xfrm rot="10639200">
                      <a:off x="2029680" y="401868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58" name="Group 3395"/>
                    <p:cNvGrpSpPr/>
                    <p:nvPr/>
                  </p:nvGrpSpPr>
                  <p:grpSpPr>
                    <a:xfrm>
                      <a:off x="1834920" y="3390480"/>
                      <a:ext cx="664200" cy="920520"/>
                      <a:chOff x="1834920" y="3390480"/>
                      <a:chExt cx="664200" cy="920520"/>
                    </a:xfrm>
                  </p:grpSpPr>
                  <p:grpSp>
                    <p:nvGrpSpPr>
                      <p:cNvPr id="2359" name="Group 3396"/>
                      <p:cNvGrpSpPr/>
                      <p:nvPr/>
                    </p:nvGrpSpPr>
                    <p:grpSpPr>
                      <a:xfrm>
                        <a:off x="2107080" y="3390480"/>
                        <a:ext cx="112320" cy="663480"/>
                        <a:chOff x="2107080" y="3390480"/>
                        <a:chExt cx="112320" cy="663480"/>
                      </a:xfrm>
                    </p:grpSpPr>
                    <p:sp>
                      <p:nvSpPr>
                        <p:cNvPr id="2360" name="AutoShape 3397"/>
                        <p:cNvSpPr/>
                        <p:nvPr/>
                      </p:nvSpPr>
                      <p:spPr>
                        <a:xfrm rot="10639200">
                          <a:off x="2108520" y="3972600"/>
                          <a:ext cx="90720" cy="79200"/>
                        </a:xfrm>
                        <a:prstGeom prst="irregularSeal1">
                          <a:avLst/>
                        </a:prstGeom>
                        <a:solidFill>
                          <a:srgbClr val="ffffff">
                            <a:alpha val="1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2320" bIns="-2232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1" name="Freeform 3398"/>
                        <p:cNvSpPr/>
                        <p:nvPr/>
                      </p:nvSpPr>
                      <p:spPr>
                        <a:xfrm rot="10639200">
                          <a:off x="2142360" y="3560760"/>
                          <a:ext cx="46080" cy="43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5" h="1735">
                              <a:moveTo>
                                <a:pt x="185" y="0"/>
                              </a:moveTo>
                              <a:cubicBezTo>
                                <a:pt x="174" y="126"/>
                                <a:pt x="137" y="578"/>
                                <a:pt x="120" y="757"/>
                              </a:cubicBezTo>
                              <a:lnTo>
                                <a:pt x="84" y="1075"/>
                              </a:lnTo>
                              <a:lnTo>
                                <a:pt x="0" y="1735"/>
                              </a:lnTo>
                            </a:path>
                          </a:pathLst>
                        </a:custGeom>
                        <a:noFill/>
                        <a:ln w="11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2" name="Oval 3399"/>
                        <p:cNvSpPr/>
                        <p:nvPr/>
                      </p:nvSpPr>
                      <p:spPr>
                        <a:xfrm rot="11182800">
                          <a:off x="2163600" y="3392280"/>
                          <a:ext cx="45360" cy="192600"/>
                        </a:xfrm>
                        <a:prstGeom prst="ellipse">
                          <a:avLst/>
                        </a:prstGeom>
                        <a:solidFill>
                          <a:srgbClr val="ffffff">
                            <a:alpha val="1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63" name="Group 3400"/>
                      <p:cNvGrpSpPr/>
                      <p:nvPr/>
                    </p:nvGrpSpPr>
                    <p:grpSpPr>
                      <a:xfrm>
                        <a:off x="1834920" y="3774600"/>
                        <a:ext cx="664200" cy="536400"/>
                        <a:chOff x="1834920" y="3774600"/>
                        <a:chExt cx="664200" cy="536400"/>
                      </a:xfrm>
                    </p:grpSpPr>
                    <p:sp>
                      <p:nvSpPr>
                        <p:cNvPr id="2364" name="Freeform 3401"/>
                        <p:cNvSpPr/>
                        <p:nvPr/>
                      </p:nvSpPr>
                      <p:spPr>
                        <a:xfrm rot="10639200">
                          <a:off x="2153520" y="3949920"/>
                          <a:ext cx="158400" cy="7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2" h="303">
                              <a:moveTo>
                                <a:pt x="544" y="303"/>
                              </a:moveTo>
                              <a:cubicBezTo>
                                <a:pt x="553" y="278"/>
                                <a:pt x="593" y="184"/>
                                <a:pt x="598" y="153"/>
                              </a:cubicBezTo>
                              <a:cubicBezTo>
                                <a:pt x="603" y="122"/>
                                <a:pt x="632" y="137"/>
                                <a:pt x="574" y="117"/>
                              </a:cubicBezTo>
                              <a:cubicBezTo>
                                <a:pt x="516" y="97"/>
                                <a:pt x="346" y="0"/>
                                <a:pt x="250" y="31"/>
                              </a:cubicBezTo>
                              <a:cubicBezTo>
                                <a:pt x="154" y="62"/>
                                <a:pt x="52" y="245"/>
                                <a:pt x="0" y="303"/>
                              </a:cubicBez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0" bIns="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5" name="Freeform 3402"/>
                        <p:cNvSpPr/>
                        <p:nvPr/>
                      </p:nvSpPr>
                      <p:spPr>
                        <a:xfrm rot="10639200">
                          <a:off x="2163240" y="3931920"/>
                          <a:ext cx="27288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9" h="272">
                              <a:moveTo>
                                <a:pt x="1089" y="0"/>
                              </a:moveTo>
                              <a:cubicBezTo>
                                <a:pt x="988" y="18"/>
                                <a:pt x="663" y="64"/>
                                <a:pt x="482" y="109"/>
                              </a:cubicBezTo>
                              <a:cubicBezTo>
                                <a:pt x="301" y="154"/>
                                <a:pt x="100" y="238"/>
                                <a:pt x="0" y="2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6" name="Freeform 3403"/>
                        <p:cNvSpPr/>
                        <p:nvPr/>
                      </p:nvSpPr>
                      <p:spPr>
                        <a:xfrm rot="10639200">
                          <a:off x="2178000" y="3998880"/>
                          <a:ext cx="28404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272">
                              <a:moveTo>
                                <a:pt x="1134" y="272"/>
                              </a:moveTo>
                              <a:cubicBezTo>
                                <a:pt x="1024" y="241"/>
                                <a:pt x="663" y="129"/>
                                <a:pt x="474" y="84"/>
                              </a:cubicBezTo>
                              <a:cubicBezTo>
                                <a:pt x="285" y="39"/>
                                <a:pt x="99" y="1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7" name="Freeform 3404"/>
                        <p:cNvSpPr/>
                        <p:nvPr/>
                      </p:nvSpPr>
                      <p:spPr>
                        <a:xfrm rot="10639200">
                          <a:off x="2201400" y="4008960"/>
                          <a:ext cx="2955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0" h="363">
                              <a:moveTo>
                                <a:pt x="1180" y="363"/>
                              </a:moveTo>
                              <a:cubicBezTo>
                                <a:pt x="1067" y="321"/>
                                <a:pt x="699" y="172"/>
                                <a:pt x="502" y="112"/>
                              </a:cubicBezTo>
                              <a:cubicBezTo>
                                <a:pt x="305" y="52"/>
                                <a:pt x="105" y="23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8" name="Freeform 3405"/>
                        <p:cNvSpPr/>
                        <p:nvPr/>
                      </p:nvSpPr>
                      <p:spPr>
                        <a:xfrm rot="10639200">
                          <a:off x="2180880" y="4007880"/>
                          <a:ext cx="293760" cy="11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3" h="461">
                              <a:moveTo>
                                <a:pt x="1173" y="461"/>
                              </a:moveTo>
                              <a:cubicBezTo>
                                <a:pt x="1088" y="425"/>
                                <a:pt x="862" y="323"/>
                                <a:pt x="666" y="246"/>
                              </a:cubicBezTo>
                              <a:cubicBezTo>
                                <a:pt x="470" y="169"/>
                                <a:pt x="139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9" name="Freeform 3406"/>
                        <p:cNvSpPr/>
                        <p:nvPr/>
                      </p:nvSpPr>
                      <p:spPr>
                        <a:xfrm rot="10639200">
                          <a:off x="2156760" y="4011120"/>
                          <a:ext cx="284040" cy="11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453">
                              <a:moveTo>
                                <a:pt x="1134" y="453"/>
                              </a:moveTo>
                              <a:cubicBezTo>
                                <a:pt x="1034" y="407"/>
                                <a:pt x="722" y="254"/>
                                <a:pt x="533" y="178"/>
                              </a:cubicBezTo>
                              <a:cubicBezTo>
                                <a:pt x="344" y="102"/>
                                <a:pt x="111" y="3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0" name="Freeform 3407"/>
                        <p:cNvSpPr/>
                        <p:nvPr/>
                      </p:nvSpPr>
                      <p:spPr>
                        <a:xfrm rot="10639200">
                          <a:off x="2169360" y="4012560"/>
                          <a:ext cx="214560" cy="18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6" h="724">
                              <a:moveTo>
                                <a:pt x="856" y="724"/>
                              </a:moveTo>
                              <a:lnTo>
                                <a:pt x="372" y="234"/>
                              </a:lnTo>
                              <a:cubicBezTo>
                                <a:pt x="229" y="113"/>
                                <a:pt x="77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1" name="Freeform 3408"/>
                        <p:cNvSpPr/>
                        <p:nvPr/>
                      </p:nvSpPr>
                      <p:spPr>
                        <a:xfrm rot="10639200">
                          <a:off x="2169720" y="4022640"/>
                          <a:ext cx="249840" cy="15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lnTo>
                                <a:pt x="220" y="1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2" name="Freeform 3409"/>
                        <p:cNvSpPr/>
                        <p:nvPr/>
                      </p:nvSpPr>
                      <p:spPr>
                        <a:xfrm rot="10639200">
                          <a:off x="2134080" y="3990600"/>
                          <a:ext cx="249840" cy="15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cubicBezTo>
                                <a:pt x="882" y="554"/>
                                <a:pt x="466" y="255"/>
                                <a:pt x="300" y="149"/>
                              </a:cubicBezTo>
                              <a:cubicBezTo>
                                <a:pt x="134" y="43"/>
                                <a:pt x="62" y="3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3" name="Freeform 3410"/>
                        <p:cNvSpPr/>
                        <p:nvPr/>
                      </p:nvSpPr>
                      <p:spPr>
                        <a:xfrm rot="10639200">
                          <a:off x="2147400" y="4001040"/>
                          <a:ext cx="263160" cy="244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50" h="980">
                              <a:moveTo>
                                <a:pt x="1050" y="980"/>
                              </a:moveTo>
                              <a:lnTo>
                                <a:pt x="378" y="234"/>
                              </a:lnTo>
                              <a:cubicBezTo>
                                <a:pt x="203" y="71"/>
                                <a:pt x="79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4" name="Line 3411"/>
                        <p:cNvSpPr/>
                        <p:nvPr/>
                      </p:nvSpPr>
                      <p:spPr>
                        <a:xfrm>
                          <a:off x="2130120" y="3985200"/>
                          <a:ext cx="204480" cy="239760"/>
                        </a:xfrm>
                        <a:prstGeom prst="line">
                          <a:avLst/>
                        </a:prstGeom>
                        <a:ln w="252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5" name="Freeform 3412"/>
                        <p:cNvSpPr/>
                        <p:nvPr/>
                      </p:nvSpPr>
                      <p:spPr>
                        <a:xfrm rot="10639200">
                          <a:off x="2146680" y="3980520"/>
                          <a:ext cx="159120" cy="24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997">
                              <a:moveTo>
                                <a:pt x="635" y="997"/>
                              </a:moveTo>
                              <a:cubicBezTo>
                                <a:pt x="569" y="887"/>
                                <a:pt x="345" y="500"/>
                                <a:pt x="239" y="334"/>
                              </a:cubicBezTo>
                              <a:cubicBezTo>
                                <a:pt x="133" y="168"/>
                                <a:pt x="50" y="7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6" name="Freeform 3413"/>
                        <p:cNvSpPr/>
                        <p:nvPr/>
                      </p:nvSpPr>
                      <p:spPr>
                        <a:xfrm rot="10639200">
                          <a:off x="2147400" y="3992760"/>
                          <a:ext cx="123120" cy="25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2" h="1026">
                              <a:moveTo>
                                <a:pt x="492" y="1026"/>
                              </a:moveTo>
                              <a:cubicBezTo>
                                <a:pt x="452" y="924"/>
                                <a:pt x="334" y="585"/>
                                <a:pt x="252" y="414"/>
                              </a:cubicBezTo>
                              <a:cubicBezTo>
                                <a:pt x="170" y="243"/>
                                <a:pt x="53" y="8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7" name="Freeform 3414"/>
                        <p:cNvSpPr/>
                        <p:nvPr/>
                      </p:nvSpPr>
                      <p:spPr>
                        <a:xfrm rot="10639200">
                          <a:off x="2148120" y="3993480"/>
                          <a:ext cx="82440" cy="27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0" h="1086">
                              <a:moveTo>
                                <a:pt x="330" y="1086"/>
                              </a:moveTo>
                              <a:cubicBezTo>
                                <a:pt x="302" y="966"/>
                                <a:pt x="217" y="547"/>
                                <a:pt x="162" y="366"/>
                              </a:cubicBezTo>
                              <a:cubicBezTo>
                                <a:pt x="107" y="185"/>
                                <a:pt x="34" y="7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8" name="Freeform 3415"/>
                        <p:cNvSpPr/>
                        <p:nvPr/>
                      </p:nvSpPr>
                      <p:spPr>
                        <a:xfrm rot="10639200">
                          <a:off x="2136600" y="3984480"/>
                          <a:ext cx="41040" cy="28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4" h="1160">
                              <a:moveTo>
                                <a:pt x="164" y="1160"/>
                              </a:moveTo>
                              <a:cubicBezTo>
                                <a:pt x="148" y="1008"/>
                                <a:pt x="93" y="439"/>
                                <a:pt x="66" y="246"/>
                              </a:cubicBezTo>
                              <a:cubicBezTo>
                                <a:pt x="39" y="53"/>
                                <a:pt x="14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9" name="Freeform 3416"/>
                        <p:cNvSpPr/>
                        <p:nvPr/>
                      </p:nvSpPr>
                      <p:spPr>
                        <a:xfrm rot="10639200">
                          <a:off x="2125080" y="3995280"/>
                          <a:ext cx="47520" cy="31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1" h="1259">
                              <a:moveTo>
                                <a:pt x="140" y="1259"/>
                              </a:moveTo>
                              <a:cubicBezTo>
                                <a:pt x="145" y="1113"/>
                                <a:pt x="191" y="594"/>
                                <a:pt x="168" y="384"/>
                              </a:cubicBezTo>
                              <a:cubicBezTo>
                                <a:pt x="145" y="174"/>
                                <a:pt x="35" y="8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0" name="Freeform 3417"/>
                        <p:cNvSpPr/>
                        <p:nvPr/>
                      </p:nvSpPr>
                      <p:spPr>
                        <a:xfrm rot="10639200">
                          <a:off x="2102400" y="3985920"/>
                          <a:ext cx="45000" cy="28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1" h="1134">
                              <a:moveTo>
                                <a:pt x="0" y="1134"/>
                              </a:moveTo>
                              <a:cubicBezTo>
                                <a:pt x="19" y="988"/>
                                <a:pt x="85" y="445"/>
                                <a:pt x="115" y="256"/>
                              </a:cubicBezTo>
                              <a:cubicBezTo>
                                <a:pt x="145" y="67"/>
                                <a:pt x="167" y="53"/>
                                <a:pt x="181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1" name="Freeform 3418"/>
                        <p:cNvSpPr/>
                        <p:nvPr/>
                      </p:nvSpPr>
                      <p:spPr>
                        <a:xfrm rot="10639200">
                          <a:off x="2056680" y="3997800"/>
                          <a:ext cx="79200" cy="23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2" name="Freeform 3419"/>
                        <p:cNvSpPr/>
                        <p:nvPr/>
                      </p:nvSpPr>
                      <p:spPr>
                        <a:xfrm rot="10639200">
                          <a:off x="1990080" y="4011120"/>
                          <a:ext cx="159120" cy="29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1179">
                              <a:moveTo>
                                <a:pt x="0" y="1179"/>
                              </a:moveTo>
                              <a:cubicBezTo>
                                <a:pt x="70" y="1066"/>
                                <a:pt x="315" y="697"/>
                                <a:pt x="421" y="501"/>
                              </a:cubicBezTo>
                              <a:cubicBezTo>
                                <a:pt x="527" y="305"/>
                                <a:pt x="591" y="105"/>
                                <a:pt x="635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3" name="Freeform 3420"/>
                        <p:cNvSpPr/>
                        <p:nvPr/>
                      </p:nvSpPr>
                      <p:spPr>
                        <a:xfrm rot="10639200">
                          <a:off x="1942920" y="3999960"/>
                          <a:ext cx="204480" cy="24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6" h="998">
                              <a:moveTo>
                                <a:pt x="0" y="998"/>
                              </a:moveTo>
                              <a:cubicBezTo>
                                <a:pt x="102" y="891"/>
                                <a:pt x="477" y="523"/>
                                <a:pt x="613" y="357"/>
                              </a:cubicBezTo>
                              <a:cubicBezTo>
                                <a:pt x="749" y="191"/>
                                <a:pt x="774" y="75"/>
                                <a:pt x="816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4" name="Freeform 3421"/>
                        <p:cNvSpPr/>
                        <p:nvPr/>
                      </p:nvSpPr>
                      <p:spPr>
                        <a:xfrm rot="10639200">
                          <a:off x="1896840" y="4001400"/>
                          <a:ext cx="238320" cy="19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2" h="771">
                              <a:moveTo>
                                <a:pt x="0" y="771"/>
                              </a:moveTo>
                              <a:cubicBezTo>
                                <a:pt x="91" y="704"/>
                                <a:pt x="385" y="497"/>
                                <a:pt x="544" y="369"/>
                              </a:cubicBezTo>
                              <a:cubicBezTo>
                                <a:pt x="703" y="241"/>
                                <a:pt x="867" y="77"/>
                                <a:pt x="952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5" name="Freeform 3422"/>
                        <p:cNvSpPr/>
                        <p:nvPr/>
                      </p:nvSpPr>
                      <p:spPr>
                        <a:xfrm rot="10639200">
                          <a:off x="1861920" y="4002480"/>
                          <a:ext cx="272520" cy="15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8" h="635">
                              <a:moveTo>
                                <a:pt x="0" y="635"/>
                              </a:moveTo>
                              <a:cubicBezTo>
                                <a:pt x="109" y="581"/>
                                <a:pt x="471" y="417"/>
                                <a:pt x="652" y="311"/>
                              </a:cubicBezTo>
                              <a:cubicBezTo>
                                <a:pt x="833" y="205"/>
                                <a:pt x="997" y="65"/>
                                <a:pt x="1088" y="0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6" name="Freeform 3423"/>
                        <p:cNvSpPr/>
                        <p:nvPr/>
                      </p:nvSpPr>
                      <p:spPr>
                        <a:xfrm rot="10639200">
                          <a:off x="1838520" y="3991680"/>
                          <a:ext cx="318240" cy="15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0" h="635">
                              <a:moveTo>
                                <a:pt x="0" y="635"/>
                              </a:moveTo>
                              <a:cubicBezTo>
                                <a:pt x="120" y="588"/>
                                <a:pt x="537" y="430"/>
                                <a:pt x="719" y="352"/>
                              </a:cubicBezTo>
                              <a:cubicBezTo>
                                <a:pt x="901" y="274"/>
                                <a:pt x="999" y="225"/>
                                <a:pt x="1091" y="166"/>
                              </a:cubicBezTo>
                              <a:cubicBezTo>
                                <a:pt x="1183" y="107"/>
                                <a:pt x="1233" y="35"/>
                                <a:pt x="127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7" name="Freeform 3424"/>
                        <p:cNvSpPr/>
                        <p:nvPr/>
                      </p:nvSpPr>
                      <p:spPr>
                        <a:xfrm rot="10639200">
                          <a:off x="1947240" y="3972600"/>
                          <a:ext cx="19440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6" h="87">
                              <a:moveTo>
                                <a:pt x="0" y="0"/>
                              </a:moveTo>
                              <a:cubicBezTo>
                                <a:pt x="63" y="14"/>
                                <a:pt x="255" y="81"/>
                                <a:pt x="384" y="84"/>
                              </a:cubicBezTo>
                              <a:cubicBezTo>
                                <a:pt x="513" y="87"/>
                                <a:pt x="694" y="33"/>
                                <a:pt x="776" y="2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8" name="Freeform 3425"/>
                        <p:cNvSpPr/>
                        <p:nvPr/>
                      </p:nvSpPr>
                      <p:spPr>
                        <a:xfrm rot="10639200">
                          <a:off x="2004120" y="3953520"/>
                          <a:ext cx="13608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135">
                              <a:moveTo>
                                <a:pt x="0" y="0"/>
                              </a:moveTo>
                              <a:lnTo>
                                <a:pt x="289" y="99"/>
                              </a:lnTo>
                              <a:cubicBezTo>
                                <a:pt x="380" y="121"/>
                                <a:pt x="491" y="128"/>
                                <a:pt x="544" y="13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9" name="Freeform 3426"/>
                        <p:cNvSpPr/>
                        <p:nvPr/>
                      </p:nvSpPr>
                      <p:spPr>
                        <a:xfrm rot="10639200">
                          <a:off x="2059560" y="3906720"/>
                          <a:ext cx="9072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3" h="272">
                              <a:moveTo>
                                <a:pt x="0" y="0"/>
                              </a:moveTo>
                              <a:cubicBezTo>
                                <a:pt x="34" y="32"/>
                                <a:pt x="143" y="147"/>
                                <a:pt x="203" y="192"/>
                              </a:cubicBezTo>
                              <a:cubicBezTo>
                                <a:pt x="263" y="237"/>
                                <a:pt x="330" y="255"/>
                                <a:pt x="363" y="272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0" name="Freeform 3427"/>
                        <p:cNvSpPr/>
                        <p:nvPr/>
                      </p:nvSpPr>
                      <p:spPr>
                        <a:xfrm rot="10639200">
                          <a:off x="2096640" y="3897360"/>
                          <a:ext cx="6480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0" h="306">
                              <a:moveTo>
                                <a:pt x="0" y="0"/>
                              </a:moveTo>
                              <a:cubicBezTo>
                                <a:pt x="24" y="33"/>
                                <a:pt x="103" y="147"/>
                                <a:pt x="146" y="198"/>
                              </a:cubicBezTo>
                              <a:cubicBezTo>
                                <a:pt x="189" y="249"/>
                                <a:pt x="236" y="284"/>
                                <a:pt x="260" y="306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1" name="Freeform 3428"/>
                        <p:cNvSpPr/>
                        <p:nvPr/>
                      </p:nvSpPr>
                      <p:spPr>
                        <a:xfrm rot="10639200">
                          <a:off x="2153520" y="3994560"/>
                          <a:ext cx="22716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72">
                              <a:moveTo>
                                <a:pt x="0" y="27"/>
                              </a:moveTo>
                              <a:cubicBezTo>
                                <a:pt x="55" y="24"/>
                                <a:pt x="180" y="0"/>
                                <a:pt x="331" y="7"/>
                              </a:cubicBezTo>
                              <a:cubicBezTo>
                                <a:pt x="482" y="14"/>
                                <a:pt x="787" y="59"/>
                                <a:pt x="907" y="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2" name="Freeform 3429"/>
                        <p:cNvSpPr/>
                        <p:nvPr/>
                      </p:nvSpPr>
                      <p:spPr>
                        <a:xfrm rot="10639200">
                          <a:off x="1914120" y="3987000"/>
                          <a:ext cx="22716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56">
                              <a:moveTo>
                                <a:pt x="0" y="0"/>
                              </a:moveTo>
                              <a:cubicBezTo>
                                <a:pt x="86" y="8"/>
                                <a:pt x="366" y="42"/>
                                <a:pt x="517" y="49"/>
                              </a:cubicBezTo>
                              <a:cubicBezTo>
                                <a:pt x="668" y="56"/>
                                <a:pt x="826" y="46"/>
                                <a:pt x="907" y="4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3" name="Freeform 3430"/>
                        <p:cNvSpPr/>
                        <p:nvPr/>
                      </p:nvSpPr>
                      <p:spPr>
                        <a:xfrm rot="10639200">
                          <a:off x="1991160" y="3897000"/>
                          <a:ext cx="15912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363">
                              <a:moveTo>
                                <a:pt x="0" y="0"/>
                              </a:moveTo>
                              <a:cubicBezTo>
                                <a:pt x="57" y="40"/>
                                <a:pt x="235" y="178"/>
                                <a:pt x="341" y="238"/>
                              </a:cubicBezTo>
                              <a:cubicBezTo>
                                <a:pt x="447" y="298"/>
                                <a:pt x="574" y="337"/>
                                <a:pt x="635" y="363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4" name="Freeform 3431"/>
                        <p:cNvSpPr/>
                        <p:nvPr/>
                      </p:nvSpPr>
                      <p:spPr>
                        <a:xfrm rot="10639200">
                          <a:off x="2150640" y="3995640"/>
                          <a:ext cx="8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" h="1043">
                              <a:moveTo>
                                <a:pt x="0" y="0"/>
                              </a:moveTo>
                              <a:cubicBezTo>
                                <a:pt x="6" y="84"/>
                                <a:pt x="35" y="330"/>
                                <a:pt x="35" y="504"/>
                              </a:cubicBezTo>
                              <a:cubicBezTo>
                                <a:pt x="35" y="678"/>
                                <a:pt x="7" y="931"/>
                                <a:pt x="0" y="1043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5" name="Freeform 3432"/>
                        <p:cNvSpPr/>
                        <p:nvPr/>
                      </p:nvSpPr>
                      <p:spPr>
                        <a:xfrm rot="10639200">
                          <a:off x="2139480" y="3868560"/>
                          <a:ext cx="136080" cy="14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590">
                              <a:moveTo>
                                <a:pt x="544" y="0"/>
                              </a:moveTo>
                              <a:cubicBezTo>
                                <a:pt x="495" y="45"/>
                                <a:pt x="341" y="173"/>
                                <a:pt x="250" y="271"/>
                              </a:cubicBezTo>
                              <a:cubicBezTo>
                                <a:pt x="159" y="369"/>
                                <a:pt x="52" y="524"/>
                                <a:pt x="0" y="590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6" name="Freeform 3433"/>
                        <p:cNvSpPr/>
                        <p:nvPr/>
                      </p:nvSpPr>
                      <p:spPr>
                        <a:xfrm rot="10639200">
                          <a:off x="2147760" y="3777120"/>
                          <a:ext cx="124560" cy="20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817">
                              <a:moveTo>
                                <a:pt x="498" y="0"/>
                              </a:moveTo>
                              <a:cubicBezTo>
                                <a:pt x="455" y="58"/>
                                <a:pt x="323" y="210"/>
                                <a:pt x="240" y="346"/>
                              </a:cubicBezTo>
                              <a:cubicBezTo>
                                <a:pt x="157" y="482"/>
                                <a:pt x="50" y="719"/>
                                <a:pt x="0" y="817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7" name="Freeform 3434"/>
                        <p:cNvSpPr/>
                        <p:nvPr/>
                      </p:nvSpPr>
                      <p:spPr>
                        <a:xfrm rot="10639200">
                          <a:off x="2057040" y="3805200"/>
                          <a:ext cx="79200" cy="169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680">
                              <a:moveTo>
                                <a:pt x="0" y="0"/>
                              </a:moveTo>
                              <a:cubicBezTo>
                                <a:pt x="27" y="48"/>
                                <a:pt x="120" y="212"/>
                                <a:pt x="164" y="288"/>
                              </a:cubicBezTo>
                              <a:cubicBezTo>
                                <a:pt x="208" y="364"/>
                                <a:pt x="238" y="391"/>
                                <a:pt x="264" y="456"/>
                              </a:cubicBezTo>
                              <a:cubicBezTo>
                                <a:pt x="290" y="521"/>
                                <a:pt x="306" y="633"/>
                                <a:pt x="317" y="68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8" name="Freeform 3435"/>
                        <p:cNvSpPr/>
                        <p:nvPr/>
                      </p:nvSpPr>
                      <p:spPr>
                        <a:xfrm rot="11320800">
                          <a:off x="2005920" y="4000320"/>
                          <a:ext cx="1022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9" h="90">
                              <a:moveTo>
                                <a:pt x="0" y="90"/>
                              </a:moveTo>
                              <a:cubicBezTo>
                                <a:pt x="36" y="85"/>
                                <a:pt x="149" y="77"/>
                                <a:pt x="217" y="62"/>
                              </a:cubicBezTo>
                              <a:lnTo>
                                <a:pt x="409" y="0"/>
                              </a:lnTo>
                            </a:path>
                          </a:pathLst>
                        </a:custGeom>
                        <a:noFill/>
                        <a:ln cap="rnd" w="252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9" name="Freeform 3436"/>
                        <p:cNvSpPr/>
                        <p:nvPr/>
                      </p:nvSpPr>
                      <p:spPr>
                        <a:xfrm rot="10639200">
                          <a:off x="2089080" y="3996720"/>
                          <a:ext cx="68400" cy="18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00" name="Group 3437"/>
                  <p:cNvGrpSpPr/>
                  <p:nvPr/>
                </p:nvGrpSpPr>
                <p:grpSpPr>
                  <a:xfrm>
                    <a:off x="2227680" y="3385800"/>
                    <a:ext cx="646920" cy="896760"/>
                    <a:chOff x="2227680" y="3385800"/>
                    <a:chExt cx="646920" cy="896760"/>
                  </a:xfrm>
                </p:grpSpPr>
                <p:sp>
                  <p:nvSpPr>
                    <p:cNvPr id="2401" name="Freeform 3438"/>
                    <p:cNvSpPr/>
                    <p:nvPr/>
                  </p:nvSpPr>
                  <p:spPr>
                    <a:xfrm rot="8766600">
                      <a:off x="2427840" y="398916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402" name="Group 3439"/>
                    <p:cNvGrpSpPr/>
                    <p:nvPr/>
                  </p:nvGrpSpPr>
                  <p:grpSpPr>
                    <a:xfrm>
                      <a:off x="2227680" y="3385800"/>
                      <a:ext cx="646920" cy="896760"/>
                      <a:chOff x="2227680" y="3385800"/>
                      <a:chExt cx="646920" cy="896760"/>
                    </a:xfrm>
                  </p:grpSpPr>
                  <p:grpSp>
                    <p:nvGrpSpPr>
                      <p:cNvPr id="2403" name="Group 3440"/>
                      <p:cNvGrpSpPr/>
                      <p:nvPr/>
                    </p:nvGrpSpPr>
                    <p:grpSpPr>
                      <a:xfrm>
                        <a:off x="2227680" y="3385800"/>
                        <a:ext cx="364680" cy="619920"/>
                        <a:chOff x="2227680" y="3385800"/>
                        <a:chExt cx="364680" cy="619920"/>
                      </a:xfrm>
                    </p:grpSpPr>
                    <p:sp>
                      <p:nvSpPr>
                        <p:cNvPr id="2404" name="AutoShape 3441"/>
                        <p:cNvSpPr/>
                        <p:nvPr/>
                      </p:nvSpPr>
                      <p:spPr>
                        <a:xfrm rot="8766600">
                          <a:off x="2487240" y="3907440"/>
                          <a:ext cx="90720" cy="79200"/>
                        </a:xfrm>
                        <a:prstGeom prst="irregularSeal1">
                          <a:avLst/>
                        </a:prstGeom>
                        <a:solidFill>
                          <a:srgbClr val="ffffff">
                            <a:alpha val="1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2320" bIns="-2232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5" name="Freeform 3442"/>
                        <p:cNvSpPr/>
                        <p:nvPr/>
                      </p:nvSpPr>
                      <p:spPr>
                        <a:xfrm rot="8766600">
                          <a:off x="2397600" y="3523680"/>
                          <a:ext cx="46080" cy="43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5" h="1735">
                              <a:moveTo>
                                <a:pt x="185" y="0"/>
                              </a:moveTo>
                              <a:cubicBezTo>
                                <a:pt x="174" y="126"/>
                                <a:pt x="137" y="578"/>
                                <a:pt x="120" y="757"/>
                              </a:cubicBezTo>
                              <a:lnTo>
                                <a:pt x="84" y="1075"/>
                              </a:lnTo>
                              <a:lnTo>
                                <a:pt x="0" y="1735"/>
                              </a:lnTo>
                            </a:path>
                          </a:pathLst>
                        </a:custGeom>
                        <a:noFill/>
                        <a:ln w="11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6" name="Oval 3443"/>
                        <p:cNvSpPr/>
                        <p:nvPr/>
                      </p:nvSpPr>
                      <p:spPr>
                        <a:xfrm rot="9310800">
                          <a:off x="2265840" y="3386520"/>
                          <a:ext cx="45360" cy="192600"/>
                        </a:xfrm>
                        <a:prstGeom prst="ellipse">
                          <a:avLst/>
                        </a:prstGeom>
                        <a:solidFill>
                          <a:srgbClr val="ffffff">
                            <a:alpha val="1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407" name="Group 3444"/>
                      <p:cNvGrpSpPr/>
                      <p:nvPr/>
                    </p:nvGrpSpPr>
                    <p:grpSpPr>
                      <a:xfrm>
                        <a:off x="2252520" y="3684240"/>
                        <a:ext cx="622080" cy="598320"/>
                        <a:chOff x="2252520" y="3684240"/>
                        <a:chExt cx="622080" cy="598320"/>
                      </a:xfrm>
                    </p:grpSpPr>
                    <p:sp>
                      <p:nvSpPr>
                        <p:cNvPr id="2408" name="Freeform 3445"/>
                        <p:cNvSpPr/>
                        <p:nvPr/>
                      </p:nvSpPr>
                      <p:spPr>
                        <a:xfrm rot="8766600">
                          <a:off x="2507760" y="3847320"/>
                          <a:ext cx="158040" cy="7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2" h="303">
                              <a:moveTo>
                                <a:pt x="544" y="303"/>
                              </a:moveTo>
                              <a:cubicBezTo>
                                <a:pt x="553" y="278"/>
                                <a:pt x="593" y="184"/>
                                <a:pt x="598" y="153"/>
                              </a:cubicBezTo>
                              <a:cubicBezTo>
                                <a:pt x="603" y="122"/>
                                <a:pt x="632" y="137"/>
                                <a:pt x="574" y="117"/>
                              </a:cubicBezTo>
                              <a:cubicBezTo>
                                <a:pt x="516" y="97"/>
                                <a:pt x="346" y="0"/>
                                <a:pt x="250" y="31"/>
                              </a:cubicBezTo>
                              <a:cubicBezTo>
                                <a:pt x="154" y="62"/>
                                <a:pt x="52" y="245"/>
                                <a:pt x="0" y="303"/>
                              </a:cubicBez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0" bIns="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9" name="Freeform 3446"/>
                        <p:cNvSpPr/>
                        <p:nvPr/>
                      </p:nvSpPr>
                      <p:spPr>
                        <a:xfrm rot="8766600">
                          <a:off x="2496600" y="3797640"/>
                          <a:ext cx="2725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9" h="272">
                              <a:moveTo>
                                <a:pt x="1089" y="0"/>
                              </a:moveTo>
                              <a:cubicBezTo>
                                <a:pt x="988" y="18"/>
                                <a:pt x="663" y="64"/>
                                <a:pt x="482" y="109"/>
                              </a:cubicBezTo>
                              <a:cubicBezTo>
                                <a:pt x="301" y="154"/>
                                <a:pt x="100" y="238"/>
                                <a:pt x="0" y="2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0" name="Freeform 3447"/>
                        <p:cNvSpPr/>
                        <p:nvPr/>
                      </p:nvSpPr>
                      <p:spPr>
                        <a:xfrm rot="8766600">
                          <a:off x="2542680" y="3844800"/>
                          <a:ext cx="28404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272">
                              <a:moveTo>
                                <a:pt x="1134" y="272"/>
                              </a:moveTo>
                              <a:cubicBezTo>
                                <a:pt x="1024" y="241"/>
                                <a:pt x="663" y="129"/>
                                <a:pt x="474" y="84"/>
                              </a:cubicBezTo>
                              <a:cubicBezTo>
                                <a:pt x="285" y="39"/>
                                <a:pt x="99" y="1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1" name="Freeform 3448"/>
                        <p:cNvSpPr/>
                        <p:nvPr/>
                      </p:nvSpPr>
                      <p:spPr>
                        <a:xfrm rot="8766600">
                          <a:off x="2572920" y="3836160"/>
                          <a:ext cx="2955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0" h="363">
                              <a:moveTo>
                                <a:pt x="1180" y="363"/>
                              </a:moveTo>
                              <a:cubicBezTo>
                                <a:pt x="1067" y="321"/>
                                <a:pt x="699" y="172"/>
                                <a:pt x="502" y="112"/>
                              </a:cubicBezTo>
                              <a:cubicBezTo>
                                <a:pt x="305" y="52"/>
                                <a:pt x="105" y="23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2" name="Freeform 3449"/>
                        <p:cNvSpPr/>
                        <p:nvPr/>
                      </p:nvSpPr>
                      <p:spPr>
                        <a:xfrm rot="8766600">
                          <a:off x="2562120" y="3845160"/>
                          <a:ext cx="293760" cy="11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3" h="461">
                              <a:moveTo>
                                <a:pt x="1173" y="461"/>
                              </a:moveTo>
                              <a:cubicBezTo>
                                <a:pt x="1088" y="425"/>
                                <a:pt x="862" y="323"/>
                                <a:pt x="666" y="246"/>
                              </a:cubicBezTo>
                              <a:cubicBezTo>
                                <a:pt x="470" y="169"/>
                                <a:pt x="139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3" name="Freeform 3450"/>
                        <p:cNvSpPr/>
                        <p:nvPr/>
                      </p:nvSpPr>
                      <p:spPr>
                        <a:xfrm rot="8766600">
                          <a:off x="2543040" y="3862800"/>
                          <a:ext cx="284040" cy="11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453">
                              <a:moveTo>
                                <a:pt x="1134" y="453"/>
                              </a:moveTo>
                              <a:cubicBezTo>
                                <a:pt x="1034" y="407"/>
                                <a:pt x="722" y="254"/>
                                <a:pt x="533" y="178"/>
                              </a:cubicBezTo>
                              <a:cubicBezTo>
                                <a:pt x="344" y="102"/>
                                <a:pt x="111" y="3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4" name="Freeform 3451"/>
                        <p:cNvSpPr/>
                        <p:nvPr/>
                      </p:nvSpPr>
                      <p:spPr>
                        <a:xfrm rot="8766600">
                          <a:off x="2576880" y="3870720"/>
                          <a:ext cx="214200" cy="18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6" h="724">
                              <a:moveTo>
                                <a:pt x="856" y="724"/>
                              </a:moveTo>
                              <a:lnTo>
                                <a:pt x="372" y="234"/>
                              </a:lnTo>
                              <a:cubicBezTo>
                                <a:pt x="229" y="113"/>
                                <a:pt x="77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5" name="Freeform 3452"/>
                        <p:cNvSpPr/>
                        <p:nvPr/>
                      </p:nvSpPr>
                      <p:spPr>
                        <a:xfrm rot="8766600">
                          <a:off x="2574360" y="387144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lnTo>
                                <a:pt x="220" y="1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6" name="Freeform 3453"/>
                        <p:cNvSpPr/>
                        <p:nvPr/>
                      </p:nvSpPr>
                      <p:spPr>
                        <a:xfrm rot="8766600">
                          <a:off x="2527200" y="386172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cubicBezTo>
                                <a:pt x="882" y="554"/>
                                <a:pt x="466" y="255"/>
                                <a:pt x="300" y="149"/>
                              </a:cubicBezTo>
                              <a:cubicBezTo>
                                <a:pt x="134" y="43"/>
                                <a:pt x="62" y="3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7" name="Freeform 3454"/>
                        <p:cNvSpPr/>
                        <p:nvPr/>
                      </p:nvSpPr>
                      <p:spPr>
                        <a:xfrm rot="8766600">
                          <a:off x="2565720" y="3854880"/>
                          <a:ext cx="262800" cy="244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50" h="980">
                              <a:moveTo>
                                <a:pt x="1050" y="980"/>
                              </a:moveTo>
                              <a:lnTo>
                                <a:pt x="378" y="234"/>
                              </a:lnTo>
                              <a:cubicBezTo>
                                <a:pt x="203" y="71"/>
                                <a:pt x="79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8" name="Line 3455"/>
                        <p:cNvSpPr/>
                        <p:nvPr/>
                      </p:nvSpPr>
                      <p:spPr>
                        <a:xfrm>
                          <a:off x="2498040" y="3936240"/>
                          <a:ext cx="299160" cy="99360"/>
                        </a:xfrm>
                        <a:prstGeom prst="line">
                          <a:avLst/>
                        </a:prstGeom>
                        <a:ln w="252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9" name="Freeform 3456"/>
                        <p:cNvSpPr/>
                        <p:nvPr/>
                      </p:nvSpPr>
                      <p:spPr>
                        <a:xfrm rot="8766600">
                          <a:off x="2562840" y="3864600"/>
                          <a:ext cx="158760" cy="24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997">
                              <a:moveTo>
                                <a:pt x="635" y="997"/>
                              </a:moveTo>
                              <a:cubicBezTo>
                                <a:pt x="569" y="887"/>
                                <a:pt x="345" y="500"/>
                                <a:pt x="239" y="334"/>
                              </a:cubicBezTo>
                              <a:cubicBezTo>
                                <a:pt x="133" y="168"/>
                                <a:pt x="50" y="7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0" name="Freeform 3457"/>
                        <p:cNvSpPr/>
                        <p:nvPr/>
                      </p:nvSpPr>
                      <p:spPr>
                        <a:xfrm rot="8766600">
                          <a:off x="2574000" y="3882960"/>
                          <a:ext cx="123120" cy="25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2" h="1026">
                              <a:moveTo>
                                <a:pt x="492" y="1026"/>
                              </a:moveTo>
                              <a:cubicBezTo>
                                <a:pt x="452" y="924"/>
                                <a:pt x="334" y="585"/>
                                <a:pt x="252" y="414"/>
                              </a:cubicBezTo>
                              <a:cubicBezTo>
                                <a:pt x="170" y="243"/>
                                <a:pt x="53" y="8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1" name="Freeform 3458"/>
                        <p:cNvSpPr/>
                        <p:nvPr/>
                      </p:nvSpPr>
                      <p:spPr>
                        <a:xfrm rot="8766600">
                          <a:off x="2581920" y="3893040"/>
                          <a:ext cx="82440" cy="27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0" h="1086">
                              <a:moveTo>
                                <a:pt x="330" y="1086"/>
                              </a:moveTo>
                              <a:cubicBezTo>
                                <a:pt x="302" y="966"/>
                                <a:pt x="217" y="547"/>
                                <a:pt x="162" y="366"/>
                              </a:cubicBezTo>
                              <a:cubicBezTo>
                                <a:pt x="107" y="185"/>
                                <a:pt x="34" y="7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2" name="Freeform 3459"/>
                        <p:cNvSpPr/>
                        <p:nvPr/>
                      </p:nvSpPr>
                      <p:spPr>
                        <a:xfrm rot="8766600">
                          <a:off x="2574720" y="3899880"/>
                          <a:ext cx="41040" cy="29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4" h="1160">
                              <a:moveTo>
                                <a:pt x="164" y="1160"/>
                              </a:moveTo>
                              <a:cubicBezTo>
                                <a:pt x="148" y="1008"/>
                                <a:pt x="93" y="439"/>
                                <a:pt x="66" y="246"/>
                              </a:cubicBezTo>
                              <a:cubicBezTo>
                                <a:pt x="39" y="53"/>
                                <a:pt x="14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3" name="Freeform 3460"/>
                        <p:cNvSpPr/>
                        <p:nvPr/>
                      </p:nvSpPr>
                      <p:spPr>
                        <a:xfrm rot="8766600">
                          <a:off x="2577240" y="3912840"/>
                          <a:ext cx="47520" cy="31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1" h="1259">
                              <a:moveTo>
                                <a:pt x="140" y="1259"/>
                              </a:moveTo>
                              <a:cubicBezTo>
                                <a:pt x="145" y="1113"/>
                                <a:pt x="191" y="594"/>
                                <a:pt x="168" y="384"/>
                              </a:cubicBezTo>
                              <a:cubicBezTo>
                                <a:pt x="145" y="174"/>
                                <a:pt x="35" y="8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4" name="Freeform 3461"/>
                        <p:cNvSpPr/>
                        <p:nvPr/>
                      </p:nvSpPr>
                      <p:spPr>
                        <a:xfrm rot="8766600">
                          <a:off x="2544480" y="3918240"/>
                          <a:ext cx="45000" cy="28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1" h="1134">
                              <a:moveTo>
                                <a:pt x="0" y="1134"/>
                              </a:moveTo>
                              <a:cubicBezTo>
                                <a:pt x="19" y="988"/>
                                <a:pt x="85" y="445"/>
                                <a:pt x="115" y="256"/>
                              </a:cubicBezTo>
                              <a:cubicBezTo>
                                <a:pt x="145" y="67"/>
                                <a:pt x="167" y="53"/>
                                <a:pt x="181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5" name="Freeform 3462"/>
                        <p:cNvSpPr/>
                        <p:nvPr/>
                      </p:nvSpPr>
                      <p:spPr>
                        <a:xfrm rot="8766600">
                          <a:off x="2497680" y="3947760"/>
                          <a:ext cx="79200" cy="23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6" name="Freeform 3463"/>
                        <p:cNvSpPr/>
                        <p:nvPr/>
                      </p:nvSpPr>
                      <p:spPr>
                        <a:xfrm rot="8766600">
                          <a:off x="2456640" y="3968280"/>
                          <a:ext cx="158760" cy="29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1179">
                              <a:moveTo>
                                <a:pt x="0" y="1179"/>
                              </a:moveTo>
                              <a:cubicBezTo>
                                <a:pt x="70" y="1066"/>
                                <a:pt x="315" y="697"/>
                                <a:pt x="421" y="501"/>
                              </a:cubicBezTo>
                              <a:cubicBezTo>
                                <a:pt x="527" y="305"/>
                                <a:pt x="591" y="105"/>
                                <a:pt x="635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7" name="Freeform 3464"/>
                        <p:cNvSpPr/>
                        <p:nvPr/>
                      </p:nvSpPr>
                      <p:spPr>
                        <a:xfrm rot="8766600">
                          <a:off x="2395800" y="3975120"/>
                          <a:ext cx="204120" cy="24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6" h="998">
                              <a:moveTo>
                                <a:pt x="0" y="998"/>
                              </a:moveTo>
                              <a:cubicBezTo>
                                <a:pt x="102" y="891"/>
                                <a:pt x="477" y="523"/>
                                <a:pt x="613" y="357"/>
                              </a:cubicBezTo>
                              <a:cubicBezTo>
                                <a:pt x="749" y="191"/>
                                <a:pt x="774" y="75"/>
                                <a:pt x="816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8" name="Freeform 3465"/>
                        <p:cNvSpPr/>
                        <p:nvPr/>
                      </p:nvSpPr>
                      <p:spPr>
                        <a:xfrm rot="8766600">
                          <a:off x="2339640" y="3996000"/>
                          <a:ext cx="238320" cy="19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2" h="771">
                              <a:moveTo>
                                <a:pt x="0" y="771"/>
                              </a:moveTo>
                              <a:cubicBezTo>
                                <a:pt x="91" y="704"/>
                                <a:pt x="385" y="497"/>
                                <a:pt x="544" y="369"/>
                              </a:cubicBezTo>
                              <a:cubicBezTo>
                                <a:pt x="703" y="241"/>
                                <a:pt x="867" y="77"/>
                                <a:pt x="952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9" name="Freeform 3466"/>
                        <p:cNvSpPr/>
                        <p:nvPr/>
                      </p:nvSpPr>
                      <p:spPr>
                        <a:xfrm rot="8766600">
                          <a:off x="2298600" y="4007520"/>
                          <a:ext cx="27252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8" h="635">
                              <a:moveTo>
                                <a:pt x="0" y="635"/>
                              </a:moveTo>
                              <a:cubicBezTo>
                                <a:pt x="109" y="581"/>
                                <a:pt x="471" y="417"/>
                                <a:pt x="652" y="311"/>
                              </a:cubicBezTo>
                              <a:cubicBezTo>
                                <a:pt x="833" y="205"/>
                                <a:pt x="997" y="65"/>
                                <a:pt x="1088" y="0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0" name="Freeform 3467"/>
                        <p:cNvSpPr/>
                        <p:nvPr/>
                      </p:nvSpPr>
                      <p:spPr>
                        <a:xfrm rot="8766600">
                          <a:off x="2269800" y="3998880"/>
                          <a:ext cx="31788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0" h="635">
                              <a:moveTo>
                                <a:pt x="0" y="635"/>
                              </a:moveTo>
                              <a:cubicBezTo>
                                <a:pt x="120" y="588"/>
                                <a:pt x="537" y="430"/>
                                <a:pt x="719" y="352"/>
                              </a:cubicBezTo>
                              <a:cubicBezTo>
                                <a:pt x="901" y="274"/>
                                <a:pt x="999" y="225"/>
                                <a:pt x="1091" y="166"/>
                              </a:cubicBezTo>
                              <a:cubicBezTo>
                                <a:pt x="1183" y="107"/>
                                <a:pt x="1233" y="35"/>
                                <a:pt x="127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1" name="Freeform 3468"/>
                        <p:cNvSpPr/>
                        <p:nvPr/>
                      </p:nvSpPr>
                      <p:spPr>
                        <a:xfrm rot="8766600">
                          <a:off x="2327040" y="3967560"/>
                          <a:ext cx="19440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6" h="87">
                              <a:moveTo>
                                <a:pt x="0" y="0"/>
                              </a:moveTo>
                              <a:cubicBezTo>
                                <a:pt x="63" y="14"/>
                                <a:pt x="255" y="81"/>
                                <a:pt x="384" y="84"/>
                              </a:cubicBezTo>
                              <a:cubicBezTo>
                                <a:pt x="513" y="87"/>
                                <a:pt x="694" y="33"/>
                                <a:pt x="776" y="2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2" name="Freeform 3469"/>
                        <p:cNvSpPr/>
                        <p:nvPr/>
                      </p:nvSpPr>
                      <p:spPr>
                        <a:xfrm rot="8766600">
                          <a:off x="2373120" y="3937320"/>
                          <a:ext cx="13608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135">
                              <a:moveTo>
                                <a:pt x="0" y="0"/>
                              </a:moveTo>
                              <a:lnTo>
                                <a:pt x="289" y="99"/>
                              </a:lnTo>
                              <a:cubicBezTo>
                                <a:pt x="380" y="121"/>
                                <a:pt x="491" y="128"/>
                                <a:pt x="544" y="13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3" name="Freeform 3470"/>
                        <p:cNvSpPr/>
                        <p:nvPr/>
                      </p:nvSpPr>
                      <p:spPr>
                        <a:xfrm rot="8766600">
                          <a:off x="2407680" y="3877200"/>
                          <a:ext cx="9072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3" h="272">
                              <a:moveTo>
                                <a:pt x="0" y="0"/>
                              </a:moveTo>
                              <a:cubicBezTo>
                                <a:pt x="34" y="32"/>
                                <a:pt x="143" y="147"/>
                                <a:pt x="203" y="192"/>
                              </a:cubicBezTo>
                              <a:cubicBezTo>
                                <a:pt x="263" y="237"/>
                                <a:pt x="330" y="255"/>
                                <a:pt x="363" y="272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4" name="Freeform 3471"/>
                        <p:cNvSpPr/>
                        <p:nvPr/>
                      </p:nvSpPr>
                      <p:spPr>
                        <a:xfrm rot="8766600">
                          <a:off x="2439000" y="3855960"/>
                          <a:ext cx="6480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0" h="306">
                              <a:moveTo>
                                <a:pt x="0" y="0"/>
                              </a:moveTo>
                              <a:cubicBezTo>
                                <a:pt x="24" y="33"/>
                                <a:pt x="103" y="147"/>
                                <a:pt x="146" y="198"/>
                              </a:cubicBezTo>
                              <a:cubicBezTo>
                                <a:pt x="189" y="249"/>
                                <a:pt x="236" y="284"/>
                                <a:pt x="260" y="306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5" name="Freeform 3472"/>
                        <p:cNvSpPr/>
                        <p:nvPr/>
                      </p:nvSpPr>
                      <p:spPr>
                        <a:xfrm rot="8766600">
                          <a:off x="2511000" y="3871800"/>
                          <a:ext cx="22716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72">
                              <a:moveTo>
                                <a:pt x="0" y="27"/>
                              </a:moveTo>
                              <a:cubicBezTo>
                                <a:pt x="55" y="24"/>
                                <a:pt x="180" y="0"/>
                                <a:pt x="331" y="7"/>
                              </a:cubicBezTo>
                              <a:cubicBezTo>
                                <a:pt x="482" y="14"/>
                                <a:pt x="787" y="59"/>
                                <a:pt x="907" y="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6" name="Freeform 3473"/>
                        <p:cNvSpPr/>
                        <p:nvPr/>
                      </p:nvSpPr>
                      <p:spPr>
                        <a:xfrm rot="8766600">
                          <a:off x="2301480" y="3990240"/>
                          <a:ext cx="22716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56">
                              <a:moveTo>
                                <a:pt x="0" y="0"/>
                              </a:moveTo>
                              <a:cubicBezTo>
                                <a:pt x="86" y="8"/>
                                <a:pt x="366" y="42"/>
                                <a:pt x="517" y="49"/>
                              </a:cubicBezTo>
                              <a:cubicBezTo>
                                <a:pt x="668" y="56"/>
                                <a:pt x="826" y="46"/>
                                <a:pt x="907" y="4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7" name="Freeform 3474"/>
                        <p:cNvSpPr/>
                        <p:nvPr/>
                      </p:nvSpPr>
                      <p:spPr>
                        <a:xfrm rot="8766600">
                          <a:off x="2345760" y="3884760"/>
                          <a:ext cx="1587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363">
                              <a:moveTo>
                                <a:pt x="0" y="0"/>
                              </a:moveTo>
                              <a:cubicBezTo>
                                <a:pt x="57" y="40"/>
                                <a:pt x="235" y="178"/>
                                <a:pt x="341" y="238"/>
                              </a:cubicBezTo>
                              <a:cubicBezTo>
                                <a:pt x="447" y="298"/>
                                <a:pt x="574" y="337"/>
                                <a:pt x="635" y="363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8" name="Freeform 3475"/>
                        <p:cNvSpPr/>
                        <p:nvPr/>
                      </p:nvSpPr>
                      <p:spPr>
                        <a:xfrm rot="8766600">
                          <a:off x="2587320" y="3913560"/>
                          <a:ext cx="8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" h="1043">
                              <a:moveTo>
                                <a:pt x="0" y="0"/>
                              </a:moveTo>
                              <a:cubicBezTo>
                                <a:pt x="6" y="84"/>
                                <a:pt x="35" y="330"/>
                                <a:pt x="35" y="504"/>
                              </a:cubicBezTo>
                              <a:cubicBezTo>
                                <a:pt x="35" y="678"/>
                                <a:pt x="7" y="931"/>
                                <a:pt x="0" y="1043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9" name="Freeform 3476"/>
                        <p:cNvSpPr/>
                        <p:nvPr/>
                      </p:nvSpPr>
                      <p:spPr>
                        <a:xfrm rot="8766600">
                          <a:off x="2473560" y="3785040"/>
                          <a:ext cx="136080" cy="147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590">
                              <a:moveTo>
                                <a:pt x="544" y="0"/>
                              </a:moveTo>
                              <a:cubicBezTo>
                                <a:pt x="495" y="45"/>
                                <a:pt x="341" y="173"/>
                                <a:pt x="250" y="271"/>
                              </a:cubicBezTo>
                              <a:cubicBezTo>
                                <a:pt x="159" y="369"/>
                                <a:pt x="52" y="524"/>
                                <a:pt x="0" y="590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0" name="Freeform 3477"/>
                        <p:cNvSpPr/>
                        <p:nvPr/>
                      </p:nvSpPr>
                      <p:spPr>
                        <a:xfrm rot="8766600">
                          <a:off x="2449440" y="3701520"/>
                          <a:ext cx="124560" cy="20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817">
                              <a:moveTo>
                                <a:pt x="498" y="0"/>
                              </a:moveTo>
                              <a:cubicBezTo>
                                <a:pt x="455" y="58"/>
                                <a:pt x="323" y="210"/>
                                <a:pt x="240" y="346"/>
                              </a:cubicBezTo>
                              <a:cubicBezTo>
                                <a:pt x="157" y="482"/>
                                <a:pt x="50" y="719"/>
                                <a:pt x="0" y="817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1" name="Freeform 3478"/>
                        <p:cNvSpPr/>
                        <p:nvPr/>
                      </p:nvSpPr>
                      <p:spPr>
                        <a:xfrm rot="8766600">
                          <a:off x="2380680" y="3786840"/>
                          <a:ext cx="79200" cy="169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680">
                              <a:moveTo>
                                <a:pt x="0" y="0"/>
                              </a:moveTo>
                              <a:cubicBezTo>
                                <a:pt x="27" y="48"/>
                                <a:pt x="120" y="212"/>
                                <a:pt x="164" y="288"/>
                              </a:cubicBezTo>
                              <a:cubicBezTo>
                                <a:pt x="208" y="364"/>
                                <a:pt x="238" y="391"/>
                                <a:pt x="264" y="456"/>
                              </a:cubicBezTo>
                              <a:cubicBezTo>
                                <a:pt x="290" y="521"/>
                                <a:pt x="306" y="633"/>
                                <a:pt x="317" y="68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2" name="Freeform 3479"/>
                        <p:cNvSpPr/>
                        <p:nvPr/>
                      </p:nvSpPr>
                      <p:spPr>
                        <a:xfrm rot="9448200">
                          <a:off x="2397600" y="3985200"/>
                          <a:ext cx="1022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9" h="90">
                              <a:moveTo>
                                <a:pt x="0" y="90"/>
                              </a:moveTo>
                              <a:cubicBezTo>
                                <a:pt x="36" y="85"/>
                                <a:pt x="149" y="77"/>
                                <a:pt x="217" y="62"/>
                              </a:cubicBezTo>
                              <a:lnTo>
                                <a:pt x="409" y="0"/>
                              </a:lnTo>
                            </a:path>
                          </a:pathLst>
                        </a:custGeom>
                        <a:noFill/>
                        <a:ln cap="rnd" w="252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3" name="Freeform 3480"/>
                        <p:cNvSpPr/>
                        <p:nvPr/>
                      </p:nvSpPr>
                      <p:spPr>
                        <a:xfrm rot="8766600">
                          <a:off x="2510640" y="3936600"/>
                          <a:ext cx="68040" cy="18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44" name="Group 3481"/>
                  <p:cNvGrpSpPr/>
                  <p:nvPr/>
                </p:nvGrpSpPr>
                <p:grpSpPr>
                  <a:xfrm>
                    <a:off x="2029320" y="3408840"/>
                    <a:ext cx="665280" cy="939960"/>
                    <a:chOff x="2029320" y="3408840"/>
                    <a:chExt cx="665280" cy="939960"/>
                  </a:xfrm>
                </p:grpSpPr>
                <p:sp>
                  <p:nvSpPr>
                    <p:cNvPr id="2445" name="Freeform 3482"/>
                    <p:cNvSpPr/>
                    <p:nvPr/>
                  </p:nvSpPr>
                  <p:spPr>
                    <a:xfrm rot="9723000">
                      <a:off x="2223360" y="404640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446" name="Group 3483"/>
                    <p:cNvGrpSpPr/>
                    <p:nvPr/>
                  </p:nvGrpSpPr>
                  <p:grpSpPr>
                    <a:xfrm>
                      <a:off x="2029320" y="3408840"/>
                      <a:ext cx="665280" cy="939960"/>
                      <a:chOff x="2029320" y="3408840"/>
                      <a:chExt cx="665280" cy="939960"/>
                    </a:xfrm>
                  </p:grpSpPr>
                  <p:grpSp>
                    <p:nvGrpSpPr>
                      <p:cNvPr id="2447" name="Group 3484"/>
                      <p:cNvGrpSpPr/>
                      <p:nvPr/>
                    </p:nvGrpSpPr>
                    <p:grpSpPr>
                      <a:xfrm>
                        <a:off x="2196720" y="3408840"/>
                        <a:ext cx="199800" cy="664200"/>
                        <a:chOff x="2196720" y="3408840"/>
                        <a:chExt cx="199800" cy="664200"/>
                      </a:xfrm>
                    </p:grpSpPr>
                    <p:sp>
                      <p:nvSpPr>
                        <p:cNvPr id="2448" name="AutoShape 3485"/>
                        <p:cNvSpPr/>
                        <p:nvPr/>
                      </p:nvSpPr>
                      <p:spPr>
                        <a:xfrm rot="9723000">
                          <a:off x="2295720" y="3981600"/>
                          <a:ext cx="90720" cy="79200"/>
                        </a:xfrm>
                        <a:prstGeom prst="irregularSeal1">
                          <a:avLst/>
                        </a:prstGeom>
                        <a:solidFill>
                          <a:srgbClr val="ffffff">
                            <a:alpha val="1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2320" bIns="-2232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9" name="Freeform 3486"/>
                        <p:cNvSpPr/>
                        <p:nvPr/>
                      </p:nvSpPr>
                      <p:spPr>
                        <a:xfrm rot="9723000">
                          <a:off x="2266920" y="3575160"/>
                          <a:ext cx="46080" cy="43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5" h="1735">
                              <a:moveTo>
                                <a:pt x="185" y="0"/>
                              </a:moveTo>
                              <a:cubicBezTo>
                                <a:pt x="174" y="126"/>
                                <a:pt x="137" y="578"/>
                                <a:pt x="120" y="757"/>
                              </a:cubicBezTo>
                              <a:lnTo>
                                <a:pt x="84" y="1075"/>
                              </a:lnTo>
                              <a:lnTo>
                                <a:pt x="0" y="1735"/>
                              </a:lnTo>
                            </a:path>
                          </a:pathLst>
                        </a:custGeom>
                        <a:noFill/>
                        <a:ln w="11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0" name="Oval 3487"/>
                        <p:cNvSpPr/>
                        <p:nvPr/>
                      </p:nvSpPr>
                      <p:spPr>
                        <a:xfrm rot="10266600">
                          <a:off x="2211120" y="3411000"/>
                          <a:ext cx="45360" cy="192600"/>
                        </a:xfrm>
                        <a:prstGeom prst="ellipse">
                          <a:avLst/>
                        </a:prstGeom>
                        <a:solidFill>
                          <a:srgbClr val="ffffff">
                            <a:alpha val="1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451" name="Group 3488"/>
                      <p:cNvGrpSpPr/>
                      <p:nvPr/>
                    </p:nvGrpSpPr>
                    <p:grpSpPr>
                      <a:xfrm>
                        <a:off x="2029320" y="3761640"/>
                        <a:ext cx="665280" cy="587160"/>
                        <a:chOff x="2029320" y="3761640"/>
                        <a:chExt cx="665280" cy="587160"/>
                      </a:xfrm>
                    </p:grpSpPr>
                    <p:sp>
                      <p:nvSpPr>
                        <p:cNvPr id="2452" name="Freeform 3489"/>
                        <p:cNvSpPr/>
                        <p:nvPr/>
                      </p:nvSpPr>
                      <p:spPr>
                        <a:xfrm rot="9723000">
                          <a:off x="2331360" y="3938760"/>
                          <a:ext cx="158040" cy="7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2" h="303">
                              <a:moveTo>
                                <a:pt x="544" y="303"/>
                              </a:moveTo>
                              <a:cubicBezTo>
                                <a:pt x="553" y="278"/>
                                <a:pt x="593" y="184"/>
                                <a:pt x="598" y="153"/>
                              </a:cubicBezTo>
                              <a:cubicBezTo>
                                <a:pt x="603" y="122"/>
                                <a:pt x="632" y="137"/>
                                <a:pt x="574" y="117"/>
                              </a:cubicBezTo>
                              <a:cubicBezTo>
                                <a:pt x="516" y="97"/>
                                <a:pt x="346" y="0"/>
                                <a:pt x="250" y="31"/>
                              </a:cubicBezTo>
                              <a:cubicBezTo>
                                <a:pt x="154" y="62"/>
                                <a:pt x="52" y="245"/>
                                <a:pt x="0" y="303"/>
                              </a:cubicBez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0" bIns="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3" name="Freeform 3490"/>
                        <p:cNvSpPr/>
                        <p:nvPr/>
                      </p:nvSpPr>
                      <p:spPr>
                        <a:xfrm rot="9723000">
                          <a:off x="2332800" y="3904200"/>
                          <a:ext cx="27252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9" h="272">
                              <a:moveTo>
                                <a:pt x="1089" y="0"/>
                              </a:moveTo>
                              <a:cubicBezTo>
                                <a:pt x="988" y="18"/>
                                <a:pt x="663" y="64"/>
                                <a:pt x="482" y="109"/>
                              </a:cubicBezTo>
                              <a:cubicBezTo>
                                <a:pt x="301" y="154"/>
                                <a:pt x="100" y="238"/>
                                <a:pt x="0" y="2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4" name="Freeform 3491"/>
                        <p:cNvSpPr/>
                        <p:nvPr/>
                      </p:nvSpPr>
                      <p:spPr>
                        <a:xfrm rot="9723000">
                          <a:off x="2363760" y="3963600"/>
                          <a:ext cx="28404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272">
                              <a:moveTo>
                                <a:pt x="1134" y="272"/>
                              </a:moveTo>
                              <a:cubicBezTo>
                                <a:pt x="1024" y="241"/>
                                <a:pt x="663" y="129"/>
                                <a:pt x="474" y="84"/>
                              </a:cubicBezTo>
                              <a:cubicBezTo>
                                <a:pt x="285" y="39"/>
                                <a:pt x="99" y="1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5" name="Freeform 3492"/>
                        <p:cNvSpPr/>
                        <p:nvPr/>
                      </p:nvSpPr>
                      <p:spPr>
                        <a:xfrm rot="9723000">
                          <a:off x="2392200" y="3964680"/>
                          <a:ext cx="2955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0" h="363">
                              <a:moveTo>
                                <a:pt x="1180" y="363"/>
                              </a:moveTo>
                              <a:cubicBezTo>
                                <a:pt x="1067" y="321"/>
                                <a:pt x="699" y="172"/>
                                <a:pt x="502" y="112"/>
                              </a:cubicBezTo>
                              <a:cubicBezTo>
                                <a:pt x="305" y="52"/>
                                <a:pt x="105" y="23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6" name="Freeform 3493"/>
                        <p:cNvSpPr/>
                        <p:nvPr/>
                      </p:nvSpPr>
                      <p:spPr>
                        <a:xfrm rot="9723000">
                          <a:off x="2375280" y="3969000"/>
                          <a:ext cx="293760" cy="11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3" h="461">
                              <a:moveTo>
                                <a:pt x="1173" y="461"/>
                              </a:moveTo>
                              <a:cubicBezTo>
                                <a:pt x="1088" y="425"/>
                                <a:pt x="862" y="323"/>
                                <a:pt x="666" y="246"/>
                              </a:cubicBezTo>
                              <a:cubicBezTo>
                                <a:pt x="470" y="169"/>
                                <a:pt x="139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7" name="Freeform 3494"/>
                        <p:cNvSpPr/>
                        <p:nvPr/>
                      </p:nvSpPr>
                      <p:spPr>
                        <a:xfrm rot="9723000">
                          <a:off x="2352600" y="3979800"/>
                          <a:ext cx="284040" cy="11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453">
                              <a:moveTo>
                                <a:pt x="1134" y="453"/>
                              </a:moveTo>
                              <a:cubicBezTo>
                                <a:pt x="1034" y="407"/>
                                <a:pt x="722" y="254"/>
                                <a:pt x="533" y="178"/>
                              </a:cubicBezTo>
                              <a:cubicBezTo>
                                <a:pt x="344" y="102"/>
                                <a:pt x="111" y="3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8" name="Freeform 3495"/>
                        <p:cNvSpPr/>
                        <p:nvPr/>
                      </p:nvSpPr>
                      <p:spPr>
                        <a:xfrm rot="9723000">
                          <a:off x="2376000" y="3985560"/>
                          <a:ext cx="214200" cy="18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6" h="724">
                              <a:moveTo>
                                <a:pt x="856" y="724"/>
                              </a:moveTo>
                              <a:lnTo>
                                <a:pt x="372" y="234"/>
                              </a:lnTo>
                              <a:cubicBezTo>
                                <a:pt x="229" y="113"/>
                                <a:pt x="77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9" name="Freeform 3496"/>
                        <p:cNvSpPr/>
                        <p:nvPr/>
                      </p:nvSpPr>
                      <p:spPr>
                        <a:xfrm rot="9723000">
                          <a:off x="2375280" y="3991320"/>
                          <a:ext cx="249840" cy="15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lnTo>
                                <a:pt x="220" y="1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0" name="Freeform 3497"/>
                        <p:cNvSpPr/>
                        <p:nvPr/>
                      </p:nvSpPr>
                      <p:spPr>
                        <a:xfrm rot="9723000">
                          <a:off x="2332440" y="3969720"/>
                          <a:ext cx="249840" cy="15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cubicBezTo>
                                <a:pt x="882" y="554"/>
                                <a:pt x="466" y="255"/>
                                <a:pt x="300" y="149"/>
                              </a:cubicBezTo>
                              <a:cubicBezTo>
                                <a:pt x="134" y="43"/>
                                <a:pt x="62" y="3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1" name="Freeform 3498"/>
                        <p:cNvSpPr/>
                        <p:nvPr/>
                      </p:nvSpPr>
                      <p:spPr>
                        <a:xfrm rot="9723000">
                          <a:off x="2358720" y="3972960"/>
                          <a:ext cx="262800" cy="244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50" h="980">
                              <a:moveTo>
                                <a:pt x="1050" y="980"/>
                              </a:moveTo>
                              <a:lnTo>
                                <a:pt x="378" y="234"/>
                              </a:lnTo>
                              <a:cubicBezTo>
                                <a:pt x="203" y="71"/>
                                <a:pt x="79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2" name="Line 3499"/>
                        <p:cNvSpPr/>
                        <p:nvPr/>
                      </p:nvSpPr>
                      <p:spPr>
                        <a:xfrm>
                          <a:off x="2310480" y="4001040"/>
                          <a:ext cx="260280" cy="177480"/>
                        </a:xfrm>
                        <a:prstGeom prst="line">
                          <a:avLst/>
                        </a:prstGeom>
                        <a:ln w="252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3" name="Freeform 3500"/>
                        <p:cNvSpPr/>
                        <p:nvPr/>
                      </p:nvSpPr>
                      <p:spPr>
                        <a:xfrm rot="9723000">
                          <a:off x="2355480" y="3967200"/>
                          <a:ext cx="158760" cy="24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997">
                              <a:moveTo>
                                <a:pt x="635" y="997"/>
                              </a:moveTo>
                              <a:cubicBezTo>
                                <a:pt x="569" y="887"/>
                                <a:pt x="345" y="500"/>
                                <a:pt x="239" y="334"/>
                              </a:cubicBezTo>
                              <a:cubicBezTo>
                                <a:pt x="133" y="168"/>
                                <a:pt x="50" y="7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4" name="Freeform 3501"/>
                        <p:cNvSpPr/>
                        <p:nvPr/>
                      </p:nvSpPr>
                      <p:spPr>
                        <a:xfrm rot="9723000">
                          <a:off x="2360880" y="3983400"/>
                          <a:ext cx="123120" cy="25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2" h="1026">
                              <a:moveTo>
                                <a:pt x="492" y="1026"/>
                              </a:moveTo>
                              <a:cubicBezTo>
                                <a:pt x="452" y="924"/>
                                <a:pt x="334" y="585"/>
                                <a:pt x="252" y="414"/>
                              </a:cubicBezTo>
                              <a:cubicBezTo>
                                <a:pt x="170" y="243"/>
                                <a:pt x="53" y="8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5" name="Freeform 3502"/>
                        <p:cNvSpPr/>
                        <p:nvPr/>
                      </p:nvSpPr>
                      <p:spPr>
                        <a:xfrm rot="9723000">
                          <a:off x="2363760" y="3988800"/>
                          <a:ext cx="82440" cy="27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0" h="1086">
                              <a:moveTo>
                                <a:pt x="330" y="1086"/>
                              </a:moveTo>
                              <a:cubicBezTo>
                                <a:pt x="302" y="966"/>
                                <a:pt x="217" y="547"/>
                                <a:pt x="162" y="366"/>
                              </a:cubicBezTo>
                              <a:cubicBezTo>
                                <a:pt x="107" y="185"/>
                                <a:pt x="34" y="7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6" name="Freeform 3503"/>
                        <p:cNvSpPr/>
                        <p:nvPr/>
                      </p:nvSpPr>
                      <p:spPr>
                        <a:xfrm rot="9723000">
                          <a:off x="2353680" y="3988080"/>
                          <a:ext cx="41040" cy="28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4" h="1160">
                              <a:moveTo>
                                <a:pt x="164" y="1160"/>
                              </a:moveTo>
                              <a:cubicBezTo>
                                <a:pt x="148" y="1008"/>
                                <a:pt x="93" y="439"/>
                                <a:pt x="66" y="246"/>
                              </a:cubicBezTo>
                              <a:cubicBezTo>
                                <a:pt x="39" y="53"/>
                                <a:pt x="14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7" name="Freeform 3504"/>
                        <p:cNvSpPr/>
                        <p:nvPr/>
                      </p:nvSpPr>
                      <p:spPr>
                        <a:xfrm rot="9723000">
                          <a:off x="2348640" y="4000680"/>
                          <a:ext cx="47520" cy="31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1" h="1259">
                              <a:moveTo>
                                <a:pt x="140" y="1259"/>
                              </a:moveTo>
                              <a:cubicBezTo>
                                <a:pt x="145" y="1113"/>
                                <a:pt x="191" y="594"/>
                                <a:pt x="168" y="384"/>
                              </a:cubicBezTo>
                              <a:cubicBezTo>
                                <a:pt x="145" y="174"/>
                                <a:pt x="35" y="8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8" name="Freeform 3505"/>
                        <p:cNvSpPr/>
                        <p:nvPr/>
                      </p:nvSpPr>
                      <p:spPr>
                        <a:xfrm rot="9723000">
                          <a:off x="2320560" y="3997800"/>
                          <a:ext cx="45000" cy="28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1" h="1134">
                              <a:moveTo>
                                <a:pt x="0" y="1134"/>
                              </a:moveTo>
                              <a:cubicBezTo>
                                <a:pt x="19" y="988"/>
                                <a:pt x="85" y="445"/>
                                <a:pt x="115" y="256"/>
                              </a:cubicBezTo>
                              <a:cubicBezTo>
                                <a:pt x="145" y="67"/>
                                <a:pt x="167" y="53"/>
                                <a:pt x="181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9" name="Freeform 3506"/>
                        <p:cNvSpPr/>
                        <p:nvPr/>
                      </p:nvSpPr>
                      <p:spPr>
                        <a:xfrm rot="9723000">
                          <a:off x="2273040" y="4017960"/>
                          <a:ext cx="79200" cy="23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0" name="Freeform 3507"/>
                        <p:cNvSpPr/>
                        <p:nvPr/>
                      </p:nvSpPr>
                      <p:spPr>
                        <a:xfrm rot="9723000">
                          <a:off x="2217960" y="4036680"/>
                          <a:ext cx="158760" cy="29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1179">
                              <a:moveTo>
                                <a:pt x="0" y="1179"/>
                              </a:moveTo>
                              <a:cubicBezTo>
                                <a:pt x="70" y="1066"/>
                                <a:pt x="315" y="697"/>
                                <a:pt x="421" y="501"/>
                              </a:cubicBezTo>
                              <a:cubicBezTo>
                                <a:pt x="527" y="305"/>
                                <a:pt x="591" y="105"/>
                                <a:pt x="635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1" name="Freeform 3508"/>
                        <p:cNvSpPr/>
                        <p:nvPr/>
                      </p:nvSpPr>
                      <p:spPr>
                        <a:xfrm rot="9723000">
                          <a:off x="2163600" y="4033800"/>
                          <a:ext cx="204120" cy="24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6" h="998">
                              <a:moveTo>
                                <a:pt x="0" y="998"/>
                              </a:moveTo>
                              <a:cubicBezTo>
                                <a:pt x="102" y="891"/>
                                <a:pt x="477" y="523"/>
                                <a:pt x="613" y="357"/>
                              </a:cubicBezTo>
                              <a:cubicBezTo>
                                <a:pt x="749" y="191"/>
                                <a:pt x="774" y="75"/>
                                <a:pt x="816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2" name="Freeform 3509"/>
                        <p:cNvSpPr/>
                        <p:nvPr/>
                      </p:nvSpPr>
                      <p:spPr>
                        <a:xfrm rot="9723000">
                          <a:off x="2110680" y="4043880"/>
                          <a:ext cx="238320" cy="19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2" h="771">
                              <a:moveTo>
                                <a:pt x="0" y="771"/>
                              </a:moveTo>
                              <a:cubicBezTo>
                                <a:pt x="91" y="704"/>
                                <a:pt x="385" y="497"/>
                                <a:pt x="544" y="369"/>
                              </a:cubicBezTo>
                              <a:cubicBezTo>
                                <a:pt x="703" y="241"/>
                                <a:pt x="867" y="77"/>
                                <a:pt x="952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3" name="Freeform 3510"/>
                        <p:cNvSpPr/>
                        <p:nvPr/>
                      </p:nvSpPr>
                      <p:spPr>
                        <a:xfrm rot="9723000">
                          <a:off x="2072160" y="4050000"/>
                          <a:ext cx="272520" cy="15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8" h="635">
                              <a:moveTo>
                                <a:pt x="0" y="635"/>
                              </a:moveTo>
                              <a:cubicBezTo>
                                <a:pt x="109" y="581"/>
                                <a:pt x="471" y="417"/>
                                <a:pt x="652" y="311"/>
                              </a:cubicBezTo>
                              <a:cubicBezTo>
                                <a:pt x="833" y="205"/>
                                <a:pt x="997" y="65"/>
                                <a:pt x="1088" y="0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4" name="Freeform 3511"/>
                        <p:cNvSpPr/>
                        <p:nvPr/>
                      </p:nvSpPr>
                      <p:spPr>
                        <a:xfrm rot="9723000">
                          <a:off x="2045880" y="4039560"/>
                          <a:ext cx="317880" cy="15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0" h="635">
                              <a:moveTo>
                                <a:pt x="0" y="635"/>
                              </a:moveTo>
                              <a:cubicBezTo>
                                <a:pt x="120" y="588"/>
                                <a:pt x="537" y="430"/>
                                <a:pt x="719" y="352"/>
                              </a:cubicBezTo>
                              <a:cubicBezTo>
                                <a:pt x="901" y="274"/>
                                <a:pt x="999" y="225"/>
                                <a:pt x="1091" y="166"/>
                              </a:cubicBezTo>
                              <a:cubicBezTo>
                                <a:pt x="1183" y="107"/>
                                <a:pt x="1233" y="35"/>
                                <a:pt x="127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5" name="Freeform 3512"/>
                        <p:cNvSpPr/>
                        <p:nvPr/>
                      </p:nvSpPr>
                      <p:spPr>
                        <a:xfrm rot="9723000">
                          <a:off x="2130480" y="4010760"/>
                          <a:ext cx="19440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6" h="87">
                              <a:moveTo>
                                <a:pt x="0" y="0"/>
                              </a:moveTo>
                              <a:cubicBezTo>
                                <a:pt x="63" y="14"/>
                                <a:pt x="255" y="81"/>
                                <a:pt x="384" y="84"/>
                              </a:cubicBezTo>
                              <a:cubicBezTo>
                                <a:pt x="513" y="87"/>
                                <a:pt x="694" y="33"/>
                                <a:pt x="776" y="2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6" name="Freeform 3513"/>
                        <p:cNvSpPr/>
                        <p:nvPr/>
                      </p:nvSpPr>
                      <p:spPr>
                        <a:xfrm rot="9723000">
                          <a:off x="2182320" y="3985920"/>
                          <a:ext cx="13608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135">
                              <a:moveTo>
                                <a:pt x="0" y="0"/>
                              </a:moveTo>
                              <a:lnTo>
                                <a:pt x="289" y="99"/>
                              </a:lnTo>
                              <a:cubicBezTo>
                                <a:pt x="380" y="121"/>
                                <a:pt x="491" y="128"/>
                                <a:pt x="544" y="13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7" name="Freeform 3514"/>
                        <p:cNvSpPr/>
                        <p:nvPr/>
                      </p:nvSpPr>
                      <p:spPr>
                        <a:xfrm rot="9723000">
                          <a:off x="2229480" y="3930840"/>
                          <a:ext cx="9072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3" h="272">
                              <a:moveTo>
                                <a:pt x="0" y="0"/>
                              </a:moveTo>
                              <a:cubicBezTo>
                                <a:pt x="34" y="32"/>
                                <a:pt x="143" y="147"/>
                                <a:pt x="203" y="192"/>
                              </a:cubicBezTo>
                              <a:cubicBezTo>
                                <a:pt x="263" y="237"/>
                                <a:pt x="330" y="255"/>
                                <a:pt x="363" y="272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8" name="Freeform 3515"/>
                        <p:cNvSpPr/>
                        <p:nvPr/>
                      </p:nvSpPr>
                      <p:spPr>
                        <a:xfrm rot="9723000">
                          <a:off x="2264040" y="3915000"/>
                          <a:ext cx="6480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0" h="306">
                              <a:moveTo>
                                <a:pt x="0" y="0"/>
                              </a:moveTo>
                              <a:cubicBezTo>
                                <a:pt x="24" y="33"/>
                                <a:pt x="103" y="147"/>
                                <a:pt x="146" y="198"/>
                              </a:cubicBezTo>
                              <a:cubicBezTo>
                                <a:pt x="189" y="249"/>
                                <a:pt x="236" y="284"/>
                                <a:pt x="260" y="306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9" name="Freeform 3516"/>
                        <p:cNvSpPr/>
                        <p:nvPr/>
                      </p:nvSpPr>
                      <p:spPr>
                        <a:xfrm rot="9723000">
                          <a:off x="2333880" y="3973680"/>
                          <a:ext cx="22716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72">
                              <a:moveTo>
                                <a:pt x="0" y="27"/>
                              </a:moveTo>
                              <a:cubicBezTo>
                                <a:pt x="55" y="24"/>
                                <a:pt x="180" y="0"/>
                                <a:pt x="331" y="7"/>
                              </a:cubicBezTo>
                              <a:cubicBezTo>
                                <a:pt x="482" y="14"/>
                                <a:pt x="787" y="59"/>
                                <a:pt x="907" y="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0" name="Freeform 3517"/>
                        <p:cNvSpPr/>
                        <p:nvPr/>
                      </p:nvSpPr>
                      <p:spPr>
                        <a:xfrm rot="9723000">
                          <a:off x="2100240" y="4030200"/>
                          <a:ext cx="22716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56">
                              <a:moveTo>
                                <a:pt x="0" y="0"/>
                              </a:moveTo>
                              <a:cubicBezTo>
                                <a:pt x="86" y="8"/>
                                <a:pt x="366" y="42"/>
                                <a:pt x="517" y="49"/>
                              </a:cubicBezTo>
                              <a:cubicBezTo>
                                <a:pt x="668" y="56"/>
                                <a:pt x="826" y="46"/>
                                <a:pt x="907" y="4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1" name="Freeform 3518"/>
                        <p:cNvSpPr/>
                        <p:nvPr/>
                      </p:nvSpPr>
                      <p:spPr>
                        <a:xfrm rot="9723000">
                          <a:off x="2162520" y="3930120"/>
                          <a:ext cx="1587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363">
                              <a:moveTo>
                                <a:pt x="0" y="0"/>
                              </a:moveTo>
                              <a:cubicBezTo>
                                <a:pt x="57" y="40"/>
                                <a:pt x="235" y="178"/>
                                <a:pt x="341" y="238"/>
                              </a:cubicBezTo>
                              <a:cubicBezTo>
                                <a:pt x="447" y="298"/>
                                <a:pt x="574" y="337"/>
                                <a:pt x="635" y="363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2" name="Freeform 3519"/>
                        <p:cNvSpPr/>
                        <p:nvPr/>
                      </p:nvSpPr>
                      <p:spPr>
                        <a:xfrm rot="9723000">
                          <a:off x="2367000" y="3999960"/>
                          <a:ext cx="8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" h="1043">
                              <a:moveTo>
                                <a:pt x="0" y="0"/>
                              </a:moveTo>
                              <a:cubicBezTo>
                                <a:pt x="6" y="84"/>
                                <a:pt x="35" y="330"/>
                                <a:pt x="35" y="504"/>
                              </a:cubicBezTo>
                              <a:cubicBezTo>
                                <a:pt x="35" y="678"/>
                                <a:pt x="7" y="931"/>
                                <a:pt x="0" y="1043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3" name="Freeform 3520"/>
                        <p:cNvSpPr/>
                        <p:nvPr/>
                      </p:nvSpPr>
                      <p:spPr>
                        <a:xfrm rot="9723000">
                          <a:off x="2305800" y="3865680"/>
                          <a:ext cx="136080" cy="14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590">
                              <a:moveTo>
                                <a:pt x="544" y="0"/>
                              </a:moveTo>
                              <a:cubicBezTo>
                                <a:pt x="495" y="45"/>
                                <a:pt x="341" y="173"/>
                                <a:pt x="250" y="271"/>
                              </a:cubicBezTo>
                              <a:cubicBezTo>
                                <a:pt x="159" y="369"/>
                                <a:pt x="52" y="524"/>
                                <a:pt x="0" y="590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4" name="Freeform 3521"/>
                        <p:cNvSpPr/>
                        <p:nvPr/>
                      </p:nvSpPr>
                      <p:spPr>
                        <a:xfrm rot="9723000">
                          <a:off x="2297880" y="3775680"/>
                          <a:ext cx="124560" cy="20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817">
                              <a:moveTo>
                                <a:pt x="498" y="0"/>
                              </a:moveTo>
                              <a:cubicBezTo>
                                <a:pt x="455" y="58"/>
                                <a:pt x="323" y="210"/>
                                <a:pt x="240" y="346"/>
                              </a:cubicBezTo>
                              <a:cubicBezTo>
                                <a:pt x="157" y="482"/>
                                <a:pt x="50" y="719"/>
                                <a:pt x="0" y="817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5" name="Freeform 3522"/>
                        <p:cNvSpPr/>
                        <p:nvPr/>
                      </p:nvSpPr>
                      <p:spPr>
                        <a:xfrm rot="9723000">
                          <a:off x="2213640" y="3833280"/>
                          <a:ext cx="79200" cy="169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680">
                              <a:moveTo>
                                <a:pt x="0" y="0"/>
                              </a:moveTo>
                              <a:cubicBezTo>
                                <a:pt x="27" y="48"/>
                                <a:pt x="120" y="212"/>
                                <a:pt x="164" y="288"/>
                              </a:cubicBezTo>
                              <a:cubicBezTo>
                                <a:pt x="208" y="364"/>
                                <a:pt x="238" y="391"/>
                                <a:pt x="264" y="456"/>
                              </a:cubicBezTo>
                              <a:cubicBezTo>
                                <a:pt x="290" y="521"/>
                                <a:pt x="306" y="633"/>
                                <a:pt x="317" y="68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6" name="Freeform 3523"/>
                        <p:cNvSpPr/>
                        <p:nvPr/>
                      </p:nvSpPr>
                      <p:spPr>
                        <a:xfrm rot="10404600">
                          <a:off x="2195640" y="4034520"/>
                          <a:ext cx="1022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9" h="90">
                              <a:moveTo>
                                <a:pt x="0" y="90"/>
                              </a:moveTo>
                              <a:cubicBezTo>
                                <a:pt x="36" y="85"/>
                                <a:pt x="149" y="77"/>
                                <a:pt x="217" y="62"/>
                              </a:cubicBezTo>
                              <a:lnTo>
                                <a:pt x="409" y="0"/>
                              </a:lnTo>
                            </a:path>
                          </a:pathLst>
                        </a:custGeom>
                        <a:noFill/>
                        <a:ln cap="rnd" w="252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7" name="Freeform 3524"/>
                        <p:cNvSpPr/>
                        <p:nvPr/>
                      </p:nvSpPr>
                      <p:spPr>
                        <a:xfrm rot="9723000">
                          <a:off x="2296800" y="4010760"/>
                          <a:ext cx="68040" cy="18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88" name="Group 3657"/>
                  <p:cNvGrpSpPr/>
                  <p:nvPr/>
                </p:nvGrpSpPr>
                <p:grpSpPr>
                  <a:xfrm>
                    <a:off x="2261520" y="3395160"/>
                    <a:ext cx="784440" cy="795960"/>
                    <a:chOff x="2261520" y="3395160"/>
                    <a:chExt cx="784440" cy="795960"/>
                  </a:xfrm>
                </p:grpSpPr>
                <p:sp>
                  <p:nvSpPr>
                    <p:cNvPr id="2489" name="Freeform 3658"/>
                    <p:cNvSpPr/>
                    <p:nvPr/>
                  </p:nvSpPr>
                  <p:spPr>
                    <a:xfrm rot="7828800">
                      <a:off x="2612880" y="3918600"/>
                      <a:ext cx="1022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90">
                          <a:moveTo>
                            <a:pt x="0" y="90"/>
                          </a:moveTo>
                          <a:cubicBezTo>
                            <a:pt x="36" y="85"/>
                            <a:pt x="149" y="77"/>
                            <a:pt x="217" y="62"/>
                          </a:cubicBezTo>
                          <a:lnTo>
                            <a:pt x="409" y="0"/>
                          </a:lnTo>
                        </a:path>
                      </a:pathLst>
                    </a:custGeom>
                    <a:noFill/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490" name="Group 3659"/>
                    <p:cNvGrpSpPr/>
                    <p:nvPr/>
                  </p:nvGrpSpPr>
                  <p:grpSpPr>
                    <a:xfrm>
                      <a:off x="2261520" y="3395160"/>
                      <a:ext cx="784440" cy="795960"/>
                      <a:chOff x="2261520" y="3395160"/>
                      <a:chExt cx="784440" cy="795960"/>
                    </a:xfrm>
                  </p:grpSpPr>
                  <p:grpSp>
                    <p:nvGrpSpPr>
                      <p:cNvPr id="2491" name="Group 3660"/>
                      <p:cNvGrpSpPr/>
                      <p:nvPr/>
                    </p:nvGrpSpPr>
                    <p:grpSpPr>
                      <a:xfrm>
                        <a:off x="2261520" y="3395160"/>
                        <a:ext cx="499680" cy="529560"/>
                        <a:chOff x="2261520" y="3395160"/>
                        <a:chExt cx="499680" cy="529560"/>
                      </a:xfrm>
                    </p:grpSpPr>
                    <p:sp>
                      <p:nvSpPr>
                        <p:cNvPr id="2492" name="AutoShape 3661"/>
                        <p:cNvSpPr/>
                        <p:nvPr/>
                      </p:nvSpPr>
                      <p:spPr>
                        <a:xfrm rot="7828800">
                          <a:off x="2656080" y="3824640"/>
                          <a:ext cx="90720" cy="79200"/>
                        </a:xfrm>
                        <a:prstGeom prst="irregularSeal1">
                          <a:avLst/>
                        </a:prstGeom>
                        <a:solidFill>
                          <a:srgbClr val="ffffff">
                            <a:alpha val="1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2320" bIns="-2232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3" name="Freeform 3662"/>
                        <p:cNvSpPr/>
                        <p:nvPr/>
                      </p:nvSpPr>
                      <p:spPr>
                        <a:xfrm rot="7828800">
                          <a:off x="2514960" y="3479040"/>
                          <a:ext cx="46080" cy="433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5" h="1735">
                              <a:moveTo>
                                <a:pt x="185" y="0"/>
                              </a:moveTo>
                              <a:cubicBezTo>
                                <a:pt x="174" y="126"/>
                                <a:pt x="137" y="578"/>
                                <a:pt x="120" y="757"/>
                              </a:cubicBezTo>
                              <a:lnTo>
                                <a:pt x="84" y="1075"/>
                              </a:lnTo>
                              <a:lnTo>
                                <a:pt x="0" y="1735"/>
                              </a:lnTo>
                            </a:path>
                          </a:pathLst>
                        </a:custGeom>
                        <a:noFill/>
                        <a:ln w="11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4" name="Oval 3663"/>
                        <p:cNvSpPr/>
                        <p:nvPr/>
                      </p:nvSpPr>
                      <p:spPr>
                        <a:xfrm rot="8371800">
                          <a:off x="2318400" y="3386520"/>
                          <a:ext cx="45360" cy="192600"/>
                        </a:xfrm>
                        <a:prstGeom prst="ellipse">
                          <a:avLst/>
                        </a:prstGeom>
                        <a:solidFill>
                          <a:srgbClr val="ffffff">
                            <a:alpha val="1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495" name="Group 3664"/>
                      <p:cNvGrpSpPr/>
                      <p:nvPr/>
                    </p:nvGrpSpPr>
                    <p:grpSpPr>
                      <a:xfrm>
                        <a:off x="2473200" y="3600360"/>
                        <a:ext cx="572760" cy="590760"/>
                        <a:chOff x="2473200" y="3600360"/>
                        <a:chExt cx="572760" cy="590760"/>
                      </a:xfrm>
                    </p:grpSpPr>
                    <p:sp>
                      <p:nvSpPr>
                        <p:cNvPr id="2496" name="Freeform 3665"/>
                        <p:cNvSpPr/>
                        <p:nvPr/>
                      </p:nvSpPr>
                      <p:spPr>
                        <a:xfrm rot="7828800">
                          <a:off x="2658240" y="3752280"/>
                          <a:ext cx="158040" cy="7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2" h="303">
                              <a:moveTo>
                                <a:pt x="544" y="303"/>
                              </a:moveTo>
                              <a:cubicBezTo>
                                <a:pt x="553" y="278"/>
                                <a:pt x="593" y="184"/>
                                <a:pt x="598" y="153"/>
                              </a:cubicBezTo>
                              <a:cubicBezTo>
                                <a:pt x="603" y="122"/>
                                <a:pt x="632" y="137"/>
                                <a:pt x="574" y="117"/>
                              </a:cubicBezTo>
                              <a:cubicBezTo>
                                <a:pt x="516" y="97"/>
                                <a:pt x="346" y="0"/>
                                <a:pt x="250" y="31"/>
                              </a:cubicBezTo>
                              <a:cubicBezTo>
                                <a:pt x="154" y="62"/>
                                <a:pt x="52" y="245"/>
                                <a:pt x="0" y="303"/>
                              </a:cubicBezTo>
                            </a:path>
                          </a:pathLst>
                        </a:custGeom>
                        <a:noFill/>
                        <a:ln cap="rnd" w="144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0" bIns="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7" name="Freeform 3666"/>
                        <p:cNvSpPr/>
                        <p:nvPr/>
                      </p:nvSpPr>
                      <p:spPr>
                        <a:xfrm rot="7828800">
                          <a:off x="2630520" y="3692160"/>
                          <a:ext cx="2725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9" h="272">
                              <a:moveTo>
                                <a:pt x="1089" y="0"/>
                              </a:moveTo>
                              <a:cubicBezTo>
                                <a:pt x="988" y="18"/>
                                <a:pt x="663" y="64"/>
                                <a:pt x="482" y="109"/>
                              </a:cubicBezTo>
                              <a:cubicBezTo>
                                <a:pt x="301" y="154"/>
                                <a:pt x="100" y="238"/>
                                <a:pt x="0" y="2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8" name="Freeform 3667"/>
                        <p:cNvSpPr/>
                        <p:nvPr/>
                      </p:nvSpPr>
                      <p:spPr>
                        <a:xfrm rot="7828800">
                          <a:off x="2687400" y="3723480"/>
                          <a:ext cx="28368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272">
                              <a:moveTo>
                                <a:pt x="1134" y="272"/>
                              </a:moveTo>
                              <a:cubicBezTo>
                                <a:pt x="1024" y="241"/>
                                <a:pt x="663" y="129"/>
                                <a:pt x="474" y="84"/>
                              </a:cubicBezTo>
                              <a:cubicBezTo>
                                <a:pt x="285" y="39"/>
                                <a:pt x="99" y="1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9" name="Freeform 3668"/>
                        <p:cNvSpPr/>
                        <p:nvPr/>
                      </p:nvSpPr>
                      <p:spPr>
                        <a:xfrm rot="7828800">
                          <a:off x="2717280" y="3705120"/>
                          <a:ext cx="29520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0" h="363">
                              <a:moveTo>
                                <a:pt x="1180" y="363"/>
                              </a:moveTo>
                              <a:cubicBezTo>
                                <a:pt x="1067" y="321"/>
                                <a:pt x="699" y="172"/>
                                <a:pt x="502" y="112"/>
                              </a:cubicBezTo>
                              <a:cubicBezTo>
                                <a:pt x="305" y="52"/>
                                <a:pt x="105" y="23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0" name="Freeform 3669"/>
                        <p:cNvSpPr/>
                        <p:nvPr/>
                      </p:nvSpPr>
                      <p:spPr>
                        <a:xfrm rot="7828800">
                          <a:off x="2712240" y="3716280"/>
                          <a:ext cx="293400" cy="11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3" h="461">
                              <a:moveTo>
                                <a:pt x="1173" y="461"/>
                              </a:moveTo>
                              <a:cubicBezTo>
                                <a:pt x="1088" y="425"/>
                                <a:pt x="862" y="323"/>
                                <a:pt x="666" y="246"/>
                              </a:cubicBezTo>
                              <a:cubicBezTo>
                                <a:pt x="470" y="169"/>
                                <a:pt x="139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1" name="Freeform 3670"/>
                        <p:cNvSpPr/>
                        <p:nvPr/>
                      </p:nvSpPr>
                      <p:spPr>
                        <a:xfrm rot="7828800">
                          <a:off x="2698560" y="3739680"/>
                          <a:ext cx="283680" cy="11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4" h="453">
                              <a:moveTo>
                                <a:pt x="1134" y="453"/>
                              </a:moveTo>
                              <a:cubicBezTo>
                                <a:pt x="1034" y="407"/>
                                <a:pt x="722" y="254"/>
                                <a:pt x="533" y="178"/>
                              </a:cubicBezTo>
                              <a:cubicBezTo>
                                <a:pt x="344" y="102"/>
                                <a:pt x="111" y="37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2" name="Freeform 3671"/>
                        <p:cNvSpPr/>
                        <p:nvPr/>
                      </p:nvSpPr>
                      <p:spPr>
                        <a:xfrm rot="7828800">
                          <a:off x="2743920" y="3746520"/>
                          <a:ext cx="214200" cy="18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6" h="724">
                              <a:moveTo>
                                <a:pt x="856" y="724"/>
                              </a:moveTo>
                              <a:lnTo>
                                <a:pt x="372" y="234"/>
                              </a:lnTo>
                              <a:cubicBezTo>
                                <a:pt x="229" y="113"/>
                                <a:pt x="77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3" name="Freeform 3672"/>
                        <p:cNvSpPr/>
                        <p:nvPr/>
                      </p:nvSpPr>
                      <p:spPr>
                        <a:xfrm rot="7828800">
                          <a:off x="2737800" y="374400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lnTo>
                                <a:pt x="220" y="1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4" name="Freeform 3673"/>
                        <p:cNvSpPr/>
                        <p:nvPr/>
                      </p:nvSpPr>
                      <p:spPr>
                        <a:xfrm rot="7828800">
                          <a:off x="2689920" y="3747600"/>
                          <a:ext cx="24984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8" h="635">
                              <a:moveTo>
                                <a:pt x="998" y="635"/>
                              </a:moveTo>
                              <a:cubicBezTo>
                                <a:pt x="882" y="554"/>
                                <a:pt x="466" y="255"/>
                                <a:pt x="300" y="149"/>
                              </a:cubicBezTo>
                              <a:cubicBezTo>
                                <a:pt x="134" y="43"/>
                                <a:pt x="62" y="3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5" name="Freeform 3674"/>
                        <p:cNvSpPr/>
                        <p:nvPr/>
                      </p:nvSpPr>
                      <p:spPr>
                        <a:xfrm rot="7828800">
                          <a:off x="2736000" y="3726360"/>
                          <a:ext cx="262800" cy="244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50" h="980">
                              <a:moveTo>
                                <a:pt x="1050" y="980"/>
                              </a:moveTo>
                              <a:lnTo>
                                <a:pt x="378" y="234"/>
                              </a:lnTo>
                              <a:cubicBezTo>
                                <a:pt x="203" y="71"/>
                                <a:pt x="79" y="49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6" name="Line 3675"/>
                        <p:cNvSpPr/>
                        <p:nvPr/>
                      </p:nvSpPr>
                      <p:spPr>
                        <a:xfrm>
                          <a:off x="2665080" y="3863520"/>
                          <a:ext cx="314640" cy="14760"/>
                        </a:xfrm>
                        <a:prstGeom prst="line">
                          <a:avLst/>
                        </a:prstGeom>
                        <a:ln w="252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7" name="Freeform 3676"/>
                        <p:cNvSpPr/>
                        <p:nvPr/>
                      </p:nvSpPr>
                      <p:spPr>
                        <a:xfrm rot="7828800">
                          <a:off x="2739240" y="3750480"/>
                          <a:ext cx="158760" cy="24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997">
                              <a:moveTo>
                                <a:pt x="635" y="997"/>
                              </a:moveTo>
                              <a:cubicBezTo>
                                <a:pt x="569" y="887"/>
                                <a:pt x="345" y="500"/>
                                <a:pt x="239" y="334"/>
                              </a:cubicBezTo>
                              <a:cubicBezTo>
                                <a:pt x="133" y="168"/>
                                <a:pt x="50" y="7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8" name="Freeform 3677"/>
                        <p:cNvSpPr/>
                        <p:nvPr/>
                      </p:nvSpPr>
                      <p:spPr>
                        <a:xfrm rot="7828800">
                          <a:off x="2756520" y="3770640"/>
                          <a:ext cx="123120" cy="25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2" h="1026">
                              <a:moveTo>
                                <a:pt x="492" y="1026"/>
                              </a:moveTo>
                              <a:cubicBezTo>
                                <a:pt x="452" y="924"/>
                                <a:pt x="334" y="585"/>
                                <a:pt x="252" y="414"/>
                              </a:cubicBezTo>
                              <a:cubicBezTo>
                                <a:pt x="170" y="243"/>
                                <a:pt x="53" y="8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9" name="Freeform 3678"/>
                        <p:cNvSpPr/>
                        <p:nvPr/>
                      </p:nvSpPr>
                      <p:spPr>
                        <a:xfrm rot="7828800">
                          <a:off x="2769480" y="3782880"/>
                          <a:ext cx="82440" cy="27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0" h="1086">
                              <a:moveTo>
                                <a:pt x="330" y="1086"/>
                              </a:moveTo>
                              <a:cubicBezTo>
                                <a:pt x="302" y="966"/>
                                <a:pt x="217" y="547"/>
                                <a:pt x="162" y="366"/>
                              </a:cubicBezTo>
                              <a:cubicBezTo>
                                <a:pt x="107" y="185"/>
                                <a:pt x="34" y="76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0" name="Freeform 3679"/>
                        <p:cNvSpPr/>
                        <p:nvPr/>
                      </p:nvSpPr>
                      <p:spPr>
                        <a:xfrm rot="7828800">
                          <a:off x="2767680" y="3796200"/>
                          <a:ext cx="41040" cy="29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4" h="1160">
                              <a:moveTo>
                                <a:pt x="164" y="1160"/>
                              </a:moveTo>
                              <a:cubicBezTo>
                                <a:pt x="148" y="1008"/>
                                <a:pt x="93" y="439"/>
                                <a:pt x="66" y="246"/>
                              </a:cubicBezTo>
                              <a:cubicBezTo>
                                <a:pt x="39" y="53"/>
                                <a:pt x="14" y="51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1" name="Freeform 3680"/>
                        <p:cNvSpPr/>
                        <p:nvPr/>
                      </p:nvSpPr>
                      <p:spPr>
                        <a:xfrm rot="7828800">
                          <a:off x="2776320" y="3807000"/>
                          <a:ext cx="47520" cy="31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1" h="1259">
                              <a:moveTo>
                                <a:pt x="140" y="1259"/>
                              </a:moveTo>
                              <a:cubicBezTo>
                                <a:pt x="145" y="1113"/>
                                <a:pt x="191" y="594"/>
                                <a:pt x="168" y="384"/>
                              </a:cubicBezTo>
                              <a:cubicBezTo>
                                <a:pt x="145" y="174"/>
                                <a:pt x="35" y="80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2" name="Freeform 3681"/>
                        <p:cNvSpPr/>
                        <p:nvPr/>
                      </p:nvSpPr>
                      <p:spPr>
                        <a:xfrm rot="7828800">
                          <a:off x="2742840" y="3821760"/>
                          <a:ext cx="45000" cy="28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1" h="1134">
                              <a:moveTo>
                                <a:pt x="0" y="1134"/>
                              </a:moveTo>
                              <a:cubicBezTo>
                                <a:pt x="19" y="988"/>
                                <a:pt x="85" y="445"/>
                                <a:pt x="115" y="256"/>
                              </a:cubicBezTo>
                              <a:cubicBezTo>
                                <a:pt x="145" y="67"/>
                                <a:pt x="167" y="53"/>
                                <a:pt x="181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3" name="Freeform 3682"/>
                        <p:cNvSpPr/>
                        <p:nvPr/>
                      </p:nvSpPr>
                      <p:spPr>
                        <a:xfrm rot="7828800">
                          <a:off x="2698560" y="3858480"/>
                          <a:ext cx="79200" cy="23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4" name="Freeform 3683"/>
                        <p:cNvSpPr/>
                        <p:nvPr/>
                      </p:nvSpPr>
                      <p:spPr>
                        <a:xfrm rot="7828800">
                          <a:off x="2670480" y="3877920"/>
                          <a:ext cx="158760" cy="29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1179">
                              <a:moveTo>
                                <a:pt x="0" y="1179"/>
                              </a:moveTo>
                              <a:cubicBezTo>
                                <a:pt x="70" y="1066"/>
                                <a:pt x="315" y="697"/>
                                <a:pt x="421" y="501"/>
                              </a:cubicBezTo>
                              <a:cubicBezTo>
                                <a:pt x="527" y="305"/>
                                <a:pt x="591" y="105"/>
                                <a:pt x="635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5" name="Freeform 3684"/>
                        <p:cNvSpPr/>
                        <p:nvPr/>
                      </p:nvSpPr>
                      <p:spPr>
                        <a:xfrm rot="7828800">
                          <a:off x="2607120" y="3895920"/>
                          <a:ext cx="204120" cy="24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6" h="998">
                              <a:moveTo>
                                <a:pt x="0" y="998"/>
                              </a:moveTo>
                              <a:cubicBezTo>
                                <a:pt x="102" y="891"/>
                                <a:pt x="477" y="523"/>
                                <a:pt x="613" y="357"/>
                              </a:cubicBezTo>
                              <a:cubicBezTo>
                                <a:pt x="749" y="191"/>
                                <a:pt x="774" y="75"/>
                                <a:pt x="816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6" name="Freeform 3685"/>
                        <p:cNvSpPr/>
                        <p:nvPr/>
                      </p:nvSpPr>
                      <p:spPr>
                        <a:xfrm rot="7828800">
                          <a:off x="2549880" y="3927240"/>
                          <a:ext cx="238320" cy="19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2" h="771">
                              <a:moveTo>
                                <a:pt x="0" y="771"/>
                              </a:moveTo>
                              <a:cubicBezTo>
                                <a:pt x="91" y="704"/>
                                <a:pt x="385" y="497"/>
                                <a:pt x="544" y="369"/>
                              </a:cubicBezTo>
                              <a:cubicBezTo>
                                <a:pt x="703" y="241"/>
                                <a:pt x="867" y="77"/>
                                <a:pt x="952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7" name="Freeform 3686"/>
                        <p:cNvSpPr/>
                        <p:nvPr/>
                      </p:nvSpPr>
                      <p:spPr>
                        <a:xfrm rot="7828800">
                          <a:off x="2508840" y="3945600"/>
                          <a:ext cx="27216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8" h="635">
                              <a:moveTo>
                                <a:pt x="0" y="635"/>
                              </a:moveTo>
                              <a:cubicBezTo>
                                <a:pt x="109" y="581"/>
                                <a:pt x="471" y="417"/>
                                <a:pt x="652" y="311"/>
                              </a:cubicBezTo>
                              <a:cubicBezTo>
                                <a:pt x="833" y="205"/>
                                <a:pt x="997" y="65"/>
                                <a:pt x="1088" y="0"/>
                              </a:cubicBezTo>
                            </a:path>
                          </a:pathLst>
                        </a:custGeom>
                        <a:noFill/>
                        <a:ln w="64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8" name="Freeform 3687"/>
                        <p:cNvSpPr/>
                        <p:nvPr/>
                      </p:nvSpPr>
                      <p:spPr>
                        <a:xfrm rot="7828800">
                          <a:off x="2477880" y="3939120"/>
                          <a:ext cx="317880" cy="158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0" h="635">
                              <a:moveTo>
                                <a:pt x="0" y="635"/>
                              </a:moveTo>
                              <a:cubicBezTo>
                                <a:pt x="120" y="588"/>
                                <a:pt x="537" y="430"/>
                                <a:pt x="719" y="352"/>
                              </a:cubicBezTo>
                              <a:cubicBezTo>
                                <a:pt x="901" y="274"/>
                                <a:pt x="999" y="225"/>
                                <a:pt x="1091" y="166"/>
                              </a:cubicBezTo>
                              <a:cubicBezTo>
                                <a:pt x="1183" y="107"/>
                                <a:pt x="1233" y="35"/>
                                <a:pt x="1270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9" name="Freeform 3688"/>
                        <p:cNvSpPr/>
                        <p:nvPr/>
                      </p:nvSpPr>
                      <p:spPr>
                        <a:xfrm rot="7828800">
                          <a:off x="2508120" y="3913200"/>
                          <a:ext cx="19404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6" h="87">
                              <a:moveTo>
                                <a:pt x="0" y="0"/>
                              </a:moveTo>
                              <a:cubicBezTo>
                                <a:pt x="63" y="14"/>
                                <a:pt x="255" y="81"/>
                                <a:pt x="384" y="84"/>
                              </a:cubicBezTo>
                              <a:cubicBezTo>
                                <a:pt x="513" y="87"/>
                                <a:pt x="694" y="33"/>
                                <a:pt x="776" y="2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0" name="Freeform 3689"/>
                        <p:cNvSpPr/>
                        <p:nvPr/>
                      </p:nvSpPr>
                      <p:spPr>
                        <a:xfrm rot="7828800">
                          <a:off x="2546640" y="3878640"/>
                          <a:ext cx="13608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135">
                              <a:moveTo>
                                <a:pt x="0" y="0"/>
                              </a:moveTo>
                              <a:lnTo>
                                <a:pt x="289" y="99"/>
                              </a:lnTo>
                              <a:cubicBezTo>
                                <a:pt x="380" y="121"/>
                                <a:pt x="491" y="128"/>
                                <a:pt x="544" y="13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1" name="Freeform 3690"/>
                        <p:cNvSpPr/>
                        <p:nvPr/>
                      </p:nvSpPr>
                      <p:spPr>
                        <a:xfrm rot="7828800">
                          <a:off x="2570040" y="3816720"/>
                          <a:ext cx="90720" cy="6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3" h="272">
                              <a:moveTo>
                                <a:pt x="0" y="0"/>
                              </a:moveTo>
                              <a:cubicBezTo>
                                <a:pt x="34" y="32"/>
                                <a:pt x="143" y="147"/>
                                <a:pt x="203" y="192"/>
                              </a:cubicBezTo>
                              <a:cubicBezTo>
                                <a:pt x="263" y="237"/>
                                <a:pt x="330" y="255"/>
                                <a:pt x="363" y="272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880" bIns="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2" name="Freeform 3691"/>
                        <p:cNvSpPr/>
                        <p:nvPr/>
                      </p:nvSpPr>
                      <p:spPr>
                        <a:xfrm rot="7828800">
                          <a:off x="2595240" y="3791520"/>
                          <a:ext cx="6480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0" h="306">
                              <a:moveTo>
                                <a:pt x="0" y="0"/>
                              </a:moveTo>
                              <a:cubicBezTo>
                                <a:pt x="24" y="33"/>
                                <a:pt x="103" y="147"/>
                                <a:pt x="146" y="198"/>
                              </a:cubicBezTo>
                              <a:cubicBezTo>
                                <a:pt x="189" y="249"/>
                                <a:pt x="236" y="284"/>
                                <a:pt x="260" y="306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3" name="Freeform 3692"/>
                        <p:cNvSpPr/>
                        <p:nvPr/>
                      </p:nvSpPr>
                      <p:spPr>
                        <a:xfrm rot="7828800">
                          <a:off x="2658960" y="3766680"/>
                          <a:ext cx="22680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72">
                              <a:moveTo>
                                <a:pt x="0" y="27"/>
                              </a:moveTo>
                              <a:cubicBezTo>
                                <a:pt x="55" y="24"/>
                                <a:pt x="180" y="0"/>
                                <a:pt x="331" y="7"/>
                              </a:cubicBezTo>
                              <a:cubicBezTo>
                                <a:pt x="482" y="14"/>
                                <a:pt x="787" y="59"/>
                                <a:pt x="907" y="72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4" name="Freeform 3693"/>
                        <p:cNvSpPr/>
                        <p:nvPr/>
                      </p:nvSpPr>
                      <p:spPr>
                        <a:xfrm rot="7828800">
                          <a:off x="2488680" y="3936960"/>
                          <a:ext cx="226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7" h="56">
                              <a:moveTo>
                                <a:pt x="0" y="0"/>
                              </a:moveTo>
                              <a:cubicBezTo>
                                <a:pt x="86" y="8"/>
                                <a:pt x="366" y="42"/>
                                <a:pt x="517" y="49"/>
                              </a:cubicBezTo>
                              <a:cubicBezTo>
                                <a:pt x="668" y="56"/>
                                <a:pt x="826" y="46"/>
                                <a:pt x="907" y="45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5" name="Freeform 3694"/>
                        <p:cNvSpPr/>
                        <p:nvPr/>
                      </p:nvSpPr>
                      <p:spPr>
                        <a:xfrm rot="7828800">
                          <a:off x="2513880" y="3831120"/>
                          <a:ext cx="1587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5" h="363">
                              <a:moveTo>
                                <a:pt x="0" y="0"/>
                              </a:moveTo>
                              <a:cubicBezTo>
                                <a:pt x="57" y="40"/>
                                <a:pt x="235" y="178"/>
                                <a:pt x="341" y="238"/>
                              </a:cubicBezTo>
                              <a:cubicBezTo>
                                <a:pt x="447" y="298"/>
                                <a:pt x="574" y="337"/>
                                <a:pt x="635" y="363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6" name="Freeform 3695"/>
                        <p:cNvSpPr/>
                        <p:nvPr/>
                      </p:nvSpPr>
                      <p:spPr>
                        <a:xfrm rot="7828800">
                          <a:off x="2779920" y="3810960"/>
                          <a:ext cx="8640" cy="26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" h="1043">
                              <a:moveTo>
                                <a:pt x="0" y="0"/>
                              </a:moveTo>
                              <a:cubicBezTo>
                                <a:pt x="6" y="84"/>
                                <a:pt x="35" y="330"/>
                                <a:pt x="35" y="504"/>
                              </a:cubicBezTo>
                              <a:cubicBezTo>
                                <a:pt x="35" y="678"/>
                                <a:pt x="7" y="931"/>
                                <a:pt x="0" y="1043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7" name="Freeform 3696"/>
                        <p:cNvSpPr/>
                        <p:nvPr/>
                      </p:nvSpPr>
                      <p:spPr>
                        <a:xfrm rot="7828800">
                          <a:off x="2617920" y="3703320"/>
                          <a:ext cx="136080" cy="147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4" h="590">
                              <a:moveTo>
                                <a:pt x="544" y="0"/>
                              </a:moveTo>
                              <a:cubicBezTo>
                                <a:pt x="495" y="45"/>
                                <a:pt x="341" y="173"/>
                                <a:pt x="250" y="271"/>
                              </a:cubicBezTo>
                              <a:cubicBezTo>
                                <a:pt x="159" y="369"/>
                                <a:pt x="52" y="524"/>
                                <a:pt x="0" y="590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8" name="Freeform 3697"/>
                        <p:cNvSpPr/>
                        <p:nvPr/>
                      </p:nvSpPr>
                      <p:spPr>
                        <a:xfrm rot="7828800">
                          <a:off x="2580480" y="3629880"/>
                          <a:ext cx="124560" cy="20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817">
                              <a:moveTo>
                                <a:pt x="498" y="0"/>
                              </a:moveTo>
                              <a:cubicBezTo>
                                <a:pt x="455" y="58"/>
                                <a:pt x="323" y="210"/>
                                <a:pt x="240" y="346"/>
                              </a:cubicBezTo>
                              <a:cubicBezTo>
                                <a:pt x="157" y="482"/>
                                <a:pt x="50" y="719"/>
                                <a:pt x="0" y="817"/>
                              </a:cubicBez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9" name="Freeform 3698"/>
                        <p:cNvSpPr/>
                        <p:nvPr/>
                      </p:nvSpPr>
                      <p:spPr>
                        <a:xfrm rot="7828800">
                          <a:off x="2533320" y="3737160"/>
                          <a:ext cx="79200" cy="169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680">
                              <a:moveTo>
                                <a:pt x="0" y="0"/>
                              </a:moveTo>
                              <a:cubicBezTo>
                                <a:pt x="27" y="48"/>
                                <a:pt x="120" y="212"/>
                                <a:pt x="164" y="288"/>
                              </a:cubicBezTo>
                              <a:cubicBezTo>
                                <a:pt x="208" y="364"/>
                                <a:pt x="238" y="391"/>
                                <a:pt x="264" y="456"/>
                              </a:cubicBezTo>
                              <a:cubicBezTo>
                                <a:pt x="290" y="521"/>
                                <a:pt x="306" y="633"/>
                                <a:pt x="317" y="68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0" name="Freeform 3699"/>
                        <p:cNvSpPr/>
                        <p:nvPr/>
                      </p:nvSpPr>
                      <p:spPr>
                        <a:xfrm rot="8509200">
                          <a:off x="2583000" y="3922920"/>
                          <a:ext cx="1022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9" h="90">
                              <a:moveTo>
                                <a:pt x="0" y="90"/>
                              </a:moveTo>
                              <a:cubicBezTo>
                                <a:pt x="36" y="85"/>
                                <a:pt x="149" y="77"/>
                                <a:pt x="217" y="62"/>
                              </a:cubicBezTo>
                              <a:lnTo>
                                <a:pt x="409" y="0"/>
                              </a:lnTo>
                            </a:path>
                          </a:pathLst>
                        </a:custGeom>
                        <a:noFill/>
                        <a:ln cap="rnd" w="2520">
                          <a:solidFill>
                            <a:srgbClr val="ffffff"/>
                          </a:solidFill>
                          <a:custDash>
                            <a:ds d="100000" sp="1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1" name="Freeform 3700"/>
                        <p:cNvSpPr/>
                        <p:nvPr/>
                      </p:nvSpPr>
                      <p:spPr>
                        <a:xfrm rot="7828800">
                          <a:off x="2701080" y="3846960"/>
                          <a:ext cx="68040" cy="18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952">
                              <a:moveTo>
                                <a:pt x="0" y="952"/>
                              </a:moveTo>
                              <a:cubicBezTo>
                                <a:pt x="43" y="837"/>
                                <a:pt x="203" y="422"/>
                                <a:pt x="256" y="263"/>
                              </a:cubicBezTo>
                              <a:cubicBezTo>
                                <a:pt x="309" y="104"/>
                                <a:pt x="304" y="55"/>
                                <a:pt x="317" y="0"/>
                              </a:cubicBezTo>
                            </a:path>
                          </a:pathLst>
                        </a:custGeom>
                        <a:noFill/>
                        <a:ln w="252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sp>
        <p:nvSpPr>
          <p:cNvPr id="2532" name="Oval 4016"/>
          <p:cNvSpPr/>
          <p:nvPr/>
        </p:nvSpPr>
        <p:spPr>
          <a:xfrm rot="21079800">
            <a:off x="-11269440" y="-3051000"/>
            <a:ext cx="9296640" cy="842472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3" name="Picture 4017" descr="黑白玻璃"/>
          <p:cNvPicPr/>
          <p:nvPr/>
        </p:nvPicPr>
        <p:blipFill>
          <a:blip r:embed="rId3"/>
          <a:stretch/>
        </p:blipFill>
        <p:spPr>
          <a:xfrm>
            <a:off x="0" y="0"/>
            <a:ext cx="9277200" cy="6899400"/>
          </a:xfrm>
          <a:prstGeom prst="rect">
            <a:avLst/>
          </a:prstGeom>
          <a:ln w="0">
            <a:noFill/>
          </a:ln>
        </p:spPr>
      </p:pic>
      <p:grpSp>
        <p:nvGrpSpPr>
          <p:cNvPr id="2534" name="Group 4019"/>
          <p:cNvGrpSpPr/>
          <p:nvPr/>
        </p:nvGrpSpPr>
        <p:grpSpPr>
          <a:xfrm>
            <a:off x="-1332360" y="2733120"/>
            <a:ext cx="836640" cy="738720"/>
            <a:chOff x="-1332360" y="2733120"/>
            <a:chExt cx="836640" cy="738720"/>
          </a:xfrm>
        </p:grpSpPr>
        <p:sp>
          <p:nvSpPr>
            <p:cNvPr id="2535" name="Freeform 4020"/>
            <p:cNvSpPr/>
            <p:nvPr/>
          </p:nvSpPr>
          <p:spPr>
            <a:xfrm rot="2785800">
              <a:off x="-812520" y="311256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6" name="Group 4021"/>
            <p:cNvGrpSpPr/>
            <p:nvPr/>
          </p:nvGrpSpPr>
          <p:grpSpPr>
            <a:xfrm>
              <a:off x="-1332360" y="2733120"/>
              <a:ext cx="836640" cy="738720"/>
              <a:chOff x="-1332360" y="2733120"/>
              <a:chExt cx="836640" cy="738720"/>
            </a:xfrm>
          </p:grpSpPr>
          <p:grpSp>
            <p:nvGrpSpPr>
              <p:cNvPr id="2537" name="Group 4022"/>
              <p:cNvGrpSpPr/>
              <p:nvPr/>
            </p:nvGrpSpPr>
            <p:grpSpPr>
              <a:xfrm>
                <a:off x="-1332360" y="3020040"/>
                <a:ext cx="569520" cy="451800"/>
                <a:chOff x="-1332360" y="3020040"/>
                <a:chExt cx="569520" cy="451800"/>
              </a:xfrm>
            </p:grpSpPr>
            <p:sp>
              <p:nvSpPr>
                <p:cNvPr id="2538" name="AutoShape 4023"/>
                <p:cNvSpPr/>
                <p:nvPr/>
              </p:nvSpPr>
              <p:spPr>
                <a:xfrm rot="2785800">
                  <a:off x="-867960" y="304056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9" name="Freeform 4024"/>
                <p:cNvSpPr/>
                <p:nvPr/>
              </p:nvSpPr>
              <p:spPr>
                <a:xfrm rot="2785800">
                  <a:off x="-1030680" y="300816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0" name="Oval 4025"/>
                <p:cNvSpPr/>
                <p:nvPr/>
              </p:nvSpPr>
              <p:spPr>
                <a:xfrm rot="3329400">
                  <a:off x="-1262520" y="330192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1" name="Group 4026"/>
              <p:cNvGrpSpPr/>
              <p:nvPr/>
            </p:nvGrpSpPr>
            <p:grpSpPr>
              <a:xfrm>
                <a:off x="-1078200" y="2733120"/>
                <a:ext cx="582480" cy="597240"/>
                <a:chOff x="-1078200" y="2733120"/>
                <a:chExt cx="582480" cy="597240"/>
              </a:xfrm>
            </p:grpSpPr>
            <p:sp>
              <p:nvSpPr>
                <p:cNvPr id="2542" name="Freeform 4027"/>
                <p:cNvSpPr/>
                <p:nvPr/>
              </p:nvSpPr>
              <p:spPr>
                <a:xfrm rot="2785800">
                  <a:off x="-972000" y="299880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3" name="Freeform 4028"/>
                <p:cNvSpPr/>
                <p:nvPr/>
              </p:nvSpPr>
              <p:spPr>
                <a:xfrm rot="2785800">
                  <a:off x="-1090440" y="296640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4" name="Freeform 4029"/>
                <p:cNvSpPr/>
                <p:nvPr/>
              </p:nvSpPr>
              <p:spPr>
                <a:xfrm rot="2785800">
                  <a:off x="-1058040" y="2907360"/>
                  <a:ext cx="284040" cy="6804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Freeform 4030"/>
                <p:cNvSpPr/>
                <p:nvPr/>
              </p:nvSpPr>
              <p:spPr>
                <a:xfrm rot="2785800">
                  <a:off x="-1067040" y="285948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6" name="Freeform 4031"/>
                <p:cNvSpPr/>
                <p:nvPr/>
              </p:nvSpPr>
              <p:spPr>
                <a:xfrm rot="2785800">
                  <a:off x="-1043280" y="285588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7" name="Freeform 4032"/>
                <p:cNvSpPr/>
                <p:nvPr/>
              </p:nvSpPr>
              <p:spPr>
                <a:xfrm rot="2785800">
                  <a:off x="-1017720" y="2877120"/>
                  <a:ext cx="284040" cy="11340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8" name="Freeform 4033"/>
                <p:cNvSpPr/>
                <p:nvPr/>
              </p:nvSpPr>
              <p:spPr>
                <a:xfrm rot="2785800">
                  <a:off x="-941760" y="2837160"/>
                  <a:ext cx="214200" cy="18108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9" name="Freeform 4034"/>
                <p:cNvSpPr/>
                <p:nvPr/>
              </p:nvSpPr>
              <p:spPr>
                <a:xfrm rot="2785800">
                  <a:off x="-972000" y="28353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0" name="Freeform 4035"/>
                <p:cNvSpPr/>
                <p:nvPr/>
              </p:nvSpPr>
              <p:spPr>
                <a:xfrm rot="2785800">
                  <a:off x="-973440" y="288324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1" name="Freeform 4036"/>
                <p:cNvSpPr/>
                <p:nvPr/>
              </p:nvSpPr>
              <p:spPr>
                <a:xfrm rot="2785800">
                  <a:off x="-952200" y="2790000"/>
                  <a:ext cx="262800" cy="2451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Line 4037"/>
                <p:cNvSpPr/>
                <p:nvPr/>
              </p:nvSpPr>
              <p:spPr>
                <a:xfrm flipV="1">
                  <a:off x="-828000" y="2804040"/>
                  <a:ext cx="47880" cy="3117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3" name="Freeform 4038"/>
                <p:cNvSpPr/>
                <p:nvPr/>
              </p:nvSpPr>
              <p:spPr>
                <a:xfrm rot="2785800">
                  <a:off x="-879480" y="2840040"/>
                  <a:ext cx="158760" cy="2494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4" name="Freeform 4039"/>
                <p:cNvSpPr/>
                <p:nvPr/>
              </p:nvSpPr>
              <p:spPr>
                <a:xfrm rot="2785800">
                  <a:off x="-838440" y="2838960"/>
                  <a:ext cx="123120" cy="2566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5" name="Freeform 4040"/>
                <p:cNvSpPr/>
                <p:nvPr/>
              </p:nvSpPr>
              <p:spPr>
                <a:xfrm rot="2785800">
                  <a:off x="-798480" y="2840760"/>
                  <a:ext cx="82440" cy="2718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6" name="Freeform 4041"/>
                <p:cNvSpPr/>
                <p:nvPr/>
              </p:nvSpPr>
              <p:spPr>
                <a:xfrm rot="2785800">
                  <a:off x="-757080" y="285624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7" name="Freeform 4042"/>
                <p:cNvSpPr/>
                <p:nvPr/>
              </p:nvSpPr>
              <p:spPr>
                <a:xfrm rot="2785800">
                  <a:off x="-736920" y="2834280"/>
                  <a:ext cx="47520" cy="3150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8" name="Freeform 4043"/>
                <p:cNvSpPr/>
                <p:nvPr/>
              </p:nvSpPr>
              <p:spPr>
                <a:xfrm rot="2785800">
                  <a:off x="-739440" y="288468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Freeform 4044"/>
                <p:cNvSpPr/>
                <p:nvPr/>
              </p:nvSpPr>
              <p:spPr>
                <a:xfrm rot="2785800">
                  <a:off x="-745920" y="2935800"/>
                  <a:ext cx="79200" cy="2383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Freeform 4045"/>
                <p:cNvSpPr/>
                <p:nvPr/>
              </p:nvSpPr>
              <p:spPr>
                <a:xfrm rot="2785800">
                  <a:off x="-736560" y="290052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Freeform 4046"/>
                <p:cNvSpPr/>
                <p:nvPr/>
              </p:nvSpPr>
              <p:spPr>
                <a:xfrm rot="2785800">
                  <a:off x="-768600" y="296316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Freeform 4047"/>
                <p:cNvSpPr/>
                <p:nvPr/>
              </p:nvSpPr>
              <p:spPr>
                <a:xfrm rot="2785800">
                  <a:off x="-786960" y="3031560"/>
                  <a:ext cx="238320" cy="19296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Freeform 4048"/>
                <p:cNvSpPr/>
                <p:nvPr/>
              </p:nvSpPr>
              <p:spPr>
                <a:xfrm rot="2785800">
                  <a:off x="-804600" y="307296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Freeform 4049"/>
                <p:cNvSpPr/>
                <p:nvPr/>
              </p:nvSpPr>
              <p:spPr>
                <a:xfrm rot="2785800">
                  <a:off x="-835200" y="308088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Freeform 4050"/>
                <p:cNvSpPr/>
                <p:nvPr/>
              </p:nvSpPr>
              <p:spPr>
                <a:xfrm rot="2785800">
                  <a:off x="-870840" y="317052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Freeform 4051"/>
                <p:cNvSpPr/>
                <p:nvPr/>
              </p:nvSpPr>
              <p:spPr>
                <a:xfrm rot="2785800">
                  <a:off x="-869040" y="315252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Freeform 4052"/>
                <p:cNvSpPr/>
                <p:nvPr/>
              </p:nvSpPr>
              <p:spPr>
                <a:xfrm rot="2785800">
                  <a:off x="-890280" y="3129840"/>
                  <a:ext cx="90720" cy="6804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Freeform 4053"/>
                <p:cNvSpPr/>
                <p:nvPr/>
              </p:nvSpPr>
              <p:spPr>
                <a:xfrm rot="2785800">
                  <a:off x="-897120" y="311112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9" name="Freeform 4054"/>
                <p:cNvSpPr/>
                <p:nvPr/>
              </p:nvSpPr>
              <p:spPr>
                <a:xfrm rot="2785800">
                  <a:off x="-1017720" y="299088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Freeform 4055"/>
                <p:cNvSpPr/>
                <p:nvPr/>
              </p:nvSpPr>
              <p:spPr>
                <a:xfrm rot="2785800">
                  <a:off x="-867600" y="318024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Freeform 4056"/>
                <p:cNvSpPr/>
                <p:nvPr/>
              </p:nvSpPr>
              <p:spPr>
                <a:xfrm rot="2785800">
                  <a:off x="-900720" y="314316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Freeform 4057"/>
                <p:cNvSpPr/>
                <p:nvPr/>
              </p:nvSpPr>
              <p:spPr>
                <a:xfrm rot="2785800">
                  <a:off x="-741960" y="2874960"/>
                  <a:ext cx="8640" cy="2610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3" name="Freeform 4058"/>
                <p:cNvSpPr/>
                <p:nvPr/>
              </p:nvSpPr>
              <p:spPr>
                <a:xfrm rot="2785800">
                  <a:off x="-979560" y="301212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Freeform 4059"/>
                <p:cNvSpPr/>
                <p:nvPr/>
              </p:nvSpPr>
              <p:spPr>
                <a:xfrm rot="2785800">
                  <a:off x="-1023120" y="3022560"/>
                  <a:ext cx="124560" cy="20448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Freeform 4060"/>
                <p:cNvSpPr/>
                <p:nvPr/>
              </p:nvSpPr>
              <p:spPr>
                <a:xfrm rot="2785800">
                  <a:off x="-917640" y="311832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Freeform 4061"/>
                <p:cNvSpPr/>
                <p:nvPr/>
              </p:nvSpPr>
              <p:spPr>
                <a:xfrm rot="3466800">
                  <a:off x="-811440" y="314280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Freeform 4062"/>
                <p:cNvSpPr/>
                <p:nvPr/>
              </p:nvSpPr>
              <p:spPr>
                <a:xfrm rot="2785800">
                  <a:off x="-779760" y="296316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78" name="Group 4063"/>
          <p:cNvGrpSpPr/>
          <p:nvPr/>
        </p:nvGrpSpPr>
        <p:grpSpPr>
          <a:xfrm>
            <a:off x="-2021040" y="2427120"/>
            <a:ext cx="670680" cy="898920"/>
            <a:chOff x="-2021040" y="2427120"/>
            <a:chExt cx="670680" cy="898920"/>
          </a:xfrm>
        </p:grpSpPr>
        <p:sp>
          <p:nvSpPr>
            <p:cNvPr id="2579" name="Freeform 4064"/>
            <p:cNvSpPr/>
            <p:nvPr/>
          </p:nvSpPr>
          <p:spPr>
            <a:xfrm rot="567600">
              <a:off x="-1661040" y="270936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0" name="Group 4065"/>
            <p:cNvGrpSpPr/>
            <p:nvPr/>
          </p:nvGrpSpPr>
          <p:grpSpPr>
            <a:xfrm>
              <a:off x="-2021040" y="2427120"/>
              <a:ext cx="670680" cy="898920"/>
              <a:chOff x="-2021040" y="2427120"/>
              <a:chExt cx="670680" cy="898920"/>
            </a:xfrm>
          </p:grpSpPr>
          <p:grpSp>
            <p:nvGrpSpPr>
              <p:cNvPr id="2581" name="Group 4066"/>
              <p:cNvGrpSpPr/>
              <p:nvPr/>
            </p:nvGrpSpPr>
            <p:grpSpPr>
              <a:xfrm>
                <a:off x="-1879200" y="2675880"/>
                <a:ext cx="245520" cy="650160"/>
                <a:chOff x="-1879200" y="2675880"/>
                <a:chExt cx="245520" cy="650160"/>
              </a:xfrm>
            </p:grpSpPr>
            <p:sp>
              <p:nvSpPr>
                <p:cNvPr id="2582" name="AutoShape 4067"/>
                <p:cNvSpPr/>
                <p:nvPr/>
              </p:nvSpPr>
              <p:spPr>
                <a:xfrm rot="567600">
                  <a:off x="-1730160" y="268272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Freeform 4068"/>
                <p:cNvSpPr/>
                <p:nvPr/>
              </p:nvSpPr>
              <p:spPr>
                <a:xfrm rot="567600">
                  <a:off x="-1768320" y="273240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Oval 4069"/>
                <p:cNvSpPr/>
                <p:nvPr/>
              </p:nvSpPr>
              <p:spPr>
                <a:xfrm rot="1111200">
                  <a:off x="-1849680" y="313128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5" name="Group 4070"/>
              <p:cNvGrpSpPr/>
              <p:nvPr/>
            </p:nvGrpSpPr>
            <p:grpSpPr>
              <a:xfrm>
                <a:off x="-2021040" y="2427120"/>
                <a:ext cx="670680" cy="524880"/>
                <a:chOff x="-2021040" y="2427120"/>
                <a:chExt cx="670680" cy="524880"/>
              </a:xfrm>
            </p:grpSpPr>
            <p:sp>
              <p:nvSpPr>
                <p:cNvPr id="2586" name="Freeform 4071"/>
                <p:cNvSpPr/>
                <p:nvPr/>
              </p:nvSpPr>
              <p:spPr>
                <a:xfrm rot="567600">
                  <a:off x="-1846800" y="269208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Freeform 4072"/>
                <p:cNvSpPr/>
                <p:nvPr/>
              </p:nvSpPr>
              <p:spPr>
                <a:xfrm rot="567600">
                  <a:off x="-1973880" y="270324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Freeform 4073"/>
                <p:cNvSpPr/>
                <p:nvPr/>
              </p:nvSpPr>
              <p:spPr>
                <a:xfrm rot="567600">
                  <a:off x="-1984680" y="2633760"/>
                  <a:ext cx="284040" cy="676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Freeform 4074"/>
                <p:cNvSpPr/>
                <p:nvPr/>
              </p:nvSpPr>
              <p:spPr>
                <a:xfrm rot="567600">
                  <a:off x="-2015640" y="259524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Freeform 4075"/>
                <p:cNvSpPr/>
                <p:nvPr/>
              </p:nvSpPr>
              <p:spPr>
                <a:xfrm rot="567600">
                  <a:off x="-1990800" y="257616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Freeform 4076"/>
                <p:cNvSpPr/>
                <p:nvPr/>
              </p:nvSpPr>
              <p:spPr>
                <a:xfrm rot="567600">
                  <a:off x="-1957320" y="2581200"/>
                  <a:ext cx="284040" cy="1130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Freeform 4077"/>
                <p:cNvSpPr/>
                <p:nvPr/>
              </p:nvSpPr>
              <p:spPr>
                <a:xfrm rot="567600">
                  <a:off x="-1893240" y="2517480"/>
                  <a:ext cx="214200" cy="1807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Freeform 4078"/>
                <p:cNvSpPr/>
                <p:nvPr/>
              </p:nvSpPr>
              <p:spPr>
                <a:xfrm rot="567600">
                  <a:off x="-1928520" y="252612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Freeform 4079"/>
                <p:cNvSpPr/>
                <p:nvPr/>
              </p:nvSpPr>
              <p:spPr>
                <a:xfrm rot="567600">
                  <a:off x="-1900800" y="25653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Freeform 4080"/>
                <p:cNvSpPr/>
                <p:nvPr/>
              </p:nvSpPr>
              <p:spPr>
                <a:xfrm rot="567600">
                  <a:off x="-1915560" y="2465280"/>
                  <a:ext cx="262800" cy="24480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Line 4081"/>
                <p:cNvSpPr/>
                <p:nvPr/>
              </p:nvSpPr>
              <p:spPr>
                <a:xfrm flipH="1" flipV="1">
                  <a:off x="-1817280" y="2476800"/>
                  <a:ext cx="149400" cy="2775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7" name="Freeform 4082"/>
                <p:cNvSpPr/>
                <p:nvPr/>
              </p:nvSpPr>
              <p:spPr>
                <a:xfrm rot="567600">
                  <a:off x="-1815840" y="2491560"/>
                  <a:ext cx="158760" cy="249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Freeform 4083"/>
                <p:cNvSpPr/>
                <p:nvPr/>
              </p:nvSpPr>
              <p:spPr>
                <a:xfrm rot="567600">
                  <a:off x="-1777680" y="2476800"/>
                  <a:ext cx="123120" cy="25632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Freeform 4084"/>
                <p:cNvSpPr/>
                <p:nvPr/>
              </p:nvSpPr>
              <p:spPr>
                <a:xfrm rot="567600">
                  <a:off x="-1735920" y="2464920"/>
                  <a:ext cx="82440" cy="2714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Freeform 4085"/>
                <p:cNvSpPr/>
                <p:nvPr/>
              </p:nvSpPr>
              <p:spPr>
                <a:xfrm rot="567600">
                  <a:off x="-1684440" y="246276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Freeform 4086"/>
                <p:cNvSpPr/>
                <p:nvPr/>
              </p:nvSpPr>
              <p:spPr>
                <a:xfrm rot="567600">
                  <a:off x="-1674360" y="2428560"/>
                  <a:ext cx="47520" cy="3146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2" name="Freeform 4087"/>
                <p:cNvSpPr/>
                <p:nvPr/>
              </p:nvSpPr>
              <p:spPr>
                <a:xfrm rot="567600">
                  <a:off x="-1655280" y="247428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Freeform 4088"/>
                <p:cNvSpPr/>
                <p:nvPr/>
              </p:nvSpPr>
              <p:spPr>
                <a:xfrm rot="567600">
                  <a:off x="-1646280" y="2513160"/>
                  <a:ext cx="79200" cy="237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Freeform 4089"/>
                <p:cNvSpPr/>
                <p:nvPr/>
              </p:nvSpPr>
              <p:spPr>
                <a:xfrm rot="567600">
                  <a:off x="-1651680" y="245016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Freeform 4090"/>
                <p:cNvSpPr/>
                <p:nvPr/>
              </p:nvSpPr>
              <p:spPr>
                <a:xfrm rot="567600">
                  <a:off x="-1657440" y="251028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Freeform 4091"/>
                <p:cNvSpPr/>
                <p:nvPr/>
              </p:nvSpPr>
              <p:spPr>
                <a:xfrm rot="567600">
                  <a:off x="-1651320" y="2571120"/>
                  <a:ext cx="238320" cy="192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Freeform 4092"/>
                <p:cNvSpPr/>
                <p:nvPr/>
              </p:nvSpPr>
              <p:spPr>
                <a:xfrm rot="567600">
                  <a:off x="-1654560" y="260820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Freeform 4093"/>
                <p:cNvSpPr/>
                <p:nvPr/>
              </p:nvSpPr>
              <p:spPr>
                <a:xfrm rot="567600">
                  <a:off x="-1679040" y="261864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4094"/>
                <p:cNvSpPr/>
                <p:nvPr/>
              </p:nvSpPr>
              <p:spPr>
                <a:xfrm rot="567600">
                  <a:off x="-1681920" y="276300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Freeform 4095"/>
                <p:cNvSpPr/>
                <p:nvPr/>
              </p:nvSpPr>
              <p:spPr>
                <a:xfrm rot="567600">
                  <a:off x="-1682280" y="276372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Freeform 4096"/>
                <p:cNvSpPr/>
                <p:nvPr/>
              </p:nvSpPr>
              <p:spPr>
                <a:xfrm rot="567600">
                  <a:off x="-1698120" y="2769120"/>
                  <a:ext cx="90720" cy="676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Freeform 4097"/>
                <p:cNvSpPr/>
                <p:nvPr/>
              </p:nvSpPr>
              <p:spPr>
                <a:xfrm rot="567600">
                  <a:off x="-1709640" y="276516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Freeform 4098"/>
                <p:cNvSpPr/>
                <p:nvPr/>
              </p:nvSpPr>
              <p:spPr>
                <a:xfrm rot="567600">
                  <a:off x="-1911600" y="269820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4" name="Freeform 4099"/>
                <p:cNvSpPr/>
                <p:nvPr/>
              </p:nvSpPr>
              <p:spPr>
                <a:xfrm rot="567600">
                  <a:off x="-1679040" y="275976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5" name="Freeform 4100"/>
                <p:cNvSpPr/>
                <p:nvPr/>
              </p:nvSpPr>
              <p:spPr>
                <a:xfrm rot="567600">
                  <a:off x="-1698120" y="276300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Freeform 4101"/>
                <p:cNvSpPr/>
                <p:nvPr/>
              </p:nvSpPr>
              <p:spPr>
                <a:xfrm rot="567600">
                  <a:off x="-1666440" y="2481480"/>
                  <a:ext cx="8640" cy="2606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Freeform 4102"/>
                <p:cNvSpPr/>
                <p:nvPr/>
              </p:nvSpPr>
              <p:spPr>
                <a:xfrm rot="567600">
                  <a:off x="-1820520" y="270684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8" name="Freeform 4103"/>
                <p:cNvSpPr/>
                <p:nvPr/>
              </p:nvSpPr>
              <p:spPr>
                <a:xfrm rot="567600">
                  <a:off x="-1830960" y="2738880"/>
                  <a:ext cx="124560" cy="2041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9" name="Freeform 4104"/>
                <p:cNvSpPr/>
                <p:nvPr/>
              </p:nvSpPr>
              <p:spPr>
                <a:xfrm rot="567600">
                  <a:off x="-1694880" y="276912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Freeform 4105"/>
                <p:cNvSpPr/>
                <p:nvPr/>
              </p:nvSpPr>
              <p:spPr>
                <a:xfrm rot="1248600">
                  <a:off x="-1641960" y="273276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Freeform 4106"/>
                <p:cNvSpPr/>
                <p:nvPr/>
              </p:nvSpPr>
              <p:spPr>
                <a:xfrm rot="567600">
                  <a:off x="-1673280" y="256500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22" name="Group 4107"/>
          <p:cNvGrpSpPr/>
          <p:nvPr/>
        </p:nvGrpSpPr>
        <p:grpSpPr>
          <a:xfrm>
            <a:off x="-2987640" y="3093480"/>
            <a:ext cx="836280" cy="738360"/>
            <a:chOff x="-2987640" y="3093480"/>
            <a:chExt cx="836280" cy="738360"/>
          </a:xfrm>
        </p:grpSpPr>
        <p:sp>
          <p:nvSpPr>
            <p:cNvPr id="2623" name="Freeform 4108"/>
            <p:cNvSpPr/>
            <p:nvPr/>
          </p:nvSpPr>
          <p:spPr>
            <a:xfrm rot="2785800">
              <a:off x="-2468160" y="347292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4" name="Group 4109"/>
            <p:cNvGrpSpPr/>
            <p:nvPr/>
          </p:nvGrpSpPr>
          <p:grpSpPr>
            <a:xfrm>
              <a:off x="-2987640" y="3093480"/>
              <a:ext cx="836280" cy="738360"/>
              <a:chOff x="-2987640" y="3093480"/>
              <a:chExt cx="836280" cy="738360"/>
            </a:xfrm>
          </p:grpSpPr>
          <p:grpSp>
            <p:nvGrpSpPr>
              <p:cNvPr id="2625" name="Group 4110"/>
              <p:cNvGrpSpPr/>
              <p:nvPr/>
            </p:nvGrpSpPr>
            <p:grpSpPr>
              <a:xfrm>
                <a:off x="-2987640" y="3380040"/>
                <a:ext cx="569520" cy="451800"/>
                <a:chOff x="-2987640" y="3380040"/>
                <a:chExt cx="569520" cy="451800"/>
              </a:xfrm>
            </p:grpSpPr>
            <p:sp>
              <p:nvSpPr>
                <p:cNvPr id="2626" name="AutoShape 4111"/>
                <p:cNvSpPr/>
                <p:nvPr/>
              </p:nvSpPr>
              <p:spPr>
                <a:xfrm rot="2785800">
                  <a:off x="-2523240" y="340056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Freeform 4112"/>
                <p:cNvSpPr/>
                <p:nvPr/>
              </p:nvSpPr>
              <p:spPr>
                <a:xfrm rot="2785800">
                  <a:off x="-2685960" y="336852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Oval 4113"/>
                <p:cNvSpPr/>
                <p:nvPr/>
              </p:nvSpPr>
              <p:spPr>
                <a:xfrm rot="3329400">
                  <a:off x="-2917800" y="366192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9" name="Group 4114"/>
              <p:cNvGrpSpPr/>
              <p:nvPr/>
            </p:nvGrpSpPr>
            <p:grpSpPr>
              <a:xfrm>
                <a:off x="-2733480" y="3093480"/>
                <a:ext cx="582120" cy="596880"/>
                <a:chOff x="-2733480" y="3093480"/>
                <a:chExt cx="582120" cy="596880"/>
              </a:xfrm>
            </p:grpSpPr>
            <p:sp>
              <p:nvSpPr>
                <p:cNvPr id="2630" name="Freeform 4115"/>
                <p:cNvSpPr/>
                <p:nvPr/>
              </p:nvSpPr>
              <p:spPr>
                <a:xfrm rot="2785800">
                  <a:off x="-2627640" y="335916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Freeform 4116"/>
                <p:cNvSpPr/>
                <p:nvPr/>
              </p:nvSpPr>
              <p:spPr>
                <a:xfrm rot="2785800">
                  <a:off x="-2745720" y="332640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Freeform 4117"/>
                <p:cNvSpPr/>
                <p:nvPr/>
              </p:nvSpPr>
              <p:spPr>
                <a:xfrm rot="2785800">
                  <a:off x="-2713320" y="3267720"/>
                  <a:ext cx="284040" cy="676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4118"/>
                <p:cNvSpPr/>
                <p:nvPr/>
              </p:nvSpPr>
              <p:spPr>
                <a:xfrm rot="2785800">
                  <a:off x="-2722680" y="321984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4119"/>
                <p:cNvSpPr/>
                <p:nvPr/>
              </p:nvSpPr>
              <p:spPr>
                <a:xfrm rot="2785800">
                  <a:off x="-2698560" y="321624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Freeform 4120"/>
                <p:cNvSpPr/>
                <p:nvPr/>
              </p:nvSpPr>
              <p:spPr>
                <a:xfrm rot="2785800">
                  <a:off x="-2673360" y="3237840"/>
                  <a:ext cx="284040" cy="1130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Freeform 4121"/>
                <p:cNvSpPr/>
                <p:nvPr/>
              </p:nvSpPr>
              <p:spPr>
                <a:xfrm rot="2785800">
                  <a:off x="-2597400" y="3197520"/>
                  <a:ext cx="214200" cy="1807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Freeform 4122"/>
                <p:cNvSpPr/>
                <p:nvPr/>
              </p:nvSpPr>
              <p:spPr>
                <a:xfrm rot="2785800">
                  <a:off x="-2627640" y="319572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8" name="Freeform 4123"/>
                <p:cNvSpPr/>
                <p:nvPr/>
              </p:nvSpPr>
              <p:spPr>
                <a:xfrm rot="2785800">
                  <a:off x="-2629080" y="324360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9" name="Freeform 4124"/>
                <p:cNvSpPr/>
                <p:nvPr/>
              </p:nvSpPr>
              <p:spPr>
                <a:xfrm rot="2785800">
                  <a:off x="-2607480" y="3150360"/>
                  <a:ext cx="262800" cy="24480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0" name="Line 4125"/>
                <p:cNvSpPr/>
                <p:nvPr/>
              </p:nvSpPr>
              <p:spPr>
                <a:xfrm flipV="1">
                  <a:off x="-2483640" y="3164760"/>
                  <a:ext cx="47520" cy="31140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1" name="Freeform 4126"/>
                <p:cNvSpPr/>
                <p:nvPr/>
              </p:nvSpPr>
              <p:spPr>
                <a:xfrm rot="2785800">
                  <a:off x="-2535120" y="3200040"/>
                  <a:ext cx="158760" cy="249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2" name="Freeform 4127"/>
                <p:cNvSpPr/>
                <p:nvPr/>
              </p:nvSpPr>
              <p:spPr>
                <a:xfrm rot="2785800">
                  <a:off x="-2494080" y="3199320"/>
                  <a:ext cx="123120" cy="25632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3" name="Freeform 4128"/>
                <p:cNvSpPr/>
                <p:nvPr/>
              </p:nvSpPr>
              <p:spPr>
                <a:xfrm rot="2785800">
                  <a:off x="-2453760" y="3201120"/>
                  <a:ext cx="82440" cy="2714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Freeform 4129"/>
                <p:cNvSpPr/>
                <p:nvPr/>
              </p:nvSpPr>
              <p:spPr>
                <a:xfrm rot="2785800">
                  <a:off x="-2412720" y="321660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Freeform 4130"/>
                <p:cNvSpPr/>
                <p:nvPr/>
              </p:nvSpPr>
              <p:spPr>
                <a:xfrm rot="2785800">
                  <a:off x="-2392560" y="3195000"/>
                  <a:ext cx="47520" cy="3146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Freeform 4131"/>
                <p:cNvSpPr/>
                <p:nvPr/>
              </p:nvSpPr>
              <p:spPr>
                <a:xfrm rot="2785800">
                  <a:off x="-2395080" y="324504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Freeform 4132"/>
                <p:cNvSpPr/>
                <p:nvPr/>
              </p:nvSpPr>
              <p:spPr>
                <a:xfrm rot="2785800">
                  <a:off x="-2401200" y="3296160"/>
                  <a:ext cx="79200" cy="237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Freeform 4133"/>
                <p:cNvSpPr/>
                <p:nvPr/>
              </p:nvSpPr>
              <p:spPr>
                <a:xfrm rot="2785800">
                  <a:off x="-2392200" y="326088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Freeform 4134"/>
                <p:cNvSpPr/>
                <p:nvPr/>
              </p:nvSpPr>
              <p:spPr>
                <a:xfrm rot="2785800">
                  <a:off x="-2424240" y="332352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0" name="Freeform 4135"/>
                <p:cNvSpPr/>
                <p:nvPr/>
              </p:nvSpPr>
              <p:spPr>
                <a:xfrm rot="2785800">
                  <a:off x="-2442240" y="3391920"/>
                  <a:ext cx="238320" cy="192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1" name="Freeform 4136"/>
                <p:cNvSpPr/>
                <p:nvPr/>
              </p:nvSpPr>
              <p:spPr>
                <a:xfrm rot="2785800">
                  <a:off x="-2460240" y="343332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Freeform 4137"/>
                <p:cNvSpPr/>
                <p:nvPr/>
              </p:nvSpPr>
              <p:spPr>
                <a:xfrm rot="2785800">
                  <a:off x="-2490480" y="344088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Freeform 4138"/>
                <p:cNvSpPr/>
                <p:nvPr/>
              </p:nvSpPr>
              <p:spPr>
                <a:xfrm rot="2785800">
                  <a:off x="-2526480" y="353088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Freeform 4139"/>
                <p:cNvSpPr/>
                <p:nvPr/>
              </p:nvSpPr>
              <p:spPr>
                <a:xfrm rot="2785800">
                  <a:off x="-2524320" y="351252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Freeform 4140"/>
                <p:cNvSpPr/>
                <p:nvPr/>
              </p:nvSpPr>
              <p:spPr>
                <a:xfrm rot="2785800">
                  <a:off x="-2545920" y="3490560"/>
                  <a:ext cx="90720" cy="676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Freeform 4141"/>
                <p:cNvSpPr/>
                <p:nvPr/>
              </p:nvSpPr>
              <p:spPr>
                <a:xfrm rot="2785800">
                  <a:off x="-2552760" y="347148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Freeform 4142"/>
                <p:cNvSpPr/>
                <p:nvPr/>
              </p:nvSpPr>
              <p:spPr>
                <a:xfrm rot="2785800">
                  <a:off x="-2673000" y="335088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Freeform 4143"/>
                <p:cNvSpPr/>
                <p:nvPr/>
              </p:nvSpPr>
              <p:spPr>
                <a:xfrm rot="2785800">
                  <a:off x="-2522880" y="354060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Freeform 4144"/>
                <p:cNvSpPr/>
                <p:nvPr/>
              </p:nvSpPr>
              <p:spPr>
                <a:xfrm rot="2785800">
                  <a:off x="-2556360" y="350352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0" name="Freeform 4145"/>
                <p:cNvSpPr/>
                <p:nvPr/>
              </p:nvSpPr>
              <p:spPr>
                <a:xfrm rot="2785800">
                  <a:off x="-2397600" y="3235320"/>
                  <a:ext cx="8640" cy="2606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1" name="Freeform 4146"/>
                <p:cNvSpPr/>
                <p:nvPr/>
              </p:nvSpPr>
              <p:spPr>
                <a:xfrm rot="2785800">
                  <a:off x="-2634840" y="337248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2" name="Freeform 4147"/>
                <p:cNvSpPr/>
                <p:nvPr/>
              </p:nvSpPr>
              <p:spPr>
                <a:xfrm rot="2785800">
                  <a:off x="-2678760" y="3382920"/>
                  <a:ext cx="124560" cy="2041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3" name="Freeform 4148"/>
                <p:cNvSpPr/>
                <p:nvPr/>
              </p:nvSpPr>
              <p:spPr>
                <a:xfrm rot="2785800">
                  <a:off x="-2573280" y="347868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4" name="Freeform 4149"/>
                <p:cNvSpPr/>
                <p:nvPr/>
              </p:nvSpPr>
              <p:spPr>
                <a:xfrm rot="3466800">
                  <a:off x="-2467080" y="350280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5" name="Freeform 4150"/>
                <p:cNvSpPr/>
                <p:nvPr/>
              </p:nvSpPr>
              <p:spPr>
                <a:xfrm rot="2785800">
                  <a:off x="-2435400" y="332352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66" name="Group 4151"/>
          <p:cNvGrpSpPr/>
          <p:nvPr/>
        </p:nvGrpSpPr>
        <p:grpSpPr>
          <a:xfrm>
            <a:off x="-2103120" y="3580200"/>
            <a:ext cx="722520" cy="848520"/>
            <a:chOff x="-2103120" y="3580200"/>
            <a:chExt cx="722520" cy="848520"/>
          </a:xfrm>
        </p:grpSpPr>
        <p:sp>
          <p:nvSpPr>
            <p:cNvPr id="2667" name="Freeform 4152"/>
            <p:cNvSpPr/>
            <p:nvPr/>
          </p:nvSpPr>
          <p:spPr>
            <a:xfrm rot="1752000">
              <a:off x="-1701360" y="392364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8" name="Group 4153"/>
            <p:cNvGrpSpPr/>
            <p:nvPr/>
          </p:nvGrpSpPr>
          <p:grpSpPr>
            <a:xfrm>
              <a:off x="-2103120" y="3580200"/>
              <a:ext cx="722520" cy="848520"/>
              <a:chOff x="-2103120" y="3580200"/>
              <a:chExt cx="722520" cy="848520"/>
            </a:xfrm>
          </p:grpSpPr>
          <p:grpSp>
            <p:nvGrpSpPr>
              <p:cNvPr id="2669" name="Group 4154"/>
              <p:cNvGrpSpPr/>
              <p:nvPr/>
            </p:nvGrpSpPr>
            <p:grpSpPr>
              <a:xfrm>
                <a:off x="-2103120" y="3854520"/>
                <a:ext cx="440280" cy="574200"/>
                <a:chOff x="-2103120" y="3854520"/>
                <a:chExt cx="440280" cy="574200"/>
              </a:xfrm>
            </p:grpSpPr>
            <p:sp>
              <p:nvSpPr>
                <p:cNvPr id="2670" name="AutoShape 4155"/>
                <p:cNvSpPr/>
                <p:nvPr/>
              </p:nvSpPr>
              <p:spPr>
                <a:xfrm rot="1752000">
                  <a:off x="-1766880" y="387144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1" name="Freeform 4156"/>
                <p:cNvSpPr/>
                <p:nvPr/>
              </p:nvSpPr>
              <p:spPr>
                <a:xfrm rot="1752000">
                  <a:off x="-1878480" y="388728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2" name="Oval 4157"/>
                <p:cNvSpPr/>
                <p:nvPr/>
              </p:nvSpPr>
              <p:spPr>
                <a:xfrm rot="2295600">
                  <a:off x="-2048400" y="424260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3" name="Group 4158"/>
              <p:cNvGrpSpPr/>
              <p:nvPr/>
            </p:nvGrpSpPr>
            <p:grpSpPr>
              <a:xfrm>
                <a:off x="-2017080" y="3580200"/>
                <a:ext cx="636480" cy="558720"/>
                <a:chOff x="-2017080" y="3580200"/>
                <a:chExt cx="636480" cy="558720"/>
              </a:xfrm>
            </p:grpSpPr>
            <p:sp>
              <p:nvSpPr>
                <p:cNvPr id="2674" name="Freeform 4159"/>
                <p:cNvSpPr/>
                <p:nvPr/>
              </p:nvSpPr>
              <p:spPr>
                <a:xfrm rot="1752000">
                  <a:off x="-1881000" y="385272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Freeform 4160"/>
                <p:cNvSpPr/>
                <p:nvPr/>
              </p:nvSpPr>
              <p:spPr>
                <a:xfrm rot="1752000">
                  <a:off x="-2007000" y="383976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Freeform 4161"/>
                <p:cNvSpPr/>
                <p:nvPr/>
              </p:nvSpPr>
              <p:spPr>
                <a:xfrm rot="1752000">
                  <a:off x="-1993320" y="3772440"/>
                  <a:ext cx="284040" cy="676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Freeform 4162"/>
                <p:cNvSpPr/>
                <p:nvPr/>
              </p:nvSpPr>
              <p:spPr>
                <a:xfrm rot="1752000">
                  <a:off x="-2013480" y="372744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Freeform 4163"/>
                <p:cNvSpPr/>
                <p:nvPr/>
              </p:nvSpPr>
              <p:spPr>
                <a:xfrm rot="1752000">
                  <a:off x="-1987920" y="371628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Freeform 4164"/>
                <p:cNvSpPr/>
                <p:nvPr/>
              </p:nvSpPr>
              <p:spPr>
                <a:xfrm rot="1752000">
                  <a:off x="-1957680" y="3731040"/>
                  <a:ext cx="284040" cy="1130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Freeform 4165"/>
                <p:cNvSpPr/>
                <p:nvPr/>
              </p:nvSpPr>
              <p:spPr>
                <a:xfrm rot="1752000">
                  <a:off x="-1885320" y="3679200"/>
                  <a:ext cx="214200" cy="1807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Freeform 4166"/>
                <p:cNvSpPr/>
                <p:nvPr/>
              </p:nvSpPr>
              <p:spPr>
                <a:xfrm rot="1752000">
                  <a:off x="-1918800" y="36813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Freeform 4167"/>
                <p:cNvSpPr/>
                <p:nvPr/>
              </p:nvSpPr>
              <p:spPr>
                <a:xfrm rot="1752000">
                  <a:off x="-1905840" y="372780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Freeform 4168"/>
                <p:cNvSpPr/>
                <p:nvPr/>
              </p:nvSpPr>
              <p:spPr>
                <a:xfrm rot="1752000">
                  <a:off x="-1900800" y="3628440"/>
                  <a:ext cx="262800" cy="24480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4" name="Line 4169"/>
                <p:cNvSpPr/>
                <p:nvPr/>
              </p:nvSpPr>
              <p:spPr>
                <a:xfrm flipH="1" flipV="1">
                  <a:off x="-1762920" y="3635280"/>
                  <a:ext cx="46800" cy="3117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5" name="Freeform 4170"/>
                <p:cNvSpPr/>
                <p:nvPr/>
              </p:nvSpPr>
              <p:spPr>
                <a:xfrm rot="1752000">
                  <a:off x="-1813320" y="3669480"/>
                  <a:ext cx="158760" cy="249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6" name="Freeform 4171"/>
                <p:cNvSpPr/>
                <p:nvPr/>
              </p:nvSpPr>
              <p:spPr>
                <a:xfrm rot="1752000">
                  <a:off x="-1772640" y="3661920"/>
                  <a:ext cx="123120" cy="25632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7" name="Freeform 4172"/>
                <p:cNvSpPr/>
                <p:nvPr/>
              </p:nvSpPr>
              <p:spPr>
                <a:xfrm rot="1752000">
                  <a:off x="-1730880" y="3657240"/>
                  <a:ext cx="82440" cy="2714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8" name="Freeform 4173"/>
                <p:cNvSpPr/>
                <p:nvPr/>
              </p:nvSpPr>
              <p:spPr>
                <a:xfrm rot="1752000">
                  <a:off x="-1683360" y="366552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9" name="Freeform 4174"/>
                <p:cNvSpPr/>
                <p:nvPr/>
              </p:nvSpPr>
              <p:spPr>
                <a:xfrm rot="1752000">
                  <a:off x="-1666800" y="3637080"/>
                  <a:ext cx="47520" cy="3146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0" name="Freeform 4175"/>
                <p:cNvSpPr/>
                <p:nvPr/>
              </p:nvSpPr>
              <p:spPr>
                <a:xfrm rot="1752000">
                  <a:off x="-1659240" y="368712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1" name="Freeform 4176"/>
                <p:cNvSpPr/>
                <p:nvPr/>
              </p:nvSpPr>
              <p:spPr>
                <a:xfrm rot="1752000">
                  <a:off x="-1657440" y="3733560"/>
                  <a:ext cx="79200" cy="237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2" name="Freeform 4177"/>
                <p:cNvSpPr/>
                <p:nvPr/>
              </p:nvSpPr>
              <p:spPr>
                <a:xfrm rot="1752000">
                  <a:off x="-1652400" y="368424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3" name="Freeform 4178"/>
                <p:cNvSpPr/>
                <p:nvPr/>
              </p:nvSpPr>
              <p:spPr>
                <a:xfrm rot="1752000">
                  <a:off x="-1672200" y="374796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4" name="Freeform 4179"/>
                <p:cNvSpPr/>
                <p:nvPr/>
              </p:nvSpPr>
              <p:spPr>
                <a:xfrm rot="1752000">
                  <a:off x="-1678320" y="3814920"/>
                  <a:ext cx="238320" cy="192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5" name="Freeform 4180"/>
                <p:cNvSpPr/>
                <p:nvPr/>
              </p:nvSpPr>
              <p:spPr>
                <a:xfrm rot="1752000">
                  <a:off x="-1688760" y="385524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Freeform 4181"/>
                <p:cNvSpPr/>
                <p:nvPr/>
              </p:nvSpPr>
              <p:spPr>
                <a:xfrm rot="1752000">
                  <a:off x="-1716840" y="386496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7" name="Freeform 4182"/>
                <p:cNvSpPr/>
                <p:nvPr/>
              </p:nvSpPr>
              <p:spPr>
                <a:xfrm rot="1752000">
                  <a:off x="-1741680" y="398268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8" name="Freeform 4183"/>
                <p:cNvSpPr/>
                <p:nvPr/>
              </p:nvSpPr>
              <p:spPr>
                <a:xfrm rot="1752000">
                  <a:off x="-1742400" y="397296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9" name="Freeform 4184"/>
                <p:cNvSpPr/>
                <p:nvPr/>
              </p:nvSpPr>
              <p:spPr>
                <a:xfrm rot="1752000">
                  <a:off x="-1763280" y="3964320"/>
                  <a:ext cx="90720" cy="676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0" name="Freeform 4185"/>
                <p:cNvSpPr/>
                <p:nvPr/>
              </p:nvSpPr>
              <p:spPr>
                <a:xfrm rot="1752000">
                  <a:off x="-1774080" y="395172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1" name="Freeform 4186"/>
                <p:cNvSpPr/>
                <p:nvPr/>
              </p:nvSpPr>
              <p:spPr>
                <a:xfrm rot="1752000">
                  <a:off x="-1936440" y="384948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Freeform 4187"/>
                <p:cNvSpPr/>
                <p:nvPr/>
              </p:nvSpPr>
              <p:spPr>
                <a:xfrm rot="1752000">
                  <a:off x="-1737720" y="398628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3" name="Freeform 4188"/>
                <p:cNvSpPr/>
                <p:nvPr/>
              </p:nvSpPr>
              <p:spPr>
                <a:xfrm rot="1752000">
                  <a:off x="-1767960" y="396936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Freeform 4189"/>
                <p:cNvSpPr/>
                <p:nvPr/>
              </p:nvSpPr>
              <p:spPr>
                <a:xfrm rot="1752000">
                  <a:off x="-1667160" y="3684240"/>
                  <a:ext cx="8640" cy="2606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Freeform 4190"/>
                <p:cNvSpPr/>
                <p:nvPr/>
              </p:nvSpPr>
              <p:spPr>
                <a:xfrm rot="1752000">
                  <a:off x="-1872720" y="386928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6" name="Freeform 4191"/>
                <p:cNvSpPr/>
                <p:nvPr/>
              </p:nvSpPr>
              <p:spPr>
                <a:xfrm rot="1752000">
                  <a:off x="-1902600" y="3892680"/>
                  <a:ext cx="124560" cy="2041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Freeform 4192"/>
                <p:cNvSpPr/>
                <p:nvPr/>
              </p:nvSpPr>
              <p:spPr>
                <a:xfrm rot="1752000">
                  <a:off x="-1777680" y="396036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Freeform 4193"/>
                <p:cNvSpPr/>
                <p:nvPr/>
              </p:nvSpPr>
              <p:spPr>
                <a:xfrm rot="2433000">
                  <a:off x="-1691280" y="395208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Freeform 4194"/>
                <p:cNvSpPr/>
                <p:nvPr/>
              </p:nvSpPr>
              <p:spPr>
                <a:xfrm rot="1752000">
                  <a:off x="-1689840" y="377316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0" name="Oval 4195"/>
          <p:cNvSpPr/>
          <p:nvPr/>
        </p:nvSpPr>
        <p:spPr>
          <a:xfrm rot="21079800">
            <a:off x="-9295920" y="-2475000"/>
            <a:ext cx="9296280" cy="717408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1" name="Loop190.wav" descr=""/>
          <p:cNvPicPr/>
          <p:nvPr/>
        </p:nvPicPr>
        <p:blipFill>
          <a:blip r:embed="rId4"/>
          <a:stretch/>
        </p:blipFill>
        <p:spPr>
          <a:xfrm>
            <a:off x="313200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12" name="Text Box 4375"/>
          <p:cNvSpPr/>
          <p:nvPr/>
        </p:nvSpPr>
        <p:spPr>
          <a:xfrm>
            <a:off x="1476360" y="549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彩云"/>
              </a:rPr>
              <a:t>放飞心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Text Box 4379"/>
          <p:cNvSpPr/>
          <p:nvPr/>
        </p:nvSpPr>
        <p:spPr>
          <a:xfrm>
            <a:off x="-1476360" y="-182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4" name="Picture 4381" descr="天好作品"/>
          <p:cNvPicPr/>
          <p:nvPr/>
        </p:nvPicPr>
        <p:blipFill>
          <a:blip r:embed="rId5"/>
          <a:stretch/>
        </p:blipFill>
        <p:spPr>
          <a:xfrm>
            <a:off x="7093080" y="6093000"/>
            <a:ext cx="1871640" cy="564840"/>
          </a:xfrm>
          <a:prstGeom prst="rect">
            <a:avLst/>
          </a:prstGeom>
          <a:ln w="0">
            <a:noFill/>
          </a:ln>
        </p:spPr>
      </p:pic>
      <p:pic>
        <p:nvPicPr>
          <p:cNvPr id="2715" name="Picture 4383" descr="放飞"/>
          <p:cNvPicPr/>
          <p:nvPr/>
        </p:nvPicPr>
        <p:blipFill>
          <a:blip r:embed="rId6"/>
          <a:stretch/>
        </p:blipFill>
        <p:spPr>
          <a:xfrm>
            <a:off x="1042920" y="549360"/>
            <a:ext cx="3313080" cy="1001520"/>
          </a:xfrm>
          <a:prstGeom prst="rect">
            <a:avLst/>
          </a:prstGeom>
          <a:ln w="0">
            <a:noFill/>
          </a:ln>
        </p:spPr>
      </p:pic>
      <p:sp>
        <p:nvSpPr>
          <p:cNvPr id="2716" name="矩形 1"/>
          <p:cNvSpPr/>
          <p:nvPr/>
        </p:nvSpPr>
        <p:spPr>
          <a:xfrm>
            <a:off x="2380320" y="1557360"/>
            <a:ext cx="49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放飞心情动态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27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0"/>
                                        <p:tgtEl>
                                          <p:spTgt spid="2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2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2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14687 0.18472 0.29392 0.36944 0.47222 0.40926 C 0.65052 0.44907 0.97014 0.26736 1.06944 0.23889 E">
                                      <p:cBhvr>
                                        <p:cTn id="26" dur="5000" fill="hold"/>
                                        <p:tgtEl>
                                          <p:spTgt spid="2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" nodeType="after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96296E-006 C 1.94444E-006 0.04676 0.25052 0.08264 0.55538 0.08264 C 0.86944 0.08264 1.11996 0.04676 1.11996 -2.96296E-006 C 1.11996 -0.04676 1.37031 -0.08264 1.68455 -0.08264 C 1.98941 -0.08264 2.23993 -0.04676 2.23993 -2.96296E-006 E">
                                      <p:cBhvr>
                                        <p:cTn id="29" dur="2000" fill="hold"/>
                                        <p:tgtEl>
                                          <p:spTgt spid="2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39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94444E-006 -2.96296E-006 C 1.94444E-006 0.04676 0.25052 0.08264 0.55538 0.08264 C 0.86944 0.08264 1.11996 0.04676 1.11996 -2.96296E-006 C 1.11996 -0.04676 1.37031 -0.08264 1.68455 -0.08264 C 1.98941 -0.08264 2.23993 -0.04676 2.23993 -2.96296E-006 E">
                                      <p:cBhvr>
                                        <p:cTn id="31" dur="500" fill="hold"/>
                                        <p:tgtEl>
                                          <p:spTgt spid="2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34" dur="10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C 0.16754 0.08495 0.33525 0.17037 0.48889 0.13102 C 0.64289 0.0919 0.78282 -0.07153 0.92292 -0.23472 E">
                                      <p:cBhvr>
                                        <p:cTn id="36" dur="2000" fill="hold"/>
                                        <p:tgtEl>
                                          <p:spTgt spid="1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12600000">
                                      <p:cBhvr>
                                        <p:cTn id="38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5.55556E-007 2.59259E-006 C 0.14358 0.10417 0.28715 0.20857 0.43438 0.17361 C 0.5816 0.13866 0.73247 -0.03565 0.88333 -0.20972 E">
                                      <p:cBhvr>
                                        <p:cTn id="40" dur="2000" fill="hold"/>
                                        <p:tgtEl>
                                          <p:spTgt spid="1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7200000">
                                      <p:cBhvr>
                                        <p:cTn id="42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6.11111E-006 -1.48148E-006 C 0.09844 0.04121 0.19688 0.08264 0.35417 0.0625 C 0.51146 0.04236 0.84566 -0.09028 0.94376 -0.12083 E">
                                      <p:cBhvr>
                                        <p:cTn id="44" dur="2000" fill="hold"/>
                                        <p:tgtEl>
                                          <p:spTgt spid="1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4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91511 -0.3 E">
                                      <p:cBhvr>
                                        <p:cTn id="48" dur="2000" fill="hold"/>
                                        <p:tgtEl>
                                          <p:spTgt spid="1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4800000">
                                      <p:cBhvr>
                                        <p:cTn id="50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-7.40741E-007 L 0.92066 0.03403 E">
                                      <p:cBhvr>
                                        <p:cTn id="52" dur="2000" fill="hold"/>
                                        <p:tgtEl>
                                          <p:spTgt spid="1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3600000">
                                      <p:cBhvr>
                                        <p:cTn id="54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5.55556E-007 2.96296E-006 C 0.09132 -0.04653 0.18299 -0.09283 0.28316 -0.075 C 0.38351 -0.05718 0.49497 0.11227 0.60174 0.1074 C 0.70851 0.10277 0.81632 -0.000229999999999994 0.92431 -0.10301 E">
                                      <p:cBhvr>
                                        <p:cTn id="56" dur="3000" fill="hold"/>
                                        <p:tgtEl>
                                          <p:spTgt spid="1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700000">
                                      <p:cBhvr>
                                        <p:cTn id="58" dur="2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40741E-007 L 0.88421 -0.1507 E">
                                      <p:cBhvr>
                                        <p:cTn id="60" dur="2000" fill="hold"/>
                                        <p:tgtEl>
                                          <p:spTgt spid="1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88889E-006 0 L 0.90816 -0.00694 E">
                                      <p:cBhvr>
                                        <p:cTn id="62" dur="1000" fill="hold"/>
                                        <p:tgtEl>
                                          <p:spTgt spid="1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7037E-007 L 0.21875 -0.1125 C 0.26458 -0.13796 0.33316 -0.15208 0.40469 -0.15208 C 0.48629 -0.15208 0.55156 -0.13796 0.5974 -0.1125 L 0.81632 3.7037E-007 E">
                                      <p:cBhvr>
                                        <p:cTn id="64" dur="2000" fill="hold"/>
                                        <p:tgtEl>
                                          <p:spTgt spid="1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59259E-006 C 0.1125 0.10996 0.225 0.22014 0.36459 0.14445 C 0.50417 0.06875 0.67084 -0.19282 0.8375 -0.45416 E">
                                      <p:cBhvr>
                                        <p:cTn id="66" dur="2000" fill="hold"/>
                                        <p:tgtEl>
                                          <p:spTgt spid="1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0">
                                      <p:cBhvr>
                                        <p:cTn id="68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48148E-006 L 0.8052 -0.61945 E">
                                      <p:cBhvr>
                                        <p:cTn id="70" dur="2000" fill="hold"/>
                                        <p:tgtEl>
                                          <p:spTgt spid="1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72" dur="10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33333E-006 L 0.84479 0.03148 E">
                                      <p:cBhvr>
                                        <p:cTn id="74" dur="1000" fill="hold"/>
                                        <p:tgtEl>
                                          <p:spTgt spid="1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8.33333E-007 3.46945E-018 C 0.07934 0.12361 0.15868 0.24745 0.29792 0.21944 C 0.43715 0.19143 0.63629 0.01157 0.83542 -0.16806 E">
                                      <p:cBhvr>
                                        <p:cTn id="76" dur="2000" fill="hold"/>
                                        <p:tgtEl>
                                          <p:spTgt spid="1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800000">
                                      <p:cBhvr>
                                        <p:cTn id="78" dur="2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18 1.48148E-006 L 3.33333E-006 0.02106 E">
                                      <p:cBhvr>
                                        <p:cTn id="80" dur="500" fill="hold"/>
                                        <p:tgtEl>
                                          <p:spTgt spid="19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3600000">
                                      <p:cBhvr>
                                        <p:cTn id="82" dur="1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6" dur="1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88889E-006 L 0.90573 -0.02083 E">
                                      <p:cBhvr>
                                        <p:cTn id="95" dur="1000" fill="hold"/>
                                        <p:tgtEl>
                                          <p:spTgt spid="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100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667 0.028 -0.08267 0.062 -0.08267 C 0.097 -0.08267 0.125 -0.04667 0.125 0 C 0.125 0.04667 0.153 0.08267 0.188 0.08267 C 0.222 0.08267 0.25 0.04667 0.25 0 E">
                                      <p:cBhvr>
                                        <p:cTn id="101" dur="2000" fill="hold"/>
                                        <p:tgtEl>
                                          <p:spTgt spid="19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800000">
                                      <p:cBhvr>
                                        <p:cTn id="103" dur="1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07407E-006 L -0.2283 0.00069 E">
                                      <p:cBhvr>
                                        <p:cTn id="105" dur="2000" fill="hold"/>
                                        <p:tgtEl>
                                          <p:spTgt spid="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39271 -0.00092 E">
                                      <p:cBhvr>
                                        <p:cTn id="107" dur="2000" fill="hold"/>
                                        <p:tgtEl>
                                          <p:spTgt spid="19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63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.25 1.48148E-006 L 1.17343 -0.44097 E">
                                      <p:cBhvr>
                                        <p:cTn id="109" dur="1000" fill="hold"/>
                                        <p:tgtEl>
                                          <p:spTgt spid="19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2.22222E-006 0.02268 C 0.35729 0.08565 0.71458 0.14861 0.95573 0.1368 C 1.1967 0.125 1.32135 0.03842 1.446 -0.04792 E">
                                      <p:cBhvr>
                                        <p:cTn id="111" dur="2000" fill="hold"/>
                                        <p:tgtEl>
                                          <p:spTgt spid="2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3.33333E-006 -0.1199 C 0.42431 -0.02662 0.84914 0.06737 1.10313 0.04607 C 1.3573 0.02477 1.44098 -0.11157 1.52483 -0.24722 E">
                                      <p:cBhvr>
                                        <p:cTn id="113" dur="2000" fill="hold"/>
                                        <p:tgtEl>
                                          <p:spTgt spid="2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1.94444E-006 7.40741E-007 L 1.53559 -0.46204 E">
                                      <p:cBhvr>
                                        <p:cTn id="115" dur="2000" fill="hold"/>
                                        <p:tgtEl>
                                          <p:spTgt spid="2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9200000">
                                      <p:cBhvr>
                                        <p:cTn id="117" dur="10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295 -0.047 C 0.1717 0.02199 0.34705 0.0912 0.50712 0.08356 C 0.66736 0.07592 0.74983 -0.07477 0.95886 -0.09283 C 1.16788 -0.11088 1.46441 -0.06783 1.76111 -0.02477 E">
                                      <p:cBhvr>
                                        <p:cTn id="119" dur="2000" fill="hold"/>
                                        <p:tgtEl>
                                          <p:spTgt spid="2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8" name="Picture 248" descr="竖天"/>
          <p:cNvPicPr/>
          <p:nvPr/>
        </p:nvPicPr>
        <p:blipFill>
          <a:blip r:embed="rId1"/>
          <a:stretch/>
        </p:blipFill>
        <p:spPr>
          <a:xfrm>
            <a:off x="-2082960" y="-8215200"/>
            <a:ext cx="12455640" cy="15076440"/>
          </a:xfrm>
          <a:prstGeom prst="rect">
            <a:avLst/>
          </a:prstGeom>
          <a:ln w="0">
            <a:noFill/>
          </a:ln>
        </p:spPr>
      </p:pic>
      <p:sp>
        <p:nvSpPr>
          <p:cNvPr id="2719" name="Rectangle 249"/>
          <p:cNvSpPr/>
          <p:nvPr/>
        </p:nvSpPr>
        <p:spPr>
          <a:xfrm>
            <a:off x="611280" y="476280"/>
            <a:ext cx="7848360" cy="5977080"/>
          </a:xfrm>
          <a:prstGeom prst="rect">
            <a:avLst/>
          </a:prstGeom>
          <a:solidFill>
            <a:srgbClr val="00008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Text Box 8"/>
          <p:cNvSpPr/>
          <p:nvPr/>
        </p:nvSpPr>
        <p:spPr>
          <a:xfrm>
            <a:off x="1116000" y="1052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好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Text Box 54"/>
          <p:cNvSpPr/>
          <p:nvPr/>
        </p:nvSpPr>
        <p:spPr>
          <a:xfrm>
            <a:off x="3814920" y="393372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为什么</a:t>
            </a:r>
            <a:r>
              <a:rPr b="0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不出去走走</a:t>
            </a:r>
            <a:r>
              <a:rPr b="0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Oval 243"/>
          <p:cNvSpPr/>
          <p:nvPr/>
        </p:nvSpPr>
        <p:spPr>
          <a:xfrm rot="2404800">
            <a:off x="-6660720" y="1628640"/>
            <a:ext cx="4824360" cy="423720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Oval 246"/>
          <p:cNvSpPr/>
          <p:nvPr/>
        </p:nvSpPr>
        <p:spPr>
          <a:xfrm rot="2404800">
            <a:off x="-6715080" y="-1049400"/>
            <a:ext cx="4895640" cy="539136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Oval 247"/>
          <p:cNvSpPr/>
          <p:nvPr/>
        </p:nvSpPr>
        <p:spPr>
          <a:xfrm rot="2404800">
            <a:off x="-7607160" y="2448000"/>
            <a:ext cx="5545080" cy="597672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Text Box 251"/>
          <p:cNvSpPr/>
          <p:nvPr/>
        </p:nvSpPr>
        <p:spPr>
          <a:xfrm>
            <a:off x="1619280" y="2276640"/>
            <a:ext cx="568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白云在高空中舒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微风卷来春的气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6" name="Group 198"/>
          <p:cNvGrpSpPr/>
          <p:nvPr/>
        </p:nvGrpSpPr>
        <p:grpSpPr>
          <a:xfrm>
            <a:off x="-1468080" y="3572280"/>
            <a:ext cx="659880" cy="875160"/>
            <a:chOff x="-1468080" y="3572280"/>
            <a:chExt cx="659880" cy="875160"/>
          </a:xfrm>
        </p:grpSpPr>
        <p:sp>
          <p:nvSpPr>
            <p:cNvPr id="2727" name="Freeform 199"/>
            <p:cNvSpPr/>
            <p:nvPr/>
          </p:nvSpPr>
          <p:spPr>
            <a:xfrm rot="1259400">
              <a:off x="-1128600" y="388764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8" name="Group 200"/>
            <p:cNvGrpSpPr/>
            <p:nvPr/>
          </p:nvGrpSpPr>
          <p:grpSpPr>
            <a:xfrm>
              <a:off x="-1468080" y="3572280"/>
              <a:ext cx="659880" cy="875160"/>
              <a:chOff x="-1468080" y="3572280"/>
              <a:chExt cx="659880" cy="875160"/>
            </a:xfrm>
          </p:grpSpPr>
          <p:grpSp>
            <p:nvGrpSpPr>
              <p:cNvPr id="2729" name="Group 201"/>
              <p:cNvGrpSpPr/>
              <p:nvPr/>
            </p:nvGrpSpPr>
            <p:grpSpPr>
              <a:xfrm>
                <a:off x="-1459440" y="3832920"/>
                <a:ext cx="364320" cy="614520"/>
                <a:chOff x="-1459440" y="3832920"/>
                <a:chExt cx="364320" cy="614520"/>
              </a:xfrm>
            </p:grpSpPr>
            <p:sp>
              <p:nvSpPr>
                <p:cNvPr id="2730" name="AutoShape 202"/>
                <p:cNvSpPr/>
                <p:nvPr/>
              </p:nvSpPr>
              <p:spPr>
                <a:xfrm rot="1259400">
                  <a:off x="-1196640" y="384624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1" name="Freeform 203"/>
                <p:cNvSpPr/>
                <p:nvPr/>
              </p:nvSpPr>
              <p:spPr>
                <a:xfrm rot="1259400">
                  <a:off x="-1279080" y="387900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2" name="Oval 204"/>
                <p:cNvSpPr/>
                <p:nvPr/>
              </p:nvSpPr>
              <p:spPr>
                <a:xfrm rot="1803000">
                  <a:off x="-1414080" y="425628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3" name="Group 205"/>
              <p:cNvGrpSpPr/>
              <p:nvPr/>
            </p:nvGrpSpPr>
            <p:grpSpPr>
              <a:xfrm>
                <a:off x="-1468080" y="3572280"/>
                <a:ext cx="659880" cy="541800"/>
                <a:chOff x="-1468080" y="3572280"/>
                <a:chExt cx="659880" cy="541800"/>
              </a:xfrm>
            </p:grpSpPr>
            <p:sp>
              <p:nvSpPr>
                <p:cNvPr id="2734" name="Freeform 206"/>
                <p:cNvSpPr/>
                <p:nvPr/>
              </p:nvSpPr>
              <p:spPr>
                <a:xfrm rot="1259400">
                  <a:off x="-1312920" y="383868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Freeform 207"/>
                <p:cNvSpPr/>
                <p:nvPr/>
              </p:nvSpPr>
              <p:spPr>
                <a:xfrm rot="1259400">
                  <a:off x="-1440000" y="383616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6" name="Freeform 208"/>
                <p:cNvSpPr/>
                <p:nvPr/>
              </p:nvSpPr>
              <p:spPr>
                <a:xfrm rot="1259400">
                  <a:off x="-1437480" y="3767040"/>
                  <a:ext cx="284040" cy="6804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7" name="Freeform 209"/>
                <p:cNvSpPr/>
                <p:nvPr/>
              </p:nvSpPr>
              <p:spPr>
                <a:xfrm rot="1259400">
                  <a:off x="-1461600" y="372348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8" name="Freeform 210"/>
                <p:cNvSpPr/>
                <p:nvPr/>
              </p:nvSpPr>
              <p:spPr>
                <a:xfrm rot="1259400">
                  <a:off x="-1436400" y="370980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9" name="Freeform 211"/>
                <p:cNvSpPr/>
                <p:nvPr/>
              </p:nvSpPr>
              <p:spPr>
                <a:xfrm rot="1259400">
                  <a:off x="-1404000" y="3719880"/>
                  <a:ext cx="284040" cy="11340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0" name="Freeform 212"/>
                <p:cNvSpPr/>
                <p:nvPr/>
              </p:nvSpPr>
              <p:spPr>
                <a:xfrm rot="1259400">
                  <a:off x="-1334520" y="3662640"/>
                  <a:ext cx="214200" cy="18108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1" name="Freeform 213"/>
                <p:cNvSpPr/>
                <p:nvPr/>
              </p:nvSpPr>
              <p:spPr>
                <a:xfrm rot="1259400">
                  <a:off x="-1369440" y="36676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2" name="Freeform 214"/>
                <p:cNvSpPr/>
                <p:nvPr/>
              </p:nvSpPr>
              <p:spPr>
                <a:xfrm rot="1259400">
                  <a:off x="-1350000" y="371160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3" name="Freeform 215"/>
                <p:cNvSpPr/>
                <p:nvPr/>
              </p:nvSpPr>
              <p:spPr>
                <a:xfrm rot="1259400">
                  <a:off x="-1352880" y="3611160"/>
                  <a:ext cx="262800" cy="2451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4" name="Line 216"/>
                <p:cNvSpPr/>
                <p:nvPr/>
              </p:nvSpPr>
              <p:spPr>
                <a:xfrm flipH="1" flipV="1">
                  <a:off x="-1231560" y="3618000"/>
                  <a:ext cx="90720" cy="3020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5" name="Freeform 217"/>
                <p:cNvSpPr/>
                <p:nvPr/>
              </p:nvSpPr>
              <p:spPr>
                <a:xfrm rot="1259400">
                  <a:off x="-1260000" y="3646800"/>
                  <a:ext cx="158760" cy="2494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6" name="Freeform 218"/>
                <p:cNvSpPr/>
                <p:nvPr/>
              </p:nvSpPr>
              <p:spPr>
                <a:xfrm rot="1259400">
                  <a:off x="-1220040" y="3635640"/>
                  <a:ext cx="123120" cy="2566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7" name="Freeform 219"/>
                <p:cNvSpPr/>
                <p:nvPr/>
              </p:nvSpPr>
              <p:spPr>
                <a:xfrm rot="1259400">
                  <a:off x="-1177560" y="3628440"/>
                  <a:ext cx="82440" cy="2718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8" name="Freeform 220"/>
                <p:cNvSpPr/>
                <p:nvPr/>
              </p:nvSpPr>
              <p:spPr>
                <a:xfrm rot="1259400">
                  <a:off x="-1128240" y="363240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9" name="Freeform 221"/>
                <p:cNvSpPr/>
                <p:nvPr/>
              </p:nvSpPr>
              <p:spPr>
                <a:xfrm rot="1259400">
                  <a:off x="-1114200" y="3601440"/>
                  <a:ext cx="47520" cy="3150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Freeform 222"/>
                <p:cNvSpPr/>
                <p:nvPr/>
              </p:nvSpPr>
              <p:spPr>
                <a:xfrm rot="1259400">
                  <a:off x="-1101600" y="365040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1" name="Freeform 223"/>
                <p:cNvSpPr/>
                <p:nvPr/>
              </p:nvSpPr>
              <p:spPr>
                <a:xfrm rot="1259400">
                  <a:off x="-1096200" y="3693960"/>
                  <a:ext cx="79200" cy="2383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2" name="Freeform 224"/>
                <p:cNvSpPr/>
                <p:nvPr/>
              </p:nvSpPr>
              <p:spPr>
                <a:xfrm rot="1259400">
                  <a:off x="-1095120" y="363816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3" name="Freeform 225"/>
                <p:cNvSpPr/>
                <p:nvPr/>
              </p:nvSpPr>
              <p:spPr>
                <a:xfrm rot="1259400">
                  <a:off x="-1108800" y="370116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4" name="Freeform 226"/>
                <p:cNvSpPr/>
                <p:nvPr/>
              </p:nvSpPr>
              <p:spPr>
                <a:xfrm rot="1259400">
                  <a:off x="-1109520" y="3765960"/>
                  <a:ext cx="238320" cy="19296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5" name="Freeform 227"/>
                <p:cNvSpPr/>
                <p:nvPr/>
              </p:nvSpPr>
              <p:spPr>
                <a:xfrm rot="1259400">
                  <a:off x="-1117080" y="380520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6" name="Freeform 228"/>
                <p:cNvSpPr/>
                <p:nvPr/>
              </p:nvSpPr>
              <p:spPr>
                <a:xfrm rot="1259400">
                  <a:off x="-1143720" y="381564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7" name="Freeform 229"/>
                <p:cNvSpPr/>
                <p:nvPr/>
              </p:nvSpPr>
              <p:spPr>
                <a:xfrm rot="1259400">
                  <a:off x="-1160640" y="394524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8" name="Freeform 230"/>
                <p:cNvSpPr/>
                <p:nvPr/>
              </p:nvSpPr>
              <p:spPr>
                <a:xfrm rot="1259400">
                  <a:off x="-1161720" y="394020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9" name="Freeform 231"/>
                <p:cNvSpPr/>
                <p:nvPr/>
              </p:nvSpPr>
              <p:spPr>
                <a:xfrm rot="1259400">
                  <a:off x="-1181160" y="3936960"/>
                  <a:ext cx="90720" cy="6804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0" name="Freeform 232"/>
                <p:cNvSpPr/>
                <p:nvPr/>
              </p:nvSpPr>
              <p:spPr>
                <a:xfrm rot="1259400">
                  <a:off x="-1191960" y="392832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1" name="Freeform 233"/>
                <p:cNvSpPr/>
                <p:nvPr/>
              </p:nvSpPr>
              <p:spPr>
                <a:xfrm rot="1259400">
                  <a:off x="-1372320" y="383940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2" name="Freeform 234"/>
                <p:cNvSpPr/>
                <p:nvPr/>
              </p:nvSpPr>
              <p:spPr>
                <a:xfrm rot="1259400">
                  <a:off x="-1156680" y="394632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3" name="Freeform 235"/>
                <p:cNvSpPr/>
                <p:nvPr/>
              </p:nvSpPr>
              <p:spPr>
                <a:xfrm rot="1259400">
                  <a:off x="-1182960" y="393768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4" name="Freeform 236"/>
                <p:cNvSpPr/>
                <p:nvPr/>
              </p:nvSpPr>
              <p:spPr>
                <a:xfrm rot="1259400">
                  <a:off x="-1110960" y="3651120"/>
                  <a:ext cx="8640" cy="2610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5" name="Freeform 237"/>
                <p:cNvSpPr/>
                <p:nvPr/>
              </p:nvSpPr>
              <p:spPr>
                <a:xfrm rot="1259400">
                  <a:off x="-1296720" y="385560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6" name="Freeform 238"/>
                <p:cNvSpPr/>
                <p:nvPr/>
              </p:nvSpPr>
              <p:spPr>
                <a:xfrm rot="1259400">
                  <a:off x="-1319400" y="3882960"/>
                  <a:ext cx="124560" cy="20448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7" name="Freeform 239"/>
                <p:cNvSpPr/>
                <p:nvPr/>
              </p:nvSpPr>
              <p:spPr>
                <a:xfrm rot="1259400">
                  <a:off x="-1188000" y="393552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8" name="Freeform 240"/>
                <p:cNvSpPr/>
                <p:nvPr/>
              </p:nvSpPr>
              <p:spPr>
                <a:xfrm rot="1941000">
                  <a:off x="-1114560" y="391464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9" name="Freeform 241"/>
                <p:cNvSpPr/>
                <p:nvPr/>
              </p:nvSpPr>
              <p:spPr>
                <a:xfrm rot="1259400">
                  <a:off x="-1127160" y="373860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70" name="Text Box 257"/>
          <p:cNvSpPr/>
          <p:nvPr/>
        </p:nvSpPr>
        <p:spPr>
          <a:xfrm>
            <a:off x="2843280" y="1268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释放一下疲惫的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10" repeatCount="1000">
                                  <p:stCondLst>
                                    <p:cond delay="2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1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2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2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3.7037E-006 L 1.496 -0.31922 E">
                                      <p:cBhvr>
                                        <p:cTn id="153" dur="1000" fill="hold"/>
                                        <p:tgtEl>
                                          <p:spTgt spid="2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5E-006 2.96296E-006 L 1.44896 -0.10417 E">
                                      <p:cBhvr>
                                        <p:cTn id="155" dur="1000" fill="hold"/>
                                        <p:tgtEl>
                                          <p:spTgt spid="2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63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16667E-006 -3.7037E-006 L 1.56303 -0.1618 E">
                                      <p:cBhvr>
                                        <p:cTn id="157" dur="1000" fill="hold"/>
                                        <p:tgtEl>
                                          <p:spTgt spid="2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7 C -0.00695 -0.00116 -0.02466 0.01643 0.00295 -0.00116 C 0.03055 -0.0162 0.08784 -0.06528 0.16284 -0.09537 C 0.23837 -0.12569 0.39496 -0.16412 0.45625 -0.18032 E">
                                      <p:cBhvr>
                                        <p:cTn id="159" dur="3000" fill="hold"/>
                                        <p:tgtEl>
                                          <p:spTgt spid="2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0400000">
                                      <p:cBhvr>
                                        <p:cTn id="161" dur="2000" fill="hold"/>
                                        <p:tgtEl>
                                          <p:spTgt spid="2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163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100" fill="hold"/>
                                        <p:tgtEl>
                                          <p:spTgt spid="27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5" dur="100" fill="hold"/>
                                        <p:tgtEl>
                                          <p:spTgt spid="27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6" dur="100" fill="hold"/>
                                        <p:tgtEl>
                                          <p:spTgt spid="27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2000" fill="hold"/>
                                        <p:tgtEl>
                                          <p:spTgt spid="27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00399 1.09514 E">
                                      <p:cBhvr>
                                        <p:cTn id="175" dur="2000" fill="hold"/>
                                        <p:tgtEl>
                                          <p:spTgt spid="2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45625 -0.18032 L 0.63334 -0.21366 E">
                                      <p:cBhvr>
                                        <p:cTn id="177" dur="2000" fill="hold"/>
                                        <p:tgtEl>
                                          <p:spTgt spid="2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92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3200"/>
                            </p:stCondLst>
                            <p:childTnLst>
                              <p:par>
                                <p:cTn id="1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333 -0.21365 L 1.2908 -0.39398 E">
                                      <p:cBhvr>
                                        <p:cTn id="188" dur="500" fill="hold"/>
                                        <p:tgtEl>
                                          <p:spTgt spid="2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1" name="Picture 50" descr="油菜花"/>
          <p:cNvPicPr/>
          <p:nvPr/>
        </p:nvPicPr>
        <p:blipFill>
          <a:blip r:embed="rId1"/>
          <a:stretch/>
        </p:blipFill>
        <p:spPr>
          <a:xfrm>
            <a:off x="0" y="-1238400"/>
            <a:ext cx="9753480" cy="8096400"/>
          </a:xfrm>
          <a:prstGeom prst="rect">
            <a:avLst/>
          </a:prstGeom>
          <a:ln w="0">
            <a:noFill/>
          </a:ln>
        </p:spPr>
      </p:pic>
      <p:grpSp>
        <p:nvGrpSpPr>
          <p:cNvPr id="2772" name="Group 51"/>
          <p:cNvGrpSpPr/>
          <p:nvPr/>
        </p:nvGrpSpPr>
        <p:grpSpPr>
          <a:xfrm>
            <a:off x="1547640" y="-316080"/>
            <a:ext cx="4434480" cy="6190200"/>
            <a:chOff x="1547640" y="-316080"/>
            <a:chExt cx="4434480" cy="6190200"/>
          </a:xfrm>
        </p:grpSpPr>
        <p:sp>
          <p:nvSpPr>
            <p:cNvPr id="2773" name="Freeform 52"/>
            <p:cNvSpPr/>
            <p:nvPr/>
          </p:nvSpPr>
          <p:spPr>
            <a:xfrm>
              <a:off x="3995280" y="1519560"/>
              <a:ext cx="689400" cy="15156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4" name="Group 53"/>
            <p:cNvGrpSpPr/>
            <p:nvPr/>
          </p:nvGrpSpPr>
          <p:grpSpPr>
            <a:xfrm>
              <a:off x="1547640" y="-316080"/>
              <a:ext cx="4434480" cy="6190200"/>
              <a:chOff x="1547640" y="-316080"/>
              <a:chExt cx="4434480" cy="6190200"/>
            </a:xfrm>
          </p:grpSpPr>
          <p:grpSp>
            <p:nvGrpSpPr>
              <p:cNvPr id="2775" name="Group 54"/>
              <p:cNvGrpSpPr/>
              <p:nvPr/>
            </p:nvGrpSpPr>
            <p:grpSpPr>
              <a:xfrm>
                <a:off x="3207240" y="1423440"/>
                <a:ext cx="938880" cy="4450680"/>
                <a:chOff x="3207240" y="1423440"/>
                <a:chExt cx="938880" cy="4450680"/>
              </a:xfrm>
            </p:grpSpPr>
            <p:sp>
              <p:nvSpPr>
                <p:cNvPr id="2776" name="AutoShape 55"/>
                <p:cNvSpPr/>
                <p:nvPr/>
              </p:nvSpPr>
              <p:spPr>
                <a:xfrm>
                  <a:off x="3536280" y="1423440"/>
                  <a:ext cx="609840" cy="5338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7" name="Freeform 56"/>
                <p:cNvSpPr/>
                <p:nvPr/>
              </p:nvSpPr>
              <p:spPr>
                <a:xfrm>
                  <a:off x="3536280" y="1805760"/>
                  <a:ext cx="311760" cy="292428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8" name="Oval 57"/>
                <p:cNvSpPr/>
                <p:nvPr/>
              </p:nvSpPr>
              <p:spPr>
                <a:xfrm rot="543600">
                  <a:off x="3307320" y="4558320"/>
                  <a:ext cx="306720" cy="1299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9" name="Group 58"/>
              <p:cNvGrpSpPr/>
              <p:nvPr/>
            </p:nvGrpSpPr>
            <p:grpSpPr>
              <a:xfrm>
                <a:off x="1547640" y="-316080"/>
                <a:ext cx="4434480" cy="3574800"/>
                <a:chOff x="1547640" y="-316080"/>
                <a:chExt cx="4434480" cy="3574800"/>
              </a:xfrm>
            </p:grpSpPr>
            <p:sp>
              <p:nvSpPr>
                <p:cNvPr id="2780" name="Freeform 59"/>
                <p:cNvSpPr/>
                <p:nvPr/>
              </p:nvSpPr>
              <p:spPr>
                <a:xfrm>
                  <a:off x="2771280" y="1576440"/>
                  <a:ext cx="1065240" cy="51048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0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1" name="Freeform 60"/>
                <p:cNvSpPr/>
                <p:nvPr/>
              </p:nvSpPr>
              <p:spPr>
                <a:xfrm>
                  <a:off x="1929960" y="1729800"/>
                  <a:ext cx="1835640" cy="4586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2" name="Freeform 61"/>
                <p:cNvSpPr/>
                <p:nvPr/>
              </p:nvSpPr>
              <p:spPr>
                <a:xfrm>
                  <a:off x="1778400" y="1271520"/>
                  <a:ext cx="1911600" cy="4582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3" name="Freeform 62"/>
                <p:cNvSpPr/>
                <p:nvPr/>
              </p:nvSpPr>
              <p:spPr>
                <a:xfrm>
                  <a:off x="1547640" y="1042200"/>
                  <a:ext cx="1989000" cy="61164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Freeform 63"/>
                <p:cNvSpPr/>
                <p:nvPr/>
              </p:nvSpPr>
              <p:spPr>
                <a:xfrm>
                  <a:off x="1701000" y="888840"/>
                  <a:ext cx="1976760" cy="7768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Freeform 64"/>
                <p:cNvSpPr/>
                <p:nvPr/>
              </p:nvSpPr>
              <p:spPr>
                <a:xfrm>
                  <a:off x="1929960" y="890640"/>
                  <a:ext cx="1911600" cy="76356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6" name="Freeform 65"/>
                <p:cNvSpPr/>
                <p:nvPr/>
              </p:nvSpPr>
              <p:spPr>
                <a:xfrm>
                  <a:off x="2323080" y="432000"/>
                  <a:ext cx="1442880" cy="122004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7" name="Freeform 66"/>
                <p:cNvSpPr/>
                <p:nvPr/>
              </p:nvSpPr>
              <p:spPr>
                <a:xfrm>
                  <a:off x="2083680" y="507960"/>
                  <a:ext cx="1681920" cy="10702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8" name="Freeform 67"/>
                <p:cNvSpPr/>
                <p:nvPr/>
              </p:nvSpPr>
              <p:spPr>
                <a:xfrm>
                  <a:off x="2312640" y="737280"/>
                  <a:ext cx="1681920" cy="10702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9" name="Freeform 68"/>
                <p:cNvSpPr/>
                <p:nvPr/>
              </p:nvSpPr>
              <p:spPr>
                <a:xfrm>
                  <a:off x="2151000" y="78120"/>
                  <a:ext cx="1769760" cy="165168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0" name="Line 69"/>
                <p:cNvSpPr/>
                <p:nvPr/>
              </p:nvSpPr>
              <p:spPr>
                <a:xfrm flipH="1" flipV="1">
                  <a:off x="2695320" y="200880"/>
                  <a:ext cx="1299600" cy="16804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1" name="Freeform 70"/>
                <p:cNvSpPr/>
                <p:nvPr/>
              </p:nvSpPr>
              <p:spPr>
                <a:xfrm>
                  <a:off x="2850480" y="202680"/>
                  <a:ext cx="1070280" cy="1680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2" name="Freeform 71"/>
                <p:cNvSpPr/>
                <p:nvPr/>
              </p:nvSpPr>
              <p:spPr>
                <a:xfrm>
                  <a:off x="3091680" y="78120"/>
                  <a:ext cx="829080" cy="17290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Freeform 72"/>
                <p:cNvSpPr/>
                <p:nvPr/>
              </p:nvSpPr>
              <p:spPr>
                <a:xfrm>
                  <a:off x="3364560" y="-22680"/>
                  <a:ext cx="555840" cy="18302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4" name="Freeform 73"/>
                <p:cNvSpPr/>
                <p:nvPr/>
              </p:nvSpPr>
              <p:spPr>
                <a:xfrm>
                  <a:off x="3718440" y="-73080"/>
                  <a:ext cx="276120" cy="1955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Freeform 74"/>
                <p:cNvSpPr/>
                <p:nvPr/>
              </p:nvSpPr>
              <p:spPr>
                <a:xfrm>
                  <a:off x="3759120" y="-316080"/>
                  <a:ext cx="321840" cy="21222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Freeform 75"/>
                <p:cNvSpPr/>
                <p:nvPr/>
              </p:nvSpPr>
              <p:spPr>
                <a:xfrm>
                  <a:off x="3919320" y="-29520"/>
                  <a:ext cx="304920" cy="191160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7" name="Freeform 76"/>
                <p:cNvSpPr/>
                <p:nvPr/>
              </p:nvSpPr>
              <p:spPr>
                <a:xfrm>
                  <a:off x="3994920" y="200880"/>
                  <a:ext cx="534240" cy="16048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Freeform 77"/>
                <p:cNvSpPr/>
                <p:nvPr/>
              </p:nvSpPr>
              <p:spPr>
                <a:xfrm>
                  <a:off x="3919320" y="-258480"/>
                  <a:ext cx="1070280" cy="1987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Freeform 78"/>
                <p:cNvSpPr/>
                <p:nvPr/>
              </p:nvSpPr>
              <p:spPr>
                <a:xfrm>
                  <a:off x="3919320" y="123840"/>
                  <a:ext cx="1375200" cy="168192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Freeform 79"/>
                <p:cNvSpPr/>
                <p:nvPr/>
              </p:nvSpPr>
              <p:spPr>
                <a:xfrm>
                  <a:off x="3994920" y="507960"/>
                  <a:ext cx="1604520" cy="1299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1" name="Freeform 80"/>
                <p:cNvSpPr/>
                <p:nvPr/>
              </p:nvSpPr>
              <p:spPr>
                <a:xfrm>
                  <a:off x="3994920" y="737280"/>
                  <a:ext cx="1833840" cy="107028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2" name="Freeform 81"/>
                <p:cNvSpPr/>
                <p:nvPr/>
              </p:nvSpPr>
              <p:spPr>
                <a:xfrm>
                  <a:off x="3841560" y="811440"/>
                  <a:ext cx="2140560" cy="107028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3" name="Freeform 82"/>
                <p:cNvSpPr/>
                <p:nvPr/>
              </p:nvSpPr>
              <p:spPr>
                <a:xfrm>
                  <a:off x="3911040" y="1847880"/>
                  <a:ext cx="1307880" cy="1461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4" name="Freeform 83"/>
                <p:cNvSpPr/>
                <p:nvPr/>
              </p:nvSpPr>
              <p:spPr>
                <a:xfrm>
                  <a:off x="3919320" y="1883160"/>
                  <a:ext cx="916920" cy="22752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Freeform 84"/>
                <p:cNvSpPr/>
                <p:nvPr/>
              </p:nvSpPr>
              <p:spPr>
                <a:xfrm>
                  <a:off x="3841560" y="1959120"/>
                  <a:ext cx="611640" cy="4582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6" name="Freeform 85"/>
                <p:cNvSpPr/>
                <p:nvPr/>
              </p:nvSpPr>
              <p:spPr>
                <a:xfrm>
                  <a:off x="3765960" y="1959120"/>
                  <a:ext cx="437760" cy="5155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7" name="Freeform 86"/>
                <p:cNvSpPr/>
                <p:nvPr/>
              </p:nvSpPr>
              <p:spPr>
                <a:xfrm>
                  <a:off x="2312640" y="1652400"/>
                  <a:ext cx="1528920" cy="12132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Freeform 87"/>
                <p:cNvSpPr/>
                <p:nvPr/>
              </p:nvSpPr>
              <p:spPr>
                <a:xfrm>
                  <a:off x="3919320" y="1806120"/>
                  <a:ext cx="1528560" cy="9396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Freeform 88"/>
                <p:cNvSpPr/>
                <p:nvPr/>
              </p:nvSpPr>
              <p:spPr>
                <a:xfrm>
                  <a:off x="3841560" y="1881720"/>
                  <a:ext cx="1070280" cy="61164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Freeform 89"/>
                <p:cNvSpPr/>
                <p:nvPr/>
              </p:nvSpPr>
              <p:spPr>
                <a:xfrm>
                  <a:off x="3841560" y="47520"/>
                  <a:ext cx="58680" cy="17582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Freeform 90"/>
                <p:cNvSpPr/>
                <p:nvPr/>
              </p:nvSpPr>
              <p:spPr>
                <a:xfrm>
                  <a:off x="3002400" y="1652400"/>
                  <a:ext cx="916920" cy="99432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2" name="Freeform 91"/>
                <p:cNvSpPr/>
                <p:nvPr/>
              </p:nvSpPr>
              <p:spPr>
                <a:xfrm>
                  <a:off x="3000600" y="1881720"/>
                  <a:ext cx="839160" cy="13770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3" name="Freeform 92"/>
                <p:cNvSpPr/>
                <p:nvPr/>
              </p:nvSpPr>
              <p:spPr>
                <a:xfrm>
                  <a:off x="3920760" y="1959120"/>
                  <a:ext cx="534240" cy="1145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Freeform 93"/>
                <p:cNvSpPr/>
                <p:nvPr/>
              </p:nvSpPr>
              <p:spPr>
                <a:xfrm rot="681000">
                  <a:off x="4148280" y="1652400"/>
                  <a:ext cx="689040" cy="15156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Freeform 94"/>
                <p:cNvSpPr/>
                <p:nvPr/>
              </p:nvSpPr>
              <p:spPr>
                <a:xfrm>
                  <a:off x="3841560" y="582120"/>
                  <a:ext cx="460080" cy="12236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6" name="Group 535"/>
          <p:cNvGrpSpPr/>
          <p:nvPr/>
        </p:nvGrpSpPr>
        <p:grpSpPr>
          <a:xfrm>
            <a:off x="4708440" y="-603360"/>
            <a:ext cx="4434480" cy="6190200"/>
            <a:chOff x="4708440" y="-603360"/>
            <a:chExt cx="4434480" cy="6190200"/>
          </a:xfrm>
        </p:grpSpPr>
        <p:sp>
          <p:nvSpPr>
            <p:cNvPr id="2817" name="Freeform 536"/>
            <p:cNvSpPr/>
            <p:nvPr/>
          </p:nvSpPr>
          <p:spPr>
            <a:xfrm>
              <a:off x="7156080" y="1232280"/>
              <a:ext cx="689400" cy="15156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8" name="Group 537"/>
            <p:cNvGrpSpPr/>
            <p:nvPr/>
          </p:nvGrpSpPr>
          <p:grpSpPr>
            <a:xfrm>
              <a:off x="4708440" y="-603360"/>
              <a:ext cx="4434480" cy="6190200"/>
              <a:chOff x="4708440" y="-603360"/>
              <a:chExt cx="4434480" cy="6190200"/>
            </a:xfrm>
          </p:grpSpPr>
          <p:grpSp>
            <p:nvGrpSpPr>
              <p:cNvPr id="2819" name="Group 538"/>
              <p:cNvGrpSpPr/>
              <p:nvPr/>
            </p:nvGrpSpPr>
            <p:grpSpPr>
              <a:xfrm>
                <a:off x="6368040" y="1136160"/>
                <a:ext cx="938880" cy="4450680"/>
                <a:chOff x="6368040" y="1136160"/>
                <a:chExt cx="938880" cy="4450680"/>
              </a:xfrm>
            </p:grpSpPr>
            <p:sp>
              <p:nvSpPr>
                <p:cNvPr id="2820" name="AutoShape 539"/>
                <p:cNvSpPr/>
                <p:nvPr/>
              </p:nvSpPr>
              <p:spPr>
                <a:xfrm>
                  <a:off x="6697080" y="1136160"/>
                  <a:ext cx="609840" cy="5338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1" name="Freeform 540"/>
                <p:cNvSpPr/>
                <p:nvPr/>
              </p:nvSpPr>
              <p:spPr>
                <a:xfrm>
                  <a:off x="6697080" y="1518480"/>
                  <a:ext cx="311760" cy="292428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2" name="Oval 541"/>
                <p:cNvSpPr/>
                <p:nvPr/>
              </p:nvSpPr>
              <p:spPr>
                <a:xfrm rot="543600">
                  <a:off x="6468120" y="4271040"/>
                  <a:ext cx="306720" cy="1299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3" name="Group 542"/>
              <p:cNvGrpSpPr/>
              <p:nvPr/>
            </p:nvGrpSpPr>
            <p:grpSpPr>
              <a:xfrm>
                <a:off x="4708440" y="-603360"/>
                <a:ext cx="4434480" cy="3574800"/>
                <a:chOff x="4708440" y="-603360"/>
                <a:chExt cx="4434480" cy="3574800"/>
              </a:xfrm>
            </p:grpSpPr>
            <p:sp>
              <p:nvSpPr>
                <p:cNvPr id="2824" name="Freeform 543"/>
                <p:cNvSpPr/>
                <p:nvPr/>
              </p:nvSpPr>
              <p:spPr>
                <a:xfrm>
                  <a:off x="5932080" y="1289160"/>
                  <a:ext cx="1065240" cy="51048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0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5" name="Freeform 544"/>
                <p:cNvSpPr/>
                <p:nvPr/>
              </p:nvSpPr>
              <p:spPr>
                <a:xfrm>
                  <a:off x="5090760" y="1442520"/>
                  <a:ext cx="1835640" cy="4586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6" name="Freeform 545"/>
                <p:cNvSpPr/>
                <p:nvPr/>
              </p:nvSpPr>
              <p:spPr>
                <a:xfrm>
                  <a:off x="4939200" y="984240"/>
                  <a:ext cx="1911600" cy="4582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7" name="Freeform 546"/>
                <p:cNvSpPr/>
                <p:nvPr/>
              </p:nvSpPr>
              <p:spPr>
                <a:xfrm>
                  <a:off x="4708440" y="754920"/>
                  <a:ext cx="1989000" cy="61164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8" name="Freeform 547"/>
                <p:cNvSpPr/>
                <p:nvPr/>
              </p:nvSpPr>
              <p:spPr>
                <a:xfrm>
                  <a:off x="4861800" y="601560"/>
                  <a:ext cx="1976760" cy="7768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9" name="Freeform 548"/>
                <p:cNvSpPr/>
                <p:nvPr/>
              </p:nvSpPr>
              <p:spPr>
                <a:xfrm>
                  <a:off x="5090760" y="603360"/>
                  <a:ext cx="1911600" cy="76356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Freeform 549"/>
                <p:cNvSpPr/>
                <p:nvPr/>
              </p:nvSpPr>
              <p:spPr>
                <a:xfrm>
                  <a:off x="5483880" y="144720"/>
                  <a:ext cx="1442880" cy="122004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1" name="Freeform 550"/>
                <p:cNvSpPr/>
                <p:nvPr/>
              </p:nvSpPr>
              <p:spPr>
                <a:xfrm>
                  <a:off x="5244480" y="220680"/>
                  <a:ext cx="1681920" cy="10702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2" name="Freeform 551"/>
                <p:cNvSpPr/>
                <p:nvPr/>
              </p:nvSpPr>
              <p:spPr>
                <a:xfrm>
                  <a:off x="5473440" y="450000"/>
                  <a:ext cx="1681920" cy="10702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3" name="Freeform 552"/>
                <p:cNvSpPr/>
                <p:nvPr/>
              </p:nvSpPr>
              <p:spPr>
                <a:xfrm>
                  <a:off x="5311800" y="-208800"/>
                  <a:ext cx="1769760" cy="165168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4" name="Line 553"/>
                <p:cNvSpPr/>
                <p:nvPr/>
              </p:nvSpPr>
              <p:spPr>
                <a:xfrm flipH="1" flipV="1">
                  <a:off x="5856120" y="-86040"/>
                  <a:ext cx="1299600" cy="16804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Freeform 554"/>
                <p:cNvSpPr/>
                <p:nvPr/>
              </p:nvSpPr>
              <p:spPr>
                <a:xfrm>
                  <a:off x="6011280" y="-84240"/>
                  <a:ext cx="1070280" cy="1680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6" name="Freeform 555"/>
                <p:cNvSpPr/>
                <p:nvPr/>
              </p:nvSpPr>
              <p:spPr>
                <a:xfrm>
                  <a:off x="6252480" y="-208800"/>
                  <a:ext cx="829080" cy="17290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7" name="Freeform 556"/>
                <p:cNvSpPr/>
                <p:nvPr/>
              </p:nvSpPr>
              <p:spPr>
                <a:xfrm>
                  <a:off x="6525360" y="-309960"/>
                  <a:ext cx="555840" cy="18302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8" name="Freeform 557"/>
                <p:cNvSpPr/>
                <p:nvPr/>
              </p:nvSpPr>
              <p:spPr>
                <a:xfrm>
                  <a:off x="6879240" y="-360360"/>
                  <a:ext cx="276120" cy="1955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9" name="Freeform 558"/>
                <p:cNvSpPr/>
                <p:nvPr/>
              </p:nvSpPr>
              <p:spPr>
                <a:xfrm>
                  <a:off x="6919920" y="-603360"/>
                  <a:ext cx="321840" cy="21222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0" name="Freeform 559"/>
                <p:cNvSpPr/>
                <p:nvPr/>
              </p:nvSpPr>
              <p:spPr>
                <a:xfrm>
                  <a:off x="7080120" y="-316800"/>
                  <a:ext cx="304920" cy="191160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1" name="Freeform 560"/>
                <p:cNvSpPr/>
                <p:nvPr/>
              </p:nvSpPr>
              <p:spPr>
                <a:xfrm>
                  <a:off x="7155720" y="-86040"/>
                  <a:ext cx="534240" cy="16048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2" name="Freeform 561"/>
                <p:cNvSpPr/>
                <p:nvPr/>
              </p:nvSpPr>
              <p:spPr>
                <a:xfrm>
                  <a:off x="7080120" y="-545760"/>
                  <a:ext cx="1070280" cy="1987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3" name="Freeform 562"/>
                <p:cNvSpPr/>
                <p:nvPr/>
              </p:nvSpPr>
              <p:spPr>
                <a:xfrm>
                  <a:off x="7080120" y="-163080"/>
                  <a:ext cx="1375200" cy="168192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4" name="Freeform 563"/>
                <p:cNvSpPr/>
                <p:nvPr/>
              </p:nvSpPr>
              <p:spPr>
                <a:xfrm>
                  <a:off x="7155720" y="220680"/>
                  <a:ext cx="1604520" cy="1299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Freeform 564"/>
                <p:cNvSpPr/>
                <p:nvPr/>
              </p:nvSpPr>
              <p:spPr>
                <a:xfrm>
                  <a:off x="7155720" y="450000"/>
                  <a:ext cx="1833840" cy="107028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6" name="Freeform 565"/>
                <p:cNvSpPr/>
                <p:nvPr/>
              </p:nvSpPr>
              <p:spPr>
                <a:xfrm>
                  <a:off x="7002360" y="524160"/>
                  <a:ext cx="2140560" cy="107028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7" name="Freeform 566"/>
                <p:cNvSpPr/>
                <p:nvPr/>
              </p:nvSpPr>
              <p:spPr>
                <a:xfrm>
                  <a:off x="7071840" y="1560600"/>
                  <a:ext cx="1307880" cy="1461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8" name="Freeform 567"/>
                <p:cNvSpPr/>
                <p:nvPr/>
              </p:nvSpPr>
              <p:spPr>
                <a:xfrm>
                  <a:off x="7080120" y="1595880"/>
                  <a:ext cx="916920" cy="22752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9" name="Freeform 568"/>
                <p:cNvSpPr/>
                <p:nvPr/>
              </p:nvSpPr>
              <p:spPr>
                <a:xfrm>
                  <a:off x="7002360" y="1671840"/>
                  <a:ext cx="611640" cy="4582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0" name="Freeform 569"/>
                <p:cNvSpPr/>
                <p:nvPr/>
              </p:nvSpPr>
              <p:spPr>
                <a:xfrm>
                  <a:off x="6926760" y="1671840"/>
                  <a:ext cx="437760" cy="5155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Freeform 570"/>
                <p:cNvSpPr/>
                <p:nvPr/>
              </p:nvSpPr>
              <p:spPr>
                <a:xfrm>
                  <a:off x="5473440" y="1365120"/>
                  <a:ext cx="1528920" cy="12132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Freeform 571"/>
                <p:cNvSpPr/>
                <p:nvPr/>
              </p:nvSpPr>
              <p:spPr>
                <a:xfrm>
                  <a:off x="7080120" y="1518840"/>
                  <a:ext cx="1528560" cy="9396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3" name="Freeform 572"/>
                <p:cNvSpPr/>
                <p:nvPr/>
              </p:nvSpPr>
              <p:spPr>
                <a:xfrm>
                  <a:off x="7002360" y="1594440"/>
                  <a:ext cx="1070280" cy="61164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4" name="Freeform 573"/>
                <p:cNvSpPr/>
                <p:nvPr/>
              </p:nvSpPr>
              <p:spPr>
                <a:xfrm>
                  <a:off x="7002360" y="-239400"/>
                  <a:ext cx="58680" cy="17582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Freeform 574"/>
                <p:cNvSpPr/>
                <p:nvPr/>
              </p:nvSpPr>
              <p:spPr>
                <a:xfrm>
                  <a:off x="6163200" y="1365120"/>
                  <a:ext cx="916920" cy="99432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Freeform 575"/>
                <p:cNvSpPr/>
                <p:nvPr/>
              </p:nvSpPr>
              <p:spPr>
                <a:xfrm>
                  <a:off x="6161400" y="1594440"/>
                  <a:ext cx="839160" cy="13770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Freeform 576"/>
                <p:cNvSpPr/>
                <p:nvPr/>
              </p:nvSpPr>
              <p:spPr>
                <a:xfrm>
                  <a:off x="7081560" y="1671840"/>
                  <a:ext cx="534240" cy="1145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Freeform 577"/>
                <p:cNvSpPr/>
                <p:nvPr/>
              </p:nvSpPr>
              <p:spPr>
                <a:xfrm rot="681000">
                  <a:off x="7309080" y="1365120"/>
                  <a:ext cx="689040" cy="15156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9" name="Freeform 578"/>
                <p:cNvSpPr/>
                <p:nvPr/>
              </p:nvSpPr>
              <p:spPr>
                <a:xfrm>
                  <a:off x="7002360" y="294840"/>
                  <a:ext cx="460080" cy="12236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60" name="Group 579"/>
          <p:cNvGrpSpPr/>
          <p:nvPr/>
        </p:nvGrpSpPr>
        <p:grpSpPr>
          <a:xfrm>
            <a:off x="6659640" y="-1108080"/>
            <a:ext cx="4434480" cy="6190200"/>
            <a:chOff x="6659640" y="-1108080"/>
            <a:chExt cx="4434480" cy="6190200"/>
          </a:xfrm>
        </p:grpSpPr>
        <p:sp>
          <p:nvSpPr>
            <p:cNvPr id="2861" name="Freeform 580"/>
            <p:cNvSpPr/>
            <p:nvPr/>
          </p:nvSpPr>
          <p:spPr>
            <a:xfrm>
              <a:off x="9107280" y="727560"/>
              <a:ext cx="689400" cy="15156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2" name="Group 581"/>
            <p:cNvGrpSpPr/>
            <p:nvPr/>
          </p:nvGrpSpPr>
          <p:grpSpPr>
            <a:xfrm>
              <a:off x="6659640" y="-1108080"/>
              <a:ext cx="4434480" cy="6190200"/>
              <a:chOff x="6659640" y="-1108080"/>
              <a:chExt cx="4434480" cy="6190200"/>
            </a:xfrm>
          </p:grpSpPr>
          <p:grpSp>
            <p:nvGrpSpPr>
              <p:cNvPr id="2863" name="Group 582"/>
              <p:cNvGrpSpPr/>
              <p:nvPr/>
            </p:nvGrpSpPr>
            <p:grpSpPr>
              <a:xfrm>
                <a:off x="8319240" y="631440"/>
                <a:ext cx="938880" cy="4450680"/>
                <a:chOff x="8319240" y="631440"/>
                <a:chExt cx="938880" cy="4450680"/>
              </a:xfrm>
            </p:grpSpPr>
            <p:sp>
              <p:nvSpPr>
                <p:cNvPr id="2864" name="AutoShape 583"/>
                <p:cNvSpPr/>
                <p:nvPr/>
              </p:nvSpPr>
              <p:spPr>
                <a:xfrm>
                  <a:off x="8648280" y="631440"/>
                  <a:ext cx="609840" cy="5338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5" name="Freeform 584"/>
                <p:cNvSpPr/>
                <p:nvPr/>
              </p:nvSpPr>
              <p:spPr>
                <a:xfrm>
                  <a:off x="8648280" y="1013760"/>
                  <a:ext cx="311760" cy="292428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6" name="Oval 585"/>
                <p:cNvSpPr/>
                <p:nvPr/>
              </p:nvSpPr>
              <p:spPr>
                <a:xfrm rot="543600">
                  <a:off x="8419320" y="3766320"/>
                  <a:ext cx="306720" cy="1299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7" name="Group 586"/>
              <p:cNvGrpSpPr/>
              <p:nvPr/>
            </p:nvGrpSpPr>
            <p:grpSpPr>
              <a:xfrm>
                <a:off x="6659640" y="-1108080"/>
                <a:ext cx="4434480" cy="3574800"/>
                <a:chOff x="6659640" y="-1108080"/>
                <a:chExt cx="4434480" cy="3574800"/>
              </a:xfrm>
            </p:grpSpPr>
            <p:sp>
              <p:nvSpPr>
                <p:cNvPr id="2868" name="Freeform 587"/>
                <p:cNvSpPr/>
                <p:nvPr/>
              </p:nvSpPr>
              <p:spPr>
                <a:xfrm>
                  <a:off x="7883280" y="784440"/>
                  <a:ext cx="1065240" cy="51048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0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9" name="Freeform 588"/>
                <p:cNvSpPr/>
                <p:nvPr/>
              </p:nvSpPr>
              <p:spPr>
                <a:xfrm>
                  <a:off x="7041960" y="937800"/>
                  <a:ext cx="1835640" cy="4586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0" name="Freeform 589"/>
                <p:cNvSpPr/>
                <p:nvPr/>
              </p:nvSpPr>
              <p:spPr>
                <a:xfrm>
                  <a:off x="6890400" y="479520"/>
                  <a:ext cx="1911600" cy="4582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1" name="Freeform 590"/>
                <p:cNvSpPr/>
                <p:nvPr/>
              </p:nvSpPr>
              <p:spPr>
                <a:xfrm>
                  <a:off x="6659640" y="250200"/>
                  <a:ext cx="1989000" cy="61164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2" name="Freeform 591"/>
                <p:cNvSpPr/>
                <p:nvPr/>
              </p:nvSpPr>
              <p:spPr>
                <a:xfrm>
                  <a:off x="6813000" y="96840"/>
                  <a:ext cx="1976760" cy="7768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Freeform 592"/>
                <p:cNvSpPr/>
                <p:nvPr/>
              </p:nvSpPr>
              <p:spPr>
                <a:xfrm>
                  <a:off x="7041960" y="98640"/>
                  <a:ext cx="1911600" cy="76356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4" name="Freeform 593"/>
                <p:cNvSpPr/>
                <p:nvPr/>
              </p:nvSpPr>
              <p:spPr>
                <a:xfrm>
                  <a:off x="7435080" y="-359640"/>
                  <a:ext cx="1442880" cy="122004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5" name="Freeform 594"/>
                <p:cNvSpPr/>
                <p:nvPr/>
              </p:nvSpPr>
              <p:spPr>
                <a:xfrm>
                  <a:off x="7195680" y="-283680"/>
                  <a:ext cx="1681920" cy="10702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Freeform 595"/>
                <p:cNvSpPr/>
                <p:nvPr/>
              </p:nvSpPr>
              <p:spPr>
                <a:xfrm>
                  <a:off x="7424640" y="-54360"/>
                  <a:ext cx="1681920" cy="10702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7" name="Freeform 596"/>
                <p:cNvSpPr/>
                <p:nvPr/>
              </p:nvSpPr>
              <p:spPr>
                <a:xfrm>
                  <a:off x="7263000" y="-713520"/>
                  <a:ext cx="1769760" cy="165168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8" name="Line 597"/>
                <p:cNvSpPr/>
                <p:nvPr/>
              </p:nvSpPr>
              <p:spPr>
                <a:xfrm flipH="1" flipV="1">
                  <a:off x="7807320" y="-590760"/>
                  <a:ext cx="1299600" cy="16804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Freeform 598"/>
                <p:cNvSpPr/>
                <p:nvPr/>
              </p:nvSpPr>
              <p:spPr>
                <a:xfrm>
                  <a:off x="7962480" y="-588960"/>
                  <a:ext cx="1070280" cy="1680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0" name="Freeform 599"/>
                <p:cNvSpPr/>
                <p:nvPr/>
              </p:nvSpPr>
              <p:spPr>
                <a:xfrm>
                  <a:off x="8203680" y="-713520"/>
                  <a:ext cx="829080" cy="17290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1" name="Freeform 600"/>
                <p:cNvSpPr/>
                <p:nvPr/>
              </p:nvSpPr>
              <p:spPr>
                <a:xfrm>
                  <a:off x="8476560" y="-814680"/>
                  <a:ext cx="555840" cy="18302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Freeform 601"/>
                <p:cNvSpPr/>
                <p:nvPr/>
              </p:nvSpPr>
              <p:spPr>
                <a:xfrm>
                  <a:off x="8830440" y="-865080"/>
                  <a:ext cx="276120" cy="1955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3" name="Freeform 602"/>
                <p:cNvSpPr/>
                <p:nvPr/>
              </p:nvSpPr>
              <p:spPr>
                <a:xfrm>
                  <a:off x="8871120" y="-1108080"/>
                  <a:ext cx="321840" cy="21222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4" name="Freeform 603"/>
                <p:cNvSpPr/>
                <p:nvPr/>
              </p:nvSpPr>
              <p:spPr>
                <a:xfrm>
                  <a:off x="9031320" y="-821520"/>
                  <a:ext cx="304920" cy="191160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Freeform 604"/>
                <p:cNvSpPr/>
                <p:nvPr/>
              </p:nvSpPr>
              <p:spPr>
                <a:xfrm>
                  <a:off x="9106920" y="-590760"/>
                  <a:ext cx="534240" cy="16048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6" name="Freeform 605"/>
                <p:cNvSpPr/>
                <p:nvPr/>
              </p:nvSpPr>
              <p:spPr>
                <a:xfrm>
                  <a:off x="9031320" y="-1050480"/>
                  <a:ext cx="1070280" cy="1987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7" name="Freeform 606"/>
                <p:cNvSpPr/>
                <p:nvPr/>
              </p:nvSpPr>
              <p:spPr>
                <a:xfrm>
                  <a:off x="9031320" y="-667800"/>
                  <a:ext cx="1375200" cy="168192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Freeform 607"/>
                <p:cNvSpPr/>
                <p:nvPr/>
              </p:nvSpPr>
              <p:spPr>
                <a:xfrm>
                  <a:off x="9106920" y="-283680"/>
                  <a:ext cx="1604520" cy="1299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9" name="Freeform 608"/>
                <p:cNvSpPr/>
                <p:nvPr/>
              </p:nvSpPr>
              <p:spPr>
                <a:xfrm>
                  <a:off x="9106920" y="-54360"/>
                  <a:ext cx="1833840" cy="107028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0" name="Freeform 609"/>
                <p:cNvSpPr/>
                <p:nvPr/>
              </p:nvSpPr>
              <p:spPr>
                <a:xfrm>
                  <a:off x="8953560" y="19440"/>
                  <a:ext cx="2140560" cy="107028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Freeform 610"/>
                <p:cNvSpPr/>
                <p:nvPr/>
              </p:nvSpPr>
              <p:spPr>
                <a:xfrm>
                  <a:off x="9023040" y="1055880"/>
                  <a:ext cx="1307880" cy="1461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2" name="Freeform 611"/>
                <p:cNvSpPr/>
                <p:nvPr/>
              </p:nvSpPr>
              <p:spPr>
                <a:xfrm>
                  <a:off x="9031320" y="1091160"/>
                  <a:ext cx="916920" cy="22752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Freeform 612"/>
                <p:cNvSpPr/>
                <p:nvPr/>
              </p:nvSpPr>
              <p:spPr>
                <a:xfrm>
                  <a:off x="8953560" y="1167120"/>
                  <a:ext cx="611640" cy="4582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Freeform 613"/>
                <p:cNvSpPr/>
                <p:nvPr/>
              </p:nvSpPr>
              <p:spPr>
                <a:xfrm>
                  <a:off x="8877960" y="1167120"/>
                  <a:ext cx="437760" cy="5155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5" name="Freeform 614"/>
                <p:cNvSpPr/>
                <p:nvPr/>
              </p:nvSpPr>
              <p:spPr>
                <a:xfrm>
                  <a:off x="7424640" y="860400"/>
                  <a:ext cx="1528920" cy="12132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6" name="Freeform 615"/>
                <p:cNvSpPr/>
                <p:nvPr/>
              </p:nvSpPr>
              <p:spPr>
                <a:xfrm>
                  <a:off x="9031320" y="1014120"/>
                  <a:ext cx="1528560" cy="9396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Freeform 616"/>
                <p:cNvSpPr/>
                <p:nvPr/>
              </p:nvSpPr>
              <p:spPr>
                <a:xfrm>
                  <a:off x="8953560" y="1089720"/>
                  <a:ext cx="1070280" cy="61164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Freeform 617"/>
                <p:cNvSpPr/>
                <p:nvPr/>
              </p:nvSpPr>
              <p:spPr>
                <a:xfrm>
                  <a:off x="8953560" y="-744120"/>
                  <a:ext cx="58680" cy="17582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9" name="Freeform 618"/>
                <p:cNvSpPr/>
                <p:nvPr/>
              </p:nvSpPr>
              <p:spPr>
                <a:xfrm>
                  <a:off x="8114400" y="860400"/>
                  <a:ext cx="916920" cy="99432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Freeform 619"/>
                <p:cNvSpPr/>
                <p:nvPr/>
              </p:nvSpPr>
              <p:spPr>
                <a:xfrm>
                  <a:off x="8112600" y="1089720"/>
                  <a:ext cx="839160" cy="13770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1" name="Freeform 620"/>
                <p:cNvSpPr/>
                <p:nvPr/>
              </p:nvSpPr>
              <p:spPr>
                <a:xfrm>
                  <a:off x="9032760" y="1167120"/>
                  <a:ext cx="534240" cy="1145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2" name="Freeform 621"/>
                <p:cNvSpPr/>
                <p:nvPr/>
              </p:nvSpPr>
              <p:spPr>
                <a:xfrm rot="681000">
                  <a:off x="9260280" y="860400"/>
                  <a:ext cx="689040" cy="15156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Freeform 622"/>
                <p:cNvSpPr/>
                <p:nvPr/>
              </p:nvSpPr>
              <p:spPr>
                <a:xfrm>
                  <a:off x="8953560" y="-209520"/>
                  <a:ext cx="460080" cy="12236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04" name="Group 623"/>
          <p:cNvGrpSpPr/>
          <p:nvPr/>
        </p:nvGrpSpPr>
        <p:grpSpPr>
          <a:xfrm>
            <a:off x="3031560" y="420120"/>
            <a:ext cx="4498560" cy="6256080"/>
            <a:chOff x="3031560" y="420120"/>
            <a:chExt cx="4498560" cy="6256080"/>
          </a:xfrm>
        </p:grpSpPr>
        <p:sp>
          <p:nvSpPr>
            <p:cNvPr id="2905" name="Freeform 624"/>
            <p:cNvSpPr/>
            <p:nvPr/>
          </p:nvSpPr>
          <p:spPr>
            <a:xfrm rot="21232200">
              <a:off x="5522400" y="2257200"/>
              <a:ext cx="689400" cy="15156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6" name="Group 625"/>
            <p:cNvGrpSpPr/>
            <p:nvPr/>
          </p:nvGrpSpPr>
          <p:grpSpPr>
            <a:xfrm>
              <a:off x="3031560" y="420120"/>
              <a:ext cx="4498560" cy="6256080"/>
              <a:chOff x="3031560" y="420120"/>
              <a:chExt cx="4498560" cy="6256080"/>
            </a:xfrm>
          </p:grpSpPr>
          <p:grpSp>
            <p:nvGrpSpPr>
              <p:cNvPr id="2907" name="Group 626"/>
              <p:cNvGrpSpPr/>
              <p:nvPr/>
            </p:nvGrpSpPr>
            <p:grpSpPr>
              <a:xfrm>
                <a:off x="5049720" y="2182680"/>
                <a:ext cx="663480" cy="4493520"/>
                <a:chOff x="5049720" y="2182680"/>
                <a:chExt cx="663480" cy="4493520"/>
              </a:xfrm>
            </p:grpSpPr>
            <p:sp>
              <p:nvSpPr>
                <p:cNvPr id="2908" name="AutoShape 627"/>
                <p:cNvSpPr/>
                <p:nvPr/>
              </p:nvSpPr>
              <p:spPr>
                <a:xfrm rot="21232200">
                  <a:off x="5076360" y="2213640"/>
                  <a:ext cx="609840" cy="5338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Freeform 628"/>
                <p:cNvSpPr/>
                <p:nvPr/>
              </p:nvSpPr>
              <p:spPr>
                <a:xfrm rot="21232200">
                  <a:off x="5245560" y="2602800"/>
                  <a:ext cx="311760" cy="292428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Oval 629"/>
                <p:cNvSpPr/>
                <p:nvPr/>
              </p:nvSpPr>
              <p:spPr>
                <a:xfrm rot="175800">
                  <a:off x="5225400" y="5369400"/>
                  <a:ext cx="306720" cy="1299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1" name="Group 630"/>
              <p:cNvGrpSpPr/>
              <p:nvPr/>
            </p:nvGrpSpPr>
            <p:grpSpPr>
              <a:xfrm>
                <a:off x="3031560" y="420120"/>
                <a:ext cx="4498560" cy="3709800"/>
                <a:chOff x="3031560" y="420120"/>
                <a:chExt cx="4498560" cy="3709800"/>
              </a:xfrm>
            </p:grpSpPr>
            <p:sp>
              <p:nvSpPr>
                <p:cNvPr id="2912" name="Freeform 631"/>
                <p:cNvSpPr/>
                <p:nvPr/>
              </p:nvSpPr>
              <p:spPr>
                <a:xfrm rot="21232200">
                  <a:off x="4329360" y="2423160"/>
                  <a:ext cx="1065240" cy="51048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0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Freeform 632"/>
                <p:cNvSpPr/>
                <p:nvPr/>
              </p:nvSpPr>
              <p:spPr>
                <a:xfrm rot="21232200">
                  <a:off x="3504240" y="2624760"/>
                  <a:ext cx="1835640" cy="4586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Freeform 633"/>
                <p:cNvSpPr/>
                <p:nvPr/>
              </p:nvSpPr>
              <p:spPr>
                <a:xfrm rot="21232200">
                  <a:off x="3304440" y="2180880"/>
                  <a:ext cx="1911600" cy="4582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Freeform 634"/>
                <p:cNvSpPr/>
                <p:nvPr/>
              </p:nvSpPr>
              <p:spPr>
                <a:xfrm rot="21232200">
                  <a:off x="3058200" y="1973160"/>
                  <a:ext cx="1989000" cy="61164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Freeform 635"/>
                <p:cNvSpPr/>
                <p:nvPr/>
              </p:nvSpPr>
              <p:spPr>
                <a:xfrm rot="21232200">
                  <a:off x="3203280" y="1804320"/>
                  <a:ext cx="1976760" cy="7768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Freeform 636"/>
                <p:cNvSpPr/>
                <p:nvPr/>
              </p:nvSpPr>
              <p:spPr>
                <a:xfrm rot="21232200">
                  <a:off x="3430800" y="1785240"/>
                  <a:ext cx="1911600" cy="76356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Freeform 637"/>
                <p:cNvSpPr/>
                <p:nvPr/>
              </p:nvSpPr>
              <p:spPr>
                <a:xfrm rot="21232200">
                  <a:off x="3798360" y="1311120"/>
                  <a:ext cx="1442880" cy="122004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Freeform 638"/>
                <p:cNvSpPr/>
                <p:nvPr/>
              </p:nvSpPr>
              <p:spPr>
                <a:xfrm rot="21232200">
                  <a:off x="3559680" y="1400040"/>
                  <a:ext cx="1681920" cy="10702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Freeform 639"/>
                <p:cNvSpPr/>
                <p:nvPr/>
              </p:nvSpPr>
              <p:spPr>
                <a:xfrm rot="21232200">
                  <a:off x="3812040" y="1603440"/>
                  <a:ext cx="1681920" cy="10702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Freeform 640"/>
                <p:cNvSpPr/>
                <p:nvPr/>
              </p:nvSpPr>
              <p:spPr>
                <a:xfrm rot="21232200">
                  <a:off x="3611520" y="959040"/>
                  <a:ext cx="1769760" cy="165168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Line 641"/>
                <p:cNvSpPr/>
                <p:nvPr/>
              </p:nvSpPr>
              <p:spPr>
                <a:xfrm flipH="1" flipV="1">
                  <a:off x="4082760" y="1122120"/>
                  <a:ext cx="1471680" cy="15321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Freeform 642"/>
                <p:cNvSpPr/>
                <p:nvPr/>
              </p:nvSpPr>
              <p:spPr>
                <a:xfrm rot="21232200">
                  <a:off x="4323960" y="1045080"/>
                  <a:ext cx="1070280" cy="1680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Freeform 643"/>
                <p:cNvSpPr/>
                <p:nvPr/>
              </p:nvSpPr>
              <p:spPr>
                <a:xfrm rot="21232200">
                  <a:off x="4553640" y="908640"/>
                  <a:ext cx="829080" cy="17290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5" name="Freeform 644"/>
                <p:cNvSpPr/>
                <p:nvPr/>
              </p:nvSpPr>
              <p:spPr>
                <a:xfrm rot="21232200">
                  <a:off x="4820400" y="793080"/>
                  <a:ext cx="555840" cy="18302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6" name="Freeform 645"/>
                <p:cNvSpPr/>
                <p:nvPr/>
              </p:nvSpPr>
              <p:spPr>
                <a:xfrm rot="21232200">
                  <a:off x="5174280" y="719640"/>
                  <a:ext cx="276120" cy="1955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7" name="Freeform 646"/>
                <p:cNvSpPr/>
                <p:nvPr/>
              </p:nvSpPr>
              <p:spPr>
                <a:xfrm rot="21232200">
                  <a:off x="5197680" y="471240"/>
                  <a:ext cx="321840" cy="21222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8" name="Freeform 647"/>
                <p:cNvSpPr/>
                <p:nvPr/>
              </p:nvSpPr>
              <p:spPr>
                <a:xfrm rot="21232200">
                  <a:off x="5376600" y="740160"/>
                  <a:ext cx="304920" cy="191160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9" name="Freeform 648"/>
                <p:cNvSpPr/>
                <p:nvPr/>
              </p:nvSpPr>
              <p:spPr>
                <a:xfrm rot="21232200">
                  <a:off x="5459040" y="950400"/>
                  <a:ext cx="534240" cy="16048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Freeform 649"/>
                <p:cNvSpPr/>
                <p:nvPr/>
              </p:nvSpPr>
              <p:spPr>
                <a:xfrm rot="21232200">
                  <a:off x="5353920" y="471240"/>
                  <a:ext cx="1070280" cy="1987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1" name="Freeform 650"/>
                <p:cNvSpPr/>
                <p:nvPr/>
              </p:nvSpPr>
              <p:spPr>
                <a:xfrm rot="21232200">
                  <a:off x="5377320" y="836280"/>
                  <a:ext cx="1375200" cy="168192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2" name="Freeform 651"/>
                <p:cNvSpPr/>
                <p:nvPr/>
              </p:nvSpPr>
              <p:spPr>
                <a:xfrm rot="21232200">
                  <a:off x="5472720" y="1199160"/>
                  <a:ext cx="1604520" cy="1299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3" name="Freeform 652"/>
                <p:cNvSpPr/>
                <p:nvPr/>
              </p:nvSpPr>
              <p:spPr>
                <a:xfrm rot="21232200">
                  <a:off x="5484240" y="1415520"/>
                  <a:ext cx="1833840" cy="107028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4" name="Freeform 653"/>
                <p:cNvSpPr/>
                <p:nvPr/>
              </p:nvSpPr>
              <p:spPr>
                <a:xfrm rot="21232200">
                  <a:off x="5338440" y="1489320"/>
                  <a:ext cx="2140560" cy="107028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5" name="Freeform 654"/>
                <p:cNvSpPr/>
                <p:nvPr/>
              </p:nvSpPr>
              <p:spPr>
                <a:xfrm rot="21232200">
                  <a:off x="5471640" y="2559240"/>
                  <a:ext cx="1307880" cy="1461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6" name="Freeform 655"/>
                <p:cNvSpPr/>
                <p:nvPr/>
              </p:nvSpPr>
              <p:spPr>
                <a:xfrm rot="21232200">
                  <a:off x="5488920" y="2614320"/>
                  <a:ext cx="916920" cy="22752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7" name="Freeform 656"/>
                <p:cNvSpPr/>
                <p:nvPr/>
              </p:nvSpPr>
              <p:spPr>
                <a:xfrm rot="21232200">
                  <a:off x="5433120" y="2713680"/>
                  <a:ext cx="611640" cy="4582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8" name="Freeform 657"/>
                <p:cNvSpPr/>
                <p:nvPr/>
              </p:nvSpPr>
              <p:spPr>
                <a:xfrm rot="21232200">
                  <a:off x="5361120" y="2730960"/>
                  <a:ext cx="437760" cy="5155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9" name="Freeform 658"/>
                <p:cNvSpPr/>
                <p:nvPr/>
              </p:nvSpPr>
              <p:spPr>
                <a:xfrm rot="21232200">
                  <a:off x="3859200" y="2524320"/>
                  <a:ext cx="1528920" cy="12132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0" name="Freeform 659"/>
                <p:cNvSpPr/>
                <p:nvPr/>
              </p:nvSpPr>
              <p:spPr>
                <a:xfrm rot="21232200">
                  <a:off x="5471640" y="2505600"/>
                  <a:ext cx="1528560" cy="9396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1" name="Freeform 660"/>
                <p:cNvSpPr/>
                <p:nvPr/>
              </p:nvSpPr>
              <p:spPr>
                <a:xfrm rot="21232200">
                  <a:off x="5431680" y="2611800"/>
                  <a:ext cx="1070280" cy="61164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2" name="Freeform 661"/>
                <p:cNvSpPr/>
                <p:nvPr/>
              </p:nvSpPr>
              <p:spPr>
                <a:xfrm rot="21232200">
                  <a:off x="5299920" y="839160"/>
                  <a:ext cx="58680" cy="17582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3" name="Freeform 662"/>
                <p:cNvSpPr/>
                <p:nvPr/>
              </p:nvSpPr>
              <p:spPr>
                <a:xfrm rot="21232200">
                  <a:off x="4593600" y="2480760"/>
                  <a:ext cx="916920" cy="99432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4" name="Freeform 663"/>
                <p:cNvSpPr/>
                <p:nvPr/>
              </p:nvSpPr>
              <p:spPr>
                <a:xfrm rot="21232200">
                  <a:off x="4636800" y="2711880"/>
                  <a:ext cx="839160" cy="13770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Freeform 664"/>
                <p:cNvSpPr/>
                <p:nvPr/>
              </p:nvSpPr>
              <p:spPr>
                <a:xfrm rot="21232200">
                  <a:off x="5548680" y="2707560"/>
                  <a:ext cx="534240" cy="1145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6" name="Freeform 665"/>
                <p:cNvSpPr/>
                <p:nvPr/>
              </p:nvSpPr>
              <p:spPr>
                <a:xfrm rot="313200">
                  <a:off x="5688720" y="2373120"/>
                  <a:ext cx="689040" cy="15156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7" name="Freeform 666"/>
                <p:cNvSpPr/>
                <p:nvPr/>
              </p:nvSpPr>
              <p:spPr>
                <a:xfrm rot="21232200">
                  <a:off x="5326920" y="1350720"/>
                  <a:ext cx="460080" cy="12236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48" name="Group 667"/>
          <p:cNvGrpSpPr/>
          <p:nvPr/>
        </p:nvGrpSpPr>
        <p:grpSpPr>
          <a:xfrm>
            <a:off x="-324000" y="-3087720"/>
            <a:ext cx="4434480" cy="6190560"/>
            <a:chOff x="-324000" y="-3087720"/>
            <a:chExt cx="4434480" cy="6190560"/>
          </a:xfrm>
        </p:grpSpPr>
        <p:sp>
          <p:nvSpPr>
            <p:cNvPr id="2949" name="Freeform 668"/>
            <p:cNvSpPr/>
            <p:nvPr/>
          </p:nvSpPr>
          <p:spPr>
            <a:xfrm>
              <a:off x="2123640" y="-1251720"/>
              <a:ext cx="689400" cy="15156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0" name="Group 669"/>
            <p:cNvGrpSpPr/>
            <p:nvPr/>
          </p:nvGrpSpPr>
          <p:grpSpPr>
            <a:xfrm>
              <a:off x="-324000" y="-3087720"/>
              <a:ext cx="4434480" cy="6190560"/>
              <a:chOff x="-324000" y="-3087720"/>
              <a:chExt cx="4434480" cy="6190560"/>
            </a:xfrm>
          </p:grpSpPr>
          <p:grpSp>
            <p:nvGrpSpPr>
              <p:cNvPr id="2951" name="Group 670"/>
              <p:cNvGrpSpPr/>
              <p:nvPr/>
            </p:nvGrpSpPr>
            <p:grpSpPr>
              <a:xfrm>
                <a:off x="1335600" y="-1347840"/>
                <a:ext cx="938880" cy="4450680"/>
                <a:chOff x="1335600" y="-1347840"/>
                <a:chExt cx="938880" cy="4450680"/>
              </a:xfrm>
            </p:grpSpPr>
            <p:sp>
              <p:nvSpPr>
                <p:cNvPr id="2952" name="AutoShape 671"/>
                <p:cNvSpPr/>
                <p:nvPr/>
              </p:nvSpPr>
              <p:spPr>
                <a:xfrm>
                  <a:off x="1664640" y="-1347840"/>
                  <a:ext cx="609840" cy="5338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3" name="Freeform 672"/>
                <p:cNvSpPr/>
                <p:nvPr/>
              </p:nvSpPr>
              <p:spPr>
                <a:xfrm>
                  <a:off x="1664640" y="-965160"/>
                  <a:ext cx="311760" cy="292428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4" name="Oval 673"/>
                <p:cNvSpPr/>
                <p:nvPr/>
              </p:nvSpPr>
              <p:spPr>
                <a:xfrm rot="543600">
                  <a:off x="1435680" y="1787040"/>
                  <a:ext cx="306720" cy="1299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5" name="Group 674"/>
              <p:cNvGrpSpPr/>
              <p:nvPr/>
            </p:nvGrpSpPr>
            <p:grpSpPr>
              <a:xfrm>
                <a:off x="-324000" y="-3087720"/>
                <a:ext cx="4434480" cy="3575160"/>
                <a:chOff x="-324000" y="-3087720"/>
                <a:chExt cx="4434480" cy="3575160"/>
              </a:xfrm>
            </p:grpSpPr>
            <p:sp>
              <p:nvSpPr>
                <p:cNvPr id="2956" name="Freeform 675"/>
                <p:cNvSpPr/>
                <p:nvPr/>
              </p:nvSpPr>
              <p:spPr>
                <a:xfrm>
                  <a:off x="899640" y="-1194840"/>
                  <a:ext cx="1065240" cy="51048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0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Freeform 676"/>
                <p:cNvSpPr/>
                <p:nvPr/>
              </p:nvSpPr>
              <p:spPr>
                <a:xfrm>
                  <a:off x="58320" y="-1041480"/>
                  <a:ext cx="1835640" cy="4586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Freeform 677"/>
                <p:cNvSpPr/>
                <p:nvPr/>
              </p:nvSpPr>
              <p:spPr>
                <a:xfrm>
                  <a:off x="-92880" y="-1499760"/>
                  <a:ext cx="1911600" cy="4582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9" name="Freeform 678"/>
                <p:cNvSpPr/>
                <p:nvPr/>
              </p:nvSpPr>
              <p:spPr>
                <a:xfrm>
                  <a:off x="-324000" y="-1729080"/>
                  <a:ext cx="1989000" cy="61164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Freeform 679"/>
                <p:cNvSpPr/>
                <p:nvPr/>
              </p:nvSpPr>
              <p:spPr>
                <a:xfrm>
                  <a:off x="-170280" y="-1882440"/>
                  <a:ext cx="1976760" cy="7768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1" name="Freeform 680"/>
                <p:cNvSpPr/>
                <p:nvPr/>
              </p:nvSpPr>
              <p:spPr>
                <a:xfrm>
                  <a:off x="58320" y="-1880640"/>
                  <a:ext cx="1911600" cy="76356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2" name="Freeform 681"/>
                <p:cNvSpPr/>
                <p:nvPr/>
              </p:nvSpPr>
              <p:spPr>
                <a:xfrm>
                  <a:off x="451440" y="-2339280"/>
                  <a:ext cx="1442880" cy="122004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3" name="Freeform 682"/>
                <p:cNvSpPr/>
                <p:nvPr/>
              </p:nvSpPr>
              <p:spPr>
                <a:xfrm>
                  <a:off x="212040" y="-2263320"/>
                  <a:ext cx="1681920" cy="10702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4" name="Freeform 683"/>
                <p:cNvSpPr/>
                <p:nvPr/>
              </p:nvSpPr>
              <p:spPr>
                <a:xfrm>
                  <a:off x="441000" y="-2034000"/>
                  <a:ext cx="1681920" cy="10702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5" name="Freeform 684"/>
                <p:cNvSpPr/>
                <p:nvPr/>
              </p:nvSpPr>
              <p:spPr>
                <a:xfrm>
                  <a:off x="279360" y="-2693160"/>
                  <a:ext cx="1769760" cy="165168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6" name="Line 685"/>
                <p:cNvSpPr/>
                <p:nvPr/>
              </p:nvSpPr>
              <p:spPr>
                <a:xfrm flipH="1" flipV="1">
                  <a:off x="823680" y="-2570400"/>
                  <a:ext cx="1299600" cy="16804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7" name="Freeform 686"/>
                <p:cNvSpPr/>
                <p:nvPr/>
              </p:nvSpPr>
              <p:spPr>
                <a:xfrm>
                  <a:off x="978840" y="-2568600"/>
                  <a:ext cx="1070280" cy="1680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8" name="Freeform 687"/>
                <p:cNvSpPr/>
                <p:nvPr/>
              </p:nvSpPr>
              <p:spPr>
                <a:xfrm>
                  <a:off x="1220040" y="-2693160"/>
                  <a:ext cx="829080" cy="17290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Freeform 688"/>
                <p:cNvSpPr/>
                <p:nvPr/>
              </p:nvSpPr>
              <p:spPr>
                <a:xfrm>
                  <a:off x="1492920" y="-2794320"/>
                  <a:ext cx="555840" cy="18302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0" name="Freeform 689"/>
                <p:cNvSpPr/>
                <p:nvPr/>
              </p:nvSpPr>
              <p:spPr>
                <a:xfrm>
                  <a:off x="1846800" y="-2844720"/>
                  <a:ext cx="276120" cy="1955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1" name="Freeform 690"/>
                <p:cNvSpPr/>
                <p:nvPr/>
              </p:nvSpPr>
              <p:spPr>
                <a:xfrm>
                  <a:off x="1887480" y="-3087720"/>
                  <a:ext cx="321840" cy="21222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2" name="Freeform 691"/>
                <p:cNvSpPr/>
                <p:nvPr/>
              </p:nvSpPr>
              <p:spPr>
                <a:xfrm>
                  <a:off x="2047680" y="-2801160"/>
                  <a:ext cx="304920" cy="191160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3" name="Freeform 692"/>
                <p:cNvSpPr/>
                <p:nvPr/>
              </p:nvSpPr>
              <p:spPr>
                <a:xfrm>
                  <a:off x="2123280" y="-2570400"/>
                  <a:ext cx="534240" cy="16048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4" name="Freeform 693"/>
                <p:cNvSpPr/>
                <p:nvPr/>
              </p:nvSpPr>
              <p:spPr>
                <a:xfrm>
                  <a:off x="2047680" y="-3030120"/>
                  <a:ext cx="1070280" cy="1987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5" name="Freeform 694"/>
                <p:cNvSpPr/>
                <p:nvPr/>
              </p:nvSpPr>
              <p:spPr>
                <a:xfrm>
                  <a:off x="2047680" y="-2647440"/>
                  <a:ext cx="1375200" cy="168192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6" name="Freeform 695"/>
                <p:cNvSpPr/>
                <p:nvPr/>
              </p:nvSpPr>
              <p:spPr>
                <a:xfrm>
                  <a:off x="2123280" y="-2263320"/>
                  <a:ext cx="1604520" cy="1299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7" name="Freeform 696"/>
                <p:cNvSpPr/>
                <p:nvPr/>
              </p:nvSpPr>
              <p:spPr>
                <a:xfrm>
                  <a:off x="2123280" y="-2034000"/>
                  <a:ext cx="1833840" cy="107028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8" name="Freeform 697"/>
                <p:cNvSpPr/>
                <p:nvPr/>
              </p:nvSpPr>
              <p:spPr>
                <a:xfrm>
                  <a:off x="1969920" y="-1959840"/>
                  <a:ext cx="2140560" cy="107028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9" name="Freeform 698"/>
                <p:cNvSpPr/>
                <p:nvPr/>
              </p:nvSpPr>
              <p:spPr>
                <a:xfrm>
                  <a:off x="2039400" y="-923400"/>
                  <a:ext cx="1307880" cy="1461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0" name="Freeform 699"/>
                <p:cNvSpPr/>
                <p:nvPr/>
              </p:nvSpPr>
              <p:spPr>
                <a:xfrm>
                  <a:off x="2047680" y="-888120"/>
                  <a:ext cx="916920" cy="22752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1" name="Freeform 700"/>
                <p:cNvSpPr/>
                <p:nvPr/>
              </p:nvSpPr>
              <p:spPr>
                <a:xfrm>
                  <a:off x="1969920" y="-812160"/>
                  <a:ext cx="611640" cy="4582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2" name="Freeform 701"/>
                <p:cNvSpPr/>
                <p:nvPr/>
              </p:nvSpPr>
              <p:spPr>
                <a:xfrm>
                  <a:off x="1894320" y="-812160"/>
                  <a:ext cx="437760" cy="5155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3" name="Freeform 702"/>
                <p:cNvSpPr/>
                <p:nvPr/>
              </p:nvSpPr>
              <p:spPr>
                <a:xfrm>
                  <a:off x="441000" y="-1118880"/>
                  <a:ext cx="1528920" cy="12132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4" name="Freeform 703"/>
                <p:cNvSpPr/>
                <p:nvPr/>
              </p:nvSpPr>
              <p:spPr>
                <a:xfrm>
                  <a:off x="2047680" y="-965160"/>
                  <a:ext cx="1528560" cy="9396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5" name="Freeform 704"/>
                <p:cNvSpPr/>
                <p:nvPr/>
              </p:nvSpPr>
              <p:spPr>
                <a:xfrm>
                  <a:off x="1969920" y="-889560"/>
                  <a:ext cx="1070280" cy="61164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6" name="Freeform 705"/>
                <p:cNvSpPr/>
                <p:nvPr/>
              </p:nvSpPr>
              <p:spPr>
                <a:xfrm>
                  <a:off x="1969920" y="-2723760"/>
                  <a:ext cx="58680" cy="17582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7" name="Freeform 706"/>
                <p:cNvSpPr/>
                <p:nvPr/>
              </p:nvSpPr>
              <p:spPr>
                <a:xfrm>
                  <a:off x="1130760" y="-1118880"/>
                  <a:ext cx="916920" cy="99432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8" name="Freeform 707"/>
                <p:cNvSpPr/>
                <p:nvPr/>
              </p:nvSpPr>
              <p:spPr>
                <a:xfrm>
                  <a:off x="1128960" y="-889560"/>
                  <a:ext cx="839160" cy="13770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9" name="Freeform 708"/>
                <p:cNvSpPr/>
                <p:nvPr/>
              </p:nvSpPr>
              <p:spPr>
                <a:xfrm>
                  <a:off x="2049120" y="-812160"/>
                  <a:ext cx="534240" cy="1145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0" name="Freeform 709"/>
                <p:cNvSpPr/>
                <p:nvPr/>
              </p:nvSpPr>
              <p:spPr>
                <a:xfrm rot="681000">
                  <a:off x="2276640" y="-1118520"/>
                  <a:ext cx="689040" cy="15156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1" name="Freeform 710"/>
                <p:cNvSpPr/>
                <p:nvPr/>
              </p:nvSpPr>
              <p:spPr>
                <a:xfrm>
                  <a:off x="1969920" y="-2189160"/>
                  <a:ext cx="460080" cy="12236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2" name="Group 711"/>
          <p:cNvGrpSpPr/>
          <p:nvPr/>
        </p:nvGrpSpPr>
        <p:grpSpPr>
          <a:xfrm>
            <a:off x="395280" y="-171360"/>
            <a:ext cx="4434480" cy="6190200"/>
            <a:chOff x="395280" y="-171360"/>
            <a:chExt cx="4434480" cy="6190200"/>
          </a:xfrm>
        </p:grpSpPr>
        <p:sp>
          <p:nvSpPr>
            <p:cNvPr id="2993" name="Freeform 712"/>
            <p:cNvSpPr/>
            <p:nvPr/>
          </p:nvSpPr>
          <p:spPr>
            <a:xfrm>
              <a:off x="2842920" y="1664280"/>
              <a:ext cx="689400" cy="15156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4" name="Group 713"/>
            <p:cNvGrpSpPr/>
            <p:nvPr/>
          </p:nvGrpSpPr>
          <p:grpSpPr>
            <a:xfrm>
              <a:off x="395280" y="-171360"/>
              <a:ext cx="4434480" cy="6190200"/>
              <a:chOff x="395280" y="-171360"/>
              <a:chExt cx="4434480" cy="6190200"/>
            </a:xfrm>
          </p:grpSpPr>
          <p:grpSp>
            <p:nvGrpSpPr>
              <p:cNvPr id="2995" name="Group 714"/>
              <p:cNvGrpSpPr/>
              <p:nvPr/>
            </p:nvGrpSpPr>
            <p:grpSpPr>
              <a:xfrm>
                <a:off x="2054880" y="1568160"/>
                <a:ext cx="938880" cy="4450680"/>
                <a:chOff x="2054880" y="1568160"/>
                <a:chExt cx="938880" cy="4450680"/>
              </a:xfrm>
            </p:grpSpPr>
            <p:sp>
              <p:nvSpPr>
                <p:cNvPr id="2996" name="AutoShape 715"/>
                <p:cNvSpPr/>
                <p:nvPr/>
              </p:nvSpPr>
              <p:spPr>
                <a:xfrm>
                  <a:off x="2383920" y="1568160"/>
                  <a:ext cx="609840" cy="5338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7" name="Freeform 716"/>
                <p:cNvSpPr/>
                <p:nvPr/>
              </p:nvSpPr>
              <p:spPr>
                <a:xfrm>
                  <a:off x="2383920" y="1950480"/>
                  <a:ext cx="311760" cy="292428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8" name="Oval 717"/>
                <p:cNvSpPr/>
                <p:nvPr/>
              </p:nvSpPr>
              <p:spPr>
                <a:xfrm rot="543600">
                  <a:off x="2154960" y="4703040"/>
                  <a:ext cx="306720" cy="1299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9" name="Group 718"/>
              <p:cNvGrpSpPr/>
              <p:nvPr/>
            </p:nvGrpSpPr>
            <p:grpSpPr>
              <a:xfrm>
                <a:off x="395280" y="-171360"/>
                <a:ext cx="4434480" cy="3574800"/>
                <a:chOff x="395280" y="-171360"/>
                <a:chExt cx="4434480" cy="3574800"/>
              </a:xfrm>
            </p:grpSpPr>
            <p:sp>
              <p:nvSpPr>
                <p:cNvPr id="3000" name="Freeform 719"/>
                <p:cNvSpPr/>
                <p:nvPr/>
              </p:nvSpPr>
              <p:spPr>
                <a:xfrm>
                  <a:off x="1618920" y="1721160"/>
                  <a:ext cx="1065240" cy="51048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0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1" name="Freeform 720"/>
                <p:cNvSpPr/>
                <p:nvPr/>
              </p:nvSpPr>
              <p:spPr>
                <a:xfrm>
                  <a:off x="777600" y="1874520"/>
                  <a:ext cx="1835640" cy="4586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2" name="Freeform 721"/>
                <p:cNvSpPr/>
                <p:nvPr/>
              </p:nvSpPr>
              <p:spPr>
                <a:xfrm>
                  <a:off x="626040" y="1416240"/>
                  <a:ext cx="1911600" cy="4582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3" name="Freeform 722"/>
                <p:cNvSpPr/>
                <p:nvPr/>
              </p:nvSpPr>
              <p:spPr>
                <a:xfrm>
                  <a:off x="395280" y="1186920"/>
                  <a:ext cx="1989000" cy="61164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4" name="Freeform 723"/>
                <p:cNvSpPr/>
                <p:nvPr/>
              </p:nvSpPr>
              <p:spPr>
                <a:xfrm>
                  <a:off x="548640" y="1033560"/>
                  <a:ext cx="1976760" cy="7768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5" name="Freeform 724"/>
                <p:cNvSpPr/>
                <p:nvPr/>
              </p:nvSpPr>
              <p:spPr>
                <a:xfrm>
                  <a:off x="777600" y="1035360"/>
                  <a:ext cx="1911600" cy="76356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6" name="Freeform 725"/>
                <p:cNvSpPr/>
                <p:nvPr/>
              </p:nvSpPr>
              <p:spPr>
                <a:xfrm>
                  <a:off x="1170720" y="576720"/>
                  <a:ext cx="1442880" cy="122004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7" name="Freeform 726"/>
                <p:cNvSpPr/>
                <p:nvPr/>
              </p:nvSpPr>
              <p:spPr>
                <a:xfrm>
                  <a:off x="931320" y="652680"/>
                  <a:ext cx="1681920" cy="10702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8" name="Freeform 727"/>
                <p:cNvSpPr/>
                <p:nvPr/>
              </p:nvSpPr>
              <p:spPr>
                <a:xfrm>
                  <a:off x="1160280" y="882000"/>
                  <a:ext cx="1681920" cy="10702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9" name="Freeform 728"/>
                <p:cNvSpPr/>
                <p:nvPr/>
              </p:nvSpPr>
              <p:spPr>
                <a:xfrm>
                  <a:off x="998640" y="222840"/>
                  <a:ext cx="1769760" cy="165168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0" name="Line 729"/>
                <p:cNvSpPr/>
                <p:nvPr/>
              </p:nvSpPr>
              <p:spPr>
                <a:xfrm flipH="1" flipV="1">
                  <a:off x="1542960" y="345600"/>
                  <a:ext cx="1299600" cy="16804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1" name="Freeform 730"/>
                <p:cNvSpPr/>
                <p:nvPr/>
              </p:nvSpPr>
              <p:spPr>
                <a:xfrm>
                  <a:off x="1698120" y="347400"/>
                  <a:ext cx="1070280" cy="1680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2" name="Freeform 731"/>
                <p:cNvSpPr/>
                <p:nvPr/>
              </p:nvSpPr>
              <p:spPr>
                <a:xfrm>
                  <a:off x="1939320" y="222840"/>
                  <a:ext cx="829080" cy="17290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3" name="Freeform 732"/>
                <p:cNvSpPr/>
                <p:nvPr/>
              </p:nvSpPr>
              <p:spPr>
                <a:xfrm>
                  <a:off x="2212200" y="121680"/>
                  <a:ext cx="555840" cy="18302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4" name="Freeform 733"/>
                <p:cNvSpPr/>
                <p:nvPr/>
              </p:nvSpPr>
              <p:spPr>
                <a:xfrm>
                  <a:off x="2566080" y="71280"/>
                  <a:ext cx="276120" cy="1955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5" name="Freeform 734"/>
                <p:cNvSpPr/>
                <p:nvPr/>
              </p:nvSpPr>
              <p:spPr>
                <a:xfrm>
                  <a:off x="2606760" y="-171360"/>
                  <a:ext cx="321840" cy="21222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6" name="Freeform 735"/>
                <p:cNvSpPr/>
                <p:nvPr/>
              </p:nvSpPr>
              <p:spPr>
                <a:xfrm>
                  <a:off x="2766960" y="114840"/>
                  <a:ext cx="304920" cy="191160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7" name="Freeform 736"/>
                <p:cNvSpPr/>
                <p:nvPr/>
              </p:nvSpPr>
              <p:spPr>
                <a:xfrm>
                  <a:off x="2842560" y="345600"/>
                  <a:ext cx="534240" cy="16048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8" name="Freeform 737"/>
                <p:cNvSpPr/>
                <p:nvPr/>
              </p:nvSpPr>
              <p:spPr>
                <a:xfrm>
                  <a:off x="2766960" y="-113760"/>
                  <a:ext cx="1070280" cy="1987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9" name="Freeform 738"/>
                <p:cNvSpPr/>
                <p:nvPr/>
              </p:nvSpPr>
              <p:spPr>
                <a:xfrm>
                  <a:off x="2766960" y="268560"/>
                  <a:ext cx="1375200" cy="168192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0" name="Freeform 739"/>
                <p:cNvSpPr/>
                <p:nvPr/>
              </p:nvSpPr>
              <p:spPr>
                <a:xfrm>
                  <a:off x="2842560" y="652680"/>
                  <a:ext cx="1604520" cy="1299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1" name="Freeform 740"/>
                <p:cNvSpPr/>
                <p:nvPr/>
              </p:nvSpPr>
              <p:spPr>
                <a:xfrm>
                  <a:off x="2842560" y="882000"/>
                  <a:ext cx="1833840" cy="107028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2" name="Freeform 741"/>
                <p:cNvSpPr/>
                <p:nvPr/>
              </p:nvSpPr>
              <p:spPr>
                <a:xfrm>
                  <a:off x="2689200" y="956160"/>
                  <a:ext cx="2140560" cy="107028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3" name="Freeform 742"/>
                <p:cNvSpPr/>
                <p:nvPr/>
              </p:nvSpPr>
              <p:spPr>
                <a:xfrm>
                  <a:off x="2758680" y="1992600"/>
                  <a:ext cx="1307880" cy="1461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4" name="Freeform 743"/>
                <p:cNvSpPr/>
                <p:nvPr/>
              </p:nvSpPr>
              <p:spPr>
                <a:xfrm>
                  <a:off x="2766960" y="2027880"/>
                  <a:ext cx="916920" cy="22752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5" name="Freeform 744"/>
                <p:cNvSpPr/>
                <p:nvPr/>
              </p:nvSpPr>
              <p:spPr>
                <a:xfrm>
                  <a:off x="2689200" y="2103840"/>
                  <a:ext cx="611640" cy="4582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Freeform 745"/>
                <p:cNvSpPr/>
                <p:nvPr/>
              </p:nvSpPr>
              <p:spPr>
                <a:xfrm>
                  <a:off x="2613600" y="2103840"/>
                  <a:ext cx="437760" cy="5155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7" name="Freeform 746"/>
                <p:cNvSpPr/>
                <p:nvPr/>
              </p:nvSpPr>
              <p:spPr>
                <a:xfrm>
                  <a:off x="1160280" y="1797120"/>
                  <a:ext cx="1528920" cy="12132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8" name="Freeform 747"/>
                <p:cNvSpPr/>
                <p:nvPr/>
              </p:nvSpPr>
              <p:spPr>
                <a:xfrm>
                  <a:off x="2766960" y="1950840"/>
                  <a:ext cx="1528560" cy="9396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Freeform 748"/>
                <p:cNvSpPr/>
                <p:nvPr/>
              </p:nvSpPr>
              <p:spPr>
                <a:xfrm>
                  <a:off x="2689200" y="2026440"/>
                  <a:ext cx="1070280" cy="61164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0" name="Freeform 749"/>
                <p:cNvSpPr/>
                <p:nvPr/>
              </p:nvSpPr>
              <p:spPr>
                <a:xfrm>
                  <a:off x="2689200" y="192240"/>
                  <a:ext cx="58680" cy="17582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1" name="Freeform 750"/>
                <p:cNvSpPr/>
                <p:nvPr/>
              </p:nvSpPr>
              <p:spPr>
                <a:xfrm>
                  <a:off x="1850040" y="1797120"/>
                  <a:ext cx="916920" cy="99432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2" name="Freeform 751"/>
                <p:cNvSpPr/>
                <p:nvPr/>
              </p:nvSpPr>
              <p:spPr>
                <a:xfrm>
                  <a:off x="1848240" y="2026440"/>
                  <a:ext cx="839160" cy="13770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3" name="Freeform 752"/>
                <p:cNvSpPr/>
                <p:nvPr/>
              </p:nvSpPr>
              <p:spPr>
                <a:xfrm>
                  <a:off x="2768400" y="2103840"/>
                  <a:ext cx="534240" cy="1145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4" name="Freeform 753"/>
                <p:cNvSpPr/>
                <p:nvPr/>
              </p:nvSpPr>
              <p:spPr>
                <a:xfrm rot="681000">
                  <a:off x="2995920" y="1797120"/>
                  <a:ext cx="689040" cy="15156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Freeform 754"/>
                <p:cNvSpPr/>
                <p:nvPr/>
              </p:nvSpPr>
              <p:spPr>
                <a:xfrm>
                  <a:off x="2689200" y="726840"/>
                  <a:ext cx="460080" cy="12236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6" name="Group 755"/>
          <p:cNvGrpSpPr/>
          <p:nvPr/>
        </p:nvGrpSpPr>
        <p:grpSpPr>
          <a:xfrm>
            <a:off x="5867280" y="0"/>
            <a:ext cx="4434480" cy="6190200"/>
            <a:chOff x="5867280" y="0"/>
            <a:chExt cx="4434480" cy="6190200"/>
          </a:xfrm>
        </p:grpSpPr>
        <p:sp>
          <p:nvSpPr>
            <p:cNvPr id="3037" name="Freeform 756"/>
            <p:cNvSpPr/>
            <p:nvPr/>
          </p:nvSpPr>
          <p:spPr>
            <a:xfrm>
              <a:off x="8314920" y="1835640"/>
              <a:ext cx="689400" cy="15156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8" name="Group 757"/>
            <p:cNvGrpSpPr/>
            <p:nvPr/>
          </p:nvGrpSpPr>
          <p:grpSpPr>
            <a:xfrm>
              <a:off x="5867280" y="0"/>
              <a:ext cx="4434480" cy="6190200"/>
              <a:chOff x="5867280" y="0"/>
              <a:chExt cx="4434480" cy="6190200"/>
            </a:xfrm>
          </p:grpSpPr>
          <p:grpSp>
            <p:nvGrpSpPr>
              <p:cNvPr id="3039" name="Group 758"/>
              <p:cNvGrpSpPr/>
              <p:nvPr/>
            </p:nvGrpSpPr>
            <p:grpSpPr>
              <a:xfrm>
                <a:off x="7526880" y="1739520"/>
                <a:ext cx="938880" cy="4450680"/>
                <a:chOff x="7526880" y="1739520"/>
                <a:chExt cx="938880" cy="4450680"/>
              </a:xfrm>
            </p:grpSpPr>
            <p:sp>
              <p:nvSpPr>
                <p:cNvPr id="3040" name="AutoShape 759"/>
                <p:cNvSpPr/>
                <p:nvPr/>
              </p:nvSpPr>
              <p:spPr>
                <a:xfrm>
                  <a:off x="7855920" y="1739520"/>
                  <a:ext cx="609840" cy="5338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1" name="Freeform 760"/>
                <p:cNvSpPr/>
                <p:nvPr/>
              </p:nvSpPr>
              <p:spPr>
                <a:xfrm>
                  <a:off x="7855920" y="2121840"/>
                  <a:ext cx="311760" cy="292428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2" name="Oval 761"/>
                <p:cNvSpPr/>
                <p:nvPr/>
              </p:nvSpPr>
              <p:spPr>
                <a:xfrm rot="543600">
                  <a:off x="7626960" y="4874400"/>
                  <a:ext cx="306720" cy="1299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3" name="Group 762"/>
              <p:cNvGrpSpPr/>
              <p:nvPr/>
            </p:nvGrpSpPr>
            <p:grpSpPr>
              <a:xfrm>
                <a:off x="5867280" y="0"/>
                <a:ext cx="4434480" cy="3574800"/>
                <a:chOff x="5867280" y="0"/>
                <a:chExt cx="4434480" cy="3574800"/>
              </a:xfrm>
            </p:grpSpPr>
            <p:sp>
              <p:nvSpPr>
                <p:cNvPr id="3044" name="Freeform 763"/>
                <p:cNvSpPr/>
                <p:nvPr/>
              </p:nvSpPr>
              <p:spPr>
                <a:xfrm>
                  <a:off x="7090920" y="1892520"/>
                  <a:ext cx="1065240" cy="51048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0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5" name="Freeform 764"/>
                <p:cNvSpPr/>
                <p:nvPr/>
              </p:nvSpPr>
              <p:spPr>
                <a:xfrm>
                  <a:off x="6249600" y="2045880"/>
                  <a:ext cx="1835640" cy="4586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6" name="Freeform 765"/>
                <p:cNvSpPr/>
                <p:nvPr/>
              </p:nvSpPr>
              <p:spPr>
                <a:xfrm>
                  <a:off x="6098040" y="1587600"/>
                  <a:ext cx="1911600" cy="4582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7" name="Freeform 766"/>
                <p:cNvSpPr/>
                <p:nvPr/>
              </p:nvSpPr>
              <p:spPr>
                <a:xfrm>
                  <a:off x="5867280" y="1358280"/>
                  <a:ext cx="1989000" cy="61164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8" name="Freeform 767"/>
                <p:cNvSpPr/>
                <p:nvPr/>
              </p:nvSpPr>
              <p:spPr>
                <a:xfrm>
                  <a:off x="6020640" y="1204920"/>
                  <a:ext cx="1976760" cy="7768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9" name="Freeform 768"/>
                <p:cNvSpPr/>
                <p:nvPr/>
              </p:nvSpPr>
              <p:spPr>
                <a:xfrm>
                  <a:off x="6249600" y="1206720"/>
                  <a:ext cx="1911600" cy="76356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0" name="Freeform 769"/>
                <p:cNvSpPr/>
                <p:nvPr/>
              </p:nvSpPr>
              <p:spPr>
                <a:xfrm>
                  <a:off x="6642720" y="748080"/>
                  <a:ext cx="1442880" cy="122004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1" name="Freeform 770"/>
                <p:cNvSpPr/>
                <p:nvPr/>
              </p:nvSpPr>
              <p:spPr>
                <a:xfrm>
                  <a:off x="6403320" y="824040"/>
                  <a:ext cx="1681920" cy="10702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2" name="Freeform 771"/>
                <p:cNvSpPr/>
                <p:nvPr/>
              </p:nvSpPr>
              <p:spPr>
                <a:xfrm>
                  <a:off x="6632280" y="1053360"/>
                  <a:ext cx="1681920" cy="10702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Freeform 772"/>
                <p:cNvSpPr/>
                <p:nvPr/>
              </p:nvSpPr>
              <p:spPr>
                <a:xfrm>
                  <a:off x="6470640" y="394200"/>
                  <a:ext cx="1769760" cy="165168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4" name="Line 773"/>
                <p:cNvSpPr/>
                <p:nvPr/>
              </p:nvSpPr>
              <p:spPr>
                <a:xfrm flipH="1" flipV="1">
                  <a:off x="7014960" y="516960"/>
                  <a:ext cx="1299600" cy="16804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5" name="Freeform 774"/>
                <p:cNvSpPr/>
                <p:nvPr/>
              </p:nvSpPr>
              <p:spPr>
                <a:xfrm>
                  <a:off x="7170120" y="518760"/>
                  <a:ext cx="1070280" cy="1680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6" name="Freeform 775"/>
                <p:cNvSpPr/>
                <p:nvPr/>
              </p:nvSpPr>
              <p:spPr>
                <a:xfrm>
                  <a:off x="7411320" y="394200"/>
                  <a:ext cx="829080" cy="17290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7" name="Freeform 776"/>
                <p:cNvSpPr/>
                <p:nvPr/>
              </p:nvSpPr>
              <p:spPr>
                <a:xfrm>
                  <a:off x="7684200" y="293040"/>
                  <a:ext cx="555840" cy="18302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8" name="Freeform 777"/>
                <p:cNvSpPr/>
                <p:nvPr/>
              </p:nvSpPr>
              <p:spPr>
                <a:xfrm>
                  <a:off x="8038080" y="242640"/>
                  <a:ext cx="276120" cy="1955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9" name="Freeform 778"/>
                <p:cNvSpPr/>
                <p:nvPr/>
              </p:nvSpPr>
              <p:spPr>
                <a:xfrm>
                  <a:off x="8078760" y="0"/>
                  <a:ext cx="321840" cy="21222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0" name="Freeform 779"/>
                <p:cNvSpPr/>
                <p:nvPr/>
              </p:nvSpPr>
              <p:spPr>
                <a:xfrm>
                  <a:off x="8238960" y="286200"/>
                  <a:ext cx="304920" cy="191160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1" name="Freeform 780"/>
                <p:cNvSpPr/>
                <p:nvPr/>
              </p:nvSpPr>
              <p:spPr>
                <a:xfrm>
                  <a:off x="8314560" y="516960"/>
                  <a:ext cx="534240" cy="16048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2" name="Freeform 781"/>
                <p:cNvSpPr/>
                <p:nvPr/>
              </p:nvSpPr>
              <p:spPr>
                <a:xfrm>
                  <a:off x="8238960" y="57240"/>
                  <a:ext cx="1070280" cy="1987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3" name="Freeform 782"/>
                <p:cNvSpPr/>
                <p:nvPr/>
              </p:nvSpPr>
              <p:spPr>
                <a:xfrm>
                  <a:off x="8238960" y="439920"/>
                  <a:ext cx="1375200" cy="168192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4" name="Freeform 783"/>
                <p:cNvSpPr/>
                <p:nvPr/>
              </p:nvSpPr>
              <p:spPr>
                <a:xfrm>
                  <a:off x="8314560" y="824040"/>
                  <a:ext cx="1604520" cy="1299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5" name="Freeform 784"/>
                <p:cNvSpPr/>
                <p:nvPr/>
              </p:nvSpPr>
              <p:spPr>
                <a:xfrm>
                  <a:off x="8314560" y="1053360"/>
                  <a:ext cx="1833840" cy="107028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6" name="Freeform 785"/>
                <p:cNvSpPr/>
                <p:nvPr/>
              </p:nvSpPr>
              <p:spPr>
                <a:xfrm>
                  <a:off x="8161200" y="1127520"/>
                  <a:ext cx="2140560" cy="107028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7" name="Freeform 786"/>
                <p:cNvSpPr/>
                <p:nvPr/>
              </p:nvSpPr>
              <p:spPr>
                <a:xfrm>
                  <a:off x="8230680" y="2163960"/>
                  <a:ext cx="1307880" cy="1461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8" name="Freeform 787"/>
                <p:cNvSpPr/>
                <p:nvPr/>
              </p:nvSpPr>
              <p:spPr>
                <a:xfrm>
                  <a:off x="8238960" y="2199240"/>
                  <a:ext cx="916920" cy="22752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9" name="Freeform 788"/>
                <p:cNvSpPr/>
                <p:nvPr/>
              </p:nvSpPr>
              <p:spPr>
                <a:xfrm>
                  <a:off x="8161200" y="2275200"/>
                  <a:ext cx="611640" cy="4582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0" name="Freeform 789"/>
                <p:cNvSpPr/>
                <p:nvPr/>
              </p:nvSpPr>
              <p:spPr>
                <a:xfrm>
                  <a:off x="8085600" y="2275200"/>
                  <a:ext cx="437760" cy="5155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1" name="Freeform 790"/>
                <p:cNvSpPr/>
                <p:nvPr/>
              </p:nvSpPr>
              <p:spPr>
                <a:xfrm>
                  <a:off x="6632280" y="1968480"/>
                  <a:ext cx="1528920" cy="12132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2" name="Freeform 791"/>
                <p:cNvSpPr/>
                <p:nvPr/>
              </p:nvSpPr>
              <p:spPr>
                <a:xfrm>
                  <a:off x="8238960" y="2122200"/>
                  <a:ext cx="1528560" cy="9396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3" name="Freeform 792"/>
                <p:cNvSpPr/>
                <p:nvPr/>
              </p:nvSpPr>
              <p:spPr>
                <a:xfrm>
                  <a:off x="8161200" y="2197800"/>
                  <a:ext cx="1070280" cy="61164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4" name="Freeform 793"/>
                <p:cNvSpPr/>
                <p:nvPr/>
              </p:nvSpPr>
              <p:spPr>
                <a:xfrm>
                  <a:off x="8161200" y="363600"/>
                  <a:ext cx="58680" cy="17582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5" name="Freeform 794"/>
                <p:cNvSpPr/>
                <p:nvPr/>
              </p:nvSpPr>
              <p:spPr>
                <a:xfrm>
                  <a:off x="7322040" y="1968480"/>
                  <a:ext cx="916920" cy="99432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6" name="Freeform 795"/>
                <p:cNvSpPr/>
                <p:nvPr/>
              </p:nvSpPr>
              <p:spPr>
                <a:xfrm>
                  <a:off x="7320240" y="2197800"/>
                  <a:ext cx="839160" cy="13770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7" name="Freeform 796"/>
                <p:cNvSpPr/>
                <p:nvPr/>
              </p:nvSpPr>
              <p:spPr>
                <a:xfrm>
                  <a:off x="8240400" y="2275200"/>
                  <a:ext cx="534240" cy="1145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8" name="Freeform 797"/>
                <p:cNvSpPr/>
                <p:nvPr/>
              </p:nvSpPr>
              <p:spPr>
                <a:xfrm rot="681000">
                  <a:off x="8467920" y="1968480"/>
                  <a:ext cx="689040" cy="15156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9" name="Freeform 798"/>
                <p:cNvSpPr/>
                <p:nvPr/>
              </p:nvSpPr>
              <p:spPr>
                <a:xfrm>
                  <a:off x="8161200" y="898200"/>
                  <a:ext cx="460080" cy="12236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0" name="Group 799"/>
          <p:cNvGrpSpPr/>
          <p:nvPr/>
        </p:nvGrpSpPr>
        <p:grpSpPr>
          <a:xfrm>
            <a:off x="-2447280" y="-89640"/>
            <a:ext cx="4509360" cy="6283800"/>
            <a:chOff x="-2447280" y="-89640"/>
            <a:chExt cx="4509360" cy="6283800"/>
          </a:xfrm>
        </p:grpSpPr>
        <p:sp>
          <p:nvSpPr>
            <p:cNvPr id="3081" name="Freeform 800"/>
            <p:cNvSpPr/>
            <p:nvPr/>
          </p:nvSpPr>
          <p:spPr>
            <a:xfrm rot="21094200">
              <a:off x="51120" y="1764000"/>
              <a:ext cx="689400" cy="15156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2" name="Group 801"/>
            <p:cNvGrpSpPr/>
            <p:nvPr/>
          </p:nvGrpSpPr>
          <p:grpSpPr>
            <a:xfrm>
              <a:off x="-2447280" y="-89640"/>
              <a:ext cx="4509360" cy="6283800"/>
              <a:chOff x="-2447280" y="-89640"/>
              <a:chExt cx="4509360" cy="6283800"/>
            </a:xfrm>
          </p:grpSpPr>
          <p:grpSp>
            <p:nvGrpSpPr>
              <p:cNvPr id="3083" name="Group 802"/>
              <p:cNvGrpSpPr/>
              <p:nvPr/>
            </p:nvGrpSpPr>
            <p:grpSpPr>
              <a:xfrm>
                <a:off x="-423360" y="1698120"/>
                <a:ext cx="793080" cy="4496040"/>
                <a:chOff x="-423360" y="1698120"/>
                <a:chExt cx="793080" cy="4496040"/>
              </a:xfrm>
            </p:grpSpPr>
            <p:sp>
              <p:nvSpPr>
                <p:cNvPr id="3084" name="AutoShape 803"/>
                <p:cNvSpPr/>
                <p:nvPr/>
              </p:nvSpPr>
              <p:spPr>
                <a:xfrm rot="21094200">
                  <a:off x="-387360" y="1739520"/>
                  <a:ext cx="609840" cy="5338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5" name="Freeform 804"/>
                <p:cNvSpPr/>
                <p:nvPr/>
              </p:nvSpPr>
              <p:spPr>
                <a:xfrm rot="21094200">
                  <a:off x="-154440" y="2126880"/>
                  <a:ext cx="311760" cy="292428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6" name="Oval 805"/>
                <p:cNvSpPr/>
                <p:nvPr/>
              </p:nvSpPr>
              <p:spPr>
                <a:xfrm rot="37800">
                  <a:off x="-96480" y="4892760"/>
                  <a:ext cx="306720" cy="1299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7" name="Group 806"/>
              <p:cNvGrpSpPr/>
              <p:nvPr/>
            </p:nvGrpSpPr>
            <p:grpSpPr>
              <a:xfrm>
                <a:off x="-2447280" y="-89640"/>
                <a:ext cx="4509360" cy="3771360"/>
                <a:chOff x="-2447280" y="-89640"/>
                <a:chExt cx="4509360" cy="3771360"/>
              </a:xfrm>
            </p:grpSpPr>
            <p:sp>
              <p:nvSpPr>
                <p:cNvPr id="3088" name="Freeform 807"/>
                <p:cNvSpPr/>
                <p:nvPr/>
              </p:nvSpPr>
              <p:spPr>
                <a:xfrm rot="21094200">
                  <a:off x="-1126440" y="1969920"/>
                  <a:ext cx="1064880" cy="51048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0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9" name="Freeform 808"/>
                <p:cNvSpPr/>
                <p:nvPr/>
              </p:nvSpPr>
              <p:spPr>
                <a:xfrm rot="21094200">
                  <a:off x="-1944000" y="2188800"/>
                  <a:ext cx="1835640" cy="4586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0" name="Freeform 809"/>
                <p:cNvSpPr/>
                <p:nvPr/>
              </p:nvSpPr>
              <p:spPr>
                <a:xfrm rot="21094200">
                  <a:off x="-2161440" y="1752120"/>
                  <a:ext cx="1911240" cy="4582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1" name="Freeform 810"/>
                <p:cNvSpPr/>
                <p:nvPr/>
              </p:nvSpPr>
              <p:spPr>
                <a:xfrm rot="21094200">
                  <a:off x="-2413080" y="1552680"/>
                  <a:ext cx="1989000" cy="61164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Freeform 811"/>
                <p:cNvSpPr/>
                <p:nvPr/>
              </p:nvSpPr>
              <p:spPr>
                <a:xfrm rot="21094200">
                  <a:off x="-2271240" y="1378440"/>
                  <a:ext cx="1976760" cy="7768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3" name="Freeform 812"/>
                <p:cNvSpPr/>
                <p:nvPr/>
              </p:nvSpPr>
              <p:spPr>
                <a:xfrm rot="21094200">
                  <a:off x="-2045160" y="1351800"/>
                  <a:ext cx="1911240" cy="76356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4" name="Freeform 813"/>
                <p:cNvSpPr/>
                <p:nvPr/>
              </p:nvSpPr>
              <p:spPr>
                <a:xfrm rot="21094200">
                  <a:off x="-1687320" y="871920"/>
                  <a:ext cx="1442520" cy="122004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5" name="Freeform 814"/>
                <p:cNvSpPr/>
                <p:nvPr/>
              </p:nvSpPr>
              <p:spPr>
                <a:xfrm rot="21094200">
                  <a:off x="-1925280" y="965880"/>
                  <a:ext cx="1681920" cy="10702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6" name="Freeform 815"/>
                <p:cNvSpPr/>
                <p:nvPr/>
              </p:nvSpPr>
              <p:spPr>
                <a:xfrm rot="21094200">
                  <a:off x="-1665360" y="1158840"/>
                  <a:ext cx="1681920" cy="107028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Freeform 816"/>
                <p:cNvSpPr/>
                <p:nvPr/>
              </p:nvSpPr>
              <p:spPr>
                <a:xfrm rot="21094200">
                  <a:off x="-1879560" y="520920"/>
                  <a:ext cx="1769400" cy="165168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8" name="Line 817"/>
                <p:cNvSpPr/>
                <p:nvPr/>
              </p:nvSpPr>
              <p:spPr>
                <a:xfrm flipH="1" flipV="1">
                  <a:off x="-1435320" y="701640"/>
                  <a:ext cx="1531800" cy="14716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9" name="Freeform 818"/>
                <p:cNvSpPr/>
                <p:nvPr/>
              </p:nvSpPr>
              <p:spPr>
                <a:xfrm rot="21094200">
                  <a:off x="-1163520" y="592560"/>
                  <a:ext cx="1069920" cy="1680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0" name="Freeform 819"/>
                <p:cNvSpPr/>
                <p:nvPr/>
              </p:nvSpPr>
              <p:spPr>
                <a:xfrm rot="21094200">
                  <a:off x="-938520" y="451800"/>
                  <a:ext cx="828720" cy="17290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1" name="Freeform 820"/>
                <p:cNvSpPr/>
                <p:nvPr/>
              </p:nvSpPr>
              <p:spPr>
                <a:xfrm rot="21094200">
                  <a:off x="-674280" y="331200"/>
                  <a:ext cx="555840" cy="18302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Freeform 821"/>
                <p:cNvSpPr/>
                <p:nvPr/>
              </p:nvSpPr>
              <p:spPr>
                <a:xfrm rot="21094200">
                  <a:off x="-321120" y="249120"/>
                  <a:ext cx="276120" cy="1955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3" name="Freeform 822"/>
                <p:cNvSpPr/>
                <p:nvPr/>
              </p:nvSpPr>
              <p:spPr>
                <a:xfrm rot="21094200">
                  <a:off x="-304200" y="-720"/>
                  <a:ext cx="321480" cy="21222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4" name="Freeform 823"/>
                <p:cNvSpPr/>
                <p:nvPr/>
              </p:nvSpPr>
              <p:spPr>
                <a:xfrm rot="21094200">
                  <a:off x="-119880" y="261000"/>
                  <a:ext cx="304920" cy="191160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5" name="Freeform 824"/>
                <p:cNvSpPr/>
                <p:nvPr/>
              </p:nvSpPr>
              <p:spPr>
                <a:xfrm rot="21094200">
                  <a:off x="-34920" y="463320"/>
                  <a:ext cx="534240" cy="16048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6" name="Freeform 825"/>
                <p:cNvSpPr/>
                <p:nvPr/>
              </p:nvSpPr>
              <p:spPr>
                <a:xfrm rot="21094200">
                  <a:off x="-152280" y="-21600"/>
                  <a:ext cx="1069920" cy="1987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Freeform 826"/>
                <p:cNvSpPr/>
                <p:nvPr/>
              </p:nvSpPr>
              <p:spPr>
                <a:xfrm rot="21094200">
                  <a:off x="-120240" y="335880"/>
                  <a:ext cx="1375200" cy="168192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8" name="Freeform 827"/>
                <p:cNvSpPr/>
                <p:nvPr/>
              </p:nvSpPr>
              <p:spPr>
                <a:xfrm rot="21094200">
                  <a:off x="-18000" y="689760"/>
                  <a:ext cx="1604520" cy="1299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9" name="Freeform 828"/>
                <p:cNvSpPr/>
                <p:nvPr/>
              </p:nvSpPr>
              <p:spPr>
                <a:xfrm rot="21094200">
                  <a:off x="-2160" y="901440"/>
                  <a:ext cx="1833840" cy="107028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Freeform 829"/>
                <p:cNvSpPr/>
                <p:nvPr/>
              </p:nvSpPr>
              <p:spPr>
                <a:xfrm rot="21094200">
                  <a:off x="-145080" y="974880"/>
                  <a:ext cx="2140200" cy="107028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1" name="Freeform 830"/>
                <p:cNvSpPr/>
                <p:nvPr/>
              </p:nvSpPr>
              <p:spPr>
                <a:xfrm rot="21094200">
                  <a:off x="11880" y="2055600"/>
                  <a:ext cx="1307880" cy="1461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2" name="Freeform 831"/>
                <p:cNvSpPr/>
                <p:nvPr/>
              </p:nvSpPr>
              <p:spPr>
                <a:xfrm rot="21094200">
                  <a:off x="33480" y="2117520"/>
                  <a:ext cx="916920" cy="22752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Freeform 832"/>
                <p:cNvSpPr/>
                <p:nvPr/>
              </p:nvSpPr>
              <p:spPr>
                <a:xfrm rot="21094200">
                  <a:off x="-12960" y="2225160"/>
                  <a:ext cx="611640" cy="4582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Freeform 833"/>
                <p:cNvSpPr/>
                <p:nvPr/>
              </p:nvSpPr>
              <p:spPr>
                <a:xfrm rot="21094200">
                  <a:off x="-82800" y="2248920"/>
                  <a:ext cx="437760" cy="5155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5" name="Freeform 834"/>
                <p:cNvSpPr/>
                <p:nvPr/>
              </p:nvSpPr>
              <p:spPr>
                <a:xfrm rot="21094200">
                  <a:off x="-1599840" y="2080440"/>
                  <a:ext cx="1528560" cy="12132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6" name="Freeform 835"/>
                <p:cNvSpPr/>
                <p:nvPr/>
              </p:nvSpPr>
              <p:spPr>
                <a:xfrm rot="21094200">
                  <a:off x="9000" y="1997280"/>
                  <a:ext cx="1528200" cy="9396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7" name="Freeform 836"/>
                <p:cNvSpPr/>
                <p:nvPr/>
              </p:nvSpPr>
              <p:spPr>
                <a:xfrm rot="21094200">
                  <a:off x="-15840" y="2114280"/>
                  <a:ext cx="1069920" cy="61164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8" name="Freeform 837"/>
                <p:cNvSpPr/>
                <p:nvPr/>
              </p:nvSpPr>
              <p:spPr>
                <a:xfrm rot="21094200">
                  <a:off x="-195120" y="367920"/>
                  <a:ext cx="58680" cy="17582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9" name="Freeform 838"/>
                <p:cNvSpPr/>
                <p:nvPr/>
              </p:nvSpPr>
              <p:spPr>
                <a:xfrm rot="21094200">
                  <a:off x="-850680" y="2019600"/>
                  <a:ext cx="916920" cy="99432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0" name="Freeform 839"/>
                <p:cNvSpPr/>
                <p:nvPr/>
              </p:nvSpPr>
              <p:spPr>
                <a:xfrm rot="21094200">
                  <a:off x="-789840" y="2250360"/>
                  <a:ext cx="839160" cy="13770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1" name="Freeform 840"/>
                <p:cNvSpPr/>
                <p:nvPr/>
              </p:nvSpPr>
              <p:spPr>
                <a:xfrm rot="21094200">
                  <a:off x="115560" y="2215800"/>
                  <a:ext cx="534240" cy="1145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2" name="Freeform 841"/>
                <p:cNvSpPr/>
                <p:nvPr/>
              </p:nvSpPr>
              <p:spPr>
                <a:xfrm rot="175200">
                  <a:off x="222120" y="1873080"/>
                  <a:ext cx="689040" cy="15156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3" name="Freeform 842"/>
                <p:cNvSpPr/>
                <p:nvPr/>
              </p:nvSpPr>
              <p:spPr>
                <a:xfrm rot="21094200">
                  <a:off x="-158040" y="870120"/>
                  <a:ext cx="460080" cy="12236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24" name="Oval 855"/>
          <p:cNvSpPr/>
          <p:nvPr/>
        </p:nvSpPr>
        <p:spPr>
          <a:xfrm rot="823200">
            <a:off x="10321560" y="-1066680"/>
            <a:ext cx="9296280" cy="856908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Oval 856"/>
          <p:cNvSpPr/>
          <p:nvPr/>
        </p:nvSpPr>
        <p:spPr>
          <a:xfrm rot="823200">
            <a:off x="858600" y="6416640"/>
            <a:ext cx="10118520" cy="678816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Oval 857"/>
          <p:cNvSpPr/>
          <p:nvPr/>
        </p:nvSpPr>
        <p:spPr>
          <a:xfrm rot="21386400">
            <a:off x="-9398160" y="-2257560"/>
            <a:ext cx="9296640" cy="885672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Oval 858"/>
          <p:cNvSpPr/>
          <p:nvPr/>
        </p:nvSpPr>
        <p:spPr>
          <a:xfrm rot="6088800">
            <a:off x="-152280" y="-6508080"/>
            <a:ext cx="9296640" cy="561636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8" name="Picture 861" descr="云儿"/>
          <p:cNvPicPr/>
          <p:nvPr/>
        </p:nvPicPr>
        <p:blipFill>
          <a:blip r:embed="rId2"/>
          <a:stretch/>
        </p:blipFill>
        <p:spPr>
          <a:xfrm>
            <a:off x="4067280" y="2637000"/>
            <a:ext cx="1714320" cy="1244520"/>
          </a:xfrm>
          <a:prstGeom prst="rect">
            <a:avLst/>
          </a:prstGeom>
          <a:ln w="0">
            <a:noFill/>
          </a:ln>
        </p:spPr>
      </p:pic>
      <p:sp>
        <p:nvSpPr>
          <p:cNvPr id="3129" name="Rectangle 862"/>
          <p:cNvSpPr/>
          <p:nvPr/>
        </p:nvSpPr>
        <p:spPr>
          <a:xfrm>
            <a:off x="611280" y="476280"/>
            <a:ext cx="7848360" cy="5977080"/>
          </a:xfrm>
          <a:prstGeom prst="rect">
            <a:avLst/>
          </a:prstGeom>
          <a:solidFill>
            <a:srgbClr val="00008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Text Box 863"/>
          <p:cNvSpPr/>
          <p:nvPr/>
        </p:nvSpPr>
        <p:spPr>
          <a:xfrm>
            <a:off x="2987640" y="21337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寻找一个全新的世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Text Box 859"/>
          <p:cNvSpPr/>
          <p:nvPr/>
        </p:nvSpPr>
        <p:spPr>
          <a:xfrm>
            <a:off x="3276720" y="476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象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蒲公英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一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Text Box 864"/>
          <p:cNvSpPr/>
          <p:nvPr/>
        </p:nvSpPr>
        <p:spPr>
          <a:xfrm>
            <a:off x="3022560" y="3789360"/>
            <a:ext cx="61214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感受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旷野的生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幼圆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幼圆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聆听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大地的呼吸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3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3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3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3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3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3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3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3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4.44444E-006 3.33333E-006 L 0.1434 0.04328 E">
                                      <p:cBhvr>
                                        <p:cTn id="244" dur="2000" fill="hold"/>
                                        <p:tgtEl>
                                          <p:spTgt spid="2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46" dur="500" fill="hold"/>
                                        <p:tgtEl>
                                          <p:spTgt spid="2772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72222E-006 1.48148E-006 L -0.21025 0.10625 E">
                                      <p:cBhvr>
                                        <p:cTn id="248" dur="2000" fill="hold"/>
                                        <p:tgtEl>
                                          <p:spTgt spid="28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50" dur="500" fill="hold"/>
                                        <p:tgtEl>
                                          <p:spTgt spid="281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3.33333E-006 2.59259E-006 L -0.43142 0.15879 E">
                                      <p:cBhvr>
                                        <p:cTn id="252" dur="2000" fill="hold"/>
                                        <p:tgtEl>
                                          <p:spTgt spid="2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254" dur="500" fill="hold"/>
                                        <p:tgtEl>
                                          <p:spTgt spid="2860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1.94444E-006 4.07407E-006 L -0.03767 -0.05116 E">
                                      <p:cBhvr>
                                        <p:cTn id="256" dur="2000" fill="hold"/>
                                        <p:tgtEl>
                                          <p:spTgt spid="2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58" dur="500" fill="hold"/>
                                        <p:tgtEl>
                                          <p:spTgt spid="290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0937 0.15347 L 0.32587 0.46458 E">
                                      <p:cBhvr>
                                        <p:cTn id="260" dur="2000" fill="hold"/>
                                        <p:tgtEl>
                                          <p:spTgt spid="2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62" dur="500" fill="hold"/>
                                        <p:tgtEl>
                                          <p:spTgt spid="2948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3.88889E-006 -1.48148E-006 L 0.25365 0.03287 E">
                                      <p:cBhvr>
                                        <p:cTn id="264" dur="2000" fill="hold"/>
                                        <p:tgtEl>
                                          <p:spTgt spid="29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266" dur="500" fill="hold"/>
                                        <p:tgtEl>
                                          <p:spTgt spid="2992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38889E-006 -1.48148E-006 L -0.32899 0.00787 E">
                                      <p:cBhvr>
                                        <p:cTn id="268" dur="2000" fill="hold"/>
                                        <p:tgtEl>
                                          <p:spTgt spid="30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70" dur="500" fill="hold"/>
                                        <p:tgtEl>
                                          <p:spTgt spid="303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 -1.48148E-006 L 0.53941 0.00787 E">
                                      <p:cBhvr>
                                        <p:cTn id="272" dur="2000" fill="hold"/>
                                        <p:tgtEl>
                                          <p:spTgt spid="3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274" dur="500" fill="hold"/>
                                        <p:tgtEl>
                                          <p:spTgt spid="3080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4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2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2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3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 repeatCount="100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08681 0.23704 L -0.75295 -0.01898 E">
                                      <p:cBhvr>
                                        <p:cTn id="300" dur="2000" fill="hold"/>
                                        <p:tgtEl>
                                          <p:spTgt spid="3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3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02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104 -0.22709 L -0.09201 -0.72061 E">
                                      <p:cBhvr>
                                        <p:cTn id="303" dur="1000" fill="hold"/>
                                        <p:tgtEl>
                                          <p:spTgt spid="3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3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05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12604 0.23611 L 0.82257 0.17314 E">
                                      <p:cBhvr>
                                        <p:cTn id="306" dur="2000" fill="hold"/>
                                        <p:tgtEl>
                                          <p:spTgt spid="3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07" dur="1" fill="hold">
                                    <p:stCondLst>
                                      <p:cond evt="end">
                                        <p:tn val="305"/>
                                      </p:cond>
                                    </p:stCondLst>
                                  </p:cTn>
                                  <p:tgtEl>
                                    <p:spTgt spid="3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08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17 0.18912 L 0.02413 0.75602 E">
                                      <p:cBhvr>
                                        <p:cTn id="309" dur="1000" fill="hold"/>
                                        <p:tgtEl>
                                          <p:spTgt spid="3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3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11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30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4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3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3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油菜花"/>
          <p:cNvPicPr/>
          <p:nvPr/>
        </p:nvPicPr>
        <p:blipFill>
          <a:blip r:embed="rId1"/>
          <a:stretch/>
        </p:blipFill>
        <p:spPr>
          <a:xfrm>
            <a:off x="0" y="-1238400"/>
            <a:ext cx="9753480" cy="8096400"/>
          </a:xfrm>
          <a:prstGeom prst="rect">
            <a:avLst/>
          </a:prstGeom>
          <a:ln w="0">
            <a:noFill/>
          </a:ln>
        </p:spPr>
      </p:pic>
      <p:pic>
        <p:nvPicPr>
          <p:cNvPr id="3134" name="Picture 360" descr="云儿"/>
          <p:cNvPicPr/>
          <p:nvPr/>
        </p:nvPicPr>
        <p:blipFill>
          <a:blip r:embed="rId2"/>
          <a:stretch/>
        </p:blipFill>
        <p:spPr>
          <a:xfrm>
            <a:off x="4067280" y="2637000"/>
            <a:ext cx="1714320" cy="1244520"/>
          </a:xfrm>
          <a:prstGeom prst="rect">
            <a:avLst/>
          </a:prstGeom>
          <a:ln w="0">
            <a:noFill/>
          </a:ln>
        </p:spPr>
      </p:pic>
      <p:grpSp>
        <p:nvGrpSpPr>
          <p:cNvPr id="3135" name="Group 464"/>
          <p:cNvGrpSpPr/>
          <p:nvPr/>
        </p:nvGrpSpPr>
        <p:grpSpPr>
          <a:xfrm>
            <a:off x="9752400" y="-1175040"/>
            <a:ext cx="665280" cy="879840"/>
            <a:chOff x="9752400" y="-1175040"/>
            <a:chExt cx="665280" cy="879840"/>
          </a:xfrm>
        </p:grpSpPr>
        <p:sp>
          <p:nvSpPr>
            <p:cNvPr id="3136" name="Freeform 465"/>
            <p:cNvSpPr/>
            <p:nvPr/>
          </p:nvSpPr>
          <p:spPr>
            <a:xfrm rot="1077600">
              <a:off x="10098360" y="-87192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466"/>
            <p:cNvGrpSpPr/>
            <p:nvPr/>
          </p:nvGrpSpPr>
          <p:grpSpPr>
            <a:xfrm>
              <a:off x="9752400" y="-1175040"/>
              <a:ext cx="665280" cy="879840"/>
              <a:chOff x="9752400" y="-1175040"/>
              <a:chExt cx="665280" cy="879840"/>
            </a:xfrm>
          </p:grpSpPr>
          <p:grpSp>
            <p:nvGrpSpPr>
              <p:cNvPr id="3138" name="Group 467"/>
              <p:cNvGrpSpPr/>
              <p:nvPr/>
            </p:nvGrpSpPr>
            <p:grpSpPr>
              <a:xfrm>
                <a:off x="9796320" y="-921960"/>
                <a:ext cx="334080" cy="626760"/>
                <a:chOff x="9796320" y="-921960"/>
                <a:chExt cx="334080" cy="626760"/>
              </a:xfrm>
            </p:grpSpPr>
            <p:sp>
              <p:nvSpPr>
                <p:cNvPr id="3139" name="AutoShape 468"/>
                <p:cNvSpPr/>
                <p:nvPr/>
              </p:nvSpPr>
              <p:spPr>
                <a:xfrm rot="1077600">
                  <a:off x="10029240" y="-90972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0" name="Freeform 469"/>
                <p:cNvSpPr/>
                <p:nvPr/>
              </p:nvSpPr>
              <p:spPr>
                <a:xfrm rot="1077600">
                  <a:off x="9958320" y="-87120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1" name="Oval 470"/>
                <p:cNvSpPr/>
                <p:nvPr/>
              </p:nvSpPr>
              <p:spPr>
                <a:xfrm rot="1621200">
                  <a:off x="9837360" y="-48744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2" name="Group 471"/>
              <p:cNvGrpSpPr/>
              <p:nvPr/>
            </p:nvGrpSpPr>
            <p:grpSpPr>
              <a:xfrm>
                <a:off x="9752400" y="-1175040"/>
                <a:ext cx="665280" cy="532800"/>
                <a:chOff x="9752400" y="-1175040"/>
                <a:chExt cx="665280" cy="532800"/>
              </a:xfrm>
            </p:grpSpPr>
            <p:sp>
              <p:nvSpPr>
                <p:cNvPr id="3143" name="Freeform 472"/>
                <p:cNvSpPr/>
                <p:nvPr/>
              </p:nvSpPr>
              <p:spPr>
                <a:xfrm rot="1077600">
                  <a:off x="9912960" y="-91224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4" name="Freeform 473"/>
                <p:cNvSpPr/>
                <p:nvPr/>
              </p:nvSpPr>
              <p:spPr>
                <a:xfrm rot="1077600">
                  <a:off x="9785520" y="-91152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5" name="Freeform 474"/>
                <p:cNvSpPr/>
                <p:nvPr/>
              </p:nvSpPr>
              <p:spPr>
                <a:xfrm rot="1077600">
                  <a:off x="9784800" y="-981360"/>
                  <a:ext cx="284040" cy="676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6" name="Freeform 475"/>
                <p:cNvSpPr/>
                <p:nvPr/>
              </p:nvSpPr>
              <p:spPr>
                <a:xfrm rot="1077600">
                  <a:off x="9759240" y="-102276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7" name="Freeform 476"/>
                <p:cNvSpPr/>
                <p:nvPr/>
              </p:nvSpPr>
              <p:spPr>
                <a:xfrm rot="1077600">
                  <a:off x="9783720" y="-103860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8" name="Freeform 477"/>
                <p:cNvSpPr/>
                <p:nvPr/>
              </p:nvSpPr>
              <p:spPr>
                <a:xfrm rot="1077600">
                  <a:off x="9816840" y="-1029600"/>
                  <a:ext cx="284040" cy="1130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9" name="Freeform 478"/>
                <p:cNvSpPr/>
                <p:nvPr/>
              </p:nvSpPr>
              <p:spPr>
                <a:xfrm rot="1077600">
                  <a:off x="9884880" y="-1088640"/>
                  <a:ext cx="214200" cy="1807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479"/>
                <p:cNvSpPr/>
                <p:nvPr/>
              </p:nvSpPr>
              <p:spPr>
                <a:xfrm rot="1077600">
                  <a:off x="9849960" y="-10828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1" name="Freeform 480"/>
                <p:cNvSpPr/>
                <p:nvPr/>
              </p:nvSpPr>
              <p:spPr>
                <a:xfrm rot="1077600">
                  <a:off x="9871560" y="-10396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2" name="Freeform 481"/>
                <p:cNvSpPr/>
                <p:nvPr/>
              </p:nvSpPr>
              <p:spPr>
                <a:xfrm rot="1077600">
                  <a:off x="9865440" y="-1140480"/>
                  <a:ext cx="262800" cy="24480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3" name="Line 482"/>
                <p:cNvSpPr/>
                <p:nvPr/>
              </p:nvSpPr>
              <p:spPr>
                <a:xfrm flipH="1" flipV="1">
                  <a:off x="9981000" y="-1132920"/>
                  <a:ext cx="106560" cy="2966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4" name="Freeform 483"/>
                <p:cNvSpPr/>
                <p:nvPr/>
              </p:nvSpPr>
              <p:spPr>
                <a:xfrm rot="1077600">
                  <a:off x="9960480" y="-1107000"/>
                  <a:ext cx="158760" cy="249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5" name="Freeform 484"/>
                <p:cNvSpPr/>
                <p:nvPr/>
              </p:nvSpPr>
              <p:spPr>
                <a:xfrm rot="1077600">
                  <a:off x="10000080" y="-1119240"/>
                  <a:ext cx="123120" cy="25632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6" name="Freeform 485"/>
                <p:cNvSpPr/>
                <p:nvPr/>
              </p:nvSpPr>
              <p:spPr>
                <a:xfrm rot="1077600">
                  <a:off x="10042200" y="-1127880"/>
                  <a:ext cx="82440" cy="2714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7" name="Freeform 486"/>
                <p:cNvSpPr/>
                <p:nvPr/>
              </p:nvSpPr>
              <p:spPr>
                <a:xfrm rot="1077600">
                  <a:off x="10092240" y="-112536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8" name="Freeform 487"/>
                <p:cNvSpPr/>
                <p:nvPr/>
              </p:nvSpPr>
              <p:spPr>
                <a:xfrm rot="1077600">
                  <a:off x="10105560" y="-1157400"/>
                  <a:ext cx="47520" cy="3146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9" name="Freeform 488"/>
                <p:cNvSpPr/>
                <p:nvPr/>
              </p:nvSpPr>
              <p:spPr>
                <a:xfrm rot="1077600">
                  <a:off x="10119600" y="-110880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0" name="Freeform 489"/>
                <p:cNvSpPr/>
                <p:nvPr/>
              </p:nvSpPr>
              <p:spPr>
                <a:xfrm rot="1077600">
                  <a:off x="10126080" y="-1066680"/>
                  <a:ext cx="79200" cy="237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1" name="Freeform 490"/>
                <p:cNvSpPr/>
                <p:nvPr/>
              </p:nvSpPr>
              <p:spPr>
                <a:xfrm rot="1077600">
                  <a:off x="10125720" y="-112392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2" name="Freeform 491"/>
                <p:cNvSpPr/>
                <p:nvPr/>
              </p:nvSpPr>
              <p:spPr>
                <a:xfrm rot="1077600">
                  <a:off x="10114200" y="-106200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3" name="Freeform 492"/>
                <p:cNvSpPr/>
                <p:nvPr/>
              </p:nvSpPr>
              <p:spPr>
                <a:xfrm rot="1077600">
                  <a:off x="10115280" y="-997560"/>
                  <a:ext cx="238320" cy="192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4" name="Freeform 493"/>
                <p:cNvSpPr/>
                <p:nvPr/>
              </p:nvSpPr>
              <p:spPr>
                <a:xfrm rot="1077600">
                  <a:off x="10108800" y="-95940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5" name="Freeform 494"/>
                <p:cNvSpPr/>
                <p:nvPr/>
              </p:nvSpPr>
              <p:spPr>
                <a:xfrm rot="1077600">
                  <a:off x="10082880" y="-94896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6" name="Freeform 495"/>
                <p:cNvSpPr/>
                <p:nvPr/>
              </p:nvSpPr>
              <p:spPr>
                <a:xfrm rot="1077600">
                  <a:off x="10069200" y="-81504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7" name="Freeform 496"/>
                <p:cNvSpPr/>
                <p:nvPr/>
              </p:nvSpPr>
              <p:spPr>
                <a:xfrm rot="1077600">
                  <a:off x="10068480" y="-81864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8" name="Freeform 497"/>
                <p:cNvSpPr/>
                <p:nvPr/>
              </p:nvSpPr>
              <p:spPr>
                <a:xfrm rot="1077600">
                  <a:off x="10049760" y="-819360"/>
                  <a:ext cx="90720" cy="676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9" name="Freeform 498"/>
                <p:cNvSpPr/>
                <p:nvPr/>
              </p:nvSpPr>
              <p:spPr>
                <a:xfrm rot="1077600">
                  <a:off x="10038240" y="-82728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0" name="Freeform 499"/>
                <p:cNvSpPr/>
                <p:nvPr/>
              </p:nvSpPr>
              <p:spPr>
                <a:xfrm rot="1077600">
                  <a:off x="9851760" y="-91080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1" name="Freeform 500"/>
                <p:cNvSpPr/>
                <p:nvPr/>
              </p:nvSpPr>
              <p:spPr>
                <a:xfrm rot="1077600">
                  <a:off x="10072800" y="-81540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2" name="Freeform 501"/>
                <p:cNvSpPr/>
                <p:nvPr/>
              </p:nvSpPr>
              <p:spPr>
                <a:xfrm rot="1077600">
                  <a:off x="10048320" y="-82044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3" name="Freeform 502"/>
                <p:cNvSpPr/>
                <p:nvPr/>
              </p:nvSpPr>
              <p:spPr>
                <a:xfrm rot="1077600">
                  <a:off x="10109520" y="-1106640"/>
                  <a:ext cx="8640" cy="2606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4" name="Freeform 503"/>
                <p:cNvSpPr/>
                <p:nvPr/>
              </p:nvSpPr>
              <p:spPr>
                <a:xfrm rot="1077600">
                  <a:off x="9931680" y="-89640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5" name="Freeform 504"/>
                <p:cNvSpPr/>
                <p:nvPr/>
              </p:nvSpPr>
              <p:spPr>
                <a:xfrm rot="1077600">
                  <a:off x="9912600" y="-867240"/>
                  <a:ext cx="124560" cy="2041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6" name="Freeform 505"/>
                <p:cNvSpPr/>
                <p:nvPr/>
              </p:nvSpPr>
              <p:spPr>
                <a:xfrm rot="1077600">
                  <a:off x="10045440" y="-82008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7" name="Freeform 506"/>
                <p:cNvSpPr/>
                <p:nvPr/>
              </p:nvSpPr>
              <p:spPr>
                <a:xfrm rot="1758600">
                  <a:off x="10113840" y="-84600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8" name="Freeform 507"/>
                <p:cNvSpPr/>
                <p:nvPr/>
              </p:nvSpPr>
              <p:spPr>
                <a:xfrm rot="1077600">
                  <a:off x="10095840" y="-102024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9" name="Group 509"/>
          <p:cNvGrpSpPr/>
          <p:nvPr/>
        </p:nvGrpSpPr>
        <p:grpSpPr>
          <a:xfrm>
            <a:off x="9968040" y="984960"/>
            <a:ext cx="665280" cy="879840"/>
            <a:chOff x="9968040" y="984960"/>
            <a:chExt cx="665280" cy="879840"/>
          </a:xfrm>
        </p:grpSpPr>
        <p:sp>
          <p:nvSpPr>
            <p:cNvPr id="3180" name="Freeform 510"/>
            <p:cNvSpPr/>
            <p:nvPr/>
          </p:nvSpPr>
          <p:spPr>
            <a:xfrm rot="1077600">
              <a:off x="10314000" y="128772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1" name="Group 511"/>
            <p:cNvGrpSpPr/>
            <p:nvPr/>
          </p:nvGrpSpPr>
          <p:grpSpPr>
            <a:xfrm>
              <a:off x="9968040" y="984960"/>
              <a:ext cx="665280" cy="879840"/>
              <a:chOff x="9968040" y="984960"/>
              <a:chExt cx="665280" cy="879840"/>
            </a:xfrm>
          </p:grpSpPr>
          <p:grpSp>
            <p:nvGrpSpPr>
              <p:cNvPr id="3182" name="Group 512"/>
              <p:cNvGrpSpPr/>
              <p:nvPr/>
            </p:nvGrpSpPr>
            <p:grpSpPr>
              <a:xfrm>
                <a:off x="10011960" y="1238400"/>
                <a:ext cx="334080" cy="626400"/>
                <a:chOff x="10011960" y="1238400"/>
                <a:chExt cx="334080" cy="626400"/>
              </a:xfrm>
            </p:grpSpPr>
            <p:sp>
              <p:nvSpPr>
                <p:cNvPr id="3183" name="AutoShape 513"/>
                <p:cNvSpPr/>
                <p:nvPr/>
              </p:nvSpPr>
              <p:spPr>
                <a:xfrm rot="1077600">
                  <a:off x="10244880" y="125028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4" name="Freeform 514"/>
                <p:cNvSpPr/>
                <p:nvPr/>
              </p:nvSpPr>
              <p:spPr>
                <a:xfrm rot="1077600">
                  <a:off x="10173960" y="128844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5" name="Oval 515"/>
                <p:cNvSpPr/>
                <p:nvPr/>
              </p:nvSpPr>
              <p:spPr>
                <a:xfrm rot="1621200">
                  <a:off x="10053000" y="167220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6" name="Group 516"/>
              <p:cNvGrpSpPr/>
              <p:nvPr/>
            </p:nvGrpSpPr>
            <p:grpSpPr>
              <a:xfrm>
                <a:off x="9968040" y="984960"/>
                <a:ext cx="665280" cy="532800"/>
                <a:chOff x="9968040" y="984960"/>
                <a:chExt cx="665280" cy="532800"/>
              </a:xfrm>
            </p:grpSpPr>
            <p:sp>
              <p:nvSpPr>
                <p:cNvPr id="3187" name="Freeform 517"/>
                <p:cNvSpPr/>
                <p:nvPr/>
              </p:nvSpPr>
              <p:spPr>
                <a:xfrm rot="1077600">
                  <a:off x="10128960" y="124740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8" name="Freeform 518"/>
                <p:cNvSpPr/>
                <p:nvPr/>
              </p:nvSpPr>
              <p:spPr>
                <a:xfrm rot="1077600">
                  <a:off x="10001160" y="124848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Freeform 519"/>
                <p:cNvSpPr/>
                <p:nvPr/>
              </p:nvSpPr>
              <p:spPr>
                <a:xfrm rot="1077600">
                  <a:off x="10000440" y="1178640"/>
                  <a:ext cx="284040" cy="6804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0" name="Freeform 520"/>
                <p:cNvSpPr/>
                <p:nvPr/>
              </p:nvSpPr>
              <p:spPr>
                <a:xfrm rot="1077600">
                  <a:off x="9974880" y="113688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1" name="Freeform 521"/>
                <p:cNvSpPr/>
                <p:nvPr/>
              </p:nvSpPr>
              <p:spPr>
                <a:xfrm rot="1077600">
                  <a:off x="9999360" y="112140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2" name="Freeform 522"/>
                <p:cNvSpPr/>
                <p:nvPr/>
              </p:nvSpPr>
              <p:spPr>
                <a:xfrm rot="1077600">
                  <a:off x="10032480" y="1130040"/>
                  <a:ext cx="284040" cy="11340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3" name="Freeform 523"/>
                <p:cNvSpPr/>
                <p:nvPr/>
              </p:nvSpPr>
              <p:spPr>
                <a:xfrm rot="1077600">
                  <a:off x="10100160" y="1071360"/>
                  <a:ext cx="214200" cy="18108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4" name="Freeform 524"/>
                <p:cNvSpPr/>
                <p:nvPr/>
              </p:nvSpPr>
              <p:spPr>
                <a:xfrm rot="1077600">
                  <a:off x="10065960" y="10767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5" name="Freeform 525"/>
                <p:cNvSpPr/>
                <p:nvPr/>
              </p:nvSpPr>
              <p:spPr>
                <a:xfrm rot="1077600">
                  <a:off x="10087560" y="11199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6" name="Freeform 526"/>
                <p:cNvSpPr/>
                <p:nvPr/>
              </p:nvSpPr>
              <p:spPr>
                <a:xfrm rot="1077600">
                  <a:off x="10081440" y="1019160"/>
                  <a:ext cx="262800" cy="2451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7" name="Line 527"/>
                <p:cNvSpPr/>
                <p:nvPr/>
              </p:nvSpPr>
              <p:spPr>
                <a:xfrm flipH="1" flipV="1">
                  <a:off x="10196640" y="1026720"/>
                  <a:ext cx="106920" cy="29700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8" name="Freeform 528"/>
                <p:cNvSpPr/>
                <p:nvPr/>
              </p:nvSpPr>
              <p:spPr>
                <a:xfrm rot="1077600">
                  <a:off x="10176120" y="1053000"/>
                  <a:ext cx="158760" cy="2494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9" name="Freeform 529"/>
                <p:cNvSpPr/>
                <p:nvPr/>
              </p:nvSpPr>
              <p:spPr>
                <a:xfrm rot="1077600">
                  <a:off x="10215720" y="1040400"/>
                  <a:ext cx="123120" cy="2566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0" name="Freeform 530"/>
                <p:cNvSpPr/>
                <p:nvPr/>
              </p:nvSpPr>
              <p:spPr>
                <a:xfrm rot="1077600">
                  <a:off x="10257840" y="1031760"/>
                  <a:ext cx="82440" cy="2718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1" name="Freeform 531"/>
                <p:cNvSpPr/>
                <p:nvPr/>
              </p:nvSpPr>
              <p:spPr>
                <a:xfrm rot="1077600">
                  <a:off x="10307880" y="103428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2" name="Freeform 532"/>
                <p:cNvSpPr/>
                <p:nvPr/>
              </p:nvSpPr>
              <p:spPr>
                <a:xfrm rot="1077600">
                  <a:off x="10320840" y="1002600"/>
                  <a:ext cx="47520" cy="3150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3" name="Freeform 533"/>
                <p:cNvSpPr/>
                <p:nvPr/>
              </p:nvSpPr>
              <p:spPr>
                <a:xfrm rot="1077600">
                  <a:off x="10335600" y="105084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4" name="Freeform 534"/>
                <p:cNvSpPr/>
                <p:nvPr/>
              </p:nvSpPr>
              <p:spPr>
                <a:xfrm rot="1077600">
                  <a:off x="10341720" y="1092960"/>
                  <a:ext cx="79200" cy="2383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5" name="Freeform 535"/>
                <p:cNvSpPr/>
                <p:nvPr/>
              </p:nvSpPr>
              <p:spPr>
                <a:xfrm rot="1077600">
                  <a:off x="10341360" y="103572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6" name="Freeform 536"/>
                <p:cNvSpPr/>
                <p:nvPr/>
              </p:nvSpPr>
              <p:spPr>
                <a:xfrm rot="1077600">
                  <a:off x="10329840" y="109764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7" name="Freeform 537"/>
                <p:cNvSpPr/>
                <p:nvPr/>
              </p:nvSpPr>
              <p:spPr>
                <a:xfrm rot="1077600">
                  <a:off x="10330920" y="1162080"/>
                  <a:ext cx="238320" cy="19296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8" name="Freeform 538"/>
                <p:cNvSpPr/>
                <p:nvPr/>
              </p:nvSpPr>
              <p:spPr>
                <a:xfrm rot="1077600">
                  <a:off x="10324800" y="120024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9" name="Freeform 539"/>
                <p:cNvSpPr/>
                <p:nvPr/>
              </p:nvSpPr>
              <p:spPr>
                <a:xfrm rot="1077600">
                  <a:off x="10298520" y="121104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0" name="Freeform 540"/>
                <p:cNvSpPr/>
                <p:nvPr/>
              </p:nvSpPr>
              <p:spPr>
                <a:xfrm rot="1077600">
                  <a:off x="10284840" y="134460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1" name="Freeform 541"/>
                <p:cNvSpPr/>
                <p:nvPr/>
              </p:nvSpPr>
              <p:spPr>
                <a:xfrm rot="1077600">
                  <a:off x="10284120" y="134136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2" name="Freeform 542"/>
                <p:cNvSpPr/>
                <p:nvPr/>
              </p:nvSpPr>
              <p:spPr>
                <a:xfrm rot="1077600">
                  <a:off x="10265400" y="1340280"/>
                  <a:ext cx="90720" cy="6804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3" name="Freeform 543"/>
                <p:cNvSpPr/>
                <p:nvPr/>
              </p:nvSpPr>
              <p:spPr>
                <a:xfrm rot="1077600">
                  <a:off x="10253880" y="133236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4" name="Freeform 544"/>
                <p:cNvSpPr/>
                <p:nvPr/>
              </p:nvSpPr>
              <p:spPr>
                <a:xfrm rot="1077600">
                  <a:off x="10067400" y="124920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5" name="Freeform 545"/>
                <p:cNvSpPr/>
                <p:nvPr/>
              </p:nvSpPr>
              <p:spPr>
                <a:xfrm rot="1077600">
                  <a:off x="10288440" y="134460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6" name="Freeform 546"/>
                <p:cNvSpPr/>
                <p:nvPr/>
              </p:nvSpPr>
              <p:spPr>
                <a:xfrm rot="1077600">
                  <a:off x="10263960" y="133920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7" name="Freeform 547"/>
                <p:cNvSpPr/>
                <p:nvPr/>
              </p:nvSpPr>
              <p:spPr>
                <a:xfrm rot="1077600">
                  <a:off x="10325160" y="1053360"/>
                  <a:ext cx="8640" cy="2610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8" name="Freeform 548"/>
                <p:cNvSpPr/>
                <p:nvPr/>
              </p:nvSpPr>
              <p:spPr>
                <a:xfrm rot="1077600">
                  <a:off x="10147320" y="126360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9" name="Freeform 549"/>
                <p:cNvSpPr/>
                <p:nvPr/>
              </p:nvSpPr>
              <p:spPr>
                <a:xfrm rot="1077600">
                  <a:off x="10127880" y="1292400"/>
                  <a:ext cx="124560" cy="20448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0" name="Freeform 550"/>
                <p:cNvSpPr/>
                <p:nvPr/>
              </p:nvSpPr>
              <p:spPr>
                <a:xfrm rot="1077600">
                  <a:off x="10261080" y="133956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1" name="Freeform 551"/>
                <p:cNvSpPr/>
                <p:nvPr/>
              </p:nvSpPr>
              <p:spPr>
                <a:xfrm rot="1758600">
                  <a:off x="10329480" y="131400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2" name="Freeform 552"/>
                <p:cNvSpPr/>
                <p:nvPr/>
              </p:nvSpPr>
              <p:spPr>
                <a:xfrm rot="1077600">
                  <a:off x="10311840" y="113940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23" name="Group 553"/>
          <p:cNvGrpSpPr/>
          <p:nvPr/>
        </p:nvGrpSpPr>
        <p:grpSpPr>
          <a:xfrm>
            <a:off x="5033160" y="-2421720"/>
            <a:ext cx="670320" cy="937080"/>
            <a:chOff x="5033160" y="-2421720"/>
            <a:chExt cx="670320" cy="937080"/>
          </a:xfrm>
        </p:grpSpPr>
        <p:sp>
          <p:nvSpPr>
            <p:cNvPr id="3224" name="Freeform 554"/>
            <p:cNvSpPr/>
            <p:nvPr/>
          </p:nvSpPr>
          <p:spPr>
            <a:xfrm rot="20925000">
              <a:off x="5404680" y="-214416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5" name="Group 555"/>
            <p:cNvGrpSpPr/>
            <p:nvPr/>
          </p:nvGrpSpPr>
          <p:grpSpPr>
            <a:xfrm>
              <a:off x="5033160" y="-2421720"/>
              <a:ext cx="670320" cy="937080"/>
              <a:chOff x="5033160" y="-2421720"/>
              <a:chExt cx="670320" cy="937080"/>
            </a:xfrm>
          </p:grpSpPr>
          <p:grpSp>
            <p:nvGrpSpPr>
              <p:cNvPr id="3226" name="Group 556"/>
              <p:cNvGrpSpPr/>
              <p:nvPr/>
            </p:nvGrpSpPr>
            <p:grpSpPr>
              <a:xfrm>
                <a:off x="5333760" y="-2152440"/>
                <a:ext cx="140760" cy="667800"/>
                <a:chOff x="5333760" y="-2152440"/>
                <a:chExt cx="140760" cy="667800"/>
              </a:xfrm>
            </p:grpSpPr>
            <p:sp>
              <p:nvSpPr>
                <p:cNvPr id="3227" name="AutoShape 557"/>
                <p:cNvSpPr/>
                <p:nvPr/>
              </p:nvSpPr>
              <p:spPr>
                <a:xfrm rot="20925000">
                  <a:off x="5340600" y="-214416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8" name="Freeform 558"/>
                <p:cNvSpPr/>
                <p:nvPr/>
              </p:nvSpPr>
              <p:spPr>
                <a:xfrm rot="20925000">
                  <a:off x="5386320" y="-208764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9" name="Oval 559"/>
                <p:cNvSpPr/>
                <p:nvPr/>
              </p:nvSpPr>
              <p:spPr>
                <a:xfrm rot="21469200">
                  <a:off x="5409360" y="-167796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0" name="Group 560"/>
              <p:cNvGrpSpPr/>
              <p:nvPr/>
            </p:nvGrpSpPr>
            <p:grpSpPr>
              <a:xfrm>
                <a:off x="5033160" y="-2421720"/>
                <a:ext cx="670320" cy="569880"/>
                <a:chOff x="5033160" y="-2421720"/>
                <a:chExt cx="670320" cy="569880"/>
              </a:xfrm>
            </p:grpSpPr>
            <p:sp>
              <p:nvSpPr>
                <p:cNvPr id="3231" name="Freeform 561"/>
                <p:cNvSpPr/>
                <p:nvPr/>
              </p:nvSpPr>
              <p:spPr>
                <a:xfrm rot="20925000">
                  <a:off x="5232600" y="-210600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Freeform 562"/>
                <p:cNvSpPr/>
                <p:nvPr/>
              </p:nvSpPr>
              <p:spPr>
                <a:xfrm rot="20925000">
                  <a:off x="5112360" y="-207036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Freeform 563"/>
                <p:cNvSpPr/>
                <p:nvPr/>
              </p:nvSpPr>
              <p:spPr>
                <a:xfrm rot="20925000">
                  <a:off x="5076720" y="-2133720"/>
                  <a:ext cx="284040" cy="676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Freeform 564"/>
                <p:cNvSpPr/>
                <p:nvPr/>
              </p:nvSpPr>
              <p:spPr>
                <a:xfrm rot="20925000">
                  <a:off x="5038920" y="-216180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Freeform 565"/>
                <p:cNvSpPr/>
                <p:nvPr/>
              </p:nvSpPr>
              <p:spPr>
                <a:xfrm rot="20925000">
                  <a:off x="5059080" y="-218880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6" name="Freeform 566"/>
                <p:cNvSpPr/>
                <p:nvPr/>
              </p:nvSpPr>
              <p:spPr>
                <a:xfrm rot="20925000">
                  <a:off x="5092560" y="-2193840"/>
                  <a:ext cx="284040" cy="1130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7" name="Freeform 567"/>
                <p:cNvSpPr/>
                <p:nvPr/>
              </p:nvSpPr>
              <p:spPr>
                <a:xfrm rot="20925000">
                  <a:off x="5144040" y="-2265840"/>
                  <a:ext cx="214200" cy="1807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Freeform 568"/>
                <p:cNvSpPr/>
                <p:nvPr/>
              </p:nvSpPr>
              <p:spPr>
                <a:xfrm rot="20925000">
                  <a:off x="5108760" y="-225144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Freeform 569"/>
                <p:cNvSpPr/>
                <p:nvPr/>
              </p:nvSpPr>
              <p:spPr>
                <a:xfrm rot="20925000">
                  <a:off x="5148360" y="-222444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Freeform 570"/>
                <p:cNvSpPr/>
                <p:nvPr/>
              </p:nvSpPr>
              <p:spPr>
                <a:xfrm rot="20925000">
                  <a:off x="5114160" y="-2318040"/>
                  <a:ext cx="262800" cy="24480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571"/>
                <p:cNvSpPr/>
                <p:nvPr/>
              </p:nvSpPr>
              <p:spPr>
                <a:xfrm flipH="1" flipV="1">
                  <a:off x="5175720" y="-2287800"/>
                  <a:ext cx="237960" cy="2066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2" name="Freeform 572"/>
                <p:cNvSpPr/>
                <p:nvPr/>
              </p:nvSpPr>
              <p:spPr>
                <a:xfrm rot="20925000">
                  <a:off x="5221080" y="-2310120"/>
                  <a:ext cx="158760" cy="249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3" name="Freeform 573"/>
                <p:cNvSpPr/>
                <p:nvPr/>
              </p:nvSpPr>
              <p:spPr>
                <a:xfrm rot="20925000">
                  <a:off x="5253840" y="-2331720"/>
                  <a:ext cx="123120" cy="25632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Freeform 574"/>
                <p:cNvSpPr/>
                <p:nvPr/>
              </p:nvSpPr>
              <p:spPr>
                <a:xfrm rot="20925000">
                  <a:off x="5292720" y="-2350800"/>
                  <a:ext cx="82440" cy="2714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Freeform 575"/>
                <p:cNvSpPr/>
                <p:nvPr/>
              </p:nvSpPr>
              <p:spPr>
                <a:xfrm rot="20925000">
                  <a:off x="5344920" y="-236412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Freeform 576"/>
                <p:cNvSpPr/>
                <p:nvPr/>
              </p:nvSpPr>
              <p:spPr>
                <a:xfrm rot="20925000">
                  <a:off x="5346000" y="-2401920"/>
                  <a:ext cx="47520" cy="3146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Freeform 577"/>
                <p:cNvSpPr/>
                <p:nvPr/>
              </p:nvSpPr>
              <p:spPr>
                <a:xfrm rot="20925000">
                  <a:off x="5374800" y="-236376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8" name="Freeform 578"/>
                <p:cNvSpPr/>
                <p:nvPr/>
              </p:nvSpPr>
              <p:spPr>
                <a:xfrm rot="20925000">
                  <a:off x="5387760" y="-2335320"/>
                  <a:ext cx="79200" cy="237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9" name="Freeform 579"/>
                <p:cNvSpPr/>
                <p:nvPr/>
              </p:nvSpPr>
              <p:spPr>
                <a:xfrm rot="20925000">
                  <a:off x="5367960" y="-240876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0" name="Freeform 580"/>
                <p:cNvSpPr/>
                <p:nvPr/>
              </p:nvSpPr>
              <p:spPr>
                <a:xfrm rot="20925000">
                  <a:off x="5374440" y="-235692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1" name="Freeform 581"/>
                <p:cNvSpPr/>
                <p:nvPr/>
              </p:nvSpPr>
              <p:spPr>
                <a:xfrm rot="20925000">
                  <a:off x="5390280" y="-2306160"/>
                  <a:ext cx="238320" cy="192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2" name="Freeform 582"/>
                <p:cNvSpPr/>
                <p:nvPr/>
              </p:nvSpPr>
              <p:spPr>
                <a:xfrm rot="20925000">
                  <a:off x="5393520" y="-227556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3" name="Freeform 583"/>
                <p:cNvSpPr/>
                <p:nvPr/>
              </p:nvSpPr>
              <p:spPr>
                <a:xfrm rot="20925000">
                  <a:off x="5373000" y="-226512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4" name="Freeform 584"/>
                <p:cNvSpPr/>
                <p:nvPr/>
              </p:nvSpPr>
              <p:spPr>
                <a:xfrm rot="20925000">
                  <a:off x="5400720" y="-210240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5" name="Freeform 585"/>
                <p:cNvSpPr/>
                <p:nvPr/>
              </p:nvSpPr>
              <p:spPr>
                <a:xfrm rot="20925000">
                  <a:off x="5405040" y="-209196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6" name="Freeform 586"/>
                <p:cNvSpPr/>
                <p:nvPr/>
              </p:nvSpPr>
              <p:spPr>
                <a:xfrm rot="20925000">
                  <a:off x="5399280" y="-2074680"/>
                  <a:ext cx="90720" cy="676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7" name="Freeform 587"/>
                <p:cNvSpPr/>
                <p:nvPr/>
              </p:nvSpPr>
              <p:spPr>
                <a:xfrm rot="20925000">
                  <a:off x="5389200" y="-207000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Freeform 588"/>
                <p:cNvSpPr/>
                <p:nvPr/>
              </p:nvSpPr>
              <p:spPr>
                <a:xfrm rot="20925000">
                  <a:off x="5161320" y="-208800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9" name="Freeform 589"/>
                <p:cNvSpPr/>
                <p:nvPr/>
              </p:nvSpPr>
              <p:spPr>
                <a:xfrm rot="20925000">
                  <a:off x="5399640" y="-211212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0" name="Freeform 590"/>
                <p:cNvSpPr/>
                <p:nvPr/>
              </p:nvSpPr>
              <p:spPr>
                <a:xfrm rot="20925000">
                  <a:off x="5398920" y="-209268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1" name="Freeform 591"/>
                <p:cNvSpPr/>
                <p:nvPr/>
              </p:nvSpPr>
              <p:spPr>
                <a:xfrm rot="20925000">
                  <a:off x="5364000" y="-2346840"/>
                  <a:ext cx="8640" cy="2606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2" name="Freeform 592"/>
                <p:cNvSpPr/>
                <p:nvPr/>
              </p:nvSpPr>
              <p:spPr>
                <a:xfrm rot="20925000">
                  <a:off x="5275440" y="-210024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3" name="Freeform 593"/>
                <p:cNvSpPr/>
                <p:nvPr/>
              </p:nvSpPr>
              <p:spPr>
                <a:xfrm rot="20925000">
                  <a:off x="5287320" y="-2066040"/>
                  <a:ext cx="124560" cy="2041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4" name="Freeform 594"/>
                <p:cNvSpPr/>
                <p:nvPr/>
              </p:nvSpPr>
              <p:spPr>
                <a:xfrm rot="20925000">
                  <a:off x="5420880" y="-207648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5" name="Freeform 595"/>
                <p:cNvSpPr/>
                <p:nvPr/>
              </p:nvSpPr>
              <p:spPr>
                <a:xfrm rot="6000">
                  <a:off x="5430600" y="-212868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6" name="Freeform 596"/>
                <p:cNvSpPr/>
                <p:nvPr/>
              </p:nvSpPr>
              <p:spPr>
                <a:xfrm rot="20925000">
                  <a:off x="5371200" y="-227412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67" name="Group 597"/>
          <p:cNvGrpSpPr/>
          <p:nvPr/>
        </p:nvGrpSpPr>
        <p:grpSpPr>
          <a:xfrm>
            <a:off x="-757080" y="1112040"/>
            <a:ext cx="665280" cy="887040"/>
            <a:chOff x="-757080" y="1112040"/>
            <a:chExt cx="665280" cy="887040"/>
          </a:xfrm>
        </p:grpSpPr>
        <p:sp>
          <p:nvSpPr>
            <p:cNvPr id="3268" name="Freeform 598"/>
            <p:cNvSpPr/>
            <p:nvPr/>
          </p:nvSpPr>
          <p:spPr>
            <a:xfrm rot="19458600">
              <a:off x="-412560" y="138024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9" name="Group 599"/>
            <p:cNvGrpSpPr/>
            <p:nvPr/>
          </p:nvGrpSpPr>
          <p:grpSpPr>
            <a:xfrm>
              <a:off x="-757080" y="1112040"/>
              <a:ext cx="665280" cy="887040"/>
              <a:chOff x="-757080" y="1112040"/>
              <a:chExt cx="665280" cy="887040"/>
            </a:xfrm>
          </p:grpSpPr>
          <p:grpSp>
            <p:nvGrpSpPr>
              <p:cNvPr id="3270" name="Group 600"/>
              <p:cNvGrpSpPr/>
              <p:nvPr/>
            </p:nvGrpSpPr>
            <p:grpSpPr>
              <a:xfrm>
                <a:off x="-473040" y="1387440"/>
                <a:ext cx="381240" cy="611640"/>
                <a:chOff x="-473040" y="1387440"/>
                <a:chExt cx="381240" cy="611640"/>
              </a:xfrm>
            </p:grpSpPr>
            <p:sp>
              <p:nvSpPr>
                <p:cNvPr id="3271" name="AutoShape 601"/>
                <p:cNvSpPr/>
                <p:nvPr/>
              </p:nvSpPr>
              <p:spPr>
                <a:xfrm rot="19458600">
                  <a:off x="-458280" y="140616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2" name="Freeform 602"/>
                <p:cNvSpPr/>
                <p:nvPr/>
              </p:nvSpPr>
              <p:spPr>
                <a:xfrm rot="19458600">
                  <a:off x="-317880" y="143208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3" name="Oval 603"/>
                <p:cNvSpPr/>
                <p:nvPr/>
              </p:nvSpPr>
              <p:spPr>
                <a:xfrm rot="20002800">
                  <a:off x="-177480" y="180648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4" name="Group 604"/>
              <p:cNvGrpSpPr/>
              <p:nvPr/>
            </p:nvGrpSpPr>
            <p:grpSpPr>
              <a:xfrm>
                <a:off x="-757080" y="1112040"/>
                <a:ext cx="618480" cy="596520"/>
                <a:chOff x="-757080" y="1112040"/>
                <a:chExt cx="618480" cy="596520"/>
              </a:xfrm>
            </p:grpSpPr>
            <p:sp>
              <p:nvSpPr>
                <p:cNvPr id="3275" name="Freeform 605"/>
                <p:cNvSpPr/>
                <p:nvPr/>
              </p:nvSpPr>
              <p:spPr>
                <a:xfrm rot="19458600">
                  <a:off x="-544680" y="147204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Freeform 606"/>
                <p:cNvSpPr/>
                <p:nvPr/>
              </p:nvSpPr>
              <p:spPr>
                <a:xfrm rot="19458600">
                  <a:off x="-646200" y="153108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7" name="Freeform 607"/>
                <p:cNvSpPr/>
                <p:nvPr/>
              </p:nvSpPr>
              <p:spPr>
                <a:xfrm rot="19458600">
                  <a:off x="-704880" y="1485720"/>
                  <a:ext cx="284040" cy="6804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8" name="Freeform 608"/>
                <p:cNvSpPr/>
                <p:nvPr/>
              </p:nvSpPr>
              <p:spPr>
                <a:xfrm rot="19458600">
                  <a:off x="-747720" y="147240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9" name="Freeform 609"/>
                <p:cNvSpPr/>
                <p:nvPr/>
              </p:nvSpPr>
              <p:spPr>
                <a:xfrm rot="19458600">
                  <a:off x="-734760" y="143856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0" name="Freeform 610"/>
                <p:cNvSpPr/>
                <p:nvPr/>
              </p:nvSpPr>
              <p:spPr>
                <a:xfrm rot="19458600">
                  <a:off x="-707040" y="1422000"/>
                  <a:ext cx="284040" cy="11340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1" name="Freeform 611"/>
                <p:cNvSpPr/>
                <p:nvPr/>
              </p:nvSpPr>
              <p:spPr>
                <a:xfrm rot="19458600">
                  <a:off x="-672840" y="1346760"/>
                  <a:ext cx="214200" cy="18108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Freeform 612"/>
                <p:cNvSpPr/>
                <p:nvPr/>
              </p:nvSpPr>
              <p:spPr>
                <a:xfrm rot="19458600">
                  <a:off x="-704880" y="13683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3" name="Freeform 613"/>
                <p:cNvSpPr/>
                <p:nvPr/>
              </p:nvSpPr>
              <p:spPr>
                <a:xfrm rot="19458600">
                  <a:off x="-657360" y="13762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4" name="Freeform 614"/>
                <p:cNvSpPr/>
                <p:nvPr/>
              </p:nvSpPr>
              <p:spPr>
                <a:xfrm rot="19458600">
                  <a:off x="-709920" y="1298520"/>
                  <a:ext cx="262800" cy="2451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5" name="Line 615"/>
                <p:cNvSpPr/>
                <p:nvPr/>
              </p:nvSpPr>
              <p:spPr>
                <a:xfrm flipH="1" flipV="1">
                  <a:off x="-681120" y="1365840"/>
                  <a:ext cx="302400" cy="903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6" name="Freeform 616"/>
                <p:cNvSpPr/>
                <p:nvPr/>
              </p:nvSpPr>
              <p:spPr>
                <a:xfrm rot="19458600">
                  <a:off x="-603720" y="1283400"/>
                  <a:ext cx="158760" cy="2494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7" name="Freeform 617"/>
                <p:cNvSpPr/>
                <p:nvPr/>
              </p:nvSpPr>
              <p:spPr>
                <a:xfrm rot="19458600">
                  <a:off x="-580320" y="1256760"/>
                  <a:ext cx="123120" cy="2566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8" name="Freeform 618"/>
                <p:cNvSpPr/>
                <p:nvPr/>
              </p:nvSpPr>
              <p:spPr>
                <a:xfrm rot="19458600">
                  <a:off x="-547560" y="1231200"/>
                  <a:ext cx="82440" cy="2718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9" name="Freeform 619"/>
                <p:cNvSpPr/>
                <p:nvPr/>
              </p:nvSpPr>
              <p:spPr>
                <a:xfrm rot="19458600">
                  <a:off x="-499680" y="120528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0" name="Freeform 620"/>
                <p:cNvSpPr/>
                <p:nvPr/>
              </p:nvSpPr>
              <p:spPr>
                <a:xfrm rot="19458600">
                  <a:off x="-509400" y="1167840"/>
                  <a:ext cx="47520" cy="3150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1" name="Freeform 621"/>
                <p:cNvSpPr/>
                <p:nvPr/>
              </p:nvSpPr>
              <p:spPr>
                <a:xfrm rot="19458600">
                  <a:off x="-473760" y="119232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2" name="Freeform 622"/>
                <p:cNvSpPr/>
                <p:nvPr/>
              </p:nvSpPr>
              <p:spPr>
                <a:xfrm rot="19458600">
                  <a:off x="-461520" y="1207800"/>
                  <a:ext cx="79200" cy="2383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3" name="Freeform 623"/>
                <p:cNvSpPr/>
                <p:nvPr/>
              </p:nvSpPr>
              <p:spPr>
                <a:xfrm rot="19458600">
                  <a:off x="-501480" y="113040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4" name="Freeform 624"/>
                <p:cNvSpPr/>
                <p:nvPr/>
              </p:nvSpPr>
              <p:spPr>
                <a:xfrm rot="19458600">
                  <a:off x="-486000" y="116748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5" name="Freeform 625"/>
                <p:cNvSpPr/>
                <p:nvPr/>
              </p:nvSpPr>
              <p:spPr>
                <a:xfrm rot="19458600">
                  <a:off x="-462960" y="1202400"/>
                  <a:ext cx="238320" cy="19296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6" name="Freeform 626"/>
                <p:cNvSpPr/>
                <p:nvPr/>
              </p:nvSpPr>
              <p:spPr>
                <a:xfrm rot="19458600">
                  <a:off x="-456480" y="122328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7" name="Freeform 627"/>
                <p:cNvSpPr/>
                <p:nvPr/>
              </p:nvSpPr>
              <p:spPr>
                <a:xfrm rot="19458600">
                  <a:off x="-472680" y="123264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8" name="Freeform 628"/>
                <p:cNvSpPr/>
                <p:nvPr/>
              </p:nvSpPr>
              <p:spPr>
                <a:xfrm rot="19458600">
                  <a:off x="-403200" y="140040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9" name="Freeform 629"/>
                <p:cNvSpPr/>
                <p:nvPr/>
              </p:nvSpPr>
              <p:spPr>
                <a:xfrm rot="19458600">
                  <a:off x="-389880" y="142020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0" name="Freeform 630"/>
                <p:cNvSpPr/>
                <p:nvPr/>
              </p:nvSpPr>
              <p:spPr>
                <a:xfrm rot="19458600">
                  <a:off x="-378360" y="1445400"/>
                  <a:ext cx="90720" cy="6804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1" name="Freeform 631"/>
                <p:cNvSpPr/>
                <p:nvPr/>
              </p:nvSpPr>
              <p:spPr>
                <a:xfrm rot="19458600">
                  <a:off x="-383040" y="145908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2" name="Freeform 632"/>
                <p:cNvSpPr/>
                <p:nvPr/>
              </p:nvSpPr>
              <p:spPr>
                <a:xfrm rot="19458600">
                  <a:off x="-617040" y="150660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3" name="Freeform 633"/>
                <p:cNvSpPr/>
                <p:nvPr/>
              </p:nvSpPr>
              <p:spPr>
                <a:xfrm rot="19458600">
                  <a:off x="-411120" y="138600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4" name="Freeform 634"/>
                <p:cNvSpPr/>
                <p:nvPr/>
              </p:nvSpPr>
              <p:spPr>
                <a:xfrm rot="19458600">
                  <a:off x="-384840" y="141408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5" name="Freeform 635"/>
                <p:cNvSpPr/>
                <p:nvPr/>
              </p:nvSpPr>
              <p:spPr>
                <a:xfrm rot="19458600">
                  <a:off x="-479880" y="1220760"/>
                  <a:ext cx="8640" cy="2610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6" name="Freeform 636"/>
                <p:cNvSpPr/>
                <p:nvPr/>
              </p:nvSpPr>
              <p:spPr>
                <a:xfrm rot="19458600">
                  <a:off x="-487080" y="146124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7" name="Freeform 637"/>
                <p:cNvSpPr/>
                <p:nvPr/>
              </p:nvSpPr>
              <p:spPr>
                <a:xfrm rot="19458600">
                  <a:off x="-450000" y="1486800"/>
                  <a:ext cx="124560" cy="20448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8" name="Freeform 638"/>
                <p:cNvSpPr/>
                <p:nvPr/>
              </p:nvSpPr>
              <p:spPr>
                <a:xfrm rot="19458600">
                  <a:off x="-338040" y="143280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Freeform 639"/>
                <p:cNvSpPr/>
                <p:nvPr/>
              </p:nvSpPr>
              <p:spPr>
                <a:xfrm rot="20140200">
                  <a:off x="-382320" y="138312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Freeform 640"/>
                <p:cNvSpPr/>
                <p:nvPr/>
              </p:nvSpPr>
              <p:spPr>
                <a:xfrm rot="19458600">
                  <a:off x="-462240" y="127548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11" name="Group 641"/>
          <p:cNvGrpSpPr/>
          <p:nvPr/>
        </p:nvGrpSpPr>
        <p:grpSpPr>
          <a:xfrm>
            <a:off x="-770400" y="2562480"/>
            <a:ext cx="709560" cy="860040"/>
            <a:chOff x="-770400" y="2562480"/>
            <a:chExt cx="709560" cy="860040"/>
          </a:xfrm>
        </p:grpSpPr>
        <p:sp>
          <p:nvSpPr>
            <p:cNvPr id="3312" name="Freeform 642"/>
            <p:cNvSpPr/>
            <p:nvPr/>
          </p:nvSpPr>
          <p:spPr>
            <a:xfrm rot="19185600">
              <a:off x="-427680" y="282312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3" name="Group 643"/>
            <p:cNvGrpSpPr/>
            <p:nvPr/>
          </p:nvGrpSpPr>
          <p:grpSpPr>
            <a:xfrm>
              <a:off x="-770400" y="2562480"/>
              <a:ext cx="709560" cy="860040"/>
              <a:chOff x="-770400" y="2562480"/>
              <a:chExt cx="709560" cy="860040"/>
            </a:xfrm>
          </p:grpSpPr>
          <p:grpSp>
            <p:nvGrpSpPr>
              <p:cNvPr id="3314" name="Group 644"/>
              <p:cNvGrpSpPr/>
              <p:nvPr/>
            </p:nvGrpSpPr>
            <p:grpSpPr>
              <a:xfrm>
                <a:off x="-484200" y="2833560"/>
                <a:ext cx="423360" cy="588960"/>
                <a:chOff x="-484200" y="2833560"/>
                <a:chExt cx="423360" cy="588960"/>
              </a:xfrm>
            </p:grpSpPr>
            <p:sp>
              <p:nvSpPr>
                <p:cNvPr id="3315" name="AutoShape 645"/>
                <p:cNvSpPr/>
                <p:nvPr/>
              </p:nvSpPr>
              <p:spPr>
                <a:xfrm rot="19185600">
                  <a:off x="-469080" y="285336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6" name="Freeform 646"/>
                <p:cNvSpPr/>
                <p:nvPr/>
              </p:nvSpPr>
              <p:spPr>
                <a:xfrm rot="19185600">
                  <a:off x="-312480" y="286920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7" name="Oval 647"/>
                <p:cNvSpPr/>
                <p:nvPr/>
              </p:nvSpPr>
              <p:spPr>
                <a:xfrm rot="19729200">
                  <a:off x="-152640" y="323172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8" name="Group 648"/>
              <p:cNvGrpSpPr/>
              <p:nvPr/>
            </p:nvGrpSpPr>
            <p:grpSpPr>
              <a:xfrm>
                <a:off x="-770400" y="2562480"/>
                <a:ext cx="607680" cy="589680"/>
                <a:chOff x="-770400" y="2562480"/>
                <a:chExt cx="607680" cy="589680"/>
              </a:xfrm>
            </p:grpSpPr>
            <p:sp>
              <p:nvSpPr>
                <p:cNvPr id="3319" name="Freeform 649"/>
                <p:cNvSpPr/>
                <p:nvPr/>
              </p:nvSpPr>
              <p:spPr>
                <a:xfrm rot="19185600">
                  <a:off x="-550440" y="292320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0" name="Freeform 650"/>
                <p:cNvSpPr/>
                <p:nvPr/>
              </p:nvSpPr>
              <p:spPr>
                <a:xfrm rot="19185600">
                  <a:off x="-646920" y="298548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1" name="Freeform 651"/>
                <p:cNvSpPr/>
                <p:nvPr/>
              </p:nvSpPr>
              <p:spPr>
                <a:xfrm rot="19185600">
                  <a:off x="-709560" y="2944080"/>
                  <a:ext cx="284040" cy="6804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2" name="Freeform 652"/>
                <p:cNvSpPr/>
                <p:nvPr/>
              </p:nvSpPr>
              <p:spPr>
                <a:xfrm rot="19185600">
                  <a:off x="-751680" y="293436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Freeform 653"/>
                <p:cNvSpPr/>
                <p:nvPr/>
              </p:nvSpPr>
              <p:spPr>
                <a:xfrm rot="19185600">
                  <a:off x="-740880" y="289944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Freeform 654"/>
                <p:cNvSpPr/>
                <p:nvPr/>
              </p:nvSpPr>
              <p:spPr>
                <a:xfrm rot="19185600">
                  <a:off x="-714240" y="2880720"/>
                  <a:ext cx="284040" cy="11340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5" name="Freeform 655"/>
                <p:cNvSpPr/>
                <p:nvPr/>
              </p:nvSpPr>
              <p:spPr>
                <a:xfrm rot="19185600">
                  <a:off x="-683280" y="2805840"/>
                  <a:ext cx="214200" cy="18108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6" name="Freeform 656"/>
                <p:cNvSpPr/>
                <p:nvPr/>
              </p:nvSpPr>
              <p:spPr>
                <a:xfrm rot="19185600">
                  <a:off x="-714960" y="28281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Freeform 657"/>
                <p:cNvSpPr/>
                <p:nvPr/>
              </p:nvSpPr>
              <p:spPr>
                <a:xfrm rot="19185600">
                  <a:off x="-667080" y="28324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Freeform 658"/>
                <p:cNvSpPr/>
                <p:nvPr/>
              </p:nvSpPr>
              <p:spPr>
                <a:xfrm rot="19185600">
                  <a:off x="-722160" y="2758680"/>
                  <a:ext cx="262800" cy="2451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9" name="Line 659"/>
                <p:cNvSpPr/>
                <p:nvPr/>
              </p:nvSpPr>
              <p:spPr>
                <a:xfrm flipH="1" flipV="1">
                  <a:off x="-696960" y="2834640"/>
                  <a:ext cx="308160" cy="655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0" name="Freeform 660"/>
                <p:cNvSpPr/>
                <p:nvPr/>
              </p:nvSpPr>
              <p:spPr>
                <a:xfrm rot="19185600">
                  <a:off x="-617040" y="2739240"/>
                  <a:ext cx="158760" cy="2494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1" name="Freeform 661"/>
                <p:cNvSpPr/>
                <p:nvPr/>
              </p:nvSpPr>
              <p:spPr>
                <a:xfrm rot="19185600">
                  <a:off x="-595080" y="2712600"/>
                  <a:ext cx="123120" cy="2566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2" name="Freeform 662"/>
                <p:cNvSpPr/>
                <p:nvPr/>
              </p:nvSpPr>
              <p:spPr>
                <a:xfrm rot="19185600">
                  <a:off x="-564120" y="2685960"/>
                  <a:ext cx="82440" cy="2718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3" name="Freeform 663"/>
                <p:cNvSpPr/>
                <p:nvPr/>
              </p:nvSpPr>
              <p:spPr>
                <a:xfrm rot="19185600">
                  <a:off x="-518040" y="265752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4" name="Freeform 664"/>
                <p:cNvSpPr/>
                <p:nvPr/>
              </p:nvSpPr>
              <p:spPr>
                <a:xfrm rot="19185600">
                  <a:off x="-528840" y="2621160"/>
                  <a:ext cx="47520" cy="3150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5" name="Freeform 665"/>
                <p:cNvSpPr/>
                <p:nvPr/>
              </p:nvSpPr>
              <p:spPr>
                <a:xfrm rot="19185600">
                  <a:off x="-493560" y="264276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6" name="Freeform 666"/>
                <p:cNvSpPr/>
                <p:nvPr/>
              </p:nvSpPr>
              <p:spPr>
                <a:xfrm rot="19185600">
                  <a:off x="-481680" y="2656080"/>
                  <a:ext cx="79200" cy="2383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7" name="Freeform 667"/>
                <p:cNvSpPr/>
                <p:nvPr/>
              </p:nvSpPr>
              <p:spPr>
                <a:xfrm rot="19185600">
                  <a:off x="-525240" y="257868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8" name="Freeform 668"/>
                <p:cNvSpPr/>
                <p:nvPr/>
              </p:nvSpPr>
              <p:spPr>
                <a:xfrm rot="19185600">
                  <a:off x="-508680" y="261252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9" name="Freeform 669"/>
                <p:cNvSpPr/>
                <p:nvPr/>
              </p:nvSpPr>
              <p:spPr>
                <a:xfrm rot="19185600">
                  <a:off x="-485640" y="2644560"/>
                  <a:ext cx="238320" cy="19296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0" name="Freeform 670"/>
                <p:cNvSpPr/>
                <p:nvPr/>
              </p:nvSpPr>
              <p:spPr>
                <a:xfrm rot="19185600">
                  <a:off x="-478800" y="266364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1" name="Freeform 671"/>
                <p:cNvSpPr/>
                <p:nvPr/>
              </p:nvSpPr>
              <p:spPr>
                <a:xfrm rot="19185600">
                  <a:off x="-494280" y="267228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2" name="Freeform 672"/>
                <p:cNvSpPr/>
                <p:nvPr/>
              </p:nvSpPr>
              <p:spPr>
                <a:xfrm rot="19185600">
                  <a:off x="-416880" y="283932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3" name="Freeform 673"/>
                <p:cNvSpPr/>
                <p:nvPr/>
              </p:nvSpPr>
              <p:spPr>
                <a:xfrm rot="19185600">
                  <a:off x="-401400" y="285948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4" name="Freeform 674"/>
                <p:cNvSpPr/>
                <p:nvPr/>
              </p:nvSpPr>
              <p:spPr>
                <a:xfrm rot="19185600">
                  <a:off x="-386640" y="2886480"/>
                  <a:ext cx="90720" cy="6804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5" name="Freeform 675"/>
                <p:cNvSpPr/>
                <p:nvPr/>
              </p:nvSpPr>
              <p:spPr>
                <a:xfrm rot="19185600">
                  <a:off x="-389520" y="290088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6" name="Freeform 676"/>
                <p:cNvSpPr/>
                <p:nvPr/>
              </p:nvSpPr>
              <p:spPr>
                <a:xfrm rot="19185600">
                  <a:off x="-621720" y="296064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7" name="Freeform 677"/>
                <p:cNvSpPr/>
                <p:nvPr/>
              </p:nvSpPr>
              <p:spPr>
                <a:xfrm rot="19185600">
                  <a:off x="-426240" y="282384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8" name="Freeform 678"/>
                <p:cNvSpPr/>
                <p:nvPr/>
              </p:nvSpPr>
              <p:spPr>
                <a:xfrm rot="19185600">
                  <a:off x="-394560" y="285264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9" name="Freeform 679"/>
                <p:cNvSpPr/>
                <p:nvPr/>
              </p:nvSpPr>
              <p:spPr>
                <a:xfrm rot="19185600">
                  <a:off x="-497880" y="2673360"/>
                  <a:ext cx="8640" cy="2610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0" name="Freeform 680"/>
                <p:cNvSpPr/>
                <p:nvPr/>
              </p:nvSpPr>
              <p:spPr>
                <a:xfrm rot="19185600">
                  <a:off x="-491040" y="290844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1" name="Freeform 681"/>
                <p:cNvSpPr/>
                <p:nvPr/>
              </p:nvSpPr>
              <p:spPr>
                <a:xfrm rot="19185600">
                  <a:off x="-449640" y="2931480"/>
                  <a:ext cx="124560" cy="20448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2" name="Freeform 682"/>
                <p:cNvSpPr/>
                <p:nvPr/>
              </p:nvSpPr>
              <p:spPr>
                <a:xfrm rot="19185600">
                  <a:off x="-343440" y="287064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3" name="Freeform 683"/>
                <p:cNvSpPr/>
                <p:nvPr/>
              </p:nvSpPr>
              <p:spPr>
                <a:xfrm rot="19867200">
                  <a:off x="-397080" y="282420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4" name="Freeform 684"/>
                <p:cNvSpPr/>
                <p:nvPr/>
              </p:nvSpPr>
              <p:spPr>
                <a:xfrm rot="19185600">
                  <a:off x="-479160" y="272412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55" name="Group 685"/>
          <p:cNvGrpSpPr/>
          <p:nvPr/>
        </p:nvGrpSpPr>
        <p:grpSpPr>
          <a:xfrm>
            <a:off x="7438320" y="-2337840"/>
            <a:ext cx="694440" cy="862200"/>
            <a:chOff x="7438320" y="-2337840"/>
            <a:chExt cx="694440" cy="862200"/>
          </a:xfrm>
        </p:grpSpPr>
        <p:sp>
          <p:nvSpPr>
            <p:cNvPr id="3356" name="Freeform 686"/>
            <p:cNvSpPr/>
            <p:nvPr/>
          </p:nvSpPr>
          <p:spPr>
            <a:xfrm rot="1542000">
              <a:off x="7810920" y="-200520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7" name="Group 687"/>
            <p:cNvGrpSpPr/>
            <p:nvPr/>
          </p:nvGrpSpPr>
          <p:grpSpPr>
            <a:xfrm>
              <a:off x="7438320" y="-2337840"/>
              <a:ext cx="694440" cy="862200"/>
              <a:chOff x="7438320" y="-2337840"/>
              <a:chExt cx="694440" cy="862200"/>
            </a:xfrm>
          </p:grpSpPr>
          <p:grpSp>
            <p:nvGrpSpPr>
              <p:cNvPr id="3358" name="Group 688"/>
              <p:cNvGrpSpPr/>
              <p:nvPr/>
            </p:nvGrpSpPr>
            <p:grpSpPr>
              <a:xfrm>
                <a:off x="7438320" y="-2068560"/>
                <a:ext cx="408960" cy="592920"/>
                <a:chOff x="7438320" y="-2068560"/>
                <a:chExt cx="408960" cy="592920"/>
              </a:xfrm>
            </p:grpSpPr>
            <p:sp>
              <p:nvSpPr>
                <p:cNvPr id="3359" name="AutoShape 689"/>
                <p:cNvSpPr/>
                <p:nvPr/>
              </p:nvSpPr>
              <p:spPr>
                <a:xfrm rot="1542000">
                  <a:off x="7743600" y="-205272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0" name="Freeform 690"/>
                <p:cNvSpPr/>
                <p:nvPr/>
              </p:nvSpPr>
              <p:spPr>
                <a:xfrm rot="1542000">
                  <a:off x="7644600" y="-202860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1" name="Oval 691"/>
                <p:cNvSpPr/>
                <p:nvPr/>
              </p:nvSpPr>
              <p:spPr>
                <a:xfrm rot="2085600">
                  <a:off x="7489080" y="-166356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2" name="Group 692"/>
              <p:cNvGrpSpPr/>
              <p:nvPr/>
            </p:nvGrpSpPr>
            <p:grpSpPr>
              <a:xfrm>
                <a:off x="7484760" y="-2337840"/>
                <a:ext cx="648000" cy="553320"/>
                <a:chOff x="7484760" y="-2337840"/>
                <a:chExt cx="648000" cy="553320"/>
              </a:xfrm>
            </p:grpSpPr>
            <p:sp>
              <p:nvSpPr>
                <p:cNvPr id="3363" name="Freeform 693"/>
                <p:cNvSpPr/>
                <p:nvPr/>
              </p:nvSpPr>
              <p:spPr>
                <a:xfrm rot="1542000">
                  <a:off x="7629120" y="-206676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4" name="Freeform 694"/>
                <p:cNvSpPr/>
                <p:nvPr/>
              </p:nvSpPr>
              <p:spPr>
                <a:xfrm rot="1542000">
                  <a:off x="7502400" y="-207504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5" name="Freeform 695"/>
                <p:cNvSpPr/>
                <p:nvPr/>
              </p:nvSpPr>
              <p:spPr>
                <a:xfrm rot="1542000">
                  <a:off x="7511040" y="-2143800"/>
                  <a:ext cx="284040" cy="6804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6" name="Freeform 696"/>
                <p:cNvSpPr/>
                <p:nvPr/>
              </p:nvSpPr>
              <p:spPr>
                <a:xfrm rot="1542000">
                  <a:off x="7489440" y="-218772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7" name="Freeform 697"/>
                <p:cNvSpPr/>
                <p:nvPr/>
              </p:nvSpPr>
              <p:spPr>
                <a:xfrm rot="1542000">
                  <a:off x="7514640" y="-219996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8" name="Freeform 698"/>
                <p:cNvSpPr/>
                <p:nvPr/>
              </p:nvSpPr>
              <p:spPr>
                <a:xfrm rot="1542000">
                  <a:off x="7545960" y="-2187360"/>
                  <a:ext cx="284040" cy="11340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9" name="Freeform 699"/>
                <p:cNvSpPr/>
                <p:nvPr/>
              </p:nvSpPr>
              <p:spPr>
                <a:xfrm rot="1542000">
                  <a:off x="7617240" y="-2241720"/>
                  <a:ext cx="214200" cy="18108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0" name="Freeform 700"/>
                <p:cNvSpPr/>
                <p:nvPr/>
              </p:nvSpPr>
              <p:spPr>
                <a:xfrm rot="1542000">
                  <a:off x="7583400" y="-22384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1" name="Freeform 701"/>
                <p:cNvSpPr/>
                <p:nvPr/>
              </p:nvSpPr>
              <p:spPr>
                <a:xfrm rot="1542000">
                  <a:off x="7599240" y="-21927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2" name="Freeform 702"/>
                <p:cNvSpPr/>
                <p:nvPr/>
              </p:nvSpPr>
              <p:spPr>
                <a:xfrm rot="1542000">
                  <a:off x="7600680" y="-2292840"/>
                  <a:ext cx="262800" cy="2451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3" name="Line 703"/>
                <p:cNvSpPr/>
                <p:nvPr/>
              </p:nvSpPr>
              <p:spPr>
                <a:xfrm flipH="1" flipV="1">
                  <a:off x="7731720" y="-2286720"/>
                  <a:ext cx="65880" cy="3085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4" name="Freeform 704"/>
                <p:cNvSpPr/>
                <p:nvPr/>
              </p:nvSpPr>
              <p:spPr>
                <a:xfrm rot="1542000">
                  <a:off x="7689960" y="-2253600"/>
                  <a:ext cx="158760" cy="2494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5" name="Freeform 705"/>
                <p:cNvSpPr/>
                <p:nvPr/>
              </p:nvSpPr>
              <p:spPr>
                <a:xfrm rot="1542000">
                  <a:off x="7731000" y="-2263320"/>
                  <a:ext cx="123120" cy="2566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6" name="Freeform 706"/>
                <p:cNvSpPr/>
                <p:nvPr/>
              </p:nvSpPr>
              <p:spPr>
                <a:xfrm rot="1542000">
                  <a:off x="7772760" y="-2268720"/>
                  <a:ext cx="82440" cy="2718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7" name="Freeform 707"/>
                <p:cNvSpPr/>
                <p:nvPr/>
              </p:nvSpPr>
              <p:spPr>
                <a:xfrm rot="1542000">
                  <a:off x="7821360" y="-226224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8" name="Freeform 708"/>
                <p:cNvSpPr/>
                <p:nvPr/>
              </p:nvSpPr>
              <p:spPr>
                <a:xfrm rot="1542000">
                  <a:off x="7836840" y="-2292120"/>
                  <a:ext cx="47520" cy="3150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Freeform 709"/>
                <p:cNvSpPr/>
                <p:nvPr/>
              </p:nvSpPr>
              <p:spPr>
                <a:xfrm rot="1542000">
                  <a:off x="7846560" y="-224208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Freeform 710"/>
                <p:cNvSpPr/>
                <p:nvPr/>
              </p:nvSpPr>
              <p:spPr>
                <a:xfrm rot="1542000">
                  <a:off x="7850160" y="-2197080"/>
                  <a:ext cx="79200" cy="2383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1" name="Freeform 711"/>
                <p:cNvSpPr/>
                <p:nvPr/>
              </p:nvSpPr>
              <p:spPr>
                <a:xfrm rot="1542000">
                  <a:off x="7853400" y="-224892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Freeform 712"/>
                <p:cNvSpPr/>
                <p:nvPr/>
              </p:nvSpPr>
              <p:spPr>
                <a:xfrm rot="1542000">
                  <a:off x="7836480" y="-218556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Freeform 713"/>
                <p:cNvSpPr/>
                <p:nvPr/>
              </p:nvSpPr>
              <p:spPr>
                <a:xfrm rot="1542000">
                  <a:off x="7832520" y="-2119320"/>
                  <a:ext cx="238320" cy="19296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Freeform 714"/>
                <p:cNvSpPr/>
                <p:nvPr/>
              </p:nvSpPr>
              <p:spPr>
                <a:xfrm rot="1542000">
                  <a:off x="7823160" y="-207936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5" name="Freeform 715"/>
                <p:cNvSpPr/>
                <p:nvPr/>
              </p:nvSpPr>
              <p:spPr>
                <a:xfrm rot="1542000">
                  <a:off x="7795800" y="-206928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6" name="Freeform 716"/>
                <p:cNvSpPr/>
                <p:nvPr/>
              </p:nvSpPr>
              <p:spPr>
                <a:xfrm rot="1542000">
                  <a:off x="7774200" y="-194616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Freeform 717"/>
                <p:cNvSpPr/>
                <p:nvPr/>
              </p:nvSpPr>
              <p:spPr>
                <a:xfrm rot="1542000">
                  <a:off x="7773480" y="-195408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Freeform 718"/>
                <p:cNvSpPr/>
                <p:nvPr/>
              </p:nvSpPr>
              <p:spPr>
                <a:xfrm rot="1542000">
                  <a:off x="7752960" y="-1960560"/>
                  <a:ext cx="90720" cy="6804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9" name="Freeform 719"/>
                <p:cNvSpPr/>
                <p:nvPr/>
              </p:nvSpPr>
              <p:spPr>
                <a:xfrm rot="1542000">
                  <a:off x="7742160" y="-197172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0" name="Freeform 720"/>
                <p:cNvSpPr/>
                <p:nvPr/>
              </p:nvSpPr>
              <p:spPr>
                <a:xfrm rot="1542000">
                  <a:off x="7571520" y="-206820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1" name="Freeform 721"/>
                <p:cNvSpPr/>
                <p:nvPr/>
              </p:nvSpPr>
              <p:spPr>
                <a:xfrm rot="1542000">
                  <a:off x="7778160" y="-194400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Freeform 722"/>
                <p:cNvSpPr/>
                <p:nvPr/>
              </p:nvSpPr>
              <p:spPr>
                <a:xfrm rot="1542000">
                  <a:off x="7749720" y="-195732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Freeform 723"/>
                <p:cNvSpPr/>
                <p:nvPr/>
              </p:nvSpPr>
              <p:spPr>
                <a:xfrm rot="1542000">
                  <a:off x="7837920" y="-2243520"/>
                  <a:ext cx="8640" cy="2610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Freeform 724"/>
                <p:cNvSpPr/>
                <p:nvPr/>
              </p:nvSpPr>
              <p:spPr>
                <a:xfrm rot="1542000">
                  <a:off x="7640640" y="-204984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5" name="Freeform 725"/>
                <p:cNvSpPr/>
                <p:nvPr/>
              </p:nvSpPr>
              <p:spPr>
                <a:xfrm rot="1542000">
                  <a:off x="7613640" y="-2025000"/>
                  <a:ext cx="124560" cy="20448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6" name="Freeform 726"/>
                <p:cNvSpPr/>
                <p:nvPr/>
              </p:nvSpPr>
              <p:spPr>
                <a:xfrm rot="1542000">
                  <a:off x="7741800" y="-196308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Freeform 727"/>
                <p:cNvSpPr/>
                <p:nvPr/>
              </p:nvSpPr>
              <p:spPr>
                <a:xfrm rot="2223000">
                  <a:off x="7822800" y="-197676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Freeform 728"/>
                <p:cNvSpPr/>
                <p:nvPr/>
              </p:nvSpPr>
              <p:spPr>
                <a:xfrm rot="1542000">
                  <a:off x="7818120" y="-215532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9" name="Group 729"/>
          <p:cNvGrpSpPr/>
          <p:nvPr/>
        </p:nvGrpSpPr>
        <p:grpSpPr>
          <a:xfrm>
            <a:off x="-732600" y="-343080"/>
            <a:ext cx="655920" cy="934560"/>
            <a:chOff x="-732600" y="-343080"/>
            <a:chExt cx="655920" cy="934560"/>
          </a:xfrm>
        </p:grpSpPr>
        <p:sp>
          <p:nvSpPr>
            <p:cNvPr id="3400" name="Freeform 730"/>
            <p:cNvSpPr/>
            <p:nvPr/>
          </p:nvSpPr>
          <p:spPr>
            <a:xfrm rot="20224800">
              <a:off x="-369360" y="-6300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1" name="Group 731"/>
            <p:cNvGrpSpPr/>
            <p:nvPr/>
          </p:nvGrpSpPr>
          <p:grpSpPr>
            <a:xfrm>
              <a:off x="-732600" y="-343080"/>
              <a:ext cx="655920" cy="934560"/>
              <a:chOff x="-732600" y="-343080"/>
              <a:chExt cx="655920" cy="934560"/>
            </a:xfrm>
          </p:grpSpPr>
          <p:grpSp>
            <p:nvGrpSpPr>
              <p:cNvPr id="3402" name="Group 732"/>
              <p:cNvGrpSpPr/>
              <p:nvPr/>
            </p:nvGrpSpPr>
            <p:grpSpPr>
              <a:xfrm>
                <a:off x="-437760" y="-64080"/>
                <a:ext cx="252720" cy="655560"/>
                <a:chOff x="-437760" y="-64080"/>
                <a:chExt cx="252720" cy="655560"/>
              </a:xfrm>
            </p:grpSpPr>
            <p:sp>
              <p:nvSpPr>
                <p:cNvPr id="3403" name="AutoShape 733"/>
                <p:cNvSpPr/>
                <p:nvPr/>
              </p:nvSpPr>
              <p:spPr>
                <a:xfrm rot="20224800">
                  <a:off x="-425880" y="-4932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Freeform 734"/>
                <p:cNvSpPr/>
                <p:nvPr/>
              </p:nvSpPr>
              <p:spPr>
                <a:xfrm rot="20224800">
                  <a:off x="-333000" y="-252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5" name="Oval 735"/>
                <p:cNvSpPr/>
                <p:nvPr/>
              </p:nvSpPr>
              <p:spPr>
                <a:xfrm rot="20768400">
                  <a:off x="-252360" y="39636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6" name="Group 736"/>
              <p:cNvGrpSpPr/>
              <p:nvPr/>
            </p:nvGrpSpPr>
            <p:grpSpPr>
              <a:xfrm>
                <a:off x="-732600" y="-343080"/>
                <a:ext cx="655920" cy="596160"/>
                <a:chOff x="-732600" y="-343080"/>
                <a:chExt cx="655920" cy="596160"/>
              </a:xfrm>
            </p:grpSpPr>
            <p:sp>
              <p:nvSpPr>
                <p:cNvPr id="3407" name="Freeform 737"/>
                <p:cNvSpPr/>
                <p:nvPr/>
              </p:nvSpPr>
              <p:spPr>
                <a:xfrm rot="20224800">
                  <a:off x="-525240" y="252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Freeform 738"/>
                <p:cNvSpPr/>
                <p:nvPr/>
              </p:nvSpPr>
              <p:spPr>
                <a:xfrm rot="20224800">
                  <a:off x="-637920" y="5076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9" name="Freeform 739"/>
                <p:cNvSpPr/>
                <p:nvPr/>
              </p:nvSpPr>
              <p:spPr>
                <a:xfrm rot="20224800">
                  <a:off x="-685080" y="-5400"/>
                  <a:ext cx="284040" cy="6804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0" name="Freeform 740"/>
                <p:cNvSpPr/>
                <p:nvPr/>
              </p:nvSpPr>
              <p:spPr>
                <a:xfrm rot="20224800">
                  <a:off x="-726480" y="-2664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1" name="Freeform 741"/>
                <p:cNvSpPr/>
                <p:nvPr/>
              </p:nvSpPr>
              <p:spPr>
                <a:xfrm rot="20224800">
                  <a:off x="-708840" y="-5688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2" name="Freeform 742"/>
                <p:cNvSpPr/>
                <p:nvPr/>
              </p:nvSpPr>
              <p:spPr>
                <a:xfrm rot="20224800">
                  <a:off x="-677880" y="-68400"/>
                  <a:ext cx="284040" cy="11340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3" name="Freeform 743"/>
                <p:cNvSpPr/>
                <p:nvPr/>
              </p:nvSpPr>
              <p:spPr>
                <a:xfrm rot="20224800">
                  <a:off x="-634320" y="-142920"/>
                  <a:ext cx="214200" cy="18108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4" name="Freeform 744"/>
                <p:cNvSpPr/>
                <p:nvPr/>
              </p:nvSpPr>
              <p:spPr>
                <a:xfrm rot="20224800">
                  <a:off x="-668520" y="-12492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5" name="Freeform 745"/>
                <p:cNvSpPr/>
                <p:nvPr/>
              </p:nvSpPr>
              <p:spPr>
                <a:xfrm rot="20224800">
                  <a:off x="-624240" y="-1065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6" name="Freeform 746"/>
                <p:cNvSpPr/>
                <p:nvPr/>
              </p:nvSpPr>
              <p:spPr>
                <a:xfrm rot="20224800">
                  <a:off x="-667800" y="-193320"/>
                  <a:ext cx="262800" cy="2451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Line 747"/>
                <p:cNvSpPr/>
                <p:nvPr/>
              </p:nvSpPr>
              <p:spPr>
                <a:xfrm flipH="1" flipV="1">
                  <a:off x="-624240" y="-147600"/>
                  <a:ext cx="275040" cy="15480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Freeform 748"/>
                <p:cNvSpPr/>
                <p:nvPr/>
              </p:nvSpPr>
              <p:spPr>
                <a:xfrm rot="20224800">
                  <a:off x="-560160" y="-196560"/>
                  <a:ext cx="158760" cy="2494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9" name="Freeform 749"/>
                <p:cNvSpPr/>
                <p:nvPr/>
              </p:nvSpPr>
              <p:spPr>
                <a:xfrm rot="20224800">
                  <a:off x="-531360" y="-221040"/>
                  <a:ext cx="123120" cy="2566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0" name="Freeform 750"/>
                <p:cNvSpPr/>
                <p:nvPr/>
              </p:nvSpPr>
              <p:spPr>
                <a:xfrm rot="20224800">
                  <a:off x="-495360" y="-243360"/>
                  <a:ext cx="82440" cy="2718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Freeform 751"/>
                <p:cNvSpPr/>
                <p:nvPr/>
              </p:nvSpPr>
              <p:spPr>
                <a:xfrm rot="20224800">
                  <a:off x="-444600" y="-26352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Freeform 752"/>
                <p:cNvSpPr/>
                <p:nvPr/>
              </p:nvSpPr>
              <p:spPr>
                <a:xfrm rot="20224800">
                  <a:off x="-448200" y="-301320"/>
                  <a:ext cx="47520" cy="3150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3" name="Freeform 753"/>
                <p:cNvSpPr/>
                <p:nvPr/>
              </p:nvSpPr>
              <p:spPr>
                <a:xfrm rot="20224800">
                  <a:off x="-415800" y="-26928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4" name="Freeform 754"/>
                <p:cNvSpPr/>
                <p:nvPr/>
              </p:nvSpPr>
              <p:spPr>
                <a:xfrm rot="20224800">
                  <a:off x="-402480" y="-246960"/>
                  <a:ext cx="79200" cy="2383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5" name="Freeform 755"/>
                <p:cNvSpPr/>
                <p:nvPr/>
              </p:nvSpPr>
              <p:spPr>
                <a:xfrm rot="20224800">
                  <a:off x="-431280" y="-32364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6" name="Freeform 756"/>
                <p:cNvSpPr/>
                <p:nvPr/>
              </p:nvSpPr>
              <p:spPr>
                <a:xfrm rot="20224800">
                  <a:off x="-420120" y="-27792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7" name="Freeform 757"/>
                <p:cNvSpPr/>
                <p:nvPr/>
              </p:nvSpPr>
              <p:spPr>
                <a:xfrm rot="20224800">
                  <a:off x="-399960" y="-234720"/>
                  <a:ext cx="238320" cy="19296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8" name="Freeform 758"/>
                <p:cNvSpPr/>
                <p:nvPr/>
              </p:nvSpPr>
              <p:spPr>
                <a:xfrm rot="20224800">
                  <a:off x="-394920" y="-20808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9" name="Freeform 759"/>
                <p:cNvSpPr/>
                <p:nvPr/>
              </p:nvSpPr>
              <p:spPr>
                <a:xfrm rot="20224800">
                  <a:off x="-412560" y="-19800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0" name="Freeform 760"/>
                <p:cNvSpPr/>
                <p:nvPr/>
              </p:nvSpPr>
              <p:spPr>
                <a:xfrm rot="20224800">
                  <a:off x="-365760" y="-3132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1" name="Freeform 761"/>
                <p:cNvSpPr/>
                <p:nvPr/>
              </p:nvSpPr>
              <p:spPr>
                <a:xfrm rot="20224800">
                  <a:off x="-357480" y="-1584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2" name="Freeform 762"/>
                <p:cNvSpPr/>
                <p:nvPr/>
              </p:nvSpPr>
              <p:spPr>
                <a:xfrm rot="20224800">
                  <a:off x="-355680" y="6120"/>
                  <a:ext cx="90720" cy="6804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3" name="Freeform 763"/>
                <p:cNvSpPr/>
                <p:nvPr/>
              </p:nvSpPr>
              <p:spPr>
                <a:xfrm rot="20224800">
                  <a:off x="-363240" y="1512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4" name="Freeform 764"/>
                <p:cNvSpPr/>
                <p:nvPr/>
              </p:nvSpPr>
              <p:spPr>
                <a:xfrm rot="20224800">
                  <a:off x="-597600" y="2880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5" name="Freeform 765"/>
                <p:cNvSpPr/>
                <p:nvPr/>
              </p:nvSpPr>
              <p:spPr>
                <a:xfrm rot="20224800">
                  <a:off x="-369360" y="-4320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6" name="Freeform 766"/>
                <p:cNvSpPr/>
                <p:nvPr/>
              </p:nvSpPr>
              <p:spPr>
                <a:xfrm rot="20224800">
                  <a:off x="-358200" y="-1836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7" name="Freeform 767"/>
                <p:cNvSpPr/>
                <p:nvPr/>
              </p:nvSpPr>
              <p:spPr>
                <a:xfrm rot="20224800">
                  <a:off x="-424800" y="-246240"/>
                  <a:ext cx="8640" cy="2610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8" name="Freeform 768"/>
                <p:cNvSpPr/>
                <p:nvPr/>
              </p:nvSpPr>
              <p:spPr>
                <a:xfrm rot="20224800">
                  <a:off x="-474480" y="144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9" name="Freeform 769"/>
                <p:cNvSpPr/>
                <p:nvPr/>
              </p:nvSpPr>
              <p:spPr>
                <a:xfrm rot="20224800">
                  <a:off x="-450360" y="32400"/>
                  <a:ext cx="124560" cy="20448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0" name="Freeform 770"/>
                <p:cNvSpPr/>
                <p:nvPr/>
              </p:nvSpPr>
              <p:spPr>
                <a:xfrm rot="20224800">
                  <a:off x="-324360" y="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1" name="Freeform 771"/>
                <p:cNvSpPr/>
                <p:nvPr/>
              </p:nvSpPr>
              <p:spPr>
                <a:xfrm rot="20906400">
                  <a:off x="-340560" y="-5328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2" name="Freeform 772"/>
                <p:cNvSpPr/>
                <p:nvPr/>
              </p:nvSpPr>
              <p:spPr>
                <a:xfrm rot="20224800">
                  <a:off x="-411840" y="-18180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43" name="Group 773"/>
          <p:cNvGrpSpPr/>
          <p:nvPr/>
        </p:nvGrpSpPr>
        <p:grpSpPr>
          <a:xfrm>
            <a:off x="1250280" y="-2211840"/>
            <a:ext cx="640440" cy="921600"/>
            <a:chOff x="1250280" y="-2211840"/>
            <a:chExt cx="640440" cy="921600"/>
          </a:xfrm>
        </p:grpSpPr>
        <p:sp>
          <p:nvSpPr>
            <p:cNvPr id="3444" name="Freeform 774"/>
            <p:cNvSpPr/>
            <p:nvPr/>
          </p:nvSpPr>
          <p:spPr>
            <a:xfrm rot="19922400">
              <a:off x="1603440" y="-193464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5" name="Group 775"/>
            <p:cNvGrpSpPr/>
            <p:nvPr/>
          </p:nvGrpSpPr>
          <p:grpSpPr>
            <a:xfrm>
              <a:off x="1250280" y="-2211840"/>
              <a:ext cx="640440" cy="921600"/>
              <a:chOff x="1250280" y="-2211840"/>
              <a:chExt cx="640440" cy="921600"/>
            </a:xfrm>
          </p:grpSpPr>
          <p:grpSp>
            <p:nvGrpSpPr>
              <p:cNvPr id="3446" name="Group 776"/>
              <p:cNvGrpSpPr/>
              <p:nvPr/>
            </p:nvGrpSpPr>
            <p:grpSpPr>
              <a:xfrm>
                <a:off x="1537560" y="-1932480"/>
                <a:ext cx="306360" cy="642240"/>
                <a:chOff x="1537560" y="-1932480"/>
                <a:chExt cx="306360" cy="642240"/>
              </a:xfrm>
            </p:grpSpPr>
            <p:sp>
              <p:nvSpPr>
                <p:cNvPr id="3447" name="AutoShape 777"/>
                <p:cNvSpPr/>
                <p:nvPr/>
              </p:nvSpPr>
              <p:spPr>
                <a:xfrm rot="19922400">
                  <a:off x="1550520" y="-191556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8" name="Freeform 778"/>
                <p:cNvSpPr/>
                <p:nvPr/>
              </p:nvSpPr>
              <p:spPr>
                <a:xfrm rot="19922400">
                  <a:off x="1663200" y="-187560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9" name="Oval 779"/>
                <p:cNvSpPr/>
                <p:nvPr/>
              </p:nvSpPr>
              <p:spPr>
                <a:xfrm rot="20466600">
                  <a:off x="1768320" y="-148464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0" name="Group 780"/>
              <p:cNvGrpSpPr/>
              <p:nvPr/>
            </p:nvGrpSpPr>
            <p:grpSpPr>
              <a:xfrm>
                <a:off x="1250280" y="-2211840"/>
                <a:ext cx="640440" cy="600120"/>
                <a:chOff x="1250280" y="-2211840"/>
                <a:chExt cx="640440" cy="600120"/>
              </a:xfrm>
            </p:grpSpPr>
            <p:sp>
              <p:nvSpPr>
                <p:cNvPr id="3451" name="Freeform 781"/>
                <p:cNvSpPr/>
                <p:nvPr/>
              </p:nvSpPr>
              <p:spPr>
                <a:xfrm rot="19922400">
                  <a:off x="1456200" y="-185796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2" name="Freeform 782"/>
                <p:cNvSpPr/>
                <p:nvPr/>
              </p:nvSpPr>
              <p:spPr>
                <a:xfrm rot="19922400">
                  <a:off x="1348200" y="-180540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3" name="Freeform 783"/>
                <p:cNvSpPr/>
                <p:nvPr/>
              </p:nvSpPr>
              <p:spPr>
                <a:xfrm rot="19922400">
                  <a:off x="1295640" y="-1857600"/>
                  <a:ext cx="284040" cy="6804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4" name="Freeform 784"/>
                <p:cNvSpPr/>
                <p:nvPr/>
              </p:nvSpPr>
              <p:spPr>
                <a:xfrm rot="19922400">
                  <a:off x="1254240" y="-187596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5" name="Freeform 785"/>
                <p:cNvSpPr/>
                <p:nvPr/>
              </p:nvSpPr>
              <p:spPr>
                <a:xfrm rot="19922400">
                  <a:off x="1269360" y="-190728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6" name="Freeform 786"/>
                <p:cNvSpPr/>
                <p:nvPr/>
              </p:nvSpPr>
              <p:spPr>
                <a:xfrm rot="19922400">
                  <a:off x="1299240" y="-1920960"/>
                  <a:ext cx="284040" cy="11340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7" name="Freeform 787"/>
                <p:cNvSpPr/>
                <p:nvPr/>
              </p:nvSpPr>
              <p:spPr>
                <a:xfrm rot="19922400">
                  <a:off x="1339200" y="-1996200"/>
                  <a:ext cx="214200" cy="18108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8" name="Freeform 788"/>
                <p:cNvSpPr/>
                <p:nvPr/>
              </p:nvSpPr>
              <p:spPr>
                <a:xfrm rot="19922400">
                  <a:off x="1305720" y="-19767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9" name="Freeform 789"/>
                <p:cNvSpPr/>
                <p:nvPr/>
              </p:nvSpPr>
              <p:spPr>
                <a:xfrm rot="19922400">
                  <a:off x="1351440" y="-19623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0" name="Freeform 790"/>
                <p:cNvSpPr/>
                <p:nvPr/>
              </p:nvSpPr>
              <p:spPr>
                <a:xfrm rot="19922400">
                  <a:off x="1304280" y="-2045520"/>
                  <a:ext cx="262800" cy="2451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1" name="Line 791"/>
                <p:cNvSpPr/>
                <p:nvPr/>
              </p:nvSpPr>
              <p:spPr>
                <a:xfrm flipH="1" flipV="1">
                  <a:off x="1342080" y="-1991880"/>
                  <a:ext cx="287280" cy="1299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2" name="Freeform 792"/>
                <p:cNvSpPr/>
                <p:nvPr/>
              </p:nvSpPr>
              <p:spPr>
                <a:xfrm rot="19922400">
                  <a:off x="1411560" y="-2053440"/>
                  <a:ext cx="158760" cy="2494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3" name="Freeform 793"/>
                <p:cNvSpPr/>
                <p:nvPr/>
              </p:nvSpPr>
              <p:spPr>
                <a:xfrm rot="19922400">
                  <a:off x="1438560" y="-2079000"/>
                  <a:ext cx="123120" cy="2566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4" name="Freeform 794"/>
                <p:cNvSpPr/>
                <p:nvPr/>
              </p:nvSpPr>
              <p:spPr>
                <a:xfrm rot="19922400">
                  <a:off x="1473120" y="-2102760"/>
                  <a:ext cx="82440" cy="2718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5" name="Freeform 795"/>
                <p:cNvSpPr/>
                <p:nvPr/>
              </p:nvSpPr>
              <p:spPr>
                <a:xfrm rot="19922400">
                  <a:off x="1523160" y="-212508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6" name="Freeform 796"/>
                <p:cNvSpPr/>
                <p:nvPr/>
              </p:nvSpPr>
              <p:spPr>
                <a:xfrm rot="19922400">
                  <a:off x="1516680" y="-2163240"/>
                  <a:ext cx="47520" cy="3150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7" name="Freeform 797"/>
                <p:cNvSpPr/>
                <p:nvPr/>
              </p:nvSpPr>
              <p:spPr>
                <a:xfrm rot="19922400">
                  <a:off x="1550520" y="-213408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8" name="Freeform 798"/>
                <p:cNvSpPr/>
                <p:nvPr/>
              </p:nvSpPr>
              <p:spPr>
                <a:xfrm rot="19922400">
                  <a:off x="1563840" y="-2114640"/>
                  <a:ext cx="79200" cy="2383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9" name="Freeform 799"/>
                <p:cNvSpPr/>
                <p:nvPr/>
              </p:nvSpPr>
              <p:spPr>
                <a:xfrm rot="19922400">
                  <a:off x="1530720" y="-219168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0" name="Freeform 800"/>
                <p:cNvSpPr/>
                <p:nvPr/>
              </p:nvSpPr>
              <p:spPr>
                <a:xfrm rot="19922400">
                  <a:off x="1544040" y="-214956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1" name="Freeform 801"/>
                <p:cNvSpPr/>
                <p:nvPr/>
              </p:nvSpPr>
              <p:spPr>
                <a:xfrm rot="19922400">
                  <a:off x="1565280" y="-2109240"/>
                  <a:ext cx="238320" cy="19296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2" name="Freeform 802"/>
                <p:cNvSpPr/>
                <p:nvPr/>
              </p:nvSpPr>
              <p:spPr>
                <a:xfrm rot="19922400">
                  <a:off x="1571400" y="-208512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3" name="Freeform 803"/>
                <p:cNvSpPr/>
                <p:nvPr/>
              </p:nvSpPr>
              <p:spPr>
                <a:xfrm rot="19922400">
                  <a:off x="1553760" y="-207504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4" name="Freeform 804"/>
                <p:cNvSpPr/>
                <p:nvPr/>
              </p:nvSpPr>
              <p:spPr>
                <a:xfrm rot="19922400">
                  <a:off x="1609920" y="-190728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5" name="Freeform 805"/>
                <p:cNvSpPr/>
                <p:nvPr/>
              </p:nvSpPr>
              <p:spPr>
                <a:xfrm rot="19922400">
                  <a:off x="1619640" y="-189000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6" name="Freeform 806"/>
                <p:cNvSpPr/>
                <p:nvPr/>
              </p:nvSpPr>
              <p:spPr>
                <a:xfrm rot="19922400">
                  <a:off x="1625760" y="-1866240"/>
                  <a:ext cx="90720" cy="6804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7" name="Freeform 807"/>
                <p:cNvSpPr/>
                <p:nvPr/>
              </p:nvSpPr>
              <p:spPr>
                <a:xfrm rot="19922400">
                  <a:off x="1618920" y="-185508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8" name="Freeform 808"/>
                <p:cNvSpPr/>
                <p:nvPr/>
              </p:nvSpPr>
              <p:spPr>
                <a:xfrm rot="19922400">
                  <a:off x="1383480" y="-182844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9" name="Freeform 809"/>
                <p:cNvSpPr/>
                <p:nvPr/>
              </p:nvSpPr>
              <p:spPr>
                <a:xfrm rot="19922400">
                  <a:off x="1604520" y="-192060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0" name="Freeform 810"/>
                <p:cNvSpPr/>
                <p:nvPr/>
              </p:nvSpPr>
              <p:spPr>
                <a:xfrm rot="19922400">
                  <a:off x="1621800" y="-189360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1" name="Freeform 811"/>
                <p:cNvSpPr/>
                <p:nvPr/>
              </p:nvSpPr>
              <p:spPr>
                <a:xfrm rot="19922400">
                  <a:off x="1542600" y="-2108520"/>
                  <a:ext cx="8640" cy="2610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2" name="Freeform 812"/>
                <p:cNvSpPr/>
                <p:nvPr/>
              </p:nvSpPr>
              <p:spPr>
                <a:xfrm rot="19922400">
                  <a:off x="1510200" y="-186300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3" name="Freeform 813"/>
                <p:cNvSpPr/>
                <p:nvPr/>
              </p:nvSpPr>
              <p:spPr>
                <a:xfrm rot="19922400">
                  <a:off x="1539360" y="-1833480"/>
                  <a:ext cx="124560" cy="20448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4" name="Freeform 814"/>
                <p:cNvSpPr/>
                <p:nvPr/>
              </p:nvSpPr>
              <p:spPr>
                <a:xfrm rot="19922400">
                  <a:off x="1660320" y="-187488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5" name="Freeform 815"/>
                <p:cNvSpPr/>
                <p:nvPr/>
              </p:nvSpPr>
              <p:spPr>
                <a:xfrm rot="20604000">
                  <a:off x="1632960" y="-192708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6" name="Freeform 816"/>
                <p:cNvSpPr/>
                <p:nvPr/>
              </p:nvSpPr>
              <p:spPr>
                <a:xfrm rot="19922400">
                  <a:off x="1557720" y="-204804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7" name="Group 817"/>
          <p:cNvGrpSpPr/>
          <p:nvPr/>
        </p:nvGrpSpPr>
        <p:grpSpPr>
          <a:xfrm>
            <a:off x="-973080" y="-1971720"/>
            <a:ext cx="5110560" cy="7227720"/>
            <a:chOff x="-973080" y="-1971720"/>
            <a:chExt cx="5110560" cy="7227720"/>
          </a:xfrm>
        </p:grpSpPr>
        <p:sp>
          <p:nvSpPr>
            <p:cNvPr id="3488" name="Freeform 818"/>
            <p:cNvSpPr/>
            <p:nvPr/>
          </p:nvSpPr>
          <p:spPr>
            <a:xfrm>
              <a:off x="1847880" y="171720"/>
              <a:ext cx="794520" cy="1771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9" name="Group 819"/>
            <p:cNvGrpSpPr/>
            <p:nvPr/>
          </p:nvGrpSpPr>
          <p:grpSpPr>
            <a:xfrm>
              <a:off x="-973080" y="-1971720"/>
              <a:ext cx="5110560" cy="7227720"/>
              <a:chOff x="-973080" y="-1971720"/>
              <a:chExt cx="5110560" cy="7227720"/>
            </a:xfrm>
          </p:grpSpPr>
          <p:grpSp>
            <p:nvGrpSpPr>
              <p:cNvPr id="3490" name="Group 820"/>
              <p:cNvGrpSpPr/>
              <p:nvPr/>
            </p:nvGrpSpPr>
            <p:grpSpPr>
              <a:xfrm>
                <a:off x="937800" y="59400"/>
                <a:ext cx="1084320" cy="5196600"/>
                <a:chOff x="937800" y="59400"/>
                <a:chExt cx="1084320" cy="5196600"/>
              </a:xfrm>
            </p:grpSpPr>
            <p:sp>
              <p:nvSpPr>
                <p:cNvPr id="3491" name="AutoShape 821"/>
                <p:cNvSpPr/>
                <p:nvPr/>
              </p:nvSpPr>
              <p:spPr>
                <a:xfrm>
                  <a:off x="1319400" y="59400"/>
                  <a:ext cx="702720" cy="62352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2" name="Freeform 822"/>
                <p:cNvSpPr/>
                <p:nvPr/>
              </p:nvSpPr>
              <p:spPr>
                <a:xfrm>
                  <a:off x="1319400" y="506160"/>
                  <a:ext cx="359280" cy="341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3" name="Oval 823"/>
                <p:cNvSpPr/>
                <p:nvPr/>
              </p:nvSpPr>
              <p:spPr>
                <a:xfrm rot="543600">
                  <a:off x="1055160" y="3720240"/>
                  <a:ext cx="353520" cy="151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4" name="Group 824"/>
              <p:cNvGrpSpPr/>
              <p:nvPr/>
            </p:nvGrpSpPr>
            <p:grpSpPr>
              <a:xfrm>
                <a:off x="-973080" y="-1971720"/>
                <a:ext cx="5110560" cy="4173840"/>
                <a:chOff x="-973080" y="-1971720"/>
                <a:chExt cx="5110560" cy="4173840"/>
              </a:xfrm>
            </p:grpSpPr>
            <p:sp>
              <p:nvSpPr>
                <p:cNvPr id="3495" name="Freeform 825"/>
                <p:cNvSpPr/>
                <p:nvPr/>
              </p:nvSpPr>
              <p:spPr>
                <a:xfrm>
                  <a:off x="437400" y="238320"/>
                  <a:ext cx="1227600" cy="59616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0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6" name="Freeform 826"/>
                <p:cNvSpPr/>
                <p:nvPr/>
              </p:nvSpPr>
              <p:spPr>
                <a:xfrm>
                  <a:off x="-532080" y="417240"/>
                  <a:ext cx="2115720" cy="53532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7" name="Freeform 827"/>
                <p:cNvSpPr/>
                <p:nvPr/>
              </p:nvSpPr>
              <p:spPr>
                <a:xfrm>
                  <a:off x="-706680" y="-117360"/>
                  <a:ext cx="2202840" cy="53496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8" name="Freeform 828"/>
                <p:cNvSpPr/>
                <p:nvPr/>
              </p:nvSpPr>
              <p:spPr>
                <a:xfrm>
                  <a:off x="-973080" y="-385200"/>
                  <a:ext cx="2292120" cy="71424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9" name="Freeform 829"/>
                <p:cNvSpPr/>
                <p:nvPr/>
              </p:nvSpPr>
              <p:spPr>
                <a:xfrm>
                  <a:off x="-795960" y="-564120"/>
                  <a:ext cx="2278080" cy="907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0" name="Freeform 830"/>
                <p:cNvSpPr/>
                <p:nvPr/>
              </p:nvSpPr>
              <p:spPr>
                <a:xfrm>
                  <a:off x="-532080" y="-562320"/>
                  <a:ext cx="2202840" cy="8917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1" name="Freeform 831"/>
                <p:cNvSpPr/>
                <p:nvPr/>
              </p:nvSpPr>
              <p:spPr>
                <a:xfrm>
                  <a:off x="-79200" y="-1097640"/>
                  <a:ext cx="1662840" cy="14245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2" name="Freeform 832"/>
                <p:cNvSpPr/>
                <p:nvPr/>
              </p:nvSpPr>
              <p:spPr>
                <a:xfrm>
                  <a:off x="-354960" y="-1009440"/>
                  <a:ext cx="1938600" cy="12495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3" name="Freeform 833"/>
                <p:cNvSpPr/>
                <p:nvPr/>
              </p:nvSpPr>
              <p:spPr>
                <a:xfrm>
                  <a:off x="-91080" y="-741600"/>
                  <a:ext cx="1938600" cy="12495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4" name="Freeform 834"/>
                <p:cNvSpPr/>
                <p:nvPr/>
              </p:nvSpPr>
              <p:spPr>
                <a:xfrm>
                  <a:off x="-277200" y="-1510920"/>
                  <a:ext cx="2039400" cy="19285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5" name="Line 835"/>
                <p:cNvSpPr/>
                <p:nvPr/>
              </p:nvSpPr>
              <p:spPr>
                <a:xfrm flipH="1" flipV="1">
                  <a:off x="349560" y="-1368000"/>
                  <a:ext cx="1497600" cy="19623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6" name="Freeform 836"/>
                <p:cNvSpPr/>
                <p:nvPr/>
              </p:nvSpPr>
              <p:spPr>
                <a:xfrm>
                  <a:off x="528480" y="-1365480"/>
                  <a:ext cx="1233360" cy="19620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7" name="Freeform 837"/>
                <p:cNvSpPr/>
                <p:nvPr/>
              </p:nvSpPr>
              <p:spPr>
                <a:xfrm>
                  <a:off x="806400" y="-1510920"/>
                  <a:ext cx="955440" cy="20188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8" name="Freeform 838"/>
                <p:cNvSpPr/>
                <p:nvPr/>
              </p:nvSpPr>
              <p:spPr>
                <a:xfrm>
                  <a:off x="1121040" y="-1629360"/>
                  <a:ext cx="640800" cy="213732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9" name="Freeform 839"/>
                <p:cNvSpPr/>
                <p:nvPr/>
              </p:nvSpPr>
              <p:spPr>
                <a:xfrm>
                  <a:off x="1528920" y="-1688040"/>
                  <a:ext cx="318240" cy="22827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0" name="Freeform 840"/>
                <p:cNvSpPr/>
                <p:nvPr/>
              </p:nvSpPr>
              <p:spPr>
                <a:xfrm>
                  <a:off x="1575720" y="-1971720"/>
                  <a:ext cx="370800" cy="247788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1" name="Freeform 841"/>
                <p:cNvSpPr/>
                <p:nvPr/>
              </p:nvSpPr>
              <p:spPr>
                <a:xfrm>
                  <a:off x="1760040" y="-1637280"/>
                  <a:ext cx="351360" cy="223200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2" name="Freeform 842"/>
                <p:cNvSpPr/>
                <p:nvPr/>
              </p:nvSpPr>
              <p:spPr>
                <a:xfrm>
                  <a:off x="1847520" y="-1367640"/>
                  <a:ext cx="615600" cy="187380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3" name="Freeform 843"/>
                <p:cNvSpPr/>
                <p:nvPr/>
              </p:nvSpPr>
              <p:spPr>
                <a:xfrm>
                  <a:off x="1760040" y="-1904760"/>
                  <a:ext cx="1233360" cy="2320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4" name="Freeform 844"/>
                <p:cNvSpPr/>
                <p:nvPr/>
              </p:nvSpPr>
              <p:spPr>
                <a:xfrm>
                  <a:off x="1760040" y="-1458000"/>
                  <a:ext cx="1584720" cy="196416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5" name="Freeform 845"/>
                <p:cNvSpPr/>
                <p:nvPr/>
              </p:nvSpPr>
              <p:spPr>
                <a:xfrm>
                  <a:off x="1847520" y="-1009440"/>
                  <a:ext cx="1848960" cy="15174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6" name="Freeform 846"/>
                <p:cNvSpPr/>
                <p:nvPr/>
              </p:nvSpPr>
              <p:spPr>
                <a:xfrm>
                  <a:off x="1847520" y="-741600"/>
                  <a:ext cx="2113560" cy="12495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7" name="Freeform 847"/>
                <p:cNvSpPr/>
                <p:nvPr/>
              </p:nvSpPr>
              <p:spPr>
                <a:xfrm>
                  <a:off x="1670760" y="-654840"/>
                  <a:ext cx="2466720" cy="12495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8" name="Freeform 848"/>
                <p:cNvSpPr/>
                <p:nvPr/>
              </p:nvSpPr>
              <p:spPr>
                <a:xfrm>
                  <a:off x="1750320" y="555120"/>
                  <a:ext cx="1507320" cy="17064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9" name="Freeform 849"/>
                <p:cNvSpPr/>
                <p:nvPr/>
              </p:nvSpPr>
              <p:spPr>
                <a:xfrm>
                  <a:off x="1760040" y="596160"/>
                  <a:ext cx="1056600" cy="2656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0" name="Freeform 850"/>
                <p:cNvSpPr/>
                <p:nvPr/>
              </p:nvSpPr>
              <p:spPr>
                <a:xfrm>
                  <a:off x="1670760" y="685080"/>
                  <a:ext cx="705240" cy="53496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1" name="Freeform 851"/>
                <p:cNvSpPr/>
                <p:nvPr/>
              </p:nvSpPr>
              <p:spPr>
                <a:xfrm>
                  <a:off x="1583640" y="685080"/>
                  <a:ext cx="504720" cy="6019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2" name="Freeform 852"/>
                <p:cNvSpPr/>
                <p:nvPr/>
              </p:nvSpPr>
              <p:spPr>
                <a:xfrm>
                  <a:off x="-91080" y="326520"/>
                  <a:ext cx="1761840" cy="1418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3" name="Freeform 853"/>
                <p:cNvSpPr/>
                <p:nvPr/>
              </p:nvSpPr>
              <p:spPr>
                <a:xfrm>
                  <a:off x="1760040" y="506160"/>
                  <a:ext cx="1761480" cy="1094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4" name="Freeform 854"/>
                <p:cNvSpPr/>
                <p:nvPr/>
              </p:nvSpPr>
              <p:spPr>
                <a:xfrm>
                  <a:off x="1670760" y="594360"/>
                  <a:ext cx="1233360" cy="71424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5" name="Freeform 855"/>
                <p:cNvSpPr/>
                <p:nvPr/>
              </p:nvSpPr>
              <p:spPr>
                <a:xfrm>
                  <a:off x="1670760" y="-1546560"/>
                  <a:ext cx="67680" cy="20530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6" name="Freeform 856"/>
                <p:cNvSpPr/>
                <p:nvPr/>
              </p:nvSpPr>
              <p:spPr>
                <a:xfrm>
                  <a:off x="703440" y="326520"/>
                  <a:ext cx="1056600" cy="11610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7" name="Freeform 857"/>
                <p:cNvSpPr/>
                <p:nvPr/>
              </p:nvSpPr>
              <p:spPr>
                <a:xfrm>
                  <a:off x="701640" y="594360"/>
                  <a:ext cx="967320" cy="16077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8" name="Freeform 858"/>
                <p:cNvSpPr/>
                <p:nvPr/>
              </p:nvSpPr>
              <p:spPr>
                <a:xfrm>
                  <a:off x="1761840" y="685080"/>
                  <a:ext cx="615600" cy="133776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9" name="Freeform 859"/>
                <p:cNvSpPr/>
                <p:nvPr/>
              </p:nvSpPr>
              <p:spPr>
                <a:xfrm rot="681000">
                  <a:off x="2024280" y="326520"/>
                  <a:ext cx="794160" cy="1771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0" name="Freeform 860"/>
                <p:cNvSpPr/>
                <p:nvPr/>
              </p:nvSpPr>
              <p:spPr>
                <a:xfrm>
                  <a:off x="1670760" y="-922680"/>
                  <a:ext cx="530280" cy="14288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31" name="Group 861"/>
          <p:cNvGrpSpPr/>
          <p:nvPr/>
        </p:nvGrpSpPr>
        <p:grpSpPr>
          <a:xfrm>
            <a:off x="3203640" y="-892080"/>
            <a:ext cx="5110560" cy="7227720"/>
            <a:chOff x="3203640" y="-892080"/>
            <a:chExt cx="5110560" cy="7227720"/>
          </a:xfrm>
        </p:grpSpPr>
        <p:sp>
          <p:nvSpPr>
            <p:cNvPr id="3532" name="Freeform 862"/>
            <p:cNvSpPr/>
            <p:nvPr/>
          </p:nvSpPr>
          <p:spPr>
            <a:xfrm>
              <a:off x="6024600" y="1251360"/>
              <a:ext cx="794520" cy="1771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3" name="Group 863"/>
            <p:cNvGrpSpPr/>
            <p:nvPr/>
          </p:nvGrpSpPr>
          <p:grpSpPr>
            <a:xfrm>
              <a:off x="3203640" y="-892080"/>
              <a:ext cx="5110560" cy="7227720"/>
              <a:chOff x="3203640" y="-892080"/>
              <a:chExt cx="5110560" cy="7227720"/>
            </a:xfrm>
          </p:grpSpPr>
          <p:grpSp>
            <p:nvGrpSpPr>
              <p:cNvPr id="3534" name="Group 864"/>
              <p:cNvGrpSpPr/>
              <p:nvPr/>
            </p:nvGrpSpPr>
            <p:grpSpPr>
              <a:xfrm>
                <a:off x="5114520" y="1139040"/>
                <a:ext cx="1084320" cy="5196600"/>
                <a:chOff x="5114520" y="1139040"/>
                <a:chExt cx="1084320" cy="5196600"/>
              </a:xfrm>
            </p:grpSpPr>
            <p:sp>
              <p:nvSpPr>
                <p:cNvPr id="3535" name="AutoShape 865"/>
                <p:cNvSpPr/>
                <p:nvPr/>
              </p:nvSpPr>
              <p:spPr>
                <a:xfrm>
                  <a:off x="5496120" y="1139040"/>
                  <a:ext cx="702720" cy="62352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6" name="Freeform 866"/>
                <p:cNvSpPr/>
                <p:nvPr/>
              </p:nvSpPr>
              <p:spPr>
                <a:xfrm>
                  <a:off x="5496120" y="1585800"/>
                  <a:ext cx="359280" cy="341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7" name="Oval 867"/>
                <p:cNvSpPr/>
                <p:nvPr/>
              </p:nvSpPr>
              <p:spPr>
                <a:xfrm rot="543600">
                  <a:off x="5231880" y="4799880"/>
                  <a:ext cx="353520" cy="151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8" name="Group 868"/>
              <p:cNvGrpSpPr/>
              <p:nvPr/>
            </p:nvGrpSpPr>
            <p:grpSpPr>
              <a:xfrm>
                <a:off x="3203640" y="-892080"/>
                <a:ext cx="5110560" cy="4173840"/>
                <a:chOff x="3203640" y="-892080"/>
                <a:chExt cx="5110560" cy="4173840"/>
              </a:xfrm>
            </p:grpSpPr>
            <p:sp>
              <p:nvSpPr>
                <p:cNvPr id="3539" name="Freeform 869"/>
                <p:cNvSpPr/>
                <p:nvPr/>
              </p:nvSpPr>
              <p:spPr>
                <a:xfrm>
                  <a:off x="4614120" y="1317960"/>
                  <a:ext cx="1227600" cy="59616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0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870"/>
                <p:cNvSpPr/>
                <p:nvPr/>
              </p:nvSpPr>
              <p:spPr>
                <a:xfrm>
                  <a:off x="3644280" y="1496880"/>
                  <a:ext cx="2115720" cy="53532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1" name="Freeform 871"/>
                <p:cNvSpPr/>
                <p:nvPr/>
              </p:nvSpPr>
              <p:spPr>
                <a:xfrm>
                  <a:off x="3469680" y="961920"/>
                  <a:ext cx="2202840" cy="53496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2" name="Freeform 872"/>
                <p:cNvSpPr/>
                <p:nvPr/>
              </p:nvSpPr>
              <p:spPr>
                <a:xfrm>
                  <a:off x="3203640" y="694080"/>
                  <a:ext cx="2292120" cy="71424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3" name="Freeform 873"/>
                <p:cNvSpPr/>
                <p:nvPr/>
              </p:nvSpPr>
              <p:spPr>
                <a:xfrm>
                  <a:off x="3380400" y="515160"/>
                  <a:ext cx="2278080" cy="907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4" name="Freeform 874"/>
                <p:cNvSpPr/>
                <p:nvPr/>
              </p:nvSpPr>
              <p:spPr>
                <a:xfrm>
                  <a:off x="3644280" y="516960"/>
                  <a:ext cx="2202840" cy="8917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5" name="Freeform 875"/>
                <p:cNvSpPr/>
                <p:nvPr/>
              </p:nvSpPr>
              <p:spPr>
                <a:xfrm>
                  <a:off x="4097160" y="-18000"/>
                  <a:ext cx="1662840" cy="14245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6" name="Freeform 876"/>
                <p:cNvSpPr/>
                <p:nvPr/>
              </p:nvSpPr>
              <p:spPr>
                <a:xfrm>
                  <a:off x="3821400" y="69840"/>
                  <a:ext cx="1938600" cy="12495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7" name="Freeform 877"/>
                <p:cNvSpPr/>
                <p:nvPr/>
              </p:nvSpPr>
              <p:spPr>
                <a:xfrm>
                  <a:off x="4085280" y="337680"/>
                  <a:ext cx="1938600" cy="12495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8" name="Freeform 878"/>
                <p:cNvSpPr/>
                <p:nvPr/>
              </p:nvSpPr>
              <p:spPr>
                <a:xfrm>
                  <a:off x="3899160" y="-431280"/>
                  <a:ext cx="2039400" cy="19285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9" name="Line 879"/>
                <p:cNvSpPr/>
                <p:nvPr/>
              </p:nvSpPr>
              <p:spPr>
                <a:xfrm flipH="1" flipV="1">
                  <a:off x="4526280" y="-288360"/>
                  <a:ext cx="1497600" cy="19623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0" name="Freeform 880"/>
                <p:cNvSpPr/>
                <p:nvPr/>
              </p:nvSpPr>
              <p:spPr>
                <a:xfrm>
                  <a:off x="4705200" y="-285840"/>
                  <a:ext cx="1233360" cy="19620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1" name="Freeform 881"/>
                <p:cNvSpPr/>
                <p:nvPr/>
              </p:nvSpPr>
              <p:spPr>
                <a:xfrm>
                  <a:off x="4983120" y="-431280"/>
                  <a:ext cx="955440" cy="20188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2" name="Freeform 882"/>
                <p:cNvSpPr/>
                <p:nvPr/>
              </p:nvSpPr>
              <p:spPr>
                <a:xfrm>
                  <a:off x="5297760" y="-549720"/>
                  <a:ext cx="640800" cy="213732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3" name="Freeform 883"/>
                <p:cNvSpPr/>
                <p:nvPr/>
              </p:nvSpPr>
              <p:spPr>
                <a:xfrm>
                  <a:off x="5705640" y="-608400"/>
                  <a:ext cx="318240" cy="22827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4" name="Freeform 884"/>
                <p:cNvSpPr/>
                <p:nvPr/>
              </p:nvSpPr>
              <p:spPr>
                <a:xfrm>
                  <a:off x="5752440" y="-892080"/>
                  <a:ext cx="370800" cy="247788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5" name="Freeform 885"/>
                <p:cNvSpPr/>
                <p:nvPr/>
              </p:nvSpPr>
              <p:spPr>
                <a:xfrm>
                  <a:off x="5936760" y="-557640"/>
                  <a:ext cx="351360" cy="223200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6" name="Freeform 886"/>
                <p:cNvSpPr/>
                <p:nvPr/>
              </p:nvSpPr>
              <p:spPr>
                <a:xfrm>
                  <a:off x="6024240" y="-288000"/>
                  <a:ext cx="615600" cy="187380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7" name="Freeform 887"/>
                <p:cNvSpPr/>
                <p:nvPr/>
              </p:nvSpPr>
              <p:spPr>
                <a:xfrm>
                  <a:off x="5936760" y="-825120"/>
                  <a:ext cx="1233360" cy="2320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8" name="Freeform 888"/>
                <p:cNvSpPr/>
                <p:nvPr/>
              </p:nvSpPr>
              <p:spPr>
                <a:xfrm>
                  <a:off x="5936760" y="-378360"/>
                  <a:ext cx="1584720" cy="196416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9" name="Freeform 889"/>
                <p:cNvSpPr/>
                <p:nvPr/>
              </p:nvSpPr>
              <p:spPr>
                <a:xfrm>
                  <a:off x="6024240" y="69840"/>
                  <a:ext cx="1848960" cy="15174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0" name="Freeform 890"/>
                <p:cNvSpPr/>
                <p:nvPr/>
              </p:nvSpPr>
              <p:spPr>
                <a:xfrm>
                  <a:off x="6024240" y="337680"/>
                  <a:ext cx="2113560" cy="12495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1" name="Freeform 891"/>
                <p:cNvSpPr/>
                <p:nvPr/>
              </p:nvSpPr>
              <p:spPr>
                <a:xfrm>
                  <a:off x="5847480" y="424440"/>
                  <a:ext cx="2466720" cy="12495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2" name="Freeform 892"/>
                <p:cNvSpPr/>
                <p:nvPr/>
              </p:nvSpPr>
              <p:spPr>
                <a:xfrm>
                  <a:off x="5927040" y="1634760"/>
                  <a:ext cx="1507320" cy="17064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3" name="Freeform 893"/>
                <p:cNvSpPr/>
                <p:nvPr/>
              </p:nvSpPr>
              <p:spPr>
                <a:xfrm>
                  <a:off x="5936760" y="1675800"/>
                  <a:ext cx="1056600" cy="2656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4" name="Freeform 894"/>
                <p:cNvSpPr/>
                <p:nvPr/>
              </p:nvSpPr>
              <p:spPr>
                <a:xfrm>
                  <a:off x="5847480" y="1764720"/>
                  <a:ext cx="705240" cy="53496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5" name="Freeform 895"/>
                <p:cNvSpPr/>
                <p:nvPr/>
              </p:nvSpPr>
              <p:spPr>
                <a:xfrm>
                  <a:off x="5760360" y="1764720"/>
                  <a:ext cx="504720" cy="6019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6" name="Freeform 896"/>
                <p:cNvSpPr/>
                <p:nvPr/>
              </p:nvSpPr>
              <p:spPr>
                <a:xfrm>
                  <a:off x="4085280" y="1406160"/>
                  <a:ext cx="1761840" cy="1418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7" name="Freeform 897"/>
                <p:cNvSpPr/>
                <p:nvPr/>
              </p:nvSpPr>
              <p:spPr>
                <a:xfrm>
                  <a:off x="5936760" y="1585800"/>
                  <a:ext cx="1761480" cy="1094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8" name="Freeform 898"/>
                <p:cNvSpPr/>
                <p:nvPr/>
              </p:nvSpPr>
              <p:spPr>
                <a:xfrm>
                  <a:off x="5847480" y="1674000"/>
                  <a:ext cx="1233360" cy="71424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9" name="Freeform 899"/>
                <p:cNvSpPr/>
                <p:nvPr/>
              </p:nvSpPr>
              <p:spPr>
                <a:xfrm>
                  <a:off x="5847480" y="-466920"/>
                  <a:ext cx="67680" cy="20530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0" name="Freeform 900"/>
                <p:cNvSpPr/>
                <p:nvPr/>
              </p:nvSpPr>
              <p:spPr>
                <a:xfrm>
                  <a:off x="4880160" y="1406160"/>
                  <a:ext cx="1056600" cy="11610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1" name="Freeform 901"/>
                <p:cNvSpPr/>
                <p:nvPr/>
              </p:nvSpPr>
              <p:spPr>
                <a:xfrm>
                  <a:off x="4878360" y="1674000"/>
                  <a:ext cx="967320" cy="16077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2" name="Freeform 902"/>
                <p:cNvSpPr/>
                <p:nvPr/>
              </p:nvSpPr>
              <p:spPr>
                <a:xfrm>
                  <a:off x="5938560" y="1764720"/>
                  <a:ext cx="615600" cy="133776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3" name="Freeform 903"/>
                <p:cNvSpPr/>
                <p:nvPr/>
              </p:nvSpPr>
              <p:spPr>
                <a:xfrm rot="681000">
                  <a:off x="6201000" y="1406160"/>
                  <a:ext cx="794160" cy="1771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4" name="Freeform 904"/>
                <p:cNvSpPr/>
                <p:nvPr/>
              </p:nvSpPr>
              <p:spPr>
                <a:xfrm>
                  <a:off x="5847480" y="156600"/>
                  <a:ext cx="530280" cy="14288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75" name="Group 905"/>
          <p:cNvGrpSpPr/>
          <p:nvPr/>
        </p:nvGrpSpPr>
        <p:grpSpPr>
          <a:xfrm>
            <a:off x="2050920" y="-1108080"/>
            <a:ext cx="5110560" cy="7227720"/>
            <a:chOff x="2050920" y="-1108080"/>
            <a:chExt cx="5110560" cy="7227720"/>
          </a:xfrm>
        </p:grpSpPr>
        <p:sp>
          <p:nvSpPr>
            <p:cNvPr id="3576" name="Freeform 906"/>
            <p:cNvSpPr/>
            <p:nvPr/>
          </p:nvSpPr>
          <p:spPr>
            <a:xfrm>
              <a:off x="4871880" y="1035360"/>
              <a:ext cx="794520" cy="1771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7" name="Group 907"/>
            <p:cNvGrpSpPr/>
            <p:nvPr/>
          </p:nvGrpSpPr>
          <p:grpSpPr>
            <a:xfrm>
              <a:off x="2050920" y="-1108080"/>
              <a:ext cx="5110560" cy="7227720"/>
              <a:chOff x="2050920" y="-1108080"/>
              <a:chExt cx="5110560" cy="7227720"/>
            </a:xfrm>
          </p:grpSpPr>
          <p:grpSp>
            <p:nvGrpSpPr>
              <p:cNvPr id="3578" name="Group 908"/>
              <p:cNvGrpSpPr/>
              <p:nvPr/>
            </p:nvGrpSpPr>
            <p:grpSpPr>
              <a:xfrm>
                <a:off x="3961800" y="923040"/>
                <a:ext cx="1084320" cy="5196600"/>
                <a:chOff x="3961800" y="923040"/>
                <a:chExt cx="1084320" cy="5196600"/>
              </a:xfrm>
            </p:grpSpPr>
            <p:sp>
              <p:nvSpPr>
                <p:cNvPr id="3579" name="AutoShape 909"/>
                <p:cNvSpPr/>
                <p:nvPr/>
              </p:nvSpPr>
              <p:spPr>
                <a:xfrm>
                  <a:off x="4343400" y="923040"/>
                  <a:ext cx="702720" cy="62352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0" name="Freeform 910"/>
                <p:cNvSpPr/>
                <p:nvPr/>
              </p:nvSpPr>
              <p:spPr>
                <a:xfrm>
                  <a:off x="4343400" y="1369800"/>
                  <a:ext cx="359280" cy="341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1" name="Oval 911"/>
                <p:cNvSpPr/>
                <p:nvPr/>
              </p:nvSpPr>
              <p:spPr>
                <a:xfrm rot="543600">
                  <a:off x="4079160" y="4583880"/>
                  <a:ext cx="353520" cy="151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2" name="Group 912"/>
              <p:cNvGrpSpPr/>
              <p:nvPr/>
            </p:nvGrpSpPr>
            <p:grpSpPr>
              <a:xfrm>
                <a:off x="2050920" y="-1108080"/>
                <a:ext cx="5110560" cy="4173840"/>
                <a:chOff x="2050920" y="-1108080"/>
                <a:chExt cx="5110560" cy="4173840"/>
              </a:xfrm>
            </p:grpSpPr>
            <p:sp>
              <p:nvSpPr>
                <p:cNvPr id="3583" name="Freeform 913"/>
                <p:cNvSpPr/>
                <p:nvPr/>
              </p:nvSpPr>
              <p:spPr>
                <a:xfrm>
                  <a:off x="3461400" y="1101960"/>
                  <a:ext cx="1227600" cy="59616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008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4" name="Freeform 914"/>
                <p:cNvSpPr/>
                <p:nvPr/>
              </p:nvSpPr>
              <p:spPr>
                <a:xfrm>
                  <a:off x="2491560" y="1280880"/>
                  <a:ext cx="2115720" cy="53532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5" name="Freeform 915"/>
                <p:cNvSpPr/>
                <p:nvPr/>
              </p:nvSpPr>
              <p:spPr>
                <a:xfrm>
                  <a:off x="2316960" y="745920"/>
                  <a:ext cx="2202840" cy="53496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6" name="Freeform 916"/>
                <p:cNvSpPr/>
                <p:nvPr/>
              </p:nvSpPr>
              <p:spPr>
                <a:xfrm>
                  <a:off x="2050920" y="478080"/>
                  <a:ext cx="2292480" cy="71424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7" name="Freeform 917"/>
                <p:cNvSpPr/>
                <p:nvPr/>
              </p:nvSpPr>
              <p:spPr>
                <a:xfrm>
                  <a:off x="2227680" y="299160"/>
                  <a:ext cx="2278440" cy="907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8" name="Freeform 918"/>
                <p:cNvSpPr/>
                <p:nvPr/>
              </p:nvSpPr>
              <p:spPr>
                <a:xfrm>
                  <a:off x="2491560" y="300960"/>
                  <a:ext cx="2202840" cy="8917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9" name="Freeform 919"/>
                <p:cNvSpPr/>
                <p:nvPr/>
              </p:nvSpPr>
              <p:spPr>
                <a:xfrm>
                  <a:off x="2944440" y="-234000"/>
                  <a:ext cx="1662840" cy="14245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0" name="Freeform 920"/>
                <p:cNvSpPr/>
                <p:nvPr/>
              </p:nvSpPr>
              <p:spPr>
                <a:xfrm>
                  <a:off x="2668680" y="-145800"/>
                  <a:ext cx="1938600" cy="12495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1" name="Freeform 921"/>
                <p:cNvSpPr/>
                <p:nvPr/>
              </p:nvSpPr>
              <p:spPr>
                <a:xfrm>
                  <a:off x="2932560" y="121680"/>
                  <a:ext cx="1938600" cy="12495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2" name="Freeform 922"/>
                <p:cNvSpPr/>
                <p:nvPr/>
              </p:nvSpPr>
              <p:spPr>
                <a:xfrm>
                  <a:off x="2746440" y="-647280"/>
                  <a:ext cx="2039400" cy="19285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3" name="Line 923"/>
                <p:cNvSpPr/>
                <p:nvPr/>
              </p:nvSpPr>
              <p:spPr>
                <a:xfrm flipH="1" flipV="1">
                  <a:off x="3373560" y="-504360"/>
                  <a:ext cx="1497600" cy="19623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Freeform 924"/>
                <p:cNvSpPr/>
                <p:nvPr/>
              </p:nvSpPr>
              <p:spPr>
                <a:xfrm>
                  <a:off x="3552480" y="-501840"/>
                  <a:ext cx="1233360" cy="19620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5" name="Freeform 925"/>
                <p:cNvSpPr/>
                <p:nvPr/>
              </p:nvSpPr>
              <p:spPr>
                <a:xfrm>
                  <a:off x="3830400" y="-647280"/>
                  <a:ext cx="955440" cy="20188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6" name="Freeform 926"/>
                <p:cNvSpPr/>
                <p:nvPr/>
              </p:nvSpPr>
              <p:spPr>
                <a:xfrm>
                  <a:off x="4145040" y="-765720"/>
                  <a:ext cx="640800" cy="213732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7" name="Freeform 927"/>
                <p:cNvSpPr/>
                <p:nvPr/>
              </p:nvSpPr>
              <p:spPr>
                <a:xfrm>
                  <a:off x="4552920" y="-824400"/>
                  <a:ext cx="318240" cy="22827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Freeform 928"/>
                <p:cNvSpPr/>
                <p:nvPr/>
              </p:nvSpPr>
              <p:spPr>
                <a:xfrm>
                  <a:off x="4599720" y="-1108080"/>
                  <a:ext cx="370800" cy="247788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9" name="Freeform 929"/>
                <p:cNvSpPr/>
                <p:nvPr/>
              </p:nvSpPr>
              <p:spPr>
                <a:xfrm>
                  <a:off x="4784400" y="-773640"/>
                  <a:ext cx="351360" cy="223200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0" name="Freeform 930"/>
                <p:cNvSpPr/>
                <p:nvPr/>
              </p:nvSpPr>
              <p:spPr>
                <a:xfrm>
                  <a:off x="4871520" y="-504000"/>
                  <a:ext cx="615600" cy="187380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1" name="Freeform 931"/>
                <p:cNvSpPr/>
                <p:nvPr/>
              </p:nvSpPr>
              <p:spPr>
                <a:xfrm>
                  <a:off x="4784400" y="-1041120"/>
                  <a:ext cx="1233360" cy="2320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2" name="Freeform 932"/>
                <p:cNvSpPr/>
                <p:nvPr/>
              </p:nvSpPr>
              <p:spPr>
                <a:xfrm>
                  <a:off x="4784400" y="-594360"/>
                  <a:ext cx="1584720" cy="196416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3" name="Freeform 933"/>
                <p:cNvSpPr/>
                <p:nvPr/>
              </p:nvSpPr>
              <p:spPr>
                <a:xfrm>
                  <a:off x="4871520" y="-145800"/>
                  <a:ext cx="1849320" cy="15174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4" name="Freeform 934"/>
                <p:cNvSpPr/>
                <p:nvPr/>
              </p:nvSpPr>
              <p:spPr>
                <a:xfrm>
                  <a:off x="4871520" y="121680"/>
                  <a:ext cx="2113560" cy="12495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5" name="Freeform 935"/>
                <p:cNvSpPr/>
                <p:nvPr/>
              </p:nvSpPr>
              <p:spPr>
                <a:xfrm>
                  <a:off x="4694760" y="208440"/>
                  <a:ext cx="2466720" cy="12495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6" name="Freeform 936"/>
                <p:cNvSpPr/>
                <p:nvPr/>
              </p:nvSpPr>
              <p:spPr>
                <a:xfrm>
                  <a:off x="4774680" y="1418760"/>
                  <a:ext cx="1507320" cy="17064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Freeform 937"/>
                <p:cNvSpPr/>
                <p:nvPr/>
              </p:nvSpPr>
              <p:spPr>
                <a:xfrm>
                  <a:off x="4784400" y="1459800"/>
                  <a:ext cx="1056600" cy="2656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8" name="Freeform 938"/>
                <p:cNvSpPr/>
                <p:nvPr/>
              </p:nvSpPr>
              <p:spPr>
                <a:xfrm>
                  <a:off x="4694760" y="1548720"/>
                  <a:ext cx="705240" cy="53496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9" name="Freeform 939"/>
                <p:cNvSpPr/>
                <p:nvPr/>
              </p:nvSpPr>
              <p:spPr>
                <a:xfrm>
                  <a:off x="4607640" y="1548720"/>
                  <a:ext cx="504720" cy="6019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0" name="Freeform 940"/>
                <p:cNvSpPr/>
                <p:nvPr/>
              </p:nvSpPr>
              <p:spPr>
                <a:xfrm>
                  <a:off x="2932560" y="1190160"/>
                  <a:ext cx="1761840" cy="1418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1" name="Freeform 941"/>
                <p:cNvSpPr/>
                <p:nvPr/>
              </p:nvSpPr>
              <p:spPr>
                <a:xfrm>
                  <a:off x="4784400" y="1369800"/>
                  <a:ext cx="1761480" cy="1094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2" name="Freeform 942"/>
                <p:cNvSpPr/>
                <p:nvPr/>
              </p:nvSpPr>
              <p:spPr>
                <a:xfrm>
                  <a:off x="4694760" y="1458000"/>
                  <a:ext cx="1233360" cy="71424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3" name="Freeform 943"/>
                <p:cNvSpPr/>
                <p:nvPr/>
              </p:nvSpPr>
              <p:spPr>
                <a:xfrm>
                  <a:off x="4694760" y="-682920"/>
                  <a:ext cx="67680" cy="20530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4" name="Freeform 944"/>
                <p:cNvSpPr/>
                <p:nvPr/>
              </p:nvSpPr>
              <p:spPr>
                <a:xfrm>
                  <a:off x="3727440" y="1190160"/>
                  <a:ext cx="1056600" cy="11610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5" name="Freeform 945"/>
                <p:cNvSpPr/>
                <p:nvPr/>
              </p:nvSpPr>
              <p:spPr>
                <a:xfrm>
                  <a:off x="3725640" y="1458000"/>
                  <a:ext cx="967320" cy="16077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6" name="Freeform 946"/>
                <p:cNvSpPr/>
                <p:nvPr/>
              </p:nvSpPr>
              <p:spPr>
                <a:xfrm>
                  <a:off x="4786200" y="1548720"/>
                  <a:ext cx="615600" cy="133776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7" name="Freeform 947"/>
                <p:cNvSpPr/>
                <p:nvPr/>
              </p:nvSpPr>
              <p:spPr>
                <a:xfrm rot="681000">
                  <a:off x="5048640" y="1190160"/>
                  <a:ext cx="794160" cy="1771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8" name="Freeform 948"/>
                <p:cNvSpPr/>
                <p:nvPr/>
              </p:nvSpPr>
              <p:spPr>
                <a:xfrm>
                  <a:off x="4694760" y="-59040"/>
                  <a:ext cx="530280" cy="14288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619" name="Picture 967" descr="背景花"/>
          <p:cNvPicPr/>
          <p:nvPr/>
        </p:nvPicPr>
        <p:blipFill>
          <a:blip r:embed="rId3"/>
          <a:stretch/>
        </p:blipFill>
        <p:spPr>
          <a:xfrm>
            <a:off x="0" y="-463680"/>
            <a:ext cx="9937800" cy="7321680"/>
          </a:xfrm>
          <a:prstGeom prst="rect">
            <a:avLst/>
          </a:prstGeom>
          <a:ln w="0">
            <a:noFill/>
          </a:ln>
        </p:spPr>
      </p:pic>
      <p:pic>
        <p:nvPicPr>
          <p:cNvPr id="3620" name="Picture 960" descr="油菜图"/>
          <p:cNvPicPr/>
          <p:nvPr/>
        </p:nvPicPr>
        <p:blipFill>
          <a:blip r:embed="rId4"/>
          <a:stretch/>
        </p:blipFill>
        <p:spPr>
          <a:xfrm>
            <a:off x="0" y="-458640"/>
            <a:ext cx="9901080" cy="7316640"/>
          </a:xfrm>
          <a:prstGeom prst="rect">
            <a:avLst/>
          </a:prstGeom>
          <a:ln w="0">
            <a:noFill/>
          </a:ln>
        </p:spPr>
      </p:pic>
      <p:grpSp>
        <p:nvGrpSpPr>
          <p:cNvPr id="3621" name="Group 961"/>
          <p:cNvGrpSpPr/>
          <p:nvPr/>
        </p:nvGrpSpPr>
        <p:grpSpPr>
          <a:xfrm>
            <a:off x="1856880" y="1533240"/>
            <a:ext cx="6593040" cy="7650360"/>
            <a:chOff x="1856880" y="1533240"/>
            <a:chExt cx="6593040" cy="7650360"/>
          </a:xfrm>
        </p:grpSpPr>
        <p:grpSp>
          <p:nvGrpSpPr>
            <p:cNvPr id="3622" name="Group 962"/>
            <p:cNvGrpSpPr/>
            <p:nvPr/>
          </p:nvGrpSpPr>
          <p:grpSpPr>
            <a:xfrm>
              <a:off x="7020000" y="4653000"/>
              <a:ext cx="1429920" cy="4530600"/>
              <a:chOff x="7020000" y="4653000"/>
              <a:chExt cx="1429920" cy="4530600"/>
            </a:xfrm>
          </p:grpSpPr>
          <p:pic>
            <p:nvPicPr>
              <p:cNvPr id="3623" name="Picture 963" descr="油菜花1"/>
              <p:cNvPicPr/>
              <p:nvPr/>
            </p:nvPicPr>
            <p:blipFill>
              <a:blip r:embed="rId5"/>
              <a:stretch/>
            </p:blipFill>
            <p:spPr>
              <a:xfrm>
                <a:off x="7307280" y="4653000"/>
                <a:ext cx="1142640" cy="359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4" name="Picture 964" descr="油菜花1"/>
              <p:cNvPicPr/>
              <p:nvPr/>
            </p:nvPicPr>
            <p:blipFill>
              <a:blip r:embed="rId6"/>
              <a:stretch/>
            </p:blipFill>
            <p:spPr>
              <a:xfrm>
                <a:off x="7020000" y="5589360"/>
                <a:ext cx="1142640" cy="3594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625" name="Picture 965" descr="油2"/>
            <p:cNvPicPr/>
            <p:nvPr/>
          </p:nvPicPr>
          <p:blipFill>
            <a:blip r:embed="rId7"/>
            <a:stretch/>
          </p:blipFill>
          <p:spPr>
            <a:xfrm rot="703800">
              <a:off x="2555640" y="1700280"/>
              <a:ext cx="2376360" cy="712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26" name="Group 968"/>
          <p:cNvGrpSpPr/>
          <p:nvPr/>
        </p:nvGrpSpPr>
        <p:grpSpPr>
          <a:xfrm>
            <a:off x="10110960" y="-167040"/>
            <a:ext cx="665280" cy="879120"/>
            <a:chOff x="10110960" y="-167040"/>
            <a:chExt cx="665280" cy="879120"/>
          </a:xfrm>
        </p:grpSpPr>
        <p:sp>
          <p:nvSpPr>
            <p:cNvPr id="3627" name="Freeform 969"/>
            <p:cNvSpPr/>
            <p:nvPr/>
          </p:nvSpPr>
          <p:spPr>
            <a:xfrm rot="1077600">
              <a:off x="10456920" y="13536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8" name="Group 970"/>
            <p:cNvGrpSpPr/>
            <p:nvPr/>
          </p:nvGrpSpPr>
          <p:grpSpPr>
            <a:xfrm>
              <a:off x="10110960" y="-167040"/>
              <a:ext cx="665280" cy="879120"/>
              <a:chOff x="10110960" y="-167040"/>
              <a:chExt cx="665280" cy="879120"/>
            </a:xfrm>
          </p:grpSpPr>
          <p:grpSp>
            <p:nvGrpSpPr>
              <p:cNvPr id="3629" name="Group 971"/>
              <p:cNvGrpSpPr/>
              <p:nvPr/>
            </p:nvGrpSpPr>
            <p:grpSpPr>
              <a:xfrm>
                <a:off x="10154880" y="85680"/>
                <a:ext cx="334080" cy="626400"/>
                <a:chOff x="10154880" y="85680"/>
                <a:chExt cx="334080" cy="626400"/>
              </a:xfrm>
            </p:grpSpPr>
            <p:sp>
              <p:nvSpPr>
                <p:cNvPr id="3630" name="AutoShape 972"/>
                <p:cNvSpPr/>
                <p:nvPr/>
              </p:nvSpPr>
              <p:spPr>
                <a:xfrm rot="1077600">
                  <a:off x="10387800" y="9756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Freeform 973"/>
                <p:cNvSpPr/>
                <p:nvPr/>
              </p:nvSpPr>
              <p:spPr>
                <a:xfrm rot="1077600">
                  <a:off x="10317240" y="13572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2" name="Oval 974"/>
                <p:cNvSpPr/>
                <p:nvPr/>
              </p:nvSpPr>
              <p:spPr>
                <a:xfrm rot="1621200">
                  <a:off x="10195920" y="51948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3" name="Group 975"/>
              <p:cNvGrpSpPr/>
              <p:nvPr/>
            </p:nvGrpSpPr>
            <p:grpSpPr>
              <a:xfrm>
                <a:off x="10110960" y="-167040"/>
                <a:ext cx="665280" cy="532440"/>
                <a:chOff x="10110960" y="-167040"/>
                <a:chExt cx="665280" cy="532440"/>
              </a:xfrm>
            </p:grpSpPr>
            <p:sp>
              <p:nvSpPr>
                <p:cNvPr id="3634" name="Freeform 976"/>
                <p:cNvSpPr/>
                <p:nvPr/>
              </p:nvSpPr>
              <p:spPr>
                <a:xfrm rot="1077600">
                  <a:off x="10271880" y="9504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5" name="Freeform 977"/>
                <p:cNvSpPr/>
                <p:nvPr/>
              </p:nvSpPr>
              <p:spPr>
                <a:xfrm rot="1077600">
                  <a:off x="10144080" y="9576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Freeform 978"/>
                <p:cNvSpPr/>
                <p:nvPr/>
              </p:nvSpPr>
              <p:spPr>
                <a:xfrm rot="1077600">
                  <a:off x="10143720" y="25920"/>
                  <a:ext cx="284040" cy="676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7" name="Freeform 979"/>
                <p:cNvSpPr/>
                <p:nvPr/>
              </p:nvSpPr>
              <p:spPr>
                <a:xfrm rot="1077600">
                  <a:off x="10117800" y="-1512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8" name="Freeform 980"/>
                <p:cNvSpPr/>
                <p:nvPr/>
              </p:nvSpPr>
              <p:spPr>
                <a:xfrm rot="1077600">
                  <a:off x="10142640" y="-3096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9" name="Freeform 981"/>
                <p:cNvSpPr/>
                <p:nvPr/>
              </p:nvSpPr>
              <p:spPr>
                <a:xfrm rot="1077600">
                  <a:off x="10175400" y="-21960"/>
                  <a:ext cx="284040" cy="1130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Freeform 982"/>
                <p:cNvSpPr/>
                <p:nvPr/>
              </p:nvSpPr>
              <p:spPr>
                <a:xfrm rot="1077600">
                  <a:off x="10243440" y="-80640"/>
                  <a:ext cx="214200" cy="1807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1" name="Freeform 983"/>
                <p:cNvSpPr/>
                <p:nvPr/>
              </p:nvSpPr>
              <p:spPr>
                <a:xfrm rot="1077600">
                  <a:off x="10208520" y="-748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2" name="Freeform 984"/>
                <p:cNvSpPr/>
                <p:nvPr/>
              </p:nvSpPr>
              <p:spPr>
                <a:xfrm rot="1077600">
                  <a:off x="10230120" y="-316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3" name="Freeform 985"/>
                <p:cNvSpPr/>
                <p:nvPr/>
              </p:nvSpPr>
              <p:spPr>
                <a:xfrm rot="1077600">
                  <a:off x="10224000" y="-132480"/>
                  <a:ext cx="262800" cy="24480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Line 986"/>
                <p:cNvSpPr/>
                <p:nvPr/>
              </p:nvSpPr>
              <p:spPr>
                <a:xfrm flipH="1" flipV="1">
                  <a:off x="10339560" y="-124920"/>
                  <a:ext cx="106560" cy="2966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5" name="Freeform 987"/>
                <p:cNvSpPr/>
                <p:nvPr/>
              </p:nvSpPr>
              <p:spPr>
                <a:xfrm rot="1077600">
                  <a:off x="10319040" y="-99000"/>
                  <a:ext cx="158760" cy="249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6" name="Freeform 988"/>
                <p:cNvSpPr/>
                <p:nvPr/>
              </p:nvSpPr>
              <p:spPr>
                <a:xfrm rot="1077600">
                  <a:off x="10358640" y="-111240"/>
                  <a:ext cx="123120" cy="25632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7" name="Freeform 989"/>
                <p:cNvSpPr/>
                <p:nvPr/>
              </p:nvSpPr>
              <p:spPr>
                <a:xfrm rot="1077600">
                  <a:off x="10400760" y="-119880"/>
                  <a:ext cx="82440" cy="2714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8" name="Freeform 990"/>
                <p:cNvSpPr/>
                <p:nvPr/>
              </p:nvSpPr>
              <p:spPr>
                <a:xfrm rot="1077600">
                  <a:off x="10450800" y="-11736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9" name="Freeform 991"/>
                <p:cNvSpPr/>
                <p:nvPr/>
              </p:nvSpPr>
              <p:spPr>
                <a:xfrm rot="1077600">
                  <a:off x="10464120" y="-149400"/>
                  <a:ext cx="47520" cy="3146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0" name="Freeform 992"/>
                <p:cNvSpPr/>
                <p:nvPr/>
              </p:nvSpPr>
              <p:spPr>
                <a:xfrm rot="1077600">
                  <a:off x="10478160" y="-10080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1" name="Freeform 993"/>
                <p:cNvSpPr/>
                <p:nvPr/>
              </p:nvSpPr>
              <p:spPr>
                <a:xfrm rot="1077600">
                  <a:off x="10484640" y="-58680"/>
                  <a:ext cx="79200" cy="237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2" name="Freeform 994"/>
                <p:cNvSpPr/>
                <p:nvPr/>
              </p:nvSpPr>
              <p:spPr>
                <a:xfrm rot="1077600">
                  <a:off x="10484280" y="-11592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3" name="Freeform 995"/>
                <p:cNvSpPr/>
                <p:nvPr/>
              </p:nvSpPr>
              <p:spPr>
                <a:xfrm rot="1077600">
                  <a:off x="10472760" y="-5400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4" name="Freeform 996"/>
                <p:cNvSpPr/>
                <p:nvPr/>
              </p:nvSpPr>
              <p:spPr>
                <a:xfrm rot="1077600">
                  <a:off x="10473840" y="10080"/>
                  <a:ext cx="238320" cy="192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5" name="Freeform 997"/>
                <p:cNvSpPr/>
                <p:nvPr/>
              </p:nvSpPr>
              <p:spPr>
                <a:xfrm rot="1077600">
                  <a:off x="10467360" y="4824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6" name="Freeform 998"/>
                <p:cNvSpPr/>
                <p:nvPr/>
              </p:nvSpPr>
              <p:spPr>
                <a:xfrm rot="1077600">
                  <a:off x="10441440" y="5868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7" name="Freeform 999"/>
                <p:cNvSpPr/>
                <p:nvPr/>
              </p:nvSpPr>
              <p:spPr>
                <a:xfrm rot="1077600">
                  <a:off x="10427760" y="19224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8" name="Freeform 1000"/>
                <p:cNvSpPr/>
                <p:nvPr/>
              </p:nvSpPr>
              <p:spPr>
                <a:xfrm rot="1077600">
                  <a:off x="10427400" y="18864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9" name="Freeform 1001"/>
                <p:cNvSpPr/>
                <p:nvPr/>
              </p:nvSpPr>
              <p:spPr>
                <a:xfrm rot="1077600">
                  <a:off x="10408320" y="187920"/>
                  <a:ext cx="90720" cy="676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Freeform 1002"/>
                <p:cNvSpPr/>
                <p:nvPr/>
              </p:nvSpPr>
              <p:spPr>
                <a:xfrm rot="1077600">
                  <a:off x="10396800" y="18000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1" name="Freeform 1003"/>
                <p:cNvSpPr/>
                <p:nvPr/>
              </p:nvSpPr>
              <p:spPr>
                <a:xfrm rot="1077600">
                  <a:off x="10210320" y="9648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2" name="Freeform 1004"/>
                <p:cNvSpPr/>
                <p:nvPr/>
              </p:nvSpPr>
              <p:spPr>
                <a:xfrm rot="1077600">
                  <a:off x="10431720" y="19188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3" name="Freeform 1005"/>
                <p:cNvSpPr/>
                <p:nvPr/>
              </p:nvSpPr>
              <p:spPr>
                <a:xfrm rot="1077600">
                  <a:off x="10406880" y="18684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4" name="Freeform 1006"/>
                <p:cNvSpPr/>
                <p:nvPr/>
              </p:nvSpPr>
              <p:spPr>
                <a:xfrm rot="1077600">
                  <a:off x="10468080" y="-98640"/>
                  <a:ext cx="8640" cy="2606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5" name="Freeform 1007"/>
                <p:cNvSpPr/>
                <p:nvPr/>
              </p:nvSpPr>
              <p:spPr>
                <a:xfrm rot="1077600">
                  <a:off x="10290600" y="11088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6" name="Freeform 1008"/>
                <p:cNvSpPr/>
                <p:nvPr/>
              </p:nvSpPr>
              <p:spPr>
                <a:xfrm rot="1077600">
                  <a:off x="10271160" y="140040"/>
                  <a:ext cx="124560" cy="2041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7" name="Freeform 1009"/>
                <p:cNvSpPr/>
                <p:nvPr/>
              </p:nvSpPr>
              <p:spPr>
                <a:xfrm rot="1077600">
                  <a:off x="10404000" y="18720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8" name="Freeform 1010"/>
                <p:cNvSpPr/>
                <p:nvPr/>
              </p:nvSpPr>
              <p:spPr>
                <a:xfrm rot="1758600">
                  <a:off x="10472400" y="16128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9" name="Freeform 1011"/>
                <p:cNvSpPr/>
                <p:nvPr/>
              </p:nvSpPr>
              <p:spPr>
                <a:xfrm rot="1077600">
                  <a:off x="10454400" y="-1224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med" advTm="0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3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313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2000"/>
                                        <p:tgtEl>
                                          <p:spTgt spid="3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3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3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3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52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52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52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5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3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3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5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3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3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3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3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3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3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3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3" presetSubtype="52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3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0" name="Picture 143" descr="油菜图"/>
          <p:cNvPicPr/>
          <p:nvPr/>
        </p:nvPicPr>
        <p:blipFill>
          <a:blip r:embed="rId1"/>
          <a:stretch/>
        </p:blipFill>
        <p:spPr>
          <a:xfrm>
            <a:off x="0" y="-458640"/>
            <a:ext cx="9901080" cy="7316640"/>
          </a:xfrm>
          <a:prstGeom prst="rect">
            <a:avLst/>
          </a:prstGeom>
          <a:ln w="0">
            <a:noFill/>
          </a:ln>
        </p:spPr>
      </p:pic>
      <p:grpSp>
        <p:nvGrpSpPr>
          <p:cNvPr id="3671" name="Group 151"/>
          <p:cNvGrpSpPr/>
          <p:nvPr/>
        </p:nvGrpSpPr>
        <p:grpSpPr>
          <a:xfrm>
            <a:off x="10323360" y="1698840"/>
            <a:ext cx="663120" cy="920160"/>
            <a:chOff x="10323360" y="1698840"/>
            <a:chExt cx="663120" cy="920160"/>
          </a:xfrm>
        </p:grpSpPr>
        <p:sp>
          <p:nvSpPr>
            <p:cNvPr id="3672" name="Freeform 152"/>
            <p:cNvSpPr/>
            <p:nvPr/>
          </p:nvSpPr>
          <p:spPr>
            <a:xfrm rot="21466800">
              <a:off x="10689840" y="196920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3" name="Group 153"/>
            <p:cNvGrpSpPr/>
            <p:nvPr/>
          </p:nvGrpSpPr>
          <p:grpSpPr>
            <a:xfrm>
              <a:off x="10323360" y="1698840"/>
              <a:ext cx="663120" cy="920160"/>
              <a:chOff x="10323360" y="1698840"/>
              <a:chExt cx="663120" cy="920160"/>
            </a:xfrm>
          </p:grpSpPr>
          <p:grpSp>
            <p:nvGrpSpPr>
              <p:cNvPr id="3674" name="Group 154"/>
              <p:cNvGrpSpPr/>
              <p:nvPr/>
            </p:nvGrpSpPr>
            <p:grpSpPr>
              <a:xfrm>
                <a:off x="10596960" y="1955880"/>
                <a:ext cx="117360" cy="663120"/>
                <a:chOff x="10596960" y="1955880"/>
                <a:chExt cx="117360" cy="663120"/>
              </a:xfrm>
            </p:grpSpPr>
            <p:sp>
              <p:nvSpPr>
                <p:cNvPr id="3675" name="AutoShape 155"/>
                <p:cNvSpPr/>
                <p:nvPr/>
              </p:nvSpPr>
              <p:spPr>
                <a:xfrm rot="21466800">
                  <a:off x="10622160" y="195768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6" name="Freeform 156"/>
                <p:cNvSpPr/>
                <p:nvPr/>
              </p:nvSpPr>
              <p:spPr>
                <a:xfrm rot="21466800">
                  <a:off x="10631160" y="201492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7" name="Oval 157"/>
                <p:cNvSpPr/>
                <p:nvPr/>
              </p:nvSpPr>
              <p:spPr>
                <a:xfrm rot="410400">
                  <a:off x="10608120" y="242424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8" name="Group 158"/>
              <p:cNvGrpSpPr/>
              <p:nvPr/>
            </p:nvGrpSpPr>
            <p:grpSpPr>
              <a:xfrm>
                <a:off x="10323360" y="1698840"/>
                <a:ext cx="663120" cy="536400"/>
                <a:chOff x="10323360" y="1698840"/>
                <a:chExt cx="663120" cy="536400"/>
              </a:xfrm>
            </p:grpSpPr>
            <p:sp>
              <p:nvSpPr>
                <p:cNvPr id="3679" name="Freeform 159"/>
                <p:cNvSpPr/>
                <p:nvPr/>
              </p:nvSpPr>
              <p:spPr>
                <a:xfrm rot="21466800">
                  <a:off x="10509120" y="198360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0" name="Freeform 160"/>
                <p:cNvSpPr/>
                <p:nvPr/>
              </p:nvSpPr>
              <p:spPr>
                <a:xfrm rot="21466800">
                  <a:off x="10384920" y="200916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1" name="Freeform 161"/>
                <p:cNvSpPr/>
                <p:nvPr/>
              </p:nvSpPr>
              <p:spPr>
                <a:xfrm rot="21466800">
                  <a:off x="10360080" y="1941480"/>
                  <a:ext cx="284040" cy="676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2" name="Freeform 162"/>
                <p:cNvSpPr/>
                <p:nvPr/>
              </p:nvSpPr>
              <p:spPr>
                <a:xfrm rot="21466800">
                  <a:off x="10324800" y="190908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3" name="Freeform 163"/>
                <p:cNvSpPr/>
                <p:nvPr/>
              </p:nvSpPr>
              <p:spPr>
                <a:xfrm rot="21466800">
                  <a:off x="10347120" y="188532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4" name="Freeform 164"/>
                <p:cNvSpPr/>
                <p:nvPr/>
              </p:nvSpPr>
              <p:spPr>
                <a:xfrm rot="21466800">
                  <a:off x="10380960" y="1884240"/>
                  <a:ext cx="284040" cy="1130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5" name="Freeform 165"/>
                <p:cNvSpPr/>
                <p:nvPr/>
              </p:nvSpPr>
              <p:spPr>
                <a:xfrm rot="21466800">
                  <a:off x="10438200" y="1815480"/>
                  <a:ext cx="214200" cy="1807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6" name="Freeform 166"/>
                <p:cNvSpPr/>
                <p:nvPr/>
              </p:nvSpPr>
              <p:spPr>
                <a:xfrm rot="21466800">
                  <a:off x="10402560" y="18273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7" name="Freeform 167"/>
                <p:cNvSpPr/>
                <p:nvPr/>
              </p:nvSpPr>
              <p:spPr>
                <a:xfrm rot="21466800">
                  <a:off x="10437840" y="186012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8" name="Freeform 168"/>
                <p:cNvSpPr/>
                <p:nvPr/>
              </p:nvSpPr>
              <p:spPr>
                <a:xfrm rot="21466800">
                  <a:off x="10411920" y="1762920"/>
                  <a:ext cx="262800" cy="24480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9" name="Line 169"/>
                <p:cNvSpPr/>
                <p:nvPr/>
              </p:nvSpPr>
              <p:spPr>
                <a:xfrm flipH="1" flipV="1">
                  <a:off x="10488600" y="1783440"/>
                  <a:ext cx="202680" cy="24156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0" name="Freeform 170"/>
                <p:cNvSpPr/>
                <p:nvPr/>
              </p:nvSpPr>
              <p:spPr>
                <a:xfrm rot="21466800">
                  <a:off x="10516320" y="1779120"/>
                  <a:ext cx="158760" cy="249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1" name="Freeform 171"/>
                <p:cNvSpPr/>
                <p:nvPr/>
              </p:nvSpPr>
              <p:spPr>
                <a:xfrm rot="21466800">
                  <a:off x="10551600" y="1760400"/>
                  <a:ext cx="123120" cy="25632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2" name="Freeform 172"/>
                <p:cNvSpPr/>
                <p:nvPr/>
              </p:nvSpPr>
              <p:spPr>
                <a:xfrm rot="21466800">
                  <a:off x="10591920" y="1744200"/>
                  <a:ext cx="82440" cy="2714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3" name="Freeform 173"/>
                <p:cNvSpPr/>
                <p:nvPr/>
              </p:nvSpPr>
              <p:spPr>
                <a:xfrm rot="21466800">
                  <a:off x="10644840" y="173592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4" name="Freeform 174"/>
                <p:cNvSpPr/>
                <p:nvPr/>
              </p:nvSpPr>
              <p:spPr>
                <a:xfrm rot="21466800">
                  <a:off x="10649880" y="1699560"/>
                  <a:ext cx="47520" cy="3146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5" name="Freeform 175"/>
                <p:cNvSpPr/>
                <p:nvPr/>
              </p:nvSpPr>
              <p:spPr>
                <a:xfrm rot="21466800">
                  <a:off x="10674720" y="174096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6" name="Freeform 176"/>
                <p:cNvSpPr/>
                <p:nvPr/>
              </p:nvSpPr>
              <p:spPr>
                <a:xfrm rot="21466800">
                  <a:off x="10686240" y="1774080"/>
                  <a:ext cx="79200" cy="237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7" name="Freeform 177"/>
                <p:cNvSpPr/>
                <p:nvPr/>
              </p:nvSpPr>
              <p:spPr>
                <a:xfrm rot="21466800">
                  <a:off x="10673640" y="170460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8" name="Freeform 178"/>
                <p:cNvSpPr/>
                <p:nvPr/>
              </p:nvSpPr>
              <p:spPr>
                <a:xfrm rot="21466800">
                  <a:off x="10675080" y="176040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9" name="Freeform 179"/>
                <p:cNvSpPr/>
                <p:nvPr/>
              </p:nvSpPr>
              <p:spPr>
                <a:xfrm rot="21466800">
                  <a:off x="10687320" y="1816200"/>
                  <a:ext cx="238320" cy="192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0" name="Freeform 180"/>
                <p:cNvSpPr/>
                <p:nvPr/>
              </p:nvSpPr>
              <p:spPr>
                <a:xfrm rot="21466800">
                  <a:off x="10687680" y="185004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1" name="Freeform 181"/>
                <p:cNvSpPr/>
                <p:nvPr/>
              </p:nvSpPr>
              <p:spPr>
                <a:xfrm rot="21466800">
                  <a:off x="10665720" y="186048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2" name="Freeform 182"/>
                <p:cNvSpPr/>
                <p:nvPr/>
              </p:nvSpPr>
              <p:spPr>
                <a:xfrm rot="21466800">
                  <a:off x="10678680" y="201672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3" name="Freeform 183"/>
                <p:cNvSpPr/>
                <p:nvPr/>
              </p:nvSpPr>
              <p:spPr>
                <a:xfrm rot="21466800">
                  <a:off x="10680840" y="202284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4" name="Freeform 184"/>
                <p:cNvSpPr/>
                <p:nvPr/>
              </p:nvSpPr>
              <p:spPr>
                <a:xfrm rot="21466800">
                  <a:off x="10670400" y="2035800"/>
                  <a:ext cx="90720" cy="676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5" name="Freeform 185"/>
                <p:cNvSpPr/>
                <p:nvPr/>
              </p:nvSpPr>
              <p:spPr>
                <a:xfrm rot="21466800">
                  <a:off x="10659240" y="203652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6" name="Freeform 186"/>
                <p:cNvSpPr/>
                <p:nvPr/>
              </p:nvSpPr>
              <p:spPr>
                <a:xfrm rot="21466800">
                  <a:off x="10440360" y="199620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7" name="Freeform 187"/>
                <p:cNvSpPr/>
                <p:nvPr/>
              </p:nvSpPr>
              <p:spPr>
                <a:xfrm rot="21466800">
                  <a:off x="10680120" y="200952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8" name="Freeform 188"/>
                <p:cNvSpPr/>
                <p:nvPr/>
              </p:nvSpPr>
              <p:spPr>
                <a:xfrm rot="21466800">
                  <a:off x="10670400" y="202284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9" name="Freeform 189"/>
                <p:cNvSpPr/>
                <p:nvPr/>
              </p:nvSpPr>
              <p:spPr>
                <a:xfrm rot="21466800">
                  <a:off x="10663560" y="1753920"/>
                  <a:ext cx="8640" cy="2606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0" name="Freeform 190"/>
                <p:cNvSpPr/>
                <p:nvPr/>
              </p:nvSpPr>
              <p:spPr>
                <a:xfrm rot="21466800">
                  <a:off x="10545120" y="199404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1" name="Freeform 191"/>
                <p:cNvSpPr/>
                <p:nvPr/>
              </p:nvSpPr>
              <p:spPr>
                <a:xfrm rot="21466800">
                  <a:off x="10547280" y="2028600"/>
                  <a:ext cx="124560" cy="2041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2" name="Freeform 192"/>
                <p:cNvSpPr/>
                <p:nvPr/>
              </p:nvSpPr>
              <p:spPr>
                <a:xfrm rot="21466800">
                  <a:off x="10684080" y="203544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3" name="Freeform 193"/>
                <p:cNvSpPr/>
                <p:nvPr/>
              </p:nvSpPr>
              <p:spPr>
                <a:xfrm rot="547800">
                  <a:off x="10713240" y="198828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4" name="Freeform 194"/>
                <p:cNvSpPr/>
                <p:nvPr/>
              </p:nvSpPr>
              <p:spPr>
                <a:xfrm rot="21466800">
                  <a:off x="10664640" y="183168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715" name="Picture 417" descr="瓢虫1"/>
          <p:cNvPicPr/>
          <p:nvPr/>
        </p:nvPicPr>
        <p:blipFill>
          <a:blip r:embed="rId2"/>
          <a:stretch/>
        </p:blipFill>
        <p:spPr>
          <a:xfrm rot="16045800">
            <a:off x="1462680" y="6945480"/>
            <a:ext cx="384120" cy="357120"/>
          </a:xfrm>
          <a:prstGeom prst="rect">
            <a:avLst/>
          </a:prstGeom>
          <a:ln w="0">
            <a:noFill/>
          </a:ln>
        </p:spPr>
      </p:pic>
      <p:pic>
        <p:nvPicPr>
          <p:cNvPr id="3716" name="Picture 418" descr="飞瓢"/>
          <p:cNvPicPr/>
          <p:nvPr/>
        </p:nvPicPr>
        <p:blipFill>
          <a:blip r:embed="rId3"/>
          <a:stretch/>
        </p:blipFill>
        <p:spPr>
          <a:xfrm>
            <a:off x="179280" y="476280"/>
            <a:ext cx="936720" cy="666720"/>
          </a:xfrm>
          <a:prstGeom prst="rect">
            <a:avLst/>
          </a:prstGeom>
          <a:ln w="0">
            <a:noFill/>
          </a:ln>
        </p:spPr>
      </p:pic>
      <p:pic>
        <p:nvPicPr>
          <p:cNvPr id="3717" name="Picture 420" descr="飞瓢1"/>
          <p:cNvPicPr/>
          <p:nvPr/>
        </p:nvPicPr>
        <p:blipFill>
          <a:blip r:embed="rId4"/>
          <a:stretch/>
        </p:blipFill>
        <p:spPr>
          <a:xfrm>
            <a:off x="539640" y="-565200"/>
            <a:ext cx="497160" cy="565200"/>
          </a:xfrm>
          <a:prstGeom prst="rect">
            <a:avLst/>
          </a:prstGeom>
          <a:ln w="0">
            <a:noFill/>
          </a:ln>
        </p:spPr>
      </p:pic>
      <p:pic>
        <p:nvPicPr>
          <p:cNvPr id="3718" name="Picture 425" descr="翅0"/>
          <p:cNvPicPr/>
          <p:nvPr/>
        </p:nvPicPr>
        <p:blipFill>
          <a:blip r:embed="rId5"/>
          <a:stretch/>
        </p:blipFill>
        <p:spPr>
          <a:xfrm>
            <a:off x="4427640" y="1700280"/>
            <a:ext cx="496800" cy="565200"/>
          </a:xfrm>
          <a:prstGeom prst="rect">
            <a:avLst/>
          </a:prstGeom>
          <a:ln w="0">
            <a:noFill/>
          </a:ln>
        </p:spPr>
      </p:pic>
      <p:pic>
        <p:nvPicPr>
          <p:cNvPr id="3719" name="Picture 422" descr="翅"/>
          <p:cNvPicPr/>
          <p:nvPr/>
        </p:nvPicPr>
        <p:blipFill>
          <a:blip r:embed="rId6"/>
          <a:stretch/>
        </p:blipFill>
        <p:spPr>
          <a:xfrm>
            <a:off x="4362480" y="1700280"/>
            <a:ext cx="496800" cy="565200"/>
          </a:xfrm>
          <a:prstGeom prst="rect">
            <a:avLst/>
          </a:prstGeom>
          <a:ln w="0">
            <a:noFill/>
          </a:ln>
        </p:spPr>
      </p:pic>
      <p:pic>
        <p:nvPicPr>
          <p:cNvPr id="3720" name="Picture 423" descr="翅1"/>
          <p:cNvPicPr/>
          <p:nvPr/>
        </p:nvPicPr>
        <p:blipFill>
          <a:blip r:embed="rId7"/>
          <a:stretch/>
        </p:blipFill>
        <p:spPr>
          <a:xfrm rot="20184600">
            <a:off x="4356000" y="1700280"/>
            <a:ext cx="497160" cy="565200"/>
          </a:xfrm>
          <a:prstGeom prst="rect">
            <a:avLst/>
          </a:prstGeom>
          <a:ln w="0">
            <a:noFill/>
          </a:ln>
        </p:spPr>
      </p:pic>
      <p:grpSp>
        <p:nvGrpSpPr>
          <p:cNvPr id="3721" name="Group 150"/>
          <p:cNvGrpSpPr/>
          <p:nvPr/>
        </p:nvGrpSpPr>
        <p:grpSpPr>
          <a:xfrm>
            <a:off x="1856880" y="1533240"/>
            <a:ext cx="6593040" cy="7650360"/>
            <a:chOff x="1856880" y="1533240"/>
            <a:chExt cx="6593040" cy="7650360"/>
          </a:xfrm>
        </p:grpSpPr>
        <p:grpSp>
          <p:nvGrpSpPr>
            <p:cNvPr id="3722" name="Group 146"/>
            <p:cNvGrpSpPr/>
            <p:nvPr/>
          </p:nvGrpSpPr>
          <p:grpSpPr>
            <a:xfrm>
              <a:off x="7020000" y="4653000"/>
              <a:ext cx="1429920" cy="4530600"/>
              <a:chOff x="7020000" y="4653000"/>
              <a:chExt cx="1429920" cy="4530600"/>
            </a:xfrm>
          </p:grpSpPr>
          <p:pic>
            <p:nvPicPr>
              <p:cNvPr id="3723" name="Picture 97" descr="油菜花1"/>
              <p:cNvPicPr/>
              <p:nvPr/>
            </p:nvPicPr>
            <p:blipFill>
              <a:blip r:embed="rId8"/>
              <a:stretch/>
            </p:blipFill>
            <p:spPr>
              <a:xfrm>
                <a:off x="7307280" y="4653000"/>
                <a:ext cx="1142640" cy="359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4" name="Picture 144" descr="油菜花1"/>
              <p:cNvPicPr/>
              <p:nvPr/>
            </p:nvPicPr>
            <p:blipFill>
              <a:blip r:embed="rId9"/>
              <a:stretch/>
            </p:blipFill>
            <p:spPr>
              <a:xfrm>
                <a:off x="7020000" y="5589360"/>
                <a:ext cx="1142640" cy="3594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725" name="Picture 149" descr="油2"/>
            <p:cNvPicPr/>
            <p:nvPr/>
          </p:nvPicPr>
          <p:blipFill>
            <a:blip r:embed="rId10"/>
            <a:stretch/>
          </p:blipFill>
          <p:spPr>
            <a:xfrm rot="703800">
              <a:off x="2555640" y="1700280"/>
              <a:ext cx="2376360" cy="712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6" name="Rectangle 428"/>
          <p:cNvSpPr/>
          <p:nvPr/>
        </p:nvSpPr>
        <p:spPr>
          <a:xfrm>
            <a:off x="611280" y="404640"/>
            <a:ext cx="7848360" cy="5977080"/>
          </a:xfrm>
          <a:prstGeom prst="rect">
            <a:avLst/>
          </a:prstGeom>
          <a:solidFill>
            <a:srgbClr val="00008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Text Box 431"/>
          <p:cNvSpPr/>
          <p:nvPr/>
        </p:nvSpPr>
        <p:spPr>
          <a:xfrm>
            <a:off x="2050920" y="1125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你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心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会因此变得宁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Text Box 432"/>
          <p:cNvSpPr/>
          <p:nvPr/>
        </p:nvSpPr>
        <p:spPr>
          <a:xfrm>
            <a:off x="4751280" y="2349360"/>
            <a:ext cx="4392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出去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走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111E-006 C -0.00121 -0.02222 -0.00468 -0.07616 -0.00729 -0.13241 C -0.01024 -0.1882 -0.01406 -0.26921 -0.01701 -0.33449 C -0.01996 -0.39977 -0.02135 -0.46528 -0.02534 -0.52408 C -0.02934 -0.58333 -0.0342 -0.64468 -0.04062 -0.68704 C -0.04705 -0.72986 -0.05677 -0.75718 -0.06423 -0.78148 C -0.0717 -0.80579 -0.07795 -0.81574 -0.08507 -0.83333 C -0.09218 -0.85093 -0.10642 -0.87431 -0.10729 -0.88704 C -0.10816 -0.89977 -0.09409 -0.90463 -0.09062 -0.90926 E">
                                      <p:cBhvr>
                                        <p:cTn id="443" dur="5000" fill="hold"/>
                                        <p:tgtEl>
                                          <p:spTgt spid="3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800000">
                                      <p:cBhvr>
                                        <p:cTn id="445" dur="2000" fill="hold"/>
                                        <p:tgtEl>
                                          <p:spTgt spid="3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8">
                                  <p:stCondLst>
                                    <p:cond delay="4400"/>
                                  </p:stCondLst>
                                  <p:childTnLst>
                                    <p:animRot by="6000000">
                                      <p:cBhvr>
                                        <p:cTn id="447" dur="300" fill="hold"/>
                                        <p:tgtEl>
                                          <p:spTgt spid="3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300"/>
                                        <p:tgtEl>
                                          <p:spTgt spid="3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300"/>
                                        <p:tgtEl>
                                          <p:spTgt spid="3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2222E-006 L 0.02101 -0.15278 E">
                                      <p:cBhvr>
                                        <p:cTn id="456" dur="500" fill="hold"/>
                                        <p:tgtEl>
                                          <p:spTgt spid="3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37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250" autoRev="1" fill="hold"/>
                                        <p:tgtEl>
                                          <p:spTgt spid="37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500"/>
                                        <p:tgtEl>
                                          <p:spTgt spid="3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0486 C -0.00104 0.00764 0.0033 0.01828 0.00764 0.03009 C 0.01059 0.03889 0.01059 0.04189 0.0132 0.05046 C 0.01684 0.06296 0.01476 0.05301 0.02014 0.06527 C 0.02222 0.07014 0.02274 0.07615 0.0257 0.08009 C 0.03056 0.0875 0.03611 0.09282 0.04097 0.09861 C 0.04375 0.10277 0.04514 0.10833 0.04792 0.11203 C 0.05399 0.11967 0.06198 0.12824 0.07014 0.13194 C 0.08073 0.14606 0.09583 0.15277 0.11042 0.15601 C 0.1283 0.16967 0.17118 0.15764 0.19514 0.15601 C 0.21059 0.14768 0.21215 0.14328 0.22014 0.12453 C 0.22222 0.11828 0.22813 0.10648 0.22813 0.10671 C 0.22934 0.10185 0.23125 0.09282 0.23125 0.0875 C 0.23125 0.07569 0.23108 0.06412 0.22969 0.05231 C 0.22934 0.0493 0.22379 0.04398 0.22222 0.04143 C 0.21528 0.02963 0.20434 0.02476 0.19358 0.01967 C 0.15538 0.02083 0.14896 0.01967 0.12014 0.03217 C 0.11372 0.04143 0.10816 0.0493 0.1007 0.05625 C 0.09757 0.06828 0.10035 0.06018 0.0882 0.07708 C 0.0816 0.08518 0.07847 0.09699 0.07292 0.10648 C 0.0691 0.12129 0.07049 0.11342 0.06875 0.13009 C 0.06962 0.17476 0.06458 0.21273 0.08958 0.24305 C 0.09358 0.24791 0.10139 0.2625 0.10764 0.26527 C 0.10851 0.26782 0.10903 0.27083 0.11042 0.27268 C 0.11181 0.27453 0.12188 0.28264 0.12431 0.28379 C 0.13733 0.30115 0.15868 0.30764 0.17552 0.31527 C 0.2349 0.31435 0.27865 0.32314 0.32986 0.30046 C 0.33559 0.29467 0.34149 0.29166 0.34792 0.2875 C 0.35452 0.2831 0.35052 0.28402 0.35625 0.27639 C 0.3632 0.2662 0.40833 0.32986 0.41389 0.32152 E">
                                      <p:cBhvr>
                                        <p:cTn id="467" dur="2000" fill="hold"/>
                                        <p:tgtEl>
                                          <p:spTgt spid="3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autoRev="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6" dur="2000" fill="hold"/>
                                        <p:tgtEl>
                                          <p:spTgt spid="371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"/>
                                        <p:tgtEl>
                                          <p:spTgt spid="37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50" autoRev="1" fill="hold"/>
                                        <p:tgtEl>
                                          <p:spTgt spid="37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remove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100"/>
                                        <p:tgtEl>
                                          <p:spTgt spid="37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50" autoRev="1" fill="hold"/>
                                        <p:tgtEl>
                                          <p:spTgt spid="37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100"/>
                                        <p:tgtEl>
                                          <p:spTgt spid="37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50" autoRev="1" fill="hold"/>
                                        <p:tgtEl>
                                          <p:spTgt spid="37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6" autoRev="1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88889E-006 1.48148E-006 L 0.06371 0.00046 E">
                                      <p:cBhvr>
                                        <p:cTn id="487" dur="2000" fill="hold"/>
                                        <p:tgtEl>
                                          <p:spTgt spid="3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autoRev="1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.55556E-007 4.81481E-006 L -0.04913 0.02314 E">
                                      <p:cBhvr>
                                        <p:cTn id="489" dur="2000" fill="hold"/>
                                        <p:tgtEl>
                                          <p:spTgt spid="3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41389 0.32153 C 0.44514 0.23912 0.47639 0.15694 0.49722 0.09213 C 0.51806 0.02731 0.53177 -0.04236 0.53889 -0.06921 E">
                                      <p:cBhvr>
                                        <p:cTn id="491" dur="1000" fill="hold"/>
                                        <p:tgtEl>
                                          <p:spTgt spid="3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200"/>
                                        <p:tgtEl>
                                          <p:spTgt spid="3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200"/>
                                        <p:tgtEl>
                                          <p:spTgt spid="3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200"/>
                                        <p:tgtEl>
                                          <p:spTgt spid="3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3000"/>
                                        <p:tgtEl>
                                          <p:spTgt spid="3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3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51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2000"/>
                                        <p:tgtEl>
                                          <p:spTgt spid="3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2000"/>
                                        <p:tgtEl>
                                          <p:spTgt spid="3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2000"/>
                                        <p:tgtEl>
                                          <p:spTgt spid="3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0" fill="hold"/>
                                        <p:tgtEl>
                                          <p:spTgt spid="3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0" fill="hold"/>
                                        <p:tgtEl>
                                          <p:spTgt spid="3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100" fill="hold"/>
                                        <p:tgtEl>
                                          <p:spTgt spid="3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32" dur="100" fill="hold"/>
                                        <p:tgtEl>
                                          <p:spTgt spid="3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3" dur="100" fill="hold"/>
                                        <p:tgtEl>
                                          <p:spTgt spid="3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2000" fill="hold"/>
                                        <p:tgtEl>
                                          <p:spTgt spid="3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0" name="Picture 4" descr="水面"/>
          <p:cNvPicPr/>
          <p:nvPr/>
        </p:nvPicPr>
        <p:blipFill>
          <a:blip r:embed="rId1"/>
          <a:stretch/>
        </p:blipFill>
        <p:spPr>
          <a:xfrm>
            <a:off x="0" y="0"/>
            <a:ext cx="9325080" cy="6877080"/>
          </a:xfrm>
          <a:prstGeom prst="rect">
            <a:avLst/>
          </a:prstGeom>
          <a:ln w="0">
            <a:noFill/>
          </a:ln>
        </p:spPr>
      </p:pic>
      <p:grpSp>
        <p:nvGrpSpPr>
          <p:cNvPr id="3731" name="Group 126"/>
          <p:cNvGrpSpPr/>
          <p:nvPr/>
        </p:nvGrpSpPr>
        <p:grpSpPr>
          <a:xfrm>
            <a:off x="1042920" y="620640"/>
            <a:ext cx="6769080" cy="2448000"/>
            <a:chOff x="1042920" y="620640"/>
            <a:chExt cx="6769080" cy="2448000"/>
          </a:xfrm>
        </p:grpSpPr>
        <p:pic>
          <p:nvPicPr>
            <p:cNvPr id="3732" name="Picture 123" descr="谢谢观赏"/>
            <p:cNvPicPr/>
            <p:nvPr/>
          </p:nvPicPr>
          <p:blipFill>
            <a:blip r:embed="rId2"/>
            <a:stretch/>
          </p:blipFill>
          <p:spPr>
            <a:xfrm>
              <a:off x="1042920" y="630360"/>
              <a:ext cx="67690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3" name="Picture 122" descr="谢谢观赏"/>
            <p:cNvPicPr/>
            <p:nvPr/>
          </p:nvPicPr>
          <p:blipFill>
            <a:blip r:embed="rId3"/>
            <a:stretch/>
          </p:blipFill>
          <p:spPr>
            <a:xfrm>
              <a:off x="1042920" y="620640"/>
              <a:ext cx="6769080" cy="243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4" name="Group 49"/>
          <p:cNvGrpSpPr/>
          <p:nvPr/>
        </p:nvGrpSpPr>
        <p:grpSpPr>
          <a:xfrm>
            <a:off x="1639440" y="3930480"/>
            <a:ext cx="669600" cy="930960"/>
            <a:chOff x="1639440" y="3930480"/>
            <a:chExt cx="669600" cy="930960"/>
          </a:xfrm>
        </p:grpSpPr>
        <p:sp>
          <p:nvSpPr>
            <p:cNvPr id="3735" name="Freeform 50"/>
            <p:cNvSpPr/>
            <p:nvPr/>
          </p:nvSpPr>
          <p:spPr>
            <a:xfrm rot="10344600">
              <a:off x="1836000" y="456480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c0c0c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6" name="Group 51"/>
            <p:cNvGrpSpPr/>
            <p:nvPr/>
          </p:nvGrpSpPr>
          <p:grpSpPr>
            <a:xfrm>
              <a:off x="1639440" y="3930480"/>
              <a:ext cx="669600" cy="930960"/>
              <a:chOff x="1639440" y="3930480"/>
              <a:chExt cx="669600" cy="930960"/>
            </a:xfrm>
          </p:grpSpPr>
          <p:grpSp>
            <p:nvGrpSpPr>
              <p:cNvPr id="3737" name="Group 52"/>
              <p:cNvGrpSpPr/>
              <p:nvPr/>
            </p:nvGrpSpPr>
            <p:grpSpPr>
              <a:xfrm>
                <a:off x="1898640" y="3930480"/>
                <a:ext cx="110160" cy="666720"/>
                <a:chOff x="1898640" y="3930480"/>
                <a:chExt cx="110160" cy="666720"/>
              </a:xfrm>
            </p:grpSpPr>
            <p:sp>
              <p:nvSpPr>
                <p:cNvPr id="3738" name="AutoShape 53"/>
                <p:cNvSpPr/>
                <p:nvPr/>
              </p:nvSpPr>
              <p:spPr>
                <a:xfrm rot="10344600">
                  <a:off x="1913040" y="451224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9" name="Freeform 54"/>
                <p:cNvSpPr/>
                <p:nvPr/>
              </p:nvSpPr>
              <p:spPr>
                <a:xfrm rot="10344600">
                  <a:off x="1926720" y="410004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0" name="Oval 55"/>
                <p:cNvSpPr/>
                <p:nvPr/>
              </p:nvSpPr>
              <p:spPr>
                <a:xfrm rot="10888800">
                  <a:off x="1922760" y="3930840"/>
                  <a:ext cx="45360" cy="192600"/>
                </a:xfrm>
                <a:prstGeom prst="ellipse">
                  <a:avLst/>
                </a:prstGeom>
                <a:solidFill>
                  <a:srgbClr val="c0c0c0">
                    <a:alpha val="86000"/>
                  </a:srgbClr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1" name="Group 56"/>
              <p:cNvGrpSpPr/>
              <p:nvPr/>
            </p:nvGrpSpPr>
            <p:grpSpPr>
              <a:xfrm>
                <a:off x="1639440" y="4304520"/>
                <a:ext cx="669600" cy="556920"/>
                <a:chOff x="1639440" y="4304520"/>
                <a:chExt cx="669600" cy="556920"/>
              </a:xfrm>
            </p:grpSpPr>
            <p:sp>
              <p:nvSpPr>
                <p:cNvPr id="3742" name="Freeform 57"/>
                <p:cNvSpPr/>
                <p:nvPr/>
              </p:nvSpPr>
              <p:spPr>
                <a:xfrm rot="10344600">
                  <a:off x="1955880" y="448272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c0c0c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3" name="Freeform 58"/>
                <p:cNvSpPr/>
                <p:nvPr/>
              </p:nvSpPr>
              <p:spPr>
                <a:xfrm rot="10344600">
                  <a:off x="1963440" y="445824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4" name="Freeform 59"/>
                <p:cNvSpPr/>
                <p:nvPr/>
              </p:nvSpPr>
              <p:spPr>
                <a:xfrm rot="10344600">
                  <a:off x="1982880" y="4523400"/>
                  <a:ext cx="284040" cy="6804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5" name="Freeform 60"/>
                <p:cNvSpPr/>
                <p:nvPr/>
              </p:nvSpPr>
              <p:spPr>
                <a:xfrm rot="10344600">
                  <a:off x="2008440" y="453132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6" name="Freeform 61"/>
                <p:cNvSpPr/>
                <p:nvPr/>
              </p:nvSpPr>
              <p:spPr>
                <a:xfrm rot="10344600">
                  <a:off x="1989360" y="453240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7" name="Freeform 62"/>
                <p:cNvSpPr/>
                <p:nvPr/>
              </p:nvSpPr>
              <p:spPr>
                <a:xfrm rot="10344600">
                  <a:off x="1965600" y="4537800"/>
                  <a:ext cx="284040" cy="11340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8" name="Freeform 63"/>
                <p:cNvSpPr/>
                <p:nvPr/>
              </p:nvSpPr>
              <p:spPr>
                <a:xfrm rot="10344600">
                  <a:off x="1981440" y="4541040"/>
                  <a:ext cx="214200" cy="18108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9" name="Freeform 64"/>
                <p:cNvSpPr/>
                <p:nvPr/>
              </p:nvSpPr>
              <p:spPr>
                <a:xfrm rot="10344600">
                  <a:off x="1981080" y="45496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0" name="Freeform 65"/>
                <p:cNvSpPr/>
                <p:nvPr/>
              </p:nvSpPr>
              <p:spPr>
                <a:xfrm rot="10344600">
                  <a:off x="1942920" y="45201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1" name="Freeform 66"/>
                <p:cNvSpPr/>
                <p:nvPr/>
              </p:nvSpPr>
              <p:spPr>
                <a:xfrm rot="10344600">
                  <a:off x="1961280" y="4529160"/>
                  <a:ext cx="262800" cy="24516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2" name="Line 67"/>
                <p:cNvSpPr/>
                <p:nvPr/>
              </p:nvSpPr>
              <p:spPr>
                <a:xfrm>
                  <a:off x="1932480" y="4527000"/>
                  <a:ext cx="224280" cy="221760"/>
                </a:xfrm>
                <a:prstGeom prst="line">
                  <a:avLst/>
                </a:prstGeom>
                <a:ln w="25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3" name="Freeform 68"/>
                <p:cNvSpPr/>
                <p:nvPr/>
              </p:nvSpPr>
              <p:spPr>
                <a:xfrm rot="10344600">
                  <a:off x="1959120" y="4513320"/>
                  <a:ext cx="158760" cy="24948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4" name="Freeform 69"/>
                <p:cNvSpPr/>
                <p:nvPr/>
              </p:nvSpPr>
              <p:spPr>
                <a:xfrm rot="10344600">
                  <a:off x="1960920" y="4527000"/>
                  <a:ext cx="123120" cy="25668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5" name="Freeform 70"/>
                <p:cNvSpPr/>
                <p:nvPr/>
              </p:nvSpPr>
              <p:spPr>
                <a:xfrm rot="10344600">
                  <a:off x="1962360" y="4529520"/>
                  <a:ext cx="82440" cy="2718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6" name="Freeform 71"/>
                <p:cNvSpPr/>
                <p:nvPr/>
              </p:nvSpPr>
              <p:spPr>
                <a:xfrm rot="10344600">
                  <a:off x="1951200" y="452268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7" name="Freeform 72"/>
                <p:cNvSpPr/>
                <p:nvPr/>
              </p:nvSpPr>
              <p:spPr>
                <a:xfrm rot="10344600">
                  <a:off x="1941480" y="4534920"/>
                  <a:ext cx="47520" cy="31500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8" name="Freeform 73"/>
                <p:cNvSpPr/>
                <p:nvPr/>
              </p:nvSpPr>
              <p:spPr>
                <a:xfrm rot="10344600">
                  <a:off x="1917000" y="452664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9" name="Freeform 74"/>
                <p:cNvSpPr/>
                <p:nvPr/>
              </p:nvSpPr>
              <p:spPr>
                <a:xfrm rot="10344600">
                  <a:off x="1870560" y="4541760"/>
                  <a:ext cx="79200" cy="2383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0" name="Freeform 75"/>
                <p:cNvSpPr/>
                <p:nvPr/>
              </p:nvSpPr>
              <p:spPr>
                <a:xfrm rot="10344600">
                  <a:off x="1807560" y="455724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1" name="Freeform 76"/>
                <p:cNvSpPr/>
                <p:nvPr/>
              </p:nvSpPr>
              <p:spPr>
                <a:xfrm rot="10344600">
                  <a:off x="1757880" y="454896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2" name="Freeform 77"/>
                <p:cNvSpPr/>
                <p:nvPr/>
              </p:nvSpPr>
              <p:spPr>
                <a:xfrm rot="10344600">
                  <a:off x="1708920" y="4552560"/>
                  <a:ext cx="238320" cy="19296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3" name="Freeform 78"/>
                <p:cNvSpPr/>
                <p:nvPr/>
              </p:nvSpPr>
              <p:spPr>
                <a:xfrm rot="10344600">
                  <a:off x="1672920" y="455472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4" name="Freeform 79"/>
                <p:cNvSpPr/>
                <p:nvPr/>
              </p:nvSpPr>
              <p:spPr>
                <a:xfrm rot="10344600">
                  <a:off x="1648440" y="454392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5" name="Freeform 80"/>
                <p:cNvSpPr/>
                <p:nvPr/>
              </p:nvSpPr>
              <p:spPr>
                <a:xfrm rot="10344600">
                  <a:off x="1750320" y="452124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6" name="Freeform 81"/>
                <p:cNvSpPr/>
                <p:nvPr/>
              </p:nvSpPr>
              <p:spPr>
                <a:xfrm rot="10344600">
                  <a:off x="1805400" y="450036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7" name="Freeform 82"/>
                <p:cNvSpPr/>
                <p:nvPr/>
              </p:nvSpPr>
              <p:spPr>
                <a:xfrm rot="10344600">
                  <a:off x="1857960" y="4450320"/>
                  <a:ext cx="90720" cy="6804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8" name="Freeform 83"/>
                <p:cNvSpPr/>
                <p:nvPr/>
              </p:nvSpPr>
              <p:spPr>
                <a:xfrm rot="10344600">
                  <a:off x="1894680" y="443880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9" name="Freeform 84"/>
                <p:cNvSpPr/>
                <p:nvPr/>
              </p:nvSpPr>
              <p:spPr>
                <a:xfrm rot="10344600">
                  <a:off x="1957320" y="452412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0" name="Freeform 85"/>
                <p:cNvSpPr/>
                <p:nvPr/>
              </p:nvSpPr>
              <p:spPr>
                <a:xfrm rot="10344600">
                  <a:off x="1717560" y="453744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1" name="Freeform 86"/>
                <p:cNvSpPr/>
                <p:nvPr/>
              </p:nvSpPr>
              <p:spPr>
                <a:xfrm rot="10344600">
                  <a:off x="1790640" y="444384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2" name="Freeform 87"/>
                <p:cNvSpPr/>
                <p:nvPr/>
              </p:nvSpPr>
              <p:spPr>
                <a:xfrm rot="10344600">
                  <a:off x="1964520" y="4533840"/>
                  <a:ext cx="8640" cy="2610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66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3" name="Freeform 88"/>
                <p:cNvSpPr/>
                <p:nvPr/>
              </p:nvSpPr>
              <p:spPr>
                <a:xfrm rot="10344600">
                  <a:off x="1937520" y="440244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4" name="Freeform 89"/>
                <p:cNvSpPr/>
                <p:nvPr/>
              </p:nvSpPr>
              <p:spPr>
                <a:xfrm rot="10344600">
                  <a:off x="1941480" y="4311720"/>
                  <a:ext cx="124560" cy="20448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5" name="Freeform 90"/>
                <p:cNvSpPr/>
                <p:nvPr/>
              </p:nvSpPr>
              <p:spPr>
                <a:xfrm rot="10344600">
                  <a:off x="1851480" y="434988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6" name="Freeform 91"/>
                <p:cNvSpPr/>
                <p:nvPr/>
              </p:nvSpPr>
              <p:spPr>
                <a:xfrm rot="11025600">
                  <a:off x="1810800" y="454752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c0c0c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7" name="Freeform 92"/>
                <p:cNvSpPr/>
                <p:nvPr/>
              </p:nvSpPr>
              <p:spPr>
                <a:xfrm rot="10344600">
                  <a:off x="1900080" y="453852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78" name="Oval 94"/>
          <p:cNvGrpSpPr/>
          <p:nvPr/>
        </p:nvGrpSpPr>
        <p:grpSpPr>
          <a:xfrm>
            <a:off x="1401840" y="3718080"/>
            <a:ext cx="1152360" cy="317520"/>
            <a:chOff x="1401840" y="3718080"/>
            <a:chExt cx="1152360" cy="317520"/>
          </a:xfrm>
        </p:grpSpPr>
        <p:pic>
          <p:nvPicPr>
            <p:cNvPr id="3779" name="Oval 94" descr=""/>
            <p:cNvPicPr/>
            <p:nvPr/>
          </p:nvPicPr>
          <p:blipFill>
            <a:blip r:embed="rId4"/>
            <a:stretch/>
          </p:blipFill>
          <p:spPr>
            <a:xfrm>
              <a:off x="1401840" y="3718080"/>
              <a:ext cx="115236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0" name=""/>
            <p:cNvSpPr/>
            <p:nvPr/>
          </p:nvSpPr>
          <p:spPr>
            <a:xfrm>
              <a:off x="1571760" y="3763800"/>
              <a:ext cx="8157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1" name="Oval 95"/>
          <p:cNvGrpSpPr/>
          <p:nvPr/>
        </p:nvGrpSpPr>
        <p:grpSpPr>
          <a:xfrm>
            <a:off x="1189080" y="3645000"/>
            <a:ext cx="1584360" cy="439560"/>
            <a:chOff x="1189080" y="3645000"/>
            <a:chExt cx="1584360" cy="439560"/>
          </a:xfrm>
        </p:grpSpPr>
        <p:pic>
          <p:nvPicPr>
            <p:cNvPr id="3782" name="Oval 95" descr=""/>
            <p:cNvPicPr/>
            <p:nvPr/>
          </p:nvPicPr>
          <p:blipFill>
            <a:blip r:embed="rId5"/>
            <a:stretch/>
          </p:blipFill>
          <p:spPr>
            <a:xfrm>
              <a:off x="1189080" y="3645000"/>
              <a:ext cx="158436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3" name=""/>
            <p:cNvSpPr/>
            <p:nvPr/>
          </p:nvSpPr>
          <p:spPr>
            <a:xfrm>
              <a:off x="1419120" y="3710160"/>
              <a:ext cx="11210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4" name="Oval 96"/>
          <p:cNvGrpSpPr/>
          <p:nvPr/>
        </p:nvGrpSpPr>
        <p:grpSpPr>
          <a:xfrm>
            <a:off x="901800" y="3571920"/>
            <a:ext cx="2085840" cy="585720"/>
            <a:chOff x="901800" y="3571920"/>
            <a:chExt cx="2085840" cy="585720"/>
          </a:xfrm>
        </p:grpSpPr>
        <p:pic>
          <p:nvPicPr>
            <p:cNvPr id="3785" name="Oval 96" descr=""/>
            <p:cNvPicPr/>
            <p:nvPr/>
          </p:nvPicPr>
          <p:blipFill>
            <a:blip r:embed="rId6"/>
            <a:stretch/>
          </p:blipFill>
          <p:spPr>
            <a:xfrm>
              <a:off x="901800" y="3571920"/>
              <a:ext cx="208584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6" name=""/>
            <p:cNvSpPr/>
            <p:nvPr/>
          </p:nvSpPr>
          <p:spPr>
            <a:xfrm>
              <a:off x="1206360" y="3659040"/>
              <a:ext cx="14749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7" name="Oval 97"/>
          <p:cNvGrpSpPr/>
          <p:nvPr/>
        </p:nvGrpSpPr>
        <p:grpSpPr>
          <a:xfrm>
            <a:off x="609480" y="3498840"/>
            <a:ext cx="2670120" cy="744480"/>
            <a:chOff x="609480" y="3498840"/>
            <a:chExt cx="2670120" cy="744480"/>
          </a:xfrm>
        </p:grpSpPr>
        <p:pic>
          <p:nvPicPr>
            <p:cNvPr id="3788" name="Oval 97" descr=""/>
            <p:cNvPicPr/>
            <p:nvPr/>
          </p:nvPicPr>
          <p:blipFill>
            <a:blip r:embed="rId7"/>
            <a:stretch/>
          </p:blipFill>
          <p:spPr>
            <a:xfrm>
              <a:off x="609480" y="3498840"/>
              <a:ext cx="267012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9" name=""/>
            <p:cNvSpPr/>
            <p:nvPr/>
          </p:nvSpPr>
          <p:spPr>
            <a:xfrm>
              <a:off x="1001880" y="3610080"/>
              <a:ext cx="18842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0" name="Oval 98"/>
          <p:cNvGrpSpPr/>
          <p:nvPr/>
        </p:nvGrpSpPr>
        <p:grpSpPr>
          <a:xfrm>
            <a:off x="176040" y="3432240"/>
            <a:ext cx="3457800" cy="963720"/>
            <a:chOff x="176040" y="3432240"/>
            <a:chExt cx="3457800" cy="963720"/>
          </a:xfrm>
        </p:grpSpPr>
        <p:pic>
          <p:nvPicPr>
            <p:cNvPr id="3791" name="Oval 98" descr=""/>
            <p:cNvPicPr/>
            <p:nvPr/>
          </p:nvPicPr>
          <p:blipFill>
            <a:blip r:embed="rId8"/>
            <a:stretch/>
          </p:blipFill>
          <p:spPr>
            <a:xfrm>
              <a:off x="176040" y="3432240"/>
              <a:ext cx="34578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2" name=""/>
            <p:cNvSpPr/>
            <p:nvPr/>
          </p:nvSpPr>
          <p:spPr>
            <a:xfrm>
              <a:off x="685800" y="3570120"/>
              <a:ext cx="244332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3" name="Oval 101"/>
          <p:cNvGrpSpPr/>
          <p:nvPr/>
        </p:nvGrpSpPr>
        <p:grpSpPr>
          <a:xfrm>
            <a:off x="2987640" y="3718080"/>
            <a:ext cx="2376360" cy="658800"/>
            <a:chOff x="2987640" y="3718080"/>
            <a:chExt cx="2376360" cy="658800"/>
          </a:xfrm>
        </p:grpSpPr>
        <p:pic>
          <p:nvPicPr>
            <p:cNvPr id="3794" name="Oval 101" descr=""/>
            <p:cNvPicPr/>
            <p:nvPr/>
          </p:nvPicPr>
          <p:blipFill>
            <a:blip r:embed="rId9"/>
            <a:stretch/>
          </p:blipFill>
          <p:spPr>
            <a:xfrm>
              <a:off x="2987640" y="3718080"/>
              <a:ext cx="23763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5" name=""/>
            <p:cNvSpPr/>
            <p:nvPr/>
          </p:nvSpPr>
          <p:spPr>
            <a:xfrm>
              <a:off x="3335400" y="3813120"/>
              <a:ext cx="1681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6" name="Oval 102"/>
          <p:cNvGrpSpPr/>
          <p:nvPr/>
        </p:nvGrpSpPr>
        <p:grpSpPr>
          <a:xfrm>
            <a:off x="3279600" y="3645000"/>
            <a:ext cx="1798920" cy="566640"/>
            <a:chOff x="3279600" y="3645000"/>
            <a:chExt cx="1798920" cy="566640"/>
          </a:xfrm>
        </p:grpSpPr>
        <p:pic>
          <p:nvPicPr>
            <p:cNvPr id="3797" name="Oval 102" descr=""/>
            <p:cNvPicPr/>
            <p:nvPr/>
          </p:nvPicPr>
          <p:blipFill>
            <a:blip r:embed="rId10"/>
            <a:stretch/>
          </p:blipFill>
          <p:spPr>
            <a:xfrm>
              <a:off x="3279600" y="3645000"/>
              <a:ext cx="17989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8" name=""/>
            <p:cNvSpPr/>
            <p:nvPr/>
          </p:nvSpPr>
          <p:spPr>
            <a:xfrm>
              <a:off x="3540240" y="3727440"/>
              <a:ext cx="12729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9" name="Oval 103"/>
          <p:cNvGrpSpPr/>
          <p:nvPr/>
        </p:nvGrpSpPr>
        <p:grpSpPr>
          <a:xfrm>
            <a:off x="3279600" y="3718080"/>
            <a:ext cx="1511640" cy="439560"/>
            <a:chOff x="3279600" y="3718080"/>
            <a:chExt cx="1511640" cy="439560"/>
          </a:xfrm>
        </p:grpSpPr>
        <p:pic>
          <p:nvPicPr>
            <p:cNvPr id="3800" name="Oval 103" descr=""/>
            <p:cNvPicPr/>
            <p:nvPr/>
          </p:nvPicPr>
          <p:blipFill>
            <a:blip r:embed="rId11"/>
            <a:stretch/>
          </p:blipFill>
          <p:spPr>
            <a:xfrm>
              <a:off x="3279600" y="3718080"/>
              <a:ext cx="151164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1" name=""/>
            <p:cNvSpPr/>
            <p:nvPr/>
          </p:nvSpPr>
          <p:spPr>
            <a:xfrm>
              <a:off x="3498840" y="3781440"/>
              <a:ext cx="10684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2" name="Oval 104"/>
          <p:cNvGrpSpPr/>
          <p:nvPr/>
        </p:nvGrpSpPr>
        <p:grpSpPr>
          <a:xfrm>
            <a:off x="6443640" y="3790800"/>
            <a:ext cx="1004760" cy="403200"/>
            <a:chOff x="6443640" y="3790800"/>
            <a:chExt cx="1004760" cy="403200"/>
          </a:xfrm>
        </p:grpSpPr>
        <p:pic>
          <p:nvPicPr>
            <p:cNvPr id="3803" name="Oval 104" descr=""/>
            <p:cNvPicPr/>
            <p:nvPr/>
          </p:nvPicPr>
          <p:blipFill>
            <a:blip r:embed="rId12"/>
            <a:stretch/>
          </p:blipFill>
          <p:spPr>
            <a:xfrm>
              <a:off x="6443640" y="3790800"/>
              <a:ext cx="1004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4" name=""/>
            <p:cNvSpPr/>
            <p:nvPr/>
          </p:nvSpPr>
          <p:spPr>
            <a:xfrm>
              <a:off x="6591240" y="3848040"/>
              <a:ext cx="7128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5" name="Oval 105"/>
          <p:cNvGrpSpPr/>
          <p:nvPr/>
        </p:nvGrpSpPr>
        <p:grpSpPr>
          <a:xfrm>
            <a:off x="6589800" y="3859200"/>
            <a:ext cx="792000" cy="298440"/>
            <a:chOff x="6589800" y="3859200"/>
            <a:chExt cx="792000" cy="298440"/>
          </a:xfrm>
        </p:grpSpPr>
        <p:pic>
          <p:nvPicPr>
            <p:cNvPr id="3806" name="Oval 105" descr=""/>
            <p:cNvPicPr/>
            <p:nvPr/>
          </p:nvPicPr>
          <p:blipFill>
            <a:blip r:embed="rId13"/>
            <a:stretch/>
          </p:blipFill>
          <p:spPr>
            <a:xfrm>
              <a:off x="6589800" y="3859200"/>
              <a:ext cx="7920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7" name=""/>
            <p:cNvSpPr/>
            <p:nvPr/>
          </p:nvSpPr>
          <p:spPr>
            <a:xfrm>
              <a:off x="6703920" y="3903840"/>
              <a:ext cx="5605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8" name="Group 5"/>
          <p:cNvGrpSpPr/>
          <p:nvPr/>
        </p:nvGrpSpPr>
        <p:grpSpPr>
          <a:xfrm>
            <a:off x="1590120" y="2986560"/>
            <a:ext cx="668880" cy="929520"/>
            <a:chOff x="1590120" y="2986560"/>
            <a:chExt cx="668880" cy="929520"/>
          </a:xfrm>
        </p:grpSpPr>
        <p:sp>
          <p:nvSpPr>
            <p:cNvPr id="3809" name="Freeform 6"/>
            <p:cNvSpPr/>
            <p:nvPr/>
          </p:nvSpPr>
          <p:spPr>
            <a:xfrm rot="21172200">
              <a:off x="1960200" y="3260160"/>
              <a:ext cx="102240" cy="223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0" name="Group 7"/>
            <p:cNvGrpSpPr/>
            <p:nvPr/>
          </p:nvGrpSpPr>
          <p:grpSpPr>
            <a:xfrm>
              <a:off x="1590120" y="2986560"/>
              <a:ext cx="668880" cy="929520"/>
              <a:chOff x="1590120" y="2986560"/>
              <a:chExt cx="668880" cy="929520"/>
            </a:xfrm>
          </p:grpSpPr>
          <p:grpSp>
            <p:nvGrpSpPr>
              <p:cNvPr id="3811" name="Group 8"/>
              <p:cNvGrpSpPr/>
              <p:nvPr/>
            </p:nvGrpSpPr>
            <p:grpSpPr>
              <a:xfrm>
                <a:off x="1890000" y="3249720"/>
                <a:ext cx="106560" cy="666360"/>
                <a:chOff x="1890000" y="3249720"/>
                <a:chExt cx="106560" cy="666360"/>
              </a:xfrm>
            </p:grpSpPr>
            <p:sp>
              <p:nvSpPr>
                <p:cNvPr id="3812" name="AutoShape 9"/>
                <p:cNvSpPr/>
                <p:nvPr/>
              </p:nvSpPr>
              <p:spPr>
                <a:xfrm rot="21172200">
                  <a:off x="1894320" y="3254760"/>
                  <a:ext cx="90720" cy="792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3" name="Freeform 10"/>
                <p:cNvSpPr/>
                <p:nvPr/>
              </p:nvSpPr>
              <p:spPr>
                <a:xfrm rot="21172200">
                  <a:off x="1923480" y="3312360"/>
                  <a:ext cx="46080" cy="4338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4" name="Oval 11"/>
                <p:cNvSpPr/>
                <p:nvPr/>
              </p:nvSpPr>
              <p:spPr>
                <a:xfrm rot="115800">
                  <a:off x="1925640" y="3722400"/>
                  <a:ext cx="45360" cy="19260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5" name="Group 12"/>
              <p:cNvGrpSpPr/>
              <p:nvPr/>
            </p:nvGrpSpPr>
            <p:grpSpPr>
              <a:xfrm>
                <a:off x="1590120" y="2986560"/>
                <a:ext cx="668880" cy="554760"/>
                <a:chOff x="1590120" y="2986560"/>
                <a:chExt cx="668880" cy="554760"/>
              </a:xfrm>
            </p:grpSpPr>
            <p:sp>
              <p:nvSpPr>
                <p:cNvPr id="3816" name="Freeform 13"/>
                <p:cNvSpPr/>
                <p:nvPr/>
              </p:nvSpPr>
              <p:spPr>
                <a:xfrm rot="21172200">
                  <a:off x="1784160" y="3287520"/>
                  <a:ext cx="158040" cy="756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7" name="Freeform 14"/>
                <p:cNvSpPr/>
                <p:nvPr/>
              </p:nvSpPr>
              <p:spPr>
                <a:xfrm rot="21172200">
                  <a:off x="1661760" y="3318480"/>
                  <a:ext cx="272520" cy="6804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8" name="Freeform 15"/>
                <p:cNvSpPr/>
                <p:nvPr/>
              </p:nvSpPr>
              <p:spPr>
                <a:xfrm rot="21172200">
                  <a:off x="1631160" y="3253320"/>
                  <a:ext cx="284040" cy="676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9" name="Freeform 16"/>
                <p:cNvSpPr/>
                <p:nvPr/>
              </p:nvSpPr>
              <p:spPr>
                <a:xfrm rot="21172200">
                  <a:off x="1594440" y="3223080"/>
                  <a:ext cx="295560" cy="9072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0" name="Freeform 17"/>
                <p:cNvSpPr/>
                <p:nvPr/>
              </p:nvSpPr>
              <p:spPr>
                <a:xfrm rot="21172200">
                  <a:off x="1615320" y="3197520"/>
                  <a:ext cx="293760" cy="11520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1" name="Freeform 18"/>
                <p:cNvSpPr/>
                <p:nvPr/>
              </p:nvSpPr>
              <p:spPr>
                <a:xfrm rot="21172200">
                  <a:off x="1649160" y="3193920"/>
                  <a:ext cx="284040" cy="1130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2" name="Freeform 19"/>
                <p:cNvSpPr/>
                <p:nvPr/>
              </p:nvSpPr>
              <p:spPr>
                <a:xfrm rot="21172200">
                  <a:off x="1703160" y="3123360"/>
                  <a:ext cx="214200" cy="18072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3" name="Freeform 20"/>
                <p:cNvSpPr/>
                <p:nvPr/>
              </p:nvSpPr>
              <p:spPr>
                <a:xfrm rot="21172200">
                  <a:off x="1667880" y="313668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4" name="Freeform 21"/>
                <p:cNvSpPr/>
                <p:nvPr/>
              </p:nvSpPr>
              <p:spPr>
                <a:xfrm rot="21172200">
                  <a:off x="1705680" y="3166560"/>
                  <a:ext cx="249840" cy="1587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5" name="Freeform 22"/>
                <p:cNvSpPr/>
                <p:nvPr/>
              </p:nvSpPr>
              <p:spPr>
                <a:xfrm rot="21172200">
                  <a:off x="1675080" y="3071160"/>
                  <a:ext cx="262800" cy="24480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6" name="Line 23"/>
                <p:cNvSpPr/>
                <p:nvPr/>
              </p:nvSpPr>
              <p:spPr>
                <a:xfrm flipH="1" flipV="1">
                  <a:off x="1743480" y="3096720"/>
                  <a:ext cx="222480" cy="22320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7" name="Freeform 24"/>
                <p:cNvSpPr/>
                <p:nvPr/>
              </p:nvSpPr>
              <p:spPr>
                <a:xfrm rot="21172200">
                  <a:off x="1780920" y="3082680"/>
                  <a:ext cx="158760" cy="2491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8" name="Freeform 25"/>
                <p:cNvSpPr/>
                <p:nvPr/>
              </p:nvSpPr>
              <p:spPr>
                <a:xfrm rot="21172200">
                  <a:off x="1814760" y="3062520"/>
                  <a:ext cx="123120" cy="25632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9" name="Freeform 26"/>
                <p:cNvSpPr/>
                <p:nvPr/>
              </p:nvSpPr>
              <p:spPr>
                <a:xfrm rot="21172200">
                  <a:off x="1854360" y="3044520"/>
                  <a:ext cx="82440" cy="27144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0" name="Freeform 27"/>
                <p:cNvSpPr/>
                <p:nvPr/>
              </p:nvSpPr>
              <p:spPr>
                <a:xfrm rot="21172200">
                  <a:off x="1907280" y="3033360"/>
                  <a:ext cx="41040" cy="2901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1" name="Freeform 28"/>
                <p:cNvSpPr/>
                <p:nvPr/>
              </p:nvSpPr>
              <p:spPr>
                <a:xfrm rot="21172200">
                  <a:off x="1910160" y="2996640"/>
                  <a:ext cx="47520" cy="3146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2" name="Freeform 29"/>
                <p:cNvSpPr/>
                <p:nvPr/>
              </p:nvSpPr>
              <p:spPr>
                <a:xfrm rot="21172200">
                  <a:off x="1937160" y="3036240"/>
                  <a:ext cx="45000" cy="28368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3" name="Freeform 30"/>
                <p:cNvSpPr/>
                <p:nvPr/>
              </p:nvSpPr>
              <p:spPr>
                <a:xfrm rot="21172200">
                  <a:off x="1949760" y="3066480"/>
                  <a:ext cx="79200" cy="237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4" name="Freeform 31"/>
                <p:cNvSpPr/>
                <p:nvPr/>
              </p:nvSpPr>
              <p:spPr>
                <a:xfrm rot="21172200">
                  <a:off x="1933200" y="2995200"/>
                  <a:ext cx="158760" cy="2948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5" name="Freeform 32"/>
                <p:cNvSpPr/>
                <p:nvPr/>
              </p:nvSpPr>
              <p:spPr>
                <a:xfrm rot="21172200">
                  <a:off x="1937160" y="3048840"/>
                  <a:ext cx="204120" cy="2494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6" name="Freeform 33"/>
                <p:cNvSpPr/>
                <p:nvPr/>
              </p:nvSpPr>
              <p:spPr>
                <a:xfrm rot="21172200">
                  <a:off x="1951560" y="3101760"/>
                  <a:ext cx="238320" cy="19260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7" name="Freeform 34"/>
                <p:cNvSpPr/>
                <p:nvPr/>
              </p:nvSpPr>
              <p:spPr>
                <a:xfrm rot="21172200">
                  <a:off x="1953720" y="3134160"/>
                  <a:ext cx="272520" cy="1587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8" name="Freeform 35"/>
                <p:cNvSpPr/>
                <p:nvPr/>
              </p:nvSpPr>
              <p:spPr>
                <a:xfrm rot="21172200">
                  <a:off x="1932120" y="3144600"/>
                  <a:ext cx="317880" cy="1587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9" name="Freeform 36"/>
                <p:cNvSpPr/>
                <p:nvPr/>
              </p:nvSpPr>
              <p:spPr>
                <a:xfrm rot="21172200">
                  <a:off x="1953360" y="3304440"/>
                  <a:ext cx="194400" cy="2160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0" name="Freeform 37"/>
                <p:cNvSpPr/>
                <p:nvPr/>
              </p:nvSpPr>
              <p:spPr>
                <a:xfrm rot="21172200">
                  <a:off x="1956600" y="3313080"/>
                  <a:ext cx="136080" cy="3348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1" name="Freeform 38"/>
                <p:cNvSpPr/>
                <p:nvPr/>
              </p:nvSpPr>
              <p:spPr>
                <a:xfrm rot="21172200">
                  <a:off x="1948680" y="3328560"/>
                  <a:ext cx="90720" cy="676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2" name="Freeform 39"/>
                <p:cNvSpPr/>
                <p:nvPr/>
              </p:nvSpPr>
              <p:spPr>
                <a:xfrm rot="21172200">
                  <a:off x="1938240" y="3331800"/>
                  <a:ext cx="64800" cy="763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3" name="Freeform 40"/>
                <p:cNvSpPr/>
                <p:nvPr/>
              </p:nvSpPr>
              <p:spPr>
                <a:xfrm rot="21172200">
                  <a:off x="1713600" y="3303000"/>
                  <a:ext cx="227160" cy="1800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4" name="Freeform 41"/>
                <p:cNvSpPr/>
                <p:nvPr/>
              </p:nvSpPr>
              <p:spPr>
                <a:xfrm rot="21172200">
                  <a:off x="1953360" y="3295800"/>
                  <a:ext cx="227160" cy="1368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5" name="Freeform 42"/>
                <p:cNvSpPr/>
                <p:nvPr/>
              </p:nvSpPr>
              <p:spPr>
                <a:xfrm rot="21172200">
                  <a:off x="1948320" y="3312720"/>
                  <a:ext cx="158760" cy="9072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6" name="Freeform 43"/>
                <p:cNvSpPr/>
                <p:nvPr/>
              </p:nvSpPr>
              <p:spPr>
                <a:xfrm rot="21172200">
                  <a:off x="1925640" y="3051360"/>
                  <a:ext cx="8640" cy="26064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7" name="Freeform 44"/>
                <p:cNvSpPr/>
                <p:nvPr/>
              </p:nvSpPr>
              <p:spPr>
                <a:xfrm rot="21172200">
                  <a:off x="1823760" y="3295440"/>
                  <a:ext cx="136080" cy="147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8" name="Freeform 45"/>
                <p:cNvSpPr/>
                <p:nvPr/>
              </p:nvSpPr>
              <p:spPr>
                <a:xfrm rot="21172200">
                  <a:off x="1831320" y="3330000"/>
                  <a:ext cx="124560" cy="2041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9" name="Freeform 46"/>
                <p:cNvSpPr/>
                <p:nvPr/>
              </p:nvSpPr>
              <p:spPr>
                <a:xfrm rot="21172200">
                  <a:off x="1966680" y="3327480"/>
                  <a:ext cx="79200" cy="16992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0" name="Freeform 47"/>
                <p:cNvSpPr/>
                <p:nvPr/>
              </p:nvSpPr>
              <p:spPr>
                <a:xfrm rot="253200">
                  <a:off x="1985400" y="3277080"/>
                  <a:ext cx="102240" cy="2232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1" name="Freeform 48"/>
                <p:cNvSpPr/>
                <p:nvPr/>
              </p:nvSpPr>
              <p:spPr>
                <a:xfrm rot="21172200">
                  <a:off x="1930680" y="3126600"/>
                  <a:ext cx="68040" cy="18144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52" name="Oval 108"/>
          <p:cNvGrpSpPr/>
          <p:nvPr/>
        </p:nvGrpSpPr>
        <p:grpSpPr>
          <a:xfrm>
            <a:off x="6229440" y="3718080"/>
            <a:ext cx="1512720" cy="579240"/>
            <a:chOff x="6229440" y="3718080"/>
            <a:chExt cx="1512720" cy="579240"/>
          </a:xfrm>
        </p:grpSpPr>
        <p:pic>
          <p:nvPicPr>
            <p:cNvPr id="3853" name="Oval 108" descr=""/>
            <p:cNvPicPr/>
            <p:nvPr/>
          </p:nvPicPr>
          <p:blipFill>
            <a:blip r:embed="rId14"/>
            <a:stretch/>
          </p:blipFill>
          <p:spPr>
            <a:xfrm>
              <a:off x="6229440" y="3718080"/>
              <a:ext cx="15127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4" name=""/>
            <p:cNvSpPr/>
            <p:nvPr/>
          </p:nvSpPr>
          <p:spPr>
            <a:xfrm>
              <a:off x="6450120" y="3801960"/>
              <a:ext cx="10681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5" name="Oval 109"/>
          <p:cNvGrpSpPr/>
          <p:nvPr/>
        </p:nvGrpSpPr>
        <p:grpSpPr>
          <a:xfrm>
            <a:off x="396720" y="3498840"/>
            <a:ext cx="3022920" cy="847800"/>
            <a:chOff x="396720" y="3498840"/>
            <a:chExt cx="3022920" cy="847800"/>
          </a:xfrm>
        </p:grpSpPr>
        <p:pic>
          <p:nvPicPr>
            <p:cNvPr id="3856" name="Oval 109" descr=""/>
            <p:cNvPicPr/>
            <p:nvPr/>
          </p:nvPicPr>
          <p:blipFill>
            <a:blip r:embed="rId15"/>
            <a:stretch/>
          </p:blipFill>
          <p:spPr>
            <a:xfrm>
              <a:off x="396720" y="3498840"/>
              <a:ext cx="30229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7" name=""/>
            <p:cNvSpPr/>
            <p:nvPr/>
          </p:nvSpPr>
          <p:spPr>
            <a:xfrm>
              <a:off x="838080" y="3624120"/>
              <a:ext cx="213840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8" name="Oval 111"/>
          <p:cNvGrpSpPr/>
          <p:nvPr/>
        </p:nvGrpSpPr>
        <p:grpSpPr>
          <a:xfrm>
            <a:off x="3279600" y="3790800"/>
            <a:ext cx="1725840" cy="482760"/>
            <a:chOff x="3279600" y="3790800"/>
            <a:chExt cx="1725840" cy="482760"/>
          </a:xfrm>
        </p:grpSpPr>
        <p:pic>
          <p:nvPicPr>
            <p:cNvPr id="3859" name="Oval 111" descr=""/>
            <p:cNvPicPr/>
            <p:nvPr/>
          </p:nvPicPr>
          <p:blipFill>
            <a:blip r:embed="rId16"/>
            <a:stretch/>
          </p:blipFill>
          <p:spPr>
            <a:xfrm>
              <a:off x="3279600" y="3790800"/>
              <a:ext cx="172584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0" name=""/>
            <p:cNvSpPr/>
            <p:nvPr/>
          </p:nvSpPr>
          <p:spPr>
            <a:xfrm>
              <a:off x="3529080" y="3859200"/>
              <a:ext cx="122400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1" name="Oval 112"/>
          <p:cNvSpPr/>
          <p:nvPr/>
        </p:nvSpPr>
        <p:spPr>
          <a:xfrm rot="5400000">
            <a:off x="-7682400" y="-3831480"/>
            <a:ext cx="8496360" cy="717372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2" name="Picture 128" descr="天好作品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948360" y="6021360"/>
            <a:ext cx="1944720" cy="58752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0" fill="hold"/>
                                        <p:tgtEl>
                                          <p:spTgt spid="3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3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0" fill="hold"/>
                                        <p:tgtEl>
                                          <p:spTgt spid="3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0" fill="hold"/>
                                        <p:tgtEl>
                                          <p:spTgt spid="3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indefinite"/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6 C 0.03368 -0.03426 0.06563 -0.06597 0.10695 -0.06296 C 0.14826 -0.05995 0.19826 0.0176 0.24809 0.01852 C 0.29792 0.01945 0.35278 -0.0574 0.40556 -0.0574 C 0.45833 -0.0574 0.4941 0.03125 0.56476 0.01852 C 0.63542 0.00579 0.77483 -0.10162 0.83004 -0.13333 E">
                                      <p:cBhvr>
                                        <p:cTn id="559" dur="3000" fill="hold"/>
                                        <p:tgtEl>
                                          <p:spTgt spid="3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22222E-006 C 0.02899 0.03796 0.05677 0.07361 0.09861 0.07592 C 0.14045 0.07824 0.19948 0.01041 0.25087 0.01342 C 0.30226 0.01643 0.35208 0.09467 0.40695 0.09444 C 0.46181 0.09421 0.50955 0.01203 0.58004 0.01157 C 0.65052 0.01111 0.77795 0.07453 0.83004 0.0912 E">
                                      <p:cBhvr>
                                        <p:cTn id="561" dur="3000" fill="hold"/>
                                        <p:tgtEl>
                                          <p:spTgt spid="3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7037E-006 L 1.56303 -0.1618 E">
                                      <p:cBhvr>
                                        <p:cTn id="563" dur="1000" fill="hold"/>
                                        <p:tgtEl>
                                          <p:spTgt spid="3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5" dur="2500" fill="hold"/>
                                        <p:tgtEl>
                                          <p:spTgt spid="37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7" dur="500" fill="hold"/>
                                        <p:tgtEl>
                                          <p:spTgt spid="37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3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4" dur="2500" fill="hold"/>
                                        <p:tgtEl>
                                          <p:spTgt spid="37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6" dur="500" fill="hold"/>
                                        <p:tgtEl>
                                          <p:spTgt spid="37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3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3" dur="2500" fill="hold"/>
                                        <p:tgtEl>
                                          <p:spTgt spid="37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5" dur="500" fill="hold"/>
                                        <p:tgtEl>
                                          <p:spTgt spid="37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500"/>
                                        <p:tgtEl>
                                          <p:spTgt spid="3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2" dur="2500" fill="hold"/>
                                        <p:tgtEl>
                                          <p:spTgt spid="37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500" fill="hold"/>
                                        <p:tgtEl>
                                          <p:spTgt spid="37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3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01" dur="2500" fill="hold"/>
                                        <p:tgtEl>
                                          <p:spTgt spid="37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03" dur="500" fill="hold"/>
                                        <p:tgtEl>
                                          <p:spTgt spid="37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3000"/>
                                        <p:tgtEl>
                                          <p:spTgt spid="3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 repeatCount="1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10" dur="2500" fill="hold"/>
                                        <p:tgtEl>
                                          <p:spTgt spid="37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12" dur="500" fill="hold"/>
                                        <p:tgtEl>
                                          <p:spTgt spid="37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1000"/>
                                        <p:tgtEl>
                                          <p:spTgt spid="3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 repeatCount="1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19" dur="2500" fill="hold"/>
                                        <p:tgtEl>
                                          <p:spTgt spid="37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21" dur="500" fill="hold"/>
                                        <p:tgtEl>
                                          <p:spTgt spid="37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500"/>
                                        <p:tgtEl>
                                          <p:spTgt spid="3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 repeatCount="1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28" dur="2500" fill="hold"/>
                                        <p:tgtEl>
                                          <p:spTgt spid="37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30" dur="500" fill="hold"/>
                                        <p:tgtEl>
                                          <p:spTgt spid="37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3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 repeatCount="100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637" dur="2500" fill="hold"/>
                                        <p:tgtEl>
                                          <p:spTgt spid="38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639" dur="500" fill="hold"/>
                                        <p:tgtEl>
                                          <p:spTgt spid="38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3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 repeatCount="100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646" dur="2500" fill="hold"/>
                                        <p:tgtEl>
                                          <p:spTgt spid="38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648" dur="500" fill="hold"/>
                                        <p:tgtEl>
                                          <p:spTgt spid="38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3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 repeatCount="100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655" dur="2500" fill="hold"/>
                                        <p:tgtEl>
                                          <p:spTgt spid="38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6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657" dur="500" fill="hold"/>
                                        <p:tgtEl>
                                          <p:spTgt spid="38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1000"/>
                                        <p:tgtEl>
                                          <p:spTgt spid="3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4" dur="2500" fill="hold"/>
                                        <p:tgtEl>
                                          <p:spTgt spid="38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6" dur="500" fill="hold"/>
                                        <p:tgtEl>
                                          <p:spTgt spid="38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1000"/>
                                        <p:tgtEl>
                                          <p:spTgt spid="3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 repeatCount="1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73" dur="2500" fill="hold"/>
                                        <p:tgtEl>
                                          <p:spTgt spid="38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75" dur="500" fill="hold"/>
                                        <p:tgtEl>
                                          <p:spTgt spid="38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500"/>
                                        <p:tgtEl>
                                          <p:spTgt spid="3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680" autoRev="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1" dur="2000" fill="hold"/>
                                        <p:tgtEl>
                                          <p:spTgt spid="386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2:44:38Z</dcterms:created>
  <dc:creator>zhw</dc:creator>
  <dc:description/>
  <dc:language>en-US</dc:language>
  <cp:lastModifiedBy>王玉清</cp:lastModifiedBy>
  <dcterms:modified xsi:type="dcterms:W3CDTF">2016-02-19T03:55:31Z</dcterms:modified>
  <cp:revision>104</cp:revision>
  <dc:subject/>
  <dc:title>幻灯片 1</dc:title>
</cp:coreProperties>
</file>