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08F-DEEB-433B-B6DF-E3369408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F79-6A7B-4125-9413-43DD5A81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58F-29A5-4A5D-82E9-E662D750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D60-E77F-4222-ABF9-71F313BD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852-B016-4D8F-B860-E4796FD0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E72-A3E2-4DE8-9149-9358985D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C85-156B-4115-9611-75BD95AB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2A2-BC3A-435E-8E1D-5B62F5D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430-A378-48A7-8436-DFBB368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30A-C403-4DD4-BA5E-220C1D3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752-F327-47BF-9DE0-0F5311B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195-D7AF-4809-856B-22EE6CE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FE1AD1-339D-4320-AFA9-836678EC5E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4362480" y="1714680"/>
            <a:ext cx="113796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465800" y="4572000"/>
            <a:ext cx="891720" cy="81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072040" y="1571760"/>
            <a:ext cx="73800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复古文艺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289240" y="26064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复古书本文艺范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67834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854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06872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0686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21398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71160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492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3545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0688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9973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1404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56860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64040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449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786040" y="235728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4974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4262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4257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9320" y="6286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2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52117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29973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1640" y="1214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0688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32115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1397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69976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11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9258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49740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35456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068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0686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29320" y="6286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  <Words>156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3T03:44:54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