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C3E2-8E4C-4A6A-8B1F-38145CD988C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A7DB-0B66-4664-9883-83B519E6FFA5}"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65F5-A538-4995-838C-981ECAC8DB3C}"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2EA4-C866-4B7D-9004-DBB8F8DA2178}"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3D0B2-46C0-4845-9922-65B6BE4CF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22B6D-CB7A-49C2-8B0F-D95073496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FB19B-D890-4A8D-8965-85E83E558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FBC67-9B73-4965-B995-8D4E1939A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FC0C5-DCFE-4445-B7BB-9BECCAEC4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441EB-7E90-4688-9B49-950EE7672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ECFB9-287C-405E-9FFF-2CA014AB3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C4DD5-C590-41A1-9723-6BF95D873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16B71-AB41-4028-811C-53BE45511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FA5A2-EF65-4B09-A457-0C0F20024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3C984-254E-4A20-B632-5DACDEBF8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4C4B-3F61-4E27-97A0-4FB7B419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BCD2F-75BE-4309-B81F-14AA053FE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F4893-FC22-40B7-8AFC-120B97E11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746A3-AD6E-456F-88BD-EEF1D1E6C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24D2D-8D5D-46DB-AA8B-8A1771E20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B2E0F-6D7B-411A-A8B4-6141E5219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8293B-718C-4248-8DA1-BAD0D517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2D0CE-8D1F-4BD8-BEDE-CDCCC5908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ED05-B9D9-46E9-A855-590A0C17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96F5-0E71-4F67-943B-88D64A19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0A56-3D01-4D88-BA8B-D6EFE9758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B3C9-0A6C-4823-B47D-11EC8BF9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0797-817B-4A88-B656-2F0639C2D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E117-872D-46C0-8D17-B255FB25DDAD}"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3C79-55C8-42C4-B86D-19AE02533628}"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2971440"/>
            <a:ext cx="746748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国外金融交易</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1" lang="en-US" sz="4000" spc="-1" strike="noStrike">
              <a:solidFill>
                <a:srgbClr val="000000"/>
              </a:solidFill>
              <a:latin typeface="Tahoma"/>
            </a:endParaRPr>
          </a:p>
        </p:txBody>
      </p:sp>
      <p:sp>
        <p:nvSpPr>
          <p:cNvPr id="90" name="PlaceHolder 2"/>
          <p:cNvSpPr>
            <a:spLocks noGrp="1"/>
          </p:cNvSpPr>
          <p:nvPr>
            <p:ph type="subTitle"/>
          </p:nvPr>
        </p:nvSpPr>
        <p:spPr>
          <a:xfrm>
            <a:off x="2133720" y="3733560"/>
            <a:ext cx="5029200" cy="609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Presentation Subtitle</a:t>
            </a:r>
            <a:endParaRPr b="0" lang="en-US" sz="2000" spc="-1" strike="noStrike">
              <a:solidFill>
                <a:srgbClr val="000000"/>
              </a:solidFill>
              <a:latin typeface="Calibri"/>
            </a:endParaRPr>
          </a:p>
        </p:txBody>
      </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5" name=""/>
          <p:cNvSpPr txBox="1"/>
          <p:nvPr/>
        </p:nvSpPr>
        <p:spPr>
          <a:xfrm>
            <a:off x="2057040" y="1600200"/>
            <a:ext cx="66294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王玉清</cp:lastModifiedBy>
  <dcterms:modified xsi:type="dcterms:W3CDTF">2016-02-15T04:30:55Z</dcterms:modified>
  <cp:revision>33</cp:revision>
  <dc:subject/>
  <dc:title>PowerPoint Presentation</dc:title>
</cp:coreProperties>
</file>