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87DF-7645-4B86-8234-43F7869D6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484E-45C5-4CE5-8531-FCE16711C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B092-1E41-440F-AF37-C5CEE5853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F3BE-B7EA-4E44-A6A3-984198EAA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38CA-2200-4474-8870-8B67DC7CC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02C2-0760-4BC6-8E64-E0F5EE723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FAC7-2F0F-47E5-8456-9D704865A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0B03-AC75-4E6B-8902-23E190C06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AB84-7487-40E2-9E9C-DB1A72FAF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3988-7FD0-4992-988B-E28F57B8A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7D16-DDB0-40C9-A588-09713214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11FA-DE0C-4C4E-9C6D-D5A0944A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03_conew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5475E-62D5-4F25-9221-EF10164697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4" descr="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Rectangle 5"/>
          <p:cNvSpPr/>
          <p:nvPr/>
        </p:nvSpPr>
        <p:spPr>
          <a:xfrm>
            <a:off x="108000" y="961920"/>
            <a:ext cx="813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环保地球金融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2050920" y="2421000"/>
            <a:ext cx="615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添加文本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1692360" y="907920"/>
            <a:ext cx="64818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模板的使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826920" y="2133720"/>
            <a:ext cx="76676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配色方案修改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配色方案在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格式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设计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配色方案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编辑配色方案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调整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添加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修改在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视图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母版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母版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调整。直接选择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片删除或修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字体格式的设置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括标题和文本格式的设置在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视图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母版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母版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调整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7"/>
          <p:cNvSpPr/>
          <p:nvPr/>
        </p:nvSpPr>
        <p:spPr>
          <a:xfrm>
            <a:off x="5904000" y="429264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谢观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7T08:54:38Z</dcterms:created>
  <dc:creator>compaq</dc:creator>
  <dc:description/>
  <dc:language>en-US</dc:language>
  <cp:lastModifiedBy>王玉清</cp:lastModifiedBy>
  <dcterms:modified xsi:type="dcterms:W3CDTF">2016-02-15T04:01:19Z</dcterms:modified>
  <cp:revision>6</cp:revision>
  <dc:subject/>
  <dc:title>幻灯片 1</dc:title>
</cp:coreProperties>
</file>