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12.png" ContentType="image/png"/>
  <Override PartName="/ppt/media/image30.png" ContentType="image/png"/>
  <Override PartName="/ppt/media/image32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48D-C3C5-4E35-8F90-D624A0D9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2E01-E96B-4079-B35B-3097EBAD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CE09D-0F93-44D1-9302-A333FDF2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A4D40-6FA8-4576-A0EB-5BFDF21A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57612-2B40-4282-89AD-EE84C434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1E2CC-F41C-457B-B3F4-951AF5A7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8741B-2EF4-4059-A136-240044E7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813E0-5A63-4AEA-A534-E05CE186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92970-4C5D-4425-A5D7-B7436C48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A9B8C-22CF-4903-B6A1-3C0E1602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F649F-C71F-4F89-A471-2B6307DA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02055-A391-4785-A495-C0333166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F8E-8D46-4395-A514-73A7E363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F4BDC-8A1F-4F69-ACE6-C0B07BBA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87C5A-9CAB-46B3-BDBB-7D42DE2E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FB125-5C78-468E-9756-E7C00E3E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271EC-D161-4362-AA59-9DA00BB0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5ADE7-121C-4302-A9CD-6E8542B8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11946-8584-499E-9F71-C1F81B10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7F654-B602-4A87-A55D-A4A611E2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6DF5C-4E19-4F98-88D3-04F073B0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51803-B979-4409-982C-7A6149A6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41503-5732-4A7F-B010-329EF114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AC6-9C22-4794-9B83-AC86ACAC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A03E7-E1F5-4B09-96B5-6202EC6F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9D154-CD1F-49C3-98F8-E404E826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209EA-64A6-4DEA-963C-3557B18C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2862C-DEDB-47F4-9540-1281C178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7C29F-471E-405E-A8B7-CCB84A8F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1C072-074E-4357-B34E-FBD43B30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793F5-153C-4EB8-98C6-487A0D80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95DF1-0A00-4237-BB28-0385105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7232F-8C79-4D7F-B36B-083DD11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FB018-0939-46F6-A7C7-2163DAF1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364E-7900-423F-A08D-52CBFE6E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3E182-CEB4-4C59-B4B1-F50B7435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B4B75-B843-4BCA-808B-7584308F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7838C-6B52-4CFA-981C-643D3800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3B5CD-BA5D-4648-854A-5FC52C6D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BBF47-60DA-42F8-9BEC-9AA3A602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5547A-DDF7-461A-A6C6-724EB930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DA3C3-A1CF-4CA5-9527-6BD4ED62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46EC3-6CD6-41BA-910E-B7AAB509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9B0B4-0B08-4CAC-B2D5-58CE11A4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CF75C-A0FC-47FA-82EB-A7865D02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1E60-4800-4C0C-AAD0-929A1D1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C72D7-C8E9-4CA1-950A-7212709F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2D0EF-433C-4E95-80AC-CD2A4AE0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54AFF-2D09-4F49-B725-81AD7181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DC5B5-4B3C-4F5E-B8EA-0932D02B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08C74-AB9E-4367-BF9E-FAD35313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CE71AD-1586-4408-8FA6-25371147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B28A7-7976-43BA-AD32-1ECD23D2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CF675-F485-41BA-B94D-F4D14FEF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CC4AC-0FED-45E6-8B27-4246A2F0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D793C-6586-4756-B212-14716EA0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1AC4-DB4A-414E-9531-35C45F78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F6A95-6F9E-47E2-8661-22CD2BE3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43D3A-6317-42FD-96ED-4EF5F05D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7BA9D-B160-4F03-8A20-F65D8339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85965E-00FD-41D1-B0BB-41EAAFE9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F48E92-BCDD-48DE-A749-ADF16EB4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27916-D03F-4B75-BFC0-F0B077E8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849CB-EF46-42DF-B84E-728BC793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4A1F9-DEA6-4FA1-9093-A1C03C35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DD0C7-4818-4B1D-B2CB-DB0DDDCB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5E7F3-CC5A-4FBE-B42A-2151BD18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99E2-DF2A-4648-8CA2-50BA8FBC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BAA07E-2B64-4686-AC24-2CD06C6E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9DC49-4953-4630-81F1-6E3F94B7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AA55D-8F97-48B1-BADF-8E1433B4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DA6E97-FE1F-4F66-A3AE-1C27F4FE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49D60-1B0F-4BB7-BA9A-DFBD9A78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D9889-F14D-4BB2-86E9-0402361D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DCF6E-45F5-46E5-A456-5EA464DA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D0B296-FC4B-4C0F-B191-0EBA364C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1AD69-4A95-4117-8D83-BCE5B788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CF8FF-06FE-4A66-9388-642603C1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DAC7-3A05-4471-B42E-DC101206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45EA9-1265-4587-A1AB-143F643C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F50EC-D356-4E39-8BD1-9696F56B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6B92B-1B49-49E1-BF8B-84F8C4FF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91A80-20F8-4234-BFB3-A4A33EC9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CFFDA4-5F44-49E4-A8E9-515DEEA9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D832D4-AC8C-4ED8-9CC0-2DCFE8D3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9216A-3352-44E1-9157-86E7D019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26CBF7-E757-4392-BADB-430A7BFE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D3107E-A4C0-44C3-AB72-67648BC8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FDBE6-E2E1-4BA7-A2BE-F5B4C71C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4435-BD22-44C1-AD8A-383DFA9F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234B4-CADE-432E-920E-B07B355FA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19C0-3D8B-4162-B9C6-12722584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2D3-C140-44EA-803B-59AA6FD7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AE11-E521-48A4-947D-EE3431C9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3AD4-7D6E-41A6-BD51-19B8E4A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B5E0-6571-437E-899E-A9B9721A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D07D-DC6D-45A8-898B-50466665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C6DE-496B-45CA-8CC5-513E9AE5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B7A8-A040-4E83-AC38-C12748944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7B3D8-0321-4F2E-B05B-081ED412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9593A-1BC6-49C1-97A4-C5804750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E3C1-84F3-44E6-87FC-447BD969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D56C5-F8A9-41BA-8842-EB2D75F1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2B3-3E7C-4ADB-91AE-EA820320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67B4-E2A0-42C1-84B4-F0D1127F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27FDB-12FD-4B6A-8DC4-56CDCB44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F06A-917C-4E6F-8D39-11F49D3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2307-E2EA-4299-9593-7A97116C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ABD07-8551-4D39-AC91-EDE5A612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A3F1-DBE2-410F-86C8-F8520D2B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B2FEA-97BB-49E5-B6F7-406C4AF0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556A-4224-4CAE-B545-F0DE98DA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4B3A7-18B2-496E-A717-E3C76B7B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9D92C-466E-4C7A-A092-DA053A7B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E5A-67DA-413C-B055-26C06C4D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CD365-31AE-4D9F-8BA4-8A437D0D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96E1-4C79-4028-BDC9-E0A8F1E2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D1325-8628-4893-A51C-0B77F720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9E36A-CBA9-47AB-BF6A-3663051D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5025-83AC-4FAB-B25D-3C870F7E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17930-3B91-4253-BE7D-A3280ABB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88612-870C-4BE9-A20B-7B0920D3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BA88-B503-42DA-B0FD-28FF3C94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51D96-8BBA-4A7A-8403-B8933EDB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05B83-BDB7-4AE9-AA4C-81A97CCD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2B3-5600-4288-BAB4-70A96819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0D6E2-1511-428E-ABAF-21F43C28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E3132-51CA-44EF-B5B1-F3B68B35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12844-C655-41C1-94F1-2CECCD32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255F9-6B25-4CD5-A3B1-05299880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1311-9963-4598-A25A-37BFCC86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3053D-5905-43BE-8102-279F2143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BDA7F-AD18-45CA-A19B-67673609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DD713-ED97-4FBF-BAB2-CB18EB4F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01293-7956-47AC-A772-753CB30A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B41E7-0FD0-4D58-9646-03E93AEA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27D-6469-478A-920F-6621F40C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F3C3C-4253-426D-AF95-BF792F29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CBA13-5025-4DCB-BFA5-60FA548D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EFDA9-D42F-47C2-BCB7-6C8B188B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95397-16F2-4BA1-979B-157125BB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ED44A-678E-49C3-A6CF-226101ED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0483D-AF52-4507-853E-5FE3CB61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9FD41-3C71-41C8-81D4-68B4742B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979C1-9A3A-4F45-A500-99B7545C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E3FE0-6E11-4F0C-96F6-E714C4BB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984B4-3ED0-4DAA-8B3D-6518A05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F24-55A1-4588-BE11-BADD5CFE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76CAD-AD7D-4E8B-A81F-494B00B3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F9236-1322-4818-9A5A-010E20A3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8ABDC-85DA-4A70-B5CB-A38B862F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82915-74D9-415C-9174-E30C1B52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63F5-8906-433E-8543-E8A175EB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DC39-9C93-4ABC-B5A8-EFBC1E27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CF723-EEE0-4A48-B12F-00183D9A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7D40A-B44A-4BE3-B43B-16D1894C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00CFA-3ECB-466E-9E66-32E49919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756A1-5FB4-41C5-8C82-24DE4C45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D57-35E5-49AC-97D4-74332FB6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80D09-5CF9-4A50-8FB0-C19BA9FC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B3BB9-6476-4B36-BB08-816D7ADB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BAC9B-D362-4F66-BAA1-982921F5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DE9AA-7C80-484B-B364-8482C7E7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493AA-24C4-4C7C-9DCF-F774BEB4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7F43E-6C97-4046-BBBB-92700132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00988-95E0-4779-8506-5454DF68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1950-04A8-4CAA-B908-006951E4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45425-30E2-4750-ADDA-84CF2B0E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11C56-BDAD-4E07-8853-AD52B9F3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17F-83C8-4C45-908E-57EFD67C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E9486-C96F-4199-A0C4-B98207B9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B6776-A980-499E-B97C-56F9F13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CD15A-75C5-4F74-911D-039859D7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E4099-BCF3-408B-BDC9-937011DB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29D02-9E6B-4A49-BAB1-F27FE1A6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46BFE-CF8C-4EDA-B5DE-A9E9503B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20A0C-12EF-42CB-9D3E-F5F26516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30F5D-A8FD-4C56-A148-C11707B5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1AEC8-7C3C-430F-BA66-FC7AE002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6DA11-6B4E-46B4-A872-07797ADA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C8EE-1537-4484-9D03-8CB40504B6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B53E-6274-4208-A368-8250D30496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56F8-E02A-4C73-8E9E-5458564E8E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F6A9-A739-4022-AB55-CBEF9C70403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966D-BB68-4ABF-B02C-6CF8C53697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D81F-A635-4A82-AA9A-0F6ABDC150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21FC-6417-4DD5-AA25-9F779D06C4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A9D0-99F2-4F46-9EB6-6A2B6FD6D0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B1BE-4A6D-4B85-B8F4-0AED159CA8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F4EB-9D15-4104-9D77-DA38D1BFE6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3BE9-7B16-4AE2-B4D7-5DDD8DB63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283B-9471-4EC4-9C61-25C2DF8724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392C-E998-4243-BBBF-4ED9A710C2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24C8-2AAF-4F51-BD1B-87319DFC74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FEA1-3C72-406E-B850-F1F7669995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0256-F88F-435E-9DA4-9C5DFF21A2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1A83-59E4-48A5-96EC-530CE9B0E2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9A04-0399-47C9-888D-5F7D9CD98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052AA-B8D4-4739-B035-76870BB0C6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6905-6C3B-4C29-9DEB-A590E8818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6E1C-274C-4F9A-91B6-7D50648AA0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4E6B-0570-488C-841C-0D393335D4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1515-9357-4F30-8EFE-AB9A23C767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1491-8916-4F0E-AE8C-AE953BB15F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5577-C77A-43CF-9E78-ECD963F2C2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A95-9301-41A4-87DA-463B8B6B02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jpe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23.png"/><Relationship Id="rId28" Type="http://schemas.openxmlformats.org/officeDocument/2006/relationships/image" Target="../media/image24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24.png"/><Relationship Id="rId33" Type="http://schemas.openxmlformats.org/officeDocument/2006/relationships/image" Target="../media/image21.png"/><Relationship Id="rId34" Type="http://schemas.openxmlformats.org/officeDocument/2006/relationships/image" Target="../media/image22.png"/><Relationship Id="rId35" Type="http://schemas.openxmlformats.org/officeDocument/2006/relationships/image" Target="../media/image23.png"/><Relationship Id="rId36" Type="http://schemas.openxmlformats.org/officeDocument/2006/relationships/image" Target="../media/image24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9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32.png"/><Relationship Id="rId16" Type="http://schemas.openxmlformats.org/officeDocument/2006/relationships/image" Target="../media/image33.png"/><Relationship Id="rId1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6" name="图片 8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617" name="矩形 9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10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11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图片 12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621" name="TextBox 13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图片 17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623" name="TextBox 20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图片 19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627" name="矩形 24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23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26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27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632" name="TextBox 25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4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635" name="矩形 28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图片 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637" name="TextBox 30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图片 29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1490760" y="177012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639" name="组合 15"/>
          <p:cNvGrpSpPr/>
          <p:nvPr/>
        </p:nvGrpSpPr>
        <p:grpSpPr>
          <a:xfrm>
            <a:off x="-179280" y="0"/>
            <a:ext cx="9459720" cy="7156800"/>
            <a:chOff x="-179280" y="0"/>
            <a:chExt cx="9459720" cy="7156800"/>
          </a:xfrm>
        </p:grpSpPr>
        <p:sp>
          <p:nvSpPr>
            <p:cNvPr id="640" name="矩形 3"/>
            <p:cNvSpPr/>
            <p:nvPr/>
          </p:nvSpPr>
          <p:spPr>
            <a:xfrm>
              <a:off x="-179280" y="0"/>
              <a:ext cx="9323280" cy="6956280"/>
            </a:xfrm>
            <a:prstGeom prst="rect">
              <a:avLst/>
            </a:prstGeom>
            <a:solidFill>
              <a:srgbClr val="1c83f0"/>
            </a:solidFill>
            <a:ln w="25560">
              <a:solidFill>
                <a:srgbClr val="1c83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41" name="组合 6"/>
            <p:cNvGrpSpPr/>
            <p:nvPr/>
          </p:nvGrpSpPr>
          <p:grpSpPr>
            <a:xfrm>
              <a:off x="144720" y="253800"/>
              <a:ext cx="9135720" cy="6903000"/>
              <a:chOff x="144720" y="253800"/>
              <a:chExt cx="9135720" cy="6903000"/>
            </a:xfrm>
          </p:grpSpPr>
          <p:pic>
            <p:nvPicPr>
              <p:cNvPr id="642" name="图片 16" descr=""/>
              <p:cNvPicPr/>
              <p:nvPr/>
            </p:nvPicPr>
            <p:blipFill>
              <a:blip r:embed="rId10"/>
              <a:srcRect l="0" t="0" r="0" b="6933"/>
              <a:stretch/>
            </p:blipFill>
            <p:spPr>
              <a:xfrm>
                <a:off x="957600" y="386640"/>
                <a:ext cx="3250440" cy="30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3" name="TextBox 4"/>
              <p:cNvSpPr/>
              <p:nvPr/>
            </p:nvSpPr>
            <p:spPr>
              <a:xfrm>
                <a:off x="144720" y="253800"/>
                <a:ext cx="36000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0" spc="-1" strike="noStrike">
                    <a:solidFill>
                      <a:srgbClr val="ffffff"/>
                    </a:solidFill>
                    <a:latin typeface="Calibri"/>
                  </a:rPr>
                  <a:t>Market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44" name="图片 5" descr=""/>
              <p:cNvPicPr/>
              <p:nvPr/>
            </p:nvPicPr>
            <p:blipFill>
              <a:blip r:embed="rId11"/>
              <a:stretch/>
            </p:blipFill>
            <p:spPr>
              <a:xfrm>
                <a:off x="325080" y="1602360"/>
                <a:ext cx="2114280" cy="211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TextBox 14"/>
              <p:cNvSpPr/>
              <p:nvPr/>
            </p:nvSpPr>
            <p:spPr>
              <a:xfrm>
                <a:off x="3282840" y="790920"/>
                <a:ext cx="57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货物品种遍布全球，商品应有尽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TextBox 18"/>
              <p:cNvSpPr/>
              <p:nvPr/>
            </p:nvSpPr>
            <p:spPr>
              <a:xfrm>
                <a:off x="2894760" y="1391040"/>
                <a:ext cx="6292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联合商家大力促销，廉价商品天天都有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47" name="图片 32" descr=""/>
              <p:cNvPicPr/>
              <p:nvPr/>
            </p:nvPicPr>
            <p:blipFill>
              <a:blip r:embed="rId12">
                <a:lum bright="70000" contrast="-70000"/>
              </a:blip>
              <a:stretch/>
            </p:blipFill>
            <p:spPr>
              <a:xfrm>
                <a:off x="5504760" y="1371600"/>
                <a:ext cx="2880000" cy="288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TextBox 33"/>
              <p:cNvSpPr/>
              <p:nvPr/>
            </p:nvSpPr>
            <p:spPr>
              <a:xfrm>
                <a:off x="3897720" y="2187720"/>
                <a:ext cx="22140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每件商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追根溯源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安全放心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649" name="图片 39" descr=""/>
              <p:cNvPicPr/>
              <p:nvPr/>
            </p:nvPicPr>
            <p:blipFill>
              <a:blip r:embed="rId13"/>
              <a:stretch/>
            </p:blipFill>
            <p:spPr>
              <a:xfrm>
                <a:off x="4041360" y="3672000"/>
                <a:ext cx="5239080" cy="32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TextBox 40"/>
              <p:cNvSpPr/>
              <p:nvPr/>
            </p:nvSpPr>
            <p:spPr>
              <a:xfrm>
                <a:off x="171720" y="4076640"/>
                <a:ext cx="4481280" cy="30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持卡人购物权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①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记名储值卡，刷卡消费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②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持卡享受联盟商户优惠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③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消费积分换好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④</a:t>
                </a:r>
                <a:r>
                  <a:rPr b="0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每周优惠信息速递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51" name="矩形 1"/>
          <p:cNvSpPr/>
          <p:nvPr/>
        </p:nvSpPr>
        <p:spPr>
          <a:xfrm>
            <a:off x="1890360" y="666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互联网时代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" fill="hold"/>
                                        <p:tgtEl>
                                          <p:spTgt spid="638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75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Box 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图片 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655" name="矩形 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图片 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659" name="TextBox 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0" name="图片 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图片 1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663" name="TextBox 1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4" name="图片 1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665" name="矩形 1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矩形 1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 1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9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670" name="TextBox 1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1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673" name="矩形 2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4" name="图片 2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675" name="TextBox 2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图片 2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3521160" y="177156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677" name="组合 49"/>
          <p:cNvGrpSpPr/>
          <p:nvPr/>
        </p:nvGrpSpPr>
        <p:grpSpPr>
          <a:xfrm>
            <a:off x="-6480" y="-14400"/>
            <a:ext cx="9150480" cy="6872400"/>
            <a:chOff x="-6480" y="-14400"/>
            <a:chExt cx="9150480" cy="6872400"/>
          </a:xfrm>
        </p:grpSpPr>
        <p:sp>
          <p:nvSpPr>
            <p:cNvPr id="678" name="矩形 37"/>
            <p:cNvSpPr/>
            <p:nvPr/>
          </p:nvSpPr>
          <p:spPr>
            <a:xfrm>
              <a:off x="1440" y="-14400"/>
              <a:ext cx="9142560" cy="6872400"/>
            </a:xfrm>
            <a:prstGeom prst="rect">
              <a:avLst/>
            </a:prstGeom>
            <a:solidFill>
              <a:srgbClr val="50b008"/>
            </a:solidFill>
            <a:ln w="25560">
              <a:solidFill>
                <a:srgbClr val="50b0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TextBox 38"/>
            <p:cNvSpPr/>
            <p:nvPr/>
          </p:nvSpPr>
          <p:spPr>
            <a:xfrm>
              <a:off x="145800" y="254880"/>
              <a:ext cx="359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Security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0" name="图片 39" descr=""/>
            <p:cNvPicPr/>
            <p:nvPr/>
          </p:nvPicPr>
          <p:blipFill>
            <a:blip r:embed="rId10"/>
            <a:stretch/>
          </p:blipFill>
          <p:spPr>
            <a:xfrm>
              <a:off x="2557440" y="95760"/>
              <a:ext cx="1625040" cy="162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图片 40" descr=""/>
            <p:cNvPicPr/>
            <p:nvPr/>
          </p:nvPicPr>
          <p:blipFill>
            <a:blip r:embed="rId11"/>
            <a:stretch/>
          </p:blipFill>
          <p:spPr>
            <a:xfrm>
              <a:off x="2692800" y="969120"/>
              <a:ext cx="86508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图片 43" descr=""/>
            <p:cNvPicPr/>
            <p:nvPr/>
          </p:nvPicPr>
          <p:blipFill>
            <a:blip r:embed="rId12"/>
            <a:stretch/>
          </p:blipFill>
          <p:spPr>
            <a:xfrm>
              <a:off x="4620240" y="311760"/>
              <a:ext cx="4365360" cy="436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TextBox 45"/>
            <p:cNvSpPr/>
            <p:nvPr/>
          </p:nvSpPr>
          <p:spPr>
            <a:xfrm>
              <a:off x="145800" y="1834560"/>
              <a:ext cx="4427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持卡人的安全保障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TextBox 46"/>
            <p:cNvSpPr/>
            <p:nvPr/>
          </p:nvSpPr>
          <p:spPr>
            <a:xfrm>
              <a:off x="103320" y="2384280"/>
              <a:ext cx="47152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业主的卡片内置有加密二维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二维码中涵盖业主的各项信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③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卡片可用于企业员工打卡考勤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也可用于业主的门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⑤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旦卡片遗失，立即挂失冻结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TextBox 47"/>
            <p:cNvSpPr/>
            <p:nvPr/>
          </p:nvSpPr>
          <p:spPr>
            <a:xfrm>
              <a:off x="222480" y="4098960"/>
              <a:ext cx="449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方正静蕾简体"/>
                  <a:ea typeface="方正静蕾简体"/>
                </a:rPr>
                <a:t>立即拿出手机扫描→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6" name="图片 48" descr=""/>
            <p:cNvPicPr/>
            <p:nvPr/>
          </p:nvPicPr>
          <p:blipFill>
            <a:blip r:embed="rId13"/>
            <a:stretch/>
          </p:blipFill>
          <p:spPr>
            <a:xfrm>
              <a:off x="-6480" y="4890600"/>
              <a:ext cx="9150480" cy="1955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75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Box 25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图片 26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689" name="矩形 27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28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29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图片 30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693" name="TextBox 31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图片 32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695" name="TextBox 33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图片 34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697" name="TextBox 35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图片 36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699" name="矩形 37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38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矩形 39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40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704" name="TextBox 42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Box 43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707" name="矩形 45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图片 46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709" name="TextBox 47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图片 48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1908000" y="342900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711" name="组合 1023"/>
          <p:cNvGrpSpPr/>
          <p:nvPr/>
        </p:nvGrpSpPr>
        <p:grpSpPr>
          <a:xfrm>
            <a:off x="-23760" y="0"/>
            <a:ext cx="9455040" cy="6967440"/>
            <a:chOff x="-23760" y="0"/>
            <a:chExt cx="9455040" cy="6967440"/>
          </a:xfrm>
        </p:grpSpPr>
        <p:sp>
          <p:nvSpPr>
            <p:cNvPr id="712" name="矩形 49"/>
            <p:cNvSpPr/>
            <p:nvPr/>
          </p:nvSpPr>
          <p:spPr>
            <a:xfrm>
              <a:off x="1440" y="0"/>
              <a:ext cx="9143280" cy="6858000"/>
            </a:xfrm>
            <a:prstGeom prst="rect">
              <a:avLst/>
            </a:prstGeom>
            <a:solidFill>
              <a:srgbClr val="d4b701"/>
            </a:solidFill>
            <a:ln w="25560">
              <a:solidFill>
                <a:srgbClr val="d4b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TextBox 50"/>
            <p:cNvSpPr/>
            <p:nvPr/>
          </p:nvSpPr>
          <p:spPr>
            <a:xfrm>
              <a:off x="253440" y="253800"/>
              <a:ext cx="4571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Share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4" name="图片 6" descr=""/>
            <p:cNvPicPr/>
            <p:nvPr/>
          </p:nvPicPr>
          <p:blipFill>
            <a:blip r:embed="rId10"/>
            <a:srcRect l="8241" t="20195" r="10487" b="17964"/>
            <a:stretch/>
          </p:blipFill>
          <p:spPr>
            <a:xfrm>
              <a:off x="2895480" y="101520"/>
              <a:ext cx="6134040" cy="266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TextBox 7" descr=""/>
            <p:cNvPicPr/>
            <p:nvPr/>
          </p:nvPicPr>
          <p:blipFill>
            <a:blip r:embed="rId11"/>
            <a:stretch/>
          </p:blipFill>
          <p:spPr>
            <a:xfrm>
              <a:off x="3360240" y="1023840"/>
              <a:ext cx="6071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TextBox 9"/>
            <p:cNvSpPr/>
            <p:nvPr/>
          </p:nvSpPr>
          <p:spPr>
            <a:xfrm>
              <a:off x="-23760" y="671400"/>
              <a:ext cx="1547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alibri"/>
                </a:rPr>
                <a:t>@</a:t>
              </a:r>
              <a:endParaRPr b="0" lang="en-US" sz="1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TextBox 10"/>
            <p:cNvSpPr/>
            <p:nvPr/>
          </p:nvSpPr>
          <p:spPr>
            <a:xfrm>
              <a:off x="1306440" y="1093320"/>
              <a:ext cx="259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Yoooou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Club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TextBox 11"/>
            <p:cNvSpPr/>
            <p:nvPr/>
          </p:nvSpPr>
          <p:spPr>
            <a:xfrm>
              <a:off x="390600" y="2816280"/>
              <a:ext cx="863892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是一个游站独立建设的网络社区，凭借您手中的卡片，您可以注册成为会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然后，您可以认识楼上办公室的漂亮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M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即便老板不让办公室谈恋爱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还可以贴上你们家的无敌漂亮狗狗，然后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无数好友，一起围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然，您还可以召集臭味相投之人搓上一盘，即便现在是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缺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9" name="图片 16" descr=""/>
            <p:cNvPicPr/>
            <p:nvPr/>
          </p:nvPicPr>
          <p:blipFill>
            <a:blip r:embed="rId12"/>
            <a:stretch/>
          </p:blipFill>
          <p:spPr>
            <a:xfrm>
              <a:off x="193320" y="3947760"/>
              <a:ext cx="4691520" cy="30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0" name="组合 22"/>
          <p:cNvGrpSpPr/>
          <p:nvPr/>
        </p:nvGrpSpPr>
        <p:grpSpPr>
          <a:xfrm>
            <a:off x="425520" y="4662360"/>
            <a:ext cx="6526080" cy="1465560"/>
            <a:chOff x="425520" y="4662360"/>
            <a:chExt cx="6526080" cy="1465560"/>
          </a:xfrm>
        </p:grpSpPr>
        <p:pic>
          <p:nvPicPr>
            <p:cNvPr id="721" name="图片 54" descr=""/>
            <p:cNvPicPr/>
            <p:nvPr/>
          </p:nvPicPr>
          <p:blipFill>
            <a:blip r:embed="rId13"/>
            <a:stretch/>
          </p:blipFill>
          <p:spPr>
            <a:xfrm>
              <a:off x="425520" y="4755960"/>
              <a:ext cx="1218960" cy="12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Box 55"/>
            <p:cNvSpPr/>
            <p:nvPr/>
          </p:nvSpPr>
          <p:spPr>
            <a:xfrm>
              <a:off x="1690200" y="466236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3" name="组合 60"/>
          <p:cNvGrpSpPr/>
          <p:nvPr/>
        </p:nvGrpSpPr>
        <p:grpSpPr>
          <a:xfrm>
            <a:off x="514440" y="4510080"/>
            <a:ext cx="6764400" cy="1819440"/>
            <a:chOff x="514440" y="4510080"/>
            <a:chExt cx="6764400" cy="1819440"/>
          </a:xfrm>
        </p:grpSpPr>
        <p:grpSp>
          <p:nvGrpSpPr>
            <p:cNvPr id="724" name="组合 23"/>
            <p:cNvGrpSpPr/>
            <p:nvPr/>
          </p:nvGrpSpPr>
          <p:grpSpPr>
            <a:xfrm>
              <a:off x="514440" y="4510080"/>
              <a:ext cx="6764400" cy="1739880"/>
              <a:chOff x="514440" y="4510080"/>
              <a:chExt cx="6764400" cy="1739880"/>
            </a:xfrm>
          </p:grpSpPr>
          <p:pic>
            <p:nvPicPr>
              <p:cNvPr id="725" name="图片 56" descr=""/>
              <p:cNvPicPr/>
              <p:nvPr/>
            </p:nvPicPr>
            <p:blipFill>
              <a:blip r:embed="rId14"/>
              <a:stretch/>
            </p:blipFill>
            <p:spPr>
              <a:xfrm>
                <a:off x="514440" y="4777560"/>
                <a:ext cx="121932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TextBox 57"/>
              <p:cNvSpPr/>
              <p:nvPr/>
            </p:nvSpPr>
            <p:spPr>
              <a:xfrm>
                <a:off x="2016720" y="4510080"/>
                <a:ext cx="5262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27" name="图片 58" descr=""/>
            <p:cNvPicPr/>
            <p:nvPr/>
          </p:nvPicPr>
          <p:blipFill>
            <a:blip r:embed="rId15"/>
            <a:stretch/>
          </p:blipFill>
          <p:spPr>
            <a:xfrm>
              <a:off x="1927440" y="5109840"/>
              <a:ext cx="121932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组合 21"/>
          <p:cNvGrpSpPr/>
          <p:nvPr/>
        </p:nvGrpSpPr>
        <p:grpSpPr>
          <a:xfrm>
            <a:off x="438120" y="4649760"/>
            <a:ext cx="6353280" cy="1465560"/>
            <a:chOff x="438120" y="4649760"/>
            <a:chExt cx="6353280" cy="1465560"/>
          </a:xfrm>
        </p:grpSpPr>
        <p:pic>
          <p:nvPicPr>
            <p:cNvPr id="729" name="图片 53" descr=""/>
            <p:cNvPicPr/>
            <p:nvPr/>
          </p:nvPicPr>
          <p:blipFill>
            <a:blip r:embed="rId16"/>
            <a:stretch/>
          </p:blipFill>
          <p:spPr>
            <a:xfrm>
              <a:off x="438120" y="466308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TextBox 59"/>
            <p:cNvSpPr/>
            <p:nvPr/>
          </p:nvSpPr>
          <p:spPr>
            <a:xfrm>
              <a:off x="1529640" y="46497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141"/>
          <p:cNvGrpSpPr/>
          <p:nvPr/>
        </p:nvGrpSpPr>
        <p:grpSpPr>
          <a:xfrm>
            <a:off x="417600" y="4672080"/>
            <a:ext cx="6526080" cy="1465560"/>
            <a:chOff x="417600" y="4672080"/>
            <a:chExt cx="6526080" cy="1465560"/>
          </a:xfrm>
        </p:grpSpPr>
        <p:pic>
          <p:nvPicPr>
            <p:cNvPr id="732" name="图片 142" descr=""/>
            <p:cNvPicPr/>
            <p:nvPr/>
          </p:nvPicPr>
          <p:blipFill>
            <a:blip r:embed="rId17"/>
            <a:stretch/>
          </p:blipFill>
          <p:spPr>
            <a:xfrm>
              <a:off x="417600" y="4765680"/>
              <a:ext cx="121896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Box 143"/>
            <p:cNvSpPr/>
            <p:nvPr/>
          </p:nvSpPr>
          <p:spPr>
            <a:xfrm>
              <a:off x="1682280" y="467208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4" name="组合 144"/>
          <p:cNvGrpSpPr/>
          <p:nvPr/>
        </p:nvGrpSpPr>
        <p:grpSpPr>
          <a:xfrm>
            <a:off x="506520" y="4521240"/>
            <a:ext cx="6764400" cy="1817640"/>
            <a:chOff x="506520" y="4521240"/>
            <a:chExt cx="6764400" cy="1817640"/>
          </a:xfrm>
        </p:grpSpPr>
        <p:grpSp>
          <p:nvGrpSpPr>
            <p:cNvPr id="735" name="组合 145"/>
            <p:cNvGrpSpPr/>
            <p:nvPr/>
          </p:nvGrpSpPr>
          <p:grpSpPr>
            <a:xfrm>
              <a:off x="506520" y="4521240"/>
              <a:ext cx="6764400" cy="1739880"/>
              <a:chOff x="506520" y="4521240"/>
              <a:chExt cx="6764400" cy="1739880"/>
            </a:xfrm>
          </p:grpSpPr>
          <p:pic>
            <p:nvPicPr>
              <p:cNvPr id="736" name="图片 147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6520" y="4788360"/>
                <a:ext cx="1219320" cy="121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7" name="TextBox 148"/>
              <p:cNvSpPr/>
              <p:nvPr/>
            </p:nvSpPr>
            <p:spPr>
              <a:xfrm>
                <a:off x="2008800" y="4521240"/>
                <a:ext cx="5262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38" name="图片 146" descr=""/>
            <p:cNvPicPr/>
            <p:nvPr/>
          </p:nvPicPr>
          <p:blipFill>
            <a:blip r:embed="rId19"/>
            <a:stretch/>
          </p:blipFill>
          <p:spPr>
            <a:xfrm>
              <a:off x="1919520" y="5120640"/>
              <a:ext cx="1219320" cy="121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9" name="组合 149"/>
          <p:cNvGrpSpPr/>
          <p:nvPr/>
        </p:nvGrpSpPr>
        <p:grpSpPr>
          <a:xfrm>
            <a:off x="430200" y="4659480"/>
            <a:ext cx="6353280" cy="1465560"/>
            <a:chOff x="430200" y="4659480"/>
            <a:chExt cx="6353280" cy="1465560"/>
          </a:xfrm>
        </p:grpSpPr>
        <p:pic>
          <p:nvPicPr>
            <p:cNvPr id="740" name="图片 150" descr=""/>
            <p:cNvPicPr/>
            <p:nvPr/>
          </p:nvPicPr>
          <p:blipFill>
            <a:blip r:embed="rId20"/>
            <a:stretch/>
          </p:blipFill>
          <p:spPr>
            <a:xfrm>
              <a:off x="430200" y="467280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Box 151"/>
            <p:cNvSpPr/>
            <p:nvPr/>
          </p:nvSpPr>
          <p:spPr>
            <a:xfrm>
              <a:off x="1521720" y="465948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2" name="组合 152"/>
          <p:cNvGrpSpPr/>
          <p:nvPr/>
        </p:nvGrpSpPr>
        <p:grpSpPr>
          <a:xfrm>
            <a:off x="425520" y="4662360"/>
            <a:ext cx="6526080" cy="1465560"/>
            <a:chOff x="425520" y="4662360"/>
            <a:chExt cx="6526080" cy="1465560"/>
          </a:xfrm>
        </p:grpSpPr>
        <p:pic>
          <p:nvPicPr>
            <p:cNvPr id="743" name="图片 153" descr=""/>
            <p:cNvPicPr/>
            <p:nvPr/>
          </p:nvPicPr>
          <p:blipFill>
            <a:blip r:embed="rId21"/>
            <a:stretch/>
          </p:blipFill>
          <p:spPr>
            <a:xfrm>
              <a:off x="425520" y="4755960"/>
              <a:ext cx="1218960" cy="12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TextBox 154"/>
            <p:cNvSpPr/>
            <p:nvPr/>
          </p:nvSpPr>
          <p:spPr>
            <a:xfrm>
              <a:off x="1690200" y="466236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5" name="组合 155"/>
          <p:cNvGrpSpPr/>
          <p:nvPr/>
        </p:nvGrpSpPr>
        <p:grpSpPr>
          <a:xfrm>
            <a:off x="514440" y="4510080"/>
            <a:ext cx="6764400" cy="1819440"/>
            <a:chOff x="514440" y="4510080"/>
            <a:chExt cx="6764400" cy="1819440"/>
          </a:xfrm>
        </p:grpSpPr>
        <p:grpSp>
          <p:nvGrpSpPr>
            <p:cNvPr id="746" name="组合 156"/>
            <p:cNvGrpSpPr/>
            <p:nvPr/>
          </p:nvGrpSpPr>
          <p:grpSpPr>
            <a:xfrm>
              <a:off x="514440" y="4510080"/>
              <a:ext cx="6764400" cy="1739880"/>
              <a:chOff x="514440" y="4510080"/>
              <a:chExt cx="6764400" cy="1739880"/>
            </a:xfrm>
          </p:grpSpPr>
          <p:pic>
            <p:nvPicPr>
              <p:cNvPr id="747" name="图片 1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514440" y="4777560"/>
                <a:ext cx="121932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TextBox 159"/>
              <p:cNvSpPr/>
              <p:nvPr/>
            </p:nvSpPr>
            <p:spPr>
              <a:xfrm>
                <a:off x="2016720" y="4510080"/>
                <a:ext cx="5262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49" name="图片 157" descr=""/>
            <p:cNvPicPr/>
            <p:nvPr/>
          </p:nvPicPr>
          <p:blipFill>
            <a:blip r:embed="rId23"/>
            <a:stretch/>
          </p:blipFill>
          <p:spPr>
            <a:xfrm>
              <a:off x="1927440" y="5109840"/>
              <a:ext cx="121932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组合 160"/>
          <p:cNvGrpSpPr/>
          <p:nvPr/>
        </p:nvGrpSpPr>
        <p:grpSpPr>
          <a:xfrm>
            <a:off x="438120" y="4649760"/>
            <a:ext cx="6353280" cy="1465560"/>
            <a:chOff x="438120" y="4649760"/>
            <a:chExt cx="6353280" cy="1465560"/>
          </a:xfrm>
        </p:grpSpPr>
        <p:pic>
          <p:nvPicPr>
            <p:cNvPr id="751" name="图片 161" descr=""/>
            <p:cNvPicPr/>
            <p:nvPr/>
          </p:nvPicPr>
          <p:blipFill>
            <a:blip r:embed="rId24"/>
            <a:stretch/>
          </p:blipFill>
          <p:spPr>
            <a:xfrm>
              <a:off x="438120" y="466308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TextBox 162"/>
            <p:cNvSpPr/>
            <p:nvPr/>
          </p:nvSpPr>
          <p:spPr>
            <a:xfrm>
              <a:off x="1529640" y="46497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163"/>
          <p:cNvGrpSpPr/>
          <p:nvPr/>
        </p:nvGrpSpPr>
        <p:grpSpPr>
          <a:xfrm>
            <a:off x="388800" y="4662360"/>
            <a:ext cx="6526440" cy="1465560"/>
            <a:chOff x="388800" y="4662360"/>
            <a:chExt cx="6526440" cy="1465560"/>
          </a:xfrm>
        </p:grpSpPr>
        <p:pic>
          <p:nvPicPr>
            <p:cNvPr id="754" name="图片 164" descr=""/>
            <p:cNvPicPr/>
            <p:nvPr/>
          </p:nvPicPr>
          <p:blipFill>
            <a:blip r:embed="rId25"/>
            <a:stretch/>
          </p:blipFill>
          <p:spPr>
            <a:xfrm>
              <a:off x="388800" y="4755960"/>
              <a:ext cx="1218960" cy="12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TextBox 165"/>
            <p:cNvSpPr/>
            <p:nvPr/>
          </p:nvSpPr>
          <p:spPr>
            <a:xfrm>
              <a:off x="1653480" y="46623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66"/>
          <p:cNvGrpSpPr/>
          <p:nvPr/>
        </p:nvGrpSpPr>
        <p:grpSpPr>
          <a:xfrm>
            <a:off x="479520" y="4510080"/>
            <a:ext cx="6762600" cy="1819440"/>
            <a:chOff x="479520" y="4510080"/>
            <a:chExt cx="6762600" cy="1819440"/>
          </a:xfrm>
        </p:grpSpPr>
        <p:grpSp>
          <p:nvGrpSpPr>
            <p:cNvPr id="757" name="组合 167"/>
            <p:cNvGrpSpPr/>
            <p:nvPr/>
          </p:nvGrpSpPr>
          <p:grpSpPr>
            <a:xfrm>
              <a:off x="479520" y="4510080"/>
              <a:ext cx="6762600" cy="1739880"/>
              <a:chOff x="479520" y="4510080"/>
              <a:chExt cx="6762600" cy="1739880"/>
            </a:xfrm>
          </p:grpSpPr>
          <p:pic>
            <p:nvPicPr>
              <p:cNvPr id="758" name="图片 169" descr=""/>
              <p:cNvPicPr/>
              <p:nvPr/>
            </p:nvPicPr>
            <p:blipFill>
              <a:blip r:embed="rId26"/>
              <a:stretch/>
            </p:blipFill>
            <p:spPr>
              <a:xfrm>
                <a:off x="479520" y="4777560"/>
                <a:ext cx="121896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9" name="TextBox 170"/>
              <p:cNvSpPr/>
              <p:nvPr/>
            </p:nvSpPr>
            <p:spPr>
              <a:xfrm>
                <a:off x="1981440" y="4510080"/>
                <a:ext cx="52606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60" name="图片 168" descr=""/>
            <p:cNvPicPr/>
            <p:nvPr/>
          </p:nvPicPr>
          <p:blipFill>
            <a:blip r:embed="rId27"/>
            <a:stretch/>
          </p:blipFill>
          <p:spPr>
            <a:xfrm>
              <a:off x="1892160" y="5109840"/>
              <a:ext cx="121896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组合 171"/>
          <p:cNvGrpSpPr/>
          <p:nvPr/>
        </p:nvGrpSpPr>
        <p:grpSpPr>
          <a:xfrm>
            <a:off x="401760" y="4649760"/>
            <a:ext cx="6352920" cy="1465560"/>
            <a:chOff x="401760" y="4649760"/>
            <a:chExt cx="6352920" cy="1465560"/>
          </a:xfrm>
        </p:grpSpPr>
        <p:pic>
          <p:nvPicPr>
            <p:cNvPr id="762" name="图片 172" descr=""/>
            <p:cNvPicPr/>
            <p:nvPr/>
          </p:nvPicPr>
          <p:blipFill>
            <a:blip r:embed="rId28"/>
            <a:stretch/>
          </p:blipFill>
          <p:spPr>
            <a:xfrm>
              <a:off x="401760" y="4663080"/>
              <a:ext cx="1218960" cy="121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Box 173"/>
            <p:cNvSpPr/>
            <p:nvPr/>
          </p:nvSpPr>
          <p:spPr>
            <a:xfrm>
              <a:off x="1493280" y="464976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4" name="组合 174"/>
          <p:cNvGrpSpPr/>
          <p:nvPr/>
        </p:nvGrpSpPr>
        <p:grpSpPr>
          <a:xfrm>
            <a:off x="425520" y="4651200"/>
            <a:ext cx="6526080" cy="1465560"/>
            <a:chOff x="425520" y="4651200"/>
            <a:chExt cx="6526080" cy="1465560"/>
          </a:xfrm>
        </p:grpSpPr>
        <p:pic>
          <p:nvPicPr>
            <p:cNvPr id="765" name="图片 175" descr=""/>
            <p:cNvPicPr/>
            <p:nvPr/>
          </p:nvPicPr>
          <p:blipFill>
            <a:blip r:embed="rId29"/>
            <a:stretch/>
          </p:blipFill>
          <p:spPr>
            <a:xfrm>
              <a:off x="425520" y="474480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Box 176"/>
            <p:cNvSpPr/>
            <p:nvPr/>
          </p:nvSpPr>
          <p:spPr>
            <a:xfrm>
              <a:off x="1690200" y="465120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7" name="组合 177"/>
          <p:cNvGrpSpPr/>
          <p:nvPr/>
        </p:nvGrpSpPr>
        <p:grpSpPr>
          <a:xfrm>
            <a:off x="514440" y="4498920"/>
            <a:ext cx="6764400" cy="1819440"/>
            <a:chOff x="514440" y="4498920"/>
            <a:chExt cx="6764400" cy="1819440"/>
          </a:xfrm>
        </p:grpSpPr>
        <p:grpSp>
          <p:nvGrpSpPr>
            <p:cNvPr id="768" name="组合 178"/>
            <p:cNvGrpSpPr/>
            <p:nvPr/>
          </p:nvGrpSpPr>
          <p:grpSpPr>
            <a:xfrm>
              <a:off x="514440" y="4498920"/>
              <a:ext cx="6764400" cy="1739880"/>
              <a:chOff x="514440" y="4498920"/>
              <a:chExt cx="6764400" cy="1739880"/>
            </a:xfrm>
          </p:grpSpPr>
          <p:pic>
            <p:nvPicPr>
              <p:cNvPr id="769" name="图片 180" descr=""/>
              <p:cNvPicPr/>
              <p:nvPr/>
            </p:nvPicPr>
            <p:blipFill>
              <a:blip r:embed="rId30"/>
              <a:stretch/>
            </p:blipFill>
            <p:spPr>
              <a:xfrm>
                <a:off x="514440" y="4766400"/>
                <a:ext cx="121932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0" name="TextBox 181"/>
              <p:cNvSpPr/>
              <p:nvPr/>
            </p:nvSpPr>
            <p:spPr>
              <a:xfrm>
                <a:off x="2016720" y="4498920"/>
                <a:ext cx="5262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71" name="图片 179" descr=""/>
            <p:cNvPicPr/>
            <p:nvPr/>
          </p:nvPicPr>
          <p:blipFill>
            <a:blip r:embed="rId31"/>
            <a:stretch/>
          </p:blipFill>
          <p:spPr>
            <a:xfrm>
              <a:off x="1927440" y="5098680"/>
              <a:ext cx="121932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2" name="组合 182"/>
          <p:cNvGrpSpPr/>
          <p:nvPr/>
        </p:nvGrpSpPr>
        <p:grpSpPr>
          <a:xfrm>
            <a:off x="438120" y="4637160"/>
            <a:ext cx="6353280" cy="1465560"/>
            <a:chOff x="438120" y="4637160"/>
            <a:chExt cx="6353280" cy="1465560"/>
          </a:xfrm>
        </p:grpSpPr>
        <p:pic>
          <p:nvPicPr>
            <p:cNvPr id="773" name="图片 183" descr=""/>
            <p:cNvPicPr/>
            <p:nvPr/>
          </p:nvPicPr>
          <p:blipFill>
            <a:blip r:embed="rId32"/>
            <a:stretch/>
          </p:blipFill>
          <p:spPr>
            <a:xfrm>
              <a:off x="438120" y="4650480"/>
              <a:ext cx="121896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TextBox 184"/>
            <p:cNvSpPr/>
            <p:nvPr/>
          </p:nvSpPr>
          <p:spPr>
            <a:xfrm>
              <a:off x="1529640" y="46371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组合 185"/>
          <p:cNvGrpSpPr/>
          <p:nvPr/>
        </p:nvGrpSpPr>
        <p:grpSpPr>
          <a:xfrm>
            <a:off x="401760" y="4651200"/>
            <a:ext cx="6526080" cy="1465560"/>
            <a:chOff x="401760" y="4651200"/>
            <a:chExt cx="6526080" cy="1465560"/>
          </a:xfrm>
        </p:grpSpPr>
        <p:pic>
          <p:nvPicPr>
            <p:cNvPr id="776" name="图片 186" descr=""/>
            <p:cNvPicPr/>
            <p:nvPr/>
          </p:nvPicPr>
          <p:blipFill>
            <a:blip r:embed="rId33"/>
            <a:stretch/>
          </p:blipFill>
          <p:spPr>
            <a:xfrm>
              <a:off x="401760" y="474480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Box 187"/>
            <p:cNvSpPr/>
            <p:nvPr/>
          </p:nvSpPr>
          <p:spPr>
            <a:xfrm>
              <a:off x="1666440" y="465120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组合 188"/>
          <p:cNvGrpSpPr/>
          <p:nvPr/>
        </p:nvGrpSpPr>
        <p:grpSpPr>
          <a:xfrm>
            <a:off x="492120" y="4498920"/>
            <a:ext cx="6762600" cy="1819440"/>
            <a:chOff x="492120" y="4498920"/>
            <a:chExt cx="6762600" cy="1819440"/>
          </a:xfrm>
        </p:grpSpPr>
        <p:grpSp>
          <p:nvGrpSpPr>
            <p:cNvPr id="779" name="组合 189"/>
            <p:cNvGrpSpPr/>
            <p:nvPr/>
          </p:nvGrpSpPr>
          <p:grpSpPr>
            <a:xfrm>
              <a:off x="492120" y="4498920"/>
              <a:ext cx="6762600" cy="1739880"/>
              <a:chOff x="492120" y="4498920"/>
              <a:chExt cx="6762600" cy="1739880"/>
            </a:xfrm>
          </p:grpSpPr>
          <p:pic>
            <p:nvPicPr>
              <p:cNvPr id="780" name="图片 191" descr=""/>
              <p:cNvPicPr/>
              <p:nvPr/>
            </p:nvPicPr>
            <p:blipFill>
              <a:blip r:embed="rId34"/>
              <a:stretch/>
            </p:blipFill>
            <p:spPr>
              <a:xfrm>
                <a:off x="492120" y="4766400"/>
                <a:ext cx="121896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1" name="TextBox 192"/>
              <p:cNvSpPr/>
              <p:nvPr/>
            </p:nvSpPr>
            <p:spPr>
              <a:xfrm>
                <a:off x="1994040" y="4498920"/>
                <a:ext cx="52606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82" name="图片 190" descr=""/>
            <p:cNvPicPr/>
            <p:nvPr/>
          </p:nvPicPr>
          <p:blipFill>
            <a:blip r:embed="rId35"/>
            <a:stretch/>
          </p:blipFill>
          <p:spPr>
            <a:xfrm>
              <a:off x="1904760" y="5098680"/>
              <a:ext cx="121896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3" name="组合 193"/>
          <p:cNvGrpSpPr/>
          <p:nvPr/>
        </p:nvGrpSpPr>
        <p:grpSpPr>
          <a:xfrm>
            <a:off x="414360" y="4637160"/>
            <a:ext cx="6353280" cy="1465560"/>
            <a:chOff x="414360" y="4637160"/>
            <a:chExt cx="6353280" cy="1465560"/>
          </a:xfrm>
        </p:grpSpPr>
        <p:pic>
          <p:nvPicPr>
            <p:cNvPr id="784" name="图片 194" descr=""/>
            <p:cNvPicPr/>
            <p:nvPr/>
          </p:nvPicPr>
          <p:blipFill>
            <a:blip r:embed="rId36"/>
            <a:stretch/>
          </p:blipFill>
          <p:spPr>
            <a:xfrm>
              <a:off x="414360" y="4650480"/>
              <a:ext cx="121896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TextBox 195"/>
            <p:cNvSpPr/>
            <p:nvPr/>
          </p:nvSpPr>
          <p:spPr>
            <a:xfrm>
              <a:off x="1505880" y="46371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组合 196"/>
          <p:cNvGrpSpPr/>
          <p:nvPr/>
        </p:nvGrpSpPr>
        <p:grpSpPr>
          <a:xfrm>
            <a:off x="411120" y="4651200"/>
            <a:ext cx="6526080" cy="1465560"/>
            <a:chOff x="411120" y="4651200"/>
            <a:chExt cx="6526080" cy="1465560"/>
          </a:xfrm>
        </p:grpSpPr>
        <p:pic>
          <p:nvPicPr>
            <p:cNvPr id="787" name="图片 197" descr=""/>
            <p:cNvPicPr/>
            <p:nvPr/>
          </p:nvPicPr>
          <p:blipFill>
            <a:blip r:embed="rId37"/>
            <a:stretch/>
          </p:blipFill>
          <p:spPr>
            <a:xfrm>
              <a:off x="411120" y="474480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TextBox 198"/>
            <p:cNvSpPr/>
            <p:nvPr/>
          </p:nvSpPr>
          <p:spPr>
            <a:xfrm>
              <a:off x="1675800" y="4651200"/>
              <a:ext cx="526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张：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丽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天是我们认识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天呢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9" name="组合 199"/>
          <p:cNvGrpSpPr/>
          <p:nvPr/>
        </p:nvGrpSpPr>
        <p:grpSpPr>
          <a:xfrm>
            <a:off x="501480" y="4498920"/>
            <a:ext cx="6762960" cy="1819440"/>
            <a:chOff x="501480" y="4498920"/>
            <a:chExt cx="6762960" cy="1819440"/>
          </a:xfrm>
        </p:grpSpPr>
        <p:grpSp>
          <p:nvGrpSpPr>
            <p:cNvPr id="790" name="组合 200"/>
            <p:cNvGrpSpPr/>
            <p:nvPr/>
          </p:nvGrpSpPr>
          <p:grpSpPr>
            <a:xfrm>
              <a:off x="501480" y="4498920"/>
              <a:ext cx="6762960" cy="1739880"/>
              <a:chOff x="501480" y="4498920"/>
              <a:chExt cx="6762960" cy="1739880"/>
            </a:xfrm>
          </p:grpSpPr>
          <p:pic>
            <p:nvPicPr>
              <p:cNvPr id="791" name="图片 202" descr=""/>
              <p:cNvPicPr/>
              <p:nvPr/>
            </p:nvPicPr>
            <p:blipFill>
              <a:blip r:embed="rId38"/>
              <a:stretch/>
            </p:blipFill>
            <p:spPr>
              <a:xfrm>
                <a:off x="501480" y="4766400"/>
                <a:ext cx="1218960" cy="12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2" name="TextBox 203"/>
              <p:cNvSpPr/>
              <p:nvPr/>
            </p:nvSpPr>
            <p:spPr>
              <a:xfrm>
                <a:off x="2003400" y="4498920"/>
                <a:ext cx="52610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兰：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飞飞 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@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王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快来看看我们家宝贝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             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评论（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3</a:t>
                </a: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793" name="图片 201" descr=""/>
            <p:cNvPicPr/>
            <p:nvPr/>
          </p:nvPicPr>
          <p:blipFill>
            <a:blip r:embed="rId39"/>
            <a:stretch/>
          </p:blipFill>
          <p:spPr>
            <a:xfrm>
              <a:off x="1914120" y="5098680"/>
              <a:ext cx="1218960" cy="121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4" name="组合 204"/>
          <p:cNvGrpSpPr/>
          <p:nvPr/>
        </p:nvGrpSpPr>
        <p:grpSpPr>
          <a:xfrm>
            <a:off x="423720" y="4637160"/>
            <a:ext cx="6353280" cy="1465560"/>
            <a:chOff x="423720" y="4637160"/>
            <a:chExt cx="6353280" cy="1465560"/>
          </a:xfrm>
        </p:grpSpPr>
        <p:pic>
          <p:nvPicPr>
            <p:cNvPr id="795" name="图片 205" descr=""/>
            <p:cNvPicPr/>
            <p:nvPr/>
          </p:nvPicPr>
          <p:blipFill>
            <a:blip r:embed="rId40"/>
            <a:stretch/>
          </p:blipFill>
          <p:spPr>
            <a:xfrm>
              <a:off x="423720" y="4650480"/>
              <a:ext cx="1218960" cy="121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Box 206"/>
            <p:cNvSpPr/>
            <p:nvPr/>
          </p:nvSpPr>
          <p:spPr>
            <a:xfrm>
              <a:off x="1515240" y="4637160"/>
              <a:ext cx="5261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美：每天又是周末啦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哈哈哈！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评论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转发（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7" name="TextBox 1026"/>
          <p:cNvSpPr/>
          <p:nvPr/>
        </p:nvSpPr>
        <p:spPr>
          <a:xfrm>
            <a:off x="1630440" y="4486320"/>
            <a:ext cx="23828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alibri"/>
              </a:rPr>
              <a:t>@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组合 1030"/>
          <p:cNvGrpSpPr/>
          <p:nvPr/>
        </p:nvGrpSpPr>
        <p:grpSpPr>
          <a:xfrm>
            <a:off x="4952880" y="4451400"/>
            <a:ext cx="4003920" cy="1983240"/>
            <a:chOff x="4952880" y="4451400"/>
            <a:chExt cx="4003920" cy="1983240"/>
          </a:xfrm>
        </p:grpSpPr>
        <p:sp>
          <p:nvSpPr>
            <p:cNvPr id="799" name="TextBox 1027"/>
            <p:cNvSpPr/>
            <p:nvPr/>
          </p:nvSpPr>
          <p:spPr>
            <a:xfrm>
              <a:off x="4965480" y="4451400"/>
              <a:ext cx="3925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通过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NS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系统实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TextBox 1028"/>
            <p:cNvSpPr/>
            <p:nvPr/>
          </p:nvSpPr>
          <p:spPr>
            <a:xfrm>
              <a:off x="4952880" y="4969080"/>
              <a:ext cx="4003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物业信息的传递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强业主之间的沟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③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营造年轻时尚的社区氛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网络吸引商家投资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7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75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9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0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0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1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2750"/>
                            </p:stCondLst>
                            <p:childTnLst>
                              <p:par>
                                <p:cTn id="12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2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250"/>
                            </p:stCondLst>
                            <p:childTnLst>
                              <p:par>
                                <p:cTn id="13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75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7750"/>
                            </p:stCondLst>
                            <p:childTnLst>
                              <p:par>
                                <p:cTn id="14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825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250"/>
                            </p:stCondLst>
                            <p:childTnLst>
                              <p:par>
                                <p:cTn id="15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750"/>
                            </p:stCondLst>
                            <p:childTnLst>
                              <p:par>
                                <p:cTn id="1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2750"/>
                            </p:stCondLst>
                            <p:childTnLst>
                              <p:par>
                                <p:cTn id="1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325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5250"/>
                            </p:stCondLst>
                            <p:childTnLst>
                              <p:par>
                                <p:cTn id="17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1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75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7750"/>
                            </p:stCondLst>
                            <p:childTnLst>
                              <p:par>
                                <p:cTn id="18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8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825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0250"/>
                            </p:stCondLst>
                            <p:childTnLst>
                              <p:par>
                                <p:cTn id="1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75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2750"/>
                            </p:stCondLst>
                            <p:childTnLst>
                              <p:par>
                                <p:cTn id="20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0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325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5250"/>
                            </p:stCondLst>
                            <p:childTnLst>
                              <p:par>
                                <p:cTn id="21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575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7750"/>
                            </p:stCondLst>
                            <p:childTnLst>
                              <p:par>
                                <p:cTn id="22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1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825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250"/>
                            </p:stCondLst>
                            <p:childTnLst>
                              <p:par>
                                <p:cTn id="23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3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75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2750"/>
                            </p:stCondLst>
                            <p:childTnLst>
                              <p:par>
                                <p:cTn id="24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41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325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45250"/>
                            </p:stCondLst>
                            <p:childTnLst>
                              <p:par>
                                <p:cTn id="25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5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75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7750"/>
                            </p:stCondLst>
                            <p:childTnLst>
                              <p:par>
                                <p:cTn id="26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825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250"/>
                            </p:stCondLst>
                            <p:childTnLst>
                              <p:par>
                                <p:cTn id="27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7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75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2750"/>
                            </p:stCondLst>
                            <p:childTnLst>
                              <p:par>
                                <p:cTn id="28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325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5250"/>
                            </p:stCondLst>
                            <p:childTnLst>
                              <p:par>
                                <p:cTn id="290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575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1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2" name="图片 1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803" name="矩形 1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矩形 1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1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6" name="图片 1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807" name="TextBox 1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8" name="图片 1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809" name="TextBox 1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图片 2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811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2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813" name="矩形 2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2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矩形 2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矩形 2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818" name="TextBox 2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2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821" name="矩形 3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图片 3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23" name="TextBox 3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4" name="图片 3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1187280" y="465300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825" name="组合 1"/>
          <p:cNvGrpSpPr/>
          <p:nvPr/>
        </p:nvGrpSpPr>
        <p:grpSpPr>
          <a:xfrm>
            <a:off x="0" y="0"/>
            <a:ext cx="9290160" cy="7211880"/>
            <a:chOff x="0" y="0"/>
            <a:chExt cx="9290160" cy="7211880"/>
          </a:xfrm>
        </p:grpSpPr>
        <p:sp>
          <p:nvSpPr>
            <p:cNvPr id="826" name="矩形 35"/>
            <p:cNvSpPr/>
            <p:nvPr/>
          </p:nvSpPr>
          <p:spPr>
            <a:xfrm>
              <a:off x="0" y="0"/>
              <a:ext cx="9144360" cy="6858000"/>
            </a:xfrm>
            <a:prstGeom prst="rect">
              <a:avLst/>
            </a:prstGeom>
            <a:solidFill>
              <a:srgbClr val="ca2448"/>
            </a:solidFill>
            <a:ln w="25560">
              <a:solidFill>
                <a:srgbClr val="ca24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Box 36"/>
            <p:cNvSpPr/>
            <p:nvPr/>
          </p:nvSpPr>
          <p:spPr>
            <a:xfrm>
              <a:off x="143280" y="253800"/>
              <a:ext cx="36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Funny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TextBox 37"/>
            <p:cNvSpPr/>
            <p:nvPr/>
          </p:nvSpPr>
          <p:spPr>
            <a:xfrm>
              <a:off x="6564240" y="123840"/>
              <a:ext cx="259200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智趣人生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9" name="图片 38" descr=""/>
            <p:cNvPicPr/>
            <p:nvPr/>
          </p:nvPicPr>
          <p:blipFill>
            <a:blip r:embed="rId10"/>
            <a:stretch/>
          </p:blipFill>
          <p:spPr>
            <a:xfrm>
              <a:off x="5363640" y="3285000"/>
              <a:ext cx="3926520" cy="39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39"/>
            <p:cNvSpPr/>
            <p:nvPr/>
          </p:nvSpPr>
          <p:spPr>
            <a:xfrm>
              <a:off x="395280" y="1400400"/>
              <a:ext cx="5832360" cy="45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随处可见的大小屏幕，您可以用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播放精彩的微电影，以轻松搞笑为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控制在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~15min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方便游客在购物间歇观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定期在游站社区举办贴照片活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将一些温馨有趣的内容在屏幕上展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g.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把家里的微波炉竖着放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③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社区中单身青年较多，可以更新单身青年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天生日送祝福，贴近社区关系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商铺打折信息及商业广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组合 2"/>
          <p:cNvGrpSpPr/>
          <p:nvPr/>
        </p:nvGrpSpPr>
        <p:grpSpPr>
          <a:xfrm>
            <a:off x="6453360" y="271440"/>
            <a:ext cx="2543040" cy="3170160"/>
            <a:chOff x="6453360" y="271440"/>
            <a:chExt cx="2543040" cy="3170160"/>
          </a:xfrm>
        </p:grpSpPr>
        <p:sp>
          <p:nvSpPr>
            <p:cNvPr id="832" name="圆角矩形标注 44"/>
            <p:cNvSpPr/>
            <p:nvPr/>
          </p:nvSpPr>
          <p:spPr>
            <a:xfrm>
              <a:off x="6453360" y="271440"/>
              <a:ext cx="2543040" cy="3170160"/>
            </a:xfrm>
            <a:prstGeom prst="wedgeRoundRectCallout">
              <a:avLst>
                <a:gd name="adj1" fmla="val -90740"/>
                <a:gd name="adj2" fmla="val 56087"/>
                <a:gd name="adj3" fmla="val 16667"/>
              </a:avLst>
            </a:prstGeom>
            <a:solidFill>
              <a:srgbClr val="ddd9c3"/>
            </a:solidFill>
            <a:ln w="25560">
              <a:solidFill>
                <a:srgbClr val="ddd9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3" name="图片 45" descr=""/>
            <p:cNvPicPr/>
            <p:nvPr/>
          </p:nvPicPr>
          <p:blipFill>
            <a:blip r:embed="rId11"/>
            <a:stretch/>
          </p:blipFill>
          <p:spPr>
            <a:xfrm>
              <a:off x="6516720" y="377640"/>
              <a:ext cx="2414160" cy="298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7" dur="500" fill="hold"/>
                                        <p:tgtEl>
                                          <p:spTgt spid="824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1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75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75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1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图片 1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836" name="矩形 1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矩形 1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Box 1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图片 1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840" name="TextBox 1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1" name="图片 1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842" name="TextBox 1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3" name="图片 2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844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5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846" name="矩形 2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矩形 2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矩形 2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851" name="TextBox 2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2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3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854" name="矩形 3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5" name="图片 3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56" name="TextBox 3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图片 3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5970600" y="3232080"/>
            <a:ext cx="2808360" cy="6100920"/>
          </a:xfrm>
          <a:prstGeom prst="rect">
            <a:avLst/>
          </a:prstGeom>
          <a:ln w="0">
            <a:noFill/>
          </a:ln>
        </p:spPr>
      </p:pic>
      <p:grpSp>
        <p:nvGrpSpPr>
          <p:cNvPr id="858" name="组合 45"/>
          <p:cNvGrpSpPr/>
          <p:nvPr/>
        </p:nvGrpSpPr>
        <p:grpSpPr>
          <a:xfrm>
            <a:off x="-50760" y="0"/>
            <a:ext cx="9416880" cy="6858000"/>
            <a:chOff x="-50760" y="0"/>
            <a:chExt cx="9416880" cy="6858000"/>
          </a:xfrm>
        </p:grpSpPr>
        <p:sp>
          <p:nvSpPr>
            <p:cNvPr id="859" name="矩形 35"/>
            <p:cNvSpPr/>
            <p:nvPr/>
          </p:nvSpPr>
          <p:spPr>
            <a:xfrm>
              <a:off x="-50760" y="0"/>
              <a:ext cx="9194760" cy="6858000"/>
            </a:xfrm>
            <a:prstGeom prst="rect">
              <a:avLst/>
            </a:prstGeom>
            <a:solidFill>
              <a:srgbClr val="9933ff"/>
            </a:solidFill>
            <a:ln w="255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TextBox 37"/>
            <p:cNvSpPr/>
            <p:nvPr/>
          </p:nvSpPr>
          <p:spPr>
            <a:xfrm>
              <a:off x="253440" y="253800"/>
              <a:ext cx="457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rt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TextBox 2"/>
            <p:cNvSpPr/>
            <p:nvPr/>
          </p:nvSpPr>
          <p:spPr>
            <a:xfrm>
              <a:off x="4668120" y="116280"/>
              <a:ext cx="2159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拒绝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1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文</a:t>
              </a:r>
              <a:r>
                <a:rPr b="1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TextBox 3"/>
            <p:cNvSpPr/>
            <p:nvPr/>
          </p:nvSpPr>
          <p:spPr>
            <a:xfrm>
              <a:off x="6827760" y="116280"/>
              <a:ext cx="2538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青年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3" name="TextBox 4" descr=""/>
          <p:cNvPicPr/>
          <p:nvPr/>
        </p:nvPicPr>
        <p:blipFill>
          <a:blip r:embed="rId10"/>
          <a:stretch/>
        </p:blipFill>
        <p:spPr>
          <a:xfrm>
            <a:off x="1023840" y="2998800"/>
            <a:ext cx="7338960" cy="115884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5" descr=""/>
          <p:cNvPicPr/>
          <p:nvPr/>
        </p:nvPicPr>
        <p:blipFill>
          <a:blip r:embed="rId11"/>
          <a:stretch/>
        </p:blipFill>
        <p:spPr>
          <a:xfrm>
            <a:off x="1281240" y="1800360"/>
            <a:ext cx="6298920" cy="383364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6" descr=""/>
          <p:cNvPicPr/>
          <p:nvPr/>
        </p:nvPicPr>
        <p:blipFill>
          <a:blip r:embed="rId12"/>
          <a:stretch/>
        </p:blipFill>
        <p:spPr>
          <a:xfrm>
            <a:off x="-38160" y="600120"/>
            <a:ext cx="8888400" cy="635004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7" descr=""/>
          <p:cNvPicPr/>
          <p:nvPr/>
        </p:nvPicPr>
        <p:blipFill>
          <a:blip r:embed="rId13"/>
          <a:stretch/>
        </p:blipFill>
        <p:spPr>
          <a:xfrm>
            <a:off x="-11160" y="1163520"/>
            <a:ext cx="8886960" cy="6350040"/>
          </a:xfrm>
          <a:prstGeom prst="rect">
            <a:avLst/>
          </a:prstGeom>
          <a:ln w="0">
            <a:noFill/>
          </a:ln>
        </p:spPr>
      </p:pic>
      <p:pic>
        <p:nvPicPr>
          <p:cNvPr id="867" name="TextBox 8" descr=""/>
          <p:cNvPicPr/>
          <p:nvPr/>
        </p:nvPicPr>
        <p:blipFill>
          <a:blip r:embed="rId14"/>
          <a:stretch/>
        </p:blipFill>
        <p:spPr>
          <a:xfrm>
            <a:off x="1828800" y="2925720"/>
            <a:ext cx="5688000" cy="193824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44"/>
          <p:cNvGrpSpPr/>
          <p:nvPr/>
        </p:nvGrpSpPr>
        <p:grpSpPr>
          <a:xfrm>
            <a:off x="250920" y="1833480"/>
            <a:ext cx="8642160" cy="4787640"/>
            <a:chOff x="250920" y="1833480"/>
            <a:chExt cx="8642160" cy="4787640"/>
          </a:xfrm>
        </p:grpSpPr>
        <p:sp>
          <p:nvSpPr>
            <p:cNvPr id="869" name="TextBox 41"/>
            <p:cNvSpPr/>
            <p:nvPr/>
          </p:nvSpPr>
          <p:spPr>
            <a:xfrm>
              <a:off x="250920" y="1833480"/>
              <a:ext cx="8642160" cy="47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游站的定位是中高端年轻人，所以我们为其量身打造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年一次的音乐节，可以邀请人气明星或者独立音乐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月一个主题展览，涵盖传统文化、传奇人物、异国风情等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③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以节日为主线的道具游戏，例如：元宵灯谜、万圣节鬼屋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④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每年春天举办以“相亲”为主题的游园会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⑤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为艺术展示，例如：国外流行的“快闪”活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⑥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体育竞技活动，例如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+3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篮球赛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0" name="图片 42" descr=""/>
            <p:cNvPicPr/>
            <p:nvPr/>
          </p:nvPicPr>
          <p:blipFill>
            <a:blip r:embed="rId15"/>
            <a:stretch/>
          </p:blipFill>
          <p:spPr>
            <a:xfrm>
              <a:off x="6448320" y="482976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图片 43" descr=""/>
            <p:cNvPicPr/>
            <p:nvPr/>
          </p:nvPicPr>
          <p:blipFill>
            <a:blip r:embed="rId16"/>
            <a:stretch/>
          </p:blipFill>
          <p:spPr>
            <a:xfrm>
              <a:off x="7374600" y="5063400"/>
              <a:ext cx="12193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500" fill="hold"/>
                                        <p:tgtEl>
                                          <p:spTgt spid="857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345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7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75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5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1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4" name="图片 1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875" name="矩形 1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矩形 1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TextBox 1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8" name="图片 1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879" name="TextBox 1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图片 1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881" name="TextBox 1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2" name="图片 2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883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4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885" name="矩形 2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2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矩形 2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矩形 2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890" name="TextBox 2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2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893" name="矩形 3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4" name="图片 3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95" name="TextBox 3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图片 3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3262320" y="345600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897" name="组合 6"/>
          <p:cNvGrpSpPr/>
          <p:nvPr/>
        </p:nvGrpSpPr>
        <p:grpSpPr>
          <a:xfrm>
            <a:off x="-23760" y="0"/>
            <a:ext cx="9291600" cy="7362000"/>
            <a:chOff x="-23760" y="0"/>
            <a:chExt cx="9291600" cy="7362000"/>
          </a:xfrm>
        </p:grpSpPr>
        <p:sp>
          <p:nvSpPr>
            <p:cNvPr id="898" name="矩形 35"/>
            <p:cNvSpPr/>
            <p:nvPr/>
          </p:nvSpPr>
          <p:spPr>
            <a:xfrm>
              <a:off x="-23760" y="0"/>
              <a:ext cx="9168120" cy="6858360"/>
            </a:xfrm>
            <a:prstGeom prst="rect">
              <a:avLst/>
            </a:prstGeom>
            <a:solidFill>
              <a:srgbClr val="e46c0a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TextBox 36"/>
            <p:cNvSpPr/>
            <p:nvPr/>
          </p:nvSpPr>
          <p:spPr>
            <a:xfrm>
              <a:off x="253080" y="253800"/>
              <a:ext cx="457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rainpower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TextBox 1"/>
            <p:cNvSpPr/>
            <p:nvPr/>
          </p:nvSpPr>
          <p:spPr>
            <a:xfrm>
              <a:off x="4947840" y="345960"/>
              <a:ext cx="4320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物联网时代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1" name="图片 2" descr=""/>
            <p:cNvPicPr/>
            <p:nvPr/>
          </p:nvPicPr>
          <p:blipFill>
            <a:blip r:embed="rId10"/>
            <a:stretch/>
          </p:blipFill>
          <p:spPr>
            <a:xfrm>
              <a:off x="2880" y="1424880"/>
              <a:ext cx="2688840" cy="26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3"/>
            <p:cNvSpPr/>
            <p:nvPr/>
          </p:nvSpPr>
          <p:spPr>
            <a:xfrm>
              <a:off x="2274120" y="1913400"/>
              <a:ext cx="1159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+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3" name="图片 37" descr=""/>
            <p:cNvPicPr/>
            <p:nvPr/>
          </p:nvPicPr>
          <p:blipFill>
            <a:blip r:embed="rId11"/>
            <a:stretch/>
          </p:blipFill>
          <p:spPr>
            <a:xfrm>
              <a:off x="2989080" y="1720080"/>
              <a:ext cx="335736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TextBox 4"/>
            <p:cNvSpPr/>
            <p:nvPr/>
          </p:nvSpPr>
          <p:spPr>
            <a:xfrm>
              <a:off x="329400" y="4098240"/>
              <a:ext cx="8497440" cy="326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试想一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①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如果您可以用您的手机操控您的家或者办公室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那么您不在家的这几天，就有一个无形的帮手替您照顾您的宠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回家的途中，就有人帮你放好了洗澡水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在办公室电脑上的文件会自动同步到您家的电脑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公司员工的一举一动尽在您的掌控之中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②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手中的卡片可以进门刷卡，可以进行访客预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卡片可以给您代缴水电费、物业费等等，当然账单会自动发到您的手机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 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TextBox 5"/>
            <p:cNvSpPr/>
            <p:nvPr/>
          </p:nvSpPr>
          <p:spPr>
            <a:xfrm>
              <a:off x="6223680" y="1913400"/>
              <a:ext cx="3044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= </a:t>
              </a:r>
              <a:r>
                <a:rPr b="0" lang="zh-CN" sz="8800" spc="-1" strike="noStrike">
                  <a:solidFill>
                    <a:srgbClr val="d4b701"/>
                  </a:solidFill>
                  <a:latin typeface="微软雅黑"/>
                  <a:ea typeface="微软雅黑"/>
                </a:rPr>
                <a:t>∞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6" dur="500" fill="hold"/>
                                        <p:tgtEl>
                                          <p:spTgt spid="896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2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75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75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11"/>
          <p:cNvSpPr/>
          <p:nvPr/>
        </p:nvSpPr>
        <p:spPr>
          <a:xfrm>
            <a:off x="6300720" y="5904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hello3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7" name="图片 12" descr=""/>
          <p:cNvPicPr/>
          <p:nvPr/>
        </p:nvPicPr>
        <p:blipFill>
          <a:blip r:embed="rId1"/>
          <a:stretch/>
        </p:blipFill>
        <p:spPr>
          <a:xfrm>
            <a:off x="7740720" y="542880"/>
            <a:ext cx="552240" cy="438120"/>
          </a:xfrm>
          <a:prstGeom prst="rect">
            <a:avLst/>
          </a:prstGeom>
          <a:ln w="0">
            <a:noFill/>
          </a:ln>
        </p:spPr>
      </p:pic>
      <p:sp>
        <p:nvSpPr>
          <p:cNvPr id="908" name="矩形 13"/>
          <p:cNvSpPr/>
          <p:nvPr/>
        </p:nvSpPr>
        <p:spPr>
          <a:xfrm>
            <a:off x="3708360" y="1197000"/>
            <a:ext cx="2951280" cy="1674720"/>
          </a:xfrm>
          <a:prstGeom prst="rect">
            <a:avLst/>
          </a:prstGeom>
          <a:solidFill>
            <a:srgbClr val="50b008"/>
          </a:solidFill>
          <a:ln w="25560">
            <a:solidFill>
              <a:srgbClr val="50b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14"/>
          <p:cNvSpPr/>
          <p:nvPr/>
        </p:nvSpPr>
        <p:spPr>
          <a:xfrm>
            <a:off x="863640" y="3006720"/>
            <a:ext cx="1332000" cy="1332000"/>
          </a:xfrm>
          <a:prstGeom prst="rect">
            <a:avLst/>
          </a:prstGeom>
          <a:solidFill>
            <a:srgbClr val="d4b701"/>
          </a:solidFill>
          <a:ln w="25560">
            <a:solidFill>
              <a:srgbClr val="d4b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TextBox 15"/>
          <p:cNvSpPr/>
          <p:nvPr/>
        </p:nvSpPr>
        <p:spPr>
          <a:xfrm>
            <a:off x="763560" y="40788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开始  触碰未来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1" name="图片 16" descr=""/>
          <p:cNvPicPr/>
          <p:nvPr/>
        </p:nvPicPr>
        <p:blipFill>
          <a:blip r:embed="rId2"/>
          <a:srcRect l="0" t="0" r="19139" b="28014"/>
          <a:stretch/>
        </p:blipFill>
        <p:spPr>
          <a:xfrm>
            <a:off x="826920" y="1197000"/>
            <a:ext cx="2778120" cy="1697040"/>
          </a:xfrm>
          <a:prstGeom prst="rect">
            <a:avLst/>
          </a:prstGeom>
          <a:ln w="0">
            <a:noFill/>
          </a:ln>
        </p:spPr>
      </p:pic>
      <p:sp>
        <p:nvSpPr>
          <p:cNvPr id="912" name="TextBox 17"/>
          <p:cNvSpPr/>
          <p:nvPr/>
        </p:nvSpPr>
        <p:spPr>
          <a:xfrm>
            <a:off x="863640" y="13716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图片 18" descr=""/>
          <p:cNvPicPr/>
          <p:nvPr/>
        </p:nvPicPr>
        <p:blipFill>
          <a:blip r:embed="rId3"/>
          <a:srcRect l="7131" t="4915" r="8954" b="10302"/>
          <a:stretch/>
        </p:blipFill>
        <p:spPr>
          <a:xfrm>
            <a:off x="3743280" y="1770120"/>
            <a:ext cx="1281240" cy="1101600"/>
          </a:xfrm>
          <a:prstGeom prst="rect">
            <a:avLst/>
          </a:prstGeom>
          <a:ln w="0">
            <a:noFill/>
          </a:ln>
        </p:spPr>
      </p:pic>
      <p:sp>
        <p:nvSpPr>
          <p:cNvPr id="914" name="TextBox 19"/>
          <p:cNvSpPr/>
          <p:nvPr/>
        </p:nvSpPr>
        <p:spPr>
          <a:xfrm>
            <a:off x="5184720" y="21747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图片 20" descr=""/>
          <p:cNvPicPr/>
          <p:nvPr/>
        </p:nvPicPr>
        <p:blipFill>
          <a:blip r:embed="rId4"/>
          <a:stretch/>
        </p:blipFill>
        <p:spPr>
          <a:xfrm>
            <a:off x="2273400" y="3006720"/>
            <a:ext cx="1331640" cy="1332000"/>
          </a:xfrm>
          <a:prstGeom prst="rect">
            <a:avLst/>
          </a:prstGeom>
          <a:ln w="0">
            <a:noFill/>
          </a:ln>
        </p:spPr>
      </p:pic>
      <p:sp>
        <p:nvSpPr>
          <p:cNvPr id="916" name="TextBox 21"/>
          <p:cNvSpPr/>
          <p:nvPr/>
        </p:nvSpPr>
        <p:spPr>
          <a:xfrm>
            <a:off x="1012680" y="34416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图片 22" descr=""/>
          <p:cNvPicPr/>
          <p:nvPr/>
        </p:nvPicPr>
        <p:blipFill>
          <a:blip r:embed="rId5"/>
          <a:srcRect l="0" t="0" r="697" b="7905"/>
          <a:stretch/>
        </p:blipFill>
        <p:spPr>
          <a:xfrm>
            <a:off x="855720" y="4451400"/>
            <a:ext cx="1332000" cy="1317600"/>
          </a:xfrm>
          <a:prstGeom prst="rect">
            <a:avLst/>
          </a:prstGeom>
          <a:ln w="0">
            <a:noFill/>
          </a:ln>
        </p:spPr>
      </p:pic>
      <p:sp>
        <p:nvSpPr>
          <p:cNvPr id="918" name="矩形 23"/>
          <p:cNvSpPr/>
          <p:nvPr/>
        </p:nvSpPr>
        <p:spPr>
          <a:xfrm>
            <a:off x="2273400" y="4437000"/>
            <a:ext cx="1331640" cy="1332000"/>
          </a:xfrm>
          <a:prstGeom prst="rect">
            <a:avLst/>
          </a:prstGeom>
          <a:solidFill>
            <a:srgbClr val="ca2448"/>
          </a:solidFill>
          <a:ln w="25560">
            <a:solidFill>
              <a:srgbClr val="ca24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24"/>
          <p:cNvSpPr/>
          <p:nvPr/>
        </p:nvSpPr>
        <p:spPr>
          <a:xfrm>
            <a:off x="2411280" y="4869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Fun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矩形 25"/>
          <p:cNvSpPr/>
          <p:nvPr/>
        </p:nvSpPr>
        <p:spPr>
          <a:xfrm>
            <a:off x="3708360" y="3006720"/>
            <a:ext cx="2951280" cy="133200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矩形 26"/>
          <p:cNvSpPr/>
          <p:nvPr/>
        </p:nvSpPr>
        <p:spPr>
          <a:xfrm>
            <a:off x="5064120" y="4433760"/>
            <a:ext cx="3228840" cy="1332000"/>
          </a:xfrm>
          <a:prstGeom prst="rect">
            <a:avLst/>
          </a:prstGeom>
          <a:solidFill>
            <a:srgbClr val="93cddd"/>
          </a:solidFill>
          <a:ln w="255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2" name="Picture 5" descr="C:\Users\hello360\AppData\Local\Microsoft\Windows\Temporary Internet Files\Content.IE5\PNBFMKU0\MC900333436[1].wmf"/>
          <p:cNvPicPr/>
          <p:nvPr/>
        </p:nvPicPr>
        <p:blipFill>
          <a:blip r:embed="rId6"/>
          <a:stretch/>
        </p:blipFill>
        <p:spPr>
          <a:xfrm>
            <a:off x="4821120" y="3181320"/>
            <a:ext cx="1841760" cy="1182600"/>
          </a:xfrm>
          <a:prstGeom prst="rect">
            <a:avLst/>
          </a:prstGeom>
          <a:ln w="0">
            <a:noFill/>
          </a:ln>
        </p:spPr>
      </p:pic>
      <p:sp>
        <p:nvSpPr>
          <p:cNvPr id="923" name="TextBox 28"/>
          <p:cNvSpPr/>
          <p:nvPr/>
        </p:nvSpPr>
        <p:spPr>
          <a:xfrm>
            <a:off x="3635280" y="296712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Brain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TextBox 29"/>
          <p:cNvSpPr/>
          <p:nvPr/>
        </p:nvSpPr>
        <p:spPr>
          <a:xfrm>
            <a:off x="5504040" y="488952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Comfor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10" descr="C:\Users\hello360\AppData\Local\Microsoft\Windows\Temporary Internet Files\Content.IE5\RERDEUOA\MC900437312[1].jpg"/>
          <p:cNvPicPr/>
          <p:nvPr/>
        </p:nvPicPr>
        <p:blipFill>
          <a:blip r:embed="rId7"/>
          <a:stretch/>
        </p:blipFill>
        <p:spPr>
          <a:xfrm>
            <a:off x="3687840" y="4437000"/>
            <a:ext cx="1315800" cy="1317600"/>
          </a:xfrm>
          <a:prstGeom prst="rect">
            <a:avLst/>
          </a:prstGeom>
          <a:ln w="0">
            <a:noFill/>
          </a:ln>
        </p:spPr>
      </p:pic>
      <p:sp>
        <p:nvSpPr>
          <p:cNvPr id="926" name="矩形 31"/>
          <p:cNvSpPr/>
          <p:nvPr/>
        </p:nvSpPr>
        <p:spPr>
          <a:xfrm>
            <a:off x="6767640" y="1200240"/>
            <a:ext cx="1525320" cy="3138480"/>
          </a:xfrm>
          <a:prstGeom prst="rect">
            <a:avLst/>
          </a:prstGeom>
          <a:solidFill>
            <a:srgbClr val="9933ff"/>
          </a:solidFill>
          <a:ln w="255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7" name="图片 32" descr=""/>
          <p:cNvPicPr/>
          <p:nvPr/>
        </p:nvPicPr>
        <p:blipFill>
          <a:blip r:embed="rId8"/>
          <a:stretch/>
        </p:blipFill>
        <p:spPr>
          <a:xfrm>
            <a:off x="6311880" y="123336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928" name="TextBox 33"/>
          <p:cNvSpPr/>
          <p:nvPr/>
        </p:nvSpPr>
        <p:spPr>
          <a:xfrm>
            <a:off x="7056360" y="371628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图片 34" descr=""/>
          <p:cNvPicPr/>
          <p:nvPr/>
        </p:nvPicPr>
        <p:blipFill>
          <a:blip r:embed="rId9"/>
          <a:srcRect l="0" t="0" r="0" b="18521"/>
          <a:stretch/>
        </p:blipFill>
        <p:spPr>
          <a:xfrm>
            <a:off x="6611760" y="4653000"/>
            <a:ext cx="2808360" cy="6099120"/>
          </a:xfrm>
          <a:prstGeom prst="rect">
            <a:avLst/>
          </a:prstGeom>
          <a:ln w="0">
            <a:noFill/>
          </a:ln>
        </p:spPr>
      </p:pic>
      <p:grpSp>
        <p:nvGrpSpPr>
          <p:cNvPr id="930" name="组合 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1" name="矩形 3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93cddd"/>
            </a:solidFill>
            <a:ln w="2556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TextBox 36"/>
            <p:cNvSpPr/>
            <p:nvPr/>
          </p:nvSpPr>
          <p:spPr>
            <a:xfrm>
              <a:off x="143640" y="253800"/>
              <a:ext cx="486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Comfortable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TextBox 1"/>
            <p:cNvSpPr/>
            <p:nvPr/>
          </p:nvSpPr>
          <p:spPr>
            <a:xfrm>
              <a:off x="4596840" y="301320"/>
              <a:ext cx="1394280" cy="1434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幸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生活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4" name="图片 2" descr=""/>
            <p:cNvPicPr/>
            <p:nvPr/>
          </p:nvPicPr>
          <p:blipFill>
            <a:blip r:embed="rId10"/>
            <a:stretch/>
          </p:blipFill>
          <p:spPr>
            <a:xfrm>
              <a:off x="5063400" y="2376360"/>
              <a:ext cx="3550680" cy="355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Box 3"/>
            <p:cNvSpPr/>
            <p:nvPr/>
          </p:nvSpPr>
          <p:spPr>
            <a:xfrm>
              <a:off x="323280" y="1140840"/>
              <a:ext cx="559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抛开一切，人们的体验最为重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总是，幸福感是衡量所有的唯一标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TextBox 4"/>
            <p:cNvSpPr/>
            <p:nvPr/>
          </p:nvSpPr>
          <p:spPr>
            <a:xfrm>
              <a:off x="262080" y="3056760"/>
              <a:ext cx="8487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到一个生日问候，大到地方商业政策扶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传统到柳树下相亲问候，现代到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聊天上线隐身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家门口的世界，家对门的亲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这是年轻人的家园，成功人士的创业热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来到建筑中的城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来到城市中的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7" name="组合 7"/>
          <p:cNvGrpSpPr/>
          <p:nvPr/>
        </p:nvGrpSpPr>
        <p:grpSpPr>
          <a:xfrm>
            <a:off x="5184720" y="2392200"/>
            <a:ext cx="1187640" cy="603360"/>
            <a:chOff x="5184720" y="2392200"/>
            <a:chExt cx="1187640" cy="603360"/>
          </a:xfrm>
        </p:grpSpPr>
        <p:sp>
          <p:nvSpPr>
            <p:cNvPr id="938" name="云形标注 5"/>
            <p:cNvSpPr/>
            <p:nvPr/>
          </p:nvSpPr>
          <p:spPr>
            <a:xfrm>
              <a:off x="5187600" y="2419920"/>
              <a:ext cx="1184760" cy="429480"/>
            </a:xfrm>
            <a:prstGeom prst="cloudCallout">
              <a:avLst>
                <a:gd name="adj1" fmla="val 16578"/>
                <a:gd name="adj2" fmla="val 115115"/>
              </a:avLst>
            </a:prstGeom>
            <a:solidFill>
              <a:srgbClr val="ff9999"/>
            </a:solidFill>
            <a:ln w="9360">
              <a:solidFill>
                <a:srgbClr val="953735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9" name="TextBox 6" descr=""/>
            <p:cNvPicPr/>
            <p:nvPr/>
          </p:nvPicPr>
          <p:blipFill>
            <a:blip r:embed="rId11"/>
            <a:stretch/>
          </p:blipFill>
          <p:spPr>
            <a:xfrm>
              <a:off x="5184720" y="2392200"/>
              <a:ext cx="115560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0" name="组合 8"/>
          <p:cNvGrpSpPr/>
          <p:nvPr/>
        </p:nvGrpSpPr>
        <p:grpSpPr>
          <a:xfrm>
            <a:off x="6254640" y="1681200"/>
            <a:ext cx="1187640" cy="603360"/>
            <a:chOff x="6254640" y="1681200"/>
            <a:chExt cx="1187640" cy="603360"/>
          </a:xfrm>
        </p:grpSpPr>
        <p:sp>
          <p:nvSpPr>
            <p:cNvPr id="941" name="云形标注 37"/>
            <p:cNvSpPr/>
            <p:nvPr/>
          </p:nvSpPr>
          <p:spPr>
            <a:xfrm>
              <a:off x="6260760" y="1710360"/>
              <a:ext cx="1181520" cy="429480"/>
            </a:xfrm>
            <a:prstGeom prst="cloudCallout">
              <a:avLst>
                <a:gd name="adj1" fmla="val 16578"/>
                <a:gd name="adj2" fmla="val 115115"/>
              </a:avLst>
            </a:prstGeom>
            <a:solidFill>
              <a:srgbClr val="ffff66"/>
            </a:soli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2" name="TextBox 38" descr=""/>
            <p:cNvPicPr/>
            <p:nvPr/>
          </p:nvPicPr>
          <p:blipFill>
            <a:blip r:embed="rId12"/>
            <a:stretch/>
          </p:blipFill>
          <p:spPr>
            <a:xfrm>
              <a:off x="6254640" y="1681200"/>
              <a:ext cx="115848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3" name="组合 9"/>
          <p:cNvGrpSpPr/>
          <p:nvPr/>
        </p:nvGrpSpPr>
        <p:grpSpPr>
          <a:xfrm>
            <a:off x="7910640" y="2457360"/>
            <a:ext cx="1187280" cy="603360"/>
            <a:chOff x="7910640" y="2457360"/>
            <a:chExt cx="1187280" cy="603360"/>
          </a:xfrm>
        </p:grpSpPr>
        <p:sp>
          <p:nvSpPr>
            <p:cNvPr id="944" name="云形标注 39"/>
            <p:cNvSpPr/>
            <p:nvPr/>
          </p:nvSpPr>
          <p:spPr>
            <a:xfrm>
              <a:off x="7914600" y="2483640"/>
              <a:ext cx="1183320" cy="429480"/>
            </a:xfrm>
            <a:prstGeom prst="cloudCallout">
              <a:avLst>
                <a:gd name="adj1" fmla="val -29384"/>
                <a:gd name="adj2" fmla="val 102490"/>
              </a:avLst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5400000"/>
            </a:gradFill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5" name="TextBox 40" descr=""/>
            <p:cNvPicPr/>
            <p:nvPr/>
          </p:nvPicPr>
          <p:blipFill>
            <a:blip r:embed="rId13"/>
            <a:stretch/>
          </p:blipFill>
          <p:spPr>
            <a:xfrm>
              <a:off x="7910640" y="2457360"/>
              <a:ext cx="1154520" cy="60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6" name="组合 10"/>
          <p:cNvGrpSpPr/>
          <p:nvPr/>
        </p:nvGrpSpPr>
        <p:grpSpPr>
          <a:xfrm>
            <a:off x="4173480" y="4265640"/>
            <a:ext cx="1189080" cy="603360"/>
            <a:chOff x="4173480" y="4265640"/>
            <a:chExt cx="1189080" cy="603360"/>
          </a:xfrm>
        </p:grpSpPr>
        <p:sp>
          <p:nvSpPr>
            <p:cNvPr id="947" name="云形标注 41"/>
            <p:cNvSpPr/>
            <p:nvPr/>
          </p:nvSpPr>
          <p:spPr>
            <a:xfrm>
              <a:off x="4177080" y="4294800"/>
              <a:ext cx="1185480" cy="429480"/>
            </a:xfrm>
            <a:prstGeom prst="cloudCallout">
              <a:avLst>
                <a:gd name="adj1" fmla="val 77509"/>
                <a:gd name="adj2" fmla="val 45662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54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8" name="TextBox 42" descr=""/>
            <p:cNvPicPr/>
            <p:nvPr/>
          </p:nvPicPr>
          <p:blipFill>
            <a:blip r:embed="rId14"/>
            <a:stretch/>
          </p:blipFill>
          <p:spPr>
            <a:xfrm>
              <a:off x="4173480" y="4265640"/>
              <a:ext cx="1154520" cy="60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500" fill="hold"/>
                                        <p:tgtEl>
                                          <p:spTgt spid="929"/>
                                        </p:tgtEl>
                                      </p:cBhvr>
                                      <p:to x="10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4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75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75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75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75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75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4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TextBox 1"/>
          <p:cNvSpPr/>
          <p:nvPr/>
        </p:nvSpPr>
        <p:spPr>
          <a:xfrm>
            <a:off x="1116000" y="2093760"/>
            <a:ext cx="410364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Calibri"/>
              </a:rPr>
              <a:t>End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TextBox 2"/>
          <p:cNvSpPr/>
          <p:nvPr/>
        </p:nvSpPr>
        <p:spPr>
          <a:xfrm>
            <a:off x="4284720" y="2093760"/>
            <a:ext cx="41749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Calibri"/>
              </a:rPr>
              <a:t>less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05:36Z</dcterms:created>
  <dc:creator>Administrator</dc:creator>
  <dc:description/>
  <cp:keywords/>
  <dc:language>en-US</dc:language>
  <cp:lastModifiedBy>王玉清</cp:lastModifiedBy>
  <dcterms:modified xsi:type="dcterms:W3CDTF">2016-02-16T08:34:50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