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C81-3D83-4DD4-9899-5F6C5E02661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A7C-1D6E-445C-9893-46B80EF78E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D016-5B89-4AF1-B332-1F2458FBB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AB8D-0B81-47BA-A289-DDA1A6EB8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23D8-E912-4A96-AA90-F66DE0739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B960-0B00-4E62-A3C6-1DED7EE8C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53522-F9CB-4CA4-8CEE-311BC437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C5DB7-55A8-46A6-870B-F9F24E16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1A562-C207-49D6-B13F-B9F4C676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B3DF1-3D22-466D-A28C-8552290C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F3D29-0828-4E7E-9E49-1876F06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597B-C879-4E44-BB28-2ADA89B8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1AAC2-3DD5-437C-B336-C159D9E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ECFF-67E6-4088-9200-867709255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8C6F-E5FF-4175-86A8-BA98E6A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84C98-20EF-489A-8F18-EC0B6B4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D4C00-11AC-4C65-9299-5F1B5B25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21F3C-AB21-4759-897B-4CE734A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2106D-150B-41BD-B1E5-9094F7F5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C19E-98B6-4344-AD21-31DA546F8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7208-A0DA-42EF-A003-F01780B6B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6D20-ACCB-4B20-9971-BA05E08EF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2614-E74D-415D-BF1A-AFFC09BD9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D9FD-1422-4C00-A125-DEB5C5D8B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A28B-003A-42A8-A83A-FF40673B6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A31A-5F69-428F-B201-330B1EBF2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902-4066-4BEE-ACD8-B5CE27396DF6}" type="slidenum">
              <a:rPr b="0" lang="ko-K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04"/>
          <p:cNvSpPr/>
          <p:nvPr/>
        </p:nvSpPr>
        <p:spPr>
          <a:xfrm>
            <a:off x="0" y="685800"/>
            <a:ext cx="9144000" cy="23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" name="Rectangle 305"/>
          <p:cNvSpPr/>
          <p:nvPr/>
        </p:nvSpPr>
        <p:spPr>
          <a:xfrm>
            <a:off x="0" y="917640"/>
            <a:ext cx="914400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" name="AutoShape 309"/>
          <p:cNvSpPr/>
          <p:nvPr/>
        </p:nvSpPr>
        <p:spPr>
          <a:xfrm>
            <a:off x="775008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7" name="AutoShape 310"/>
          <p:cNvSpPr/>
          <p:nvPr/>
        </p:nvSpPr>
        <p:spPr>
          <a:xfrm>
            <a:off x="842472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38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6" name="Text Box 2560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7" name="Rectangle 2784"/>
          <p:cNvSpPr/>
          <p:nvPr/>
        </p:nvSpPr>
        <p:spPr>
          <a:xfrm>
            <a:off x="0" y="3298680"/>
            <a:ext cx="9144000" cy="3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8" name="Rectangle 2787"/>
          <p:cNvSpPr/>
          <p:nvPr/>
        </p:nvSpPr>
        <p:spPr>
          <a:xfrm>
            <a:off x="0" y="3691080"/>
            <a:ext cx="9144000" cy="20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9" name="AutoShape 2788"/>
          <p:cNvSpPr/>
          <p:nvPr/>
        </p:nvSpPr>
        <p:spPr>
          <a:xfrm>
            <a:off x="4952880" y="3857760"/>
            <a:ext cx="954360" cy="741240"/>
          </a:xfrm>
          <a:custGeom>
            <a:avLst/>
            <a:gdLst>
              <a:gd name="textAreaLeft" fmla="*/ 0 w 954360"/>
              <a:gd name="textAreaRight" fmla="*/ 954720 w 9543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0" name="AutoShape 2792"/>
          <p:cNvSpPr/>
          <p:nvPr/>
        </p:nvSpPr>
        <p:spPr>
          <a:xfrm>
            <a:off x="585792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1" name="AutoShape 2793"/>
          <p:cNvSpPr/>
          <p:nvPr/>
        </p:nvSpPr>
        <p:spPr>
          <a:xfrm>
            <a:off x="67420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2" name="AutoShape 2794"/>
          <p:cNvSpPr/>
          <p:nvPr/>
        </p:nvSpPr>
        <p:spPr>
          <a:xfrm>
            <a:off x="76564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3" name="Rectangle 2795"/>
          <p:cNvSpPr/>
          <p:nvPr/>
        </p:nvSpPr>
        <p:spPr>
          <a:xfrm>
            <a:off x="522360" y="108108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4" name="Rectangle 2796"/>
          <p:cNvSpPr/>
          <p:nvPr/>
        </p:nvSpPr>
        <p:spPr>
          <a:xfrm>
            <a:off x="903240" y="138096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5" name="Rectangle 2797"/>
          <p:cNvSpPr/>
          <p:nvPr/>
        </p:nvSpPr>
        <p:spPr>
          <a:xfrm>
            <a:off x="1447920" y="12175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6" name="Rectangle 2798"/>
          <p:cNvSpPr/>
          <p:nvPr/>
        </p:nvSpPr>
        <p:spPr>
          <a:xfrm>
            <a:off x="1284120" y="1741320"/>
            <a:ext cx="16380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7" name="Rectangle 2799"/>
          <p:cNvSpPr/>
          <p:nvPr/>
        </p:nvSpPr>
        <p:spPr>
          <a:xfrm>
            <a:off x="1665360" y="212256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8" name="Rectangle 2800"/>
          <p:cNvSpPr/>
          <p:nvPr/>
        </p:nvSpPr>
        <p:spPr>
          <a:xfrm>
            <a:off x="2046240" y="174132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9" name="Rectangle 2801"/>
          <p:cNvSpPr/>
          <p:nvPr/>
        </p:nvSpPr>
        <p:spPr>
          <a:xfrm>
            <a:off x="820800" y="20383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D09-6647-4729-A298-A5850BB8E1F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굴림"/>
              </a:rPr>
              <a:t>灰色背景橙色条纹商务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hart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83" name="Object 11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8"/>
          <p:cNvSpPr/>
          <p:nvPr/>
        </p:nvSpPr>
        <p:spPr>
          <a:xfrm>
            <a:off x="81000" y="6481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hart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1720800" y="1523880"/>
          <a:ext cx="59785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1523880"/>
                    <a:ext cx="59785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굴림"/>
              </a:rPr>
              <a:t>Thank you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ffffff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ontents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4" name="Rectangle 33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5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5e49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943080" y="237636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5033520" y="414828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5e49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2876040" y="41292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0" name="Oval 2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618640" y="46544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429000" y="272736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7" name="AutoShape 17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9" name="AutoShape 19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1" name="AutoShape 36"/>
          <p:cNvSpPr/>
          <p:nvPr/>
        </p:nvSpPr>
        <p:spPr>
          <a:xfrm>
            <a:off x="3478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2" name="AutoShape 37"/>
          <p:cNvSpPr/>
          <p:nvPr/>
        </p:nvSpPr>
        <p:spPr>
          <a:xfrm>
            <a:off x="5683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2952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182880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4051440" y="22096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628488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Text Box 234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ccee8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굴림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굴림"/>
              </a:rPr>
              <a:t>Chart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76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4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8" name="File"/>
          <p:cNvSpPr/>
          <p:nvPr/>
        </p:nvSpPr>
        <p:spPr>
          <a:xfrm>
            <a:off x="8780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4648320" y="2590920"/>
            <a:ext cx="43434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  <a:ea typeface="굴림"/>
              </a:rPr>
              <a:t>Competitor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  <a:ea typeface="굴림"/>
              </a:rPr>
              <a:t>Strength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Your strengths relative to competitors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11350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4" name="File"/>
          <p:cNvSpPr/>
          <p:nvPr/>
        </p:nvSpPr>
        <p:spPr>
          <a:xfrm>
            <a:off x="6494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64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7" name="File"/>
          <p:cNvSpPr/>
          <p:nvPr/>
        </p:nvSpPr>
        <p:spPr>
          <a:xfrm>
            <a:off x="514512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402160" y="2647800"/>
            <a:ext cx="291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0" name="AutoShape 10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55:47Z</dcterms:created>
  <dc:creator>ppt宝藏</dc:creator>
  <dc:description/>
  <dc:language>en-US</dc:language>
  <cp:lastModifiedBy>a</cp:lastModifiedBy>
  <dcterms:modified xsi:type="dcterms:W3CDTF">2015-07-25T12:29:48Z</dcterms:modified>
  <cp:revision>4</cp:revision>
  <dc:subject/>
  <dc:title>www.pptbz.com</dc:title>
</cp:coreProperties>
</file>