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509EDE-4D81-4AD2-8BB6-8E6C64D4D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48639F-150A-4ACD-A103-F75B8693D9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820031-8E6E-45C8-AD2A-82C5FD0335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F2F7E6-7B67-49B1-95AE-99CA50A1EC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86407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1640" y="3776760"/>
            <a:ext cx="86407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9280" y="69264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1640" y="377676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9280" y="377676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278208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3040" y="692640"/>
            <a:ext cx="278208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0" y="692640"/>
            <a:ext cx="278208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1640" y="3776760"/>
            <a:ext cx="278208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3040" y="3776760"/>
            <a:ext cx="278208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4800" y="3776760"/>
            <a:ext cx="278208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86DD-450C-4246-89C1-EED39678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1640" y="692640"/>
            <a:ext cx="8640720" cy="59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ADFC-A418-4874-BF8C-8BF04EFD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8640720" cy="59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B204-C3AA-4574-8671-6110D75A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4216320" cy="59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692640"/>
            <a:ext cx="4216320" cy="59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FE55-7566-472F-BBF7-9D77F6E2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77DD-554B-4164-9B75-09A8BE0B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1640" y="116640"/>
            <a:ext cx="864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67D6-ADF9-4153-A1CF-882924A0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692640"/>
            <a:ext cx="4216320" cy="59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1640" y="377676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24E7-012D-4345-9919-DCE8D309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1640" y="692640"/>
            <a:ext cx="8640720" cy="59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4216320" cy="59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69264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77676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1FDA-B388-474C-8EC3-E37EFAC2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69264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1640" y="3776760"/>
            <a:ext cx="86407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A877-B60F-4125-851E-B3284BD3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86407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1640" y="3776760"/>
            <a:ext cx="86407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7205-8167-4311-9E45-20FF8D0D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69264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1640" y="377676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77676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4DF0-60B7-466E-8F25-A40DA6888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278208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692640"/>
            <a:ext cx="278208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692640"/>
            <a:ext cx="278208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1640" y="3776760"/>
            <a:ext cx="278208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3776760"/>
            <a:ext cx="278208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3776760"/>
            <a:ext cx="278208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D567-98AB-420E-851B-E2DA97B84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0AAB-CAFC-41B6-AC57-06A590F0D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1640" y="692640"/>
            <a:ext cx="8640720" cy="59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6743-F57A-4B24-AB6C-2E4455AF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8640720" cy="59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EB8C-EA14-480D-9B27-78DB9FCA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4216320" cy="59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9280" y="692640"/>
            <a:ext cx="4216320" cy="59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F0E5-2B3B-49DE-944A-F11A5234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32D3-90A4-450A-90B2-673B795B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8640720" cy="59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51640" y="116640"/>
            <a:ext cx="864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F23C-1E75-4CBA-856B-8BDBC8ED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9280" y="692640"/>
            <a:ext cx="4216320" cy="59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51640" y="377676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1697-A813-4EAF-9575-EBDFCBA9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4216320" cy="59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9280" y="69264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9280" y="377676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5BF8-D5EB-4291-9CDE-4655EB52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9280" y="69264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51640" y="3776760"/>
            <a:ext cx="86407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839D-1554-4741-B269-391A24AC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86407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51640" y="3776760"/>
            <a:ext cx="86407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2696-C26C-43AF-AD35-041400D6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9280" y="69264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51640" y="377676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9280" y="377676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E919-1CE1-480A-9B1F-67A8DB8A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278208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73040" y="692640"/>
            <a:ext cx="278208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0" y="692640"/>
            <a:ext cx="278208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51640" y="3776760"/>
            <a:ext cx="278208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73040" y="3776760"/>
            <a:ext cx="278208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94800" y="3776760"/>
            <a:ext cx="278208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4084-E39E-4969-8641-1447523C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4216320" cy="59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9280" y="692640"/>
            <a:ext cx="4216320" cy="59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51640" y="116640"/>
            <a:ext cx="864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9280" y="692640"/>
            <a:ext cx="4216320" cy="59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1640" y="377676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4216320" cy="59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69264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9280" y="377676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9280" y="69264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1640" y="3776760"/>
            <a:ext cx="86407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"/>
          <p:cNvPicPr/>
          <p:nvPr/>
        </p:nvPicPr>
        <p:blipFill>
          <a:blip r:embed="rId2"/>
          <a:srcRect l="244" t="0" r="0" b="1648"/>
          <a:stretch/>
        </p:blipFill>
        <p:spPr>
          <a:xfrm>
            <a:off x="0" y="-4680"/>
            <a:ext cx="9156240" cy="6862320"/>
          </a:xfrm>
          <a:prstGeom prst="rect">
            <a:avLst/>
          </a:prstGeom>
          <a:ln w="0">
            <a:noFill/>
          </a:ln>
        </p:spPr>
      </p:pic>
      <p:pic>
        <p:nvPicPr>
          <p:cNvPr id="1" name="图片 7" descr=""/>
          <p:cNvPicPr/>
          <p:nvPr/>
        </p:nvPicPr>
        <p:blipFill>
          <a:blip r:embed="rId3"/>
          <a:srcRect l="364" t="1511" r="0" b="0"/>
          <a:stretch/>
        </p:blipFill>
        <p:spPr>
          <a:xfrm>
            <a:off x="0" y="0"/>
            <a:ext cx="9145080" cy="687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7640" y="4581000"/>
            <a:ext cx="6336360" cy="86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图片 1" descr=""/>
          <p:cNvPicPr/>
          <p:nvPr/>
        </p:nvPicPr>
        <p:blipFill>
          <a:blip r:embed="rId2"/>
          <a:srcRect l="244" t="0" r="0" b="1648"/>
          <a:stretch/>
        </p:blipFill>
        <p:spPr>
          <a:xfrm>
            <a:off x="0" y="-4680"/>
            <a:ext cx="9156240" cy="68623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640" y="2709000"/>
            <a:ext cx="5400360" cy="677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27640" y="3453480"/>
            <a:ext cx="3456000" cy="335160"/>
          </a:xfrm>
          <a:prstGeom prst="rect">
            <a:avLst/>
          </a:prstGeom>
          <a:gradFill rotWithShape="0">
            <a:gsLst>
              <a:gs pos="0">
                <a:srgbClr val="52879c"/>
              </a:gs>
              <a:gs pos="100000">
                <a:srgbClr val="74c0dd"/>
              </a:gs>
            </a:gsLst>
            <a:lin ang="16200000"/>
          </a:gradFill>
          <a:ln w="28440">
            <a:solidFill>
              <a:srgbClr val="92e1ff"/>
            </a:solidFill>
            <a:round/>
          </a:ln>
        </p:spPr>
        <p:txBody>
          <a:bodyPr numCol="1" spcCol="0" anchor="ctr">
            <a:noAutofit/>
          </a:bodyPr>
          <a:p>
            <a:pPr marL="343080" indent="-343080">
              <a:lnSpc>
                <a:spcPct val="150000"/>
              </a:lnSpc>
              <a:spcBef>
                <a:spcPts val="241"/>
              </a:spcBef>
              <a:buClr>
                <a:srgbClr val="ffffff"/>
              </a:buClr>
              <a:buFont typeface="Arial"/>
              <a:buChar char="•"/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母版文本样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d8d8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d8d8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d8d8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8B7373-F806-4C06-AE80-E3A37D9324F1}" type="slidenum">
              <a:rPr b="0" lang="en-US" sz="1200" spc="-1" strike="noStrike">
                <a:solidFill>
                  <a:srgbClr val="8d8d8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2"/>
          <a:srcRect l="244" t="0" r="0" b="1648"/>
          <a:stretch/>
        </p:blipFill>
        <p:spPr>
          <a:xfrm>
            <a:off x="0" y="-4680"/>
            <a:ext cx="9156240" cy="6862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51640" y="692640"/>
            <a:ext cx="8640720" cy="5904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5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Click to edit Master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50000"/>
              </a:lnSpc>
              <a:spcBef>
                <a:spcPts val="320"/>
              </a:spcBef>
              <a:buNone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Second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50000"/>
              </a:lnSpc>
              <a:spcBef>
                <a:spcPts val="281"/>
              </a:spcBef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Third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371600" indent="0">
              <a:lnSpc>
                <a:spcPct val="15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Fourth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828800" indent="0">
              <a:lnSpc>
                <a:spcPct val="15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Fifth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d8d8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d8d8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d8d8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3CC0B3-14C2-465D-9D74-4152045E8748}" type="slidenum">
              <a:rPr b="0" lang="en-US" sz="1200" spc="-1" strike="noStrike">
                <a:solidFill>
                  <a:srgbClr val="8d8d8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3640" y="3501000"/>
            <a:ext cx="8928720" cy="863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渐变方块立体视觉蓝色商务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63640" y="2708280"/>
            <a:ext cx="5400360" cy="67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title</a:t>
            </a:r>
            <a:endParaRPr b="0" lang="en-US" sz="4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27640" y="3453480"/>
            <a:ext cx="3456000" cy="335160"/>
          </a:xfrm>
          <a:prstGeom prst="rect">
            <a:avLst/>
          </a:prstGeom>
          <a:gradFill rotWithShape="0">
            <a:gsLst>
              <a:gs pos="0">
                <a:srgbClr val="52879c"/>
              </a:gs>
              <a:gs pos="100000">
                <a:srgbClr val="74c0dd"/>
              </a:gs>
            </a:gsLst>
            <a:lin ang="16200000"/>
          </a:gradFill>
          <a:ln w="28440">
            <a:solidFill>
              <a:srgbClr val="92e1ff"/>
            </a:solidFill>
            <a:round/>
          </a:ln>
        </p:spPr>
        <p:txBody>
          <a:bodyPr numCol="1" spcCol="0" anchor="ctr">
            <a:noAutofit/>
          </a:bodyPr>
          <a:p>
            <a:pPr indent="0" algn="ctr">
              <a:lnSpc>
                <a:spcPct val="15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Click here to add your subtit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504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itle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642160" cy="5905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5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Click to edit Maste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模板从 www.mysoeasy.com 下载">
  <a:themeElements>
    <a:clrScheme name="office资源宝库-www.mySoEasy.com">
      <a:dk1>
        <a:srgbClr val="262626"/>
      </a:dk1>
      <a:lt1>
        <a:srgbClr val="ffffff"/>
      </a:lt1>
      <a:dk2>
        <a:srgbClr val="8b8b8b"/>
      </a:dk2>
      <a:lt2>
        <a:srgbClr val="ffffff"/>
      </a:lt2>
      <a:accent1>
        <a:srgbClr val="00adee"/>
      </a:accent1>
      <a:accent2>
        <a:srgbClr val="00adee"/>
      </a:accent2>
      <a:accent3>
        <a:srgbClr val="ffc000"/>
      </a:accent3>
      <a:accent4>
        <a:srgbClr val="eb008b"/>
      </a:accent4>
      <a:accent5>
        <a:srgbClr val="00adef"/>
      </a:accent5>
      <a:accent6>
        <a:srgbClr val="9bbb59"/>
      </a:accent6>
      <a:hlink>
        <a:srgbClr val="76923c"/>
      </a:hlink>
      <a:folHlink>
        <a:srgbClr val="a7a71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模板从 www.mysoeasy.com 下载">
  <a:themeElements>
    <a:clrScheme name="office资源宝库-www.mySoEasy.com">
      <a:dk1>
        <a:srgbClr val="262626"/>
      </a:dk1>
      <a:lt1>
        <a:srgbClr val="ffffff"/>
      </a:lt1>
      <a:dk2>
        <a:srgbClr val="8b8b8b"/>
      </a:dk2>
      <a:lt2>
        <a:srgbClr val="ffffff"/>
      </a:lt2>
      <a:accent1>
        <a:srgbClr val="00adee"/>
      </a:accent1>
      <a:accent2>
        <a:srgbClr val="00adee"/>
      </a:accent2>
      <a:accent3>
        <a:srgbClr val="ffc000"/>
      </a:accent3>
      <a:accent4>
        <a:srgbClr val="eb008b"/>
      </a:accent4>
      <a:accent5>
        <a:srgbClr val="00adef"/>
      </a:accent5>
      <a:accent6>
        <a:srgbClr val="9bbb59"/>
      </a:accent6>
      <a:hlink>
        <a:srgbClr val="76923c"/>
      </a:hlink>
      <a:folHlink>
        <a:srgbClr val="a7a71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模板从 www.mysoeasy.com 下载">
  <a:themeElements>
    <a:clrScheme name="office资源宝库-www.mySoEasy.com">
      <a:dk1>
        <a:srgbClr val="262626"/>
      </a:dk1>
      <a:lt1>
        <a:srgbClr val="ffffff"/>
      </a:lt1>
      <a:dk2>
        <a:srgbClr val="8b8b8b"/>
      </a:dk2>
      <a:lt2>
        <a:srgbClr val="ffffff"/>
      </a:lt2>
      <a:accent1>
        <a:srgbClr val="00adee"/>
      </a:accent1>
      <a:accent2>
        <a:srgbClr val="00adee"/>
      </a:accent2>
      <a:accent3>
        <a:srgbClr val="ffc000"/>
      </a:accent3>
      <a:accent4>
        <a:srgbClr val="eb008b"/>
      </a:accent4>
      <a:accent5>
        <a:srgbClr val="00adef"/>
      </a:accent5>
      <a:accent6>
        <a:srgbClr val="9bbb59"/>
      </a:accent6>
      <a:hlink>
        <a:srgbClr val="76923c"/>
      </a:hlink>
      <a:folHlink>
        <a:srgbClr val="a7a71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8b8b8b"/>
      </a:dk2>
      <a:lt2>
        <a:srgbClr val="ffffff"/>
      </a:lt2>
      <a:accent1>
        <a:srgbClr val="00adee"/>
      </a:accent1>
      <a:accent2>
        <a:srgbClr val="00adee"/>
      </a:accent2>
      <a:accent3>
        <a:srgbClr val="ffc000"/>
      </a:accent3>
      <a:accent4>
        <a:srgbClr val="eb008b"/>
      </a:accent4>
      <a:accent5>
        <a:srgbClr val="00adef"/>
      </a:accent5>
      <a:accent6>
        <a:srgbClr val="9bbb59"/>
      </a:accent6>
      <a:hlink>
        <a:srgbClr val="76923c"/>
      </a:hlink>
      <a:folHlink>
        <a:srgbClr val="a7a71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  <Words>37</Words>
  <Paragraphs>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6:51:19Z</dcterms:created>
  <dc:creator>chen.zhb;ivywang</dc:creator>
  <dc:description/>
  <dc:language>en-US</dc:language>
  <cp:lastModifiedBy>a</cp:lastModifiedBy>
  <dcterms:modified xsi:type="dcterms:W3CDTF">2015-07-25T08:37:29Z</dcterms:modified>
  <cp:revision>16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全屏显示(4:3)</vt:lpwstr>
  </property>
  <property fmtid="{D5CDD505-2E9C-101B-9397-08002B2CF9AE}" pid="4" name="Slides">
    <vt:r8>3</vt:r8>
  </property>
  <property fmtid="{D5CDD505-2E9C-101B-9397-08002B2CF9AE}" pid="5" name="VIP等级">
    <vt:lpwstr>2</vt:lpwstr>
  </property>
  <property fmtid="{D5CDD505-2E9C-101B-9397-08002B2CF9AE}" pid="6" name="价格">
    <vt:lpwstr>20</vt:lpwstr>
  </property>
  <property fmtid="{D5CDD505-2E9C-101B-9397-08002B2CF9AE}" pid="7" name="使用说明">
    <vt:lpwstr>PPT背景模板是PPT文档的格式、布局、图形效果整套美化方案，应用后不会改变PPT演示文稿本身的内容，仅仅使内容格式发生变化。点击【套用到文档】按钮即可套用该模板。</vt:lpwstr>
  </property>
  <property fmtid="{D5CDD505-2E9C-101B-9397-08002B2CF9AE}" pid="8" name="使用软件">
    <vt:lpwstr>ppt</vt:lpwstr>
  </property>
  <property fmtid="{D5CDD505-2E9C-101B-9397-08002B2CF9AE}" pid="9" name="关键字">
    <vt:lpwstr>PPT背景模板 EN PPT 格式 时尚 方块 蓝 蓝色 绿 绿色 蓝绿 叠加 渐变 光圈 年轻 活力 青春 动感 动态 抽象 简洁 背景 V2</vt:lpwstr>
  </property>
  <property fmtid="{D5CDD505-2E9C-101B-9397-08002B2CF9AE}" pid="10" name="操作代码">
    <vt:lpwstr>2</vt:lpwstr>
  </property>
  <property fmtid="{D5CDD505-2E9C-101B-9397-08002B2CF9AE}" pid="11" name="是否可购买">
    <vt:lpwstr>1</vt:lpwstr>
  </property>
  <property fmtid="{D5CDD505-2E9C-101B-9397-08002B2CF9AE}" pid="12" name="显示VIP等级">
    <vt:lpwstr>2</vt:lpwstr>
  </property>
  <property fmtid="{D5CDD505-2E9C-101B-9397-08002B2CF9AE}" pid="13" name="标题">
    <vt:lpwstr>蓝绿方块叠加</vt:lpwstr>
  </property>
  <property fmtid="{D5CDD505-2E9C-101B-9397-08002B2CF9AE}" pid="14" name="模板ID">
    <vt:lpwstr>A30220130510A06</vt:lpwstr>
  </property>
  <property fmtid="{D5CDD505-2E9C-101B-9397-08002B2CF9AE}" pid="15" name="模板缩略图">
    <vt:lpwstr>A30220130510A06.png</vt:lpwstr>
  </property>
  <property fmtid="{D5CDD505-2E9C-101B-9397-08002B2CF9AE}" pid="16" name="相关案例">
    <vt:lpwstr>854</vt:lpwstr>
  </property>
  <property fmtid="{D5CDD505-2E9C-101B-9397-08002B2CF9AE}" pid="17" name="缩略图标题">
    <vt:lpwstr>蓝绿方块叠加</vt:lpwstr>
  </property>
  <property fmtid="{D5CDD505-2E9C-101B-9397-08002B2CF9AE}" pid="18" name="适用软件">
    <vt:lpwstr>PowerPoint 2007及以上版本</vt:lpwstr>
  </property>
  <property fmtid="{D5CDD505-2E9C-101B-9397-08002B2CF9AE}" pid="19" name="附件ID">
    <vt:lpwstr>A30220130510A0601</vt:lpwstr>
  </property>
  <property fmtid="{D5CDD505-2E9C-101B-9397-08002B2CF9AE}" pid="20" name="附件缩略图">
    <vt:lpwstr>A30220130510A0601.png</vt:lpwstr>
  </property>
  <property fmtid="{D5CDD505-2E9C-101B-9397-08002B2CF9AE}" pid="21" name="附件路径">
    <vt:lpwstr>A30220130510A0601.pptx</vt:lpwstr>
  </property>
</Properties>
</file>