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342-8D7F-4D06-9AB9-B30292A6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2C2-F54F-4E35-A3B5-05026AB5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3DD-9C66-421D-AAA5-1D2DBB8D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633-23D4-4659-9AB3-C0B4729F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9B8-ED8B-4888-8FF1-56C4B1B1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2A5-E78D-4CFF-8350-9F4368BB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C51-DB91-4509-9692-6A29F72C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221-4C17-4AA3-BF8C-6D6EB092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4CB-9D2A-4BF7-AADD-83314303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FD3-8581-4786-90B7-28569F0D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A4C-24D2-4EB1-ADEE-82F5827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6BC-C732-4485-A0A0-AAEE2183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:\jll\河山图标.jpg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E:\jll\24\商务\34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A437-5660-4B55-8DC0-A1EC8BDE4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交错的键盘与写字楼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8:34:13Z</dcterms:created>
  <dc:creator>ppt宝藏</dc:creator>
  <dc:description/>
  <dc:language>en-US</dc:language>
  <cp:lastModifiedBy>a</cp:lastModifiedBy>
  <dcterms:modified xsi:type="dcterms:W3CDTF">2015-07-25T07:08:28Z</dcterms:modified>
  <cp:revision>4</cp:revision>
  <dc:subject/>
  <dc:title>www.pptbz.com</dc:title>
</cp:coreProperties>
</file>