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F5F2-033C-4400-A901-630130D0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926-771B-4FA9-85C4-4DE89F11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BA05-3EC3-49CE-BC29-AF705C81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52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448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9580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D6AE-E3AF-4458-9EE6-B896E01B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C2BA7-BD16-4C55-9373-3C8018F6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DC04D-FA91-470A-84DD-C637970A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ACBB7-6124-4B6D-9036-4F40B51B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7E999-C55B-46AA-9231-767D84BD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B3AAA-F73E-489C-9F73-7D36F0C8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FD03E-BE4A-4DE5-8002-47537BF7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26AB8-71B0-4A69-B9A9-A4E2D6D6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4A87-9BF1-418A-B46A-6F2E44B6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DE228-AC74-4401-9DDE-5D8DD0F1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0E85E-8FF7-45D6-9746-50FD5C69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BF3F8-0829-49D1-9B7A-37DE4946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57147-024C-4F4F-AAFD-FBC90632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3352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6448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9580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A6724-57A6-4C16-9828-1EB22468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2791-C1A9-4D6B-A08A-38769DA9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A6E0-6468-4D1D-A5D5-24D2FD79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67F1-9C31-46AE-A54C-53D4E3A8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0C8-AAC8-4CA4-BD36-722EC8EF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34D9-7A8F-4DB8-9862-2E6EDE19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7FA5-F065-46A4-AF4D-A4D6B46E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46B3-C052-4DAC-AA31-4690F8C2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990"/>
          <p:cNvSpPr/>
          <p:nvPr/>
        </p:nvSpPr>
        <p:spPr>
          <a:xfrm flipH="1">
            <a:off x="4419000" y="38160"/>
            <a:ext cx="4647960" cy="1181160"/>
          </a:xfrm>
          <a:custGeom>
            <a:avLst/>
            <a:gdLst/>
            <a:ahLst/>
            <a:rect l="l" t="t" r="r" b="b"/>
            <a:pathLst>
              <a:path w="2976" h="744">
                <a:moveTo>
                  <a:pt x="16" y="0"/>
                </a:moveTo>
                <a:lnTo>
                  <a:pt x="0" y="744"/>
                </a:lnTo>
                <a:lnTo>
                  <a:pt x="2976" y="440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" name="Freeform 2988"/>
          <p:cNvSpPr/>
          <p:nvPr/>
        </p:nvSpPr>
        <p:spPr>
          <a:xfrm>
            <a:off x="0" y="0"/>
            <a:ext cx="4533840" cy="1295280"/>
          </a:xfrm>
          <a:custGeom>
            <a:avLst/>
            <a:gdLst/>
            <a:ahLst/>
            <a:rect l="l" t="t" r="r" b="b"/>
            <a:pathLst>
              <a:path w="2856" h="800">
                <a:moveTo>
                  <a:pt x="16" y="0"/>
                </a:moveTo>
                <a:lnTo>
                  <a:pt x="0" y="800"/>
                </a:lnTo>
                <a:lnTo>
                  <a:pt x="2856" y="461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2" name="AutoShape 2629"/>
          <p:cNvSpPr/>
          <p:nvPr/>
        </p:nvSpPr>
        <p:spPr>
          <a:xfrm rot="10800000">
            <a:off x="0" y="-360"/>
            <a:ext cx="9144000" cy="762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3" name="Rectangle 2983"/>
          <p:cNvSpPr/>
          <p:nvPr/>
        </p:nvSpPr>
        <p:spPr>
          <a:xfrm>
            <a:off x="9067680" y="14400"/>
            <a:ext cx="76320" cy="6838920"/>
          </a:xfrm>
          <a:prstGeom prst="rect">
            <a:avLst/>
          </a:prstGeom>
          <a:solidFill>
            <a:srgbClr val="a8ba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4" name="Rectangle 2984"/>
          <p:cNvSpPr/>
          <p:nvPr/>
        </p:nvSpPr>
        <p:spPr>
          <a:xfrm flipH="1">
            <a:off x="12600" y="9360"/>
            <a:ext cx="76320" cy="6848640"/>
          </a:xfrm>
          <a:prstGeom prst="rect">
            <a:avLst/>
          </a:prstGeom>
          <a:solidFill>
            <a:srgbClr val="a8ba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8bab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9528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a0b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64a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" name="Rectangle 2987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195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26520" y="65527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94324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327672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CC6C-C8F3-44DE-8B54-9964B9A93A7B}" type="slidenum">
              <a:rPr b="0" lang="ko-KR" sz="1000" spc="-1" strike="noStrike">
                <a:solidFill>
                  <a:srgbClr val="ffffff"/>
                </a:solidFill>
                <a:latin typeface="Verdana"/>
                <a:ea typeface="Guli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38"/>
          <p:cNvSpPr/>
          <p:nvPr/>
        </p:nvSpPr>
        <p:spPr>
          <a:xfrm flipH="1">
            <a:off x="0" y="9360"/>
            <a:ext cx="3733920" cy="684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48" name="Rectangle 56"/>
          <p:cNvSpPr/>
          <p:nvPr/>
        </p:nvSpPr>
        <p:spPr>
          <a:xfrm>
            <a:off x="5486400" y="4680"/>
            <a:ext cx="3657600" cy="683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49" name="Freeform 1454"/>
          <p:cNvSpPr/>
          <p:nvPr/>
        </p:nvSpPr>
        <p:spPr>
          <a:xfrm flipV="1">
            <a:off x="-104400" y="3276360"/>
            <a:ext cx="9248760" cy="3581280"/>
          </a:xfrm>
          <a:custGeom>
            <a:avLst/>
            <a:gdLst/>
            <a:ahLst/>
            <a:rect l="l" t="t" r="r" b="b"/>
            <a:pathLst>
              <a:path w="5808" h="2352">
                <a:moveTo>
                  <a:pt x="48" y="0"/>
                </a:moveTo>
                <a:lnTo>
                  <a:pt x="2928" y="2352"/>
                </a:lnTo>
                <a:lnTo>
                  <a:pt x="5808" y="0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gradFill rotWithShape="0">
            <a:gsLst>
              <a:gs pos="0">
                <a:srgbClr val="a8babc"/>
              </a:gs>
              <a:gs pos="100000">
                <a:srgbClr val="1952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0" name="Freeform 1453"/>
          <p:cNvSpPr/>
          <p:nvPr/>
        </p:nvSpPr>
        <p:spPr>
          <a:xfrm>
            <a:off x="-76320" y="0"/>
            <a:ext cx="9220320" cy="3276720"/>
          </a:xfrm>
          <a:custGeom>
            <a:avLst/>
            <a:gdLst/>
            <a:ahLst/>
            <a:rect l="l" t="t" r="r" b="b"/>
            <a:pathLst>
              <a:path w="5808" h="2352">
                <a:moveTo>
                  <a:pt x="48" y="0"/>
                </a:moveTo>
                <a:lnTo>
                  <a:pt x="2928" y="2352"/>
                </a:lnTo>
                <a:lnTo>
                  <a:pt x="5808" y="0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gradFill rotWithShape="0">
            <a:gsLst>
              <a:gs pos="0">
                <a:srgbClr val="a8babc"/>
              </a:gs>
              <a:gs pos="100000">
                <a:srgbClr val="1952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1" name="AutoShape 2044"/>
          <p:cNvSpPr/>
          <p:nvPr/>
        </p:nvSpPr>
        <p:spPr>
          <a:xfrm>
            <a:off x="1295280" y="152280"/>
            <a:ext cx="6553440" cy="6553440"/>
          </a:xfrm>
          <a:prstGeom prst="diamond">
            <a:avLst/>
          </a:prstGeom>
          <a:gradFill rotWithShape="0">
            <a:gsLst>
              <a:gs pos="0">
                <a:srgbClr val="a8babc"/>
              </a:gs>
              <a:gs pos="50000">
                <a:srgbClr val="f4f7f7"/>
              </a:gs>
              <a:gs pos="100000">
                <a:srgbClr val="a8ba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2" name="AutoShape 1456"/>
          <p:cNvSpPr/>
          <p:nvPr/>
        </p:nvSpPr>
        <p:spPr>
          <a:xfrm>
            <a:off x="2362320" y="1143000"/>
            <a:ext cx="4495680" cy="4800600"/>
          </a:xfrm>
          <a:prstGeom prst="diamond">
            <a:avLst/>
          </a:prstGeom>
          <a:gradFill rotWithShape="0">
            <a:gsLst>
              <a:gs pos="0">
                <a:srgbClr val="a8babc"/>
              </a:gs>
              <a:gs pos="50000">
                <a:srgbClr val="dce3e4"/>
              </a:gs>
              <a:gs pos="100000">
                <a:srgbClr val="a8ba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3" name="Text Box 29"/>
          <p:cNvSpPr/>
          <p:nvPr/>
        </p:nvSpPr>
        <p:spPr>
          <a:xfrm>
            <a:off x="3886200" y="1143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LOGO</a:t>
            </a:r>
            <a:endParaRPr b="0" lang="en-US" sz="2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4" name="AutoShape 1455"/>
          <p:cNvSpPr/>
          <p:nvPr/>
        </p:nvSpPr>
        <p:spPr>
          <a:xfrm>
            <a:off x="2819520" y="1733400"/>
            <a:ext cx="3581280" cy="3657600"/>
          </a:xfrm>
          <a:prstGeom prst="diamond">
            <a:avLst/>
          </a:prstGeom>
          <a:gradFill rotWithShape="0">
            <a:gsLst>
              <a:gs pos="0">
                <a:srgbClr val="a8babc"/>
              </a:gs>
              <a:gs pos="50000">
                <a:srgbClr val="ffffff"/>
              </a:gs>
              <a:gs pos="100000">
                <a:srgbClr val="a8ba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5" name="Rectangle 2048"/>
          <p:cNvSpPr/>
          <p:nvPr/>
        </p:nvSpPr>
        <p:spPr>
          <a:xfrm>
            <a:off x="0" y="2971800"/>
            <a:ext cx="9144000" cy="762120"/>
          </a:xfrm>
          <a:prstGeom prst="rect">
            <a:avLst/>
          </a:prstGeom>
          <a:solidFill>
            <a:srgbClr val="2c3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8bab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9528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a0b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64a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885840" y="64767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c3764"/>
                </a:solidFill>
                <a:latin typeface="Times New Roman"/>
                <a:ea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3D36-6CE5-4F5F-B5F3-E2B705F2D625}" type="slidenum">
              <a:rPr b="0" lang="ko-KR" sz="1400" spc="-1" strike="noStrike">
                <a:solidFill>
                  <a:srgbClr val="2c3764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6"/>
          </p:nvPr>
        </p:nvSpPr>
        <p:spPr>
          <a:xfrm>
            <a:off x="304560" y="647676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8babc"/>
                </a:solidFill>
                <a:latin typeface="Verdana"/>
                <a:ea typeface="Gulim"/>
              </a:rPr>
              <a:t>经典灰色简洁商务</a:t>
            </a:r>
            <a:r>
              <a:rPr b="1" lang="en-US" sz="4000" spc="-1" strike="noStrike">
                <a:solidFill>
                  <a:srgbClr val="a8babc"/>
                </a:solidFill>
                <a:latin typeface="Verdana"/>
                <a:ea typeface="Gulim"/>
              </a:rPr>
              <a:t>PPT</a:t>
            </a:r>
            <a:r>
              <a:rPr b="1" lang="zh-CN" sz="4000" spc="-1" strike="noStrike">
                <a:solidFill>
                  <a:srgbClr val="a8babc"/>
                </a:solidFill>
                <a:latin typeface="Verdana"/>
                <a:ea typeface="Gulim"/>
              </a:rPr>
              <a:t>模板</a:t>
            </a:r>
            <a:endParaRPr b="1" lang="en-US" sz="40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09680" y="3733560"/>
            <a:ext cx="4648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528b"/>
              </a:solidFill>
              <a:latin typeface="Verdana"/>
              <a:ea typeface="Gulim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77777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3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201" name="WordArt 2"/>
          <p:cNvSpPr txBox="1"/>
          <p:nvPr/>
        </p:nvSpPr>
        <p:spPr>
          <a:xfrm>
            <a:off x="1676520" y="266688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9528b"/>
                    </a:gs>
                    <a:gs pos="100000">
                      <a:srgbClr val="39b3c3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9528b"/>
                  </a:gs>
                  <a:gs pos="100000">
                    <a:srgbClr val="39b3c3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828800" y="3733920"/>
            <a:ext cx="5410080" cy="304560"/>
          </a:xfrm>
          <a:prstGeom prst="rect">
            <a:avLst/>
          </a:prstGeom>
          <a:solidFill>
            <a:srgbClr val="2c3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Your Company Slogan</a:t>
            </a:r>
            <a:endParaRPr b="0" lang="en-US" sz="14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2125800" y="210492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02e4f"/>
              </a:gs>
              <a:gs pos="50000">
                <a:srgbClr val="2364ab"/>
              </a:gs>
              <a:gs pos="100000">
                <a:srgbClr val="102e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2139840" y="29624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a535a"/>
              </a:gs>
              <a:gs pos="50000">
                <a:srgbClr val="39b3c3"/>
              </a:gs>
              <a:gs pos="100000">
                <a:srgbClr val="1a53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2125800" y="381312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c2640"/>
              </a:gs>
              <a:gs pos="50000">
                <a:srgbClr val="19528b"/>
              </a:gs>
              <a:gs pos="100000">
                <a:srgbClr val="0c26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25800" y="469116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4a53"/>
              </a:gs>
              <a:gs pos="50000">
                <a:srgbClr val="99a0b3"/>
              </a:gs>
              <a:gs pos="100000">
                <a:srgbClr val="474a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  <a:ea typeface="Gulim"/>
              </a:rPr>
              <a:t>Contents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2436840" y="20448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Introduction</a:t>
            </a:r>
            <a:endParaRPr b="0" lang="en-US" sz="2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2457360" y="289548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trategy</a:t>
            </a:r>
            <a:endParaRPr b="0" lang="en-US" sz="2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2448000" y="375444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hallenges Forward</a:t>
            </a:r>
            <a:endParaRPr b="0" lang="en-US" sz="2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2523960" y="462600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onclusion</a:t>
            </a:r>
            <a:endParaRPr b="0" lang="en-US" sz="2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1685880" y="1905120"/>
            <a:ext cx="685800" cy="685800"/>
          </a:xfrm>
          <a:prstGeom prst="diamond">
            <a:avLst/>
          </a:prstGeom>
          <a:solidFill>
            <a:srgbClr val="2364a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1685880" y="2743200"/>
            <a:ext cx="685800" cy="685800"/>
          </a:xfrm>
          <a:prstGeom prst="diamond">
            <a:avLst/>
          </a:prstGeom>
          <a:solidFill>
            <a:srgbClr val="39b3c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12" name="AutoShape 13"/>
          <p:cNvSpPr/>
          <p:nvPr/>
        </p:nvSpPr>
        <p:spPr>
          <a:xfrm>
            <a:off x="1685880" y="3657600"/>
            <a:ext cx="685800" cy="685800"/>
          </a:xfrm>
          <a:prstGeom prst="diamond">
            <a:avLst/>
          </a:prstGeom>
          <a:solidFill>
            <a:srgbClr val="19528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1685880" y="4495680"/>
            <a:ext cx="685800" cy="685800"/>
          </a:xfrm>
          <a:prstGeom prst="diamond">
            <a:avLst/>
          </a:prstGeom>
          <a:solidFill>
            <a:srgbClr val="99a0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Gulim"/>
              </a:rPr>
              <a:t>Click to edit title sty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3764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19528b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9b3c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b3c3"/>
                </a:solidFill>
                <a:latin typeface="Verdana"/>
                <a:ea typeface="Gulim"/>
              </a:rPr>
              <a:t>Strengths</a:t>
            </a:r>
            <a:r>
              <a:rPr b="1" lang="en-US" sz="2800" spc="-1" strike="noStrike">
                <a:solidFill>
                  <a:srgbClr val="2c3764"/>
                </a:solidFill>
                <a:latin typeface="Verdana"/>
                <a:ea typeface="Gulim"/>
              </a:rPr>
              <a:t> 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19528b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528b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3764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19528b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Gulim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8240" y="1819440"/>
          <a:ext cx="7450200" cy="3458880"/>
        </p:xfrm>
        <a:graphic>
          <a:graphicData uri="http://schemas.openxmlformats.org/drawingml/2006/table">
            <a:tbl>
              <a:tblPr/>
              <a:tblGrid>
                <a:gridCol w="1489320"/>
                <a:gridCol w="1490400"/>
                <a:gridCol w="1490760"/>
                <a:gridCol w="1490760"/>
                <a:gridCol w="14889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1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2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3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4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2a1c0"/>
                        </a:gs>
                        <a:gs pos="100000">
                          <a:srgbClr val="19528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92ab"/>
                        </a:gs>
                        <a:gs pos="100000">
                          <a:srgbClr val="2c3764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3d6de"/>
                        </a:gs>
                        <a:gs pos="100000">
                          <a:srgbClr val="39b3c3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7cbd6"/>
                        </a:gs>
                        <a:gs pos="100000">
                          <a:srgbClr val="99a0b3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6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1" name="Oval 2"/>
          <p:cNvSpPr/>
          <p:nvPr/>
        </p:nvSpPr>
        <p:spPr>
          <a:xfrm rot="20239200">
            <a:off x="1218960" y="2209320"/>
            <a:ext cx="6519600" cy="3062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2" name="Oval 3"/>
          <p:cNvSpPr/>
          <p:nvPr/>
        </p:nvSpPr>
        <p:spPr>
          <a:xfrm rot="20240400">
            <a:off x="1358640" y="2418840"/>
            <a:ext cx="592596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Gulim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1397160" y="27432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9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3657600" y="13716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99a0b3"/>
              </a:gs>
              <a:gs pos="100000">
                <a:srgbClr val="35373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6502320" y="182880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2364ab"/>
              </a:gs>
              <a:gs pos="100000">
                <a:srgbClr val="0c233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1828800" y="46483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4047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4826160" y="41911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39b3c3"/>
              </a:gs>
              <a:gs pos="100000">
                <a:srgbClr val="14404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606840" y="3276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babc"/>
                </a:solidFill>
                <a:latin typeface="Arial"/>
                <a:ea typeface="Gulim"/>
              </a:rPr>
              <a:t>Add Title</a:t>
            </a:r>
            <a:endParaRPr b="0" lang="en-US" sz="32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7200" y="61736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8babc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a8babc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2364ab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Gulim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1295280" y="214740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a0b3"/>
              </a:gs>
              <a:gs pos="100000">
                <a:srgbClr val="474a5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29000" y="214740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c3764"/>
              </a:gs>
              <a:gs pos="100000">
                <a:srgbClr val="13172a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5638680" y="214740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9b3c3"/>
              </a:gs>
              <a:gs pos="100000">
                <a:srgbClr val="1a535a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638680" y="289548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39b3c3"/>
              </a:gs>
              <a:gs pos="100000">
                <a:srgbClr val="b0e1e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27672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c3764"/>
              </a:gs>
              <a:gs pos="100000">
                <a:srgbClr val="abafc1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91440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e3e5ea"/>
              </a:gs>
              <a:gs pos="100000">
                <a:srgbClr val="99a0b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Gulim"/>
              </a:rPr>
              <a:t>Chart Documents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1757520" y="1146240"/>
          <a:ext cx="532908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1146240"/>
                    <a:ext cx="532908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Gulim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grpSp>
        <p:nvGrpSpPr>
          <p:cNvPr id="149" name="Group 7"/>
          <p:cNvGrpSpPr/>
          <p:nvPr/>
        </p:nvGrpSpPr>
        <p:grpSpPr>
          <a:xfrm>
            <a:off x="1200600" y="1782360"/>
            <a:ext cx="6437160" cy="1387800"/>
            <a:chOff x="1200600" y="1782360"/>
            <a:chExt cx="6437160" cy="1387800"/>
          </a:xfrm>
        </p:grpSpPr>
        <p:sp>
          <p:nvSpPr>
            <p:cNvPr id="150" name="Rectangle 8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99a0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  <p:grpSp>
          <p:nvGrpSpPr>
            <p:cNvPr id="151" name="Group 9"/>
            <p:cNvGrpSpPr/>
            <p:nvPr/>
          </p:nvGrpSpPr>
          <p:grpSpPr>
            <a:xfrm>
              <a:off x="2375280" y="2179080"/>
              <a:ext cx="931680" cy="131400"/>
              <a:chOff x="2375280" y="2179080"/>
              <a:chExt cx="931680" cy="131400"/>
            </a:xfrm>
          </p:grpSpPr>
          <p:sp>
            <p:nvSpPr>
              <p:cNvPr id="152" name="Oval 10"/>
              <p:cNvSpPr/>
              <p:nvPr/>
            </p:nvSpPr>
            <p:spPr>
              <a:xfrm>
                <a:off x="2375280" y="2179080"/>
                <a:ext cx="156960" cy="1303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53" name="Rectangle 11"/>
              <p:cNvSpPr/>
              <p:nvPr/>
            </p:nvSpPr>
            <p:spPr>
              <a:xfrm>
                <a:off x="2464560" y="2180520"/>
                <a:ext cx="772920" cy="129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54" name="Oval 12"/>
              <p:cNvSpPr/>
              <p:nvPr/>
            </p:nvSpPr>
            <p:spPr>
              <a:xfrm>
                <a:off x="3165840" y="2180520"/>
                <a:ext cx="141120" cy="12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55" name="Oval 13"/>
              <p:cNvSpPr/>
              <p:nvPr/>
            </p:nvSpPr>
            <p:spPr>
              <a:xfrm>
                <a:off x="3243600" y="2221920"/>
                <a:ext cx="39960" cy="37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</p:grpSp>
        <p:sp>
          <p:nvSpPr>
            <p:cNvPr id="156" name="Rectangle 14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2c37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  <p:grpSp>
          <p:nvGrpSpPr>
            <p:cNvPr id="157" name="Group 15"/>
            <p:cNvGrpSpPr/>
            <p:nvPr/>
          </p:nvGrpSpPr>
          <p:grpSpPr>
            <a:xfrm>
              <a:off x="4096800" y="2179080"/>
              <a:ext cx="931680" cy="131400"/>
              <a:chOff x="4096800" y="2179080"/>
              <a:chExt cx="931680" cy="131400"/>
            </a:xfrm>
          </p:grpSpPr>
          <p:sp>
            <p:nvSpPr>
              <p:cNvPr id="158" name="Oval 16"/>
              <p:cNvSpPr/>
              <p:nvPr/>
            </p:nvSpPr>
            <p:spPr>
              <a:xfrm>
                <a:off x="4096800" y="2179080"/>
                <a:ext cx="156960" cy="1303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59" name="Rectangle 17"/>
              <p:cNvSpPr/>
              <p:nvPr/>
            </p:nvSpPr>
            <p:spPr>
              <a:xfrm>
                <a:off x="4186080" y="2180520"/>
                <a:ext cx="772920" cy="129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60" name="Oval 18"/>
              <p:cNvSpPr/>
              <p:nvPr/>
            </p:nvSpPr>
            <p:spPr>
              <a:xfrm>
                <a:off x="4887360" y="2180520"/>
                <a:ext cx="141120" cy="12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61" name="Oval 19"/>
              <p:cNvSpPr/>
              <p:nvPr/>
            </p:nvSpPr>
            <p:spPr>
              <a:xfrm>
                <a:off x="4963320" y="2221920"/>
                <a:ext cx="39600" cy="37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20"/>
            <p:cNvSpPr/>
            <p:nvPr/>
          </p:nvSpPr>
          <p:spPr>
            <a:xfrm rot="3418800">
              <a:off x="4781520" y="1941480"/>
              <a:ext cx="924480" cy="1003680"/>
            </a:xfrm>
            <a:prstGeom prst="rect">
              <a:avLst/>
            </a:prstGeom>
            <a:solidFill>
              <a:srgbClr val="99a0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  <p:grpSp>
          <p:nvGrpSpPr>
            <p:cNvPr id="163" name="Group 21"/>
            <p:cNvGrpSpPr/>
            <p:nvPr/>
          </p:nvGrpSpPr>
          <p:grpSpPr>
            <a:xfrm>
              <a:off x="5817960" y="2179080"/>
              <a:ext cx="1218240" cy="131400"/>
              <a:chOff x="5817960" y="2179080"/>
              <a:chExt cx="1218240" cy="131400"/>
            </a:xfrm>
          </p:grpSpPr>
          <p:sp>
            <p:nvSpPr>
              <p:cNvPr id="164" name="Oval 22"/>
              <p:cNvSpPr/>
              <p:nvPr/>
            </p:nvSpPr>
            <p:spPr>
              <a:xfrm>
                <a:off x="5817960" y="2179080"/>
                <a:ext cx="205560" cy="1303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65" name="Rectangle 23"/>
              <p:cNvSpPr/>
              <p:nvPr/>
            </p:nvSpPr>
            <p:spPr>
              <a:xfrm>
                <a:off x="5934600" y="2180520"/>
                <a:ext cx="1010520" cy="129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66" name="Oval 24"/>
              <p:cNvSpPr/>
              <p:nvPr/>
            </p:nvSpPr>
            <p:spPr>
              <a:xfrm>
                <a:off x="6851520" y="2180520"/>
                <a:ext cx="184680" cy="12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67" name="Oval 25"/>
              <p:cNvSpPr/>
              <p:nvPr/>
            </p:nvSpPr>
            <p:spPr>
              <a:xfrm>
                <a:off x="6950880" y="2221920"/>
                <a:ext cx="51840" cy="37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</p:grpSp>
        <p:sp>
          <p:nvSpPr>
            <p:cNvPr id="168" name="Rectangle 26"/>
            <p:cNvSpPr/>
            <p:nvPr/>
          </p:nvSpPr>
          <p:spPr>
            <a:xfrm rot="3418800">
              <a:off x="6502680" y="1941480"/>
              <a:ext cx="924480" cy="1003680"/>
            </a:xfrm>
            <a:prstGeom prst="rect">
              <a:avLst/>
            </a:prstGeom>
            <a:solidFill>
              <a:srgbClr val="2c37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</p:grpSp>
      <p:sp>
        <p:nvSpPr>
          <p:cNvPr id="169" name="AutoShape 27"/>
          <p:cNvSpPr/>
          <p:nvPr/>
        </p:nvSpPr>
        <p:spPr>
          <a:xfrm>
            <a:off x="1297080" y="2265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0" name="AutoShape 28"/>
          <p:cNvSpPr/>
          <p:nvPr/>
        </p:nvSpPr>
        <p:spPr>
          <a:xfrm>
            <a:off x="3048120" y="21906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1" name="AutoShape 29"/>
          <p:cNvSpPr/>
          <p:nvPr/>
        </p:nvSpPr>
        <p:spPr>
          <a:xfrm>
            <a:off x="45720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2" name="AutoShape 30"/>
          <p:cNvSpPr/>
          <p:nvPr/>
        </p:nvSpPr>
        <p:spPr>
          <a:xfrm>
            <a:off x="64008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Gulim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75" name="Oval 3"/>
          <p:cNvSpPr/>
          <p:nvPr/>
        </p:nvSpPr>
        <p:spPr>
          <a:xfrm>
            <a:off x="2362320" y="41911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77777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6" name="Oval 4"/>
          <p:cNvSpPr/>
          <p:nvPr/>
        </p:nvSpPr>
        <p:spPr>
          <a:xfrm rot="20601600">
            <a:off x="1636560" y="20775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a8babc"/>
              </a:gs>
              <a:gs pos="50000">
                <a:srgbClr val="eaeeef"/>
              </a:gs>
              <a:gs pos="100000">
                <a:srgbClr val="a8bab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7" name="Oval 5"/>
          <p:cNvSpPr/>
          <p:nvPr/>
        </p:nvSpPr>
        <p:spPr>
          <a:xfrm rot="20601600">
            <a:off x="1699920" y="1924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16406d"/>
              </a:gs>
              <a:gs pos="100000">
                <a:srgbClr val="2364ab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8" name="Arc 6"/>
          <p:cNvSpPr/>
          <p:nvPr/>
        </p:nvSpPr>
        <p:spPr>
          <a:xfrm rot="20601600">
            <a:off x="4565520" y="2987640"/>
            <a:ext cx="2652840" cy="132084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1320840"/>
              <a:gd name="textAreaBottom" fmla="*/ 1320840 h 1320840"/>
            </a:gdLst>
            <a:ahLst/>
            <a:rect l="textAreaLeft" t="textAreaTop" r="textAreaRight" b="textAreaBottom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9" name="Arc 7"/>
          <p:cNvSpPr/>
          <p:nvPr/>
        </p:nvSpPr>
        <p:spPr>
          <a:xfrm rot="20601600">
            <a:off x="4341960" y="1994040"/>
            <a:ext cx="2849400" cy="15382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2c3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80" name="Arc 8"/>
          <p:cNvSpPr/>
          <p:nvPr/>
        </p:nvSpPr>
        <p:spPr>
          <a:xfrm flipH="1" rot="20602200">
            <a:off x="1746720" y="330624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81" name="Arc 9"/>
          <p:cNvSpPr/>
          <p:nvPr/>
        </p:nvSpPr>
        <p:spPr>
          <a:xfrm rot="20601600">
            <a:off x="3600000" y="1730520"/>
            <a:ext cx="2814840" cy="1417320"/>
          </a:xfrm>
          <a:custGeom>
            <a:avLst/>
            <a:gdLst>
              <a:gd name="textAreaLeft" fmla="*/ 0 w 2814840"/>
              <a:gd name="textAreaRight" fmla="*/ 2815200 w 2814840"/>
              <a:gd name="textAreaTop" fmla="*/ 0 h 1417320"/>
              <a:gd name="textAreaBottom" fmla="*/ 1417680 h 141732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82" name="Arc 10"/>
          <p:cNvSpPr/>
          <p:nvPr/>
        </p:nvSpPr>
        <p:spPr>
          <a:xfrm flipH="1" rot="20602200">
            <a:off x="1561680" y="237456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83" name="Freeform 11"/>
          <p:cNvSpPr/>
          <p:nvPr/>
        </p:nvSpPr>
        <p:spPr>
          <a:xfrm rot="20601600">
            <a:off x="4681440" y="3236760"/>
            <a:ext cx="1220760" cy="149868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84" name="Freeform 12"/>
          <p:cNvSpPr/>
          <p:nvPr/>
        </p:nvSpPr>
        <p:spPr>
          <a:xfrm rot="20601600">
            <a:off x="4574880" y="2984040"/>
            <a:ext cx="2562120" cy="809640"/>
          </a:xfrm>
          <a:custGeom>
            <a:avLst/>
            <a:gdLst>
              <a:gd name="textAreaLeft" fmla="*/ 0 w 2562120"/>
              <a:gd name="textAreaRight" fmla="*/ 2562480 w 25621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a8ba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grpSp>
        <p:nvGrpSpPr>
          <p:cNvPr id="185" name="Group 13"/>
          <p:cNvGrpSpPr/>
          <p:nvPr/>
        </p:nvGrpSpPr>
        <p:grpSpPr>
          <a:xfrm>
            <a:off x="4163400" y="2660760"/>
            <a:ext cx="3251880" cy="2231640"/>
            <a:chOff x="4163400" y="2660760"/>
            <a:chExt cx="3251880" cy="2231640"/>
          </a:xfrm>
        </p:grpSpPr>
        <p:sp>
          <p:nvSpPr>
            <p:cNvPr id="186" name="Arc 14"/>
            <p:cNvSpPr/>
            <p:nvPr/>
          </p:nvSpPr>
          <p:spPr>
            <a:xfrm rot="20712600">
              <a:off x="4276800" y="3015720"/>
              <a:ext cx="2949480" cy="1271880"/>
            </a:xfrm>
            <a:custGeom>
              <a:avLst/>
              <a:gdLst>
                <a:gd name="textAreaLeft" fmla="*/ 0 w 2949480"/>
                <a:gd name="textAreaRight" fmla="*/ 2949840 w 29494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 rot="20712600">
              <a:off x="4361040" y="3204720"/>
              <a:ext cx="1377720" cy="153684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 rot="20712600">
              <a:off x="5736960" y="3373200"/>
              <a:ext cx="1579320" cy="97920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</p:grpSp>
      <p:sp>
        <p:nvSpPr>
          <p:cNvPr id="189" name="Freeform 17"/>
          <p:cNvSpPr/>
          <p:nvPr/>
        </p:nvSpPr>
        <p:spPr>
          <a:xfrm rot="20601600">
            <a:off x="6248160" y="327636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9fa4b8"/>
              </a:gs>
              <a:gs pos="100000">
                <a:srgbClr val="2c37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0" name="Arc 18"/>
          <p:cNvSpPr/>
          <p:nvPr/>
        </p:nvSpPr>
        <p:spPr>
          <a:xfrm rot="20539200">
            <a:off x="4800240" y="2895120"/>
            <a:ext cx="2905200" cy="1397160"/>
          </a:xfrm>
          <a:custGeom>
            <a:avLst/>
            <a:gdLst>
              <a:gd name="textAreaLeft" fmla="*/ 0 w 2905200"/>
              <a:gd name="textAreaRight" fmla="*/ 2905200 w 2905200"/>
              <a:gd name="textAreaTop" fmla="*/ 0 h 1397160"/>
              <a:gd name="textAreaBottom" fmla="*/ 1397520 h 1397160"/>
            </a:gdLst>
            <a:ahLst/>
            <a:rect l="textAreaLeft" t="textAreaTop" r="textAreaRight" b="textAreaBottom"/>
            <a:pathLst>
              <a:path fill="none" w="19866" h="19523">
                <a:moveTo>
                  <a:pt x="19866" y="8479"/>
                </a:moveTo>
                <a:cubicBezTo>
                  <a:pt x="17793" y="13335"/>
                  <a:pt x="14014" y="17263"/>
                  <a:pt x="9241" y="19522"/>
                </a:cubicBezTo>
              </a:path>
              <a:path stroke="0" w="19866" h="19523">
                <a:moveTo>
                  <a:pt x="19866" y="8479"/>
                </a:moveTo>
                <a:cubicBezTo>
                  <a:pt x="17793" y="13335"/>
                  <a:pt x="14014" y="17263"/>
                  <a:pt x="9241" y="19522"/>
                </a:cubicBezTo>
                <a:lnTo>
                  <a:pt x="0" y="0"/>
                </a:lnTo>
                <a:lnTo>
                  <a:pt x="19866" y="847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1" name="Freeform 19"/>
          <p:cNvSpPr/>
          <p:nvPr/>
        </p:nvSpPr>
        <p:spPr>
          <a:xfrm rot="20601600">
            <a:off x="4933440" y="3187440"/>
            <a:ext cx="1359000" cy="1593720"/>
          </a:xfrm>
          <a:custGeom>
            <a:avLst/>
            <a:gdLst>
              <a:gd name="textAreaLeft" fmla="*/ 0 w 1359000"/>
              <a:gd name="textAreaRight" fmla="*/ 1359360 w 1359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f8ed4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2" name="Oval 20"/>
          <p:cNvSpPr/>
          <p:nvPr/>
        </p:nvSpPr>
        <p:spPr>
          <a:xfrm rot="20601600">
            <a:off x="3154320" y="263016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19528b"/>
              </a:gs>
              <a:gs pos="50000">
                <a:srgbClr val="c7d5e3"/>
              </a:gs>
              <a:gs pos="100000">
                <a:srgbClr val="19528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3" name="Oval 21"/>
          <p:cNvSpPr/>
          <p:nvPr/>
        </p:nvSpPr>
        <p:spPr>
          <a:xfrm rot="20601600">
            <a:off x="3254400" y="288288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4" name="AutoShape 22"/>
          <p:cNvSpPr/>
          <p:nvPr/>
        </p:nvSpPr>
        <p:spPr>
          <a:xfrm>
            <a:off x="2362320" y="27241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5" name="AutoShape 23"/>
          <p:cNvSpPr/>
          <p:nvPr/>
        </p:nvSpPr>
        <p:spPr>
          <a:xfrm>
            <a:off x="4114800" y="188604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5715000" y="2343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5715000" y="3333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2209680" y="394344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6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9" name="AutoShape 27"/>
          <p:cNvSpPr/>
          <p:nvPr/>
        </p:nvSpPr>
        <p:spPr>
          <a:xfrm>
            <a:off x="3886200" y="41720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5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ThemeGallery</dc:creator>
  <dc:description/>
  <dc:language>en-US</dc:language>
  <cp:lastModifiedBy>a</cp:lastModifiedBy>
  <dcterms:modified xsi:type="dcterms:W3CDTF">2015-07-25T08:38:18Z</dcterms:modified>
  <cp:revision>40</cp:revision>
  <dc:subject/>
  <dc:title>040TGp_time_mono</dc:title>
</cp:coreProperties>
</file>