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4C6-4D0C-4DE1-8890-DAC294BD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A62-20A4-44B6-BE0E-45FE52CD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485-BA7B-4F1F-BDDA-03B78C81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5F8-A3D6-451E-A36C-8E030AE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4AE8-B246-4FE1-BDF0-68116F07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3C7D-7ABB-4AF0-8ED4-8B387B8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0E46-DD25-44D9-930A-A1515F69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BB0-C567-4883-ADE0-205C0735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D9AF-685D-492F-9B1A-89227C4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CF5-D620-4864-9257-5B7A2BE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2E94-9C8B-4063-8D3A-C762314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AF1-AA3B-40B6-ACAC-3636E555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D0F-6B9A-43B8-B5BE-7A35172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AC94-9CD5-4E0C-BB62-810E78C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DA29-D679-404E-BBD1-34C5673C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23E-E121-4E36-BA22-3AB5D515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3E7-03B7-40FD-91F5-35D54838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839-DC9C-4C14-9F0F-C08769F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2E4-ABEB-4336-A15F-72E5666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7B3-1675-4D33-8450-002558F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D21-780F-49F7-BEF8-B70D174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CEA-1183-46B4-A6F6-6E90AB16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B9C-F750-4D32-86D7-F2109C7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05B-606A-436C-8CA9-477F170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5A8-67C5-4EAE-AA5B-91EF52CCC4D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45160"/>
            <a:ext cx="21337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45160"/>
            <a:ext cx="289584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45160"/>
            <a:ext cx="21337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26E-63D8-473F-AA8A-8593F0EC876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8760" y="422064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菊花通用</a:t>
            </a:r>
            <a:r>
              <a:rPr b="0" lang="en-US" sz="40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6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16:54Z</dcterms:created>
  <dc:creator/>
  <dc:description/>
  <dc:language>en-US</dc:language>
  <cp:lastModifiedBy>王玉清</cp:lastModifiedBy>
  <dcterms:modified xsi:type="dcterms:W3CDTF">2016-02-22T03:10:51Z</dcterms:modified>
  <cp:revision>5</cp:revision>
  <dc:subject/>
  <dc:title>投影片 </dc:title>
</cp:coreProperties>
</file>