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A55-C81B-472F-81CD-6269ABCE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4A6-C9CC-4B7E-A930-9AE0C296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C5F-80BE-4D49-80EC-6B06FB5E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152-ACF0-4980-9B5D-5879AB8F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2A5A9-C0A3-4E99-BDBB-F09BF401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838E5-A53F-414E-9097-2103B9FC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64F4F-7CBA-4C8A-AF66-76A7834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57CB1-A21B-451B-9DCF-517B3784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65614-06AA-4D26-87A1-C16A39CE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BB82B-FEB3-4670-960D-346D4C38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00022-6B30-4C91-8861-2DB5B08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065-2BE6-4297-8835-BB84E11A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80A0F-792D-468E-B037-55FE8CA8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743DD-26DD-4B74-BDA6-33B72862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C0905-E5B2-4632-9931-9C9C5B4F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21859-9454-4BF6-8079-FA915868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65E20-5BFF-44F3-AF48-35197A61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DF5-D3FB-4314-B905-6CDE5CD2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FF1-517C-497D-9E9A-4BD45744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4BA-64B0-436B-9EA2-C2783027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88A-788B-4FE7-99FB-593E7F2E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FC0-BCEC-462C-A8A9-6DE5B817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B9A-2036-41B6-AB5C-F3D5CDDD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9EC-645E-45B4-88F8-ADC296B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990"/>
          <p:cNvSpPr/>
          <p:nvPr/>
        </p:nvSpPr>
        <p:spPr>
          <a:xfrm flipH="1">
            <a:off x="4419000" y="38160"/>
            <a:ext cx="4647960" cy="1181160"/>
          </a:xfrm>
          <a:custGeom>
            <a:avLst/>
            <a:gdLst/>
            <a:ahLst/>
            <a:rect l="l" t="t" r="r" b="b"/>
            <a:pathLst>
              <a:path w="2976" h="744">
                <a:moveTo>
                  <a:pt x="16" y="0"/>
                </a:moveTo>
                <a:lnTo>
                  <a:pt x="0" y="744"/>
                </a:lnTo>
                <a:lnTo>
                  <a:pt x="2976" y="440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" name="Freeform 2988"/>
          <p:cNvSpPr/>
          <p:nvPr/>
        </p:nvSpPr>
        <p:spPr>
          <a:xfrm>
            <a:off x="0" y="0"/>
            <a:ext cx="4533840" cy="1295280"/>
          </a:xfrm>
          <a:custGeom>
            <a:avLst/>
            <a:gdLst/>
            <a:ahLst/>
            <a:rect l="l" t="t" r="r" b="b"/>
            <a:pathLst>
              <a:path w="2856" h="800">
                <a:moveTo>
                  <a:pt x="16" y="0"/>
                </a:moveTo>
                <a:lnTo>
                  <a:pt x="0" y="800"/>
                </a:lnTo>
                <a:lnTo>
                  <a:pt x="2856" y="461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2" name="AutoShape 2629"/>
          <p:cNvSpPr/>
          <p:nvPr/>
        </p:nvSpPr>
        <p:spPr>
          <a:xfrm rot="10800000">
            <a:off x="0" y="-360"/>
            <a:ext cx="9144000" cy="762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3" name="Rectangle 2983"/>
          <p:cNvSpPr/>
          <p:nvPr/>
        </p:nvSpPr>
        <p:spPr>
          <a:xfrm>
            <a:off x="9067680" y="14400"/>
            <a:ext cx="76320" cy="683892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" name="Rectangle 2984"/>
          <p:cNvSpPr/>
          <p:nvPr/>
        </p:nvSpPr>
        <p:spPr>
          <a:xfrm flipH="1">
            <a:off x="12600" y="9360"/>
            <a:ext cx="76320" cy="684864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Rectangle 2987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195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9432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5CED-F9F1-4288-BC70-30396014EA62}" type="slidenum">
              <a:rPr b="0" lang="ko-KR" sz="10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38"/>
          <p:cNvSpPr/>
          <p:nvPr/>
        </p:nvSpPr>
        <p:spPr>
          <a:xfrm flipH="1">
            <a:off x="0" y="9360"/>
            <a:ext cx="3733920" cy="684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5486400" y="4680"/>
            <a:ext cx="3657600" cy="683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9" name="Freeform 1454"/>
          <p:cNvSpPr/>
          <p:nvPr/>
        </p:nvSpPr>
        <p:spPr>
          <a:xfrm flipV="1">
            <a:off x="-104400" y="3276360"/>
            <a:ext cx="9248760" cy="358128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0" name="Freeform 1453"/>
          <p:cNvSpPr/>
          <p:nvPr/>
        </p:nvSpPr>
        <p:spPr>
          <a:xfrm>
            <a:off x="-76320" y="0"/>
            <a:ext cx="9220320" cy="327672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1" name="AutoShape 2044"/>
          <p:cNvSpPr/>
          <p:nvPr/>
        </p:nvSpPr>
        <p:spPr>
          <a:xfrm>
            <a:off x="1295280" y="152280"/>
            <a:ext cx="6553440" cy="655344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4f7f7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2" name="AutoShape 1456"/>
          <p:cNvSpPr/>
          <p:nvPr/>
        </p:nvSpPr>
        <p:spPr>
          <a:xfrm>
            <a:off x="2362320" y="1143000"/>
            <a:ext cx="4495680" cy="4800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dce3e4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3" name="Text Box 29"/>
          <p:cNvSpPr/>
          <p:nvPr/>
        </p:nvSpPr>
        <p:spPr>
          <a:xfrm>
            <a:off x="388620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LOGO</a:t>
            </a:r>
            <a:endParaRPr b="0" lang="en-US" sz="2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4" name="AutoShape 1455"/>
          <p:cNvSpPr/>
          <p:nvPr/>
        </p:nvSpPr>
        <p:spPr>
          <a:xfrm>
            <a:off x="2819520" y="1733400"/>
            <a:ext cx="3581280" cy="3657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fffff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5" name="Rectangle 2048"/>
          <p:cNvSpPr/>
          <p:nvPr/>
        </p:nvSpPr>
        <p:spPr>
          <a:xfrm>
            <a:off x="0" y="2971800"/>
            <a:ext cx="9144000" cy="76212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88584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c3764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5B80-8E8C-438E-9366-7A3772CBB8BC}" type="slidenum">
              <a:rPr b="0" lang="ko-KR" sz="1400" spc="-1" strike="noStrike">
                <a:solidFill>
                  <a:srgbClr val="2c3764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6"/>
          </p:nvPr>
        </p:nvSpPr>
        <p:spPr>
          <a:xfrm>
            <a:off x="304560" y="64767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8babc"/>
                </a:solidFill>
                <a:latin typeface="Verdana"/>
                <a:ea typeface="굴림"/>
              </a:rPr>
              <a:t>简洁经典灰色背景商务</a:t>
            </a:r>
            <a:r>
              <a:rPr b="1" lang="en-US" sz="4000" spc="-1" strike="noStrike">
                <a:solidFill>
                  <a:srgbClr val="a8babc"/>
                </a:solidFill>
                <a:latin typeface="Verdana"/>
                <a:ea typeface="굴림"/>
              </a:rPr>
              <a:t>PPT</a:t>
            </a:r>
            <a:r>
              <a:rPr b="1" lang="zh-CN" sz="4000" spc="-1" strike="noStrike">
                <a:solidFill>
                  <a:srgbClr val="a8babc"/>
                </a:solidFill>
                <a:latin typeface="Verdana"/>
                <a:ea typeface="굴림"/>
              </a:rPr>
              <a:t>模板</a:t>
            </a:r>
            <a:endParaRPr b="1" lang="en-US" sz="40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77777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3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200" name="WordArt 2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528b"/>
                    </a:gs>
                    <a:gs pos="100000">
                      <a:srgbClr val="39b3c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528b"/>
                  </a:gs>
                  <a:gs pos="100000">
                    <a:srgbClr val="39b3c3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0" lang="en-US" sz="14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2125800" y="21049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2e4f"/>
              </a:gs>
              <a:gs pos="50000">
                <a:srgbClr val="2364ab"/>
              </a:gs>
              <a:gs pos="100000">
                <a:srgbClr val="102e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39840" y="2962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535a"/>
              </a:gs>
              <a:gs pos="50000">
                <a:srgbClr val="39b3c3"/>
              </a:gs>
              <a:gs pos="100000">
                <a:srgbClr val="1a53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2125800" y="38131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640"/>
              </a:gs>
              <a:gs pos="50000">
                <a:srgbClr val="19528b"/>
              </a:gs>
              <a:gs pos="100000">
                <a:srgbClr val="0c26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2125800" y="469116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4a53"/>
              </a:gs>
              <a:gs pos="50000">
                <a:srgbClr val="99a0b3"/>
              </a:gs>
              <a:gs pos="100000">
                <a:srgbClr val="474a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굴림"/>
              </a:rPr>
              <a:t>Contents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436840" y="2044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troduction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457360" y="28954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ategy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448000" y="375444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hallenges Forward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523960" y="462600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685880" y="1905120"/>
            <a:ext cx="685800" cy="685800"/>
          </a:xfrm>
          <a:prstGeom prst="diamond">
            <a:avLst/>
          </a:prstGeom>
          <a:solidFill>
            <a:srgbClr val="2364a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1685880" y="2743200"/>
            <a:ext cx="685800" cy="685800"/>
          </a:xfrm>
          <a:prstGeom prst="diamond">
            <a:avLst/>
          </a:prstGeom>
          <a:solidFill>
            <a:srgbClr val="39b3c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685880" y="3657600"/>
            <a:ext cx="685800" cy="685800"/>
          </a:xfrm>
          <a:prstGeom prst="diamond">
            <a:avLst/>
          </a:prstGeom>
          <a:solidFill>
            <a:srgbClr val="19528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1685880" y="4495680"/>
            <a:ext cx="685800" cy="685800"/>
          </a:xfrm>
          <a:prstGeom prst="diamond">
            <a:avLst/>
          </a:prstGeom>
          <a:solidFill>
            <a:srgbClr val="99a0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9b3c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b3c3"/>
                </a:solidFill>
                <a:latin typeface="Verdana"/>
                <a:ea typeface="굴림"/>
              </a:rPr>
              <a:t>Strengths</a:t>
            </a: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굴림"/>
              </a:rPr>
              <a:t> 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8240" y="1819440"/>
          <a:ext cx="7450200" cy="3458880"/>
        </p:xfrm>
        <a:graphic>
          <a:graphicData uri="http://schemas.openxmlformats.org/drawingml/2006/table">
            <a:tbl>
              <a:tblPr/>
              <a:tblGrid>
                <a:gridCol w="1489320"/>
                <a:gridCol w="1490400"/>
                <a:gridCol w="1490760"/>
                <a:gridCol w="1490760"/>
                <a:gridCol w="14889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a1c0"/>
                        </a:gs>
                        <a:gs pos="100000">
                          <a:srgbClr val="19528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92ab"/>
                        </a:gs>
                        <a:gs pos="100000">
                          <a:srgbClr val="2c3764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3d6de"/>
                        </a:gs>
                        <a:gs pos="100000">
                          <a:srgbClr val="39b3c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cbd6"/>
                        </a:gs>
                        <a:gs pos="100000">
                          <a:srgbClr val="99a0b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6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0" name="Oval 2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1" name="Oval 3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99a0b3"/>
              </a:gs>
              <a:gs pos="100000">
                <a:srgbClr val="3537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2364ab"/>
              </a:gs>
              <a:gs pos="100000">
                <a:srgbClr val="0c23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39b3c3"/>
              </a:gs>
              <a:gs pos="100000">
                <a:srgbClr val="144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babc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0b3"/>
              </a:gs>
              <a:gs pos="100000">
                <a:srgbClr val="474a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3764"/>
              </a:gs>
              <a:gs pos="100000">
                <a:srgbClr val="13172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b3c3"/>
              </a:gs>
              <a:gs pos="100000">
                <a:srgbClr val="1a535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9b3c3"/>
              </a:gs>
              <a:gs pos="100000">
                <a:srgbClr val="b0e1e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c3764"/>
              </a:gs>
              <a:gs pos="100000">
                <a:srgbClr val="abafc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e3e5ea"/>
              </a:gs>
              <a:gs pos="100000">
                <a:srgbClr val="99a0b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1757520" y="1146240"/>
          <a:ext cx="532908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146240"/>
                    <a:ext cx="53290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8babc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a8bab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a8bab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49" name="Rectangle 8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99a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50" name="Group 9"/>
            <p:cNvGrpSpPr/>
            <p:nvPr/>
          </p:nvGrpSpPr>
          <p:grpSpPr>
            <a:xfrm>
              <a:off x="2375280" y="2179080"/>
              <a:ext cx="931680" cy="131400"/>
              <a:chOff x="2375280" y="2179080"/>
              <a:chExt cx="931680" cy="13140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2375280" y="2179080"/>
                <a:ext cx="1569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2" name="Rectangle 11"/>
              <p:cNvSpPr/>
              <p:nvPr/>
            </p:nvSpPr>
            <p:spPr>
              <a:xfrm>
                <a:off x="2464560" y="2180520"/>
                <a:ext cx="7729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3" name="Oval 12"/>
              <p:cNvSpPr/>
              <p:nvPr/>
            </p:nvSpPr>
            <p:spPr>
              <a:xfrm>
                <a:off x="3165840" y="218052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4" name="Oval 13"/>
              <p:cNvSpPr/>
              <p:nvPr/>
            </p:nvSpPr>
            <p:spPr>
              <a:xfrm>
                <a:off x="3243600" y="2221920"/>
                <a:ext cx="3996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Rectangle 14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56" name="Group 15"/>
            <p:cNvGrpSpPr/>
            <p:nvPr/>
          </p:nvGrpSpPr>
          <p:grpSpPr>
            <a:xfrm>
              <a:off x="4096800" y="2179080"/>
              <a:ext cx="931680" cy="131400"/>
              <a:chOff x="4096800" y="2179080"/>
              <a:chExt cx="931680" cy="131400"/>
            </a:xfrm>
          </p:grpSpPr>
          <p:sp>
            <p:nvSpPr>
              <p:cNvPr id="157" name="Oval 16"/>
              <p:cNvSpPr/>
              <p:nvPr/>
            </p:nvSpPr>
            <p:spPr>
              <a:xfrm>
                <a:off x="4096800" y="2179080"/>
                <a:ext cx="1569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8" name="Rectangle 17"/>
              <p:cNvSpPr/>
              <p:nvPr/>
            </p:nvSpPr>
            <p:spPr>
              <a:xfrm>
                <a:off x="4186080" y="2180520"/>
                <a:ext cx="7729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9" name="Oval 18"/>
              <p:cNvSpPr/>
              <p:nvPr/>
            </p:nvSpPr>
            <p:spPr>
              <a:xfrm>
                <a:off x="4887360" y="218052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0" name="Oval 19"/>
              <p:cNvSpPr/>
              <p:nvPr/>
            </p:nvSpPr>
            <p:spPr>
              <a:xfrm>
                <a:off x="4963320" y="2221920"/>
                <a:ext cx="3960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20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99a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62" name="Group 21"/>
            <p:cNvGrpSpPr/>
            <p:nvPr/>
          </p:nvGrpSpPr>
          <p:grpSpPr>
            <a:xfrm>
              <a:off x="5817960" y="2179080"/>
              <a:ext cx="1218240" cy="131400"/>
              <a:chOff x="5817960" y="2179080"/>
              <a:chExt cx="1218240" cy="131400"/>
            </a:xfrm>
          </p:grpSpPr>
          <p:sp>
            <p:nvSpPr>
              <p:cNvPr id="163" name="Oval 22"/>
              <p:cNvSpPr/>
              <p:nvPr/>
            </p:nvSpPr>
            <p:spPr>
              <a:xfrm>
                <a:off x="5817960" y="2179080"/>
                <a:ext cx="2055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4" name="Rectangle 23"/>
              <p:cNvSpPr/>
              <p:nvPr/>
            </p:nvSpPr>
            <p:spPr>
              <a:xfrm>
                <a:off x="5934600" y="2180520"/>
                <a:ext cx="10105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5" name="Oval 24"/>
              <p:cNvSpPr/>
              <p:nvPr/>
            </p:nvSpPr>
            <p:spPr>
              <a:xfrm>
                <a:off x="6851520" y="2180520"/>
                <a:ext cx="18468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6950880" y="2221920"/>
                <a:ext cx="5184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26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</p:grpSp>
      <p:sp>
        <p:nvSpPr>
          <p:cNvPr id="168" name="AutoShape 27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69" name="AutoShape 28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0" name="AutoShape 29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a8babc"/>
              </a:gs>
              <a:gs pos="50000">
                <a:srgbClr val="eaeee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16406d"/>
              </a:gs>
              <a:gs pos="100000">
                <a:srgbClr val="2364ab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7" name="Arc 6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8" name="Arc 7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9" name="Arc 8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0" name="Arc 9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320"/>
              <a:gd name="textAreaBottom" fmla="*/ 1417680 h 1417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1" name="Arc 10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2" name="Freeform 11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a8ba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grpSp>
        <p:nvGrpSpPr>
          <p:cNvPr id="184" name="Group 13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185" name="Arc 14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sp>
          <p:nvSpPr>
            <p:cNvPr id="186" name="Freeform 15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sp>
          <p:nvSpPr>
            <p:cNvPr id="187" name="Freeform 16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</p:grpSp>
      <p:sp>
        <p:nvSpPr>
          <p:cNvPr id="188" name="Freeform 17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9fa4b8"/>
              </a:gs>
              <a:gs pos="100000">
                <a:srgbClr val="2c37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9" name="Arc 18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>
              <a:gd name="textAreaLeft" fmla="*/ 0 w 2905200"/>
              <a:gd name="textAreaRight" fmla="*/ 2905200 w 290520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fill="none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</a:path>
              <a:path stroke="0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  <a:lnTo>
                  <a:pt x="0" y="0"/>
                </a:ln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1" name="Oval 20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19528b"/>
              </a:gs>
              <a:gs pos="50000">
                <a:srgbClr val="c7d5e3"/>
              </a:gs>
              <a:gs pos="100000">
                <a:srgbClr val="19528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2" name="Oval 21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3" name="AutoShape 22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4" name="AutoShape 23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5" name="AutoShape 24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6" name="AutoShape 25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www.pptbz.com</dc:creator>
  <dc:description/>
  <dc:language>en-US</dc:language>
  <cp:lastModifiedBy>a</cp:lastModifiedBy>
  <dcterms:modified xsi:type="dcterms:W3CDTF">2015-07-25T12:05:16Z</dcterms:modified>
  <cp:revision>41</cp:revision>
  <dc:subject/>
  <dc:title>040TGp_time_mono</dc:title>
</cp:coreProperties>
</file>