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6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B08A-D450-44B1-8779-4E9BE21F17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9F20-60AC-4215-9E00-973660C245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E958-27E3-4116-B8C7-895ACFCA9E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4072-C97B-49AC-BF06-76644F3D5C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D54-E05A-4958-B81B-D19F091D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591-130A-468F-86D5-1BF7BE60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E52-DC5C-4EDA-8B3C-77745860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323-1126-4F64-9C60-89B95361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C0A-F9B9-4CB0-9E91-E91B4472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FB1-32D4-481B-8891-0D2A8369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D84-1D9B-471E-9133-67F489B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B3C-957B-4526-8BAF-B79DDF69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E80-F68C-45A4-90E9-E2260F94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873-CA00-4A86-BF98-9BB1B3B8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159-3C3B-4E1E-AAA6-5F6048B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922-EE56-455E-8A80-48F5E089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788-7606-419E-93CF-C52C722F62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5"/>
          <p:cNvSpPr/>
          <p:nvPr/>
        </p:nvSpPr>
        <p:spPr>
          <a:xfrm>
            <a:off x="7912080" y="6492960"/>
            <a:ext cx="12384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page</a:t>
            </a:r>
            <a:fld id="{1BD66D0D-B5CF-487A-B031-9520716FD6B2}" type="slidenum">
              <a:rPr b="0" lang="zh-CN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0" y="6492960"/>
            <a:ext cx="6443640" cy="390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-6480" y="189000"/>
            <a:ext cx="54000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432480" y="6426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dowin\Desktop\stock-proce-toda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7912080" y="6492960"/>
            <a:ext cx="12384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page</a:t>
            </a:r>
            <a:fld id="{A94E7A71-9649-4BBB-83D6-5DAEEBBBD484}" type="slidenum">
              <a:rPr b="0" lang="zh-CN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6443640" y="6492960"/>
            <a:ext cx="1468440" cy="39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0" y="6492960"/>
            <a:ext cx="6443640" cy="390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-6480" y="189000"/>
            <a:ext cx="54000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3"/>
          <p:cNvSpPr/>
          <p:nvPr/>
        </p:nvSpPr>
        <p:spPr>
          <a:xfrm>
            <a:off x="-6480" y="639720"/>
            <a:ext cx="54000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7912080" y="6492960"/>
            <a:ext cx="12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onsolas"/>
                <a:ea typeface="微软雅黑"/>
              </a:rPr>
              <a:t>page</a:t>
            </a:r>
            <a:fld id="{37B241EE-D9CF-420D-B821-73116329CDA1}" type="slidenum">
              <a:rPr b="0" lang="zh-CN" sz="1400" spc="-1" strike="noStrike">
                <a:solidFill>
                  <a:srgbClr val="262626"/>
                </a:solidFill>
                <a:latin typeface="Consolas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-6480" y="6492960"/>
            <a:ext cx="6450120" cy="390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6432480" y="6426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7912080" y="6492960"/>
            <a:ext cx="12384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page</a:t>
            </a:r>
            <a:fld id="{B9912F00-2D6C-45D1-B7F9-AE87A00D4870}" type="slidenum">
              <a:rPr b="0" lang="zh-CN" sz="1400" spc="-1" strike="noStrike">
                <a:solidFill>
                  <a:srgbClr val="ffffff"/>
                </a:solidFill>
                <a:latin typeface="Consolas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0" y="6492960"/>
            <a:ext cx="6443640" cy="390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5"/>
          <p:cNvSpPr/>
          <p:nvPr/>
        </p:nvSpPr>
        <p:spPr>
          <a:xfrm>
            <a:off x="-6480" y="189000"/>
            <a:ext cx="54000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6432480" y="64263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C:\Users\dowin\Desktop\stock-proce-today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79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洁箭头金融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费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639360"/>
            <a:ext cx="81532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OUT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"/>
          <p:cNvSpPr/>
          <p:nvPr/>
        </p:nvSpPr>
        <p:spPr>
          <a:xfrm>
            <a:off x="2711520" y="2103480"/>
            <a:ext cx="4680000" cy="67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圆角矩形 4"/>
          <p:cNvSpPr/>
          <p:nvPr/>
        </p:nvSpPr>
        <p:spPr>
          <a:xfrm>
            <a:off x="1547640" y="2847960"/>
            <a:ext cx="648000" cy="6732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73200"/>
              <a:gd name="textAreaBottom" fmla="*/ 641880 h 673200"/>
            </a:gdLst>
            <a:ahLst/>
            <a:rect l="textAreaLeft" t="textAreaTop" r="textAreaRight" b="textAreaBottom"/>
            <a:pathLst>
              <a:path w="21600" h="22440">
                <a:moveTo>
                  <a:pt x="3600" y="0"/>
                </a:moveTo>
                <a:arcTo wR="3600" hR="3600" stAng="16200000" swAng="-5400000"/>
                <a:lnTo>
                  <a:pt x="0" y="18840"/>
                </a:lnTo>
                <a:arcTo wR="3600" hR="3600" stAng="10800000" swAng="-5400000"/>
                <a:lnTo>
                  <a:pt x="18000" y="224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圆角矩形 5"/>
          <p:cNvSpPr/>
          <p:nvPr/>
        </p:nvSpPr>
        <p:spPr>
          <a:xfrm>
            <a:off x="2711520" y="2879640"/>
            <a:ext cx="4680000" cy="676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圆角矩形 6"/>
          <p:cNvSpPr/>
          <p:nvPr/>
        </p:nvSpPr>
        <p:spPr>
          <a:xfrm>
            <a:off x="2711520" y="3633840"/>
            <a:ext cx="4680000" cy="676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圆角矩形 7"/>
          <p:cNvSpPr/>
          <p:nvPr/>
        </p:nvSpPr>
        <p:spPr>
          <a:xfrm>
            <a:off x="1547640" y="2108160"/>
            <a:ext cx="648000" cy="6714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71400"/>
              <a:gd name="textAreaBottom" fmla="*/ 640080 h 671400"/>
            </a:gdLst>
            <a:ahLst/>
            <a:rect l="textAreaLeft" t="textAreaTop" r="textAreaRight" b="textAreaBottom"/>
            <a:pathLst>
              <a:path w="21600" h="22380">
                <a:moveTo>
                  <a:pt x="3600" y="0"/>
                </a:moveTo>
                <a:arcTo wR="3600" hR="3600" stAng="16200000" swAng="-5400000"/>
                <a:lnTo>
                  <a:pt x="0" y="18780"/>
                </a:lnTo>
                <a:arcTo wR="3600" hR="3600" stAng="10800000" swAng="-5400000"/>
                <a:lnTo>
                  <a:pt x="18000" y="223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圆角矩形 8"/>
          <p:cNvSpPr/>
          <p:nvPr/>
        </p:nvSpPr>
        <p:spPr>
          <a:xfrm>
            <a:off x="1547640" y="3638520"/>
            <a:ext cx="648000" cy="6732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73200"/>
              <a:gd name="textAreaBottom" fmla="*/ 641880 h 673200"/>
            </a:gdLst>
            <a:ahLst/>
            <a:rect l="textAreaLeft" t="textAreaTop" r="textAreaRight" b="textAreaBottom"/>
            <a:pathLst>
              <a:path w="21600" h="22440">
                <a:moveTo>
                  <a:pt x="3600" y="0"/>
                </a:moveTo>
                <a:arcTo wR="3600" hR="3600" stAng="16200000" swAng="-5400000"/>
                <a:lnTo>
                  <a:pt x="0" y="18840"/>
                </a:lnTo>
                <a:arcTo wR="3600" hR="3600" stAng="10800000" swAng="-5400000"/>
                <a:lnTo>
                  <a:pt x="18000" y="224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圆角矩形 9"/>
          <p:cNvSpPr/>
          <p:nvPr/>
        </p:nvSpPr>
        <p:spPr>
          <a:xfrm>
            <a:off x="2697120" y="4424400"/>
            <a:ext cx="4680000" cy="676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圆角矩形 10"/>
          <p:cNvSpPr/>
          <p:nvPr/>
        </p:nvSpPr>
        <p:spPr>
          <a:xfrm>
            <a:off x="1547640" y="4429080"/>
            <a:ext cx="648000" cy="6732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673200"/>
              <a:gd name="textAreaBottom" fmla="*/ 641880 h 673200"/>
            </a:gdLst>
            <a:ahLst/>
            <a:rect l="textAreaLeft" t="textAreaTop" r="textAreaRight" b="textAreaBottom"/>
            <a:pathLst>
              <a:path w="21600" h="22440">
                <a:moveTo>
                  <a:pt x="3600" y="0"/>
                </a:moveTo>
                <a:arcTo wR="3600" hR="3600" stAng="16200000" swAng="-5400000"/>
                <a:lnTo>
                  <a:pt x="0" y="18840"/>
                </a:lnTo>
                <a:arcTo wR="3600" hR="3600" stAng="10800000" swAng="-5400000"/>
                <a:lnTo>
                  <a:pt x="18000" y="224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圆角矩形 11"/>
          <p:cNvSpPr/>
          <p:nvPr/>
        </p:nvSpPr>
        <p:spPr>
          <a:xfrm>
            <a:off x="2711520" y="5199120"/>
            <a:ext cx="4680000" cy="676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12"/>
          <p:cNvSpPr/>
          <p:nvPr/>
        </p:nvSpPr>
        <p:spPr>
          <a:xfrm>
            <a:off x="1562040" y="5203800"/>
            <a:ext cx="647640" cy="6732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673200"/>
              <a:gd name="textAreaBottom" fmla="*/ 641880 h 673200"/>
            </a:gdLst>
            <a:ahLst/>
            <a:rect l="textAreaLeft" t="textAreaTop" r="textAreaRight" b="textAreaBottom"/>
            <a:pathLst>
              <a:path w="21600" h="22452">
                <a:moveTo>
                  <a:pt x="3600" y="0"/>
                </a:moveTo>
                <a:arcTo wR="3600" hR="3600" stAng="16200000" swAng="-5400000"/>
                <a:lnTo>
                  <a:pt x="0" y="18852"/>
                </a:lnTo>
                <a:arcTo wR="3600" hR="3600" stAng="10800000" swAng="-5400000"/>
                <a:lnTo>
                  <a:pt x="18000" y="22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椭圆 18"/>
          <p:cNvSpPr/>
          <p:nvPr/>
        </p:nvSpPr>
        <p:spPr>
          <a:xfrm>
            <a:off x="2340000" y="1844640"/>
            <a:ext cx="4608360" cy="41054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500040" y="90792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任意多边形 8"/>
          <p:cNvSpPr/>
          <p:nvPr/>
        </p:nvSpPr>
        <p:spPr>
          <a:xfrm>
            <a:off x="3821040" y="1557360"/>
            <a:ext cx="1509840" cy="151776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任意多边形 10"/>
          <p:cNvSpPr/>
          <p:nvPr/>
        </p:nvSpPr>
        <p:spPr>
          <a:xfrm>
            <a:off x="5511960" y="2401920"/>
            <a:ext cx="1508040" cy="151920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任意多边形 12"/>
          <p:cNvSpPr/>
          <p:nvPr/>
        </p:nvSpPr>
        <p:spPr>
          <a:xfrm>
            <a:off x="3821040" y="4791240"/>
            <a:ext cx="1509840" cy="151740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任意多边形 14"/>
          <p:cNvSpPr/>
          <p:nvPr/>
        </p:nvSpPr>
        <p:spPr>
          <a:xfrm>
            <a:off x="2124000" y="2401920"/>
            <a:ext cx="1508040" cy="151920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任意多边形 15"/>
          <p:cNvSpPr/>
          <p:nvPr/>
        </p:nvSpPr>
        <p:spPr>
          <a:xfrm>
            <a:off x="5511960" y="4162320"/>
            <a:ext cx="1508040" cy="151776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任意多边形 16"/>
          <p:cNvSpPr/>
          <p:nvPr/>
        </p:nvSpPr>
        <p:spPr>
          <a:xfrm>
            <a:off x="2124000" y="4162320"/>
            <a:ext cx="1508040" cy="1517760"/>
          </a:xfrm>
          <a:custGeom>
            <a:avLst/>
            <a:gdLst/>
            <a:ahLst/>
            <a:rect l="l" t="t" r="r" b="b"/>
            <a:pathLst>
              <a:path w="1068585" h="1068585">
                <a:moveTo>
                  <a:pt x="0" y="534293"/>
                </a:moveTo>
                <a:cubicBezTo>
                  <a:pt x="0" y="239211"/>
                  <a:pt x="239211" y="0"/>
                  <a:pt x="534293" y="0"/>
                </a:cubicBezTo>
                <a:cubicBezTo>
                  <a:pt x="829375" y="0"/>
                  <a:pt x="1068586" y="239211"/>
                  <a:pt x="1068586" y="534293"/>
                </a:cubicBezTo>
                <a:cubicBezTo>
                  <a:pt x="1068586" y="829375"/>
                  <a:pt x="829375" y="1068586"/>
                  <a:pt x="534293" y="1068586"/>
                </a:cubicBezTo>
                <a:cubicBezTo>
                  <a:pt x="239211" y="1068586"/>
                  <a:pt x="0" y="829375"/>
                  <a:pt x="0" y="534293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400" rIns="185400" tIns="185400" bIns="18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9"/>
          <p:cNvSpPr/>
          <p:nvPr/>
        </p:nvSpPr>
        <p:spPr>
          <a:xfrm>
            <a:off x="3924360" y="3789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8:26:58Z</dcterms:created>
  <dc:creator>Shines</dc:creator>
  <dc:description/>
  <dc:language>en-US</dc:language>
  <cp:lastModifiedBy>王玉清</cp:lastModifiedBy>
  <cp:lastPrinted>2011-09-29T06:35:48Z</cp:lastPrinted>
  <dcterms:modified xsi:type="dcterms:W3CDTF">2016-02-15T03:52:46Z</dcterms:modified>
  <cp:revision>109</cp:revision>
  <dc:subject/>
  <dc:title>中国个人理财发展趋势</dc:title>
</cp:coreProperties>
</file>