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4B2-837B-4D49-83AB-7C5671F6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6B7-4BC6-401A-9323-02777624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546-1DCF-4D10-925A-2FE1578C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600-E039-41E7-A4B3-3D439F11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CCD3-A10E-4F4E-8665-1B18A5A1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B0EF-81CF-45C7-A498-1B1CEB69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A7AE-C95D-4DAA-9B82-AB90762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FCE9-F274-4683-B34A-02FE2DE1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4C0C-5EC3-4533-A378-D9A2EAE0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78280" y="11556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F3FE-8A5E-49D3-96D4-114523DB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CBC4-005E-439C-A0E0-08DFBED3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63C-6363-46B0-B346-624767CC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790E-4EA1-4B36-A2FB-B18574A2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8113-E673-4A9C-8B32-8631A17C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CF32-668A-4DDD-AF99-0CDF95D1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8EED-D7A8-461C-830D-178C2EDC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9D6E-88E1-4DE2-A990-73F54C6E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04D-5DC8-40F3-BC4A-EE4FB7A5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2E9-1DA8-4552-AD8E-30F87D2C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5BB-7BA0-40A7-A32B-F4663D5C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78280" y="11556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15B-5909-4D23-A6E6-5A750D2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EED-8BC9-4B85-861E-BE2C8058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CBF-17A3-4F37-8FCE-A1A9B67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CDB-0F53-4C36-B01E-A9E01156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E59A-FD11-428A-9D79-4D4C66F4E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963720" y="108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公司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03A4-CCF7-452C-A85E-0AE4637F2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760" y="404640"/>
            <a:ext cx="8424720" cy="172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美的互联网主题商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56000" y="3805920"/>
            <a:ext cx="2663640" cy="9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ordArt 4" descr=""/>
          <p:cNvPicPr/>
          <p:nvPr/>
        </p:nvPicPr>
        <p:blipFill>
          <a:blip r:embed="rId1"/>
          <a:stretch/>
        </p:blipFill>
        <p:spPr>
          <a:xfrm>
            <a:off x="2657520" y="3005280"/>
            <a:ext cx="385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1:56:06Z</dcterms:created>
  <dc:creator>slybyc</dc:creator>
  <dc:description/>
  <dc:language>en-US</dc:language>
  <cp:lastModifiedBy>a</cp:lastModifiedBy>
  <dcterms:modified xsi:type="dcterms:W3CDTF">2015-07-25T08:00:57Z</dcterms:modified>
  <cp:revision>78</cp:revision>
  <dc:subject/>
  <dc:title>幻灯片 1</dc:title>
</cp:coreProperties>
</file>