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B5A2-D3CD-4B28-A39D-BD43DDF1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58C-9D45-41A6-BC56-F43D71AA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698A-D797-4AF4-AF49-72192D93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5CB-EF43-4FF2-A45A-3F678AC7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AC3-5B96-4515-A8BE-35A661198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FD2-07B1-4152-9AB3-DF07040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4E9-8411-4F8D-B61C-2A1FC0F1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5AC-5230-46F6-8B42-E7B3151C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3FF4-7D5B-4D28-A17F-14ACA1E4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8612-E7D5-49B3-826B-1FC7A5C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ADD-CC1D-48B9-A5B6-8D6A7448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9D6-34CB-4615-BE07-F5BAB953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C6E8-E049-4B8A-A103-278364817B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F98-71D9-422B-88FF-B50B8959DC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1528920"/>
            <a:ext cx="9434520" cy="656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3822480" cy="4471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2870280" y="111456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家庭生活通用</a:t>
            </a:r>
            <a:r>
              <a:rPr b="1" lang="en-US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4920" y="-385920"/>
            <a:ext cx="1438200" cy="7243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1528920"/>
            <a:ext cx="9434520" cy="656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698480" y="2197080"/>
            <a:ext cx="3822480" cy="447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4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6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831600" y="20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心家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4432320" y="6292800"/>
            <a:ext cx="11174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34920" y="-385920"/>
            <a:ext cx="1438200" cy="7243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7920" y="-166680"/>
            <a:ext cx="9151920" cy="1508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0" y="-385920"/>
            <a:ext cx="9144000" cy="1710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831600" y="2062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心家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-52560" y="3216240"/>
            <a:ext cx="9239400" cy="5010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1T03:31:01Z</dcterms:modified>
  <cp:revision>4</cp:revision>
  <dc:subject/>
  <dc:title>www.1ppt.com</dc:title>
</cp:coreProperties>
</file>