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579A-009F-4654-85D5-8B1BAE82354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宝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_www.pptbz.com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提供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218-647D-46B1-B3A9-A79D07BB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A1A-A797-4037-A60C-FAB19A60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17A-7A76-4E72-BA6E-CEC8341B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463-B2B4-4C0D-8C50-05AE88B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BE5-3657-4A30-8EA3-CDFC40E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573-9213-4162-8889-1D0E950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9FF-1032-455C-845A-353C0C3A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BFA9-8BE6-4E46-8497-DEF1FFE2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6F3-A678-4B2E-98B9-0F401165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47C-F0CA-438A-A1E1-1B9BF42F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8B9-94DA-44C9-ABBF-15E0A61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D1A-BBDC-49B2-A124-081323E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807-9028-4E79-91B6-D15A3860631D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000" y="5084280"/>
            <a:ext cx="6767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钥匙地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ppt宝藏</dc:creator>
  <dc:description/>
  <dc:language>en-US</dc:language>
  <cp:lastModifiedBy>a</cp:lastModifiedBy>
  <cp:lastPrinted>1899-12-30T00:00:00Z</cp:lastPrinted>
  <dcterms:modified xsi:type="dcterms:W3CDTF">2015-07-25T03:15:11Z</dcterms:modified>
  <cp:revision>74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