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9ABB-365E-41A0-9065-67298F1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B2EC6-F367-43DA-8B47-E01BF28A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E9EE-C5E7-49B1-BD80-7869088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A98B-E018-42E5-87E1-DA73495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13F1-6507-4C8D-86C2-56B2365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AD60-6A25-49B9-B1BA-C18118E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BD37-9946-4F74-BDD3-0A1EA3A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9CBA-EB08-414F-9C49-03C8910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22AB-6458-4D22-B50C-028F58CE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A0594-ED0D-481C-9EE7-EF0E67F2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D859-DDC6-4971-B213-DFDF19C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0EC2-2976-4726-90AA-11DBFBD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E6F6-41D6-4A60-A28E-B961A33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59CF-D7E3-4008-A5A8-6D2D3F6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5456D-60C7-4FA0-B855-276B238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F288-474E-4BC5-A65D-AC24853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FD52-30BC-49D8-B9CB-3C26AB6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31C7-9FC2-4D85-BDCE-D824472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42964-7BBC-453C-9759-8FC250B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0A95A-AEBA-4C71-9701-E0A8ECCD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6500-3DF3-4EB0-9934-EBA2850E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60EE-7023-46B8-BE07-B6E73C4B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0E73-C2A0-4FFB-852B-CB58EBEA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1CE2-5A4C-4BE7-AD46-B954404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61134-EEED-4AE7-A522-FB1682B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9BA1-473A-47A7-938F-21800D6F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75525-46F1-46AB-A148-ADFCACA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F8DC-8F40-432B-9A37-16645BAE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583B-F206-4F3B-8923-AEB6C620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D3A7-747F-4FE4-BFD4-4E2D120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155A1-00E0-4A4A-8BDB-E041C0CB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E7A7-62AD-48C4-B82B-48718DD1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C238-9459-414F-B9F1-E638A1E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D19-F624-499F-99E0-D5F00B1A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291-D181-47F4-8067-763AD79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1A0-5918-4454-9C14-381AF335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ED1-BBF2-4564-ADCA-68ED27B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986-5990-4D0A-A6DA-5505ED8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6F9-4244-4C50-B858-BEAFFE2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C9C-FB18-48D7-9DE8-1694D6B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0D8-5398-42DD-A42A-87CFA45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1BF-436C-4BC7-8C04-2713A59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6F8-953C-4EB8-9718-516A105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132-771C-4934-9B5E-550299E4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287-C967-479B-9A0B-CEEEE691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041-EBAE-4521-9190-0731B8B0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F82-FBC6-4C75-A98F-C5C85E8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3CA-90E8-4B94-9E1B-64333DC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D55C-6BCE-4ADC-9557-411FE0F8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B70-395C-41AB-ADFA-9A7EB60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005A-77C6-49FB-B800-E1A412B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C57-3179-4321-9D16-E83E3F63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A71-1AA8-4171-B27B-73D217C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60C-3E44-4362-ACB4-FED3C93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9E49-223D-42AA-A63D-6975604E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3E76-65F6-4359-B902-F7855B06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6A83-355F-4F75-8E06-FF8AC518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AAAD-F132-4B51-86FA-1CF17116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F47C-A30E-4BD7-ACF3-8B29BED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6746-E864-4B2C-8CE8-D9470C8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8394-252B-4778-8BEF-4BBB4FB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2B1A-0B34-4737-9160-594B0B2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3F1D-A8A4-42B5-AF69-E3C78BD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C3FE-F01A-4B1A-9D93-33785C9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ABBE-4DF5-4AFB-9E08-5C4C98E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395F-9B22-498C-98F3-F9C1B3C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2FD1-EAA3-4A1F-8389-056CEE6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2C6A-57E3-4B7B-85FD-2DD338F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2BF2-2595-4F73-8A6C-74DCC429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E0DB-E6AC-4290-9280-51CD779D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9AD6-D839-4F51-B561-2620E936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BA5C-1EDD-4532-893B-DEC2BEDF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26A3-C03D-431B-9677-DBDBDD4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94F3-6618-4900-8520-4170352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F3BD-6913-4EE3-9E3B-949CFE9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F1CA-B270-4AFD-8B54-BF1F5BF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2534-2C2C-4739-B3A9-BD712AC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2B98-121D-499C-9A68-057ACAE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B6BF-EE7D-412D-A063-8D2D2E3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3B8C7-7E63-4B87-AEC2-A317F09A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3A3F-C30C-488C-9C19-9E842B9A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C257-24D1-476E-894B-222A9C98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3D23-9B23-4B08-9CE2-7B97224D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CC2A-273E-43C6-B0FE-A6F3653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F8BE-217F-4DD6-849E-352FE373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885C-37F4-49C9-80A4-2C26C5AB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DEA8-93F3-4A5C-97F8-958DA69A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568A-E57B-422C-BA62-ED36B5B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27DC-CB47-4F37-8AF9-82C63E2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2FE4-0623-47CC-8685-F7F95F7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0A0F-FFA3-4D8D-BA83-6152D446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494A-59A4-492B-A9DC-6AA5160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F7006-C0D3-4EB9-886C-5568ECA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32CA-56E0-4AE3-B3DF-56C2F26F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9D25-C7C9-4C18-ACF2-88A03AF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59AF8-75C6-4724-A1BA-F2242C11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1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3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394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396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69E-745F-4081-91F8-A80DAC77231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438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440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E7D3-FA1A-4253-BC6B-52442DE3176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42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44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" name="组合 6"/>
          <p:cNvGrpSpPr/>
          <p:nvPr/>
        </p:nvGrpSpPr>
        <p:grpSpPr>
          <a:xfrm>
            <a:off x="0" y="-1440"/>
            <a:ext cx="9150480" cy="384120"/>
            <a:chOff x="0" y="-1440"/>
            <a:chExt cx="9150480" cy="384120"/>
          </a:xfrm>
        </p:grpSpPr>
        <p:sp>
          <p:nvSpPr>
            <p:cNvPr id="47" name="Freeform 6"/>
            <p:cNvSpPr/>
            <p:nvPr/>
          </p:nvSpPr>
          <p:spPr>
            <a:xfrm>
              <a:off x="0" y="-1440"/>
              <a:ext cx="7545600" cy="384120"/>
            </a:xfrm>
            <a:custGeom>
              <a:avLst/>
              <a:gdLst/>
              <a:ahLst/>
              <a:rect l="l" t="t" r="r" b="b"/>
              <a:pathLst>
                <a:path w="5357" h="822">
                  <a:moveTo>
                    <a:pt x="0" y="0"/>
                  </a:moveTo>
                  <a:lnTo>
                    <a:pt x="5357" y="0"/>
                  </a:lnTo>
                  <a:lnTo>
                    <a:pt x="5357" y="822"/>
                  </a:lnTo>
                  <a:lnTo>
                    <a:pt x="0" y="8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7545600" y="-1440"/>
              <a:ext cx="1604880" cy="384120"/>
            </a:xfrm>
            <a:custGeom>
              <a:avLst/>
              <a:gdLst/>
              <a:ahLst/>
              <a:rect l="l" t="t" r="r" b="b"/>
              <a:pathLst>
                <a:path w="938" h="822">
                  <a:moveTo>
                    <a:pt x="0" y="0"/>
                  </a:moveTo>
                  <a:lnTo>
                    <a:pt x="938" y="0"/>
                  </a:lnTo>
                  <a:lnTo>
                    <a:pt x="938" y="822"/>
                  </a:lnTo>
                  <a:lnTo>
                    <a:pt x="0" y="8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86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88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Freeform 6"/>
          <p:cNvSpPr/>
          <p:nvPr/>
        </p:nvSpPr>
        <p:spPr>
          <a:xfrm>
            <a:off x="0" y="-1440"/>
            <a:ext cx="4714920" cy="5145120"/>
          </a:xfrm>
          <a:custGeom>
            <a:avLst/>
            <a:gdLst/>
            <a:ahLst/>
            <a:rect l="l" t="t" r="r" b="b"/>
            <a:pathLst>
              <a:path w="4714591" h="5145038">
                <a:moveTo>
                  <a:pt x="0" y="0"/>
                </a:moveTo>
                <a:lnTo>
                  <a:pt x="4499992" y="0"/>
                </a:lnTo>
                <a:lnTo>
                  <a:pt x="4499992" y="2357920"/>
                </a:lnTo>
                <a:lnTo>
                  <a:pt x="4714591" y="2572519"/>
                </a:lnTo>
                <a:lnTo>
                  <a:pt x="4499992" y="2787118"/>
                </a:lnTo>
                <a:lnTo>
                  <a:pt x="4499992" y="5145038"/>
                </a:lnTo>
                <a:lnTo>
                  <a:pt x="0" y="5145038"/>
                </a:lnTo>
                <a:lnTo>
                  <a:pt x="0" y="0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128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130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AD14-6DD8-40B7-9272-5DAF41F757D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172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174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F2A5-0967-44B2-A6BD-2049653DDAD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216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218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9294-38DD-43C1-B039-533F9579BAF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260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262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BC36-A1D8-44E3-8986-58959189D54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306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308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2C01-A57B-4F39-B8AE-5A44F6EF4DE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6"/>
          <p:cNvGrpSpPr/>
          <p:nvPr/>
        </p:nvGrpSpPr>
        <p:grpSpPr>
          <a:xfrm>
            <a:off x="0" y="-1440"/>
            <a:ext cx="9167760" cy="5145120"/>
            <a:chOff x="0" y="-1440"/>
            <a:chExt cx="9167760" cy="5145120"/>
          </a:xfrm>
        </p:grpSpPr>
        <p:pic>
          <p:nvPicPr>
            <p:cNvPr id="350" name="Picture 9" descr="C:\Documents and Settings\Administrator\桌面\素材CNN sccnn.com 388XXC2.jpg"/>
            <p:cNvPicPr/>
            <p:nvPr/>
          </p:nvPicPr>
          <p:blipFill>
            <a:blip r:embed="rId2"/>
            <a:srcRect l="1216" t="14692" r="0" b="859"/>
            <a:stretch/>
          </p:blipFill>
          <p:spPr>
            <a:xfrm>
              <a:off x="3240" y="43200"/>
              <a:ext cx="9140760" cy="50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矩形 8"/>
            <p:cNvGrpSpPr/>
            <p:nvPr/>
          </p:nvGrpSpPr>
          <p:grpSpPr>
            <a:xfrm>
              <a:off x="0" y="-1440"/>
              <a:ext cx="9167760" cy="5145120"/>
              <a:chOff x="0" y="-1440"/>
              <a:chExt cx="9167760" cy="5145120"/>
            </a:xfrm>
          </p:grpSpPr>
          <p:pic>
            <p:nvPicPr>
              <p:cNvPr id="352" name="矩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677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0" y="-1440"/>
                <a:ext cx="9167400" cy="51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0846-3F5E-4445-B75A-E59D99AD875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E:\PPT制作必备\PPT模板\Nipic_2531170_20130604140841207000.jpg"/>
          <p:cNvPicPr/>
          <p:nvPr/>
        </p:nvPicPr>
        <p:blipFill>
          <a:blip r:embed="rId1"/>
          <a:srcRect l="0" t="4357" r="0" b="2064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2" name="矩形 1"/>
          <p:cNvSpPr/>
          <p:nvPr/>
        </p:nvSpPr>
        <p:spPr>
          <a:xfrm>
            <a:off x="0" y="1924200"/>
            <a:ext cx="9144000" cy="1439640"/>
          </a:xfrm>
          <a:prstGeom prst="rect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2004120" y="229068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建筑公司通用</a:t>
            </a:r>
            <a:r>
              <a:rPr b="1" lang="en-US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4778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26"/>
          <p:cNvGrpSpPr/>
          <p:nvPr/>
        </p:nvGrpSpPr>
        <p:grpSpPr>
          <a:xfrm>
            <a:off x="250920" y="2727360"/>
            <a:ext cx="8642160" cy="933480"/>
            <a:chOff x="250920" y="2727360"/>
            <a:chExt cx="8642160" cy="933480"/>
          </a:xfrm>
        </p:grpSpPr>
        <p:grpSp>
          <p:nvGrpSpPr>
            <p:cNvPr id="722" name="组合 68"/>
            <p:cNvGrpSpPr/>
            <p:nvPr/>
          </p:nvGrpSpPr>
          <p:grpSpPr>
            <a:xfrm>
              <a:off x="250920" y="2727360"/>
              <a:ext cx="8642160" cy="933480"/>
              <a:chOff x="250920" y="2727360"/>
              <a:chExt cx="8642160" cy="933480"/>
            </a:xfrm>
          </p:grpSpPr>
          <p:grpSp>
            <p:nvGrpSpPr>
              <p:cNvPr id="723" name="组合 69"/>
              <p:cNvGrpSpPr/>
              <p:nvPr/>
            </p:nvGrpSpPr>
            <p:grpSpPr>
              <a:xfrm>
                <a:off x="4564080" y="2727360"/>
                <a:ext cx="2168640" cy="933480"/>
                <a:chOff x="4564080" y="2727360"/>
                <a:chExt cx="2168640" cy="933480"/>
              </a:xfrm>
            </p:grpSpPr>
            <p:sp>
              <p:nvSpPr>
                <p:cNvPr id="724" name="Freeform 7"/>
                <p:cNvSpPr/>
                <p:nvPr/>
              </p:nvSpPr>
              <p:spPr>
                <a:xfrm>
                  <a:off x="4564080" y="2727360"/>
                  <a:ext cx="2168640" cy="933480"/>
                </a:xfrm>
                <a:custGeom>
                  <a:avLst/>
                  <a:gdLst>
                    <a:gd name="textAreaLeft" fmla="*/ 0 w 2168640"/>
                    <a:gd name="textAreaRight" fmla="*/ 2169000 w 216864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29" h="357">
                      <a:moveTo>
                        <a:pt x="179" y="0"/>
                      </a:moveTo>
                      <a:lnTo>
                        <a:pt x="829" y="0"/>
                      </a:lnTo>
                      <a:lnTo>
                        <a:pt x="829" y="357"/>
                      </a:lnTo>
                      <a:lnTo>
                        <a:pt x="179" y="357"/>
                      </a:lnTo>
                      <a:lnTo>
                        <a:pt x="0" y="18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4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8"/>
                <p:cNvSpPr/>
                <p:nvPr/>
              </p:nvSpPr>
              <p:spPr>
                <a:xfrm>
                  <a:off x="5063760" y="280836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9"/>
                <p:cNvSpPr/>
                <p:nvPr/>
              </p:nvSpPr>
              <p:spPr>
                <a:xfrm>
                  <a:off x="4673880" y="3017520"/>
                  <a:ext cx="316440" cy="35280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1" h="135">
                      <a:moveTo>
                        <a:pt x="67" y="0"/>
                      </a:moveTo>
                      <a:lnTo>
                        <a:pt x="67" y="31"/>
                      </a:lnTo>
                      <a:lnTo>
                        <a:pt x="121" y="31"/>
                      </a:lnTo>
                      <a:lnTo>
                        <a:pt x="121" y="104"/>
                      </a:lnTo>
                      <a:lnTo>
                        <a:pt x="67" y="104"/>
                      </a:lnTo>
                      <a:lnTo>
                        <a:pt x="67" y="135"/>
                      </a:lnTo>
                      <a:lnTo>
                        <a:pt x="0" y="69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70"/>
              <p:cNvGrpSpPr/>
              <p:nvPr/>
            </p:nvGrpSpPr>
            <p:grpSpPr>
              <a:xfrm>
                <a:off x="6716520" y="2727360"/>
                <a:ext cx="2176560" cy="933480"/>
                <a:chOff x="6716520" y="2727360"/>
                <a:chExt cx="2176560" cy="933480"/>
              </a:xfrm>
            </p:grpSpPr>
            <p:sp>
              <p:nvSpPr>
                <p:cNvPr id="728" name="Freeform 10"/>
                <p:cNvSpPr/>
                <p:nvPr/>
              </p:nvSpPr>
              <p:spPr>
                <a:xfrm>
                  <a:off x="6716520" y="2727360"/>
                  <a:ext cx="2176560" cy="93348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32" h="357">
                      <a:moveTo>
                        <a:pt x="182" y="0"/>
                      </a:moveTo>
                      <a:lnTo>
                        <a:pt x="832" y="0"/>
                      </a:lnTo>
                      <a:lnTo>
                        <a:pt x="832" y="357"/>
                      </a:lnTo>
                      <a:lnTo>
                        <a:pt x="182" y="357"/>
                      </a:lnTo>
                      <a:lnTo>
                        <a:pt x="0" y="180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e84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1"/>
                <p:cNvSpPr/>
                <p:nvPr/>
              </p:nvSpPr>
              <p:spPr>
                <a:xfrm>
                  <a:off x="7223760" y="280836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2"/>
                <p:cNvSpPr/>
                <p:nvPr/>
              </p:nvSpPr>
              <p:spPr>
                <a:xfrm>
                  <a:off x="6828840" y="3017520"/>
                  <a:ext cx="321480" cy="352800"/>
                </a:xfrm>
                <a:custGeom>
                  <a:avLst/>
                  <a:gdLst>
                    <a:gd name="textAreaLeft" fmla="*/ 0 w 321480"/>
                    <a:gd name="textAreaRight" fmla="*/ 321840 w 32148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3" h="135">
                      <a:moveTo>
                        <a:pt x="68" y="0"/>
                      </a:moveTo>
                      <a:lnTo>
                        <a:pt x="68" y="31"/>
                      </a:lnTo>
                      <a:lnTo>
                        <a:pt x="123" y="31"/>
                      </a:lnTo>
                      <a:lnTo>
                        <a:pt x="123" y="104"/>
                      </a:lnTo>
                      <a:lnTo>
                        <a:pt x="68" y="104"/>
                      </a:lnTo>
                      <a:lnTo>
                        <a:pt x="68" y="135"/>
                      </a:lnTo>
                      <a:lnTo>
                        <a:pt x="0" y="6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组合 71"/>
              <p:cNvGrpSpPr/>
              <p:nvPr/>
            </p:nvGrpSpPr>
            <p:grpSpPr>
              <a:xfrm>
                <a:off x="250920" y="2727360"/>
                <a:ext cx="2168640" cy="933480"/>
                <a:chOff x="250920" y="2727360"/>
                <a:chExt cx="2168640" cy="933480"/>
              </a:xfrm>
            </p:grpSpPr>
            <p:sp>
              <p:nvSpPr>
                <p:cNvPr id="732" name="Freeform 7"/>
                <p:cNvSpPr/>
                <p:nvPr/>
              </p:nvSpPr>
              <p:spPr>
                <a:xfrm>
                  <a:off x="250920" y="2727360"/>
                  <a:ext cx="2168640" cy="933480"/>
                </a:xfrm>
                <a:custGeom>
                  <a:avLst/>
                  <a:gdLst>
                    <a:gd name="textAreaLeft" fmla="*/ 0 w 2168640"/>
                    <a:gd name="textAreaRight" fmla="*/ 2169000 w 216864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29" h="357">
                      <a:moveTo>
                        <a:pt x="179" y="0"/>
                      </a:moveTo>
                      <a:lnTo>
                        <a:pt x="829" y="0"/>
                      </a:lnTo>
                      <a:lnTo>
                        <a:pt x="829" y="357"/>
                      </a:lnTo>
                      <a:lnTo>
                        <a:pt x="179" y="357"/>
                      </a:lnTo>
                      <a:lnTo>
                        <a:pt x="0" y="18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4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8"/>
                <p:cNvSpPr/>
                <p:nvPr/>
              </p:nvSpPr>
              <p:spPr>
                <a:xfrm>
                  <a:off x="750600" y="280836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9"/>
                <p:cNvSpPr/>
                <p:nvPr/>
              </p:nvSpPr>
              <p:spPr>
                <a:xfrm>
                  <a:off x="360720" y="3017520"/>
                  <a:ext cx="316440" cy="35280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1" h="135">
                      <a:moveTo>
                        <a:pt x="67" y="0"/>
                      </a:moveTo>
                      <a:lnTo>
                        <a:pt x="67" y="31"/>
                      </a:lnTo>
                      <a:lnTo>
                        <a:pt x="121" y="31"/>
                      </a:lnTo>
                      <a:lnTo>
                        <a:pt x="121" y="104"/>
                      </a:lnTo>
                      <a:lnTo>
                        <a:pt x="67" y="104"/>
                      </a:lnTo>
                      <a:lnTo>
                        <a:pt x="67" y="135"/>
                      </a:lnTo>
                      <a:lnTo>
                        <a:pt x="0" y="69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组合 72"/>
              <p:cNvGrpSpPr/>
              <p:nvPr/>
            </p:nvGrpSpPr>
            <p:grpSpPr>
              <a:xfrm>
                <a:off x="2403360" y="2727360"/>
                <a:ext cx="2176560" cy="933480"/>
                <a:chOff x="2403360" y="2727360"/>
                <a:chExt cx="2176560" cy="933480"/>
              </a:xfrm>
            </p:grpSpPr>
            <p:sp>
              <p:nvSpPr>
                <p:cNvPr id="736" name="Freeform 10"/>
                <p:cNvSpPr/>
                <p:nvPr/>
              </p:nvSpPr>
              <p:spPr>
                <a:xfrm>
                  <a:off x="2403360" y="2727360"/>
                  <a:ext cx="2176560" cy="93348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32" h="357">
                      <a:moveTo>
                        <a:pt x="182" y="0"/>
                      </a:moveTo>
                      <a:lnTo>
                        <a:pt x="832" y="0"/>
                      </a:lnTo>
                      <a:lnTo>
                        <a:pt x="832" y="357"/>
                      </a:lnTo>
                      <a:lnTo>
                        <a:pt x="182" y="357"/>
                      </a:lnTo>
                      <a:lnTo>
                        <a:pt x="0" y="180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e84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1"/>
                <p:cNvSpPr/>
                <p:nvPr/>
              </p:nvSpPr>
              <p:spPr>
                <a:xfrm>
                  <a:off x="2910600" y="280836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2"/>
                <p:cNvSpPr/>
                <p:nvPr/>
              </p:nvSpPr>
              <p:spPr>
                <a:xfrm>
                  <a:off x="2515680" y="3017520"/>
                  <a:ext cx="321480" cy="352800"/>
                </a:xfrm>
                <a:custGeom>
                  <a:avLst/>
                  <a:gdLst>
                    <a:gd name="textAreaLeft" fmla="*/ 0 w 321480"/>
                    <a:gd name="textAreaRight" fmla="*/ 321840 w 32148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3" h="135">
                      <a:moveTo>
                        <a:pt x="68" y="0"/>
                      </a:moveTo>
                      <a:lnTo>
                        <a:pt x="68" y="31"/>
                      </a:lnTo>
                      <a:lnTo>
                        <a:pt x="123" y="31"/>
                      </a:lnTo>
                      <a:lnTo>
                        <a:pt x="123" y="104"/>
                      </a:lnTo>
                      <a:lnTo>
                        <a:pt x="68" y="104"/>
                      </a:lnTo>
                      <a:lnTo>
                        <a:pt x="68" y="135"/>
                      </a:lnTo>
                      <a:lnTo>
                        <a:pt x="0" y="6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组合 25"/>
            <p:cNvGrpSpPr/>
            <p:nvPr/>
          </p:nvGrpSpPr>
          <p:grpSpPr>
            <a:xfrm>
              <a:off x="937800" y="2806920"/>
              <a:ext cx="966240" cy="788040"/>
              <a:chOff x="937800" y="2806920"/>
              <a:chExt cx="966240" cy="788040"/>
            </a:xfrm>
          </p:grpSpPr>
          <p:sp>
            <p:nvSpPr>
              <p:cNvPr id="740" name="TextBox 24"/>
              <p:cNvSpPr/>
              <p:nvPr/>
            </p:nvSpPr>
            <p:spPr>
              <a:xfrm>
                <a:off x="937800" y="280692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Box 101"/>
              <p:cNvSpPr/>
              <p:nvPr/>
            </p:nvSpPr>
            <p:spPr>
              <a:xfrm>
                <a:off x="946080" y="307476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组合 102"/>
            <p:cNvGrpSpPr/>
            <p:nvPr/>
          </p:nvGrpSpPr>
          <p:grpSpPr>
            <a:xfrm>
              <a:off x="3088080" y="2809440"/>
              <a:ext cx="966240" cy="788040"/>
              <a:chOff x="3088080" y="2809440"/>
              <a:chExt cx="966240" cy="788040"/>
            </a:xfrm>
          </p:grpSpPr>
          <p:sp>
            <p:nvSpPr>
              <p:cNvPr id="743" name="TextBox 103"/>
              <p:cNvSpPr/>
              <p:nvPr/>
            </p:nvSpPr>
            <p:spPr>
              <a:xfrm>
                <a:off x="3088080" y="28094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Box 104"/>
              <p:cNvSpPr/>
              <p:nvPr/>
            </p:nvSpPr>
            <p:spPr>
              <a:xfrm>
                <a:off x="3096360" y="307728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组合 105"/>
            <p:cNvGrpSpPr/>
            <p:nvPr/>
          </p:nvGrpSpPr>
          <p:grpSpPr>
            <a:xfrm>
              <a:off x="5248800" y="2806920"/>
              <a:ext cx="966240" cy="788040"/>
              <a:chOff x="5248800" y="2806920"/>
              <a:chExt cx="966240" cy="788040"/>
            </a:xfrm>
          </p:grpSpPr>
          <p:sp>
            <p:nvSpPr>
              <p:cNvPr id="746" name="TextBox 106"/>
              <p:cNvSpPr/>
              <p:nvPr/>
            </p:nvSpPr>
            <p:spPr>
              <a:xfrm>
                <a:off x="5248800" y="280692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Box 107"/>
              <p:cNvSpPr/>
              <p:nvPr/>
            </p:nvSpPr>
            <p:spPr>
              <a:xfrm>
                <a:off x="5257080" y="307476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组合 108"/>
            <p:cNvGrpSpPr/>
            <p:nvPr/>
          </p:nvGrpSpPr>
          <p:grpSpPr>
            <a:xfrm>
              <a:off x="7409160" y="2805840"/>
              <a:ext cx="966240" cy="788040"/>
              <a:chOff x="7409160" y="2805840"/>
              <a:chExt cx="966240" cy="788040"/>
            </a:xfrm>
          </p:grpSpPr>
          <p:sp>
            <p:nvSpPr>
              <p:cNvPr id="749" name="TextBox 109"/>
              <p:cNvSpPr/>
              <p:nvPr/>
            </p:nvSpPr>
            <p:spPr>
              <a:xfrm>
                <a:off x="7409160" y="2805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Box 110"/>
              <p:cNvSpPr/>
              <p:nvPr/>
            </p:nvSpPr>
            <p:spPr>
              <a:xfrm>
                <a:off x="7417440" y="307368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组合 111"/>
          <p:cNvGrpSpPr/>
          <p:nvPr/>
        </p:nvGrpSpPr>
        <p:grpSpPr>
          <a:xfrm>
            <a:off x="250920" y="1474920"/>
            <a:ext cx="8642160" cy="933480"/>
            <a:chOff x="250920" y="1474920"/>
            <a:chExt cx="8642160" cy="933480"/>
          </a:xfrm>
        </p:grpSpPr>
        <p:grpSp>
          <p:nvGrpSpPr>
            <p:cNvPr id="752" name="组合 112"/>
            <p:cNvGrpSpPr/>
            <p:nvPr/>
          </p:nvGrpSpPr>
          <p:grpSpPr>
            <a:xfrm>
              <a:off x="250920" y="1474920"/>
              <a:ext cx="8642160" cy="933480"/>
              <a:chOff x="250920" y="1474920"/>
              <a:chExt cx="8642160" cy="933480"/>
            </a:xfrm>
          </p:grpSpPr>
          <p:grpSp>
            <p:nvGrpSpPr>
              <p:cNvPr id="753" name="组合 125"/>
              <p:cNvGrpSpPr/>
              <p:nvPr/>
            </p:nvGrpSpPr>
            <p:grpSpPr>
              <a:xfrm>
                <a:off x="4564080" y="1474920"/>
                <a:ext cx="2168640" cy="933480"/>
                <a:chOff x="4564080" y="1474920"/>
                <a:chExt cx="2168640" cy="933480"/>
              </a:xfrm>
            </p:grpSpPr>
            <p:sp>
              <p:nvSpPr>
                <p:cNvPr id="754" name="Freeform 7"/>
                <p:cNvSpPr/>
                <p:nvPr/>
              </p:nvSpPr>
              <p:spPr>
                <a:xfrm>
                  <a:off x="4564080" y="1474920"/>
                  <a:ext cx="2168640" cy="933480"/>
                </a:xfrm>
                <a:custGeom>
                  <a:avLst/>
                  <a:gdLst>
                    <a:gd name="textAreaLeft" fmla="*/ 0 w 2168640"/>
                    <a:gd name="textAreaRight" fmla="*/ 2169000 w 216864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29" h="357">
                      <a:moveTo>
                        <a:pt x="179" y="0"/>
                      </a:moveTo>
                      <a:lnTo>
                        <a:pt x="829" y="0"/>
                      </a:lnTo>
                      <a:lnTo>
                        <a:pt x="829" y="357"/>
                      </a:lnTo>
                      <a:lnTo>
                        <a:pt x="179" y="357"/>
                      </a:lnTo>
                      <a:lnTo>
                        <a:pt x="0" y="18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4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8"/>
                <p:cNvSpPr/>
                <p:nvPr/>
              </p:nvSpPr>
              <p:spPr>
                <a:xfrm>
                  <a:off x="5063760" y="155592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9"/>
                <p:cNvSpPr/>
                <p:nvPr/>
              </p:nvSpPr>
              <p:spPr>
                <a:xfrm>
                  <a:off x="4673880" y="1765080"/>
                  <a:ext cx="316440" cy="35280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1" h="135">
                      <a:moveTo>
                        <a:pt x="67" y="0"/>
                      </a:moveTo>
                      <a:lnTo>
                        <a:pt x="67" y="31"/>
                      </a:lnTo>
                      <a:lnTo>
                        <a:pt x="121" y="31"/>
                      </a:lnTo>
                      <a:lnTo>
                        <a:pt x="121" y="104"/>
                      </a:lnTo>
                      <a:lnTo>
                        <a:pt x="67" y="104"/>
                      </a:lnTo>
                      <a:lnTo>
                        <a:pt x="67" y="135"/>
                      </a:lnTo>
                      <a:lnTo>
                        <a:pt x="0" y="69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6"/>
              <p:cNvGrpSpPr/>
              <p:nvPr/>
            </p:nvGrpSpPr>
            <p:grpSpPr>
              <a:xfrm>
                <a:off x="6716520" y="1474920"/>
                <a:ext cx="2176560" cy="933480"/>
                <a:chOff x="6716520" y="1474920"/>
                <a:chExt cx="2176560" cy="933480"/>
              </a:xfrm>
            </p:grpSpPr>
            <p:sp>
              <p:nvSpPr>
                <p:cNvPr id="758" name="Freeform 10"/>
                <p:cNvSpPr/>
                <p:nvPr/>
              </p:nvSpPr>
              <p:spPr>
                <a:xfrm>
                  <a:off x="6716520" y="1474920"/>
                  <a:ext cx="2176560" cy="93348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32" h="357">
                      <a:moveTo>
                        <a:pt x="182" y="0"/>
                      </a:moveTo>
                      <a:lnTo>
                        <a:pt x="832" y="0"/>
                      </a:lnTo>
                      <a:lnTo>
                        <a:pt x="832" y="357"/>
                      </a:lnTo>
                      <a:lnTo>
                        <a:pt x="182" y="357"/>
                      </a:lnTo>
                      <a:lnTo>
                        <a:pt x="0" y="180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e84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11"/>
                <p:cNvSpPr/>
                <p:nvPr/>
              </p:nvSpPr>
              <p:spPr>
                <a:xfrm>
                  <a:off x="7223760" y="155592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6828840" y="1765080"/>
                  <a:ext cx="321480" cy="352800"/>
                </a:xfrm>
                <a:custGeom>
                  <a:avLst/>
                  <a:gdLst>
                    <a:gd name="textAreaLeft" fmla="*/ 0 w 321480"/>
                    <a:gd name="textAreaRight" fmla="*/ 321840 w 32148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3" h="135">
                      <a:moveTo>
                        <a:pt x="68" y="0"/>
                      </a:moveTo>
                      <a:lnTo>
                        <a:pt x="68" y="31"/>
                      </a:lnTo>
                      <a:lnTo>
                        <a:pt x="123" y="31"/>
                      </a:lnTo>
                      <a:lnTo>
                        <a:pt x="123" y="104"/>
                      </a:lnTo>
                      <a:lnTo>
                        <a:pt x="68" y="104"/>
                      </a:lnTo>
                      <a:lnTo>
                        <a:pt x="68" y="135"/>
                      </a:lnTo>
                      <a:lnTo>
                        <a:pt x="0" y="6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组合 127"/>
              <p:cNvGrpSpPr/>
              <p:nvPr/>
            </p:nvGrpSpPr>
            <p:grpSpPr>
              <a:xfrm>
                <a:off x="250920" y="1474920"/>
                <a:ext cx="2168640" cy="933480"/>
                <a:chOff x="250920" y="1474920"/>
                <a:chExt cx="2168640" cy="933480"/>
              </a:xfrm>
            </p:grpSpPr>
            <p:sp>
              <p:nvSpPr>
                <p:cNvPr id="762" name="Freeform 7"/>
                <p:cNvSpPr/>
                <p:nvPr/>
              </p:nvSpPr>
              <p:spPr>
                <a:xfrm>
                  <a:off x="250920" y="1474920"/>
                  <a:ext cx="2168640" cy="933480"/>
                </a:xfrm>
                <a:custGeom>
                  <a:avLst/>
                  <a:gdLst>
                    <a:gd name="textAreaLeft" fmla="*/ 0 w 2168640"/>
                    <a:gd name="textAreaRight" fmla="*/ 2169000 w 216864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29" h="357">
                      <a:moveTo>
                        <a:pt x="179" y="0"/>
                      </a:moveTo>
                      <a:lnTo>
                        <a:pt x="829" y="0"/>
                      </a:lnTo>
                      <a:lnTo>
                        <a:pt x="829" y="357"/>
                      </a:lnTo>
                      <a:lnTo>
                        <a:pt x="179" y="357"/>
                      </a:lnTo>
                      <a:lnTo>
                        <a:pt x="0" y="18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4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8"/>
                <p:cNvSpPr/>
                <p:nvPr/>
              </p:nvSpPr>
              <p:spPr>
                <a:xfrm>
                  <a:off x="750600" y="155592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9"/>
                <p:cNvSpPr/>
                <p:nvPr/>
              </p:nvSpPr>
              <p:spPr>
                <a:xfrm>
                  <a:off x="360720" y="1765080"/>
                  <a:ext cx="316440" cy="35280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1" h="135">
                      <a:moveTo>
                        <a:pt x="67" y="0"/>
                      </a:moveTo>
                      <a:lnTo>
                        <a:pt x="67" y="31"/>
                      </a:lnTo>
                      <a:lnTo>
                        <a:pt x="121" y="31"/>
                      </a:lnTo>
                      <a:lnTo>
                        <a:pt x="121" y="104"/>
                      </a:lnTo>
                      <a:lnTo>
                        <a:pt x="67" y="104"/>
                      </a:lnTo>
                      <a:lnTo>
                        <a:pt x="67" y="135"/>
                      </a:lnTo>
                      <a:lnTo>
                        <a:pt x="0" y="69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组合 128"/>
              <p:cNvGrpSpPr/>
              <p:nvPr/>
            </p:nvGrpSpPr>
            <p:grpSpPr>
              <a:xfrm>
                <a:off x="2403360" y="1474920"/>
                <a:ext cx="2176560" cy="933480"/>
                <a:chOff x="2403360" y="1474920"/>
                <a:chExt cx="2176560" cy="933480"/>
              </a:xfrm>
            </p:grpSpPr>
            <p:sp>
              <p:nvSpPr>
                <p:cNvPr id="766" name="Freeform 10"/>
                <p:cNvSpPr/>
                <p:nvPr/>
              </p:nvSpPr>
              <p:spPr>
                <a:xfrm>
                  <a:off x="2403360" y="1474920"/>
                  <a:ext cx="2176560" cy="93348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832" h="357">
                      <a:moveTo>
                        <a:pt x="182" y="0"/>
                      </a:moveTo>
                      <a:lnTo>
                        <a:pt x="832" y="0"/>
                      </a:lnTo>
                      <a:lnTo>
                        <a:pt x="832" y="357"/>
                      </a:lnTo>
                      <a:lnTo>
                        <a:pt x="182" y="357"/>
                      </a:lnTo>
                      <a:lnTo>
                        <a:pt x="0" y="180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e84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1"/>
                <p:cNvSpPr/>
                <p:nvPr/>
              </p:nvSpPr>
              <p:spPr>
                <a:xfrm>
                  <a:off x="2910600" y="1555920"/>
                  <a:ext cx="1470240" cy="776880"/>
                </a:xfrm>
                <a:custGeom>
                  <a:avLst/>
                  <a:gdLst>
                    <a:gd name="textAreaLeft" fmla="*/ 0 w 1470240"/>
                    <a:gd name="textAreaRight" fmla="*/ 1470600 w 1470240"/>
                    <a:gd name="textAreaTop" fmla="*/ 0 h 776880"/>
                    <a:gd name="textAreaBottom" fmla="*/ 777240 h 776880"/>
                  </a:gdLst>
                  <a:ahLst/>
                  <a:rect l="textAreaLeft" t="textAreaTop" r="textAreaRight" b="textAreaBottom"/>
                  <a:pathLst>
                    <a:path w="562" h="297">
                      <a:moveTo>
                        <a:pt x="0" y="0"/>
                      </a:moveTo>
                      <a:lnTo>
                        <a:pt x="562" y="0"/>
                      </a:lnTo>
                      <a:lnTo>
                        <a:pt x="562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2"/>
                <p:cNvSpPr/>
                <p:nvPr/>
              </p:nvSpPr>
              <p:spPr>
                <a:xfrm>
                  <a:off x="2515680" y="1765080"/>
                  <a:ext cx="321480" cy="352800"/>
                </a:xfrm>
                <a:custGeom>
                  <a:avLst/>
                  <a:gdLst>
                    <a:gd name="textAreaLeft" fmla="*/ 0 w 321480"/>
                    <a:gd name="textAreaRight" fmla="*/ 321840 w 32148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123" h="135">
                      <a:moveTo>
                        <a:pt x="68" y="0"/>
                      </a:moveTo>
                      <a:lnTo>
                        <a:pt x="68" y="31"/>
                      </a:lnTo>
                      <a:lnTo>
                        <a:pt x="123" y="31"/>
                      </a:lnTo>
                      <a:lnTo>
                        <a:pt x="123" y="104"/>
                      </a:lnTo>
                      <a:lnTo>
                        <a:pt x="68" y="104"/>
                      </a:lnTo>
                      <a:lnTo>
                        <a:pt x="68" y="135"/>
                      </a:lnTo>
                      <a:lnTo>
                        <a:pt x="0" y="69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组合 113"/>
            <p:cNvGrpSpPr/>
            <p:nvPr/>
          </p:nvGrpSpPr>
          <p:grpSpPr>
            <a:xfrm>
              <a:off x="937800" y="1554480"/>
              <a:ext cx="966240" cy="788040"/>
              <a:chOff x="937800" y="1554480"/>
              <a:chExt cx="966240" cy="788040"/>
            </a:xfrm>
          </p:grpSpPr>
          <p:sp>
            <p:nvSpPr>
              <p:cNvPr id="770" name="TextBox 123"/>
              <p:cNvSpPr/>
              <p:nvPr/>
            </p:nvSpPr>
            <p:spPr>
              <a:xfrm>
                <a:off x="937800" y="155448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Box 124"/>
              <p:cNvSpPr/>
              <p:nvPr/>
            </p:nvSpPr>
            <p:spPr>
              <a:xfrm>
                <a:off x="946080" y="182232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114"/>
            <p:cNvGrpSpPr/>
            <p:nvPr/>
          </p:nvGrpSpPr>
          <p:grpSpPr>
            <a:xfrm>
              <a:off x="3088080" y="1557000"/>
              <a:ext cx="966240" cy="788040"/>
              <a:chOff x="3088080" y="1557000"/>
              <a:chExt cx="966240" cy="788040"/>
            </a:xfrm>
          </p:grpSpPr>
          <p:sp>
            <p:nvSpPr>
              <p:cNvPr id="773" name="TextBox 121"/>
              <p:cNvSpPr/>
              <p:nvPr/>
            </p:nvSpPr>
            <p:spPr>
              <a:xfrm>
                <a:off x="3088080" y="155700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122"/>
              <p:cNvSpPr/>
              <p:nvPr/>
            </p:nvSpPr>
            <p:spPr>
              <a:xfrm>
                <a:off x="3096360" y="182484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组合 115"/>
            <p:cNvGrpSpPr/>
            <p:nvPr/>
          </p:nvGrpSpPr>
          <p:grpSpPr>
            <a:xfrm>
              <a:off x="5248800" y="1554480"/>
              <a:ext cx="966240" cy="788040"/>
              <a:chOff x="5248800" y="1554480"/>
              <a:chExt cx="966240" cy="788040"/>
            </a:xfrm>
          </p:grpSpPr>
          <p:sp>
            <p:nvSpPr>
              <p:cNvPr id="776" name="TextBox 119"/>
              <p:cNvSpPr/>
              <p:nvPr/>
            </p:nvSpPr>
            <p:spPr>
              <a:xfrm>
                <a:off x="5248800" y="155448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Box 120"/>
              <p:cNvSpPr/>
              <p:nvPr/>
            </p:nvSpPr>
            <p:spPr>
              <a:xfrm>
                <a:off x="5257080" y="182232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组合 116"/>
            <p:cNvGrpSpPr/>
            <p:nvPr/>
          </p:nvGrpSpPr>
          <p:grpSpPr>
            <a:xfrm>
              <a:off x="7409160" y="1553400"/>
              <a:ext cx="966240" cy="788040"/>
              <a:chOff x="7409160" y="1553400"/>
              <a:chExt cx="966240" cy="788040"/>
            </a:xfrm>
          </p:grpSpPr>
          <p:sp>
            <p:nvSpPr>
              <p:cNvPr id="779" name="TextBox 117"/>
              <p:cNvSpPr/>
              <p:nvPr/>
            </p:nvSpPr>
            <p:spPr>
              <a:xfrm>
                <a:off x="7409160" y="155340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Box 118"/>
              <p:cNvSpPr/>
              <p:nvPr/>
            </p:nvSpPr>
            <p:spPr>
              <a:xfrm>
                <a:off x="7417440" y="182124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5"/>
          <p:cNvSpPr/>
          <p:nvPr/>
        </p:nvSpPr>
        <p:spPr>
          <a:xfrm>
            <a:off x="4521240" y="3203640"/>
            <a:ext cx="890640" cy="880920"/>
          </a:xfrm>
          <a:custGeom>
            <a:avLst/>
            <a:gdLst>
              <a:gd name="textAreaLeft" fmla="*/ 0 w 890640"/>
              <a:gd name="textAreaRight" fmla="*/ 891000 w 89064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6"/>
          <p:cNvSpPr/>
          <p:nvPr/>
        </p:nvSpPr>
        <p:spPr>
          <a:xfrm>
            <a:off x="4821120" y="3465360"/>
            <a:ext cx="290520" cy="328680"/>
          </a:xfrm>
          <a:custGeom>
            <a:avLst/>
            <a:gdLst>
              <a:gd name="textAreaLeft" fmla="*/ 0 w 290520"/>
              <a:gd name="textAreaRight" fmla="*/ 290880 w 2905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f4a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7"/>
          <p:cNvSpPr/>
          <p:nvPr/>
        </p:nvSpPr>
        <p:spPr>
          <a:xfrm>
            <a:off x="4521240" y="1195560"/>
            <a:ext cx="880920" cy="892080"/>
          </a:xfrm>
          <a:custGeom>
            <a:avLst/>
            <a:gdLst>
              <a:gd name="textAreaLeft" fmla="*/ 0 w 880920"/>
              <a:gd name="textAreaRight" fmla="*/ 881280 w 88092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8"/>
          <p:cNvSpPr/>
          <p:nvPr/>
        </p:nvSpPr>
        <p:spPr>
          <a:xfrm>
            <a:off x="4821120" y="1468440"/>
            <a:ext cx="281160" cy="326880"/>
          </a:xfrm>
          <a:custGeom>
            <a:avLst/>
            <a:gdLst>
              <a:gd name="textAreaLeft" fmla="*/ 0 w 281160"/>
              <a:gd name="textAreaRight" fmla="*/ 281520 w 2811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fdd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9"/>
          <p:cNvSpPr/>
          <p:nvPr/>
        </p:nvSpPr>
        <p:spPr>
          <a:xfrm>
            <a:off x="3597120" y="1908000"/>
            <a:ext cx="1462320" cy="146376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0"/>
          <p:cNvSpPr/>
          <p:nvPr/>
        </p:nvSpPr>
        <p:spPr>
          <a:xfrm>
            <a:off x="4094280" y="2349360"/>
            <a:ext cx="468360" cy="5446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bce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任意多边形 20"/>
          <p:cNvSpPr/>
          <p:nvPr/>
        </p:nvSpPr>
        <p:spPr>
          <a:xfrm>
            <a:off x="5268960" y="1793880"/>
            <a:ext cx="3575160" cy="22716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任意多边形 82"/>
          <p:cNvSpPr/>
          <p:nvPr/>
        </p:nvSpPr>
        <p:spPr>
          <a:xfrm>
            <a:off x="5268960" y="3967200"/>
            <a:ext cx="3575160" cy="22680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任意多边形 86"/>
          <p:cNvSpPr/>
          <p:nvPr/>
        </p:nvSpPr>
        <p:spPr>
          <a:xfrm flipH="1">
            <a:off x="239040" y="2849400"/>
            <a:ext cx="3575160" cy="227160"/>
          </a:xfrm>
          <a:custGeom>
            <a:avLst/>
            <a:gdLst/>
            <a:ahLst/>
            <a:rect l="l" t="t" r="r" b="b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88"/>
          <p:cNvSpPr/>
          <p:nvPr/>
        </p:nvSpPr>
        <p:spPr>
          <a:xfrm>
            <a:off x="168120" y="2452680"/>
            <a:ext cx="3214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组合 19"/>
          <p:cNvGrpSpPr/>
          <p:nvPr/>
        </p:nvGrpSpPr>
        <p:grpSpPr>
          <a:xfrm>
            <a:off x="324000" y="1338120"/>
            <a:ext cx="4176720" cy="2008440"/>
            <a:chOff x="324000" y="1338120"/>
            <a:chExt cx="4176720" cy="2008440"/>
          </a:xfrm>
        </p:grpSpPr>
        <p:sp>
          <p:nvSpPr>
            <p:cNvPr id="794" name="Text Box 11"/>
            <p:cNvSpPr/>
            <p:nvPr/>
          </p:nvSpPr>
          <p:spPr>
            <a:xfrm>
              <a:off x="324000" y="1338120"/>
              <a:ext cx="417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矩形 18"/>
            <p:cNvSpPr/>
            <p:nvPr/>
          </p:nvSpPr>
          <p:spPr>
            <a:xfrm>
              <a:off x="324000" y="3052080"/>
              <a:ext cx="41767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组合 67"/>
          <p:cNvGrpSpPr/>
          <p:nvPr/>
        </p:nvGrpSpPr>
        <p:grpSpPr>
          <a:xfrm>
            <a:off x="5148360" y="1108080"/>
            <a:ext cx="3181320" cy="3192480"/>
            <a:chOff x="5148360" y="1108080"/>
            <a:chExt cx="3181320" cy="3192480"/>
          </a:xfrm>
        </p:grpSpPr>
        <p:grpSp>
          <p:nvGrpSpPr>
            <p:cNvPr id="797" name="组合 64"/>
            <p:cNvGrpSpPr/>
            <p:nvPr/>
          </p:nvGrpSpPr>
          <p:grpSpPr>
            <a:xfrm>
              <a:off x="5148360" y="1108080"/>
              <a:ext cx="3181320" cy="3192480"/>
              <a:chOff x="5148360" y="1108080"/>
              <a:chExt cx="3181320" cy="3192480"/>
            </a:xfrm>
          </p:grpSpPr>
          <p:sp>
            <p:nvSpPr>
              <p:cNvPr id="798" name="Freeform 7"/>
              <p:cNvSpPr/>
              <p:nvPr/>
            </p:nvSpPr>
            <p:spPr>
              <a:xfrm>
                <a:off x="5968800" y="1108080"/>
                <a:ext cx="1536840" cy="1770120"/>
              </a:xfrm>
              <a:custGeom>
                <a:avLst/>
                <a:gdLst>
                  <a:gd name="textAreaLeft" fmla="*/ 0 w 1536840"/>
                  <a:gd name="textAreaRight" fmla="*/ 1537200 w 15368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429" h="494">
                    <a:moveTo>
                      <a:pt x="215" y="0"/>
                    </a:moveTo>
                    <a:lnTo>
                      <a:pt x="429" y="123"/>
                    </a:lnTo>
                    <a:lnTo>
                      <a:pt x="429" y="371"/>
                    </a:lnTo>
                    <a:lnTo>
                      <a:pt x="215" y="494"/>
                    </a:lnTo>
                    <a:lnTo>
                      <a:pt x="0" y="371"/>
                    </a:lnTo>
                    <a:lnTo>
                      <a:pt x="0" y="123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84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"/>
              <p:cNvSpPr/>
              <p:nvPr/>
            </p:nvSpPr>
            <p:spPr>
              <a:xfrm>
                <a:off x="6051240" y="1200960"/>
                <a:ext cx="1371960" cy="158364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583640"/>
                  <a:gd name="textAreaBottom" fmla="*/ 1584000 h 1583640"/>
                </a:gdLst>
                <a:ahLst/>
                <a:rect l="textAreaLeft" t="textAreaTop" r="textAreaRight" b="textAreaBottom"/>
                <a:pathLst>
                  <a:path w="383" h="442">
                    <a:moveTo>
                      <a:pt x="192" y="0"/>
                    </a:moveTo>
                    <a:lnTo>
                      <a:pt x="383" y="112"/>
                    </a:lnTo>
                    <a:lnTo>
                      <a:pt x="383" y="331"/>
                    </a:lnTo>
                    <a:lnTo>
                      <a:pt x="192" y="442"/>
                    </a:lnTo>
                    <a:lnTo>
                      <a:pt x="0" y="331"/>
                    </a:lnTo>
                    <a:lnTo>
                      <a:pt x="0" y="112"/>
                    </a:lnTo>
                    <a:lnTo>
                      <a:pt x="192" y="0"/>
                    </a:lnTo>
                    <a:close/>
                    <a:moveTo>
                      <a:pt x="192" y="8"/>
                    </a:moveTo>
                    <a:lnTo>
                      <a:pt x="376" y="114"/>
                    </a:lnTo>
                    <a:lnTo>
                      <a:pt x="376" y="329"/>
                    </a:lnTo>
                    <a:lnTo>
                      <a:pt x="192" y="435"/>
                    </a:lnTo>
                    <a:lnTo>
                      <a:pt x="7" y="329"/>
                    </a:lnTo>
                    <a:lnTo>
                      <a:pt x="7" y="114"/>
                    </a:lnTo>
                    <a:lnTo>
                      <a:pt x="19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3"/>
              <p:cNvSpPr/>
              <p:nvPr/>
            </p:nvSpPr>
            <p:spPr>
              <a:xfrm>
                <a:off x="5148360" y="2530440"/>
                <a:ext cx="1529640" cy="1770120"/>
              </a:xfrm>
              <a:custGeom>
                <a:avLst/>
                <a:gdLst>
                  <a:gd name="textAreaLeft" fmla="*/ 0 w 1529640"/>
                  <a:gd name="textAreaRight" fmla="*/ 1530000 w 15296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427" h="494">
                    <a:moveTo>
                      <a:pt x="214" y="0"/>
                    </a:moveTo>
                    <a:lnTo>
                      <a:pt x="427" y="123"/>
                    </a:lnTo>
                    <a:lnTo>
                      <a:pt x="427" y="371"/>
                    </a:lnTo>
                    <a:lnTo>
                      <a:pt x="214" y="494"/>
                    </a:lnTo>
                    <a:lnTo>
                      <a:pt x="0" y="371"/>
                    </a:lnTo>
                    <a:lnTo>
                      <a:pt x="0" y="12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4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4"/>
              <p:cNvSpPr/>
              <p:nvPr/>
            </p:nvSpPr>
            <p:spPr>
              <a:xfrm>
                <a:off x="5230440" y="2623680"/>
                <a:ext cx="1361520" cy="1583640"/>
              </a:xfrm>
              <a:custGeom>
                <a:avLst/>
                <a:gdLst>
                  <a:gd name="textAreaLeft" fmla="*/ 0 w 1361520"/>
                  <a:gd name="textAreaRight" fmla="*/ 1361880 w 1361520"/>
                  <a:gd name="textAreaTop" fmla="*/ 0 h 1583640"/>
                  <a:gd name="textAreaBottom" fmla="*/ 1584000 h 1583640"/>
                </a:gdLst>
                <a:ahLst/>
                <a:rect l="textAreaLeft" t="textAreaTop" r="textAreaRight" b="textAreaBottom"/>
                <a:pathLst>
                  <a:path w="380" h="442">
                    <a:moveTo>
                      <a:pt x="191" y="0"/>
                    </a:moveTo>
                    <a:lnTo>
                      <a:pt x="380" y="111"/>
                    </a:lnTo>
                    <a:lnTo>
                      <a:pt x="380" y="331"/>
                    </a:lnTo>
                    <a:lnTo>
                      <a:pt x="191" y="442"/>
                    </a:lnTo>
                    <a:lnTo>
                      <a:pt x="0" y="331"/>
                    </a:lnTo>
                    <a:lnTo>
                      <a:pt x="0" y="111"/>
                    </a:lnTo>
                    <a:lnTo>
                      <a:pt x="191" y="0"/>
                    </a:lnTo>
                    <a:close/>
                    <a:moveTo>
                      <a:pt x="191" y="8"/>
                    </a:moveTo>
                    <a:lnTo>
                      <a:pt x="376" y="114"/>
                    </a:lnTo>
                    <a:lnTo>
                      <a:pt x="376" y="329"/>
                    </a:lnTo>
                    <a:lnTo>
                      <a:pt x="191" y="435"/>
                    </a:lnTo>
                    <a:lnTo>
                      <a:pt x="5" y="329"/>
                    </a:lnTo>
                    <a:lnTo>
                      <a:pt x="5" y="114"/>
                    </a:lnTo>
                    <a:lnTo>
                      <a:pt x="19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6796440" y="2530440"/>
                <a:ext cx="1533240" cy="1770120"/>
              </a:xfrm>
              <a:custGeom>
                <a:avLst/>
                <a:gdLst>
                  <a:gd name="textAreaLeft" fmla="*/ 0 w 1533240"/>
                  <a:gd name="textAreaRight" fmla="*/ 1533600 w 15332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428" h="494">
                    <a:moveTo>
                      <a:pt x="213" y="0"/>
                    </a:moveTo>
                    <a:lnTo>
                      <a:pt x="428" y="123"/>
                    </a:lnTo>
                    <a:lnTo>
                      <a:pt x="428" y="371"/>
                    </a:lnTo>
                    <a:lnTo>
                      <a:pt x="213" y="494"/>
                    </a:lnTo>
                    <a:lnTo>
                      <a:pt x="0" y="371"/>
                    </a:lnTo>
                    <a:lnTo>
                      <a:pt x="0" y="123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5cb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6871680" y="2623680"/>
                <a:ext cx="1371960" cy="158364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583640"/>
                  <a:gd name="textAreaBottom" fmla="*/ 1584000 h 1583640"/>
                </a:gdLst>
                <a:ahLst/>
                <a:rect l="textAreaLeft" t="textAreaTop" r="textAreaRight" b="textAreaBottom"/>
                <a:pathLst>
                  <a:path w="383" h="442">
                    <a:moveTo>
                      <a:pt x="192" y="0"/>
                    </a:moveTo>
                    <a:lnTo>
                      <a:pt x="383" y="111"/>
                    </a:lnTo>
                    <a:lnTo>
                      <a:pt x="383" y="331"/>
                    </a:lnTo>
                    <a:lnTo>
                      <a:pt x="192" y="442"/>
                    </a:lnTo>
                    <a:lnTo>
                      <a:pt x="0" y="331"/>
                    </a:lnTo>
                    <a:lnTo>
                      <a:pt x="0" y="111"/>
                    </a:lnTo>
                    <a:lnTo>
                      <a:pt x="192" y="0"/>
                    </a:lnTo>
                    <a:close/>
                    <a:moveTo>
                      <a:pt x="192" y="8"/>
                    </a:moveTo>
                    <a:lnTo>
                      <a:pt x="378" y="114"/>
                    </a:lnTo>
                    <a:lnTo>
                      <a:pt x="378" y="329"/>
                    </a:lnTo>
                    <a:lnTo>
                      <a:pt x="192" y="435"/>
                    </a:lnTo>
                    <a:lnTo>
                      <a:pt x="7" y="329"/>
                    </a:lnTo>
                    <a:lnTo>
                      <a:pt x="7" y="114"/>
                    </a:lnTo>
                    <a:lnTo>
                      <a:pt x="19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组合 66"/>
            <p:cNvGrpSpPr/>
            <p:nvPr/>
          </p:nvGrpSpPr>
          <p:grpSpPr>
            <a:xfrm>
              <a:off x="6277320" y="1446840"/>
              <a:ext cx="924480" cy="1012320"/>
              <a:chOff x="6277320" y="1446840"/>
              <a:chExt cx="924480" cy="1012320"/>
            </a:xfrm>
          </p:grpSpPr>
          <p:sp>
            <p:nvSpPr>
              <p:cNvPr id="805" name="TextBox 65"/>
              <p:cNvSpPr/>
              <p:nvPr/>
            </p:nvSpPr>
            <p:spPr>
              <a:xfrm>
                <a:off x="6375960" y="1446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Box 47"/>
              <p:cNvSpPr/>
              <p:nvPr/>
            </p:nvSpPr>
            <p:spPr>
              <a:xfrm>
                <a:off x="6277320" y="175608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组合 49"/>
            <p:cNvGrpSpPr/>
            <p:nvPr/>
          </p:nvGrpSpPr>
          <p:grpSpPr>
            <a:xfrm>
              <a:off x="5454360" y="2871360"/>
              <a:ext cx="924480" cy="1012320"/>
              <a:chOff x="5454360" y="2871360"/>
              <a:chExt cx="924480" cy="1012320"/>
            </a:xfrm>
          </p:grpSpPr>
          <p:sp>
            <p:nvSpPr>
              <p:cNvPr id="808" name="TextBox 50"/>
              <p:cNvSpPr/>
              <p:nvPr/>
            </p:nvSpPr>
            <p:spPr>
              <a:xfrm>
                <a:off x="5553000" y="28713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Box 51"/>
              <p:cNvSpPr/>
              <p:nvPr/>
            </p:nvSpPr>
            <p:spPr>
              <a:xfrm>
                <a:off x="5454360" y="318060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组合 52"/>
            <p:cNvGrpSpPr/>
            <p:nvPr/>
          </p:nvGrpSpPr>
          <p:grpSpPr>
            <a:xfrm>
              <a:off x="7103520" y="2887200"/>
              <a:ext cx="924480" cy="1012320"/>
              <a:chOff x="7103520" y="2887200"/>
              <a:chExt cx="924480" cy="1012320"/>
            </a:xfrm>
          </p:grpSpPr>
          <p:sp>
            <p:nvSpPr>
              <p:cNvPr id="811" name="TextBox 53"/>
              <p:cNvSpPr/>
              <p:nvPr/>
            </p:nvSpPr>
            <p:spPr>
              <a:xfrm>
                <a:off x="7202160" y="28872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Box 54"/>
              <p:cNvSpPr/>
              <p:nvPr/>
            </p:nvSpPr>
            <p:spPr>
              <a:xfrm>
                <a:off x="7103520" y="319644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574560" y="1176480"/>
            <a:ext cx="8029800" cy="3195360"/>
            <a:chOff x="574560" y="1176480"/>
            <a:chExt cx="8029800" cy="3195360"/>
          </a:xfrm>
        </p:grpSpPr>
        <p:pic>
          <p:nvPicPr>
            <p:cNvPr id="815" name="图表 58" descr=""/>
            <p:cNvPicPr/>
            <p:nvPr/>
          </p:nvPicPr>
          <p:blipFill>
            <a:blip r:embed="rId1"/>
            <a:stretch/>
          </p:blipFill>
          <p:spPr>
            <a:xfrm>
              <a:off x="2342520" y="1176480"/>
              <a:ext cx="401472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任意多边形 59"/>
            <p:cNvSpPr/>
            <p:nvPr/>
          </p:nvSpPr>
          <p:spPr>
            <a:xfrm>
              <a:off x="5516640" y="2646720"/>
              <a:ext cx="1484280" cy="479160"/>
            </a:xfrm>
            <a:custGeom>
              <a:avLst/>
              <a:gdLst/>
              <a:ahLst/>
              <a:rect l="l" t="t" r="r" b="b"/>
              <a:pathLst>
                <a:path w="2952750" h="952500">
                  <a:moveTo>
                    <a:pt x="0" y="952500"/>
                  </a:moveTo>
                  <a:lnTo>
                    <a:pt x="2000250" y="952500"/>
                  </a:lnTo>
                  <a:lnTo>
                    <a:pt x="2952750" y="0"/>
                  </a:lnTo>
                </a:path>
              </a:pathLst>
            </a:custGeom>
            <a:noFill/>
            <a:ln w="12600">
              <a:solidFill>
                <a:srgbClr val="e84a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60"/>
            <p:cNvSpPr/>
            <p:nvPr/>
          </p:nvSpPr>
          <p:spPr>
            <a:xfrm rot="10800000">
              <a:off x="1907640" y="2168640"/>
              <a:ext cx="1484280" cy="477720"/>
            </a:xfrm>
            <a:custGeom>
              <a:avLst/>
              <a:gdLst/>
              <a:ahLst/>
              <a:rect l="l" t="t" r="r" b="b"/>
              <a:pathLst>
                <a:path w="2952750" h="952500">
                  <a:moveTo>
                    <a:pt x="0" y="952500"/>
                  </a:moveTo>
                  <a:lnTo>
                    <a:pt x="2000250" y="952500"/>
                  </a:lnTo>
                  <a:lnTo>
                    <a:pt x="2952750" y="0"/>
                  </a:lnTo>
                </a:path>
              </a:pathLst>
            </a:custGeom>
            <a:noFill/>
            <a:ln w="12600">
              <a:solidFill>
                <a:srgbClr val="ffc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61"/>
            <p:cNvSpPr/>
            <p:nvPr/>
          </p:nvSpPr>
          <p:spPr>
            <a:xfrm>
              <a:off x="5967360" y="1359360"/>
              <a:ext cx="26370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62"/>
            <p:cNvSpPr/>
            <p:nvPr/>
          </p:nvSpPr>
          <p:spPr>
            <a:xfrm>
              <a:off x="577440" y="3125880"/>
              <a:ext cx="26607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69"/>
            <p:cNvSpPr/>
            <p:nvPr/>
          </p:nvSpPr>
          <p:spPr>
            <a:xfrm>
              <a:off x="5950080" y="1189800"/>
              <a:ext cx="34920" cy="12949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矩形 70"/>
            <p:cNvSpPr/>
            <p:nvPr/>
          </p:nvSpPr>
          <p:spPr>
            <a:xfrm>
              <a:off x="574560" y="2907000"/>
              <a:ext cx="34920" cy="1464840"/>
            </a:xfrm>
            <a:prstGeom prst="rect">
              <a:avLst/>
            </a:prstGeom>
            <a:solidFill>
              <a:srgbClr val="ffc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reeform 7"/>
          <p:cNvSpPr/>
          <p:nvPr/>
        </p:nvSpPr>
        <p:spPr>
          <a:xfrm>
            <a:off x="3341520" y="2530440"/>
            <a:ext cx="301680" cy="698400"/>
          </a:xfrm>
          <a:custGeom>
            <a:avLst/>
            <a:gdLst>
              <a:gd name="textAreaLeft" fmla="*/ 0 w 301680"/>
              <a:gd name="textAreaRight" fmla="*/ 301680 w 301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0" y="102"/>
                </a:moveTo>
                <a:cubicBezTo>
                  <a:pt x="28" y="86"/>
                  <a:pt x="28" y="86"/>
                  <a:pt x="28" y="86"/>
                </a:cubicBezTo>
                <a:cubicBezTo>
                  <a:pt x="37" y="80"/>
                  <a:pt x="44" y="70"/>
                  <a:pt x="44" y="59"/>
                </a:cubicBezTo>
                <a:cubicBezTo>
                  <a:pt x="44" y="0"/>
                  <a:pt x="44" y="0"/>
                  <a:pt x="44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59"/>
                  <a:pt x="32" y="59"/>
                  <a:pt x="32" y="59"/>
                </a:cubicBezTo>
                <a:cubicBezTo>
                  <a:pt x="32" y="65"/>
                  <a:pt x="27" y="72"/>
                  <a:pt x="21" y="76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102"/>
                  <a:pt x="0" y="102"/>
                  <a:pt x="0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"/>
          <p:cNvSpPr/>
          <p:nvPr/>
        </p:nvSpPr>
        <p:spPr>
          <a:xfrm>
            <a:off x="3060720" y="3124080"/>
            <a:ext cx="301680" cy="692280"/>
          </a:xfrm>
          <a:custGeom>
            <a:avLst/>
            <a:gdLst>
              <a:gd name="textAreaLeft" fmla="*/ 0 w 301680"/>
              <a:gd name="textAreaRight" fmla="*/ 301680 w 3016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4" h="101">
                <a:moveTo>
                  <a:pt x="44" y="0"/>
                </a:moveTo>
                <a:cubicBezTo>
                  <a:pt x="16" y="16"/>
                  <a:pt x="16" y="16"/>
                  <a:pt x="16" y="16"/>
                </a:cubicBezTo>
                <a:cubicBezTo>
                  <a:pt x="7" y="21"/>
                  <a:pt x="0" y="32"/>
                  <a:pt x="0" y="42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37"/>
                  <a:pt x="17" y="29"/>
                  <a:pt x="23" y="25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0"/>
                  <a:pt x="44" y="0"/>
                  <a:pt x="44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9"/>
          <p:cNvSpPr/>
          <p:nvPr/>
        </p:nvSpPr>
        <p:spPr>
          <a:xfrm>
            <a:off x="2568600" y="3605040"/>
            <a:ext cx="677880" cy="909720"/>
          </a:xfrm>
          <a:custGeom>
            <a:avLst/>
            <a:gdLst>
              <a:gd name="textAreaLeft" fmla="*/ 0 w 677880"/>
              <a:gd name="textAreaRight" fmla="*/ 678240 w 6778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99" h="133">
                <a:moveTo>
                  <a:pt x="99" y="0"/>
                </a:moveTo>
                <a:cubicBezTo>
                  <a:pt x="16" y="48"/>
                  <a:pt x="16" y="48"/>
                  <a:pt x="16" y="48"/>
                </a:cubicBezTo>
                <a:cubicBezTo>
                  <a:pt x="7" y="54"/>
                  <a:pt x="0" y="64"/>
                  <a:pt x="0" y="75"/>
                </a:cubicBezTo>
                <a:cubicBezTo>
                  <a:pt x="0" y="133"/>
                  <a:pt x="0" y="133"/>
                  <a:pt x="0" y="133"/>
                </a:cubicBezTo>
                <a:cubicBezTo>
                  <a:pt x="12" y="133"/>
                  <a:pt x="12" y="133"/>
                  <a:pt x="12" y="133"/>
                </a:cubicBezTo>
                <a:cubicBezTo>
                  <a:pt x="12" y="75"/>
                  <a:pt x="12" y="75"/>
                  <a:pt x="12" y="75"/>
                </a:cubicBezTo>
                <a:cubicBezTo>
                  <a:pt x="12" y="69"/>
                  <a:pt x="17" y="61"/>
                  <a:pt x="23" y="57"/>
                </a:cubicBezTo>
                <a:cubicBezTo>
                  <a:pt x="99" y="14"/>
                  <a:pt x="99" y="14"/>
                  <a:pt x="99" y="14"/>
                </a:cubicBezTo>
                <a:cubicBezTo>
                  <a:pt x="99" y="0"/>
                  <a:pt x="99" y="0"/>
                  <a:pt x="99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387520" y="4219560"/>
            <a:ext cx="441360" cy="4399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471760" y="4303800"/>
            <a:ext cx="2728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2533680" y="4363920"/>
            <a:ext cx="155520" cy="15732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2881440" y="3510000"/>
            <a:ext cx="43956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2965320" y="3591000"/>
            <a:ext cx="27144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5"/>
          <p:cNvSpPr/>
          <p:nvPr/>
        </p:nvSpPr>
        <p:spPr>
          <a:xfrm>
            <a:off x="3025800" y="3913200"/>
            <a:ext cx="171360" cy="349200"/>
          </a:xfrm>
          <a:custGeom>
            <a:avLst/>
            <a:gdLst>
              <a:gd name="textAreaLeft" fmla="*/ 0 w 171360"/>
              <a:gd name="textAreaRight" fmla="*/ 171720 w 17136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59" h="121">
                <a:moveTo>
                  <a:pt x="0" y="64"/>
                </a:moveTo>
                <a:lnTo>
                  <a:pt x="17" y="64"/>
                </a:lnTo>
                <a:lnTo>
                  <a:pt x="17" y="0"/>
                </a:lnTo>
                <a:lnTo>
                  <a:pt x="43" y="0"/>
                </a:lnTo>
                <a:lnTo>
                  <a:pt x="43" y="64"/>
                </a:lnTo>
                <a:lnTo>
                  <a:pt x="59" y="64"/>
                </a:lnTo>
                <a:lnTo>
                  <a:pt x="31" y="121"/>
                </a:lnTo>
                <a:lnTo>
                  <a:pt x="0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019320" y="3646440"/>
            <a:ext cx="157320" cy="15552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7"/>
          <p:cNvSpPr/>
          <p:nvPr/>
        </p:nvSpPr>
        <p:spPr>
          <a:xfrm>
            <a:off x="5557680" y="2530440"/>
            <a:ext cx="301680" cy="698400"/>
          </a:xfrm>
          <a:custGeom>
            <a:avLst/>
            <a:gdLst>
              <a:gd name="textAreaLeft" fmla="*/ 0 w 301680"/>
              <a:gd name="textAreaRight" fmla="*/ 301680 w 301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44" y="102"/>
                </a:moveTo>
                <a:cubicBezTo>
                  <a:pt x="16" y="86"/>
                  <a:pt x="16" y="86"/>
                  <a:pt x="16" y="86"/>
                </a:cubicBezTo>
                <a:cubicBezTo>
                  <a:pt x="7" y="80"/>
                  <a:pt x="1" y="70"/>
                  <a:pt x="0" y="59"/>
                </a:cubicBezTo>
                <a:cubicBezTo>
                  <a:pt x="0" y="0"/>
                  <a:pt x="0" y="0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59"/>
                  <a:pt x="12" y="59"/>
                  <a:pt x="12" y="59"/>
                </a:cubicBezTo>
                <a:cubicBezTo>
                  <a:pt x="12" y="65"/>
                  <a:pt x="17" y="72"/>
                  <a:pt x="23" y="76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102"/>
                  <a:pt x="44" y="102"/>
                  <a:pt x="44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5845320" y="3124080"/>
            <a:ext cx="295200" cy="692280"/>
          </a:xfrm>
          <a:custGeom>
            <a:avLst/>
            <a:gdLst>
              <a:gd name="textAreaLeft" fmla="*/ 0 w 295200"/>
              <a:gd name="textAreaRight" fmla="*/ 295560 w 29520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3" h="101">
                <a:moveTo>
                  <a:pt x="0" y="0"/>
                </a:moveTo>
                <a:cubicBezTo>
                  <a:pt x="27" y="16"/>
                  <a:pt x="27" y="16"/>
                  <a:pt x="27" y="16"/>
                </a:cubicBezTo>
                <a:cubicBezTo>
                  <a:pt x="36" y="21"/>
                  <a:pt x="43" y="32"/>
                  <a:pt x="43" y="42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43"/>
                  <a:pt x="32" y="43"/>
                  <a:pt x="32" y="43"/>
                </a:cubicBezTo>
                <a:cubicBezTo>
                  <a:pt x="32" y="37"/>
                  <a:pt x="27" y="29"/>
                  <a:pt x="21" y="2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5954760" y="3605040"/>
            <a:ext cx="677880" cy="909720"/>
          </a:xfrm>
          <a:custGeom>
            <a:avLst/>
            <a:gdLst>
              <a:gd name="textAreaLeft" fmla="*/ 0 w 677880"/>
              <a:gd name="textAreaRight" fmla="*/ 678240 w 6778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99" h="133">
                <a:moveTo>
                  <a:pt x="0" y="0"/>
                </a:moveTo>
                <a:cubicBezTo>
                  <a:pt x="83" y="48"/>
                  <a:pt x="83" y="48"/>
                  <a:pt x="83" y="48"/>
                </a:cubicBezTo>
                <a:cubicBezTo>
                  <a:pt x="92" y="54"/>
                  <a:pt x="99" y="64"/>
                  <a:pt x="99" y="75"/>
                </a:cubicBezTo>
                <a:cubicBezTo>
                  <a:pt x="99" y="133"/>
                  <a:pt x="99" y="133"/>
                  <a:pt x="99" y="133"/>
                </a:cubicBezTo>
                <a:cubicBezTo>
                  <a:pt x="87" y="133"/>
                  <a:pt x="87" y="133"/>
                  <a:pt x="87" y="133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69"/>
                  <a:pt x="83" y="61"/>
                  <a:pt x="77" y="5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0"/>
          <p:cNvSpPr/>
          <p:nvPr/>
        </p:nvSpPr>
        <p:spPr>
          <a:xfrm>
            <a:off x="6380280" y="4219560"/>
            <a:ext cx="428400" cy="4399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6456240" y="4303800"/>
            <a:ext cx="27144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6516720" y="4363920"/>
            <a:ext cx="156960" cy="15732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3"/>
          <p:cNvSpPr/>
          <p:nvPr/>
        </p:nvSpPr>
        <p:spPr>
          <a:xfrm>
            <a:off x="5888160" y="3510000"/>
            <a:ext cx="42840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4"/>
          <p:cNvSpPr/>
          <p:nvPr/>
        </p:nvSpPr>
        <p:spPr>
          <a:xfrm>
            <a:off x="5969160" y="3591000"/>
            <a:ext cx="26640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5"/>
          <p:cNvSpPr/>
          <p:nvPr/>
        </p:nvSpPr>
        <p:spPr>
          <a:xfrm>
            <a:off x="6004080" y="3913200"/>
            <a:ext cx="176040" cy="349200"/>
          </a:xfrm>
          <a:custGeom>
            <a:avLst/>
            <a:gdLst>
              <a:gd name="textAreaLeft" fmla="*/ 0 w 176040"/>
              <a:gd name="textAreaRight" fmla="*/ 176400 w 17604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61" h="121">
                <a:moveTo>
                  <a:pt x="61" y="64"/>
                </a:moveTo>
                <a:lnTo>
                  <a:pt x="45" y="64"/>
                </a:lnTo>
                <a:lnTo>
                  <a:pt x="45" y="0"/>
                </a:lnTo>
                <a:lnTo>
                  <a:pt x="16" y="0"/>
                </a:lnTo>
                <a:lnTo>
                  <a:pt x="16" y="64"/>
                </a:lnTo>
                <a:lnTo>
                  <a:pt x="0" y="64"/>
                </a:lnTo>
                <a:lnTo>
                  <a:pt x="30" y="121"/>
                </a:lnTo>
                <a:lnTo>
                  <a:pt x="61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6"/>
          <p:cNvSpPr/>
          <p:nvPr/>
        </p:nvSpPr>
        <p:spPr>
          <a:xfrm>
            <a:off x="6024600" y="3646440"/>
            <a:ext cx="155520" cy="15552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7"/>
          <p:cNvSpPr/>
          <p:nvPr/>
        </p:nvSpPr>
        <p:spPr>
          <a:xfrm>
            <a:off x="4557600" y="711360"/>
            <a:ext cx="297000" cy="698400"/>
          </a:xfrm>
          <a:custGeom>
            <a:avLst/>
            <a:gdLst>
              <a:gd name="textAreaLeft" fmla="*/ 0 w 297000"/>
              <a:gd name="textAreaRight" fmla="*/ 297000 w 2970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3" h="102">
                <a:moveTo>
                  <a:pt x="43" y="102"/>
                </a:moveTo>
                <a:cubicBezTo>
                  <a:pt x="15" y="86"/>
                  <a:pt x="15" y="86"/>
                  <a:pt x="15" y="86"/>
                </a:cubicBezTo>
                <a:cubicBezTo>
                  <a:pt x="7" y="80"/>
                  <a:pt x="0" y="70"/>
                  <a:pt x="0" y="59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59"/>
                  <a:pt x="11" y="59"/>
                  <a:pt x="11" y="59"/>
                </a:cubicBezTo>
                <a:cubicBezTo>
                  <a:pt x="11" y="65"/>
                  <a:pt x="16" y="73"/>
                  <a:pt x="22" y="76"/>
                </a:cubicBezTo>
                <a:cubicBezTo>
                  <a:pt x="43" y="89"/>
                  <a:pt x="43" y="89"/>
                  <a:pt x="43" y="89"/>
                </a:cubicBezTo>
                <a:cubicBezTo>
                  <a:pt x="43" y="102"/>
                  <a:pt x="43" y="102"/>
                  <a:pt x="43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8"/>
          <p:cNvSpPr/>
          <p:nvPr/>
        </p:nvSpPr>
        <p:spPr>
          <a:xfrm>
            <a:off x="4838760" y="1305000"/>
            <a:ext cx="301680" cy="698400"/>
          </a:xfrm>
          <a:custGeom>
            <a:avLst/>
            <a:gdLst>
              <a:gd name="textAreaLeft" fmla="*/ 0 w 301680"/>
              <a:gd name="textAreaRight" fmla="*/ 301680 w 301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0" y="0"/>
                </a:moveTo>
                <a:cubicBezTo>
                  <a:pt x="28" y="16"/>
                  <a:pt x="28" y="16"/>
                  <a:pt x="28" y="16"/>
                </a:cubicBezTo>
                <a:cubicBezTo>
                  <a:pt x="37" y="22"/>
                  <a:pt x="43" y="32"/>
                  <a:pt x="44" y="43"/>
                </a:cubicBezTo>
                <a:cubicBezTo>
                  <a:pt x="44" y="102"/>
                  <a:pt x="44" y="102"/>
                  <a:pt x="44" y="102"/>
                </a:cubicBezTo>
                <a:cubicBezTo>
                  <a:pt x="32" y="102"/>
                  <a:pt x="32" y="102"/>
                  <a:pt x="32" y="102"/>
                </a:cubicBezTo>
                <a:cubicBezTo>
                  <a:pt x="32" y="43"/>
                  <a:pt x="32" y="43"/>
                  <a:pt x="32" y="43"/>
                </a:cubicBezTo>
                <a:cubicBezTo>
                  <a:pt x="32" y="37"/>
                  <a:pt x="27" y="29"/>
                  <a:pt x="21" y="26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29"/>
          <p:cNvSpPr/>
          <p:nvPr/>
        </p:nvSpPr>
        <p:spPr>
          <a:xfrm>
            <a:off x="4341960" y="711360"/>
            <a:ext cx="291960" cy="698400"/>
          </a:xfrm>
          <a:custGeom>
            <a:avLst/>
            <a:gdLst>
              <a:gd name="textAreaLeft" fmla="*/ 0 w 291960"/>
              <a:gd name="textAreaRight" fmla="*/ 292320 w 2919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3" h="102">
                <a:moveTo>
                  <a:pt x="0" y="102"/>
                </a:moveTo>
                <a:cubicBezTo>
                  <a:pt x="27" y="86"/>
                  <a:pt x="27" y="86"/>
                  <a:pt x="27" y="86"/>
                </a:cubicBezTo>
                <a:cubicBezTo>
                  <a:pt x="36" y="80"/>
                  <a:pt x="43" y="70"/>
                  <a:pt x="43" y="59"/>
                </a:cubicBezTo>
                <a:cubicBezTo>
                  <a:pt x="43" y="0"/>
                  <a:pt x="43" y="0"/>
                  <a:pt x="4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59"/>
                  <a:pt x="32" y="59"/>
                  <a:pt x="32" y="59"/>
                </a:cubicBezTo>
                <a:cubicBezTo>
                  <a:pt x="32" y="65"/>
                  <a:pt x="27" y="73"/>
                  <a:pt x="21" y="76"/>
                </a:cubicBezTo>
                <a:cubicBezTo>
                  <a:pt x="0" y="89"/>
                  <a:pt x="0" y="89"/>
                  <a:pt x="0" y="89"/>
                </a:cubicBezTo>
                <a:cubicBezTo>
                  <a:pt x="0" y="102"/>
                  <a:pt x="0" y="102"/>
                  <a:pt x="0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0"/>
          <p:cNvSpPr/>
          <p:nvPr/>
        </p:nvSpPr>
        <p:spPr>
          <a:xfrm>
            <a:off x="4051440" y="1305000"/>
            <a:ext cx="301320" cy="698400"/>
          </a:xfrm>
          <a:custGeom>
            <a:avLst/>
            <a:gdLst>
              <a:gd name="textAreaLeft" fmla="*/ 0 w 301320"/>
              <a:gd name="textAreaRight" fmla="*/ 301680 w 3013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44" y="0"/>
                </a:moveTo>
                <a:cubicBezTo>
                  <a:pt x="16" y="16"/>
                  <a:pt x="16" y="16"/>
                  <a:pt x="16" y="16"/>
                </a:cubicBezTo>
                <a:cubicBezTo>
                  <a:pt x="7" y="22"/>
                  <a:pt x="1" y="32"/>
                  <a:pt x="0" y="43"/>
                </a:cubicBezTo>
                <a:cubicBezTo>
                  <a:pt x="0" y="102"/>
                  <a:pt x="0" y="102"/>
                  <a:pt x="0" y="102"/>
                </a:cubicBezTo>
                <a:cubicBezTo>
                  <a:pt x="12" y="102"/>
                  <a:pt x="12" y="102"/>
                  <a:pt x="12" y="10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37"/>
                  <a:pt x="17" y="29"/>
                  <a:pt x="23" y="26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0"/>
                  <a:pt x="44" y="0"/>
                  <a:pt x="44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1"/>
          <p:cNvSpPr/>
          <p:nvPr/>
        </p:nvSpPr>
        <p:spPr>
          <a:xfrm>
            <a:off x="5010120" y="2104920"/>
            <a:ext cx="171360" cy="344520"/>
          </a:xfrm>
          <a:custGeom>
            <a:avLst/>
            <a:gdLst>
              <a:gd name="textAreaLeft" fmla="*/ 0 w 171360"/>
              <a:gd name="textAreaRight" fmla="*/ 171720 w 1713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9" h="119">
                <a:moveTo>
                  <a:pt x="59" y="64"/>
                </a:moveTo>
                <a:lnTo>
                  <a:pt x="45" y="64"/>
                </a:lnTo>
                <a:lnTo>
                  <a:pt x="45" y="0"/>
                </a:lnTo>
                <a:lnTo>
                  <a:pt x="17" y="0"/>
                </a:lnTo>
                <a:lnTo>
                  <a:pt x="17" y="64"/>
                </a:lnTo>
                <a:lnTo>
                  <a:pt x="0" y="64"/>
                </a:lnTo>
                <a:lnTo>
                  <a:pt x="31" y="119"/>
                </a:lnTo>
                <a:lnTo>
                  <a:pt x="59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2"/>
          <p:cNvSpPr/>
          <p:nvPr/>
        </p:nvSpPr>
        <p:spPr>
          <a:xfrm>
            <a:off x="4964040" y="1782720"/>
            <a:ext cx="674640" cy="919080"/>
          </a:xfrm>
          <a:custGeom>
            <a:avLst/>
            <a:gdLst>
              <a:gd name="textAreaLeft" fmla="*/ 0 w 674640"/>
              <a:gd name="textAreaRight" fmla="*/ 674640 w 67464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99" h="134">
                <a:moveTo>
                  <a:pt x="0" y="0"/>
                </a:moveTo>
                <a:cubicBezTo>
                  <a:pt x="83" y="48"/>
                  <a:pt x="83" y="48"/>
                  <a:pt x="83" y="48"/>
                </a:cubicBezTo>
                <a:cubicBezTo>
                  <a:pt x="92" y="54"/>
                  <a:pt x="99" y="64"/>
                  <a:pt x="99" y="75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87" y="134"/>
                  <a:pt x="87" y="134"/>
                  <a:pt x="87" y="134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69"/>
                  <a:pt x="82" y="61"/>
                  <a:pt x="76" y="5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3"/>
          <p:cNvSpPr/>
          <p:nvPr/>
        </p:nvSpPr>
        <p:spPr>
          <a:xfrm>
            <a:off x="4557600" y="1782720"/>
            <a:ext cx="673200" cy="912960"/>
          </a:xfrm>
          <a:custGeom>
            <a:avLst/>
            <a:gdLst>
              <a:gd name="textAreaLeft" fmla="*/ 0 w 673200"/>
              <a:gd name="textAreaRight" fmla="*/ 673560 w 67320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98" h="133">
                <a:moveTo>
                  <a:pt x="98" y="0"/>
                </a:moveTo>
                <a:cubicBezTo>
                  <a:pt x="16" y="48"/>
                  <a:pt x="16" y="48"/>
                  <a:pt x="16" y="48"/>
                </a:cubicBezTo>
                <a:cubicBezTo>
                  <a:pt x="7" y="54"/>
                  <a:pt x="0" y="64"/>
                  <a:pt x="0" y="75"/>
                </a:cubicBezTo>
                <a:cubicBezTo>
                  <a:pt x="0" y="133"/>
                  <a:pt x="0" y="133"/>
                  <a:pt x="0" y="133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11" y="75"/>
                  <a:pt x="11" y="75"/>
                  <a:pt x="11" y="75"/>
                </a:cubicBezTo>
                <a:cubicBezTo>
                  <a:pt x="11" y="69"/>
                  <a:pt x="16" y="61"/>
                  <a:pt x="22" y="58"/>
                </a:cubicBezTo>
                <a:cubicBezTo>
                  <a:pt x="98" y="14"/>
                  <a:pt x="98" y="14"/>
                  <a:pt x="98" y="14"/>
                </a:cubicBezTo>
                <a:cubicBezTo>
                  <a:pt x="98" y="0"/>
                  <a:pt x="98" y="0"/>
                  <a:pt x="98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4"/>
          <p:cNvSpPr/>
          <p:nvPr/>
        </p:nvSpPr>
        <p:spPr>
          <a:xfrm>
            <a:off x="5381640" y="2406600"/>
            <a:ext cx="436680" cy="4302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35"/>
          <p:cNvSpPr/>
          <p:nvPr/>
        </p:nvSpPr>
        <p:spPr>
          <a:xfrm>
            <a:off x="5462640" y="2489040"/>
            <a:ext cx="27468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36"/>
          <p:cNvSpPr/>
          <p:nvPr/>
        </p:nvSpPr>
        <p:spPr>
          <a:xfrm>
            <a:off x="4381560" y="585720"/>
            <a:ext cx="431640" cy="4381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37"/>
          <p:cNvSpPr/>
          <p:nvPr/>
        </p:nvSpPr>
        <p:spPr>
          <a:xfrm>
            <a:off x="4457880" y="666720"/>
            <a:ext cx="27144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38"/>
          <p:cNvSpPr/>
          <p:nvPr/>
        </p:nvSpPr>
        <p:spPr>
          <a:xfrm>
            <a:off x="4879800" y="1687680"/>
            <a:ext cx="432000" cy="4395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39"/>
          <p:cNvSpPr/>
          <p:nvPr/>
        </p:nvSpPr>
        <p:spPr>
          <a:xfrm>
            <a:off x="4964040" y="1771560"/>
            <a:ext cx="27144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40"/>
          <p:cNvSpPr/>
          <p:nvPr/>
        </p:nvSpPr>
        <p:spPr>
          <a:xfrm>
            <a:off x="3559320" y="1782720"/>
            <a:ext cx="677880" cy="919080"/>
          </a:xfrm>
          <a:custGeom>
            <a:avLst/>
            <a:gdLst>
              <a:gd name="textAreaLeft" fmla="*/ 0 w 677880"/>
              <a:gd name="textAreaRight" fmla="*/ 678240 w 67788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99" h="134">
                <a:moveTo>
                  <a:pt x="99" y="0"/>
                </a:moveTo>
                <a:cubicBezTo>
                  <a:pt x="16" y="48"/>
                  <a:pt x="16" y="48"/>
                  <a:pt x="16" y="48"/>
                </a:cubicBezTo>
                <a:cubicBezTo>
                  <a:pt x="7" y="54"/>
                  <a:pt x="1" y="64"/>
                  <a:pt x="0" y="75"/>
                </a:cubicBezTo>
                <a:cubicBezTo>
                  <a:pt x="0" y="134"/>
                  <a:pt x="0" y="134"/>
                  <a:pt x="0" y="134"/>
                </a:cubicBezTo>
                <a:cubicBezTo>
                  <a:pt x="12" y="134"/>
                  <a:pt x="12" y="134"/>
                  <a:pt x="12" y="134"/>
                </a:cubicBezTo>
                <a:cubicBezTo>
                  <a:pt x="12" y="75"/>
                  <a:pt x="12" y="75"/>
                  <a:pt x="12" y="75"/>
                </a:cubicBezTo>
                <a:cubicBezTo>
                  <a:pt x="12" y="69"/>
                  <a:pt x="17" y="61"/>
                  <a:pt x="23" y="58"/>
                </a:cubicBezTo>
                <a:cubicBezTo>
                  <a:pt x="99" y="14"/>
                  <a:pt x="99" y="14"/>
                  <a:pt x="99" y="14"/>
                </a:cubicBezTo>
                <a:cubicBezTo>
                  <a:pt x="99" y="0"/>
                  <a:pt x="99" y="0"/>
                  <a:pt x="99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1"/>
          <p:cNvSpPr/>
          <p:nvPr/>
        </p:nvSpPr>
        <p:spPr>
          <a:xfrm>
            <a:off x="3387600" y="2406600"/>
            <a:ext cx="432000" cy="4302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42"/>
          <p:cNvSpPr/>
          <p:nvPr/>
        </p:nvSpPr>
        <p:spPr>
          <a:xfrm>
            <a:off x="3463920" y="2489040"/>
            <a:ext cx="27468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43"/>
          <p:cNvSpPr/>
          <p:nvPr/>
        </p:nvSpPr>
        <p:spPr>
          <a:xfrm>
            <a:off x="4005360" y="2104920"/>
            <a:ext cx="176040" cy="344520"/>
          </a:xfrm>
          <a:custGeom>
            <a:avLst/>
            <a:gdLst>
              <a:gd name="textAreaLeft" fmla="*/ 0 w 176040"/>
              <a:gd name="textAreaRight" fmla="*/ 176400 w 1760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61" h="119">
                <a:moveTo>
                  <a:pt x="61" y="64"/>
                </a:moveTo>
                <a:lnTo>
                  <a:pt x="45" y="64"/>
                </a:lnTo>
                <a:lnTo>
                  <a:pt x="45" y="0"/>
                </a:lnTo>
                <a:lnTo>
                  <a:pt x="16" y="0"/>
                </a:lnTo>
                <a:lnTo>
                  <a:pt x="16" y="64"/>
                </a:lnTo>
                <a:lnTo>
                  <a:pt x="0" y="64"/>
                </a:lnTo>
                <a:lnTo>
                  <a:pt x="31" y="119"/>
                </a:lnTo>
                <a:lnTo>
                  <a:pt x="61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44"/>
          <p:cNvSpPr/>
          <p:nvPr/>
        </p:nvSpPr>
        <p:spPr>
          <a:xfrm>
            <a:off x="3879720" y="1687680"/>
            <a:ext cx="432000" cy="4395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5"/>
          <p:cNvSpPr/>
          <p:nvPr/>
        </p:nvSpPr>
        <p:spPr>
          <a:xfrm>
            <a:off x="3956040" y="1771560"/>
            <a:ext cx="2746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46"/>
          <p:cNvSpPr/>
          <p:nvPr/>
        </p:nvSpPr>
        <p:spPr>
          <a:xfrm>
            <a:off x="4346640" y="2530440"/>
            <a:ext cx="301680" cy="698400"/>
          </a:xfrm>
          <a:custGeom>
            <a:avLst/>
            <a:gdLst>
              <a:gd name="textAreaLeft" fmla="*/ 0 w 301680"/>
              <a:gd name="textAreaRight" fmla="*/ 301680 w 301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0" y="102"/>
                </a:moveTo>
                <a:cubicBezTo>
                  <a:pt x="28" y="86"/>
                  <a:pt x="28" y="86"/>
                  <a:pt x="28" y="86"/>
                </a:cubicBezTo>
                <a:cubicBezTo>
                  <a:pt x="37" y="80"/>
                  <a:pt x="44" y="70"/>
                  <a:pt x="44" y="59"/>
                </a:cubicBezTo>
                <a:cubicBezTo>
                  <a:pt x="44" y="0"/>
                  <a:pt x="44" y="0"/>
                  <a:pt x="44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59"/>
                  <a:pt x="32" y="59"/>
                  <a:pt x="32" y="59"/>
                </a:cubicBezTo>
                <a:cubicBezTo>
                  <a:pt x="32" y="65"/>
                  <a:pt x="27" y="72"/>
                  <a:pt x="21" y="76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102"/>
                  <a:pt x="0" y="102"/>
                  <a:pt x="0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47"/>
          <p:cNvSpPr/>
          <p:nvPr/>
        </p:nvSpPr>
        <p:spPr>
          <a:xfrm>
            <a:off x="4065480" y="3124080"/>
            <a:ext cx="301680" cy="692280"/>
          </a:xfrm>
          <a:custGeom>
            <a:avLst/>
            <a:gdLst>
              <a:gd name="textAreaLeft" fmla="*/ 0 w 301680"/>
              <a:gd name="textAreaRight" fmla="*/ 301680 w 3016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4" h="101">
                <a:moveTo>
                  <a:pt x="44" y="0"/>
                </a:moveTo>
                <a:cubicBezTo>
                  <a:pt x="16" y="16"/>
                  <a:pt x="16" y="16"/>
                  <a:pt x="16" y="16"/>
                </a:cubicBezTo>
                <a:cubicBezTo>
                  <a:pt x="7" y="21"/>
                  <a:pt x="0" y="32"/>
                  <a:pt x="0" y="42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37"/>
                  <a:pt x="17" y="29"/>
                  <a:pt x="23" y="25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0"/>
                  <a:pt x="44" y="0"/>
                  <a:pt x="44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48"/>
          <p:cNvSpPr/>
          <p:nvPr/>
        </p:nvSpPr>
        <p:spPr>
          <a:xfrm>
            <a:off x="4567320" y="2530440"/>
            <a:ext cx="301680" cy="698400"/>
          </a:xfrm>
          <a:custGeom>
            <a:avLst/>
            <a:gdLst>
              <a:gd name="textAreaLeft" fmla="*/ 0 w 301680"/>
              <a:gd name="textAreaRight" fmla="*/ 301680 w 301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4" h="102">
                <a:moveTo>
                  <a:pt x="44" y="102"/>
                </a:moveTo>
                <a:cubicBezTo>
                  <a:pt x="16" y="86"/>
                  <a:pt x="16" y="86"/>
                  <a:pt x="16" y="86"/>
                </a:cubicBezTo>
                <a:cubicBezTo>
                  <a:pt x="7" y="80"/>
                  <a:pt x="0" y="70"/>
                  <a:pt x="0" y="59"/>
                </a:cubicBezTo>
                <a:cubicBezTo>
                  <a:pt x="0" y="0"/>
                  <a:pt x="0" y="0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59"/>
                  <a:pt x="12" y="59"/>
                  <a:pt x="12" y="59"/>
                </a:cubicBezTo>
                <a:cubicBezTo>
                  <a:pt x="12" y="65"/>
                  <a:pt x="17" y="72"/>
                  <a:pt x="23" y="76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102"/>
                  <a:pt x="44" y="102"/>
                  <a:pt x="44" y="102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9"/>
          <p:cNvSpPr/>
          <p:nvPr/>
        </p:nvSpPr>
        <p:spPr>
          <a:xfrm>
            <a:off x="4844880" y="3124080"/>
            <a:ext cx="301680" cy="692280"/>
          </a:xfrm>
          <a:custGeom>
            <a:avLst/>
            <a:gdLst>
              <a:gd name="textAreaLeft" fmla="*/ 0 w 301680"/>
              <a:gd name="textAreaRight" fmla="*/ 301680 w 3016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4" h="101">
                <a:moveTo>
                  <a:pt x="0" y="0"/>
                </a:moveTo>
                <a:cubicBezTo>
                  <a:pt x="28" y="16"/>
                  <a:pt x="28" y="16"/>
                  <a:pt x="28" y="16"/>
                </a:cubicBezTo>
                <a:cubicBezTo>
                  <a:pt x="37" y="21"/>
                  <a:pt x="44" y="32"/>
                  <a:pt x="44" y="42"/>
                </a:cubicBezTo>
                <a:cubicBezTo>
                  <a:pt x="44" y="101"/>
                  <a:pt x="44" y="101"/>
                  <a:pt x="44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43"/>
                  <a:pt x="32" y="43"/>
                  <a:pt x="32" y="43"/>
                </a:cubicBezTo>
                <a:cubicBezTo>
                  <a:pt x="32" y="37"/>
                  <a:pt x="27" y="29"/>
                  <a:pt x="21" y="2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50"/>
          <p:cNvSpPr/>
          <p:nvPr/>
        </p:nvSpPr>
        <p:spPr>
          <a:xfrm>
            <a:off x="3559320" y="3605040"/>
            <a:ext cx="677880" cy="909720"/>
          </a:xfrm>
          <a:custGeom>
            <a:avLst/>
            <a:gdLst>
              <a:gd name="textAreaLeft" fmla="*/ 0 w 677880"/>
              <a:gd name="textAreaRight" fmla="*/ 678240 w 6778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99" h="133">
                <a:moveTo>
                  <a:pt x="99" y="0"/>
                </a:moveTo>
                <a:cubicBezTo>
                  <a:pt x="16" y="48"/>
                  <a:pt x="16" y="48"/>
                  <a:pt x="16" y="48"/>
                </a:cubicBezTo>
                <a:cubicBezTo>
                  <a:pt x="7" y="54"/>
                  <a:pt x="1" y="64"/>
                  <a:pt x="0" y="75"/>
                </a:cubicBezTo>
                <a:cubicBezTo>
                  <a:pt x="0" y="133"/>
                  <a:pt x="0" y="133"/>
                  <a:pt x="0" y="133"/>
                </a:cubicBezTo>
                <a:cubicBezTo>
                  <a:pt x="12" y="133"/>
                  <a:pt x="12" y="133"/>
                  <a:pt x="12" y="133"/>
                </a:cubicBezTo>
                <a:cubicBezTo>
                  <a:pt x="12" y="75"/>
                  <a:pt x="12" y="75"/>
                  <a:pt x="12" y="75"/>
                </a:cubicBezTo>
                <a:cubicBezTo>
                  <a:pt x="12" y="69"/>
                  <a:pt x="17" y="61"/>
                  <a:pt x="23" y="57"/>
                </a:cubicBezTo>
                <a:cubicBezTo>
                  <a:pt x="99" y="14"/>
                  <a:pt x="99" y="14"/>
                  <a:pt x="99" y="14"/>
                </a:cubicBezTo>
                <a:cubicBezTo>
                  <a:pt x="99" y="0"/>
                  <a:pt x="99" y="0"/>
                  <a:pt x="99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51"/>
          <p:cNvSpPr/>
          <p:nvPr/>
        </p:nvSpPr>
        <p:spPr>
          <a:xfrm>
            <a:off x="3970440" y="3605040"/>
            <a:ext cx="677880" cy="909720"/>
          </a:xfrm>
          <a:custGeom>
            <a:avLst/>
            <a:gdLst>
              <a:gd name="textAreaLeft" fmla="*/ 0 w 677880"/>
              <a:gd name="textAreaRight" fmla="*/ 678240 w 6778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99" h="133">
                <a:moveTo>
                  <a:pt x="0" y="0"/>
                </a:moveTo>
                <a:cubicBezTo>
                  <a:pt x="83" y="47"/>
                  <a:pt x="83" y="47"/>
                  <a:pt x="83" y="47"/>
                </a:cubicBezTo>
                <a:cubicBezTo>
                  <a:pt x="92" y="53"/>
                  <a:pt x="99" y="63"/>
                  <a:pt x="99" y="74"/>
                </a:cubicBezTo>
                <a:cubicBezTo>
                  <a:pt x="99" y="133"/>
                  <a:pt x="99" y="133"/>
                  <a:pt x="99" y="133"/>
                </a:cubicBezTo>
                <a:cubicBezTo>
                  <a:pt x="87" y="133"/>
                  <a:pt x="87" y="133"/>
                  <a:pt x="87" y="133"/>
                </a:cubicBezTo>
                <a:cubicBezTo>
                  <a:pt x="87" y="74"/>
                  <a:pt x="87" y="74"/>
                  <a:pt x="87" y="74"/>
                </a:cubicBezTo>
                <a:cubicBezTo>
                  <a:pt x="87" y="68"/>
                  <a:pt x="82" y="61"/>
                  <a:pt x="76" y="57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52"/>
          <p:cNvSpPr/>
          <p:nvPr/>
        </p:nvSpPr>
        <p:spPr>
          <a:xfrm>
            <a:off x="3387600" y="4219560"/>
            <a:ext cx="432000" cy="4399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53"/>
          <p:cNvSpPr/>
          <p:nvPr/>
        </p:nvSpPr>
        <p:spPr>
          <a:xfrm>
            <a:off x="3463920" y="4303800"/>
            <a:ext cx="2746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54"/>
          <p:cNvSpPr/>
          <p:nvPr/>
        </p:nvSpPr>
        <p:spPr>
          <a:xfrm>
            <a:off x="4387680" y="4219560"/>
            <a:ext cx="436680" cy="4399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55"/>
          <p:cNvSpPr/>
          <p:nvPr/>
        </p:nvSpPr>
        <p:spPr>
          <a:xfrm>
            <a:off x="4471920" y="4303800"/>
            <a:ext cx="27144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56"/>
          <p:cNvSpPr/>
          <p:nvPr/>
        </p:nvSpPr>
        <p:spPr>
          <a:xfrm>
            <a:off x="3889440" y="3510000"/>
            <a:ext cx="43632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57"/>
          <p:cNvSpPr/>
          <p:nvPr/>
        </p:nvSpPr>
        <p:spPr>
          <a:xfrm>
            <a:off x="3970440" y="3591000"/>
            <a:ext cx="2746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58"/>
          <p:cNvSpPr/>
          <p:nvPr/>
        </p:nvSpPr>
        <p:spPr>
          <a:xfrm>
            <a:off x="4964040" y="3605040"/>
            <a:ext cx="674640" cy="909720"/>
          </a:xfrm>
          <a:custGeom>
            <a:avLst/>
            <a:gdLst>
              <a:gd name="textAreaLeft" fmla="*/ 0 w 674640"/>
              <a:gd name="textAreaRight" fmla="*/ 674640 w 6746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99" h="133">
                <a:moveTo>
                  <a:pt x="0" y="0"/>
                </a:moveTo>
                <a:cubicBezTo>
                  <a:pt x="83" y="48"/>
                  <a:pt x="83" y="48"/>
                  <a:pt x="83" y="48"/>
                </a:cubicBezTo>
                <a:cubicBezTo>
                  <a:pt x="92" y="54"/>
                  <a:pt x="99" y="64"/>
                  <a:pt x="99" y="75"/>
                </a:cubicBezTo>
                <a:cubicBezTo>
                  <a:pt x="99" y="133"/>
                  <a:pt x="99" y="133"/>
                  <a:pt x="99" y="133"/>
                </a:cubicBezTo>
                <a:cubicBezTo>
                  <a:pt x="87" y="133"/>
                  <a:pt x="87" y="133"/>
                  <a:pt x="87" y="133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69"/>
                  <a:pt x="82" y="61"/>
                  <a:pt x="76" y="5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59"/>
          <p:cNvSpPr/>
          <p:nvPr/>
        </p:nvSpPr>
        <p:spPr>
          <a:xfrm>
            <a:off x="5381640" y="4219560"/>
            <a:ext cx="436680" cy="4399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60"/>
          <p:cNvSpPr/>
          <p:nvPr/>
        </p:nvSpPr>
        <p:spPr>
          <a:xfrm>
            <a:off x="5462640" y="4303800"/>
            <a:ext cx="2746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61"/>
          <p:cNvSpPr/>
          <p:nvPr/>
        </p:nvSpPr>
        <p:spPr>
          <a:xfrm>
            <a:off x="5522760" y="4363920"/>
            <a:ext cx="160560" cy="157320"/>
          </a:xfrm>
          <a:prstGeom prst="ellipse">
            <a:avLst/>
          </a:pr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62"/>
          <p:cNvSpPr/>
          <p:nvPr/>
        </p:nvSpPr>
        <p:spPr>
          <a:xfrm>
            <a:off x="3527280" y="4363920"/>
            <a:ext cx="155880" cy="157320"/>
          </a:xfrm>
          <a:prstGeom prst="ellipse">
            <a:avLst/>
          </a:pr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63"/>
          <p:cNvSpPr/>
          <p:nvPr/>
        </p:nvSpPr>
        <p:spPr>
          <a:xfrm>
            <a:off x="4532400" y="4363920"/>
            <a:ext cx="156960" cy="157320"/>
          </a:xfrm>
          <a:prstGeom prst="ellips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64"/>
          <p:cNvSpPr/>
          <p:nvPr/>
        </p:nvSpPr>
        <p:spPr>
          <a:xfrm>
            <a:off x="5019840" y="1832040"/>
            <a:ext cx="155520" cy="15696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65"/>
          <p:cNvSpPr/>
          <p:nvPr/>
        </p:nvSpPr>
        <p:spPr>
          <a:xfrm>
            <a:off x="4019400" y="1832040"/>
            <a:ext cx="155880" cy="156960"/>
          </a:xfrm>
          <a:prstGeom prst="ellips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66"/>
          <p:cNvSpPr/>
          <p:nvPr/>
        </p:nvSpPr>
        <p:spPr>
          <a:xfrm>
            <a:off x="5522760" y="2544840"/>
            <a:ext cx="160560" cy="15696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67"/>
          <p:cNvSpPr/>
          <p:nvPr/>
        </p:nvSpPr>
        <p:spPr>
          <a:xfrm>
            <a:off x="4518000" y="731880"/>
            <a:ext cx="155520" cy="155520"/>
          </a:xfrm>
          <a:prstGeom prst="ellips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68"/>
          <p:cNvSpPr/>
          <p:nvPr/>
        </p:nvSpPr>
        <p:spPr>
          <a:xfrm>
            <a:off x="4894200" y="3510000"/>
            <a:ext cx="43200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69"/>
          <p:cNvSpPr/>
          <p:nvPr/>
        </p:nvSpPr>
        <p:spPr>
          <a:xfrm>
            <a:off x="4970520" y="3591000"/>
            <a:ext cx="27144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70"/>
          <p:cNvSpPr/>
          <p:nvPr/>
        </p:nvSpPr>
        <p:spPr>
          <a:xfrm>
            <a:off x="4387680" y="2406600"/>
            <a:ext cx="436680" cy="4302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71"/>
          <p:cNvSpPr/>
          <p:nvPr/>
        </p:nvSpPr>
        <p:spPr>
          <a:xfrm>
            <a:off x="4471920" y="2489040"/>
            <a:ext cx="2714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72"/>
          <p:cNvSpPr/>
          <p:nvPr/>
        </p:nvSpPr>
        <p:spPr>
          <a:xfrm>
            <a:off x="5010120" y="3913200"/>
            <a:ext cx="171360" cy="349200"/>
          </a:xfrm>
          <a:custGeom>
            <a:avLst/>
            <a:gdLst>
              <a:gd name="textAreaLeft" fmla="*/ 0 w 171360"/>
              <a:gd name="textAreaRight" fmla="*/ 171720 w 17136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59" h="121">
                <a:moveTo>
                  <a:pt x="59" y="64"/>
                </a:moveTo>
                <a:lnTo>
                  <a:pt x="45" y="64"/>
                </a:lnTo>
                <a:lnTo>
                  <a:pt x="45" y="0"/>
                </a:lnTo>
                <a:lnTo>
                  <a:pt x="17" y="0"/>
                </a:lnTo>
                <a:lnTo>
                  <a:pt x="17" y="64"/>
                </a:lnTo>
                <a:lnTo>
                  <a:pt x="0" y="64"/>
                </a:lnTo>
                <a:lnTo>
                  <a:pt x="31" y="121"/>
                </a:lnTo>
                <a:lnTo>
                  <a:pt x="59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73"/>
          <p:cNvSpPr/>
          <p:nvPr/>
        </p:nvSpPr>
        <p:spPr>
          <a:xfrm>
            <a:off x="4005360" y="3913200"/>
            <a:ext cx="176040" cy="349200"/>
          </a:xfrm>
          <a:custGeom>
            <a:avLst/>
            <a:gdLst>
              <a:gd name="textAreaLeft" fmla="*/ 0 w 176040"/>
              <a:gd name="textAreaRight" fmla="*/ 176400 w 17604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61" h="121">
                <a:moveTo>
                  <a:pt x="61" y="64"/>
                </a:moveTo>
                <a:lnTo>
                  <a:pt x="45" y="64"/>
                </a:lnTo>
                <a:lnTo>
                  <a:pt x="45" y="0"/>
                </a:lnTo>
                <a:lnTo>
                  <a:pt x="16" y="0"/>
                </a:lnTo>
                <a:lnTo>
                  <a:pt x="16" y="64"/>
                </a:lnTo>
                <a:lnTo>
                  <a:pt x="0" y="64"/>
                </a:lnTo>
                <a:lnTo>
                  <a:pt x="31" y="121"/>
                </a:lnTo>
                <a:lnTo>
                  <a:pt x="61" y="64"/>
                </a:ln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74"/>
          <p:cNvSpPr/>
          <p:nvPr/>
        </p:nvSpPr>
        <p:spPr>
          <a:xfrm>
            <a:off x="4532400" y="2544840"/>
            <a:ext cx="156960" cy="156960"/>
          </a:xfrm>
          <a:prstGeom prst="ellipse">
            <a:avLst/>
          </a:pr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75"/>
          <p:cNvSpPr/>
          <p:nvPr/>
        </p:nvSpPr>
        <p:spPr>
          <a:xfrm>
            <a:off x="3527280" y="2544840"/>
            <a:ext cx="155880" cy="156960"/>
          </a:xfrm>
          <a:prstGeom prst="ellips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76"/>
          <p:cNvSpPr/>
          <p:nvPr/>
        </p:nvSpPr>
        <p:spPr>
          <a:xfrm>
            <a:off x="5030640" y="3646440"/>
            <a:ext cx="158760" cy="155520"/>
          </a:xfrm>
          <a:prstGeom prst="ellipse">
            <a:avLst/>
          </a:pr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77"/>
          <p:cNvSpPr/>
          <p:nvPr/>
        </p:nvSpPr>
        <p:spPr>
          <a:xfrm>
            <a:off x="4025880" y="3646440"/>
            <a:ext cx="155520" cy="155520"/>
          </a:xfrm>
          <a:prstGeom prst="ellipse">
            <a:avLst/>
          </a:prstGeom>
          <a:solidFill>
            <a:srgbClr val="757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180"/>
          <p:cNvSpPr/>
          <p:nvPr/>
        </p:nvSpPr>
        <p:spPr>
          <a:xfrm>
            <a:off x="3701880" y="6652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93"/>
          <p:cNvSpPr/>
          <p:nvPr/>
        </p:nvSpPr>
        <p:spPr>
          <a:xfrm>
            <a:off x="3262320" y="1755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b400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4"/>
          <p:cNvSpPr/>
          <p:nvPr/>
        </p:nvSpPr>
        <p:spPr>
          <a:xfrm>
            <a:off x="2765520" y="25034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b400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5"/>
          <p:cNvSpPr/>
          <p:nvPr/>
        </p:nvSpPr>
        <p:spPr>
          <a:xfrm>
            <a:off x="2257560" y="35766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96"/>
          <p:cNvSpPr/>
          <p:nvPr/>
        </p:nvSpPr>
        <p:spPr>
          <a:xfrm>
            <a:off x="1751040" y="4311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97"/>
          <p:cNvSpPr/>
          <p:nvPr/>
        </p:nvSpPr>
        <p:spPr>
          <a:xfrm>
            <a:off x="2889360" y="4317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57975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98"/>
          <p:cNvSpPr/>
          <p:nvPr/>
        </p:nvSpPr>
        <p:spPr>
          <a:xfrm>
            <a:off x="3371760" y="3579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57975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9"/>
          <p:cNvSpPr/>
          <p:nvPr/>
        </p:nvSpPr>
        <p:spPr>
          <a:xfrm>
            <a:off x="3873600" y="25002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cb5c5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0"/>
          <p:cNvSpPr/>
          <p:nvPr/>
        </p:nvSpPr>
        <p:spPr>
          <a:xfrm>
            <a:off x="4356000" y="1779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01"/>
          <p:cNvSpPr/>
          <p:nvPr/>
        </p:nvSpPr>
        <p:spPr>
          <a:xfrm>
            <a:off x="4919760" y="4311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b400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02"/>
          <p:cNvSpPr/>
          <p:nvPr/>
        </p:nvSpPr>
        <p:spPr>
          <a:xfrm>
            <a:off x="5899320" y="43005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cb5c5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03"/>
          <p:cNvSpPr/>
          <p:nvPr/>
        </p:nvSpPr>
        <p:spPr>
          <a:xfrm>
            <a:off x="5423760" y="3552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cb5c5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104"/>
          <p:cNvSpPr/>
          <p:nvPr/>
        </p:nvSpPr>
        <p:spPr>
          <a:xfrm>
            <a:off x="6920640" y="4290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05"/>
          <p:cNvSpPr/>
          <p:nvPr/>
        </p:nvSpPr>
        <p:spPr>
          <a:xfrm>
            <a:off x="6396120" y="3579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106"/>
          <p:cNvSpPr/>
          <p:nvPr/>
        </p:nvSpPr>
        <p:spPr>
          <a:xfrm>
            <a:off x="5905440" y="25002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07"/>
          <p:cNvSpPr/>
          <p:nvPr/>
        </p:nvSpPr>
        <p:spPr>
          <a:xfrm>
            <a:off x="5396040" y="1779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84a1f"/>
                </a:solidFill>
                <a:latin typeface="Arial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组合 1"/>
          <p:cNvGrpSpPr/>
          <p:nvPr/>
        </p:nvGrpSpPr>
        <p:grpSpPr>
          <a:xfrm>
            <a:off x="395280" y="905040"/>
            <a:ext cx="8280360" cy="2939760"/>
            <a:chOff x="395280" y="905040"/>
            <a:chExt cx="8280360" cy="2939760"/>
          </a:xfrm>
        </p:grpSpPr>
        <p:sp>
          <p:nvSpPr>
            <p:cNvPr id="912" name="菱形 145"/>
            <p:cNvSpPr/>
            <p:nvPr/>
          </p:nvSpPr>
          <p:spPr>
            <a:xfrm>
              <a:off x="606240" y="1243080"/>
              <a:ext cx="1365120" cy="1365120"/>
            </a:xfrm>
            <a:prstGeom prst="diamond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菱形 146"/>
            <p:cNvSpPr/>
            <p:nvPr/>
          </p:nvSpPr>
          <p:spPr>
            <a:xfrm>
              <a:off x="2112840" y="1243080"/>
              <a:ext cx="1366560" cy="1365120"/>
            </a:xfrm>
            <a:prstGeom prst="diamond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菱形 147"/>
            <p:cNvSpPr/>
            <p:nvPr/>
          </p:nvSpPr>
          <p:spPr>
            <a:xfrm>
              <a:off x="3620880" y="905040"/>
              <a:ext cx="2039760" cy="2041200"/>
            </a:xfrm>
            <a:prstGeom prst="diamond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菱形 148"/>
            <p:cNvSpPr/>
            <p:nvPr/>
          </p:nvSpPr>
          <p:spPr>
            <a:xfrm>
              <a:off x="5802480" y="1243080"/>
              <a:ext cx="1366560" cy="1365120"/>
            </a:xfrm>
            <a:prstGeom prst="diamond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菱形 149"/>
            <p:cNvSpPr/>
            <p:nvPr/>
          </p:nvSpPr>
          <p:spPr>
            <a:xfrm>
              <a:off x="7310520" y="1243080"/>
              <a:ext cx="1365120" cy="1365120"/>
            </a:xfrm>
            <a:prstGeom prst="diamond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菱形 150"/>
            <p:cNvSpPr/>
            <p:nvPr/>
          </p:nvSpPr>
          <p:spPr>
            <a:xfrm>
              <a:off x="1782720" y="2089080"/>
              <a:ext cx="520560" cy="518760"/>
            </a:xfrm>
            <a:prstGeom prst="diamond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菱形 151"/>
            <p:cNvSpPr/>
            <p:nvPr/>
          </p:nvSpPr>
          <p:spPr>
            <a:xfrm>
              <a:off x="3274920" y="1243080"/>
              <a:ext cx="520560" cy="520560"/>
            </a:xfrm>
            <a:prstGeom prst="diamond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菱形 152"/>
            <p:cNvSpPr/>
            <p:nvPr/>
          </p:nvSpPr>
          <p:spPr>
            <a:xfrm>
              <a:off x="5477040" y="2084400"/>
              <a:ext cx="519120" cy="520560"/>
            </a:xfrm>
            <a:prstGeom prst="diamond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菱形 153"/>
            <p:cNvSpPr/>
            <p:nvPr/>
          </p:nvSpPr>
          <p:spPr>
            <a:xfrm>
              <a:off x="6978600" y="1258920"/>
              <a:ext cx="520560" cy="520560"/>
            </a:xfrm>
            <a:prstGeom prst="diamond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1" name="组合 154" descr=""/>
            <p:cNvPicPr/>
            <p:nvPr/>
          </p:nvPicPr>
          <p:blipFill>
            <a:blip r:embed="rId1"/>
            <a:stretch/>
          </p:blipFill>
          <p:spPr>
            <a:xfrm>
              <a:off x="2590560" y="1712880"/>
              <a:ext cx="43272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组合 167" descr=""/>
            <p:cNvPicPr/>
            <p:nvPr/>
          </p:nvPicPr>
          <p:blipFill>
            <a:blip r:embed="rId2"/>
            <a:stretch/>
          </p:blipFill>
          <p:spPr>
            <a:xfrm>
              <a:off x="6309360" y="1700640"/>
              <a:ext cx="389880" cy="3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Freeform 9"/>
            <p:cNvSpPr/>
            <p:nvPr/>
          </p:nvSpPr>
          <p:spPr>
            <a:xfrm>
              <a:off x="7751880" y="1716120"/>
              <a:ext cx="436320" cy="419040"/>
            </a:xfrm>
            <a:custGeom>
              <a:avLst/>
              <a:gdLst/>
              <a:ahLst/>
              <a:rect l="l" t="t" r="r" b="b"/>
              <a:pathLst>
                <a:path w="128" h="123">
                  <a:moveTo>
                    <a:pt x="98" y="71"/>
                  </a:moveTo>
                  <a:cubicBezTo>
                    <a:pt x="127" y="71"/>
                    <a:pt x="127" y="71"/>
                    <a:pt x="127" y="71"/>
                  </a:cubicBezTo>
                  <a:cubicBezTo>
                    <a:pt x="128" y="69"/>
                    <a:pt x="128" y="66"/>
                    <a:pt x="128" y="64"/>
                  </a:cubicBezTo>
                  <a:cubicBezTo>
                    <a:pt x="128" y="54"/>
                    <a:pt x="125" y="45"/>
                    <a:pt x="120" y="37"/>
                  </a:cubicBezTo>
                  <a:cubicBezTo>
                    <a:pt x="125" y="24"/>
                    <a:pt x="125" y="13"/>
                    <a:pt x="118" y="6"/>
                  </a:cubicBezTo>
                  <a:cubicBezTo>
                    <a:pt x="112" y="0"/>
                    <a:pt x="96" y="1"/>
                    <a:pt x="77" y="10"/>
                  </a:cubicBezTo>
                  <a:cubicBezTo>
                    <a:pt x="75" y="9"/>
                    <a:pt x="74" y="9"/>
                    <a:pt x="73" y="9"/>
                  </a:cubicBezTo>
                  <a:cubicBezTo>
                    <a:pt x="47" y="9"/>
                    <a:pt x="25" y="27"/>
                    <a:pt x="19" y="51"/>
                  </a:cubicBezTo>
                  <a:cubicBezTo>
                    <a:pt x="27" y="41"/>
                    <a:pt x="36" y="33"/>
                    <a:pt x="47" y="28"/>
                  </a:cubicBezTo>
                  <a:cubicBezTo>
                    <a:pt x="46" y="29"/>
                    <a:pt x="40" y="35"/>
                    <a:pt x="39" y="36"/>
                  </a:cubicBezTo>
                  <a:cubicBezTo>
                    <a:pt x="9" y="66"/>
                    <a:pt x="0" y="105"/>
                    <a:pt x="10" y="115"/>
                  </a:cubicBezTo>
                  <a:cubicBezTo>
                    <a:pt x="18" y="123"/>
                    <a:pt x="32" y="121"/>
                    <a:pt x="48" y="113"/>
                  </a:cubicBezTo>
                  <a:cubicBezTo>
                    <a:pt x="55" y="117"/>
                    <a:pt x="64" y="119"/>
                    <a:pt x="73" y="119"/>
                  </a:cubicBezTo>
                  <a:cubicBezTo>
                    <a:pt x="97" y="119"/>
                    <a:pt x="117" y="104"/>
                    <a:pt x="125" y="82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1" y="90"/>
                    <a:pt x="83" y="95"/>
                    <a:pt x="74" y="95"/>
                  </a:cubicBezTo>
                  <a:cubicBezTo>
                    <a:pt x="64" y="95"/>
                    <a:pt x="56" y="90"/>
                    <a:pt x="52" y="82"/>
                  </a:cubicBezTo>
                  <a:cubicBezTo>
                    <a:pt x="51" y="79"/>
                    <a:pt x="50" y="75"/>
                    <a:pt x="50" y="71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98" y="71"/>
                    <a:pt x="98" y="71"/>
                    <a:pt x="98" y="71"/>
                  </a:cubicBezTo>
                  <a:close/>
                  <a:moveTo>
                    <a:pt x="50" y="56"/>
                  </a:moveTo>
                  <a:cubicBezTo>
                    <a:pt x="50" y="44"/>
                    <a:pt x="60" y="34"/>
                    <a:pt x="73" y="34"/>
                  </a:cubicBezTo>
                  <a:cubicBezTo>
                    <a:pt x="85" y="34"/>
                    <a:pt x="95" y="44"/>
                    <a:pt x="96" y="56"/>
                  </a:cubicBezTo>
                  <a:lnTo>
                    <a:pt x="50" y="56"/>
                  </a:lnTo>
                  <a:close/>
                  <a:moveTo>
                    <a:pt x="118" y="12"/>
                  </a:moveTo>
                  <a:cubicBezTo>
                    <a:pt x="122" y="17"/>
                    <a:pt x="122" y="25"/>
                    <a:pt x="119" y="34"/>
                  </a:cubicBezTo>
                  <a:cubicBezTo>
                    <a:pt x="112" y="25"/>
                    <a:pt x="104" y="17"/>
                    <a:pt x="93" y="13"/>
                  </a:cubicBezTo>
                  <a:cubicBezTo>
                    <a:pt x="104" y="8"/>
                    <a:pt x="113" y="8"/>
                    <a:pt x="118" y="12"/>
                  </a:cubicBezTo>
                  <a:close/>
                  <a:moveTo>
                    <a:pt x="18" y="113"/>
                  </a:moveTo>
                  <a:cubicBezTo>
                    <a:pt x="12" y="108"/>
                    <a:pt x="14" y="96"/>
                    <a:pt x="21" y="83"/>
                  </a:cubicBezTo>
                  <a:cubicBezTo>
                    <a:pt x="25" y="95"/>
                    <a:pt x="33" y="105"/>
                    <a:pt x="44" y="111"/>
                  </a:cubicBezTo>
                  <a:cubicBezTo>
                    <a:pt x="32" y="117"/>
                    <a:pt x="23" y="118"/>
                    <a:pt x="18" y="113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"/>
            <p:cNvSpPr/>
            <p:nvPr/>
          </p:nvSpPr>
          <p:spPr>
            <a:xfrm>
              <a:off x="4330800" y="1617480"/>
              <a:ext cx="742680" cy="677520"/>
            </a:xfrm>
            <a:custGeom>
              <a:avLst/>
              <a:gdLst/>
              <a:ahLst/>
              <a:rect l="l" t="t" r="r" b="b"/>
              <a:pathLst>
                <a:path w="682" h="619">
                  <a:moveTo>
                    <a:pt x="197" y="384"/>
                  </a:moveTo>
                  <a:cubicBezTo>
                    <a:pt x="197" y="171"/>
                    <a:pt x="197" y="171"/>
                    <a:pt x="197" y="171"/>
                  </a:cubicBezTo>
                  <a:cubicBezTo>
                    <a:pt x="69" y="171"/>
                    <a:pt x="69" y="171"/>
                    <a:pt x="69" y="171"/>
                  </a:cubicBezTo>
                  <a:cubicBezTo>
                    <a:pt x="32" y="171"/>
                    <a:pt x="0" y="203"/>
                    <a:pt x="0" y="240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0" y="486"/>
                    <a:pt x="32" y="512"/>
                    <a:pt x="69" y="512"/>
                  </a:cubicBezTo>
                  <a:cubicBezTo>
                    <a:pt x="101" y="512"/>
                    <a:pt x="101" y="512"/>
                    <a:pt x="101" y="512"/>
                  </a:cubicBezTo>
                  <a:cubicBezTo>
                    <a:pt x="101" y="619"/>
                    <a:pt x="101" y="619"/>
                    <a:pt x="101" y="619"/>
                  </a:cubicBezTo>
                  <a:cubicBezTo>
                    <a:pt x="202" y="512"/>
                    <a:pt x="202" y="512"/>
                    <a:pt x="202" y="512"/>
                  </a:cubicBezTo>
                  <a:cubicBezTo>
                    <a:pt x="373" y="512"/>
                    <a:pt x="373" y="512"/>
                    <a:pt x="373" y="512"/>
                  </a:cubicBezTo>
                  <a:cubicBezTo>
                    <a:pt x="410" y="512"/>
                    <a:pt x="442" y="486"/>
                    <a:pt x="442" y="448"/>
                  </a:cubicBezTo>
                  <a:cubicBezTo>
                    <a:pt x="442" y="384"/>
                    <a:pt x="442" y="384"/>
                    <a:pt x="442" y="384"/>
                  </a:cubicBezTo>
                  <a:cubicBezTo>
                    <a:pt x="442" y="384"/>
                    <a:pt x="437" y="384"/>
                    <a:pt x="437" y="384"/>
                  </a:cubicBezTo>
                  <a:cubicBezTo>
                    <a:pt x="197" y="384"/>
                    <a:pt x="197" y="384"/>
                    <a:pt x="197" y="384"/>
                  </a:cubicBezTo>
                  <a:close/>
                  <a:moveTo>
                    <a:pt x="613" y="0"/>
                  </a:moveTo>
                  <a:cubicBezTo>
                    <a:pt x="309" y="0"/>
                    <a:pt x="309" y="0"/>
                    <a:pt x="309" y="0"/>
                  </a:cubicBezTo>
                  <a:cubicBezTo>
                    <a:pt x="272" y="0"/>
                    <a:pt x="240" y="32"/>
                    <a:pt x="240" y="70"/>
                  </a:cubicBezTo>
                  <a:cubicBezTo>
                    <a:pt x="240" y="342"/>
                    <a:pt x="240" y="342"/>
                    <a:pt x="240" y="342"/>
                  </a:cubicBezTo>
                  <a:cubicBezTo>
                    <a:pt x="480" y="342"/>
                    <a:pt x="480" y="342"/>
                    <a:pt x="480" y="342"/>
                  </a:cubicBezTo>
                  <a:cubicBezTo>
                    <a:pt x="581" y="448"/>
                    <a:pt x="581" y="448"/>
                    <a:pt x="581" y="448"/>
                  </a:cubicBezTo>
                  <a:cubicBezTo>
                    <a:pt x="581" y="342"/>
                    <a:pt x="581" y="342"/>
                    <a:pt x="581" y="342"/>
                  </a:cubicBezTo>
                  <a:cubicBezTo>
                    <a:pt x="613" y="342"/>
                    <a:pt x="613" y="342"/>
                    <a:pt x="613" y="342"/>
                  </a:cubicBezTo>
                  <a:cubicBezTo>
                    <a:pt x="650" y="342"/>
                    <a:pt x="682" y="315"/>
                    <a:pt x="682" y="278"/>
                  </a:cubicBezTo>
                  <a:cubicBezTo>
                    <a:pt x="682" y="70"/>
                    <a:pt x="682" y="70"/>
                    <a:pt x="682" y="70"/>
                  </a:cubicBezTo>
                  <a:cubicBezTo>
                    <a:pt x="682" y="32"/>
                    <a:pt x="650" y="0"/>
                    <a:pt x="613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5" name="组合 173" descr=""/>
            <p:cNvPicPr/>
            <p:nvPr/>
          </p:nvPicPr>
          <p:blipFill>
            <a:blip r:embed="rId3"/>
            <a:stretch/>
          </p:blipFill>
          <p:spPr>
            <a:xfrm>
              <a:off x="1029960" y="1767960"/>
              <a:ext cx="5364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文本框 85"/>
            <p:cNvSpPr/>
            <p:nvPr/>
          </p:nvSpPr>
          <p:spPr>
            <a:xfrm>
              <a:off x="4106160" y="3071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文本框 86"/>
            <p:cNvSpPr/>
            <p:nvPr/>
          </p:nvSpPr>
          <p:spPr>
            <a:xfrm>
              <a:off x="2442600" y="274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文本框 87"/>
            <p:cNvSpPr/>
            <p:nvPr/>
          </p:nvSpPr>
          <p:spPr>
            <a:xfrm>
              <a:off x="872640" y="274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文本框 88"/>
            <p:cNvSpPr/>
            <p:nvPr/>
          </p:nvSpPr>
          <p:spPr>
            <a:xfrm>
              <a:off x="7589520" y="274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文本框 89"/>
            <p:cNvSpPr/>
            <p:nvPr/>
          </p:nvSpPr>
          <p:spPr>
            <a:xfrm>
              <a:off x="6092640" y="274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84"/>
            <p:cNvSpPr/>
            <p:nvPr/>
          </p:nvSpPr>
          <p:spPr>
            <a:xfrm>
              <a:off x="395280" y="3508200"/>
              <a:ext cx="8209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组合 289" descr=""/>
          <p:cNvPicPr/>
          <p:nvPr/>
        </p:nvPicPr>
        <p:blipFill>
          <a:blip r:embed="rId1"/>
          <a:stretch/>
        </p:blipFill>
        <p:spPr>
          <a:xfrm>
            <a:off x="2548080" y="1054080"/>
            <a:ext cx="6351480" cy="3298680"/>
          </a:xfrm>
          <a:prstGeom prst="rect">
            <a:avLst/>
          </a:prstGeom>
          <a:ln w="0">
            <a:noFill/>
          </a:ln>
        </p:spPr>
      </p:pic>
      <p:sp>
        <p:nvSpPr>
          <p:cNvPr id="934" name="菱形 1"/>
          <p:cNvSpPr/>
          <p:nvPr/>
        </p:nvSpPr>
        <p:spPr>
          <a:xfrm>
            <a:off x="4924440" y="1874880"/>
            <a:ext cx="441360" cy="614160"/>
          </a:xfrm>
          <a:custGeom>
            <a:avLst/>
            <a:gdLst/>
            <a:ahLst/>
            <a:rect l="l" t="t" r="r" b="b"/>
            <a:pathLst>
              <a:path w="707852" h="1203152">
                <a:moveTo>
                  <a:pt x="0" y="353926"/>
                </a:moveTo>
                <a:lnTo>
                  <a:pt x="353926" y="0"/>
                </a:lnTo>
                <a:lnTo>
                  <a:pt x="707852" y="353926"/>
                </a:lnTo>
                <a:lnTo>
                  <a:pt x="334876" y="1203152"/>
                </a:lnTo>
                <a:lnTo>
                  <a:pt x="0" y="353926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209"/>
          <p:cNvSpPr/>
          <p:nvPr/>
        </p:nvSpPr>
        <p:spPr>
          <a:xfrm>
            <a:off x="4944600" y="1943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菱形 1"/>
          <p:cNvSpPr/>
          <p:nvPr/>
        </p:nvSpPr>
        <p:spPr>
          <a:xfrm>
            <a:off x="7143840" y="1870200"/>
            <a:ext cx="241200" cy="336600"/>
          </a:xfrm>
          <a:custGeom>
            <a:avLst/>
            <a:gdLst/>
            <a:ahLst/>
            <a:rect l="l" t="t" r="r" b="b"/>
            <a:pathLst>
              <a:path w="707852" h="1203152">
                <a:moveTo>
                  <a:pt x="0" y="353926"/>
                </a:moveTo>
                <a:lnTo>
                  <a:pt x="353926" y="0"/>
                </a:lnTo>
                <a:lnTo>
                  <a:pt x="707852" y="353926"/>
                </a:lnTo>
                <a:lnTo>
                  <a:pt x="334876" y="1203152"/>
                </a:lnTo>
                <a:lnTo>
                  <a:pt x="0" y="353926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221"/>
          <p:cNvSpPr/>
          <p:nvPr/>
        </p:nvSpPr>
        <p:spPr>
          <a:xfrm>
            <a:off x="7116480" y="1879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菱形 1"/>
          <p:cNvSpPr/>
          <p:nvPr/>
        </p:nvSpPr>
        <p:spPr>
          <a:xfrm>
            <a:off x="8307360" y="3124080"/>
            <a:ext cx="241200" cy="336600"/>
          </a:xfrm>
          <a:custGeom>
            <a:avLst/>
            <a:gdLst/>
            <a:ahLst/>
            <a:rect l="l" t="t" r="r" b="b"/>
            <a:pathLst>
              <a:path w="707852" h="1203152">
                <a:moveTo>
                  <a:pt x="0" y="353926"/>
                </a:moveTo>
                <a:lnTo>
                  <a:pt x="353926" y="0"/>
                </a:lnTo>
                <a:lnTo>
                  <a:pt x="707852" y="353926"/>
                </a:lnTo>
                <a:lnTo>
                  <a:pt x="334876" y="1203152"/>
                </a:lnTo>
                <a:lnTo>
                  <a:pt x="0" y="353926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223"/>
          <p:cNvSpPr/>
          <p:nvPr/>
        </p:nvSpPr>
        <p:spPr>
          <a:xfrm>
            <a:off x="8279280" y="3133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菱形 1"/>
          <p:cNvSpPr/>
          <p:nvPr/>
        </p:nvSpPr>
        <p:spPr>
          <a:xfrm>
            <a:off x="5589720" y="3265560"/>
            <a:ext cx="241200" cy="336600"/>
          </a:xfrm>
          <a:custGeom>
            <a:avLst/>
            <a:gdLst/>
            <a:ahLst/>
            <a:rect l="l" t="t" r="r" b="b"/>
            <a:pathLst>
              <a:path w="707852" h="1203152">
                <a:moveTo>
                  <a:pt x="0" y="353926"/>
                </a:moveTo>
                <a:lnTo>
                  <a:pt x="353926" y="0"/>
                </a:lnTo>
                <a:lnTo>
                  <a:pt x="707852" y="353926"/>
                </a:lnTo>
                <a:lnTo>
                  <a:pt x="334876" y="1203152"/>
                </a:lnTo>
                <a:lnTo>
                  <a:pt x="0" y="353926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225"/>
          <p:cNvSpPr/>
          <p:nvPr/>
        </p:nvSpPr>
        <p:spPr>
          <a:xfrm>
            <a:off x="5561640" y="3273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菱形 1"/>
          <p:cNvSpPr/>
          <p:nvPr/>
        </p:nvSpPr>
        <p:spPr>
          <a:xfrm>
            <a:off x="3894120" y="1538280"/>
            <a:ext cx="241200" cy="336600"/>
          </a:xfrm>
          <a:custGeom>
            <a:avLst/>
            <a:gdLst/>
            <a:ahLst/>
            <a:rect l="l" t="t" r="r" b="b"/>
            <a:pathLst>
              <a:path w="707852" h="1203152">
                <a:moveTo>
                  <a:pt x="0" y="353926"/>
                </a:moveTo>
                <a:lnTo>
                  <a:pt x="353926" y="0"/>
                </a:lnTo>
                <a:lnTo>
                  <a:pt x="707852" y="353926"/>
                </a:lnTo>
                <a:lnTo>
                  <a:pt x="334876" y="1203152"/>
                </a:lnTo>
                <a:lnTo>
                  <a:pt x="0" y="353926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227"/>
          <p:cNvSpPr/>
          <p:nvPr/>
        </p:nvSpPr>
        <p:spPr>
          <a:xfrm>
            <a:off x="3865320" y="1547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489"/>
          <p:cNvSpPr/>
          <p:nvPr/>
        </p:nvSpPr>
        <p:spPr>
          <a:xfrm flipV="1">
            <a:off x="5132520" y="2206800"/>
            <a:ext cx="2125440" cy="282240"/>
          </a:xfrm>
          <a:prstGeom prst="line">
            <a:avLst/>
          </a:prstGeom>
          <a:ln w="6480">
            <a:solidFill>
              <a:srgbClr val="5cb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490"/>
          <p:cNvSpPr/>
          <p:nvPr/>
        </p:nvSpPr>
        <p:spPr>
          <a:xfrm>
            <a:off x="5116680" y="2486160"/>
            <a:ext cx="3305160" cy="974520"/>
          </a:xfrm>
          <a:prstGeom prst="line">
            <a:avLst/>
          </a:prstGeom>
          <a:ln w="6480">
            <a:solidFill>
              <a:srgbClr val="5cb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491"/>
          <p:cNvSpPr/>
          <p:nvPr/>
        </p:nvSpPr>
        <p:spPr>
          <a:xfrm>
            <a:off x="5114880" y="2486160"/>
            <a:ext cx="588960" cy="1116000"/>
          </a:xfrm>
          <a:prstGeom prst="line">
            <a:avLst/>
          </a:prstGeom>
          <a:ln w="6480">
            <a:solidFill>
              <a:srgbClr val="5cb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492"/>
          <p:cNvSpPr/>
          <p:nvPr/>
        </p:nvSpPr>
        <p:spPr>
          <a:xfrm flipH="1" flipV="1">
            <a:off x="4006800" y="1874520"/>
            <a:ext cx="1116000" cy="623880"/>
          </a:xfrm>
          <a:prstGeom prst="line">
            <a:avLst/>
          </a:prstGeom>
          <a:ln w="6480">
            <a:solidFill>
              <a:srgbClr val="5cb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493"/>
          <p:cNvSpPr/>
          <p:nvPr/>
        </p:nvSpPr>
        <p:spPr>
          <a:xfrm>
            <a:off x="307800" y="1419120"/>
            <a:ext cx="2319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卓越价值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8"/>
          <p:cNvSpPr/>
          <p:nvPr/>
        </p:nvSpPr>
        <p:spPr>
          <a:xfrm>
            <a:off x="-122400" y="468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1"/>
          <p:cNvGrpSpPr/>
          <p:nvPr/>
        </p:nvGrpSpPr>
        <p:grpSpPr>
          <a:xfrm>
            <a:off x="826920" y="949320"/>
            <a:ext cx="7269480" cy="3559320"/>
            <a:chOff x="826920" y="949320"/>
            <a:chExt cx="7269480" cy="3559320"/>
          </a:xfrm>
        </p:grpSpPr>
        <p:sp>
          <p:nvSpPr>
            <p:cNvPr id="952" name="矩形 221"/>
            <p:cNvSpPr/>
            <p:nvPr/>
          </p:nvSpPr>
          <p:spPr>
            <a:xfrm>
              <a:off x="3787560" y="949320"/>
              <a:ext cx="358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22"/>
            <p:cNvSpPr/>
            <p:nvPr/>
          </p:nvSpPr>
          <p:spPr>
            <a:xfrm>
              <a:off x="1984680" y="1174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84a1f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23"/>
            <p:cNvSpPr/>
            <p:nvPr/>
          </p:nvSpPr>
          <p:spPr>
            <a:xfrm>
              <a:off x="3787560" y="2330280"/>
              <a:ext cx="3587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24"/>
            <p:cNvSpPr/>
            <p:nvPr/>
          </p:nvSpPr>
          <p:spPr>
            <a:xfrm>
              <a:off x="1985760" y="252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cb5c5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25"/>
            <p:cNvSpPr/>
            <p:nvPr/>
          </p:nvSpPr>
          <p:spPr>
            <a:xfrm>
              <a:off x="3787560" y="3684600"/>
              <a:ext cx="358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226"/>
            <p:cNvSpPr/>
            <p:nvPr/>
          </p:nvSpPr>
          <p:spPr>
            <a:xfrm>
              <a:off x="1984680" y="3883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84a1f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227"/>
            <p:cNvSpPr/>
            <p:nvPr/>
          </p:nvSpPr>
          <p:spPr>
            <a:xfrm rot="2700000">
              <a:off x="1047960" y="1226160"/>
              <a:ext cx="277560" cy="2761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228"/>
            <p:cNvSpPr/>
            <p:nvPr/>
          </p:nvSpPr>
          <p:spPr>
            <a:xfrm rot="2700000">
              <a:off x="1047960" y="2580480"/>
              <a:ext cx="277560" cy="276120"/>
            </a:xfrm>
            <a:prstGeom prst="rect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229"/>
            <p:cNvSpPr/>
            <p:nvPr/>
          </p:nvSpPr>
          <p:spPr>
            <a:xfrm rot="2700000">
              <a:off x="1047960" y="3934800"/>
              <a:ext cx="277560" cy="2761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230"/>
            <p:cNvSpPr/>
            <p:nvPr/>
          </p:nvSpPr>
          <p:spPr>
            <a:xfrm rot="2700000">
              <a:off x="7597080" y="1226160"/>
              <a:ext cx="277560" cy="2761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231"/>
            <p:cNvSpPr/>
            <p:nvPr/>
          </p:nvSpPr>
          <p:spPr>
            <a:xfrm rot="2700000">
              <a:off x="7597080" y="2580480"/>
              <a:ext cx="277560" cy="276120"/>
            </a:xfrm>
            <a:prstGeom prst="rect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232"/>
            <p:cNvSpPr/>
            <p:nvPr/>
          </p:nvSpPr>
          <p:spPr>
            <a:xfrm rot="2700000">
              <a:off x="7597080" y="3934800"/>
              <a:ext cx="277560" cy="2761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直接连接符 233"/>
            <p:cNvSpPr/>
            <p:nvPr/>
          </p:nvSpPr>
          <p:spPr>
            <a:xfrm>
              <a:off x="826920" y="2059560"/>
              <a:ext cx="7269480" cy="0"/>
            </a:xfrm>
            <a:prstGeom prst="line">
              <a:avLst/>
            </a:prstGeom>
            <a:ln w="3240">
              <a:solidFill>
                <a:srgbClr val="3d4c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直接连接符 234"/>
            <p:cNvSpPr/>
            <p:nvPr/>
          </p:nvSpPr>
          <p:spPr>
            <a:xfrm>
              <a:off x="826920" y="3411720"/>
              <a:ext cx="7269480" cy="0"/>
            </a:xfrm>
            <a:prstGeom prst="line">
              <a:avLst/>
            </a:prstGeom>
            <a:ln w="3240">
              <a:solidFill>
                <a:srgbClr val="3d4c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组合 2"/>
          <p:cNvGrpSpPr/>
          <p:nvPr/>
        </p:nvGrpSpPr>
        <p:grpSpPr>
          <a:xfrm>
            <a:off x="768600" y="673920"/>
            <a:ext cx="7882920" cy="3180240"/>
            <a:chOff x="768600" y="673920"/>
            <a:chExt cx="7882920" cy="3180240"/>
          </a:xfrm>
        </p:grpSpPr>
        <p:sp>
          <p:nvSpPr>
            <p:cNvPr id="968" name="矩形 1"/>
            <p:cNvSpPr/>
            <p:nvPr/>
          </p:nvSpPr>
          <p:spPr>
            <a:xfrm rot="1321800">
              <a:off x="1117440" y="950760"/>
              <a:ext cx="1911240" cy="2232000"/>
            </a:xfrm>
            <a:custGeom>
              <a:avLst/>
              <a:gdLst/>
              <a:ahLst/>
              <a:rect l="l" t="t" r="r" b="b"/>
              <a:pathLst>
                <a:path w="3256770" h="3806294">
                  <a:moveTo>
                    <a:pt x="424422" y="313631"/>
                  </a:moveTo>
                  <a:lnTo>
                    <a:pt x="2801257" y="0"/>
                  </a:lnTo>
                  <a:lnTo>
                    <a:pt x="3256770" y="3806294"/>
                  </a:lnTo>
                  <a:lnTo>
                    <a:pt x="0" y="3802743"/>
                  </a:lnTo>
                  <a:lnTo>
                    <a:pt x="424422" y="313631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31"/>
            <p:cNvSpPr/>
            <p:nvPr/>
          </p:nvSpPr>
          <p:spPr>
            <a:xfrm>
              <a:off x="1019160" y="1153800"/>
              <a:ext cx="1774800" cy="230508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1"/>
            <p:cNvSpPr/>
            <p:nvPr/>
          </p:nvSpPr>
          <p:spPr>
            <a:xfrm rot="765000">
              <a:off x="3431880" y="1017000"/>
              <a:ext cx="2111400" cy="2467080"/>
            </a:xfrm>
            <a:custGeom>
              <a:avLst/>
              <a:gdLst/>
              <a:ahLst/>
              <a:rect l="l" t="t" r="r" b="b"/>
              <a:pathLst>
                <a:path w="3256770" h="3806294">
                  <a:moveTo>
                    <a:pt x="424422" y="313631"/>
                  </a:moveTo>
                  <a:lnTo>
                    <a:pt x="2801257" y="0"/>
                  </a:lnTo>
                  <a:lnTo>
                    <a:pt x="3256770" y="3806294"/>
                  </a:lnTo>
                  <a:lnTo>
                    <a:pt x="0" y="3802743"/>
                  </a:lnTo>
                  <a:lnTo>
                    <a:pt x="424422" y="313631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33"/>
            <p:cNvSpPr/>
            <p:nvPr/>
          </p:nvSpPr>
          <p:spPr>
            <a:xfrm>
              <a:off x="3627360" y="1153800"/>
              <a:ext cx="1774800" cy="230508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1"/>
            <p:cNvSpPr/>
            <p:nvPr/>
          </p:nvSpPr>
          <p:spPr>
            <a:xfrm rot="1891200">
              <a:off x="6298920" y="1287360"/>
              <a:ext cx="1909800" cy="2232000"/>
            </a:xfrm>
            <a:custGeom>
              <a:avLst/>
              <a:gdLst/>
              <a:ahLst/>
              <a:rect l="l" t="t" r="r" b="b"/>
              <a:pathLst>
                <a:path w="3256770" h="3806294">
                  <a:moveTo>
                    <a:pt x="424422" y="313631"/>
                  </a:moveTo>
                  <a:lnTo>
                    <a:pt x="2801257" y="0"/>
                  </a:lnTo>
                  <a:lnTo>
                    <a:pt x="3256770" y="3806294"/>
                  </a:lnTo>
                  <a:lnTo>
                    <a:pt x="0" y="3802743"/>
                  </a:lnTo>
                  <a:lnTo>
                    <a:pt x="424422" y="313631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35"/>
            <p:cNvSpPr/>
            <p:nvPr/>
          </p:nvSpPr>
          <p:spPr>
            <a:xfrm>
              <a:off x="6208920" y="1153800"/>
              <a:ext cx="1774800" cy="230508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图片 37" descr=""/>
            <p:cNvPicPr/>
            <p:nvPr/>
          </p:nvPicPr>
          <p:blipFill>
            <a:blip r:embed="rId1"/>
            <a:srcRect l="27720" t="19685" r="25981" b="727"/>
            <a:stretch/>
          </p:blipFill>
          <p:spPr>
            <a:xfrm>
              <a:off x="101916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图片 38" descr=""/>
            <p:cNvPicPr/>
            <p:nvPr/>
          </p:nvPicPr>
          <p:blipFill>
            <a:blip r:embed="rId2"/>
            <a:srcRect l="28016" t="18655" r="25648" b="1757"/>
            <a:stretch/>
          </p:blipFill>
          <p:spPr>
            <a:xfrm>
              <a:off x="362772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图片 39" descr=""/>
            <p:cNvPicPr/>
            <p:nvPr/>
          </p:nvPicPr>
          <p:blipFill>
            <a:blip r:embed="rId3"/>
            <a:srcRect l="28349" t="19685" r="25352" b="727"/>
            <a:stretch/>
          </p:blipFill>
          <p:spPr>
            <a:xfrm>
              <a:off x="620820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矩形 40"/>
            <p:cNvSpPr/>
            <p:nvPr/>
          </p:nvSpPr>
          <p:spPr>
            <a:xfrm>
              <a:off x="146268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41"/>
            <p:cNvSpPr/>
            <p:nvPr/>
          </p:nvSpPr>
          <p:spPr>
            <a:xfrm>
              <a:off x="408852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2"/>
            <p:cNvSpPr/>
            <p:nvPr/>
          </p:nvSpPr>
          <p:spPr>
            <a:xfrm>
              <a:off x="665100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组合 1"/>
          <p:cNvGrpSpPr/>
          <p:nvPr/>
        </p:nvGrpSpPr>
        <p:grpSpPr>
          <a:xfrm>
            <a:off x="423360" y="700200"/>
            <a:ext cx="7894080" cy="3259080"/>
            <a:chOff x="423360" y="700200"/>
            <a:chExt cx="7894080" cy="3259080"/>
          </a:xfrm>
        </p:grpSpPr>
        <p:grpSp>
          <p:nvGrpSpPr>
            <p:cNvPr id="982" name="组合 16"/>
            <p:cNvGrpSpPr/>
            <p:nvPr/>
          </p:nvGrpSpPr>
          <p:grpSpPr>
            <a:xfrm>
              <a:off x="878040" y="700200"/>
              <a:ext cx="7102080" cy="3259080"/>
              <a:chOff x="878040" y="700200"/>
              <a:chExt cx="7102080" cy="3259080"/>
            </a:xfrm>
          </p:grpSpPr>
          <p:pic>
            <p:nvPicPr>
              <p:cNvPr id="983" name="图片 17" descr=""/>
              <p:cNvPicPr/>
              <p:nvPr/>
            </p:nvPicPr>
            <p:blipFill>
              <a:blip r:embed="rId1"/>
              <a:srcRect l="0" t="29760" r="12931" b="0"/>
              <a:stretch/>
            </p:blipFill>
            <p:spPr>
              <a:xfrm>
                <a:off x="2593080" y="700200"/>
                <a:ext cx="5387040" cy="32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4" name="图片 18" descr=""/>
              <p:cNvPicPr/>
              <p:nvPr/>
            </p:nvPicPr>
            <p:blipFill>
              <a:blip r:embed="rId2"/>
              <a:srcRect l="19615" t="0" r="19615" b="0"/>
              <a:stretch/>
            </p:blipFill>
            <p:spPr>
              <a:xfrm>
                <a:off x="883440" y="700200"/>
                <a:ext cx="1559520" cy="155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5" name="图片 19" descr=""/>
              <p:cNvPicPr/>
              <p:nvPr/>
            </p:nvPicPr>
            <p:blipFill>
              <a:blip r:embed="rId3"/>
              <a:srcRect l="19430" t="0" r="19430" b="0"/>
              <a:stretch/>
            </p:blipFill>
            <p:spPr>
              <a:xfrm>
                <a:off x="878040" y="2394360"/>
                <a:ext cx="156492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6" name="矩形 21"/>
            <p:cNvSpPr/>
            <p:nvPr/>
          </p:nvSpPr>
          <p:spPr>
            <a:xfrm>
              <a:off x="546120" y="826920"/>
              <a:ext cx="1260360" cy="49032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直角三角形 22"/>
            <p:cNvSpPr/>
            <p:nvPr/>
          </p:nvSpPr>
          <p:spPr>
            <a:xfrm rot="10800000">
              <a:off x="545760" y="1311120"/>
              <a:ext cx="338040" cy="139680"/>
            </a:xfrm>
            <a:prstGeom prst="rtTriangle">
              <a:avLst/>
            </a:prstGeom>
            <a:solidFill>
              <a:srgbClr val="932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3"/>
            <p:cNvSpPr/>
            <p:nvPr/>
          </p:nvSpPr>
          <p:spPr>
            <a:xfrm>
              <a:off x="546120" y="2498760"/>
              <a:ext cx="1260360" cy="488880"/>
            </a:xfrm>
            <a:prstGeom prst="rect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直角三角形 24"/>
            <p:cNvSpPr/>
            <p:nvPr/>
          </p:nvSpPr>
          <p:spPr>
            <a:xfrm rot="10800000">
              <a:off x="545760" y="2982960"/>
              <a:ext cx="338040" cy="139680"/>
            </a:xfrm>
            <a:prstGeom prst="rtTriangle">
              <a:avLst/>
            </a:prstGeom>
            <a:solidFill>
              <a:srgbClr val="932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组合 25"/>
            <p:cNvGrpSpPr/>
            <p:nvPr/>
          </p:nvGrpSpPr>
          <p:grpSpPr>
            <a:xfrm>
              <a:off x="6270120" y="827640"/>
              <a:ext cx="2047320" cy="623880"/>
              <a:chOff x="6270120" y="827640"/>
              <a:chExt cx="2047320" cy="623880"/>
            </a:xfrm>
          </p:grpSpPr>
          <p:sp>
            <p:nvSpPr>
              <p:cNvPr id="991" name="矩形 26"/>
              <p:cNvSpPr/>
              <p:nvPr/>
            </p:nvSpPr>
            <p:spPr>
              <a:xfrm flipH="1">
                <a:off x="6270120" y="827640"/>
                <a:ext cx="2046960" cy="488880"/>
              </a:xfrm>
              <a:prstGeom prst="rect">
                <a:avLst/>
              </a:prstGeom>
              <a:solidFill>
                <a:srgbClr val="5cb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直角三角形 27"/>
              <p:cNvSpPr/>
              <p:nvPr/>
            </p:nvSpPr>
            <p:spPr>
              <a:xfrm flipH="1" rot="10800000">
                <a:off x="7979040" y="1311840"/>
                <a:ext cx="338040" cy="139680"/>
              </a:xfrm>
              <a:prstGeom prst="rtTriangle">
                <a:avLst/>
              </a:prstGeom>
              <a:solidFill>
                <a:srgbClr val="2a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文本框 17"/>
            <p:cNvSpPr/>
            <p:nvPr/>
          </p:nvSpPr>
          <p:spPr>
            <a:xfrm>
              <a:off x="423360" y="9428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18"/>
            <p:cNvSpPr/>
            <p:nvPr/>
          </p:nvSpPr>
          <p:spPr>
            <a:xfrm>
              <a:off x="423360" y="26035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文本框 19"/>
            <p:cNvSpPr/>
            <p:nvPr/>
          </p:nvSpPr>
          <p:spPr>
            <a:xfrm>
              <a:off x="6410880" y="90324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3" descr="E:\PPT制作必备\PPT模板\Nipic_2531170_20130604140841207000.jpg"/>
          <p:cNvPicPr/>
          <p:nvPr/>
        </p:nvPicPr>
        <p:blipFill>
          <a:blip r:embed="rId1"/>
          <a:srcRect l="0" t="4357" r="0" b="2064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97" name="矩形 1"/>
          <p:cNvSpPr/>
          <p:nvPr/>
        </p:nvSpPr>
        <p:spPr>
          <a:xfrm>
            <a:off x="0" y="1924200"/>
            <a:ext cx="9144000" cy="1439640"/>
          </a:xfrm>
          <a:prstGeom prst="rect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TextBox 242" descr=""/>
          <p:cNvPicPr/>
          <p:nvPr/>
        </p:nvPicPr>
        <p:blipFill>
          <a:blip r:embed="rId2"/>
          <a:stretch/>
        </p:blipFill>
        <p:spPr>
          <a:xfrm>
            <a:off x="201600" y="2133720"/>
            <a:ext cx="307188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矩形 1"/>
          <p:cNvSpPr/>
          <p:nvPr/>
        </p:nvSpPr>
        <p:spPr>
          <a:xfrm>
            <a:off x="0" y="196920"/>
            <a:ext cx="9144000" cy="988920"/>
          </a:xfrm>
          <a:prstGeom prst="rect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组合 2" descr=""/>
          <p:cNvPicPr/>
          <p:nvPr/>
        </p:nvPicPr>
        <p:blipFill>
          <a:blip r:embed="rId1"/>
          <a:stretch/>
        </p:blipFill>
        <p:spPr>
          <a:xfrm>
            <a:off x="4925880" y="1609560"/>
            <a:ext cx="493920" cy="493920"/>
          </a:xfrm>
          <a:prstGeom prst="rect">
            <a:avLst/>
          </a:prstGeom>
          <a:ln w="0">
            <a:noFill/>
          </a:ln>
        </p:spPr>
      </p:pic>
      <p:sp>
        <p:nvSpPr>
          <p:cNvPr id="1001" name="Freeform 5"/>
          <p:cNvSpPr/>
          <p:nvPr/>
        </p:nvSpPr>
        <p:spPr>
          <a:xfrm>
            <a:off x="406440" y="1611360"/>
            <a:ext cx="500040" cy="498600"/>
          </a:xfrm>
          <a:custGeom>
            <a:avLst/>
            <a:gdLst>
              <a:gd name="textAreaLeft" fmla="*/ 0 w 500040"/>
              <a:gd name="textAreaRight" fmla="*/ 500400 w 5000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28" h="128">
                <a:moveTo>
                  <a:pt x="32" y="56"/>
                </a:moveTo>
                <a:cubicBezTo>
                  <a:pt x="14" y="24"/>
                  <a:pt x="14" y="24"/>
                  <a:pt x="14" y="24"/>
                </a:cubicBezTo>
                <a:cubicBezTo>
                  <a:pt x="26" y="9"/>
                  <a:pt x="44" y="0"/>
                  <a:pt x="64" y="0"/>
                </a:cubicBezTo>
                <a:cubicBezTo>
                  <a:pt x="87" y="0"/>
                  <a:pt x="108" y="13"/>
                  <a:pt x="119" y="31"/>
                </a:cubicBezTo>
                <a:cubicBezTo>
                  <a:pt x="67" y="31"/>
                  <a:pt x="67" y="31"/>
                  <a:pt x="67" y="31"/>
                </a:cubicBezTo>
                <a:cubicBezTo>
                  <a:pt x="66" y="31"/>
                  <a:pt x="65" y="31"/>
                  <a:pt x="64" y="31"/>
                </a:cubicBezTo>
                <a:cubicBezTo>
                  <a:pt x="49" y="31"/>
                  <a:pt x="36" y="42"/>
                  <a:pt x="32" y="56"/>
                </a:cubicBezTo>
                <a:close/>
                <a:moveTo>
                  <a:pt x="87" y="41"/>
                </a:moveTo>
                <a:cubicBezTo>
                  <a:pt x="124" y="41"/>
                  <a:pt x="124" y="41"/>
                  <a:pt x="124" y="41"/>
                </a:cubicBezTo>
                <a:cubicBezTo>
                  <a:pt x="126" y="48"/>
                  <a:pt x="128" y="56"/>
                  <a:pt x="128" y="64"/>
                </a:cubicBezTo>
                <a:cubicBezTo>
                  <a:pt x="128" y="99"/>
                  <a:pt x="100" y="128"/>
                  <a:pt x="65" y="128"/>
                </a:cubicBezTo>
                <a:cubicBezTo>
                  <a:pt x="91" y="83"/>
                  <a:pt x="91" y="83"/>
                  <a:pt x="91" y="83"/>
                </a:cubicBezTo>
                <a:cubicBezTo>
                  <a:pt x="95" y="77"/>
                  <a:pt x="97" y="71"/>
                  <a:pt x="97" y="64"/>
                </a:cubicBezTo>
                <a:cubicBezTo>
                  <a:pt x="97" y="55"/>
                  <a:pt x="93" y="47"/>
                  <a:pt x="87" y="41"/>
                </a:cubicBezTo>
                <a:close/>
                <a:moveTo>
                  <a:pt x="41" y="64"/>
                </a:moveTo>
                <a:cubicBezTo>
                  <a:pt x="41" y="51"/>
                  <a:pt x="51" y="41"/>
                  <a:pt x="64" y="41"/>
                </a:cubicBezTo>
                <a:cubicBezTo>
                  <a:pt x="77" y="41"/>
                  <a:pt x="87" y="51"/>
                  <a:pt x="87" y="64"/>
                </a:cubicBezTo>
                <a:cubicBezTo>
                  <a:pt x="87" y="77"/>
                  <a:pt x="77" y="87"/>
                  <a:pt x="64" y="87"/>
                </a:cubicBezTo>
                <a:cubicBezTo>
                  <a:pt x="51" y="87"/>
                  <a:pt x="41" y="77"/>
                  <a:pt x="41" y="64"/>
                </a:cubicBezTo>
                <a:close/>
                <a:moveTo>
                  <a:pt x="73" y="96"/>
                </a:moveTo>
                <a:cubicBezTo>
                  <a:pt x="54" y="127"/>
                  <a:pt x="54" y="127"/>
                  <a:pt x="54" y="127"/>
                </a:cubicBezTo>
                <a:cubicBezTo>
                  <a:pt x="24" y="123"/>
                  <a:pt x="0" y="96"/>
                  <a:pt x="0" y="64"/>
                </a:cubicBezTo>
                <a:cubicBezTo>
                  <a:pt x="0" y="53"/>
                  <a:pt x="3" y="42"/>
                  <a:pt x="8" y="33"/>
                </a:cubicBezTo>
                <a:cubicBezTo>
                  <a:pt x="34" y="78"/>
                  <a:pt x="34" y="78"/>
                  <a:pt x="34" y="78"/>
                </a:cubicBezTo>
                <a:cubicBezTo>
                  <a:pt x="40" y="89"/>
                  <a:pt x="51" y="97"/>
                  <a:pt x="64" y="97"/>
                </a:cubicBezTo>
                <a:cubicBezTo>
                  <a:pt x="67" y="97"/>
                  <a:pt x="70" y="96"/>
                  <a:pt x="73" y="96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"/>
          <p:cNvSpPr/>
          <p:nvPr/>
        </p:nvSpPr>
        <p:spPr>
          <a:xfrm>
            <a:off x="3394080" y="1663560"/>
            <a:ext cx="479520" cy="516240"/>
          </a:xfrm>
          <a:custGeom>
            <a:avLst/>
            <a:gdLst>
              <a:gd name="textAreaLeft" fmla="*/ 0 w 479520"/>
              <a:gd name="textAreaRight" fmla="*/ 479520 w 4795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1113" h="1198">
                <a:moveTo>
                  <a:pt x="416" y="783"/>
                </a:moveTo>
                <a:cubicBezTo>
                  <a:pt x="416" y="754"/>
                  <a:pt x="416" y="728"/>
                  <a:pt x="415" y="701"/>
                </a:cubicBezTo>
                <a:cubicBezTo>
                  <a:pt x="415" y="696"/>
                  <a:pt x="411" y="689"/>
                  <a:pt x="407" y="684"/>
                </a:cubicBezTo>
                <a:cubicBezTo>
                  <a:pt x="300" y="571"/>
                  <a:pt x="267" y="434"/>
                  <a:pt x="281" y="283"/>
                </a:cubicBezTo>
                <a:cubicBezTo>
                  <a:pt x="285" y="235"/>
                  <a:pt x="295" y="189"/>
                  <a:pt x="315" y="146"/>
                </a:cubicBezTo>
                <a:cubicBezTo>
                  <a:pt x="356" y="54"/>
                  <a:pt x="428" y="7"/>
                  <a:pt x="527" y="2"/>
                </a:cubicBezTo>
                <a:cubicBezTo>
                  <a:pt x="564" y="0"/>
                  <a:pt x="603" y="2"/>
                  <a:pt x="640" y="11"/>
                </a:cubicBezTo>
                <a:cubicBezTo>
                  <a:pt x="716" y="29"/>
                  <a:pt x="771" y="78"/>
                  <a:pt x="797" y="151"/>
                </a:cubicBezTo>
                <a:cubicBezTo>
                  <a:pt x="857" y="322"/>
                  <a:pt x="846" y="486"/>
                  <a:pt x="741" y="638"/>
                </a:cubicBezTo>
                <a:cubicBezTo>
                  <a:pt x="736" y="646"/>
                  <a:pt x="731" y="655"/>
                  <a:pt x="724" y="660"/>
                </a:cubicBezTo>
                <a:cubicBezTo>
                  <a:pt x="696" y="682"/>
                  <a:pt x="690" y="712"/>
                  <a:pt x="694" y="745"/>
                </a:cubicBezTo>
                <a:cubicBezTo>
                  <a:pt x="695" y="757"/>
                  <a:pt x="694" y="769"/>
                  <a:pt x="694" y="781"/>
                </a:cubicBezTo>
                <a:cubicBezTo>
                  <a:pt x="734" y="790"/>
                  <a:pt x="773" y="798"/>
                  <a:pt x="811" y="809"/>
                </a:cubicBezTo>
                <a:cubicBezTo>
                  <a:pt x="901" y="837"/>
                  <a:pt x="984" y="876"/>
                  <a:pt x="1049" y="946"/>
                </a:cubicBezTo>
                <a:cubicBezTo>
                  <a:pt x="1071" y="970"/>
                  <a:pt x="1086" y="1002"/>
                  <a:pt x="1103" y="1030"/>
                </a:cubicBezTo>
                <a:cubicBezTo>
                  <a:pt x="1113" y="1047"/>
                  <a:pt x="1106" y="1063"/>
                  <a:pt x="1093" y="1073"/>
                </a:cubicBezTo>
                <a:cubicBezTo>
                  <a:pt x="1065" y="1092"/>
                  <a:pt x="1037" y="1111"/>
                  <a:pt x="1006" y="1124"/>
                </a:cubicBezTo>
                <a:cubicBezTo>
                  <a:pt x="932" y="1156"/>
                  <a:pt x="853" y="1170"/>
                  <a:pt x="774" y="1181"/>
                </a:cubicBezTo>
                <a:cubicBezTo>
                  <a:pt x="652" y="1196"/>
                  <a:pt x="530" y="1198"/>
                  <a:pt x="407" y="1188"/>
                </a:cubicBezTo>
                <a:cubicBezTo>
                  <a:pt x="294" y="1179"/>
                  <a:pt x="182" y="1162"/>
                  <a:pt x="78" y="1113"/>
                </a:cubicBezTo>
                <a:cubicBezTo>
                  <a:pt x="56" y="1103"/>
                  <a:pt x="35" y="1087"/>
                  <a:pt x="16" y="1071"/>
                </a:cubicBezTo>
                <a:cubicBezTo>
                  <a:pt x="3" y="1061"/>
                  <a:pt x="0" y="1048"/>
                  <a:pt x="6" y="1030"/>
                </a:cubicBezTo>
                <a:cubicBezTo>
                  <a:pt x="23" y="982"/>
                  <a:pt x="55" y="945"/>
                  <a:pt x="94" y="914"/>
                </a:cubicBezTo>
                <a:cubicBezTo>
                  <a:pt x="178" y="845"/>
                  <a:pt x="277" y="809"/>
                  <a:pt x="382" y="789"/>
                </a:cubicBezTo>
                <a:cubicBezTo>
                  <a:pt x="392" y="787"/>
                  <a:pt x="403" y="785"/>
                  <a:pt x="416" y="783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"/>
          <p:cNvSpPr/>
          <p:nvPr/>
        </p:nvSpPr>
        <p:spPr>
          <a:xfrm>
            <a:off x="1928880" y="1611360"/>
            <a:ext cx="468360" cy="498600"/>
          </a:xfrm>
          <a:custGeom>
            <a:avLst/>
            <a:gdLst>
              <a:gd name="textAreaLeft" fmla="*/ 0 w 468360"/>
              <a:gd name="textAreaRight" fmla="*/ 468720 w 468360"/>
              <a:gd name="textAreaTop" fmla="*/ 0 h 498600"/>
              <a:gd name="textAreaBottom" fmla="*/ 498600 h 498600"/>
            </a:gdLst>
            <a:ahLst/>
            <a:rect l="textAreaLeft" t="textAreaTop" r="textAreaRight" b="textAreaBottom"/>
            <a:pathLst>
              <a:path w="568" h="606">
                <a:moveTo>
                  <a:pt x="511" y="341"/>
                </a:moveTo>
                <a:cubicBezTo>
                  <a:pt x="555" y="341"/>
                  <a:pt x="530" y="454"/>
                  <a:pt x="492" y="454"/>
                </a:cubicBezTo>
                <a:cubicBezTo>
                  <a:pt x="511" y="454"/>
                  <a:pt x="492" y="549"/>
                  <a:pt x="455" y="549"/>
                </a:cubicBezTo>
                <a:cubicBezTo>
                  <a:pt x="455" y="587"/>
                  <a:pt x="417" y="606"/>
                  <a:pt x="379" y="606"/>
                </a:cubicBezTo>
                <a:cubicBezTo>
                  <a:pt x="219" y="606"/>
                  <a:pt x="275" y="566"/>
                  <a:pt x="114" y="549"/>
                </a:cubicBezTo>
                <a:cubicBezTo>
                  <a:pt x="114" y="246"/>
                  <a:pt x="114" y="246"/>
                  <a:pt x="114" y="246"/>
                </a:cubicBezTo>
                <a:cubicBezTo>
                  <a:pt x="256" y="203"/>
                  <a:pt x="398" y="96"/>
                  <a:pt x="398" y="0"/>
                </a:cubicBezTo>
                <a:cubicBezTo>
                  <a:pt x="429" y="0"/>
                  <a:pt x="511" y="38"/>
                  <a:pt x="398" y="227"/>
                </a:cubicBezTo>
                <a:cubicBezTo>
                  <a:pt x="398" y="227"/>
                  <a:pt x="492" y="227"/>
                  <a:pt x="511" y="227"/>
                </a:cubicBezTo>
                <a:cubicBezTo>
                  <a:pt x="568" y="227"/>
                  <a:pt x="549" y="341"/>
                  <a:pt x="511" y="341"/>
                </a:cubicBezTo>
                <a:close/>
                <a:moveTo>
                  <a:pt x="76" y="261"/>
                </a:moveTo>
                <a:cubicBezTo>
                  <a:pt x="76" y="285"/>
                  <a:pt x="76" y="308"/>
                  <a:pt x="76" y="331"/>
                </a:cubicBezTo>
                <a:cubicBezTo>
                  <a:pt x="76" y="382"/>
                  <a:pt x="76" y="432"/>
                  <a:pt x="76" y="483"/>
                </a:cubicBezTo>
                <a:cubicBezTo>
                  <a:pt x="76" y="500"/>
                  <a:pt x="76" y="518"/>
                  <a:pt x="76" y="535"/>
                </a:cubicBezTo>
                <a:cubicBezTo>
                  <a:pt x="76" y="540"/>
                  <a:pt x="75" y="549"/>
                  <a:pt x="89" y="549"/>
                </a:cubicBezTo>
                <a:cubicBezTo>
                  <a:pt x="97" y="549"/>
                  <a:pt x="105" y="549"/>
                  <a:pt x="114" y="549"/>
                </a:cubicBezTo>
                <a:cubicBezTo>
                  <a:pt x="114" y="568"/>
                  <a:pt x="114" y="568"/>
                  <a:pt x="114" y="568"/>
                </a:cubicBezTo>
                <a:cubicBezTo>
                  <a:pt x="38" y="568"/>
                  <a:pt x="38" y="568"/>
                  <a:pt x="38" y="568"/>
                </a:cubicBezTo>
                <a:cubicBezTo>
                  <a:pt x="17" y="568"/>
                  <a:pt x="0" y="543"/>
                  <a:pt x="0" y="511"/>
                </a:cubicBezTo>
                <a:cubicBezTo>
                  <a:pt x="0" y="284"/>
                  <a:pt x="0" y="284"/>
                  <a:pt x="0" y="284"/>
                </a:cubicBezTo>
                <a:cubicBezTo>
                  <a:pt x="0" y="253"/>
                  <a:pt x="17" y="227"/>
                  <a:pt x="38" y="227"/>
                </a:cubicBezTo>
                <a:cubicBezTo>
                  <a:pt x="114" y="227"/>
                  <a:pt x="114" y="227"/>
                  <a:pt x="114" y="227"/>
                </a:cubicBezTo>
                <a:cubicBezTo>
                  <a:pt x="114" y="246"/>
                  <a:pt x="114" y="246"/>
                  <a:pt x="114" y="246"/>
                </a:cubicBezTo>
                <a:cubicBezTo>
                  <a:pt x="91" y="246"/>
                  <a:pt x="91" y="246"/>
                  <a:pt x="91" y="246"/>
                </a:cubicBezTo>
                <a:cubicBezTo>
                  <a:pt x="91" y="246"/>
                  <a:pt x="76" y="244"/>
                  <a:pt x="76" y="261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组合 9" descr=""/>
          <p:cNvPicPr/>
          <p:nvPr/>
        </p:nvPicPr>
        <p:blipFill>
          <a:blip r:embed="rId2"/>
          <a:stretch/>
        </p:blipFill>
        <p:spPr>
          <a:xfrm>
            <a:off x="6467400" y="1633680"/>
            <a:ext cx="536760" cy="469800"/>
          </a:xfrm>
          <a:prstGeom prst="rect">
            <a:avLst/>
          </a:prstGeom>
          <a:ln w="0">
            <a:noFill/>
          </a:ln>
        </p:spPr>
      </p:pic>
      <p:sp>
        <p:nvSpPr>
          <p:cNvPr id="1005" name="Freeform 5"/>
          <p:cNvSpPr/>
          <p:nvPr/>
        </p:nvSpPr>
        <p:spPr>
          <a:xfrm>
            <a:off x="8032680" y="1611360"/>
            <a:ext cx="612720" cy="488880"/>
          </a:xfrm>
          <a:custGeom>
            <a:avLst/>
            <a:gdLst>
              <a:gd name="textAreaLeft" fmla="*/ 0 w 612720"/>
              <a:gd name="textAreaRight" fmla="*/ 613080 w 6127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925" h="740">
                <a:moveTo>
                  <a:pt x="308" y="216"/>
                </a:moveTo>
                <a:cubicBezTo>
                  <a:pt x="308" y="242"/>
                  <a:pt x="299" y="264"/>
                  <a:pt x="281" y="282"/>
                </a:cubicBezTo>
                <a:cubicBezTo>
                  <a:pt x="263" y="300"/>
                  <a:pt x="242" y="309"/>
                  <a:pt x="216" y="309"/>
                </a:cubicBezTo>
                <a:cubicBezTo>
                  <a:pt x="190" y="309"/>
                  <a:pt x="168" y="300"/>
                  <a:pt x="150" y="282"/>
                </a:cubicBezTo>
                <a:cubicBezTo>
                  <a:pt x="132" y="264"/>
                  <a:pt x="123" y="242"/>
                  <a:pt x="123" y="216"/>
                </a:cubicBezTo>
                <a:cubicBezTo>
                  <a:pt x="123" y="190"/>
                  <a:pt x="132" y="168"/>
                  <a:pt x="150" y="150"/>
                </a:cubicBezTo>
                <a:cubicBezTo>
                  <a:pt x="168" y="132"/>
                  <a:pt x="190" y="124"/>
                  <a:pt x="216" y="124"/>
                </a:cubicBezTo>
                <a:cubicBezTo>
                  <a:pt x="242" y="124"/>
                  <a:pt x="263" y="132"/>
                  <a:pt x="281" y="150"/>
                </a:cubicBezTo>
                <a:cubicBezTo>
                  <a:pt x="299" y="168"/>
                  <a:pt x="308" y="190"/>
                  <a:pt x="308" y="216"/>
                </a:cubicBezTo>
                <a:close/>
                <a:moveTo>
                  <a:pt x="802" y="401"/>
                </a:moveTo>
                <a:cubicBezTo>
                  <a:pt x="802" y="617"/>
                  <a:pt x="802" y="617"/>
                  <a:pt x="802" y="617"/>
                </a:cubicBezTo>
                <a:cubicBezTo>
                  <a:pt x="123" y="617"/>
                  <a:pt x="123" y="617"/>
                  <a:pt x="123" y="617"/>
                </a:cubicBezTo>
                <a:cubicBezTo>
                  <a:pt x="123" y="524"/>
                  <a:pt x="123" y="524"/>
                  <a:pt x="123" y="524"/>
                </a:cubicBezTo>
                <a:cubicBezTo>
                  <a:pt x="278" y="370"/>
                  <a:pt x="278" y="370"/>
                  <a:pt x="278" y="370"/>
                </a:cubicBezTo>
                <a:cubicBezTo>
                  <a:pt x="355" y="447"/>
                  <a:pt x="355" y="447"/>
                  <a:pt x="355" y="447"/>
                </a:cubicBezTo>
                <a:cubicBezTo>
                  <a:pt x="601" y="201"/>
                  <a:pt x="601" y="201"/>
                  <a:pt x="601" y="201"/>
                </a:cubicBezTo>
                <a:lnTo>
                  <a:pt x="802" y="401"/>
                </a:lnTo>
                <a:close/>
                <a:moveTo>
                  <a:pt x="848" y="62"/>
                </a:moveTo>
                <a:cubicBezTo>
                  <a:pt x="77" y="62"/>
                  <a:pt x="77" y="62"/>
                  <a:pt x="77" y="62"/>
                </a:cubicBezTo>
                <a:cubicBezTo>
                  <a:pt x="73" y="62"/>
                  <a:pt x="69" y="63"/>
                  <a:pt x="66" y="66"/>
                </a:cubicBezTo>
                <a:cubicBezTo>
                  <a:pt x="63" y="69"/>
                  <a:pt x="62" y="73"/>
                  <a:pt x="62" y="77"/>
                </a:cubicBezTo>
                <a:cubicBezTo>
                  <a:pt x="62" y="663"/>
                  <a:pt x="62" y="663"/>
                  <a:pt x="62" y="663"/>
                </a:cubicBezTo>
                <a:cubicBezTo>
                  <a:pt x="62" y="667"/>
                  <a:pt x="63" y="671"/>
                  <a:pt x="66" y="674"/>
                </a:cubicBezTo>
                <a:cubicBezTo>
                  <a:pt x="69" y="677"/>
                  <a:pt x="73" y="679"/>
                  <a:pt x="77" y="679"/>
                </a:cubicBezTo>
                <a:cubicBezTo>
                  <a:pt x="848" y="679"/>
                  <a:pt x="848" y="679"/>
                  <a:pt x="848" y="679"/>
                </a:cubicBezTo>
                <a:cubicBezTo>
                  <a:pt x="852" y="679"/>
                  <a:pt x="856" y="677"/>
                  <a:pt x="859" y="674"/>
                </a:cubicBezTo>
                <a:cubicBezTo>
                  <a:pt x="862" y="671"/>
                  <a:pt x="864" y="667"/>
                  <a:pt x="864" y="663"/>
                </a:cubicBezTo>
                <a:cubicBezTo>
                  <a:pt x="864" y="77"/>
                  <a:pt x="864" y="77"/>
                  <a:pt x="864" y="77"/>
                </a:cubicBezTo>
                <a:cubicBezTo>
                  <a:pt x="864" y="73"/>
                  <a:pt x="862" y="69"/>
                  <a:pt x="859" y="66"/>
                </a:cubicBezTo>
                <a:cubicBezTo>
                  <a:pt x="856" y="63"/>
                  <a:pt x="852" y="62"/>
                  <a:pt x="848" y="62"/>
                </a:cubicBezTo>
                <a:close/>
                <a:moveTo>
                  <a:pt x="925" y="77"/>
                </a:moveTo>
                <a:cubicBezTo>
                  <a:pt x="925" y="663"/>
                  <a:pt x="925" y="663"/>
                  <a:pt x="925" y="663"/>
                </a:cubicBezTo>
                <a:cubicBezTo>
                  <a:pt x="925" y="684"/>
                  <a:pt x="918" y="703"/>
                  <a:pt x="903" y="718"/>
                </a:cubicBezTo>
                <a:cubicBezTo>
                  <a:pt x="888" y="733"/>
                  <a:pt x="869" y="740"/>
                  <a:pt x="848" y="740"/>
                </a:cubicBezTo>
                <a:cubicBezTo>
                  <a:pt x="77" y="740"/>
                  <a:pt x="77" y="740"/>
                  <a:pt x="77" y="740"/>
                </a:cubicBezTo>
                <a:cubicBezTo>
                  <a:pt x="56" y="740"/>
                  <a:pt x="38" y="733"/>
                  <a:pt x="23" y="718"/>
                </a:cubicBezTo>
                <a:cubicBezTo>
                  <a:pt x="8" y="703"/>
                  <a:pt x="0" y="684"/>
                  <a:pt x="0" y="663"/>
                </a:cubicBezTo>
                <a:cubicBezTo>
                  <a:pt x="0" y="77"/>
                  <a:pt x="0" y="77"/>
                  <a:pt x="0" y="77"/>
                </a:cubicBezTo>
                <a:cubicBezTo>
                  <a:pt x="0" y="56"/>
                  <a:pt x="8" y="38"/>
                  <a:pt x="23" y="23"/>
                </a:cubicBezTo>
                <a:cubicBezTo>
                  <a:pt x="38" y="8"/>
                  <a:pt x="56" y="0"/>
                  <a:pt x="77" y="0"/>
                </a:cubicBezTo>
                <a:cubicBezTo>
                  <a:pt x="848" y="0"/>
                  <a:pt x="848" y="0"/>
                  <a:pt x="848" y="0"/>
                </a:cubicBezTo>
                <a:cubicBezTo>
                  <a:pt x="869" y="0"/>
                  <a:pt x="888" y="8"/>
                  <a:pt x="903" y="23"/>
                </a:cubicBezTo>
                <a:cubicBezTo>
                  <a:pt x="918" y="38"/>
                  <a:pt x="925" y="56"/>
                  <a:pt x="925" y="77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组合 13" descr=""/>
          <p:cNvPicPr/>
          <p:nvPr/>
        </p:nvPicPr>
        <p:blipFill>
          <a:blip r:embed="rId3"/>
          <a:stretch/>
        </p:blipFill>
        <p:spPr>
          <a:xfrm>
            <a:off x="4827600" y="3352680"/>
            <a:ext cx="689040" cy="50652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19" descr=""/>
          <p:cNvPicPr/>
          <p:nvPr/>
        </p:nvPicPr>
        <p:blipFill>
          <a:blip r:embed="rId4"/>
          <a:stretch/>
        </p:blipFill>
        <p:spPr>
          <a:xfrm>
            <a:off x="347760" y="3371760"/>
            <a:ext cx="622080" cy="46836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32" descr=""/>
          <p:cNvPicPr/>
          <p:nvPr/>
        </p:nvPicPr>
        <p:blipFill>
          <a:blip r:embed="rId5"/>
          <a:stretch/>
        </p:blipFill>
        <p:spPr>
          <a:xfrm>
            <a:off x="3359160" y="3352680"/>
            <a:ext cx="547560" cy="506520"/>
          </a:xfrm>
          <a:prstGeom prst="rect">
            <a:avLst/>
          </a:prstGeom>
          <a:ln w="0">
            <a:noFill/>
          </a:ln>
        </p:spPr>
      </p:pic>
      <p:sp>
        <p:nvSpPr>
          <p:cNvPr id="1009" name="Freeform 5"/>
          <p:cNvSpPr/>
          <p:nvPr/>
        </p:nvSpPr>
        <p:spPr>
          <a:xfrm>
            <a:off x="1911240" y="3368520"/>
            <a:ext cx="505080" cy="500040"/>
          </a:xfrm>
          <a:custGeom>
            <a:avLst/>
            <a:gdLst>
              <a:gd name="textAreaLeft" fmla="*/ 0 w 505080"/>
              <a:gd name="textAreaRight" fmla="*/ 505440 w 505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400" h="396">
                <a:moveTo>
                  <a:pt x="178" y="0"/>
                </a:moveTo>
                <a:cubicBezTo>
                  <a:pt x="174" y="0"/>
                  <a:pt x="171" y="1"/>
                  <a:pt x="167" y="3"/>
                </a:cubicBezTo>
                <a:cubicBezTo>
                  <a:pt x="8" y="106"/>
                  <a:pt x="8" y="106"/>
                  <a:pt x="8" y="106"/>
                </a:cubicBezTo>
                <a:cubicBezTo>
                  <a:pt x="3" y="109"/>
                  <a:pt x="0" y="114"/>
                  <a:pt x="0" y="120"/>
                </a:cubicBezTo>
                <a:cubicBezTo>
                  <a:pt x="9" y="304"/>
                  <a:pt x="9" y="304"/>
                  <a:pt x="9" y="304"/>
                </a:cubicBezTo>
                <a:cubicBezTo>
                  <a:pt x="9" y="311"/>
                  <a:pt x="14" y="317"/>
                  <a:pt x="21" y="319"/>
                </a:cubicBezTo>
                <a:cubicBezTo>
                  <a:pt x="246" y="395"/>
                  <a:pt x="246" y="395"/>
                  <a:pt x="246" y="395"/>
                </a:cubicBezTo>
                <a:cubicBezTo>
                  <a:pt x="248" y="396"/>
                  <a:pt x="250" y="396"/>
                  <a:pt x="252" y="396"/>
                </a:cubicBezTo>
                <a:cubicBezTo>
                  <a:pt x="256" y="396"/>
                  <a:pt x="261" y="394"/>
                  <a:pt x="264" y="391"/>
                </a:cubicBezTo>
                <a:cubicBezTo>
                  <a:pt x="394" y="264"/>
                  <a:pt x="394" y="264"/>
                  <a:pt x="394" y="264"/>
                </a:cubicBezTo>
                <a:cubicBezTo>
                  <a:pt x="397" y="260"/>
                  <a:pt x="399" y="256"/>
                  <a:pt x="399" y="252"/>
                </a:cubicBezTo>
                <a:cubicBezTo>
                  <a:pt x="400" y="69"/>
                  <a:pt x="400" y="69"/>
                  <a:pt x="400" y="69"/>
                </a:cubicBezTo>
                <a:cubicBezTo>
                  <a:pt x="400" y="61"/>
                  <a:pt x="395" y="54"/>
                  <a:pt x="387" y="52"/>
                </a:cubicBezTo>
                <a:cubicBezTo>
                  <a:pt x="182" y="1"/>
                  <a:pt x="182" y="1"/>
                  <a:pt x="182" y="1"/>
                </a:cubicBezTo>
                <a:cubicBezTo>
                  <a:pt x="180" y="0"/>
                  <a:pt x="179" y="0"/>
                  <a:pt x="178" y="0"/>
                </a:cubicBezTo>
                <a:close/>
                <a:moveTo>
                  <a:pt x="179" y="22"/>
                </a:moveTo>
                <a:cubicBezTo>
                  <a:pt x="198" y="27"/>
                  <a:pt x="216" y="32"/>
                  <a:pt x="235" y="37"/>
                </a:cubicBezTo>
                <a:cubicBezTo>
                  <a:pt x="116" y="131"/>
                  <a:pt x="116" y="131"/>
                  <a:pt x="116" y="131"/>
                </a:cubicBezTo>
                <a:cubicBezTo>
                  <a:pt x="92" y="124"/>
                  <a:pt x="68" y="117"/>
                  <a:pt x="43" y="110"/>
                </a:cubicBezTo>
                <a:lnTo>
                  <a:pt x="179" y="22"/>
                </a:lnTo>
                <a:close/>
                <a:moveTo>
                  <a:pt x="291" y="51"/>
                </a:moveTo>
                <a:cubicBezTo>
                  <a:pt x="316" y="57"/>
                  <a:pt x="341" y="63"/>
                  <a:pt x="366" y="70"/>
                </a:cubicBezTo>
                <a:cubicBezTo>
                  <a:pt x="246" y="171"/>
                  <a:pt x="246" y="171"/>
                  <a:pt x="246" y="171"/>
                </a:cubicBezTo>
                <a:cubicBezTo>
                  <a:pt x="221" y="163"/>
                  <a:pt x="197" y="156"/>
                  <a:pt x="173" y="149"/>
                </a:cubicBezTo>
                <a:lnTo>
                  <a:pt x="291" y="51"/>
                </a:lnTo>
                <a:close/>
                <a:moveTo>
                  <a:pt x="378" y="92"/>
                </a:moveTo>
                <a:cubicBezTo>
                  <a:pt x="377" y="249"/>
                  <a:pt x="377" y="249"/>
                  <a:pt x="377" y="249"/>
                </a:cubicBezTo>
                <a:cubicBezTo>
                  <a:pt x="263" y="360"/>
                  <a:pt x="263" y="360"/>
                  <a:pt x="263" y="360"/>
                </a:cubicBezTo>
                <a:cubicBezTo>
                  <a:pt x="261" y="190"/>
                  <a:pt x="261" y="190"/>
                  <a:pt x="261" y="190"/>
                </a:cubicBezTo>
                <a:lnTo>
                  <a:pt x="378" y="92"/>
                </a:lnTo>
                <a:close/>
                <a:moveTo>
                  <a:pt x="23" y="129"/>
                </a:moveTo>
                <a:cubicBezTo>
                  <a:pt x="103" y="153"/>
                  <a:pt x="103" y="153"/>
                  <a:pt x="103" y="153"/>
                </a:cubicBezTo>
                <a:cubicBezTo>
                  <a:pt x="103" y="212"/>
                  <a:pt x="103" y="212"/>
                  <a:pt x="103" y="212"/>
                </a:cubicBezTo>
                <a:cubicBezTo>
                  <a:pt x="117" y="211"/>
                  <a:pt x="117" y="211"/>
                  <a:pt x="117" y="211"/>
                </a:cubicBezTo>
                <a:cubicBezTo>
                  <a:pt x="127" y="218"/>
                  <a:pt x="127" y="218"/>
                  <a:pt x="127" y="218"/>
                </a:cubicBezTo>
                <a:cubicBezTo>
                  <a:pt x="142" y="216"/>
                  <a:pt x="142" y="216"/>
                  <a:pt x="142" y="216"/>
                </a:cubicBezTo>
                <a:cubicBezTo>
                  <a:pt x="161" y="228"/>
                  <a:pt x="161" y="228"/>
                  <a:pt x="161" y="228"/>
                </a:cubicBezTo>
                <a:cubicBezTo>
                  <a:pt x="161" y="170"/>
                  <a:pt x="161" y="170"/>
                  <a:pt x="161" y="170"/>
                </a:cubicBezTo>
                <a:cubicBezTo>
                  <a:pt x="236" y="193"/>
                  <a:pt x="236" y="193"/>
                  <a:pt x="236" y="193"/>
                </a:cubicBezTo>
                <a:cubicBezTo>
                  <a:pt x="238" y="368"/>
                  <a:pt x="238" y="368"/>
                  <a:pt x="238" y="368"/>
                </a:cubicBezTo>
                <a:cubicBezTo>
                  <a:pt x="32" y="299"/>
                  <a:pt x="32" y="299"/>
                  <a:pt x="32" y="299"/>
                </a:cubicBezTo>
                <a:lnTo>
                  <a:pt x="23" y="129"/>
                </a:lnTo>
                <a:close/>
                <a:moveTo>
                  <a:pt x="349" y="170"/>
                </a:moveTo>
                <a:cubicBezTo>
                  <a:pt x="339" y="201"/>
                  <a:pt x="339" y="201"/>
                  <a:pt x="339" y="201"/>
                </a:cubicBezTo>
                <a:cubicBezTo>
                  <a:pt x="359" y="182"/>
                  <a:pt x="359" y="182"/>
                  <a:pt x="359" y="182"/>
                </a:cubicBezTo>
                <a:lnTo>
                  <a:pt x="349" y="170"/>
                </a:lnTo>
                <a:close/>
                <a:moveTo>
                  <a:pt x="354" y="191"/>
                </a:moveTo>
                <a:cubicBezTo>
                  <a:pt x="343" y="201"/>
                  <a:pt x="343" y="201"/>
                  <a:pt x="343" y="201"/>
                </a:cubicBezTo>
                <a:cubicBezTo>
                  <a:pt x="343" y="242"/>
                  <a:pt x="343" y="242"/>
                  <a:pt x="343" y="242"/>
                </a:cubicBezTo>
                <a:cubicBezTo>
                  <a:pt x="354" y="231"/>
                  <a:pt x="354" y="231"/>
                  <a:pt x="354" y="231"/>
                </a:cubicBezTo>
                <a:lnTo>
                  <a:pt x="354" y="191"/>
                </a:lnTo>
                <a:close/>
                <a:moveTo>
                  <a:pt x="323" y="196"/>
                </a:moveTo>
                <a:cubicBezTo>
                  <a:pt x="312" y="227"/>
                  <a:pt x="312" y="227"/>
                  <a:pt x="312" y="227"/>
                </a:cubicBezTo>
                <a:cubicBezTo>
                  <a:pt x="333" y="207"/>
                  <a:pt x="333" y="207"/>
                  <a:pt x="333" y="207"/>
                </a:cubicBezTo>
                <a:lnTo>
                  <a:pt x="323" y="196"/>
                </a:lnTo>
                <a:close/>
                <a:moveTo>
                  <a:pt x="328" y="216"/>
                </a:moveTo>
                <a:cubicBezTo>
                  <a:pt x="317" y="227"/>
                  <a:pt x="317" y="227"/>
                  <a:pt x="317" y="227"/>
                </a:cubicBezTo>
                <a:cubicBezTo>
                  <a:pt x="317" y="267"/>
                  <a:pt x="317" y="267"/>
                  <a:pt x="317" y="267"/>
                </a:cubicBezTo>
                <a:cubicBezTo>
                  <a:pt x="328" y="257"/>
                  <a:pt x="328" y="257"/>
                  <a:pt x="328" y="257"/>
                </a:cubicBezTo>
                <a:lnTo>
                  <a:pt x="328" y="216"/>
                </a:lnTo>
                <a:close/>
                <a:moveTo>
                  <a:pt x="363" y="229"/>
                </a:moveTo>
                <a:cubicBezTo>
                  <a:pt x="309" y="282"/>
                  <a:pt x="309" y="282"/>
                  <a:pt x="309" y="282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3" y="241"/>
                  <a:pt x="363" y="241"/>
                  <a:pt x="363" y="241"/>
                </a:cubicBezTo>
                <a:lnTo>
                  <a:pt x="363" y="229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9"/>
          <p:cNvSpPr/>
          <p:nvPr/>
        </p:nvSpPr>
        <p:spPr>
          <a:xfrm>
            <a:off x="6475320" y="3349800"/>
            <a:ext cx="527040" cy="506160"/>
          </a:xfrm>
          <a:custGeom>
            <a:avLst/>
            <a:gdLst>
              <a:gd name="textAreaLeft" fmla="*/ 0 w 527040"/>
              <a:gd name="textAreaRight" fmla="*/ 527400 w 5270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28" h="123">
                <a:moveTo>
                  <a:pt x="98" y="71"/>
                </a:moveTo>
                <a:cubicBezTo>
                  <a:pt x="127" y="71"/>
                  <a:pt x="127" y="71"/>
                  <a:pt x="127" y="71"/>
                </a:cubicBezTo>
                <a:cubicBezTo>
                  <a:pt x="128" y="69"/>
                  <a:pt x="128" y="66"/>
                  <a:pt x="128" y="64"/>
                </a:cubicBezTo>
                <a:cubicBezTo>
                  <a:pt x="128" y="54"/>
                  <a:pt x="125" y="45"/>
                  <a:pt x="120" y="37"/>
                </a:cubicBezTo>
                <a:cubicBezTo>
                  <a:pt x="125" y="24"/>
                  <a:pt x="125" y="13"/>
                  <a:pt x="118" y="6"/>
                </a:cubicBezTo>
                <a:cubicBezTo>
                  <a:pt x="112" y="0"/>
                  <a:pt x="96" y="1"/>
                  <a:pt x="77" y="10"/>
                </a:cubicBezTo>
                <a:cubicBezTo>
                  <a:pt x="75" y="9"/>
                  <a:pt x="74" y="9"/>
                  <a:pt x="73" y="9"/>
                </a:cubicBezTo>
                <a:cubicBezTo>
                  <a:pt x="47" y="9"/>
                  <a:pt x="25" y="27"/>
                  <a:pt x="19" y="51"/>
                </a:cubicBezTo>
                <a:cubicBezTo>
                  <a:pt x="27" y="41"/>
                  <a:pt x="36" y="33"/>
                  <a:pt x="47" y="28"/>
                </a:cubicBezTo>
                <a:cubicBezTo>
                  <a:pt x="46" y="29"/>
                  <a:pt x="40" y="35"/>
                  <a:pt x="39" y="36"/>
                </a:cubicBezTo>
                <a:cubicBezTo>
                  <a:pt x="9" y="66"/>
                  <a:pt x="0" y="105"/>
                  <a:pt x="10" y="115"/>
                </a:cubicBezTo>
                <a:cubicBezTo>
                  <a:pt x="18" y="123"/>
                  <a:pt x="32" y="121"/>
                  <a:pt x="48" y="113"/>
                </a:cubicBezTo>
                <a:cubicBezTo>
                  <a:pt x="55" y="117"/>
                  <a:pt x="64" y="119"/>
                  <a:pt x="73" y="119"/>
                </a:cubicBezTo>
                <a:cubicBezTo>
                  <a:pt x="97" y="119"/>
                  <a:pt x="117" y="104"/>
                  <a:pt x="125" y="82"/>
                </a:cubicBezTo>
                <a:cubicBezTo>
                  <a:pt x="95" y="82"/>
                  <a:pt x="95" y="82"/>
                  <a:pt x="95" y="82"/>
                </a:cubicBezTo>
                <a:cubicBezTo>
                  <a:pt x="91" y="90"/>
                  <a:pt x="83" y="95"/>
                  <a:pt x="74" y="95"/>
                </a:cubicBezTo>
                <a:cubicBezTo>
                  <a:pt x="64" y="95"/>
                  <a:pt x="56" y="90"/>
                  <a:pt x="52" y="82"/>
                </a:cubicBezTo>
                <a:cubicBezTo>
                  <a:pt x="51" y="79"/>
                  <a:pt x="50" y="75"/>
                  <a:pt x="50" y="71"/>
                </a:cubicBezTo>
                <a:cubicBezTo>
                  <a:pt x="50" y="71"/>
                  <a:pt x="50" y="71"/>
                  <a:pt x="50" y="71"/>
                </a:cubicBezTo>
                <a:cubicBezTo>
                  <a:pt x="98" y="71"/>
                  <a:pt x="98" y="71"/>
                  <a:pt x="98" y="71"/>
                </a:cubicBezTo>
                <a:close/>
                <a:moveTo>
                  <a:pt x="50" y="56"/>
                </a:moveTo>
                <a:cubicBezTo>
                  <a:pt x="50" y="44"/>
                  <a:pt x="60" y="34"/>
                  <a:pt x="73" y="34"/>
                </a:cubicBezTo>
                <a:cubicBezTo>
                  <a:pt x="85" y="34"/>
                  <a:pt x="95" y="44"/>
                  <a:pt x="96" y="56"/>
                </a:cubicBezTo>
                <a:lnTo>
                  <a:pt x="50" y="56"/>
                </a:lnTo>
                <a:close/>
                <a:moveTo>
                  <a:pt x="118" y="12"/>
                </a:moveTo>
                <a:cubicBezTo>
                  <a:pt x="122" y="17"/>
                  <a:pt x="122" y="25"/>
                  <a:pt x="119" y="34"/>
                </a:cubicBezTo>
                <a:cubicBezTo>
                  <a:pt x="112" y="25"/>
                  <a:pt x="104" y="17"/>
                  <a:pt x="93" y="13"/>
                </a:cubicBezTo>
                <a:cubicBezTo>
                  <a:pt x="104" y="8"/>
                  <a:pt x="113" y="8"/>
                  <a:pt x="118" y="12"/>
                </a:cubicBezTo>
                <a:close/>
                <a:moveTo>
                  <a:pt x="18" y="113"/>
                </a:moveTo>
                <a:cubicBezTo>
                  <a:pt x="12" y="108"/>
                  <a:pt x="14" y="96"/>
                  <a:pt x="21" y="83"/>
                </a:cubicBezTo>
                <a:cubicBezTo>
                  <a:pt x="25" y="95"/>
                  <a:pt x="33" y="105"/>
                  <a:pt x="44" y="111"/>
                </a:cubicBezTo>
                <a:cubicBezTo>
                  <a:pt x="32" y="117"/>
                  <a:pt x="23" y="118"/>
                  <a:pt x="18" y="113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组合 40" descr=""/>
          <p:cNvPicPr/>
          <p:nvPr/>
        </p:nvPicPr>
        <p:blipFill>
          <a:blip r:embed="rId6"/>
          <a:stretch/>
        </p:blipFill>
        <p:spPr>
          <a:xfrm>
            <a:off x="7974000" y="3303720"/>
            <a:ext cx="731880" cy="51264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9"/>
          <p:cNvSpPr/>
          <p:nvPr/>
        </p:nvSpPr>
        <p:spPr>
          <a:xfrm>
            <a:off x="4965840" y="4222800"/>
            <a:ext cx="415800" cy="512640"/>
          </a:xfrm>
          <a:custGeom>
            <a:avLst/>
            <a:gdLst>
              <a:gd name="textAreaLeft" fmla="*/ 0 w 415800"/>
              <a:gd name="textAreaRight" fmla="*/ 416160 w 4158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1664" h="2048">
                <a:moveTo>
                  <a:pt x="1472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472" y="2048"/>
                  <a:pt x="1472" y="2048"/>
                  <a:pt x="1472" y="2048"/>
                </a:cubicBezTo>
                <a:cubicBezTo>
                  <a:pt x="1578" y="2048"/>
                  <a:pt x="1664" y="1962"/>
                  <a:pt x="1664" y="1856"/>
                </a:cubicBezTo>
                <a:cubicBezTo>
                  <a:pt x="1664" y="192"/>
                  <a:pt x="1664" y="192"/>
                  <a:pt x="1664" y="192"/>
                </a:cubicBezTo>
                <a:cubicBezTo>
                  <a:pt x="1664" y="86"/>
                  <a:pt x="1578" y="0"/>
                  <a:pt x="1472" y="0"/>
                </a:cubicBezTo>
                <a:close/>
                <a:moveTo>
                  <a:pt x="832" y="1984"/>
                </a:moveTo>
                <a:cubicBezTo>
                  <a:pt x="797" y="1984"/>
                  <a:pt x="768" y="1955"/>
                  <a:pt x="768" y="1920"/>
                </a:cubicBezTo>
                <a:cubicBezTo>
                  <a:pt x="768" y="1885"/>
                  <a:pt x="797" y="1856"/>
                  <a:pt x="832" y="1856"/>
                </a:cubicBezTo>
                <a:cubicBezTo>
                  <a:pt x="867" y="1856"/>
                  <a:pt x="896" y="1885"/>
                  <a:pt x="896" y="1920"/>
                </a:cubicBezTo>
                <a:cubicBezTo>
                  <a:pt x="896" y="1955"/>
                  <a:pt x="867" y="1984"/>
                  <a:pt x="832" y="1984"/>
                </a:cubicBezTo>
                <a:close/>
                <a:moveTo>
                  <a:pt x="1408" y="1792"/>
                </a:moveTo>
                <a:cubicBezTo>
                  <a:pt x="256" y="1792"/>
                  <a:pt x="256" y="1792"/>
                  <a:pt x="256" y="1792"/>
                </a:cubicBezTo>
                <a:cubicBezTo>
                  <a:pt x="256" y="256"/>
                  <a:pt x="256" y="256"/>
                  <a:pt x="256" y="256"/>
                </a:cubicBezTo>
                <a:cubicBezTo>
                  <a:pt x="1408" y="256"/>
                  <a:pt x="1408" y="256"/>
                  <a:pt x="1408" y="256"/>
                </a:cubicBezTo>
                <a:lnTo>
                  <a:pt x="1408" y="1792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5"/>
          <p:cNvSpPr/>
          <p:nvPr/>
        </p:nvSpPr>
        <p:spPr>
          <a:xfrm>
            <a:off x="487440" y="4238640"/>
            <a:ext cx="338040" cy="506520"/>
          </a:xfrm>
          <a:custGeom>
            <a:avLst/>
            <a:gdLst>
              <a:gd name="textAreaLeft" fmla="*/ 0 w 338040"/>
              <a:gd name="textAreaRight" fmla="*/ 338400 w 3380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172" h="1759">
                <a:moveTo>
                  <a:pt x="461" y="414"/>
                </a:moveTo>
                <a:cubicBezTo>
                  <a:pt x="359" y="413"/>
                  <a:pt x="266" y="412"/>
                  <a:pt x="169" y="411"/>
                </a:cubicBezTo>
                <a:cubicBezTo>
                  <a:pt x="307" y="273"/>
                  <a:pt x="443" y="137"/>
                  <a:pt x="580" y="0"/>
                </a:cubicBezTo>
                <a:cubicBezTo>
                  <a:pt x="717" y="138"/>
                  <a:pt x="855" y="275"/>
                  <a:pt x="993" y="413"/>
                </a:cubicBezTo>
                <a:cubicBezTo>
                  <a:pt x="899" y="413"/>
                  <a:pt x="807" y="413"/>
                  <a:pt x="717" y="413"/>
                </a:cubicBezTo>
                <a:cubicBezTo>
                  <a:pt x="717" y="506"/>
                  <a:pt x="717" y="593"/>
                  <a:pt x="717" y="682"/>
                </a:cubicBezTo>
                <a:cubicBezTo>
                  <a:pt x="751" y="697"/>
                  <a:pt x="789" y="711"/>
                  <a:pt x="824" y="730"/>
                </a:cubicBezTo>
                <a:cubicBezTo>
                  <a:pt x="1090" y="871"/>
                  <a:pt x="1172" y="1230"/>
                  <a:pt x="995" y="1472"/>
                </a:cubicBezTo>
                <a:cubicBezTo>
                  <a:pt x="825" y="1705"/>
                  <a:pt x="515" y="1759"/>
                  <a:pt x="281" y="1594"/>
                </a:cubicBezTo>
                <a:cubicBezTo>
                  <a:pt x="43" y="1426"/>
                  <a:pt x="0" y="1107"/>
                  <a:pt x="158" y="883"/>
                </a:cubicBezTo>
                <a:cubicBezTo>
                  <a:pt x="228" y="784"/>
                  <a:pt x="322" y="718"/>
                  <a:pt x="439" y="685"/>
                </a:cubicBezTo>
                <a:cubicBezTo>
                  <a:pt x="452" y="681"/>
                  <a:pt x="457" y="676"/>
                  <a:pt x="457" y="662"/>
                </a:cubicBezTo>
                <a:cubicBezTo>
                  <a:pt x="457" y="580"/>
                  <a:pt x="459" y="498"/>
                  <a:pt x="461" y="414"/>
                </a:cubicBezTo>
                <a:close/>
                <a:moveTo>
                  <a:pt x="394" y="1356"/>
                </a:moveTo>
                <a:cubicBezTo>
                  <a:pt x="488" y="1455"/>
                  <a:pt x="651" y="1458"/>
                  <a:pt x="753" y="1363"/>
                </a:cubicBezTo>
                <a:cubicBezTo>
                  <a:pt x="856" y="1266"/>
                  <a:pt x="860" y="1104"/>
                  <a:pt x="762" y="1000"/>
                </a:cubicBezTo>
                <a:cubicBezTo>
                  <a:pt x="668" y="899"/>
                  <a:pt x="503" y="895"/>
                  <a:pt x="403" y="989"/>
                </a:cubicBezTo>
                <a:cubicBezTo>
                  <a:pt x="297" y="1089"/>
                  <a:pt x="293" y="1249"/>
                  <a:pt x="394" y="1356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5"/>
          <p:cNvSpPr/>
          <p:nvPr/>
        </p:nvSpPr>
        <p:spPr>
          <a:xfrm>
            <a:off x="3478320" y="4281480"/>
            <a:ext cx="311040" cy="498600"/>
          </a:xfrm>
          <a:custGeom>
            <a:avLst/>
            <a:gdLst>
              <a:gd name="textAreaLeft" fmla="*/ 0 w 311040"/>
              <a:gd name="textAreaRight" fmla="*/ 311400 w 3110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280" h="2048">
                <a:moveTo>
                  <a:pt x="1088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088" y="2048"/>
                  <a:pt x="1088" y="2048"/>
                  <a:pt x="1088" y="2048"/>
                </a:cubicBezTo>
                <a:cubicBezTo>
                  <a:pt x="1194" y="2048"/>
                  <a:pt x="1280" y="1962"/>
                  <a:pt x="1280" y="1856"/>
                </a:cubicBezTo>
                <a:cubicBezTo>
                  <a:pt x="1280" y="192"/>
                  <a:pt x="1280" y="192"/>
                  <a:pt x="1280" y="192"/>
                </a:cubicBezTo>
                <a:cubicBezTo>
                  <a:pt x="1280" y="86"/>
                  <a:pt x="1194" y="0"/>
                  <a:pt x="1088" y="0"/>
                </a:cubicBezTo>
                <a:close/>
                <a:moveTo>
                  <a:pt x="384" y="96"/>
                </a:moveTo>
                <a:cubicBezTo>
                  <a:pt x="896" y="96"/>
                  <a:pt x="896" y="96"/>
                  <a:pt x="896" y="96"/>
                </a:cubicBezTo>
                <a:cubicBezTo>
                  <a:pt x="896" y="160"/>
                  <a:pt x="896" y="160"/>
                  <a:pt x="896" y="160"/>
                </a:cubicBezTo>
                <a:cubicBezTo>
                  <a:pt x="384" y="160"/>
                  <a:pt x="384" y="160"/>
                  <a:pt x="384" y="160"/>
                </a:cubicBezTo>
                <a:lnTo>
                  <a:pt x="384" y="96"/>
                </a:lnTo>
                <a:close/>
                <a:moveTo>
                  <a:pt x="640" y="1920"/>
                </a:moveTo>
                <a:cubicBezTo>
                  <a:pt x="569" y="1920"/>
                  <a:pt x="512" y="1863"/>
                  <a:pt x="512" y="1792"/>
                </a:cubicBezTo>
                <a:cubicBezTo>
                  <a:pt x="512" y="1721"/>
                  <a:pt x="569" y="1664"/>
                  <a:pt x="640" y="1664"/>
                </a:cubicBezTo>
                <a:cubicBezTo>
                  <a:pt x="711" y="1664"/>
                  <a:pt x="768" y="1721"/>
                  <a:pt x="768" y="1792"/>
                </a:cubicBezTo>
                <a:cubicBezTo>
                  <a:pt x="768" y="1863"/>
                  <a:pt x="711" y="1920"/>
                  <a:pt x="640" y="1920"/>
                </a:cubicBezTo>
                <a:close/>
                <a:moveTo>
                  <a:pt x="1152" y="1536"/>
                </a:moveTo>
                <a:cubicBezTo>
                  <a:pt x="128" y="1536"/>
                  <a:pt x="128" y="1536"/>
                  <a:pt x="128" y="1536"/>
                </a:cubicBezTo>
                <a:cubicBezTo>
                  <a:pt x="128" y="256"/>
                  <a:pt x="128" y="256"/>
                  <a:pt x="128" y="256"/>
                </a:cubicBezTo>
                <a:cubicBezTo>
                  <a:pt x="1152" y="256"/>
                  <a:pt x="1152" y="256"/>
                  <a:pt x="1152" y="256"/>
                </a:cubicBezTo>
                <a:lnTo>
                  <a:pt x="1152" y="1536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1"/>
          <p:cNvSpPr/>
          <p:nvPr/>
        </p:nvSpPr>
        <p:spPr>
          <a:xfrm>
            <a:off x="2011320" y="4238640"/>
            <a:ext cx="304920" cy="504720"/>
          </a:xfrm>
          <a:custGeom>
            <a:avLst/>
            <a:gdLst>
              <a:gd name="textAreaLeft" fmla="*/ 0 w 304920"/>
              <a:gd name="textAreaRight" fmla="*/ 305280 w 304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1068" h="1769">
                <a:moveTo>
                  <a:pt x="414" y="1048"/>
                </a:moveTo>
                <a:cubicBezTo>
                  <a:pt x="350" y="1031"/>
                  <a:pt x="290" y="1004"/>
                  <a:pt x="239" y="963"/>
                </a:cubicBezTo>
                <a:cubicBezTo>
                  <a:pt x="66" y="826"/>
                  <a:pt x="0" y="648"/>
                  <a:pt x="48" y="432"/>
                </a:cubicBezTo>
                <a:cubicBezTo>
                  <a:pt x="92" y="235"/>
                  <a:pt x="257" y="85"/>
                  <a:pt x="458" y="50"/>
                </a:cubicBezTo>
                <a:cubicBezTo>
                  <a:pt x="753" y="0"/>
                  <a:pt x="1028" y="211"/>
                  <a:pt x="1052" y="509"/>
                </a:cubicBezTo>
                <a:cubicBezTo>
                  <a:pt x="1068" y="713"/>
                  <a:pt x="987" y="873"/>
                  <a:pt x="818" y="986"/>
                </a:cubicBezTo>
                <a:cubicBezTo>
                  <a:pt x="779" y="1012"/>
                  <a:pt x="732" y="1026"/>
                  <a:pt x="688" y="1045"/>
                </a:cubicBezTo>
                <a:cubicBezTo>
                  <a:pt x="679" y="1049"/>
                  <a:pt x="673" y="1051"/>
                  <a:pt x="674" y="1062"/>
                </a:cubicBezTo>
                <a:cubicBezTo>
                  <a:pt x="674" y="1124"/>
                  <a:pt x="674" y="1186"/>
                  <a:pt x="674" y="1248"/>
                </a:cubicBezTo>
                <a:cubicBezTo>
                  <a:pt x="674" y="1252"/>
                  <a:pt x="675" y="1255"/>
                  <a:pt x="676" y="1260"/>
                </a:cubicBezTo>
                <a:cubicBezTo>
                  <a:pt x="760" y="1260"/>
                  <a:pt x="844" y="1260"/>
                  <a:pt x="929" y="1260"/>
                </a:cubicBezTo>
                <a:cubicBezTo>
                  <a:pt x="929" y="1346"/>
                  <a:pt x="929" y="1429"/>
                  <a:pt x="929" y="1515"/>
                </a:cubicBezTo>
                <a:cubicBezTo>
                  <a:pt x="844" y="1515"/>
                  <a:pt x="760" y="1515"/>
                  <a:pt x="675" y="1515"/>
                </a:cubicBezTo>
                <a:cubicBezTo>
                  <a:pt x="675" y="1601"/>
                  <a:pt x="675" y="1684"/>
                  <a:pt x="675" y="1769"/>
                </a:cubicBezTo>
                <a:cubicBezTo>
                  <a:pt x="587" y="1769"/>
                  <a:pt x="503" y="1769"/>
                  <a:pt x="416" y="1769"/>
                </a:cubicBezTo>
                <a:cubicBezTo>
                  <a:pt x="416" y="1685"/>
                  <a:pt x="416" y="1602"/>
                  <a:pt x="416" y="1516"/>
                </a:cubicBezTo>
                <a:cubicBezTo>
                  <a:pt x="330" y="1516"/>
                  <a:pt x="246" y="1516"/>
                  <a:pt x="161" y="1516"/>
                </a:cubicBezTo>
                <a:cubicBezTo>
                  <a:pt x="161" y="1430"/>
                  <a:pt x="161" y="1346"/>
                  <a:pt x="161" y="1260"/>
                </a:cubicBezTo>
                <a:cubicBezTo>
                  <a:pt x="245" y="1260"/>
                  <a:pt x="329" y="1260"/>
                  <a:pt x="414" y="1260"/>
                </a:cubicBezTo>
                <a:cubicBezTo>
                  <a:pt x="414" y="1189"/>
                  <a:pt x="414" y="1120"/>
                  <a:pt x="414" y="1048"/>
                </a:cubicBezTo>
                <a:close/>
                <a:moveTo>
                  <a:pt x="545" y="299"/>
                </a:moveTo>
                <a:cubicBezTo>
                  <a:pt x="404" y="298"/>
                  <a:pt x="289" y="412"/>
                  <a:pt x="288" y="553"/>
                </a:cubicBezTo>
                <a:cubicBezTo>
                  <a:pt x="287" y="693"/>
                  <a:pt x="402" y="808"/>
                  <a:pt x="543" y="810"/>
                </a:cubicBezTo>
                <a:cubicBezTo>
                  <a:pt x="682" y="812"/>
                  <a:pt x="799" y="695"/>
                  <a:pt x="800" y="555"/>
                </a:cubicBezTo>
                <a:cubicBezTo>
                  <a:pt x="801" y="415"/>
                  <a:pt x="686" y="299"/>
                  <a:pt x="545" y="299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组合 49" descr=""/>
          <p:cNvPicPr/>
          <p:nvPr/>
        </p:nvPicPr>
        <p:blipFill>
          <a:blip r:embed="rId7"/>
          <a:stretch/>
        </p:blipFill>
        <p:spPr>
          <a:xfrm>
            <a:off x="6437160" y="4290840"/>
            <a:ext cx="596880" cy="50040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52" descr=""/>
          <p:cNvPicPr/>
          <p:nvPr/>
        </p:nvPicPr>
        <p:blipFill>
          <a:blip r:embed="rId8"/>
          <a:stretch/>
        </p:blipFill>
        <p:spPr>
          <a:xfrm>
            <a:off x="8047080" y="4200480"/>
            <a:ext cx="584280" cy="504720"/>
          </a:xfrm>
          <a:prstGeom prst="rect">
            <a:avLst/>
          </a:prstGeom>
          <a:ln w="0">
            <a:noFill/>
          </a:ln>
        </p:spPr>
      </p:pic>
      <p:sp>
        <p:nvSpPr>
          <p:cNvPr id="1018" name="Freeform 853"/>
          <p:cNvSpPr/>
          <p:nvPr/>
        </p:nvSpPr>
        <p:spPr>
          <a:xfrm>
            <a:off x="4859280" y="2473200"/>
            <a:ext cx="628560" cy="498600"/>
          </a:xfrm>
          <a:custGeom>
            <a:avLst/>
            <a:gdLst>
              <a:gd name="textAreaLeft" fmla="*/ 0 w 628560"/>
              <a:gd name="textAreaRight" fmla="*/ 628920 w 6285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3231" h="2637">
                <a:moveTo>
                  <a:pt x="81" y="1458"/>
                </a:moveTo>
                <a:lnTo>
                  <a:pt x="133" y="1580"/>
                </a:lnTo>
                <a:lnTo>
                  <a:pt x="256" y="1598"/>
                </a:lnTo>
                <a:lnTo>
                  <a:pt x="337" y="1545"/>
                </a:lnTo>
                <a:lnTo>
                  <a:pt x="337" y="1638"/>
                </a:lnTo>
                <a:lnTo>
                  <a:pt x="273" y="1767"/>
                </a:lnTo>
                <a:lnTo>
                  <a:pt x="261" y="1807"/>
                </a:lnTo>
                <a:lnTo>
                  <a:pt x="302" y="1911"/>
                </a:lnTo>
                <a:lnTo>
                  <a:pt x="343" y="1946"/>
                </a:lnTo>
                <a:lnTo>
                  <a:pt x="400" y="1958"/>
                </a:lnTo>
                <a:lnTo>
                  <a:pt x="540" y="2011"/>
                </a:lnTo>
                <a:lnTo>
                  <a:pt x="651" y="2103"/>
                </a:lnTo>
                <a:lnTo>
                  <a:pt x="767" y="2080"/>
                </a:lnTo>
                <a:lnTo>
                  <a:pt x="791" y="2150"/>
                </a:lnTo>
                <a:lnTo>
                  <a:pt x="901" y="2150"/>
                </a:lnTo>
                <a:lnTo>
                  <a:pt x="1017" y="2150"/>
                </a:lnTo>
                <a:lnTo>
                  <a:pt x="1133" y="2126"/>
                </a:lnTo>
                <a:lnTo>
                  <a:pt x="1220" y="2056"/>
                </a:lnTo>
                <a:lnTo>
                  <a:pt x="1307" y="2056"/>
                </a:lnTo>
                <a:lnTo>
                  <a:pt x="1307" y="2103"/>
                </a:lnTo>
                <a:lnTo>
                  <a:pt x="1471" y="2150"/>
                </a:lnTo>
                <a:lnTo>
                  <a:pt x="1517" y="2260"/>
                </a:lnTo>
                <a:lnTo>
                  <a:pt x="1517" y="2341"/>
                </a:lnTo>
                <a:lnTo>
                  <a:pt x="1581" y="2405"/>
                </a:lnTo>
                <a:lnTo>
                  <a:pt x="1668" y="2422"/>
                </a:lnTo>
                <a:lnTo>
                  <a:pt x="1691" y="2527"/>
                </a:lnTo>
                <a:lnTo>
                  <a:pt x="1743" y="2544"/>
                </a:lnTo>
                <a:lnTo>
                  <a:pt x="1865" y="2475"/>
                </a:lnTo>
                <a:lnTo>
                  <a:pt x="1935" y="2480"/>
                </a:lnTo>
                <a:lnTo>
                  <a:pt x="1941" y="2527"/>
                </a:lnTo>
                <a:lnTo>
                  <a:pt x="1988" y="2567"/>
                </a:lnTo>
                <a:lnTo>
                  <a:pt x="2075" y="2550"/>
                </a:lnTo>
                <a:lnTo>
                  <a:pt x="2104" y="2637"/>
                </a:lnTo>
                <a:lnTo>
                  <a:pt x="2167" y="2637"/>
                </a:lnTo>
                <a:lnTo>
                  <a:pt x="2167" y="2567"/>
                </a:lnTo>
                <a:lnTo>
                  <a:pt x="2279" y="2550"/>
                </a:lnTo>
                <a:lnTo>
                  <a:pt x="2324" y="2480"/>
                </a:lnTo>
                <a:lnTo>
                  <a:pt x="2394" y="2504"/>
                </a:lnTo>
                <a:lnTo>
                  <a:pt x="2505" y="2434"/>
                </a:lnTo>
                <a:lnTo>
                  <a:pt x="2638" y="2283"/>
                </a:lnTo>
                <a:lnTo>
                  <a:pt x="2638" y="2236"/>
                </a:lnTo>
                <a:lnTo>
                  <a:pt x="2685" y="2213"/>
                </a:lnTo>
                <a:lnTo>
                  <a:pt x="2715" y="2126"/>
                </a:lnTo>
                <a:lnTo>
                  <a:pt x="2755" y="2011"/>
                </a:lnTo>
                <a:lnTo>
                  <a:pt x="2755" y="1987"/>
                </a:lnTo>
                <a:lnTo>
                  <a:pt x="2685" y="2011"/>
                </a:lnTo>
                <a:lnTo>
                  <a:pt x="2638" y="1946"/>
                </a:lnTo>
                <a:lnTo>
                  <a:pt x="2668" y="1899"/>
                </a:lnTo>
                <a:lnTo>
                  <a:pt x="2621" y="1830"/>
                </a:lnTo>
                <a:lnTo>
                  <a:pt x="2715" y="1830"/>
                </a:lnTo>
                <a:lnTo>
                  <a:pt x="2685" y="1767"/>
                </a:lnTo>
                <a:lnTo>
                  <a:pt x="2621" y="1650"/>
                </a:lnTo>
                <a:lnTo>
                  <a:pt x="2551" y="1603"/>
                </a:lnTo>
                <a:lnTo>
                  <a:pt x="2551" y="1563"/>
                </a:lnTo>
                <a:lnTo>
                  <a:pt x="2668" y="1446"/>
                </a:lnTo>
                <a:lnTo>
                  <a:pt x="2598" y="1401"/>
                </a:lnTo>
                <a:lnTo>
                  <a:pt x="2575" y="1383"/>
                </a:lnTo>
                <a:lnTo>
                  <a:pt x="2528" y="1446"/>
                </a:lnTo>
                <a:lnTo>
                  <a:pt x="2464" y="1401"/>
                </a:lnTo>
                <a:lnTo>
                  <a:pt x="2418" y="1359"/>
                </a:lnTo>
                <a:lnTo>
                  <a:pt x="2418" y="1289"/>
                </a:lnTo>
                <a:lnTo>
                  <a:pt x="2528" y="1226"/>
                </a:lnTo>
                <a:lnTo>
                  <a:pt x="2598" y="1132"/>
                </a:lnTo>
                <a:lnTo>
                  <a:pt x="2621" y="1156"/>
                </a:lnTo>
                <a:lnTo>
                  <a:pt x="2621" y="1226"/>
                </a:lnTo>
                <a:lnTo>
                  <a:pt x="2621" y="1266"/>
                </a:lnTo>
                <a:lnTo>
                  <a:pt x="2715" y="1226"/>
                </a:lnTo>
                <a:lnTo>
                  <a:pt x="2778" y="1202"/>
                </a:lnTo>
                <a:lnTo>
                  <a:pt x="2848" y="1110"/>
                </a:lnTo>
                <a:lnTo>
                  <a:pt x="2889" y="1063"/>
                </a:lnTo>
                <a:lnTo>
                  <a:pt x="2959" y="1017"/>
                </a:lnTo>
                <a:lnTo>
                  <a:pt x="2982" y="953"/>
                </a:lnTo>
                <a:lnTo>
                  <a:pt x="3045" y="883"/>
                </a:lnTo>
                <a:lnTo>
                  <a:pt x="3045" y="836"/>
                </a:lnTo>
                <a:lnTo>
                  <a:pt x="3069" y="796"/>
                </a:lnTo>
                <a:lnTo>
                  <a:pt x="3092" y="703"/>
                </a:lnTo>
                <a:lnTo>
                  <a:pt x="3161" y="726"/>
                </a:lnTo>
                <a:lnTo>
                  <a:pt x="3231" y="546"/>
                </a:lnTo>
                <a:lnTo>
                  <a:pt x="3184" y="436"/>
                </a:lnTo>
                <a:lnTo>
                  <a:pt x="3080" y="494"/>
                </a:lnTo>
                <a:lnTo>
                  <a:pt x="2959" y="454"/>
                </a:lnTo>
                <a:lnTo>
                  <a:pt x="2959" y="407"/>
                </a:lnTo>
                <a:lnTo>
                  <a:pt x="2889" y="360"/>
                </a:lnTo>
                <a:lnTo>
                  <a:pt x="2778" y="360"/>
                </a:lnTo>
                <a:lnTo>
                  <a:pt x="2638" y="203"/>
                </a:lnTo>
                <a:lnTo>
                  <a:pt x="2621" y="70"/>
                </a:lnTo>
                <a:lnTo>
                  <a:pt x="2528" y="0"/>
                </a:lnTo>
                <a:lnTo>
                  <a:pt x="2279" y="93"/>
                </a:lnTo>
                <a:lnTo>
                  <a:pt x="2348" y="116"/>
                </a:lnTo>
                <a:lnTo>
                  <a:pt x="2324" y="163"/>
                </a:lnTo>
                <a:lnTo>
                  <a:pt x="2324" y="320"/>
                </a:lnTo>
                <a:lnTo>
                  <a:pt x="2214" y="389"/>
                </a:lnTo>
                <a:lnTo>
                  <a:pt x="2167" y="436"/>
                </a:lnTo>
                <a:lnTo>
                  <a:pt x="2167" y="546"/>
                </a:lnTo>
                <a:lnTo>
                  <a:pt x="2279" y="546"/>
                </a:lnTo>
                <a:lnTo>
                  <a:pt x="2324" y="523"/>
                </a:lnTo>
                <a:lnTo>
                  <a:pt x="2371" y="593"/>
                </a:lnTo>
                <a:lnTo>
                  <a:pt x="2371" y="639"/>
                </a:lnTo>
                <a:lnTo>
                  <a:pt x="2371" y="680"/>
                </a:lnTo>
                <a:lnTo>
                  <a:pt x="2301" y="680"/>
                </a:lnTo>
                <a:lnTo>
                  <a:pt x="2167" y="813"/>
                </a:lnTo>
                <a:lnTo>
                  <a:pt x="2010" y="860"/>
                </a:lnTo>
                <a:lnTo>
                  <a:pt x="2010" y="953"/>
                </a:lnTo>
                <a:lnTo>
                  <a:pt x="1900" y="1045"/>
                </a:lnTo>
                <a:lnTo>
                  <a:pt x="1674" y="1110"/>
                </a:lnTo>
                <a:lnTo>
                  <a:pt x="1627" y="1132"/>
                </a:lnTo>
                <a:lnTo>
                  <a:pt x="1424" y="1063"/>
                </a:lnTo>
                <a:lnTo>
                  <a:pt x="1377" y="1045"/>
                </a:lnTo>
                <a:lnTo>
                  <a:pt x="1220" y="1045"/>
                </a:lnTo>
                <a:lnTo>
                  <a:pt x="1063" y="906"/>
                </a:lnTo>
                <a:lnTo>
                  <a:pt x="948" y="906"/>
                </a:lnTo>
                <a:lnTo>
                  <a:pt x="836" y="860"/>
                </a:lnTo>
                <a:lnTo>
                  <a:pt x="836" y="726"/>
                </a:lnTo>
                <a:lnTo>
                  <a:pt x="791" y="656"/>
                </a:lnTo>
                <a:lnTo>
                  <a:pt x="680" y="639"/>
                </a:lnTo>
                <a:lnTo>
                  <a:pt x="634" y="593"/>
                </a:lnTo>
                <a:lnTo>
                  <a:pt x="587" y="680"/>
                </a:lnTo>
                <a:lnTo>
                  <a:pt x="447" y="726"/>
                </a:lnTo>
                <a:lnTo>
                  <a:pt x="383" y="813"/>
                </a:lnTo>
                <a:lnTo>
                  <a:pt x="430" y="883"/>
                </a:lnTo>
                <a:lnTo>
                  <a:pt x="290" y="906"/>
                </a:lnTo>
                <a:lnTo>
                  <a:pt x="360" y="1000"/>
                </a:lnTo>
                <a:lnTo>
                  <a:pt x="360" y="1063"/>
                </a:lnTo>
                <a:lnTo>
                  <a:pt x="273" y="1156"/>
                </a:lnTo>
                <a:lnTo>
                  <a:pt x="203" y="1226"/>
                </a:lnTo>
                <a:lnTo>
                  <a:pt x="116" y="1226"/>
                </a:lnTo>
                <a:lnTo>
                  <a:pt x="0" y="1313"/>
                </a:lnTo>
                <a:lnTo>
                  <a:pt x="81" y="1458"/>
                </a:ln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组合 57" descr=""/>
          <p:cNvPicPr/>
          <p:nvPr/>
        </p:nvPicPr>
        <p:blipFill>
          <a:blip r:embed="rId9"/>
          <a:stretch/>
        </p:blipFill>
        <p:spPr>
          <a:xfrm>
            <a:off x="347760" y="2481120"/>
            <a:ext cx="609480" cy="49392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62" descr=""/>
          <p:cNvPicPr/>
          <p:nvPr/>
        </p:nvPicPr>
        <p:blipFill>
          <a:blip r:embed="rId10"/>
          <a:stretch/>
        </p:blipFill>
        <p:spPr>
          <a:xfrm>
            <a:off x="3548160" y="2457360"/>
            <a:ext cx="169920" cy="505080"/>
          </a:xfrm>
          <a:prstGeom prst="rect">
            <a:avLst/>
          </a:prstGeom>
          <a:ln w="0">
            <a:noFill/>
          </a:ln>
        </p:spPr>
      </p:pic>
      <p:sp>
        <p:nvSpPr>
          <p:cNvPr id="1021" name="Freeform 5"/>
          <p:cNvSpPr/>
          <p:nvPr/>
        </p:nvSpPr>
        <p:spPr>
          <a:xfrm>
            <a:off x="1889280" y="2473200"/>
            <a:ext cx="549000" cy="498600"/>
          </a:xfrm>
          <a:custGeom>
            <a:avLst/>
            <a:gdLst>
              <a:gd name="textAreaLeft" fmla="*/ 0 w 549000"/>
              <a:gd name="textAreaRight" fmla="*/ 549000 w 5490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82" h="619">
                <a:moveTo>
                  <a:pt x="197" y="384"/>
                </a:moveTo>
                <a:cubicBezTo>
                  <a:pt x="197" y="171"/>
                  <a:pt x="197" y="171"/>
                  <a:pt x="197" y="171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32" y="171"/>
                  <a:pt x="0" y="203"/>
                  <a:pt x="0" y="240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6"/>
                  <a:pt x="32" y="512"/>
                  <a:pt x="69" y="512"/>
                </a:cubicBezTo>
                <a:cubicBezTo>
                  <a:pt x="101" y="512"/>
                  <a:pt x="101" y="512"/>
                  <a:pt x="101" y="512"/>
                </a:cubicBezTo>
                <a:cubicBezTo>
                  <a:pt x="101" y="619"/>
                  <a:pt x="101" y="619"/>
                  <a:pt x="101" y="619"/>
                </a:cubicBezTo>
                <a:cubicBezTo>
                  <a:pt x="202" y="512"/>
                  <a:pt x="202" y="512"/>
                  <a:pt x="202" y="512"/>
                </a:cubicBezTo>
                <a:cubicBezTo>
                  <a:pt x="373" y="512"/>
                  <a:pt x="373" y="512"/>
                  <a:pt x="373" y="512"/>
                </a:cubicBezTo>
                <a:cubicBezTo>
                  <a:pt x="410" y="512"/>
                  <a:pt x="442" y="486"/>
                  <a:pt x="442" y="448"/>
                </a:cubicBezTo>
                <a:cubicBezTo>
                  <a:pt x="442" y="384"/>
                  <a:pt x="442" y="384"/>
                  <a:pt x="442" y="384"/>
                </a:cubicBezTo>
                <a:cubicBezTo>
                  <a:pt x="442" y="384"/>
                  <a:pt x="437" y="384"/>
                  <a:pt x="437" y="384"/>
                </a:cubicBezTo>
                <a:cubicBezTo>
                  <a:pt x="197" y="384"/>
                  <a:pt x="197" y="384"/>
                  <a:pt x="197" y="384"/>
                </a:cubicBezTo>
                <a:close/>
                <a:moveTo>
                  <a:pt x="613" y="0"/>
                </a:moveTo>
                <a:cubicBezTo>
                  <a:pt x="309" y="0"/>
                  <a:pt x="309" y="0"/>
                  <a:pt x="309" y="0"/>
                </a:cubicBezTo>
                <a:cubicBezTo>
                  <a:pt x="272" y="0"/>
                  <a:pt x="240" y="32"/>
                  <a:pt x="240" y="70"/>
                </a:cubicBezTo>
                <a:cubicBezTo>
                  <a:pt x="240" y="342"/>
                  <a:pt x="240" y="342"/>
                  <a:pt x="240" y="342"/>
                </a:cubicBezTo>
                <a:cubicBezTo>
                  <a:pt x="480" y="342"/>
                  <a:pt x="480" y="342"/>
                  <a:pt x="480" y="342"/>
                </a:cubicBezTo>
                <a:cubicBezTo>
                  <a:pt x="581" y="448"/>
                  <a:pt x="581" y="448"/>
                  <a:pt x="581" y="448"/>
                </a:cubicBezTo>
                <a:cubicBezTo>
                  <a:pt x="581" y="342"/>
                  <a:pt x="581" y="342"/>
                  <a:pt x="581" y="342"/>
                </a:cubicBezTo>
                <a:cubicBezTo>
                  <a:pt x="613" y="342"/>
                  <a:pt x="613" y="342"/>
                  <a:pt x="613" y="342"/>
                </a:cubicBezTo>
                <a:cubicBezTo>
                  <a:pt x="650" y="342"/>
                  <a:pt x="682" y="315"/>
                  <a:pt x="682" y="278"/>
                </a:cubicBezTo>
                <a:cubicBezTo>
                  <a:pt x="682" y="70"/>
                  <a:pt x="682" y="70"/>
                  <a:pt x="682" y="70"/>
                </a:cubicBezTo>
                <a:cubicBezTo>
                  <a:pt x="682" y="32"/>
                  <a:pt x="650" y="0"/>
                  <a:pt x="613" y="0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任意多边形 66"/>
          <p:cNvSpPr/>
          <p:nvPr/>
        </p:nvSpPr>
        <p:spPr>
          <a:xfrm rot="8100000">
            <a:off x="6525720" y="2511000"/>
            <a:ext cx="424080" cy="422280"/>
          </a:xfrm>
          <a:custGeom>
            <a:avLst/>
            <a:gdLst/>
            <a:ahLst/>
            <a:rect l="l" t="t" r="r" b="b"/>
            <a:pathLst>
              <a:path w="688402" h="688402">
                <a:moveTo>
                  <a:pt x="207083" y="481320"/>
                </a:moveTo>
                <a:cubicBezTo>
                  <a:pt x="283603" y="557840"/>
                  <a:pt x="407668" y="557840"/>
                  <a:pt x="484188" y="481320"/>
                </a:cubicBezTo>
                <a:cubicBezTo>
                  <a:pt x="560708" y="404800"/>
                  <a:pt x="560708" y="280735"/>
                  <a:pt x="484188" y="204215"/>
                </a:cubicBezTo>
                <a:cubicBezTo>
                  <a:pt x="407668" y="127694"/>
                  <a:pt x="283603" y="127694"/>
                  <a:pt x="207083" y="204215"/>
                </a:cubicBezTo>
                <a:cubicBezTo>
                  <a:pt x="130563" y="280735"/>
                  <a:pt x="130563" y="404800"/>
                  <a:pt x="207083" y="481320"/>
                </a:cubicBezTo>
                <a:close/>
                <a:moveTo>
                  <a:pt x="100814" y="587588"/>
                </a:moveTo>
                <a:cubicBezTo>
                  <a:pt x="38526" y="525300"/>
                  <a:pt x="0" y="439249"/>
                  <a:pt x="0" y="344201"/>
                </a:cubicBezTo>
                <a:lnTo>
                  <a:pt x="1" y="344201"/>
                </a:lnTo>
                <a:cubicBezTo>
                  <a:pt x="1" y="154104"/>
                  <a:pt x="154105" y="0"/>
                  <a:pt x="344202" y="0"/>
                </a:cubicBezTo>
                <a:lnTo>
                  <a:pt x="688402" y="0"/>
                </a:lnTo>
                <a:lnTo>
                  <a:pt x="688402" y="344201"/>
                </a:lnTo>
                <a:cubicBezTo>
                  <a:pt x="688402" y="534298"/>
                  <a:pt x="534298" y="688402"/>
                  <a:pt x="344201" y="688402"/>
                </a:cubicBezTo>
                <a:cubicBezTo>
                  <a:pt x="249153" y="688402"/>
                  <a:pt x="163102" y="649876"/>
                  <a:pt x="100814" y="587588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67"/>
          <p:cNvSpPr/>
          <p:nvPr/>
        </p:nvSpPr>
        <p:spPr>
          <a:xfrm>
            <a:off x="970560" y="304920"/>
            <a:ext cx="1967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微软雅黑"/>
              </a:rPr>
              <a:t>模板内使用的图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68"/>
          <p:cNvSpPr/>
          <p:nvPr/>
        </p:nvSpPr>
        <p:spPr>
          <a:xfrm>
            <a:off x="402480" y="803160"/>
            <a:ext cx="2928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icons used in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69"/>
          <p:cNvSpPr/>
          <p:nvPr/>
        </p:nvSpPr>
        <p:spPr>
          <a:xfrm>
            <a:off x="8061480" y="2473200"/>
            <a:ext cx="549000" cy="549360"/>
          </a:xfrm>
          <a:custGeom>
            <a:avLst/>
            <a:gdLst/>
            <a:ahLst/>
            <a:rect l="l" t="t" r="r" b="b"/>
            <a:pathLst>
              <a:path w="732400" h="732400">
                <a:moveTo>
                  <a:pt x="189215" y="434809"/>
                </a:moveTo>
                <a:cubicBezTo>
                  <a:pt x="189215" y="526979"/>
                  <a:pt x="263934" y="601697"/>
                  <a:pt x="356104" y="601697"/>
                </a:cubicBezTo>
                <a:cubicBezTo>
                  <a:pt x="448274" y="601697"/>
                  <a:pt x="522993" y="526979"/>
                  <a:pt x="522993" y="434809"/>
                </a:cubicBezTo>
                <a:cubicBezTo>
                  <a:pt x="508669" y="515761"/>
                  <a:pt x="438314" y="574759"/>
                  <a:pt x="356104" y="574759"/>
                </a:cubicBezTo>
                <a:cubicBezTo>
                  <a:pt x="273894" y="574759"/>
                  <a:pt x="203539" y="515761"/>
                  <a:pt x="189215" y="434809"/>
                </a:cubicBezTo>
                <a:close/>
                <a:moveTo>
                  <a:pt x="505123" y="191364"/>
                </a:moveTo>
                <a:cubicBezTo>
                  <a:pt x="456936" y="191364"/>
                  <a:pt x="417873" y="230427"/>
                  <a:pt x="417873" y="278614"/>
                </a:cubicBezTo>
                <a:cubicBezTo>
                  <a:pt x="417873" y="326801"/>
                  <a:pt x="456936" y="365864"/>
                  <a:pt x="505123" y="365864"/>
                </a:cubicBezTo>
                <a:cubicBezTo>
                  <a:pt x="553310" y="365864"/>
                  <a:pt x="592373" y="326801"/>
                  <a:pt x="592373" y="278614"/>
                </a:cubicBezTo>
                <a:cubicBezTo>
                  <a:pt x="592373" y="230427"/>
                  <a:pt x="553310" y="191364"/>
                  <a:pt x="505123" y="191364"/>
                </a:cubicBezTo>
                <a:close/>
                <a:moveTo>
                  <a:pt x="216189" y="191364"/>
                </a:moveTo>
                <a:cubicBezTo>
                  <a:pt x="168002" y="191364"/>
                  <a:pt x="128939" y="230427"/>
                  <a:pt x="128939" y="278614"/>
                </a:cubicBezTo>
                <a:cubicBezTo>
                  <a:pt x="128939" y="326801"/>
                  <a:pt x="168002" y="365864"/>
                  <a:pt x="216189" y="365864"/>
                </a:cubicBezTo>
                <a:cubicBezTo>
                  <a:pt x="264376" y="365864"/>
                  <a:pt x="303439" y="326801"/>
                  <a:pt x="303439" y="278614"/>
                </a:cubicBezTo>
                <a:cubicBezTo>
                  <a:pt x="303439" y="230427"/>
                  <a:pt x="264376" y="191364"/>
                  <a:pt x="216189" y="191364"/>
                </a:cubicBezTo>
                <a:close/>
                <a:moveTo>
                  <a:pt x="366200" y="0"/>
                </a:moveTo>
                <a:cubicBezTo>
                  <a:pt x="568447" y="0"/>
                  <a:pt x="732400" y="163953"/>
                  <a:pt x="732400" y="366200"/>
                </a:cubicBezTo>
                <a:cubicBezTo>
                  <a:pt x="732400" y="568447"/>
                  <a:pt x="568447" y="732400"/>
                  <a:pt x="366200" y="732400"/>
                </a:cubicBezTo>
                <a:cubicBezTo>
                  <a:pt x="163953" y="732400"/>
                  <a:pt x="0" y="568447"/>
                  <a:pt x="0" y="366200"/>
                </a:cubicBezTo>
                <a:cubicBezTo>
                  <a:pt x="0" y="163953"/>
                  <a:pt x="163953" y="0"/>
                  <a:pt x="366200" y="0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2069"/>
          <p:cNvGrpSpPr/>
          <p:nvPr/>
        </p:nvGrpSpPr>
        <p:grpSpPr>
          <a:xfrm>
            <a:off x="222120" y="1276200"/>
            <a:ext cx="5934240" cy="3156480"/>
            <a:chOff x="222120" y="1276200"/>
            <a:chExt cx="5934240" cy="3156480"/>
          </a:xfrm>
        </p:grpSpPr>
        <p:sp>
          <p:nvSpPr>
            <p:cNvPr id="488" name="Freeform 13"/>
            <p:cNvSpPr/>
            <p:nvPr/>
          </p:nvSpPr>
          <p:spPr>
            <a:xfrm>
              <a:off x="581040" y="1396440"/>
              <a:ext cx="5575320" cy="2923200"/>
            </a:xfrm>
            <a:custGeom>
              <a:avLst/>
              <a:gdLst>
                <a:gd name="textAreaLeft" fmla="*/ 0 w 5575320"/>
                <a:gd name="textAreaRight" fmla="*/ 5575680 w 5575320"/>
                <a:gd name="textAreaTop" fmla="*/ 0 h 2923200"/>
                <a:gd name="textAreaBottom" fmla="*/ 2923560 h 2923200"/>
              </a:gdLst>
              <a:ahLst/>
              <a:rect l="textAreaLeft" t="textAreaTop" r="textAreaRight" b="textAreaBottom"/>
              <a:pathLst>
                <a:path w="1092" h="573">
                  <a:moveTo>
                    <a:pt x="23" y="0"/>
                  </a:moveTo>
                  <a:cubicBezTo>
                    <a:pt x="28" y="0"/>
                    <a:pt x="33" y="0"/>
                    <a:pt x="39" y="0"/>
                  </a:cubicBezTo>
                  <a:cubicBezTo>
                    <a:pt x="39" y="1"/>
                    <a:pt x="39" y="2"/>
                    <a:pt x="39" y="4"/>
                  </a:cubicBezTo>
                  <a:cubicBezTo>
                    <a:pt x="33" y="4"/>
                    <a:pt x="28" y="4"/>
                    <a:pt x="23" y="4"/>
                  </a:cubicBezTo>
                  <a:cubicBezTo>
                    <a:pt x="23" y="2"/>
                    <a:pt x="23" y="1"/>
                    <a:pt x="23" y="0"/>
                  </a:cubicBezTo>
                  <a:close/>
                  <a:moveTo>
                    <a:pt x="23" y="57"/>
                  </a:moveTo>
                  <a:cubicBezTo>
                    <a:pt x="28" y="57"/>
                    <a:pt x="33" y="57"/>
                    <a:pt x="39" y="57"/>
                  </a:cubicBezTo>
                  <a:cubicBezTo>
                    <a:pt x="39" y="58"/>
                    <a:pt x="39" y="59"/>
                    <a:pt x="39" y="60"/>
                  </a:cubicBezTo>
                  <a:cubicBezTo>
                    <a:pt x="33" y="60"/>
                    <a:pt x="28" y="60"/>
                    <a:pt x="23" y="60"/>
                  </a:cubicBezTo>
                  <a:cubicBezTo>
                    <a:pt x="23" y="59"/>
                    <a:pt x="23" y="58"/>
                    <a:pt x="23" y="57"/>
                  </a:cubicBezTo>
                  <a:close/>
                  <a:moveTo>
                    <a:pt x="23" y="114"/>
                  </a:moveTo>
                  <a:cubicBezTo>
                    <a:pt x="28" y="114"/>
                    <a:pt x="33" y="114"/>
                    <a:pt x="39" y="114"/>
                  </a:cubicBezTo>
                  <a:cubicBezTo>
                    <a:pt x="39" y="115"/>
                    <a:pt x="39" y="116"/>
                    <a:pt x="39" y="117"/>
                  </a:cubicBezTo>
                  <a:cubicBezTo>
                    <a:pt x="33" y="117"/>
                    <a:pt x="28" y="117"/>
                    <a:pt x="23" y="117"/>
                  </a:cubicBezTo>
                  <a:cubicBezTo>
                    <a:pt x="23" y="116"/>
                    <a:pt x="23" y="115"/>
                    <a:pt x="23" y="114"/>
                  </a:cubicBezTo>
                  <a:close/>
                  <a:moveTo>
                    <a:pt x="23" y="171"/>
                  </a:moveTo>
                  <a:cubicBezTo>
                    <a:pt x="28" y="171"/>
                    <a:pt x="33" y="171"/>
                    <a:pt x="39" y="171"/>
                  </a:cubicBezTo>
                  <a:cubicBezTo>
                    <a:pt x="39" y="172"/>
                    <a:pt x="39" y="173"/>
                    <a:pt x="39" y="174"/>
                  </a:cubicBezTo>
                  <a:cubicBezTo>
                    <a:pt x="33" y="174"/>
                    <a:pt x="28" y="174"/>
                    <a:pt x="23" y="174"/>
                  </a:cubicBezTo>
                  <a:cubicBezTo>
                    <a:pt x="23" y="173"/>
                    <a:pt x="23" y="172"/>
                    <a:pt x="23" y="171"/>
                  </a:cubicBezTo>
                  <a:close/>
                  <a:moveTo>
                    <a:pt x="23" y="228"/>
                  </a:moveTo>
                  <a:cubicBezTo>
                    <a:pt x="28" y="228"/>
                    <a:pt x="33" y="228"/>
                    <a:pt x="39" y="228"/>
                  </a:cubicBezTo>
                  <a:cubicBezTo>
                    <a:pt x="39" y="229"/>
                    <a:pt x="39" y="230"/>
                    <a:pt x="39" y="231"/>
                  </a:cubicBezTo>
                  <a:cubicBezTo>
                    <a:pt x="33" y="231"/>
                    <a:pt x="28" y="231"/>
                    <a:pt x="23" y="231"/>
                  </a:cubicBezTo>
                  <a:cubicBezTo>
                    <a:pt x="23" y="230"/>
                    <a:pt x="23" y="229"/>
                    <a:pt x="23" y="228"/>
                  </a:cubicBezTo>
                  <a:close/>
                  <a:moveTo>
                    <a:pt x="23" y="285"/>
                  </a:moveTo>
                  <a:cubicBezTo>
                    <a:pt x="28" y="285"/>
                    <a:pt x="33" y="285"/>
                    <a:pt x="39" y="285"/>
                  </a:cubicBezTo>
                  <a:cubicBezTo>
                    <a:pt x="39" y="286"/>
                    <a:pt x="39" y="287"/>
                    <a:pt x="39" y="288"/>
                  </a:cubicBezTo>
                  <a:cubicBezTo>
                    <a:pt x="33" y="288"/>
                    <a:pt x="28" y="288"/>
                    <a:pt x="23" y="288"/>
                  </a:cubicBezTo>
                  <a:cubicBezTo>
                    <a:pt x="23" y="287"/>
                    <a:pt x="23" y="286"/>
                    <a:pt x="23" y="285"/>
                  </a:cubicBezTo>
                  <a:close/>
                  <a:moveTo>
                    <a:pt x="23" y="342"/>
                  </a:moveTo>
                  <a:cubicBezTo>
                    <a:pt x="28" y="342"/>
                    <a:pt x="33" y="342"/>
                    <a:pt x="39" y="342"/>
                  </a:cubicBezTo>
                  <a:cubicBezTo>
                    <a:pt x="39" y="343"/>
                    <a:pt x="39" y="344"/>
                    <a:pt x="39" y="345"/>
                  </a:cubicBezTo>
                  <a:cubicBezTo>
                    <a:pt x="33" y="345"/>
                    <a:pt x="28" y="345"/>
                    <a:pt x="23" y="345"/>
                  </a:cubicBezTo>
                  <a:cubicBezTo>
                    <a:pt x="23" y="344"/>
                    <a:pt x="23" y="343"/>
                    <a:pt x="23" y="342"/>
                  </a:cubicBezTo>
                  <a:close/>
                  <a:moveTo>
                    <a:pt x="23" y="399"/>
                  </a:moveTo>
                  <a:cubicBezTo>
                    <a:pt x="28" y="399"/>
                    <a:pt x="33" y="399"/>
                    <a:pt x="39" y="399"/>
                  </a:cubicBezTo>
                  <a:cubicBezTo>
                    <a:pt x="39" y="400"/>
                    <a:pt x="39" y="401"/>
                    <a:pt x="39" y="402"/>
                  </a:cubicBezTo>
                  <a:cubicBezTo>
                    <a:pt x="33" y="402"/>
                    <a:pt x="28" y="402"/>
                    <a:pt x="23" y="402"/>
                  </a:cubicBezTo>
                  <a:cubicBezTo>
                    <a:pt x="23" y="401"/>
                    <a:pt x="23" y="400"/>
                    <a:pt x="23" y="399"/>
                  </a:cubicBezTo>
                  <a:close/>
                  <a:moveTo>
                    <a:pt x="23" y="459"/>
                  </a:moveTo>
                  <a:cubicBezTo>
                    <a:pt x="23" y="458"/>
                    <a:pt x="23" y="457"/>
                    <a:pt x="23" y="456"/>
                  </a:cubicBezTo>
                  <a:cubicBezTo>
                    <a:pt x="28" y="456"/>
                    <a:pt x="33" y="456"/>
                    <a:pt x="39" y="456"/>
                  </a:cubicBezTo>
                  <a:cubicBezTo>
                    <a:pt x="39" y="457"/>
                    <a:pt x="39" y="458"/>
                    <a:pt x="39" y="459"/>
                  </a:cubicBezTo>
                  <a:cubicBezTo>
                    <a:pt x="33" y="459"/>
                    <a:pt x="28" y="459"/>
                    <a:pt x="23" y="459"/>
                  </a:cubicBezTo>
                  <a:close/>
                  <a:moveTo>
                    <a:pt x="23" y="513"/>
                  </a:moveTo>
                  <a:cubicBezTo>
                    <a:pt x="28" y="513"/>
                    <a:pt x="33" y="513"/>
                    <a:pt x="39" y="513"/>
                  </a:cubicBezTo>
                  <a:cubicBezTo>
                    <a:pt x="39" y="514"/>
                    <a:pt x="39" y="515"/>
                    <a:pt x="39" y="516"/>
                  </a:cubicBezTo>
                  <a:cubicBezTo>
                    <a:pt x="33" y="516"/>
                    <a:pt x="28" y="516"/>
                    <a:pt x="23" y="516"/>
                  </a:cubicBezTo>
                  <a:cubicBezTo>
                    <a:pt x="23" y="515"/>
                    <a:pt x="23" y="514"/>
                    <a:pt x="23" y="513"/>
                  </a:cubicBezTo>
                  <a:close/>
                  <a:moveTo>
                    <a:pt x="23" y="570"/>
                  </a:moveTo>
                  <a:cubicBezTo>
                    <a:pt x="28" y="570"/>
                    <a:pt x="33" y="570"/>
                    <a:pt x="39" y="570"/>
                  </a:cubicBezTo>
                  <a:cubicBezTo>
                    <a:pt x="39" y="571"/>
                    <a:pt x="39" y="572"/>
                    <a:pt x="39" y="573"/>
                  </a:cubicBezTo>
                  <a:cubicBezTo>
                    <a:pt x="33" y="573"/>
                    <a:pt x="28" y="573"/>
                    <a:pt x="23" y="573"/>
                  </a:cubicBezTo>
                  <a:cubicBezTo>
                    <a:pt x="23" y="572"/>
                    <a:pt x="23" y="571"/>
                    <a:pt x="23" y="570"/>
                  </a:cubicBezTo>
                  <a:close/>
                  <a:moveTo>
                    <a:pt x="45" y="0"/>
                  </a:moveTo>
                  <a:cubicBezTo>
                    <a:pt x="51" y="0"/>
                    <a:pt x="56" y="0"/>
                    <a:pt x="62" y="0"/>
                  </a:cubicBezTo>
                  <a:cubicBezTo>
                    <a:pt x="62" y="1"/>
                    <a:pt x="62" y="2"/>
                    <a:pt x="62" y="4"/>
                  </a:cubicBezTo>
                  <a:cubicBezTo>
                    <a:pt x="56" y="4"/>
                    <a:pt x="51" y="4"/>
                    <a:pt x="45" y="4"/>
                  </a:cubicBezTo>
                  <a:cubicBezTo>
                    <a:pt x="45" y="2"/>
                    <a:pt x="45" y="1"/>
                    <a:pt x="45" y="0"/>
                  </a:cubicBezTo>
                  <a:close/>
                  <a:moveTo>
                    <a:pt x="45" y="57"/>
                  </a:moveTo>
                  <a:cubicBezTo>
                    <a:pt x="51" y="57"/>
                    <a:pt x="56" y="57"/>
                    <a:pt x="62" y="57"/>
                  </a:cubicBezTo>
                  <a:cubicBezTo>
                    <a:pt x="62" y="58"/>
                    <a:pt x="62" y="59"/>
                    <a:pt x="62" y="60"/>
                  </a:cubicBezTo>
                  <a:cubicBezTo>
                    <a:pt x="56" y="60"/>
                    <a:pt x="51" y="60"/>
                    <a:pt x="45" y="60"/>
                  </a:cubicBezTo>
                  <a:cubicBezTo>
                    <a:pt x="45" y="59"/>
                    <a:pt x="45" y="58"/>
                    <a:pt x="45" y="57"/>
                  </a:cubicBezTo>
                  <a:close/>
                  <a:moveTo>
                    <a:pt x="45" y="114"/>
                  </a:moveTo>
                  <a:cubicBezTo>
                    <a:pt x="51" y="114"/>
                    <a:pt x="56" y="114"/>
                    <a:pt x="62" y="114"/>
                  </a:cubicBezTo>
                  <a:cubicBezTo>
                    <a:pt x="62" y="115"/>
                    <a:pt x="62" y="116"/>
                    <a:pt x="62" y="117"/>
                  </a:cubicBezTo>
                  <a:cubicBezTo>
                    <a:pt x="56" y="117"/>
                    <a:pt x="51" y="117"/>
                    <a:pt x="45" y="117"/>
                  </a:cubicBezTo>
                  <a:cubicBezTo>
                    <a:pt x="45" y="116"/>
                    <a:pt x="45" y="115"/>
                    <a:pt x="45" y="114"/>
                  </a:cubicBezTo>
                  <a:close/>
                  <a:moveTo>
                    <a:pt x="45" y="171"/>
                  </a:moveTo>
                  <a:cubicBezTo>
                    <a:pt x="51" y="171"/>
                    <a:pt x="56" y="171"/>
                    <a:pt x="62" y="171"/>
                  </a:cubicBezTo>
                  <a:cubicBezTo>
                    <a:pt x="62" y="172"/>
                    <a:pt x="62" y="173"/>
                    <a:pt x="62" y="174"/>
                  </a:cubicBezTo>
                  <a:cubicBezTo>
                    <a:pt x="56" y="174"/>
                    <a:pt x="51" y="174"/>
                    <a:pt x="45" y="174"/>
                  </a:cubicBezTo>
                  <a:cubicBezTo>
                    <a:pt x="45" y="173"/>
                    <a:pt x="45" y="172"/>
                    <a:pt x="45" y="171"/>
                  </a:cubicBezTo>
                  <a:close/>
                  <a:moveTo>
                    <a:pt x="45" y="228"/>
                  </a:moveTo>
                  <a:cubicBezTo>
                    <a:pt x="51" y="228"/>
                    <a:pt x="56" y="228"/>
                    <a:pt x="62" y="228"/>
                  </a:cubicBezTo>
                  <a:cubicBezTo>
                    <a:pt x="62" y="229"/>
                    <a:pt x="62" y="230"/>
                    <a:pt x="62" y="231"/>
                  </a:cubicBezTo>
                  <a:cubicBezTo>
                    <a:pt x="56" y="231"/>
                    <a:pt x="51" y="231"/>
                    <a:pt x="45" y="231"/>
                  </a:cubicBezTo>
                  <a:cubicBezTo>
                    <a:pt x="45" y="230"/>
                    <a:pt x="45" y="229"/>
                    <a:pt x="45" y="228"/>
                  </a:cubicBezTo>
                  <a:close/>
                  <a:moveTo>
                    <a:pt x="45" y="285"/>
                  </a:moveTo>
                  <a:cubicBezTo>
                    <a:pt x="51" y="285"/>
                    <a:pt x="56" y="285"/>
                    <a:pt x="62" y="285"/>
                  </a:cubicBezTo>
                  <a:cubicBezTo>
                    <a:pt x="62" y="286"/>
                    <a:pt x="62" y="287"/>
                    <a:pt x="62" y="288"/>
                  </a:cubicBezTo>
                  <a:cubicBezTo>
                    <a:pt x="56" y="288"/>
                    <a:pt x="51" y="288"/>
                    <a:pt x="45" y="288"/>
                  </a:cubicBezTo>
                  <a:cubicBezTo>
                    <a:pt x="45" y="287"/>
                    <a:pt x="45" y="286"/>
                    <a:pt x="45" y="285"/>
                  </a:cubicBezTo>
                  <a:close/>
                  <a:moveTo>
                    <a:pt x="45" y="342"/>
                  </a:moveTo>
                  <a:cubicBezTo>
                    <a:pt x="51" y="342"/>
                    <a:pt x="56" y="342"/>
                    <a:pt x="62" y="342"/>
                  </a:cubicBezTo>
                  <a:cubicBezTo>
                    <a:pt x="62" y="343"/>
                    <a:pt x="62" y="344"/>
                    <a:pt x="62" y="345"/>
                  </a:cubicBezTo>
                  <a:cubicBezTo>
                    <a:pt x="56" y="345"/>
                    <a:pt x="51" y="345"/>
                    <a:pt x="45" y="345"/>
                  </a:cubicBezTo>
                  <a:cubicBezTo>
                    <a:pt x="45" y="344"/>
                    <a:pt x="45" y="343"/>
                    <a:pt x="45" y="342"/>
                  </a:cubicBezTo>
                  <a:close/>
                  <a:moveTo>
                    <a:pt x="45" y="399"/>
                  </a:moveTo>
                  <a:cubicBezTo>
                    <a:pt x="51" y="399"/>
                    <a:pt x="56" y="399"/>
                    <a:pt x="62" y="399"/>
                  </a:cubicBezTo>
                  <a:cubicBezTo>
                    <a:pt x="62" y="400"/>
                    <a:pt x="62" y="401"/>
                    <a:pt x="62" y="402"/>
                  </a:cubicBezTo>
                  <a:cubicBezTo>
                    <a:pt x="56" y="402"/>
                    <a:pt x="51" y="402"/>
                    <a:pt x="45" y="402"/>
                  </a:cubicBezTo>
                  <a:cubicBezTo>
                    <a:pt x="45" y="401"/>
                    <a:pt x="45" y="400"/>
                    <a:pt x="45" y="399"/>
                  </a:cubicBezTo>
                  <a:close/>
                  <a:moveTo>
                    <a:pt x="45" y="459"/>
                  </a:moveTo>
                  <a:cubicBezTo>
                    <a:pt x="45" y="458"/>
                    <a:pt x="45" y="457"/>
                    <a:pt x="45" y="456"/>
                  </a:cubicBezTo>
                  <a:cubicBezTo>
                    <a:pt x="51" y="456"/>
                    <a:pt x="56" y="456"/>
                    <a:pt x="62" y="456"/>
                  </a:cubicBezTo>
                  <a:cubicBezTo>
                    <a:pt x="62" y="457"/>
                    <a:pt x="62" y="458"/>
                    <a:pt x="62" y="459"/>
                  </a:cubicBezTo>
                  <a:cubicBezTo>
                    <a:pt x="56" y="459"/>
                    <a:pt x="51" y="459"/>
                    <a:pt x="45" y="459"/>
                  </a:cubicBezTo>
                  <a:close/>
                  <a:moveTo>
                    <a:pt x="45" y="513"/>
                  </a:moveTo>
                  <a:cubicBezTo>
                    <a:pt x="51" y="513"/>
                    <a:pt x="56" y="513"/>
                    <a:pt x="62" y="513"/>
                  </a:cubicBezTo>
                  <a:cubicBezTo>
                    <a:pt x="62" y="514"/>
                    <a:pt x="62" y="515"/>
                    <a:pt x="62" y="516"/>
                  </a:cubicBezTo>
                  <a:cubicBezTo>
                    <a:pt x="56" y="516"/>
                    <a:pt x="51" y="516"/>
                    <a:pt x="45" y="516"/>
                  </a:cubicBezTo>
                  <a:cubicBezTo>
                    <a:pt x="45" y="515"/>
                    <a:pt x="45" y="514"/>
                    <a:pt x="45" y="513"/>
                  </a:cubicBezTo>
                  <a:close/>
                  <a:moveTo>
                    <a:pt x="45" y="570"/>
                  </a:moveTo>
                  <a:cubicBezTo>
                    <a:pt x="51" y="570"/>
                    <a:pt x="56" y="570"/>
                    <a:pt x="62" y="570"/>
                  </a:cubicBezTo>
                  <a:cubicBezTo>
                    <a:pt x="62" y="571"/>
                    <a:pt x="62" y="572"/>
                    <a:pt x="62" y="573"/>
                  </a:cubicBezTo>
                  <a:cubicBezTo>
                    <a:pt x="56" y="573"/>
                    <a:pt x="51" y="573"/>
                    <a:pt x="45" y="573"/>
                  </a:cubicBezTo>
                  <a:cubicBezTo>
                    <a:pt x="45" y="572"/>
                    <a:pt x="45" y="571"/>
                    <a:pt x="45" y="570"/>
                  </a:cubicBezTo>
                  <a:close/>
                  <a:moveTo>
                    <a:pt x="68" y="0"/>
                  </a:moveTo>
                  <a:cubicBezTo>
                    <a:pt x="74" y="0"/>
                    <a:pt x="79" y="0"/>
                    <a:pt x="85" y="0"/>
                  </a:cubicBezTo>
                  <a:cubicBezTo>
                    <a:pt x="85" y="1"/>
                    <a:pt x="85" y="2"/>
                    <a:pt x="85" y="4"/>
                  </a:cubicBezTo>
                  <a:cubicBezTo>
                    <a:pt x="79" y="4"/>
                    <a:pt x="74" y="4"/>
                    <a:pt x="68" y="4"/>
                  </a:cubicBezTo>
                  <a:cubicBezTo>
                    <a:pt x="68" y="2"/>
                    <a:pt x="68" y="1"/>
                    <a:pt x="68" y="0"/>
                  </a:cubicBezTo>
                  <a:close/>
                  <a:moveTo>
                    <a:pt x="68" y="57"/>
                  </a:moveTo>
                  <a:cubicBezTo>
                    <a:pt x="74" y="57"/>
                    <a:pt x="79" y="57"/>
                    <a:pt x="85" y="57"/>
                  </a:cubicBezTo>
                  <a:cubicBezTo>
                    <a:pt x="85" y="58"/>
                    <a:pt x="85" y="59"/>
                    <a:pt x="85" y="60"/>
                  </a:cubicBezTo>
                  <a:cubicBezTo>
                    <a:pt x="79" y="60"/>
                    <a:pt x="74" y="60"/>
                    <a:pt x="68" y="60"/>
                  </a:cubicBezTo>
                  <a:cubicBezTo>
                    <a:pt x="68" y="59"/>
                    <a:pt x="68" y="58"/>
                    <a:pt x="68" y="57"/>
                  </a:cubicBezTo>
                  <a:close/>
                  <a:moveTo>
                    <a:pt x="68" y="114"/>
                  </a:moveTo>
                  <a:cubicBezTo>
                    <a:pt x="74" y="114"/>
                    <a:pt x="79" y="114"/>
                    <a:pt x="85" y="114"/>
                  </a:cubicBezTo>
                  <a:cubicBezTo>
                    <a:pt x="85" y="115"/>
                    <a:pt x="85" y="116"/>
                    <a:pt x="85" y="117"/>
                  </a:cubicBezTo>
                  <a:cubicBezTo>
                    <a:pt x="79" y="117"/>
                    <a:pt x="74" y="117"/>
                    <a:pt x="68" y="117"/>
                  </a:cubicBezTo>
                  <a:cubicBezTo>
                    <a:pt x="68" y="116"/>
                    <a:pt x="68" y="115"/>
                    <a:pt x="68" y="114"/>
                  </a:cubicBezTo>
                  <a:close/>
                  <a:moveTo>
                    <a:pt x="68" y="171"/>
                  </a:moveTo>
                  <a:cubicBezTo>
                    <a:pt x="74" y="171"/>
                    <a:pt x="79" y="171"/>
                    <a:pt x="85" y="171"/>
                  </a:cubicBezTo>
                  <a:cubicBezTo>
                    <a:pt x="85" y="172"/>
                    <a:pt x="85" y="173"/>
                    <a:pt x="85" y="174"/>
                  </a:cubicBezTo>
                  <a:cubicBezTo>
                    <a:pt x="79" y="174"/>
                    <a:pt x="74" y="174"/>
                    <a:pt x="68" y="174"/>
                  </a:cubicBezTo>
                  <a:cubicBezTo>
                    <a:pt x="68" y="173"/>
                    <a:pt x="68" y="172"/>
                    <a:pt x="68" y="171"/>
                  </a:cubicBezTo>
                  <a:close/>
                  <a:moveTo>
                    <a:pt x="68" y="228"/>
                  </a:moveTo>
                  <a:cubicBezTo>
                    <a:pt x="74" y="228"/>
                    <a:pt x="79" y="228"/>
                    <a:pt x="85" y="228"/>
                  </a:cubicBezTo>
                  <a:cubicBezTo>
                    <a:pt x="85" y="229"/>
                    <a:pt x="85" y="230"/>
                    <a:pt x="85" y="231"/>
                  </a:cubicBezTo>
                  <a:cubicBezTo>
                    <a:pt x="79" y="231"/>
                    <a:pt x="74" y="231"/>
                    <a:pt x="68" y="231"/>
                  </a:cubicBezTo>
                  <a:cubicBezTo>
                    <a:pt x="68" y="230"/>
                    <a:pt x="68" y="229"/>
                    <a:pt x="68" y="228"/>
                  </a:cubicBezTo>
                  <a:close/>
                  <a:moveTo>
                    <a:pt x="68" y="285"/>
                  </a:moveTo>
                  <a:cubicBezTo>
                    <a:pt x="74" y="285"/>
                    <a:pt x="79" y="285"/>
                    <a:pt x="85" y="285"/>
                  </a:cubicBezTo>
                  <a:cubicBezTo>
                    <a:pt x="85" y="286"/>
                    <a:pt x="85" y="287"/>
                    <a:pt x="85" y="288"/>
                  </a:cubicBezTo>
                  <a:cubicBezTo>
                    <a:pt x="79" y="288"/>
                    <a:pt x="74" y="288"/>
                    <a:pt x="68" y="288"/>
                  </a:cubicBezTo>
                  <a:cubicBezTo>
                    <a:pt x="68" y="287"/>
                    <a:pt x="68" y="286"/>
                    <a:pt x="68" y="285"/>
                  </a:cubicBezTo>
                  <a:close/>
                  <a:moveTo>
                    <a:pt x="68" y="342"/>
                  </a:moveTo>
                  <a:cubicBezTo>
                    <a:pt x="74" y="342"/>
                    <a:pt x="79" y="342"/>
                    <a:pt x="85" y="342"/>
                  </a:cubicBezTo>
                  <a:cubicBezTo>
                    <a:pt x="85" y="343"/>
                    <a:pt x="85" y="344"/>
                    <a:pt x="85" y="345"/>
                  </a:cubicBezTo>
                  <a:cubicBezTo>
                    <a:pt x="79" y="345"/>
                    <a:pt x="74" y="345"/>
                    <a:pt x="68" y="345"/>
                  </a:cubicBezTo>
                  <a:cubicBezTo>
                    <a:pt x="68" y="344"/>
                    <a:pt x="68" y="343"/>
                    <a:pt x="68" y="342"/>
                  </a:cubicBezTo>
                  <a:close/>
                  <a:moveTo>
                    <a:pt x="68" y="399"/>
                  </a:moveTo>
                  <a:cubicBezTo>
                    <a:pt x="74" y="399"/>
                    <a:pt x="79" y="399"/>
                    <a:pt x="85" y="399"/>
                  </a:cubicBezTo>
                  <a:cubicBezTo>
                    <a:pt x="85" y="400"/>
                    <a:pt x="85" y="401"/>
                    <a:pt x="85" y="402"/>
                  </a:cubicBezTo>
                  <a:cubicBezTo>
                    <a:pt x="79" y="402"/>
                    <a:pt x="74" y="402"/>
                    <a:pt x="68" y="402"/>
                  </a:cubicBezTo>
                  <a:cubicBezTo>
                    <a:pt x="68" y="401"/>
                    <a:pt x="68" y="400"/>
                    <a:pt x="68" y="399"/>
                  </a:cubicBezTo>
                  <a:close/>
                  <a:moveTo>
                    <a:pt x="68" y="459"/>
                  </a:moveTo>
                  <a:cubicBezTo>
                    <a:pt x="68" y="458"/>
                    <a:pt x="68" y="457"/>
                    <a:pt x="68" y="456"/>
                  </a:cubicBezTo>
                  <a:cubicBezTo>
                    <a:pt x="74" y="456"/>
                    <a:pt x="79" y="456"/>
                    <a:pt x="85" y="456"/>
                  </a:cubicBezTo>
                  <a:cubicBezTo>
                    <a:pt x="85" y="457"/>
                    <a:pt x="85" y="458"/>
                    <a:pt x="85" y="459"/>
                  </a:cubicBezTo>
                  <a:cubicBezTo>
                    <a:pt x="79" y="459"/>
                    <a:pt x="74" y="459"/>
                    <a:pt x="68" y="459"/>
                  </a:cubicBezTo>
                  <a:close/>
                  <a:moveTo>
                    <a:pt x="68" y="513"/>
                  </a:moveTo>
                  <a:cubicBezTo>
                    <a:pt x="74" y="513"/>
                    <a:pt x="79" y="513"/>
                    <a:pt x="85" y="513"/>
                  </a:cubicBezTo>
                  <a:cubicBezTo>
                    <a:pt x="85" y="514"/>
                    <a:pt x="85" y="515"/>
                    <a:pt x="85" y="516"/>
                  </a:cubicBezTo>
                  <a:cubicBezTo>
                    <a:pt x="79" y="516"/>
                    <a:pt x="74" y="516"/>
                    <a:pt x="68" y="516"/>
                  </a:cubicBezTo>
                  <a:cubicBezTo>
                    <a:pt x="68" y="515"/>
                    <a:pt x="68" y="514"/>
                    <a:pt x="68" y="513"/>
                  </a:cubicBezTo>
                  <a:close/>
                  <a:moveTo>
                    <a:pt x="68" y="570"/>
                  </a:moveTo>
                  <a:cubicBezTo>
                    <a:pt x="74" y="570"/>
                    <a:pt x="79" y="570"/>
                    <a:pt x="85" y="570"/>
                  </a:cubicBezTo>
                  <a:cubicBezTo>
                    <a:pt x="85" y="571"/>
                    <a:pt x="85" y="572"/>
                    <a:pt x="85" y="573"/>
                  </a:cubicBezTo>
                  <a:cubicBezTo>
                    <a:pt x="79" y="573"/>
                    <a:pt x="74" y="573"/>
                    <a:pt x="68" y="573"/>
                  </a:cubicBezTo>
                  <a:cubicBezTo>
                    <a:pt x="68" y="572"/>
                    <a:pt x="68" y="571"/>
                    <a:pt x="68" y="570"/>
                  </a:cubicBezTo>
                  <a:close/>
                  <a:moveTo>
                    <a:pt x="91" y="0"/>
                  </a:moveTo>
                  <a:cubicBezTo>
                    <a:pt x="97" y="0"/>
                    <a:pt x="102" y="0"/>
                    <a:pt x="108" y="0"/>
                  </a:cubicBezTo>
                  <a:cubicBezTo>
                    <a:pt x="108" y="1"/>
                    <a:pt x="108" y="2"/>
                    <a:pt x="108" y="4"/>
                  </a:cubicBezTo>
                  <a:cubicBezTo>
                    <a:pt x="102" y="4"/>
                    <a:pt x="97" y="4"/>
                    <a:pt x="91" y="4"/>
                  </a:cubicBezTo>
                  <a:cubicBezTo>
                    <a:pt x="91" y="2"/>
                    <a:pt x="91" y="1"/>
                    <a:pt x="91" y="0"/>
                  </a:cubicBezTo>
                  <a:close/>
                  <a:moveTo>
                    <a:pt x="91" y="57"/>
                  </a:moveTo>
                  <a:cubicBezTo>
                    <a:pt x="97" y="57"/>
                    <a:pt x="102" y="57"/>
                    <a:pt x="108" y="57"/>
                  </a:cubicBezTo>
                  <a:cubicBezTo>
                    <a:pt x="108" y="58"/>
                    <a:pt x="108" y="59"/>
                    <a:pt x="108" y="60"/>
                  </a:cubicBezTo>
                  <a:cubicBezTo>
                    <a:pt x="102" y="60"/>
                    <a:pt x="97" y="60"/>
                    <a:pt x="91" y="60"/>
                  </a:cubicBezTo>
                  <a:cubicBezTo>
                    <a:pt x="91" y="59"/>
                    <a:pt x="91" y="58"/>
                    <a:pt x="91" y="57"/>
                  </a:cubicBezTo>
                  <a:close/>
                  <a:moveTo>
                    <a:pt x="91" y="114"/>
                  </a:moveTo>
                  <a:cubicBezTo>
                    <a:pt x="97" y="114"/>
                    <a:pt x="102" y="114"/>
                    <a:pt x="108" y="114"/>
                  </a:cubicBezTo>
                  <a:cubicBezTo>
                    <a:pt x="108" y="115"/>
                    <a:pt x="108" y="116"/>
                    <a:pt x="108" y="117"/>
                  </a:cubicBezTo>
                  <a:cubicBezTo>
                    <a:pt x="102" y="117"/>
                    <a:pt x="97" y="117"/>
                    <a:pt x="91" y="117"/>
                  </a:cubicBezTo>
                  <a:cubicBezTo>
                    <a:pt x="91" y="116"/>
                    <a:pt x="91" y="115"/>
                    <a:pt x="91" y="114"/>
                  </a:cubicBezTo>
                  <a:close/>
                  <a:moveTo>
                    <a:pt x="91" y="171"/>
                  </a:moveTo>
                  <a:cubicBezTo>
                    <a:pt x="97" y="171"/>
                    <a:pt x="102" y="171"/>
                    <a:pt x="108" y="171"/>
                  </a:cubicBezTo>
                  <a:cubicBezTo>
                    <a:pt x="108" y="172"/>
                    <a:pt x="108" y="173"/>
                    <a:pt x="108" y="174"/>
                  </a:cubicBezTo>
                  <a:cubicBezTo>
                    <a:pt x="102" y="174"/>
                    <a:pt x="97" y="174"/>
                    <a:pt x="91" y="174"/>
                  </a:cubicBezTo>
                  <a:cubicBezTo>
                    <a:pt x="91" y="173"/>
                    <a:pt x="91" y="172"/>
                    <a:pt x="91" y="171"/>
                  </a:cubicBezTo>
                  <a:close/>
                  <a:moveTo>
                    <a:pt x="91" y="228"/>
                  </a:moveTo>
                  <a:cubicBezTo>
                    <a:pt x="97" y="228"/>
                    <a:pt x="102" y="228"/>
                    <a:pt x="108" y="228"/>
                  </a:cubicBezTo>
                  <a:cubicBezTo>
                    <a:pt x="108" y="229"/>
                    <a:pt x="108" y="230"/>
                    <a:pt x="108" y="231"/>
                  </a:cubicBezTo>
                  <a:cubicBezTo>
                    <a:pt x="102" y="231"/>
                    <a:pt x="97" y="231"/>
                    <a:pt x="91" y="231"/>
                  </a:cubicBezTo>
                  <a:cubicBezTo>
                    <a:pt x="91" y="230"/>
                    <a:pt x="91" y="229"/>
                    <a:pt x="91" y="228"/>
                  </a:cubicBezTo>
                  <a:close/>
                  <a:moveTo>
                    <a:pt x="91" y="285"/>
                  </a:moveTo>
                  <a:cubicBezTo>
                    <a:pt x="97" y="285"/>
                    <a:pt x="102" y="285"/>
                    <a:pt x="108" y="285"/>
                  </a:cubicBezTo>
                  <a:cubicBezTo>
                    <a:pt x="108" y="286"/>
                    <a:pt x="108" y="287"/>
                    <a:pt x="108" y="288"/>
                  </a:cubicBezTo>
                  <a:cubicBezTo>
                    <a:pt x="102" y="288"/>
                    <a:pt x="97" y="288"/>
                    <a:pt x="91" y="288"/>
                  </a:cubicBezTo>
                  <a:cubicBezTo>
                    <a:pt x="91" y="287"/>
                    <a:pt x="91" y="286"/>
                    <a:pt x="91" y="285"/>
                  </a:cubicBezTo>
                  <a:close/>
                  <a:moveTo>
                    <a:pt x="91" y="342"/>
                  </a:moveTo>
                  <a:cubicBezTo>
                    <a:pt x="97" y="342"/>
                    <a:pt x="102" y="342"/>
                    <a:pt x="108" y="342"/>
                  </a:cubicBezTo>
                  <a:cubicBezTo>
                    <a:pt x="108" y="343"/>
                    <a:pt x="108" y="344"/>
                    <a:pt x="108" y="345"/>
                  </a:cubicBezTo>
                  <a:cubicBezTo>
                    <a:pt x="102" y="345"/>
                    <a:pt x="97" y="345"/>
                    <a:pt x="91" y="345"/>
                  </a:cubicBezTo>
                  <a:cubicBezTo>
                    <a:pt x="91" y="344"/>
                    <a:pt x="91" y="343"/>
                    <a:pt x="91" y="342"/>
                  </a:cubicBezTo>
                  <a:close/>
                  <a:moveTo>
                    <a:pt x="91" y="399"/>
                  </a:moveTo>
                  <a:cubicBezTo>
                    <a:pt x="97" y="399"/>
                    <a:pt x="102" y="399"/>
                    <a:pt x="108" y="399"/>
                  </a:cubicBezTo>
                  <a:cubicBezTo>
                    <a:pt x="108" y="400"/>
                    <a:pt x="108" y="401"/>
                    <a:pt x="108" y="402"/>
                  </a:cubicBezTo>
                  <a:cubicBezTo>
                    <a:pt x="102" y="402"/>
                    <a:pt x="97" y="402"/>
                    <a:pt x="91" y="402"/>
                  </a:cubicBezTo>
                  <a:cubicBezTo>
                    <a:pt x="91" y="401"/>
                    <a:pt x="91" y="400"/>
                    <a:pt x="91" y="399"/>
                  </a:cubicBezTo>
                  <a:close/>
                  <a:moveTo>
                    <a:pt x="91" y="459"/>
                  </a:moveTo>
                  <a:cubicBezTo>
                    <a:pt x="91" y="458"/>
                    <a:pt x="91" y="457"/>
                    <a:pt x="91" y="456"/>
                  </a:cubicBezTo>
                  <a:cubicBezTo>
                    <a:pt x="97" y="456"/>
                    <a:pt x="102" y="456"/>
                    <a:pt x="108" y="456"/>
                  </a:cubicBezTo>
                  <a:cubicBezTo>
                    <a:pt x="108" y="457"/>
                    <a:pt x="108" y="458"/>
                    <a:pt x="108" y="459"/>
                  </a:cubicBezTo>
                  <a:cubicBezTo>
                    <a:pt x="102" y="459"/>
                    <a:pt x="97" y="459"/>
                    <a:pt x="91" y="459"/>
                  </a:cubicBezTo>
                  <a:close/>
                  <a:moveTo>
                    <a:pt x="91" y="513"/>
                  </a:moveTo>
                  <a:cubicBezTo>
                    <a:pt x="97" y="513"/>
                    <a:pt x="102" y="513"/>
                    <a:pt x="108" y="513"/>
                  </a:cubicBezTo>
                  <a:cubicBezTo>
                    <a:pt x="108" y="514"/>
                    <a:pt x="108" y="515"/>
                    <a:pt x="108" y="516"/>
                  </a:cubicBezTo>
                  <a:cubicBezTo>
                    <a:pt x="102" y="516"/>
                    <a:pt x="97" y="516"/>
                    <a:pt x="91" y="516"/>
                  </a:cubicBezTo>
                  <a:cubicBezTo>
                    <a:pt x="91" y="515"/>
                    <a:pt x="91" y="514"/>
                    <a:pt x="91" y="513"/>
                  </a:cubicBezTo>
                  <a:close/>
                  <a:moveTo>
                    <a:pt x="91" y="570"/>
                  </a:moveTo>
                  <a:cubicBezTo>
                    <a:pt x="97" y="570"/>
                    <a:pt x="102" y="570"/>
                    <a:pt x="108" y="570"/>
                  </a:cubicBezTo>
                  <a:cubicBezTo>
                    <a:pt x="108" y="571"/>
                    <a:pt x="108" y="572"/>
                    <a:pt x="108" y="573"/>
                  </a:cubicBezTo>
                  <a:cubicBezTo>
                    <a:pt x="102" y="573"/>
                    <a:pt x="97" y="573"/>
                    <a:pt x="91" y="573"/>
                  </a:cubicBezTo>
                  <a:cubicBezTo>
                    <a:pt x="91" y="572"/>
                    <a:pt x="91" y="571"/>
                    <a:pt x="91" y="570"/>
                  </a:cubicBezTo>
                  <a:close/>
                  <a:moveTo>
                    <a:pt x="114" y="0"/>
                  </a:moveTo>
                  <a:cubicBezTo>
                    <a:pt x="120" y="0"/>
                    <a:pt x="125" y="0"/>
                    <a:pt x="130" y="0"/>
                  </a:cubicBezTo>
                  <a:cubicBezTo>
                    <a:pt x="130" y="1"/>
                    <a:pt x="130" y="2"/>
                    <a:pt x="130" y="4"/>
                  </a:cubicBezTo>
                  <a:cubicBezTo>
                    <a:pt x="125" y="4"/>
                    <a:pt x="120" y="4"/>
                    <a:pt x="114" y="4"/>
                  </a:cubicBezTo>
                  <a:cubicBezTo>
                    <a:pt x="114" y="2"/>
                    <a:pt x="114" y="1"/>
                    <a:pt x="114" y="0"/>
                  </a:cubicBezTo>
                  <a:close/>
                  <a:moveTo>
                    <a:pt x="114" y="57"/>
                  </a:moveTo>
                  <a:cubicBezTo>
                    <a:pt x="120" y="57"/>
                    <a:pt x="125" y="57"/>
                    <a:pt x="130" y="57"/>
                  </a:cubicBezTo>
                  <a:cubicBezTo>
                    <a:pt x="130" y="58"/>
                    <a:pt x="130" y="59"/>
                    <a:pt x="130" y="60"/>
                  </a:cubicBezTo>
                  <a:cubicBezTo>
                    <a:pt x="125" y="60"/>
                    <a:pt x="120" y="60"/>
                    <a:pt x="114" y="60"/>
                  </a:cubicBezTo>
                  <a:cubicBezTo>
                    <a:pt x="114" y="59"/>
                    <a:pt x="114" y="58"/>
                    <a:pt x="114" y="57"/>
                  </a:cubicBezTo>
                  <a:close/>
                  <a:moveTo>
                    <a:pt x="114" y="114"/>
                  </a:moveTo>
                  <a:cubicBezTo>
                    <a:pt x="120" y="114"/>
                    <a:pt x="125" y="114"/>
                    <a:pt x="130" y="114"/>
                  </a:cubicBezTo>
                  <a:cubicBezTo>
                    <a:pt x="130" y="115"/>
                    <a:pt x="130" y="116"/>
                    <a:pt x="130" y="117"/>
                  </a:cubicBezTo>
                  <a:cubicBezTo>
                    <a:pt x="125" y="117"/>
                    <a:pt x="120" y="117"/>
                    <a:pt x="114" y="117"/>
                  </a:cubicBezTo>
                  <a:cubicBezTo>
                    <a:pt x="114" y="116"/>
                    <a:pt x="114" y="115"/>
                    <a:pt x="114" y="114"/>
                  </a:cubicBezTo>
                  <a:close/>
                  <a:moveTo>
                    <a:pt x="114" y="171"/>
                  </a:moveTo>
                  <a:cubicBezTo>
                    <a:pt x="120" y="171"/>
                    <a:pt x="125" y="171"/>
                    <a:pt x="130" y="171"/>
                  </a:cubicBezTo>
                  <a:cubicBezTo>
                    <a:pt x="130" y="172"/>
                    <a:pt x="130" y="173"/>
                    <a:pt x="130" y="174"/>
                  </a:cubicBezTo>
                  <a:cubicBezTo>
                    <a:pt x="125" y="174"/>
                    <a:pt x="120" y="174"/>
                    <a:pt x="114" y="174"/>
                  </a:cubicBezTo>
                  <a:cubicBezTo>
                    <a:pt x="114" y="173"/>
                    <a:pt x="114" y="172"/>
                    <a:pt x="114" y="171"/>
                  </a:cubicBezTo>
                  <a:close/>
                  <a:moveTo>
                    <a:pt x="114" y="228"/>
                  </a:moveTo>
                  <a:cubicBezTo>
                    <a:pt x="120" y="228"/>
                    <a:pt x="125" y="228"/>
                    <a:pt x="130" y="228"/>
                  </a:cubicBezTo>
                  <a:cubicBezTo>
                    <a:pt x="130" y="229"/>
                    <a:pt x="130" y="230"/>
                    <a:pt x="130" y="231"/>
                  </a:cubicBezTo>
                  <a:cubicBezTo>
                    <a:pt x="125" y="231"/>
                    <a:pt x="120" y="231"/>
                    <a:pt x="114" y="231"/>
                  </a:cubicBezTo>
                  <a:cubicBezTo>
                    <a:pt x="114" y="230"/>
                    <a:pt x="114" y="229"/>
                    <a:pt x="114" y="228"/>
                  </a:cubicBezTo>
                  <a:close/>
                  <a:moveTo>
                    <a:pt x="114" y="285"/>
                  </a:moveTo>
                  <a:cubicBezTo>
                    <a:pt x="120" y="285"/>
                    <a:pt x="125" y="285"/>
                    <a:pt x="130" y="285"/>
                  </a:cubicBezTo>
                  <a:cubicBezTo>
                    <a:pt x="130" y="286"/>
                    <a:pt x="130" y="287"/>
                    <a:pt x="130" y="288"/>
                  </a:cubicBezTo>
                  <a:cubicBezTo>
                    <a:pt x="125" y="288"/>
                    <a:pt x="120" y="288"/>
                    <a:pt x="114" y="288"/>
                  </a:cubicBezTo>
                  <a:cubicBezTo>
                    <a:pt x="114" y="287"/>
                    <a:pt x="114" y="286"/>
                    <a:pt x="114" y="285"/>
                  </a:cubicBezTo>
                  <a:close/>
                  <a:moveTo>
                    <a:pt x="114" y="342"/>
                  </a:moveTo>
                  <a:cubicBezTo>
                    <a:pt x="120" y="342"/>
                    <a:pt x="125" y="342"/>
                    <a:pt x="130" y="342"/>
                  </a:cubicBezTo>
                  <a:cubicBezTo>
                    <a:pt x="130" y="343"/>
                    <a:pt x="130" y="344"/>
                    <a:pt x="130" y="345"/>
                  </a:cubicBezTo>
                  <a:cubicBezTo>
                    <a:pt x="125" y="345"/>
                    <a:pt x="120" y="345"/>
                    <a:pt x="114" y="345"/>
                  </a:cubicBezTo>
                  <a:cubicBezTo>
                    <a:pt x="114" y="344"/>
                    <a:pt x="114" y="343"/>
                    <a:pt x="114" y="342"/>
                  </a:cubicBezTo>
                  <a:close/>
                  <a:moveTo>
                    <a:pt x="114" y="399"/>
                  </a:moveTo>
                  <a:cubicBezTo>
                    <a:pt x="120" y="399"/>
                    <a:pt x="125" y="399"/>
                    <a:pt x="130" y="399"/>
                  </a:cubicBezTo>
                  <a:cubicBezTo>
                    <a:pt x="130" y="400"/>
                    <a:pt x="130" y="401"/>
                    <a:pt x="130" y="402"/>
                  </a:cubicBezTo>
                  <a:cubicBezTo>
                    <a:pt x="125" y="402"/>
                    <a:pt x="120" y="402"/>
                    <a:pt x="114" y="402"/>
                  </a:cubicBezTo>
                  <a:cubicBezTo>
                    <a:pt x="114" y="401"/>
                    <a:pt x="114" y="400"/>
                    <a:pt x="114" y="399"/>
                  </a:cubicBezTo>
                  <a:close/>
                  <a:moveTo>
                    <a:pt x="114" y="459"/>
                  </a:moveTo>
                  <a:cubicBezTo>
                    <a:pt x="114" y="458"/>
                    <a:pt x="114" y="457"/>
                    <a:pt x="114" y="456"/>
                  </a:cubicBezTo>
                  <a:cubicBezTo>
                    <a:pt x="120" y="456"/>
                    <a:pt x="125" y="456"/>
                    <a:pt x="130" y="456"/>
                  </a:cubicBezTo>
                  <a:cubicBezTo>
                    <a:pt x="130" y="457"/>
                    <a:pt x="130" y="458"/>
                    <a:pt x="130" y="459"/>
                  </a:cubicBezTo>
                  <a:cubicBezTo>
                    <a:pt x="125" y="459"/>
                    <a:pt x="120" y="459"/>
                    <a:pt x="114" y="459"/>
                  </a:cubicBezTo>
                  <a:close/>
                  <a:moveTo>
                    <a:pt x="114" y="513"/>
                  </a:moveTo>
                  <a:cubicBezTo>
                    <a:pt x="120" y="513"/>
                    <a:pt x="125" y="513"/>
                    <a:pt x="130" y="513"/>
                  </a:cubicBezTo>
                  <a:cubicBezTo>
                    <a:pt x="130" y="514"/>
                    <a:pt x="130" y="515"/>
                    <a:pt x="130" y="516"/>
                  </a:cubicBezTo>
                  <a:cubicBezTo>
                    <a:pt x="125" y="516"/>
                    <a:pt x="120" y="516"/>
                    <a:pt x="114" y="516"/>
                  </a:cubicBezTo>
                  <a:cubicBezTo>
                    <a:pt x="114" y="515"/>
                    <a:pt x="114" y="514"/>
                    <a:pt x="114" y="513"/>
                  </a:cubicBezTo>
                  <a:close/>
                  <a:moveTo>
                    <a:pt x="114" y="570"/>
                  </a:moveTo>
                  <a:cubicBezTo>
                    <a:pt x="120" y="570"/>
                    <a:pt x="125" y="570"/>
                    <a:pt x="130" y="570"/>
                  </a:cubicBezTo>
                  <a:cubicBezTo>
                    <a:pt x="130" y="571"/>
                    <a:pt x="130" y="572"/>
                    <a:pt x="130" y="573"/>
                  </a:cubicBezTo>
                  <a:cubicBezTo>
                    <a:pt x="125" y="573"/>
                    <a:pt x="120" y="573"/>
                    <a:pt x="114" y="573"/>
                  </a:cubicBezTo>
                  <a:cubicBezTo>
                    <a:pt x="114" y="572"/>
                    <a:pt x="114" y="571"/>
                    <a:pt x="114" y="570"/>
                  </a:cubicBezTo>
                  <a:close/>
                  <a:moveTo>
                    <a:pt x="137" y="0"/>
                  </a:moveTo>
                  <a:cubicBezTo>
                    <a:pt x="143" y="0"/>
                    <a:pt x="148" y="0"/>
                    <a:pt x="153" y="0"/>
                  </a:cubicBezTo>
                  <a:cubicBezTo>
                    <a:pt x="153" y="1"/>
                    <a:pt x="153" y="2"/>
                    <a:pt x="153" y="4"/>
                  </a:cubicBezTo>
                  <a:cubicBezTo>
                    <a:pt x="148" y="4"/>
                    <a:pt x="143" y="4"/>
                    <a:pt x="137" y="4"/>
                  </a:cubicBezTo>
                  <a:cubicBezTo>
                    <a:pt x="137" y="2"/>
                    <a:pt x="137" y="1"/>
                    <a:pt x="137" y="0"/>
                  </a:cubicBezTo>
                  <a:close/>
                  <a:moveTo>
                    <a:pt x="137" y="57"/>
                  </a:moveTo>
                  <a:cubicBezTo>
                    <a:pt x="143" y="57"/>
                    <a:pt x="148" y="57"/>
                    <a:pt x="153" y="57"/>
                  </a:cubicBezTo>
                  <a:cubicBezTo>
                    <a:pt x="153" y="58"/>
                    <a:pt x="153" y="59"/>
                    <a:pt x="153" y="60"/>
                  </a:cubicBezTo>
                  <a:cubicBezTo>
                    <a:pt x="148" y="60"/>
                    <a:pt x="143" y="60"/>
                    <a:pt x="137" y="60"/>
                  </a:cubicBezTo>
                  <a:cubicBezTo>
                    <a:pt x="137" y="59"/>
                    <a:pt x="137" y="58"/>
                    <a:pt x="137" y="57"/>
                  </a:cubicBezTo>
                  <a:close/>
                  <a:moveTo>
                    <a:pt x="137" y="114"/>
                  </a:moveTo>
                  <a:cubicBezTo>
                    <a:pt x="143" y="114"/>
                    <a:pt x="148" y="114"/>
                    <a:pt x="153" y="114"/>
                  </a:cubicBezTo>
                  <a:cubicBezTo>
                    <a:pt x="153" y="115"/>
                    <a:pt x="153" y="116"/>
                    <a:pt x="153" y="117"/>
                  </a:cubicBezTo>
                  <a:cubicBezTo>
                    <a:pt x="148" y="117"/>
                    <a:pt x="143" y="117"/>
                    <a:pt x="137" y="117"/>
                  </a:cubicBezTo>
                  <a:cubicBezTo>
                    <a:pt x="137" y="116"/>
                    <a:pt x="137" y="115"/>
                    <a:pt x="137" y="114"/>
                  </a:cubicBezTo>
                  <a:close/>
                  <a:moveTo>
                    <a:pt x="137" y="171"/>
                  </a:moveTo>
                  <a:cubicBezTo>
                    <a:pt x="143" y="171"/>
                    <a:pt x="148" y="171"/>
                    <a:pt x="153" y="171"/>
                  </a:cubicBezTo>
                  <a:cubicBezTo>
                    <a:pt x="153" y="172"/>
                    <a:pt x="153" y="173"/>
                    <a:pt x="153" y="174"/>
                  </a:cubicBezTo>
                  <a:cubicBezTo>
                    <a:pt x="148" y="174"/>
                    <a:pt x="143" y="174"/>
                    <a:pt x="137" y="174"/>
                  </a:cubicBezTo>
                  <a:cubicBezTo>
                    <a:pt x="137" y="173"/>
                    <a:pt x="137" y="172"/>
                    <a:pt x="137" y="171"/>
                  </a:cubicBezTo>
                  <a:close/>
                  <a:moveTo>
                    <a:pt x="137" y="228"/>
                  </a:moveTo>
                  <a:cubicBezTo>
                    <a:pt x="143" y="228"/>
                    <a:pt x="148" y="228"/>
                    <a:pt x="153" y="228"/>
                  </a:cubicBezTo>
                  <a:cubicBezTo>
                    <a:pt x="153" y="229"/>
                    <a:pt x="153" y="230"/>
                    <a:pt x="153" y="231"/>
                  </a:cubicBezTo>
                  <a:cubicBezTo>
                    <a:pt x="148" y="231"/>
                    <a:pt x="143" y="231"/>
                    <a:pt x="137" y="231"/>
                  </a:cubicBezTo>
                  <a:cubicBezTo>
                    <a:pt x="137" y="230"/>
                    <a:pt x="137" y="229"/>
                    <a:pt x="137" y="228"/>
                  </a:cubicBezTo>
                  <a:close/>
                  <a:moveTo>
                    <a:pt x="137" y="285"/>
                  </a:moveTo>
                  <a:cubicBezTo>
                    <a:pt x="143" y="285"/>
                    <a:pt x="148" y="285"/>
                    <a:pt x="153" y="285"/>
                  </a:cubicBezTo>
                  <a:cubicBezTo>
                    <a:pt x="153" y="286"/>
                    <a:pt x="153" y="287"/>
                    <a:pt x="153" y="288"/>
                  </a:cubicBezTo>
                  <a:cubicBezTo>
                    <a:pt x="148" y="288"/>
                    <a:pt x="143" y="288"/>
                    <a:pt x="137" y="288"/>
                  </a:cubicBezTo>
                  <a:cubicBezTo>
                    <a:pt x="137" y="287"/>
                    <a:pt x="137" y="286"/>
                    <a:pt x="137" y="285"/>
                  </a:cubicBezTo>
                  <a:close/>
                  <a:moveTo>
                    <a:pt x="137" y="342"/>
                  </a:moveTo>
                  <a:cubicBezTo>
                    <a:pt x="143" y="342"/>
                    <a:pt x="148" y="342"/>
                    <a:pt x="153" y="342"/>
                  </a:cubicBezTo>
                  <a:cubicBezTo>
                    <a:pt x="153" y="343"/>
                    <a:pt x="153" y="344"/>
                    <a:pt x="153" y="345"/>
                  </a:cubicBezTo>
                  <a:cubicBezTo>
                    <a:pt x="148" y="345"/>
                    <a:pt x="143" y="345"/>
                    <a:pt x="137" y="345"/>
                  </a:cubicBezTo>
                  <a:cubicBezTo>
                    <a:pt x="137" y="344"/>
                    <a:pt x="137" y="343"/>
                    <a:pt x="137" y="342"/>
                  </a:cubicBezTo>
                  <a:close/>
                  <a:moveTo>
                    <a:pt x="137" y="399"/>
                  </a:moveTo>
                  <a:cubicBezTo>
                    <a:pt x="143" y="399"/>
                    <a:pt x="148" y="399"/>
                    <a:pt x="153" y="399"/>
                  </a:cubicBezTo>
                  <a:cubicBezTo>
                    <a:pt x="153" y="400"/>
                    <a:pt x="153" y="401"/>
                    <a:pt x="153" y="402"/>
                  </a:cubicBezTo>
                  <a:cubicBezTo>
                    <a:pt x="148" y="402"/>
                    <a:pt x="143" y="402"/>
                    <a:pt x="137" y="402"/>
                  </a:cubicBezTo>
                  <a:cubicBezTo>
                    <a:pt x="137" y="401"/>
                    <a:pt x="137" y="400"/>
                    <a:pt x="137" y="399"/>
                  </a:cubicBezTo>
                  <a:close/>
                  <a:moveTo>
                    <a:pt x="137" y="459"/>
                  </a:moveTo>
                  <a:cubicBezTo>
                    <a:pt x="137" y="458"/>
                    <a:pt x="137" y="457"/>
                    <a:pt x="137" y="456"/>
                  </a:cubicBezTo>
                  <a:cubicBezTo>
                    <a:pt x="143" y="456"/>
                    <a:pt x="148" y="456"/>
                    <a:pt x="153" y="456"/>
                  </a:cubicBezTo>
                  <a:cubicBezTo>
                    <a:pt x="153" y="457"/>
                    <a:pt x="153" y="458"/>
                    <a:pt x="153" y="459"/>
                  </a:cubicBezTo>
                  <a:cubicBezTo>
                    <a:pt x="148" y="459"/>
                    <a:pt x="143" y="459"/>
                    <a:pt x="137" y="459"/>
                  </a:cubicBezTo>
                  <a:close/>
                  <a:moveTo>
                    <a:pt x="137" y="513"/>
                  </a:moveTo>
                  <a:cubicBezTo>
                    <a:pt x="143" y="513"/>
                    <a:pt x="148" y="513"/>
                    <a:pt x="153" y="513"/>
                  </a:cubicBezTo>
                  <a:cubicBezTo>
                    <a:pt x="153" y="514"/>
                    <a:pt x="153" y="515"/>
                    <a:pt x="153" y="516"/>
                  </a:cubicBezTo>
                  <a:cubicBezTo>
                    <a:pt x="148" y="516"/>
                    <a:pt x="143" y="516"/>
                    <a:pt x="137" y="516"/>
                  </a:cubicBezTo>
                  <a:cubicBezTo>
                    <a:pt x="137" y="515"/>
                    <a:pt x="137" y="514"/>
                    <a:pt x="137" y="513"/>
                  </a:cubicBezTo>
                  <a:close/>
                  <a:moveTo>
                    <a:pt x="137" y="570"/>
                  </a:moveTo>
                  <a:cubicBezTo>
                    <a:pt x="143" y="570"/>
                    <a:pt x="148" y="570"/>
                    <a:pt x="153" y="570"/>
                  </a:cubicBezTo>
                  <a:cubicBezTo>
                    <a:pt x="153" y="571"/>
                    <a:pt x="153" y="572"/>
                    <a:pt x="153" y="573"/>
                  </a:cubicBezTo>
                  <a:cubicBezTo>
                    <a:pt x="148" y="573"/>
                    <a:pt x="143" y="573"/>
                    <a:pt x="137" y="573"/>
                  </a:cubicBezTo>
                  <a:cubicBezTo>
                    <a:pt x="137" y="572"/>
                    <a:pt x="137" y="571"/>
                    <a:pt x="137" y="570"/>
                  </a:cubicBezTo>
                  <a:close/>
                  <a:moveTo>
                    <a:pt x="160" y="0"/>
                  </a:moveTo>
                  <a:cubicBezTo>
                    <a:pt x="165" y="0"/>
                    <a:pt x="171" y="0"/>
                    <a:pt x="176" y="0"/>
                  </a:cubicBezTo>
                  <a:cubicBezTo>
                    <a:pt x="176" y="1"/>
                    <a:pt x="176" y="2"/>
                    <a:pt x="176" y="4"/>
                  </a:cubicBezTo>
                  <a:cubicBezTo>
                    <a:pt x="171" y="4"/>
                    <a:pt x="165" y="4"/>
                    <a:pt x="160" y="4"/>
                  </a:cubicBezTo>
                  <a:cubicBezTo>
                    <a:pt x="160" y="2"/>
                    <a:pt x="160" y="1"/>
                    <a:pt x="160" y="0"/>
                  </a:cubicBezTo>
                  <a:close/>
                  <a:moveTo>
                    <a:pt x="160" y="57"/>
                  </a:moveTo>
                  <a:cubicBezTo>
                    <a:pt x="165" y="57"/>
                    <a:pt x="171" y="57"/>
                    <a:pt x="176" y="57"/>
                  </a:cubicBezTo>
                  <a:cubicBezTo>
                    <a:pt x="176" y="58"/>
                    <a:pt x="176" y="59"/>
                    <a:pt x="176" y="60"/>
                  </a:cubicBezTo>
                  <a:cubicBezTo>
                    <a:pt x="171" y="60"/>
                    <a:pt x="165" y="60"/>
                    <a:pt x="160" y="60"/>
                  </a:cubicBezTo>
                  <a:cubicBezTo>
                    <a:pt x="160" y="59"/>
                    <a:pt x="160" y="58"/>
                    <a:pt x="160" y="57"/>
                  </a:cubicBezTo>
                  <a:close/>
                  <a:moveTo>
                    <a:pt x="160" y="114"/>
                  </a:moveTo>
                  <a:cubicBezTo>
                    <a:pt x="165" y="114"/>
                    <a:pt x="171" y="114"/>
                    <a:pt x="176" y="114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1" y="117"/>
                    <a:pt x="165" y="117"/>
                    <a:pt x="160" y="117"/>
                  </a:cubicBezTo>
                  <a:cubicBezTo>
                    <a:pt x="160" y="116"/>
                    <a:pt x="160" y="115"/>
                    <a:pt x="160" y="114"/>
                  </a:cubicBezTo>
                  <a:close/>
                  <a:moveTo>
                    <a:pt x="160" y="171"/>
                  </a:moveTo>
                  <a:cubicBezTo>
                    <a:pt x="165" y="171"/>
                    <a:pt x="171" y="171"/>
                    <a:pt x="176" y="171"/>
                  </a:cubicBezTo>
                  <a:cubicBezTo>
                    <a:pt x="176" y="172"/>
                    <a:pt x="176" y="173"/>
                    <a:pt x="176" y="174"/>
                  </a:cubicBezTo>
                  <a:cubicBezTo>
                    <a:pt x="171" y="174"/>
                    <a:pt x="165" y="174"/>
                    <a:pt x="160" y="174"/>
                  </a:cubicBezTo>
                  <a:cubicBezTo>
                    <a:pt x="160" y="173"/>
                    <a:pt x="160" y="172"/>
                    <a:pt x="160" y="171"/>
                  </a:cubicBezTo>
                  <a:close/>
                  <a:moveTo>
                    <a:pt x="160" y="228"/>
                  </a:moveTo>
                  <a:cubicBezTo>
                    <a:pt x="165" y="228"/>
                    <a:pt x="171" y="228"/>
                    <a:pt x="176" y="228"/>
                  </a:cubicBezTo>
                  <a:cubicBezTo>
                    <a:pt x="176" y="229"/>
                    <a:pt x="176" y="230"/>
                    <a:pt x="176" y="231"/>
                  </a:cubicBezTo>
                  <a:cubicBezTo>
                    <a:pt x="171" y="231"/>
                    <a:pt x="165" y="231"/>
                    <a:pt x="160" y="231"/>
                  </a:cubicBezTo>
                  <a:cubicBezTo>
                    <a:pt x="160" y="230"/>
                    <a:pt x="160" y="229"/>
                    <a:pt x="160" y="228"/>
                  </a:cubicBezTo>
                  <a:close/>
                  <a:moveTo>
                    <a:pt x="160" y="285"/>
                  </a:moveTo>
                  <a:cubicBezTo>
                    <a:pt x="165" y="285"/>
                    <a:pt x="171" y="285"/>
                    <a:pt x="176" y="285"/>
                  </a:cubicBezTo>
                  <a:cubicBezTo>
                    <a:pt x="176" y="286"/>
                    <a:pt x="176" y="287"/>
                    <a:pt x="176" y="288"/>
                  </a:cubicBezTo>
                  <a:cubicBezTo>
                    <a:pt x="171" y="288"/>
                    <a:pt x="165" y="288"/>
                    <a:pt x="160" y="288"/>
                  </a:cubicBezTo>
                  <a:cubicBezTo>
                    <a:pt x="160" y="287"/>
                    <a:pt x="160" y="286"/>
                    <a:pt x="160" y="285"/>
                  </a:cubicBezTo>
                  <a:close/>
                  <a:moveTo>
                    <a:pt x="160" y="342"/>
                  </a:moveTo>
                  <a:cubicBezTo>
                    <a:pt x="165" y="342"/>
                    <a:pt x="171" y="342"/>
                    <a:pt x="176" y="342"/>
                  </a:cubicBezTo>
                  <a:cubicBezTo>
                    <a:pt x="176" y="343"/>
                    <a:pt x="176" y="344"/>
                    <a:pt x="176" y="345"/>
                  </a:cubicBezTo>
                  <a:cubicBezTo>
                    <a:pt x="171" y="345"/>
                    <a:pt x="165" y="345"/>
                    <a:pt x="160" y="345"/>
                  </a:cubicBezTo>
                  <a:cubicBezTo>
                    <a:pt x="160" y="344"/>
                    <a:pt x="160" y="343"/>
                    <a:pt x="160" y="342"/>
                  </a:cubicBezTo>
                  <a:close/>
                  <a:moveTo>
                    <a:pt x="160" y="399"/>
                  </a:moveTo>
                  <a:cubicBezTo>
                    <a:pt x="165" y="399"/>
                    <a:pt x="171" y="399"/>
                    <a:pt x="176" y="399"/>
                  </a:cubicBezTo>
                  <a:cubicBezTo>
                    <a:pt x="176" y="400"/>
                    <a:pt x="176" y="401"/>
                    <a:pt x="176" y="402"/>
                  </a:cubicBezTo>
                  <a:cubicBezTo>
                    <a:pt x="171" y="402"/>
                    <a:pt x="165" y="402"/>
                    <a:pt x="160" y="402"/>
                  </a:cubicBezTo>
                  <a:cubicBezTo>
                    <a:pt x="160" y="401"/>
                    <a:pt x="160" y="400"/>
                    <a:pt x="160" y="399"/>
                  </a:cubicBezTo>
                  <a:close/>
                  <a:moveTo>
                    <a:pt x="160" y="459"/>
                  </a:moveTo>
                  <a:cubicBezTo>
                    <a:pt x="160" y="458"/>
                    <a:pt x="160" y="457"/>
                    <a:pt x="160" y="456"/>
                  </a:cubicBezTo>
                  <a:cubicBezTo>
                    <a:pt x="165" y="456"/>
                    <a:pt x="171" y="456"/>
                    <a:pt x="176" y="456"/>
                  </a:cubicBezTo>
                  <a:cubicBezTo>
                    <a:pt x="176" y="457"/>
                    <a:pt x="176" y="458"/>
                    <a:pt x="176" y="459"/>
                  </a:cubicBezTo>
                  <a:cubicBezTo>
                    <a:pt x="171" y="459"/>
                    <a:pt x="165" y="459"/>
                    <a:pt x="160" y="459"/>
                  </a:cubicBezTo>
                  <a:close/>
                  <a:moveTo>
                    <a:pt x="160" y="513"/>
                  </a:moveTo>
                  <a:cubicBezTo>
                    <a:pt x="165" y="513"/>
                    <a:pt x="171" y="513"/>
                    <a:pt x="176" y="513"/>
                  </a:cubicBezTo>
                  <a:cubicBezTo>
                    <a:pt x="176" y="514"/>
                    <a:pt x="176" y="515"/>
                    <a:pt x="176" y="516"/>
                  </a:cubicBezTo>
                  <a:cubicBezTo>
                    <a:pt x="171" y="516"/>
                    <a:pt x="165" y="516"/>
                    <a:pt x="160" y="516"/>
                  </a:cubicBezTo>
                  <a:cubicBezTo>
                    <a:pt x="160" y="515"/>
                    <a:pt x="160" y="514"/>
                    <a:pt x="160" y="513"/>
                  </a:cubicBezTo>
                  <a:close/>
                  <a:moveTo>
                    <a:pt x="160" y="570"/>
                  </a:moveTo>
                  <a:cubicBezTo>
                    <a:pt x="165" y="570"/>
                    <a:pt x="171" y="570"/>
                    <a:pt x="176" y="570"/>
                  </a:cubicBezTo>
                  <a:cubicBezTo>
                    <a:pt x="176" y="571"/>
                    <a:pt x="176" y="572"/>
                    <a:pt x="176" y="573"/>
                  </a:cubicBezTo>
                  <a:cubicBezTo>
                    <a:pt x="171" y="573"/>
                    <a:pt x="165" y="573"/>
                    <a:pt x="160" y="573"/>
                  </a:cubicBezTo>
                  <a:cubicBezTo>
                    <a:pt x="160" y="572"/>
                    <a:pt x="160" y="571"/>
                    <a:pt x="160" y="570"/>
                  </a:cubicBezTo>
                  <a:close/>
                  <a:moveTo>
                    <a:pt x="183" y="0"/>
                  </a:moveTo>
                  <a:cubicBezTo>
                    <a:pt x="188" y="0"/>
                    <a:pt x="194" y="0"/>
                    <a:pt x="199" y="0"/>
                  </a:cubicBezTo>
                  <a:cubicBezTo>
                    <a:pt x="199" y="1"/>
                    <a:pt x="199" y="2"/>
                    <a:pt x="199" y="4"/>
                  </a:cubicBezTo>
                  <a:cubicBezTo>
                    <a:pt x="194" y="4"/>
                    <a:pt x="188" y="4"/>
                    <a:pt x="183" y="4"/>
                  </a:cubicBezTo>
                  <a:cubicBezTo>
                    <a:pt x="183" y="2"/>
                    <a:pt x="183" y="1"/>
                    <a:pt x="183" y="0"/>
                  </a:cubicBezTo>
                  <a:close/>
                  <a:moveTo>
                    <a:pt x="183" y="57"/>
                  </a:moveTo>
                  <a:cubicBezTo>
                    <a:pt x="188" y="57"/>
                    <a:pt x="194" y="57"/>
                    <a:pt x="199" y="57"/>
                  </a:cubicBezTo>
                  <a:cubicBezTo>
                    <a:pt x="199" y="58"/>
                    <a:pt x="199" y="59"/>
                    <a:pt x="199" y="60"/>
                  </a:cubicBezTo>
                  <a:cubicBezTo>
                    <a:pt x="194" y="60"/>
                    <a:pt x="188" y="60"/>
                    <a:pt x="183" y="60"/>
                  </a:cubicBezTo>
                  <a:cubicBezTo>
                    <a:pt x="183" y="59"/>
                    <a:pt x="183" y="58"/>
                    <a:pt x="183" y="57"/>
                  </a:cubicBezTo>
                  <a:close/>
                  <a:moveTo>
                    <a:pt x="183" y="114"/>
                  </a:moveTo>
                  <a:cubicBezTo>
                    <a:pt x="188" y="114"/>
                    <a:pt x="194" y="114"/>
                    <a:pt x="199" y="114"/>
                  </a:cubicBezTo>
                  <a:cubicBezTo>
                    <a:pt x="199" y="115"/>
                    <a:pt x="199" y="116"/>
                    <a:pt x="199" y="117"/>
                  </a:cubicBezTo>
                  <a:cubicBezTo>
                    <a:pt x="194" y="117"/>
                    <a:pt x="188" y="117"/>
                    <a:pt x="183" y="117"/>
                  </a:cubicBezTo>
                  <a:cubicBezTo>
                    <a:pt x="183" y="116"/>
                    <a:pt x="183" y="115"/>
                    <a:pt x="183" y="114"/>
                  </a:cubicBezTo>
                  <a:close/>
                  <a:moveTo>
                    <a:pt x="183" y="171"/>
                  </a:moveTo>
                  <a:cubicBezTo>
                    <a:pt x="188" y="171"/>
                    <a:pt x="194" y="171"/>
                    <a:pt x="199" y="171"/>
                  </a:cubicBezTo>
                  <a:cubicBezTo>
                    <a:pt x="199" y="172"/>
                    <a:pt x="199" y="173"/>
                    <a:pt x="199" y="174"/>
                  </a:cubicBezTo>
                  <a:cubicBezTo>
                    <a:pt x="194" y="174"/>
                    <a:pt x="188" y="174"/>
                    <a:pt x="183" y="174"/>
                  </a:cubicBezTo>
                  <a:cubicBezTo>
                    <a:pt x="183" y="173"/>
                    <a:pt x="183" y="172"/>
                    <a:pt x="183" y="171"/>
                  </a:cubicBezTo>
                  <a:close/>
                  <a:moveTo>
                    <a:pt x="183" y="228"/>
                  </a:moveTo>
                  <a:cubicBezTo>
                    <a:pt x="188" y="228"/>
                    <a:pt x="194" y="228"/>
                    <a:pt x="199" y="228"/>
                  </a:cubicBezTo>
                  <a:cubicBezTo>
                    <a:pt x="199" y="229"/>
                    <a:pt x="199" y="230"/>
                    <a:pt x="199" y="231"/>
                  </a:cubicBezTo>
                  <a:cubicBezTo>
                    <a:pt x="194" y="231"/>
                    <a:pt x="188" y="231"/>
                    <a:pt x="183" y="231"/>
                  </a:cubicBezTo>
                  <a:cubicBezTo>
                    <a:pt x="183" y="230"/>
                    <a:pt x="183" y="229"/>
                    <a:pt x="183" y="228"/>
                  </a:cubicBezTo>
                  <a:close/>
                  <a:moveTo>
                    <a:pt x="183" y="285"/>
                  </a:moveTo>
                  <a:cubicBezTo>
                    <a:pt x="188" y="285"/>
                    <a:pt x="194" y="285"/>
                    <a:pt x="199" y="285"/>
                  </a:cubicBezTo>
                  <a:cubicBezTo>
                    <a:pt x="199" y="286"/>
                    <a:pt x="199" y="287"/>
                    <a:pt x="199" y="288"/>
                  </a:cubicBezTo>
                  <a:cubicBezTo>
                    <a:pt x="194" y="288"/>
                    <a:pt x="188" y="288"/>
                    <a:pt x="183" y="288"/>
                  </a:cubicBezTo>
                  <a:cubicBezTo>
                    <a:pt x="183" y="287"/>
                    <a:pt x="183" y="286"/>
                    <a:pt x="183" y="285"/>
                  </a:cubicBezTo>
                  <a:close/>
                  <a:moveTo>
                    <a:pt x="183" y="342"/>
                  </a:moveTo>
                  <a:cubicBezTo>
                    <a:pt x="188" y="342"/>
                    <a:pt x="194" y="342"/>
                    <a:pt x="199" y="342"/>
                  </a:cubicBezTo>
                  <a:cubicBezTo>
                    <a:pt x="199" y="343"/>
                    <a:pt x="199" y="344"/>
                    <a:pt x="199" y="345"/>
                  </a:cubicBezTo>
                  <a:cubicBezTo>
                    <a:pt x="194" y="345"/>
                    <a:pt x="188" y="345"/>
                    <a:pt x="183" y="345"/>
                  </a:cubicBezTo>
                  <a:cubicBezTo>
                    <a:pt x="183" y="344"/>
                    <a:pt x="183" y="343"/>
                    <a:pt x="183" y="342"/>
                  </a:cubicBezTo>
                  <a:close/>
                  <a:moveTo>
                    <a:pt x="183" y="399"/>
                  </a:moveTo>
                  <a:cubicBezTo>
                    <a:pt x="188" y="399"/>
                    <a:pt x="194" y="399"/>
                    <a:pt x="199" y="399"/>
                  </a:cubicBezTo>
                  <a:cubicBezTo>
                    <a:pt x="199" y="400"/>
                    <a:pt x="199" y="401"/>
                    <a:pt x="199" y="402"/>
                  </a:cubicBezTo>
                  <a:cubicBezTo>
                    <a:pt x="194" y="402"/>
                    <a:pt x="188" y="402"/>
                    <a:pt x="183" y="402"/>
                  </a:cubicBezTo>
                  <a:cubicBezTo>
                    <a:pt x="183" y="401"/>
                    <a:pt x="183" y="400"/>
                    <a:pt x="183" y="399"/>
                  </a:cubicBezTo>
                  <a:close/>
                  <a:moveTo>
                    <a:pt x="183" y="459"/>
                  </a:moveTo>
                  <a:cubicBezTo>
                    <a:pt x="183" y="458"/>
                    <a:pt x="183" y="457"/>
                    <a:pt x="183" y="456"/>
                  </a:cubicBezTo>
                  <a:cubicBezTo>
                    <a:pt x="188" y="456"/>
                    <a:pt x="194" y="456"/>
                    <a:pt x="199" y="456"/>
                  </a:cubicBezTo>
                  <a:cubicBezTo>
                    <a:pt x="199" y="457"/>
                    <a:pt x="199" y="458"/>
                    <a:pt x="199" y="459"/>
                  </a:cubicBezTo>
                  <a:cubicBezTo>
                    <a:pt x="194" y="459"/>
                    <a:pt x="188" y="459"/>
                    <a:pt x="183" y="459"/>
                  </a:cubicBezTo>
                  <a:close/>
                  <a:moveTo>
                    <a:pt x="183" y="513"/>
                  </a:moveTo>
                  <a:cubicBezTo>
                    <a:pt x="188" y="513"/>
                    <a:pt x="194" y="513"/>
                    <a:pt x="199" y="513"/>
                  </a:cubicBezTo>
                  <a:cubicBezTo>
                    <a:pt x="199" y="514"/>
                    <a:pt x="199" y="515"/>
                    <a:pt x="199" y="516"/>
                  </a:cubicBezTo>
                  <a:cubicBezTo>
                    <a:pt x="194" y="516"/>
                    <a:pt x="188" y="516"/>
                    <a:pt x="183" y="516"/>
                  </a:cubicBezTo>
                  <a:cubicBezTo>
                    <a:pt x="183" y="515"/>
                    <a:pt x="183" y="514"/>
                    <a:pt x="183" y="513"/>
                  </a:cubicBezTo>
                  <a:close/>
                  <a:moveTo>
                    <a:pt x="183" y="570"/>
                  </a:moveTo>
                  <a:cubicBezTo>
                    <a:pt x="188" y="570"/>
                    <a:pt x="194" y="570"/>
                    <a:pt x="199" y="570"/>
                  </a:cubicBezTo>
                  <a:cubicBezTo>
                    <a:pt x="199" y="571"/>
                    <a:pt x="199" y="572"/>
                    <a:pt x="199" y="573"/>
                  </a:cubicBezTo>
                  <a:cubicBezTo>
                    <a:pt x="194" y="573"/>
                    <a:pt x="188" y="573"/>
                    <a:pt x="183" y="573"/>
                  </a:cubicBezTo>
                  <a:cubicBezTo>
                    <a:pt x="183" y="572"/>
                    <a:pt x="183" y="571"/>
                    <a:pt x="183" y="570"/>
                  </a:cubicBezTo>
                  <a:close/>
                  <a:moveTo>
                    <a:pt x="206" y="0"/>
                  </a:moveTo>
                  <a:cubicBezTo>
                    <a:pt x="211" y="0"/>
                    <a:pt x="217" y="0"/>
                    <a:pt x="222" y="0"/>
                  </a:cubicBezTo>
                  <a:cubicBezTo>
                    <a:pt x="222" y="1"/>
                    <a:pt x="222" y="2"/>
                    <a:pt x="222" y="4"/>
                  </a:cubicBezTo>
                  <a:cubicBezTo>
                    <a:pt x="217" y="4"/>
                    <a:pt x="211" y="4"/>
                    <a:pt x="206" y="4"/>
                  </a:cubicBezTo>
                  <a:cubicBezTo>
                    <a:pt x="206" y="2"/>
                    <a:pt x="206" y="1"/>
                    <a:pt x="206" y="0"/>
                  </a:cubicBezTo>
                  <a:close/>
                  <a:moveTo>
                    <a:pt x="206" y="57"/>
                  </a:moveTo>
                  <a:cubicBezTo>
                    <a:pt x="211" y="57"/>
                    <a:pt x="217" y="57"/>
                    <a:pt x="222" y="57"/>
                  </a:cubicBezTo>
                  <a:cubicBezTo>
                    <a:pt x="222" y="58"/>
                    <a:pt x="222" y="59"/>
                    <a:pt x="222" y="60"/>
                  </a:cubicBezTo>
                  <a:cubicBezTo>
                    <a:pt x="217" y="60"/>
                    <a:pt x="211" y="60"/>
                    <a:pt x="206" y="60"/>
                  </a:cubicBezTo>
                  <a:cubicBezTo>
                    <a:pt x="206" y="59"/>
                    <a:pt x="206" y="58"/>
                    <a:pt x="206" y="57"/>
                  </a:cubicBezTo>
                  <a:close/>
                  <a:moveTo>
                    <a:pt x="206" y="114"/>
                  </a:moveTo>
                  <a:cubicBezTo>
                    <a:pt x="211" y="114"/>
                    <a:pt x="217" y="114"/>
                    <a:pt x="222" y="114"/>
                  </a:cubicBezTo>
                  <a:cubicBezTo>
                    <a:pt x="222" y="115"/>
                    <a:pt x="222" y="116"/>
                    <a:pt x="222" y="117"/>
                  </a:cubicBezTo>
                  <a:cubicBezTo>
                    <a:pt x="217" y="117"/>
                    <a:pt x="211" y="117"/>
                    <a:pt x="206" y="117"/>
                  </a:cubicBezTo>
                  <a:cubicBezTo>
                    <a:pt x="206" y="116"/>
                    <a:pt x="206" y="115"/>
                    <a:pt x="206" y="114"/>
                  </a:cubicBezTo>
                  <a:close/>
                  <a:moveTo>
                    <a:pt x="206" y="171"/>
                  </a:moveTo>
                  <a:cubicBezTo>
                    <a:pt x="211" y="171"/>
                    <a:pt x="217" y="171"/>
                    <a:pt x="222" y="171"/>
                  </a:cubicBezTo>
                  <a:cubicBezTo>
                    <a:pt x="222" y="172"/>
                    <a:pt x="222" y="173"/>
                    <a:pt x="222" y="174"/>
                  </a:cubicBezTo>
                  <a:cubicBezTo>
                    <a:pt x="217" y="174"/>
                    <a:pt x="211" y="174"/>
                    <a:pt x="206" y="174"/>
                  </a:cubicBezTo>
                  <a:cubicBezTo>
                    <a:pt x="206" y="173"/>
                    <a:pt x="206" y="172"/>
                    <a:pt x="206" y="171"/>
                  </a:cubicBezTo>
                  <a:close/>
                  <a:moveTo>
                    <a:pt x="206" y="228"/>
                  </a:moveTo>
                  <a:cubicBezTo>
                    <a:pt x="211" y="228"/>
                    <a:pt x="217" y="228"/>
                    <a:pt x="222" y="228"/>
                  </a:cubicBezTo>
                  <a:cubicBezTo>
                    <a:pt x="222" y="229"/>
                    <a:pt x="222" y="230"/>
                    <a:pt x="222" y="231"/>
                  </a:cubicBezTo>
                  <a:cubicBezTo>
                    <a:pt x="217" y="231"/>
                    <a:pt x="211" y="231"/>
                    <a:pt x="206" y="231"/>
                  </a:cubicBezTo>
                  <a:cubicBezTo>
                    <a:pt x="206" y="230"/>
                    <a:pt x="206" y="229"/>
                    <a:pt x="206" y="228"/>
                  </a:cubicBezTo>
                  <a:close/>
                  <a:moveTo>
                    <a:pt x="206" y="285"/>
                  </a:moveTo>
                  <a:cubicBezTo>
                    <a:pt x="211" y="285"/>
                    <a:pt x="217" y="285"/>
                    <a:pt x="222" y="285"/>
                  </a:cubicBezTo>
                  <a:cubicBezTo>
                    <a:pt x="222" y="286"/>
                    <a:pt x="222" y="287"/>
                    <a:pt x="222" y="288"/>
                  </a:cubicBezTo>
                  <a:cubicBezTo>
                    <a:pt x="217" y="288"/>
                    <a:pt x="211" y="288"/>
                    <a:pt x="206" y="288"/>
                  </a:cubicBezTo>
                  <a:cubicBezTo>
                    <a:pt x="206" y="287"/>
                    <a:pt x="206" y="286"/>
                    <a:pt x="206" y="285"/>
                  </a:cubicBezTo>
                  <a:close/>
                  <a:moveTo>
                    <a:pt x="206" y="342"/>
                  </a:moveTo>
                  <a:cubicBezTo>
                    <a:pt x="211" y="342"/>
                    <a:pt x="217" y="342"/>
                    <a:pt x="222" y="342"/>
                  </a:cubicBezTo>
                  <a:cubicBezTo>
                    <a:pt x="222" y="343"/>
                    <a:pt x="222" y="344"/>
                    <a:pt x="222" y="345"/>
                  </a:cubicBezTo>
                  <a:cubicBezTo>
                    <a:pt x="217" y="345"/>
                    <a:pt x="211" y="345"/>
                    <a:pt x="206" y="345"/>
                  </a:cubicBezTo>
                  <a:cubicBezTo>
                    <a:pt x="206" y="344"/>
                    <a:pt x="206" y="343"/>
                    <a:pt x="206" y="342"/>
                  </a:cubicBezTo>
                  <a:close/>
                  <a:moveTo>
                    <a:pt x="206" y="399"/>
                  </a:moveTo>
                  <a:cubicBezTo>
                    <a:pt x="211" y="399"/>
                    <a:pt x="217" y="399"/>
                    <a:pt x="222" y="399"/>
                  </a:cubicBezTo>
                  <a:cubicBezTo>
                    <a:pt x="222" y="400"/>
                    <a:pt x="222" y="401"/>
                    <a:pt x="222" y="402"/>
                  </a:cubicBezTo>
                  <a:cubicBezTo>
                    <a:pt x="217" y="402"/>
                    <a:pt x="211" y="402"/>
                    <a:pt x="206" y="402"/>
                  </a:cubicBezTo>
                  <a:cubicBezTo>
                    <a:pt x="206" y="401"/>
                    <a:pt x="206" y="400"/>
                    <a:pt x="206" y="399"/>
                  </a:cubicBezTo>
                  <a:close/>
                  <a:moveTo>
                    <a:pt x="206" y="459"/>
                  </a:moveTo>
                  <a:cubicBezTo>
                    <a:pt x="206" y="458"/>
                    <a:pt x="206" y="457"/>
                    <a:pt x="206" y="456"/>
                  </a:cubicBezTo>
                  <a:cubicBezTo>
                    <a:pt x="211" y="456"/>
                    <a:pt x="217" y="456"/>
                    <a:pt x="222" y="456"/>
                  </a:cubicBezTo>
                  <a:cubicBezTo>
                    <a:pt x="222" y="457"/>
                    <a:pt x="222" y="458"/>
                    <a:pt x="222" y="459"/>
                  </a:cubicBezTo>
                  <a:cubicBezTo>
                    <a:pt x="217" y="459"/>
                    <a:pt x="211" y="459"/>
                    <a:pt x="206" y="459"/>
                  </a:cubicBezTo>
                  <a:close/>
                  <a:moveTo>
                    <a:pt x="206" y="513"/>
                  </a:moveTo>
                  <a:cubicBezTo>
                    <a:pt x="211" y="513"/>
                    <a:pt x="217" y="513"/>
                    <a:pt x="222" y="513"/>
                  </a:cubicBezTo>
                  <a:cubicBezTo>
                    <a:pt x="222" y="514"/>
                    <a:pt x="222" y="515"/>
                    <a:pt x="222" y="516"/>
                  </a:cubicBezTo>
                  <a:cubicBezTo>
                    <a:pt x="217" y="516"/>
                    <a:pt x="211" y="516"/>
                    <a:pt x="206" y="516"/>
                  </a:cubicBezTo>
                  <a:cubicBezTo>
                    <a:pt x="206" y="515"/>
                    <a:pt x="206" y="514"/>
                    <a:pt x="206" y="513"/>
                  </a:cubicBezTo>
                  <a:close/>
                  <a:moveTo>
                    <a:pt x="206" y="570"/>
                  </a:moveTo>
                  <a:cubicBezTo>
                    <a:pt x="211" y="570"/>
                    <a:pt x="217" y="570"/>
                    <a:pt x="222" y="570"/>
                  </a:cubicBezTo>
                  <a:cubicBezTo>
                    <a:pt x="222" y="571"/>
                    <a:pt x="222" y="572"/>
                    <a:pt x="222" y="573"/>
                  </a:cubicBezTo>
                  <a:cubicBezTo>
                    <a:pt x="217" y="573"/>
                    <a:pt x="211" y="573"/>
                    <a:pt x="206" y="573"/>
                  </a:cubicBezTo>
                  <a:cubicBezTo>
                    <a:pt x="206" y="572"/>
                    <a:pt x="206" y="571"/>
                    <a:pt x="206" y="570"/>
                  </a:cubicBezTo>
                  <a:close/>
                  <a:moveTo>
                    <a:pt x="229" y="0"/>
                  </a:moveTo>
                  <a:cubicBezTo>
                    <a:pt x="234" y="0"/>
                    <a:pt x="240" y="0"/>
                    <a:pt x="245" y="0"/>
                  </a:cubicBezTo>
                  <a:cubicBezTo>
                    <a:pt x="245" y="1"/>
                    <a:pt x="245" y="2"/>
                    <a:pt x="245" y="4"/>
                  </a:cubicBezTo>
                  <a:cubicBezTo>
                    <a:pt x="240" y="4"/>
                    <a:pt x="234" y="4"/>
                    <a:pt x="229" y="4"/>
                  </a:cubicBezTo>
                  <a:cubicBezTo>
                    <a:pt x="229" y="2"/>
                    <a:pt x="229" y="1"/>
                    <a:pt x="229" y="0"/>
                  </a:cubicBezTo>
                  <a:close/>
                  <a:moveTo>
                    <a:pt x="229" y="57"/>
                  </a:moveTo>
                  <a:cubicBezTo>
                    <a:pt x="234" y="57"/>
                    <a:pt x="240" y="57"/>
                    <a:pt x="245" y="57"/>
                  </a:cubicBezTo>
                  <a:cubicBezTo>
                    <a:pt x="245" y="58"/>
                    <a:pt x="245" y="59"/>
                    <a:pt x="245" y="60"/>
                  </a:cubicBezTo>
                  <a:cubicBezTo>
                    <a:pt x="240" y="60"/>
                    <a:pt x="234" y="60"/>
                    <a:pt x="229" y="60"/>
                  </a:cubicBezTo>
                  <a:cubicBezTo>
                    <a:pt x="229" y="59"/>
                    <a:pt x="229" y="58"/>
                    <a:pt x="229" y="57"/>
                  </a:cubicBezTo>
                  <a:close/>
                  <a:moveTo>
                    <a:pt x="229" y="114"/>
                  </a:moveTo>
                  <a:cubicBezTo>
                    <a:pt x="234" y="114"/>
                    <a:pt x="240" y="114"/>
                    <a:pt x="245" y="114"/>
                  </a:cubicBezTo>
                  <a:cubicBezTo>
                    <a:pt x="245" y="115"/>
                    <a:pt x="245" y="116"/>
                    <a:pt x="245" y="117"/>
                  </a:cubicBezTo>
                  <a:cubicBezTo>
                    <a:pt x="240" y="117"/>
                    <a:pt x="234" y="117"/>
                    <a:pt x="229" y="117"/>
                  </a:cubicBezTo>
                  <a:cubicBezTo>
                    <a:pt x="229" y="116"/>
                    <a:pt x="229" y="115"/>
                    <a:pt x="229" y="114"/>
                  </a:cubicBezTo>
                  <a:close/>
                  <a:moveTo>
                    <a:pt x="229" y="171"/>
                  </a:moveTo>
                  <a:cubicBezTo>
                    <a:pt x="234" y="171"/>
                    <a:pt x="240" y="171"/>
                    <a:pt x="245" y="171"/>
                  </a:cubicBezTo>
                  <a:cubicBezTo>
                    <a:pt x="245" y="172"/>
                    <a:pt x="245" y="173"/>
                    <a:pt x="245" y="174"/>
                  </a:cubicBezTo>
                  <a:cubicBezTo>
                    <a:pt x="240" y="174"/>
                    <a:pt x="234" y="174"/>
                    <a:pt x="229" y="174"/>
                  </a:cubicBezTo>
                  <a:cubicBezTo>
                    <a:pt x="229" y="173"/>
                    <a:pt x="229" y="172"/>
                    <a:pt x="229" y="171"/>
                  </a:cubicBezTo>
                  <a:close/>
                  <a:moveTo>
                    <a:pt x="229" y="228"/>
                  </a:moveTo>
                  <a:cubicBezTo>
                    <a:pt x="234" y="228"/>
                    <a:pt x="240" y="228"/>
                    <a:pt x="245" y="228"/>
                  </a:cubicBezTo>
                  <a:cubicBezTo>
                    <a:pt x="245" y="229"/>
                    <a:pt x="245" y="230"/>
                    <a:pt x="245" y="231"/>
                  </a:cubicBezTo>
                  <a:cubicBezTo>
                    <a:pt x="240" y="231"/>
                    <a:pt x="234" y="231"/>
                    <a:pt x="229" y="231"/>
                  </a:cubicBezTo>
                  <a:cubicBezTo>
                    <a:pt x="229" y="230"/>
                    <a:pt x="229" y="229"/>
                    <a:pt x="229" y="228"/>
                  </a:cubicBezTo>
                  <a:close/>
                  <a:moveTo>
                    <a:pt x="229" y="285"/>
                  </a:moveTo>
                  <a:cubicBezTo>
                    <a:pt x="234" y="285"/>
                    <a:pt x="240" y="285"/>
                    <a:pt x="245" y="285"/>
                  </a:cubicBezTo>
                  <a:cubicBezTo>
                    <a:pt x="245" y="286"/>
                    <a:pt x="245" y="287"/>
                    <a:pt x="245" y="288"/>
                  </a:cubicBezTo>
                  <a:cubicBezTo>
                    <a:pt x="240" y="288"/>
                    <a:pt x="234" y="288"/>
                    <a:pt x="229" y="288"/>
                  </a:cubicBezTo>
                  <a:cubicBezTo>
                    <a:pt x="229" y="287"/>
                    <a:pt x="229" y="286"/>
                    <a:pt x="229" y="285"/>
                  </a:cubicBezTo>
                  <a:close/>
                  <a:moveTo>
                    <a:pt x="229" y="342"/>
                  </a:moveTo>
                  <a:cubicBezTo>
                    <a:pt x="234" y="342"/>
                    <a:pt x="240" y="342"/>
                    <a:pt x="245" y="342"/>
                  </a:cubicBezTo>
                  <a:cubicBezTo>
                    <a:pt x="245" y="343"/>
                    <a:pt x="245" y="344"/>
                    <a:pt x="245" y="345"/>
                  </a:cubicBezTo>
                  <a:cubicBezTo>
                    <a:pt x="240" y="345"/>
                    <a:pt x="234" y="345"/>
                    <a:pt x="229" y="345"/>
                  </a:cubicBezTo>
                  <a:cubicBezTo>
                    <a:pt x="229" y="344"/>
                    <a:pt x="229" y="343"/>
                    <a:pt x="229" y="342"/>
                  </a:cubicBezTo>
                  <a:close/>
                  <a:moveTo>
                    <a:pt x="229" y="399"/>
                  </a:moveTo>
                  <a:cubicBezTo>
                    <a:pt x="234" y="399"/>
                    <a:pt x="240" y="399"/>
                    <a:pt x="245" y="399"/>
                  </a:cubicBezTo>
                  <a:cubicBezTo>
                    <a:pt x="245" y="400"/>
                    <a:pt x="245" y="401"/>
                    <a:pt x="245" y="402"/>
                  </a:cubicBezTo>
                  <a:cubicBezTo>
                    <a:pt x="240" y="402"/>
                    <a:pt x="234" y="402"/>
                    <a:pt x="229" y="402"/>
                  </a:cubicBezTo>
                  <a:cubicBezTo>
                    <a:pt x="229" y="401"/>
                    <a:pt x="229" y="400"/>
                    <a:pt x="229" y="399"/>
                  </a:cubicBezTo>
                  <a:close/>
                  <a:moveTo>
                    <a:pt x="229" y="459"/>
                  </a:moveTo>
                  <a:cubicBezTo>
                    <a:pt x="229" y="458"/>
                    <a:pt x="229" y="457"/>
                    <a:pt x="229" y="456"/>
                  </a:cubicBezTo>
                  <a:cubicBezTo>
                    <a:pt x="234" y="456"/>
                    <a:pt x="240" y="456"/>
                    <a:pt x="245" y="456"/>
                  </a:cubicBezTo>
                  <a:cubicBezTo>
                    <a:pt x="245" y="457"/>
                    <a:pt x="245" y="458"/>
                    <a:pt x="245" y="459"/>
                  </a:cubicBezTo>
                  <a:cubicBezTo>
                    <a:pt x="240" y="459"/>
                    <a:pt x="234" y="459"/>
                    <a:pt x="229" y="459"/>
                  </a:cubicBezTo>
                  <a:close/>
                  <a:moveTo>
                    <a:pt x="229" y="513"/>
                  </a:moveTo>
                  <a:cubicBezTo>
                    <a:pt x="234" y="513"/>
                    <a:pt x="240" y="513"/>
                    <a:pt x="245" y="513"/>
                  </a:cubicBezTo>
                  <a:cubicBezTo>
                    <a:pt x="245" y="514"/>
                    <a:pt x="245" y="515"/>
                    <a:pt x="245" y="516"/>
                  </a:cubicBezTo>
                  <a:cubicBezTo>
                    <a:pt x="240" y="516"/>
                    <a:pt x="234" y="516"/>
                    <a:pt x="229" y="516"/>
                  </a:cubicBezTo>
                  <a:cubicBezTo>
                    <a:pt x="229" y="515"/>
                    <a:pt x="229" y="514"/>
                    <a:pt x="229" y="513"/>
                  </a:cubicBezTo>
                  <a:close/>
                  <a:moveTo>
                    <a:pt x="229" y="570"/>
                  </a:moveTo>
                  <a:cubicBezTo>
                    <a:pt x="234" y="570"/>
                    <a:pt x="240" y="570"/>
                    <a:pt x="245" y="570"/>
                  </a:cubicBezTo>
                  <a:cubicBezTo>
                    <a:pt x="245" y="571"/>
                    <a:pt x="245" y="572"/>
                    <a:pt x="245" y="573"/>
                  </a:cubicBezTo>
                  <a:cubicBezTo>
                    <a:pt x="240" y="573"/>
                    <a:pt x="234" y="573"/>
                    <a:pt x="229" y="573"/>
                  </a:cubicBezTo>
                  <a:cubicBezTo>
                    <a:pt x="229" y="572"/>
                    <a:pt x="229" y="571"/>
                    <a:pt x="229" y="570"/>
                  </a:cubicBezTo>
                  <a:close/>
                  <a:moveTo>
                    <a:pt x="252" y="0"/>
                  </a:moveTo>
                  <a:cubicBezTo>
                    <a:pt x="257" y="0"/>
                    <a:pt x="262" y="0"/>
                    <a:pt x="268" y="0"/>
                  </a:cubicBezTo>
                  <a:cubicBezTo>
                    <a:pt x="268" y="1"/>
                    <a:pt x="268" y="2"/>
                    <a:pt x="268" y="4"/>
                  </a:cubicBezTo>
                  <a:cubicBezTo>
                    <a:pt x="262" y="4"/>
                    <a:pt x="257" y="4"/>
                    <a:pt x="252" y="4"/>
                  </a:cubicBezTo>
                  <a:cubicBezTo>
                    <a:pt x="252" y="2"/>
                    <a:pt x="252" y="1"/>
                    <a:pt x="252" y="0"/>
                  </a:cubicBezTo>
                  <a:close/>
                  <a:moveTo>
                    <a:pt x="252" y="57"/>
                  </a:moveTo>
                  <a:cubicBezTo>
                    <a:pt x="257" y="57"/>
                    <a:pt x="262" y="57"/>
                    <a:pt x="268" y="57"/>
                  </a:cubicBezTo>
                  <a:cubicBezTo>
                    <a:pt x="268" y="58"/>
                    <a:pt x="268" y="59"/>
                    <a:pt x="268" y="60"/>
                  </a:cubicBezTo>
                  <a:cubicBezTo>
                    <a:pt x="262" y="60"/>
                    <a:pt x="257" y="60"/>
                    <a:pt x="252" y="60"/>
                  </a:cubicBezTo>
                  <a:cubicBezTo>
                    <a:pt x="252" y="59"/>
                    <a:pt x="252" y="58"/>
                    <a:pt x="252" y="57"/>
                  </a:cubicBezTo>
                  <a:close/>
                  <a:moveTo>
                    <a:pt x="252" y="114"/>
                  </a:moveTo>
                  <a:cubicBezTo>
                    <a:pt x="257" y="114"/>
                    <a:pt x="262" y="114"/>
                    <a:pt x="268" y="114"/>
                  </a:cubicBezTo>
                  <a:cubicBezTo>
                    <a:pt x="268" y="115"/>
                    <a:pt x="268" y="116"/>
                    <a:pt x="268" y="117"/>
                  </a:cubicBezTo>
                  <a:cubicBezTo>
                    <a:pt x="262" y="117"/>
                    <a:pt x="257" y="117"/>
                    <a:pt x="252" y="117"/>
                  </a:cubicBezTo>
                  <a:cubicBezTo>
                    <a:pt x="252" y="116"/>
                    <a:pt x="252" y="115"/>
                    <a:pt x="252" y="114"/>
                  </a:cubicBezTo>
                  <a:close/>
                  <a:moveTo>
                    <a:pt x="252" y="171"/>
                  </a:moveTo>
                  <a:cubicBezTo>
                    <a:pt x="257" y="171"/>
                    <a:pt x="262" y="171"/>
                    <a:pt x="268" y="171"/>
                  </a:cubicBezTo>
                  <a:cubicBezTo>
                    <a:pt x="268" y="172"/>
                    <a:pt x="268" y="173"/>
                    <a:pt x="268" y="174"/>
                  </a:cubicBezTo>
                  <a:cubicBezTo>
                    <a:pt x="262" y="174"/>
                    <a:pt x="257" y="174"/>
                    <a:pt x="252" y="174"/>
                  </a:cubicBezTo>
                  <a:cubicBezTo>
                    <a:pt x="252" y="173"/>
                    <a:pt x="252" y="172"/>
                    <a:pt x="252" y="171"/>
                  </a:cubicBezTo>
                  <a:close/>
                  <a:moveTo>
                    <a:pt x="252" y="228"/>
                  </a:moveTo>
                  <a:cubicBezTo>
                    <a:pt x="257" y="228"/>
                    <a:pt x="262" y="228"/>
                    <a:pt x="268" y="228"/>
                  </a:cubicBezTo>
                  <a:cubicBezTo>
                    <a:pt x="268" y="229"/>
                    <a:pt x="268" y="230"/>
                    <a:pt x="268" y="231"/>
                  </a:cubicBezTo>
                  <a:cubicBezTo>
                    <a:pt x="262" y="231"/>
                    <a:pt x="257" y="231"/>
                    <a:pt x="252" y="231"/>
                  </a:cubicBezTo>
                  <a:cubicBezTo>
                    <a:pt x="252" y="230"/>
                    <a:pt x="252" y="229"/>
                    <a:pt x="252" y="228"/>
                  </a:cubicBezTo>
                  <a:close/>
                  <a:moveTo>
                    <a:pt x="252" y="285"/>
                  </a:moveTo>
                  <a:cubicBezTo>
                    <a:pt x="257" y="285"/>
                    <a:pt x="262" y="285"/>
                    <a:pt x="268" y="285"/>
                  </a:cubicBezTo>
                  <a:cubicBezTo>
                    <a:pt x="268" y="286"/>
                    <a:pt x="268" y="287"/>
                    <a:pt x="268" y="288"/>
                  </a:cubicBezTo>
                  <a:cubicBezTo>
                    <a:pt x="262" y="288"/>
                    <a:pt x="257" y="288"/>
                    <a:pt x="252" y="288"/>
                  </a:cubicBezTo>
                  <a:cubicBezTo>
                    <a:pt x="252" y="287"/>
                    <a:pt x="252" y="286"/>
                    <a:pt x="252" y="285"/>
                  </a:cubicBezTo>
                  <a:close/>
                  <a:moveTo>
                    <a:pt x="252" y="342"/>
                  </a:moveTo>
                  <a:cubicBezTo>
                    <a:pt x="257" y="342"/>
                    <a:pt x="262" y="342"/>
                    <a:pt x="268" y="342"/>
                  </a:cubicBezTo>
                  <a:cubicBezTo>
                    <a:pt x="268" y="343"/>
                    <a:pt x="268" y="344"/>
                    <a:pt x="268" y="345"/>
                  </a:cubicBezTo>
                  <a:cubicBezTo>
                    <a:pt x="262" y="345"/>
                    <a:pt x="257" y="345"/>
                    <a:pt x="252" y="345"/>
                  </a:cubicBezTo>
                  <a:cubicBezTo>
                    <a:pt x="252" y="344"/>
                    <a:pt x="252" y="343"/>
                    <a:pt x="252" y="342"/>
                  </a:cubicBezTo>
                  <a:close/>
                  <a:moveTo>
                    <a:pt x="252" y="399"/>
                  </a:moveTo>
                  <a:cubicBezTo>
                    <a:pt x="257" y="399"/>
                    <a:pt x="262" y="399"/>
                    <a:pt x="268" y="399"/>
                  </a:cubicBezTo>
                  <a:cubicBezTo>
                    <a:pt x="268" y="400"/>
                    <a:pt x="268" y="401"/>
                    <a:pt x="268" y="402"/>
                  </a:cubicBezTo>
                  <a:cubicBezTo>
                    <a:pt x="262" y="402"/>
                    <a:pt x="257" y="402"/>
                    <a:pt x="252" y="402"/>
                  </a:cubicBezTo>
                  <a:cubicBezTo>
                    <a:pt x="252" y="401"/>
                    <a:pt x="252" y="400"/>
                    <a:pt x="252" y="399"/>
                  </a:cubicBezTo>
                  <a:close/>
                  <a:moveTo>
                    <a:pt x="252" y="459"/>
                  </a:moveTo>
                  <a:cubicBezTo>
                    <a:pt x="252" y="458"/>
                    <a:pt x="252" y="457"/>
                    <a:pt x="252" y="456"/>
                  </a:cubicBezTo>
                  <a:cubicBezTo>
                    <a:pt x="257" y="456"/>
                    <a:pt x="262" y="456"/>
                    <a:pt x="268" y="456"/>
                  </a:cubicBezTo>
                  <a:cubicBezTo>
                    <a:pt x="268" y="457"/>
                    <a:pt x="268" y="458"/>
                    <a:pt x="268" y="459"/>
                  </a:cubicBezTo>
                  <a:cubicBezTo>
                    <a:pt x="262" y="459"/>
                    <a:pt x="257" y="459"/>
                    <a:pt x="252" y="459"/>
                  </a:cubicBezTo>
                  <a:close/>
                  <a:moveTo>
                    <a:pt x="252" y="513"/>
                  </a:moveTo>
                  <a:cubicBezTo>
                    <a:pt x="257" y="513"/>
                    <a:pt x="262" y="513"/>
                    <a:pt x="268" y="513"/>
                  </a:cubicBezTo>
                  <a:cubicBezTo>
                    <a:pt x="268" y="514"/>
                    <a:pt x="268" y="515"/>
                    <a:pt x="268" y="516"/>
                  </a:cubicBezTo>
                  <a:cubicBezTo>
                    <a:pt x="262" y="516"/>
                    <a:pt x="257" y="516"/>
                    <a:pt x="252" y="516"/>
                  </a:cubicBezTo>
                  <a:cubicBezTo>
                    <a:pt x="252" y="515"/>
                    <a:pt x="252" y="514"/>
                    <a:pt x="252" y="513"/>
                  </a:cubicBezTo>
                  <a:close/>
                  <a:moveTo>
                    <a:pt x="252" y="570"/>
                  </a:moveTo>
                  <a:cubicBezTo>
                    <a:pt x="257" y="570"/>
                    <a:pt x="262" y="570"/>
                    <a:pt x="268" y="570"/>
                  </a:cubicBezTo>
                  <a:cubicBezTo>
                    <a:pt x="268" y="571"/>
                    <a:pt x="268" y="572"/>
                    <a:pt x="268" y="573"/>
                  </a:cubicBezTo>
                  <a:cubicBezTo>
                    <a:pt x="262" y="573"/>
                    <a:pt x="257" y="573"/>
                    <a:pt x="252" y="573"/>
                  </a:cubicBezTo>
                  <a:cubicBezTo>
                    <a:pt x="252" y="572"/>
                    <a:pt x="252" y="571"/>
                    <a:pt x="252" y="570"/>
                  </a:cubicBezTo>
                  <a:close/>
                  <a:moveTo>
                    <a:pt x="274" y="0"/>
                  </a:moveTo>
                  <a:cubicBezTo>
                    <a:pt x="280" y="0"/>
                    <a:pt x="285" y="0"/>
                    <a:pt x="291" y="0"/>
                  </a:cubicBezTo>
                  <a:cubicBezTo>
                    <a:pt x="291" y="1"/>
                    <a:pt x="291" y="2"/>
                    <a:pt x="291" y="4"/>
                  </a:cubicBezTo>
                  <a:cubicBezTo>
                    <a:pt x="285" y="4"/>
                    <a:pt x="280" y="4"/>
                    <a:pt x="274" y="4"/>
                  </a:cubicBezTo>
                  <a:cubicBezTo>
                    <a:pt x="274" y="2"/>
                    <a:pt x="274" y="1"/>
                    <a:pt x="274" y="0"/>
                  </a:cubicBezTo>
                  <a:close/>
                  <a:moveTo>
                    <a:pt x="274" y="57"/>
                  </a:moveTo>
                  <a:cubicBezTo>
                    <a:pt x="280" y="57"/>
                    <a:pt x="285" y="57"/>
                    <a:pt x="291" y="57"/>
                  </a:cubicBezTo>
                  <a:cubicBezTo>
                    <a:pt x="291" y="58"/>
                    <a:pt x="291" y="59"/>
                    <a:pt x="291" y="60"/>
                  </a:cubicBezTo>
                  <a:cubicBezTo>
                    <a:pt x="285" y="60"/>
                    <a:pt x="280" y="60"/>
                    <a:pt x="274" y="60"/>
                  </a:cubicBezTo>
                  <a:cubicBezTo>
                    <a:pt x="274" y="59"/>
                    <a:pt x="274" y="58"/>
                    <a:pt x="274" y="57"/>
                  </a:cubicBezTo>
                  <a:close/>
                  <a:moveTo>
                    <a:pt x="274" y="114"/>
                  </a:moveTo>
                  <a:cubicBezTo>
                    <a:pt x="280" y="114"/>
                    <a:pt x="285" y="114"/>
                    <a:pt x="291" y="114"/>
                  </a:cubicBezTo>
                  <a:cubicBezTo>
                    <a:pt x="291" y="115"/>
                    <a:pt x="291" y="116"/>
                    <a:pt x="291" y="117"/>
                  </a:cubicBezTo>
                  <a:cubicBezTo>
                    <a:pt x="285" y="117"/>
                    <a:pt x="280" y="117"/>
                    <a:pt x="274" y="117"/>
                  </a:cubicBezTo>
                  <a:cubicBezTo>
                    <a:pt x="274" y="116"/>
                    <a:pt x="274" y="115"/>
                    <a:pt x="274" y="114"/>
                  </a:cubicBezTo>
                  <a:close/>
                  <a:moveTo>
                    <a:pt x="274" y="171"/>
                  </a:moveTo>
                  <a:cubicBezTo>
                    <a:pt x="280" y="171"/>
                    <a:pt x="285" y="171"/>
                    <a:pt x="291" y="171"/>
                  </a:cubicBezTo>
                  <a:cubicBezTo>
                    <a:pt x="291" y="172"/>
                    <a:pt x="291" y="173"/>
                    <a:pt x="291" y="174"/>
                  </a:cubicBezTo>
                  <a:cubicBezTo>
                    <a:pt x="285" y="174"/>
                    <a:pt x="280" y="174"/>
                    <a:pt x="274" y="174"/>
                  </a:cubicBezTo>
                  <a:cubicBezTo>
                    <a:pt x="274" y="173"/>
                    <a:pt x="274" y="172"/>
                    <a:pt x="274" y="171"/>
                  </a:cubicBezTo>
                  <a:close/>
                  <a:moveTo>
                    <a:pt x="274" y="228"/>
                  </a:moveTo>
                  <a:cubicBezTo>
                    <a:pt x="280" y="228"/>
                    <a:pt x="285" y="228"/>
                    <a:pt x="291" y="228"/>
                  </a:cubicBezTo>
                  <a:cubicBezTo>
                    <a:pt x="291" y="229"/>
                    <a:pt x="291" y="230"/>
                    <a:pt x="291" y="231"/>
                  </a:cubicBezTo>
                  <a:cubicBezTo>
                    <a:pt x="285" y="231"/>
                    <a:pt x="280" y="231"/>
                    <a:pt x="274" y="231"/>
                  </a:cubicBezTo>
                  <a:cubicBezTo>
                    <a:pt x="274" y="230"/>
                    <a:pt x="274" y="229"/>
                    <a:pt x="274" y="228"/>
                  </a:cubicBezTo>
                  <a:close/>
                  <a:moveTo>
                    <a:pt x="274" y="285"/>
                  </a:moveTo>
                  <a:cubicBezTo>
                    <a:pt x="280" y="285"/>
                    <a:pt x="285" y="285"/>
                    <a:pt x="291" y="285"/>
                  </a:cubicBezTo>
                  <a:cubicBezTo>
                    <a:pt x="291" y="286"/>
                    <a:pt x="291" y="287"/>
                    <a:pt x="291" y="288"/>
                  </a:cubicBezTo>
                  <a:cubicBezTo>
                    <a:pt x="285" y="288"/>
                    <a:pt x="280" y="288"/>
                    <a:pt x="274" y="288"/>
                  </a:cubicBezTo>
                  <a:cubicBezTo>
                    <a:pt x="274" y="287"/>
                    <a:pt x="274" y="286"/>
                    <a:pt x="274" y="285"/>
                  </a:cubicBezTo>
                  <a:close/>
                  <a:moveTo>
                    <a:pt x="274" y="342"/>
                  </a:moveTo>
                  <a:cubicBezTo>
                    <a:pt x="280" y="342"/>
                    <a:pt x="285" y="342"/>
                    <a:pt x="291" y="342"/>
                  </a:cubicBezTo>
                  <a:cubicBezTo>
                    <a:pt x="291" y="343"/>
                    <a:pt x="291" y="344"/>
                    <a:pt x="291" y="345"/>
                  </a:cubicBezTo>
                  <a:cubicBezTo>
                    <a:pt x="285" y="345"/>
                    <a:pt x="280" y="345"/>
                    <a:pt x="274" y="345"/>
                  </a:cubicBezTo>
                  <a:cubicBezTo>
                    <a:pt x="274" y="344"/>
                    <a:pt x="274" y="343"/>
                    <a:pt x="274" y="342"/>
                  </a:cubicBezTo>
                  <a:close/>
                  <a:moveTo>
                    <a:pt x="274" y="399"/>
                  </a:moveTo>
                  <a:cubicBezTo>
                    <a:pt x="280" y="399"/>
                    <a:pt x="285" y="399"/>
                    <a:pt x="291" y="399"/>
                  </a:cubicBezTo>
                  <a:cubicBezTo>
                    <a:pt x="291" y="400"/>
                    <a:pt x="291" y="401"/>
                    <a:pt x="291" y="402"/>
                  </a:cubicBezTo>
                  <a:cubicBezTo>
                    <a:pt x="285" y="402"/>
                    <a:pt x="280" y="402"/>
                    <a:pt x="274" y="402"/>
                  </a:cubicBezTo>
                  <a:cubicBezTo>
                    <a:pt x="274" y="401"/>
                    <a:pt x="274" y="400"/>
                    <a:pt x="274" y="399"/>
                  </a:cubicBezTo>
                  <a:close/>
                  <a:moveTo>
                    <a:pt x="274" y="459"/>
                  </a:moveTo>
                  <a:cubicBezTo>
                    <a:pt x="274" y="458"/>
                    <a:pt x="274" y="457"/>
                    <a:pt x="274" y="456"/>
                  </a:cubicBezTo>
                  <a:cubicBezTo>
                    <a:pt x="280" y="456"/>
                    <a:pt x="285" y="456"/>
                    <a:pt x="291" y="456"/>
                  </a:cubicBezTo>
                  <a:cubicBezTo>
                    <a:pt x="291" y="457"/>
                    <a:pt x="291" y="458"/>
                    <a:pt x="291" y="459"/>
                  </a:cubicBezTo>
                  <a:cubicBezTo>
                    <a:pt x="285" y="459"/>
                    <a:pt x="280" y="459"/>
                    <a:pt x="274" y="459"/>
                  </a:cubicBezTo>
                  <a:close/>
                  <a:moveTo>
                    <a:pt x="274" y="513"/>
                  </a:moveTo>
                  <a:cubicBezTo>
                    <a:pt x="280" y="513"/>
                    <a:pt x="285" y="513"/>
                    <a:pt x="291" y="513"/>
                  </a:cubicBezTo>
                  <a:cubicBezTo>
                    <a:pt x="291" y="514"/>
                    <a:pt x="291" y="515"/>
                    <a:pt x="291" y="516"/>
                  </a:cubicBezTo>
                  <a:cubicBezTo>
                    <a:pt x="285" y="516"/>
                    <a:pt x="280" y="516"/>
                    <a:pt x="274" y="516"/>
                  </a:cubicBezTo>
                  <a:cubicBezTo>
                    <a:pt x="274" y="515"/>
                    <a:pt x="274" y="514"/>
                    <a:pt x="274" y="513"/>
                  </a:cubicBezTo>
                  <a:close/>
                  <a:moveTo>
                    <a:pt x="274" y="570"/>
                  </a:moveTo>
                  <a:cubicBezTo>
                    <a:pt x="280" y="570"/>
                    <a:pt x="285" y="570"/>
                    <a:pt x="291" y="570"/>
                  </a:cubicBezTo>
                  <a:cubicBezTo>
                    <a:pt x="291" y="571"/>
                    <a:pt x="291" y="572"/>
                    <a:pt x="291" y="573"/>
                  </a:cubicBezTo>
                  <a:cubicBezTo>
                    <a:pt x="285" y="573"/>
                    <a:pt x="280" y="573"/>
                    <a:pt x="274" y="573"/>
                  </a:cubicBezTo>
                  <a:cubicBezTo>
                    <a:pt x="274" y="572"/>
                    <a:pt x="274" y="571"/>
                    <a:pt x="274" y="570"/>
                  </a:cubicBezTo>
                  <a:close/>
                  <a:moveTo>
                    <a:pt x="297" y="0"/>
                  </a:moveTo>
                  <a:cubicBezTo>
                    <a:pt x="303" y="0"/>
                    <a:pt x="308" y="0"/>
                    <a:pt x="314" y="0"/>
                  </a:cubicBezTo>
                  <a:cubicBezTo>
                    <a:pt x="314" y="1"/>
                    <a:pt x="314" y="2"/>
                    <a:pt x="314" y="4"/>
                  </a:cubicBezTo>
                  <a:cubicBezTo>
                    <a:pt x="308" y="4"/>
                    <a:pt x="303" y="4"/>
                    <a:pt x="297" y="4"/>
                  </a:cubicBezTo>
                  <a:cubicBezTo>
                    <a:pt x="297" y="2"/>
                    <a:pt x="297" y="1"/>
                    <a:pt x="297" y="0"/>
                  </a:cubicBezTo>
                  <a:close/>
                  <a:moveTo>
                    <a:pt x="297" y="57"/>
                  </a:moveTo>
                  <a:cubicBezTo>
                    <a:pt x="303" y="57"/>
                    <a:pt x="308" y="57"/>
                    <a:pt x="314" y="57"/>
                  </a:cubicBezTo>
                  <a:cubicBezTo>
                    <a:pt x="314" y="58"/>
                    <a:pt x="314" y="59"/>
                    <a:pt x="314" y="60"/>
                  </a:cubicBezTo>
                  <a:cubicBezTo>
                    <a:pt x="308" y="60"/>
                    <a:pt x="303" y="60"/>
                    <a:pt x="297" y="60"/>
                  </a:cubicBezTo>
                  <a:cubicBezTo>
                    <a:pt x="297" y="59"/>
                    <a:pt x="297" y="58"/>
                    <a:pt x="297" y="57"/>
                  </a:cubicBezTo>
                  <a:close/>
                  <a:moveTo>
                    <a:pt x="297" y="114"/>
                  </a:moveTo>
                  <a:cubicBezTo>
                    <a:pt x="303" y="114"/>
                    <a:pt x="308" y="114"/>
                    <a:pt x="314" y="114"/>
                  </a:cubicBezTo>
                  <a:cubicBezTo>
                    <a:pt x="314" y="115"/>
                    <a:pt x="314" y="116"/>
                    <a:pt x="314" y="117"/>
                  </a:cubicBezTo>
                  <a:cubicBezTo>
                    <a:pt x="308" y="117"/>
                    <a:pt x="303" y="117"/>
                    <a:pt x="297" y="117"/>
                  </a:cubicBezTo>
                  <a:cubicBezTo>
                    <a:pt x="297" y="116"/>
                    <a:pt x="297" y="115"/>
                    <a:pt x="297" y="114"/>
                  </a:cubicBezTo>
                  <a:close/>
                  <a:moveTo>
                    <a:pt x="297" y="171"/>
                  </a:moveTo>
                  <a:cubicBezTo>
                    <a:pt x="303" y="171"/>
                    <a:pt x="308" y="171"/>
                    <a:pt x="314" y="171"/>
                  </a:cubicBezTo>
                  <a:cubicBezTo>
                    <a:pt x="314" y="172"/>
                    <a:pt x="314" y="173"/>
                    <a:pt x="314" y="174"/>
                  </a:cubicBezTo>
                  <a:cubicBezTo>
                    <a:pt x="308" y="174"/>
                    <a:pt x="303" y="174"/>
                    <a:pt x="297" y="174"/>
                  </a:cubicBezTo>
                  <a:cubicBezTo>
                    <a:pt x="297" y="173"/>
                    <a:pt x="297" y="172"/>
                    <a:pt x="297" y="171"/>
                  </a:cubicBezTo>
                  <a:close/>
                  <a:moveTo>
                    <a:pt x="297" y="228"/>
                  </a:moveTo>
                  <a:cubicBezTo>
                    <a:pt x="303" y="228"/>
                    <a:pt x="308" y="228"/>
                    <a:pt x="314" y="228"/>
                  </a:cubicBezTo>
                  <a:cubicBezTo>
                    <a:pt x="314" y="229"/>
                    <a:pt x="314" y="230"/>
                    <a:pt x="314" y="231"/>
                  </a:cubicBezTo>
                  <a:cubicBezTo>
                    <a:pt x="308" y="231"/>
                    <a:pt x="303" y="231"/>
                    <a:pt x="297" y="231"/>
                  </a:cubicBezTo>
                  <a:cubicBezTo>
                    <a:pt x="297" y="230"/>
                    <a:pt x="297" y="229"/>
                    <a:pt x="297" y="228"/>
                  </a:cubicBezTo>
                  <a:close/>
                  <a:moveTo>
                    <a:pt x="297" y="285"/>
                  </a:moveTo>
                  <a:cubicBezTo>
                    <a:pt x="303" y="285"/>
                    <a:pt x="308" y="285"/>
                    <a:pt x="314" y="285"/>
                  </a:cubicBezTo>
                  <a:cubicBezTo>
                    <a:pt x="314" y="286"/>
                    <a:pt x="314" y="287"/>
                    <a:pt x="314" y="288"/>
                  </a:cubicBezTo>
                  <a:cubicBezTo>
                    <a:pt x="308" y="288"/>
                    <a:pt x="303" y="288"/>
                    <a:pt x="297" y="288"/>
                  </a:cubicBezTo>
                  <a:cubicBezTo>
                    <a:pt x="297" y="287"/>
                    <a:pt x="297" y="286"/>
                    <a:pt x="297" y="285"/>
                  </a:cubicBezTo>
                  <a:close/>
                  <a:moveTo>
                    <a:pt x="297" y="342"/>
                  </a:moveTo>
                  <a:cubicBezTo>
                    <a:pt x="303" y="342"/>
                    <a:pt x="308" y="342"/>
                    <a:pt x="314" y="342"/>
                  </a:cubicBezTo>
                  <a:cubicBezTo>
                    <a:pt x="314" y="343"/>
                    <a:pt x="314" y="344"/>
                    <a:pt x="314" y="345"/>
                  </a:cubicBezTo>
                  <a:cubicBezTo>
                    <a:pt x="308" y="345"/>
                    <a:pt x="303" y="345"/>
                    <a:pt x="297" y="345"/>
                  </a:cubicBezTo>
                  <a:cubicBezTo>
                    <a:pt x="297" y="344"/>
                    <a:pt x="297" y="343"/>
                    <a:pt x="297" y="342"/>
                  </a:cubicBezTo>
                  <a:close/>
                  <a:moveTo>
                    <a:pt x="297" y="399"/>
                  </a:moveTo>
                  <a:cubicBezTo>
                    <a:pt x="303" y="399"/>
                    <a:pt x="308" y="399"/>
                    <a:pt x="314" y="399"/>
                  </a:cubicBezTo>
                  <a:cubicBezTo>
                    <a:pt x="314" y="400"/>
                    <a:pt x="314" y="401"/>
                    <a:pt x="314" y="402"/>
                  </a:cubicBezTo>
                  <a:cubicBezTo>
                    <a:pt x="308" y="402"/>
                    <a:pt x="303" y="402"/>
                    <a:pt x="297" y="402"/>
                  </a:cubicBezTo>
                  <a:cubicBezTo>
                    <a:pt x="297" y="401"/>
                    <a:pt x="297" y="400"/>
                    <a:pt x="297" y="399"/>
                  </a:cubicBezTo>
                  <a:close/>
                  <a:moveTo>
                    <a:pt x="297" y="459"/>
                  </a:moveTo>
                  <a:cubicBezTo>
                    <a:pt x="297" y="458"/>
                    <a:pt x="297" y="457"/>
                    <a:pt x="297" y="456"/>
                  </a:cubicBezTo>
                  <a:cubicBezTo>
                    <a:pt x="303" y="456"/>
                    <a:pt x="308" y="456"/>
                    <a:pt x="314" y="456"/>
                  </a:cubicBezTo>
                  <a:cubicBezTo>
                    <a:pt x="314" y="457"/>
                    <a:pt x="314" y="458"/>
                    <a:pt x="314" y="459"/>
                  </a:cubicBezTo>
                  <a:cubicBezTo>
                    <a:pt x="308" y="459"/>
                    <a:pt x="303" y="459"/>
                    <a:pt x="297" y="459"/>
                  </a:cubicBezTo>
                  <a:close/>
                  <a:moveTo>
                    <a:pt x="297" y="513"/>
                  </a:moveTo>
                  <a:cubicBezTo>
                    <a:pt x="303" y="513"/>
                    <a:pt x="308" y="513"/>
                    <a:pt x="314" y="513"/>
                  </a:cubicBezTo>
                  <a:cubicBezTo>
                    <a:pt x="314" y="514"/>
                    <a:pt x="314" y="515"/>
                    <a:pt x="314" y="516"/>
                  </a:cubicBezTo>
                  <a:cubicBezTo>
                    <a:pt x="308" y="516"/>
                    <a:pt x="303" y="516"/>
                    <a:pt x="297" y="516"/>
                  </a:cubicBezTo>
                  <a:cubicBezTo>
                    <a:pt x="297" y="515"/>
                    <a:pt x="297" y="514"/>
                    <a:pt x="297" y="513"/>
                  </a:cubicBezTo>
                  <a:close/>
                  <a:moveTo>
                    <a:pt x="297" y="570"/>
                  </a:moveTo>
                  <a:cubicBezTo>
                    <a:pt x="303" y="570"/>
                    <a:pt x="308" y="570"/>
                    <a:pt x="314" y="570"/>
                  </a:cubicBezTo>
                  <a:cubicBezTo>
                    <a:pt x="314" y="571"/>
                    <a:pt x="314" y="572"/>
                    <a:pt x="314" y="573"/>
                  </a:cubicBezTo>
                  <a:cubicBezTo>
                    <a:pt x="308" y="573"/>
                    <a:pt x="303" y="573"/>
                    <a:pt x="297" y="573"/>
                  </a:cubicBezTo>
                  <a:cubicBezTo>
                    <a:pt x="297" y="572"/>
                    <a:pt x="297" y="571"/>
                    <a:pt x="297" y="570"/>
                  </a:cubicBezTo>
                  <a:close/>
                  <a:moveTo>
                    <a:pt x="320" y="0"/>
                  </a:moveTo>
                  <a:cubicBezTo>
                    <a:pt x="326" y="0"/>
                    <a:pt x="331" y="0"/>
                    <a:pt x="337" y="0"/>
                  </a:cubicBezTo>
                  <a:cubicBezTo>
                    <a:pt x="337" y="1"/>
                    <a:pt x="337" y="2"/>
                    <a:pt x="337" y="4"/>
                  </a:cubicBezTo>
                  <a:cubicBezTo>
                    <a:pt x="331" y="4"/>
                    <a:pt x="326" y="4"/>
                    <a:pt x="320" y="4"/>
                  </a:cubicBezTo>
                  <a:cubicBezTo>
                    <a:pt x="320" y="2"/>
                    <a:pt x="320" y="1"/>
                    <a:pt x="320" y="0"/>
                  </a:cubicBezTo>
                  <a:close/>
                  <a:moveTo>
                    <a:pt x="320" y="57"/>
                  </a:moveTo>
                  <a:cubicBezTo>
                    <a:pt x="326" y="57"/>
                    <a:pt x="331" y="57"/>
                    <a:pt x="337" y="57"/>
                  </a:cubicBezTo>
                  <a:cubicBezTo>
                    <a:pt x="337" y="58"/>
                    <a:pt x="337" y="59"/>
                    <a:pt x="337" y="60"/>
                  </a:cubicBezTo>
                  <a:cubicBezTo>
                    <a:pt x="331" y="60"/>
                    <a:pt x="326" y="60"/>
                    <a:pt x="320" y="60"/>
                  </a:cubicBezTo>
                  <a:cubicBezTo>
                    <a:pt x="320" y="59"/>
                    <a:pt x="320" y="58"/>
                    <a:pt x="320" y="57"/>
                  </a:cubicBezTo>
                  <a:close/>
                  <a:moveTo>
                    <a:pt x="320" y="114"/>
                  </a:moveTo>
                  <a:cubicBezTo>
                    <a:pt x="326" y="114"/>
                    <a:pt x="331" y="114"/>
                    <a:pt x="337" y="114"/>
                  </a:cubicBezTo>
                  <a:cubicBezTo>
                    <a:pt x="337" y="115"/>
                    <a:pt x="337" y="116"/>
                    <a:pt x="337" y="117"/>
                  </a:cubicBezTo>
                  <a:cubicBezTo>
                    <a:pt x="331" y="117"/>
                    <a:pt x="326" y="117"/>
                    <a:pt x="320" y="117"/>
                  </a:cubicBezTo>
                  <a:cubicBezTo>
                    <a:pt x="320" y="116"/>
                    <a:pt x="320" y="115"/>
                    <a:pt x="320" y="114"/>
                  </a:cubicBezTo>
                  <a:close/>
                  <a:moveTo>
                    <a:pt x="320" y="171"/>
                  </a:moveTo>
                  <a:cubicBezTo>
                    <a:pt x="326" y="171"/>
                    <a:pt x="331" y="171"/>
                    <a:pt x="337" y="171"/>
                  </a:cubicBezTo>
                  <a:cubicBezTo>
                    <a:pt x="337" y="172"/>
                    <a:pt x="337" y="173"/>
                    <a:pt x="337" y="174"/>
                  </a:cubicBezTo>
                  <a:cubicBezTo>
                    <a:pt x="331" y="174"/>
                    <a:pt x="326" y="174"/>
                    <a:pt x="320" y="174"/>
                  </a:cubicBezTo>
                  <a:cubicBezTo>
                    <a:pt x="320" y="173"/>
                    <a:pt x="320" y="172"/>
                    <a:pt x="320" y="171"/>
                  </a:cubicBezTo>
                  <a:close/>
                  <a:moveTo>
                    <a:pt x="320" y="228"/>
                  </a:moveTo>
                  <a:cubicBezTo>
                    <a:pt x="326" y="228"/>
                    <a:pt x="331" y="228"/>
                    <a:pt x="337" y="228"/>
                  </a:cubicBezTo>
                  <a:cubicBezTo>
                    <a:pt x="337" y="229"/>
                    <a:pt x="337" y="230"/>
                    <a:pt x="337" y="231"/>
                  </a:cubicBezTo>
                  <a:cubicBezTo>
                    <a:pt x="331" y="231"/>
                    <a:pt x="326" y="231"/>
                    <a:pt x="320" y="231"/>
                  </a:cubicBezTo>
                  <a:cubicBezTo>
                    <a:pt x="320" y="230"/>
                    <a:pt x="320" y="229"/>
                    <a:pt x="320" y="228"/>
                  </a:cubicBezTo>
                  <a:close/>
                  <a:moveTo>
                    <a:pt x="320" y="285"/>
                  </a:moveTo>
                  <a:cubicBezTo>
                    <a:pt x="326" y="285"/>
                    <a:pt x="331" y="285"/>
                    <a:pt x="337" y="285"/>
                  </a:cubicBezTo>
                  <a:cubicBezTo>
                    <a:pt x="337" y="286"/>
                    <a:pt x="337" y="287"/>
                    <a:pt x="337" y="288"/>
                  </a:cubicBezTo>
                  <a:cubicBezTo>
                    <a:pt x="331" y="288"/>
                    <a:pt x="326" y="288"/>
                    <a:pt x="320" y="288"/>
                  </a:cubicBezTo>
                  <a:cubicBezTo>
                    <a:pt x="320" y="287"/>
                    <a:pt x="320" y="286"/>
                    <a:pt x="320" y="285"/>
                  </a:cubicBezTo>
                  <a:close/>
                  <a:moveTo>
                    <a:pt x="320" y="342"/>
                  </a:moveTo>
                  <a:cubicBezTo>
                    <a:pt x="326" y="342"/>
                    <a:pt x="331" y="342"/>
                    <a:pt x="337" y="342"/>
                  </a:cubicBezTo>
                  <a:cubicBezTo>
                    <a:pt x="337" y="343"/>
                    <a:pt x="337" y="344"/>
                    <a:pt x="337" y="345"/>
                  </a:cubicBezTo>
                  <a:cubicBezTo>
                    <a:pt x="331" y="345"/>
                    <a:pt x="326" y="345"/>
                    <a:pt x="320" y="345"/>
                  </a:cubicBezTo>
                  <a:cubicBezTo>
                    <a:pt x="320" y="344"/>
                    <a:pt x="320" y="343"/>
                    <a:pt x="320" y="342"/>
                  </a:cubicBezTo>
                  <a:close/>
                  <a:moveTo>
                    <a:pt x="320" y="399"/>
                  </a:moveTo>
                  <a:cubicBezTo>
                    <a:pt x="326" y="399"/>
                    <a:pt x="331" y="399"/>
                    <a:pt x="337" y="399"/>
                  </a:cubicBezTo>
                  <a:cubicBezTo>
                    <a:pt x="337" y="400"/>
                    <a:pt x="337" y="401"/>
                    <a:pt x="337" y="402"/>
                  </a:cubicBezTo>
                  <a:cubicBezTo>
                    <a:pt x="331" y="402"/>
                    <a:pt x="326" y="402"/>
                    <a:pt x="320" y="402"/>
                  </a:cubicBezTo>
                  <a:cubicBezTo>
                    <a:pt x="320" y="401"/>
                    <a:pt x="320" y="400"/>
                    <a:pt x="320" y="399"/>
                  </a:cubicBezTo>
                  <a:close/>
                  <a:moveTo>
                    <a:pt x="320" y="459"/>
                  </a:moveTo>
                  <a:cubicBezTo>
                    <a:pt x="320" y="458"/>
                    <a:pt x="320" y="457"/>
                    <a:pt x="320" y="456"/>
                  </a:cubicBezTo>
                  <a:cubicBezTo>
                    <a:pt x="326" y="456"/>
                    <a:pt x="331" y="456"/>
                    <a:pt x="337" y="456"/>
                  </a:cubicBezTo>
                  <a:cubicBezTo>
                    <a:pt x="337" y="457"/>
                    <a:pt x="337" y="458"/>
                    <a:pt x="337" y="459"/>
                  </a:cubicBezTo>
                  <a:cubicBezTo>
                    <a:pt x="331" y="459"/>
                    <a:pt x="326" y="459"/>
                    <a:pt x="320" y="459"/>
                  </a:cubicBezTo>
                  <a:close/>
                  <a:moveTo>
                    <a:pt x="320" y="513"/>
                  </a:moveTo>
                  <a:cubicBezTo>
                    <a:pt x="326" y="513"/>
                    <a:pt x="331" y="513"/>
                    <a:pt x="337" y="513"/>
                  </a:cubicBezTo>
                  <a:cubicBezTo>
                    <a:pt x="337" y="514"/>
                    <a:pt x="337" y="515"/>
                    <a:pt x="337" y="516"/>
                  </a:cubicBezTo>
                  <a:cubicBezTo>
                    <a:pt x="331" y="516"/>
                    <a:pt x="326" y="516"/>
                    <a:pt x="320" y="516"/>
                  </a:cubicBezTo>
                  <a:cubicBezTo>
                    <a:pt x="320" y="515"/>
                    <a:pt x="320" y="514"/>
                    <a:pt x="320" y="513"/>
                  </a:cubicBezTo>
                  <a:close/>
                  <a:moveTo>
                    <a:pt x="320" y="570"/>
                  </a:moveTo>
                  <a:cubicBezTo>
                    <a:pt x="326" y="570"/>
                    <a:pt x="331" y="570"/>
                    <a:pt x="337" y="570"/>
                  </a:cubicBezTo>
                  <a:cubicBezTo>
                    <a:pt x="337" y="571"/>
                    <a:pt x="337" y="572"/>
                    <a:pt x="337" y="573"/>
                  </a:cubicBezTo>
                  <a:cubicBezTo>
                    <a:pt x="331" y="573"/>
                    <a:pt x="326" y="573"/>
                    <a:pt x="320" y="573"/>
                  </a:cubicBezTo>
                  <a:cubicBezTo>
                    <a:pt x="320" y="572"/>
                    <a:pt x="320" y="571"/>
                    <a:pt x="320" y="570"/>
                  </a:cubicBezTo>
                  <a:close/>
                  <a:moveTo>
                    <a:pt x="343" y="0"/>
                  </a:moveTo>
                  <a:cubicBezTo>
                    <a:pt x="349" y="0"/>
                    <a:pt x="354" y="0"/>
                    <a:pt x="359" y="0"/>
                  </a:cubicBezTo>
                  <a:cubicBezTo>
                    <a:pt x="359" y="1"/>
                    <a:pt x="359" y="2"/>
                    <a:pt x="359" y="4"/>
                  </a:cubicBezTo>
                  <a:cubicBezTo>
                    <a:pt x="354" y="4"/>
                    <a:pt x="349" y="4"/>
                    <a:pt x="343" y="4"/>
                  </a:cubicBezTo>
                  <a:cubicBezTo>
                    <a:pt x="343" y="2"/>
                    <a:pt x="343" y="1"/>
                    <a:pt x="343" y="0"/>
                  </a:cubicBezTo>
                  <a:close/>
                  <a:moveTo>
                    <a:pt x="343" y="57"/>
                  </a:moveTo>
                  <a:cubicBezTo>
                    <a:pt x="349" y="57"/>
                    <a:pt x="354" y="57"/>
                    <a:pt x="359" y="57"/>
                  </a:cubicBezTo>
                  <a:cubicBezTo>
                    <a:pt x="359" y="58"/>
                    <a:pt x="359" y="59"/>
                    <a:pt x="359" y="60"/>
                  </a:cubicBezTo>
                  <a:cubicBezTo>
                    <a:pt x="354" y="60"/>
                    <a:pt x="349" y="60"/>
                    <a:pt x="343" y="60"/>
                  </a:cubicBezTo>
                  <a:cubicBezTo>
                    <a:pt x="343" y="59"/>
                    <a:pt x="343" y="58"/>
                    <a:pt x="343" y="57"/>
                  </a:cubicBezTo>
                  <a:close/>
                  <a:moveTo>
                    <a:pt x="343" y="114"/>
                  </a:moveTo>
                  <a:cubicBezTo>
                    <a:pt x="349" y="114"/>
                    <a:pt x="354" y="114"/>
                    <a:pt x="359" y="114"/>
                  </a:cubicBezTo>
                  <a:cubicBezTo>
                    <a:pt x="359" y="115"/>
                    <a:pt x="359" y="116"/>
                    <a:pt x="359" y="117"/>
                  </a:cubicBezTo>
                  <a:cubicBezTo>
                    <a:pt x="354" y="117"/>
                    <a:pt x="349" y="117"/>
                    <a:pt x="343" y="117"/>
                  </a:cubicBezTo>
                  <a:cubicBezTo>
                    <a:pt x="343" y="116"/>
                    <a:pt x="343" y="115"/>
                    <a:pt x="343" y="114"/>
                  </a:cubicBezTo>
                  <a:close/>
                  <a:moveTo>
                    <a:pt x="343" y="171"/>
                  </a:moveTo>
                  <a:cubicBezTo>
                    <a:pt x="349" y="171"/>
                    <a:pt x="354" y="171"/>
                    <a:pt x="359" y="171"/>
                  </a:cubicBezTo>
                  <a:cubicBezTo>
                    <a:pt x="359" y="172"/>
                    <a:pt x="359" y="173"/>
                    <a:pt x="359" y="174"/>
                  </a:cubicBezTo>
                  <a:cubicBezTo>
                    <a:pt x="354" y="174"/>
                    <a:pt x="349" y="174"/>
                    <a:pt x="343" y="174"/>
                  </a:cubicBezTo>
                  <a:cubicBezTo>
                    <a:pt x="343" y="173"/>
                    <a:pt x="343" y="172"/>
                    <a:pt x="343" y="171"/>
                  </a:cubicBezTo>
                  <a:close/>
                  <a:moveTo>
                    <a:pt x="343" y="228"/>
                  </a:moveTo>
                  <a:cubicBezTo>
                    <a:pt x="349" y="228"/>
                    <a:pt x="354" y="228"/>
                    <a:pt x="359" y="228"/>
                  </a:cubicBezTo>
                  <a:cubicBezTo>
                    <a:pt x="359" y="229"/>
                    <a:pt x="359" y="230"/>
                    <a:pt x="359" y="231"/>
                  </a:cubicBezTo>
                  <a:cubicBezTo>
                    <a:pt x="354" y="231"/>
                    <a:pt x="349" y="231"/>
                    <a:pt x="343" y="231"/>
                  </a:cubicBezTo>
                  <a:cubicBezTo>
                    <a:pt x="343" y="230"/>
                    <a:pt x="343" y="229"/>
                    <a:pt x="343" y="228"/>
                  </a:cubicBezTo>
                  <a:close/>
                  <a:moveTo>
                    <a:pt x="343" y="285"/>
                  </a:moveTo>
                  <a:cubicBezTo>
                    <a:pt x="349" y="285"/>
                    <a:pt x="354" y="285"/>
                    <a:pt x="359" y="285"/>
                  </a:cubicBezTo>
                  <a:cubicBezTo>
                    <a:pt x="359" y="286"/>
                    <a:pt x="359" y="287"/>
                    <a:pt x="359" y="288"/>
                  </a:cubicBezTo>
                  <a:cubicBezTo>
                    <a:pt x="354" y="288"/>
                    <a:pt x="349" y="288"/>
                    <a:pt x="343" y="288"/>
                  </a:cubicBezTo>
                  <a:cubicBezTo>
                    <a:pt x="343" y="287"/>
                    <a:pt x="343" y="286"/>
                    <a:pt x="343" y="285"/>
                  </a:cubicBezTo>
                  <a:close/>
                  <a:moveTo>
                    <a:pt x="343" y="342"/>
                  </a:moveTo>
                  <a:cubicBezTo>
                    <a:pt x="349" y="342"/>
                    <a:pt x="354" y="342"/>
                    <a:pt x="359" y="342"/>
                  </a:cubicBezTo>
                  <a:cubicBezTo>
                    <a:pt x="359" y="343"/>
                    <a:pt x="359" y="344"/>
                    <a:pt x="359" y="345"/>
                  </a:cubicBezTo>
                  <a:cubicBezTo>
                    <a:pt x="354" y="345"/>
                    <a:pt x="349" y="345"/>
                    <a:pt x="343" y="345"/>
                  </a:cubicBezTo>
                  <a:cubicBezTo>
                    <a:pt x="343" y="344"/>
                    <a:pt x="343" y="343"/>
                    <a:pt x="343" y="342"/>
                  </a:cubicBezTo>
                  <a:close/>
                  <a:moveTo>
                    <a:pt x="343" y="399"/>
                  </a:moveTo>
                  <a:cubicBezTo>
                    <a:pt x="349" y="399"/>
                    <a:pt x="354" y="399"/>
                    <a:pt x="359" y="399"/>
                  </a:cubicBezTo>
                  <a:cubicBezTo>
                    <a:pt x="359" y="400"/>
                    <a:pt x="359" y="401"/>
                    <a:pt x="359" y="402"/>
                  </a:cubicBezTo>
                  <a:cubicBezTo>
                    <a:pt x="354" y="402"/>
                    <a:pt x="349" y="402"/>
                    <a:pt x="343" y="402"/>
                  </a:cubicBezTo>
                  <a:cubicBezTo>
                    <a:pt x="343" y="401"/>
                    <a:pt x="343" y="400"/>
                    <a:pt x="343" y="399"/>
                  </a:cubicBezTo>
                  <a:close/>
                  <a:moveTo>
                    <a:pt x="343" y="459"/>
                  </a:moveTo>
                  <a:cubicBezTo>
                    <a:pt x="343" y="458"/>
                    <a:pt x="343" y="457"/>
                    <a:pt x="343" y="456"/>
                  </a:cubicBezTo>
                  <a:cubicBezTo>
                    <a:pt x="349" y="456"/>
                    <a:pt x="354" y="456"/>
                    <a:pt x="359" y="456"/>
                  </a:cubicBezTo>
                  <a:cubicBezTo>
                    <a:pt x="359" y="457"/>
                    <a:pt x="359" y="458"/>
                    <a:pt x="359" y="459"/>
                  </a:cubicBezTo>
                  <a:cubicBezTo>
                    <a:pt x="354" y="459"/>
                    <a:pt x="349" y="459"/>
                    <a:pt x="343" y="459"/>
                  </a:cubicBezTo>
                  <a:close/>
                  <a:moveTo>
                    <a:pt x="343" y="513"/>
                  </a:moveTo>
                  <a:cubicBezTo>
                    <a:pt x="349" y="513"/>
                    <a:pt x="354" y="513"/>
                    <a:pt x="359" y="513"/>
                  </a:cubicBezTo>
                  <a:cubicBezTo>
                    <a:pt x="359" y="514"/>
                    <a:pt x="359" y="515"/>
                    <a:pt x="359" y="516"/>
                  </a:cubicBezTo>
                  <a:cubicBezTo>
                    <a:pt x="354" y="516"/>
                    <a:pt x="349" y="516"/>
                    <a:pt x="343" y="516"/>
                  </a:cubicBezTo>
                  <a:cubicBezTo>
                    <a:pt x="343" y="515"/>
                    <a:pt x="343" y="514"/>
                    <a:pt x="343" y="513"/>
                  </a:cubicBezTo>
                  <a:close/>
                  <a:moveTo>
                    <a:pt x="343" y="570"/>
                  </a:moveTo>
                  <a:cubicBezTo>
                    <a:pt x="349" y="570"/>
                    <a:pt x="354" y="570"/>
                    <a:pt x="359" y="570"/>
                  </a:cubicBezTo>
                  <a:cubicBezTo>
                    <a:pt x="359" y="571"/>
                    <a:pt x="359" y="572"/>
                    <a:pt x="359" y="573"/>
                  </a:cubicBezTo>
                  <a:cubicBezTo>
                    <a:pt x="354" y="573"/>
                    <a:pt x="349" y="573"/>
                    <a:pt x="343" y="573"/>
                  </a:cubicBezTo>
                  <a:cubicBezTo>
                    <a:pt x="343" y="572"/>
                    <a:pt x="343" y="571"/>
                    <a:pt x="343" y="570"/>
                  </a:cubicBezTo>
                  <a:close/>
                  <a:moveTo>
                    <a:pt x="366" y="0"/>
                  </a:moveTo>
                  <a:cubicBezTo>
                    <a:pt x="372" y="0"/>
                    <a:pt x="377" y="0"/>
                    <a:pt x="382" y="0"/>
                  </a:cubicBezTo>
                  <a:cubicBezTo>
                    <a:pt x="382" y="1"/>
                    <a:pt x="382" y="2"/>
                    <a:pt x="382" y="4"/>
                  </a:cubicBezTo>
                  <a:cubicBezTo>
                    <a:pt x="377" y="4"/>
                    <a:pt x="372" y="4"/>
                    <a:pt x="366" y="4"/>
                  </a:cubicBezTo>
                  <a:cubicBezTo>
                    <a:pt x="366" y="2"/>
                    <a:pt x="366" y="1"/>
                    <a:pt x="366" y="0"/>
                  </a:cubicBezTo>
                  <a:close/>
                  <a:moveTo>
                    <a:pt x="366" y="57"/>
                  </a:moveTo>
                  <a:cubicBezTo>
                    <a:pt x="372" y="57"/>
                    <a:pt x="377" y="57"/>
                    <a:pt x="382" y="57"/>
                  </a:cubicBezTo>
                  <a:cubicBezTo>
                    <a:pt x="382" y="58"/>
                    <a:pt x="382" y="59"/>
                    <a:pt x="382" y="60"/>
                  </a:cubicBezTo>
                  <a:cubicBezTo>
                    <a:pt x="377" y="60"/>
                    <a:pt x="372" y="60"/>
                    <a:pt x="366" y="60"/>
                  </a:cubicBezTo>
                  <a:cubicBezTo>
                    <a:pt x="366" y="59"/>
                    <a:pt x="366" y="58"/>
                    <a:pt x="366" y="57"/>
                  </a:cubicBezTo>
                  <a:close/>
                  <a:moveTo>
                    <a:pt x="366" y="114"/>
                  </a:moveTo>
                  <a:cubicBezTo>
                    <a:pt x="372" y="114"/>
                    <a:pt x="377" y="114"/>
                    <a:pt x="382" y="114"/>
                  </a:cubicBezTo>
                  <a:cubicBezTo>
                    <a:pt x="382" y="115"/>
                    <a:pt x="382" y="116"/>
                    <a:pt x="382" y="117"/>
                  </a:cubicBezTo>
                  <a:cubicBezTo>
                    <a:pt x="377" y="117"/>
                    <a:pt x="372" y="117"/>
                    <a:pt x="366" y="117"/>
                  </a:cubicBezTo>
                  <a:cubicBezTo>
                    <a:pt x="366" y="116"/>
                    <a:pt x="366" y="115"/>
                    <a:pt x="366" y="114"/>
                  </a:cubicBezTo>
                  <a:close/>
                  <a:moveTo>
                    <a:pt x="366" y="171"/>
                  </a:moveTo>
                  <a:cubicBezTo>
                    <a:pt x="372" y="171"/>
                    <a:pt x="377" y="171"/>
                    <a:pt x="382" y="171"/>
                  </a:cubicBezTo>
                  <a:cubicBezTo>
                    <a:pt x="382" y="172"/>
                    <a:pt x="382" y="173"/>
                    <a:pt x="382" y="174"/>
                  </a:cubicBezTo>
                  <a:cubicBezTo>
                    <a:pt x="377" y="174"/>
                    <a:pt x="372" y="174"/>
                    <a:pt x="366" y="174"/>
                  </a:cubicBezTo>
                  <a:cubicBezTo>
                    <a:pt x="366" y="173"/>
                    <a:pt x="366" y="172"/>
                    <a:pt x="366" y="171"/>
                  </a:cubicBezTo>
                  <a:close/>
                  <a:moveTo>
                    <a:pt x="366" y="228"/>
                  </a:moveTo>
                  <a:cubicBezTo>
                    <a:pt x="372" y="228"/>
                    <a:pt x="377" y="228"/>
                    <a:pt x="382" y="228"/>
                  </a:cubicBezTo>
                  <a:cubicBezTo>
                    <a:pt x="382" y="229"/>
                    <a:pt x="382" y="230"/>
                    <a:pt x="382" y="231"/>
                  </a:cubicBezTo>
                  <a:cubicBezTo>
                    <a:pt x="377" y="231"/>
                    <a:pt x="372" y="231"/>
                    <a:pt x="366" y="231"/>
                  </a:cubicBezTo>
                  <a:cubicBezTo>
                    <a:pt x="366" y="230"/>
                    <a:pt x="366" y="229"/>
                    <a:pt x="366" y="228"/>
                  </a:cubicBezTo>
                  <a:close/>
                  <a:moveTo>
                    <a:pt x="366" y="285"/>
                  </a:moveTo>
                  <a:cubicBezTo>
                    <a:pt x="372" y="285"/>
                    <a:pt x="377" y="285"/>
                    <a:pt x="382" y="285"/>
                  </a:cubicBezTo>
                  <a:cubicBezTo>
                    <a:pt x="382" y="286"/>
                    <a:pt x="382" y="287"/>
                    <a:pt x="382" y="288"/>
                  </a:cubicBezTo>
                  <a:cubicBezTo>
                    <a:pt x="377" y="288"/>
                    <a:pt x="372" y="288"/>
                    <a:pt x="366" y="288"/>
                  </a:cubicBezTo>
                  <a:cubicBezTo>
                    <a:pt x="366" y="287"/>
                    <a:pt x="366" y="286"/>
                    <a:pt x="366" y="285"/>
                  </a:cubicBezTo>
                  <a:close/>
                  <a:moveTo>
                    <a:pt x="366" y="342"/>
                  </a:moveTo>
                  <a:cubicBezTo>
                    <a:pt x="372" y="342"/>
                    <a:pt x="377" y="342"/>
                    <a:pt x="382" y="342"/>
                  </a:cubicBezTo>
                  <a:cubicBezTo>
                    <a:pt x="382" y="343"/>
                    <a:pt x="382" y="344"/>
                    <a:pt x="382" y="345"/>
                  </a:cubicBezTo>
                  <a:cubicBezTo>
                    <a:pt x="377" y="345"/>
                    <a:pt x="372" y="345"/>
                    <a:pt x="366" y="345"/>
                  </a:cubicBezTo>
                  <a:cubicBezTo>
                    <a:pt x="366" y="344"/>
                    <a:pt x="366" y="343"/>
                    <a:pt x="366" y="342"/>
                  </a:cubicBezTo>
                  <a:close/>
                  <a:moveTo>
                    <a:pt x="366" y="399"/>
                  </a:moveTo>
                  <a:cubicBezTo>
                    <a:pt x="372" y="399"/>
                    <a:pt x="377" y="399"/>
                    <a:pt x="382" y="399"/>
                  </a:cubicBezTo>
                  <a:cubicBezTo>
                    <a:pt x="382" y="400"/>
                    <a:pt x="382" y="401"/>
                    <a:pt x="382" y="402"/>
                  </a:cubicBezTo>
                  <a:cubicBezTo>
                    <a:pt x="377" y="402"/>
                    <a:pt x="372" y="402"/>
                    <a:pt x="366" y="402"/>
                  </a:cubicBezTo>
                  <a:cubicBezTo>
                    <a:pt x="366" y="401"/>
                    <a:pt x="366" y="400"/>
                    <a:pt x="366" y="399"/>
                  </a:cubicBezTo>
                  <a:close/>
                  <a:moveTo>
                    <a:pt x="366" y="459"/>
                  </a:moveTo>
                  <a:cubicBezTo>
                    <a:pt x="366" y="458"/>
                    <a:pt x="366" y="457"/>
                    <a:pt x="366" y="456"/>
                  </a:cubicBezTo>
                  <a:cubicBezTo>
                    <a:pt x="372" y="456"/>
                    <a:pt x="377" y="456"/>
                    <a:pt x="382" y="456"/>
                  </a:cubicBezTo>
                  <a:cubicBezTo>
                    <a:pt x="382" y="457"/>
                    <a:pt x="382" y="458"/>
                    <a:pt x="382" y="459"/>
                  </a:cubicBezTo>
                  <a:cubicBezTo>
                    <a:pt x="377" y="459"/>
                    <a:pt x="372" y="459"/>
                    <a:pt x="366" y="459"/>
                  </a:cubicBezTo>
                  <a:close/>
                  <a:moveTo>
                    <a:pt x="366" y="513"/>
                  </a:moveTo>
                  <a:cubicBezTo>
                    <a:pt x="372" y="513"/>
                    <a:pt x="377" y="513"/>
                    <a:pt x="382" y="513"/>
                  </a:cubicBezTo>
                  <a:cubicBezTo>
                    <a:pt x="382" y="514"/>
                    <a:pt x="382" y="515"/>
                    <a:pt x="382" y="516"/>
                  </a:cubicBezTo>
                  <a:cubicBezTo>
                    <a:pt x="377" y="516"/>
                    <a:pt x="372" y="516"/>
                    <a:pt x="366" y="516"/>
                  </a:cubicBezTo>
                  <a:cubicBezTo>
                    <a:pt x="366" y="515"/>
                    <a:pt x="366" y="514"/>
                    <a:pt x="366" y="513"/>
                  </a:cubicBezTo>
                  <a:close/>
                  <a:moveTo>
                    <a:pt x="366" y="570"/>
                  </a:moveTo>
                  <a:cubicBezTo>
                    <a:pt x="372" y="570"/>
                    <a:pt x="377" y="570"/>
                    <a:pt x="382" y="570"/>
                  </a:cubicBezTo>
                  <a:cubicBezTo>
                    <a:pt x="382" y="571"/>
                    <a:pt x="382" y="572"/>
                    <a:pt x="382" y="573"/>
                  </a:cubicBezTo>
                  <a:cubicBezTo>
                    <a:pt x="377" y="573"/>
                    <a:pt x="372" y="573"/>
                    <a:pt x="366" y="573"/>
                  </a:cubicBezTo>
                  <a:cubicBezTo>
                    <a:pt x="366" y="572"/>
                    <a:pt x="366" y="571"/>
                    <a:pt x="366" y="570"/>
                  </a:cubicBezTo>
                  <a:close/>
                  <a:moveTo>
                    <a:pt x="389" y="0"/>
                  </a:moveTo>
                  <a:cubicBezTo>
                    <a:pt x="394" y="0"/>
                    <a:pt x="400" y="0"/>
                    <a:pt x="405" y="0"/>
                  </a:cubicBezTo>
                  <a:cubicBezTo>
                    <a:pt x="405" y="1"/>
                    <a:pt x="405" y="2"/>
                    <a:pt x="405" y="4"/>
                  </a:cubicBezTo>
                  <a:cubicBezTo>
                    <a:pt x="400" y="4"/>
                    <a:pt x="394" y="4"/>
                    <a:pt x="389" y="4"/>
                  </a:cubicBezTo>
                  <a:cubicBezTo>
                    <a:pt x="389" y="2"/>
                    <a:pt x="389" y="1"/>
                    <a:pt x="389" y="0"/>
                  </a:cubicBezTo>
                  <a:close/>
                  <a:moveTo>
                    <a:pt x="389" y="57"/>
                  </a:moveTo>
                  <a:cubicBezTo>
                    <a:pt x="394" y="57"/>
                    <a:pt x="400" y="57"/>
                    <a:pt x="405" y="57"/>
                  </a:cubicBezTo>
                  <a:cubicBezTo>
                    <a:pt x="405" y="58"/>
                    <a:pt x="405" y="59"/>
                    <a:pt x="405" y="60"/>
                  </a:cubicBezTo>
                  <a:cubicBezTo>
                    <a:pt x="400" y="60"/>
                    <a:pt x="394" y="60"/>
                    <a:pt x="389" y="60"/>
                  </a:cubicBezTo>
                  <a:cubicBezTo>
                    <a:pt x="389" y="59"/>
                    <a:pt x="389" y="58"/>
                    <a:pt x="389" y="57"/>
                  </a:cubicBezTo>
                  <a:close/>
                  <a:moveTo>
                    <a:pt x="389" y="114"/>
                  </a:moveTo>
                  <a:cubicBezTo>
                    <a:pt x="394" y="114"/>
                    <a:pt x="400" y="114"/>
                    <a:pt x="405" y="114"/>
                  </a:cubicBezTo>
                  <a:cubicBezTo>
                    <a:pt x="405" y="115"/>
                    <a:pt x="405" y="116"/>
                    <a:pt x="405" y="117"/>
                  </a:cubicBezTo>
                  <a:cubicBezTo>
                    <a:pt x="400" y="117"/>
                    <a:pt x="394" y="117"/>
                    <a:pt x="389" y="117"/>
                  </a:cubicBezTo>
                  <a:cubicBezTo>
                    <a:pt x="389" y="116"/>
                    <a:pt x="389" y="115"/>
                    <a:pt x="389" y="114"/>
                  </a:cubicBezTo>
                  <a:close/>
                  <a:moveTo>
                    <a:pt x="389" y="171"/>
                  </a:moveTo>
                  <a:cubicBezTo>
                    <a:pt x="394" y="171"/>
                    <a:pt x="400" y="171"/>
                    <a:pt x="405" y="171"/>
                  </a:cubicBezTo>
                  <a:cubicBezTo>
                    <a:pt x="405" y="172"/>
                    <a:pt x="405" y="173"/>
                    <a:pt x="405" y="174"/>
                  </a:cubicBezTo>
                  <a:cubicBezTo>
                    <a:pt x="400" y="174"/>
                    <a:pt x="394" y="174"/>
                    <a:pt x="389" y="174"/>
                  </a:cubicBezTo>
                  <a:cubicBezTo>
                    <a:pt x="389" y="173"/>
                    <a:pt x="389" y="172"/>
                    <a:pt x="389" y="171"/>
                  </a:cubicBezTo>
                  <a:close/>
                  <a:moveTo>
                    <a:pt x="389" y="228"/>
                  </a:moveTo>
                  <a:cubicBezTo>
                    <a:pt x="394" y="228"/>
                    <a:pt x="400" y="228"/>
                    <a:pt x="405" y="228"/>
                  </a:cubicBezTo>
                  <a:cubicBezTo>
                    <a:pt x="405" y="229"/>
                    <a:pt x="405" y="230"/>
                    <a:pt x="405" y="231"/>
                  </a:cubicBezTo>
                  <a:cubicBezTo>
                    <a:pt x="400" y="231"/>
                    <a:pt x="394" y="231"/>
                    <a:pt x="389" y="231"/>
                  </a:cubicBezTo>
                  <a:cubicBezTo>
                    <a:pt x="389" y="230"/>
                    <a:pt x="389" y="229"/>
                    <a:pt x="389" y="228"/>
                  </a:cubicBezTo>
                  <a:close/>
                  <a:moveTo>
                    <a:pt x="389" y="285"/>
                  </a:moveTo>
                  <a:cubicBezTo>
                    <a:pt x="394" y="285"/>
                    <a:pt x="400" y="285"/>
                    <a:pt x="405" y="285"/>
                  </a:cubicBezTo>
                  <a:cubicBezTo>
                    <a:pt x="405" y="286"/>
                    <a:pt x="405" y="287"/>
                    <a:pt x="405" y="288"/>
                  </a:cubicBezTo>
                  <a:cubicBezTo>
                    <a:pt x="400" y="288"/>
                    <a:pt x="394" y="288"/>
                    <a:pt x="389" y="288"/>
                  </a:cubicBezTo>
                  <a:cubicBezTo>
                    <a:pt x="389" y="287"/>
                    <a:pt x="389" y="286"/>
                    <a:pt x="389" y="285"/>
                  </a:cubicBezTo>
                  <a:close/>
                  <a:moveTo>
                    <a:pt x="389" y="342"/>
                  </a:moveTo>
                  <a:cubicBezTo>
                    <a:pt x="394" y="342"/>
                    <a:pt x="400" y="342"/>
                    <a:pt x="405" y="342"/>
                  </a:cubicBezTo>
                  <a:cubicBezTo>
                    <a:pt x="405" y="343"/>
                    <a:pt x="405" y="344"/>
                    <a:pt x="405" y="345"/>
                  </a:cubicBezTo>
                  <a:cubicBezTo>
                    <a:pt x="400" y="345"/>
                    <a:pt x="394" y="345"/>
                    <a:pt x="389" y="345"/>
                  </a:cubicBezTo>
                  <a:cubicBezTo>
                    <a:pt x="389" y="344"/>
                    <a:pt x="389" y="343"/>
                    <a:pt x="389" y="342"/>
                  </a:cubicBezTo>
                  <a:close/>
                  <a:moveTo>
                    <a:pt x="389" y="399"/>
                  </a:moveTo>
                  <a:cubicBezTo>
                    <a:pt x="394" y="399"/>
                    <a:pt x="400" y="399"/>
                    <a:pt x="405" y="399"/>
                  </a:cubicBezTo>
                  <a:cubicBezTo>
                    <a:pt x="405" y="400"/>
                    <a:pt x="405" y="401"/>
                    <a:pt x="405" y="402"/>
                  </a:cubicBezTo>
                  <a:cubicBezTo>
                    <a:pt x="400" y="402"/>
                    <a:pt x="394" y="402"/>
                    <a:pt x="389" y="402"/>
                  </a:cubicBezTo>
                  <a:cubicBezTo>
                    <a:pt x="389" y="401"/>
                    <a:pt x="389" y="400"/>
                    <a:pt x="389" y="399"/>
                  </a:cubicBezTo>
                  <a:close/>
                  <a:moveTo>
                    <a:pt x="389" y="459"/>
                  </a:moveTo>
                  <a:cubicBezTo>
                    <a:pt x="389" y="458"/>
                    <a:pt x="389" y="457"/>
                    <a:pt x="389" y="456"/>
                  </a:cubicBezTo>
                  <a:cubicBezTo>
                    <a:pt x="394" y="456"/>
                    <a:pt x="400" y="456"/>
                    <a:pt x="405" y="456"/>
                  </a:cubicBezTo>
                  <a:cubicBezTo>
                    <a:pt x="405" y="457"/>
                    <a:pt x="405" y="458"/>
                    <a:pt x="405" y="459"/>
                  </a:cubicBezTo>
                  <a:cubicBezTo>
                    <a:pt x="400" y="459"/>
                    <a:pt x="394" y="459"/>
                    <a:pt x="389" y="459"/>
                  </a:cubicBezTo>
                  <a:close/>
                  <a:moveTo>
                    <a:pt x="389" y="513"/>
                  </a:moveTo>
                  <a:cubicBezTo>
                    <a:pt x="394" y="513"/>
                    <a:pt x="400" y="513"/>
                    <a:pt x="405" y="513"/>
                  </a:cubicBezTo>
                  <a:cubicBezTo>
                    <a:pt x="405" y="514"/>
                    <a:pt x="405" y="515"/>
                    <a:pt x="405" y="516"/>
                  </a:cubicBezTo>
                  <a:cubicBezTo>
                    <a:pt x="400" y="516"/>
                    <a:pt x="394" y="516"/>
                    <a:pt x="389" y="516"/>
                  </a:cubicBezTo>
                  <a:cubicBezTo>
                    <a:pt x="389" y="515"/>
                    <a:pt x="389" y="514"/>
                    <a:pt x="389" y="513"/>
                  </a:cubicBezTo>
                  <a:close/>
                  <a:moveTo>
                    <a:pt x="389" y="570"/>
                  </a:moveTo>
                  <a:cubicBezTo>
                    <a:pt x="394" y="570"/>
                    <a:pt x="400" y="570"/>
                    <a:pt x="405" y="570"/>
                  </a:cubicBezTo>
                  <a:cubicBezTo>
                    <a:pt x="405" y="571"/>
                    <a:pt x="405" y="572"/>
                    <a:pt x="405" y="573"/>
                  </a:cubicBezTo>
                  <a:cubicBezTo>
                    <a:pt x="400" y="573"/>
                    <a:pt x="394" y="573"/>
                    <a:pt x="389" y="573"/>
                  </a:cubicBezTo>
                  <a:cubicBezTo>
                    <a:pt x="389" y="572"/>
                    <a:pt x="389" y="571"/>
                    <a:pt x="389" y="570"/>
                  </a:cubicBezTo>
                  <a:close/>
                  <a:moveTo>
                    <a:pt x="412" y="0"/>
                  </a:moveTo>
                  <a:cubicBezTo>
                    <a:pt x="417" y="0"/>
                    <a:pt x="423" y="0"/>
                    <a:pt x="428" y="0"/>
                  </a:cubicBezTo>
                  <a:cubicBezTo>
                    <a:pt x="428" y="1"/>
                    <a:pt x="428" y="2"/>
                    <a:pt x="428" y="4"/>
                  </a:cubicBezTo>
                  <a:cubicBezTo>
                    <a:pt x="423" y="4"/>
                    <a:pt x="417" y="4"/>
                    <a:pt x="412" y="4"/>
                  </a:cubicBezTo>
                  <a:cubicBezTo>
                    <a:pt x="412" y="2"/>
                    <a:pt x="412" y="1"/>
                    <a:pt x="412" y="0"/>
                  </a:cubicBezTo>
                  <a:close/>
                  <a:moveTo>
                    <a:pt x="412" y="57"/>
                  </a:moveTo>
                  <a:cubicBezTo>
                    <a:pt x="417" y="57"/>
                    <a:pt x="423" y="57"/>
                    <a:pt x="428" y="57"/>
                  </a:cubicBezTo>
                  <a:cubicBezTo>
                    <a:pt x="428" y="58"/>
                    <a:pt x="428" y="59"/>
                    <a:pt x="428" y="60"/>
                  </a:cubicBezTo>
                  <a:cubicBezTo>
                    <a:pt x="423" y="60"/>
                    <a:pt x="417" y="60"/>
                    <a:pt x="412" y="60"/>
                  </a:cubicBezTo>
                  <a:cubicBezTo>
                    <a:pt x="412" y="59"/>
                    <a:pt x="412" y="58"/>
                    <a:pt x="412" y="57"/>
                  </a:cubicBezTo>
                  <a:close/>
                  <a:moveTo>
                    <a:pt x="412" y="114"/>
                  </a:moveTo>
                  <a:cubicBezTo>
                    <a:pt x="417" y="114"/>
                    <a:pt x="423" y="114"/>
                    <a:pt x="428" y="114"/>
                  </a:cubicBezTo>
                  <a:cubicBezTo>
                    <a:pt x="428" y="115"/>
                    <a:pt x="428" y="116"/>
                    <a:pt x="428" y="117"/>
                  </a:cubicBezTo>
                  <a:cubicBezTo>
                    <a:pt x="423" y="117"/>
                    <a:pt x="417" y="117"/>
                    <a:pt x="412" y="117"/>
                  </a:cubicBezTo>
                  <a:cubicBezTo>
                    <a:pt x="412" y="116"/>
                    <a:pt x="412" y="115"/>
                    <a:pt x="412" y="114"/>
                  </a:cubicBezTo>
                  <a:close/>
                  <a:moveTo>
                    <a:pt x="412" y="171"/>
                  </a:moveTo>
                  <a:cubicBezTo>
                    <a:pt x="417" y="171"/>
                    <a:pt x="423" y="171"/>
                    <a:pt x="428" y="171"/>
                  </a:cubicBezTo>
                  <a:cubicBezTo>
                    <a:pt x="428" y="172"/>
                    <a:pt x="428" y="173"/>
                    <a:pt x="428" y="174"/>
                  </a:cubicBezTo>
                  <a:cubicBezTo>
                    <a:pt x="423" y="174"/>
                    <a:pt x="417" y="174"/>
                    <a:pt x="412" y="174"/>
                  </a:cubicBezTo>
                  <a:cubicBezTo>
                    <a:pt x="412" y="173"/>
                    <a:pt x="412" y="172"/>
                    <a:pt x="412" y="171"/>
                  </a:cubicBezTo>
                  <a:close/>
                  <a:moveTo>
                    <a:pt x="412" y="228"/>
                  </a:moveTo>
                  <a:cubicBezTo>
                    <a:pt x="417" y="228"/>
                    <a:pt x="423" y="228"/>
                    <a:pt x="428" y="228"/>
                  </a:cubicBezTo>
                  <a:cubicBezTo>
                    <a:pt x="428" y="229"/>
                    <a:pt x="428" y="230"/>
                    <a:pt x="428" y="231"/>
                  </a:cubicBezTo>
                  <a:cubicBezTo>
                    <a:pt x="423" y="231"/>
                    <a:pt x="417" y="231"/>
                    <a:pt x="412" y="231"/>
                  </a:cubicBezTo>
                  <a:cubicBezTo>
                    <a:pt x="412" y="230"/>
                    <a:pt x="412" y="229"/>
                    <a:pt x="412" y="228"/>
                  </a:cubicBezTo>
                  <a:close/>
                  <a:moveTo>
                    <a:pt x="412" y="285"/>
                  </a:moveTo>
                  <a:cubicBezTo>
                    <a:pt x="417" y="285"/>
                    <a:pt x="423" y="285"/>
                    <a:pt x="428" y="285"/>
                  </a:cubicBezTo>
                  <a:cubicBezTo>
                    <a:pt x="428" y="286"/>
                    <a:pt x="428" y="287"/>
                    <a:pt x="428" y="288"/>
                  </a:cubicBezTo>
                  <a:cubicBezTo>
                    <a:pt x="423" y="288"/>
                    <a:pt x="417" y="288"/>
                    <a:pt x="412" y="288"/>
                  </a:cubicBezTo>
                  <a:cubicBezTo>
                    <a:pt x="412" y="287"/>
                    <a:pt x="412" y="286"/>
                    <a:pt x="412" y="285"/>
                  </a:cubicBezTo>
                  <a:close/>
                  <a:moveTo>
                    <a:pt x="412" y="342"/>
                  </a:moveTo>
                  <a:cubicBezTo>
                    <a:pt x="417" y="342"/>
                    <a:pt x="423" y="342"/>
                    <a:pt x="428" y="342"/>
                  </a:cubicBezTo>
                  <a:cubicBezTo>
                    <a:pt x="428" y="343"/>
                    <a:pt x="428" y="344"/>
                    <a:pt x="428" y="345"/>
                  </a:cubicBezTo>
                  <a:cubicBezTo>
                    <a:pt x="423" y="345"/>
                    <a:pt x="417" y="345"/>
                    <a:pt x="412" y="345"/>
                  </a:cubicBezTo>
                  <a:cubicBezTo>
                    <a:pt x="412" y="344"/>
                    <a:pt x="412" y="343"/>
                    <a:pt x="412" y="342"/>
                  </a:cubicBezTo>
                  <a:close/>
                  <a:moveTo>
                    <a:pt x="412" y="399"/>
                  </a:moveTo>
                  <a:cubicBezTo>
                    <a:pt x="417" y="399"/>
                    <a:pt x="423" y="399"/>
                    <a:pt x="428" y="399"/>
                  </a:cubicBezTo>
                  <a:cubicBezTo>
                    <a:pt x="428" y="400"/>
                    <a:pt x="428" y="401"/>
                    <a:pt x="428" y="402"/>
                  </a:cubicBezTo>
                  <a:cubicBezTo>
                    <a:pt x="423" y="402"/>
                    <a:pt x="417" y="402"/>
                    <a:pt x="412" y="402"/>
                  </a:cubicBezTo>
                  <a:cubicBezTo>
                    <a:pt x="412" y="401"/>
                    <a:pt x="412" y="400"/>
                    <a:pt x="412" y="399"/>
                  </a:cubicBezTo>
                  <a:close/>
                  <a:moveTo>
                    <a:pt x="412" y="459"/>
                  </a:moveTo>
                  <a:cubicBezTo>
                    <a:pt x="412" y="458"/>
                    <a:pt x="412" y="457"/>
                    <a:pt x="412" y="456"/>
                  </a:cubicBezTo>
                  <a:cubicBezTo>
                    <a:pt x="417" y="456"/>
                    <a:pt x="423" y="456"/>
                    <a:pt x="428" y="456"/>
                  </a:cubicBezTo>
                  <a:cubicBezTo>
                    <a:pt x="428" y="457"/>
                    <a:pt x="428" y="458"/>
                    <a:pt x="428" y="459"/>
                  </a:cubicBezTo>
                  <a:cubicBezTo>
                    <a:pt x="423" y="459"/>
                    <a:pt x="417" y="459"/>
                    <a:pt x="412" y="459"/>
                  </a:cubicBezTo>
                  <a:close/>
                  <a:moveTo>
                    <a:pt x="412" y="513"/>
                  </a:moveTo>
                  <a:cubicBezTo>
                    <a:pt x="417" y="513"/>
                    <a:pt x="423" y="513"/>
                    <a:pt x="428" y="513"/>
                  </a:cubicBezTo>
                  <a:cubicBezTo>
                    <a:pt x="428" y="514"/>
                    <a:pt x="428" y="515"/>
                    <a:pt x="428" y="516"/>
                  </a:cubicBezTo>
                  <a:cubicBezTo>
                    <a:pt x="423" y="516"/>
                    <a:pt x="417" y="516"/>
                    <a:pt x="412" y="516"/>
                  </a:cubicBezTo>
                  <a:cubicBezTo>
                    <a:pt x="412" y="515"/>
                    <a:pt x="412" y="514"/>
                    <a:pt x="412" y="513"/>
                  </a:cubicBezTo>
                  <a:close/>
                  <a:moveTo>
                    <a:pt x="412" y="570"/>
                  </a:moveTo>
                  <a:cubicBezTo>
                    <a:pt x="417" y="570"/>
                    <a:pt x="423" y="570"/>
                    <a:pt x="428" y="570"/>
                  </a:cubicBezTo>
                  <a:cubicBezTo>
                    <a:pt x="428" y="571"/>
                    <a:pt x="428" y="572"/>
                    <a:pt x="428" y="573"/>
                  </a:cubicBezTo>
                  <a:cubicBezTo>
                    <a:pt x="423" y="573"/>
                    <a:pt x="417" y="573"/>
                    <a:pt x="412" y="573"/>
                  </a:cubicBezTo>
                  <a:cubicBezTo>
                    <a:pt x="412" y="572"/>
                    <a:pt x="412" y="571"/>
                    <a:pt x="412" y="570"/>
                  </a:cubicBezTo>
                  <a:close/>
                  <a:moveTo>
                    <a:pt x="435" y="0"/>
                  </a:moveTo>
                  <a:cubicBezTo>
                    <a:pt x="440" y="0"/>
                    <a:pt x="446" y="0"/>
                    <a:pt x="451" y="0"/>
                  </a:cubicBezTo>
                  <a:cubicBezTo>
                    <a:pt x="451" y="1"/>
                    <a:pt x="451" y="2"/>
                    <a:pt x="451" y="4"/>
                  </a:cubicBezTo>
                  <a:cubicBezTo>
                    <a:pt x="446" y="4"/>
                    <a:pt x="440" y="4"/>
                    <a:pt x="435" y="4"/>
                  </a:cubicBezTo>
                  <a:cubicBezTo>
                    <a:pt x="435" y="2"/>
                    <a:pt x="435" y="1"/>
                    <a:pt x="435" y="0"/>
                  </a:cubicBezTo>
                  <a:close/>
                  <a:moveTo>
                    <a:pt x="435" y="57"/>
                  </a:moveTo>
                  <a:cubicBezTo>
                    <a:pt x="440" y="57"/>
                    <a:pt x="446" y="57"/>
                    <a:pt x="451" y="57"/>
                  </a:cubicBezTo>
                  <a:cubicBezTo>
                    <a:pt x="451" y="58"/>
                    <a:pt x="451" y="59"/>
                    <a:pt x="451" y="60"/>
                  </a:cubicBezTo>
                  <a:cubicBezTo>
                    <a:pt x="446" y="60"/>
                    <a:pt x="440" y="60"/>
                    <a:pt x="435" y="60"/>
                  </a:cubicBezTo>
                  <a:cubicBezTo>
                    <a:pt x="435" y="59"/>
                    <a:pt x="435" y="58"/>
                    <a:pt x="435" y="57"/>
                  </a:cubicBezTo>
                  <a:close/>
                  <a:moveTo>
                    <a:pt x="435" y="114"/>
                  </a:moveTo>
                  <a:cubicBezTo>
                    <a:pt x="440" y="114"/>
                    <a:pt x="446" y="114"/>
                    <a:pt x="451" y="114"/>
                  </a:cubicBezTo>
                  <a:cubicBezTo>
                    <a:pt x="451" y="115"/>
                    <a:pt x="451" y="116"/>
                    <a:pt x="451" y="117"/>
                  </a:cubicBezTo>
                  <a:cubicBezTo>
                    <a:pt x="446" y="117"/>
                    <a:pt x="440" y="117"/>
                    <a:pt x="435" y="117"/>
                  </a:cubicBezTo>
                  <a:cubicBezTo>
                    <a:pt x="435" y="116"/>
                    <a:pt x="435" y="115"/>
                    <a:pt x="435" y="114"/>
                  </a:cubicBezTo>
                  <a:close/>
                  <a:moveTo>
                    <a:pt x="435" y="171"/>
                  </a:moveTo>
                  <a:cubicBezTo>
                    <a:pt x="440" y="171"/>
                    <a:pt x="446" y="171"/>
                    <a:pt x="451" y="171"/>
                  </a:cubicBezTo>
                  <a:cubicBezTo>
                    <a:pt x="451" y="172"/>
                    <a:pt x="451" y="173"/>
                    <a:pt x="451" y="174"/>
                  </a:cubicBezTo>
                  <a:cubicBezTo>
                    <a:pt x="446" y="174"/>
                    <a:pt x="440" y="174"/>
                    <a:pt x="435" y="174"/>
                  </a:cubicBezTo>
                  <a:cubicBezTo>
                    <a:pt x="435" y="173"/>
                    <a:pt x="435" y="172"/>
                    <a:pt x="435" y="171"/>
                  </a:cubicBezTo>
                  <a:close/>
                  <a:moveTo>
                    <a:pt x="435" y="228"/>
                  </a:moveTo>
                  <a:cubicBezTo>
                    <a:pt x="440" y="228"/>
                    <a:pt x="446" y="228"/>
                    <a:pt x="451" y="228"/>
                  </a:cubicBezTo>
                  <a:cubicBezTo>
                    <a:pt x="451" y="229"/>
                    <a:pt x="451" y="230"/>
                    <a:pt x="451" y="231"/>
                  </a:cubicBezTo>
                  <a:cubicBezTo>
                    <a:pt x="446" y="231"/>
                    <a:pt x="440" y="231"/>
                    <a:pt x="435" y="231"/>
                  </a:cubicBezTo>
                  <a:cubicBezTo>
                    <a:pt x="435" y="230"/>
                    <a:pt x="435" y="229"/>
                    <a:pt x="435" y="228"/>
                  </a:cubicBezTo>
                  <a:close/>
                  <a:moveTo>
                    <a:pt x="435" y="285"/>
                  </a:moveTo>
                  <a:cubicBezTo>
                    <a:pt x="440" y="285"/>
                    <a:pt x="446" y="285"/>
                    <a:pt x="451" y="285"/>
                  </a:cubicBezTo>
                  <a:cubicBezTo>
                    <a:pt x="451" y="286"/>
                    <a:pt x="451" y="287"/>
                    <a:pt x="451" y="288"/>
                  </a:cubicBezTo>
                  <a:cubicBezTo>
                    <a:pt x="446" y="288"/>
                    <a:pt x="440" y="288"/>
                    <a:pt x="435" y="288"/>
                  </a:cubicBezTo>
                  <a:cubicBezTo>
                    <a:pt x="435" y="287"/>
                    <a:pt x="435" y="286"/>
                    <a:pt x="435" y="285"/>
                  </a:cubicBezTo>
                  <a:close/>
                  <a:moveTo>
                    <a:pt x="435" y="342"/>
                  </a:moveTo>
                  <a:cubicBezTo>
                    <a:pt x="440" y="342"/>
                    <a:pt x="446" y="342"/>
                    <a:pt x="451" y="342"/>
                  </a:cubicBezTo>
                  <a:cubicBezTo>
                    <a:pt x="451" y="343"/>
                    <a:pt x="451" y="344"/>
                    <a:pt x="451" y="345"/>
                  </a:cubicBezTo>
                  <a:cubicBezTo>
                    <a:pt x="446" y="345"/>
                    <a:pt x="440" y="345"/>
                    <a:pt x="435" y="345"/>
                  </a:cubicBezTo>
                  <a:cubicBezTo>
                    <a:pt x="435" y="344"/>
                    <a:pt x="435" y="343"/>
                    <a:pt x="435" y="342"/>
                  </a:cubicBezTo>
                  <a:close/>
                  <a:moveTo>
                    <a:pt x="435" y="399"/>
                  </a:moveTo>
                  <a:cubicBezTo>
                    <a:pt x="440" y="399"/>
                    <a:pt x="446" y="399"/>
                    <a:pt x="451" y="399"/>
                  </a:cubicBezTo>
                  <a:cubicBezTo>
                    <a:pt x="451" y="400"/>
                    <a:pt x="451" y="401"/>
                    <a:pt x="451" y="402"/>
                  </a:cubicBezTo>
                  <a:cubicBezTo>
                    <a:pt x="446" y="402"/>
                    <a:pt x="440" y="402"/>
                    <a:pt x="435" y="402"/>
                  </a:cubicBezTo>
                  <a:cubicBezTo>
                    <a:pt x="435" y="401"/>
                    <a:pt x="435" y="400"/>
                    <a:pt x="435" y="399"/>
                  </a:cubicBezTo>
                  <a:close/>
                  <a:moveTo>
                    <a:pt x="435" y="459"/>
                  </a:moveTo>
                  <a:cubicBezTo>
                    <a:pt x="435" y="458"/>
                    <a:pt x="435" y="457"/>
                    <a:pt x="435" y="456"/>
                  </a:cubicBezTo>
                  <a:cubicBezTo>
                    <a:pt x="440" y="456"/>
                    <a:pt x="446" y="456"/>
                    <a:pt x="451" y="456"/>
                  </a:cubicBezTo>
                  <a:cubicBezTo>
                    <a:pt x="451" y="457"/>
                    <a:pt x="451" y="458"/>
                    <a:pt x="451" y="459"/>
                  </a:cubicBezTo>
                  <a:cubicBezTo>
                    <a:pt x="446" y="459"/>
                    <a:pt x="440" y="459"/>
                    <a:pt x="435" y="459"/>
                  </a:cubicBezTo>
                  <a:close/>
                  <a:moveTo>
                    <a:pt x="435" y="513"/>
                  </a:moveTo>
                  <a:cubicBezTo>
                    <a:pt x="440" y="513"/>
                    <a:pt x="446" y="513"/>
                    <a:pt x="451" y="513"/>
                  </a:cubicBezTo>
                  <a:cubicBezTo>
                    <a:pt x="451" y="514"/>
                    <a:pt x="451" y="515"/>
                    <a:pt x="451" y="516"/>
                  </a:cubicBezTo>
                  <a:cubicBezTo>
                    <a:pt x="446" y="516"/>
                    <a:pt x="440" y="516"/>
                    <a:pt x="435" y="516"/>
                  </a:cubicBezTo>
                  <a:cubicBezTo>
                    <a:pt x="435" y="515"/>
                    <a:pt x="435" y="514"/>
                    <a:pt x="435" y="513"/>
                  </a:cubicBezTo>
                  <a:close/>
                  <a:moveTo>
                    <a:pt x="435" y="570"/>
                  </a:moveTo>
                  <a:cubicBezTo>
                    <a:pt x="440" y="570"/>
                    <a:pt x="446" y="570"/>
                    <a:pt x="451" y="570"/>
                  </a:cubicBezTo>
                  <a:cubicBezTo>
                    <a:pt x="451" y="571"/>
                    <a:pt x="451" y="572"/>
                    <a:pt x="451" y="573"/>
                  </a:cubicBezTo>
                  <a:cubicBezTo>
                    <a:pt x="446" y="573"/>
                    <a:pt x="440" y="573"/>
                    <a:pt x="435" y="573"/>
                  </a:cubicBezTo>
                  <a:cubicBezTo>
                    <a:pt x="435" y="572"/>
                    <a:pt x="435" y="571"/>
                    <a:pt x="435" y="570"/>
                  </a:cubicBezTo>
                  <a:close/>
                  <a:moveTo>
                    <a:pt x="458" y="0"/>
                  </a:moveTo>
                  <a:cubicBezTo>
                    <a:pt x="463" y="0"/>
                    <a:pt x="469" y="0"/>
                    <a:pt x="474" y="0"/>
                  </a:cubicBezTo>
                  <a:cubicBezTo>
                    <a:pt x="474" y="1"/>
                    <a:pt x="474" y="2"/>
                    <a:pt x="474" y="4"/>
                  </a:cubicBezTo>
                  <a:cubicBezTo>
                    <a:pt x="469" y="4"/>
                    <a:pt x="463" y="4"/>
                    <a:pt x="458" y="4"/>
                  </a:cubicBezTo>
                  <a:cubicBezTo>
                    <a:pt x="458" y="2"/>
                    <a:pt x="458" y="1"/>
                    <a:pt x="458" y="0"/>
                  </a:cubicBezTo>
                  <a:close/>
                  <a:moveTo>
                    <a:pt x="458" y="57"/>
                  </a:moveTo>
                  <a:cubicBezTo>
                    <a:pt x="463" y="57"/>
                    <a:pt x="469" y="57"/>
                    <a:pt x="474" y="57"/>
                  </a:cubicBezTo>
                  <a:cubicBezTo>
                    <a:pt x="474" y="58"/>
                    <a:pt x="474" y="59"/>
                    <a:pt x="474" y="60"/>
                  </a:cubicBezTo>
                  <a:cubicBezTo>
                    <a:pt x="469" y="60"/>
                    <a:pt x="463" y="60"/>
                    <a:pt x="458" y="60"/>
                  </a:cubicBezTo>
                  <a:cubicBezTo>
                    <a:pt x="458" y="59"/>
                    <a:pt x="458" y="58"/>
                    <a:pt x="458" y="57"/>
                  </a:cubicBezTo>
                  <a:close/>
                  <a:moveTo>
                    <a:pt x="458" y="114"/>
                  </a:moveTo>
                  <a:cubicBezTo>
                    <a:pt x="463" y="114"/>
                    <a:pt x="469" y="114"/>
                    <a:pt x="474" y="114"/>
                  </a:cubicBezTo>
                  <a:cubicBezTo>
                    <a:pt x="474" y="115"/>
                    <a:pt x="474" y="116"/>
                    <a:pt x="474" y="117"/>
                  </a:cubicBezTo>
                  <a:cubicBezTo>
                    <a:pt x="469" y="117"/>
                    <a:pt x="463" y="117"/>
                    <a:pt x="458" y="117"/>
                  </a:cubicBezTo>
                  <a:cubicBezTo>
                    <a:pt x="458" y="116"/>
                    <a:pt x="458" y="115"/>
                    <a:pt x="458" y="114"/>
                  </a:cubicBezTo>
                  <a:close/>
                  <a:moveTo>
                    <a:pt x="458" y="171"/>
                  </a:moveTo>
                  <a:cubicBezTo>
                    <a:pt x="463" y="171"/>
                    <a:pt x="469" y="171"/>
                    <a:pt x="474" y="171"/>
                  </a:cubicBezTo>
                  <a:cubicBezTo>
                    <a:pt x="474" y="172"/>
                    <a:pt x="474" y="173"/>
                    <a:pt x="474" y="174"/>
                  </a:cubicBezTo>
                  <a:cubicBezTo>
                    <a:pt x="469" y="174"/>
                    <a:pt x="463" y="174"/>
                    <a:pt x="458" y="174"/>
                  </a:cubicBezTo>
                  <a:cubicBezTo>
                    <a:pt x="458" y="173"/>
                    <a:pt x="458" y="172"/>
                    <a:pt x="458" y="171"/>
                  </a:cubicBezTo>
                  <a:close/>
                  <a:moveTo>
                    <a:pt x="458" y="228"/>
                  </a:moveTo>
                  <a:cubicBezTo>
                    <a:pt x="463" y="228"/>
                    <a:pt x="469" y="228"/>
                    <a:pt x="474" y="228"/>
                  </a:cubicBezTo>
                  <a:cubicBezTo>
                    <a:pt x="474" y="229"/>
                    <a:pt x="474" y="230"/>
                    <a:pt x="474" y="231"/>
                  </a:cubicBezTo>
                  <a:cubicBezTo>
                    <a:pt x="469" y="231"/>
                    <a:pt x="463" y="231"/>
                    <a:pt x="458" y="231"/>
                  </a:cubicBezTo>
                  <a:cubicBezTo>
                    <a:pt x="458" y="230"/>
                    <a:pt x="458" y="229"/>
                    <a:pt x="458" y="228"/>
                  </a:cubicBezTo>
                  <a:close/>
                  <a:moveTo>
                    <a:pt x="458" y="285"/>
                  </a:moveTo>
                  <a:cubicBezTo>
                    <a:pt x="463" y="285"/>
                    <a:pt x="469" y="285"/>
                    <a:pt x="474" y="285"/>
                  </a:cubicBezTo>
                  <a:cubicBezTo>
                    <a:pt x="474" y="286"/>
                    <a:pt x="474" y="287"/>
                    <a:pt x="474" y="288"/>
                  </a:cubicBezTo>
                  <a:cubicBezTo>
                    <a:pt x="469" y="288"/>
                    <a:pt x="463" y="288"/>
                    <a:pt x="458" y="288"/>
                  </a:cubicBezTo>
                  <a:cubicBezTo>
                    <a:pt x="458" y="287"/>
                    <a:pt x="458" y="286"/>
                    <a:pt x="458" y="285"/>
                  </a:cubicBezTo>
                  <a:close/>
                  <a:moveTo>
                    <a:pt x="458" y="342"/>
                  </a:moveTo>
                  <a:cubicBezTo>
                    <a:pt x="463" y="342"/>
                    <a:pt x="469" y="342"/>
                    <a:pt x="474" y="342"/>
                  </a:cubicBezTo>
                  <a:cubicBezTo>
                    <a:pt x="474" y="343"/>
                    <a:pt x="474" y="344"/>
                    <a:pt x="474" y="345"/>
                  </a:cubicBezTo>
                  <a:cubicBezTo>
                    <a:pt x="469" y="345"/>
                    <a:pt x="463" y="345"/>
                    <a:pt x="458" y="345"/>
                  </a:cubicBezTo>
                  <a:cubicBezTo>
                    <a:pt x="458" y="344"/>
                    <a:pt x="458" y="343"/>
                    <a:pt x="458" y="342"/>
                  </a:cubicBezTo>
                  <a:close/>
                  <a:moveTo>
                    <a:pt x="458" y="399"/>
                  </a:moveTo>
                  <a:cubicBezTo>
                    <a:pt x="463" y="399"/>
                    <a:pt x="469" y="399"/>
                    <a:pt x="474" y="399"/>
                  </a:cubicBezTo>
                  <a:cubicBezTo>
                    <a:pt x="474" y="400"/>
                    <a:pt x="474" y="401"/>
                    <a:pt x="474" y="402"/>
                  </a:cubicBezTo>
                  <a:cubicBezTo>
                    <a:pt x="469" y="402"/>
                    <a:pt x="463" y="402"/>
                    <a:pt x="458" y="402"/>
                  </a:cubicBezTo>
                  <a:cubicBezTo>
                    <a:pt x="458" y="401"/>
                    <a:pt x="458" y="400"/>
                    <a:pt x="458" y="399"/>
                  </a:cubicBezTo>
                  <a:close/>
                  <a:moveTo>
                    <a:pt x="458" y="459"/>
                  </a:moveTo>
                  <a:cubicBezTo>
                    <a:pt x="458" y="458"/>
                    <a:pt x="458" y="457"/>
                    <a:pt x="458" y="456"/>
                  </a:cubicBezTo>
                  <a:cubicBezTo>
                    <a:pt x="463" y="456"/>
                    <a:pt x="469" y="456"/>
                    <a:pt x="474" y="456"/>
                  </a:cubicBezTo>
                  <a:cubicBezTo>
                    <a:pt x="474" y="457"/>
                    <a:pt x="474" y="458"/>
                    <a:pt x="474" y="459"/>
                  </a:cubicBezTo>
                  <a:cubicBezTo>
                    <a:pt x="469" y="459"/>
                    <a:pt x="463" y="459"/>
                    <a:pt x="458" y="459"/>
                  </a:cubicBezTo>
                  <a:close/>
                  <a:moveTo>
                    <a:pt x="458" y="513"/>
                  </a:moveTo>
                  <a:cubicBezTo>
                    <a:pt x="463" y="513"/>
                    <a:pt x="469" y="513"/>
                    <a:pt x="474" y="513"/>
                  </a:cubicBezTo>
                  <a:cubicBezTo>
                    <a:pt x="474" y="514"/>
                    <a:pt x="474" y="515"/>
                    <a:pt x="474" y="516"/>
                  </a:cubicBezTo>
                  <a:cubicBezTo>
                    <a:pt x="469" y="516"/>
                    <a:pt x="463" y="516"/>
                    <a:pt x="458" y="516"/>
                  </a:cubicBezTo>
                  <a:cubicBezTo>
                    <a:pt x="458" y="515"/>
                    <a:pt x="458" y="514"/>
                    <a:pt x="458" y="513"/>
                  </a:cubicBezTo>
                  <a:close/>
                  <a:moveTo>
                    <a:pt x="458" y="570"/>
                  </a:moveTo>
                  <a:cubicBezTo>
                    <a:pt x="463" y="570"/>
                    <a:pt x="469" y="570"/>
                    <a:pt x="474" y="570"/>
                  </a:cubicBezTo>
                  <a:cubicBezTo>
                    <a:pt x="474" y="571"/>
                    <a:pt x="474" y="572"/>
                    <a:pt x="474" y="573"/>
                  </a:cubicBezTo>
                  <a:cubicBezTo>
                    <a:pt x="469" y="573"/>
                    <a:pt x="463" y="573"/>
                    <a:pt x="458" y="573"/>
                  </a:cubicBezTo>
                  <a:cubicBezTo>
                    <a:pt x="458" y="572"/>
                    <a:pt x="458" y="571"/>
                    <a:pt x="458" y="570"/>
                  </a:cubicBezTo>
                  <a:close/>
                  <a:moveTo>
                    <a:pt x="481" y="0"/>
                  </a:moveTo>
                  <a:cubicBezTo>
                    <a:pt x="486" y="0"/>
                    <a:pt x="491" y="0"/>
                    <a:pt x="497" y="0"/>
                  </a:cubicBezTo>
                  <a:cubicBezTo>
                    <a:pt x="497" y="1"/>
                    <a:pt x="497" y="2"/>
                    <a:pt x="497" y="4"/>
                  </a:cubicBezTo>
                  <a:cubicBezTo>
                    <a:pt x="491" y="4"/>
                    <a:pt x="486" y="4"/>
                    <a:pt x="481" y="4"/>
                  </a:cubicBezTo>
                  <a:cubicBezTo>
                    <a:pt x="481" y="2"/>
                    <a:pt x="481" y="1"/>
                    <a:pt x="481" y="0"/>
                  </a:cubicBezTo>
                  <a:close/>
                  <a:moveTo>
                    <a:pt x="481" y="57"/>
                  </a:moveTo>
                  <a:cubicBezTo>
                    <a:pt x="486" y="57"/>
                    <a:pt x="491" y="57"/>
                    <a:pt x="497" y="57"/>
                  </a:cubicBezTo>
                  <a:cubicBezTo>
                    <a:pt x="497" y="58"/>
                    <a:pt x="497" y="59"/>
                    <a:pt x="497" y="60"/>
                  </a:cubicBezTo>
                  <a:cubicBezTo>
                    <a:pt x="491" y="60"/>
                    <a:pt x="486" y="60"/>
                    <a:pt x="481" y="60"/>
                  </a:cubicBezTo>
                  <a:cubicBezTo>
                    <a:pt x="481" y="59"/>
                    <a:pt x="481" y="58"/>
                    <a:pt x="481" y="57"/>
                  </a:cubicBezTo>
                  <a:close/>
                  <a:moveTo>
                    <a:pt x="481" y="114"/>
                  </a:moveTo>
                  <a:cubicBezTo>
                    <a:pt x="486" y="114"/>
                    <a:pt x="491" y="114"/>
                    <a:pt x="497" y="114"/>
                  </a:cubicBezTo>
                  <a:cubicBezTo>
                    <a:pt x="497" y="115"/>
                    <a:pt x="497" y="116"/>
                    <a:pt x="497" y="117"/>
                  </a:cubicBezTo>
                  <a:cubicBezTo>
                    <a:pt x="491" y="117"/>
                    <a:pt x="486" y="117"/>
                    <a:pt x="481" y="117"/>
                  </a:cubicBezTo>
                  <a:cubicBezTo>
                    <a:pt x="481" y="116"/>
                    <a:pt x="481" y="115"/>
                    <a:pt x="481" y="114"/>
                  </a:cubicBezTo>
                  <a:close/>
                  <a:moveTo>
                    <a:pt x="481" y="171"/>
                  </a:moveTo>
                  <a:cubicBezTo>
                    <a:pt x="486" y="171"/>
                    <a:pt x="491" y="171"/>
                    <a:pt x="497" y="171"/>
                  </a:cubicBezTo>
                  <a:cubicBezTo>
                    <a:pt x="497" y="172"/>
                    <a:pt x="497" y="173"/>
                    <a:pt x="497" y="174"/>
                  </a:cubicBezTo>
                  <a:cubicBezTo>
                    <a:pt x="491" y="174"/>
                    <a:pt x="486" y="174"/>
                    <a:pt x="481" y="174"/>
                  </a:cubicBezTo>
                  <a:cubicBezTo>
                    <a:pt x="481" y="173"/>
                    <a:pt x="481" y="172"/>
                    <a:pt x="481" y="171"/>
                  </a:cubicBezTo>
                  <a:close/>
                  <a:moveTo>
                    <a:pt x="481" y="228"/>
                  </a:moveTo>
                  <a:cubicBezTo>
                    <a:pt x="486" y="228"/>
                    <a:pt x="491" y="228"/>
                    <a:pt x="497" y="228"/>
                  </a:cubicBezTo>
                  <a:cubicBezTo>
                    <a:pt x="497" y="229"/>
                    <a:pt x="497" y="230"/>
                    <a:pt x="497" y="231"/>
                  </a:cubicBezTo>
                  <a:cubicBezTo>
                    <a:pt x="491" y="231"/>
                    <a:pt x="486" y="231"/>
                    <a:pt x="481" y="231"/>
                  </a:cubicBezTo>
                  <a:cubicBezTo>
                    <a:pt x="481" y="230"/>
                    <a:pt x="481" y="229"/>
                    <a:pt x="481" y="228"/>
                  </a:cubicBezTo>
                  <a:close/>
                  <a:moveTo>
                    <a:pt x="481" y="285"/>
                  </a:moveTo>
                  <a:cubicBezTo>
                    <a:pt x="486" y="285"/>
                    <a:pt x="491" y="285"/>
                    <a:pt x="497" y="285"/>
                  </a:cubicBezTo>
                  <a:cubicBezTo>
                    <a:pt x="497" y="286"/>
                    <a:pt x="497" y="287"/>
                    <a:pt x="497" y="288"/>
                  </a:cubicBezTo>
                  <a:cubicBezTo>
                    <a:pt x="491" y="288"/>
                    <a:pt x="486" y="288"/>
                    <a:pt x="481" y="288"/>
                  </a:cubicBezTo>
                  <a:cubicBezTo>
                    <a:pt x="481" y="287"/>
                    <a:pt x="481" y="286"/>
                    <a:pt x="481" y="285"/>
                  </a:cubicBezTo>
                  <a:close/>
                  <a:moveTo>
                    <a:pt x="481" y="342"/>
                  </a:moveTo>
                  <a:cubicBezTo>
                    <a:pt x="486" y="342"/>
                    <a:pt x="491" y="342"/>
                    <a:pt x="497" y="342"/>
                  </a:cubicBezTo>
                  <a:cubicBezTo>
                    <a:pt x="497" y="343"/>
                    <a:pt x="497" y="344"/>
                    <a:pt x="497" y="345"/>
                  </a:cubicBezTo>
                  <a:cubicBezTo>
                    <a:pt x="491" y="345"/>
                    <a:pt x="486" y="345"/>
                    <a:pt x="481" y="345"/>
                  </a:cubicBezTo>
                  <a:cubicBezTo>
                    <a:pt x="481" y="344"/>
                    <a:pt x="481" y="343"/>
                    <a:pt x="481" y="342"/>
                  </a:cubicBezTo>
                  <a:close/>
                  <a:moveTo>
                    <a:pt x="481" y="399"/>
                  </a:moveTo>
                  <a:cubicBezTo>
                    <a:pt x="486" y="399"/>
                    <a:pt x="491" y="399"/>
                    <a:pt x="497" y="399"/>
                  </a:cubicBezTo>
                  <a:cubicBezTo>
                    <a:pt x="497" y="400"/>
                    <a:pt x="497" y="401"/>
                    <a:pt x="497" y="402"/>
                  </a:cubicBezTo>
                  <a:cubicBezTo>
                    <a:pt x="491" y="402"/>
                    <a:pt x="486" y="402"/>
                    <a:pt x="481" y="402"/>
                  </a:cubicBezTo>
                  <a:cubicBezTo>
                    <a:pt x="481" y="401"/>
                    <a:pt x="481" y="400"/>
                    <a:pt x="481" y="399"/>
                  </a:cubicBezTo>
                  <a:close/>
                  <a:moveTo>
                    <a:pt x="481" y="459"/>
                  </a:moveTo>
                  <a:cubicBezTo>
                    <a:pt x="481" y="458"/>
                    <a:pt x="481" y="457"/>
                    <a:pt x="481" y="456"/>
                  </a:cubicBezTo>
                  <a:cubicBezTo>
                    <a:pt x="486" y="456"/>
                    <a:pt x="491" y="456"/>
                    <a:pt x="497" y="456"/>
                  </a:cubicBezTo>
                  <a:cubicBezTo>
                    <a:pt x="497" y="457"/>
                    <a:pt x="497" y="458"/>
                    <a:pt x="497" y="459"/>
                  </a:cubicBezTo>
                  <a:cubicBezTo>
                    <a:pt x="491" y="459"/>
                    <a:pt x="486" y="459"/>
                    <a:pt x="481" y="459"/>
                  </a:cubicBezTo>
                  <a:close/>
                  <a:moveTo>
                    <a:pt x="481" y="513"/>
                  </a:moveTo>
                  <a:cubicBezTo>
                    <a:pt x="486" y="513"/>
                    <a:pt x="491" y="513"/>
                    <a:pt x="497" y="513"/>
                  </a:cubicBezTo>
                  <a:cubicBezTo>
                    <a:pt x="497" y="514"/>
                    <a:pt x="497" y="515"/>
                    <a:pt x="497" y="516"/>
                  </a:cubicBezTo>
                  <a:cubicBezTo>
                    <a:pt x="491" y="516"/>
                    <a:pt x="486" y="516"/>
                    <a:pt x="481" y="516"/>
                  </a:cubicBezTo>
                  <a:cubicBezTo>
                    <a:pt x="481" y="515"/>
                    <a:pt x="481" y="514"/>
                    <a:pt x="481" y="513"/>
                  </a:cubicBezTo>
                  <a:close/>
                  <a:moveTo>
                    <a:pt x="481" y="570"/>
                  </a:moveTo>
                  <a:cubicBezTo>
                    <a:pt x="486" y="570"/>
                    <a:pt x="491" y="570"/>
                    <a:pt x="497" y="570"/>
                  </a:cubicBezTo>
                  <a:cubicBezTo>
                    <a:pt x="497" y="571"/>
                    <a:pt x="497" y="572"/>
                    <a:pt x="497" y="573"/>
                  </a:cubicBezTo>
                  <a:cubicBezTo>
                    <a:pt x="491" y="573"/>
                    <a:pt x="486" y="573"/>
                    <a:pt x="481" y="573"/>
                  </a:cubicBezTo>
                  <a:cubicBezTo>
                    <a:pt x="481" y="572"/>
                    <a:pt x="481" y="571"/>
                    <a:pt x="481" y="570"/>
                  </a:cubicBezTo>
                  <a:close/>
                  <a:moveTo>
                    <a:pt x="503" y="0"/>
                  </a:moveTo>
                  <a:cubicBezTo>
                    <a:pt x="509" y="0"/>
                    <a:pt x="514" y="0"/>
                    <a:pt x="520" y="0"/>
                  </a:cubicBezTo>
                  <a:cubicBezTo>
                    <a:pt x="520" y="1"/>
                    <a:pt x="520" y="2"/>
                    <a:pt x="520" y="4"/>
                  </a:cubicBezTo>
                  <a:cubicBezTo>
                    <a:pt x="514" y="4"/>
                    <a:pt x="509" y="4"/>
                    <a:pt x="503" y="4"/>
                  </a:cubicBezTo>
                  <a:cubicBezTo>
                    <a:pt x="503" y="2"/>
                    <a:pt x="503" y="1"/>
                    <a:pt x="503" y="0"/>
                  </a:cubicBezTo>
                  <a:close/>
                  <a:moveTo>
                    <a:pt x="503" y="57"/>
                  </a:moveTo>
                  <a:cubicBezTo>
                    <a:pt x="509" y="57"/>
                    <a:pt x="514" y="57"/>
                    <a:pt x="520" y="57"/>
                  </a:cubicBezTo>
                  <a:cubicBezTo>
                    <a:pt x="520" y="58"/>
                    <a:pt x="520" y="59"/>
                    <a:pt x="520" y="60"/>
                  </a:cubicBezTo>
                  <a:cubicBezTo>
                    <a:pt x="514" y="60"/>
                    <a:pt x="509" y="60"/>
                    <a:pt x="503" y="60"/>
                  </a:cubicBezTo>
                  <a:cubicBezTo>
                    <a:pt x="503" y="59"/>
                    <a:pt x="503" y="58"/>
                    <a:pt x="503" y="57"/>
                  </a:cubicBezTo>
                  <a:close/>
                  <a:moveTo>
                    <a:pt x="503" y="114"/>
                  </a:moveTo>
                  <a:cubicBezTo>
                    <a:pt x="509" y="114"/>
                    <a:pt x="514" y="114"/>
                    <a:pt x="520" y="114"/>
                  </a:cubicBezTo>
                  <a:cubicBezTo>
                    <a:pt x="520" y="115"/>
                    <a:pt x="520" y="116"/>
                    <a:pt x="520" y="117"/>
                  </a:cubicBezTo>
                  <a:cubicBezTo>
                    <a:pt x="514" y="117"/>
                    <a:pt x="509" y="117"/>
                    <a:pt x="503" y="117"/>
                  </a:cubicBezTo>
                  <a:cubicBezTo>
                    <a:pt x="503" y="116"/>
                    <a:pt x="503" y="115"/>
                    <a:pt x="503" y="114"/>
                  </a:cubicBezTo>
                  <a:close/>
                  <a:moveTo>
                    <a:pt x="503" y="171"/>
                  </a:moveTo>
                  <a:cubicBezTo>
                    <a:pt x="509" y="171"/>
                    <a:pt x="514" y="171"/>
                    <a:pt x="520" y="171"/>
                  </a:cubicBezTo>
                  <a:cubicBezTo>
                    <a:pt x="520" y="172"/>
                    <a:pt x="520" y="173"/>
                    <a:pt x="520" y="174"/>
                  </a:cubicBezTo>
                  <a:cubicBezTo>
                    <a:pt x="514" y="174"/>
                    <a:pt x="509" y="174"/>
                    <a:pt x="503" y="174"/>
                  </a:cubicBezTo>
                  <a:cubicBezTo>
                    <a:pt x="503" y="173"/>
                    <a:pt x="503" y="172"/>
                    <a:pt x="503" y="171"/>
                  </a:cubicBezTo>
                  <a:close/>
                  <a:moveTo>
                    <a:pt x="503" y="228"/>
                  </a:moveTo>
                  <a:cubicBezTo>
                    <a:pt x="509" y="228"/>
                    <a:pt x="514" y="228"/>
                    <a:pt x="520" y="228"/>
                  </a:cubicBezTo>
                  <a:cubicBezTo>
                    <a:pt x="520" y="229"/>
                    <a:pt x="520" y="230"/>
                    <a:pt x="520" y="231"/>
                  </a:cubicBezTo>
                  <a:cubicBezTo>
                    <a:pt x="514" y="231"/>
                    <a:pt x="509" y="231"/>
                    <a:pt x="503" y="231"/>
                  </a:cubicBezTo>
                  <a:cubicBezTo>
                    <a:pt x="503" y="230"/>
                    <a:pt x="503" y="229"/>
                    <a:pt x="503" y="228"/>
                  </a:cubicBezTo>
                  <a:close/>
                  <a:moveTo>
                    <a:pt x="503" y="285"/>
                  </a:moveTo>
                  <a:cubicBezTo>
                    <a:pt x="509" y="285"/>
                    <a:pt x="514" y="285"/>
                    <a:pt x="520" y="285"/>
                  </a:cubicBezTo>
                  <a:cubicBezTo>
                    <a:pt x="520" y="286"/>
                    <a:pt x="520" y="287"/>
                    <a:pt x="520" y="288"/>
                  </a:cubicBezTo>
                  <a:cubicBezTo>
                    <a:pt x="514" y="288"/>
                    <a:pt x="509" y="288"/>
                    <a:pt x="503" y="288"/>
                  </a:cubicBezTo>
                  <a:cubicBezTo>
                    <a:pt x="503" y="287"/>
                    <a:pt x="503" y="286"/>
                    <a:pt x="503" y="285"/>
                  </a:cubicBezTo>
                  <a:close/>
                  <a:moveTo>
                    <a:pt x="503" y="342"/>
                  </a:moveTo>
                  <a:cubicBezTo>
                    <a:pt x="509" y="342"/>
                    <a:pt x="514" y="342"/>
                    <a:pt x="520" y="342"/>
                  </a:cubicBezTo>
                  <a:cubicBezTo>
                    <a:pt x="520" y="343"/>
                    <a:pt x="520" y="344"/>
                    <a:pt x="520" y="345"/>
                  </a:cubicBezTo>
                  <a:cubicBezTo>
                    <a:pt x="514" y="345"/>
                    <a:pt x="509" y="345"/>
                    <a:pt x="503" y="345"/>
                  </a:cubicBezTo>
                  <a:cubicBezTo>
                    <a:pt x="503" y="344"/>
                    <a:pt x="503" y="343"/>
                    <a:pt x="503" y="342"/>
                  </a:cubicBezTo>
                  <a:close/>
                  <a:moveTo>
                    <a:pt x="503" y="399"/>
                  </a:moveTo>
                  <a:cubicBezTo>
                    <a:pt x="509" y="399"/>
                    <a:pt x="514" y="399"/>
                    <a:pt x="520" y="399"/>
                  </a:cubicBezTo>
                  <a:cubicBezTo>
                    <a:pt x="520" y="400"/>
                    <a:pt x="520" y="401"/>
                    <a:pt x="520" y="402"/>
                  </a:cubicBezTo>
                  <a:cubicBezTo>
                    <a:pt x="514" y="402"/>
                    <a:pt x="509" y="402"/>
                    <a:pt x="503" y="402"/>
                  </a:cubicBezTo>
                  <a:cubicBezTo>
                    <a:pt x="503" y="401"/>
                    <a:pt x="503" y="400"/>
                    <a:pt x="503" y="399"/>
                  </a:cubicBezTo>
                  <a:close/>
                  <a:moveTo>
                    <a:pt x="503" y="459"/>
                  </a:moveTo>
                  <a:cubicBezTo>
                    <a:pt x="503" y="458"/>
                    <a:pt x="503" y="457"/>
                    <a:pt x="503" y="456"/>
                  </a:cubicBezTo>
                  <a:cubicBezTo>
                    <a:pt x="509" y="456"/>
                    <a:pt x="514" y="456"/>
                    <a:pt x="520" y="456"/>
                  </a:cubicBezTo>
                  <a:cubicBezTo>
                    <a:pt x="520" y="457"/>
                    <a:pt x="520" y="458"/>
                    <a:pt x="520" y="459"/>
                  </a:cubicBezTo>
                  <a:cubicBezTo>
                    <a:pt x="514" y="459"/>
                    <a:pt x="509" y="459"/>
                    <a:pt x="503" y="459"/>
                  </a:cubicBezTo>
                  <a:close/>
                  <a:moveTo>
                    <a:pt x="503" y="513"/>
                  </a:moveTo>
                  <a:cubicBezTo>
                    <a:pt x="509" y="513"/>
                    <a:pt x="514" y="513"/>
                    <a:pt x="520" y="513"/>
                  </a:cubicBezTo>
                  <a:cubicBezTo>
                    <a:pt x="520" y="514"/>
                    <a:pt x="520" y="515"/>
                    <a:pt x="520" y="516"/>
                  </a:cubicBezTo>
                  <a:cubicBezTo>
                    <a:pt x="514" y="516"/>
                    <a:pt x="509" y="516"/>
                    <a:pt x="503" y="516"/>
                  </a:cubicBezTo>
                  <a:cubicBezTo>
                    <a:pt x="503" y="515"/>
                    <a:pt x="503" y="514"/>
                    <a:pt x="503" y="513"/>
                  </a:cubicBezTo>
                  <a:close/>
                  <a:moveTo>
                    <a:pt x="503" y="570"/>
                  </a:moveTo>
                  <a:cubicBezTo>
                    <a:pt x="509" y="570"/>
                    <a:pt x="514" y="570"/>
                    <a:pt x="520" y="570"/>
                  </a:cubicBezTo>
                  <a:cubicBezTo>
                    <a:pt x="520" y="571"/>
                    <a:pt x="520" y="572"/>
                    <a:pt x="520" y="573"/>
                  </a:cubicBezTo>
                  <a:cubicBezTo>
                    <a:pt x="514" y="573"/>
                    <a:pt x="509" y="573"/>
                    <a:pt x="503" y="573"/>
                  </a:cubicBezTo>
                  <a:cubicBezTo>
                    <a:pt x="503" y="572"/>
                    <a:pt x="503" y="571"/>
                    <a:pt x="503" y="570"/>
                  </a:cubicBezTo>
                  <a:close/>
                  <a:moveTo>
                    <a:pt x="526" y="0"/>
                  </a:moveTo>
                  <a:cubicBezTo>
                    <a:pt x="532" y="0"/>
                    <a:pt x="537" y="0"/>
                    <a:pt x="543" y="0"/>
                  </a:cubicBezTo>
                  <a:cubicBezTo>
                    <a:pt x="543" y="1"/>
                    <a:pt x="543" y="2"/>
                    <a:pt x="543" y="4"/>
                  </a:cubicBezTo>
                  <a:cubicBezTo>
                    <a:pt x="537" y="4"/>
                    <a:pt x="532" y="4"/>
                    <a:pt x="526" y="4"/>
                  </a:cubicBezTo>
                  <a:cubicBezTo>
                    <a:pt x="526" y="2"/>
                    <a:pt x="526" y="1"/>
                    <a:pt x="526" y="0"/>
                  </a:cubicBezTo>
                  <a:close/>
                  <a:moveTo>
                    <a:pt x="526" y="57"/>
                  </a:moveTo>
                  <a:cubicBezTo>
                    <a:pt x="532" y="57"/>
                    <a:pt x="537" y="57"/>
                    <a:pt x="543" y="57"/>
                  </a:cubicBezTo>
                  <a:cubicBezTo>
                    <a:pt x="543" y="58"/>
                    <a:pt x="543" y="59"/>
                    <a:pt x="543" y="60"/>
                  </a:cubicBezTo>
                  <a:cubicBezTo>
                    <a:pt x="537" y="60"/>
                    <a:pt x="532" y="60"/>
                    <a:pt x="526" y="60"/>
                  </a:cubicBezTo>
                  <a:cubicBezTo>
                    <a:pt x="526" y="59"/>
                    <a:pt x="526" y="58"/>
                    <a:pt x="526" y="57"/>
                  </a:cubicBezTo>
                  <a:close/>
                  <a:moveTo>
                    <a:pt x="526" y="114"/>
                  </a:moveTo>
                  <a:cubicBezTo>
                    <a:pt x="532" y="114"/>
                    <a:pt x="537" y="114"/>
                    <a:pt x="543" y="114"/>
                  </a:cubicBezTo>
                  <a:cubicBezTo>
                    <a:pt x="543" y="115"/>
                    <a:pt x="543" y="116"/>
                    <a:pt x="543" y="117"/>
                  </a:cubicBezTo>
                  <a:cubicBezTo>
                    <a:pt x="537" y="117"/>
                    <a:pt x="532" y="117"/>
                    <a:pt x="526" y="117"/>
                  </a:cubicBezTo>
                  <a:cubicBezTo>
                    <a:pt x="526" y="116"/>
                    <a:pt x="526" y="115"/>
                    <a:pt x="526" y="114"/>
                  </a:cubicBezTo>
                  <a:close/>
                  <a:moveTo>
                    <a:pt x="526" y="171"/>
                  </a:moveTo>
                  <a:cubicBezTo>
                    <a:pt x="532" y="171"/>
                    <a:pt x="537" y="171"/>
                    <a:pt x="543" y="171"/>
                  </a:cubicBezTo>
                  <a:cubicBezTo>
                    <a:pt x="543" y="172"/>
                    <a:pt x="543" y="173"/>
                    <a:pt x="543" y="174"/>
                  </a:cubicBezTo>
                  <a:cubicBezTo>
                    <a:pt x="537" y="174"/>
                    <a:pt x="532" y="174"/>
                    <a:pt x="526" y="174"/>
                  </a:cubicBezTo>
                  <a:cubicBezTo>
                    <a:pt x="526" y="173"/>
                    <a:pt x="526" y="172"/>
                    <a:pt x="526" y="171"/>
                  </a:cubicBezTo>
                  <a:close/>
                  <a:moveTo>
                    <a:pt x="526" y="228"/>
                  </a:moveTo>
                  <a:cubicBezTo>
                    <a:pt x="532" y="228"/>
                    <a:pt x="537" y="228"/>
                    <a:pt x="543" y="228"/>
                  </a:cubicBezTo>
                  <a:cubicBezTo>
                    <a:pt x="543" y="229"/>
                    <a:pt x="543" y="230"/>
                    <a:pt x="543" y="231"/>
                  </a:cubicBezTo>
                  <a:cubicBezTo>
                    <a:pt x="537" y="231"/>
                    <a:pt x="532" y="231"/>
                    <a:pt x="526" y="231"/>
                  </a:cubicBezTo>
                  <a:cubicBezTo>
                    <a:pt x="526" y="230"/>
                    <a:pt x="526" y="229"/>
                    <a:pt x="526" y="228"/>
                  </a:cubicBezTo>
                  <a:close/>
                  <a:moveTo>
                    <a:pt x="526" y="285"/>
                  </a:moveTo>
                  <a:cubicBezTo>
                    <a:pt x="532" y="285"/>
                    <a:pt x="537" y="285"/>
                    <a:pt x="543" y="285"/>
                  </a:cubicBezTo>
                  <a:cubicBezTo>
                    <a:pt x="543" y="286"/>
                    <a:pt x="543" y="287"/>
                    <a:pt x="543" y="288"/>
                  </a:cubicBezTo>
                  <a:cubicBezTo>
                    <a:pt x="537" y="288"/>
                    <a:pt x="532" y="288"/>
                    <a:pt x="526" y="288"/>
                  </a:cubicBezTo>
                  <a:cubicBezTo>
                    <a:pt x="526" y="287"/>
                    <a:pt x="526" y="286"/>
                    <a:pt x="526" y="285"/>
                  </a:cubicBezTo>
                  <a:close/>
                  <a:moveTo>
                    <a:pt x="526" y="342"/>
                  </a:moveTo>
                  <a:cubicBezTo>
                    <a:pt x="532" y="342"/>
                    <a:pt x="537" y="342"/>
                    <a:pt x="543" y="342"/>
                  </a:cubicBezTo>
                  <a:cubicBezTo>
                    <a:pt x="543" y="343"/>
                    <a:pt x="543" y="344"/>
                    <a:pt x="543" y="345"/>
                  </a:cubicBezTo>
                  <a:cubicBezTo>
                    <a:pt x="537" y="345"/>
                    <a:pt x="532" y="345"/>
                    <a:pt x="526" y="345"/>
                  </a:cubicBezTo>
                  <a:cubicBezTo>
                    <a:pt x="526" y="344"/>
                    <a:pt x="526" y="343"/>
                    <a:pt x="526" y="342"/>
                  </a:cubicBezTo>
                  <a:close/>
                  <a:moveTo>
                    <a:pt x="526" y="399"/>
                  </a:moveTo>
                  <a:cubicBezTo>
                    <a:pt x="532" y="399"/>
                    <a:pt x="537" y="399"/>
                    <a:pt x="543" y="399"/>
                  </a:cubicBezTo>
                  <a:cubicBezTo>
                    <a:pt x="543" y="400"/>
                    <a:pt x="543" y="401"/>
                    <a:pt x="543" y="402"/>
                  </a:cubicBezTo>
                  <a:cubicBezTo>
                    <a:pt x="537" y="402"/>
                    <a:pt x="532" y="402"/>
                    <a:pt x="526" y="402"/>
                  </a:cubicBezTo>
                  <a:cubicBezTo>
                    <a:pt x="526" y="401"/>
                    <a:pt x="526" y="400"/>
                    <a:pt x="526" y="399"/>
                  </a:cubicBezTo>
                  <a:close/>
                  <a:moveTo>
                    <a:pt x="526" y="459"/>
                  </a:moveTo>
                  <a:cubicBezTo>
                    <a:pt x="526" y="458"/>
                    <a:pt x="526" y="457"/>
                    <a:pt x="526" y="456"/>
                  </a:cubicBezTo>
                  <a:cubicBezTo>
                    <a:pt x="532" y="456"/>
                    <a:pt x="537" y="456"/>
                    <a:pt x="543" y="456"/>
                  </a:cubicBezTo>
                  <a:cubicBezTo>
                    <a:pt x="543" y="457"/>
                    <a:pt x="543" y="458"/>
                    <a:pt x="543" y="459"/>
                  </a:cubicBezTo>
                  <a:cubicBezTo>
                    <a:pt x="537" y="459"/>
                    <a:pt x="532" y="459"/>
                    <a:pt x="526" y="459"/>
                  </a:cubicBezTo>
                  <a:close/>
                  <a:moveTo>
                    <a:pt x="526" y="513"/>
                  </a:moveTo>
                  <a:cubicBezTo>
                    <a:pt x="532" y="513"/>
                    <a:pt x="537" y="513"/>
                    <a:pt x="543" y="513"/>
                  </a:cubicBezTo>
                  <a:cubicBezTo>
                    <a:pt x="543" y="514"/>
                    <a:pt x="543" y="515"/>
                    <a:pt x="543" y="516"/>
                  </a:cubicBezTo>
                  <a:cubicBezTo>
                    <a:pt x="537" y="516"/>
                    <a:pt x="532" y="516"/>
                    <a:pt x="526" y="516"/>
                  </a:cubicBezTo>
                  <a:cubicBezTo>
                    <a:pt x="526" y="515"/>
                    <a:pt x="526" y="514"/>
                    <a:pt x="526" y="513"/>
                  </a:cubicBezTo>
                  <a:close/>
                  <a:moveTo>
                    <a:pt x="526" y="570"/>
                  </a:moveTo>
                  <a:cubicBezTo>
                    <a:pt x="532" y="570"/>
                    <a:pt x="537" y="570"/>
                    <a:pt x="543" y="570"/>
                  </a:cubicBezTo>
                  <a:cubicBezTo>
                    <a:pt x="543" y="571"/>
                    <a:pt x="543" y="572"/>
                    <a:pt x="543" y="573"/>
                  </a:cubicBezTo>
                  <a:cubicBezTo>
                    <a:pt x="537" y="573"/>
                    <a:pt x="532" y="573"/>
                    <a:pt x="526" y="573"/>
                  </a:cubicBezTo>
                  <a:cubicBezTo>
                    <a:pt x="526" y="572"/>
                    <a:pt x="526" y="571"/>
                    <a:pt x="526" y="570"/>
                  </a:cubicBezTo>
                  <a:close/>
                  <a:moveTo>
                    <a:pt x="549" y="0"/>
                  </a:moveTo>
                  <a:cubicBezTo>
                    <a:pt x="555" y="0"/>
                    <a:pt x="560" y="0"/>
                    <a:pt x="566" y="0"/>
                  </a:cubicBezTo>
                  <a:cubicBezTo>
                    <a:pt x="566" y="1"/>
                    <a:pt x="566" y="2"/>
                    <a:pt x="566" y="4"/>
                  </a:cubicBezTo>
                  <a:cubicBezTo>
                    <a:pt x="560" y="4"/>
                    <a:pt x="555" y="4"/>
                    <a:pt x="549" y="4"/>
                  </a:cubicBezTo>
                  <a:cubicBezTo>
                    <a:pt x="549" y="2"/>
                    <a:pt x="549" y="1"/>
                    <a:pt x="549" y="0"/>
                  </a:cubicBezTo>
                  <a:close/>
                  <a:moveTo>
                    <a:pt x="549" y="57"/>
                  </a:moveTo>
                  <a:cubicBezTo>
                    <a:pt x="555" y="57"/>
                    <a:pt x="560" y="57"/>
                    <a:pt x="566" y="57"/>
                  </a:cubicBezTo>
                  <a:cubicBezTo>
                    <a:pt x="566" y="58"/>
                    <a:pt x="566" y="59"/>
                    <a:pt x="566" y="60"/>
                  </a:cubicBezTo>
                  <a:cubicBezTo>
                    <a:pt x="560" y="60"/>
                    <a:pt x="555" y="60"/>
                    <a:pt x="549" y="60"/>
                  </a:cubicBezTo>
                  <a:cubicBezTo>
                    <a:pt x="549" y="59"/>
                    <a:pt x="549" y="58"/>
                    <a:pt x="549" y="57"/>
                  </a:cubicBezTo>
                  <a:close/>
                  <a:moveTo>
                    <a:pt x="549" y="114"/>
                  </a:moveTo>
                  <a:cubicBezTo>
                    <a:pt x="555" y="114"/>
                    <a:pt x="560" y="114"/>
                    <a:pt x="566" y="114"/>
                  </a:cubicBezTo>
                  <a:cubicBezTo>
                    <a:pt x="566" y="115"/>
                    <a:pt x="566" y="116"/>
                    <a:pt x="566" y="117"/>
                  </a:cubicBezTo>
                  <a:cubicBezTo>
                    <a:pt x="560" y="117"/>
                    <a:pt x="555" y="117"/>
                    <a:pt x="549" y="117"/>
                  </a:cubicBezTo>
                  <a:cubicBezTo>
                    <a:pt x="549" y="116"/>
                    <a:pt x="549" y="115"/>
                    <a:pt x="549" y="114"/>
                  </a:cubicBezTo>
                  <a:close/>
                  <a:moveTo>
                    <a:pt x="549" y="171"/>
                  </a:moveTo>
                  <a:cubicBezTo>
                    <a:pt x="555" y="171"/>
                    <a:pt x="560" y="171"/>
                    <a:pt x="566" y="171"/>
                  </a:cubicBezTo>
                  <a:cubicBezTo>
                    <a:pt x="566" y="172"/>
                    <a:pt x="566" y="173"/>
                    <a:pt x="566" y="174"/>
                  </a:cubicBezTo>
                  <a:cubicBezTo>
                    <a:pt x="560" y="174"/>
                    <a:pt x="555" y="174"/>
                    <a:pt x="549" y="174"/>
                  </a:cubicBezTo>
                  <a:cubicBezTo>
                    <a:pt x="549" y="173"/>
                    <a:pt x="549" y="172"/>
                    <a:pt x="549" y="171"/>
                  </a:cubicBezTo>
                  <a:close/>
                  <a:moveTo>
                    <a:pt x="549" y="228"/>
                  </a:moveTo>
                  <a:cubicBezTo>
                    <a:pt x="555" y="228"/>
                    <a:pt x="560" y="228"/>
                    <a:pt x="566" y="228"/>
                  </a:cubicBezTo>
                  <a:cubicBezTo>
                    <a:pt x="566" y="229"/>
                    <a:pt x="566" y="230"/>
                    <a:pt x="566" y="231"/>
                  </a:cubicBezTo>
                  <a:cubicBezTo>
                    <a:pt x="560" y="231"/>
                    <a:pt x="555" y="231"/>
                    <a:pt x="549" y="231"/>
                  </a:cubicBezTo>
                  <a:cubicBezTo>
                    <a:pt x="549" y="230"/>
                    <a:pt x="549" y="229"/>
                    <a:pt x="549" y="228"/>
                  </a:cubicBezTo>
                  <a:close/>
                  <a:moveTo>
                    <a:pt x="549" y="285"/>
                  </a:moveTo>
                  <a:cubicBezTo>
                    <a:pt x="555" y="285"/>
                    <a:pt x="560" y="285"/>
                    <a:pt x="566" y="285"/>
                  </a:cubicBezTo>
                  <a:cubicBezTo>
                    <a:pt x="566" y="286"/>
                    <a:pt x="566" y="287"/>
                    <a:pt x="566" y="288"/>
                  </a:cubicBezTo>
                  <a:cubicBezTo>
                    <a:pt x="560" y="288"/>
                    <a:pt x="555" y="288"/>
                    <a:pt x="549" y="288"/>
                  </a:cubicBezTo>
                  <a:cubicBezTo>
                    <a:pt x="549" y="287"/>
                    <a:pt x="549" y="286"/>
                    <a:pt x="549" y="285"/>
                  </a:cubicBezTo>
                  <a:close/>
                  <a:moveTo>
                    <a:pt x="549" y="342"/>
                  </a:moveTo>
                  <a:cubicBezTo>
                    <a:pt x="555" y="342"/>
                    <a:pt x="560" y="342"/>
                    <a:pt x="566" y="342"/>
                  </a:cubicBezTo>
                  <a:cubicBezTo>
                    <a:pt x="566" y="343"/>
                    <a:pt x="566" y="344"/>
                    <a:pt x="566" y="345"/>
                  </a:cubicBezTo>
                  <a:cubicBezTo>
                    <a:pt x="560" y="345"/>
                    <a:pt x="555" y="345"/>
                    <a:pt x="549" y="345"/>
                  </a:cubicBezTo>
                  <a:cubicBezTo>
                    <a:pt x="549" y="344"/>
                    <a:pt x="549" y="343"/>
                    <a:pt x="549" y="342"/>
                  </a:cubicBezTo>
                  <a:close/>
                  <a:moveTo>
                    <a:pt x="549" y="399"/>
                  </a:moveTo>
                  <a:cubicBezTo>
                    <a:pt x="555" y="399"/>
                    <a:pt x="560" y="399"/>
                    <a:pt x="566" y="399"/>
                  </a:cubicBezTo>
                  <a:cubicBezTo>
                    <a:pt x="566" y="400"/>
                    <a:pt x="566" y="401"/>
                    <a:pt x="566" y="402"/>
                  </a:cubicBezTo>
                  <a:cubicBezTo>
                    <a:pt x="560" y="402"/>
                    <a:pt x="555" y="402"/>
                    <a:pt x="549" y="402"/>
                  </a:cubicBezTo>
                  <a:cubicBezTo>
                    <a:pt x="549" y="401"/>
                    <a:pt x="549" y="400"/>
                    <a:pt x="549" y="399"/>
                  </a:cubicBezTo>
                  <a:close/>
                  <a:moveTo>
                    <a:pt x="549" y="459"/>
                  </a:moveTo>
                  <a:cubicBezTo>
                    <a:pt x="549" y="458"/>
                    <a:pt x="549" y="457"/>
                    <a:pt x="549" y="456"/>
                  </a:cubicBezTo>
                  <a:cubicBezTo>
                    <a:pt x="555" y="456"/>
                    <a:pt x="560" y="456"/>
                    <a:pt x="566" y="456"/>
                  </a:cubicBezTo>
                  <a:cubicBezTo>
                    <a:pt x="566" y="457"/>
                    <a:pt x="566" y="458"/>
                    <a:pt x="566" y="459"/>
                  </a:cubicBezTo>
                  <a:cubicBezTo>
                    <a:pt x="560" y="459"/>
                    <a:pt x="555" y="459"/>
                    <a:pt x="549" y="459"/>
                  </a:cubicBezTo>
                  <a:close/>
                  <a:moveTo>
                    <a:pt x="549" y="513"/>
                  </a:moveTo>
                  <a:cubicBezTo>
                    <a:pt x="555" y="513"/>
                    <a:pt x="560" y="513"/>
                    <a:pt x="566" y="513"/>
                  </a:cubicBezTo>
                  <a:cubicBezTo>
                    <a:pt x="566" y="514"/>
                    <a:pt x="566" y="515"/>
                    <a:pt x="566" y="516"/>
                  </a:cubicBezTo>
                  <a:cubicBezTo>
                    <a:pt x="560" y="516"/>
                    <a:pt x="555" y="516"/>
                    <a:pt x="549" y="516"/>
                  </a:cubicBezTo>
                  <a:cubicBezTo>
                    <a:pt x="549" y="515"/>
                    <a:pt x="549" y="514"/>
                    <a:pt x="549" y="513"/>
                  </a:cubicBezTo>
                  <a:close/>
                  <a:moveTo>
                    <a:pt x="549" y="570"/>
                  </a:moveTo>
                  <a:cubicBezTo>
                    <a:pt x="555" y="570"/>
                    <a:pt x="560" y="570"/>
                    <a:pt x="566" y="570"/>
                  </a:cubicBezTo>
                  <a:cubicBezTo>
                    <a:pt x="566" y="571"/>
                    <a:pt x="566" y="572"/>
                    <a:pt x="566" y="573"/>
                  </a:cubicBezTo>
                  <a:cubicBezTo>
                    <a:pt x="560" y="573"/>
                    <a:pt x="555" y="573"/>
                    <a:pt x="549" y="573"/>
                  </a:cubicBezTo>
                  <a:cubicBezTo>
                    <a:pt x="549" y="572"/>
                    <a:pt x="549" y="571"/>
                    <a:pt x="549" y="570"/>
                  </a:cubicBezTo>
                  <a:close/>
                  <a:moveTo>
                    <a:pt x="572" y="0"/>
                  </a:moveTo>
                  <a:cubicBezTo>
                    <a:pt x="578" y="0"/>
                    <a:pt x="583" y="0"/>
                    <a:pt x="588" y="0"/>
                  </a:cubicBezTo>
                  <a:cubicBezTo>
                    <a:pt x="588" y="1"/>
                    <a:pt x="588" y="2"/>
                    <a:pt x="588" y="4"/>
                  </a:cubicBezTo>
                  <a:cubicBezTo>
                    <a:pt x="583" y="4"/>
                    <a:pt x="578" y="4"/>
                    <a:pt x="572" y="4"/>
                  </a:cubicBezTo>
                  <a:cubicBezTo>
                    <a:pt x="572" y="2"/>
                    <a:pt x="572" y="1"/>
                    <a:pt x="572" y="0"/>
                  </a:cubicBezTo>
                  <a:close/>
                  <a:moveTo>
                    <a:pt x="572" y="57"/>
                  </a:moveTo>
                  <a:cubicBezTo>
                    <a:pt x="578" y="57"/>
                    <a:pt x="583" y="57"/>
                    <a:pt x="588" y="57"/>
                  </a:cubicBezTo>
                  <a:cubicBezTo>
                    <a:pt x="588" y="58"/>
                    <a:pt x="588" y="59"/>
                    <a:pt x="588" y="60"/>
                  </a:cubicBezTo>
                  <a:cubicBezTo>
                    <a:pt x="583" y="60"/>
                    <a:pt x="578" y="60"/>
                    <a:pt x="572" y="60"/>
                  </a:cubicBezTo>
                  <a:cubicBezTo>
                    <a:pt x="572" y="59"/>
                    <a:pt x="572" y="58"/>
                    <a:pt x="572" y="57"/>
                  </a:cubicBezTo>
                  <a:close/>
                  <a:moveTo>
                    <a:pt x="572" y="114"/>
                  </a:moveTo>
                  <a:cubicBezTo>
                    <a:pt x="578" y="114"/>
                    <a:pt x="583" y="114"/>
                    <a:pt x="588" y="114"/>
                  </a:cubicBezTo>
                  <a:cubicBezTo>
                    <a:pt x="588" y="115"/>
                    <a:pt x="588" y="116"/>
                    <a:pt x="588" y="117"/>
                  </a:cubicBezTo>
                  <a:cubicBezTo>
                    <a:pt x="583" y="117"/>
                    <a:pt x="578" y="117"/>
                    <a:pt x="572" y="117"/>
                  </a:cubicBezTo>
                  <a:cubicBezTo>
                    <a:pt x="572" y="116"/>
                    <a:pt x="572" y="115"/>
                    <a:pt x="572" y="114"/>
                  </a:cubicBezTo>
                  <a:close/>
                  <a:moveTo>
                    <a:pt x="572" y="171"/>
                  </a:moveTo>
                  <a:cubicBezTo>
                    <a:pt x="578" y="171"/>
                    <a:pt x="583" y="171"/>
                    <a:pt x="588" y="171"/>
                  </a:cubicBezTo>
                  <a:cubicBezTo>
                    <a:pt x="588" y="172"/>
                    <a:pt x="588" y="173"/>
                    <a:pt x="588" y="174"/>
                  </a:cubicBezTo>
                  <a:cubicBezTo>
                    <a:pt x="583" y="174"/>
                    <a:pt x="578" y="174"/>
                    <a:pt x="572" y="174"/>
                  </a:cubicBezTo>
                  <a:cubicBezTo>
                    <a:pt x="572" y="173"/>
                    <a:pt x="572" y="172"/>
                    <a:pt x="572" y="171"/>
                  </a:cubicBezTo>
                  <a:close/>
                  <a:moveTo>
                    <a:pt x="572" y="228"/>
                  </a:moveTo>
                  <a:cubicBezTo>
                    <a:pt x="578" y="228"/>
                    <a:pt x="583" y="228"/>
                    <a:pt x="588" y="228"/>
                  </a:cubicBezTo>
                  <a:cubicBezTo>
                    <a:pt x="588" y="229"/>
                    <a:pt x="588" y="230"/>
                    <a:pt x="588" y="231"/>
                  </a:cubicBezTo>
                  <a:cubicBezTo>
                    <a:pt x="583" y="231"/>
                    <a:pt x="578" y="231"/>
                    <a:pt x="572" y="231"/>
                  </a:cubicBezTo>
                  <a:cubicBezTo>
                    <a:pt x="572" y="230"/>
                    <a:pt x="572" y="229"/>
                    <a:pt x="572" y="228"/>
                  </a:cubicBezTo>
                  <a:close/>
                  <a:moveTo>
                    <a:pt x="572" y="285"/>
                  </a:moveTo>
                  <a:cubicBezTo>
                    <a:pt x="578" y="285"/>
                    <a:pt x="583" y="285"/>
                    <a:pt x="588" y="285"/>
                  </a:cubicBezTo>
                  <a:cubicBezTo>
                    <a:pt x="588" y="286"/>
                    <a:pt x="588" y="287"/>
                    <a:pt x="588" y="288"/>
                  </a:cubicBezTo>
                  <a:cubicBezTo>
                    <a:pt x="583" y="288"/>
                    <a:pt x="578" y="288"/>
                    <a:pt x="572" y="288"/>
                  </a:cubicBezTo>
                  <a:cubicBezTo>
                    <a:pt x="572" y="287"/>
                    <a:pt x="572" y="286"/>
                    <a:pt x="572" y="285"/>
                  </a:cubicBezTo>
                  <a:close/>
                  <a:moveTo>
                    <a:pt x="572" y="342"/>
                  </a:moveTo>
                  <a:cubicBezTo>
                    <a:pt x="578" y="342"/>
                    <a:pt x="583" y="342"/>
                    <a:pt x="588" y="342"/>
                  </a:cubicBezTo>
                  <a:cubicBezTo>
                    <a:pt x="588" y="343"/>
                    <a:pt x="588" y="344"/>
                    <a:pt x="588" y="345"/>
                  </a:cubicBezTo>
                  <a:cubicBezTo>
                    <a:pt x="583" y="345"/>
                    <a:pt x="578" y="345"/>
                    <a:pt x="572" y="345"/>
                  </a:cubicBezTo>
                  <a:cubicBezTo>
                    <a:pt x="572" y="344"/>
                    <a:pt x="572" y="343"/>
                    <a:pt x="572" y="342"/>
                  </a:cubicBezTo>
                  <a:close/>
                  <a:moveTo>
                    <a:pt x="572" y="399"/>
                  </a:moveTo>
                  <a:cubicBezTo>
                    <a:pt x="578" y="399"/>
                    <a:pt x="583" y="399"/>
                    <a:pt x="588" y="399"/>
                  </a:cubicBezTo>
                  <a:cubicBezTo>
                    <a:pt x="588" y="400"/>
                    <a:pt x="588" y="401"/>
                    <a:pt x="588" y="402"/>
                  </a:cubicBezTo>
                  <a:cubicBezTo>
                    <a:pt x="583" y="402"/>
                    <a:pt x="578" y="402"/>
                    <a:pt x="572" y="402"/>
                  </a:cubicBezTo>
                  <a:cubicBezTo>
                    <a:pt x="572" y="401"/>
                    <a:pt x="572" y="400"/>
                    <a:pt x="572" y="399"/>
                  </a:cubicBezTo>
                  <a:close/>
                  <a:moveTo>
                    <a:pt x="572" y="459"/>
                  </a:moveTo>
                  <a:cubicBezTo>
                    <a:pt x="572" y="458"/>
                    <a:pt x="572" y="457"/>
                    <a:pt x="572" y="456"/>
                  </a:cubicBezTo>
                  <a:cubicBezTo>
                    <a:pt x="578" y="456"/>
                    <a:pt x="583" y="456"/>
                    <a:pt x="588" y="456"/>
                  </a:cubicBezTo>
                  <a:cubicBezTo>
                    <a:pt x="588" y="457"/>
                    <a:pt x="588" y="458"/>
                    <a:pt x="588" y="459"/>
                  </a:cubicBezTo>
                  <a:cubicBezTo>
                    <a:pt x="583" y="459"/>
                    <a:pt x="578" y="459"/>
                    <a:pt x="572" y="459"/>
                  </a:cubicBezTo>
                  <a:close/>
                  <a:moveTo>
                    <a:pt x="572" y="513"/>
                  </a:moveTo>
                  <a:cubicBezTo>
                    <a:pt x="578" y="513"/>
                    <a:pt x="583" y="513"/>
                    <a:pt x="588" y="513"/>
                  </a:cubicBezTo>
                  <a:cubicBezTo>
                    <a:pt x="588" y="514"/>
                    <a:pt x="588" y="515"/>
                    <a:pt x="588" y="516"/>
                  </a:cubicBezTo>
                  <a:cubicBezTo>
                    <a:pt x="583" y="516"/>
                    <a:pt x="578" y="516"/>
                    <a:pt x="572" y="516"/>
                  </a:cubicBezTo>
                  <a:cubicBezTo>
                    <a:pt x="572" y="515"/>
                    <a:pt x="572" y="514"/>
                    <a:pt x="572" y="513"/>
                  </a:cubicBezTo>
                  <a:close/>
                  <a:moveTo>
                    <a:pt x="572" y="570"/>
                  </a:moveTo>
                  <a:cubicBezTo>
                    <a:pt x="578" y="570"/>
                    <a:pt x="583" y="570"/>
                    <a:pt x="588" y="570"/>
                  </a:cubicBezTo>
                  <a:cubicBezTo>
                    <a:pt x="588" y="571"/>
                    <a:pt x="588" y="572"/>
                    <a:pt x="588" y="573"/>
                  </a:cubicBezTo>
                  <a:cubicBezTo>
                    <a:pt x="583" y="573"/>
                    <a:pt x="578" y="573"/>
                    <a:pt x="572" y="573"/>
                  </a:cubicBezTo>
                  <a:cubicBezTo>
                    <a:pt x="572" y="572"/>
                    <a:pt x="572" y="571"/>
                    <a:pt x="572" y="570"/>
                  </a:cubicBezTo>
                  <a:close/>
                  <a:moveTo>
                    <a:pt x="595" y="0"/>
                  </a:moveTo>
                  <a:cubicBezTo>
                    <a:pt x="601" y="0"/>
                    <a:pt x="606" y="0"/>
                    <a:pt x="611" y="0"/>
                  </a:cubicBezTo>
                  <a:cubicBezTo>
                    <a:pt x="611" y="1"/>
                    <a:pt x="611" y="2"/>
                    <a:pt x="611" y="4"/>
                  </a:cubicBezTo>
                  <a:cubicBezTo>
                    <a:pt x="606" y="4"/>
                    <a:pt x="601" y="4"/>
                    <a:pt x="595" y="4"/>
                  </a:cubicBezTo>
                  <a:cubicBezTo>
                    <a:pt x="595" y="2"/>
                    <a:pt x="595" y="1"/>
                    <a:pt x="595" y="0"/>
                  </a:cubicBezTo>
                  <a:close/>
                  <a:moveTo>
                    <a:pt x="595" y="57"/>
                  </a:moveTo>
                  <a:cubicBezTo>
                    <a:pt x="601" y="57"/>
                    <a:pt x="606" y="57"/>
                    <a:pt x="611" y="57"/>
                  </a:cubicBezTo>
                  <a:cubicBezTo>
                    <a:pt x="611" y="58"/>
                    <a:pt x="611" y="59"/>
                    <a:pt x="611" y="60"/>
                  </a:cubicBezTo>
                  <a:cubicBezTo>
                    <a:pt x="606" y="60"/>
                    <a:pt x="601" y="60"/>
                    <a:pt x="595" y="60"/>
                  </a:cubicBezTo>
                  <a:cubicBezTo>
                    <a:pt x="595" y="59"/>
                    <a:pt x="595" y="58"/>
                    <a:pt x="595" y="57"/>
                  </a:cubicBezTo>
                  <a:close/>
                  <a:moveTo>
                    <a:pt x="595" y="114"/>
                  </a:moveTo>
                  <a:cubicBezTo>
                    <a:pt x="601" y="114"/>
                    <a:pt x="606" y="114"/>
                    <a:pt x="611" y="114"/>
                  </a:cubicBezTo>
                  <a:cubicBezTo>
                    <a:pt x="611" y="115"/>
                    <a:pt x="611" y="116"/>
                    <a:pt x="611" y="117"/>
                  </a:cubicBezTo>
                  <a:cubicBezTo>
                    <a:pt x="606" y="117"/>
                    <a:pt x="601" y="117"/>
                    <a:pt x="595" y="117"/>
                  </a:cubicBezTo>
                  <a:cubicBezTo>
                    <a:pt x="595" y="116"/>
                    <a:pt x="595" y="115"/>
                    <a:pt x="595" y="114"/>
                  </a:cubicBezTo>
                  <a:close/>
                  <a:moveTo>
                    <a:pt x="595" y="171"/>
                  </a:moveTo>
                  <a:cubicBezTo>
                    <a:pt x="601" y="171"/>
                    <a:pt x="606" y="171"/>
                    <a:pt x="611" y="171"/>
                  </a:cubicBezTo>
                  <a:cubicBezTo>
                    <a:pt x="611" y="172"/>
                    <a:pt x="611" y="173"/>
                    <a:pt x="611" y="174"/>
                  </a:cubicBezTo>
                  <a:cubicBezTo>
                    <a:pt x="606" y="174"/>
                    <a:pt x="601" y="174"/>
                    <a:pt x="595" y="174"/>
                  </a:cubicBezTo>
                  <a:cubicBezTo>
                    <a:pt x="595" y="173"/>
                    <a:pt x="595" y="172"/>
                    <a:pt x="595" y="171"/>
                  </a:cubicBezTo>
                  <a:close/>
                  <a:moveTo>
                    <a:pt x="595" y="228"/>
                  </a:moveTo>
                  <a:cubicBezTo>
                    <a:pt x="601" y="228"/>
                    <a:pt x="606" y="228"/>
                    <a:pt x="611" y="228"/>
                  </a:cubicBezTo>
                  <a:cubicBezTo>
                    <a:pt x="611" y="229"/>
                    <a:pt x="611" y="230"/>
                    <a:pt x="611" y="231"/>
                  </a:cubicBezTo>
                  <a:cubicBezTo>
                    <a:pt x="606" y="231"/>
                    <a:pt x="601" y="231"/>
                    <a:pt x="595" y="231"/>
                  </a:cubicBezTo>
                  <a:cubicBezTo>
                    <a:pt x="595" y="230"/>
                    <a:pt x="595" y="229"/>
                    <a:pt x="595" y="228"/>
                  </a:cubicBezTo>
                  <a:close/>
                  <a:moveTo>
                    <a:pt x="595" y="285"/>
                  </a:moveTo>
                  <a:cubicBezTo>
                    <a:pt x="601" y="285"/>
                    <a:pt x="606" y="285"/>
                    <a:pt x="611" y="285"/>
                  </a:cubicBezTo>
                  <a:cubicBezTo>
                    <a:pt x="611" y="286"/>
                    <a:pt x="611" y="287"/>
                    <a:pt x="611" y="288"/>
                  </a:cubicBezTo>
                  <a:cubicBezTo>
                    <a:pt x="606" y="288"/>
                    <a:pt x="601" y="288"/>
                    <a:pt x="595" y="288"/>
                  </a:cubicBezTo>
                  <a:cubicBezTo>
                    <a:pt x="595" y="287"/>
                    <a:pt x="595" y="286"/>
                    <a:pt x="595" y="285"/>
                  </a:cubicBezTo>
                  <a:close/>
                  <a:moveTo>
                    <a:pt x="595" y="342"/>
                  </a:moveTo>
                  <a:cubicBezTo>
                    <a:pt x="601" y="342"/>
                    <a:pt x="606" y="342"/>
                    <a:pt x="611" y="342"/>
                  </a:cubicBezTo>
                  <a:cubicBezTo>
                    <a:pt x="611" y="343"/>
                    <a:pt x="611" y="344"/>
                    <a:pt x="611" y="345"/>
                  </a:cubicBezTo>
                  <a:cubicBezTo>
                    <a:pt x="606" y="345"/>
                    <a:pt x="601" y="345"/>
                    <a:pt x="595" y="345"/>
                  </a:cubicBezTo>
                  <a:cubicBezTo>
                    <a:pt x="595" y="344"/>
                    <a:pt x="595" y="343"/>
                    <a:pt x="595" y="342"/>
                  </a:cubicBezTo>
                  <a:close/>
                  <a:moveTo>
                    <a:pt x="595" y="399"/>
                  </a:moveTo>
                  <a:cubicBezTo>
                    <a:pt x="601" y="399"/>
                    <a:pt x="606" y="399"/>
                    <a:pt x="611" y="399"/>
                  </a:cubicBezTo>
                  <a:cubicBezTo>
                    <a:pt x="611" y="400"/>
                    <a:pt x="611" y="401"/>
                    <a:pt x="611" y="402"/>
                  </a:cubicBezTo>
                  <a:cubicBezTo>
                    <a:pt x="606" y="402"/>
                    <a:pt x="601" y="402"/>
                    <a:pt x="595" y="402"/>
                  </a:cubicBezTo>
                  <a:cubicBezTo>
                    <a:pt x="595" y="401"/>
                    <a:pt x="595" y="400"/>
                    <a:pt x="595" y="399"/>
                  </a:cubicBezTo>
                  <a:close/>
                  <a:moveTo>
                    <a:pt x="595" y="459"/>
                  </a:moveTo>
                  <a:cubicBezTo>
                    <a:pt x="595" y="458"/>
                    <a:pt x="595" y="457"/>
                    <a:pt x="595" y="456"/>
                  </a:cubicBezTo>
                  <a:cubicBezTo>
                    <a:pt x="601" y="456"/>
                    <a:pt x="606" y="456"/>
                    <a:pt x="611" y="456"/>
                  </a:cubicBezTo>
                  <a:cubicBezTo>
                    <a:pt x="611" y="457"/>
                    <a:pt x="611" y="458"/>
                    <a:pt x="611" y="459"/>
                  </a:cubicBezTo>
                  <a:cubicBezTo>
                    <a:pt x="606" y="459"/>
                    <a:pt x="601" y="459"/>
                    <a:pt x="595" y="459"/>
                  </a:cubicBezTo>
                  <a:close/>
                  <a:moveTo>
                    <a:pt x="595" y="513"/>
                  </a:moveTo>
                  <a:cubicBezTo>
                    <a:pt x="601" y="513"/>
                    <a:pt x="606" y="513"/>
                    <a:pt x="611" y="513"/>
                  </a:cubicBezTo>
                  <a:cubicBezTo>
                    <a:pt x="611" y="514"/>
                    <a:pt x="611" y="515"/>
                    <a:pt x="611" y="516"/>
                  </a:cubicBezTo>
                  <a:cubicBezTo>
                    <a:pt x="606" y="516"/>
                    <a:pt x="601" y="516"/>
                    <a:pt x="595" y="516"/>
                  </a:cubicBezTo>
                  <a:cubicBezTo>
                    <a:pt x="595" y="515"/>
                    <a:pt x="595" y="514"/>
                    <a:pt x="595" y="513"/>
                  </a:cubicBezTo>
                  <a:close/>
                  <a:moveTo>
                    <a:pt x="595" y="570"/>
                  </a:moveTo>
                  <a:cubicBezTo>
                    <a:pt x="601" y="570"/>
                    <a:pt x="606" y="570"/>
                    <a:pt x="611" y="570"/>
                  </a:cubicBezTo>
                  <a:cubicBezTo>
                    <a:pt x="611" y="571"/>
                    <a:pt x="611" y="572"/>
                    <a:pt x="611" y="573"/>
                  </a:cubicBezTo>
                  <a:cubicBezTo>
                    <a:pt x="606" y="573"/>
                    <a:pt x="601" y="573"/>
                    <a:pt x="595" y="573"/>
                  </a:cubicBezTo>
                  <a:cubicBezTo>
                    <a:pt x="595" y="572"/>
                    <a:pt x="595" y="571"/>
                    <a:pt x="595" y="570"/>
                  </a:cubicBezTo>
                  <a:close/>
                  <a:moveTo>
                    <a:pt x="618" y="0"/>
                  </a:moveTo>
                  <a:cubicBezTo>
                    <a:pt x="623" y="0"/>
                    <a:pt x="629" y="0"/>
                    <a:pt x="634" y="0"/>
                  </a:cubicBezTo>
                  <a:cubicBezTo>
                    <a:pt x="634" y="1"/>
                    <a:pt x="634" y="2"/>
                    <a:pt x="634" y="4"/>
                  </a:cubicBezTo>
                  <a:cubicBezTo>
                    <a:pt x="629" y="4"/>
                    <a:pt x="623" y="4"/>
                    <a:pt x="618" y="4"/>
                  </a:cubicBezTo>
                  <a:cubicBezTo>
                    <a:pt x="618" y="2"/>
                    <a:pt x="618" y="1"/>
                    <a:pt x="618" y="0"/>
                  </a:cubicBezTo>
                  <a:close/>
                  <a:moveTo>
                    <a:pt x="618" y="57"/>
                  </a:moveTo>
                  <a:cubicBezTo>
                    <a:pt x="623" y="57"/>
                    <a:pt x="629" y="57"/>
                    <a:pt x="634" y="57"/>
                  </a:cubicBezTo>
                  <a:cubicBezTo>
                    <a:pt x="634" y="58"/>
                    <a:pt x="634" y="59"/>
                    <a:pt x="634" y="60"/>
                  </a:cubicBezTo>
                  <a:cubicBezTo>
                    <a:pt x="629" y="60"/>
                    <a:pt x="623" y="60"/>
                    <a:pt x="618" y="60"/>
                  </a:cubicBezTo>
                  <a:cubicBezTo>
                    <a:pt x="618" y="59"/>
                    <a:pt x="618" y="58"/>
                    <a:pt x="618" y="57"/>
                  </a:cubicBezTo>
                  <a:close/>
                  <a:moveTo>
                    <a:pt x="618" y="114"/>
                  </a:moveTo>
                  <a:cubicBezTo>
                    <a:pt x="623" y="114"/>
                    <a:pt x="629" y="114"/>
                    <a:pt x="634" y="114"/>
                  </a:cubicBezTo>
                  <a:cubicBezTo>
                    <a:pt x="634" y="115"/>
                    <a:pt x="634" y="116"/>
                    <a:pt x="634" y="117"/>
                  </a:cubicBezTo>
                  <a:cubicBezTo>
                    <a:pt x="629" y="117"/>
                    <a:pt x="623" y="117"/>
                    <a:pt x="618" y="117"/>
                  </a:cubicBezTo>
                  <a:cubicBezTo>
                    <a:pt x="618" y="116"/>
                    <a:pt x="618" y="115"/>
                    <a:pt x="618" y="114"/>
                  </a:cubicBezTo>
                  <a:close/>
                  <a:moveTo>
                    <a:pt x="618" y="171"/>
                  </a:moveTo>
                  <a:cubicBezTo>
                    <a:pt x="623" y="171"/>
                    <a:pt x="629" y="171"/>
                    <a:pt x="634" y="171"/>
                  </a:cubicBezTo>
                  <a:cubicBezTo>
                    <a:pt x="634" y="172"/>
                    <a:pt x="634" y="173"/>
                    <a:pt x="634" y="174"/>
                  </a:cubicBezTo>
                  <a:cubicBezTo>
                    <a:pt x="629" y="174"/>
                    <a:pt x="623" y="174"/>
                    <a:pt x="618" y="174"/>
                  </a:cubicBezTo>
                  <a:cubicBezTo>
                    <a:pt x="618" y="173"/>
                    <a:pt x="618" y="172"/>
                    <a:pt x="618" y="171"/>
                  </a:cubicBezTo>
                  <a:close/>
                  <a:moveTo>
                    <a:pt x="618" y="228"/>
                  </a:moveTo>
                  <a:cubicBezTo>
                    <a:pt x="623" y="228"/>
                    <a:pt x="629" y="228"/>
                    <a:pt x="634" y="228"/>
                  </a:cubicBezTo>
                  <a:cubicBezTo>
                    <a:pt x="634" y="229"/>
                    <a:pt x="634" y="230"/>
                    <a:pt x="634" y="231"/>
                  </a:cubicBezTo>
                  <a:cubicBezTo>
                    <a:pt x="629" y="231"/>
                    <a:pt x="623" y="231"/>
                    <a:pt x="618" y="231"/>
                  </a:cubicBezTo>
                  <a:cubicBezTo>
                    <a:pt x="618" y="230"/>
                    <a:pt x="618" y="229"/>
                    <a:pt x="618" y="228"/>
                  </a:cubicBezTo>
                  <a:close/>
                  <a:moveTo>
                    <a:pt x="618" y="285"/>
                  </a:moveTo>
                  <a:cubicBezTo>
                    <a:pt x="623" y="285"/>
                    <a:pt x="629" y="285"/>
                    <a:pt x="634" y="285"/>
                  </a:cubicBezTo>
                  <a:cubicBezTo>
                    <a:pt x="634" y="286"/>
                    <a:pt x="634" y="287"/>
                    <a:pt x="634" y="288"/>
                  </a:cubicBezTo>
                  <a:cubicBezTo>
                    <a:pt x="629" y="288"/>
                    <a:pt x="623" y="288"/>
                    <a:pt x="618" y="288"/>
                  </a:cubicBezTo>
                  <a:cubicBezTo>
                    <a:pt x="618" y="287"/>
                    <a:pt x="618" y="286"/>
                    <a:pt x="618" y="285"/>
                  </a:cubicBezTo>
                  <a:close/>
                  <a:moveTo>
                    <a:pt x="618" y="342"/>
                  </a:moveTo>
                  <a:cubicBezTo>
                    <a:pt x="623" y="342"/>
                    <a:pt x="629" y="342"/>
                    <a:pt x="634" y="342"/>
                  </a:cubicBezTo>
                  <a:cubicBezTo>
                    <a:pt x="634" y="343"/>
                    <a:pt x="634" y="344"/>
                    <a:pt x="634" y="345"/>
                  </a:cubicBezTo>
                  <a:cubicBezTo>
                    <a:pt x="629" y="345"/>
                    <a:pt x="623" y="345"/>
                    <a:pt x="618" y="345"/>
                  </a:cubicBezTo>
                  <a:cubicBezTo>
                    <a:pt x="618" y="344"/>
                    <a:pt x="618" y="343"/>
                    <a:pt x="618" y="342"/>
                  </a:cubicBezTo>
                  <a:close/>
                  <a:moveTo>
                    <a:pt x="618" y="399"/>
                  </a:moveTo>
                  <a:cubicBezTo>
                    <a:pt x="623" y="399"/>
                    <a:pt x="629" y="399"/>
                    <a:pt x="634" y="399"/>
                  </a:cubicBezTo>
                  <a:cubicBezTo>
                    <a:pt x="634" y="400"/>
                    <a:pt x="634" y="401"/>
                    <a:pt x="634" y="402"/>
                  </a:cubicBezTo>
                  <a:cubicBezTo>
                    <a:pt x="629" y="402"/>
                    <a:pt x="623" y="402"/>
                    <a:pt x="618" y="402"/>
                  </a:cubicBezTo>
                  <a:cubicBezTo>
                    <a:pt x="618" y="401"/>
                    <a:pt x="618" y="400"/>
                    <a:pt x="618" y="399"/>
                  </a:cubicBezTo>
                  <a:close/>
                  <a:moveTo>
                    <a:pt x="618" y="459"/>
                  </a:moveTo>
                  <a:cubicBezTo>
                    <a:pt x="618" y="458"/>
                    <a:pt x="618" y="457"/>
                    <a:pt x="618" y="456"/>
                  </a:cubicBezTo>
                  <a:cubicBezTo>
                    <a:pt x="623" y="456"/>
                    <a:pt x="629" y="456"/>
                    <a:pt x="634" y="456"/>
                  </a:cubicBezTo>
                  <a:cubicBezTo>
                    <a:pt x="634" y="457"/>
                    <a:pt x="634" y="458"/>
                    <a:pt x="634" y="459"/>
                  </a:cubicBezTo>
                  <a:cubicBezTo>
                    <a:pt x="629" y="459"/>
                    <a:pt x="623" y="459"/>
                    <a:pt x="618" y="459"/>
                  </a:cubicBezTo>
                  <a:close/>
                  <a:moveTo>
                    <a:pt x="618" y="513"/>
                  </a:moveTo>
                  <a:cubicBezTo>
                    <a:pt x="623" y="513"/>
                    <a:pt x="629" y="513"/>
                    <a:pt x="634" y="513"/>
                  </a:cubicBezTo>
                  <a:cubicBezTo>
                    <a:pt x="634" y="514"/>
                    <a:pt x="634" y="515"/>
                    <a:pt x="634" y="516"/>
                  </a:cubicBezTo>
                  <a:cubicBezTo>
                    <a:pt x="629" y="516"/>
                    <a:pt x="623" y="516"/>
                    <a:pt x="618" y="516"/>
                  </a:cubicBezTo>
                  <a:cubicBezTo>
                    <a:pt x="618" y="515"/>
                    <a:pt x="618" y="514"/>
                    <a:pt x="618" y="513"/>
                  </a:cubicBezTo>
                  <a:close/>
                  <a:moveTo>
                    <a:pt x="618" y="570"/>
                  </a:moveTo>
                  <a:cubicBezTo>
                    <a:pt x="623" y="570"/>
                    <a:pt x="629" y="570"/>
                    <a:pt x="634" y="570"/>
                  </a:cubicBezTo>
                  <a:cubicBezTo>
                    <a:pt x="634" y="571"/>
                    <a:pt x="634" y="572"/>
                    <a:pt x="634" y="573"/>
                  </a:cubicBezTo>
                  <a:cubicBezTo>
                    <a:pt x="629" y="573"/>
                    <a:pt x="623" y="573"/>
                    <a:pt x="618" y="573"/>
                  </a:cubicBezTo>
                  <a:cubicBezTo>
                    <a:pt x="618" y="572"/>
                    <a:pt x="618" y="571"/>
                    <a:pt x="618" y="570"/>
                  </a:cubicBezTo>
                  <a:close/>
                  <a:moveTo>
                    <a:pt x="641" y="0"/>
                  </a:moveTo>
                  <a:cubicBezTo>
                    <a:pt x="646" y="0"/>
                    <a:pt x="652" y="0"/>
                    <a:pt x="657" y="0"/>
                  </a:cubicBezTo>
                  <a:cubicBezTo>
                    <a:pt x="657" y="1"/>
                    <a:pt x="657" y="2"/>
                    <a:pt x="657" y="4"/>
                  </a:cubicBezTo>
                  <a:cubicBezTo>
                    <a:pt x="652" y="4"/>
                    <a:pt x="646" y="4"/>
                    <a:pt x="641" y="4"/>
                  </a:cubicBezTo>
                  <a:cubicBezTo>
                    <a:pt x="641" y="2"/>
                    <a:pt x="641" y="1"/>
                    <a:pt x="641" y="0"/>
                  </a:cubicBezTo>
                  <a:close/>
                  <a:moveTo>
                    <a:pt x="641" y="57"/>
                  </a:moveTo>
                  <a:cubicBezTo>
                    <a:pt x="646" y="57"/>
                    <a:pt x="652" y="57"/>
                    <a:pt x="657" y="57"/>
                  </a:cubicBezTo>
                  <a:cubicBezTo>
                    <a:pt x="657" y="58"/>
                    <a:pt x="657" y="59"/>
                    <a:pt x="657" y="60"/>
                  </a:cubicBezTo>
                  <a:cubicBezTo>
                    <a:pt x="652" y="60"/>
                    <a:pt x="646" y="60"/>
                    <a:pt x="641" y="60"/>
                  </a:cubicBezTo>
                  <a:cubicBezTo>
                    <a:pt x="641" y="59"/>
                    <a:pt x="641" y="58"/>
                    <a:pt x="641" y="57"/>
                  </a:cubicBezTo>
                  <a:close/>
                  <a:moveTo>
                    <a:pt x="641" y="114"/>
                  </a:moveTo>
                  <a:cubicBezTo>
                    <a:pt x="646" y="114"/>
                    <a:pt x="652" y="114"/>
                    <a:pt x="657" y="114"/>
                  </a:cubicBezTo>
                  <a:cubicBezTo>
                    <a:pt x="657" y="115"/>
                    <a:pt x="657" y="116"/>
                    <a:pt x="657" y="117"/>
                  </a:cubicBezTo>
                  <a:cubicBezTo>
                    <a:pt x="652" y="117"/>
                    <a:pt x="646" y="117"/>
                    <a:pt x="641" y="117"/>
                  </a:cubicBezTo>
                  <a:cubicBezTo>
                    <a:pt x="641" y="116"/>
                    <a:pt x="641" y="115"/>
                    <a:pt x="641" y="114"/>
                  </a:cubicBezTo>
                  <a:close/>
                  <a:moveTo>
                    <a:pt x="641" y="171"/>
                  </a:moveTo>
                  <a:cubicBezTo>
                    <a:pt x="646" y="171"/>
                    <a:pt x="652" y="171"/>
                    <a:pt x="657" y="171"/>
                  </a:cubicBezTo>
                  <a:cubicBezTo>
                    <a:pt x="657" y="172"/>
                    <a:pt x="657" y="173"/>
                    <a:pt x="657" y="174"/>
                  </a:cubicBezTo>
                  <a:cubicBezTo>
                    <a:pt x="652" y="174"/>
                    <a:pt x="646" y="174"/>
                    <a:pt x="641" y="174"/>
                  </a:cubicBezTo>
                  <a:cubicBezTo>
                    <a:pt x="641" y="173"/>
                    <a:pt x="641" y="172"/>
                    <a:pt x="641" y="171"/>
                  </a:cubicBezTo>
                  <a:close/>
                  <a:moveTo>
                    <a:pt x="641" y="228"/>
                  </a:moveTo>
                  <a:cubicBezTo>
                    <a:pt x="646" y="228"/>
                    <a:pt x="652" y="228"/>
                    <a:pt x="657" y="228"/>
                  </a:cubicBezTo>
                  <a:cubicBezTo>
                    <a:pt x="657" y="229"/>
                    <a:pt x="657" y="230"/>
                    <a:pt x="657" y="231"/>
                  </a:cubicBezTo>
                  <a:cubicBezTo>
                    <a:pt x="652" y="231"/>
                    <a:pt x="646" y="231"/>
                    <a:pt x="641" y="231"/>
                  </a:cubicBezTo>
                  <a:cubicBezTo>
                    <a:pt x="641" y="230"/>
                    <a:pt x="641" y="229"/>
                    <a:pt x="641" y="228"/>
                  </a:cubicBezTo>
                  <a:close/>
                  <a:moveTo>
                    <a:pt x="641" y="285"/>
                  </a:moveTo>
                  <a:cubicBezTo>
                    <a:pt x="646" y="285"/>
                    <a:pt x="652" y="285"/>
                    <a:pt x="657" y="285"/>
                  </a:cubicBezTo>
                  <a:cubicBezTo>
                    <a:pt x="657" y="286"/>
                    <a:pt x="657" y="287"/>
                    <a:pt x="657" y="288"/>
                  </a:cubicBezTo>
                  <a:cubicBezTo>
                    <a:pt x="652" y="288"/>
                    <a:pt x="646" y="288"/>
                    <a:pt x="641" y="288"/>
                  </a:cubicBezTo>
                  <a:cubicBezTo>
                    <a:pt x="641" y="287"/>
                    <a:pt x="641" y="286"/>
                    <a:pt x="641" y="285"/>
                  </a:cubicBezTo>
                  <a:close/>
                  <a:moveTo>
                    <a:pt x="641" y="342"/>
                  </a:moveTo>
                  <a:cubicBezTo>
                    <a:pt x="646" y="342"/>
                    <a:pt x="652" y="342"/>
                    <a:pt x="657" y="342"/>
                  </a:cubicBezTo>
                  <a:cubicBezTo>
                    <a:pt x="657" y="343"/>
                    <a:pt x="657" y="344"/>
                    <a:pt x="657" y="345"/>
                  </a:cubicBezTo>
                  <a:cubicBezTo>
                    <a:pt x="652" y="345"/>
                    <a:pt x="646" y="345"/>
                    <a:pt x="641" y="345"/>
                  </a:cubicBezTo>
                  <a:cubicBezTo>
                    <a:pt x="641" y="344"/>
                    <a:pt x="641" y="343"/>
                    <a:pt x="641" y="342"/>
                  </a:cubicBezTo>
                  <a:close/>
                  <a:moveTo>
                    <a:pt x="641" y="399"/>
                  </a:moveTo>
                  <a:cubicBezTo>
                    <a:pt x="646" y="399"/>
                    <a:pt x="652" y="399"/>
                    <a:pt x="657" y="399"/>
                  </a:cubicBezTo>
                  <a:cubicBezTo>
                    <a:pt x="657" y="400"/>
                    <a:pt x="657" y="401"/>
                    <a:pt x="657" y="402"/>
                  </a:cubicBezTo>
                  <a:cubicBezTo>
                    <a:pt x="652" y="402"/>
                    <a:pt x="646" y="402"/>
                    <a:pt x="641" y="402"/>
                  </a:cubicBezTo>
                  <a:cubicBezTo>
                    <a:pt x="641" y="401"/>
                    <a:pt x="641" y="400"/>
                    <a:pt x="641" y="399"/>
                  </a:cubicBezTo>
                  <a:close/>
                  <a:moveTo>
                    <a:pt x="641" y="459"/>
                  </a:moveTo>
                  <a:cubicBezTo>
                    <a:pt x="641" y="458"/>
                    <a:pt x="641" y="457"/>
                    <a:pt x="641" y="456"/>
                  </a:cubicBezTo>
                  <a:cubicBezTo>
                    <a:pt x="646" y="456"/>
                    <a:pt x="652" y="456"/>
                    <a:pt x="657" y="456"/>
                  </a:cubicBezTo>
                  <a:cubicBezTo>
                    <a:pt x="657" y="457"/>
                    <a:pt x="657" y="458"/>
                    <a:pt x="657" y="459"/>
                  </a:cubicBezTo>
                  <a:cubicBezTo>
                    <a:pt x="652" y="459"/>
                    <a:pt x="646" y="459"/>
                    <a:pt x="641" y="459"/>
                  </a:cubicBezTo>
                  <a:close/>
                  <a:moveTo>
                    <a:pt x="641" y="513"/>
                  </a:moveTo>
                  <a:cubicBezTo>
                    <a:pt x="646" y="513"/>
                    <a:pt x="652" y="513"/>
                    <a:pt x="657" y="513"/>
                  </a:cubicBezTo>
                  <a:cubicBezTo>
                    <a:pt x="657" y="514"/>
                    <a:pt x="657" y="515"/>
                    <a:pt x="657" y="516"/>
                  </a:cubicBezTo>
                  <a:cubicBezTo>
                    <a:pt x="652" y="516"/>
                    <a:pt x="646" y="516"/>
                    <a:pt x="641" y="516"/>
                  </a:cubicBezTo>
                  <a:cubicBezTo>
                    <a:pt x="641" y="515"/>
                    <a:pt x="641" y="514"/>
                    <a:pt x="641" y="513"/>
                  </a:cubicBezTo>
                  <a:close/>
                  <a:moveTo>
                    <a:pt x="641" y="570"/>
                  </a:moveTo>
                  <a:cubicBezTo>
                    <a:pt x="646" y="570"/>
                    <a:pt x="652" y="570"/>
                    <a:pt x="657" y="570"/>
                  </a:cubicBezTo>
                  <a:cubicBezTo>
                    <a:pt x="657" y="571"/>
                    <a:pt x="657" y="572"/>
                    <a:pt x="657" y="573"/>
                  </a:cubicBezTo>
                  <a:cubicBezTo>
                    <a:pt x="652" y="573"/>
                    <a:pt x="646" y="573"/>
                    <a:pt x="641" y="573"/>
                  </a:cubicBezTo>
                  <a:cubicBezTo>
                    <a:pt x="641" y="572"/>
                    <a:pt x="641" y="571"/>
                    <a:pt x="641" y="570"/>
                  </a:cubicBezTo>
                  <a:close/>
                  <a:moveTo>
                    <a:pt x="664" y="0"/>
                  </a:moveTo>
                  <a:cubicBezTo>
                    <a:pt x="669" y="0"/>
                    <a:pt x="675" y="0"/>
                    <a:pt x="680" y="0"/>
                  </a:cubicBezTo>
                  <a:cubicBezTo>
                    <a:pt x="680" y="1"/>
                    <a:pt x="680" y="2"/>
                    <a:pt x="680" y="4"/>
                  </a:cubicBezTo>
                  <a:cubicBezTo>
                    <a:pt x="675" y="4"/>
                    <a:pt x="669" y="4"/>
                    <a:pt x="664" y="4"/>
                  </a:cubicBezTo>
                  <a:cubicBezTo>
                    <a:pt x="664" y="2"/>
                    <a:pt x="664" y="1"/>
                    <a:pt x="664" y="0"/>
                  </a:cubicBezTo>
                  <a:close/>
                  <a:moveTo>
                    <a:pt x="664" y="57"/>
                  </a:moveTo>
                  <a:cubicBezTo>
                    <a:pt x="669" y="57"/>
                    <a:pt x="675" y="57"/>
                    <a:pt x="680" y="57"/>
                  </a:cubicBezTo>
                  <a:cubicBezTo>
                    <a:pt x="680" y="58"/>
                    <a:pt x="680" y="59"/>
                    <a:pt x="680" y="60"/>
                  </a:cubicBezTo>
                  <a:cubicBezTo>
                    <a:pt x="675" y="60"/>
                    <a:pt x="669" y="60"/>
                    <a:pt x="664" y="60"/>
                  </a:cubicBezTo>
                  <a:cubicBezTo>
                    <a:pt x="664" y="59"/>
                    <a:pt x="664" y="58"/>
                    <a:pt x="664" y="57"/>
                  </a:cubicBezTo>
                  <a:close/>
                  <a:moveTo>
                    <a:pt x="664" y="114"/>
                  </a:moveTo>
                  <a:cubicBezTo>
                    <a:pt x="669" y="114"/>
                    <a:pt x="675" y="114"/>
                    <a:pt x="680" y="114"/>
                  </a:cubicBezTo>
                  <a:cubicBezTo>
                    <a:pt x="680" y="115"/>
                    <a:pt x="680" y="116"/>
                    <a:pt x="680" y="117"/>
                  </a:cubicBezTo>
                  <a:cubicBezTo>
                    <a:pt x="675" y="117"/>
                    <a:pt x="669" y="117"/>
                    <a:pt x="664" y="117"/>
                  </a:cubicBezTo>
                  <a:cubicBezTo>
                    <a:pt x="664" y="116"/>
                    <a:pt x="664" y="115"/>
                    <a:pt x="664" y="114"/>
                  </a:cubicBezTo>
                  <a:close/>
                  <a:moveTo>
                    <a:pt x="664" y="171"/>
                  </a:moveTo>
                  <a:cubicBezTo>
                    <a:pt x="669" y="171"/>
                    <a:pt x="675" y="171"/>
                    <a:pt x="680" y="171"/>
                  </a:cubicBezTo>
                  <a:cubicBezTo>
                    <a:pt x="680" y="172"/>
                    <a:pt x="680" y="173"/>
                    <a:pt x="680" y="174"/>
                  </a:cubicBezTo>
                  <a:cubicBezTo>
                    <a:pt x="675" y="174"/>
                    <a:pt x="669" y="174"/>
                    <a:pt x="664" y="174"/>
                  </a:cubicBezTo>
                  <a:cubicBezTo>
                    <a:pt x="664" y="173"/>
                    <a:pt x="664" y="172"/>
                    <a:pt x="664" y="171"/>
                  </a:cubicBezTo>
                  <a:close/>
                  <a:moveTo>
                    <a:pt x="664" y="228"/>
                  </a:moveTo>
                  <a:cubicBezTo>
                    <a:pt x="669" y="228"/>
                    <a:pt x="675" y="228"/>
                    <a:pt x="680" y="228"/>
                  </a:cubicBezTo>
                  <a:cubicBezTo>
                    <a:pt x="680" y="229"/>
                    <a:pt x="680" y="230"/>
                    <a:pt x="680" y="231"/>
                  </a:cubicBezTo>
                  <a:cubicBezTo>
                    <a:pt x="675" y="231"/>
                    <a:pt x="669" y="231"/>
                    <a:pt x="664" y="231"/>
                  </a:cubicBezTo>
                  <a:cubicBezTo>
                    <a:pt x="664" y="230"/>
                    <a:pt x="664" y="229"/>
                    <a:pt x="664" y="228"/>
                  </a:cubicBezTo>
                  <a:close/>
                  <a:moveTo>
                    <a:pt x="664" y="285"/>
                  </a:moveTo>
                  <a:cubicBezTo>
                    <a:pt x="669" y="285"/>
                    <a:pt x="675" y="285"/>
                    <a:pt x="680" y="285"/>
                  </a:cubicBezTo>
                  <a:cubicBezTo>
                    <a:pt x="680" y="286"/>
                    <a:pt x="680" y="287"/>
                    <a:pt x="680" y="288"/>
                  </a:cubicBezTo>
                  <a:cubicBezTo>
                    <a:pt x="675" y="288"/>
                    <a:pt x="669" y="288"/>
                    <a:pt x="664" y="288"/>
                  </a:cubicBezTo>
                  <a:cubicBezTo>
                    <a:pt x="664" y="287"/>
                    <a:pt x="664" y="286"/>
                    <a:pt x="664" y="285"/>
                  </a:cubicBezTo>
                  <a:close/>
                  <a:moveTo>
                    <a:pt x="664" y="342"/>
                  </a:moveTo>
                  <a:cubicBezTo>
                    <a:pt x="669" y="342"/>
                    <a:pt x="675" y="342"/>
                    <a:pt x="680" y="342"/>
                  </a:cubicBezTo>
                  <a:cubicBezTo>
                    <a:pt x="680" y="343"/>
                    <a:pt x="680" y="344"/>
                    <a:pt x="680" y="345"/>
                  </a:cubicBezTo>
                  <a:cubicBezTo>
                    <a:pt x="675" y="345"/>
                    <a:pt x="669" y="345"/>
                    <a:pt x="664" y="345"/>
                  </a:cubicBezTo>
                  <a:cubicBezTo>
                    <a:pt x="664" y="344"/>
                    <a:pt x="664" y="343"/>
                    <a:pt x="664" y="342"/>
                  </a:cubicBezTo>
                  <a:close/>
                  <a:moveTo>
                    <a:pt x="664" y="399"/>
                  </a:moveTo>
                  <a:cubicBezTo>
                    <a:pt x="669" y="399"/>
                    <a:pt x="675" y="399"/>
                    <a:pt x="680" y="399"/>
                  </a:cubicBezTo>
                  <a:cubicBezTo>
                    <a:pt x="680" y="400"/>
                    <a:pt x="680" y="401"/>
                    <a:pt x="680" y="402"/>
                  </a:cubicBezTo>
                  <a:cubicBezTo>
                    <a:pt x="675" y="402"/>
                    <a:pt x="669" y="402"/>
                    <a:pt x="664" y="402"/>
                  </a:cubicBezTo>
                  <a:cubicBezTo>
                    <a:pt x="664" y="401"/>
                    <a:pt x="664" y="400"/>
                    <a:pt x="664" y="399"/>
                  </a:cubicBezTo>
                  <a:close/>
                  <a:moveTo>
                    <a:pt x="664" y="459"/>
                  </a:moveTo>
                  <a:cubicBezTo>
                    <a:pt x="664" y="458"/>
                    <a:pt x="664" y="457"/>
                    <a:pt x="664" y="456"/>
                  </a:cubicBezTo>
                  <a:cubicBezTo>
                    <a:pt x="669" y="456"/>
                    <a:pt x="675" y="456"/>
                    <a:pt x="680" y="456"/>
                  </a:cubicBezTo>
                  <a:cubicBezTo>
                    <a:pt x="680" y="457"/>
                    <a:pt x="680" y="458"/>
                    <a:pt x="680" y="459"/>
                  </a:cubicBezTo>
                  <a:cubicBezTo>
                    <a:pt x="675" y="459"/>
                    <a:pt x="669" y="459"/>
                    <a:pt x="664" y="459"/>
                  </a:cubicBezTo>
                  <a:close/>
                  <a:moveTo>
                    <a:pt x="664" y="513"/>
                  </a:moveTo>
                  <a:cubicBezTo>
                    <a:pt x="669" y="513"/>
                    <a:pt x="675" y="513"/>
                    <a:pt x="680" y="513"/>
                  </a:cubicBezTo>
                  <a:cubicBezTo>
                    <a:pt x="680" y="514"/>
                    <a:pt x="680" y="515"/>
                    <a:pt x="680" y="516"/>
                  </a:cubicBezTo>
                  <a:cubicBezTo>
                    <a:pt x="675" y="516"/>
                    <a:pt x="669" y="516"/>
                    <a:pt x="664" y="516"/>
                  </a:cubicBezTo>
                  <a:cubicBezTo>
                    <a:pt x="664" y="515"/>
                    <a:pt x="664" y="514"/>
                    <a:pt x="664" y="513"/>
                  </a:cubicBezTo>
                  <a:close/>
                  <a:moveTo>
                    <a:pt x="664" y="570"/>
                  </a:moveTo>
                  <a:cubicBezTo>
                    <a:pt x="669" y="570"/>
                    <a:pt x="675" y="570"/>
                    <a:pt x="680" y="570"/>
                  </a:cubicBezTo>
                  <a:cubicBezTo>
                    <a:pt x="680" y="571"/>
                    <a:pt x="680" y="572"/>
                    <a:pt x="680" y="573"/>
                  </a:cubicBezTo>
                  <a:cubicBezTo>
                    <a:pt x="675" y="573"/>
                    <a:pt x="669" y="573"/>
                    <a:pt x="664" y="573"/>
                  </a:cubicBezTo>
                  <a:cubicBezTo>
                    <a:pt x="664" y="572"/>
                    <a:pt x="664" y="571"/>
                    <a:pt x="664" y="570"/>
                  </a:cubicBezTo>
                  <a:close/>
                  <a:moveTo>
                    <a:pt x="687" y="0"/>
                  </a:moveTo>
                  <a:cubicBezTo>
                    <a:pt x="692" y="0"/>
                    <a:pt x="698" y="0"/>
                    <a:pt x="703" y="0"/>
                  </a:cubicBezTo>
                  <a:cubicBezTo>
                    <a:pt x="703" y="1"/>
                    <a:pt x="703" y="2"/>
                    <a:pt x="703" y="4"/>
                  </a:cubicBezTo>
                  <a:cubicBezTo>
                    <a:pt x="698" y="4"/>
                    <a:pt x="692" y="4"/>
                    <a:pt x="687" y="4"/>
                  </a:cubicBezTo>
                  <a:cubicBezTo>
                    <a:pt x="687" y="2"/>
                    <a:pt x="687" y="1"/>
                    <a:pt x="687" y="0"/>
                  </a:cubicBezTo>
                  <a:close/>
                  <a:moveTo>
                    <a:pt x="687" y="57"/>
                  </a:moveTo>
                  <a:cubicBezTo>
                    <a:pt x="692" y="57"/>
                    <a:pt x="698" y="57"/>
                    <a:pt x="703" y="57"/>
                  </a:cubicBezTo>
                  <a:cubicBezTo>
                    <a:pt x="703" y="58"/>
                    <a:pt x="703" y="59"/>
                    <a:pt x="703" y="60"/>
                  </a:cubicBezTo>
                  <a:cubicBezTo>
                    <a:pt x="698" y="60"/>
                    <a:pt x="692" y="60"/>
                    <a:pt x="687" y="60"/>
                  </a:cubicBezTo>
                  <a:cubicBezTo>
                    <a:pt x="687" y="59"/>
                    <a:pt x="687" y="58"/>
                    <a:pt x="687" y="57"/>
                  </a:cubicBezTo>
                  <a:close/>
                  <a:moveTo>
                    <a:pt x="687" y="114"/>
                  </a:moveTo>
                  <a:cubicBezTo>
                    <a:pt x="692" y="114"/>
                    <a:pt x="698" y="114"/>
                    <a:pt x="703" y="114"/>
                  </a:cubicBezTo>
                  <a:cubicBezTo>
                    <a:pt x="703" y="115"/>
                    <a:pt x="703" y="116"/>
                    <a:pt x="703" y="117"/>
                  </a:cubicBezTo>
                  <a:cubicBezTo>
                    <a:pt x="698" y="117"/>
                    <a:pt x="692" y="117"/>
                    <a:pt x="687" y="117"/>
                  </a:cubicBezTo>
                  <a:cubicBezTo>
                    <a:pt x="687" y="116"/>
                    <a:pt x="687" y="115"/>
                    <a:pt x="687" y="114"/>
                  </a:cubicBezTo>
                  <a:close/>
                  <a:moveTo>
                    <a:pt x="687" y="171"/>
                  </a:moveTo>
                  <a:cubicBezTo>
                    <a:pt x="692" y="171"/>
                    <a:pt x="698" y="171"/>
                    <a:pt x="703" y="171"/>
                  </a:cubicBezTo>
                  <a:cubicBezTo>
                    <a:pt x="703" y="172"/>
                    <a:pt x="703" y="173"/>
                    <a:pt x="703" y="174"/>
                  </a:cubicBezTo>
                  <a:cubicBezTo>
                    <a:pt x="698" y="174"/>
                    <a:pt x="692" y="174"/>
                    <a:pt x="687" y="174"/>
                  </a:cubicBezTo>
                  <a:cubicBezTo>
                    <a:pt x="687" y="173"/>
                    <a:pt x="687" y="172"/>
                    <a:pt x="687" y="171"/>
                  </a:cubicBezTo>
                  <a:close/>
                  <a:moveTo>
                    <a:pt x="687" y="228"/>
                  </a:moveTo>
                  <a:cubicBezTo>
                    <a:pt x="692" y="228"/>
                    <a:pt x="698" y="228"/>
                    <a:pt x="703" y="228"/>
                  </a:cubicBezTo>
                  <a:cubicBezTo>
                    <a:pt x="703" y="229"/>
                    <a:pt x="703" y="230"/>
                    <a:pt x="703" y="231"/>
                  </a:cubicBezTo>
                  <a:cubicBezTo>
                    <a:pt x="698" y="231"/>
                    <a:pt x="692" y="231"/>
                    <a:pt x="687" y="231"/>
                  </a:cubicBezTo>
                  <a:cubicBezTo>
                    <a:pt x="687" y="230"/>
                    <a:pt x="687" y="229"/>
                    <a:pt x="687" y="228"/>
                  </a:cubicBezTo>
                  <a:close/>
                  <a:moveTo>
                    <a:pt x="687" y="285"/>
                  </a:moveTo>
                  <a:cubicBezTo>
                    <a:pt x="692" y="285"/>
                    <a:pt x="698" y="285"/>
                    <a:pt x="703" y="285"/>
                  </a:cubicBezTo>
                  <a:cubicBezTo>
                    <a:pt x="703" y="286"/>
                    <a:pt x="703" y="287"/>
                    <a:pt x="703" y="288"/>
                  </a:cubicBezTo>
                  <a:cubicBezTo>
                    <a:pt x="698" y="288"/>
                    <a:pt x="692" y="288"/>
                    <a:pt x="687" y="288"/>
                  </a:cubicBezTo>
                  <a:cubicBezTo>
                    <a:pt x="687" y="287"/>
                    <a:pt x="687" y="286"/>
                    <a:pt x="687" y="285"/>
                  </a:cubicBezTo>
                  <a:close/>
                  <a:moveTo>
                    <a:pt x="687" y="342"/>
                  </a:moveTo>
                  <a:cubicBezTo>
                    <a:pt x="692" y="342"/>
                    <a:pt x="698" y="342"/>
                    <a:pt x="703" y="342"/>
                  </a:cubicBezTo>
                  <a:cubicBezTo>
                    <a:pt x="703" y="343"/>
                    <a:pt x="703" y="344"/>
                    <a:pt x="703" y="345"/>
                  </a:cubicBezTo>
                  <a:cubicBezTo>
                    <a:pt x="698" y="345"/>
                    <a:pt x="692" y="345"/>
                    <a:pt x="687" y="345"/>
                  </a:cubicBezTo>
                  <a:cubicBezTo>
                    <a:pt x="687" y="344"/>
                    <a:pt x="687" y="343"/>
                    <a:pt x="687" y="342"/>
                  </a:cubicBezTo>
                  <a:close/>
                  <a:moveTo>
                    <a:pt x="687" y="399"/>
                  </a:moveTo>
                  <a:cubicBezTo>
                    <a:pt x="692" y="399"/>
                    <a:pt x="698" y="399"/>
                    <a:pt x="703" y="399"/>
                  </a:cubicBezTo>
                  <a:cubicBezTo>
                    <a:pt x="703" y="400"/>
                    <a:pt x="703" y="401"/>
                    <a:pt x="703" y="402"/>
                  </a:cubicBezTo>
                  <a:cubicBezTo>
                    <a:pt x="698" y="402"/>
                    <a:pt x="692" y="402"/>
                    <a:pt x="687" y="402"/>
                  </a:cubicBezTo>
                  <a:cubicBezTo>
                    <a:pt x="687" y="401"/>
                    <a:pt x="687" y="400"/>
                    <a:pt x="687" y="399"/>
                  </a:cubicBezTo>
                  <a:close/>
                  <a:moveTo>
                    <a:pt x="687" y="459"/>
                  </a:moveTo>
                  <a:cubicBezTo>
                    <a:pt x="687" y="458"/>
                    <a:pt x="687" y="457"/>
                    <a:pt x="687" y="456"/>
                  </a:cubicBezTo>
                  <a:cubicBezTo>
                    <a:pt x="692" y="456"/>
                    <a:pt x="698" y="456"/>
                    <a:pt x="703" y="456"/>
                  </a:cubicBezTo>
                  <a:cubicBezTo>
                    <a:pt x="703" y="457"/>
                    <a:pt x="703" y="458"/>
                    <a:pt x="703" y="459"/>
                  </a:cubicBezTo>
                  <a:cubicBezTo>
                    <a:pt x="698" y="459"/>
                    <a:pt x="692" y="459"/>
                    <a:pt x="687" y="459"/>
                  </a:cubicBezTo>
                  <a:close/>
                  <a:moveTo>
                    <a:pt x="687" y="513"/>
                  </a:moveTo>
                  <a:cubicBezTo>
                    <a:pt x="692" y="513"/>
                    <a:pt x="698" y="513"/>
                    <a:pt x="703" y="513"/>
                  </a:cubicBezTo>
                  <a:cubicBezTo>
                    <a:pt x="703" y="514"/>
                    <a:pt x="703" y="515"/>
                    <a:pt x="703" y="516"/>
                  </a:cubicBezTo>
                  <a:cubicBezTo>
                    <a:pt x="698" y="516"/>
                    <a:pt x="692" y="516"/>
                    <a:pt x="687" y="516"/>
                  </a:cubicBezTo>
                  <a:cubicBezTo>
                    <a:pt x="687" y="515"/>
                    <a:pt x="687" y="514"/>
                    <a:pt x="687" y="513"/>
                  </a:cubicBezTo>
                  <a:close/>
                  <a:moveTo>
                    <a:pt x="687" y="570"/>
                  </a:moveTo>
                  <a:cubicBezTo>
                    <a:pt x="692" y="570"/>
                    <a:pt x="698" y="570"/>
                    <a:pt x="703" y="570"/>
                  </a:cubicBezTo>
                  <a:cubicBezTo>
                    <a:pt x="703" y="571"/>
                    <a:pt x="703" y="572"/>
                    <a:pt x="703" y="573"/>
                  </a:cubicBezTo>
                  <a:cubicBezTo>
                    <a:pt x="698" y="573"/>
                    <a:pt x="692" y="573"/>
                    <a:pt x="687" y="573"/>
                  </a:cubicBezTo>
                  <a:cubicBezTo>
                    <a:pt x="687" y="572"/>
                    <a:pt x="687" y="571"/>
                    <a:pt x="687" y="570"/>
                  </a:cubicBezTo>
                  <a:close/>
                  <a:moveTo>
                    <a:pt x="710" y="0"/>
                  </a:moveTo>
                  <a:cubicBezTo>
                    <a:pt x="715" y="0"/>
                    <a:pt x="720" y="0"/>
                    <a:pt x="726" y="0"/>
                  </a:cubicBezTo>
                  <a:cubicBezTo>
                    <a:pt x="726" y="1"/>
                    <a:pt x="726" y="2"/>
                    <a:pt x="726" y="4"/>
                  </a:cubicBezTo>
                  <a:cubicBezTo>
                    <a:pt x="720" y="4"/>
                    <a:pt x="715" y="4"/>
                    <a:pt x="710" y="4"/>
                  </a:cubicBezTo>
                  <a:cubicBezTo>
                    <a:pt x="710" y="2"/>
                    <a:pt x="710" y="1"/>
                    <a:pt x="710" y="0"/>
                  </a:cubicBezTo>
                  <a:close/>
                  <a:moveTo>
                    <a:pt x="710" y="57"/>
                  </a:moveTo>
                  <a:cubicBezTo>
                    <a:pt x="715" y="57"/>
                    <a:pt x="720" y="57"/>
                    <a:pt x="726" y="57"/>
                  </a:cubicBezTo>
                  <a:cubicBezTo>
                    <a:pt x="726" y="58"/>
                    <a:pt x="726" y="59"/>
                    <a:pt x="726" y="60"/>
                  </a:cubicBezTo>
                  <a:cubicBezTo>
                    <a:pt x="720" y="60"/>
                    <a:pt x="715" y="60"/>
                    <a:pt x="710" y="60"/>
                  </a:cubicBezTo>
                  <a:cubicBezTo>
                    <a:pt x="710" y="59"/>
                    <a:pt x="710" y="58"/>
                    <a:pt x="710" y="57"/>
                  </a:cubicBezTo>
                  <a:close/>
                  <a:moveTo>
                    <a:pt x="710" y="114"/>
                  </a:moveTo>
                  <a:cubicBezTo>
                    <a:pt x="715" y="114"/>
                    <a:pt x="720" y="114"/>
                    <a:pt x="726" y="114"/>
                  </a:cubicBezTo>
                  <a:cubicBezTo>
                    <a:pt x="726" y="115"/>
                    <a:pt x="726" y="116"/>
                    <a:pt x="726" y="117"/>
                  </a:cubicBezTo>
                  <a:cubicBezTo>
                    <a:pt x="720" y="117"/>
                    <a:pt x="715" y="117"/>
                    <a:pt x="710" y="117"/>
                  </a:cubicBezTo>
                  <a:cubicBezTo>
                    <a:pt x="710" y="116"/>
                    <a:pt x="710" y="115"/>
                    <a:pt x="710" y="114"/>
                  </a:cubicBezTo>
                  <a:close/>
                  <a:moveTo>
                    <a:pt x="710" y="171"/>
                  </a:moveTo>
                  <a:cubicBezTo>
                    <a:pt x="715" y="171"/>
                    <a:pt x="720" y="171"/>
                    <a:pt x="726" y="171"/>
                  </a:cubicBezTo>
                  <a:cubicBezTo>
                    <a:pt x="726" y="172"/>
                    <a:pt x="726" y="173"/>
                    <a:pt x="726" y="174"/>
                  </a:cubicBezTo>
                  <a:cubicBezTo>
                    <a:pt x="720" y="174"/>
                    <a:pt x="715" y="174"/>
                    <a:pt x="710" y="174"/>
                  </a:cubicBezTo>
                  <a:cubicBezTo>
                    <a:pt x="710" y="173"/>
                    <a:pt x="710" y="172"/>
                    <a:pt x="710" y="171"/>
                  </a:cubicBezTo>
                  <a:close/>
                  <a:moveTo>
                    <a:pt x="710" y="228"/>
                  </a:moveTo>
                  <a:cubicBezTo>
                    <a:pt x="715" y="228"/>
                    <a:pt x="720" y="228"/>
                    <a:pt x="726" y="228"/>
                  </a:cubicBezTo>
                  <a:cubicBezTo>
                    <a:pt x="726" y="229"/>
                    <a:pt x="726" y="230"/>
                    <a:pt x="726" y="231"/>
                  </a:cubicBezTo>
                  <a:cubicBezTo>
                    <a:pt x="720" y="231"/>
                    <a:pt x="715" y="231"/>
                    <a:pt x="710" y="231"/>
                  </a:cubicBezTo>
                  <a:cubicBezTo>
                    <a:pt x="710" y="230"/>
                    <a:pt x="710" y="229"/>
                    <a:pt x="710" y="228"/>
                  </a:cubicBezTo>
                  <a:close/>
                  <a:moveTo>
                    <a:pt x="710" y="285"/>
                  </a:moveTo>
                  <a:cubicBezTo>
                    <a:pt x="715" y="285"/>
                    <a:pt x="720" y="285"/>
                    <a:pt x="726" y="285"/>
                  </a:cubicBezTo>
                  <a:cubicBezTo>
                    <a:pt x="726" y="286"/>
                    <a:pt x="726" y="287"/>
                    <a:pt x="726" y="288"/>
                  </a:cubicBezTo>
                  <a:cubicBezTo>
                    <a:pt x="720" y="288"/>
                    <a:pt x="715" y="288"/>
                    <a:pt x="710" y="288"/>
                  </a:cubicBezTo>
                  <a:cubicBezTo>
                    <a:pt x="710" y="287"/>
                    <a:pt x="710" y="286"/>
                    <a:pt x="710" y="285"/>
                  </a:cubicBezTo>
                  <a:close/>
                  <a:moveTo>
                    <a:pt x="710" y="342"/>
                  </a:moveTo>
                  <a:cubicBezTo>
                    <a:pt x="715" y="342"/>
                    <a:pt x="720" y="342"/>
                    <a:pt x="726" y="342"/>
                  </a:cubicBezTo>
                  <a:cubicBezTo>
                    <a:pt x="726" y="343"/>
                    <a:pt x="726" y="344"/>
                    <a:pt x="726" y="345"/>
                  </a:cubicBezTo>
                  <a:cubicBezTo>
                    <a:pt x="720" y="345"/>
                    <a:pt x="715" y="345"/>
                    <a:pt x="710" y="345"/>
                  </a:cubicBezTo>
                  <a:cubicBezTo>
                    <a:pt x="710" y="344"/>
                    <a:pt x="710" y="343"/>
                    <a:pt x="710" y="342"/>
                  </a:cubicBezTo>
                  <a:close/>
                  <a:moveTo>
                    <a:pt x="710" y="399"/>
                  </a:moveTo>
                  <a:cubicBezTo>
                    <a:pt x="715" y="399"/>
                    <a:pt x="720" y="399"/>
                    <a:pt x="726" y="399"/>
                  </a:cubicBezTo>
                  <a:cubicBezTo>
                    <a:pt x="726" y="400"/>
                    <a:pt x="726" y="401"/>
                    <a:pt x="726" y="402"/>
                  </a:cubicBezTo>
                  <a:cubicBezTo>
                    <a:pt x="720" y="402"/>
                    <a:pt x="715" y="402"/>
                    <a:pt x="710" y="402"/>
                  </a:cubicBezTo>
                  <a:cubicBezTo>
                    <a:pt x="710" y="401"/>
                    <a:pt x="710" y="400"/>
                    <a:pt x="710" y="399"/>
                  </a:cubicBezTo>
                  <a:close/>
                  <a:moveTo>
                    <a:pt x="710" y="459"/>
                  </a:moveTo>
                  <a:cubicBezTo>
                    <a:pt x="710" y="458"/>
                    <a:pt x="710" y="457"/>
                    <a:pt x="710" y="456"/>
                  </a:cubicBezTo>
                  <a:cubicBezTo>
                    <a:pt x="715" y="456"/>
                    <a:pt x="720" y="456"/>
                    <a:pt x="726" y="456"/>
                  </a:cubicBezTo>
                  <a:cubicBezTo>
                    <a:pt x="726" y="457"/>
                    <a:pt x="726" y="458"/>
                    <a:pt x="726" y="459"/>
                  </a:cubicBezTo>
                  <a:cubicBezTo>
                    <a:pt x="720" y="459"/>
                    <a:pt x="715" y="459"/>
                    <a:pt x="710" y="459"/>
                  </a:cubicBezTo>
                  <a:close/>
                  <a:moveTo>
                    <a:pt x="710" y="513"/>
                  </a:moveTo>
                  <a:cubicBezTo>
                    <a:pt x="715" y="513"/>
                    <a:pt x="720" y="513"/>
                    <a:pt x="726" y="513"/>
                  </a:cubicBezTo>
                  <a:cubicBezTo>
                    <a:pt x="726" y="514"/>
                    <a:pt x="726" y="515"/>
                    <a:pt x="726" y="516"/>
                  </a:cubicBezTo>
                  <a:cubicBezTo>
                    <a:pt x="720" y="516"/>
                    <a:pt x="715" y="516"/>
                    <a:pt x="710" y="516"/>
                  </a:cubicBezTo>
                  <a:cubicBezTo>
                    <a:pt x="710" y="515"/>
                    <a:pt x="710" y="514"/>
                    <a:pt x="710" y="513"/>
                  </a:cubicBezTo>
                  <a:close/>
                  <a:moveTo>
                    <a:pt x="710" y="570"/>
                  </a:moveTo>
                  <a:cubicBezTo>
                    <a:pt x="715" y="570"/>
                    <a:pt x="720" y="570"/>
                    <a:pt x="726" y="570"/>
                  </a:cubicBezTo>
                  <a:cubicBezTo>
                    <a:pt x="726" y="571"/>
                    <a:pt x="726" y="572"/>
                    <a:pt x="726" y="573"/>
                  </a:cubicBezTo>
                  <a:cubicBezTo>
                    <a:pt x="720" y="573"/>
                    <a:pt x="715" y="573"/>
                    <a:pt x="710" y="573"/>
                  </a:cubicBezTo>
                  <a:cubicBezTo>
                    <a:pt x="710" y="572"/>
                    <a:pt x="710" y="571"/>
                    <a:pt x="710" y="570"/>
                  </a:cubicBezTo>
                  <a:close/>
                  <a:moveTo>
                    <a:pt x="733" y="0"/>
                  </a:moveTo>
                  <a:cubicBezTo>
                    <a:pt x="738" y="0"/>
                    <a:pt x="743" y="0"/>
                    <a:pt x="749" y="0"/>
                  </a:cubicBezTo>
                  <a:cubicBezTo>
                    <a:pt x="749" y="1"/>
                    <a:pt x="749" y="2"/>
                    <a:pt x="749" y="4"/>
                  </a:cubicBezTo>
                  <a:cubicBezTo>
                    <a:pt x="743" y="4"/>
                    <a:pt x="738" y="4"/>
                    <a:pt x="733" y="4"/>
                  </a:cubicBezTo>
                  <a:cubicBezTo>
                    <a:pt x="733" y="2"/>
                    <a:pt x="733" y="1"/>
                    <a:pt x="733" y="0"/>
                  </a:cubicBezTo>
                  <a:close/>
                  <a:moveTo>
                    <a:pt x="733" y="57"/>
                  </a:moveTo>
                  <a:cubicBezTo>
                    <a:pt x="738" y="57"/>
                    <a:pt x="743" y="57"/>
                    <a:pt x="749" y="57"/>
                  </a:cubicBezTo>
                  <a:cubicBezTo>
                    <a:pt x="749" y="58"/>
                    <a:pt x="749" y="59"/>
                    <a:pt x="749" y="60"/>
                  </a:cubicBezTo>
                  <a:cubicBezTo>
                    <a:pt x="743" y="60"/>
                    <a:pt x="738" y="60"/>
                    <a:pt x="733" y="60"/>
                  </a:cubicBezTo>
                  <a:cubicBezTo>
                    <a:pt x="733" y="59"/>
                    <a:pt x="733" y="58"/>
                    <a:pt x="733" y="57"/>
                  </a:cubicBezTo>
                  <a:close/>
                  <a:moveTo>
                    <a:pt x="733" y="114"/>
                  </a:moveTo>
                  <a:cubicBezTo>
                    <a:pt x="738" y="114"/>
                    <a:pt x="743" y="114"/>
                    <a:pt x="749" y="114"/>
                  </a:cubicBezTo>
                  <a:cubicBezTo>
                    <a:pt x="749" y="115"/>
                    <a:pt x="749" y="116"/>
                    <a:pt x="749" y="117"/>
                  </a:cubicBezTo>
                  <a:cubicBezTo>
                    <a:pt x="743" y="117"/>
                    <a:pt x="738" y="117"/>
                    <a:pt x="733" y="117"/>
                  </a:cubicBezTo>
                  <a:cubicBezTo>
                    <a:pt x="733" y="116"/>
                    <a:pt x="733" y="115"/>
                    <a:pt x="733" y="114"/>
                  </a:cubicBezTo>
                  <a:close/>
                  <a:moveTo>
                    <a:pt x="733" y="171"/>
                  </a:moveTo>
                  <a:cubicBezTo>
                    <a:pt x="738" y="171"/>
                    <a:pt x="743" y="171"/>
                    <a:pt x="749" y="171"/>
                  </a:cubicBezTo>
                  <a:cubicBezTo>
                    <a:pt x="749" y="172"/>
                    <a:pt x="749" y="173"/>
                    <a:pt x="749" y="174"/>
                  </a:cubicBezTo>
                  <a:cubicBezTo>
                    <a:pt x="743" y="174"/>
                    <a:pt x="738" y="174"/>
                    <a:pt x="733" y="174"/>
                  </a:cubicBezTo>
                  <a:cubicBezTo>
                    <a:pt x="733" y="173"/>
                    <a:pt x="733" y="172"/>
                    <a:pt x="733" y="171"/>
                  </a:cubicBezTo>
                  <a:close/>
                  <a:moveTo>
                    <a:pt x="733" y="228"/>
                  </a:moveTo>
                  <a:cubicBezTo>
                    <a:pt x="738" y="228"/>
                    <a:pt x="743" y="228"/>
                    <a:pt x="749" y="228"/>
                  </a:cubicBezTo>
                  <a:cubicBezTo>
                    <a:pt x="749" y="229"/>
                    <a:pt x="749" y="230"/>
                    <a:pt x="749" y="231"/>
                  </a:cubicBezTo>
                  <a:cubicBezTo>
                    <a:pt x="743" y="231"/>
                    <a:pt x="738" y="231"/>
                    <a:pt x="733" y="231"/>
                  </a:cubicBezTo>
                  <a:cubicBezTo>
                    <a:pt x="733" y="230"/>
                    <a:pt x="733" y="229"/>
                    <a:pt x="733" y="228"/>
                  </a:cubicBezTo>
                  <a:close/>
                  <a:moveTo>
                    <a:pt x="733" y="285"/>
                  </a:moveTo>
                  <a:cubicBezTo>
                    <a:pt x="738" y="285"/>
                    <a:pt x="743" y="285"/>
                    <a:pt x="749" y="285"/>
                  </a:cubicBezTo>
                  <a:cubicBezTo>
                    <a:pt x="749" y="286"/>
                    <a:pt x="749" y="287"/>
                    <a:pt x="749" y="288"/>
                  </a:cubicBezTo>
                  <a:cubicBezTo>
                    <a:pt x="743" y="288"/>
                    <a:pt x="738" y="288"/>
                    <a:pt x="733" y="288"/>
                  </a:cubicBezTo>
                  <a:cubicBezTo>
                    <a:pt x="733" y="287"/>
                    <a:pt x="733" y="286"/>
                    <a:pt x="733" y="285"/>
                  </a:cubicBezTo>
                  <a:close/>
                  <a:moveTo>
                    <a:pt x="733" y="342"/>
                  </a:moveTo>
                  <a:cubicBezTo>
                    <a:pt x="738" y="342"/>
                    <a:pt x="743" y="342"/>
                    <a:pt x="749" y="342"/>
                  </a:cubicBezTo>
                  <a:cubicBezTo>
                    <a:pt x="749" y="343"/>
                    <a:pt x="749" y="344"/>
                    <a:pt x="749" y="345"/>
                  </a:cubicBezTo>
                  <a:cubicBezTo>
                    <a:pt x="743" y="345"/>
                    <a:pt x="738" y="345"/>
                    <a:pt x="733" y="345"/>
                  </a:cubicBezTo>
                  <a:cubicBezTo>
                    <a:pt x="733" y="344"/>
                    <a:pt x="733" y="343"/>
                    <a:pt x="733" y="342"/>
                  </a:cubicBezTo>
                  <a:close/>
                  <a:moveTo>
                    <a:pt x="733" y="399"/>
                  </a:moveTo>
                  <a:cubicBezTo>
                    <a:pt x="738" y="399"/>
                    <a:pt x="743" y="399"/>
                    <a:pt x="749" y="399"/>
                  </a:cubicBezTo>
                  <a:cubicBezTo>
                    <a:pt x="749" y="400"/>
                    <a:pt x="749" y="401"/>
                    <a:pt x="749" y="402"/>
                  </a:cubicBezTo>
                  <a:cubicBezTo>
                    <a:pt x="743" y="402"/>
                    <a:pt x="738" y="402"/>
                    <a:pt x="733" y="402"/>
                  </a:cubicBezTo>
                  <a:cubicBezTo>
                    <a:pt x="733" y="401"/>
                    <a:pt x="733" y="400"/>
                    <a:pt x="733" y="399"/>
                  </a:cubicBezTo>
                  <a:close/>
                  <a:moveTo>
                    <a:pt x="733" y="459"/>
                  </a:moveTo>
                  <a:cubicBezTo>
                    <a:pt x="733" y="458"/>
                    <a:pt x="733" y="457"/>
                    <a:pt x="733" y="456"/>
                  </a:cubicBezTo>
                  <a:cubicBezTo>
                    <a:pt x="738" y="456"/>
                    <a:pt x="743" y="456"/>
                    <a:pt x="749" y="456"/>
                  </a:cubicBezTo>
                  <a:cubicBezTo>
                    <a:pt x="749" y="457"/>
                    <a:pt x="749" y="458"/>
                    <a:pt x="749" y="459"/>
                  </a:cubicBezTo>
                  <a:cubicBezTo>
                    <a:pt x="743" y="459"/>
                    <a:pt x="738" y="459"/>
                    <a:pt x="733" y="459"/>
                  </a:cubicBezTo>
                  <a:close/>
                  <a:moveTo>
                    <a:pt x="733" y="513"/>
                  </a:moveTo>
                  <a:cubicBezTo>
                    <a:pt x="738" y="513"/>
                    <a:pt x="743" y="513"/>
                    <a:pt x="749" y="513"/>
                  </a:cubicBezTo>
                  <a:cubicBezTo>
                    <a:pt x="749" y="514"/>
                    <a:pt x="749" y="515"/>
                    <a:pt x="749" y="516"/>
                  </a:cubicBezTo>
                  <a:cubicBezTo>
                    <a:pt x="743" y="516"/>
                    <a:pt x="738" y="516"/>
                    <a:pt x="733" y="516"/>
                  </a:cubicBezTo>
                  <a:cubicBezTo>
                    <a:pt x="733" y="515"/>
                    <a:pt x="733" y="514"/>
                    <a:pt x="733" y="513"/>
                  </a:cubicBezTo>
                  <a:close/>
                  <a:moveTo>
                    <a:pt x="733" y="570"/>
                  </a:moveTo>
                  <a:cubicBezTo>
                    <a:pt x="738" y="570"/>
                    <a:pt x="743" y="570"/>
                    <a:pt x="749" y="570"/>
                  </a:cubicBezTo>
                  <a:cubicBezTo>
                    <a:pt x="749" y="571"/>
                    <a:pt x="749" y="572"/>
                    <a:pt x="749" y="573"/>
                  </a:cubicBezTo>
                  <a:cubicBezTo>
                    <a:pt x="743" y="573"/>
                    <a:pt x="738" y="573"/>
                    <a:pt x="733" y="573"/>
                  </a:cubicBezTo>
                  <a:cubicBezTo>
                    <a:pt x="733" y="572"/>
                    <a:pt x="733" y="571"/>
                    <a:pt x="733" y="570"/>
                  </a:cubicBezTo>
                  <a:close/>
                  <a:moveTo>
                    <a:pt x="755" y="0"/>
                  </a:moveTo>
                  <a:cubicBezTo>
                    <a:pt x="761" y="0"/>
                    <a:pt x="766" y="0"/>
                    <a:pt x="772" y="0"/>
                  </a:cubicBezTo>
                  <a:cubicBezTo>
                    <a:pt x="772" y="1"/>
                    <a:pt x="772" y="2"/>
                    <a:pt x="772" y="4"/>
                  </a:cubicBezTo>
                  <a:cubicBezTo>
                    <a:pt x="766" y="4"/>
                    <a:pt x="761" y="4"/>
                    <a:pt x="755" y="4"/>
                  </a:cubicBezTo>
                  <a:cubicBezTo>
                    <a:pt x="755" y="2"/>
                    <a:pt x="755" y="1"/>
                    <a:pt x="755" y="0"/>
                  </a:cubicBezTo>
                  <a:close/>
                  <a:moveTo>
                    <a:pt x="755" y="57"/>
                  </a:moveTo>
                  <a:cubicBezTo>
                    <a:pt x="761" y="57"/>
                    <a:pt x="766" y="57"/>
                    <a:pt x="772" y="57"/>
                  </a:cubicBezTo>
                  <a:cubicBezTo>
                    <a:pt x="772" y="58"/>
                    <a:pt x="772" y="59"/>
                    <a:pt x="772" y="60"/>
                  </a:cubicBezTo>
                  <a:cubicBezTo>
                    <a:pt x="766" y="60"/>
                    <a:pt x="761" y="60"/>
                    <a:pt x="755" y="60"/>
                  </a:cubicBezTo>
                  <a:cubicBezTo>
                    <a:pt x="755" y="59"/>
                    <a:pt x="755" y="58"/>
                    <a:pt x="755" y="57"/>
                  </a:cubicBezTo>
                  <a:close/>
                  <a:moveTo>
                    <a:pt x="755" y="114"/>
                  </a:moveTo>
                  <a:cubicBezTo>
                    <a:pt x="761" y="114"/>
                    <a:pt x="766" y="114"/>
                    <a:pt x="772" y="114"/>
                  </a:cubicBezTo>
                  <a:cubicBezTo>
                    <a:pt x="772" y="115"/>
                    <a:pt x="772" y="116"/>
                    <a:pt x="772" y="117"/>
                  </a:cubicBezTo>
                  <a:cubicBezTo>
                    <a:pt x="766" y="117"/>
                    <a:pt x="761" y="117"/>
                    <a:pt x="755" y="117"/>
                  </a:cubicBezTo>
                  <a:cubicBezTo>
                    <a:pt x="755" y="116"/>
                    <a:pt x="755" y="115"/>
                    <a:pt x="755" y="114"/>
                  </a:cubicBezTo>
                  <a:close/>
                  <a:moveTo>
                    <a:pt x="755" y="171"/>
                  </a:moveTo>
                  <a:cubicBezTo>
                    <a:pt x="761" y="171"/>
                    <a:pt x="766" y="171"/>
                    <a:pt x="772" y="171"/>
                  </a:cubicBezTo>
                  <a:cubicBezTo>
                    <a:pt x="772" y="172"/>
                    <a:pt x="772" y="173"/>
                    <a:pt x="772" y="174"/>
                  </a:cubicBezTo>
                  <a:cubicBezTo>
                    <a:pt x="766" y="174"/>
                    <a:pt x="761" y="174"/>
                    <a:pt x="755" y="174"/>
                  </a:cubicBezTo>
                  <a:cubicBezTo>
                    <a:pt x="755" y="173"/>
                    <a:pt x="755" y="172"/>
                    <a:pt x="755" y="171"/>
                  </a:cubicBezTo>
                  <a:close/>
                  <a:moveTo>
                    <a:pt x="755" y="228"/>
                  </a:moveTo>
                  <a:cubicBezTo>
                    <a:pt x="761" y="228"/>
                    <a:pt x="766" y="228"/>
                    <a:pt x="772" y="228"/>
                  </a:cubicBezTo>
                  <a:cubicBezTo>
                    <a:pt x="772" y="229"/>
                    <a:pt x="772" y="230"/>
                    <a:pt x="772" y="231"/>
                  </a:cubicBezTo>
                  <a:cubicBezTo>
                    <a:pt x="766" y="231"/>
                    <a:pt x="761" y="231"/>
                    <a:pt x="755" y="231"/>
                  </a:cubicBezTo>
                  <a:cubicBezTo>
                    <a:pt x="755" y="230"/>
                    <a:pt x="755" y="229"/>
                    <a:pt x="755" y="228"/>
                  </a:cubicBezTo>
                  <a:close/>
                  <a:moveTo>
                    <a:pt x="755" y="285"/>
                  </a:moveTo>
                  <a:cubicBezTo>
                    <a:pt x="761" y="285"/>
                    <a:pt x="766" y="285"/>
                    <a:pt x="772" y="285"/>
                  </a:cubicBezTo>
                  <a:cubicBezTo>
                    <a:pt x="772" y="286"/>
                    <a:pt x="772" y="287"/>
                    <a:pt x="772" y="288"/>
                  </a:cubicBezTo>
                  <a:cubicBezTo>
                    <a:pt x="766" y="288"/>
                    <a:pt x="761" y="288"/>
                    <a:pt x="755" y="288"/>
                  </a:cubicBezTo>
                  <a:cubicBezTo>
                    <a:pt x="755" y="287"/>
                    <a:pt x="755" y="286"/>
                    <a:pt x="755" y="285"/>
                  </a:cubicBezTo>
                  <a:close/>
                  <a:moveTo>
                    <a:pt x="755" y="342"/>
                  </a:moveTo>
                  <a:cubicBezTo>
                    <a:pt x="761" y="342"/>
                    <a:pt x="766" y="342"/>
                    <a:pt x="772" y="342"/>
                  </a:cubicBezTo>
                  <a:cubicBezTo>
                    <a:pt x="772" y="343"/>
                    <a:pt x="772" y="344"/>
                    <a:pt x="772" y="345"/>
                  </a:cubicBezTo>
                  <a:cubicBezTo>
                    <a:pt x="766" y="345"/>
                    <a:pt x="761" y="345"/>
                    <a:pt x="755" y="345"/>
                  </a:cubicBezTo>
                  <a:cubicBezTo>
                    <a:pt x="755" y="344"/>
                    <a:pt x="755" y="343"/>
                    <a:pt x="755" y="342"/>
                  </a:cubicBezTo>
                  <a:close/>
                  <a:moveTo>
                    <a:pt x="755" y="399"/>
                  </a:moveTo>
                  <a:cubicBezTo>
                    <a:pt x="761" y="399"/>
                    <a:pt x="766" y="399"/>
                    <a:pt x="772" y="399"/>
                  </a:cubicBezTo>
                  <a:cubicBezTo>
                    <a:pt x="772" y="400"/>
                    <a:pt x="772" y="401"/>
                    <a:pt x="772" y="402"/>
                  </a:cubicBezTo>
                  <a:cubicBezTo>
                    <a:pt x="766" y="402"/>
                    <a:pt x="761" y="402"/>
                    <a:pt x="755" y="402"/>
                  </a:cubicBezTo>
                  <a:cubicBezTo>
                    <a:pt x="755" y="401"/>
                    <a:pt x="755" y="400"/>
                    <a:pt x="755" y="399"/>
                  </a:cubicBezTo>
                  <a:close/>
                  <a:moveTo>
                    <a:pt x="755" y="459"/>
                  </a:moveTo>
                  <a:cubicBezTo>
                    <a:pt x="755" y="458"/>
                    <a:pt x="755" y="457"/>
                    <a:pt x="755" y="456"/>
                  </a:cubicBezTo>
                  <a:cubicBezTo>
                    <a:pt x="761" y="456"/>
                    <a:pt x="766" y="456"/>
                    <a:pt x="772" y="456"/>
                  </a:cubicBezTo>
                  <a:cubicBezTo>
                    <a:pt x="772" y="457"/>
                    <a:pt x="772" y="458"/>
                    <a:pt x="772" y="459"/>
                  </a:cubicBezTo>
                  <a:cubicBezTo>
                    <a:pt x="766" y="459"/>
                    <a:pt x="761" y="459"/>
                    <a:pt x="755" y="459"/>
                  </a:cubicBezTo>
                  <a:close/>
                  <a:moveTo>
                    <a:pt x="755" y="513"/>
                  </a:moveTo>
                  <a:cubicBezTo>
                    <a:pt x="761" y="513"/>
                    <a:pt x="766" y="513"/>
                    <a:pt x="772" y="513"/>
                  </a:cubicBezTo>
                  <a:cubicBezTo>
                    <a:pt x="772" y="514"/>
                    <a:pt x="772" y="515"/>
                    <a:pt x="772" y="516"/>
                  </a:cubicBezTo>
                  <a:cubicBezTo>
                    <a:pt x="766" y="516"/>
                    <a:pt x="761" y="516"/>
                    <a:pt x="755" y="516"/>
                  </a:cubicBezTo>
                  <a:cubicBezTo>
                    <a:pt x="755" y="515"/>
                    <a:pt x="755" y="514"/>
                    <a:pt x="755" y="513"/>
                  </a:cubicBezTo>
                  <a:close/>
                  <a:moveTo>
                    <a:pt x="755" y="570"/>
                  </a:moveTo>
                  <a:cubicBezTo>
                    <a:pt x="761" y="570"/>
                    <a:pt x="766" y="570"/>
                    <a:pt x="772" y="570"/>
                  </a:cubicBezTo>
                  <a:cubicBezTo>
                    <a:pt x="772" y="571"/>
                    <a:pt x="772" y="572"/>
                    <a:pt x="772" y="573"/>
                  </a:cubicBezTo>
                  <a:cubicBezTo>
                    <a:pt x="766" y="573"/>
                    <a:pt x="761" y="573"/>
                    <a:pt x="755" y="573"/>
                  </a:cubicBezTo>
                  <a:cubicBezTo>
                    <a:pt x="755" y="572"/>
                    <a:pt x="755" y="571"/>
                    <a:pt x="755" y="570"/>
                  </a:cubicBezTo>
                  <a:close/>
                  <a:moveTo>
                    <a:pt x="778" y="0"/>
                  </a:moveTo>
                  <a:cubicBezTo>
                    <a:pt x="784" y="0"/>
                    <a:pt x="789" y="0"/>
                    <a:pt x="795" y="0"/>
                  </a:cubicBezTo>
                  <a:cubicBezTo>
                    <a:pt x="795" y="1"/>
                    <a:pt x="795" y="2"/>
                    <a:pt x="795" y="4"/>
                  </a:cubicBezTo>
                  <a:cubicBezTo>
                    <a:pt x="789" y="4"/>
                    <a:pt x="784" y="4"/>
                    <a:pt x="778" y="4"/>
                  </a:cubicBezTo>
                  <a:cubicBezTo>
                    <a:pt x="778" y="2"/>
                    <a:pt x="778" y="1"/>
                    <a:pt x="778" y="0"/>
                  </a:cubicBezTo>
                  <a:close/>
                  <a:moveTo>
                    <a:pt x="778" y="57"/>
                  </a:moveTo>
                  <a:cubicBezTo>
                    <a:pt x="784" y="57"/>
                    <a:pt x="789" y="57"/>
                    <a:pt x="795" y="57"/>
                  </a:cubicBezTo>
                  <a:cubicBezTo>
                    <a:pt x="795" y="58"/>
                    <a:pt x="795" y="59"/>
                    <a:pt x="795" y="60"/>
                  </a:cubicBezTo>
                  <a:cubicBezTo>
                    <a:pt x="789" y="60"/>
                    <a:pt x="784" y="60"/>
                    <a:pt x="778" y="60"/>
                  </a:cubicBezTo>
                  <a:cubicBezTo>
                    <a:pt x="778" y="59"/>
                    <a:pt x="778" y="58"/>
                    <a:pt x="778" y="57"/>
                  </a:cubicBezTo>
                  <a:close/>
                  <a:moveTo>
                    <a:pt x="778" y="114"/>
                  </a:moveTo>
                  <a:cubicBezTo>
                    <a:pt x="784" y="114"/>
                    <a:pt x="789" y="114"/>
                    <a:pt x="795" y="114"/>
                  </a:cubicBezTo>
                  <a:cubicBezTo>
                    <a:pt x="795" y="115"/>
                    <a:pt x="795" y="116"/>
                    <a:pt x="795" y="117"/>
                  </a:cubicBezTo>
                  <a:cubicBezTo>
                    <a:pt x="789" y="117"/>
                    <a:pt x="784" y="117"/>
                    <a:pt x="778" y="117"/>
                  </a:cubicBezTo>
                  <a:cubicBezTo>
                    <a:pt x="778" y="116"/>
                    <a:pt x="778" y="115"/>
                    <a:pt x="778" y="114"/>
                  </a:cubicBezTo>
                  <a:close/>
                  <a:moveTo>
                    <a:pt x="778" y="171"/>
                  </a:moveTo>
                  <a:cubicBezTo>
                    <a:pt x="784" y="171"/>
                    <a:pt x="789" y="171"/>
                    <a:pt x="795" y="171"/>
                  </a:cubicBezTo>
                  <a:cubicBezTo>
                    <a:pt x="795" y="172"/>
                    <a:pt x="795" y="173"/>
                    <a:pt x="795" y="174"/>
                  </a:cubicBezTo>
                  <a:cubicBezTo>
                    <a:pt x="789" y="174"/>
                    <a:pt x="784" y="174"/>
                    <a:pt x="778" y="174"/>
                  </a:cubicBezTo>
                  <a:cubicBezTo>
                    <a:pt x="778" y="173"/>
                    <a:pt x="778" y="172"/>
                    <a:pt x="778" y="171"/>
                  </a:cubicBezTo>
                  <a:close/>
                  <a:moveTo>
                    <a:pt x="778" y="228"/>
                  </a:moveTo>
                  <a:cubicBezTo>
                    <a:pt x="784" y="228"/>
                    <a:pt x="789" y="228"/>
                    <a:pt x="795" y="228"/>
                  </a:cubicBezTo>
                  <a:cubicBezTo>
                    <a:pt x="795" y="229"/>
                    <a:pt x="795" y="230"/>
                    <a:pt x="795" y="231"/>
                  </a:cubicBezTo>
                  <a:cubicBezTo>
                    <a:pt x="789" y="231"/>
                    <a:pt x="784" y="231"/>
                    <a:pt x="778" y="231"/>
                  </a:cubicBezTo>
                  <a:cubicBezTo>
                    <a:pt x="778" y="230"/>
                    <a:pt x="778" y="229"/>
                    <a:pt x="778" y="228"/>
                  </a:cubicBezTo>
                  <a:close/>
                  <a:moveTo>
                    <a:pt x="778" y="285"/>
                  </a:moveTo>
                  <a:cubicBezTo>
                    <a:pt x="784" y="285"/>
                    <a:pt x="789" y="285"/>
                    <a:pt x="795" y="285"/>
                  </a:cubicBezTo>
                  <a:cubicBezTo>
                    <a:pt x="795" y="286"/>
                    <a:pt x="795" y="287"/>
                    <a:pt x="795" y="288"/>
                  </a:cubicBezTo>
                  <a:cubicBezTo>
                    <a:pt x="789" y="288"/>
                    <a:pt x="784" y="288"/>
                    <a:pt x="778" y="288"/>
                  </a:cubicBezTo>
                  <a:cubicBezTo>
                    <a:pt x="778" y="287"/>
                    <a:pt x="778" y="286"/>
                    <a:pt x="778" y="285"/>
                  </a:cubicBezTo>
                  <a:close/>
                  <a:moveTo>
                    <a:pt x="778" y="342"/>
                  </a:moveTo>
                  <a:cubicBezTo>
                    <a:pt x="784" y="342"/>
                    <a:pt x="789" y="342"/>
                    <a:pt x="795" y="342"/>
                  </a:cubicBezTo>
                  <a:cubicBezTo>
                    <a:pt x="795" y="343"/>
                    <a:pt x="795" y="344"/>
                    <a:pt x="795" y="345"/>
                  </a:cubicBezTo>
                  <a:cubicBezTo>
                    <a:pt x="789" y="345"/>
                    <a:pt x="784" y="345"/>
                    <a:pt x="778" y="345"/>
                  </a:cubicBezTo>
                  <a:cubicBezTo>
                    <a:pt x="778" y="344"/>
                    <a:pt x="778" y="343"/>
                    <a:pt x="778" y="342"/>
                  </a:cubicBezTo>
                  <a:close/>
                  <a:moveTo>
                    <a:pt x="778" y="399"/>
                  </a:moveTo>
                  <a:cubicBezTo>
                    <a:pt x="784" y="399"/>
                    <a:pt x="789" y="399"/>
                    <a:pt x="795" y="399"/>
                  </a:cubicBezTo>
                  <a:cubicBezTo>
                    <a:pt x="795" y="400"/>
                    <a:pt x="795" y="401"/>
                    <a:pt x="795" y="402"/>
                  </a:cubicBezTo>
                  <a:cubicBezTo>
                    <a:pt x="789" y="402"/>
                    <a:pt x="784" y="402"/>
                    <a:pt x="778" y="402"/>
                  </a:cubicBezTo>
                  <a:cubicBezTo>
                    <a:pt x="778" y="401"/>
                    <a:pt x="778" y="400"/>
                    <a:pt x="778" y="399"/>
                  </a:cubicBezTo>
                  <a:close/>
                  <a:moveTo>
                    <a:pt x="778" y="459"/>
                  </a:moveTo>
                  <a:cubicBezTo>
                    <a:pt x="778" y="458"/>
                    <a:pt x="778" y="457"/>
                    <a:pt x="778" y="456"/>
                  </a:cubicBezTo>
                  <a:cubicBezTo>
                    <a:pt x="784" y="456"/>
                    <a:pt x="789" y="456"/>
                    <a:pt x="795" y="456"/>
                  </a:cubicBezTo>
                  <a:cubicBezTo>
                    <a:pt x="795" y="457"/>
                    <a:pt x="795" y="458"/>
                    <a:pt x="795" y="459"/>
                  </a:cubicBezTo>
                  <a:cubicBezTo>
                    <a:pt x="789" y="459"/>
                    <a:pt x="784" y="459"/>
                    <a:pt x="778" y="459"/>
                  </a:cubicBezTo>
                  <a:close/>
                  <a:moveTo>
                    <a:pt x="778" y="513"/>
                  </a:moveTo>
                  <a:cubicBezTo>
                    <a:pt x="784" y="513"/>
                    <a:pt x="789" y="513"/>
                    <a:pt x="795" y="513"/>
                  </a:cubicBezTo>
                  <a:cubicBezTo>
                    <a:pt x="795" y="514"/>
                    <a:pt x="795" y="515"/>
                    <a:pt x="795" y="516"/>
                  </a:cubicBezTo>
                  <a:cubicBezTo>
                    <a:pt x="789" y="516"/>
                    <a:pt x="784" y="516"/>
                    <a:pt x="778" y="516"/>
                  </a:cubicBezTo>
                  <a:cubicBezTo>
                    <a:pt x="778" y="515"/>
                    <a:pt x="778" y="514"/>
                    <a:pt x="778" y="513"/>
                  </a:cubicBezTo>
                  <a:close/>
                  <a:moveTo>
                    <a:pt x="778" y="570"/>
                  </a:moveTo>
                  <a:cubicBezTo>
                    <a:pt x="784" y="570"/>
                    <a:pt x="789" y="570"/>
                    <a:pt x="795" y="570"/>
                  </a:cubicBezTo>
                  <a:cubicBezTo>
                    <a:pt x="795" y="571"/>
                    <a:pt x="795" y="572"/>
                    <a:pt x="795" y="573"/>
                  </a:cubicBezTo>
                  <a:cubicBezTo>
                    <a:pt x="789" y="573"/>
                    <a:pt x="784" y="573"/>
                    <a:pt x="778" y="573"/>
                  </a:cubicBezTo>
                  <a:cubicBezTo>
                    <a:pt x="778" y="572"/>
                    <a:pt x="778" y="571"/>
                    <a:pt x="778" y="570"/>
                  </a:cubicBezTo>
                  <a:close/>
                  <a:moveTo>
                    <a:pt x="801" y="0"/>
                  </a:moveTo>
                  <a:cubicBezTo>
                    <a:pt x="807" y="0"/>
                    <a:pt x="812" y="0"/>
                    <a:pt x="818" y="0"/>
                  </a:cubicBezTo>
                  <a:cubicBezTo>
                    <a:pt x="818" y="1"/>
                    <a:pt x="818" y="2"/>
                    <a:pt x="818" y="4"/>
                  </a:cubicBezTo>
                  <a:cubicBezTo>
                    <a:pt x="812" y="4"/>
                    <a:pt x="807" y="4"/>
                    <a:pt x="801" y="4"/>
                  </a:cubicBezTo>
                  <a:cubicBezTo>
                    <a:pt x="801" y="2"/>
                    <a:pt x="801" y="1"/>
                    <a:pt x="801" y="0"/>
                  </a:cubicBezTo>
                  <a:close/>
                  <a:moveTo>
                    <a:pt x="801" y="57"/>
                  </a:moveTo>
                  <a:cubicBezTo>
                    <a:pt x="807" y="57"/>
                    <a:pt x="812" y="57"/>
                    <a:pt x="818" y="57"/>
                  </a:cubicBezTo>
                  <a:cubicBezTo>
                    <a:pt x="818" y="58"/>
                    <a:pt x="818" y="59"/>
                    <a:pt x="818" y="60"/>
                  </a:cubicBezTo>
                  <a:cubicBezTo>
                    <a:pt x="812" y="60"/>
                    <a:pt x="807" y="60"/>
                    <a:pt x="801" y="60"/>
                  </a:cubicBezTo>
                  <a:cubicBezTo>
                    <a:pt x="801" y="59"/>
                    <a:pt x="801" y="58"/>
                    <a:pt x="801" y="57"/>
                  </a:cubicBezTo>
                  <a:close/>
                  <a:moveTo>
                    <a:pt x="801" y="114"/>
                  </a:moveTo>
                  <a:cubicBezTo>
                    <a:pt x="807" y="114"/>
                    <a:pt x="812" y="114"/>
                    <a:pt x="818" y="114"/>
                  </a:cubicBezTo>
                  <a:cubicBezTo>
                    <a:pt x="818" y="115"/>
                    <a:pt x="818" y="116"/>
                    <a:pt x="818" y="117"/>
                  </a:cubicBezTo>
                  <a:cubicBezTo>
                    <a:pt x="812" y="117"/>
                    <a:pt x="807" y="117"/>
                    <a:pt x="801" y="117"/>
                  </a:cubicBezTo>
                  <a:cubicBezTo>
                    <a:pt x="801" y="116"/>
                    <a:pt x="801" y="115"/>
                    <a:pt x="801" y="114"/>
                  </a:cubicBezTo>
                  <a:close/>
                  <a:moveTo>
                    <a:pt x="801" y="171"/>
                  </a:moveTo>
                  <a:cubicBezTo>
                    <a:pt x="807" y="171"/>
                    <a:pt x="812" y="171"/>
                    <a:pt x="818" y="171"/>
                  </a:cubicBezTo>
                  <a:cubicBezTo>
                    <a:pt x="818" y="172"/>
                    <a:pt x="818" y="173"/>
                    <a:pt x="818" y="174"/>
                  </a:cubicBezTo>
                  <a:cubicBezTo>
                    <a:pt x="812" y="174"/>
                    <a:pt x="807" y="174"/>
                    <a:pt x="801" y="174"/>
                  </a:cubicBezTo>
                  <a:cubicBezTo>
                    <a:pt x="801" y="173"/>
                    <a:pt x="801" y="172"/>
                    <a:pt x="801" y="171"/>
                  </a:cubicBezTo>
                  <a:close/>
                  <a:moveTo>
                    <a:pt x="801" y="228"/>
                  </a:moveTo>
                  <a:cubicBezTo>
                    <a:pt x="807" y="228"/>
                    <a:pt x="812" y="228"/>
                    <a:pt x="818" y="228"/>
                  </a:cubicBezTo>
                  <a:cubicBezTo>
                    <a:pt x="818" y="229"/>
                    <a:pt x="818" y="230"/>
                    <a:pt x="818" y="231"/>
                  </a:cubicBezTo>
                  <a:cubicBezTo>
                    <a:pt x="812" y="231"/>
                    <a:pt x="807" y="231"/>
                    <a:pt x="801" y="231"/>
                  </a:cubicBezTo>
                  <a:cubicBezTo>
                    <a:pt x="801" y="230"/>
                    <a:pt x="801" y="229"/>
                    <a:pt x="801" y="228"/>
                  </a:cubicBezTo>
                  <a:close/>
                  <a:moveTo>
                    <a:pt x="801" y="285"/>
                  </a:moveTo>
                  <a:cubicBezTo>
                    <a:pt x="807" y="285"/>
                    <a:pt x="812" y="285"/>
                    <a:pt x="818" y="285"/>
                  </a:cubicBezTo>
                  <a:cubicBezTo>
                    <a:pt x="818" y="286"/>
                    <a:pt x="818" y="287"/>
                    <a:pt x="818" y="288"/>
                  </a:cubicBezTo>
                  <a:cubicBezTo>
                    <a:pt x="812" y="288"/>
                    <a:pt x="807" y="288"/>
                    <a:pt x="801" y="288"/>
                  </a:cubicBezTo>
                  <a:cubicBezTo>
                    <a:pt x="801" y="287"/>
                    <a:pt x="801" y="286"/>
                    <a:pt x="801" y="285"/>
                  </a:cubicBezTo>
                  <a:close/>
                  <a:moveTo>
                    <a:pt x="801" y="342"/>
                  </a:moveTo>
                  <a:cubicBezTo>
                    <a:pt x="807" y="342"/>
                    <a:pt x="812" y="342"/>
                    <a:pt x="818" y="342"/>
                  </a:cubicBezTo>
                  <a:cubicBezTo>
                    <a:pt x="818" y="343"/>
                    <a:pt x="818" y="344"/>
                    <a:pt x="818" y="345"/>
                  </a:cubicBezTo>
                  <a:cubicBezTo>
                    <a:pt x="812" y="345"/>
                    <a:pt x="807" y="345"/>
                    <a:pt x="801" y="345"/>
                  </a:cubicBezTo>
                  <a:cubicBezTo>
                    <a:pt x="801" y="344"/>
                    <a:pt x="801" y="343"/>
                    <a:pt x="801" y="342"/>
                  </a:cubicBezTo>
                  <a:close/>
                  <a:moveTo>
                    <a:pt x="801" y="399"/>
                  </a:moveTo>
                  <a:cubicBezTo>
                    <a:pt x="807" y="399"/>
                    <a:pt x="812" y="399"/>
                    <a:pt x="818" y="399"/>
                  </a:cubicBezTo>
                  <a:cubicBezTo>
                    <a:pt x="818" y="400"/>
                    <a:pt x="818" y="401"/>
                    <a:pt x="818" y="402"/>
                  </a:cubicBezTo>
                  <a:cubicBezTo>
                    <a:pt x="812" y="402"/>
                    <a:pt x="807" y="402"/>
                    <a:pt x="801" y="402"/>
                  </a:cubicBezTo>
                  <a:cubicBezTo>
                    <a:pt x="801" y="401"/>
                    <a:pt x="801" y="400"/>
                    <a:pt x="801" y="399"/>
                  </a:cubicBezTo>
                  <a:close/>
                  <a:moveTo>
                    <a:pt x="801" y="459"/>
                  </a:moveTo>
                  <a:cubicBezTo>
                    <a:pt x="801" y="458"/>
                    <a:pt x="801" y="457"/>
                    <a:pt x="801" y="456"/>
                  </a:cubicBezTo>
                  <a:cubicBezTo>
                    <a:pt x="807" y="456"/>
                    <a:pt x="812" y="456"/>
                    <a:pt x="818" y="456"/>
                  </a:cubicBezTo>
                  <a:cubicBezTo>
                    <a:pt x="818" y="457"/>
                    <a:pt x="818" y="458"/>
                    <a:pt x="818" y="459"/>
                  </a:cubicBezTo>
                  <a:cubicBezTo>
                    <a:pt x="812" y="459"/>
                    <a:pt x="807" y="459"/>
                    <a:pt x="801" y="459"/>
                  </a:cubicBezTo>
                  <a:close/>
                  <a:moveTo>
                    <a:pt x="801" y="513"/>
                  </a:moveTo>
                  <a:cubicBezTo>
                    <a:pt x="807" y="513"/>
                    <a:pt x="812" y="513"/>
                    <a:pt x="818" y="513"/>
                  </a:cubicBezTo>
                  <a:cubicBezTo>
                    <a:pt x="818" y="514"/>
                    <a:pt x="818" y="515"/>
                    <a:pt x="818" y="516"/>
                  </a:cubicBezTo>
                  <a:cubicBezTo>
                    <a:pt x="812" y="516"/>
                    <a:pt x="807" y="516"/>
                    <a:pt x="801" y="516"/>
                  </a:cubicBezTo>
                  <a:cubicBezTo>
                    <a:pt x="801" y="515"/>
                    <a:pt x="801" y="514"/>
                    <a:pt x="801" y="513"/>
                  </a:cubicBezTo>
                  <a:close/>
                  <a:moveTo>
                    <a:pt x="801" y="570"/>
                  </a:moveTo>
                  <a:cubicBezTo>
                    <a:pt x="807" y="570"/>
                    <a:pt x="812" y="570"/>
                    <a:pt x="818" y="570"/>
                  </a:cubicBezTo>
                  <a:cubicBezTo>
                    <a:pt x="818" y="571"/>
                    <a:pt x="818" y="572"/>
                    <a:pt x="818" y="573"/>
                  </a:cubicBezTo>
                  <a:cubicBezTo>
                    <a:pt x="812" y="573"/>
                    <a:pt x="807" y="573"/>
                    <a:pt x="801" y="573"/>
                  </a:cubicBezTo>
                  <a:cubicBezTo>
                    <a:pt x="801" y="572"/>
                    <a:pt x="801" y="571"/>
                    <a:pt x="801" y="570"/>
                  </a:cubicBezTo>
                  <a:close/>
                  <a:moveTo>
                    <a:pt x="824" y="0"/>
                  </a:moveTo>
                  <a:cubicBezTo>
                    <a:pt x="830" y="0"/>
                    <a:pt x="835" y="0"/>
                    <a:pt x="840" y="0"/>
                  </a:cubicBezTo>
                  <a:cubicBezTo>
                    <a:pt x="840" y="1"/>
                    <a:pt x="840" y="2"/>
                    <a:pt x="840" y="4"/>
                  </a:cubicBezTo>
                  <a:cubicBezTo>
                    <a:pt x="835" y="4"/>
                    <a:pt x="830" y="4"/>
                    <a:pt x="824" y="4"/>
                  </a:cubicBezTo>
                  <a:cubicBezTo>
                    <a:pt x="824" y="2"/>
                    <a:pt x="824" y="1"/>
                    <a:pt x="824" y="0"/>
                  </a:cubicBezTo>
                  <a:close/>
                  <a:moveTo>
                    <a:pt x="824" y="57"/>
                  </a:moveTo>
                  <a:cubicBezTo>
                    <a:pt x="830" y="57"/>
                    <a:pt x="835" y="57"/>
                    <a:pt x="840" y="57"/>
                  </a:cubicBezTo>
                  <a:cubicBezTo>
                    <a:pt x="840" y="58"/>
                    <a:pt x="840" y="59"/>
                    <a:pt x="840" y="60"/>
                  </a:cubicBezTo>
                  <a:cubicBezTo>
                    <a:pt x="835" y="60"/>
                    <a:pt x="830" y="60"/>
                    <a:pt x="824" y="60"/>
                  </a:cubicBezTo>
                  <a:cubicBezTo>
                    <a:pt x="824" y="59"/>
                    <a:pt x="824" y="58"/>
                    <a:pt x="824" y="57"/>
                  </a:cubicBezTo>
                  <a:close/>
                  <a:moveTo>
                    <a:pt x="824" y="114"/>
                  </a:moveTo>
                  <a:cubicBezTo>
                    <a:pt x="830" y="114"/>
                    <a:pt x="835" y="114"/>
                    <a:pt x="840" y="114"/>
                  </a:cubicBezTo>
                  <a:cubicBezTo>
                    <a:pt x="840" y="115"/>
                    <a:pt x="840" y="116"/>
                    <a:pt x="840" y="117"/>
                  </a:cubicBezTo>
                  <a:cubicBezTo>
                    <a:pt x="835" y="117"/>
                    <a:pt x="830" y="117"/>
                    <a:pt x="824" y="117"/>
                  </a:cubicBezTo>
                  <a:cubicBezTo>
                    <a:pt x="824" y="116"/>
                    <a:pt x="824" y="115"/>
                    <a:pt x="824" y="114"/>
                  </a:cubicBezTo>
                  <a:close/>
                  <a:moveTo>
                    <a:pt x="824" y="171"/>
                  </a:moveTo>
                  <a:cubicBezTo>
                    <a:pt x="830" y="171"/>
                    <a:pt x="835" y="171"/>
                    <a:pt x="840" y="171"/>
                  </a:cubicBezTo>
                  <a:cubicBezTo>
                    <a:pt x="840" y="172"/>
                    <a:pt x="840" y="173"/>
                    <a:pt x="840" y="174"/>
                  </a:cubicBezTo>
                  <a:cubicBezTo>
                    <a:pt x="835" y="174"/>
                    <a:pt x="830" y="174"/>
                    <a:pt x="824" y="174"/>
                  </a:cubicBezTo>
                  <a:cubicBezTo>
                    <a:pt x="824" y="173"/>
                    <a:pt x="824" y="172"/>
                    <a:pt x="824" y="171"/>
                  </a:cubicBezTo>
                  <a:close/>
                  <a:moveTo>
                    <a:pt x="824" y="228"/>
                  </a:moveTo>
                  <a:cubicBezTo>
                    <a:pt x="830" y="228"/>
                    <a:pt x="835" y="228"/>
                    <a:pt x="840" y="228"/>
                  </a:cubicBezTo>
                  <a:cubicBezTo>
                    <a:pt x="840" y="229"/>
                    <a:pt x="840" y="230"/>
                    <a:pt x="840" y="231"/>
                  </a:cubicBezTo>
                  <a:cubicBezTo>
                    <a:pt x="835" y="231"/>
                    <a:pt x="830" y="231"/>
                    <a:pt x="824" y="231"/>
                  </a:cubicBezTo>
                  <a:cubicBezTo>
                    <a:pt x="824" y="230"/>
                    <a:pt x="824" y="229"/>
                    <a:pt x="824" y="228"/>
                  </a:cubicBezTo>
                  <a:close/>
                  <a:moveTo>
                    <a:pt x="824" y="285"/>
                  </a:moveTo>
                  <a:cubicBezTo>
                    <a:pt x="830" y="285"/>
                    <a:pt x="835" y="285"/>
                    <a:pt x="840" y="285"/>
                  </a:cubicBezTo>
                  <a:cubicBezTo>
                    <a:pt x="840" y="286"/>
                    <a:pt x="840" y="287"/>
                    <a:pt x="840" y="288"/>
                  </a:cubicBezTo>
                  <a:cubicBezTo>
                    <a:pt x="835" y="288"/>
                    <a:pt x="830" y="288"/>
                    <a:pt x="824" y="288"/>
                  </a:cubicBezTo>
                  <a:cubicBezTo>
                    <a:pt x="824" y="287"/>
                    <a:pt x="824" y="286"/>
                    <a:pt x="824" y="285"/>
                  </a:cubicBezTo>
                  <a:close/>
                  <a:moveTo>
                    <a:pt x="824" y="342"/>
                  </a:moveTo>
                  <a:cubicBezTo>
                    <a:pt x="830" y="342"/>
                    <a:pt x="835" y="342"/>
                    <a:pt x="840" y="342"/>
                  </a:cubicBezTo>
                  <a:cubicBezTo>
                    <a:pt x="840" y="343"/>
                    <a:pt x="840" y="344"/>
                    <a:pt x="840" y="345"/>
                  </a:cubicBezTo>
                  <a:cubicBezTo>
                    <a:pt x="835" y="345"/>
                    <a:pt x="830" y="345"/>
                    <a:pt x="824" y="345"/>
                  </a:cubicBezTo>
                  <a:cubicBezTo>
                    <a:pt x="824" y="344"/>
                    <a:pt x="824" y="343"/>
                    <a:pt x="824" y="342"/>
                  </a:cubicBezTo>
                  <a:close/>
                  <a:moveTo>
                    <a:pt x="824" y="399"/>
                  </a:moveTo>
                  <a:cubicBezTo>
                    <a:pt x="830" y="399"/>
                    <a:pt x="835" y="399"/>
                    <a:pt x="840" y="399"/>
                  </a:cubicBezTo>
                  <a:cubicBezTo>
                    <a:pt x="840" y="400"/>
                    <a:pt x="840" y="401"/>
                    <a:pt x="840" y="402"/>
                  </a:cubicBezTo>
                  <a:cubicBezTo>
                    <a:pt x="835" y="402"/>
                    <a:pt x="830" y="402"/>
                    <a:pt x="824" y="402"/>
                  </a:cubicBezTo>
                  <a:cubicBezTo>
                    <a:pt x="824" y="401"/>
                    <a:pt x="824" y="400"/>
                    <a:pt x="824" y="399"/>
                  </a:cubicBezTo>
                  <a:close/>
                  <a:moveTo>
                    <a:pt x="824" y="459"/>
                  </a:moveTo>
                  <a:cubicBezTo>
                    <a:pt x="824" y="458"/>
                    <a:pt x="824" y="457"/>
                    <a:pt x="824" y="456"/>
                  </a:cubicBezTo>
                  <a:cubicBezTo>
                    <a:pt x="830" y="456"/>
                    <a:pt x="835" y="456"/>
                    <a:pt x="840" y="456"/>
                  </a:cubicBezTo>
                  <a:cubicBezTo>
                    <a:pt x="840" y="457"/>
                    <a:pt x="840" y="458"/>
                    <a:pt x="840" y="459"/>
                  </a:cubicBezTo>
                  <a:cubicBezTo>
                    <a:pt x="835" y="459"/>
                    <a:pt x="830" y="459"/>
                    <a:pt x="824" y="459"/>
                  </a:cubicBezTo>
                  <a:close/>
                  <a:moveTo>
                    <a:pt x="824" y="513"/>
                  </a:moveTo>
                  <a:cubicBezTo>
                    <a:pt x="830" y="513"/>
                    <a:pt x="835" y="513"/>
                    <a:pt x="840" y="513"/>
                  </a:cubicBezTo>
                  <a:cubicBezTo>
                    <a:pt x="840" y="514"/>
                    <a:pt x="840" y="515"/>
                    <a:pt x="840" y="516"/>
                  </a:cubicBezTo>
                  <a:cubicBezTo>
                    <a:pt x="835" y="516"/>
                    <a:pt x="830" y="516"/>
                    <a:pt x="824" y="516"/>
                  </a:cubicBezTo>
                  <a:cubicBezTo>
                    <a:pt x="824" y="515"/>
                    <a:pt x="824" y="514"/>
                    <a:pt x="824" y="513"/>
                  </a:cubicBezTo>
                  <a:close/>
                  <a:moveTo>
                    <a:pt x="824" y="570"/>
                  </a:moveTo>
                  <a:cubicBezTo>
                    <a:pt x="830" y="570"/>
                    <a:pt x="835" y="570"/>
                    <a:pt x="840" y="570"/>
                  </a:cubicBezTo>
                  <a:cubicBezTo>
                    <a:pt x="840" y="571"/>
                    <a:pt x="840" y="572"/>
                    <a:pt x="840" y="573"/>
                  </a:cubicBezTo>
                  <a:cubicBezTo>
                    <a:pt x="835" y="573"/>
                    <a:pt x="830" y="573"/>
                    <a:pt x="824" y="573"/>
                  </a:cubicBezTo>
                  <a:cubicBezTo>
                    <a:pt x="824" y="572"/>
                    <a:pt x="824" y="571"/>
                    <a:pt x="824" y="570"/>
                  </a:cubicBezTo>
                  <a:close/>
                  <a:moveTo>
                    <a:pt x="847" y="0"/>
                  </a:moveTo>
                  <a:cubicBezTo>
                    <a:pt x="852" y="0"/>
                    <a:pt x="858" y="0"/>
                    <a:pt x="863" y="0"/>
                  </a:cubicBezTo>
                  <a:cubicBezTo>
                    <a:pt x="863" y="1"/>
                    <a:pt x="863" y="2"/>
                    <a:pt x="863" y="4"/>
                  </a:cubicBezTo>
                  <a:cubicBezTo>
                    <a:pt x="858" y="4"/>
                    <a:pt x="852" y="4"/>
                    <a:pt x="847" y="4"/>
                  </a:cubicBezTo>
                  <a:cubicBezTo>
                    <a:pt x="847" y="2"/>
                    <a:pt x="847" y="1"/>
                    <a:pt x="847" y="0"/>
                  </a:cubicBezTo>
                  <a:close/>
                  <a:moveTo>
                    <a:pt x="847" y="57"/>
                  </a:moveTo>
                  <a:cubicBezTo>
                    <a:pt x="852" y="57"/>
                    <a:pt x="858" y="57"/>
                    <a:pt x="863" y="57"/>
                  </a:cubicBezTo>
                  <a:cubicBezTo>
                    <a:pt x="863" y="58"/>
                    <a:pt x="863" y="59"/>
                    <a:pt x="863" y="60"/>
                  </a:cubicBezTo>
                  <a:cubicBezTo>
                    <a:pt x="858" y="60"/>
                    <a:pt x="852" y="60"/>
                    <a:pt x="847" y="60"/>
                  </a:cubicBezTo>
                  <a:cubicBezTo>
                    <a:pt x="847" y="59"/>
                    <a:pt x="847" y="58"/>
                    <a:pt x="847" y="57"/>
                  </a:cubicBezTo>
                  <a:close/>
                  <a:moveTo>
                    <a:pt x="847" y="114"/>
                  </a:moveTo>
                  <a:cubicBezTo>
                    <a:pt x="852" y="114"/>
                    <a:pt x="858" y="114"/>
                    <a:pt x="863" y="114"/>
                  </a:cubicBezTo>
                  <a:cubicBezTo>
                    <a:pt x="863" y="115"/>
                    <a:pt x="863" y="116"/>
                    <a:pt x="863" y="117"/>
                  </a:cubicBezTo>
                  <a:cubicBezTo>
                    <a:pt x="858" y="117"/>
                    <a:pt x="852" y="117"/>
                    <a:pt x="847" y="117"/>
                  </a:cubicBezTo>
                  <a:cubicBezTo>
                    <a:pt x="847" y="116"/>
                    <a:pt x="847" y="115"/>
                    <a:pt x="847" y="114"/>
                  </a:cubicBezTo>
                  <a:close/>
                  <a:moveTo>
                    <a:pt x="847" y="171"/>
                  </a:moveTo>
                  <a:cubicBezTo>
                    <a:pt x="852" y="171"/>
                    <a:pt x="858" y="171"/>
                    <a:pt x="863" y="171"/>
                  </a:cubicBezTo>
                  <a:cubicBezTo>
                    <a:pt x="863" y="172"/>
                    <a:pt x="863" y="173"/>
                    <a:pt x="863" y="174"/>
                  </a:cubicBezTo>
                  <a:cubicBezTo>
                    <a:pt x="858" y="174"/>
                    <a:pt x="852" y="174"/>
                    <a:pt x="847" y="174"/>
                  </a:cubicBezTo>
                  <a:cubicBezTo>
                    <a:pt x="847" y="173"/>
                    <a:pt x="847" y="172"/>
                    <a:pt x="847" y="171"/>
                  </a:cubicBezTo>
                  <a:close/>
                  <a:moveTo>
                    <a:pt x="847" y="228"/>
                  </a:moveTo>
                  <a:cubicBezTo>
                    <a:pt x="852" y="228"/>
                    <a:pt x="858" y="228"/>
                    <a:pt x="863" y="228"/>
                  </a:cubicBezTo>
                  <a:cubicBezTo>
                    <a:pt x="863" y="229"/>
                    <a:pt x="863" y="230"/>
                    <a:pt x="863" y="231"/>
                  </a:cubicBezTo>
                  <a:cubicBezTo>
                    <a:pt x="858" y="231"/>
                    <a:pt x="852" y="231"/>
                    <a:pt x="847" y="231"/>
                  </a:cubicBezTo>
                  <a:cubicBezTo>
                    <a:pt x="847" y="230"/>
                    <a:pt x="847" y="229"/>
                    <a:pt x="847" y="228"/>
                  </a:cubicBezTo>
                  <a:close/>
                  <a:moveTo>
                    <a:pt x="847" y="285"/>
                  </a:moveTo>
                  <a:cubicBezTo>
                    <a:pt x="852" y="285"/>
                    <a:pt x="858" y="285"/>
                    <a:pt x="863" y="285"/>
                  </a:cubicBezTo>
                  <a:cubicBezTo>
                    <a:pt x="863" y="286"/>
                    <a:pt x="863" y="287"/>
                    <a:pt x="863" y="288"/>
                  </a:cubicBezTo>
                  <a:cubicBezTo>
                    <a:pt x="858" y="288"/>
                    <a:pt x="852" y="288"/>
                    <a:pt x="847" y="288"/>
                  </a:cubicBezTo>
                  <a:cubicBezTo>
                    <a:pt x="847" y="287"/>
                    <a:pt x="847" y="286"/>
                    <a:pt x="847" y="285"/>
                  </a:cubicBezTo>
                  <a:close/>
                  <a:moveTo>
                    <a:pt x="847" y="342"/>
                  </a:moveTo>
                  <a:cubicBezTo>
                    <a:pt x="852" y="342"/>
                    <a:pt x="858" y="342"/>
                    <a:pt x="863" y="342"/>
                  </a:cubicBezTo>
                  <a:cubicBezTo>
                    <a:pt x="863" y="343"/>
                    <a:pt x="863" y="344"/>
                    <a:pt x="863" y="345"/>
                  </a:cubicBezTo>
                  <a:cubicBezTo>
                    <a:pt x="858" y="345"/>
                    <a:pt x="852" y="345"/>
                    <a:pt x="847" y="345"/>
                  </a:cubicBezTo>
                  <a:cubicBezTo>
                    <a:pt x="847" y="344"/>
                    <a:pt x="847" y="343"/>
                    <a:pt x="847" y="342"/>
                  </a:cubicBezTo>
                  <a:close/>
                  <a:moveTo>
                    <a:pt x="847" y="399"/>
                  </a:moveTo>
                  <a:cubicBezTo>
                    <a:pt x="852" y="399"/>
                    <a:pt x="858" y="399"/>
                    <a:pt x="863" y="399"/>
                  </a:cubicBezTo>
                  <a:cubicBezTo>
                    <a:pt x="863" y="400"/>
                    <a:pt x="863" y="401"/>
                    <a:pt x="863" y="402"/>
                  </a:cubicBezTo>
                  <a:cubicBezTo>
                    <a:pt x="858" y="402"/>
                    <a:pt x="852" y="402"/>
                    <a:pt x="847" y="402"/>
                  </a:cubicBezTo>
                  <a:cubicBezTo>
                    <a:pt x="847" y="401"/>
                    <a:pt x="847" y="400"/>
                    <a:pt x="847" y="399"/>
                  </a:cubicBezTo>
                  <a:close/>
                  <a:moveTo>
                    <a:pt x="847" y="459"/>
                  </a:moveTo>
                  <a:cubicBezTo>
                    <a:pt x="847" y="458"/>
                    <a:pt x="847" y="457"/>
                    <a:pt x="847" y="456"/>
                  </a:cubicBezTo>
                  <a:cubicBezTo>
                    <a:pt x="852" y="456"/>
                    <a:pt x="858" y="456"/>
                    <a:pt x="863" y="456"/>
                  </a:cubicBezTo>
                  <a:cubicBezTo>
                    <a:pt x="863" y="457"/>
                    <a:pt x="863" y="458"/>
                    <a:pt x="863" y="459"/>
                  </a:cubicBezTo>
                  <a:cubicBezTo>
                    <a:pt x="858" y="459"/>
                    <a:pt x="852" y="459"/>
                    <a:pt x="847" y="459"/>
                  </a:cubicBezTo>
                  <a:close/>
                  <a:moveTo>
                    <a:pt x="847" y="513"/>
                  </a:moveTo>
                  <a:cubicBezTo>
                    <a:pt x="852" y="513"/>
                    <a:pt x="858" y="513"/>
                    <a:pt x="863" y="513"/>
                  </a:cubicBezTo>
                  <a:cubicBezTo>
                    <a:pt x="863" y="514"/>
                    <a:pt x="863" y="515"/>
                    <a:pt x="863" y="516"/>
                  </a:cubicBezTo>
                  <a:cubicBezTo>
                    <a:pt x="858" y="516"/>
                    <a:pt x="852" y="516"/>
                    <a:pt x="847" y="516"/>
                  </a:cubicBezTo>
                  <a:cubicBezTo>
                    <a:pt x="847" y="515"/>
                    <a:pt x="847" y="514"/>
                    <a:pt x="847" y="513"/>
                  </a:cubicBezTo>
                  <a:close/>
                  <a:moveTo>
                    <a:pt x="847" y="570"/>
                  </a:moveTo>
                  <a:cubicBezTo>
                    <a:pt x="852" y="570"/>
                    <a:pt x="858" y="570"/>
                    <a:pt x="863" y="570"/>
                  </a:cubicBezTo>
                  <a:cubicBezTo>
                    <a:pt x="863" y="571"/>
                    <a:pt x="863" y="572"/>
                    <a:pt x="863" y="573"/>
                  </a:cubicBezTo>
                  <a:cubicBezTo>
                    <a:pt x="858" y="573"/>
                    <a:pt x="852" y="573"/>
                    <a:pt x="847" y="573"/>
                  </a:cubicBezTo>
                  <a:cubicBezTo>
                    <a:pt x="847" y="572"/>
                    <a:pt x="847" y="571"/>
                    <a:pt x="847" y="570"/>
                  </a:cubicBezTo>
                  <a:close/>
                  <a:moveTo>
                    <a:pt x="870" y="0"/>
                  </a:moveTo>
                  <a:cubicBezTo>
                    <a:pt x="875" y="0"/>
                    <a:pt x="881" y="0"/>
                    <a:pt x="886" y="0"/>
                  </a:cubicBezTo>
                  <a:cubicBezTo>
                    <a:pt x="886" y="1"/>
                    <a:pt x="886" y="2"/>
                    <a:pt x="886" y="4"/>
                  </a:cubicBezTo>
                  <a:cubicBezTo>
                    <a:pt x="881" y="4"/>
                    <a:pt x="875" y="4"/>
                    <a:pt x="870" y="4"/>
                  </a:cubicBezTo>
                  <a:cubicBezTo>
                    <a:pt x="870" y="2"/>
                    <a:pt x="870" y="1"/>
                    <a:pt x="870" y="0"/>
                  </a:cubicBezTo>
                  <a:close/>
                  <a:moveTo>
                    <a:pt x="870" y="57"/>
                  </a:moveTo>
                  <a:cubicBezTo>
                    <a:pt x="875" y="57"/>
                    <a:pt x="881" y="57"/>
                    <a:pt x="886" y="57"/>
                  </a:cubicBezTo>
                  <a:cubicBezTo>
                    <a:pt x="886" y="58"/>
                    <a:pt x="886" y="59"/>
                    <a:pt x="886" y="60"/>
                  </a:cubicBezTo>
                  <a:cubicBezTo>
                    <a:pt x="881" y="60"/>
                    <a:pt x="875" y="60"/>
                    <a:pt x="870" y="60"/>
                  </a:cubicBezTo>
                  <a:cubicBezTo>
                    <a:pt x="870" y="59"/>
                    <a:pt x="870" y="58"/>
                    <a:pt x="870" y="57"/>
                  </a:cubicBezTo>
                  <a:close/>
                  <a:moveTo>
                    <a:pt x="870" y="114"/>
                  </a:moveTo>
                  <a:cubicBezTo>
                    <a:pt x="875" y="114"/>
                    <a:pt x="881" y="114"/>
                    <a:pt x="886" y="114"/>
                  </a:cubicBezTo>
                  <a:cubicBezTo>
                    <a:pt x="886" y="115"/>
                    <a:pt x="886" y="116"/>
                    <a:pt x="886" y="117"/>
                  </a:cubicBezTo>
                  <a:cubicBezTo>
                    <a:pt x="881" y="117"/>
                    <a:pt x="875" y="117"/>
                    <a:pt x="870" y="117"/>
                  </a:cubicBezTo>
                  <a:cubicBezTo>
                    <a:pt x="870" y="116"/>
                    <a:pt x="870" y="115"/>
                    <a:pt x="870" y="114"/>
                  </a:cubicBezTo>
                  <a:close/>
                  <a:moveTo>
                    <a:pt x="870" y="171"/>
                  </a:moveTo>
                  <a:cubicBezTo>
                    <a:pt x="875" y="171"/>
                    <a:pt x="881" y="171"/>
                    <a:pt x="886" y="171"/>
                  </a:cubicBezTo>
                  <a:cubicBezTo>
                    <a:pt x="886" y="172"/>
                    <a:pt x="886" y="173"/>
                    <a:pt x="886" y="174"/>
                  </a:cubicBezTo>
                  <a:cubicBezTo>
                    <a:pt x="881" y="174"/>
                    <a:pt x="875" y="174"/>
                    <a:pt x="870" y="174"/>
                  </a:cubicBezTo>
                  <a:cubicBezTo>
                    <a:pt x="870" y="173"/>
                    <a:pt x="870" y="172"/>
                    <a:pt x="870" y="171"/>
                  </a:cubicBezTo>
                  <a:close/>
                  <a:moveTo>
                    <a:pt x="870" y="228"/>
                  </a:moveTo>
                  <a:cubicBezTo>
                    <a:pt x="875" y="228"/>
                    <a:pt x="881" y="228"/>
                    <a:pt x="886" y="228"/>
                  </a:cubicBezTo>
                  <a:cubicBezTo>
                    <a:pt x="886" y="229"/>
                    <a:pt x="886" y="230"/>
                    <a:pt x="886" y="231"/>
                  </a:cubicBezTo>
                  <a:cubicBezTo>
                    <a:pt x="881" y="231"/>
                    <a:pt x="875" y="231"/>
                    <a:pt x="870" y="231"/>
                  </a:cubicBezTo>
                  <a:cubicBezTo>
                    <a:pt x="870" y="230"/>
                    <a:pt x="870" y="229"/>
                    <a:pt x="870" y="228"/>
                  </a:cubicBezTo>
                  <a:close/>
                  <a:moveTo>
                    <a:pt x="870" y="285"/>
                  </a:moveTo>
                  <a:cubicBezTo>
                    <a:pt x="875" y="285"/>
                    <a:pt x="881" y="285"/>
                    <a:pt x="886" y="285"/>
                  </a:cubicBezTo>
                  <a:cubicBezTo>
                    <a:pt x="886" y="286"/>
                    <a:pt x="886" y="287"/>
                    <a:pt x="886" y="288"/>
                  </a:cubicBezTo>
                  <a:cubicBezTo>
                    <a:pt x="881" y="288"/>
                    <a:pt x="875" y="288"/>
                    <a:pt x="870" y="288"/>
                  </a:cubicBezTo>
                  <a:cubicBezTo>
                    <a:pt x="870" y="287"/>
                    <a:pt x="870" y="286"/>
                    <a:pt x="870" y="285"/>
                  </a:cubicBezTo>
                  <a:close/>
                  <a:moveTo>
                    <a:pt x="870" y="342"/>
                  </a:moveTo>
                  <a:cubicBezTo>
                    <a:pt x="875" y="342"/>
                    <a:pt x="881" y="342"/>
                    <a:pt x="886" y="342"/>
                  </a:cubicBezTo>
                  <a:cubicBezTo>
                    <a:pt x="886" y="343"/>
                    <a:pt x="886" y="344"/>
                    <a:pt x="886" y="345"/>
                  </a:cubicBezTo>
                  <a:cubicBezTo>
                    <a:pt x="881" y="345"/>
                    <a:pt x="875" y="345"/>
                    <a:pt x="870" y="345"/>
                  </a:cubicBezTo>
                  <a:cubicBezTo>
                    <a:pt x="870" y="344"/>
                    <a:pt x="870" y="343"/>
                    <a:pt x="870" y="342"/>
                  </a:cubicBezTo>
                  <a:close/>
                  <a:moveTo>
                    <a:pt x="870" y="399"/>
                  </a:moveTo>
                  <a:cubicBezTo>
                    <a:pt x="875" y="399"/>
                    <a:pt x="881" y="399"/>
                    <a:pt x="886" y="399"/>
                  </a:cubicBezTo>
                  <a:cubicBezTo>
                    <a:pt x="886" y="400"/>
                    <a:pt x="886" y="401"/>
                    <a:pt x="886" y="402"/>
                  </a:cubicBezTo>
                  <a:cubicBezTo>
                    <a:pt x="881" y="402"/>
                    <a:pt x="875" y="402"/>
                    <a:pt x="870" y="402"/>
                  </a:cubicBezTo>
                  <a:cubicBezTo>
                    <a:pt x="870" y="401"/>
                    <a:pt x="870" y="400"/>
                    <a:pt x="870" y="399"/>
                  </a:cubicBezTo>
                  <a:close/>
                  <a:moveTo>
                    <a:pt x="870" y="459"/>
                  </a:moveTo>
                  <a:cubicBezTo>
                    <a:pt x="870" y="458"/>
                    <a:pt x="870" y="457"/>
                    <a:pt x="870" y="456"/>
                  </a:cubicBezTo>
                  <a:cubicBezTo>
                    <a:pt x="875" y="456"/>
                    <a:pt x="881" y="456"/>
                    <a:pt x="886" y="456"/>
                  </a:cubicBezTo>
                  <a:cubicBezTo>
                    <a:pt x="886" y="457"/>
                    <a:pt x="886" y="458"/>
                    <a:pt x="886" y="459"/>
                  </a:cubicBezTo>
                  <a:cubicBezTo>
                    <a:pt x="881" y="459"/>
                    <a:pt x="875" y="459"/>
                    <a:pt x="870" y="459"/>
                  </a:cubicBezTo>
                  <a:close/>
                  <a:moveTo>
                    <a:pt x="870" y="513"/>
                  </a:moveTo>
                  <a:cubicBezTo>
                    <a:pt x="875" y="513"/>
                    <a:pt x="881" y="513"/>
                    <a:pt x="886" y="513"/>
                  </a:cubicBezTo>
                  <a:cubicBezTo>
                    <a:pt x="886" y="514"/>
                    <a:pt x="886" y="515"/>
                    <a:pt x="886" y="516"/>
                  </a:cubicBezTo>
                  <a:cubicBezTo>
                    <a:pt x="881" y="516"/>
                    <a:pt x="875" y="516"/>
                    <a:pt x="870" y="516"/>
                  </a:cubicBezTo>
                  <a:cubicBezTo>
                    <a:pt x="870" y="515"/>
                    <a:pt x="870" y="514"/>
                    <a:pt x="870" y="513"/>
                  </a:cubicBezTo>
                  <a:close/>
                  <a:moveTo>
                    <a:pt x="870" y="570"/>
                  </a:moveTo>
                  <a:cubicBezTo>
                    <a:pt x="875" y="570"/>
                    <a:pt x="881" y="570"/>
                    <a:pt x="886" y="570"/>
                  </a:cubicBezTo>
                  <a:cubicBezTo>
                    <a:pt x="886" y="571"/>
                    <a:pt x="886" y="572"/>
                    <a:pt x="886" y="573"/>
                  </a:cubicBezTo>
                  <a:cubicBezTo>
                    <a:pt x="881" y="573"/>
                    <a:pt x="875" y="573"/>
                    <a:pt x="870" y="573"/>
                  </a:cubicBezTo>
                  <a:cubicBezTo>
                    <a:pt x="870" y="572"/>
                    <a:pt x="870" y="571"/>
                    <a:pt x="870" y="570"/>
                  </a:cubicBezTo>
                  <a:close/>
                  <a:moveTo>
                    <a:pt x="893" y="0"/>
                  </a:moveTo>
                  <a:cubicBezTo>
                    <a:pt x="898" y="0"/>
                    <a:pt x="904" y="0"/>
                    <a:pt x="909" y="0"/>
                  </a:cubicBezTo>
                  <a:cubicBezTo>
                    <a:pt x="909" y="1"/>
                    <a:pt x="909" y="2"/>
                    <a:pt x="909" y="4"/>
                  </a:cubicBezTo>
                  <a:cubicBezTo>
                    <a:pt x="904" y="4"/>
                    <a:pt x="898" y="4"/>
                    <a:pt x="893" y="4"/>
                  </a:cubicBezTo>
                  <a:cubicBezTo>
                    <a:pt x="893" y="2"/>
                    <a:pt x="893" y="1"/>
                    <a:pt x="893" y="0"/>
                  </a:cubicBezTo>
                  <a:close/>
                  <a:moveTo>
                    <a:pt x="893" y="57"/>
                  </a:moveTo>
                  <a:cubicBezTo>
                    <a:pt x="898" y="57"/>
                    <a:pt x="904" y="57"/>
                    <a:pt x="909" y="57"/>
                  </a:cubicBezTo>
                  <a:cubicBezTo>
                    <a:pt x="909" y="58"/>
                    <a:pt x="909" y="59"/>
                    <a:pt x="909" y="60"/>
                  </a:cubicBezTo>
                  <a:cubicBezTo>
                    <a:pt x="904" y="60"/>
                    <a:pt x="898" y="60"/>
                    <a:pt x="893" y="60"/>
                  </a:cubicBezTo>
                  <a:cubicBezTo>
                    <a:pt x="893" y="59"/>
                    <a:pt x="893" y="58"/>
                    <a:pt x="893" y="57"/>
                  </a:cubicBezTo>
                  <a:close/>
                  <a:moveTo>
                    <a:pt x="893" y="114"/>
                  </a:moveTo>
                  <a:cubicBezTo>
                    <a:pt x="898" y="114"/>
                    <a:pt x="904" y="114"/>
                    <a:pt x="909" y="114"/>
                  </a:cubicBezTo>
                  <a:cubicBezTo>
                    <a:pt x="909" y="115"/>
                    <a:pt x="909" y="116"/>
                    <a:pt x="909" y="117"/>
                  </a:cubicBezTo>
                  <a:cubicBezTo>
                    <a:pt x="904" y="117"/>
                    <a:pt x="898" y="117"/>
                    <a:pt x="893" y="117"/>
                  </a:cubicBezTo>
                  <a:cubicBezTo>
                    <a:pt x="893" y="116"/>
                    <a:pt x="893" y="115"/>
                    <a:pt x="893" y="114"/>
                  </a:cubicBezTo>
                  <a:close/>
                  <a:moveTo>
                    <a:pt x="893" y="171"/>
                  </a:moveTo>
                  <a:cubicBezTo>
                    <a:pt x="898" y="171"/>
                    <a:pt x="904" y="171"/>
                    <a:pt x="909" y="171"/>
                  </a:cubicBezTo>
                  <a:cubicBezTo>
                    <a:pt x="909" y="172"/>
                    <a:pt x="909" y="173"/>
                    <a:pt x="909" y="174"/>
                  </a:cubicBezTo>
                  <a:cubicBezTo>
                    <a:pt x="904" y="174"/>
                    <a:pt x="898" y="174"/>
                    <a:pt x="893" y="174"/>
                  </a:cubicBezTo>
                  <a:cubicBezTo>
                    <a:pt x="893" y="173"/>
                    <a:pt x="893" y="172"/>
                    <a:pt x="893" y="171"/>
                  </a:cubicBezTo>
                  <a:close/>
                  <a:moveTo>
                    <a:pt x="893" y="228"/>
                  </a:moveTo>
                  <a:cubicBezTo>
                    <a:pt x="898" y="228"/>
                    <a:pt x="904" y="228"/>
                    <a:pt x="909" y="228"/>
                  </a:cubicBezTo>
                  <a:cubicBezTo>
                    <a:pt x="909" y="229"/>
                    <a:pt x="909" y="230"/>
                    <a:pt x="909" y="231"/>
                  </a:cubicBezTo>
                  <a:cubicBezTo>
                    <a:pt x="904" y="231"/>
                    <a:pt x="898" y="231"/>
                    <a:pt x="893" y="231"/>
                  </a:cubicBezTo>
                  <a:cubicBezTo>
                    <a:pt x="893" y="230"/>
                    <a:pt x="893" y="229"/>
                    <a:pt x="893" y="228"/>
                  </a:cubicBezTo>
                  <a:close/>
                  <a:moveTo>
                    <a:pt x="893" y="285"/>
                  </a:moveTo>
                  <a:cubicBezTo>
                    <a:pt x="898" y="285"/>
                    <a:pt x="904" y="285"/>
                    <a:pt x="909" y="285"/>
                  </a:cubicBezTo>
                  <a:cubicBezTo>
                    <a:pt x="909" y="286"/>
                    <a:pt x="909" y="287"/>
                    <a:pt x="909" y="288"/>
                  </a:cubicBezTo>
                  <a:cubicBezTo>
                    <a:pt x="904" y="288"/>
                    <a:pt x="898" y="288"/>
                    <a:pt x="893" y="288"/>
                  </a:cubicBezTo>
                  <a:cubicBezTo>
                    <a:pt x="893" y="287"/>
                    <a:pt x="893" y="286"/>
                    <a:pt x="893" y="285"/>
                  </a:cubicBezTo>
                  <a:close/>
                  <a:moveTo>
                    <a:pt x="893" y="342"/>
                  </a:moveTo>
                  <a:cubicBezTo>
                    <a:pt x="898" y="342"/>
                    <a:pt x="904" y="342"/>
                    <a:pt x="909" y="342"/>
                  </a:cubicBezTo>
                  <a:cubicBezTo>
                    <a:pt x="909" y="343"/>
                    <a:pt x="909" y="344"/>
                    <a:pt x="909" y="345"/>
                  </a:cubicBezTo>
                  <a:cubicBezTo>
                    <a:pt x="904" y="345"/>
                    <a:pt x="898" y="345"/>
                    <a:pt x="893" y="345"/>
                  </a:cubicBezTo>
                  <a:cubicBezTo>
                    <a:pt x="893" y="344"/>
                    <a:pt x="893" y="343"/>
                    <a:pt x="893" y="342"/>
                  </a:cubicBezTo>
                  <a:close/>
                  <a:moveTo>
                    <a:pt x="893" y="399"/>
                  </a:moveTo>
                  <a:cubicBezTo>
                    <a:pt x="898" y="399"/>
                    <a:pt x="904" y="399"/>
                    <a:pt x="909" y="399"/>
                  </a:cubicBezTo>
                  <a:cubicBezTo>
                    <a:pt x="909" y="400"/>
                    <a:pt x="909" y="401"/>
                    <a:pt x="909" y="402"/>
                  </a:cubicBezTo>
                  <a:cubicBezTo>
                    <a:pt x="904" y="402"/>
                    <a:pt x="898" y="402"/>
                    <a:pt x="893" y="402"/>
                  </a:cubicBezTo>
                  <a:cubicBezTo>
                    <a:pt x="893" y="401"/>
                    <a:pt x="893" y="400"/>
                    <a:pt x="893" y="399"/>
                  </a:cubicBezTo>
                  <a:close/>
                  <a:moveTo>
                    <a:pt x="893" y="459"/>
                  </a:moveTo>
                  <a:cubicBezTo>
                    <a:pt x="893" y="458"/>
                    <a:pt x="893" y="457"/>
                    <a:pt x="893" y="456"/>
                  </a:cubicBezTo>
                  <a:cubicBezTo>
                    <a:pt x="898" y="456"/>
                    <a:pt x="904" y="456"/>
                    <a:pt x="909" y="456"/>
                  </a:cubicBezTo>
                  <a:cubicBezTo>
                    <a:pt x="909" y="457"/>
                    <a:pt x="909" y="458"/>
                    <a:pt x="909" y="459"/>
                  </a:cubicBezTo>
                  <a:cubicBezTo>
                    <a:pt x="904" y="459"/>
                    <a:pt x="898" y="459"/>
                    <a:pt x="893" y="459"/>
                  </a:cubicBezTo>
                  <a:close/>
                  <a:moveTo>
                    <a:pt x="893" y="513"/>
                  </a:moveTo>
                  <a:cubicBezTo>
                    <a:pt x="898" y="513"/>
                    <a:pt x="904" y="513"/>
                    <a:pt x="909" y="513"/>
                  </a:cubicBezTo>
                  <a:cubicBezTo>
                    <a:pt x="909" y="514"/>
                    <a:pt x="909" y="515"/>
                    <a:pt x="909" y="516"/>
                  </a:cubicBezTo>
                  <a:cubicBezTo>
                    <a:pt x="904" y="516"/>
                    <a:pt x="898" y="516"/>
                    <a:pt x="893" y="516"/>
                  </a:cubicBezTo>
                  <a:cubicBezTo>
                    <a:pt x="893" y="515"/>
                    <a:pt x="893" y="514"/>
                    <a:pt x="893" y="513"/>
                  </a:cubicBezTo>
                  <a:close/>
                  <a:moveTo>
                    <a:pt x="893" y="570"/>
                  </a:moveTo>
                  <a:cubicBezTo>
                    <a:pt x="898" y="570"/>
                    <a:pt x="904" y="570"/>
                    <a:pt x="909" y="570"/>
                  </a:cubicBezTo>
                  <a:cubicBezTo>
                    <a:pt x="909" y="571"/>
                    <a:pt x="909" y="572"/>
                    <a:pt x="909" y="573"/>
                  </a:cubicBezTo>
                  <a:cubicBezTo>
                    <a:pt x="904" y="573"/>
                    <a:pt x="898" y="573"/>
                    <a:pt x="893" y="573"/>
                  </a:cubicBezTo>
                  <a:cubicBezTo>
                    <a:pt x="893" y="572"/>
                    <a:pt x="893" y="571"/>
                    <a:pt x="893" y="570"/>
                  </a:cubicBezTo>
                  <a:close/>
                  <a:moveTo>
                    <a:pt x="916" y="0"/>
                  </a:moveTo>
                  <a:cubicBezTo>
                    <a:pt x="921" y="0"/>
                    <a:pt x="927" y="0"/>
                    <a:pt x="932" y="0"/>
                  </a:cubicBezTo>
                  <a:cubicBezTo>
                    <a:pt x="932" y="1"/>
                    <a:pt x="932" y="2"/>
                    <a:pt x="932" y="4"/>
                  </a:cubicBezTo>
                  <a:cubicBezTo>
                    <a:pt x="927" y="4"/>
                    <a:pt x="921" y="4"/>
                    <a:pt x="916" y="4"/>
                  </a:cubicBezTo>
                  <a:cubicBezTo>
                    <a:pt x="916" y="2"/>
                    <a:pt x="916" y="1"/>
                    <a:pt x="916" y="0"/>
                  </a:cubicBezTo>
                  <a:close/>
                  <a:moveTo>
                    <a:pt x="916" y="57"/>
                  </a:moveTo>
                  <a:cubicBezTo>
                    <a:pt x="921" y="57"/>
                    <a:pt x="927" y="57"/>
                    <a:pt x="932" y="57"/>
                  </a:cubicBezTo>
                  <a:cubicBezTo>
                    <a:pt x="932" y="58"/>
                    <a:pt x="932" y="59"/>
                    <a:pt x="932" y="60"/>
                  </a:cubicBezTo>
                  <a:cubicBezTo>
                    <a:pt x="927" y="60"/>
                    <a:pt x="921" y="60"/>
                    <a:pt x="916" y="60"/>
                  </a:cubicBezTo>
                  <a:cubicBezTo>
                    <a:pt x="916" y="59"/>
                    <a:pt x="916" y="58"/>
                    <a:pt x="916" y="57"/>
                  </a:cubicBezTo>
                  <a:close/>
                  <a:moveTo>
                    <a:pt x="916" y="114"/>
                  </a:moveTo>
                  <a:cubicBezTo>
                    <a:pt x="921" y="114"/>
                    <a:pt x="927" y="114"/>
                    <a:pt x="932" y="114"/>
                  </a:cubicBezTo>
                  <a:cubicBezTo>
                    <a:pt x="932" y="115"/>
                    <a:pt x="932" y="116"/>
                    <a:pt x="932" y="117"/>
                  </a:cubicBezTo>
                  <a:cubicBezTo>
                    <a:pt x="927" y="117"/>
                    <a:pt x="921" y="117"/>
                    <a:pt x="916" y="117"/>
                  </a:cubicBezTo>
                  <a:cubicBezTo>
                    <a:pt x="916" y="116"/>
                    <a:pt x="916" y="115"/>
                    <a:pt x="916" y="114"/>
                  </a:cubicBezTo>
                  <a:close/>
                  <a:moveTo>
                    <a:pt x="916" y="171"/>
                  </a:moveTo>
                  <a:cubicBezTo>
                    <a:pt x="921" y="171"/>
                    <a:pt x="927" y="171"/>
                    <a:pt x="932" y="171"/>
                  </a:cubicBezTo>
                  <a:cubicBezTo>
                    <a:pt x="932" y="172"/>
                    <a:pt x="932" y="173"/>
                    <a:pt x="932" y="174"/>
                  </a:cubicBezTo>
                  <a:cubicBezTo>
                    <a:pt x="927" y="174"/>
                    <a:pt x="921" y="174"/>
                    <a:pt x="916" y="174"/>
                  </a:cubicBezTo>
                  <a:cubicBezTo>
                    <a:pt x="916" y="173"/>
                    <a:pt x="916" y="172"/>
                    <a:pt x="916" y="171"/>
                  </a:cubicBezTo>
                  <a:close/>
                  <a:moveTo>
                    <a:pt x="916" y="228"/>
                  </a:moveTo>
                  <a:cubicBezTo>
                    <a:pt x="921" y="228"/>
                    <a:pt x="927" y="228"/>
                    <a:pt x="932" y="228"/>
                  </a:cubicBezTo>
                  <a:cubicBezTo>
                    <a:pt x="932" y="229"/>
                    <a:pt x="932" y="230"/>
                    <a:pt x="932" y="231"/>
                  </a:cubicBezTo>
                  <a:cubicBezTo>
                    <a:pt x="927" y="231"/>
                    <a:pt x="921" y="231"/>
                    <a:pt x="916" y="231"/>
                  </a:cubicBezTo>
                  <a:cubicBezTo>
                    <a:pt x="916" y="230"/>
                    <a:pt x="916" y="229"/>
                    <a:pt x="916" y="228"/>
                  </a:cubicBezTo>
                  <a:close/>
                  <a:moveTo>
                    <a:pt x="916" y="285"/>
                  </a:moveTo>
                  <a:cubicBezTo>
                    <a:pt x="921" y="285"/>
                    <a:pt x="927" y="285"/>
                    <a:pt x="932" y="285"/>
                  </a:cubicBezTo>
                  <a:cubicBezTo>
                    <a:pt x="932" y="286"/>
                    <a:pt x="932" y="287"/>
                    <a:pt x="932" y="288"/>
                  </a:cubicBezTo>
                  <a:cubicBezTo>
                    <a:pt x="927" y="288"/>
                    <a:pt x="921" y="288"/>
                    <a:pt x="916" y="288"/>
                  </a:cubicBezTo>
                  <a:cubicBezTo>
                    <a:pt x="916" y="287"/>
                    <a:pt x="916" y="286"/>
                    <a:pt x="916" y="285"/>
                  </a:cubicBezTo>
                  <a:close/>
                  <a:moveTo>
                    <a:pt x="916" y="342"/>
                  </a:moveTo>
                  <a:cubicBezTo>
                    <a:pt x="921" y="342"/>
                    <a:pt x="927" y="342"/>
                    <a:pt x="932" y="342"/>
                  </a:cubicBezTo>
                  <a:cubicBezTo>
                    <a:pt x="932" y="343"/>
                    <a:pt x="932" y="344"/>
                    <a:pt x="932" y="345"/>
                  </a:cubicBezTo>
                  <a:cubicBezTo>
                    <a:pt x="927" y="345"/>
                    <a:pt x="921" y="345"/>
                    <a:pt x="916" y="345"/>
                  </a:cubicBezTo>
                  <a:cubicBezTo>
                    <a:pt x="916" y="344"/>
                    <a:pt x="916" y="343"/>
                    <a:pt x="916" y="342"/>
                  </a:cubicBezTo>
                  <a:close/>
                  <a:moveTo>
                    <a:pt x="916" y="399"/>
                  </a:moveTo>
                  <a:cubicBezTo>
                    <a:pt x="921" y="399"/>
                    <a:pt x="927" y="399"/>
                    <a:pt x="932" y="399"/>
                  </a:cubicBezTo>
                  <a:cubicBezTo>
                    <a:pt x="932" y="400"/>
                    <a:pt x="932" y="401"/>
                    <a:pt x="932" y="402"/>
                  </a:cubicBezTo>
                  <a:cubicBezTo>
                    <a:pt x="927" y="402"/>
                    <a:pt x="921" y="402"/>
                    <a:pt x="916" y="402"/>
                  </a:cubicBezTo>
                  <a:cubicBezTo>
                    <a:pt x="916" y="401"/>
                    <a:pt x="916" y="400"/>
                    <a:pt x="916" y="399"/>
                  </a:cubicBezTo>
                  <a:close/>
                  <a:moveTo>
                    <a:pt x="916" y="459"/>
                  </a:moveTo>
                  <a:cubicBezTo>
                    <a:pt x="916" y="458"/>
                    <a:pt x="916" y="457"/>
                    <a:pt x="916" y="456"/>
                  </a:cubicBezTo>
                  <a:cubicBezTo>
                    <a:pt x="921" y="456"/>
                    <a:pt x="927" y="456"/>
                    <a:pt x="932" y="456"/>
                  </a:cubicBezTo>
                  <a:cubicBezTo>
                    <a:pt x="932" y="457"/>
                    <a:pt x="932" y="458"/>
                    <a:pt x="932" y="459"/>
                  </a:cubicBezTo>
                  <a:cubicBezTo>
                    <a:pt x="927" y="459"/>
                    <a:pt x="921" y="459"/>
                    <a:pt x="916" y="459"/>
                  </a:cubicBezTo>
                  <a:close/>
                  <a:moveTo>
                    <a:pt x="916" y="513"/>
                  </a:moveTo>
                  <a:cubicBezTo>
                    <a:pt x="921" y="513"/>
                    <a:pt x="927" y="513"/>
                    <a:pt x="932" y="513"/>
                  </a:cubicBezTo>
                  <a:cubicBezTo>
                    <a:pt x="932" y="514"/>
                    <a:pt x="932" y="515"/>
                    <a:pt x="932" y="516"/>
                  </a:cubicBezTo>
                  <a:cubicBezTo>
                    <a:pt x="927" y="516"/>
                    <a:pt x="921" y="516"/>
                    <a:pt x="916" y="516"/>
                  </a:cubicBezTo>
                  <a:cubicBezTo>
                    <a:pt x="916" y="515"/>
                    <a:pt x="916" y="514"/>
                    <a:pt x="916" y="513"/>
                  </a:cubicBezTo>
                  <a:close/>
                  <a:moveTo>
                    <a:pt x="916" y="570"/>
                  </a:moveTo>
                  <a:cubicBezTo>
                    <a:pt x="921" y="570"/>
                    <a:pt x="927" y="570"/>
                    <a:pt x="932" y="570"/>
                  </a:cubicBezTo>
                  <a:cubicBezTo>
                    <a:pt x="932" y="571"/>
                    <a:pt x="932" y="572"/>
                    <a:pt x="932" y="573"/>
                  </a:cubicBezTo>
                  <a:cubicBezTo>
                    <a:pt x="927" y="573"/>
                    <a:pt x="921" y="573"/>
                    <a:pt x="916" y="573"/>
                  </a:cubicBezTo>
                  <a:cubicBezTo>
                    <a:pt x="916" y="572"/>
                    <a:pt x="916" y="571"/>
                    <a:pt x="916" y="570"/>
                  </a:cubicBezTo>
                  <a:close/>
                  <a:moveTo>
                    <a:pt x="939" y="0"/>
                  </a:moveTo>
                  <a:cubicBezTo>
                    <a:pt x="944" y="0"/>
                    <a:pt x="949" y="0"/>
                    <a:pt x="955" y="0"/>
                  </a:cubicBezTo>
                  <a:cubicBezTo>
                    <a:pt x="955" y="1"/>
                    <a:pt x="955" y="2"/>
                    <a:pt x="955" y="4"/>
                  </a:cubicBezTo>
                  <a:cubicBezTo>
                    <a:pt x="949" y="4"/>
                    <a:pt x="944" y="4"/>
                    <a:pt x="939" y="4"/>
                  </a:cubicBezTo>
                  <a:cubicBezTo>
                    <a:pt x="939" y="2"/>
                    <a:pt x="939" y="1"/>
                    <a:pt x="939" y="0"/>
                  </a:cubicBezTo>
                  <a:close/>
                  <a:moveTo>
                    <a:pt x="939" y="57"/>
                  </a:moveTo>
                  <a:cubicBezTo>
                    <a:pt x="944" y="57"/>
                    <a:pt x="949" y="57"/>
                    <a:pt x="955" y="57"/>
                  </a:cubicBezTo>
                  <a:cubicBezTo>
                    <a:pt x="955" y="58"/>
                    <a:pt x="955" y="59"/>
                    <a:pt x="955" y="60"/>
                  </a:cubicBezTo>
                  <a:cubicBezTo>
                    <a:pt x="949" y="60"/>
                    <a:pt x="944" y="60"/>
                    <a:pt x="939" y="60"/>
                  </a:cubicBezTo>
                  <a:cubicBezTo>
                    <a:pt x="939" y="59"/>
                    <a:pt x="939" y="58"/>
                    <a:pt x="939" y="57"/>
                  </a:cubicBezTo>
                  <a:close/>
                  <a:moveTo>
                    <a:pt x="939" y="114"/>
                  </a:moveTo>
                  <a:cubicBezTo>
                    <a:pt x="944" y="114"/>
                    <a:pt x="949" y="114"/>
                    <a:pt x="955" y="114"/>
                  </a:cubicBezTo>
                  <a:cubicBezTo>
                    <a:pt x="955" y="115"/>
                    <a:pt x="955" y="116"/>
                    <a:pt x="955" y="117"/>
                  </a:cubicBezTo>
                  <a:cubicBezTo>
                    <a:pt x="949" y="117"/>
                    <a:pt x="944" y="117"/>
                    <a:pt x="939" y="117"/>
                  </a:cubicBezTo>
                  <a:cubicBezTo>
                    <a:pt x="939" y="116"/>
                    <a:pt x="939" y="115"/>
                    <a:pt x="939" y="114"/>
                  </a:cubicBezTo>
                  <a:close/>
                  <a:moveTo>
                    <a:pt x="939" y="171"/>
                  </a:moveTo>
                  <a:cubicBezTo>
                    <a:pt x="944" y="171"/>
                    <a:pt x="949" y="171"/>
                    <a:pt x="955" y="171"/>
                  </a:cubicBezTo>
                  <a:cubicBezTo>
                    <a:pt x="955" y="172"/>
                    <a:pt x="955" y="173"/>
                    <a:pt x="955" y="174"/>
                  </a:cubicBezTo>
                  <a:cubicBezTo>
                    <a:pt x="949" y="174"/>
                    <a:pt x="944" y="174"/>
                    <a:pt x="939" y="174"/>
                  </a:cubicBezTo>
                  <a:cubicBezTo>
                    <a:pt x="939" y="173"/>
                    <a:pt x="939" y="172"/>
                    <a:pt x="939" y="171"/>
                  </a:cubicBezTo>
                  <a:close/>
                  <a:moveTo>
                    <a:pt x="939" y="228"/>
                  </a:moveTo>
                  <a:cubicBezTo>
                    <a:pt x="944" y="228"/>
                    <a:pt x="949" y="228"/>
                    <a:pt x="955" y="228"/>
                  </a:cubicBezTo>
                  <a:cubicBezTo>
                    <a:pt x="955" y="229"/>
                    <a:pt x="955" y="230"/>
                    <a:pt x="955" y="231"/>
                  </a:cubicBezTo>
                  <a:cubicBezTo>
                    <a:pt x="949" y="231"/>
                    <a:pt x="944" y="231"/>
                    <a:pt x="939" y="231"/>
                  </a:cubicBezTo>
                  <a:cubicBezTo>
                    <a:pt x="939" y="230"/>
                    <a:pt x="939" y="229"/>
                    <a:pt x="939" y="228"/>
                  </a:cubicBezTo>
                  <a:close/>
                  <a:moveTo>
                    <a:pt x="939" y="285"/>
                  </a:moveTo>
                  <a:cubicBezTo>
                    <a:pt x="944" y="285"/>
                    <a:pt x="949" y="285"/>
                    <a:pt x="955" y="285"/>
                  </a:cubicBezTo>
                  <a:cubicBezTo>
                    <a:pt x="955" y="286"/>
                    <a:pt x="955" y="287"/>
                    <a:pt x="955" y="288"/>
                  </a:cubicBezTo>
                  <a:cubicBezTo>
                    <a:pt x="949" y="288"/>
                    <a:pt x="944" y="288"/>
                    <a:pt x="939" y="288"/>
                  </a:cubicBezTo>
                  <a:cubicBezTo>
                    <a:pt x="939" y="287"/>
                    <a:pt x="939" y="286"/>
                    <a:pt x="939" y="285"/>
                  </a:cubicBezTo>
                  <a:close/>
                  <a:moveTo>
                    <a:pt x="939" y="342"/>
                  </a:moveTo>
                  <a:cubicBezTo>
                    <a:pt x="944" y="342"/>
                    <a:pt x="949" y="342"/>
                    <a:pt x="955" y="342"/>
                  </a:cubicBezTo>
                  <a:cubicBezTo>
                    <a:pt x="955" y="343"/>
                    <a:pt x="955" y="344"/>
                    <a:pt x="955" y="345"/>
                  </a:cubicBezTo>
                  <a:cubicBezTo>
                    <a:pt x="949" y="345"/>
                    <a:pt x="944" y="345"/>
                    <a:pt x="939" y="345"/>
                  </a:cubicBezTo>
                  <a:cubicBezTo>
                    <a:pt x="939" y="344"/>
                    <a:pt x="939" y="343"/>
                    <a:pt x="939" y="342"/>
                  </a:cubicBezTo>
                  <a:close/>
                  <a:moveTo>
                    <a:pt x="939" y="399"/>
                  </a:moveTo>
                  <a:cubicBezTo>
                    <a:pt x="944" y="399"/>
                    <a:pt x="949" y="399"/>
                    <a:pt x="955" y="399"/>
                  </a:cubicBezTo>
                  <a:cubicBezTo>
                    <a:pt x="955" y="400"/>
                    <a:pt x="955" y="401"/>
                    <a:pt x="955" y="402"/>
                  </a:cubicBezTo>
                  <a:cubicBezTo>
                    <a:pt x="949" y="402"/>
                    <a:pt x="944" y="402"/>
                    <a:pt x="939" y="402"/>
                  </a:cubicBezTo>
                  <a:cubicBezTo>
                    <a:pt x="939" y="401"/>
                    <a:pt x="939" y="400"/>
                    <a:pt x="939" y="399"/>
                  </a:cubicBezTo>
                  <a:close/>
                  <a:moveTo>
                    <a:pt x="939" y="459"/>
                  </a:moveTo>
                  <a:cubicBezTo>
                    <a:pt x="939" y="458"/>
                    <a:pt x="939" y="457"/>
                    <a:pt x="939" y="456"/>
                  </a:cubicBezTo>
                  <a:cubicBezTo>
                    <a:pt x="944" y="456"/>
                    <a:pt x="949" y="456"/>
                    <a:pt x="955" y="456"/>
                  </a:cubicBezTo>
                  <a:cubicBezTo>
                    <a:pt x="955" y="457"/>
                    <a:pt x="955" y="458"/>
                    <a:pt x="955" y="459"/>
                  </a:cubicBezTo>
                  <a:cubicBezTo>
                    <a:pt x="949" y="459"/>
                    <a:pt x="944" y="459"/>
                    <a:pt x="939" y="459"/>
                  </a:cubicBezTo>
                  <a:close/>
                  <a:moveTo>
                    <a:pt x="939" y="513"/>
                  </a:moveTo>
                  <a:cubicBezTo>
                    <a:pt x="944" y="513"/>
                    <a:pt x="949" y="513"/>
                    <a:pt x="955" y="513"/>
                  </a:cubicBezTo>
                  <a:cubicBezTo>
                    <a:pt x="955" y="514"/>
                    <a:pt x="955" y="515"/>
                    <a:pt x="955" y="516"/>
                  </a:cubicBezTo>
                  <a:cubicBezTo>
                    <a:pt x="949" y="516"/>
                    <a:pt x="944" y="516"/>
                    <a:pt x="939" y="516"/>
                  </a:cubicBezTo>
                  <a:cubicBezTo>
                    <a:pt x="939" y="515"/>
                    <a:pt x="939" y="514"/>
                    <a:pt x="939" y="513"/>
                  </a:cubicBezTo>
                  <a:close/>
                  <a:moveTo>
                    <a:pt x="939" y="570"/>
                  </a:moveTo>
                  <a:cubicBezTo>
                    <a:pt x="944" y="570"/>
                    <a:pt x="949" y="570"/>
                    <a:pt x="955" y="570"/>
                  </a:cubicBezTo>
                  <a:cubicBezTo>
                    <a:pt x="955" y="571"/>
                    <a:pt x="955" y="572"/>
                    <a:pt x="955" y="573"/>
                  </a:cubicBezTo>
                  <a:cubicBezTo>
                    <a:pt x="949" y="573"/>
                    <a:pt x="944" y="573"/>
                    <a:pt x="939" y="573"/>
                  </a:cubicBezTo>
                  <a:cubicBezTo>
                    <a:pt x="939" y="572"/>
                    <a:pt x="939" y="571"/>
                    <a:pt x="939" y="570"/>
                  </a:cubicBezTo>
                  <a:close/>
                  <a:moveTo>
                    <a:pt x="962" y="0"/>
                  </a:moveTo>
                  <a:cubicBezTo>
                    <a:pt x="967" y="0"/>
                    <a:pt x="972" y="0"/>
                    <a:pt x="978" y="0"/>
                  </a:cubicBezTo>
                  <a:cubicBezTo>
                    <a:pt x="978" y="1"/>
                    <a:pt x="978" y="2"/>
                    <a:pt x="978" y="4"/>
                  </a:cubicBezTo>
                  <a:cubicBezTo>
                    <a:pt x="972" y="4"/>
                    <a:pt x="967" y="4"/>
                    <a:pt x="962" y="4"/>
                  </a:cubicBezTo>
                  <a:cubicBezTo>
                    <a:pt x="962" y="2"/>
                    <a:pt x="962" y="1"/>
                    <a:pt x="962" y="0"/>
                  </a:cubicBezTo>
                  <a:close/>
                  <a:moveTo>
                    <a:pt x="962" y="57"/>
                  </a:moveTo>
                  <a:cubicBezTo>
                    <a:pt x="967" y="57"/>
                    <a:pt x="972" y="57"/>
                    <a:pt x="978" y="57"/>
                  </a:cubicBezTo>
                  <a:cubicBezTo>
                    <a:pt x="978" y="58"/>
                    <a:pt x="978" y="59"/>
                    <a:pt x="978" y="60"/>
                  </a:cubicBezTo>
                  <a:cubicBezTo>
                    <a:pt x="972" y="60"/>
                    <a:pt x="967" y="60"/>
                    <a:pt x="962" y="60"/>
                  </a:cubicBezTo>
                  <a:cubicBezTo>
                    <a:pt x="962" y="59"/>
                    <a:pt x="962" y="58"/>
                    <a:pt x="962" y="57"/>
                  </a:cubicBezTo>
                  <a:close/>
                  <a:moveTo>
                    <a:pt x="962" y="114"/>
                  </a:moveTo>
                  <a:cubicBezTo>
                    <a:pt x="967" y="114"/>
                    <a:pt x="972" y="114"/>
                    <a:pt x="978" y="114"/>
                  </a:cubicBezTo>
                  <a:cubicBezTo>
                    <a:pt x="978" y="115"/>
                    <a:pt x="978" y="116"/>
                    <a:pt x="978" y="117"/>
                  </a:cubicBezTo>
                  <a:cubicBezTo>
                    <a:pt x="972" y="117"/>
                    <a:pt x="967" y="117"/>
                    <a:pt x="962" y="117"/>
                  </a:cubicBezTo>
                  <a:cubicBezTo>
                    <a:pt x="962" y="116"/>
                    <a:pt x="962" y="115"/>
                    <a:pt x="962" y="114"/>
                  </a:cubicBezTo>
                  <a:close/>
                  <a:moveTo>
                    <a:pt x="962" y="171"/>
                  </a:moveTo>
                  <a:cubicBezTo>
                    <a:pt x="967" y="171"/>
                    <a:pt x="972" y="171"/>
                    <a:pt x="978" y="171"/>
                  </a:cubicBezTo>
                  <a:cubicBezTo>
                    <a:pt x="978" y="172"/>
                    <a:pt x="978" y="173"/>
                    <a:pt x="978" y="174"/>
                  </a:cubicBezTo>
                  <a:cubicBezTo>
                    <a:pt x="972" y="174"/>
                    <a:pt x="967" y="174"/>
                    <a:pt x="962" y="174"/>
                  </a:cubicBezTo>
                  <a:cubicBezTo>
                    <a:pt x="962" y="173"/>
                    <a:pt x="962" y="172"/>
                    <a:pt x="962" y="171"/>
                  </a:cubicBezTo>
                  <a:close/>
                  <a:moveTo>
                    <a:pt x="962" y="228"/>
                  </a:moveTo>
                  <a:cubicBezTo>
                    <a:pt x="967" y="228"/>
                    <a:pt x="972" y="228"/>
                    <a:pt x="978" y="228"/>
                  </a:cubicBezTo>
                  <a:cubicBezTo>
                    <a:pt x="978" y="229"/>
                    <a:pt x="978" y="230"/>
                    <a:pt x="978" y="231"/>
                  </a:cubicBezTo>
                  <a:cubicBezTo>
                    <a:pt x="972" y="231"/>
                    <a:pt x="967" y="231"/>
                    <a:pt x="962" y="231"/>
                  </a:cubicBezTo>
                  <a:cubicBezTo>
                    <a:pt x="962" y="230"/>
                    <a:pt x="962" y="229"/>
                    <a:pt x="962" y="228"/>
                  </a:cubicBezTo>
                  <a:close/>
                  <a:moveTo>
                    <a:pt x="962" y="285"/>
                  </a:moveTo>
                  <a:cubicBezTo>
                    <a:pt x="967" y="285"/>
                    <a:pt x="972" y="285"/>
                    <a:pt x="978" y="285"/>
                  </a:cubicBezTo>
                  <a:cubicBezTo>
                    <a:pt x="978" y="286"/>
                    <a:pt x="978" y="287"/>
                    <a:pt x="978" y="288"/>
                  </a:cubicBezTo>
                  <a:cubicBezTo>
                    <a:pt x="972" y="288"/>
                    <a:pt x="967" y="288"/>
                    <a:pt x="962" y="288"/>
                  </a:cubicBezTo>
                  <a:cubicBezTo>
                    <a:pt x="962" y="287"/>
                    <a:pt x="962" y="286"/>
                    <a:pt x="962" y="285"/>
                  </a:cubicBezTo>
                  <a:close/>
                  <a:moveTo>
                    <a:pt x="962" y="342"/>
                  </a:moveTo>
                  <a:cubicBezTo>
                    <a:pt x="967" y="342"/>
                    <a:pt x="972" y="342"/>
                    <a:pt x="978" y="342"/>
                  </a:cubicBezTo>
                  <a:cubicBezTo>
                    <a:pt x="978" y="343"/>
                    <a:pt x="978" y="344"/>
                    <a:pt x="978" y="345"/>
                  </a:cubicBezTo>
                  <a:cubicBezTo>
                    <a:pt x="972" y="345"/>
                    <a:pt x="967" y="345"/>
                    <a:pt x="962" y="345"/>
                  </a:cubicBezTo>
                  <a:cubicBezTo>
                    <a:pt x="962" y="344"/>
                    <a:pt x="962" y="343"/>
                    <a:pt x="962" y="342"/>
                  </a:cubicBezTo>
                  <a:close/>
                  <a:moveTo>
                    <a:pt x="962" y="399"/>
                  </a:moveTo>
                  <a:cubicBezTo>
                    <a:pt x="967" y="399"/>
                    <a:pt x="972" y="399"/>
                    <a:pt x="978" y="399"/>
                  </a:cubicBezTo>
                  <a:cubicBezTo>
                    <a:pt x="978" y="400"/>
                    <a:pt x="978" y="401"/>
                    <a:pt x="978" y="402"/>
                  </a:cubicBezTo>
                  <a:cubicBezTo>
                    <a:pt x="972" y="402"/>
                    <a:pt x="967" y="402"/>
                    <a:pt x="962" y="402"/>
                  </a:cubicBezTo>
                  <a:cubicBezTo>
                    <a:pt x="962" y="401"/>
                    <a:pt x="962" y="400"/>
                    <a:pt x="962" y="399"/>
                  </a:cubicBezTo>
                  <a:close/>
                  <a:moveTo>
                    <a:pt x="962" y="459"/>
                  </a:moveTo>
                  <a:cubicBezTo>
                    <a:pt x="962" y="458"/>
                    <a:pt x="962" y="457"/>
                    <a:pt x="962" y="456"/>
                  </a:cubicBezTo>
                  <a:cubicBezTo>
                    <a:pt x="967" y="456"/>
                    <a:pt x="972" y="456"/>
                    <a:pt x="978" y="456"/>
                  </a:cubicBezTo>
                  <a:cubicBezTo>
                    <a:pt x="978" y="457"/>
                    <a:pt x="978" y="458"/>
                    <a:pt x="978" y="459"/>
                  </a:cubicBezTo>
                  <a:cubicBezTo>
                    <a:pt x="972" y="459"/>
                    <a:pt x="967" y="459"/>
                    <a:pt x="962" y="459"/>
                  </a:cubicBezTo>
                  <a:close/>
                  <a:moveTo>
                    <a:pt x="962" y="513"/>
                  </a:moveTo>
                  <a:cubicBezTo>
                    <a:pt x="967" y="513"/>
                    <a:pt x="972" y="513"/>
                    <a:pt x="978" y="513"/>
                  </a:cubicBezTo>
                  <a:cubicBezTo>
                    <a:pt x="978" y="514"/>
                    <a:pt x="978" y="515"/>
                    <a:pt x="978" y="516"/>
                  </a:cubicBezTo>
                  <a:cubicBezTo>
                    <a:pt x="972" y="516"/>
                    <a:pt x="967" y="516"/>
                    <a:pt x="962" y="516"/>
                  </a:cubicBezTo>
                  <a:cubicBezTo>
                    <a:pt x="962" y="515"/>
                    <a:pt x="962" y="514"/>
                    <a:pt x="962" y="513"/>
                  </a:cubicBezTo>
                  <a:close/>
                  <a:moveTo>
                    <a:pt x="962" y="570"/>
                  </a:moveTo>
                  <a:cubicBezTo>
                    <a:pt x="967" y="570"/>
                    <a:pt x="972" y="570"/>
                    <a:pt x="978" y="570"/>
                  </a:cubicBezTo>
                  <a:cubicBezTo>
                    <a:pt x="978" y="571"/>
                    <a:pt x="978" y="572"/>
                    <a:pt x="978" y="573"/>
                  </a:cubicBezTo>
                  <a:cubicBezTo>
                    <a:pt x="972" y="573"/>
                    <a:pt x="967" y="573"/>
                    <a:pt x="962" y="573"/>
                  </a:cubicBezTo>
                  <a:cubicBezTo>
                    <a:pt x="962" y="572"/>
                    <a:pt x="962" y="571"/>
                    <a:pt x="962" y="570"/>
                  </a:cubicBezTo>
                  <a:close/>
                  <a:moveTo>
                    <a:pt x="984" y="0"/>
                  </a:moveTo>
                  <a:cubicBezTo>
                    <a:pt x="990" y="0"/>
                    <a:pt x="995" y="0"/>
                    <a:pt x="1001" y="0"/>
                  </a:cubicBezTo>
                  <a:cubicBezTo>
                    <a:pt x="1001" y="1"/>
                    <a:pt x="1001" y="2"/>
                    <a:pt x="1001" y="4"/>
                  </a:cubicBezTo>
                  <a:cubicBezTo>
                    <a:pt x="995" y="4"/>
                    <a:pt x="990" y="4"/>
                    <a:pt x="984" y="4"/>
                  </a:cubicBezTo>
                  <a:cubicBezTo>
                    <a:pt x="984" y="2"/>
                    <a:pt x="984" y="1"/>
                    <a:pt x="984" y="0"/>
                  </a:cubicBezTo>
                  <a:close/>
                  <a:moveTo>
                    <a:pt x="984" y="57"/>
                  </a:moveTo>
                  <a:cubicBezTo>
                    <a:pt x="990" y="57"/>
                    <a:pt x="995" y="57"/>
                    <a:pt x="1001" y="57"/>
                  </a:cubicBezTo>
                  <a:cubicBezTo>
                    <a:pt x="1001" y="58"/>
                    <a:pt x="1001" y="59"/>
                    <a:pt x="1001" y="60"/>
                  </a:cubicBezTo>
                  <a:cubicBezTo>
                    <a:pt x="995" y="60"/>
                    <a:pt x="990" y="60"/>
                    <a:pt x="984" y="60"/>
                  </a:cubicBezTo>
                  <a:cubicBezTo>
                    <a:pt x="984" y="59"/>
                    <a:pt x="984" y="58"/>
                    <a:pt x="984" y="57"/>
                  </a:cubicBezTo>
                  <a:close/>
                  <a:moveTo>
                    <a:pt x="984" y="114"/>
                  </a:moveTo>
                  <a:cubicBezTo>
                    <a:pt x="990" y="114"/>
                    <a:pt x="995" y="114"/>
                    <a:pt x="1001" y="114"/>
                  </a:cubicBezTo>
                  <a:cubicBezTo>
                    <a:pt x="1001" y="115"/>
                    <a:pt x="1001" y="116"/>
                    <a:pt x="1001" y="117"/>
                  </a:cubicBezTo>
                  <a:cubicBezTo>
                    <a:pt x="995" y="117"/>
                    <a:pt x="990" y="117"/>
                    <a:pt x="984" y="117"/>
                  </a:cubicBezTo>
                  <a:cubicBezTo>
                    <a:pt x="984" y="116"/>
                    <a:pt x="984" y="115"/>
                    <a:pt x="984" y="114"/>
                  </a:cubicBezTo>
                  <a:close/>
                  <a:moveTo>
                    <a:pt x="984" y="171"/>
                  </a:moveTo>
                  <a:cubicBezTo>
                    <a:pt x="990" y="171"/>
                    <a:pt x="995" y="171"/>
                    <a:pt x="1001" y="171"/>
                  </a:cubicBezTo>
                  <a:cubicBezTo>
                    <a:pt x="1001" y="172"/>
                    <a:pt x="1001" y="173"/>
                    <a:pt x="1001" y="174"/>
                  </a:cubicBezTo>
                  <a:cubicBezTo>
                    <a:pt x="995" y="174"/>
                    <a:pt x="990" y="174"/>
                    <a:pt x="984" y="174"/>
                  </a:cubicBezTo>
                  <a:cubicBezTo>
                    <a:pt x="984" y="173"/>
                    <a:pt x="984" y="172"/>
                    <a:pt x="984" y="171"/>
                  </a:cubicBezTo>
                  <a:close/>
                  <a:moveTo>
                    <a:pt x="984" y="228"/>
                  </a:moveTo>
                  <a:cubicBezTo>
                    <a:pt x="990" y="228"/>
                    <a:pt x="995" y="228"/>
                    <a:pt x="1001" y="228"/>
                  </a:cubicBezTo>
                  <a:cubicBezTo>
                    <a:pt x="1001" y="229"/>
                    <a:pt x="1001" y="230"/>
                    <a:pt x="1001" y="231"/>
                  </a:cubicBezTo>
                  <a:cubicBezTo>
                    <a:pt x="995" y="231"/>
                    <a:pt x="990" y="231"/>
                    <a:pt x="984" y="231"/>
                  </a:cubicBezTo>
                  <a:cubicBezTo>
                    <a:pt x="984" y="230"/>
                    <a:pt x="984" y="229"/>
                    <a:pt x="984" y="228"/>
                  </a:cubicBezTo>
                  <a:close/>
                  <a:moveTo>
                    <a:pt x="984" y="285"/>
                  </a:moveTo>
                  <a:cubicBezTo>
                    <a:pt x="990" y="285"/>
                    <a:pt x="995" y="285"/>
                    <a:pt x="1001" y="285"/>
                  </a:cubicBezTo>
                  <a:cubicBezTo>
                    <a:pt x="1001" y="286"/>
                    <a:pt x="1001" y="287"/>
                    <a:pt x="1001" y="288"/>
                  </a:cubicBezTo>
                  <a:cubicBezTo>
                    <a:pt x="995" y="288"/>
                    <a:pt x="990" y="288"/>
                    <a:pt x="984" y="288"/>
                  </a:cubicBezTo>
                  <a:cubicBezTo>
                    <a:pt x="984" y="287"/>
                    <a:pt x="984" y="286"/>
                    <a:pt x="984" y="285"/>
                  </a:cubicBezTo>
                  <a:close/>
                  <a:moveTo>
                    <a:pt x="984" y="342"/>
                  </a:moveTo>
                  <a:cubicBezTo>
                    <a:pt x="990" y="342"/>
                    <a:pt x="995" y="342"/>
                    <a:pt x="1001" y="342"/>
                  </a:cubicBezTo>
                  <a:cubicBezTo>
                    <a:pt x="1001" y="343"/>
                    <a:pt x="1001" y="344"/>
                    <a:pt x="1001" y="345"/>
                  </a:cubicBezTo>
                  <a:cubicBezTo>
                    <a:pt x="995" y="345"/>
                    <a:pt x="990" y="345"/>
                    <a:pt x="984" y="345"/>
                  </a:cubicBezTo>
                  <a:cubicBezTo>
                    <a:pt x="984" y="344"/>
                    <a:pt x="984" y="343"/>
                    <a:pt x="984" y="342"/>
                  </a:cubicBezTo>
                  <a:close/>
                  <a:moveTo>
                    <a:pt x="984" y="399"/>
                  </a:moveTo>
                  <a:cubicBezTo>
                    <a:pt x="990" y="399"/>
                    <a:pt x="995" y="399"/>
                    <a:pt x="1001" y="399"/>
                  </a:cubicBezTo>
                  <a:cubicBezTo>
                    <a:pt x="1001" y="400"/>
                    <a:pt x="1001" y="401"/>
                    <a:pt x="1001" y="402"/>
                  </a:cubicBezTo>
                  <a:cubicBezTo>
                    <a:pt x="995" y="402"/>
                    <a:pt x="990" y="402"/>
                    <a:pt x="984" y="402"/>
                  </a:cubicBezTo>
                  <a:cubicBezTo>
                    <a:pt x="984" y="401"/>
                    <a:pt x="984" y="400"/>
                    <a:pt x="984" y="399"/>
                  </a:cubicBezTo>
                  <a:close/>
                  <a:moveTo>
                    <a:pt x="984" y="459"/>
                  </a:moveTo>
                  <a:cubicBezTo>
                    <a:pt x="984" y="458"/>
                    <a:pt x="984" y="457"/>
                    <a:pt x="984" y="456"/>
                  </a:cubicBezTo>
                  <a:cubicBezTo>
                    <a:pt x="990" y="456"/>
                    <a:pt x="995" y="456"/>
                    <a:pt x="1001" y="456"/>
                  </a:cubicBezTo>
                  <a:cubicBezTo>
                    <a:pt x="1001" y="457"/>
                    <a:pt x="1001" y="458"/>
                    <a:pt x="1001" y="459"/>
                  </a:cubicBezTo>
                  <a:cubicBezTo>
                    <a:pt x="995" y="459"/>
                    <a:pt x="990" y="459"/>
                    <a:pt x="984" y="459"/>
                  </a:cubicBezTo>
                  <a:close/>
                  <a:moveTo>
                    <a:pt x="984" y="513"/>
                  </a:moveTo>
                  <a:cubicBezTo>
                    <a:pt x="990" y="513"/>
                    <a:pt x="995" y="513"/>
                    <a:pt x="1001" y="513"/>
                  </a:cubicBezTo>
                  <a:cubicBezTo>
                    <a:pt x="1001" y="514"/>
                    <a:pt x="1001" y="515"/>
                    <a:pt x="1001" y="516"/>
                  </a:cubicBezTo>
                  <a:cubicBezTo>
                    <a:pt x="995" y="516"/>
                    <a:pt x="990" y="516"/>
                    <a:pt x="984" y="516"/>
                  </a:cubicBezTo>
                  <a:cubicBezTo>
                    <a:pt x="984" y="515"/>
                    <a:pt x="984" y="514"/>
                    <a:pt x="984" y="513"/>
                  </a:cubicBezTo>
                  <a:close/>
                  <a:moveTo>
                    <a:pt x="984" y="570"/>
                  </a:moveTo>
                  <a:cubicBezTo>
                    <a:pt x="990" y="570"/>
                    <a:pt x="995" y="570"/>
                    <a:pt x="1001" y="570"/>
                  </a:cubicBezTo>
                  <a:cubicBezTo>
                    <a:pt x="1001" y="571"/>
                    <a:pt x="1001" y="572"/>
                    <a:pt x="1001" y="573"/>
                  </a:cubicBezTo>
                  <a:cubicBezTo>
                    <a:pt x="995" y="573"/>
                    <a:pt x="990" y="573"/>
                    <a:pt x="984" y="573"/>
                  </a:cubicBezTo>
                  <a:cubicBezTo>
                    <a:pt x="984" y="572"/>
                    <a:pt x="984" y="571"/>
                    <a:pt x="984" y="570"/>
                  </a:cubicBezTo>
                  <a:close/>
                  <a:moveTo>
                    <a:pt x="1007" y="0"/>
                  </a:moveTo>
                  <a:cubicBezTo>
                    <a:pt x="1013" y="0"/>
                    <a:pt x="1018" y="0"/>
                    <a:pt x="1024" y="0"/>
                  </a:cubicBezTo>
                  <a:cubicBezTo>
                    <a:pt x="1024" y="1"/>
                    <a:pt x="1024" y="2"/>
                    <a:pt x="1024" y="4"/>
                  </a:cubicBezTo>
                  <a:cubicBezTo>
                    <a:pt x="1018" y="4"/>
                    <a:pt x="1013" y="4"/>
                    <a:pt x="1007" y="4"/>
                  </a:cubicBezTo>
                  <a:cubicBezTo>
                    <a:pt x="1007" y="2"/>
                    <a:pt x="1007" y="1"/>
                    <a:pt x="1007" y="0"/>
                  </a:cubicBezTo>
                  <a:close/>
                  <a:moveTo>
                    <a:pt x="1007" y="57"/>
                  </a:moveTo>
                  <a:cubicBezTo>
                    <a:pt x="1013" y="57"/>
                    <a:pt x="1018" y="57"/>
                    <a:pt x="1024" y="57"/>
                  </a:cubicBezTo>
                  <a:cubicBezTo>
                    <a:pt x="1024" y="58"/>
                    <a:pt x="1024" y="59"/>
                    <a:pt x="1024" y="60"/>
                  </a:cubicBezTo>
                  <a:cubicBezTo>
                    <a:pt x="1018" y="60"/>
                    <a:pt x="1013" y="60"/>
                    <a:pt x="1007" y="60"/>
                  </a:cubicBezTo>
                  <a:cubicBezTo>
                    <a:pt x="1007" y="59"/>
                    <a:pt x="1007" y="58"/>
                    <a:pt x="1007" y="57"/>
                  </a:cubicBezTo>
                  <a:close/>
                  <a:moveTo>
                    <a:pt x="1007" y="114"/>
                  </a:moveTo>
                  <a:cubicBezTo>
                    <a:pt x="1013" y="114"/>
                    <a:pt x="1018" y="114"/>
                    <a:pt x="1024" y="114"/>
                  </a:cubicBezTo>
                  <a:cubicBezTo>
                    <a:pt x="1024" y="115"/>
                    <a:pt x="1024" y="116"/>
                    <a:pt x="1024" y="117"/>
                  </a:cubicBezTo>
                  <a:cubicBezTo>
                    <a:pt x="1018" y="117"/>
                    <a:pt x="1013" y="117"/>
                    <a:pt x="1007" y="117"/>
                  </a:cubicBezTo>
                  <a:cubicBezTo>
                    <a:pt x="1007" y="116"/>
                    <a:pt x="1007" y="115"/>
                    <a:pt x="1007" y="114"/>
                  </a:cubicBezTo>
                  <a:close/>
                  <a:moveTo>
                    <a:pt x="1007" y="171"/>
                  </a:moveTo>
                  <a:cubicBezTo>
                    <a:pt x="1013" y="171"/>
                    <a:pt x="1018" y="171"/>
                    <a:pt x="1024" y="171"/>
                  </a:cubicBezTo>
                  <a:cubicBezTo>
                    <a:pt x="1024" y="172"/>
                    <a:pt x="1024" y="173"/>
                    <a:pt x="1024" y="174"/>
                  </a:cubicBezTo>
                  <a:cubicBezTo>
                    <a:pt x="1018" y="174"/>
                    <a:pt x="1013" y="174"/>
                    <a:pt x="1007" y="174"/>
                  </a:cubicBezTo>
                  <a:cubicBezTo>
                    <a:pt x="1007" y="173"/>
                    <a:pt x="1007" y="172"/>
                    <a:pt x="1007" y="171"/>
                  </a:cubicBezTo>
                  <a:close/>
                  <a:moveTo>
                    <a:pt x="1007" y="228"/>
                  </a:moveTo>
                  <a:cubicBezTo>
                    <a:pt x="1013" y="228"/>
                    <a:pt x="1018" y="228"/>
                    <a:pt x="1024" y="228"/>
                  </a:cubicBezTo>
                  <a:cubicBezTo>
                    <a:pt x="1024" y="229"/>
                    <a:pt x="1024" y="230"/>
                    <a:pt x="1024" y="231"/>
                  </a:cubicBezTo>
                  <a:cubicBezTo>
                    <a:pt x="1018" y="231"/>
                    <a:pt x="1013" y="231"/>
                    <a:pt x="1007" y="231"/>
                  </a:cubicBezTo>
                  <a:cubicBezTo>
                    <a:pt x="1007" y="230"/>
                    <a:pt x="1007" y="229"/>
                    <a:pt x="1007" y="228"/>
                  </a:cubicBezTo>
                  <a:close/>
                  <a:moveTo>
                    <a:pt x="1007" y="285"/>
                  </a:moveTo>
                  <a:cubicBezTo>
                    <a:pt x="1013" y="285"/>
                    <a:pt x="1018" y="285"/>
                    <a:pt x="1024" y="285"/>
                  </a:cubicBezTo>
                  <a:cubicBezTo>
                    <a:pt x="1024" y="286"/>
                    <a:pt x="1024" y="287"/>
                    <a:pt x="1024" y="288"/>
                  </a:cubicBezTo>
                  <a:cubicBezTo>
                    <a:pt x="1018" y="288"/>
                    <a:pt x="1013" y="288"/>
                    <a:pt x="1007" y="288"/>
                  </a:cubicBezTo>
                  <a:cubicBezTo>
                    <a:pt x="1007" y="287"/>
                    <a:pt x="1007" y="286"/>
                    <a:pt x="1007" y="285"/>
                  </a:cubicBezTo>
                  <a:close/>
                  <a:moveTo>
                    <a:pt x="1007" y="342"/>
                  </a:moveTo>
                  <a:cubicBezTo>
                    <a:pt x="1013" y="342"/>
                    <a:pt x="1018" y="342"/>
                    <a:pt x="1024" y="342"/>
                  </a:cubicBezTo>
                  <a:cubicBezTo>
                    <a:pt x="1024" y="343"/>
                    <a:pt x="1024" y="344"/>
                    <a:pt x="1024" y="345"/>
                  </a:cubicBezTo>
                  <a:cubicBezTo>
                    <a:pt x="1018" y="345"/>
                    <a:pt x="1013" y="345"/>
                    <a:pt x="1007" y="345"/>
                  </a:cubicBezTo>
                  <a:cubicBezTo>
                    <a:pt x="1007" y="344"/>
                    <a:pt x="1007" y="343"/>
                    <a:pt x="1007" y="342"/>
                  </a:cubicBezTo>
                  <a:close/>
                  <a:moveTo>
                    <a:pt x="1007" y="399"/>
                  </a:moveTo>
                  <a:cubicBezTo>
                    <a:pt x="1013" y="399"/>
                    <a:pt x="1018" y="399"/>
                    <a:pt x="1024" y="399"/>
                  </a:cubicBezTo>
                  <a:cubicBezTo>
                    <a:pt x="1024" y="400"/>
                    <a:pt x="1024" y="401"/>
                    <a:pt x="1024" y="402"/>
                  </a:cubicBezTo>
                  <a:cubicBezTo>
                    <a:pt x="1018" y="402"/>
                    <a:pt x="1013" y="402"/>
                    <a:pt x="1007" y="402"/>
                  </a:cubicBezTo>
                  <a:cubicBezTo>
                    <a:pt x="1007" y="401"/>
                    <a:pt x="1007" y="400"/>
                    <a:pt x="1007" y="399"/>
                  </a:cubicBezTo>
                  <a:close/>
                  <a:moveTo>
                    <a:pt x="1007" y="459"/>
                  </a:moveTo>
                  <a:cubicBezTo>
                    <a:pt x="1007" y="458"/>
                    <a:pt x="1007" y="457"/>
                    <a:pt x="1007" y="456"/>
                  </a:cubicBezTo>
                  <a:cubicBezTo>
                    <a:pt x="1013" y="456"/>
                    <a:pt x="1018" y="456"/>
                    <a:pt x="1024" y="456"/>
                  </a:cubicBezTo>
                  <a:cubicBezTo>
                    <a:pt x="1024" y="457"/>
                    <a:pt x="1024" y="458"/>
                    <a:pt x="1024" y="459"/>
                  </a:cubicBezTo>
                  <a:cubicBezTo>
                    <a:pt x="1018" y="459"/>
                    <a:pt x="1013" y="459"/>
                    <a:pt x="1007" y="459"/>
                  </a:cubicBezTo>
                  <a:close/>
                  <a:moveTo>
                    <a:pt x="1007" y="513"/>
                  </a:moveTo>
                  <a:cubicBezTo>
                    <a:pt x="1013" y="513"/>
                    <a:pt x="1018" y="513"/>
                    <a:pt x="1024" y="513"/>
                  </a:cubicBezTo>
                  <a:cubicBezTo>
                    <a:pt x="1024" y="514"/>
                    <a:pt x="1024" y="515"/>
                    <a:pt x="1024" y="516"/>
                  </a:cubicBezTo>
                  <a:cubicBezTo>
                    <a:pt x="1018" y="516"/>
                    <a:pt x="1013" y="516"/>
                    <a:pt x="1007" y="516"/>
                  </a:cubicBezTo>
                  <a:cubicBezTo>
                    <a:pt x="1007" y="515"/>
                    <a:pt x="1007" y="514"/>
                    <a:pt x="1007" y="513"/>
                  </a:cubicBezTo>
                  <a:close/>
                  <a:moveTo>
                    <a:pt x="1007" y="570"/>
                  </a:moveTo>
                  <a:cubicBezTo>
                    <a:pt x="1013" y="570"/>
                    <a:pt x="1018" y="570"/>
                    <a:pt x="1024" y="570"/>
                  </a:cubicBezTo>
                  <a:cubicBezTo>
                    <a:pt x="1024" y="571"/>
                    <a:pt x="1024" y="572"/>
                    <a:pt x="1024" y="573"/>
                  </a:cubicBezTo>
                  <a:cubicBezTo>
                    <a:pt x="1018" y="573"/>
                    <a:pt x="1013" y="573"/>
                    <a:pt x="1007" y="573"/>
                  </a:cubicBezTo>
                  <a:cubicBezTo>
                    <a:pt x="1007" y="572"/>
                    <a:pt x="1007" y="571"/>
                    <a:pt x="1007" y="570"/>
                  </a:cubicBezTo>
                  <a:close/>
                  <a:moveTo>
                    <a:pt x="1030" y="0"/>
                  </a:moveTo>
                  <a:cubicBezTo>
                    <a:pt x="1036" y="0"/>
                    <a:pt x="1041" y="0"/>
                    <a:pt x="1047" y="0"/>
                  </a:cubicBezTo>
                  <a:cubicBezTo>
                    <a:pt x="1047" y="1"/>
                    <a:pt x="1047" y="2"/>
                    <a:pt x="1047" y="4"/>
                  </a:cubicBezTo>
                  <a:cubicBezTo>
                    <a:pt x="1041" y="4"/>
                    <a:pt x="1036" y="4"/>
                    <a:pt x="1030" y="4"/>
                  </a:cubicBezTo>
                  <a:cubicBezTo>
                    <a:pt x="1030" y="2"/>
                    <a:pt x="1030" y="1"/>
                    <a:pt x="1030" y="0"/>
                  </a:cubicBezTo>
                  <a:close/>
                  <a:moveTo>
                    <a:pt x="1030" y="57"/>
                  </a:moveTo>
                  <a:cubicBezTo>
                    <a:pt x="1036" y="57"/>
                    <a:pt x="1041" y="57"/>
                    <a:pt x="1047" y="57"/>
                  </a:cubicBezTo>
                  <a:cubicBezTo>
                    <a:pt x="1047" y="58"/>
                    <a:pt x="1047" y="59"/>
                    <a:pt x="1047" y="60"/>
                  </a:cubicBezTo>
                  <a:cubicBezTo>
                    <a:pt x="1041" y="60"/>
                    <a:pt x="1036" y="60"/>
                    <a:pt x="1030" y="60"/>
                  </a:cubicBezTo>
                  <a:cubicBezTo>
                    <a:pt x="1030" y="59"/>
                    <a:pt x="1030" y="58"/>
                    <a:pt x="1030" y="57"/>
                  </a:cubicBezTo>
                  <a:close/>
                  <a:moveTo>
                    <a:pt x="1030" y="114"/>
                  </a:moveTo>
                  <a:cubicBezTo>
                    <a:pt x="1036" y="114"/>
                    <a:pt x="1041" y="114"/>
                    <a:pt x="1047" y="114"/>
                  </a:cubicBezTo>
                  <a:cubicBezTo>
                    <a:pt x="1047" y="115"/>
                    <a:pt x="1047" y="116"/>
                    <a:pt x="1047" y="117"/>
                  </a:cubicBezTo>
                  <a:cubicBezTo>
                    <a:pt x="1041" y="117"/>
                    <a:pt x="1036" y="117"/>
                    <a:pt x="1030" y="117"/>
                  </a:cubicBezTo>
                  <a:cubicBezTo>
                    <a:pt x="1030" y="116"/>
                    <a:pt x="1030" y="115"/>
                    <a:pt x="1030" y="114"/>
                  </a:cubicBezTo>
                  <a:close/>
                  <a:moveTo>
                    <a:pt x="1030" y="171"/>
                  </a:moveTo>
                  <a:cubicBezTo>
                    <a:pt x="1036" y="171"/>
                    <a:pt x="1041" y="171"/>
                    <a:pt x="1047" y="171"/>
                  </a:cubicBezTo>
                  <a:cubicBezTo>
                    <a:pt x="1047" y="172"/>
                    <a:pt x="1047" y="173"/>
                    <a:pt x="1047" y="174"/>
                  </a:cubicBezTo>
                  <a:cubicBezTo>
                    <a:pt x="1041" y="174"/>
                    <a:pt x="1036" y="174"/>
                    <a:pt x="1030" y="174"/>
                  </a:cubicBezTo>
                  <a:cubicBezTo>
                    <a:pt x="1030" y="173"/>
                    <a:pt x="1030" y="172"/>
                    <a:pt x="1030" y="171"/>
                  </a:cubicBezTo>
                  <a:close/>
                  <a:moveTo>
                    <a:pt x="1030" y="228"/>
                  </a:moveTo>
                  <a:cubicBezTo>
                    <a:pt x="1036" y="228"/>
                    <a:pt x="1041" y="228"/>
                    <a:pt x="1047" y="228"/>
                  </a:cubicBezTo>
                  <a:cubicBezTo>
                    <a:pt x="1047" y="229"/>
                    <a:pt x="1047" y="230"/>
                    <a:pt x="1047" y="231"/>
                  </a:cubicBezTo>
                  <a:cubicBezTo>
                    <a:pt x="1041" y="231"/>
                    <a:pt x="1036" y="231"/>
                    <a:pt x="1030" y="231"/>
                  </a:cubicBezTo>
                  <a:cubicBezTo>
                    <a:pt x="1030" y="230"/>
                    <a:pt x="1030" y="229"/>
                    <a:pt x="1030" y="228"/>
                  </a:cubicBezTo>
                  <a:close/>
                  <a:moveTo>
                    <a:pt x="1030" y="285"/>
                  </a:moveTo>
                  <a:cubicBezTo>
                    <a:pt x="1036" y="285"/>
                    <a:pt x="1041" y="285"/>
                    <a:pt x="1047" y="285"/>
                  </a:cubicBezTo>
                  <a:cubicBezTo>
                    <a:pt x="1047" y="286"/>
                    <a:pt x="1047" y="287"/>
                    <a:pt x="1047" y="288"/>
                  </a:cubicBezTo>
                  <a:cubicBezTo>
                    <a:pt x="1041" y="288"/>
                    <a:pt x="1036" y="288"/>
                    <a:pt x="1030" y="288"/>
                  </a:cubicBezTo>
                  <a:cubicBezTo>
                    <a:pt x="1030" y="287"/>
                    <a:pt x="1030" y="286"/>
                    <a:pt x="1030" y="285"/>
                  </a:cubicBezTo>
                  <a:close/>
                  <a:moveTo>
                    <a:pt x="1030" y="342"/>
                  </a:moveTo>
                  <a:cubicBezTo>
                    <a:pt x="1036" y="342"/>
                    <a:pt x="1041" y="342"/>
                    <a:pt x="1047" y="342"/>
                  </a:cubicBezTo>
                  <a:cubicBezTo>
                    <a:pt x="1047" y="343"/>
                    <a:pt x="1047" y="344"/>
                    <a:pt x="1047" y="345"/>
                  </a:cubicBezTo>
                  <a:cubicBezTo>
                    <a:pt x="1041" y="345"/>
                    <a:pt x="1036" y="345"/>
                    <a:pt x="1030" y="345"/>
                  </a:cubicBezTo>
                  <a:cubicBezTo>
                    <a:pt x="1030" y="344"/>
                    <a:pt x="1030" y="343"/>
                    <a:pt x="1030" y="342"/>
                  </a:cubicBezTo>
                  <a:close/>
                  <a:moveTo>
                    <a:pt x="1030" y="399"/>
                  </a:moveTo>
                  <a:cubicBezTo>
                    <a:pt x="1036" y="399"/>
                    <a:pt x="1041" y="399"/>
                    <a:pt x="1047" y="399"/>
                  </a:cubicBezTo>
                  <a:cubicBezTo>
                    <a:pt x="1047" y="400"/>
                    <a:pt x="1047" y="401"/>
                    <a:pt x="1047" y="402"/>
                  </a:cubicBezTo>
                  <a:cubicBezTo>
                    <a:pt x="1041" y="402"/>
                    <a:pt x="1036" y="402"/>
                    <a:pt x="1030" y="402"/>
                  </a:cubicBezTo>
                  <a:cubicBezTo>
                    <a:pt x="1030" y="401"/>
                    <a:pt x="1030" y="400"/>
                    <a:pt x="1030" y="399"/>
                  </a:cubicBezTo>
                  <a:close/>
                  <a:moveTo>
                    <a:pt x="1030" y="459"/>
                  </a:moveTo>
                  <a:cubicBezTo>
                    <a:pt x="1030" y="458"/>
                    <a:pt x="1030" y="457"/>
                    <a:pt x="1030" y="456"/>
                  </a:cubicBezTo>
                  <a:cubicBezTo>
                    <a:pt x="1036" y="456"/>
                    <a:pt x="1041" y="456"/>
                    <a:pt x="1047" y="456"/>
                  </a:cubicBezTo>
                  <a:cubicBezTo>
                    <a:pt x="1047" y="457"/>
                    <a:pt x="1047" y="458"/>
                    <a:pt x="1047" y="459"/>
                  </a:cubicBezTo>
                  <a:cubicBezTo>
                    <a:pt x="1041" y="459"/>
                    <a:pt x="1036" y="459"/>
                    <a:pt x="1030" y="459"/>
                  </a:cubicBezTo>
                  <a:close/>
                  <a:moveTo>
                    <a:pt x="1030" y="513"/>
                  </a:moveTo>
                  <a:cubicBezTo>
                    <a:pt x="1036" y="513"/>
                    <a:pt x="1041" y="513"/>
                    <a:pt x="1047" y="513"/>
                  </a:cubicBezTo>
                  <a:cubicBezTo>
                    <a:pt x="1047" y="514"/>
                    <a:pt x="1047" y="515"/>
                    <a:pt x="1047" y="516"/>
                  </a:cubicBezTo>
                  <a:cubicBezTo>
                    <a:pt x="1041" y="516"/>
                    <a:pt x="1036" y="516"/>
                    <a:pt x="1030" y="516"/>
                  </a:cubicBezTo>
                  <a:cubicBezTo>
                    <a:pt x="1030" y="515"/>
                    <a:pt x="1030" y="514"/>
                    <a:pt x="1030" y="513"/>
                  </a:cubicBezTo>
                  <a:close/>
                  <a:moveTo>
                    <a:pt x="1030" y="570"/>
                  </a:moveTo>
                  <a:cubicBezTo>
                    <a:pt x="1036" y="570"/>
                    <a:pt x="1041" y="570"/>
                    <a:pt x="1047" y="570"/>
                  </a:cubicBezTo>
                  <a:cubicBezTo>
                    <a:pt x="1047" y="571"/>
                    <a:pt x="1047" y="572"/>
                    <a:pt x="1047" y="573"/>
                  </a:cubicBezTo>
                  <a:cubicBezTo>
                    <a:pt x="1041" y="573"/>
                    <a:pt x="1036" y="573"/>
                    <a:pt x="1030" y="573"/>
                  </a:cubicBezTo>
                  <a:cubicBezTo>
                    <a:pt x="1030" y="572"/>
                    <a:pt x="1030" y="571"/>
                    <a:pt x="1030" y="570"/>
                  </a:cubicBezTo>
                  <a:close/>
                  <a:moveTo>
                    <a:pt x="1053" y="0"/>
                  </a:moveTo>
                  <a:cubicBezTo>
                    <a:pt x="1059" y="0"/>
                    <a:pt x="1064" y="0"/>
                    <a:pt x="1069" y="0"/>
                  </a:cubicBezTo>
                  <a:cubicBezTo>
                    <a:pt x="1069" y="1"/>
                    <a:pt x="1069" y="2"/>
                    <a:pt x="1069" y="4"/>
                  </a:cubicBezTo>
                  <a:cubicBezTo>
                    <a:pt x="1064" y="4"/>
                    <a:pt x="1059" y="4"/>
                    <a:pt x="1053" y="4"/>
                  </a:cubicBezTo>
                  <a:cubicBezTo>
                    <a:pt x="1053" y="2"/>
                    <a:pt x="1053" y="1"/>
                    <a:pt x="1053" y="0"/>
                  </a:cubicBezTo>
                  <a:close/>
                  <a:moveTo>
                    <a:pt x="1053" y="57"/>
                  </a:moveTo>
                  <a:cubicBezTo>
                    <a:pt x="1059" y="57"/>
                    <a:pt x="1064" y="57"/>
                    <a:pt x="1069" y="57"/>
                  </a:cubicBezTo>
                  <a:cubicBezTo>
                    <a:pt x="1069" y="58"/>
                    <a:pt x="1069" y="59"/>
                    <a:pt x="1069" y="60"/>
                  </a:cubicBezTo>
                  <a:cubicBezTo>
                    <a:pt x="1064" y="60"/>
                    <a:pt x="1059" y="60"/>
                    <a:pt x="1053" y="60"/>
                  </a:cubicBezTo>
                  <a:cubicBezTo>
                    <a:pt x="1053" y="59"/>
                    <a:pt x="1053" y="58"/>
                    <a:pt x="1053" y="57"/>
                  </a:cubicBezTo>
                  <a:close/>
                  <a:moveTo>
                    <a:pt x="1053" y="114"/>
                  </a:moveTo>
                  <a:cubicBezTo>
                    <a:pt x="1059" y="114"/>
                    <a:pt x="1064" y="114"/>
                    <a:pt x="1069" y="114"/>
                  </a:cubicBezTo>
                  <a:cubicBezTo>
                    <a:pt x="1069" y="115"/>
                    <a:pt x="1069" y="116"/>
                    <a:pt x="1069" y="117"/>
                  </a:cubicBezTo>
                  <a:cubicBezTo>
                    <a:pt x="1064" y="117"/>
                    <a:pt x="1059" y="117"/>
                    <a:pt x="1053" y="117"/>
                  </a:cubicBezTo>
                  <a:cubicBezTo>
                    <a:pt x="1053" y="116"/>
                    <a:pt x="1053" y="115"/>
                    <a:pt x="1053" y="114"/>
                  </a:cubicBezTo>
                  <a:close/>
                  <a:moveTo>
                    <a:pt x="1053" y="171"/>
                  </a:moveTo>
                  <a:cubicBezTo>
                    <a:pt x="1059" y="171"/>
                    <a:pt x="1064" y="171"/>
                    <a:pt x="1069" y="171"/>
                  </a:cubicBezTo>
                  <a:cubicBezTo>
                    <a:pt x="1069" y="172"/>
                    <a:pt x="1069" y="173"/>
                    <a:pt x="1069" y="174"/>
                  </a:cubicBezTo>
                  <a:cubicBezTo>
                    <a:pt x="1064" y="174"/>
                    <a:pt x="1059" y="174"/>
                    <a:pt x="1053" y="174"/>
                  </a:cubicBezTo>
                  <a:cubicBezTo>
                    <a:pt x="1053" y="173"/>
                    <a:pt x="1053" y="172"/>
                    <a:pt x="1053" y="171"/>
                  </a:cubicBezTo>
                  <a:close/>
                  <a:moveTo>
                    <a:pt x="1053" y="228"/>
                  </a:moveTo>
                  <a:cubicBezTo>
                    <a:pt x="1059" y="228"/>
                    <a:pt x="1064" y="228"/>
                    <a:pt x="1069" y="228"/>
                  </a:cubicBezTo>
                  <a:cubicBezTo>
                    <a:pt x="1069" y="229"/>
                    <a:pt x="1069" y="230"/>
                    <a:pt x="1069" y="231"/>
                  </a:cubicBezTo>
                  <a:cubicBezTo>
                    <a:pt x="1064" y="231"/>
                    <a:pt x="1059" y="231"/>
                    <a:pt x="1053" y="231"/>
                  </a:cubicBezTo>
                  <a:cubicBezTo>
                    <a:pt x="1053" y="230"/>
                    <a:pt x="1053" y="229"/>
                    <a:pt x="1053" y="228"/>
                  </a:cubicBezTo>
                  <a:close/>
                  <a:moveTo>
                    <a:pt x="1053" y="285"/>
                  </a:moveTo>
                  <a:cubicBezTo>
                    <a:pt x="1059" y="285"/>
                    <a:pt x="1064" y="285"/>
                    <a:pt x="1069" y="285"/>
                  </a:cubicBezTo>
                  <a:cubicBezTo>
                    <a:pt x="1069" y="286"/>
                    <a:pt x="1069" y="287"/>
                    <a:pt x="1069" y="288"/>
                  </a:cubicBezTo>
                  <a:cubicBezTo>
                    <a:pt x="1064" y="288"/>
                    <a:pt x="1059" y="288"/>
                    <a:pt x="1053" y="288"/>
                  </a:cubicBezTo>
                  <a:cubicBezTo>
                    <a:pt x="1053" y="287"/>
                    <a:pt x="1053" y="286"/>
                    <a:pt x="1053" y="285"/>
                  </a:cubicBezTo>
                  <a:close/>
                  <a:moveTo>
                    <a:pt x="1053" y="342"/>
                  </a:moveTo>
                  <a:cubicBezTo>
                    <a:pt x="1059" y="342"/>
                    <a:pt x="1064" y="342"/>
                    <a:pt x="1069" y="342"/>
                  </a:cubicBezTo>
                  <a:cubicBezTo>
                    <a:pt x="1069" y="343"/>
                    <a:pt x="1069" y="344"/>
                    <a:pt x="1069" y="345"/>
                  </a:cubicBezTo>
                  <a:cubicBezTo>
                    <a:pt x="1064" y="345"/>
                    <a:pt x="1059" y="345"/>
                    <a:pt x="1053" y="345"/>
                  </a:cubicBezTo>
                  <a:cubicBezTo>
                    <a:pt x="1053" y="344"/>
                    <a:pt x="1053" y="343"/>
                    <a:pt x="1053" y="342"/>
                  </a:cubicBezTo>
                  <a:close/>
                  <a:moveTo>
                    <a:pt x="1053" y="399"/>
                  </a:moveTo>
                  <a:cubicBezTo>
                    <a:pt x="1059" y="399"/>
                    <a:pt x="1064" y="399"/>
                    <a:pt x="1069" y="399"/>
                  </a:cubicBezTo>
                  <a:cubicBezTo>
                    <a:pt x="1069" y="400"/>
                    <a:pt x="1069" y="401"/>
                    <a:pt x="1069" y="402"/>
                  </a:cubicBezTo>
                  <a:cubicBezTo>
                    <a:pt x="1064" y="402"/>
                    <a:pt x="1059" y="402"/>
                    <a:pt x="1053" y="402"/>
                  </a:cubicBezTo>
                  <a:cubicBezTo>
                    <a:pt x="1053" y="401"/>
                    <a:pt x="1053" y="400"/>
                    <a:pt x="1053" y="399"/>
                  </a:cubicBezTo>
                  <a:close/>
                  <a:moveTo>
                    <a:pt x="1053" y="459"/>
                  </a:moveTo>
                  <a:cubicBezTo>
                    <a:pt x="1053" y="458"/>
                    <a:pt x="1053" y="457"/>
                    <a:pt x="1053" y="456"/>
                  </a:cubicBezTo>
                  <a:cubicBezTo>
                    <a:pt x="1059" y="456"/>
                    <a:pt x="1064" y="456"/>
                    <a:pt x="1069" y="456"/>
                  </a:cubicBezTo>
                  <a:cubicBezTo>
                    <a:pt x="1069" y="457"/>
                    <a:pt x="1069" y="458"/>
                    <a:pt x="1069" y="459"/>
                  </a:cubicBezTo>
                  <a:cubicBezTo>
                    <a:pt x="1064" y="459"/>
                    <a:pt x="1059" y="459"/>
                    <a:pt x="1053" y="459"/>
                  </a:cubicBezTo>
                  <a:close/>
                  <a:moveTo>
                    <a:pt x="1053" y="513"/>
                  </a:moveTo>
                  <a:cubicBezTo>
                    <a:pt x="1059" y="513"/>
                    <a:pt x="1064" y="513"/>
                    <a:pt x="1069" y="513"/>
                  </a:cubicBezTo>
                  <a:cubicBezTo>
                    <a:pt x="1069" y="514"/>
                    <a:pt x="1069" y="515"/>
                    <a:pt x="1069" y="516"/>
                  </a:cubicBezTo>
                  <a:cubicBezTo>
                    <a:pt x="1064" y="516"/>
                    <a:pt x="1059" y="516"/>
                    <a:pt x="1053" y="516"/>
                  </a:cubicBezTo>
                  <a:cubicBezTo>
                    <a:pt x="1053" y="515"/>
                    <a:pt x="1053" y="514"/>
                    <a:pt x="1053" y="513"/>
                  </a:cubicBezTo>
                  <a:close/>
                  <a:moveTo>
                    <a:pt x="1053" y="570"/>
                  </a:moveTo>
                  <a:cubicBezTo>
                    <a:pt x="1059" y="570"/>
                    <a:pt x="1064" y="570"/>
                    <a:pt x="1069" y="570"/>
                  </a:cubicBezTo>
                  <a:cubicBezTo>
                    <a:pt x="1069" y="571"/>
                    <a:pt x="1069" y="572"/>
                    <a:pt x="1069" y="573"/>
                  </a:cubicBezTo>
                  <a:cubicBezTo>
                    <a:pt x="1064" y="573"/>
                    <a:pt x="1059" y="573"/>
                    <a:pt x="1053" y="573"/>
                  </a:cubicBezTo>
                  <a:cubicBezTo>
                    <a:pt x="1053" y="572"/>
                    <a:pt x="1053" y="571"/>
                    <a:pt x="1053" y="570"/>
                  </a:cubicBezTo>
                  <a:close/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57"/>
                  </a:moveTo>
                  <a:cubicBezTo>
                    <a:pt x="16" y="57"/>
                    <a:pt x="16" y="57"/>
                    <a:pt x="16" y="57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7"/>
                    <a:pt x="0" y="57"/>
                    <a:pt x="0" y="57"/>
                  </a:cubicBezTo>
                  <a:close/>
                  <a:moveTo>
                    <a:pt x="0" y="114"/>
                  </a:moveTo>
                  <a:cubicBezTo>
                    <a:pt x="16" y="114"/>
                    <a:pt x="16" y="114"/>
                    <a:pt x="16" y="114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4"/>
                    <a:pt x="0" y="114"/>
                    <a:pt x="0" y="114"/>
                  </a:cubicBezTo>
                  <a:close/>
                  <a:moveTo>
                    <a:pt x="0" y="171"/>
                  </a:moveTo>
                  <a:cubicBezTo>
                    <a:pt x="16" y="171"/>
                    <a:pt x="16" y="171"/>
                    <a:pt x="16" y="171"/>
                  </a:cubicBezTo>
                  <a:cubicBezTo>
                    <a:pt x="16" y="174"/>
                    <a:pt x="16" y="174"/>
                    <a:pt x="16" y="174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0" y="171"/>
                    <a:pt x="0" y="171"/>
                    <a:pt x="0" y="171"/>
                  </a:cubicBezTo>
                  <a:close/>
                  <a:moveTo>
                    <a:pt x="0" y="228"/>
                  </a:moveTo>
                  <a:cubicBezTo>
                    <a:pt x="16" y="228"/>
                    <a:pt x="16" y="228"/>
                    <a:pt x="16" y="228"/>
                  </a:cubicBezTo>
                  <a:cubicBezTo>
                    <a:pt x="16" y="231"/>
                    <a:pt x="16" y="231"/>
                    <a:pt x="16" y="231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228"/>
                    <a:pt x="0" y="228"/>
                    <a:pt x="0" y="228"/>
                  </a:cubicBezTo>
                  <a:close/>
                  <a:moveTo>
                    <a:pt x="0" y="285"/>
                  </a:moveTo>
                  <a:cubicBezTo>
                    <a:pt x="16" y="285"/>
                    <a:pt x="16" y="285"/>
                    <a:pt x="16" y="285"/>
                  </a:cubicBezTo>
                  <a:cubicBezTo>
                    <a:pt x="16" y="288"/>
                    <a:pt x="16" y="288"/>
                    <a:pt x="16" y="288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0" y="285"/>
                    <a:pt x="0" y="285"/>
                    <a:pt x="0" y="285"/>
                  </a:cubicBezTo>
                  <a:close/>
                  <a:moveTo>
                    <a:pt x="0" y="342"/>
                  </a:moveTo>
                  <a:cubicBezTo>
                    <a:pt x="16" y="342"/>
                    <a:pt x="16" y="342"/>
                    <a:pt x="16" y="342"/>
                  </a:cubicBezTo>
                  <a:cubicBezTo>
                    <a:pt x="16" y="345"/>
                    <a:pt x="16" y="345"/>
                    <a:pt x="16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2"/>
                    <a:pt x="0" y="342"/>
                    <a:pt x="0" y="342"/>
                  </a:cubicBezTo>
                  <a:close/>
                  <a:moveTo>
                    <a:pt x="0" y="399"/>
                  </a:moveTo>
                  <a:cubicBezTo>
                    <a:pt x="16" y="399"/>
                    <a:pt x="16" y="399"/>
                    <a:pt x="16" y="399"/>
                  </a:cubicBezTo>
                  <a:cubicBezTo>
                    <a:pt x="16" y="402"/>
                    <a:pt x="16" y="402"/>
                    <a:pt x="16" y="402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0" y="399"/>
                    <a:pt x="0" y="399"/>
                    <a:pt x="0" y="399"/>
                  </a:cubicBezTo>
                  <a:close/>
                  <a:moveTo>
                    <a:pt x="0" y="459"/>
                  </a:moveTo>
                  <a:cubicBezTo>
                    <a:pt x="0" y="456"/>
                    <a:pt x="0" y="456"/>
                    <a:pt x="0" y="456"/>
                  </a:cubicBezTo>
                  <a:cubicBezTo>
                    <a:pt x="16" y="456"/>
                    <a:pt x="16" y="456"/>
                    <a:pt x="16" y="456"/>
                  </a:cubicBezTo>
                  <a:cubicBezTo>
                    <a:pt x="16" y="459"/>
                    <a:pt x="16" y="459"/>
                    <a:pt x="16" y="459"/>
                  </a:cubicBezTo>
                  <a:cubicBezTo>
                    <a:pt x="0" y="459"/>
                    <a:pt x="0" y="459"/>
                    <a:pt x="0" y="459"/>
                  </a:cubicBezTo>
                  <a:close/>
                  <a:moveTo>
                    <a:pt x="0" y="513"/>
                  </a:moveTo>
                  <a:cubicBezTo>
                    <a:pt x="16" y="513"/>
                    <a:pt x="16" y="513"/>
                    <a:pt x="16" y="513"/>
                  </a:cubicBezTo>
                  <a:cubicBezTo>
                    <a:pt x="16" y="516"/>
                    <a:pt x="16" y="516"/>
                    <a:pt x="16" y="516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0" y="513"/>
                    <a:pt x="0" y="513"/>
                    <a:pt x="0" y="513"/>
                  </a:cubicBezTo>
                  <a:close/>
                  <a:moveTo>
                    <a:pt x="0" y="570"/>
                  </a:moveTo>
                  <a:cubicBezTo>
                    <a:pt x="16" y="570"/>
                    <a:pt x="16" y="570"/>
                    <a:pt x="16" y="570"/>
                  </a:cubicBezTo>
                  <a:cubicBezTo>
                    <a:pt x="16" y="573"/>
                    <a:pt x="16" y="573"/>
                    <a:pt x="16" y="573"/>
                  </a:cubicBezTo>
                  <a:cubicBezTo>
                    <a:pt x="0" y="573"/>
                    <a:pt x="0" y="573"/>
                    <a:pt x="0" y="573"/>
                  </a:cubicBezTo>
                  <a:cubicBezTo>
                    <a:pt x="0" y="570"/>
                    <a:pt x="0" y="570"/>
                    <a:pt x="0" y="570"/>
                  </a:cubicBezTo>
                  <a:close/>
                  <a:moveTo>
                    <a:pt x="1076" y="0"/>
                  </a:moveTo>
                  <a:cubicBezTo>
                    <a:pt x="1092" y="0"/>
                    <a:pt x="1092" y="0"/>
                    <a:pt x="1092" y="0"/>
                  </a:cubicBezTo>
                  <a:cubicBezTo>
                    <a:pt x="1092" y="4"/>
                    <a:pt x="1092" y="4"/>
                    <a:pt x="1092" y="4"/>
                  </a:cubicBezTo>
                  <a:cubicBezTo>
                    <a:pt x="1076" y="4"/>
                    <a:pt x="1076" y="4"/>
                    <a:pt x="1076" y="4"/>
                  </a:cubicBezTo>
                  <a:cubicBezTo>
                    <a:pt x="1076" y="0"/>
                    <a:pt x="1076" y="0"/>
                    <a:pt x="1076" y="0"/>
                  </a:cubicBezTo>
                  <a:close/>
                  <a:moveTo>
                    <a:pt x="1076" y="57"/>
                  </a:moveTo>
                  <a:cubicBezTo>
                    <a:pt x="1092" y="57"/>
                    <a:pt x="1092" y="57"/>
                    <a:pt x="1092" y="57"/>
                  </a:cubicBezTo>
                  <a:cubicBezTo>
                    <a:pt x="1092" y="60"/>
                    <a:pt x="1092" y="60"/>
                    <a:pt x="1092" y="60"/>
                  </a:cubicBezTo>
                  <a:cubicBezTo>
                    <a:pt x="1076" y="60"/>
                    <a:pt x="1076" y="60"/>
                    <a:pt x="1076" y="60"/>
                  </a:cubicBezTo>
                  <a:cubicBezTo>
                    <a:pt x="1076" y="57"/>
                    <a:pt x="1076" y="57"/>
                    <a:pt x="1076" y="57"/>
                  </a:cubicBezTo>
                  <a:close/>
                  <a:moveTo>
                    <a:pt x="1076" y="114"/>
                  </a:moveTo>
                  <a:cubicBezTo>
                    <a:pt x="1092" y="114"/>
                    <a:pt x="1092" y="114"/>
                    <a:pt x="1092" y="114"/>
                  </a:cubicBezTo>
                  <a:cubicBezTo>
                    <a:pt x="1092" y="117"/>
                    <a:pt x="1092" y="117"/>
                    <a:pt x="1092" y="117"/>
                  </a:cubicBezTo>
                  <a:cubicBezTo>
                    <a:pt x="1076" y="117"/>
                    <a:pt x="1076" y="117"/>
                    <a:pt x="1076" y="117"/>
                  </a:cubicBezTo>
                  <a:cubicBezTo>
                    <a:pt x="1076" y="114"/>
                    <a:pt x="1076" y="114"/>
                    <a:pt x="1076" y="114"/>
                  </a:cubicBezTo>
                  <a:close/>
                  <a:moveTo>
                    <a:pt x="1076" y="171"/>
                  </a:moveTo>
                  <a:cubicBezTo>
                    <a:pt x="1092" y="171"/>
                    <a:pt x="1092" y="171"/>
                    <a:pt x="1092" y="171"/>
                  </a:cubicBezTo>
                  <a:cubicBezTo>
                    <a:pt x="1092" y="174"/>
                    <a:pt x="1092" y="174"/>
                    <a:pt x="1092" y="174"/>
                  </a:cubicBezTo>
                  <a:cubicBezTo>
                    <a:pt x="1076" y="174"/>
                    <a:pt x="1076" y="174"/>
                    <a:pt x="1076" y="174"/>
                  </a:cubicBezTo>
                  <a:cubicBezTo>
                    <a:pt x="1076" y="171"/>
                    <a:pt x="1076" y="171"/>
                    <a:pt x="1076" y="171"/>
                  </a:cubicBezTo>
                  <a:close/>
                  <a:moveTo>
                    <a:pt x="1076" y="228"/>
                  </a:moveTo>
                  <a:cubicBezTo>
                    <a:pt x="1092" y="228"/>
                    <a:pt x="1092" y="228"/>
                    <a:pt x="1092" y="228"/>
                  </a:cubicBezTo>
                  <a:cubicBezTo>
                    <a:pt x="1092" y="231"/>
                    <a:pt x="1092" y="231"/>
                    <a:pt x="1092" y="231"/>
                  </a:cubicBezTo>
                  <a:cubicBezTo>
                    <a:pt x="1076" y="231"/>
                    <a:pt x="1076" y="231"/>
                    <a:pt x="1076" y="231"/>
                  </a:cubicBezTo>
                  <a:cubicBezTo>
                    <a:pt x="1076" y="228"/>
                    <a:pt x="1076" y="228"/>
                    <a:pt x="1076" y="228"/>
                  </a:cubicBezTo>
                  <a:close/>
                  <a:moveTo>
                    <a:pt x="1076" y="285"/>
                  </a:moveTo>
                  <a:cubicBezTo>
                    <a:pt x="1092" y="285"/>
                    <a:pt x="1092" y="285"/>
                    <a:pt x="1092" y="285"/>
                  </a:cubicBezTo>
                  <a:cubicBezTo>
                    <a:pt x="1092" y="288"/>
                    <a:pt x="1092" y="288"/>
                    <a:pt x="1092" y="288"/>
                  </a:cubicBezTo>
                  <a:cubicBezTo>
                    <a:pt x="1076" y="288"/>
                    <a:pt x="1076" y="288"/>
                    <a:pt x="1076" y="288"/>
                  </a:cubicBezTo>
                  <a:cubicBezTo>
                    <a:pt x="1076" y="285"/>
                    <a:pt x="1076" y="285"/>
                    <a:pt x="1076" y="285"/>
                  </a:cubicBezTo>
                  <a:close/>
                  <a:moveTo>
                    <a:pt x="1076" y="342"/>
                  </a:moveTo>
                  <a:cubicBezTo>
                    <a:pt x="1092" y="342"/>
                    <a:pt x="1092" y="342"/>
                    <a:pt x="1092" y="342"/>
                  </a:cubicBezTo>
                  <a:cubicBezTo>
                    <a:pt x="1092" y="345"/>
                    <a:pt x="1092" y="345"/>
                    <a:pt x="1092" y="345"/>
                  </a:cubicBezTo>
                  <a:cubicBezTo>
                    <a:pt x="1076" y="345"/>
                    <a:pt x="1076" y="345"/>
                    <a:pt x="1076" y="345"/>
                  </a:cubicBezTo>
                  <a:cubicBezTo>
                    <a:pt x="1076" y="342"/>
                    <a:pt x="1076" y="342"/>
                    <a:pt x="1076" y="342"/>
                  </a:cubicBezTo>
                  <a:close/>
                  <a:moveTo>
                    <a:pt x="1076" y="399"/>
                  </a:moveTo>
                  <a:cubicBezTo>
                    <a:pt x="1092" y="399"/>
                    <a:pt x="1092" y="399"/>
                    <a:pt x="1092" y="399"/>
                  </a:cubicBezTo>
                  <a:cubicBezTo>
                    <a:pt x="1092" y="402"/>
                    <a:pt x="1092" y="402"/>
                    <a:pt x="1092" y="402"/>
                  </a:cubicBezTo>
                  <a:cubicBezTo>
                    <a:pt x="1076" y="402"/>
                    <a:pt x="1076" y="402"/>
                    <a:pt x="1076" y="402"/>
                  </a:cubicBezTo>
                  <a:cubicBezTo>
                    <a:pt x="1076" y="399"/>
                    <a:pt x="1076" y="399"/>
                    <a:pt x="1076" y="399"/>
                  </a:cubicBezTo>
                  <a:close/>
                  <a:moveTo>
                    <a:pt x="1076" y="459"/>
                  </a:moveTo>
                  <a:cubicBezTo>
                    <a:pt x="1076" y="456"/>
                    <a:pt x="1076" y="456"/>
                    <a:pt x="1076" y="456"/>
                  </a:cubicBezTo>
                  <a:cubicBezTo>
                    <a:pt x="1092" y="456"/>
                    <a:pt x="1092" y="456"/>
                    <a:pt x="1092" y="456"/>
                  </a:cubicBezTo>
                  <a:cubicBezTo>
                    <a:pt x="1092" y="459"/>
                    <a:pt x="1092" y="459"/>
                    <a:pt x="1092" y="459"/>
                  </a:cubicBezTo>
                  <a:cubicBezTo>
                    <a:pt x="1076" y="459"/>
                    <a:pt x="1076" y="459"/>
                    <a:pt x="1076" y="459"/>
                  </a:cubicBezTo>
                  <a:close/>
                  <a:moveTo>
                    <a:pt x="1076" y="513"/>
                  </a:moveTo>
                  <a:cubicBezTo>
                    <a:pt x="1092" y="513"/>
                    <a:pt x="1092" y="513"/>
                    <a:pt x="1092" y="513"/>
                  </a:cubicBezTo>
                  <a:cubicBezTo>
                    <a:pt x="1092" y="516"/>
                    <a:pt x="1092" y="516"/>
                    <a:pt x="1092" y="516"/>
                  </a:cubicBezTo>
                  <a:cubicBezTo>
                    <a:pt x="1076" y="516"/>
                    <a:pt x="1076" y="516"/>
                    <a:pt x="1076" y="516"/>
                  </a:cubicBezTo>
                  <a:cubicBezTo>
                    <a:pt x="1076" y="513"/>
                    <a:pt x="1076" y="513"/>
                    <a:pt x="1076" y="513"/>
                  </a:cubicBezTo>
                  <a:close/>
                  <a:moveTo>
                    <a:pt x="1076" y="570"/>
                  </a:moveTo>
                  <a:cubicBezTo>
                    <a:pt x="1092" y="570"/>
                    <a:pt x="1092" y="570"/>
                    <a:pt x="1092" y="570"/>
                  </a:cubicBezTo>
                  <a:cubicBezTo>
                    <a:pt x="1092" y="573"/>
                    <a:pt x="1092" y="573"/>
                    <a:pt x="1092" y="573"/>
                  </a:cubicBezTo>
                  <a:cubicBezTo>
                    <a:pt x="1076" y="573"/>
                    <a:pt x="1076" y="573"/>
                    <a:pt x="1076" y="573"/>
                  </a:cubicBezTo>
                  <a:cubicBezTo>
                    <a:pt x="1076" y="570"/>
                    <a:pt x="1076" y="570"/>
                    <a:pt x="1076" y="570"/>
                  </a:cubicBez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4440600" y="2386080"/>
              <a:ext cx="1547280" cy="19335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716" h="895">
                  <a:moveTo>
                    <a:pt x="716" y="895"/>
                  </a:moveTo>
                  <a:lnTo>
                    <a:pt x="0" y="895"/>
                  </a:lnTo>
                  <a:lnTo>
                    <a:pt x="357" y="0"/>
                  </a:lnTo>
                  <a:lnTo>
                    <a:pt x="716" y="895"/>
                  </a:lnTo>
                  <a:close/>
                </a:path>
              </a:pathLst>
            </a:custGeom>
            <a:solidFill>
              <a:srgbClr val="4b5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4440600" y="2386080"/>
              <a:ext cx="771480" cy="193356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357" h="895">
                  <a:moveTo>
                    <a:pt x="357" y="895"/>
                  </a:moveTo>
                  <a:lnTo>
                    <a:pt x="0" y="895"/>
                  </a:lnTo>
                  <a:lnTo>
                    <a:pt x="357" y="0"/>
                  </a:lnTo>
                  <a:lnTo>
                    <a:pt x="357" y="895"/>
                  </a:lnTo>
                  <a:close/>
                </a:path>
              </a:pathLst>
            </a:custGeom>
            <a:solidFill>
              <a:srgbClr val="b8b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4440600" y="3645720"/>
              <a:ext cx="1547280" cy="67392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716" h="312">
                  <a:moveTo>
                    <a:pt x="716" y="312"/>
                  </a:moveTo>
                  <a:lnTo>
                    <a:pt x="0" y="312"/>
                  </a:lnTo>
                  <a:lnTo>
                    <a:pt x="357" y="0"/>
                  </a:lnTo>
                  <a:lnTo>
                    <a:pt x="716" y="312"/>
                  </a:lnTo>
                  <a:close/>
                </a:path>
              </a:pathLst>
            </a:custGeom>
            <a:solidFill>
              <a:srgbClr val="757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3211200" y="1819800"/>
              <a:ext cx="1545120" cy="2499840"/>
            </a:xfrm>
            <a:custGeom>
              <a:avLst/>
              <a:gdLst>
                <a:gd name="textAreaLeft" fmla="*/ 0 w 1545120"/>
                <a:gd name="textAreaRight" fmla="*/ 1545480 w 1545120"/>
                <a:gd name="textAreaTop" fmla="*/ 0 h 2499840"/>
                <a:gd name="textAreaBottom" fmla="*/ 2500200 h 2499840"/>
              </a:gdLst>
              <a:ahLst/>
              <a:rect l="textAreaLeft" t="textAreaTop" r="textAreaRight" b="textAreaBottom"/>
              <a:pathLst>
                <a:path w="715" h="1157">
                  <a:moveTo>
                    <a:pt x="715" y="1157"/>
                  </a:moveTo>
                  <a:lnTo>
                    <a:pt x="0" y="1157"/>
                  </a:lnTo>
                  <a:lnTo>
                    <a:pt x="359" y="0"/>
                  </a:lnTo>
                  <a:lnTo>
                    <a:pt x="715" y="1157"/>
                  </a:ln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3211200" y="1819800"/>
              <a:ext cx="775800" cy="24998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2499840"/>
                <a:gd name="textAreaBottom" fmla="*/ 2500200 h 2499840"/>
              </a:gdLst>
              <a:ahLst/>
              <a:rect l="textAreaLeft" t="textAreaTop" r="textAreaRight" b="textAreaBottom"/>
              <a:pathLst>
                <a:path w="359" h="1157">
                  <a:moveTo>
                    <a:pt x="359" y="1157"/>
                  </a:moveTo>
                  <a:lnTo>
                    <a:pt x="0" y="1157"/>
                  </a:lnTo>
                  <a:lnTo>
                    <a:pt x="359" y="0"/>
                  </a:lnTo>
                  <a:lnTo>
                    <a:pt x="359" y="1157"/>
                  </a:lnTo>
                  <a:close/>
                </a:path>
              </a:pathLst>
            </a:custGeom>
            <a:solidFill>
              <a:srgbClr val="f4a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211200" y="3453480"/>
              <a:ext cx="1545120" cy="866160"/>
            </a:xfrm>
            <a:custGeom>
              <a:avLst/>
              <a:gdLst>
                <a:gd name="textAreaLeft" fmla="*/ 0 w 1545120"/>
                <a:gd name="textAreaRight" fmla="*/ 1545480 w 1545120"/>
                <a:gd name="textAreaTop" fmla="*/ 0 h 866160"/>
                <a:gd name="textAreaBottom" fmla="*/ 866520 h 866160"/>
              </a:gdLst>
              <a:ahLst/>
              <a:rect l="textAreaLeft" t="textAreaTop" r="textAreaRight" b="textAreaBottom"/>
              <a:pathLst>
                <a:path w="715" h="401">
                  <a:moveTo>
                    <a:pt x="715" y="401"/>
                  </a:moveTo>
                  <a:lnTo>
                    <a:pt x="0" y="401"/>
                  </a:lnTo>
                  <a:lnTo>
                    <a:pt x="359" y="0"/>
                  </a:lnTo>
                  <a:lnTo>
                    <a:pt x="715" y="401"/>
                  </a:lnTo>
                  <a:close/>
                </a:path>
              </a:pathLst>
            </a:custGeom>
            <a:solidFill>
              <a:srgbClr val="ee7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1985760" y="2064240"/>
              <a:ext cx="1540800" cy="225576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2255760"/>
                <a:gd name="textAreaBottom" fmla="*/ 2256120 h 2255760"/>
              </a:gdLst>
              <a:ahLst/>
              <a:rect l="textAreaLeft" t="textAreaTop" r="textAreaRight" b="textAreaBottom"/>
              <a:pathLst>
                <a:path w="713" h="1044">
                  <a:moveTo>
                    <a:pt x="713" y="1044"/>
                  </a:moveTo>
                  <a:lnTo>
                    <a:pt x="0" y="1044"/>
                  </a:lnTo>
                  <a:lnTo>
                    <a:pt x="356" y="0"/>
                  </a:lnTo>
                  <a:lnTo>
                    <a:pt x="713" y="1044"/>
                  </a:lnTo>
                  <a:close/>
                </a:path>
              </a:pathLst>
            </a:custGeom>
            <a:solidFill>
              <a:srgbClr val="ee9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1985760" y="2064240"/>
              <a:ext cx="769320" cy="225576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2255760"/>
                <a:gd name="textAreaBottom" fmla="*/ 2256120 h 2255760"/>
              </a:gdLst>
              <a:ahLst/>
              <a:rect l="textAreaLeft" t="textAreaTop" r="textAreaRight" b="textAreaBottom"/>
              <a:pathLst>
                <a:path w="356" h="1044">
                  <a:moveTo>
                    <a:pt x="356" y="1044"/>
                  </a:moveTo>
                  <a:lnTo>
                    <a:pt x="0" y="1044"/>
                  </a:lnTo>
                  <a:lnTo>
                    <a:pt x="356" y="0"/>
                  </a:lnTo>
                  <a:lnTo>
                    <a:pt x="356" y="1044"/>
                  </a:lnTo>
                  <a:close/>
                </a:path>
              </a:pathLst>
            </a:custGeom>
            <a:solidFill>
              <a:srgbClr val="fdd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1985760" y="3539880"/>
              <a:ext cx="1540800" cy="77976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713" h="361">
                  <a:moveTo>
                    <a:pt x="713" y="361"/>
                  </a:moveTo>
                  <a:lnTo>
                    <a:pt x="0" y="361"/>
                  </a:lnTo>
                  <a:lnTo>
                    <a:pt x="356" y="0"/>
                  </a:lnTo>
                  <a:lnTo>
                    <a:pt x="713" y="361"/>
                  </a:ln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749520" y="2753280"/>
              <a:ext cx="1547280" cy="15663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w="716" h="725">
                  <a:moveTo>
                    <a:pt x="716" y="725"/>
                  </a:moveTo>
                  <a:lnTo>
                    <a:pt x="0" y="725"/>
                  </a:lnTo>
                  <a:lnTo>
                    <a:pt x="359" y="0"/>
                  </a:lnTo>
                  <a:lnTo>
                    <a:pt x="716" y="725"/>
                  </a:lnTo>
                  <a:close/>
                </a:path>
              </a:pathLst>
            </a:custGeom>
            <a:solidFill>
              <a:srgbClr val="369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4"/>
            <p:cNvSpPr/>
            <p:nvPr/>
          </p:nvSpPr>
          <p:spPr>
            <a:xfrm>
              <a:off x="749520" y="2753280"/>
              <a:ext cx="775800" cy="156636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w="359" h="725">
                  <a:moveTo>
                    <a:pt x="359" y="725"/>
                  </a:moveTo>
                  <a:lnTo>
                    <a:pt x="0" y="725"/>
                  </a:lnTo>
                  <a:lnTo>
                    <a:pt x="359" y="0"/>
                  </a:lnTo>
                  <a:lnTo>
                    <a:pt x="359" y="725"/>
                  </a:lnTo>
                  <a:close/>
                </a:path>
              </a:pathLst>
            </a:custGeom>
            <a:solidFill>
              <a:srgbClr val="bc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5"/>
            <p:cNvSpPr/>
            <p:nvPr/>
          </p:nvSpPr>
          <p:spPr>
            <a:xfrm>
              <a:off x="749520" y="3779640"/>
              <a:ext cx="1547280" cy="54000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716" h="250">
                  <a:moveTo>
                    <a:pt x="716" y="250"/>
                  </a:moveTo>
                  <a:lnTo>
                    <a:pt x="0" y="250"/>
                  </a:lnTo>
                  <a:lnTo>
                    <a:pt x="359" y="0"/>
                  </a:lnTo>
                  <a:lnTo>
                    <a:pt x="716" y="250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组合 2065"/>
            <p:cNvGrpSpPr/>
            <p:nvPr/>
          </p:nvGrpSpPr>
          <p:grpSpPr>
            <a:xfrm>
              <a:off x="1066680" y="2437920"/>
              <a:ext cx="912960" cy="300240"/>
              <a:chOff x="1066680" y="2437920"/>
              <a:chExt cx="912960" cy="300240"/>
            </a:xfrm>
          </p:grpSpPr>
          <p:sp>
            <p:nvSpPr>
              <p:cNvPr id="502" name="Freeform 39"/>
              <p:cNvSpPr/>
              <p:nvPr/>
            </p:nvSpPr>
            <p:spPr>
              <a:xfrm>
                <a:off x="1066680" y="2437920"/>
                <a:ext cx="912960" cy="30024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79" h="59">
                    <a:moveTo>
                      <a:pt x="21" y="0"/>
                    </a:moveTo>
                    <a:cubicBezTo>
                      <a:pt x="158" y="0"/>
                      <a:pt x="158" y="0"/>
                      <a:pt x="158" y="0"/>
                    </a:cubicBezTo>
                    <a:cubicBezTo>
                      <a:pt x="170" y="0"/>
                      <a:pt x="179" y="10"/>
                      <a:pt x="179" y="21"/>
                    </a:cubicBezTo>
                    <a:cubicBezTo>
                      <a:pt x="179" y="37"/>
                      <a:pt x="179" y="37"/>
                      <a:pt x="179" y="37"/>
                    </a:cubicBezTo>
                    <a:cubicBezTo>
                      <a:pt x="179" y="49"/>
                      <a:pt x="170" y="59"/>
                      <a:pt x="158" y="59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9" y="59"/>
                      <a:pt x="0" y="49"/>
                      <a:pt x="0" y="37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0"/>
                      <a:pt x="9" y="0"/>
                      <a:pt x="21" y="0"/>
                    </a:cubicBezTo>
                    <a:close/>
                  </a:path>
                </a:pathLst>
              </a:custGeom>
              <a:solidFill>
                <a:srgbClr val="bc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0"/>
              <p:cNvSpPr/>
              <p:nvPr/>
            </p:nvSpPr>
            <p:spPr>
              <a:xfrm>
                <a:off x="1101240" y="2476800"/>
                <a:ext cx="843840" cy="220320"/>
              </a:xfrm>
              <a:custGeom>
                <a:avLst/>
                <a:gdLst>
                  <a:gd name="textAreaLeft" fmla="*/ 0 w 843840"/>
                  <a:gd name="textAreaRight" fmla="*/ 844200 w 8438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65" h="43">
                    <a:moveTo>
                      <a:pt x="14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159" y="0"/>
                      <a:pt x="165" y="6"/>
                      <a:pt x="165" y="13"/>
                    </a:cubicBezTo>
                    <a:cubicBezTo>
                      <a:pt x="165" y="29"/>
                      <a:pt x="165" y="29"/>
                      <a:pt x="165" y="29"/>
                    </a:cubicBezTo>
                    <a:cubicBezTo>
                      <a:pt x="165" y="37"/>
                      <a:pt x="159" y="43"/>
                      <a:pt x="151" y="43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6" y="43"/>
                      <a:pt x="0" y="37"/>
                      <a:pt x="0" y="2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5cb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2061"/>
              <p:cNvSpPr/>
              <p:nvPr/>
            </p:nvSpPr>
            <p:spPr>
              <a:xfrm>
                <a:off x="1242000" y="24620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2064"/>
            <p:cNvGrpSpPr/>
            <p:nvPr/>
          </p:nvGrpSpPr>
          <p:grpSpPr>
            <a:xfrm>
              <a:off x="2297160" y="1737720"/>
              <a:ext cx="918000" cy="300240"/>
              <a:chOff x="2297160" y="1737720"/>
              <a:chExt cx="918000" cy="300240"/>
            </a:xfrm>
          </p:grpSpPr>
          <p:sp>
            <p:nvSpPr>
              <p:cNvPr id="506" name="Freeform 36"/>
              <p:cNvSpPr/>
              <p:nvPr/>
            </p:nvSpPr>
            <p:spPr>
              <a:xfrm>
                <a:off x="2297160" y="1737720"/>
                <a:ext cx="918000" cy="3002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80" h="59">
                    <a:moveTo>
                      <a:pt x="21" y="0"/>
                    </a:moveTo>
                    <a:cubicBezTo>
                      <a:pt x="159" y="0"/>
                      <a:pt x="159" y="0"/>
                      <a:pt x="159" y="0"/>
                    </a:cubicBezTo>
                    <a:cubicBezTo>
                      <a:pt x="170" y="0"/>
                      <a:pt x="180" y="10"/>
                      <a:pt x="180" y="22"/>
                    </a:cubicBezTo>
                    <a:cubicBezTo>
                      <a:pt x="180" y="38"/>
                      <a:pt x="180" y="38"/>
                      <a:pt x="180" y="38"/>
                    </a:cubicBezTo>
                    <a:cubicBezTo>
                      <a:pt x="180" y="50"/>
                      <a:pt x="170" y="59"/>
                      <a:pt x="159" y="59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10" y="59"/>
                      <a:pt x="0" y="50"/>
                      <a:pt x="0" y="38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1" y="0"/>
                    </a:cubicBezTo>
                    <a:close/>
                  </a:path>
                </a:pathLst>
              </a:custGeom>
              <a:solidFill>
                <a:srgbClr val="fdd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7"/>
              <p:cNvSpPr/>
              <p:nvPr/>
            </p:nvSpPr>
            <p:spPr>
              <a:xfrm>
                <a:off x="2338200" y="1778760"/>
                <a:ext cx="835920" cy="22464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64" h="44">
                    <a:moveTo>
                      <a:pt x="13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158" y="0"/>
                      <a:pt x="164" y="6"/>
                      <a:pt x="164" y="14"/>
                    </a:cubicBezTo>
                    <a:cubicBezTo>
                      <a:pt x="164" y="30"/>
                      <a:pt x="164" y="30"/>
                      <a:pt x="164" y="30"/>
                    </a:cubicBezTo>
                    <a:cubicBezTo>
                      <a:pt x="164" y="37"/>
                      <a:pt x="158" y="44"/>
                      <a:pt x="151" y="44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6" y="44"/>
                      <a:pt x="0" y="37"/>
                      <a:pt x="0" y="3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3" y="0"/>
                    </a:cubicBezTo>
                    <a:close/>
                  </a:path>
                </a:pathLst>
              </a:custGeom>
              <a:solidFill>
                <a:srgbClr val="ee9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Box 46"/>
              <p:cNvSpPr/>
              <p:nvPr/>
            </p:nvSpPr>
            <p:spPr>
              <a:xfrm>
                <a:off x="2467080" y="17600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组合 2063"/>
            <p:cNvGrpSpPr/>
            <p:nvPr/>
          </p:nvGrpSpPr>
          <p:grpSpPr>
            <a:xfrm>
              <a:off x="3526560" y="1502280"/>
              <a:ext cx="913680" cy="295920"/>
              <a:chOff x="3526560" y="1502280"/>
              <a:chExt cx="913680" cy="295920"/>
            </a:xfrm>
          </p:grpSpPr>
          <p:sp>
            <p:nvSpPr>
              <p:cNvPr id="510" name="Freeform 30"/>
              <p:cNvSpPr/>
              <p:nvPr/>
            </p:nvSpPr>
            <p:spPr>
              <a:xfrm>
                <a:off x="3526560" y="1502280"/>
                <a:ext cx="913680" cy="295920"/>
              </a:xfrm>
              <a:custGeom>
                <a:avLst/>
                <a:gdLst>
                  <a:gd name="textAreaLeft" fmla="*/ 0 w 913680"/>
                  <a:gd name="textAreaRight" fmla="*/ 914040 w 91368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179" h="58">
                    <a:moveTo>
                      <a:pt x="21" y="0"/>
                    </a:moveTo>
                    <a:cubicBezTo>
                      <a:pt x="158" y="0"/>
                      <a:pt x="158" y="0"/>
                      <a:pt x="158" y="0"/>
                    </a:cubicBezTo>
                    <a:cubicBezTo>
                      <a:pt x="170" y="0"/>
                      <a:pt x="179" y="9"/>
                      <a:pt x="179" y="21"/>
                    </a:cubicBezTo>
                    <a:cubicBezTo>
                      <a:pt x="179" y="37"/>
                      <a:pt x="179" y="37"/>
                      <a:pt x="179" y="37"/>
                    </a:cubicBezTo>
                    <a:cubicBezTo>
                      <a:pt x="179" y="49"/>
                      <a:pt x="170" y="58"/>
                      <a:pt x="158" y="58"/>
                    </a:cubicBezTo>
                    <a:cubicBezTo>
                      <a:pt x="21" y="58"/>
                      <a:pt x="21" y="58"/>
                      <a:pt x="21" y="58"/>
                    </a:cubicBezTo>
                    <a:cubicBezTo>
                      <a:pt x="9" y="58"/>
                      <a:pt x="0" y="49"/>
                      <a:pt x="0" y="37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9"/>
                      <a:pt x="9" y="0"/>
                      <a:pt x="21" y="0"/>
                    </a:cubicBezTo>
                    <a:close/>
                  </a:path>
                </a:pathLst>
              </a:custGeom>
              <a:solidFill>
                <a:srgbClr val="f4a7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"/>
              <p:cNvSpPr/>
              <p:nvPr/>
            </p:nvSpPr>
            <p:spPr>
              <a:xfrm>
                <a:off x="3563280" y="1539000"/>
                <a:ext cx="840240" cy="224640"/>
              </a:xfrm>
              <a:custGeom>
                <a:avLst/>
                <a:gdLst>
                  <a:gd name="textAreaLeft" fmla="*/ 0 w 840240"/>
                  <a:gd name="textAreaRight" fmla="*/ 840600 w 8402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65" h="44">
                    <a:moveTo>
                      <a:pt x="14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159" y="0"/>
                      <a:pt x="165" y="6"/>
                      <a:pt x="165" y="14"/>
                    </a:cubicBezTo>
                    <a:cubicBezTo>
                      <a:pt x="165" y="30"/>
                      <a:pt x="165" y="30"/>
                      <a:pt x="165" y="30"/>
                    </a:cubicBezTo>
                    <a:cubicBezTo>
                      <a:pt x="165" y="38"/>
                      <a:pt x="159" y="44"/>
                      <a:pt x="151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6" y="44"/>
                      <a:pt x="0" y="38"/>
                      <a:pt x="0" y="3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e84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48"/>
              <p:cNvSpPr/>
              <p:nvPr/>
            </p:nvSpPr>
            <p:spPr>
              <a:xfrm>
                <a:off x="3698640" y="152208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2062"/>
            <p:cNvGrpSpPr/>
            <p:nvPr/>
          </p:nvGrpSpPr>
          <p:grpSpPr>
            <a:xfrm>
              <a:off x="4755600" y="2070720"/>
              <a:ext cx="913680" cy="300240"/>
              <a:chOff x="4755600" y="2070720"/>
              <a:chExt cx="913680" cy="300240"/>
            </a:xfrm>
          </p:grpSpPr>
          <p:sp>
            <p:nvSpPr>
              <p:cNvPr id="514" name="Freeform 33"/>
              <p:cNvSpPr/>
              <p:nvPr/>
            </p:nvSpPr>
            <p:spPr>
              <a:xfrm>
                <a:off x="4755600" y="2070720"/>
                <a:ext cx="913680" cy="300240"/>
              </a:xfrm>
              <a:custGeom>
                <a:avLst/>
                <a:gdLst>
                  <a:gd name="textAreaLeft" fmla="*/ 0 w 913680"/>
                  <a:gd name="textAreaRight" fmla="*/ 914040 w 91368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79" h="59">
                    <a:moveTo>
                      <a:pt x="21" y="0"/>
                    </a:moveTo>
                    <a:cubicBezTo>
                      <a:pt x="158" y="0"/>
                      <a:pt x="158" y="0"/>
                      <a:pt x="158" y="0"/>
                    </a:cubicBezTo>
                    <a:cubicBezTo>
                      <a:pt x="170" y="0"/>
                      <a:pt x="179" y="10"/>
                      <a:pt x="179" y="21"/>
                    </a:cubicBezTo>
                    <a:cubicBezTo>
                      <a:pt x="179" y="38"/>
                      <a:pt x="179" y="38"/>
                      <a:pt x="179" y="38"/>
                    </a:cubicBezTo>
                    <a:cubicBezTo>
                      <a:pt x="179" y="49"/>
                      <a:pt x="170" y="59"/>
                      <a:pt x="158" y="59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9" y="59"/>
                      <a:pt x="0" y="49"/>
                      <a:pt x="0" y="38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0"/>
                      <a:pt x="9" y="0"/>
                      <a:pt x="21" y="0"/>
                    </a:cubicBezTo>
                    <a:close/>
                  </a:path>
                </a:pathLst>
              </a:custGeom>
              <a:solidFill>
                <a:srgbClr val="b8b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4"/>
              <p:cNvSpPr/>
              <p:nvPr/>
            </p:nvSpPr>
            <p:spPr>
              <a:xfrm>
                <a:off x="4792320" y="2109600"/>
                <a:ext cx="842400" cy="220320"/>
              </a:xfrm>
              <a:custGeom>
                <a:avLst/>
                <a:gdLst>
                  <a:gd name="textAreaLeft" fmla="*/ 0 w 842400"/>
                  <a:gd name="textAreaRight" fmla="*/ 842760 w 8424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65" h="43">
                    <a:moveTo>
                      <a:pt x="14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159" y="0"/>
                      <a:pt x="165" y="6"/>
                      <a:pt x="165" y="13"/>
                    </a:cubicBezTo>
                    <a:cubicBezTo>
                      <a:pt x="165" y="30"/>
                      <a:pt x="165" y="30"/>
                      <a:pt x="165" y="30"/>
                    </a:cubicBezTo>
                    <a:cubicBezTo>
                      <a:pt x="165" y="37"/>
                      <a:pt x="159" y="43"/>
                      <a:pt x="151" y="43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6" y="43"/>
                      <a:pt x="0" y="37"/>
                      <a:pt x="0" y="3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4b5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Box 49"/>
              <p:cNvSpPr/>
              <p:nvPr/>
            </p:nvSpPr>
            <p:spPr>
              <a:xfrm>
                <a:off x="4922280" y="210168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TextBox 2066"/>
            <p:cNvSpPr/>
            <p:nvPr/>
          </p:nvSpPr>
          <p:spPr>
            <a:xfrm>
              <a:off x="1258560" y="3967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55"/>
            <p:cNvSpPr/>
            <p:nvPr/>
          </p:nvSpPr>
          <p:spPr>
            <a:xfrm>
              <a:off x="2517840" y="3967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56"/>
            <p:cNvSpPr/>
            <p:nvPr/>
          </p:nvSpPr>
          <p:spPr>
            <a:xfrm>
              <a:off x="3734280" y="3967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57"/>
            <p:cNvSpPr/>
            <p:nvPr/>
          </p:nvSpPr>
          <p:spPr>
            <a:xfrm>
              <a:off x="4932720" y="3967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068"/>
            <p:cNvSpPr/>
            <p:nvPr/>
          </p:nvSpPr>
          <p:spPr>
            <a:xfrm>
              <a:off x="389880" y="41864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63"/>
            <p:cNvSpPr/>
            <p:nvPr/>
          </p:nvSpPr>
          <p:spPr>
            <a:xfrm>
              <a:off x="305640" y="3602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64"/>
            <p:cNvSpPr/>
            <p:nvPr/>
          </p:nvSpPr>
          <p:spPr>
            <a:xfrm>
              <a:off x="305640" y="3024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65"/>
            <p:cNvSpPr/>
            <p:nvPr/>
          </p:nvSpPr>
          <p:spPr>
            <a:xfrm>
              <a:off x="305640" y="2450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66"/>
            <p:cNvSpPr/>
            <p:nvPr/>
          </p:nvSpPr>
          <p:spPr>
            <a:xfrm>
              <a:off x="305640" y="1866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67"/>
            <p:cNvSpPr/>
            <p:nvPr/>
          </p:nvSpPr>
          <p:spPr>
            <a:xfrm>
              <a:off x="222120" y="12762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6"/>
          <p:cNvSpPr/>
          <p:nvPr/>
        </p:nvSpPr>
        <p:spPr>
          <a:xfrm>
            <a:off x="3927600" y="765000"/>
            <a:ext cx="4281480" cy="4051440"/>
          </a:xfrm>
          <a:custGeom>
            <a:avLst/>
            <a:gdLst>
              <a:gd name="textAreaLeft" fmla="*/ 0 w 4281480"/>
              <a:gd name="textAreaRight" fmla="*/ 4281840 w 4281480"/>
              <a:gd name="textAreaTop" fmla="*/ 0 h 4051440"/>
              <a:gd name="textAreaBottom" fmla="*/ 4051800 h 4051440"/>
            </a:gdLst>
            <a:ahLst/>
            <a:rect l="textAreaLeft" t="textAreaTop" r="textAreaRight" b="textAreaBottom"/>
            <a:pathLst>
              <a:path w="645" h="610">
                <a:moveTo>
                  <a:pt x="249" y="4"/>
                </a:moveTo>
                <a:cubicBezTo>
                  <a:pt x="250" y="4"/>
                  <a:pt x="250" y="4"/>
                  <a:pt x="250" y="4"/>
                </a:cubicBezTo>
                <a:cubicBezTo>
                  <a:pt x="249" y="5"/>
                  <a:pt x="249" y="5"/>
                  <a:pt x="249" y="6"/>
                </a:cubicBezTo>
                <a:cubicBezTo>
                  <a:pt x="252" y="9"/>
                  <a:pt x="252" y="9"/>
                  <a:pt x="252" y="9"/>
                </a:cubicBezTo>
                <a:cubicBezTo>
                  <a:pt x="249" y="10"/>
                  <a:pt x="248" y="16"/>
                  <a:pt x="244" y="13"/>
                </a:cubicBezTo>
                <a:cubicBezTo>
                  <a:pt x="243" y="13"/>
                  <a:pt x="242" y="11"/>
                  <a:pt x="241" y="12"/>
                </a:cubicBezTo>
                <a:cubicBezTo>
                  <a:pt x="241" y="8"/>
                  <a:pt x="240" y="4"/>
                  <a:pt x="242" y="0"/>
                </a:cubicBezTo>
                <a:cubicBezTo>
                  <a:pt x="245" y="0"/>
                  <a:pt x="246" y="5"/>
                  <a:pt x="249" y="4"/>
                </a:cubicBezTo>
                <a:close/>
                <a:moveTo>
                  <a:pt x="257" y="12"/>
                </a:moveTo>
                <a:cubicBezTo>
                  <a:pt x="257" y="11"/>
                  <a:pt x="257" y="11"/>
                  <a:pt x="257" y="10"/>
                </a:cubicBezTo>
                <a:cubicBezTo>
                  <a:pt x="259" y="10"/>
                  <a:pt x="262" y="12"/>
                  <a:pt x="262" y="14"/>
                </a:cubicBezTo>
                <a:cubicBezTo>
                  <a:pt x="266" y="15"/>
                  <a:pt x="260" y="19"/>
                  <a:pt x="265" y="19"/>
                </a:cubicBezTo>
                <a:cubicBezTo>
                  <a:pt x="266" y="20"/>
                  <a:pt x="266" y="20"/>
                  <a:pt x="266" y="20"/>
                </a:cubicBezTo>
                <a:cubicBezTo>
                  <a:pt x="264" y="27"/>
                  <a:pt x="260" y="20"/>
                  <a:pt x="256" y="22"/>
                </a:cubicBezTo>
                <a:cubicBezTo>
                  <a:pt x="253" y="23"/>
                  <a:pt x="253" y="17"/>
                  <a:pt x="249" y="19"/>
                </a:cubicBezTo>
                <a:cubicBezTo>
                  <a:pt x="250" y="18"/>
                  <a:pt x="251" y="16"/>
                  <a:pt x="250" y="15"/>
                </a:cubicBezTo>
                <a:cubicBezTo>
                  <a:pt x="249" y="15"/>
                  <a:pt x="249" y="15"/>
                  <a:pt x="249" y="15"/>
                </a:cubicBezTo>
                <a:cubicBezTo>
                  <a:pt x="249" y="13"/>
                  <a:pt x="252" y="12"/>
                  <a:pt x="253" y="10"/>
                </a:cubicBezTo>
                <a:cubicBezTo>
                  <a:pt x="255" y="10"/>
                  <a:pt x="256" y="11"/>
                  <a:pt x="257" y="12"/>
                </a:cubicBezTo>
                <a:close/>
                <a:moveTo>
                  <a:pt x="380" y="14"/>
                </a:moveTo>
                <a:cubicBezTo>
                  <a:pt x="381" y="17"/>
                  <a:pt x="382" y="21"/>
                  <a:pt x="386" y="22"/>
                </a:cubicBezTo>
                <a:cubicBezTo>
                  <a:pt x="387" y="21"/>
                  <a:pt x="387" y="21"/>
                  <a:pt x="387" y="21"/>
                </a:cubicBezTo>
                <a:cubicBezTo>
                  <a:pt x="385" y="21"/>
                  <a:pt x="385" y="19"/>
                  <a:pt x="383" y="18"/>
                </a:cubicBezTo>
                <a:cubicBezTo>
                  <a:pt x="384" y="16"/>
                  <a:pt x="383" y="15"/>
                  <a:pt x="382" y="14"/>
                </a:cubicBezTo>
                <a:cubicBezTo>
                  <a:pt x="390" y="15"/>
                  <a:pt x="390" y="15"/>
                  <a:pt x="390" y="15"/>
                </a:cubicBezTo>
                <a:cubicBezTo>
                  <a:pt x="389" y="16"/>
                  <a:pt x="389" y="16"/>
                  <a:pt x="389" y="16"/>
                </a:cubicBezTo>
                <a:cubicBezTo>
                  <a:pt x="390" y="17"/>
                  <a:pt x="391" y="19"/>
                  <a:pt x="390" y="20"/>
                </a:cubicBezTo>
                <a:cubicBezTo>
                  <a:pt x="388" y="20"/>
                  <a:pt x="387" y="21"/>
                  <a:pt x="386" y="22"/>
                </a:cubicBezTo>
                <a:cubicBezTo>
                  <a:pt x="387" y="23"/>
                  <a:pt x="388" y="22"/>
                  <a:pt x="389" y="22"/>
                </a:cubicBezTo>
                <a:cubicBezTo>
                  <a:pt x="388" y="23"/>
                  <a:pt x="387" y="23"/>
                  <a:pt x="386" y="23"/>
                </a:cubicBezTo>
                <a:cubicBezTo>
                  <a:pt x="382" y="26"/>
                  <a:pt x="382" y="26"/>
                  <a:pt x="382" y="26"/>
                </a:cubicBezTo>
                <a:cubicBezTo>
                  <a:pt x="382" y="26"/>
                  <a:pt x="382" y="25"/>
                  <a:pt x="381" y="26"/>
                </a:cubicBezTo>
                <a:cubicBezTo>
                  <a:pt x="379" y="26"/>
                  <a:pt x="382" y="27"/>
                  <a:pt x="381" y="28"/>
                </a:cubicBezTo>
                <a:cubicBezTo>
                  <a:pt x="380" y="27"/>
                  <a:pt x="379" y="28"/>
                  <a:pt x="378" y="28"/>
                </a:cubicBezTo>
                <a:cubicBezTo>
                  <a:pt x="378" y="28"/>
                  <a:pt x="378" y="28"/>
                  <a:pt x="378" y="28"/>
                </a:cubicBezTo>
                <a:cubicBezTo>
                  <a:pt x="376" y="25"/>
                  <a:pt x="373" y="27"/>
                  <a:pt x="371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0" y="22"/>
                  <a:pt x="369" y="20"/>
                  <a:pt x="368" y="18"/>
                </a:cubicBezTo>
                <a:cubicBezTo>
                  <a:pt x="370" y="17"/>
                  <a:pt x="368" y="15"/>
                  <a:pt x="370" y="14"/>
                </a:cubicBezTo>
                <a:cubicBezTo>
                  <a:pt x="373" y="15"/>
                  <a:pt x="374" y="17"/>
                  <a:pt x="377" y="19"/>
                </a:cubicBezTo>
                <a:cubicBezTo>
                  <a:pt x="378" y="17"/>
                  <a:pt x="375" y="15"/>
                  <a:pt x="377" y="13"/>
                </a:cubicBezTo>
                <a:cubicBezTo>
                  <a:pt x="378" y="13"/>
                  <a:pt x="379" y="14"/>
                  <a:pt x="380" y="14"/>
                </a:cubicBezTo>
                <a:close/>
                <a:moveTo>
                  <a:pt x="406" y="15"/>
                </a:moveTo>
                <a:cubicBezTo>
                  <a:pt x="405" y="17"/>
                  <a:pt x="404" y="18"/>
                  <a:pt x="402" y="18"/>
                </a:cubicBezTo>
                <a:cubicBezTo>
                  <a:pt x="399" y="16"/>
                  <a:pt x="395" y="18"/>
                  <a:pt x="394" y="14"/>
                </a:cubicBezTo>
                <a:cubicBezTo>
                  <a:pt x="396" y="16"/>
                  <a:pt x="398" y="13"/>
                  <a:pt x="400" y="15"/>
                </a:cubicBezTo>
                <a:cubicBezTo>
                  <a:pt x="401" y="13"/>
                  <a:pt x="405" y="13"/>
                  <a:pt x="406" y="15"/>
                </a:cubicBezTo>
                <a:close/>
                <a:moveTo>
                  <a:pt x="215" y="15"/>
                </a:moveTo>
                <a:cubicBezTo>
                  <a:pt x="213" y="14"/>
                  <a:pt x="213" y="14"/>
                  <a:pt x="213" y="14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15" y="15"/>
                  <a:pt x="215" y="15"/>
                  <a:pt x="215" y="15"/>
                </a:cubicBezTo>
                <a:close/>
                <a:moveTo>
                  <a:pt x="167" y="14"/>
                </a:moveTo>
                <a:cubicBezTo>
                  <a:pt x="167" y="13"/>
                  <a:pt x="167" y="13"/>
                  <a:pt x="167" y="13"/>
                </a:cubicBezTo>
                <a:cubicBezTo>
                  <a:pt x="168" y="12"/>
                  <a:pt x="168" y="12"/>
                  <a:pt x="168" y="12"/>
                </a:cubicBezTo>
                <a:cubicBezTo>
                  <a:pt x="168" y="12"/>
                  <a:pt x="168" y="12"/>
                  <a:pt x="168" y="12"/>
                </a:cubicBezTo>
                <a:cubicBezTo>
                  <a:pt x="167" y="14"/>
                  <a:pt x="167" y="14"/>
                  <a:pt x="167" y="14"/>
                </a:cubicBezTo>
                <a:close/>
                <a:moveTo>
                  <a:pt x="184" y="19"/>
                </a:moveTo>
                <a:cubicBezTo>
                  <a:pt x="182" y="19"/>
                  <a:pt x="182" y="21"/>
                  <a:pt x="181" y="22"/>
                </a:cubicBezTo>
                <a:cubicBezTo>
                  <a:pt x="180" y="20"/>
                  <a:pt x="180" y="20"/>
                  <a:pt x="179" y="18"/>
                </a:cubicBezTo>
                <a:cubicBezTo>
                  <a:pt x="179" y="17"/>
                  <a:pt x="181" y="16"/>
                  <a:pt x="181" y="15"/>
                </a:cubicBezTo>
                <a:cubicBezTo>
                  <a:pt x="182" y="16"/>
                  <a:pt x="182" y="18"/>
                  <a:pt x="184" y="19"/>
                </a:cubicBezTo>
                <a:close/>
                <a:moveTo>
                  <a:pt x="168" y="16"/>
                </a:moveTo>
                <a:cubicBezTo>
                  <a:pt x="168" y="17"/>
                  <a:pt x="167" y="17"/>
                  <a:pt x="166" y="17"/>
                </a:cubicBezTo>
                <a:cubicBezTo>
                  <a:pt x="167" y="16"/>
                  <a:pt x="167" y="16"/>
                  <a:pt x="167" y="16"/>
                </a:cubicBezTo>
                <a:cubicBezTo>
                  <a:pt x="168" y="16"/>
                  <a:pt x="168" y="16"/>
                  <a:pt x="168" y="16"/>
                </a:cubicBezTo>
                <a:close/>
                <a:moveTo>
                  <a:pt x="167" y="19"/>
                </a:moveTo>
                <a:cubicBezTo>
                  <a:pt x="168" y="18"/>
                  <a:pt x="168" y="18"/>
                  <a:pt x="168" y="18"/>
                </a:cubicBezTo>
                <a:cubicBezTo>
                  <a:pt x="168" y="19"/>
                  <a:pt x="166" y="20"/>
                  <a:pt x="168" y="20"/>
                </a:cubicBezTo>
                <a:cubicBezTo>
                  <a:pt x="168" y="20"/>
                  <a:pt x="168" y="20"/>
                  <a:pt x="168" y="20"/>
                </a:cubicBezTo>
                <a:cubicBezTo>
                  <a:pt x="168" y="20"/>
                  <a:pt x="168" y="20"/>
                  <a:pt x="168" y="20"/>
                </a:cubicBezTo>
                <a:cubicBezTo>
                  <a:pt x="168" y="21"/>
                  <a:pt x="167" y="20"/>
                  <a:pt x="167" y="20"/>
                </a:cubicBezTo>
                <a:cubicBezTo>
                  <a:pt x="166" y="21"/>
                  <a:pt x="166" y="21"/>
                  <a:pt x="166" y="21"/>
                </a:cubicBezTo>
                <a:cubicBezTo>
                  <a:pt x="167" y="22"/>
                  <a:pt x="169" y="22"/>
                  <a:pt x="170" y="23"/>
                </a:cubicBezTo>
                <a:cubicBezTo>
                  <a:pt x="170" y="24"/>
                  <a:pt x="169" y="24"/>
                  <a:pt x="169" y="24"/>
                </a:cubicBezTo>
                <a:cubicBezTo>
                  <a:pt x="170" y="25"/>
                  <a:pt x="170" y="25"/>
                  <a:pt x="170" y="25"/>
                </a:cubicBezTo>
                <a:cubicBezTo>
                  <a:pt x="169" y="26"/>
                  <a:pt x="169" y="27"/>
                  <a:pt x="167" y="27"/>
                </a:cubicBezTo>
                <a:cubicBezTo>
                  <a:pt x="167" y="26"/>
                  <a:pt x="168" y="26"/>
                  <a:pt x="168" y="26"/>
                </a:cubicBezTo>
                <a:cubicBezTo>
                  <a:pt x="167" y="25"/>
                  <a:pt x="166" y="25"/>
                  <a:pt x="165" y="23"/>
                </a:cubicBezTo>
                <a:cubicBezTo>
                  <a:pt x="164" y="24"/>
                  <a:pt x="164" y="24"/>
                  <a:pt x="164" y="24"/>
                </a:cubicBezTo>
                <a:cubicBezTo>
                  <a:pt x="163" y="23"/>
                  <a:pt x="163" y="23"/>
                  <a:pt x="163" y="23"/>
                </a:cubicBezTo>
                <a:cubicBezTo>
                  <a:pt x="165" y="22"/>
                  <a:pt x="167" y="24"/>
                  <a:pt x="168" y="24"/>
                </a:cubicBezTo>
                <a:cubicBezTo>
                  <a:pt x="169" y="24"/>
                  <a:pt x="169" y="24"/>
                  <a:pt x="169" y="24"/>
                </a:cubicBezTo>
                <a:cubicBezTo>
                  <a:pt x="169" y="24"/>
                  <a:pt x="169" y="24"/>
                  <a:pt x="169" y="24"/>
                </a:cubicBezTo>
                <a:cubicBezTo>
                  <a:pt x="169" y="21"/>
                  <a:pt x="166" y="22"/>
                  <a:pt x="165" y="21"/>
                </a:cubicBezTo>
                <a:cubicBezTo>
                  <a:pt x="166" y="20"/>
                  <a:pt x="166" y="19"/>
                  <a:pt x="166" y="18"/>
                </a:cubicBezTo>
                <a:cubicBezTo>
                  <a:pt x="166" y="18"/>
                  <a:pt x="167" y="19"/>
                  <a:pt x="167" y="19"/>
                </a:cubicBezTo>
                <a:close/>
                <a:moveTo>
                  <a:pt x="176" y="22"/>
                </a:moveTo>
                <a:cubicBezTo>
                  <a:pt x="177" y="24"/>
                  <a:pt x="179" y="21"/>
                  <a:pt x="180" y="23"/>
                </a:cubicBezTo>
                <a:cubicBezTo>
                  <a:pt x="180" y="24"/>
                  <a:pt x="177" y="23"/>
                  <a:pt x="178" y="25"/>
                </a:cubicBezTo>
                <a:cubicBezTo>
                  <a:pt x="180" y="27"/>
                  <a:pt x="180" y="27"/>
                  <a:pt x="180" y="27"/>
                </a:cubicBezTo>
                <a:cubicBezTo>
                  <a:pt x="179" y="27"/>
                  <a:pt x="178" y="28"/>
                  <a:pt x="176" y="28"/>
                </a:cubicBezTo>
                <a:cubicBezTo>
                  <a:pt x="175" y="27"/>
                  <a:pt x="175" y="25"/>
                  <a:pt x="175" y="23"/>
                </a:cubicBezTo>
                <a:cubicBezTo>
                  <a:pt x="176" y="23"/>
                  <a:pt x="176" y="23"/>
                  <a:pt x="177" y="23"/>
                </a:cubicBezTo>
                <a:cubicBezTo>
                  <a:pt x="176" y="22"/>
                  <a:pt x="175" y="22"/>
                  <a:pt x="175" y="21"/>
                </a:cubicBezTo>
                <a:cubicBezTo>
                  <a:pt x="176" y="21"/>
                  <a:pt x="176" y="19"/>
                  <a:pt x="177" y="21"/>
                </a:cubicBezTo>
                <a:cubicBezTo>
                  <a:pt x="176" y="22"/>
                  <a:pt x="176" y="22"/>
                  <a:pt x="176" y="22"/>
                </a:cubicBezTo>
                <a:close/>
                <a:moveTo>
                  <a:pt x="156" y="28"/>
                </a:moveTo>
                <a:cubicBezTo>
                  <a:pt x="157" y="28"/>
                  <a:pt x="157" y="27"/>
                  <a:pt x="157" y="27"/>
                </a:cubicBezTo>
                <a:cubicBezTo>
                  <a:pt x="158" y="28"/>
                  <a:pt x="158" y="29"/>
                  <a:pt x="158" y="30"/>
                </a:cubicBezTo>
                <a:cubicBezTo>
                  <a:pt x="157" y="29"/>
                  <a:pt x="156" y="30"/>
                  <a:pt x="156" y="31"/>
                </a:cubicBezTo>
                <a:cubicBezTo>
                  <a:pt x="156" y="31"/>
                  <a:pt x="156" y="31"/>
                  <a:pt x="156" y="31"/>
                </a:cubicBezTo>
                <a:cubicBezTo>
                  <a:pt x="156" y="32"/>
                  <a:pt x="154" y="32"/>
                  <a:pt x="154" y="34"/>
                </a:cubicBezTo>
                <a:cubicBezTo>
                  <a:pt x="156" y="34"/>
                  <a:pt x="154" y="35"/>
                  <a:pt x="154" y="36"/>
                </a:cubicBezTo>
                <a:cubicBezTo>
                  <a:pt x="153" y="35"/>
                  <a:pt x="153" y="35"/>
                  <a:pt x="153" y="35"/>
                </a:cubicBezTo>
                <a:cubicBezTo>
                  <a:pt x="152" y="36"/>
                  <a:pt x="152" y="36"/>
                  <a:pt x="152" y="36"/>
                </a:cubicBezTo>
                <a:cubicBezTo>
                  <a:pt x="149" y="34"/>
                  <a:pt x="154" y="31"/>
                  <a:pt x="150" y="31"/>
                </a:cubicBezTo>
                <a:cubicBezTo>
                  <a:pt x="152" y="31"/>
                  <a:pt x="154" y="30"/>
                  <a:pt x="155" y="28"/>
                </a:cubicBezTo>
                <a:cubicBezTo>
                  <a:pt x="154" y="27"/>
                  <a:pt x="154" y="27"/>
                  <a:pt x="154" y="27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6"/>
                  <a:pt x="155" y="27"/>
                  <a:pt x="156" y="28"/>
                </a:cubicBezTo>
                <a:close/>
                <a:moveTo>
                  <a:pt x="166" y="26"/>
                </a:moveTo>
                <a:cubicBezTo>
                  <a:pt x="164" y="26"/>
                  <a:pt x="164" y="26"/>
                  <a:pt x="164" y="26"/>
                </a:cubicBezTo>
                <a:cubicBezTo>
                  <a:pt x="165" y="26"/>
                  <a:pt x="165" y="26"/>
                  <a:pt x="165" y="26"/>
                </a:cubicBezTo>
                <a:cubicBezTo>
                  <a:pt x="166" y="26"/>
                  <a:pt x="166" y="26"/>
                  <a:pt x="166" y="26"/>
                </a:cubicBezTo>
                <a:close/>
                <a:moveTo>
                  <a:pt x="152" y="29"/>
                </a:moveTo>
                <a:cubicBezTo>
                  <a:pt x="152" y="30"/>
                  <a:pt x="152" y="30"/>
                  <a:pt x="152" y="30"/>
                </a:cubicBezTo>
                <a:cubicBezTo>
                  <a:pt x="151" y="29"/>
                  <a:pt x="150" y="27"/>
                  <a:pt x="149" y="29"/>
                </a:cubicBezTo>
                <a:cubicBezTo>
                  <a:pt x="147" y="30"/>
                  <a:pt x="148" y="31"/>
                  <a:pt x="149" y="32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47" y="34"/>
                  <a:pt x="147" y="31"/>
                  <a:pt x="145" y="32"/>
                </a:cubicBezTo>
                <a:cubicBezTo>
                  <a:pt x="144" y="30"/>
                  <a:pt x="147" y="29"/>
                  <a:pt x="148" y="28"/>
                </a:cubicBezTo>
                <a:cubicBezTo>
                  <a:pt x="149" y="28"/>
                  <a:pt x="151" y="28"/>
                  <a:pt x="152" y="29"/>
                </a:cubicBezTo>
                <a:close/>
                <a:moveTo>
                  <a:pt x="175" y="30"/>
                </a:moveTo>
                <a:cubicBezTo>
                  <a:pt x="173" y="32"/>
                  <a:pt x="173" y="32"/>
                  <a:pt x="173" y="32"/>
                </a:cubicBezTo>
                <a:cubicBezTo>
                  <a:pt x="172" y="32"/>
                  <a:pt x="172" y="31"/>
                  <a:pt x="172" y="31"/>
                </a:cubicBezTo>
                <a:cubicBezTo>
                  <a:pt x="171" y="32"/>
                  <a:pt x="171" y="32"/>
                  <a:pt x="171" y="32"/>
                </a:cubicBezTo>
                <a:cubicBezTo>
                  <a:pt x="172" y="32"/>
                  <a:pt x="172" y="32"/>
                  <a:pt x="172" y="32"/>
                </a:cubicBezTo>
                <a:cubicBezTo>
                  <a:pt x="171" y="33"/>
                  <a:pt x="171" y="33"/>
                  <a:pt x="170" y="33"/>
                </a:cubicBezTo>
                <a:cubicBezTo>
                  <a:pt x="169" y="31"/>
                  <a:pt x="169" y="31"/>
                  <a:pt x="169" y="31"/>
                </a:cubicBezTo>
                <a:cubicBezTo>
                  <a:pt x="170" y="30"/>
                  <a:pt x="172" y="31"/>
                  <a:pt x="172" y="28"/>
                </a:cubicBezTo>
                <a:cubicBezTo>
                  <a:pt x="173" y="28"/>
                  <a:pt x="174" y="29"/>
                  <a:pt x="175" y="30"/>
                </a:cubicBezTo>
                <a:close/>
                <a:moveTo>
                  <a:pt x="178" y="33"/>
                </a:moveTo>
                <a:cubicBezTo>
                  <a:pt x="178" y="33"/>
                  <a:pt x="177" y="34"/>
                  <a:pt x="177" y="34"/>
                </a:cubicBezTo>
                <a:cubicBezTo>
                  <a:pt x="176" y="33"/>
                  <a:pt x="176" y="33"/>
                  <a:pt x="176" y="33"/>
                </a:cubicBezTo>
                <a:cubicBezTo>
                  <a:pt x="177" y="32"/>
                  <a:pt x="177" y="32"/>
                  <a:pt x="177" y="32"/>
                </a:cubicBezTo>
                <a:cubicBezTo>
                  <a:pt x="178" y="32"/>
                  <a:pt x="178" y="32"/>
                  <a:pt x="178" y="33"/>
                </a:cubicBezTo>
                <a:close/>
                <a:moveTo>
                  <a:pt x="160" y="36"/>
                </a:moveTo>
                <a:cubicBezTo>
                  <a:pt x="159" y="37"/>
                  <a:pt x="159" y="37"/>
                  <a:pt x="159" y="37"/>
                </a:cubicBezTo>
                <a:cubicBezTo>
                  <a:pt x="158" y="37"/>
                  <a:pt x="158" y="36"/>
                  <a:pt x="159" y="35"/>
                </a:cubicBezTo>
                <a:cubicBezTo>
                  <a:pt x="160" y="35"/>
                  <a:pt x="160" y="36"/>
                  <a:pt x="160" y="36"/>
                </a:cubicBezTo>
                <a:close/>
                <a:moveTo>
                  <a:pt x="99" y="40"/>
                </a:moveTo>
                <a:cubicBezTo>
                  <a:pt x="99" y="41"/>
                  <a:pt x="100" y="42"/>
                  <a:pt x="100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0" y="41"/>
                  <a:pt x="101" y="39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3" y="40"/>
                  <a:pt x="103" y="40"/>
                  <a:pt x="103" y="40"/>
                </a:cubicBezTo>
                <a:cubicBezTo>
                  <a:pt x="105" y="37"/>
                  <a:pt x="108" y="41"/>
                  <a:pt x="111" y="41"/>
                </a:cubicBezTo>
                <a:cubicBezTo>
                  <a:pt x="112" y="44"/>
                  <a:pt x="108" y="46"/>
                  <a:pt x="108" y="48"/>
                </a:cubicBezTo>
                <a:cubicBezTo>
                  <a:pt x="107" y="48"/>
                  <a:pt x="105" y="47"/>
                  <a:pt x="105" y="50"/>
                </a:cubicBezTo>
                <a:cubicBezTo>
                  <a:pt x="105" y="50"/>
                  <a:pt x="105" y="50"/>
                  <a:pt x="105" y="50"/>
                </a:cubicBezTo>
                <a:cubicBezTo>
                  <a:pt x="103" y="49"/>
                  <a:pt x="101" y="47"/>
                  <a:pt x="99" y="49"/>
                </a:cubicBezTo>
                <a:cubicBezTo>
                  <a:pt x="96" y="47"/>
                  <a:pt x="96" y="47"/>
                  <a:pt x="96" y="47"/>
                </a:cubicBezTo>
                <a:cubicBezTo>
                  <a:pt x="98" y="47"/>
                  <a:pt x="99" y="46"/>
                  <a:pt x="100" y="45"/>
                </a:cubicBezTo>
                <a:cubicBezTo>
                  <a:pt x="98" y="42"/>
                  <a:pt x="91" y="48"/>
                  <a:pt x="92" y="42"/>
                </a:cubicBezTo>
                <a:cubicBezTo>
                  <a:pt x="93" y="42"/>
                  <a:pt x="94" y="41"/>
                  <a:pt x="94" y="42"/>
                </a:cubicBezTo>
                <a:cubicBezTo>
                  <a:pt x="95" y="40"/>
                  <a:pt x="95" y="40"/>
                  <a:pt x="95" y="38"/>
                </a:cubicBezTo>
                <a:cubicBezTo>
                  <a:pt x="97" y="39"/>
                  <a:pt x="96" y="42"/>
                  <a:pt x="99" y="40"/>
                </a:cubicBezTo>
                <a:close/>
                <a:moveTo>
                  <a:pt x="120" y="39"/>
                </a:moveTo>
                <a:cubicBezTo>
                  <a:pt x="123" y="38"/>
                  <a:pt x="123" y="38"/>
                  <a:pt x="123" y="38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0" y="39"/>
                  <a:pt x="120" y="39"/>
                  <a:pt x="120" y="39"/>
                </a:cubicBezTo>
                <a:close/>
                <a:moveTo>
                  <a:pt x="93" y="47"/>
                </a:moveTo>
                <a:cubicBezTo>
                  <a:pt x="93" y="49"/>
                  <a:pt x="95" y="50"/>
                  <a:pt x="96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98" y="52"/>
                  <a:pt x="98" y="52"/>
                  <a:pt x="97" y="52"/>
                </a:cubicBezTo>
                <a:cubicBezTo>
                  <a:pt x="100" y="54"/>
                  <a:pt x="100" y="54"/>
                  <a:pt x="100" y="54"/>
                </a:cubicBezTo>
                <a:cubicBezTo>
                  <a:pt x="98" y="54"/>
                  <a:pt x="95" y="57"/>
                  <a:pt x="96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5" y="61"/>
                  <a:pt x="95" y="61"/>
                  <a:pt x="95" y="62"/>
                </a:cubicBezTo>
                <a:cubicBezTo>
                  <a:pt x="95" y="62"/>
                  <a:pt x="95" y="64"/>
                  <a:pt x="95" y="65"/>
                </a:cubicBezTo>
                <a:cubicBezTo>
                  <a:pt x="93" y="67"/>
                  <a:pt x="93" y="71"/>
                  <a:pt x="93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92" y="73"/>
                  <a:pt x="91" y="73"/>
                  <a:pt x="90" y="72"/>
                </a:cubicBezTo>
                <a:cubicBezTo>
                  <a:pt x="90" y="71"/>
                  <a:pt x="91" y="71"/>
                  <a:pt x="91" y="71"/>
                </a:cubicBezTo>
                <a:cubicBezTo>
                  <a:pt x="88" y="70"/>
                  <a:pt x="86" y="68"/>
                  <a:pt x="85" y="66"/>
                </a:cubicBezTo>
                <a:cubicBezTo>
                  <a:pt x="86" y="65"/>
                  <a:pt x="86" y="65"/>
                  <a:pt x="86" y="65"/>
                </a:cubicBezTo>
                <a:cubicBezTo>
                  <a:pt x="87" y="66"/>
                  <a:pt x="88" y="65"/>
                  <a:pt x="89" y="66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4"/>
                  <a:pt x="88" y="64"/>
                  <a:pt x="88" y="64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2"/>
                  <a:pt x="88" y="62"/>
                  <a:pt x="87" y="63"/>
                </a:cubicBezTo>
                <a:cubicBezTo>
                  <a:pt x="87" y="64"/>
                  <a:pt x="86" y="63"/>
                  <a:pt x="85" y="63"/>
                </a:cubicBezTo>
                <a:cubicBezTo>
                  <a:pt x="85" y="63"/>
                  <a:pt x="85" y="62"/>
                  <a:pt x="84" y="62"/>
                </a:cubicBezTo>
                <a:cubicBezTo>
                  <a:pt x="87" y="62"/>
                  <a:pt x="88" y="58"/>
                  <a:pt x="91" y="58"/>
                </a:cubicBezTo>
                <a:cubicBezTo>
                  <a:pt x="91" y="57"/>
                  <a:pt x="89" y="56"/>
                  <a:pt x="91" y="56"/>
                </a:cubicBezTo>
                <a:cubicBezTo>
                  <a:pt x="90" y="55"/>
                  <a:pt x="90" y="55"/>
                  <a:pt x="90" y="55"/>
                </a:cubicBezTo>
                <a:cubicBezTo>
                  <a:pt x="88" y="57"/>
                  <a:pt x="88" y="57"/>
                  <a:pt x="88" y="57"/>
                </a:cubicBezTo>
                <a:cubicBezTo>
                  <a:pt x="87" y="56"/>
                  <a:pt x="88" y="55"/>
                  <a:pt x="87" y="54"/>
                </a:cubicBezTo>
                <a:cubicBezTo>
                  <a:pt x="83" y="55"/>
                  <a:pt x="89" y="58"/>
                  <a:pt x="84" y="60"/>
                </a:cubicBezTo>
                <a:cubicBezTo>
                  <a:pt x="83" y="60"/>
                  <a:pt x="83" y="57"/>
                  <a:pt x="81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79" y="54"/>
                  <a:pt x="79" y="54"/>
                  <a:pt x="79" y="54"/>
                </a:cubicBezTo>
                <a:cubicBezTo>
                  <a:pt x="80" y="54"/>
                  <a:pt x="80" y="54"/>
                  <a:pt x="80" y="54"/>
                </a:cubicBezTo>
                <a:cubicBezTo>
                  <a:pt x="80" y="54"/>
                  <a:pt x="81" y="53"/>
                  <a:pt x="80" y="53"/>
                </a:cubicBezTo>
                <a:cubicBezTo>
                  <a:pt x="79" y="52"/>
                  <a:pt x="79" y="52"/>
                  <a:pt x="79" y="52"/>
                </a:cubicBezTo>
                <a:cubicBezTo>
                  <a:pt x="80" y="51"/>
                  <a:pt x="80" y="51"/>
                  <a:pt x="80" y="50"/>
                </a:cubicBezTo>
                <a:cubicBezTo>
                  <a:pt x="79" y="50"/>
                  <a:pt x="79" y="50"/>
                  <a:pt x="79" y="50"/>
                </a:cubicBezTo>
                <a:cubicBezTo>
                  <a:pt x="79" y="50"/>
                  <a:pt x="78" y="50"/>
                  <a:pt x="78" y="51"/>
                </a:cubicBezTo>
                <a:cubicBezTo>
                  <a:pt x="77" y="49"/>
                  <a:pt x="77" y="48"/>
                  <a:pt x="78" y="46"/>
                </a:cubicBezTo>
                <a:cubicBezTo>
                  <a:pt x="79" y="46"/>
                  <a:pt x="79" y="46"/>
                  <a:pt x="79" y="47"/>
                </a:cubicBezTo>
                <a:cubicBezTo>
                  <a:pt x="79" y="46"/>
                  <a:pt x="80" y="46"/>
                  <a:pt x="80" y="46"/>
                </a:cubicBezTo>
                <a:cubicBezTo>
                  <a:pt x="81" y="46"/>
                  <a:pt x="82" y="45"/>
                  <a:pt x="83" y="45"/>
                </a:cubicBezTo>
                <a:cubicBezTo>
                  <a:pt x="81" y="47"/>
                  <a:pt x="81" y="47"/>
                  <a:pt x="81" y="47"/>
                </a:cubicBezTo>
                <a:cubicBezTo>
                  <a:pt x="82" y="48"/>
                  <a:pt x="83" y="48"/>
                  <a:pt x="83" y="49"/>
                </a:cubicBezTo>
                <a:cubicBezTo>
                  <a:pt x="84" y="48"/>
                  <a:pt x="84" y="46"/>
                  <a:pt x="85" y="46"/>
                </a:cubicBezTo>
                <a:cubicBezTo>
                  <a:pt x="87" y="48"/>
                  <a:pt x="86" y="54"/>
                  <a:pt x="89" y="52"/>
                </a:cubicBezTo>
                <a:cubicBezTo>
                  <a:pt x="87" y="50"/>
                  <a:pt x="88" y="46"/>
                  <a:pt x="88" y="43"/>
                </a:cubicBezTo>
                <a:cubicBezTo>
                  <a:pt x="90" y="45"/>
                  <a:pt x="91" y="46"/>
                  <a:pt x="93" y="47"/>
                </a:cubicBezTo>
                <a:close/>
                <a:moveTo>
                  <a:pt x="80" y="59"/>
                </a:moveTo>
                <a:cubicBezTo>
                  <a:pt x="79" y="58"/>
                  <a:pt x="78" y="56"/>
                  <a:pt x="77" y="55"/>
                </a:cubicBezTo>
                <a:cubicBezTo>
                  <a:pt x="80" y="59"/>
                  <a:pt x="80" y="59"/>
                  <a:pt x="80" y="59"/>
                </a:cubicBezTo>
                <a:close/>
                <a:moveTo>
                  <a:pt x="102" y="58"/>
                </a:moveTo>
                <a:cubicBezTo>
                  <a:pt x="102" y="58"/>
                  <a:pt x="101" y="58"/>
                  <a:pt x="101" y="59"/>
                </a:cubicBezTo>
                <a:cubicBezTo>
                  <a:pt x="101" y="60"/>
                  <a:pt x="102" y="59"/>
                  <a:pt x="103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5" y="58"/>
                  <a:pt x="105" y="59"/>
                  <a:pt x="105" y="60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105" y="62"/>
                  <a:pt x="107" y="61"/>
                  <a:pt x="108" y="62"/>
                </a:cubicBezTo>
                <a:cubicBezTo>
                  <a:pt x="107" y="64"/>
                  <a:pt x="106" y="65"/>
                  <a:pt x="105" y="67"/>
                </a:cubicBezTo>
                <a:cubicBezTo>
                  <a:pt x="105" y="66"/>
                  <a:pt x="105" y="65"/>
                  <a:pt x="104" y="64"/>
                </a:cubicBezTo>
                <a:cubicBezTo>
                  <a:pt x="103" y="65"/>
                  <a:pt x="102" y="66"/>
                  <a:pt x="101" y="66"/>
                </a:cubicBezTo>
                <a:cubicBezTo>
                  <a:pt x="101" y="64"/>
                  <a:pt x="104" y="62"/>
                  <a:pt x="100" y="60"/>
                </a:cubicBezTo>
                <a:cubicBezTo>
                  <a:pt x="101" y="59"/>
                  <a:pt x="101" y="59"/>
                  <a:pt x="101" y="59"/>
                </a:cubicBezTo>
                <a:cubicBezTo>
                  <a:pt x="100" y="59"/>
                  <a:pt x="100" y="57"/>
                  <a:pt x="99" y="56"/>
                </a:cubicBezTo>
                <a:cubicBezTo>
                  <a:pt x="101" y="56"/>
                  <a:pt x="104" y="55"/>
                  <a:pt x="102" y="58"/>
                </a:cubicBezTo>
                <a:close/>
                <a:moveTo>
                  <a:pt x="272" y="17"/>
                </a:moveTo>
                <a:cubicBezTo>
                  <a:pt x="274" y="15"/>
                  <a:pt x="276" y="18"/>
                  <a:pt x="279" y="18"/>
                </a:cubicBezTo>
                <a:cubicBezTo>
                  <a:pt x="280" y="20"/>
                  <a:pt x="281" y="21"/>
                  <a:pt x="281" y="23"/>
                </a:cubicBezTo>
                <a:cubicBezTo>
                  <a:pt x="279" y="27"/>
                  <a:pt x="274" y="25"/>
                  <a:pt x="273" y="30"/>
                </a:cubicBezTo>
                <a:cubicBezTo>
                  <a:pt x="270" y="29"/>
                  <a:pt x="272" y="24"/>
                  <a:pt x="270" y="22"/>
                </a:cubicBezTo>
                <a:cubicBezTo>
                  <a:pt x="270" y="21"/>
                  <a:pt x="270" y="18"/>
                  <a:pt x="269" y="18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71" y="16"/>
                  <a:pt x="268" y="15"/>
                  <a:pt x="269" y="14"/>
                </a:cubicBezTo>
                <a:cubicBezTo>
                  <a:pt x="271" y="14"/>
                  <a:pt x="272" y="15"/>
                  <a:pt x="272" y="17"/>
                </a:cubicBezTo>
                <a:close/>
                <a:moveTo>
                  <a:pt x="248" y="16"/>
                </a:moveTo>
                <a:cubicBezTo>
                  <a:pt x="248" y="17"/>
                  <a:pt x="247" y="18"/>
                  <a:pt x="245" y="19"/>
                </a:cubicBezTo>
                <a:cubicBezTo>
                  <a:pt x="246" y="18"/>
                  <a:pt x="246" y="18"/>
                  <a:pt x="246" y="18"/>
                </a:cubicBezTo>
                <a:cubicBezTo>
                  <a:pt x="242" y="16"/>
                  <a:pt x="242" y="16"/>
                  <a:pt x="242" y="16"/>
                </a:cubicBezTo>
                <a:cubicBezTo>
                  <a:pt x="244" y="16"/>
                  <a:pt x="247" y="13"/>
                  <a:pt x="248" y="16"/>
                </a:cubicBezTo>
                <a:close/>
                <a:moveTo>
                  <a:pt x="368" y="25"/>
                </a:moveTo>
                <a:cubicBezTo>
                  <a:pt x="365" y="21"/>
                  <a:pt x="365" y="21"/>
                  <a:pt x="365" y="21"/>
                </a:cubicBezTo>
                <a:cubicBezTo>
                  <a:pt x="366" y="22"/>
                  <a:pt x="368" y="23"/>
                  <a:pt x="368" y="25"/>
                </a:cubicBezTo>
                <a:close/>
                <a:moveTo>
                  <a:pt x="289" y="23"/>
                </a:moveTo>
                <a:cubicBezTo>
                  <a:pt x="288" y="23"/>
                  <a:pt x="287" y="24"/>
                  <a:pt x="286" y="23"/>
                </a:cubicBezTo>
                <a:cubicBezTo>
                  <a:pt x="287" y="23"/>
                  <a:pt x="288" y="22"/>
                  <a:pt x="289" y="23"/>
                </a:cubicBezTo>
                <a:close/>
                <a:moveTo>
                  <a:pt x="289" y="30"/>
                </a:moveTo>
                <a:cubicBezTo>
                  <a:pt x="289" y="32"/>
                  <a:pt x="287" y="34"/>
                  <a:pt x="288" y="35"/>
                </a:cubicBezTo>
                <a:cubicBezTo>
                  <a:pt x="289" y="35"/>
                  <a:pt x="290" y="34"/>
                  <a:pt x="290" y="33"/>
                </a:cubicBezTo>
                <a:cubicBezTo>
                  <a:pt x="290" y="37"/>
                  <a:pt x="292" y="32"/>
                  <a:pt x="294" y="33"/>
                </a:cubicBezTo>
                <a:cubicBezTo>
                  <a:pt x="295" y="32"/>
                  <a:pt x="295" y="34"/>
                  <a:pt x="296" y="35"/>
                </a:cubicBezTo>
                <a:cubicBezTo>
                  <a:pt x="295" y="36"/>
                  <a:pt x="297" y="38"/>
                  <a:pt x="296" y="39"/>
                </a:cubicBezTo>
                <a:cubicBezTo>
                  <a:pt x="296" y="41"/>
                  <a:pt x="297" y="39"/>
                  <a:pt x="298" y="39"/>
                </a:cubicBezTo>
                <a:cubicBezTo>
                  <a:pt x="299" y="38"/>
                  <a:pt x="300" y="37"/>
                  <a:pt x="299" y="36"/>
                </a:cubicBezTo>
                <a:cubicBezTo>
                  <a:pt x="298" y="35"/>
                  <a:pt x="298" y="35"/>
                  <a:pt x="298" y="35"/>
                </a:cubicBezTo>
                <a:cubicBezTo>
                  <a:pt x="300" y="34"/>
                  <a:pt x="303" y="35"/>
                  <a:pt x="304" y="32"/>
                </a:cubicBezTo>
                <a:cubicBezTo>
                  <a:pt x="307" y="33"/>
                  <a:pt x="311" y="35"/>
                  <a:pt x="313" y="38"/>
                </a:cubicBezTo>
                <a:cubicBezTo>
                  <a:pt x="313" y="37"/>
                  <a:pt x="313" y="37"/>
                  <a:pt x="313" y="36"/>
                </a:cubicBezTo>
                <a:cubicBezTo>
                  <a:pt x="313" y="36"/>
                  <a:pt x="313" y="36"/>
                  <a:pt x="313" y="36"/>
                </a:cubicBezTo>
                <a:cubicBezTo>
                  <a:pt x="315" y="37"/>
                  <a:pt x="315" y="39"/>
                  <a:pt x="317" y="40"/>
                </a:cubicBezTo>
                <a:cubicBezTo>
                  <a:pt x="316" y="41"/>
                  <a:pt x="315" y="38"/>
                  <a:pt x="314" y="40"/>
                </a:cubicBezTo>
                <a:cubicBezTo>
                  <a:pt x="316" y="42"/>
                  <a:pt x="316" y="42"/>
                  <a:pt x="316" y="42"/>
                </a:cubicBezTo>
                <a:cubicBezTo>
                  <a:pt x="316" y="42"/>
                  <a:pt x="317" y="41"/>
                  <a:pt x="317" y="42"/>
                </a:cubicBezTo>
                <a:cubicBezTo>
                  <a:pt x="319" y="43"/>
                  <a:pt x="319" y="44"/>
                  <a:pt x="319" y="46"/>
                </a:cubicBezTo>
                <a:cubicBezTo>
                  <a:pt x="317" y="49"/>
                  <a:pt x="318" y="52"/>
                  <a:pt x="315" y="55"/>
                </a:cubicBezTo>
                <a:cubicBezTo>
                  <a:pt x="316" y="57"/>
                  <a:pt x="316" y="61"/>
                  <a:pt x="313" y="63"/>
                </a:cubicBezTo>
                <a:cubicBezTo>
                  <a:pt x="314" y="64"/>
                  <a:pt x="312" y="65"/>
                  <a:pt x="312" y="66"/>
                </a:cubicBezTo>
                <a:cubicBezTo>
                  <a:pt x="313" y="68"/>
                  <a:pt x="316" y="67"/>
                  <a:pt x="317" y="66"/>
                </a:cubicBezTo>
                <a:cubicBezTo>
                  <a:pt x="318" y="63"/>
                  <a:pt x="322" y="62"/>
                  <a:pt x="321" y="59"/>
                </a:cubicBezTo>
                <a:cubicBezTo>
                  <a:pt x="319" y="59"/>
                  <a:pt x="319" y="61"/>
                  <a:pt x="318" y="59"/>
                </a:cubicBezTo>
                <a:cubicBezTo>
                  <a:pt x="319" y="57"/>
                  <a:pt x="319" y="57"/>
                  <a:pt x="319" y="57"/>
                </a:cubicBezTo>
                <a:cubicBezTo>
                  <a:pt x="319" y="58"/>
                  <a:pt x="320" y="58"/>
                  <a:pt x="321" y="58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2" y="59"/>
                  <a:pt x="323" y="60"/>
                  <a:pt x="325" y="59"/>
                </a:cubicBezTo>
                <a:cubicBezTo>
                  <a:pt x="327" y="58"/>
                  <a:pt x="327" y="58"/>
                  <a:pt x="327" y="58"/>
                </a:cubicBezTo>
                <a:cubicBezTo>
                  <a:pt x="326" y="57"/>
                  <a:pt x="326" y="57"/>
                  <a:pt x="326" y="57"/>
                </a:cubicBezTo>
                <a:cubicBezTo>
                  <a:pt x="329" y="59"/>
                  <a:pt x="329" y="59"/>
                  <a:pt x="329" y="59"/>
                </a:cubicBezTo>
                <a:cubicBezTo>
                  <a:pt x="331" y="54"/>
                  <a:pt x="337" y="57"/>
                  <a:pt x="341" y="55"/>
                </a:cubicBezTo>
                <a:cubicBezTo>
                  <a:pt x="341" y="55"/>
                  <a:pt x="341" y="55"/>
                  <a:pt x="341" y="55"/>
                </a:cubicBezTo>
                <a:cubicBezTo>
                  <a:pt x="340" y="56"/>
                  <a:pt x="341" y="56"/>
                  <a:pt x="341" y="57"/>
                </a:cubicBezTo>
                <a:cubicBezTo>
                  <a:pt x="342" y="59"/>
                  <a:pt x="343" y="59"/>
                  <a:pt x="345" y="59"/>
                </a:cubicBezTo>
                <a:cubicBezTo>
                  <a:pt x="346" y="58"/>
                  <a:pt x="346" y="58"/>
                  <a:pt x="346" y="57"/>
                </a:cubicBezTo>
                <a:cubicBezTo>
                  <a:pt x="346" y="60"/>
                  <a:pt x="350" y="59"/>
                  <a:pt x="351" y="58"/>
                </a:cubicBezTo>
                <a:cubicBezTo>
                  <a:pt x="352" y="56"/>
                  <a:pt x="354" y="58"/>
                  <a:pt x="355" y="56"/>
                </a:cubicBezTo>
                <a:cubicBezTo>
                  <a:pt x="355" y="54"/>
                  <a:pt x="353" y="53"/>
                  <a:pt x="353" y="51"/>
                </a:cubicBezTo>
                <a:cubicBezTo>
                  <a:pt x="355" y="50"/>
                  <a:pt x="357" y="49"/>
                  <a:pt x="359" y="50"/>
                </a:cubicBezTo>
                <a:cubicBezTo>
                  <a:pt x="359" y="51"/>
                  <a:pt x="360" y="51"/>
                  <a:pt x="360" y="51"/>
                </a:cubicBezTo>
                <a:cubicBezTo>
                  <a:pt x="362" y="51"/>
                  <a:pt x="361" y="49"/>
                  <a:pt x="363" y="50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7" y="50"/>
                  <a:pt x="368" y="52"/>
                  <a:pt x="370" y="53"/>
                </a:cubicBezTo>
                <a:cubicBezTo>
                  <a:pt x="370" y="54"/>
                  <a:pt x="370" y="54"/>
                  <a:pt x="370" y="55"/>
                </a:cubicBezTo>
                <a:cubicBezTo>
                  <a:pt x="371" y="55"/>
                  <a:pt x="371" y="55"/>
                  <a:pt x="371" y="55"/>
                </a:cubicBezTo>
                <a:cubicBezTo>
                  <a:pt x="370" y="55"/>
                  <a:pt x="370" y="56"/>
                  <a:pt x="370" y="56"/>
                </a:cubicBezTo>
                <a:cubicBezTo>
                  <a:pt x="371" y="57"/>
                  <a:pt x="371" y="57"/>
                  <a:pt x="371" y="57"/>
                </a:cubicBezTo>
                <a:cubicBezTo>
                  <a:pt x="372" y="56"/>
                  <a:pt x="372" y="56"/>
                  <a:pt x="372" y="56"/>
                </a:cubicBezTo>
                <a:cubicBezTo>
                  <a:pt x="374" y="57"/>
                  <a:pt x="374" y="58"/>
                  <a:pt x="374" y="60"/>
                </a:cubicBezTo>
                <a:cubicBezTo>
                  <a:pt x="373" y="60"/>
                  <a:pt x="372" y="58"/>
                  <a:pt x="371" y="60"/>
                </a:cubicBezTo>
                <a:cubicBezTo>
                  <a:pt x="373" y="64"/>
                  <a:pt x="378" y="63"/>
                  <a:pt x="381" y="67"/>
                </a:cubicBezTo>
                <a:cubicBezTo>
                  <a:pt x="382" y="66"/>
                  <a:pt x="383" y="67"/>
                  <a:pt x="383" y="68"/>
                </a:cubicBezTo>
                <a:cubicBezTo>
                  <a:pt x="384" y="66"/>
                  <a:pt x="385" y="69"/>
                  <a:pt x="386" y="67"/>
                </a:cubicBezTo>
                <a:cubicBezTo>
                  <a:pt x="386" y="64"/>
                  <a:pt x="384" y="61"/>
                  <a:pt x="383" y="58"/>
                </a:cubicBezTo>
                <a:cubicBezTo>
                  <a:pt x="385" y="60"/>
                  <a:pt x="389" y="60"/>
                  <a:pt x="391" y="60"/>
                </a:cubicBezTo>
                <a:cubicBezTo>
                  <a:pt x="391" y="59"/>
                  <a:pt x="392" y="57"/>
                  <a:pt x="394" y="57"/>
                </a:cubicBezTo>
                <a:cubicBezTo>
                  <a:pt x="397" y="60"/>
                  <a:pt x="399" y="53"/>
                  <a:pt x="402" y="56"/>
                </a:cubicBezTo>
                <a:cubicBezTo>
                  <a:pt x="402" y="56"/>
                  <a:pt x="403" y="55"/>
                  <a:pt x="404" y="55"/>
                </a:cubicBezTo>
                <a:cubicBezTo>
                  <a:pt x="403" y="53"/>
                  <a:pt x="401" y="53"/>
                  <a:pt x="401" y="51"/>
                </a:cubicBezTo>
                <a:cubicBezTo>
                  <a:pt x="400" y="49"/>
                  <a:pt x="402" y="49"/>
                  <a:pt x="401" y="48"/>
                </a:cubicBezTo>
                <a:cubicBezTo>
                  <a:pt x="400" y="48"/>
                  <a:pt x="399" y="50"/>
                  <a:pt x="398" y="50"/>
                </a:cubicBezTo>
                <a:cubicBezTo>
                  <a:pt x="397" y="49"/>
                  <a:pt x="398" y="48"/>
                  <a:pt x="398" y="47"/>
                </a:cubicBezTo>
                <a:cubicBezTo>
                  <a:pt x="400" y="47"/>
                  <a:pt x="400" y="46"/>
                  <a:pt x="401" y="45"/>
                </a:cubicBezTo>
                <a:cubicBezTo>
                  <a:pt x="400" y="43"/>
                  <a:pt x="399" y="44"/>
                  <a:pt x="398" y="43"/>
                </a:cubicBezTo>
                <a:cubicBezTo>
                  <a:pt x="399" y="42"/>
                  <a:pt x="401" y="44"/>
                  <a:pt x="403" y="43"/>
                </a:cubicBezTo>
                <a:cubicBezTo>
                  <a:pt x="408" y="43"/>
                  <a:pt x="412" y="42"/>
                  <a:pt x="416" y="44"/>
                </a:cubicBezTo>
                <a:cubicBezTo>
                  <a:pt x="416" y="41"/>
                  <a:pt x="419" y="41"/>
                  <a:pt x="421" y="40"/>
                </a:cubicBezTo>
                <a:cubicBezTo>
                  <a:pt x="423" y="40"/>
                  <a:pt x="424" y="41"/>
                  <a:pt x="426" y="42"/>
                </a:cubicBezTo>
                <a:cubicBezTo>
                  <a:pt x="426" y="43"/>
                  <a:pt x="426" y="43"/>
                  <a:pt x="426" y="43"/>
                </a:cubicBezTo>
                <a:cubicBezTo>
                  <a:pt x="425" y="43"/>
                  <a:pt x="425" y="43"/>
                  <a:pt x="425" y="43"/>
                </a:cubicBezTo>
                <a:cubicBezTo>
                  <a:pt x="423" y="43"/>
                  <a:pt x="424" y="44"/>
                  <a:pt x="424" y="45"/>
                </a:cubicBezTo>
                <a:cubicBezTo>
                  <a:pt x="425" y="46"/>
                  <a:pt x="426" y="45"/>
                  <a:pt x="427" y="45"/>
                </a:cubicBezTo>
                <a:cubicBezTo>
                  <a:pt x="427" y="46"/>
                  <a:pt x="427" y="47"/>
                  <a:pt x="428" y="47"/>
                </a:cubicBezTo>
                <a:cubicBezTo>
                  <a:pt x="429" y="46"/>
                  <a:pt x="429" y="46"/>
                  <a:pt x="429" y="46"/>
                </a:cubicBezTo>
                <a:cubicBezTo>
                  <a:pt x="430" y="48"/>
                  <a:pt x="430" y="48"/>
                  <a:pt x="430" y="48"/>
                </a:cubicBezTo>
                <a:cubicBezTo>
                  <a:pt x="431" y="44"/>
                  <a:pt x="434" y="47"/>
                  <a:pt x="437" y="48"/>
                </a:cubicBezTo>
                <a:cubicBezTo>
                  <a:pt x="437" y="48"/>
                  <a:pt x="436" y="49"/>
                  <a:pt x="436" y="49"/>
                </a:cubicBezTo>
                <a:cubicBezTo>
                  <a:pt x="441" y="51"/>
                  <a:pt x="443" y="45"/>
                  <a:pt x="447" y="44"/>
                </a:cubicBezTo>
                <a:cubicBezTo>
                  <a:pt x="450" y="43"/>
                  <a:pt x="453" y="43"/>
                  <a:pt x="456" y="44"/>
                </a:cubicBezTo>
                <a:cubicBezTo>
                  <a:pt x="463" y="45"/>
                  <a:pt x="458" y="57"/>
                  <a:pt x="466" y="52"/>
                </a:cubicBezTo>
                <a:cubicBezTo>
                  <a:pt x="467" y="52"/>
                  <a:pt x="468" y="57"/>
                  <a:pt x="471" y="54"/>
                </a:cubicBezTo>
                <a:cubicBezTo>
                  <a:pt x="470" y="53"/>
                  <a:pt x="470" y="51"/>
                  <a:pt x="470" y="50"/>
                </a:cubicBezTo>
                <a:cubicBezTo>
                  <a:pt x="474" y="46"/>
                  <a:pt x="478" y="49"/>
                  <a:pt x="483" y="47"/>
                </a:cubicBezTo>
                <a:cubicBezTo>
                  <a:pt x="485" y="45"/>
                  <a:pt x="481" y="42"/>
                  <a:pt x="484" y="41"/>
                </a:cubicBezTo>
                <a:cubicBezTo>
                  <a:pt x="486" y="41"/>
                  <a:pt x="486" y="42"/>
                  <a:pt x="487" y="43"/>
                </a:cubicBezTo>
                <a:cubicBezTo>
                  <a:pt x="486" y="44"/>
                  <a:pt x="486" y="44"/>
                  <a:pt x="486" y="44"/>
                </a:cubicBezTo>
                <a:cubicBezTo>
                  <a:pt x="485" y="43"/>
                  <a:pt x="485" y="43"/>
                  <a:pt x="485" y="43"/>
                </a:cubicBezTo>
                <a:cubicBezTo>
                  <a:pt x="484" y="44"/>
                  <a:pt x="484" y="44"/>
                  <a:pt x="484" y="44"/>
                </a:cubicBezTo>
                <a:cubicBezTo>
                  <a:pt x="487" y="45"/>
                  <a:pt x="487" y="50"/>
                  <a:pt x="491" y="48"/>
                </a:cubicBezTo>
                <a:cubicBezTo>
                  <a:pt x="492" y="49"/>
                  <a:pt x="493" y="52"/>
                  <a:pt x="495" y="50"/>
                </a:cubicBezTo>
                <a:cubicBezTo>
                  <a:pt x="496" y="49"/>
                  <a:pt x="497" y="47"/>
                  <a:pt x="496" y="46"/>
                </a:cubicBezTo>
                <a:cubicBezTo>
                  <a:pt x="494" y="43"/>
                  <a:pt x="490" y="43"/>
                  <a:pt x="489" y="39"/>
                </a:cubicBezTo>
                <a:cubicBezTo>
                  <a:pt x="495" y="39"/>
                  <a:pt x="500" y="34"/>
                  <a:pt x="507" y="36"/>
                </a:cubicBezTo>
                <a:cubicBezTo>
                  <a:pt x="510" y="36"/>
                  <a:pt x="514" y="36"/>
                  <a:pt x="517" y="38"/>
                </a:cubicBezTo>
                <a:cubicBezTo>
                  <a:pt x="519" y="40"/>
                  <a:pt x="523" y="36"/>
                  <a:pt x="525" y="39"/>
                </a:cubicBezTo>
                <a:cubicBezTo>
                  <a:pt x="527" y="39"/>
                  <a:pt x="531" y="39"/>
                  <a:pt x="532" y="39"/>
                </a:cubicBezTo>
                <a:cubicBezTo>
                  <a:pt x="534" y="40"/>
                  <a:pt x="534" y="40"/>
                  <a:pt x="534" y="40"/>
                </a:cubicBezTo>
                <a:cubicBezTo>
                  <a:pt x="534" y="39"/>
                  <a:pt x="534" y="39"/>
                  <a:pt x="534" y="39"/>
                </a:cubicBezTo>
                <a:cubicBezTo>
                  <a:pt x="538" y="39"/>
                  <a:pt x="540" y="44"/>
                  <a:pt x="542" y="47"/>
                </a:cubicBezTo>
                <a:cubicBezTo>
                  <a:pt x="543" y="46"/>
                  <a:pt x="545" y="47"/>
                  <a:pt x="546" y="46"/>
                </a:cubicBezTo>
                <a:cubicBezTo>
                  <a:pt x="543" y="45"/>
                  <a:pt x="544" y="42"/>
                  <a:pt x="541" y="41"/>
                </a:cubicBezTo>
                <a:cubicBezTo>
                  <a:pt x="542" y="39"/>
                  <a:pt x="542" y="39"/>
                  <a:pt x="542" y="39"/>
                </a:cubicBezTo>
                <a:cubicBezTo>
                  <a:pt x="543" y="40"/>
                  <a:pt x="543" y="40"/>
                  <a:pt x="543" y="40"/>
                </a:cubicBezTo>
                <a:cubicBezTo>
                  <a:pt x="544" y="39"/>
                  <a:pt x="544" y="38"/>
                  <a:pt x="546" y="37"/>
                </a:cubicBezTo>
                <a:cubicBezTo>
                  <a:pt x="546" y="38"/>
                  <a:pt x="548" y="38"/>
                  <a:pt x="548" y="39"/>
                </a:cubicBezTo>
                <a:cubicBezTo>
                  <a:pt x="550" y="37"/>
                  <a:pt x="552" y="41"/>
                  <a:pt x="554" y="39"/>
                </a:cubicBezTo>
                <a:cubicBezTo>
                  <a:pt x="554" y="40"/>
                  <a:pt x="553" y="43"/>
                  <a:pt x="555" y="44"/>
                </a:cubicBezTo>
                <a:cubicBezTo>
                  <a:pt x="555" y="44"/>
                  <a:pt x="555" y="44"/>
                  <a:pt x="555" y="44"/>
                </a:cubicBezTo>
                <a:cubicBezTo>
                  <a:pt x="555" y="46"/>
                  <a:pt x="554" y="47"/>
                  <a:pt x="552" y="48"/>
                </a:cubicBezTo>
                <a:cubicBezTo>
                  <a:pt x="553" y="52"/>
                  <a:pt x="557" y="51"/>
                  <a:pt x="556" y="56"/>
                </a:cubicBezTo>
                <a:cubicBezTo>
                  <a:pt x="557" y="57"/>
                  <a:pt x="558" y="56"/>
                  <a:pt x="559" y="56"/>
                </a:cubicBezTo>
                <a:cubicBezTo>
                  <a:pt x="559" y="57"/>
                  <a:pt x="558" y="57"/>
                  <a:pt x="558" y="58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57" y="61"/>
                  <a:pt x="553" y="57"/>
                  <a:pt x="552" y="60"/>
                </a:cubicBezTo>
                <a:cubicBezTo>
                  <a:pt x="550" y="60"/>
                  <a:pt x="548" y="55"/>
                  <a:pt x="545" y="58"/>
                </a:cubicBezTo>
                <a:cubicBezTo>
                  <a:pt x="544" y="59"/>
                  <a:pt x="544" y="59"/>
                  <a:pt x="544" y="59"/>
                </a:cubicBezTo>
                <a:cubicBezTo>
                  <a:pt x="545" y="60"/>
                  <a:pt x="544" y="61"/>
                  <a:pt x="543" y="62"/>
                </a:cubicBezTo>
                <a:cubicBezTo>
                  <a:pt x="542" y="60"/>
                  <a:pt x="540" y="62"/>
                  <a:pt x="540" y="60"/>
                </a:cubicBezTo>
                <a:cubicBezTo>
                  <a:pt x="540" y="59"/>
                  <a:pt x="540" y="58"/>
                  <a:pt x="539" y="57"/>
                </a:cubicBezTo>
                <a:cubicBezTo>
                  <a:pt x="538" y="57"/>
                  <a:pt x="538" y="57"/>
                  <a:pt x="538" y="58"/>
                </a:cubicBezTo>
                <a:cubicBezTo>
                  <a:pt x="538" y="58"/>
                  <a:pt x="538" y="58"/>
                  <a:pt x="538" y="58"/>
                </a:cubicBezTo>
                <a:cubicBezTo>
                  <a:pt x="537" y="59"/>
                  <a:pt x="537" y="59"/>
                  <a:pt x="537" y="59"/>
                </a:cubicBezTo>
                <a:cubicBezTo>
                  <a:pt x="538" y="60"/>
                  <a:pt x="538" y="60"/>
                  <a:pt x="538" y="60"/>
                </a:cubicBezTo>
                <a:cubicBezTo>
                  <a:pt x="536" y="61"/>
                  <a:pt x="536" y="61"/>
                  <a:pt x="536" y="61"/>
                </a:cubicBezTo>
                <a:cubicBezTo>
                  <a:pt x="538" y="65"/>
                  <a:pt x="542" y="63"/>
                  <a:pt x="543" y="67"/>
                </a:cubicBezTo>
                <a:cubicBezTo>
                  <a:pt x="542" y="68"/>
                  <a:pt x="543" y="70"/>
                  <a:pt x="542" y="71"/>
                </a:cubicBezTo>
                <a:cubicBezTo>
                  <a:pt x="543" y="72"/>
                  <a:pt x="543" y="74"/>
                  <a:pt x="542" y="75"/>
                </a:cubicBezTo>
                <a:cubicBezTo>
                  <a:pt x="540" y="75"/>
                  <a:pt x="539" y="76"/>
                  <a:pt x="537" y="74"/>
                </a:cubicBezTo>
                <a:cubicBezTo>
                  <a:pt x="537" y="76"/>
                  <a:pt x="534" y="74"/>
                  <a:pt x="534" y="76"/>
                </a:cubicBezTo>
                <a:cubicBezTo>
                  <a:pt x="535" y="79"/>
                  <a:pt x="535" y="79"/>
                  <a:pt x="535" y="79"/>
                </a:cubicBezTo>
                <a:cubicBezTo>
                  <a:pt x="538" y="76"/>
                  <a:pt x="538" y="76"/>
                  <a:pt x="538" y="76"/>
                </a:cubicBezTo>
                <a:cubicBezTo>
                  <a:pt x="538" y="77"/>
                  <a:pt x="540" y="79"/>
                  <a:pt x="541" y="79"/>
                </a:cubicBezTo>
                <a:cubicBezTo>
                  <a:pt x="543" y="79"/>
                  <a:pt x="543" y="79"/>
                  <a:pt x="543" y="79"/>
                </a:cubicBezTo>
                <a:cubicBezTo>
                  <a:pt x="543" y="80"/>
                  <a:pt x="543" y="81"/>
                  <a:pt x="545" y="81"/>
                </a:cubicBezTo>
                <a:cubicBezTo>
                  <a:pt x="546" y="81"/>
                  <a:pt x="546" y="81"/>
                  <a:pt x="546" y="81"/>
                </a:cubicBezTo>
                <a:cubicBezTo>
                  <a:pt x="547" y="82"/>
                  <a:pt x="547" y="83"/>
                  <a:pt x="546" y="84"/>
                </a:cubicBezTo>
                <a:cubicBezTo>
                  <a:pt x="546" y="84"/>
                  <a:pt x="546" y="84"/>
                  <a:pt x="546" y="84"/>
                </a:cubicBezTo>
                <a:cubicBezTo>
                  <a:pt x="546" y="86"/>
                  <a:pt x="547" y="84"/>
                  <a:pt x="548" y="84"/>
                </a:cubicBezTo>
                <a:cubicBezTo>
                  <a:pt x="551" y="86"/>
                  <a:pt x="551" y="87"/>
                  <a:pt x="554" y="89"/>
                </a:cubicBezTo>
                <a:cubicBezTo>
                  <a:pt x="554" y="93"/>
                  <a:pt x="554" y="93"/>
                  <a:pt x="554" y="93"/>
                </a:cubicBezTo>
                <a:cubicBezTo>
                  <a:pt x="552" y="94"/>
                  <a:pt x="550" y="91"/>
                  <a:pt x="548" y="93"/>
                </a:cubicBezTo>
                <a:cubicBezTo>
                  <a:pt x="546" y="97"/>
                  <a:pt x="544" y="98"/>
                  <a:pt x="543" y="101"/>
                </a:cubicBezTo>
                <a:cubicBezTo>
                  <a:pt x="542" y="103"/>
                  <a:pt x="541" y="105"/>
                  <a:pt x="542" y="106"/>
                </a:cubicBezTo>
                <a:cubicBezTo>
                  <a:pt x="541" y="106"/>
                  <a:pt x="541" y="107"/>
                  <a:pt x="541" y="108"/>
                </a:cubicBezTo>
                <a:cubicBezTo>
                  <a:pt x="541" y="110"/>
                  <a:pt x="539" y="113"/>
                  <a:pt x="540" y="116"/>
                </a:cubicBezTo>
                <a:cubicBezTo>
                  <a:pt x="541" y="117"/>
                  <a:pt x="541" y="117"/>
                  <a:pt x="541" y="117"/>
                </a:cubicBezTo>
                <a:cubicBezTo>
                  <a:pt x="538" y="117"/>
                  <a:pt x="535" y="110"/>
                  <a:pt x="531" y="115"/>
                </a:cubicBezTo>
                <a:cubicBezTo>
                  <a:pt x="529" y="116"/>
                  <a:pt x="530" y="119"/>
                  <a:pt x="529" y="121"/>
                </a:cubicBezTo>
                <a:cubicBezTo>
                  <a:pt x="527" y="117"/>
                  <a:pt x="527" y="117"/>
                  <a:pt x="527" y="117"/>
                </a:cubicBezTo>
                <a:cubicBezTo>
                  <a:pt x="526" y="118"/>
                  <a:pt x="525" y="120"/>
                  <a:pt x="525" y="121"/>
                </a:cubicBezTo>
                <a:cubicBezTo>
                  <a:pt x="524" y="120"/>
                  <a:pt x="523" y="121"/>
                  <a:pt x="522" y="121"/>
                </a:cubicBezTo>
                <a:cubicBezTo>
                  <a:pt x="520" y="125"/>
                  <a:pt x="524" y="128"/>
                  <a:pt x="523" y="132"/>
                </a:cubicBezTo>
                <a:cubicBezTo>
                  <a:pt x="524" y="134"/>
                  <a:pt x="523" y="137"/>
                  <a:pt x="526" y="139"/>
                </a:cubicBezTo>
                <a:cubicBezTo>
                  <a:pt x="527" y="138"/>
                  <a:pt x="527" y="138"/>
                  <a:pt x="527" y="138"/>
                </a:cubicBezTo>
                <a:cubicBezTo>
                  <a:pt x="527" y="138"/>
                  <a:pt x="526" y="137"/>
                  <a:pt x="527" y="137"/>
                </a:cubicBezTo>
                <a:cubicBezTo>
                  <a:pt x="528" y="137"/>
                  <a:pt x="528" y="138"/>
                  <a:pt x="529" y="137"/>
                </a:cubicBezTo>
                <a:cubicBezTo>
                  <a:pt x="529" y="140"/>
                  <a:pt x="529" y="142"/>
                  <a:pt x="530" y="144"/>
                </a:cubicBezTo>
                <a:cubicBezTo>
                  <a:pt x="532" y="144"/>
                  <a:pt x="532" y="144"/>
                  <a:pt x="532" y="144"/>
                </a:cubicBezTo>
                <a:cubicBezTo>
                  <a:pt x="531" y="146"/>
                  <a:pt x="535" y="146"/>
                  <a:pt x="534" y="148"/>
                </a:cubicBezTo>
                <a:cubicBezTo>
                  <a:pt x="532" y="148"/>
                  <a:pt x="532" y="147"/>
                  <a:pt x="531" y="145"/>
                </a:cubicBezTo>
                <a:cubicBezTo>
                  <a:pt x="530" y="147"/>
                  <a:pt x="530" y="147"/>
                  <a:pt x="530" y="147"/>
                </a:cubicBezTo>
                <a:cubicBezTo>
                  <a:pt x="530" y="151"/>
                  <a:pt x="533" y="155"/>
                  <a:pt x="535" y="159"/>
                </a:cubicBezTo>
                <a:cubicBezTo>
                  <a:pt x="533" y="160"/>
                  <a:pt x="532" y="160"/>
                  <a:pt x="531" y="161"/>
                </a:cubicBezTo>
                <a:cubicBezTo>
                  <a:pt x="531" y="164"/>
                  <a:pt x="530" y="167"/>
                  <a:pt x="532" y="169"/>
                </a:cubicBezTo>
                <a:cubicBezTo>
                  <a:pt x="529" y="171"/>
                  <a:pt x="529" y="171"/>
                  <a:pt x="529" y="171"/>
                </a:cubicBezTo>
                <a:cubicBezTo>
                  <a:pt x="529" y="174"/>
                  <a:pt x="532" y="177"/>
                  <a:pt x="530" y="180"/>
                </a:cubicBezTo>
                <a:cubicBezTo>
                  <a:pt x="530" y="181"/>
                  <a:pt x="528" y="182"/>
                  <a:pt x="529" y="183"/>
                </a:cubicBezTo>
                <a:cubicBezTo>
                  <a:pt x="524" y="181"/>
                  <a:pt x="527" y="174"/>
                  <a:pt x="522" y="172"/>
                </a:cubicBezTo>
                <a:cubicBezTo>
                  <a:pt x="517" y="165"/>
                  <a:pt x="512" y="158"/>
                  <a:pt x="511" y="149"/>
                </a:cubicBezTo>
                <a:cubicBezTo>
                  <a:pt x="511" y="147"/>
                  <a:pt x="513" y="144"/>
                  <a:pt x="511" y="142"/>
                </a:cubicBezTo>
                <a:cubicBezTo>
                  <a:pt x="510" y="142"/>
                  <a:pt x="510" y="142"/>
                  <a:pt x="510" y="142"/>
                </a:cubicBezTo>
                <a:cubicBezTo>
                  <a:pt x="510" y="141"/>
                  <a:pt x="510" y="141"/>
                  <a:pt x="510" y="141"/>
                </a:cubicBezTo>
                <a:cubicBezTo>
                  <a:pt x="511" y="141"/>
                  <a:pt x="511" y="142"/>
                  <a:pt x="511" y="142"/>
                </a:cubicBezTo>
                <a:cubicBezTo>
                  <a:pt x="512" y="139"/>
                  <a:pt x="517" y="137"/>
                  <a:pt x="514" y="133"/>
                </a:cubicBezTo>
                <a:cubicBezTo>
                  <a:pt x="514" y="131"/>
                  <a:pt x="514" y="129"/>
                  <a:pt x="514" y="127"/>
                </a:cubicBezTo>
                <a:cubicBezTo>
                  <a:pt x="516" y="124"/>
                  <a:pt x="514" y="118"/>
                  <a:pt x="519" y="116"/>
                </a:cubicBezTo>
                <a:cubicBezTo>
                  <a:pt x="518" y="116"/>
                  <a:pt x="518" y="115"/>
                  <a:pt x="517" y="115"/>
                </a:cubicBezTo>
                <a:cubicBezTo>
                  <a:pt x="518" y="112"/>
                  <a:pt x="516" y="111"/>
                  <a:pt x="515" y="108"/>
                </a:cubicBezTo>
                <a:cubicBezTo>
                  <a:pt x="515" y="107"/>
                  <a:pt x="514" y="106"/>
                  <a:pt x="514" y="105"/>
                </a:cubicBezTo>
                <a:cubicBezTo>
                  <a:pt x="515" y="104"/>
                  <a:pt x="516" y="104"/>
                  <a:pt x="516" y="103"/>
                </a:cubicBezTo>
                <a:cubicBezTo>
                  <a:pt x="514" y="103"/>
                  <a:pt x="513" y="101"/>
                  <a:pt x="511" y="103"/>
                </a:cubicBezTo>
                <a:cubicBezTo>
                  <a:pt x="509" y="105"/>
                  <a:pt x="512" y="108"/>
                  <a:pt x="513" y="111"/>
                </a:cubicBezTo>
                <a:cubicBezTo>
                  <a:pt x="509" y="111"/>
                  <a:pt x="512" y="117"/>
                  <a:pt x="510" y="119"/>
                </a:cubicBezTo>
                <a:cubicBezTo>
                  <a:pt x="509" y="119"/>
                  <a:pt x="509" y="119"/>
                  <a:pt x="509" y="119"/>
                </a:cubicBezTo>
                <a:cubicBezTo>
                  <a:pt x="510" y="118"/>
                  <a:pt x="510" y="118"/>
                  <a:pt x="510" y="118"/>
                </a:cubicBezTo>
                <a:cubicBezTo>
                  <a:pt x="505" y="119"/>
                  <a:pt x="507" y="113"/>
                  <a:pt x="505" y="111"/>
                </a:cubicBezTo>
                <a:cubicBezTo>
                  <a:pt x="505" y="112"/>
                  <a:pt x="504" y="112"/>
                  <a:pt x="504" y="113"/>
                </a:cubicBezTo>
                <a:cubicBezTo>
                  <a:pt x="501" y="111"/>
                  <a:pt x="500" y="115"/>
                  <a:pt x="498" y="114"/>
                </a:cubicBezTo>
                <a:cubicBezTo>
                  <a:pt x="496" y="115"/>
                  <a:pt x="494" y="117"/>
                  <a:pt x="496" y="119"/>
                </a:cubicBezTo>
                <a:cubicBezTo>
                  <a:pt x="496" y="121"/>
                  <a:pt x="496" y="125"/>
                  <a:pt x="495" y="128"/>
                </a:cubicBezTo>
                <a:cubicBezTo>
                  <a:pt x="494" y="131"/>
                  <a:pt x="496" y="132"/>
                  <a:pt x="499" y="132"/>
                </a:cubicBezTo>
                <a:cubicBezTo>
                  <a:pt x="497" y="135"/>
                  <a:pt x="495" y="132"/>
                  <a:pt x="494" y="136"/>
                </a:cubicBezTo>
                <a:cubicBezTo>
                  <a:pt x="492" y="135"/>
                  <a:pt x="490" y="140"/>
                  <a:pt x="490" y="136"/>
                </a:cubicBezTo>
                <a:cubicBezTo>
                  <a:pt x="492" y="135"/>
                  <a:pt x="492" y="135"/>
                  <a:pt x="492" y="135"/>
                </a:cubicBezTo>
                <a:cubicBezTo>
                  <a:pt x="489" y="132"/>
                  <a:pt x="486" y="133"/>
                  <a:pt x="482" y="133"/>
                </a:cubicBezTo>
                <a:cubicBezTo>
                  <a:pt x="481" y="134"/>
                  <a:pt x="480" y="135"/>
                  <a:pt x="480" y="136"/>
                </a:cubicBezTo>
                <a:cubicBezTo>
                  <a:pt x="481" y="136"/>
                  <a:pt x="481" y="136"/>
                  <a:pt x="481" y="136"/>
                </a:cubicBezTo>
                <a:cubicBezTo>
                  <a:pt x="479" y="138"/>
                  <a:pt x="473" y="135"/>
                  <a:pt x="474" y="139"/>
                </a:cubicBezTo>
                <a:cubicBezTo>
                  <a:pt x="473" y="139"/>
                  <a:pt x="473" y="139"/>
                  <a:pt x="473" y="139"/>
                </a:cubicBezTo>
                <a:cubicBezTo>
                  <a:pt x="471" y="136"/>
                  <a:pt x="468" y="139"/>
                  <a:pt x="466" y="140"/>
                </a:cubicBezTo>
                <a:cubicBezTo>
                  <a:pt x="465" y="140"/>
                  <a:pt x="465" y="140"/>
                  <a:pt x="465" y="140"/>
                </a:cubicBezTo>
                <a:cubicBezTo>
                  <a:pt x="460" y="142"/>
                  <a:pt x="465" y="145"/>
                  <a:pt x="461" y="148"/>
                </a:cubicBezTo>
                <a:cubicBezTo>
                  <a:pt x="462" y="152"/>
                  <a:pt x="460" y="156"/>
                  <a:pt x="458" y="159"/>
                </a:cubicBezTo>
                <a:cubicBezTo>
                  <a:pt x="459" y="164"/>
                  <a:pt x="454" y="168"/>
                  <a:pt x="454" y="172"/>
                </a:cubicBezTo>
                <a:cubicBezTo>
                  <a:pt x="456" y="173"/>
                  <a:pt x="457" y="173"/>
                  <a:pt x="459" y="172"/>
                </a:cubicBezTo>
                <a:cubicBezTo>
                  <a:pt x="461" y="177"/>
                  <a:pt x="461" y="177"/>
                  <a:pt x="461" y="177"/>
                </a:cubicBezTo>
                <a:cubicBezTo>
                  <a:pt x="462" y="177"/>
                  <a:pt x="463" y="176"/>
                  <a:pt x="463" y="176"/>
                </a:cubicBezTo>
                <a:cubicBezTo>
                  <a:pt x="464" y="176"/>
                  <a:pt x="463" y="178"/>
                  <a:pt x="464" y="178"/>
                </a:cubicBezTo>
                <a:cubicBezTo>
                  <a:pt x="465" y="178"/>
                  <a:pt x="466" y="177"/>
                  <a:pt x="467" y="177"/>
                </a:cubicBezTo>
                <a:cubicBezTo>
                  <a:pt x="467" y="176"/>
                  <a:pt x="467" y="175"/>
                  <a:pt x="466" y="174"/>
                </a:cubicBezTo>
                <a:cubicBezTo>
                  <a:pt x="468" y="174"/>
                  <a:pt x="470" y="173"/>
                  <a:pt x="471" y="175"/>
                </a:cubicBezTo>
                <a:cubicBezTo>
                  <a:pt x="473" y="176"/>
                  <a:pt x="475" y="177"/>
                  <a:pt x="476" y="179"/>
                </a:cubicBezTo>
                <a:cubicBezTo>
                  <a:pt x="476" y="179"/>
                  <a:pt x="476" y="180"/>
                  <a:pt x="476" y="180"/>
                </a:cubicBezTo>
                <a:cubicBezTo>
                  <a:pt x="477" y="181"/>
                  <a:pt x="478" y="181"/>
                  <a:pt x="478" y="183"/>
                </a:cubicBezTo>
                <a:cubicBezTo>
                  <a:pt x="477" y="183"/>
                  <a:pt x="477" y="183"/>
                  <a:pt x="477" y="183"/>
                </a:cubicBezTo>
                <a:cubicBezTo>
                  <a:pt x="480" y="188"/>
                  <a:pt x="478" y="196"/>
                  <a:pt x="482" y="200"/>
                </a:cubicBezTo>
                <a:cubicBezTo>
                  <a:pt x="484" y="206"/>
                  <a:pt x="480" y="211"/>
                  <a:pt x="480" y="217"/>
                </a:cubicBezTo>
                <a:cubicBezTo>
                  <a:pt x="480" y="218"/>
                  <a:pt x="480" y="218"/>
                  <a:pt x="480" y="218"/>
                </a:cubicBezTo>
                <a:cubicBezTo>
                  <a:pt x="477" y="224"/>
                  <a:pt x="477" y="233"/>
                  <a:pt x="470" y="236"/>
                </a:cubicBezTo>
                <a:cubicBezTo>
                  <a:pt x="467" y="234"/>
                  <a:pt x="467" y="234"/>
                  <a:pt x="467" y="234"/>
                </a:cubicBezTo>
                <a:cubicBezTo>
                  <a:pt x="465" y="238"/>
                  <a:pt x="457" y="241"/>
                  <a:pt x="462" y="246"/>
                </a:cubicBezTo>
                <a:cubicBezTo>
                  <a:pt x="460" y="250"/>
                  <a:pt x="456" y="250"/>
                  <a:pt x="456" y="254"/>
                </a:cubicBezTo>
                <a:cubicBezTo>
                  <a:pt x="462" y="258"/>
                  <a:pt x="467" y="264"/>
                  <a:pt x="467" y="271"/>
                </a:cubicBezTo>
                <a:cubicBezTo>
                  <a:pt x="467" y="272"/>
                  <a:pt x="467" y="273"/>
                  <a:pt x="466" y="274"/>
                </a:cubicBezTo>
                <a:cubicBezTo>
                  <a:pt x="463" y="274"/>
                  <a:pt x="461" y="274"/>
                  <a:pt x="460" y="276"/>
                </a:cubicBezTo>
                <a:cubicBezTo>
                  <a:pt x="456" y="274"/>
                  <a:pt x="461" y="268"/>
                  <a:pt x="456" y="266"/>
                </a:cubicBezTo>
                <a:cubicBezTo>
                  <a:pt x="458" y="265"/>
                  <a:pt x="458" y="265"/>
                  <a:pt x="458" y="265"/>
                </a:cubicBezTo>
                <a:cubicBezTo>
                  <a:pt x="458" y="264"/>
                  <a:pt x="456" y="263"/>
                  <a:pt x="455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1"/>
                  <a:pt x="451" y="260"/>
                  <a:pt x="451" y="259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49" y="257"/>
                  <a:pt x="452" y="256"/>
                  <a:pt x="451" y="254"/>
                </a:cubicBezTo>
                <a:cubicBezTo>
                  <a:pt x="450" y="253"/>
                  <a:pt x="448" y="254"/>
                  <a:pt x="447" y="252"/>
                </a:cubicBezTo>
                <a:cubicBezTo>
                  <a:pt x="446" y="254"/>
                  <a:pt x="445" y="253"/>
                  <a:pt x="443" y="253"/>
                </a:cubicBezTo>
                <a:cubicBezTo>
                  <a:pt x="438" y="258"/>
                  <a:pt x="438" y="258"/>
                  <a:pt x="438" y="258"/>
                </a:cubicBezTo>
                <a:cubicBezTo>
                  <a:pt x="438" y="258"/>
                  <a:pt x="438" y="258"/>
                  <a:pt x="438" y="258"/>
                </a:cubicBezTo>
                <a:cubicBezTo>
                  <a:pt x="439" y="257"/>
                  <a:pt x="439" y="257"/>
                  <a:pt x="439" y="257"/>
                </a:cubicBezTo>
                <a:cubicBezTo>
                  <a:pt x="438" y="255"/>
                  <a:pt x="438" y="253"/>
                  <a:pt x="439" y="252"/>
                </a:cubicBezTo>
                <a:cubicBezTo>
                  <a:pt x="440" y="250"/>
                  <a:pt x="440" y="250"/>
                  <a:pt x="440" y="250"/>
                </a:cubicBezTo>
                <a:cubicBezTo>
                  <a:pt x="439" y="249"/>
                  <a:pt x="437" y="246"/>
                  <a:pt x="435" y="249"/>
                </a:cubicBezTo>
                <a:cubicBezTo>
                  <a:pt x="434" y="253"/>
                  <a:pt x="429" y="253"/>
                  <a:pt x="430" y="257"/>
                </a:cubicBezTo>
                <a:cubicBezTo>
                  <a:pt x="429" y="257"/>
                  <a:pt x="428" y="258"/>
                  <a:pt x="427" y="257"/>
                </a:cubicBezTo>
                <a:cubicBezTo>
                  <a:pt x="425" y="259"/>
                  <a:pt x="426" y="261"/>
                  <a:pt x="429" y="263"/>
                </a:cubicBezTo>
                <a:cubicBezTo>
                  <a:pt x="429" y="264"/>
                  <a:pt x="430" y="263"/>
                  <a:pt x="431" y="264"/>
                </a:cubicBezTo>
                <a:cubicBezTo>
                  <a:pt x="430" y="265"/>
                  <a:pt x="432" y="265"/>
                  <a:pt x="433" y="266"/>
                </a:cubicBezTo>
                <a:cubicBezTo>
                  <a:pt x="435" y="267"/>
                  <a:pt x="437" y="260"/>
                  <a:pt x="441" y="264"/>
                </a:cubicBezTo>
                <a:cubicBezTo>
                  <a:pt x="444" y="264"/>
                  <a:pt x="444" y="264"/>
                  <a:pt x="444" y="264"/>
                </a:cubicBezTo>
                <a:cubicBezTo>
                  <a:pt x="444" y="265"/>
                  <a:pt x="444" y="265"/>
                  <a:pt x="443" y="266"/>
                </a:cubicBezTo>
                <a:cubicBezTo>
                  <a:pt x="444" y="266"/>
                  <a:pt x="444" y="266"/>
                  <a:pt x="444" y="266"/>
                </a:cubicBezTo>
                <a:cubicBezTo>
                  <a:pt x="443" y="267"/>
                  <a:pt x="443" y="267"/>
                  <a:pt x="443" y="267"/>
                </a:cubicBezTo>
                <a:cubicBezTo>
                  <a:pt x="442" y="265"/>
                  <a:pt x="441" y="267"/>
                  <a:pt x="439" y="268"/>
                </a:cubicBezTo>
                <a:cubicBezTo>
                  <a:pt x="437" y="270"/>
                  <a:pt x="437" y="270"/>
                  <a:pt x="437" y="270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5" y="273"/>
                  <a:pt x="435" y="273"/>
                  <a:pt x="435" y="273"/>
                </a:cubicBezTo>
                <a:cubicBezTo>
                  <a:pt x="436" y="274"/>
                  <a:pt x="435" y="275"/>
                  <a:pt x="435" y="276"/>
                </a:cubicBezTo>
                <a:cubicBezTo>
                  <a:pt x="439" y="278"/>
                  <a:pt x="440" y="282"/>
                  <a:pt x="443" y="286"/>
                </a:cubicBezTo>
                <a:cubicBezTo>
                  <a:pt x="444" y="286"/>
                  <a:pt x="445" y="287"/>
                  <a:pt x="446" y="288"/>
                </a:cubicBezTo>
                <a:cubicBezTo>
                  <a:pt x="443" y="289"/>
                  <a:pt x="443" y="289"/>
                  <a:pt x="443" y="289"/>
                </a:cubicBezTo>
                <a:cubicBezTo>
                  <a:pt x="444" y="291"/>
                  <a:pt x="446" y="291"/>
                  <a:pt x="447" y="292"/>
                </a:cubicBezTo>
                <a:cubicBezTo>
                  <a:pt x="443" y="295"/>
                  <a:pt x="443" y="295"/>
                  <a:pt x="443" y="295"/>
                </a:cubicBezTo>
                <a:cubicBezTo>
                  <a:pt x="444" y="298"/>
                  <a:pt x="446" y="294"/>
                  <a:pt x="447" y="297"/>
                </a:cubicBezTo>
                <a:cubicBezTo>
                  <a:pt x="448" y="297"/>
                  <a:pt x="447" y="297"/>
                  <a:pt x="447" y="298"/>
                </a:cubicBezTo>
                <a:cubicBezTo>
                  <a:pt x="447" y="299"/>
                  <a:pt x="448" y="298"/>
                  <a:pt x="448" y="298"/>
                </a:cubicBezTo>
                <a:cubicBezTo>
                  <a:pt x="448" y="299"/>
                  <a:pt x="447" y="299"/>
                  <a:pt x="446" y="300"/>
                </a:cubicBezTo>
                <a:cubicBezTo>
                  <a:pt x="447" y="303"/>
                  <a:pt x="447" y="303"/>
                  <a:pt x="447" y="303"/>
                </a:cubicBezTo>
                <a:cubicBezTo>
                  <a:pt x="446" y="303"/>
                  <a:pt x="446" y="304"/>
                  <a:pt x="445" y="305"/>
                </a:cubicBezTo>
                <a:cubicBezTo>
                  <a:pt x="446" y="307"/>
                  <a:pt x="444" y="308"/>
                  <a:pt x="443" y="309"/>
                </a:cubicBezTo>
                <a:cubicBezTo>
                  <a:pt x="443" y="309"/>
                  <a:pt x="442" y="309"/>
                  <a:pt x="442" y="310"/>
                </a:cubicBezTo>
                <a:cubicBezTo>
                  <a:pt x="444" y="311"/>
                  <a:pt x="441" y="313"/>
                  <a:pt x="442" y="315"/>
                </a:cubicBezTo>
                <a:cubicBezTo>
                  <a:pt x="442" y="314"/>
                  <a:pt x="442" y="314"/>
                  <a:pt x="442" y="314"/>
                </a:cubicBezTo>
                <a:cubicBezTo>
                  <a:pt x="440" y="316"/>
                  <a:pt x="441" y="318"/>
                  <a:pt x="438" y="319"/>
                </a:cubicBezTo>
                <a:cubicBezTo>
                  <a:pt x="439" y="320"/>
                  <a:pt x="439" y="320"/>
                  <a:pt x="439" y="320"/>
                </a:cubicBezTo>
                <a:cubicBezTo>
                  <a:pt x="436" y="321"/>
                  <a:pt x="435" y="324"/>
                  <a:pt x="432" y="325"/>
                </a:cubicBezTo>
                <a:cubicBezTo>
                  <a:pt x="430" y="325"/>
                  <a:pt x="428" y="326"/>
                  <a:pt x="427" y="327"/>
                </a:cubicBezTo>
                <a:cubicBezTo>
                  <a:pt x="425" y="325"/>
                  <a:pt x="425" y="325"/>
                  <a:pt x="425" y="325"/>
                </a:cubicBezTo>
                <a:cubicBezTo>
                  <a:pt x="424" y="329"/>
                  <a:pt x="419" y="329"/>
                  <a:pt x="416" y="331"/>
                </a:cubicBezTo>
                <a:cubicBezTo>
                  <a:pt x="416" y="330"/>
                  <a:pt x="416" y="330"/>
                  <a:pt x="416" y="330"/>
                </a:cubicBezTo>
                <a:cubicBezTo>
                  <a:pt x="414" y="331"/>
                  <a:pt x="415" y="333"/>
                  <a:pt x="415" y="334"/>
                </a:cubicBezTo>
                <a:cubicBezTo>
                  <a:pt x="414" y="334"/>
                  <a:pt x="414" y="333"/>
                  <a:pt x="413" y="333"/>
                </a:cubicBezTo>
                <a:cubicBezTo>
                  <a:pt x="414" y="331"/>
                  <a:pt x="414" y="331"/>
                  <a:pt x="414" y="331"/>
                </a:cubicBezTo>
                <a:cubicBezTo>
                  <a:pt x="413" y="330"/>
                  <a:pt x="410" y="331"/>
                  <a:pt x="410" y="329"/>
                </a:cubicBezTo>
                <a:cubicBezTo>
                  <a:pt x="407" y="331"/>
                  <a:pt x="403" y="332"/>
                  <a:pt x="403" y="335"/>
                </a:cubicBezTo>
                <a:cubicBezTo>
                  <a:pt x="401" y="336"/>
                  <a:pt x="400" y="338"/>
                  <a:pt x="401" y="341"/>
                </a:cubicBezTo>
                <a:cubicBezTo>
                  <a:pt x="403" y="344"/>
                  <a:pt x="407" y="348"/>
                  <a:pt x="411" y="350"/>
                </a:cubicBezTo>
                <a:cubicBezTo>
                  <a:pt x="414" y="354"/>
                  <a:pt x="415" y="361"/>
                  <a:pt x="414" y="365"/>
                </a:cubicBezTo>
                <a:cubicBezTo>
                  <a:pt x="413" y="368"/>
                  <a:pt x="409" y="370"/>
                  <a:pt x="406" y="370"/>
                </a:cubicBezTo>
                <a:cubicBezTo>
                  <a:pt x="405" y="372"/>
                  <a:pt x="403" y="374"/>
                  <a:pt x="402" y="375"/>
                </a:cubicBezTo>
                <a:cubicBezTo>
                  <a:pt x="400" y="373"/>
                  <a:pt x="403" y="369"/>
                  <a:pt x="398" y="369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397" y="369"/>
                  <a:pt x="397" y="369"/>
                  <a:pt x="397" y="368"/>
                </a:cubicBezTo>
                <a:cubicBezTo>
                  <a:pt x="397" y="367"/>
                  <a:pt x="397" y="367"/>
                  <a:pt x="397" y="367"/>
                </a:cubicBezTo>
                <a:cubicBezTo>
                  <a:pt x="396" y="368"/>
                  <a:pt x="396" y="368"/>
                  <a:pt x="396" y="368"/>
                </a:cubicBezTo>
                <a:cubicBezTo>
                  <a:pt x="395" y="365"/>
                  <a:pt x="392" y="365"/>
                  <a:pt x="390" y="362"/>
                </a:cubicBezTo>
                <a:cubicBezTo>
                  <a:pt x="389" y="363"/>
                  <a:pt x="388" y="362"/>
                  <a:pt x="387" y="362"/>
                </a:cubicBezTo>
                <a:cubicBezTo>
                  <a:pt x="386" y="361"/>
                  <a:pt x="387" y="360"/>
                  <a:pt x="386" y="359"/>
                </a:cubicBezTo>
                <a:cubicBezTo>
                  <a:pt x="383" y="360"/>
                  <a:pt x="383" y="360"/>
                  <a:pt x="383" y="360"/>
                </a:cubicBezTo>
                <a:cubicBezTo>
                  <a:pt x="384" y="363"/>
                  <a:pt x="382" y="367"/>
                  <a:pt x="382" y="370"/>
                </a:cubicBezTo>
                <a:cubicBezTo>
                  <a:pt x="381" y="372"/>
                  <a:pt x="382" y="373"/>
                  <a:pt x="383" y="374"/>
                </a:cubicBezTo>
                <a:cubicBezTo>
                  <a:pt x="384" y="374"/>
                  <a:pt x="384" y="374"/>
                  <a:pt x="384" y="374"/>
                </a:cubicBezTo>
                <a:cubicBezTo>
                  <a:pt x="384" y="376"/>
                  <a:pt x="387" y="378"/>
                  <a:pt x="386" y="380"/>
                </a:cubicBezTo>
                <a:cubicBezTo>
                  <a:pt x="387" y="382"/>
                  <a:pt x="388" y="383"/>
                  <a:pt x="390" y="383"/>
                </a:cubicBezTo>
                <a:cubicBezTo>
                  <a:pt x="390" y="384"/>
                  <a:pt x="391" y="384"/>
                  <a:pt x="392" y="385"/>
                </a:cubicBezTo>
                <a:cubicBezTo>
                  <a:pt x="393" y="385"/>
                  <a:pt x="393" y="385"/>
                  <a:pt x="393" y="385"/>
                </a:cubicBezTo>
                <a:cubicBezTo>
                  <a:pt x="399" y="388"/>
                  <a:pt x="393" y="394"/>
                  <a:pt x="398" y="397"/>
                </a:cubicBezTo>
                <a:cubicBezTo>
                  <a:pt x="399" y="401"/>
                  <a:pt x="399" y="401"/>
                  <a:pt x="399" y="401"/>
                </a:cubicBezTo>
                <a:cubicBezTo>
                  <a:pt x="396" y="400"/>
                  <a:pt x="392" y="399"/>
                  <a:pt x="390" y="396"/>
                </a:cubicBezTo>
                <a:cubicBezTo>
                  <a:pt x="391" y="394"/>
                  <a:pt x="388" y="393"/>
                  <a:pt x="387" y="391"/>
                </a:cubicBezTo>
                <a:cubicBezTo>
                  <a:pt x="388" y="385"/>
                  <a:pt x="384" y="381"/>
                  <a:pt x="381" y="377"/>
                </a:cubicBezTo>
                <a:cubicBezTo>
                  <a:pt x="379" y="377"/>
                  <a:pt x="379" y="377"/>
                  <a:pt x="379" y="377"/>
                </a:cubicBezTo>
                <a:cubicBezTo>
                  <a:pt x="378" y="374"/>
                  <a:pt x="383" y="372"/>
                  <a:pt x="379" y="370"/>
                </a:cubicBezTo>
                <a:cubicBezTo>
                  <a:pt x="380" y="369"/>
                  <a:pt x="381" y="368"/>
                  <a:pt x="380" y="367"/>
                </a:cubicBezTo>
                <a:cubicBezTo>
                  <a:pt x="382" y="364"/>
                  <a:pt x="379" y="362"/>
                  <a:pt x="379" y="359"/>
                </a:cubicBezTo>
                <a:cubicBezTo>
                  <a:pt x="375" y="355"/>
                  <a:pt x="378" y="349"/>
                  <a:pt x="373" y="346"/>
                </a:cubicBezTo>
                <a:cubicBezTo>
                  <a:pt x="373" y="349"/>
                  <a:pt x="370" y="349"/>
                  <a:pt x="368" y="350"/>
                </a:cubicBezTo>
                <a:cubicBezTo>
                  <a:pt x="366" y="349"/>
                  <a:pt x="365" y="353"/>
                  <a:pt x="365" y="350"/>
                </a:cubicBezTo>
                <a:cubicBezTo>
                  <a:pt x="366" y="347"/>
                  <a:pt x="365" y="343"/>
                  <a:pt x="363" y="341"/>
                </a:cubicBezTo>
                <a:cubicBezTo>
                  <a:pt x="361" y="339"/>
                  <a:pt x="361" y="339"/>
                  <a:pt x="361" y="339"/>
                </a:cubicBezTo>
                <a:cubicBezTo>
                  <a:pt x="362" y="338"/>
                  <a:pt x="362" y="338"/>
                  <a:pt x="362" y="338"/>
                </a:cubicBezTo>
                <a:cubicBezTo>
                  <a:pt x="358" y="336"/>
                  <a:pt x="355" y="333"/>
                  <a:pt x="354" y="328"/>
                </a:cubicBezTo>
                <a:cubicBezTo>
                  <a:pt x="354" y="326"/>
                  <a:pt x="351" y="327"/>
                  <a:pt x="350" y="326"/>
                </a:cubicBezTo>
                <a:cubicBezTo>
                  <a:pt x="350" y="326"/>
                  <a:pt x="350" y="326"/>
                  <a:pt x="350" y="326"/>
                </a:cubicBezTo>
                <a:cubicBezTo>
                  <a:pt x="351" y="328"/>
                  <a:pt x="351" y="328"/>
                  <a:pt x="351" y="328"/>
                </a:cubicBezTo>
                <a:cubicBezTo>
                  <a:pt x="353" y="328"/>
                  <a:pt x="351" y="328"/>
                  <a:pt x="351" y="328"/>
                </a:cubicBezTo>
                <a:cubicBezTo>
                  <a:pt x="349" y="330"/>
                  <a:pt x="346" y="330"/>
                  <a:pt x="344" y="330"/>
                </a:cubicBezTo>
                <a:cubicBezTo>
                  <a:pt x="343" y="330"/>
                  <a:pt x="343" y="330"/>
                  <a:pt x="343" y="330"/>
                </a:cubicBezTo>
                <a:cubicBezTo>
                  <a:pt x="342" y="329"/>
                  <a:pt x="342" y="329"/>
                  <a:pt x="342" y="329"/>
                </a:cubicBezTo>
                <a:cubicBezTo>
                  <a:pt x="341" y="332"/>
                  <a:pt x="337" y="331"/>
                  <a:pt x="338" y="335"/>
                </a:cubicBezTo>
                <a:cubicBezTo>
                  <a:pt x="337" y="336"/>
                  <a:pt x="336" y="338"/>
                  <a:pt x="335" y="338"/>
                </a:cubicBezTo>
                <a:cubicBezTo>
                  <a:pt x="334" y="337"/>
                  <a:pt x="334" y="337"/>
                  <a:pt x="334" y="337"/>
                </a:cubicBezTo>
                <a:cubicBezTo>
                  <a:pt x="333" y="341"/>
                  <a:pt x="329" y="344"/>
                  <a:pt x="326" y="346"/>
                </a:cubicBezTo>
                <a:cubicBezTo>
                  <a:pt x="327" y="351"/>
                  <a:pt x="321" y="348"/>
                  <a:pt x="321" y="351"/>
                </a:cubicBezTo>
                <a:cubicBezTo>
                  <a:pt x="320" y="351"/>
                  <a:pt x="319" y="352"/>
                  <a:pt x="318" y="353"/>
                </a:cubicBezTo>
                <a:cubicBezTo>
                  <a:pt x="320" y="355"/>
                  <a:pt x="317" y="359"/>
                  <a:pt x="319" y="361"/>
                </a:cubicBezTo>
                <a:cubicBezTo>
                  <a:pt x="318" y="364"/>
                  <a:pt x="318" y="367"/>
                  <a:pt x="318" y="370"/>
                </a:cubicBezTo>
                <a:cubicBezTo>
                  <a:pt x="317" y="370"/>
                  <a:pt x="316" y="372"/>
                  <a:pt x="315" y="373"/>
                </a:cubicBezTo>
                <a:cubicBezTo>
                  <a:pt x="315" y="374"/>
                  <a:pt x="315" y="374"/>
                  <a:pt x="315" y="374"/>
                </a:cubicBezTo>
                <a:cubicBezTo>
                  <a:pt x="313" y="374"/>
                  <a:pt x="313" y="379"/>
                  <a:pt x="310" y="378"/>
                </a:cubicBezTo>
                <a:cubicBezTo>
                  <a:pt x="307" y="373"/>
                  <a:pt x="306" y="367"/>
                  <a:pt x="302" y="363"/>
                </a:cubicBezTo>
                <a:cubicBezTo>
                  <a:pt x="301" y="357"/>
                  <a:pt x="296" y="353"/>
                  <a:pt x="296" y="346"/>
                </a:cubicBezTo>
                <a:cubicBezTo>
                  <a:pt x="294" y="344"/>
                  <a:pt x="295" y="341"/>
                  <a:pt x="293" y="339"/>
                </a:cubicBezTo>
                <a:cubicBezTo>
                  <a:pt x="293" y="337"/>
                  <a:pt x="294" y="334"/>
                  <a:pt x="292" y="333"/>
                </a:cubicBezTo>
                <a:cubicBezTo>
                  <a:pt x="292" y="331"/>
                  <a:pt x="292" y="329"/>
                  <a:pt x="292" y="328"/>
                </a:cubicBezTo>
                <a:cubicBezTo>
                  <a:pt x="291" y="328"/>
                  <a:pt x="291" y="329"/>
                  <a:pt x="290" y="329"/>
                </a:cubicBezTo>
                <a:cubicBezTo>
                  <a:pt x="291" y="332"/>
                  <a:pt x="289" y="334"/>
                  <a:pt x="288" y="334"/>
                </a:cubicBezTo>
                <a:cubicBezTo>
                  <a:pt x="284" y="335"/>
                  <a:pt x="282" y="331"/>
                  <a:pt x="280" y="329"/>
                </a:cubicBezTo>
                <a:cubicBezTo>
                  <a:pt x="281" y="331"/>
                  <a:pt x="283" y="328"/>
                  <a:pt x="284" y="328"/>
                </a:cubicBezTo>
                <a:cubicBezTo>
                  <a:pt x="284" y="328"/>
                  <a:pt x="285" y="327"/>
                  <a:pt x="285" y="327"/>
                </a:cubicBezTo>
                <a:cubicBezTo>
                  <a:pt x="283" y="327"/>
                  <a:pt x="280" y="327"/>
                  <a:pt x="279" y="326"/>
                </a:cubicBezTo>
                <a:cubicBezTo>
                  <a:pt x="278" y="323"/>
                  <a:pt x="273" y="324"/>
                  <a:pt x="272" y="320"/>
                </a:cubicBezTo>
                <a:cubicBezTo>
                  <a:pt x="270" y="316"/>
                  <a:pt x="264" y="319"/>
                  <a:pt x="261" y="318"/>
                </a:cubicBezTo>
                <a:cubicBezTo>
                  <a:pt x="254" y="321"/>
                  <a:pt x="248" y="317"/>
                  <a:pt x="241" y="317"/>
                </a:cubicBezTo>
                <a:cubicBezTo>
                  <a:pt x="240" y="315"/>
                  <a:pt x="240" y="312"/>
                  <a:pt x="237" y="312"/>
                </a:cubicBezTo>
                <a:cubicBezTo>
                  <a:pt x="232" y="314"/>
                  <a:pt x="232" y="314"/>
                  <a:pt x="232" y="314"/>
                </a:cubicBezTo>
                <a:cubicBezTo>
                  <a:pt x="228" y="314"/>
                  <a:pt x="225" y="309"/>
                  <a:pt x="221" y="309"/>
                </a:cubicBezTo>
                <a:cubicBezTo>
                  <a:pt x="219" y="307"/>
                  <a:pt x="218" y="304"/>
                  <a:pt x="216" y="301"/>
                </a:cubicBezTo>
                <a:cubicBezTo>
                  <a:pt x="215" y="302"/>
                  <a:pt x="213" y="302"/>
                  <a:pt x="213" y="301"/>
                </a:cubicBezTo>
                <a:cubicBezTo>
                  <a:pt x="212" y="302"/>
                  <a:pt x="212" y="302"/>
                  <a:pt x="212" y="302"/>
                </a:cubicBezTo>
                <a:cubicBezTo>
                  <a:pt x="211" y="301"/>
                  <a:pt x="211" y="301"/>
                  <a:pt x="211" y="301"/>
                </a:cubicBezTo>
                <a:cubicBezTo>
                  <a:pt x="207" y="305"/>
                  <a:pt x="211" y="306"/>
                  <a:pt x="212" y="310"/>
                </a:cubicBezTo>
                <a:cubicBezTo>
                  <a:pt x="217" y="312"/>
                  <a:pt x="216" y="318"/>
                  <a:pt x="220" y="321"/>
                </a:cubicBezTo>
                <a:cubicBezTo>
                  <a:pt x="221" y="316"/>
                  <a:pt x="221" y="316"/>
                  <a:pt x="221" y="316"/>
                </a:cubicBezTo>
                <a:cubicBezTo>
                  <a:pt x="222" y="319"/>
                  <a:pt x="221" y="322"/>
                  <a:pt x="224" y="324"/>
                </a:cubicBezTo>
                <a:cubicBezTo>
                  <a:pt x="226" y="322"/>
                  <a:pt x="232" y="325"/>
                  <a:pt x="233" y="321"/>
                </a:cubicBezTo>
                <a:cubicBezTo>
                  <a:pt x="237" y="316"/>
                  <a:pt x="237" y="316"/>
                  <a:pt x="237" y="316"/>
                </a:cubicBezTo>
                <a:cubicBezTo>
                  <a:pt x="238" y="319"/>
                  <a:pt x="237" y="323"/>
                  <a:pt x="241" y="325"/>
                </a:cubicBezTo>
                <a:cubicBezTo>
                  <a:pt x="243" y="325"/>
                  <a:pt x="247" y="323"/>
                  <a:pt x="246" y="326"/>
                </a:cubicBezTo>
                <a:cubicBezTo>
                  <a:pt x="247" y="327"/>
                  <a:pt x="248" y="328"/>
                  <a:pt x="249" y="329"/>
                </a:cubicBezTo>
                <a:cubicBezTo>
                  <a:pt x="250" y="332"/>
                  <a:pt x="247" y="333"/>
                  <a:pt x="246" y="335"/>
                </a:cubicBezTo>
                <a:cubicBezTo>
                  <a:pt x="245" y="335"/>
                  <a:pt x="245" y="335"/>
                  <a:pt x="245" y="335"/>
                </a:cubicBezTo>
                <a:cubicBezTo>
                  <a:pt x="244" y="336"/>
                  <a:pt x="243" y="338"/>
                  <a:pt x="244" y="340"/>
                </a:cubicBezTo>
                <a:cubicBezTo>
                  <a:pt x="244" y="341"/>
                  <a:pt x="244" y="341"/>
                  <a:pt x="244" y="341"/>
                </a:cubicBezTo>
                <a:cubicBezTo>
                  <a:pt x="242" y="341"/>
                  <a:pt x="240" y="342"/>
                  <a:pt x="239" y="345"/>
                </a:cubicBezTo>
                <a:cubicBezTo>
                  <a:pt x="238" y="345"/>
                  <a:pt x="236" y="344"/>
                  <a:pt x="236" y="346"/>
                </a:cubicBezTo>
                <a:cubicBezTo>
                  <a:pt x="236" y="346"/>
                  <a:pt x="236" y="346"/>
                  <a:pt x="236" y="347"/>
                </a:cubicBezTo>
                <a:cubicBezTo>
                  <a:pt x="235" y="348"/>
                  <a:pt x="235" y="348"/>
                  <a:pt x="235" y="348"/>
                </a:cubicBezTo>
                <a:cubicBezTo>
                  <a:pt x="232" y="347"/>
                  <a:pt x="229" y="349"/>
                  <a:pt x="226" y="351"/>
                </a:cubicBezTo>
                <a:cubicBezTo>
                  <a:pt x="226" y="355"/>
                  <a:pt x="219" y="354"/>
                  <a:pt x="216" y="357"/>
                </a:cubicBezTo>
                <a:cubicBezTo>
                  <a:pt x="215" y="359"/>
                  <a:pt x="212" y="357"/>
                  <a:pt x="211" y="359"/>
                </a:cubicBezTo>
                <a:cubicBezTo>
                  <a:pt x="208" y="361"/>
                  <a:pt x="204" y="358"/>
                  <a:pt x="202" y="362"/>
                </a:cubicBezTo>
                <a:cubicBezTo>
                  <a:pt x="202" y="362"/>
                  <a:pt x="197" y="364"/>
                  <a:pt x="198" y="361"/>
                </a:cubicBezTo>
                <a:cubicBezTo>
                  <a:pt x="197" y="360"/>
                  <a:pt x="197" y="360"/>
                  <a:pt x="197" y="360"/>
                </a:cubicBezTo>
                <a:cubicBezTo>
                  <a:pt x="199" y="359"/>
                  <a:pt x="197" y="358"/>
                  <a:pt x="197" y="357"/>
                </a:cubicBezTo>
                <a:cubicBezTo>
                  <a:pt x="195" y="354"/>
                  <a:pt x="197" y="351"/>
                  <a:pt x="195" y="348"/>
                </a:cubicBezTo>
                <a:cubicBezTo>
                  <a:pt x="189" y="345"/>
                  <a:pt x="191" y="337"/>
                  <a:pt x="184" y="335"/>
                </a:cubicBezTo>
                <a:cubicBezTo>
                  <a:pt x="182" y="331"/>
                  <a:pt x="182" y="327"/>
                  <a:pt x="180" y="324"/>
                </a:cubicBezTo>
                <a:cubicBezTo>
                  <a:pt x="175" y="323"/>
                  <a:pt x="175" y="317"/>
                  <a:pt x="172" y="314"/>
                </a:cubicBezTo>
                <a:cubicBezTo>
                  <a:pt x="170" y="313"/>
                  <a:pt x="170" y="309"/>
                  <a:pt x="168" y="309"/>
                </a:cubicBezTo>
                <a:cubicBezTo>
                  <a:pt x="167" y="308"/>
                  <a:pt x="168" y="307"/>
                  <a:pt x="167" y="306"/>
                </a:cubicBezTo>
                <a:cubicBezTo>
                  <a:pt x="165" y="310"/>
                  <a:pt x="165" y="310"/>
                  <a:pt x="165" y="310"/>
                </a:cubicBezTo>
                <a:cubicBezTo>
                  <a:pt x="160" y="304"/>
                  <a:pt x="160" y="304"/>
                  <a:pt x="160" y="304"/>
                </a:cubicBezTo>
                <a:cubicBezTo>
                  <a:pt x="158" y="306"/>
                  <a:pt x="161" y="308"/>
                  <a:pt x="163" y="310"/>
                </a:cubicBezTo>
                <a:cubicBezTo>
                  <a:pt x="164" y="316"/>
                  <a:pt x="171" y="320"/>
                  <a:pt x="171" y="328"/>
                </a:cubicBezTo>
                <a:cubicBezTo>
                  <a:pt x="172" y="330"/>
                  <a:pt x="175" y="329"/>
                  <a:pt x="176" y="332"/>
                </a:cubicBezTo>
                <a:cubicBezTo>
                  <a:pt x="178" y="336"/>
                  <a:pt x="174" y="344"/>
                  <a:pt x="181" y="345"/>
                </a:cubicBezTo>
                <a:cubicBezTo>
                  <a:pt x="184" y="347"/>
                  <a:pt x="183" y="352"/>
                  <a:pt x="186" y="354"/>
                </a:cubicBezTo>
                <a:cubicBezTo>
                  <a:pt x="187" y="354"/>
                  <a:pt x="187" y="354"/>
                  <a:pt x="187" y="354"/>
                </a:cubicBezTo>
                <a:cubicBezTo>
                  <a:pt x="186" y="355"/>
                  <a:pt x="187" y="355"/>
                  <a:pt x="188" y="355"/>
                </a:cubicBezTo>
                <a:cubicBezTo>
                  <a:pt x="192" y="357"/>
                  <a:pt x="195" y="361"/>
                  <a:pt x="197" y="364"/>
                </a:cubicBezTo>
                <a:cubicBezTo>
                  <a:pt x="198" y="365"/>
                  <a:pt x="197" y="366"/>
                  <a:pt x="196" y="366"/>
                </a:cubicBezTo>
                <a:cubicBezTo>
                  <a:pt x="200" y="368"/>
                  <a:pt x="202" y="375"/>
                  <a:pt x="206" y="370"/>
                </a:cubicBezTo>
                <a:cubicBezTo>
                  <a:pt x="207" y="369"/>
                  <a:pt x="210" y="371"/>
                  <a:pt x="210" y="369"/>
                </a:cubicBezTo>
                <a:cubicBezTo>
                  <a:pt x="215" y="368"/>
                  <a:pt x="219" y="368"/>
                  <a:pt x="223" y="366"/>
                </a:cubicBezTo>
                <a:cubicBezTo>
                  <a:pt x="225" y="375"/>
                  <a:pt x="216" y="383"/>
                  <a:pt x="213" y="391"/>
                </a:cubicBezTo>
                <a:cubicBezTo>
                  <a:pt x="206" y="398"/>
                  <a:pt x="197" y="403"/>
                  <a:pt x="191" y="412"/>
                </a:cubicBezTo>
                <a:cubicBezTo>
                  <a:pt x="187" y="414"/>
                  <a:pt x="186" y="420"/>
                  <a:pt x="183" y="423"/>
                </a:cubicBezTo>
                <a:cubicBezTo>
                  <a:pt x="182" y="426"/>
                  <a:pt x="185" y="427"/>
                  <a:pt x="185" y="428"/>
                </a:cubicBezTo>
                <a:cubicBezTo>
                  <a:pt x="182" y="429"/>
                  <a:pt x="186" y="431"/>
                  <a:pt x="184" y="433"/>
                </a:cubicBezTo>
                <a:cubicBezTo>
                  <a:pt x="186" y="435"/>
                  <a:pt x="185" y="439"/>
                  <a:pt x="188" y="439"/>
                </a:cubicBezTo>
                <a:cubicBezTo>
                  <a:pt x="187" y="445"/>
                  <a:pt x="187" y="449"/>
                  <a:pt x="188" y="454"/>
                </a:cubicBezTo>
                <a:cubicBezTo>
                  <a:pt x="185" y="463"/>
                  <a:pt x="175" y="463"/>
                  <a:pt x="169" y="470"/>
                </a:cubicBezTo>
                <a:cubicBezTo>
                  <a:pt x="169" y="470"/>
                  <a:pt x="168" y="470"/>
                  <a:pt x="168" y="471"/>
                </a:cubicBezTo>
                <a:cubicBezTo>
                  <a:pt x="167" y="476"/>
                  <a:pt x="171" y="480"/>
                  <a:pt x="169" y="483"/>
                </a:cubicBezTo>
                <a:cubicBezTo>
                  <a:pt x="170" y="485"/>
                  <a:pt x="168" y="487"/>
                  <a:pt x="167" y="488"/>
                </a:cubicBezTo>
                <a:cubicBezTo>
                  <a:pt x="164" y="488"/>
                  <a:pt x="161" y="490"/>
                  <a:pt x="160" y="492"/>
                </a:cubicBezTo>
                <a:cubicBezTo>
                  <a:pt x="162" y="495"/>
                  <a:pt x="158" y="498"/>
                  <a:pt x="158" y="502"/>
                </a:cubicBezTo>
                <a:cubicBezTo>
                  <a:pt x="151" y="508"/>
                  <a:pt x="147" y="517"/>
                  <a:pt x="137" y="520"/>
                </a:cubicBezTo>
                <a:cubicBezTo>
                  <a:pt x="135" y="519"/>
                  <a:pt x="135" y="522"/>
                  <a:pt x="133" y="522"/>
                </a:cubicBezTo>
                <a:cubicBezTo>
                  <a:pt x="130" y="521"/>
                  <a:pt x="126" y="520"/>
                  <a:pt x="124" y="522"/>
                </a:cubicBezTo>
                <a:cubicBezTo>
                  <a:pt x="120" y="520"/>
                  <a:pt x="116" y="527"/>
                  <a:pt x="113" y="521"/>
                </a:cubicBezTo>
                <a:cubicBezTo>
                  <a:pt x="113" y="522"/>
                  <a:pt x="113" y="522"/>
                  <a:pt x="113" y="522"/>
                </a:cubicBezTo>
                <a:cubicBezTo>
                  <a:pt x="113" y="519"/>
                  <a:pt x="112" y="518"/>
                  <a:pt x="111" y="516"/>
                </a:cubicBezTo>
                <a:cubicBezTo>
                  <a:pt x="115" y="515"/>
                  <a:pt x="111" y="512"/>
                  <a:pt x="111" y="510"/>
                </a:cubicBezTo>
                <a:cubicBezTo>
                  <a:pt x="111" y="502"/>
                  <a:pt x="101" y="497"/>
                  <a:pt x="103" y="488"/>
                </a:cubicBezTo>
                <a:cubicBezTo>
                  <a:pt x="101" y="487"/>
                  <a:pt x="102" y="482"/>
                  <a:pt x="102" y="480"/>
                </a:cubicBezTo>
                <a:cubicBezTo>
                  <a:pt x="98" y="476"/>
                  <a:pt x="98" y="469"/>
                  <a:pt x="93" y="465"/>
                </a:cubicBezTo>
                <a:cubicBezTo>
                  <a:pt x="92" y="459"/>
                  <a:pt x="96" y="456"/>
                  <a:pt x="96" y="450"/>
                </a:cubicBezTo>
                <a:cubicBezTo>
                  <a:pt x="98" y="446"/>
                  <a:pt x="103" y="445"/>
                  <a:pt x="100" y="439"/>
                </a:cubicBezTo>
                <a:cubicBezTo>
                  <a:pt x="96" y="435"/>
                  <a:pt x="101" y="430"/>
                  <a:pt x="96" y="426"/>
                </a:cubicBezTo>
                <a:cubicBezTo>
                  <a:pt x="97" y="425"/>
                  <a:pt x="97" y="425"/>
                  <a:pt x="97" y="425"/>
                </a:cubicBezTo>
                <a:cubicBezTo>
                  <a:pt x="96" y="424"/>
                  <a:pt x="95" y="421"/>
                  <a:pt x="93" y="419"/>
                </a:cubicBezTo>
                <a:cubicBezTo>
                  <a:pt x="89" y="416"/>
                  <a:pt x="86" y="412"/>
                  <a:pt x="85" y="407"/>
                </a:cubicBezTo>
                <a:cubicBezTo>
                  <a:pt x="87" y="407"/>
                  <a:pt x="85" y="404"/>
                  <a:pt x="87" y="404"/>
                </a:cubicBezTo>
                <a:cubicBezTo>
                  <a:pt x="85" y="400"/>
                  <a:pt x="91" y="397"/>
                  <a:pt x="88" y="392"/>
                </a:cubicBezTo>
                <a:cubicBezTo>
                  <a:pt x="86" y="392"/>
                  <a:pt x="86" y="390"/>
                  <a:pt x="84" y="389"/>
                </a:cubicBezTo>
                <a:cubicBezTo>
                  <a:pt x="81" y="390"/>
                  <a:pt x="75" y="393"/>
                  <a:pt x="73" y="389"/>
                </a:cubicBezTo>
                <a:cubicBezTo>
                  <a:pt x="74" y="386"/>
                  <a:pt x="71" y="384"/>
                  <a:pt x="68" y="383"/>
                </a:cubicBezTo>
                <a:cubicBezTo>
                  <a:pt x="61" y="382"/>
                  <a:pt x="55" y="390"/>
                  <a:pt x="47" y="387"/>
                </a:cubicBezTo>
                <a:cubicBezTo>
                  <a:pt x="47" y="387"/>
                  <a:pt x="47" y="387"/>
                  <a:pt x="47" y="387"/>
                </a:cubicBezTo>
                <a:cubicBezTo>
                  <a:pt x="46" y="388"/>
                  <a:pt x="46" y="387"/>
                  <a:pt x="45" y="387"/>
                </a:cubicBezTo>
                <a:cubicBezTo>
                  <a:pt x="43" y="388"/>
                  <a:pt x="40" y="387"/>
                  <a:pt x="38" y="388"/>
                </a:cubicBezTo>
                <a:cubicBezTo>
                  <a:pt x="36" y="389"/>
                  <a:pt x="34" y="389"/>
                  <a:pt x="32" y="390"/>
                </a:cubicBezTo>
                <a:cubicBezTo>
                  <a:pt x="28" y="390"/>
                  <a:pt x="25" y="385"/>
                  <a:pt x="22" y="383"/>
                </a:cubicBezTo>
                <a:cubicBezTo>
                  <a:pt x="21" y="381"/>
                  <a:pt x="18" y="383"/>
                  <a:pt x="18" y="381"/>
                </a:cubicBezTo>
                <a:cubicBezTo>
                  <a:pt x="16" y="379"/>
                  <a:pt x="14" y="377"/>
                  <a:pt x="14" y="374"/>
                </a:cubicBezTo>
                <a:cubicBezTo>
                  <a:pt x="11" y="371"/>
                  <a:pt x="10" y="369"/>
                  <a:pt x="7" y="367"/>
                </a:cubicBezTo>
                <a:cubicBezTo>
                  <a:pt x="8" y="364"/>
                  <a:pt x="4" y="366"/>
                  <a:pt x="3" y="363"/>
                </a:cubicBezTo>
                <a:cubicBezTo>
                  <a:pt x="4" y="362"/>
                  <a:pt x="1" y="361"/>
                  <a:pt x="3" y="359"/>
                </a:cubicBezTo>
                <a:cubicBezTo>
                  <a:pt x="3" y="358"/>
                  <a:pt x="2" y="357"/>
                  <a:pt x="0" y="355"/>
                </a:cubicBezTo>
                <a:cubicBezTo>
                  <a:pt x="3" y="351"/>
                  <a:pt x="7" y="345"/>
                  <a:pt x="4" y="339"/>
                </a:cubicBezTo>
                <a:cubicBezTo>
                  <a:pt x="5" y="338"/>
                  <a:pt x="4" y="337"/>
                  <a:pt x="4" y="337"/>
                </a:cubicBezTo>
                <a:cubicBezTo>
                  <a:pt x="4" y="335"/>
                  <a:pt x="2" y="335"/>
                  <a:pt x="2" y="334"/>
                </a:cubicBezTo>
                <a:cubicBezTo>
                  <a:pt x="2" y="330"/>
                  <a:pt x="5" y="328"/>
                  <a:pt x="6" y="324"/>
                </a:cubicBezTo>
                <a:cubicBezTo>
                  <a:pt x="10" y="321"/>
                  <a:pt x="10" y="316"/>
                  <a:pt x="15" y="314"/>
                </a:cubicBezTo>
                <a:cubicBezTo>
                  <a:pt x="14" y="312"/>
                  <a:pt x="16" y="312"/>
                  <a:pt x="17" y="310"/>
                </a:cubicBezTo>
                <a:cubicBezTo>
                  <a:pt x="20" y="312"/>
                  <a:pt x="20" y="308"/>
                  <a:pt x="23" y="308"/>
                </a:cubicBezTo>
                <a:cubicBezTo>
                  <a:pt x="25" y="306"/>
                  <a:pt x="27" y="302"/>
                  <a:pt x="26" y="299"/>
                </a:cubicBezTo>
                <a:cubicBezTo>
                  <a:pt x="26" y="297"/>
                  <a:pt x="29" y="296"/>
                  <a:pt x="28" y="294"/>
                </a:cubicBezTo>
                <a:cubicBezTo>
                  <a:pt x="32" y="290"/>
                  <a:pt x="38" y="289"/>
                  <a:pt x="39" y="282"/>
                </a:cubicBezTo>
                <a:cubicBezTo>
                  <a:pt x="40" y="282"/>
                  <a:pt x="40" y="282"/>
                  <a:pt x="40" y="282"/>
                </a:cubicBezTo>
                <a:cubicBezTo>
                  <a:pt x="40" y="283"/>
                  <a:pt x="41" y="284"/>
                  <a:pt x="41" y="285"/>
                </a:cubicBezTo>
                <a:cubicBezTo>
                  <a:pt x="45" y="283"/>
                  <a:pt x="51" y="287"/>
                  <a:pt x="55" y="282"/>
                </a:cubicBezTo>
                <a:cubicBezTo>
                  <a:pt x="58" y="280"/>
                  <a:pt x="62" y="279"/>
                  <a:pt x="67" y="279"/>
                </a:cubicBezTo>
                <a:cubicBezTo>
                  <a:pt x="69" y="277"/>
                  <a:pt x="73" y="281"/>
                  <a:pt x="75" y="278"/>
                </a:cubicBezTo>
                <a:cubicBezTo>
                  <a:pt x="76" y="278"/>
                  <a:pt x="76" y="279"/>
                  <a:pt x="77" y="278"/>
                </a:cubicBezTo>
                <a:cubicBezTo>
                  <a:pt x="79" y="278"/>
                  <a:pt x="82" y="279"/>
                  <a:pt x="84" y="277"/>
                </a:cubicBezTo>
                <a:cubicBezTo>
                  <a:pt x="87" y="277"/>
                  <a:pt x="87" y="277"/>
                  <a:pt x="87" y="277"/>
                </a:cubicBezTo>
                <a:cubicBezTo>
                  <a:pt x="86" y="278"/>
                  <a:pt x="87" y="278"/>
                  <a:pt x="88" y="279"/>
                </a:cubicBezTo>
                <a:cubicBezTo>
                  <a:pt x="89" y="279"/>
                  <a:pt x="89" y="278"/>
                  <a:pt x="89" y="278"/>
                </a:cubicBezTo>
                <a:cubicBezTo>
                  <a:pt x="83" y="281"/>
                  <a:pt x="95" y="284"/>
                  <a:pt x="88" y="287"/>
                </a:cubicBezTo>
                <a:cubicBezTo>
                  <a:pt x="87" y="288"/>
                  <a:pt x="87" y="288"/>
                  <a:pt x="87" y="288"/>
                </a:cubicBezTo>
                <a:cubicBezTo>
                  <a:pt x="87" y="290"/>
                  <a:pt x="89" y="291"/>
                  <a:pt x="91" y="291"/>
                </a:cubicBezTo>
                <a:cubicBezTo>
                  <a:pt x="91" y="293"/>
                  <a:pt x="93" y="292"/>
                  <a:pt x="94" y="293"/>
                </a:cubicBezTo>
                <a:cubicBezTo>
                  <a:pt x="98" y="293"/>
                  <a:pt x="101" y="293"/>
                  <a:pt x="104" y="295"/>
                </a:cubicBezTo>
                <a:cubicBezTo>
                  <a:pt x="104" y="297"/>
                  <a:pt x="105" y="298"/>
                  <a:pt x="106" y="299"/>
                </a:cubicBezTo>
                <a:cubicBezTo>
                  <a:pt x="112" y="297"/>
                  <a:pt x="116" y="308"/>
                  <a:pt x="120" y="300"/>
                </a:cubicBezTo>
                <a:cubicBezTo>
                  <a:pt x="119" y="299"/>
                  <a:pt x="119" y="296"/>
                  <a:pt x="120" y="294"/>
                </a:cubicBezTo>
                <a:cubicBezTo>
                  <a:pt x="122" y="293"/>
                  <a:pt x="125" y="293"/>
                  <a:pt x="128" y="294"/>
                </a:cubicBezTo>
                <a:cubicBezTo>
                  <a:pt x="133" y="296"/>
                  <a:pt x="138" y="299"/>
                  <a:pt x="144" y="298"/>
                </a:cubicBezTo>
                <a:cubicBezTo>
                  <a:pt x="149" y="302"/>
                  <a:pt x="152" y="295"/>
                  <a:pt x="157" y="298"/>
                </a:cubicBezTo>
                <a:cubicBezTo>
                  <a:pt x="157" y="298"/>
                  <a:pt x="157" y="299"/>
                  <a:pt x="157" y="299"/>
                </a:cubicBezTo>
                <a:cubicBezTo>
                  <a:pt x="158" y="299"/>
                  <a:pt x="158" y="299"/>
                  <a:pt x="158" y="298"/>
                </a:cubicBezTo>
                <a:cubicBezTo>
                  <a:pt x="160" y="300"/>
                  <a:pt x="161" y="297"/>
                  <a:pt x="163" y="299"/>
                </a:cubicBezTo>
                <a:cubicBezTo>
                  <a:pt x="168" y="295"/>
                  <a:pt x="168" y="289"/>
                  <a:pt x="169" y="284"/>
                </a:cubicBezTo>
                <a:cubicBezTo>
                  <a:pt x="168" y="282"/>
                  <a:pt x="169" y="279"/>
                  <a:pt x="169" y="277"/>
                </a:cubicBezTo>
                <a:cubicBezTo>
                  <a:pt x="168" y="278"/>
                  <a:pt x="166" y="278"/>
                  <a:pt x="165" y="277"/>
                </a:cubicBezTo>
                <a:cubicBezTo>
                  <a:pt x="163" y="280"/>
                  <a:pt x="161" y="281"/>
                  <a:pt x="158" y="280"/>
                </a:cubicBezTo>
                <a:cubicBezTo>
                  <a:pt x="156" y="278"/>
                  <a:pt x="154" y="278"/>
                  <a:pt x="152" y="278"/>
                </a:cubicBezTo>
                <a:cubicBezTo>
                  <a:pt x="152" y="280"/>
                  <a:pt x="150" y="279"/>
                  <a:pt x="148" y="280"/>
                </a:cubicBezTo>
                <a:cubicBezTo>
                  <a:pt x="147" y="279"/>
                  <a:pt x="146" y="278"/>
                  <a:pt x="144" y="278"/>
                </a:cubicBezTo>
                <a:cubicBezTo>
                  <a:pt x="144" y="278"/>
                  <a:pt x="144" y="278"/>
                  <a:pt x="144" y="278"/>
                </a:cubicBezTo>
                <a:cubicBezTo>
                  <a:pt x="140" y="275"/>
                  <a:pt x="140" y="275"/>
                  <a:pt x="140" y="275"/>
                </a:cubicBezTo>
                <a:cubicBezTo>
                  <a:pt x="141" y="274"/>
                  <a:pt x="141" y="274"/>
                  <a:pt x="141" y="274"/>
                </a:cubicBezTo>
                <a:cubicBezTo>
                  <a:pt x="140" y="273"/>
                  <a:pt x="138" y="273"/>
                  <a:pt x="137" y="272"/>
                </a:cubicBezTo>
                <a:cubicBezTo>
                  <a:pt x="137" y="272"/>
                  <a:pt x="137" y="272"/>
                  <a:pt x="137" y="272"/>
                </a:cubicBezTo>
                <a:cubicBezTo>
                  <a:pt x="137" y="272"/>
                  <a:pt x="138" y="272"/>
                  <a:pt x="139" y="272"/>
                </a:cubicBezTo>
                <a:cubicBezTo>
                  <a:pt x="141" y="271"/>
                  <a:pt x="139" y="269"/>
                  <a:pt x="139" y="267"/>
                </a:cubicBezTo>
                <a:cubicBezTo>
                  <a:pt x="137" y="267"/>
                  <a:pt x="137" y="267"/>
                  <a:pt x="137" y="267"/>
                </a:cubicBezTo>
                <a:cubicBezTo>
                  <a:pt x="137" y="265"/>
                  <a:pt x="138" y="262"/>
                  <a:pt x="135" y="261"/>
                </a:cubicBezTo>
                <a:cubicBezTo>
                  <a:pt x="133" y="261"/>
                  <a:pt x="132" y="263"/>
                  <a:pt x="131" y="261"/>
                </a:cubicBezTo>
                <a:cubicBezTo>
                  <a:pt x="129" y="263"/>
                  <a:pt x="129" y="263"/>
                  <a:pt x="129" y="263"/>
                </a:cubicBezTo>
                <a:cubicBezTo>
                  <a:pt x="129" y="264"/>
                  <a:pt x="129" y="264"/>
                  <a:pt x="129" y="264"/>
                </a:cubicBezTo>
                <a:cubicBezTo>
                  <a:pt x="129" y="264"/>
                  <a:pt x="128" y="265"/>
                  <a:pt x="128" y="265"/>
                </a:cubicBezTo>
                <a:cubicBezTo>
                  <a:pt x="126" y="263"/>
                  <a:pt x="126" y="263"/>
                  <a:pt x="126" y="263"/>
                </a:cubicBezTo>
                <a:cubicBezTo>
                  <a:pt x="122" y="265"/>
                  <a:pt x="128" y="268"/>
                  <a:pt x="126" y="269"/>
                </a:cubicBezTo>
                <a:cubicBezTo>
                  <a:pt x="127" y="269"/>
                  <a:pt x="127" y="269"/>
                  <a:pt x="127" y="269"/>
                </a:cubicBezTo>
                <a:cubicBezTo>
                  <a:pt x="126" y="270"/>
                  <a:pt x="126" y="270"/>
                  <a:pt x="126" y="270"/>
                </a:cubicBezTo>
                <a:cubicBezTo>
                  <a:pt x="126" y="271"/>
                  <a:pt x="127" y="271"/>
                  <a:pt x="127" y="271"/>
                </a:cubicBezTo>
                <a:cubicBezTo>
                  <a:pt x="127" y="271"/>
                  <a:pt x="128" y="270"/>
                  <a:pt x="128" y="270"/>
                </a:cubicBezTo>
                <a:cubicBezTo>
                  <a:pt x="129" y="271"/>
                  <a:pt x="132" y="272"/>
                  <a:pt x="130" y="274"/>
                </a:cubicBezTo>
                <a:cubicBezTo>
                  <a:pt x="130" y="273"/>
                  <a:pt x="128" y="274"/>
                  <a:pt x="128" y="274"/>
                </a:cubicBezTo>
                <a:cubicBezTo>
                  <a:pt x="127" y="274"/>
                  <a:pt x="127" y="274"/>
                  <a:pt x="127" y="274"/>
                </a:cubicBezTo>
                <a:cubicBezTo>
                  <a:pt x="127" y="275"/>
                  <a:pt x="128" y="275"/>
                  <a:pt x="128" y="276"/>
                </a:cubicBezTo>
                <a:cubicBezTo>
                  <a:pt x="128" y="276"/>
                  <a:pt x="128" y="275"/>
                  <a:pt x="127" y="276"/>
                </a:cubicBezTo>
                <a:cubicBezTo>
                  <a:pt x="126" y="276"/>
                  <a:pt x="127" y="277"/>
                  <a:pt x="128" y="278"/>
                </a:cubicBezTo>
                <a:cubicBezTo>
                  <a:pt x="127" y="279"/>
                  <a:pt x="127" y="278"/>
                  <a:pt x="127" y="278"/>
                </a:cubicBezTo>
                <a:cubicBezTo>
                  <a:pt x="126" y="278"/>
                  <a:pt x="126" y="278"/>
                  <a:pt x="126" y="278"/>
                </a:cubicBezTo>
                <a:cubicBezTo>
                  <a:pt x="126" y="277"/>
                  <a:pt x="124" y="278"/>
                  <a:pt x="124" y="278"/>
                </a:cubicBezTo>
                <a:cubicBezTo>
                  <a:pt x="125" y="275"/>
                  <a:pt x="120" y="275"/>
                  <a:pt x="123" y="273"/>
                </a:cubicBezTo>
                <a:cubicBezTo>
                  <a:pt x="120" y="271"/>
                  <a:pt x="118" y="268"/>
                  <a:pt x="116" y="265"/>
                </a:cubicBezTo>
                <a:cubicBezTo>
                  <a:pt x="115" y="264"/>
                  <a:pt x="117" y="262"/>
                  <a:pt x="115" y="260"/>
                </a:cubicBezTo>
                <a:cubicBezTo>
                  <a:pt x="117" y="257"/>
                  <a:pt x="113" y="257"/>
                  <a:pt x="112" y="255"/>
                </a:cubicBezTo>
                <a:cubicBezTo>
                  <a:pt x="110" y="253"/>
                  <a:pt x="108" y="253"/>
                  <a:pt x="107" y="252"/>
                </a:cubicBezTo>
                <a:cubicBezTo>
                  <a:pt x="105" y="253"/>
                  <a:pt x="104" y="250"/>
                  <a:pt x="102" y="249"/>
                </a:cubicBezTo>
                <a:cubicBezTo>
                  <a:pt x="103" y="247"/>
                  <a:pt x="98" y="245"/>
                  <a:pt x="100" y="245"/>
                </a:cubicBezTo>
                <a:cubicBezTo>
                  <a:pt x="100" y="244"/>
                  <a:pt x="100" y="244"/>
                  <a:pt x="100" y="244"/>
                </a:cubicBezTo>
                <a:cubicBezTo>
                  <a:pt x="97" y="246"/>
                  <a:pt x="97" y="246"/>
                  <a:pt x="97" y="246"/>
                </a:cubicBezTo>
                <a:cubicBezTo>
                  <a:pt x="96" y="242"/>
                  <a:pt x="96" y="242"/>
                  <a:pt x="96" y="242"/>
                </a:cubicBezTo>
                <a:cubicBezTo>
                  <a:pt x="95" y="243"/>
                  <a:pt x="91" y="243"/>
                  <a:pt x="92" y="246"/>
                </a:cubicBezTo>
                <a:cubicBezTo>
                  <a:pt x="92" y="251"/>
                  <a:pt x="99" y="251"/>
                  <a:pt x="99" y="256"/>
                </a:cubicBezTo>
                <a:cubicBezTo>
                  <a:pt x="100" y="257"/>
                  <a:pt x="102" y="259"/>
                  <a:pt x="105" y="258"/>
                </a:cubicBezTo>
                <a:cubicBezTo>
                  <a:pt x="104" y="259"/>
                  <a:pt x="104" y="259"/>
                  <a:pt x="104" y="259"/>
                </a:cubicBezTo>
                <a:cubicBezTo>
                  <a:pt x="106" y="261"/>
                  <a:pt x="110" y="262"/>
                  <a:pt x="112" y="264"/>
                </a:cubicBezTo>
                <a:cubicBezTo>
                  <a:pt x="112" y="266"/>
                  <a:pt x="112" y="266"/>
                  <a:pt x="112" y="266"/>
                </a:cubicBezTo>
                <a:cubicBezTo>
                  <a:pt x="111" y="264"/>
                  <a:pt x="110" y="264"/>
                  <a:pt x="108" y="264"/>
                </a:cubicBezTo>
                <a:cubicBezTo>
                  <a:pt x="107" y="264"/>
                  <a:pt x="107" y="266"/>
                  <a:pt x="107" y="267"/>
                </a:cubicBezTo>
                <a:cubicBezTo>
                  <a:pt x="111" y="268"/>
                  <a:pt x="106" y="270"/>
                  <a:pt x="107" y="273"/>
                </a:cubicBezTo>
                <a:cubicBezTo>
                  <a:pt x="106" y="273"/>
                  <a:pt x="105" y="274"/>
                  <a:pt x="104" y="274"/>
                </a:cubicBezTo>
                <a:cubicBezTo>
                  <a:pt x="104" y="273"/>
                  <a:pt x="104" y="273"/>
                  <a:pt x="104" y="273"/>
                </a:cubicBezTo>
                <a:cubicBezTo>
                  <a:pt x="102" y="275"/>
                  <a:pt x="102" y="276"/>
                  <a:pt x="103" y="278"/>
                </a:cubicBezTo>
                <a:cubicBezTo>
                  <a:pt x="100" y="277"/>
                  <a:pt x="96" y="277"/>
                  <a:pt x="95" y="274"/>
                </a:cubicBezTo>
                <a:cubicBezTo>
                  <a:pt x="95" y="273"/>
                  <a:pt x="97" y="274"/>
                  <a:pt x="98" y="274"/>
                </a:cubicBezTo>
                <a:cubicBezTo>
                  <a:pt x="100" y="272"/>
                  <a:pt x="106" y="275"/>
                  <a:pt x="106" y="270"/>
                </a:cubicBezTo>
                <a:cubicBezTo>
                  <a:pt x="105" y="269"/>
                  <a:pt x="106" y="264"/>
                  <a:pt x="102" y="265"/>
                </a:cubicBezTo>
                <a:cubicBezTo>
                  <a:pt x="101" y="262"/>
                  <a:pt x="97" y="260"/>
                  <a:pt x="94" y="260"/>
                </a:cubicBezTo>
                <a:cubicBezTo>
                  <a:pt x="91" y="255"/>
                  <a:pt x="87" y="252"/>
                  <a:pt x="84" y="248"/>
                </a:cubicBezTo>
                <a:cubicBezTo>
                  <a:pt x="83" y="248"/>
                  <a:pt x="82" y="248"/>
                  <a:pt x="82" y="248"/>
                </a:cubicBezTo>
                <a:cubicBezTo>
                  <a:pt x="78" y="248"/>
                  <a:pt x="75" y="257"/>
                  <a:pt x="70" y="252"/>
                </a:cubicBezTo>
                <a:cubicBezTo>
                  <a:pt x="69" y="252"/>
                  <a:pt x="68" y="252"/>
                  <a:pt x="67" y="251"/>
                </a:cubicBezTo>
                <a:cubicBezTo>
                  <a:pt x="63" y="253"/>
                  <a:pt x="66" y="256"/>
                  <a:pt x="64" y="260"/>
                </a:cubicBezTo>
                <a:cubicBezTo>
                  <a:pt x="59" y="260"/>
                  <a:pt x="58" y="265"/>
                  <a:pt x="55" y="268"/>
                </a:cubicBezTo>
                <a:cubicBezTo>
                  <a:pt x="56" y="271"/>
                  <a:pt x="56" y="271"/>
                  <a:pt x="56" y="271"/>
                </a:cubicBezTo>
                <a:cubicBezTo>
                  <a:pt x="54" y="273"/>
                  <a:pt x="53" y="276"/>
                  <a:pt x="50" y="278"/>
                </a:cubicBezTo>
                <a:cubicBezTo>
                  <a:pt x="43" y="273"/>
                  <a:pt x="38" y="287"/>
                  <a:pt x="35" y="277"/>
                </a:cubicBezTo>
                <a:cubicBezTo>
                  <a:pt x="34" y="275"/>
                  <a:pt x="31" y="278"/>
                  <a:pt x="30" y="276"/>
                </a:cubicBezTo>
                <a:cubicBezTo>
                  <a:pt x="29" y="277"/>
                  <a:pt x="29" y="277"/>
                  <a:pt x="29" y="277"/>
                </a:cubicBezTo>
                <a:cubicBezTo>
                  <a:pt x="28" y="274"/>
                  <a:pt x="30" y="271"/>
                  <a:pt x="28" y="270"/>
                </a:cubicBezTo>
                <a:cubicBezTo>
                  <a:pt x="27" y="270"/>
                  <a:pt x="27" y="270"/>
                  <a:pt x="27" y="270"/>
                </a:cubicBezTo>
                <a:cubicBezTo>
                  <a:pt x="29" y="265"/>
                  <a:pt x="31" y="259"/>
                  <a:pt x="28" y="253"/>
                </a:cubicBezTo>
                <a:cubicBezTo>
                  <a:pt x="31" y="250"/>
                  <a:pt x="34" y="253"/>
                  <a:pt x="38" y="251"/>
                </a:cubicBezTo>
                <a:cubicBezTo>
                  <a:pt x="40" y="254"/>
                  <a:pt x="45" y="251"/>
                  <a:pt x="47" y="253"/>
                </a:cubicBezTo>
                <a:cubicBezTo>
                  <a:pt x="48" y="251"/>
                  <a:pt x="50" y="254"/>
                  <a:pt x="52" y="252"/>
                </a:cubicBezTo>
                <a:cubicBezTo>
                  <a:pt x="53" y="249"/>
                  <a:pt x="52" y="246"/>
                  <a:pt x="53" y="244"/>
                </a:cubicBezTo>
                <a:cubicBezTo>
                  <a:pt x="55" y="240"/>
                  <a:pt x="49" y="240"/>
                  <a:pt x="49" y="236"/>
                </a:cubicBezTo>
                <a:cubicBezTo>
                  <a:pt x="48" y="235"/>
                  <a:pt x="43" y="235"/>
                  <a:pt x="43" y="232"/>
                </a:cubicBezTo>
                <a:cubicBezTo>
                  <a:pt x="44" y="232"/>
                  <a:pt x="47" y="229"/>
                  <a:pt x="48" y="231"/>
                </a:cubicBezTo>
                <a:cubicBezTo>
                  <a:pt x="49" y="231"/>
                  <a:pt x="51" y="232"/>
                  <a:pt x="52" y="230"/>
                </a:cubicBezTo>
                <a:cubicBezTo>
                  <a:pt x="52" y="229"/>
                  <a:pt x="52" y="228"/>
                  <a:pt x="51" y="227"/>
                </a:cubicBezTo>
                <a:cubicBezTo>
                  <a:pt x="53" y="226"/>
                  <a:pt x="54" y="229"/>
                  <a:pt x="56" y="228"/>
                </a:cubicBezTo>
                <a:cubicBezTo>
                  <a:pt x="57" y="225"/>
                  <a:pt x="63" y="226"/>
                  <a:pt x="61" y="221"/>
                </a:cubicBezTo>
                <a:cubicBezTo>
                  <a:pt x="63" y="221"/>
                  <a:pt x="65" y="219"/>
                  <a:pt x="67" y="219"/>
                </a:cubicBezTo>
                <a:cubicBezTo>
                  <a:pt x="68" y="216"/>
                  <a:pt x="67" y="212"/>
                  <a:pt x="71" y="211"/>
                </a:cubicBezTo>
                <a:cubicBezTo>
                  <a:pt x="73" y="211"/>
                  <a:pt x="75" y="211"/>
                  <a:pt x="76" y="209"/>
                </a:cubicBezTo>
                <a:cubicBezTo>
                  <a:pt x="77" y="209"/>
                  <a:pt x="78" y="209"/>
                  <a:pt x="79" y="210"/>
                </a:cubicBezTo>
                <a:cubicBezTo>
                  <a:pt x="80" y="208"/>
                  <a:pt x="82" y="209"/>
                  <a:pt x="80" y="206"/>
                </a:cubicBezTo>
                <a:cubicBezTo>
                  <a:pt x="81" y="205"/>
                  <a:pt x="80" y="202"/>
                  <a:pt x="79" y="201"/>
                </a:cubicBezTo>
                <a:cubicBezTo>
                  <a:pt x="80" y="199"/>
                  <a:pt x="78" y="196"/>
                  <a:pt x="81" y="196"/>
                </a:cubicBezTo>
                <a:cubicBezTo>
                  <a:pt x="80" y="195"/>
                  <a:pt x="80" y="194"/>
                  <a:pt x="79" y="194"/>
                </a:cubicBezTo>
                <a:cubicBezTo>
                  <a:pt x="81" y="194"/>
                  <a:pt x="83" y="192"/>
                  <a:pt x="84" y="191"/>
                </a:cubicBezTo>
                <a:cubicBezTo>
                  <a:pt x="85" y="193"/>
                  <a:pt x="82" y="196"/>
                  <a:pt x="85" y="197"/>
                </a:cubicBezTo>
                <a:cubicBezTo>
                  <a:pt x="86" y="197"/>
                  <a:pt x="86" y="197"/>
                  <a:pt x="86" y="197"/>
                </a:cubicBezTo>
                <a:cubicBezTo>
                  <a:pt x="83" y="200"/>
                  <a:pt x="83" y="200"/>
                  <a:pt x="83" y="200"/>
                </a:cubicBezTo>
                <a:cubicBezTo>
                  <a:pt x="83" y="201"/>
                  <a:pt x="86" y="200"/>
                  <a:pt x="85" y="202"/>
                </a:cubicBezTo>
                <a:cubicBezTo>
                  <a:pt x="84" y="203"/>
                  <a:pt x="83" y="201"/>
                  <a:pt x="83" y="200"/>
                </a:cubicBezTo>
                <a:cubicBezTo>
                  <a:pt x="81" y="203"/>
                  <a:pt x="84" y="204"/>
                  <a:pt x="84" y="206"/>
                </a:cubicBezTo>
                <a:cubicBezTo>
                  <a:pt x="85" y="205"/>
                  <a:pt x="86" y="207"/>
                  <a:pt x="87" y="206"/>
                </a:cubicBezTo>
                <a:cubicBezTo>
                  <a:pt x="86" y="207"/>
                  <a:pt x="86" y="207"/>
                  <a:pt x="86" y="207"/>
                </a:cubicBezTo>
                <a:cubicBezTo>
                  <a:pt x="88" y="210"/>
                  <a:pt x="90" y="205"/>
                  <a:pt x="92" y="206"/>
                </a:cubicBezTo>
                <a:cubicBezTo>
                  <a:pt x="94" y="205"/>
                  <a:pt x="94" y="205"/>
                  <a:pt x="94" y="205"/>
                </a:cubicBezTo>
                <a:cubicBezTo>
                  <a:pt x="92" y="207"/>
                  <a:pt x="95" y="208"/>
                  <a:pt x="96" y="209"/>
                </a:cubicBezTo>
                <a:cubicBezTo>
                  <a:pt x="99" y="207"/>
                  <a:pt x="102" y="205"/>
                  <a:pt x="105" y="204"/>
                </a:cubicBezTo>
                <a:cubicBezTo>
                  <a:pt x="108" y="202"/>
                  <a:pt x="111" y="208"/>
                  <a:pt x="113" y="204"/>
                </a:cubicBezTo>
                <a:cubicBezTo>
                  <a:pt x="113" y="203"/>
                  <a:pt x="113" y="203"/>
                  <a:pt x="113" y="203"/>
                </a:cubicBezTo>
                <a:cubicBezTo>
                  <a:pt x="114" y="204"/>
                  <a:pt x="115" y="201"/>
                  <a:pt x="116" y="203"/>
                </a:cubicBezTo>
                <a:cubicBezTo>
                  <a:pt x="118" y="201"/>
                  <a:pt x="116" y="199"/>
                  <a:pt x="116" y="197"/>
                </a:cubicBezTo>
                <a:cubicBezTo>
                  <a:pt x="115" y="195"/>
                  <a:pt x="117" y="192"/>
                  <a:pt x="117" y="190"/>
                </a:cubicBezTo>
                <a:cubicBezTo>
                  <a:pt x="120" y="188"/>
                  <a:pt x="121" y="193"/>
                  <a:pt x="123" y="193"/>
                </a:cubicBezTo>
                <a:cubicBezTo>
                  <a:pt x="126" y="192"/>
                  <a:pt x="123" y="190"/>
                  <a:pt x="125" y="187"/>
                </a:cubicBezTo>
                <a:cubicBezTo>
                  <a:pt x="124" y="186"/>
                  <a:pt x="123" y="187"/>
                  <a:pt x="123" y="186"/>
                </a:cubicBezTo>
                <a:cubicBezTo>
                  <a:pt x="122" y="185"/>
                  <a:pt x="121" y="184"/>
                  <a:pt x="121" y="182"/>
                </a:cubicBezTo>
                <a:cubicBezTo>
                  <a:pt x="123" y="181"/>
                  <a:pt x="124" y="181"/>
                  <a:pt x="125" y="180"/>
                </a:cubicBezTo>
                <a:cubicBezTo>
                  <a:pt x="126" y="182"/>
                  <a:pt x="127" y="179"/>
                  <a:pt x="128" y="180"/>
                </a:cubicBezTo>
                <a:cubicBezTo>
                  <a:pt x="130" y="179"/>
                  <a:pt x="133" y="183"/>
                  <a:pt x="135" y="179"/>
                </a:cubicBezTo>
                <a:cubicBezTo>
                  <a:pt x="136" y="179"/>
                  <a:pt x="137" y="177"/>
                  <a:pt x="139" y="177"/>
                </a:cubicBezTo>
                <a:cubicBezTo>
                  <a:pt x="135" y="175"/>
                  <a:pt x="135" y="175"/>
                  <a:pt x="135" y="175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5" y="174"/>
                  <a:pt x="135" y="173"/>
                  <a:pt x="135" y="173"/>
                </a:cubicBezTo>
                <a:cubicBezTo>
                  <a:pt x="133" y="175"/>
                  <a:pt x="133" y="175"/>
                  <a:pt x="133" y="175"/>
                </a:cubicBezTo>
                <a:cubicBezTo>
                  <a:pt x="132" y="175"/>
                  <a:pt x="129" y="175"/>
                  <a:pt x="128" y="175"/>
                </a:cubicBezTo>
                <a:cubicBezTo>
                  <a:pt x="125" y="175"/>
                  <a:pt x="123" y="177"/>
                  <a:pt x="120" y="177"/>
                </a:cubicBezTo>
                <a:cubicBezTo>
                  <a:pt x="118" y="174"/>
                  <a:pt x="111" y="175"/>
                  <a:pt x="115" y="169"/>
                </a:cubicBezTo>
                <a:cubicBezTo>
                  <a:pt x="113" y="167"/>
                  <a:pt x="112" y="164"/>
                  <a:pt x="113" y="161"/>
                </a:cubicBezTo>
                <a:cubicBezTo>
                  <a:pt x="114" y="161"/>
                  <a:pt x="114" y="161"/>
                  <a:pt x="115" y="161"/>
                </a:cubicBezTo>
                <a:cubicBezTo>
                  <a:pt x="117" y="158"/>
                  <a:pt x="119" y="153"/>
                  <a:pt x="123" y="151"/>
                </a:cubicBezTo>
                <a:cubicBezTo>
                  <a:pt x="123" y="148"/>
                  <a:pt x="122" y="147"/>
                  <a:pt x="119" y="146"/>
                </a:cubicBezTo>
                <a:cubicBezTo>
                  <a:pt x="118" y="146"/>
                  <a:pt x="116" y="145"/>
                  <a:pt x="116" y="147"/>
                </a:cubicBezTo>
                <a:cubicBezTo>
                  <a:pt x="115" y="146"/>
                  <a:pt x="115" y="146"/>
                  <a:pt x="114" y="146"/>
                </a:cubicBezTo>
                <a:cubicBezTo>
                  <a:pt x="112" y="148"/>
                  <a:pt x="112" y="150"/>
                  <a:pt x="111" y="152"/>
                </a:cubicBezTo>
                <a:cubicBezTo>
                  <a:pt x="114" y="154"/>
                  <a:pt x="110" y="154"/>
                  <a:pt x="111" y="157"/>
                </a:cubicBezTo>
                <a:cubicBezTo>
                  <a:pt x="107" y="159"/>
                  <a:pt x="102" y="164"/>
                  <a:pt x="102" y="169"/>
                </a:cubicBezTo>
                <a:cubicBezTo>
                  <a:pt x="103" y="170"/>
                  <a:pt x="101" y="174"/>
                  <a:pt x="104" y="176"/>
                </a:cubicBezTo>
                <a:cubicBezTo>
                  <a:pt x="106" y="175"/>
                  <a:pt x="105" y="178"/>
                  <a:pt x="107" y="179"/>
                </a:cubicBezTo>
                <a:cubicBezTo>
                  <a:pt x="107" y="179"/>
                  <a:pt x="106" y="180"/>
                  <a:pt x="107" y="181"/>
                </a:cubicBezTo>
                <a:cubicBezTo>
                  <a:pt x="107" y="181"/>
                  <a:pt x="107" y="181"/>
                  <a:pt x="107" y="181"/>
                </a:cubicBezTo>
                <a:cubicBezTo>
                  <a:pt x="102" y="185"/>
                  <a:pt x="102" y="185"/>
                  <a:pt x="102" y="185"/>
                </a:cubicBezTo>
                <a:cubicBezTo>
                  <a:pt x="103" y="189"/>
                  <a:pt x="100" y="192"/>
                  <a:pt x="102" y="195"/>
                </a:cubicBezTo>
                <a:cubicBezTo>
                  <a:pt x="102" y="194"/>
                  <a:pt x="103" y="194"/>
                  <a:pt x="103" y="193"/>
                </a:cubicBezTo>
                <a:cubicBezTo>
                  <a:pt x="103" y="194"/>
                  <a:pt x="102" y="195"/>
                  <a:pt x="103" y="196"/>
                </a:cubicBezTo>
                <a:cubicBezTo>
                  <a:pt x="103" y="196"/>
                  <a:pt x="102" y="195"/>
                  <a:pt x="102" y="195"/>
                </a:cubicBezTo>
                <a:cubicBezTo>
                  <a:pt x="100" y="195"/>
                  <a:pt x="101" y="197"/>
                  <a:pt x="100" y="197"/>
                </a:cubicBezTo>
                <a:cubicBezTo>
                  <a:pt x="98" y="197"/>
                  <a:pt x="96" y="197"/>
                  <a:pt x="95" y="199"/>
                </a:cubicBezTo>
                <a:cubicBezTo>
                  <a:pt x="96" y="200"/>
                  <a:pt x="96" y="200"/>
                  <a:pt x="96" y="200"/>
                </a:cubicBezTo>
                <a:cubicBezTo>
                  <a:pt x="93" y="201"/>
                  <a:pt x="93" y="201"/>
                  <a:pt x="93" y="201"/>
                </a:cubicBezTo>
                <a:cubicBezTo>
                  <a:pt x="93" y="199"/>
                  <a:pt x="90" y="198"/>
                  <a:pt x="92" y="196"/>
                </a:cubicBezTo>
                <a:cubicBezTo>
                  <a:pt x="89" y="193"/>
                  <a:pt x="89" y="188"/>
                  <a:pt x="87" y="184"/>
                </a:cubicBezTo>
                <a:cubicBezTo>
                  <a:pt x="87" y="184"/>
                  <a:pt x="87" y="184"/>
                  <a:pt x="87" y="184"/>
                </a:cubicBezTo>
                <a:cubicBezTo>
                  <a:pt x="84" y="180"/>
                  <a:pt x="84" y="180"/>
                  <a:pt x="84" y="180"/>
                </a:cubicBezTo>
                <a:cubicBezTo>
                  <a:pt x="84" y="181"/>
                  <a:pt x="84" y="181"/>
                  <a:pt x="84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0" y="183"/>
                  <a:pt x="80" y="189"/>
                  <a:pt x="76" y="189"/>
                </a:cubicBezTo>
                <a:cubicBezTo>
                  <a:pt x="74" y="188"/>
                  <a:pt x="72" y="186"/>
                  <a:pt x="70" y="185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2" y="183"/>
                  <a:pt x="72" y="183"/>
                  <a:pt x="72" y="183"/>
                </a:cubicBezTo>
                <a:cubicBezTo>
                  <a:pt x="72" y="183"/>
                  <a:pt x="73" y="182"/>
                  <a:pt x="72" y="182"/>
                </a:cubicBezTo>
                <a:cubicBezTo>
                  <a:pt x="71" y="180"/>
                  <a:pt x="70" y="183"/>
                  <a:pt x="69" y="181"/>
                </a:cubicBezTo>
                <a:cubicBezTo>
                  <a:pt x="71" y="182"/>
                  <a:pt x="72" y="179"/>
                  <a:pt x="72" y="177"/>
                </a:cubicBezTo>
                <a:cubicBezTo>
                  <a:pt x="72" y="177"/>
                  <a:pt x="72" y="177"/>
                  <a:pt x="72" y="177"/>
                </a:cubicBezTo>
                <a:cubicBezTo>
                  <a:pt x="71" y="177"/>
                  <a:pt x="71" y="178"/>
                  <a:pt x="71" y="177"/>
                </a:cubicBezTo>
                <a:cubicBezTo>
                  <a:pt x="71" y="177"/>
                  <a:pt x="70" y="176"/>
                  <a:pt x="71" y="176"/>
                </a:cubicBezTo>
                <a:cubicBezTo>
                  <a:pt x="71" y="175"/>
                  <a:pt x="70" y="175"/>
                  <a:pt x="69" y="175"/>
                </a:cubicBezTo>
                <a:cubicBezTo>
                  <a:pt x="70" y="175"/>
                  <a:pt x="69" y="174"/>
                  <a:pt x="69" y="174"/>
                </a:cubicBezTo>
                <a:cubicBezTo>
                  <a:pt x="69" y="173"/>
                  <a:pt x="69" y="171"/>
                  <a:pt x="69" y="170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0" y="169"/>
                  <a:pt x="70" y="168"/>
                  <a:pt x="69" y="168"/>
                </a:cubicBezTo>
                <a:cubicBezTo>
                  <a:pt x="74" y="167"/>
                  <a:pt x="74" y="167"/>
                  <a:pt x="74" y="167"/>
                </a:cubicBezTo>
                <a:cubicBezTo>
                  <a:pt x="72" y="165"/>
                  <a:pt x="72" y="165"/>
                  <a:pt x="72" y="165"/>
                </a:cubicBezTo>
                <a:cubicBezTo>
                  <a:pt x="74" y="165"/>
                  <a:pt x="75" y="167"/>
                  <a:pt x="76" y="165"/>
                </a:cubicBezTo>
                <a:cubicBezTo>
                  <a:pt x="75" y="164"/>
                  <a:pt x="75" y="164"/>
                  <a:pt x="74" y="164"/>
                </a:cubicBezTo>
                <a:cubicBezTo>
                  <a:pt x="74" y="163"/>
                  <a:pt x="77" y="164"/>
                  <a:pt x="77" y="164"/>
                </a:cubicBezTo>
                <a:cubicBezTo>
                  <a:pt x="81" y="161"/>
                  <a:pt x="81" y="156"/>
                  <a:pt x="85" y="155"/>
                </a:cubicBezTo>
                <a:cubicBezTo>
                  <a:pt x="88" y="152"/>
                  <a:pt x="88" y="149"/>
                  <a:pt x="89" y="146"/>
                </a:cubicBezTo>
                <a:cubicBezTo>
                  <a:pt x="89" y="145"/>
                  <a:pt x="89" y="145"/>
                  <a:pt x="89" y="145"/>
                </a:cubicBezTo>
                <a:cubicBezTo>
                  <a:pt x="89" y="145"/>
                  <a:pt x="90" y="146"/>
                  <a:pt x="91" y="145"/>
                </a:cubicBezTo>
                <a:cubicBezTo>
                  <a:pt x="88" y="144"/>
                  <a:pt x="91" y="142"/>
                  <a:pt x="91" y="140"/>
                </a:cubicBezTo>
                <a:cubicBezTo>
                  <a:pt x="92" y="140"/>
                  <a:pt x="93" y="140"/>
                  <a:pt x="94" y="139"/>
                </a:cubicBezTo>
                <a:cubicBezTo>
                  <a:pt x="94" y="138"/>
                  <a:pt x="93" y="138"/>
                  <a:pt x="93" y="138"/>
                </a:cubicBezTo>
                <a:cubicBezTo>
                  <a:pt x="93" y="137"/>
                  <a:pt x="95" y="137"/>
                  <a:pt x="95" y="136"/>
                </a:cubicBezTo>
                <a:cubicBezTo>
                  <a:pt x="94" y="135"/>
                  <a:pt x="94" y="135"/>
                  <a:pt x="93" y="135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5" y="133"/>
                  <a:pt x="95" y="133"/>
                  <a:pt x="95" y="133"/>
                </a:cubicBezTo>
                <a:cubicBezTo>
                  <a:pt x="96" y="132"/>
                  <a:pt x="101" y="133"/>
                  <a:pt x="99" y="131"/>
                </a:cubicBezTo>
                <a:cubicBezTo>
                  <a:pt x="97" y="131"/>
                  <a:pt x="97" y="131"/>
                  <a:pt x="97" y="131"/>
                </a:cubicBezTo>
                <a:cubicBezTo>
                  <a:pt x="98" y="129"/>
                  <a:pt x="101" y="129"/>
                  <a:pt x="100" y="127"/>
                </a:cubicBezTo>
                <a:cubicBezTo>
                  <a:pt x="99" y="126"/>
                  <a:pt x="99" y="127"/>
                  <a:pt x="98" y="127"/>
                </a:cubicBezTo>
                <a:cubicBezTo>
                  <a:pt x="98" y="126"/>
                  <a:pt x="98" y="125"/>
                  <a:pt x="99" y="124"/>
                </a:cubicBezTo>
                <a:cubicBezTo>
                  <a:pt x="100" y="125"/>
                  <a:pt x="101" y="126"/>
                  <a:pt x="102" y="125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1" y="123"/>
                  <a:pt x="102" y="123"/>
                  <a:pt x="102" y="123"/>
                </a:cubicBezTo>
                <a:cubicBezTo>
                  <a:pt x="102" y="124"/>
                  <a:pt x="102" y="124"/>
                  <a:pt x="101" y="124"/>
                </a:cubicBezTo>
                <a:cubicBezTo>
                  <a:pt x="104" y="126"/>
                  <a:pt x="104" y="122"/>
                  <a:pt x="106" y="123"/>
                </a:cubicBezTo>
                <a:cubicBezTo>
                  <a:pt x="106" y="123"/>
                  <a:pt x="106" y="124"/>
                  <a:pt x="107" y="124"/>
                </a:cubicBezTo>
                <a:cubicBezTo>
                  <a:pt x="108" y="124"/>
                  <a:pt x="107" y="121"/>
                  <a:pt x="109" y="122"/>
                </a:cubicBezTo>
                <a:cubicBezTo>
                  <a:pt x="109" y="123"/>
                  <a:pt x="109" y="123"/>
                  <a:pt x="109" y="123"/>
                </a:cubicBezTo>
                <a:cubicBezTo>
                  <a:pt x="110" y="122"/>
                  <a:pt x="110" y="121"/>
                  <a:pt x="110" y="121"/>
                </a:cubicBezTo>
                <a:cubicBezTo>
                  <a:pt x="110" y="120"/>
                  <a:pt x="108" y="120"/>
                  <a:pt x="108" y="119"/>
                </a:cubicBezTo>
                <a:cubicBezTo>
                  <a:pt x="111" y="117"/>
                  <a:pt x="114" y="125"/>
                  <a:pt x="113" y="119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7" y="115"/>
                  <a:pt x="117" y="115"/>
                  <a:pt x="117" y="115"/>
                </a:cubicBezTo>
                <a:cubicBezTo>
                  <a:pt x="117" y="115"/>
                  <a:pt x="118" y="115"/>
                  <a:pt x="119" y="115"/>
                </a:cubicBezTo>
                <a:cubicBezTo>
                  <a:pt x="118" y="117"/>
                  <a:pt x="116" y="119"/>
                  <a:pt x="118" y="120"/>
                </a:cubicBezTo>
                <a:cubicBezTo>
                  <a:pt x="119" y="119"/>
                  <a:pt x="120" y="117"/>
                  <a:pt x="121" y="115"/>
                </a:cubicBezTo>
                <a:cubicBezTo>
                  <a:pt x="121" y="116"/>
                  <a:pt x="120" y="117"/>
                  <a:pt x="121" y="118"/>
                </a:cubicBezTo>
                <a:cubicBezTo>
                  <a:pt x="123" y="117"/>
                  <a:pt x="123" y="116"/>
                  <a:pt x="123" y="115"/>
                </a:cubicBezTo>
                <a:cubicBezTo>
                  <a:pt x="123" y="114"/>
                  <a:pt x="123" y="114"/>
                  <a:pt x="123" y="114"/>
                </a:cubicBezTo>
                <a:cubicBezTo>
                  <a:pt x="123" y="114"/>
                  <a:pt x="124" y="113"/>
                  <a:pt x="124" y="113"/>
                </a:cubicBezTo>
                <a:cubicBezTo>
                  <a:pt x="125" y="113"/>
                  <a:pt x="125" y="114"/>
                  <a:pt x="125" y="113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5" y="114"/>
                  <a:pt x="125" y="115"/>
                  <a:pt x="124" y="115"/>
                </a:cubicBezTo>
                <a:cubicBezTo>
                  <a:pt x="125" y="116"/>
                  <a:pt x="125" y="118"/>
                  <a:pt x="127" y="117"/>
                </a:cubicBezTo>
                <a:cubicBezTo>
                  <a:pt x="128" y="115"/>
                  <a:pt x="128" y="115"/>
                  <a:pt x="128" y="115"/>
                </a:cubicBezTo>
                <a:cubicBezTo>
                  <a:pt x="129" y="116"/>
                  <a:pt x="131" y="116"/>
                  <a:pt x="133" y="117"/>
                </a:cubicBezTo>
                <a:cubicBezTo>
                  <a:pt x="132" y="119"/>
                  <a:pt x="130" y="119"/>
                  <a:pt x="128" y="120"/>
                </a:cubicBezTo>
                <a:cubicBezTo>
                  <a:pt x="130" y="123"/>
                  <a:pt x="132" y="120"/>
                  <a:pt x="135" y="123"/>
                </a:cubicBezTo>
                <a:cubicBezTo>
                  <a:pt x="136" y="120"/>
                  <a:pt x="136" y="120"/>
                  <a:pt x="136" y="120"/>
                </a:cubicBezTo>
                <a:cubicBezTo>
                  <a:pt x="139" y="122"/>
                  <a:pt x="139" y="122"/>
                  <a:pt x="139" y="122"/>
                </a:cubicBezTo>
                <a:cubicBezTo>
                  <a:pt x="138" y="122"/>
                  <a:pt x="137" y="122"/>
                  <a:pt x="137" y="121"/>
                </a:cubicBezTo>
                <a:cubicBezTo>
                  <a:pt x="137" y="122"/>
                  <a:pt x="136" y="122"/>
                  <a:pt x="136" y="123"/>
                </a:cubicBezTo>
                <a:cubicBezTo>
                  <a:pt x="140" y="126"/>
                  <a:pt x="145" y="122"/>
                  <a:pt x="149" y="125"/>
                </a:cubicBezTo>
                <a:cubicBezTo>
                  <a:pt x="153" y="130"/>
                  <a:pt x="163" y="130"/>
                  <a:pt x="163" y="138"/>
                </a:cubicBezTo>
                <a:cubicBezTo>
                  <a:pt x="162" y="141"/>
                  <a:pt x="159" y="142"/>
                  <a:pt x="156" y="143"/>
                </a:cubicBezTo>
                <a:cubicBezTo>
                  <a:pt x="150" y="143"/>
                  <a:pt x="145" y="138"/>
                  <a:pt x="140" y="138"/>
                </a:cubicBezTo>
                <a:cubicBezTo>
                  <a:pt x="141" y="143"/>
                  <a:pt x="149" y="141"/>
                  <a:pt x="147" y="148"/>
                </a:cubicBezTo>
                <a:cubicBezTo>
                  <a:pt x="150" y="149"/>
                  <a:pt x="148" y="154"/>
                  <a:pt x="152" y="153"/>
                </a:cubicBezTo>
                <a:cubicBezTo>
                  <a:pt x="152" y="156"/>
                  <a:pt x="155" y="155"/>
                  <a:pt x="156" y="156"/>
                </a:cubicBezTo>
                <a:cubicBezTo>
                  <a:pt x="157" y="155"/>
                  <a:pt x="158" y="156"/>
                  <a:pt x="158" y="155"/>
                </a:cubicBezTo>
                <a:cubicBezTo>
                  <a:pt x="158" y="151"/>
                  <a:pt x="150" y="153"/>
                  <a:pt x="154" y="148"/>
                </a:cubicBezTo>
                <a:cubicBezTo>
                  <a:pt x="157" y="149"/>
                  <a:pt x="159" y="151"/>
                  <a:pt x="162" y="152"/>
                </a:cubicBezTo>
                <a:cubicBezTo>
                  <a:pt x="163" y="151"/>
                  <a:pt x="164" y="150"/>
                  <a:pt x="164" y="149"/>
                </a:cubicBezTo>
                <a:cubicBezTo>
                  <a:pt x="161" y="147"/>
                  <a:pt x="161" y="145"/>
                  <a:pt x="163" y="143"/>
                </a:cubicBezTo>
                <a:cubicBezTo>
                  <a:pt x="166" y="141"/>
                  <a:pt x="167" y="139"/>
                  <a:pt x="171" y="141"/>
                </a:cubicBezTo>
                <a:cubicBezTo>
                  <a:pt x="173" y="140"/>
                  <a:pt x="173" y="137"/>
                  <a:pt x="172" y="136"/>
                </a:cubicBezTo>
                <a:cubicBezTo>
                  <a:pt x="168" y="135"/>
                  <a:pt x="172" y="132"/>
                  <a:pt x="171" y="129"/>
                </a:cubicBezTo>
                <a:cubicBezTo>
                  <a:pt x="168" y="126"/>
                  <a:pt x="168" y="126"/>
                  <a:pt x="168" y="126"/>
                </a:cubicBezTo>
                <a:cubicBezTo>
                  <a:pt x="170" y="127"/>
                  <a:pt x="175" y="125"/>
                  <a:pt x="176" y="129"/>
                </a:cubicBezTo>
                <a:cubicBezTo>
                  <a:pt x="173" y="133"/>
                  <a:pt x="173" y="133"/>
                  <a:pt x="173" y="133"/>
                </a:cubicBezTo>
                <a:cubicBezTo>
                  <a:pt x="175" y="134"/>
                  <a:pt x="176" y="138"/>
                  <a:pt x="179" y="136"/>
                </a:cubicBezTo>
                <a:cubicBezTo>
                  <a:pt x="183" y="135"/>
                  <a:pt x="179" y="130"/>
                  <a:pt x="184" y="131"/>
                </a:cubicBezTo>
                <a:cubicBezTo>
                  <a:pt x="183" y="130"/>
                  <a:pt x="183" y="130"/>
                  <a:pt x="183" y="130"/>
                </a:cubicBezTo>
                <a:cubicBezTo>
                  <a:pt x="185" y="128"/>
                  <a:pt x="187" y="125"/>
                  <a:pt x="190" y="125"/>
                </a:cubicBezTo>
                <a:cubicBezTo>
                  <a:pt x="190" y="125"/>
                  <a:pt x="190" y="126"/>
                  <a:pt x="190" y="126"/>
                </a:cubicBezTo>
                <a:cubicBezTo>
                  <a:pt x="191" y="126"/>
                  <a:pt x="191" y="126"/>
                  <a:pt x="192" y="125"/>
                </a:cubicBezTo>
                <a:cubicBezTo>
                  <a:pt x="191" y="124"/>
                  <a:pt x="191" y="124"/>
                  <a:pt x="191" y="124"/>
                </a:cubicBezTo>
                <a:cubicBezTo>
                  <a:pt x="192" y="124"/>
                  <a:pt x="193" y="125"/>
                  <a:pt x="193" y="124"/>
                </a:cubicBezTo>
                <a:cubicBezTo>
                  <a:pt x="193" y="123"/>
                  <a:pt x="193" y="123"/>
                  <a:pt x="193" y="123"/>
                </a:cubicBezTo>
                <a:cubicBezTo>
                  <a:pt x="193" y="122"/>
                  <a:pt x="193" y="122"/>
                  <a:pt x="193" y="122"/>
                </a:cubicBezTo>
                <a:cubicBezTo>
                  <a:pt x="194" y="122"/>
                  <a:pt x="195" y="124"/>
                  <a:pt x="194" y="125"/>
                </a:cubicBezTo>
                <a:cubicBezTo>
                  <a:pt x="194" y="125"/>
                  <a:pt x="194" y="125"/>
                  <a:pt x="193" y="125"/>
                </a:cubicBezTo>
                <a:cubicBezTo>
                  <a:pt x="194" y="127"/>
                  <a:pt x="194" y="127"/>
                  <a:pt x="194" y="127"/>
                </a:cubicBezTo>
                <a:cubicBezTo>
                  <a:pt x="195" y="126"/>
                  <a:pt x="195" y="126"/>
                  <a:pt x="196" y="126"/>
                </a:cubicBezTo>
                <a:cubicBezTo>
                  <a:pt x="196" y="127"/>
                  <a:pt x="196" y="127"/>
                  <a:pt x="196" y="127"/>
                </a:cubicBezTo>
                <a:cubicBezTo>
                  <a:pt x="197" y="125"/>
                  <a:pt x="197" y="125"/>
                  <a:pt x="197" y="125"/>
                </a:cubicBezTo>
                <a:cubicBezTo>
                  <a:pt x="198" y="126"/>
                  <a:pt x="198" y="126"/>
                  <a:pt x="198" y="126"/>
                </a:cubicBezTo>
                <a:cubicBezTo>
                  <a:pt x="198" y="124"/>
                  <a:pt x="200" y="123"/>
                  <a:pt x="202" y="123"/>
                </a:cubicBezTo>
                <a:cubicBezTo>
                  <a:pt x="205" y="123"/>
                  <a:pt x="205" y="121"/>
                  <a:pt x="208" y="120"/>
                </a:cubicBezTo>
                <a:cubicBezTo>
                  <a:pt x="209" y="121"/>
                  <a:pt x="207" y="124"/>
                  <a:pt x="210" y="124"/>
                </a:cubicBezTo>
                <a:cubicBezTo>
                  <a:pt x="211" y="123"/>
                  <a:pt x="211" y="123"/>
                  <a:pt x="211" y="123"/>
                </a:cubicBezTo>
                <a:cubicBezTo>
                  <a:pt x="210" y="123"/>
                  <a:pt x="210" y="122"/>
                  <a:pt x="210" y="121"/>
                </a:cubicBezTo>
                <a:cubicBezTo>
                  <a:pt x="211" y="122"/>
                  <a:pt x="211" y="122"/>
                  <a:pt x="211" y="122"/>
                </a:cubicBezTo>
                <a:cubicBezTo>
                  <a:pt x="213" y="120"/>
                  <a:pt x="213" y="120"/>
                  <a:pt x="213" y="120"/>
                </a:cubicBezTo>
                <a:cubicBezTo>
                  <a:pt x="211" y="115"/>
                  <a:pt x="207" y="115"/>
                  <a:pt x="204" y="112"/>
                </a:cubicBezTo>
                <a:cubicBezTo>
                  <a:pt x="204" y="110"/>
                  <a:pt x="204" y="110"/>
                  <a:pt x="204" y="110"/>
                </a:cubicBezTo>
                <a:cubicBezTo>
                  <a:pt x="206" y="111"/>
                  <a:pt x="208" y="113"/>
                  <a:pt x="210" y="114"/>
                </a:cubicBezTo>
                <a:cubicBezTo>
                  <a:pt x="218" y="112"/>
                  <a:pt x="222" y="117"/>
                  <a:pt x="229" y="119"/>
                </a:cubicBezTo>
                <a:cubicBezTo>
                  <a:pt x="233" y="122"/>
                  <a:pt x="233" y="122"/>
                  <a:pt x="233" y="122"/>
                </a:cubicBezTo>
                <a:cubicBezTo>
                  <a:pt x="234" y="121"/>
                  <a:pt x="234" y="119"/>
                  <a:pt x="234" y="117"/>
                </a:cubicBezTo>
                <a:cubicBezTo>
                  <a:pt x="230" y="117"/>
                  <a:pt x="231" y="112"/>
                  <a:pt x="226" y="113"/>
                </a:cubicBezTo>
                <a:cubicBezTo>
                  <a:pt x="226" y="112"/>
                  <a:pt x="225" y="111"/>
                  <a:pt x="226" y="110"/>
                </a:cubicBezTo>
                <a:cubicBezTo>
                  <a:pt x="226" y="106"/>
                  <a:pt x="220" y="103"/>
                  <a:pt x="225" y="99"/>
                </a:cubicBezTo>
                <a:cubicBezTo>
                  <a:pt x="224" y="95"/>
                  <a:pt x="225" y="92"/>
                  <a:pt x="225" y="88"/>
                </a:cubicBezTo>
                <a:cubicBezTo>
                  <a:pt x="227" y="89"/>
                  <a:pt x="230" y="88"/>
                  <a:pt x="233" y="89"/>
                </a:cubicBezTo>
                <a:cubicBezTo>
                  <a:pt x="234" y="91"/>
                  <a:pt x="233" y="94"/>
                  <a:pt x="234" y="97"/>
                </a:cubicBezTo>
                <a:cubicBezTo>
                  <a:pt x="233" y="100"/>
                  <a:pt x="238" y="100"/>
                  <a:pt x="238" y="103"/>
                </a:cubicBezTo>
                <a:cubicBezTo>
                  <a:pt x="239" y="109"/>
                  <a:pt x="241" y="115"/>
                  <a:pt x="246" y="118"/>
                </a:cubicBezTo>
                <a:cubicBezTo>
                  <a:pt x="244" y="119"/>
                  <a:pt x="246" y="121"/>
                  <a:pt x="246" y="122"/>
                </a:cubicBezTo>
                <a:cubicBezTo>
                  <a:pt x="246" y="125"/>
                  <a:pt x="246" y="127"/>
                  <a:pt x="244" y="129"/>
                </a:cubicBezTo>
                <a:cubicBezTo>
                  <a:pt x="245" y="130"/>
                  <a:pt x="245" y="130"/>
                  <a:pt x="245" y="130"/>
                </a:cubicBezTo>
                <a:cubicBezTo>
                  <a:pt x="243" y="134"/>
                  <a:pt x="242" y="127"/>
                  <a:pt x="240" y="131"/>
                </a:cubicBezTo>
                <a:cubicBezTo>
                  <a:pt x="241" y="130"/>
                  <a:pt x="241" y="130"/>
                  <a:pt x="241" y="130"/>
                </a:cubicBezTo>
                <a:cubicBezTo>
                  <a:pt x="240" y="129"/>
                  <a:pt x="238" y="130"/>
                  <a:pt x="237" y="131"/>
                </a:cubicBezTo>
                <a:cubicBezTo>
                  <a:pt x="239" y="133"/>
                  <a:pt x="244" y="133"/>
                  <a:pt x="247" y="133"/>
                </a:cubicBezTo>
                <a:cubicBezTo>
                  <a:pt x="248" y="131"/>
                  <a:pt x="249" y="129"/>
                  <a:pt x="250" y="127"/>
                </a:cubicBezTo>
                <a:cubicBezTo>
                  <a:pt x="251" y="125"/>
                  <a:pt x="250" y="125"/>
                  <a:pt x="251" y="123"/>
                </a:cubicBezTo>
                <a:cubicBezTo>
                  <a:pt x="253" y="120"/>
                  <a:pt x="248" y="119"/>
                  <a:pt x="249" y="116"/>
                </a:cubicBezTo>
                <a:cubicBezTo>
                  <a:pt x="252" y="113"/>
                  <a:pt x="252" y="113"/>
                  <a:pt x="252" y="113"/>
                </a:cubicBezTo>
                <a:cubicBezTo>
                  <a:pt x="257" y="114"/>
                  <a:pt x="255" y="123"/>
                  <a:pt x="261" y="122"/>
                </a:cubicBezTo>
                <a:cubicBezTo>
                  <a:pt x="259" y="121"/>
                  <a:pt x="258" y="120"/>
                  <a:pt x="258" y="118"/>
                </a:cubicBezTo>
                <a:cubicBezTo>
                  <a:pt x="259" y="117"/>
                  <a:pt x="259" y="117"/>
                  <a:pt x="259" y="117"/>
                </a:cubicBezTo>
                <a:cubicBezTo>
                  <a:pt x="257" y="113"/>
                  <a:pt x="253" y="112"/>
                  <a:pt x="250" y="111"/>
                </a:cubicBezTo>
                <a:cubicBezTo>
                  <a:pt x="249" y="113"/>
                  <a:pt x="247" y="113"/>
                  <a:pt x="246" y="113"/>
                </a:cubicBezTo>
                <a:cubicBezTo>
                  <a:pt x="242" y="109"/>
                  <a:pt x="246" y="101"/>
                  <a:pt x="238" y="99"/>
                </a:cubicBezTo>
                <a:cubicBezTo>
                  <a:pt x="240" y="96"/>
                  <a:pt x="237" y="94"/>
                  <a:pt x="240" y="92"/>
                </a:cubicBezTo>
                <a:cubicBezTo>
                  <a:pt x="240" y="90"/>
                  <a:pt x="239" y="89"/>
                  <a:pt x="238" y="87"/>
                </a:cubicBezTo>
                <a:cubicBezTo>
                  <a:pt x="242" y="91"/>
                  <a:pt x="240" y="94"/>
                  <a:pt x="243" y="98"/>
                </a:cubicBezTo>
                <a:cubicBezTo>
                  <a:pt x="246" y="100"/>
                  <a:pt x="249" y="96"/>
                  <a:pt x="252" y="100"/>
                </a:cubicBezTo>
                <a:cubicBezTo>
                  <a:pt x="252" y="99"/>
                  <a:pt x="252" y="99"/>
                  <a:pt x="252" y="99"/>
                </a:cubicBezTo>
                <a:cubicBezTo>
                  <a:pt x="252" y="98"/>
                  <a:pt x="250" y="97"/>
                  <a:pt x="249" y="96"/>
                </a:cubicBezTo>
                <a:cubicBezTo>
                  <a:pt x="248" y="97"/>
                  <a:pt x="246" y="96"/>
                  <a:pt x="245" y="95"/>
                </a:cubicBezTo>
                <a:cubicBezTo>
                  <a:pt x="244" y="95"/>
                  <a:pt x="243" y="94"/>
                  <a:pt x="244" y="93"/>
                </a:cubicBezTo>
                <a:cubicBezTo>
                  <a:pt x="245" y="91"/>
                  <a:pt x="248" y="96"/>
                  <a:pt x="249" y="92"/>
                </a:cubicBezTo>
                <a:cubicBezTo>
                  <a:pt x="248" y="91"/>
                  <a:pt x="248" y="90"/>
                  <a:pt x="247" y="90"/>
                </a:cubicBezTo>
                <a:cubicBezTo>
                  <a:pt x="246" y="91"/>
                  <a:pt x="246" y="91"/>
                  <a:pt x="246" y="91"/>
                </a:cubicBezTo>
                <a:cubicBezTo>
                  <a:pt x="246" y="90"/>
                  <a:pt x="248" y="89"/>
                  <a:pt x="246" y="88"/>
                </a:cubicBezTo>
                <a:cubicBezTo>
                  <a:pt x="246" y="89"/>
                  <a:pt x="246" y="90"/>
                  <a:pt x="245" y="89"/>
                </a:cubicBezTo>
                <a:cubicBezTo>
                  <a:pt x="246" y="89"/>
                  <a:pt x="245" y="86"/>
                  <a:pt x="247" y="87"/>
                </a:cubicBezTo>
                <a:cubicBezTo>
                  <a:pt x="247" y="89"/>
                  <a:pt x="250" y="87"/>
                  <a:pt x="252" y="89"/>
                </a:cubicBezTo>
                <a:cubicBezTo>
                  <a:pt x="255" y="90"/>
                  <a:pt x="258" y="94"/>
                  <a:pt x="262" y="92"/>
                </a:cubicBezTo>
                <a:cubicBezTo>
                  <a:pt x="260" y="95"/>
                  <a:pt x="263" y="98"/>
                  <a:pt x="263" y="101"/>
                </a:cubicBezTo>
                <a:cubicBezTo>
                  <a:pt x="265" y="98"/>
                  <a:pt x="265" y="98"/>
                  <a:pt x="265" y="98"/>
                </a:cubicBezTo>
                <a:cubicBezTo>
                  <a:pt x="266" y="99"/>
                  <a:pt x="266" y="99"/>
                  <a:pt x="266" y="99"/>
                </a:cubicBezTo>
                <a:cubicBezTo>
                  <a:pt x="267" y="98"/>
                  <a:pt x="266" y="97"/>
                  <a:pt x="266" y="96"/>
                </a:cubicBezTo>
                <a:cubicBezTo>
                  <a:pt x="264" y="95"/>
                  <a:pt x="264" y="94"/>
                  <a:pt x="264" y="92"/>
                </a:cubicBezTo>
                <a:cubicBezTo>
                  <a:pt x="260" y="90"/>
                  <a:pt x="259" y="86"/>
                  <a:pt x="254" y="87"/>
                </a:cubicBezTo>
                <a:cubicBezTo>
                  <a:pt x="252" y="85"/>
                  <a:pt x="252" y="82"/>
                  <a:pt x="250" y="80"/>
                </a:cubicBezTo>
                <a:cubicBezTo>
                  <a:pt x="249" y="77"/>
                  <a:pt x="254" y="77"/>
                  <a:pt x="256" y="76"/>
                </a:cubicBezTo>
                <a:cubicBezTo>
                  <a:pt x="258" y="75"/>
                  <a:pt x="261" y="74"/>
                  <a:pt x="263" y="73"/>
                </a:cubicBezTo>
                <a:cubicBezTo>
                  <a:pt x="263" y="75"/>
                  <a:pt x="260" y="76"/>
                  <a:pt x="263" y="78"/>
                </a:cubicBezTo>
                <a:cubicBezTo>
                  <a:pt x="263" y="78"/>
                  <a:pt x="264" y="77"/>
                  <a:pt x="264" y="77"/>
                </a:cubicBezTo>
                <a:cubicBezTo>
                  <a:pt x="263" y="77"/>
                  <a:pt x="264" y="76"/>
                  <a:pt x="264" y="75"/>
                </a:cubicBezTo>
                <a:cubicBezTo>
                  <a:pt x="264" y="74"/>
                  <a:pt x="266" y="74"/>
                  <a:pt x="265" y="72"/>
                </a:cubicBezTo>
                <a:cubicBezTo>
                  <a:pt x="260" y="69"/>
                  <a:pt x="260" y="69"/>
                  <a:pt x="260" y="69"/>
                </a:cubicBezTo>
                <a:cubicBezTo>
                  <a:pt x="260" y="69"/>
                  <a:pt x="260" y="68"/>
                  <a:pt x="260" y="68"/>
                </a:cubicBezTo>
                <a:cubicBezTo>
                  <a:pt x="260" y="68"/>
                  <a:pt x="259" y="67"/>
                  <a:pt x="259" y="67"/>
                </a:cubicBezTo>
                <a:cubicBezTo>
                  <a:pt x="258" y="68"/>
                  <a:pt x="258" y="68"/>
                  <a:pt x="258" y="68"/>
                </a:cubicBezTo>
                <a:cubicBezTo>
                  <a:pt x="259" y="68"/>
                  <a:pt x="257" y="67"/>
                  <a:pt x="257" y="66"/>
                </a:cubicBezTo>
                <a:cubicBezTo>
                  <a:pt x="258" y="66"/>
                  <a:pt x="259" y="67"/>
                  <a:pt x="260" y="66"/>
                </a:cubicBezTo>
                <a:cubicBezTo>
                  <a:pt x="260" y="65"/>
                  <a:pt x="260" y="64"/>
                  <a:pt x="261" y="63"/>
                </a:cubicBezTo>
                <a:cubicBezTo>
                  <a:pt x="260" y="62"/>
                  <a:pt x="260" y="63"/>
                  <a:pt x="259" y="63"/>
                </a:cubicBezTo>
                <a:cubicBezTo>
                  <a:pt x="262" y="58"/>
                  <a:pt x="267" y="56"/>
                  <a:pt x="271" y="52"/>
                </a:cubicBezTo>
                <a:cubicBezTo>
                  <a:pt x="270" y="51"/>
                  <a:pt x="269" y="53"/>
                  <a:pt x="269" y="52"/>
                </a:cubicBezTo>
                <a:cubicBezTo>
                  <a:pt x="269" y="49"/>
                  <a:pt x="272" y="50"/>
                  <a:pt x="274" y="49"/>
                </a:cubicBezTo>
                <a:cubicBezTo>
                  <a:pt x="273" y="48"/>
                  <a:pt x="273" y="48"/>
                  <a:pt x="273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6" y="48"/>
                  <a:pt x="276" y="48"/>
                  <a:pt x="276" y="48"/>
                </a:cubicBezTo>
                <a:cubicBezTo>
                  <a:pt x="275" y="48"/>
                  <a:pt x="275" y="49"/>
                  <a:pt x="274" y="49"/>
                </a:cubicBezTo>
                <a:cubicBezTo>
                  <a:pt x="275" y="49"/>
                  <a:pt x="275" y="50"/>
                  <a:pt x="275" y="51"/>
                </a:cubicBezTo>
                <a:cubicBezTo>
                  <a:pt x="274" y="51"/>
                  <a:pt x="274" y="51"/>
                  <a:pt x="274" y="51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7" y="50"/>
                  <a:pt x="277" y="50"/>
                  <a:pt x="277" y="50"/>
                </a:cubicBezTo>
                <a:cubicBezTo>
                  <a:pt x="277" y="51"/>
                  <a:pt x="277" y="51"/>
                  <a:pt x="277" y="51"/>
                </a:cubicBezTo>
                <a:cubicBezTo>
                  <a:pt x="279" y="50"/>
                  <a:pt x="280" y="47"/>
                  <a:pt x="282" y="47"/>
                </a:cubicBezTo>
                <a:cubicBezTo>
                  <a:pt x="284" y="47"/>
                  <a:pt x="282" y="51"/>
                  <a:pt x="285" y="49"/>
                </a:cubicBezTo>
                <a:cubicBezTo>
                  <a:pt x="285" y="47"/>
                  <a:pt x="284" y="47"/>
                  <a:pt x="283" y="46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86" y="41"/>
                  <a:pt x="283" y="44"/>
                  <a:pt x="284" y="40"/>
                </a:cubicBezTo>
                <a:cubicBezTo>
                  <a:pt x="283" y="40"/>
                  <a:pt x="282" y="39"/>
                  <a:pt x="282" y="39"/>
                </a:cubicBezTo>
                <a:cubicBezTo>
                  <a:pt x="284" y="38"/>
                  <a:pt x="281" y="37"/>
                  <a:pt x="282" y="36"/>
                </a:cubicBezTo>
                <a:cubicBezTo>
                  <a:pt x="283" y="33"/>
                  <a:pt x="282" y="30"/>
                  <a:pt x="284" y="28"/>
                </a:cubicBezTo>
                <a:cubicBezTo>
                  <a:pt x="289" y="30"/>
                  <a:pt x="289" y="30"/>
                  <a:pt x="289" y="30"/>
                </a:cubicBezTo>
                <a:close/>
                <a:moveTo>
                  <a:pt x="390" y="32"/>
                </a:moveTo>
                <a:cubicBezTo>
                  <a:pt x="390" y="32"/>
                  <a:pt x="390" y="33"/>
                  <a:pt x="389" y="34"/>
                </a:cubicBezTo>
                <a:cubicBezTo>
                  <a:pt x="388" y="33"/>
                  <a:pt x="387" y="32"/>
                  <a:pt x="387" y="31"/>
                </a:cubicBezTo>
                <a:cubicBezTo>
                  <a:pt x="388" y="30"/>
                  <a:pt x="389" y="31"/>
                  <a:pt x="390" y="32"/>
                </a:cubicBezTo>
                <a:close/>
                <a:moveTo>
                  <a:pt x="400" y="37"/>
                </a:moveTo>
                <a:cubicBezTo>
                  <a:pt x="397" y="37"/>
                  <a:pt x="394" y="37"/>
                  <a:pt x="391" y="39"/>
                </a:cubicBezTo>
                <a:cubicBezTo>
                  <a:pt x="393" y="37"/>
                  <a:pt x="391" y="34"/>
                  <a:pt x="393" y="33"/>
                </a:cubicBezTo>
                <a:cubicBezTo>
                  <a:pt x="396" y="34"/>
                  <a:pt x="400" y="33"/>
                  <a:pt x="400" y="37"/>
                </a:cubicBezTo>
                <a:close/>
                <a:moveTo>
                  <a:pt x="378" y="37"/>
                </a:moveTo>
                <a:cubicBezTo>
                  <a:pt x="381" y="38"/>
                  <a:pt x="377" y="37"/>
                  <a:pt x="376" y="36"/>
                </a:cubicBezTo>
                <a:cubicBezTo>
                  <a:pt x="378" y="37"/>
                  <a:pt x="378" y="37"/>
                  <a:pt x="378" y="37"/>
                </a:cubicBezTo>
                <a:close/>
                <a:moveTo>
                  <a:pt x="270" y="39"/>
                </a:moveTo>
                <a:cubicBezTo>
                  <a:pt x="271" y="40"/>
                  <a:pt x="270" y="40"/>
                  <a:pt x="269" y="41"/>
                </a:cubicBezTo>
                <a:cubicBezTo>
                  <a:pt x="268" y="41"/>
                  <a:pt x="268" y="41"/>
                  <a:pt x="268" y="41"/>
                </a:cubicBezTo>
                <a:cubicBezTo>
                  <a:pt x="269" y="40"/>
                  <a:pt x="269" y="39"/>
                  <a:pt x="270" y="39"/>
                </a:cubicBezTo>
                <a:close/>
                <a:moveTo>
                  <a:pt x="411" y="46"/>
                </a:moveTo>
                <a:cubicBezTo>
                  <a:pt x="411" y="45"/>
                  <a:pt x="411" y="44"/>
                  <a:pt x="410" y="44"/>
                </a:cubicBezTo>
                <a:cubicBezTo>
                  <a:pt x="411" y="43"/>
                  <a:pt x="412" y="43"/>
                  <a:pt x="414" y="43"/>
                </a:cubicBezTo>
                <a:cubicBezTo>
                  <a:pt x="411" y="46"/>
                  <a:pt x="411" y="46"/>
                  <a:pt x="411" y="46"/>
                </a:cubicBezTo>
                <a:close/>
                <a:moveTo>
                  <a:pt x="416" y="47"/>
                </a:moveTo>
                <a:cubicBezTo>
                  <a:pt x="415" y="47"/>
                  <a:pt x="416" y="49"/>
                  <a:pt x="415" y="49"/>
                </a:cubicBezTo>
                <a:cubicBezTo>
                  <a:pt x="413" y="47"/>
                  <a:pt x="417" y="46"/>
                  <a:pt x="414" y="44"/>
                </a:cubicBezTo>
                <a:cubicBezTo>
                  <a:pt x="416" y="45"/>
                  <a:pt x="416" y="45"/>
                  <a:pt x="416" y="47"/>
                </a:cubicBezTo>
                <a:close/>
                <a:moveTo>
                  <a:pt x="324" y="54"/>
                </a:moveTo>
                <a:cubicBezTo>
                  <a:pt x="323" y="55"/>
                  <a:pt x="322" y="53"/>
                  <a:pt x="321" y="54"/>
                </a:cubicBezTo>
                <a:cubicBezTo>
                  <a:pt x="320" y="52"/>
                  <a:pt x="321" y="50"/>
                  <a:pt x="322" y="50"/>
                </a:cubicBezTo>
                <a:cubicBezTo>
                  <a:pt x="324" y="50"/>
                  <a:pt x="324" y="52"/>
                  <a:pt x="324" y="54"/>
                </a:cubicBezTo>
                <a:close/>
                <a:moveTo>
                  <a:pt x="301" y="51"/>
                </a:moveTo>
                <a:cubicBezTo>
                  <a:pt x="301" y="52"/>
                  <a:pt x="302" y="52"/>
                  <a:pt x="302" y="53"/>
                </a:cubicBezTo>
                <a:cubicBezTo>
                  <a:pt x="303" y="53"/>
                  <a:pt x="303" y="53"/>
                  <a:pt x="303" y="52"/>
                </a:cubicBezTo>
                <a:cubicBezTo>
                  <a:pt x="304" y="54"/>
                  <a:pt x="303" y="54"/>
                  <a:pt x="302" y="54"/>
                </a:cubicBezTo>
                <a:cubicBezTo>
                  <a:pt x="301" y="56"/>
                  <a:pt x="298" y="57"/>
                  <a:pt x="297" y="59"/>
                </a:cubicBezTo>
                <a:cubicBezTo>
                  <a:pt x="298" y="60"/>
                  <a:pt x="298" y="60"/>
                  <a:pt x="298" y="60"/>
                </a:cubicBezTo>
                <a:cubicBezTo>
                  <a:pt x="297" y="61"/>
                  <a:pt x="296" y="58"/>
                  <a:pt x="296" y="60"/>
                </a:cubicBezTo>
                <a:cubicBezTo>
                  <a:pt x="296" y="61"/>
                  <a:pt x="298" y="62"/>
                  <a:pt x="298" y="64"/>
                </a:cubicBezTo>
                <a:cubicBezTo>
                  <a:pt x="296" y="63"/>
                  <a:pt x="296" y="58"/>
                  <a:pt x="293" y="61"/>
                </a:cubicBezTo>
                <a:cubicBezTo>
                  <a:pt x="292" y="60"/>
                  <a:pt x="292" y="60"/>
                  <a:pt x="292" y="60"/>
                </a:cubicBezTo>
                <a:cubicBezTo>
                  <a:pt x="293" y="61"/>
                  <a:pt x="293" y="60"/>
                  <a:pt x="294" y="59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93" y="56"/>
                  <a:pt x="294" y="58"/>
                  <a:pt x="296" y="58"/>
                </a:cubicBezTo>
                <a:cubicBezTo>
                  <a:pt x="298" y="57"/>
                  <a:pt x="299" y="54"/>
                  <a:pt x="301" y="53"/>
                </a:cubicBezTo>
                <a:cubicBezTo>
                  <a:pt x="299" y="51"/>
                  <a:pt x="299" y="51"/>
                  <a:pt x="299" y="51"/>
                </a:cubicBezTo>
                <a:cubicBezTo>
                  <a:pt x="301" y="51"/>
                  <a:pt x="301" y="51"/>
                  <a:pt x="301" y="51"/>
                </a:cubicBezTo>
                <a:close/>
                <a:moveTo>
                  <a:pt x="210" y="58"/>
                </a:moveTo>
                <a:cubicBezTo>
                  <a:pt x="214" y="63"/>
                  <a:pt x="206" y="64"/>
                  <a:pt x="204" y="67"/>
                </a:cubicBezTo>
                <a:cubicBezTo>
                  <a:pt x="201" y="70"/>
                  <a:pt x="198" y="74"/>
                  <a:pt x="197" y="78"/>
                </a:cubicBezTo>
                <a:cubicBezTo>
                  <a:pt x="196" y="79"/>
                  <a:pt x="195" y="78"/>
                  <a:pt x="194" y="79"/>
                </a:cubicBezTo>
                <a:cubicBezTo>
                  <a:pt x="194" y="80"/>
                  <a:pt x="194" y="80"/>
                  <a:pt x="194" y="80"/>
                </a:cubicBezTo>
                <a:cubicBezTo>
                  <a:pt x="194" y="80"/>
                  <a:pt x="194" y="80"/>
                  <a:pt x="193" y="80"/>
                </a:cubicBezTo>
                <a:cubicBezTo>
                  <a:pt x="194" y="81"/>
                  <a:pt x="194" y="83"/>
                  <a:pt x="194" y="84"/>
                </a:cubicBezTo>
                <a:cubicBezTo>
                  <a:pt x="193" y="84"/>
                  <a:pt x="193" y="84"/>
                  <a:pt x="193" y="84"/>
                </a:cubicBezTo>
                <a:cubicBezTo>
                  <a:pt x="193" y="86"/>
                  <a:pt x="193" y="88"/>
                  <a:pt x="192" y="90"/>
                </a:cubicBezTo>
                <a:cubicBezTo>
                  <a:pt x="192" y="90"/>
                  <a:pt x="191" y="90"/>
                  <a:pt x="190" y="89"/>
                </a:cubicBezTo>
                <a:cubicBezTo>
                  <a:pt x="190" y="91"/>
                  <a:pt x="193" y="93"/>
                  <a:pt x="191" y="95"/>
                </a:cubicBezTo>
                <a:cubicBezTo>
                  <a:pt x="191" y="101"/>
                  <a:pt x="194" y="107"/>
                  <a:pt x="200" y="108"/>
                </a:cubicBezTo>
                <a:cubicBezTo>
                  <a:pt x="200" y="109"/>
                  <a:pt x="199" y="110"/>
                  <a:pt x="199" y="111"/>
                </a:cubicBezTo>
                <a:cubicBezTo>
                  <a:pt x="198" y="109"/>
                  <a:pt x="198" y="109"/>
                  <a:pt x="198" y="109"/>
                </a:cubicBezTo>
                <a:cubicBezTo>
                  <a:pt x="198" y="110"/>
                  <a:pt x="197" y="110"/>
                  <a:pt x="197" y="111"/>
                </a:cubicBezTo>
                <a:cubicBezTo>
                  <a:pt x="197" y="110"/>
                  <a:pt x="195" y="109"/>
                  <a:pt x="194" y="110"/>
                </a:cubicBezTo>
                <a:cubicBezTo>
                  <a:pt x="194" y="111"/>
                  <a:pt x="194" y="111"/>
                  <a:pt x="194" y="111"/>
                </a:cubicBezTo>
                <a:cubicBezTo>
                  <a:pt x="194" y="109"/>
                  <a:pt x="192" y="109"/>
                  <a:pt x="190" y="109"/>
                </a:cubicBezTo>
                <a:cubicBezTo>
                  <a:pt x="190" y="108"/>
                  <a:pt x="189" y="107"/>
                  <a:pt x="190" y="107"/>
                </a:cubicBezTo>
                <a:cubicBezTo>
                  <a:pt x="189" y="106"/>
                  <a:pt x="187" y="103"/>
                  <a:pt x="185" y="105"/>
                </a:cubicBezTo>
                <a:cubicBezTo>
                  <a:pt x="185" y="105"/>
                  <a:pt x="185" y="105"/>
                  <a:pt x="185" y="105"/>
                </a:cubicBezTo>
                <a:cubicBezTo>
                  <a:pt x="184" y="104"/>
                  <a:pt x="182" y="103"/>
                  <a:pt x="183" y="101"/>
                </a:cubicBezTo>
                <a:cubicBezTo>
                  <a:pt x="184" y="101"/>
                  <a:pt x="185" y="100"/>
                  <a:pt x="185" y="98"/>
                </a:cubicBezTo>
                <a:cubicBezTo>
                  <a:pt x="183" y="96"/>
                  <a:pt x="183" y="96"/>
                  <a:pt x="183" y="96"/>
                </a:cubicBezTo>
                <a:cubicBezTo>
                  <a:pt x="185" y="93"/>
                  <a:pt x="185" y="93"/>
                  <a:pt x="185" y="93"/>
                </a:cubicBezTo>
                <a:cubicBezTo>
                  <a:pt x="184" y="92"/>
                  <a:pt x="186" y="90"/>
                  <a:pt x="187" y="88"/>
                </a:cubicBezTo>
                <a:cubicBezTo>
                  <a:pt x="186" y="86"/>
                  <a:pt x="185" y="89"/>
                  <a:pt x="184" y="88"/>
                </a:cubicBezTo>
                <a:cubicBezTo>
                  <a:pt x="184" y="86"/>
                  <a:pt x="188" y="84"/>
                  <a:pt x="186" y="82"/>
                </a:cubicBezTo>
                <a:cubicBezTo>
                  <a:pt x="186" y="82"/>
                  <a:pt x="187" y="82"/>
                  <a:pt x="187" y="81"/>
                </a:cubicBezTo>
                <a:cubicBezTo>
                  <a:pt x="186" y="81"/>
                  <a:pt x="187" y="80"/>
                  <a:pt x="187" y="80"/>
                </a:cubicBezTo>
                <a:cubicBezTo>
                  <a:pt x="187" y="80"/>
                  <a:pt x="187" y="79"/>
                  <a:pt x="188" y="79"/>
                </a:cubicBezTo>
                <a:cubicBezTo>
                  <a:pt x="186" y="79"/>
                  <a:pt x="186" y="78"/>
                  <a:pt x="185" y="76"/>
                </a:cubicBezTo>
                <a:cubicBezTo>
                  <a:pt x="185" y="76"/>
                  <a:pt x="186" y="77"/>
                  <a:pt x="186" y="77"/>
                </a:cubicBezTo>
                <a:cubicBezTo>
                  <a:pt x="186" y="74"/>
                  <a:pt x="191" y="76"/>
                  <a:pt x="189" y="72"/>
                </a:cubicBezTo>
                <a:cubicBezTo>
                  <a:pt x="190" y="72"/>
                  <a:pt x="190" y="70"/>
                  <a:pt x="190" y="69"/>
                </a:cubicBezTo>
                <a:cubicBezTo>
                  <a:pt x="190" y="70"/>
                  <a:pt x="192" y="69"/>
                  <a:pt x="192" y="68"/>
                </a:cubicBezTo>
                <a:cubicBezTo>
                  <a:pt x="193" y="68"/>
                  <a:pt x="193" y="67"/>
                  <a:pt x="193" y="67"/>
                </a:cubicBezTo>
                <a:cubicBezTo>
                  <a:pt x="193" y="66"/>
                  <a:pt x="194" y="67"/>
                  <a:pt x="194" y="67"/>
                </a:cubicBezTo>
                <a:cubicBezTo>
                  <a:pt x="194" y="67"/>
                  <a:pt x="195" y="67"/>
                  <a:pt x="194" y="66"/>
                </a:cubicBezTo>
                <a:cubicBezTo>
                  <a:pt x="194" y="66"/>
                  <a:pt x="194" y="66"/>
                  <a:pt x="194" y="66"/>
                </a:cubicBezTo>
                <a:cubicBezTo>
                  <a:pt x="197" y="64"/>
                  <a:pt x="204" y="64"/>
                  <a:pt x="204" y="58"/>
                </a:cubicBezTo>
                <a:cubicBezTo>
                  <a:pt x="205" y="55"/>
                  <a:pt x="209" y="56"/>
                  <a:pt x="210" y="58"/>
                </a:cubicBezTo>
                <a:close/>
                <a:moveTo>
                  <a:pt x="401" y="58"/>
                </a:moveTo>
                <a:cubicBezTo>
                  <a:pt x="400" y="61"/>
                  <a:pt x="398" y="58"/>
                  <a:pt x="397" y="58"/>
                </a:cubicBezTo>
                <a:cubicBezTo>
                  <a:pt x="398" y="56"/>
                  <a:pt x="400" y="58"/>
                  <a:pt x="401" y="58"/>
                </a:cubicBezTo>
                <a:close/>
                <a:moveTo>
                  <a:pt x="313" y="70"/>
                </a:moveTo>
                <a:cubicBezTo>
                  <a:pt x="312" y="72"/>
                  <a:pt x="314" y="69"/>
                  <a:pt x="313" y="68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0"/>
                  <a:pt x="313" y="70"/>
                  <a:pt x="313" y="70"/>
                </a:cubicBezTo>
                <a:close/>
                <a:moveTo>
                  <a:pt x="249" y="85"/>
                </a:moveTo>
                <a:cubicBezTo>
                  <a:pt x="246" y="84"/>
                  <a:pt x="246" y="84"/>
                  <a:pt x="246" y="84"/>
                </a:cubicBezTo>
                <a:cubicBezTo>
                  <a:pt x="247" y="83"/>
                  <a:pt x="247" y="83"/>
                  <a:pt x="247" y="83"/>
                </a:cubicBezTo>
                <a:cubicBezTo>
                  <a:pt x="248" y="83"/>
                  <a:pt x="248" y="84"/>
                  <a:pt x="249" y="85"/>
                </a:cubicBezTo>
                <a:close/>
                <a:moveTo>
                  <a:pt x="228" y="85"/>
                </a:moveTo>
                <a:cubicBezTo>
                  <a:pt x="227" y="86"/>
                  <a:pt x="226" y="87"/>
                  <a:pt x="225" y="87"/>
                </a:cubicBezTo>
                <a:cubicBezTo>
                  <a:pt x="225" y="85"/>
                  <a:pt x="223" y="84"/>
                  <a:pt x="225" y="83"/>
                </a:cubicBezTo>
                <a:cubicBezTo>
                  <a:pt x="227" y="83"/>
                  <a:pt x="227" y="85"/>
                  <a:pt x="228" y="85"/>
                </a:cubicBezTo>
                <a:close/>
                <a:moveTo>
                  <a:pt x="266" y="103"/>
                </a:moveTo>
                <a:cubicBezTo>
                  <a:pt x="266" y="103"/>
                  <a:pt x="266" y="102"/>
                  <a:pt x="265" y="103"/>
                </a:cubicBezTo>
                <a:cubicBezTo>
                  <a:pt x="266" y="99"/>
                  <a:pt x="266" y="99"/>
                  <a:pt x="266" y="99"/>
                </a:cubicBezTo>
                <a:cubicBezTo>
                  <a:pt x="268" y="100"/>
                  <a:pt x="266" y="102"/>
                  <a:pt x="266" y="103"/>
                </a:cubicBezTo>
                <a:close/>
                <a:moveTo>
                  <a:pt x="272" y="105"/>
                </a:moveTo>
                <a:cubicBezTo>
                  <a:pt x="272" y="105"/>
                  <a:pt x="272" y="105"/>
                  <a:pt x="272" y="105"/>
                </a:cubicBezTo>
                <a:cubicBezTo>
                  <a:pt x="272" y="105"/>
                  <a:pt x="271" y="106"/>
                  <a:pt x="272" y="106"/>
                </a:cubicBezTo>
                <a:cubicBezTo>
                  <a:pt x="271" y="105"/>
                  <a:pt x="269" y="105"/>
                  <a:pt x="269" y="104"/>
                </a:cubicBezTo>
                <a:cubicBezTo>
                  <a:pt x="270" y="104"/>
                  <a:pt x="270" y="106"/>
                  <a:pt x="272" y="105"/>
                </a:cubicBezTo>
                <a:close/>
                <a:moveTo>
                  <a:pt x="188" y="107"/>
                </a:moveTo>
                <a:cubicBezTo>
                  <a:pt x="188" y="108"/>
                  <a:pt x="188" y="108"/>
                  <a:pt x="188" y="108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87" y="106"/>
                  <a:pt x="188" y="107"/>
                  <a:pt x="188" y="107"/>
                </a:cubicBezTo>
                <a:close/>
                <a:moveTo>
                  <a:pt x="184" y="121"/>
                </a:moveTo>
                <a:cubicBezTo>
                  <a:pt x="183" y="122"/>
                  <a:pt x="183" y="124"/>
                  <a:pt x="181" y="124"/>
                </a:cubicBezTo>
                <a:cubicBezTo>
                  <a:pt x="180" y="124"/>
                  <a:pt x="178" y="121"/>
                  <a:pt x="180" y="120"/>
                </a:cubicBezTo>
                <a:cubicBezTo>
                  <a:pt x="181" y="119"/>
                  <a:pt x="182" y="120"/>
                  <a:pt x="184" y="121"/>
                </a:cubicBezTo>
                <a:close/>
                <a:moveTo>
                  <a:pt x="128" y="125"/>
                </a:moveTo>
                <a:cubicBezTo>
                  <a:pt x="128" y="126"/>
                  <a:pt x="126" y="127"/>
                  <a:pt x="128" y="127"/>
                </a:cubicBezTo>
                <a:cubicBezTo>
                  <a:pt x="127" y="127"/>
                  <a:pt x="127" y="128"/>
                  <a:pt x="127" y="128"/>
                </a:cubicBezTo>
                <a:cubicBezTo>
                  <a:pt x="125" y="127"/>
                  <a:pt x="128" y="125"/>
                  <a:pt x="128" y="125"/>
                </a:cubicBezTo>
                <a:close/>
                <a:moveTo>
                  <a:pt x="528" y="127"/>
                </a:moveTo>
                <a:cubicBezTo>
                  <a:pt x="528" y="128"/>
                  <a:pt x="529" y="128"/>
                  <a:pt x="529" y="128"/>
                </a:cubicBezTo>
                <a:cubicBezTo>
                  <a:pt x="527" y="131"/>
                  <a:pt x="527" y="131"/>
                  <a:pt x="527" y="131"/>
                </a:cubicBezTo>
                <a:cubicBezTo>
                  <a:pt x="526" y="130"/>
                  <a:pt x="526" y="127"/>
                  <a:pt x="528" y="127"/>
                </a:cubicBezTo>
                <a:close/>
                <a:moveTo>
                  <a:pt x="96" y="129"/>
                </a:moveTo>
                <a:cubicBezTo>
                  <a:pt x="97" y="130"/>
                  <a:pt x="96" y="131"/>
                  <a:pt x="95" y="131"/>
                </a:cubicBezTo>
                <a:cubicBezTo>
                  <a:pt x="94" y="131"/>
                  <a:pt x="94" y="131"/>
                  <a:pt x="94" y="131"/>
                </a:cubicBezTo>
                <a:cubicBezTo>
                  <a:pt x="94" y="131"/>
                  <a:pt x="94" y="130"/>
                  <a:pt x="93" y="129"/>
                </a:cubicBezTo>
                <a:cubicBezTo>
                  <a:pt x="92" y="129"/>
                  <a:pt x="92" y="129"/>
                  <a:pt x="92" y="129"/>
                </a:cubicBezTo>
                <a:cubicBezTo>
                  <a:pt x="93" y="128"/>
                  <a:pt x="95" y="131"/>
                  <a:pt x="96" y="129"/>
                </a:cubicBezTo>
                <a:close/>
                <a:moveTo>
                  <a:pt x="141" y="135"/>
                </a:moveTo>
                <a:cubicBezTo>
                  <a:pt x="140" y="135"/>
                  <a:pt x="140" y="135"/>
                  <a:pt x="140" y="135"/>
                </a:cubicBezTo>
                <a:cubicBezTo>
                  <a:pt x="141" y="135"/>
                  <a:pt x="141" y="134"/>
                  <a:pt x="142" y="133"/>
                </a:cubicBezTo>
                <a:cubicBezTo>
                  <a:pt x="141" y="133"/>
                  <a:pt x="141" y="133"/>
                  <a:pt x="141" y="133"/>
                </a:cubicBezTo>
                <a:cubicBezTo>
                  <a:pt x="141" y="132"/>
                  <a:pt x="141" y="132"/>
                  <a:pt x="141" y="132"/>
                </a:cubicBezTo>
                <a:cubicBezTo>
                  <a:pt x="142" y="132"/>
                  <a:pt x="142" y="132"/>
                  <a:pt x="142" y="132"/>
                </a:cubicBezTo>
                <a:cubicBezTo>
                  <a:pt x="142" y="133"/>
                  <a:pt x="142" y="135"/>
                  <a:pt x="141" y="135"/>
                </a:cubicBezTo>
                <a:close/>
                <a:moveTo>
                  <a:pt x="363" y="137"/>
                </a:moveTo>
                <a:cubicBezTo>
                  <a:pt x="360" y="133"/>
                  <a:pt x="360" y="133"/>
                  <a:pt x="360" y="133"/>
                </a:cubicBezTo>
                <a:cubicBezTo>
                  <a:pt x="363" y="136"/>
                  <a:pt x="363" y="136"/>
                  <a:pt x="363" y="136"/>
                </a:cubicBezTo>
                <a:cubicBezTo>
                  <a:pt x="363" y="137"/>
                  <a:pt x="363" y="137"/>
                  <a:pt x="363" y="137"/>
                </a:cubicBezTo>
                <a:close/>
                <a:moveTo>
                  <a:pt x="366" y="143"/>
                </a:moveTo>
                <a:cubicBezTo>
                  <a:pt x="367" y="142"/>
                  <a:pt x="367" y="142"/>
                  <a:pt x="367" y="142"/>
                </a:cubicBezTo>
                <a:cubicBezTo>
                  <a:pt x="367" y="143"/>
                  <a:pt x="367" y="143"/>
                  <a:pt x="367" y="143"/>
                </a:cubicBezTo>
                <a:cubicBezTo>
                  <a:pt x="364" y="142"/>
                  <a:pt x="364" y="142"/>
                  <a:pt x="364" y="142"/>
                </a:cubicBezTo>
                <a:cubicBezTo>
                  <a:pt x="365" y="142"/>
                  <a:pt x="365" y="143"/>
                  <a:pt x="366" y="143"/>
                </a:cubicBezTo>
                <a:close/>
                <a:moveTo>
                  <a:pt x="104" y="147"/>
                </a:moveTo>
                <a:cubicBezTo>
                  <a:pt x="103" y="146"/>
                  <a:pt x="102" y="146"/>
                  <a:pt x="101" y="144"/>
                </a:cubicBezTo>
                <a:cubicBezTo>
                  <a:pt x="104" y="144"/>
                  <a:pt x="102" y="147"/>
                  <a:pt x="104" y="147"/>
                </a:cubicBezTo>
                <a:close/>
                <a:moveTo>
                  <a:pt x="142" y="147"/>
                </a:moveTo>
                <a:cubicBezTo>
                  <a:pt x="140" y="145"/>
                  <a:pt x="140" y="145"/>
                  <a:pt x="140" y="145"/>
                </a:cubicBezTo>
                <a:cubicBezTo>
                  <a:pt x="141" y="145"/>
                  <a:pt x="141" y="145"/>
                  <a:pt x="141" y="145"/>
                </a:cubicBezTo>
                <a:cubicBezTo>
                  <a:pt x="142" y="147"/>
                  <a:pt x="142" y="147"/>
                  <a:pt x="142" y="147"/>
                </a:cubicBezTo>
                <a:close/>
                <a:moveTo>
                  <a:pt x="548" y="155"/>
                </a:moveTo>
                <a:cubicBezTo>
                  <a:pt x="544" y="152"/>
                  <a:pt x="544" y="152"/>
                  <a:pt x="544" y="152"/>
                </a:cubicBezTo>
                <a:cubicBezTo>
                  <a:pt x="546" y="152"/>
                  <a:pt x="546" y="152"/>
                  <a:pt x="546" y="152"/>
                </a:cubicBezTo>
                <a:cubicBezTo>
                  <a:pt x="548" y="155"/>
                  <a:pt x="548" y="155"/>
                  <a:pt x="548" y="155"/>
                </a:cubicBezTo>
                <a:close/>
                <a:moveTo>
                  <a:pt x="131" y="154"/>
                </a:moveTo>
                <a:cubicBezTo>
                  <a:pt x="129" y="155"/>
                  <a:pt x="129" y="155"/>
                  <a:pt x="129" y="155"/>
                </a:cubicBezTo>
                <a:cubicBezTo>
                  <a:pt x="129" y="155"/>
                  <a:pt x="127" y="153"/>
                  <a:pt x="129" y="153"/>
                </a:cubicBezTo>
                <a:cubicBezTo>
                  <a:pt x="129" y="153"/>
                  <a:pt x="130" y="154"/>
                  <a:pt x="131" y="154"/>
                </a:cubicBezTo>
                <a:close/>
                <a:moveTo>
                  <a:pt x="152" y="158"/>
                </a:moveTo>
                <a:cubicBezTo>
                  <a:pt x="151" y="159"/>
                  <a:pt x="151" y="159"/>
                  <a:pt x="151" y="159"/>
                </a:cubicBezTo>
                <a:cubicBezTo>
                  <a:pt x="149" y="156"/>
                  <a:pt x="149" y="156"/>
                  <a:pt x="149" y="156"/>
                </a:cubicBezTo>
                <a:cubicBezTo>
                  <a:pt x="150" y="156"/>
                  <a:pt x="151" y="157"/>
                  <a:pt x="152" y="158"/>
                </a:cubicBezTo>
                <a:close/>
                <a:moveTo>
                  <a:pt x="85" y="159"/>
                </a:moveTo>
                <a:cubicBezTo>
                  <a:pt x="84" y="159"/>
                  <a:pt x="84" y="159"/>
                  <a:pt x="84" y="160"/>
                </a:cubicBezTo>
                <a:cubicBezTo>
                  <a:pt x="84" y="161"/>
                  <a:pt x="84" y="161"/>
                  <a:pt x="84" y="161"/>
                </a:cubicBezTo>
                <a:cubicBezTo>
                  <a:pt x="83" y="161"/>
                  <a:pt x="82" y="161"/>
                  <a:pt x="82" y="161"/>
                </a:cubicBezTo>
                <a:cubicBezTo>
                  <a:pt x="81" y="161"/>
                  <a:pt x="81" y="161"/>
                  <a:pt x="81" y="161"/>
                </a:cubicBezTo>
                <a:cubicBezTo>
                  <a:pt x="83" y="160"/>
                  <a:pt x="85" y="160"/>
                  <a:pt x="84" y="158"/>
                </a:cubicBezTo>
                <a:cubicBezTo>
                  <a:pt x="85" y="158"/>
                  <a:pt x="85" y="158"/>
                  <a:pt x="85" y="158"/>
                </a:cubicBezTo>
                <a:cubicBezTo>
                  <a:pt x="85" y="159"/>
                  <a:pt x="85" y="159"/>
                  <a:pt x="85" y="159"/>
                </a:cubicBezTo>
                <a:close/>
                <a:moveTo>
                  <a:pt x="137" y="160"/>
                </a:moveTo>
                <a:cubicBezTo>
                  <a:pt x="137" y="161"/>
                  <a:pt x="137" y="161"/>
                  <a:pt x="137" y="161"/>
                </a:cubicBezTo>
                <a:cubicBezTo>
                  <a:pt x="135" y="159"/>
                  <a:pt x="135" y="159"/>
                  <a:pt x="135" y="159"/>
                </a:cubicBezTo>
                <a:cubicBezTo>
                  <a:pt x="136" y="159"/>
                  <a:pt x="136" y="160"/>
                  <a:pt x="137" y="160"/>
                </a:cubicBezTo>
                <a:close/>
                <a:moveTo>
                  <a:pt x="133" y="164"/>
                </a:moveTo>
                <a:cubicBezTo>
                  <a:pt x="131" y="162"/>
                  <a:pt x="131" y="162"/>
                  <a:pt x="131" y="162"/>
                </a:cubicBezTo>
                <a:cubicBezTo>
                  <a:pt x="132" y="161"/>
                  <a:pt x="132" y="161"/>
                  <a:pt x="132" y="161"/>
                </a:cubicBezTo>
                <a:cubicBezTo>
                  <a:pt x="132" y="162"/>
                  <a:pt x="132" y="163"/>
                  <a:pt x="133" y="164"/>
                </a:cubicBezTo>
                <a:close/>
                <a:moveTo>
                  <a:pt x="129" y="163"/>
                </a:moveTo>
                <a:cubicBezTo>
                  <a:pt x="129" y="164"/>
                  <a:pt x="129" y="164"/>
                  <a:pt x="129" y="164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7" y="163"/>
                  <a:pt x="127" y="163"/>
                  <a:pt x="127" y="163"/>
                </a:cubicBezTo>
                <a:cubicBezTo>
                  <a:pt x="126" y="161"/>
                  <a:pt x="126" y="161"/>
                  <a:pt x="126" y="161"/>
                </a:cubicBezTo>
                <a:cubicBezTo>
                  <a:pt x="127" y="161"/>
                  <a:pt x="127" y="163"/>
                  <a:pt x="129" y="163"/>
                </a:cubicBezTo>
                <a:close/>
                <a:moveTo>
                  <a:pt x="154" y="164"/>
                </a:moveTo>
                <a:cubicBezTo>
                  <a:pt x="153" y="167"/>
                  <a:pt x="159" y="169"/>
                  <a:pt x="155" y="172"/>
                </a:cubicBezTo>
                <a:cubicBezTo>
                  <a:pt x="154" y="172"/>
                  <a:pt x="154" y="171"/>
                  <a:pt x="153" y="171"/>
                </a:cubicBezTo>
                <a:cubicBezTo>
                  <a:pt x="153" y="171"/>
                  <a:pt x="153" y="171"/>
                  <a:pt x="153" y="171"/>
                </a:cubicBezTo>
                <a:cubicBezTo>
                  <a:pt x="153" y="171"/>
                  <a:pt x="153" y="171"/>
                  <a:pt x="154" y="171"/>
                </a:cubicBezTo>
                <a:cubicBezTo>
                  <a:pt x="154" y="171"/>
                  <a:pt x="154" y="171"/>
                  <a:pt x="154" y="171"/>
                </a:cubicBezTo>
                <a:cubicBezTo>
                  <a:pt x="153" y="168"/>
                  <a:pt x="151" y="167"/>
                  <a:pt x="150" y="164"/>
                </a:cubicBezTo>
                <a:cubicBezTo>
                  <a:pt x="150" y="164"/>
                  <a:pt x="151" y="166"/>
                  <a:pt x="153" y="165"/>
                </a:cubicBezTo>
                <a:cubicBezTo>
                  <a:pt x="154" y="165"/>
                  <a:pt x="153" y="164"/>
                  <a:pt x="153" y="164"/>
                </a:cubicBezTo>
                <a:cubicBezTo>
                  <a:pt x="150" y="162"/>
                  <a:pt x="150" y="162"/>
                  <a:pt x="150" y="162"/>
                </a:cubicBezTo>
                <a:cubicBezTo>
                  <a:pt x="152" y="162"/>
                  <a:pt x="153" y="163"/>
                  <a:pt x="154" y="164"/>
                </a:cubicBezTo>
                <a:close/>
                <a:moveTo>
                  <a:pt x="135" y="165"/>
                </a:moveTo>
                <a:cubicBezTo>
                  <a:pt x="134" y="167"/>
                  <a:pt x="135" y="168"/>
                  <a:pt x="136" y="169"/>
                </a:cubicBezTo>
                <a:cubicBezTo>
                  <a:pt x="135" y="168"/>
                  <a:pt x="135" y="169"/>
                  <a:pt x="134" y="170"/>
                </a:cubicBezTo>
                <a:cubicBezTo>
                  <a:pt x="134" y="170"/>
                  <a:pt x="135" y="171"/>
                  <a:pt x="135" y="171"/>
                </a:cubicBezTo>
                <a:cubicBezTo>
                  <a:pt x="135" y="171"/>
                  <a:pt x="135" y="171"/>
                  <a:pt x="135" y="172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1"/>
                  <a:pt x="133" y="171"/>
                  <a:pt x="132" y="171"/>
                </a:cubicBezTo>
                <a:cubicBezTo>
                  <a:pt x="132" y="171"/>
                  <a:pt x="133" y="170"/>
                  <a:pt x="133" y="170"/>
                </a:cubicBezTo>
                <a:cubicBezTo>
                  <a:pt x="132" y="169"/>
                  <a:pt x="132" y="169"/>
                  <a:pt x="132" y="169"/>
                </a:cubicBezTo>
                <a:cubicBezTo>
                  <a:pt x="135" y="167"/>
                  <a:pt x="135" y="167"/>
                  <a:pt x="135" y="167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5" y="165"/>
                  <a:pt x="135" y="165"/>
                  <a:pt x="135" y="165"/>
                </a:cubicBezTo>
                <a:close/>
                <a:moveTo>
                  <a:pt x="127" y="172"/>
                </a:moveTo>
                <a:cubicBezTo>
                  <a:pt x="126" y="170"/>
                  <a:pt x="125" y="168"/>
                  <a:pt x="127" y="166"/>
                </a:cubicBezTo>
                <a:cubicBezTo>
                  <a:pt x="126" y="168"/>
                  <a:pt x="125" y="170"/>
                  <a:pt x="127" y="172"/>
                </a:cubicBezTo>
                <a:close/>
                <a:moveTo>
                  <a:pt x="123" y="167"/>
                </a:moveTo>
                <a:cubicBezTo>
                  <a:pt x="122" y="166"/>
                  <a:pt x="122" y="168"/>
                  <a:pt x="121" y="167"/>
                </a:cubicBezTo>
                <a:cubicBezTo>
                  <a:pt x="123" y="167"/>
                  <a:pt x="123" y="167"/>
                  <a:pt x="123" y="167"/>
                </a:cubicBezTo>
                <a:close/>
                <a:moveTo>
                  <a:pt x="147" y="174"/>
                </a:moveTo>
                <a:cubicBezTo>
                  <a:pt x="147" y="176"/>
                  <a:pt x="144" y="175"/>
                  <a:pt x="144" y="177"/>
                </a:cubicBezTo>
                <a:cubicBezTo>
                  <a:pt x="142" y="175"/>
                  <a:pt x="141" y="173"/>
                  <a:pt x="140" y="171"/>
                </a:cubicBezTo>
                <a:cubicBezTo>
                  <a:pt x="141" y="168"/>
                  <a:pt x="141" y="168"/>
                  <a:pt x="141" y="168"/>
                </a:cubicBezTo>
                <a:cubicBezTo>
                  <a:pt x="144" y="170"/>
                  <a:pt x="147" y="171"/>
                  <a:pt x="147" y="174"/>
                </a:cubicBezTo>
                <a:close/>
                <a:moveTo>
                  <a:pt x="122" y="170"/>
                </a:moveTo>
                <a:cubicBezTo>
                  <a:pt x="122" y="170"/>
                  <a:pt x="123" y="169"/>
                  <a:pt x="123" y="169"/>
                </a:cubicBezTo>
                <a:cubicBezTo>
                  <a:pt x="123" y="170"/>
                  <a:pt x="122" y="170"/>
                  <a:pt x="123" y="171"/>
                </a:cubicBezTo>
                <a:cubicBezTo>
                  <a:pt x="122" y="171"/>
                  <a:pt x="122" y="170"/>
                  <a:pt x="121" y="170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69"/>
                  <a:pt x="121" y="169"/>
                  <a:pt x="121" y="169"/>
                </a:cubicBezTo>
                <a:cubicBezTo>
                  <a:pt x="121" y="169"/>
                  <a:pt x="122" y="170"/>
                  <a:pt x="122" y="170"/>
                </a:cubicBezTo>
                <a:close/>
                <a:moveTo>
                  <a:pt x="462" y="170"/>
                </a:moveTo>
                <a:cubicBezTo>
                  <a:pt x="462" y="171"/>
                  <a:pt x="462" y="171"/>
                  <a:pt x="462" y="171"/>
                </a:cubicBezTo>
                <a:cubicBezTo>
                  <a:pt x="461" y="171"/>
                  <a:pt x="460" y="172"/>
                  <a:pt x="460" y="171"/>
                </a:cubicBezTo>
                <a:cubicBezTo>
                  <a:pt x="460" y="169"/>
                  <a:pt x="461" y="169"/>
                  <a:pt x="462" y="170"/>
                </a:cubicBezTo>
                <a:close/>
                <a:moveTo>
                  <a:pt x="354" y="172"/>
                </a:moveTo>
                <a:cubicBezTo>
                  <a:pt x="356" y="173"/>
                  <a:pt x="356" y="173"/>
                  <a:pt x="356" y="173"/>
                </a:cubicBezTo>
                <a:cubicBezTo>
                  <a:pt x="354" y="172"/>
                  <a:pt x="354" y="172"/>
                  <a:pt x="354" y="172"/>
                </a:cubicBezTo>
                <a:close/>
                <a:moveTo>
                  <a:pt x="482" y="179"/>
                </a:moveTo>
                <a:cubicBezTo>
                  <a:pt x="485" y="180"/>
                  <a:pt x="483" y="183"/>
                  <a:pt x="484" y="185"/>
                </a:cubicBezTo>
                <a:cubicBezTo>
                  <a:pt x="489" y="190"/>
                  <a:pt x="491" y="195"/>
                  <a:pt x="495" y="201"/>
                </a:cubicBezTo>
                <a:cubicBezTo>
                  <a:pt x="494" y="200"/>
                  <a:pt x="493" y="198"/>
                  <a:pt x="491" y="199"/>
                </a:cubicBezTo>
                <a:cubicBezTo>
                  <a:pt x="490" y="200"/>
                  <a:pt x="490" y="200"/>
                  <a:pt x="490" y="200"/>
                </a:cubicBezTo>
                <a:cubicBezTo>
                  <a:pt x="491" y="205"/>
                  <a:pt x="492" y="211"/>
                  <a:pt x="497" y="214"/>
                </a:cubicBezTo>
                <a:cubicBezTo>
                  <a:pt x="497" y="215"/>
                  <a:pt x="497" y="215"/>
                  <a:pt x="497" y="215"/>
                </a:cubicBezTo>
                <a:cubicBezTo>
                  <a:pt x="496" y="214"/>
                  <a:pt x="495" y="214"/>
                  <a:pt x="494" y="214"/>
                </a:cubicBezTo>
                <a:cubicBezTo>
                  <a:pt x="492" y="214"/>
                  <a:pt x="493" y="215"/>
                  <a:pt x="493" y="216"/>
                </a:cubicBezTo>
                <a:cubicBezTo>
                  <a:pt x="494" y="217"/>
                  <a:pt x="494" y="217"/>
                  <a:pt x="494" y="217"/>
                </a:cubicBezTo>
                <a:cubicBezTo>
                  <a:pt x="493" y="217"/>
                  <a:pt x="493" y="217"/>
                  <a:pt x="493" y="217"/>
                </a:cubicBezTo>
                <a:cubicBezTo>
                  <a:pt x="492" y="213"/>
                  <a:pt x="490" y="210"/>
                  <a:pt x="490" y="205"/>
                </a:cubicBezTo>
                <a:cubicBezTo>
                  <a:pt x="486" y="202"/>
                  <a:pt x="488" y="195"/>
                  <a:pt x="484" y="192"/>
                </a:cubicBezTo>
                <a:cubicBezTo>
                  <a:pt x="485" y="189"/>
                  <a:pt x="482" y="188"/>
                  <a:pt x="481" y="186"/>
                </a:cubicBezTo>
                <a:cubicBezTo>
                  <a:pt x="479" y="183"/>
                  <a:pt x="479" y="179"/>
                  <a:pt x="478" y="176"/>
                </a:cubicBezTo>
                <a:cubicBezTo>
                  <a:pt x="478" y="176"/>
                  <a:pt x="478" y="177"/>
                  <a:pt x="479" y="177"/>
                </a:cubicBezTo>
                <a:cubicBezTo>
                  <a:pt x="480" y="176"/>
                  <a:pt x="479" y="174"/>
                  <a:pt x="479" y="173"/>
                </a:cubicBezTo>
                <a:cubicBezTo>
                  <a:pt x="477" y="172"/>
                  <a:pt x="477" y="172"/>
                  <a:pt x="477" y="172"/>
                </a:cubicBezTo>
                <a:cubicBezTo>
                  <a:pt x="479" y="173"/>
                  <a:pt x="481" y="176"/>
                  <a:pt x="482" y="179"/>
                </a:cubicBezTo>
                <a:close/>
                <a:moveTo>
                  <a:pt x="74" y="173"/>
                </a:moveTo>
                <a:cubicBezTo>
                  <a:pt x="73" y="171"/>
                  <a:pt x="72" y="175"/>
                  <a:pt x="71" y="173"/>
                </a:cubicBezTo>
                <a:cubicBezTo>
                  <a:pt x="71" y="173"/>
                  <a:pt x="73" y="172"/>
                  <a:pt x="75" y="172"/>
                </a:cubicBezTo>
                <a:cubicBezTo>
                  <a:pt x="74" y="173"/>
                  <a:pt x="74" y="173"/>
                  <a:pt x="74" y="173"/>
                </a:cubicBezTo>
                <a:close/>
                <a:moveTo>
                  <a:pt x="215" y="177"/>
                </a:moveTo>
                <a:cubicBezTo>
                  <a:pt x="216" y="177"/>
                  <a:pt x="215" y="179"/>
                  <a:pt x="216" y="180"/>
                </a:cubicBezTo>
                <a:cubicBezTo>
                  <a:pt x="215" y="179"/>
                  <a:pt x="215" y="177"/>
                  <a:pt x="216" y="176"/>
                </a:cubicBezTo>
                <a:cubicBezTo>
                  <a:pt x="216" y="176"/>
                  <a:pt x="215" y="176"/>
                  <a:pt x="215" y="177"/>
                </a:cubicBezTo>
                <a:close/>
                <a:moveTo>
                  <a:pt x="435" y="177"/>
                </a:moveTo>
                <a:cubicBezTo>
                  <a:pt x="434" y="177"/>
                  <a:pt x="433" y="178"/>
                  <a:pt x="434" y="180"/>
                </a:cubicBezTo>
                <a:cubicBezTo>
                  <a:pt x="433" y="177"/>
                  <a:pt x="433" y="177"/>
                  <a:pt x="433" y="177"/>
                </a:cubicBezTo>
                <a:cubicBezTo>
                  <a:pt x="434" y="178"/>
                  <a:pt x="434" y="176"/>
                  <a:pt x="435" y="177"/>
                </a:cubicBezTo>
                <a:close/>
                <a:moveTo>
                  <a:pt x="358" y="182"/>
                </a:moveTo>
                <a:cubicBezTo>
                  <a:pt x="359" y="182"/>
                  <a:pt x="353" y="174"/>
                  <a:pt x="354" y="180"/>
                </a:cubicBezTo>
                <a:cubicBezTo>
                  <a:pt x="355" y="182"/>
                  <a:pt x="355" y="182"/>
                  <a:pt x="355" y="182"/>
                </a:cubicBezTo>
                <a:cubicBezTo>
                  <a:pt x="355" y="183"/>
                  <a:pt x="353" y="183"/>
                  <a:pt x="353" y="184"/>
                </a:cubicBezTo>
                <a:cubicBezTo>
                  <a:pt x="353" y="183"/>
                  <a:pt x="354" y="182"/>
                  <a:pt x="354" y="181"/>
                </a:cubicBezTo>
                <a:cubicBezTo>
                  <a:pt x="354" y="180"/>
                  <a:pt x="352" y="181"/>
                  <a:pt x="353" y="180"/>
                </a:cubicBezTo>
                <a:cubicBezTo>
                  <a:pt x="353" y="175"/>
                  <a:pt x="357" y="179"/>
                  <a:pt x="358" y="182"/>
                </a:cubicBezTo>
                <a:close/>
                <a:moveTo>
                  <a:pt x="379" y="187"/>
                </a:moveTo>
                <a:cubicBezTo>
                  <a:pt x="379" y="189"/>
                  <a:pt x="379" y="189"/>
                  <a:pt x="379" y="189"/>
                </a:cubicBezTo>
                <a:cubicBezTo>
                  <a:pt x="379" y="189"/>
                  <a:pt x="378" y="190"/>
                  <a:pt x="378" y="190"/>
                </a:cubicBezTo>
                <a:cubicBezTo>
                  <a:pt x="378" y="190"/>
                  <a:pt x="379" y="191"/>
                  <a:pt x="379" y="191"/>
                </a:cubicBezTo>
                <a:cubicBezTo>
                  <a:pt x="377" y="194"/>
                  <a:pt x="375" y="196"/>
                  <a:pt x="373" y="198"/>
                </a:cubicBezTo>
                <a:cubicBezTo>
                  <a:pt x="373" y="199"/>
                  <a:pt x="373" y="199"/>
                  <a:pt x="373" y="199"/>
                </a:cubicBezTo>
                <a:cubicBezTo>
                  <a:pt x="372" y="201"/>
                  <a:pt x="370" y="202"/>
                  <a:pt x="367" y="202"/>
                </a:cubicBezTo>
                <a:cubicBezTo>
                  <a:pt x="369" y="200"/>
                  <a:pt x="369" y="200"/>
                  <a:pt x="369" y="200"/>
                </a:cubicBezTo>
                <a:cubicBezTo>
                  <a:pt x="369" y="200"/>
                  <a:pt x="368" y="199"/>
                  <a:pt x="368" y="200"/>
                </a:cubicBezTo>
                <a:cubicBezTo>
                  <a:pt x="368" y="199"/>
                  <a:pt x="368" y="199"/>
                  <a:pt x="368" y="199"/>
                </a:cubicBezTo>
                <a:cubicBezTo>
                  <a:pt x="369" y="199"/>
                  <a:pt x="370" y="201"/>
                  <a:pt x="371" y="200"/>
                </a:cubicBezTo>
                <a:cubicBezTo>
                  <a:pt x="373" y="199"/>
                  <a:pt x="371" y="196"/>
                  <a:pt x="374" y="195"/>
                </a:cubicBezTo>
                <a:cubicBezTo>
                  <a:pt x="376" y="190"/>
                  <a:pt x="377" y="184"/>
                  <a:pt x="377" y="179"/>
                </a:cubicBezTo>
                <a:cubicBezTo>
                  <a:pt x="378" y="181"/>
                  <a:pt x="378" y="185"/>
                  <a:pt x="379" y="187"/>
                </a:cubicBezTo>
                <a:close/>
                <a:moveTo>
                  <a:pt x="105" y="181"/>
                </a:moveTo>
                <a:cubicBezTo>
                  <a:pt x="104" y="183"/>
                  <a:pt x="103" y="181"/>
                  <a:pt x="102" y="181"/>
                </a:cubicBezTo>
                <a:cubicBezTo>
                  <a:pt x="103" y="181"/>
                  <a:pt x="104" y="180"/>
                  <a:pt x="105" y="181"/>
                </a:cubicBezTo>
                <a:close/>
                <a:moveTo>
                  <a:pt x="165" y="186"/>
                </a:moveTo>
                <a:cubicBezTo>
                  <a:pt x="161" y="183"/>
                  <a:pt x="161" y="183"/>
                  <a:pt x="161" y="183"/>
                </a:cubicBezTo>
                <a:cubicBezTo>
                  <a:pt x="162" y="183"/>
                  <a:pt x="163" y="184"/>
                  <a:pt x="164" y="183"/>
                </a:cubicBezTo>
                <a:cubicBezTo>
                  <a:pt x="163" y="181"/>
                  <a:pt x="163" y="181"/>
                  <a:pt x="163" y="181"/>
                </a:cubicBezTo>
                <a:cubicBezTo>
                  <a:pt x="167" y="184"/>
                  <a:pt x="167" y="184"/>
                  <a:pt x="167" y="184"/>
                </a:cubicBezTo>
                <a:cubicBezTo>
                  <a:pt x="165" y="186"/>
                  <a:pt x="165" y="186"/>
                  <a:pt x="165" y="186"/>
                </a:cubicBezTo>
                <a:close/>
                <a:moveTo>
                  <a:pt x="95" y="184"/>
                </a:moveTo>
                <a:cubicBezTo>
                  <a:pt x="96" y="187"/>
                  <a:pt x="92" y="185"/>
                  <a:pt x="91" y="186"/>
                </a:cubicBezTo>
                <a:cubicBezTo>
                  <a:pt x="90" y="184"/>
                  <a:pt x="95" y="185"/>
                  <a:pt x="92" y="182"/>
                </a:cubicBezTo>
                <a:cubicBezTo>
                  <a:pt x="94" y="182"/>
                  <a:pt x="94" y="183"/>
                  <a:pt x="95" y="184"/>
                </a:cubicBezTo>
                <a:close/>
                <a:moveTo>
                  <a:pt x="134" y="184"/>
                </a:moveTo>
                <a:cubicBezTo>
                  <a:pt x="133" y="186"/>
                  <a:pt x="133" y="186"/>
                  <a:pt x="133" y="186"/>
                </a:cubicBezTo>
                <a:cubicBezTo>
                  <a:pt x="133" y="185"/>
                  <a:pt x="131" y="184"/>
                  <a:pt x="133" y="183"/>
                </a:cubicBezTo>
                <a:cubicBezTo>
                  <a:pt x="133" y="183"/>
                  <a:pt x="134" y="183"/>
                  <a:pt x="134" y="184"/>
                </a:cubicBezTo>
                <a:close/>
                <a:moveTo>
                  <a:pt x="96" y="189"/>
                </a:moveTo>
                <a:cubicBezTo>
                  <a:pt x="97" y="185"/>
                  <a:pt x="97" y="185"/>
                  <a:pt x="97" y="185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9"/>
                  <a:pt x="96" y="189"/>
                  <a:pt x="96" y="189"/>
                </a:cubicBezTo>
                <a:close/>
                <a:moveTo>
                  <a:pt x="120" y="185"/>
                </a:moveTo>
                <a:cubicBezTo>
                  <a:pt x="120" y="187"/>
                  <a:pt x="119" y="187"/>
                  <a:pt x="117" y="187"/>
                </a:cubicBezTo>
                <a:cubicBezTo>
                  <a:pt x="117" y="186"/>
                  <a:pt x="119" y="185"/>
                  <a:pt x="120" y="185"/>
                </a:cubicBezTo>
                <a:close/>
                <a:moveTo>
                  <a:pt x="526" y="190"/>
                </a:moveTo>
                <a:cubicBezTo>
                  <a:pt x="525" y="188"/>
                  <a:pt x="527" y="187"/>
                  <a:pt x="528" y="185"/>
                </a:cubicBezTo>
                <a:cubicBezTo>
                  <a:pt x="527" y="187"/>
                  <a:pt x="527" y="189"/>
                  <a:pt x="526" y="190"/>
                </a:cubicBezTo>
                <a:close/>
                <a:moveTo>
                  <a:pt x="45" y="186"/>
                </a:moveTo>
                <a:cubicBezTo>
                  <a:pt x="46" y="188"/>
                  <a:pt x="43" y="189"/>
                  <a:pt x="44" y="190"/>
                </a:cubicBezTo>
                <a:cubicBezTo>
                  <a:pt x="45" y="192"/>
                  <a:pt x="47" y="191"/>
                  <a:pt x="49" y="191"/>
                </a:cubicBezTo>
                <a:cubicBezTo>
                  <a:pt x="49" y="194"/>
                  <a:pt x="47" y="196"/>
                  <a:pt x="45" y="198"/>
                </a:cubicBezTo>
                <a:cubicBezTo>
                  <a:pt x="52" y="197"/>
                  <a:pt x="49" y="205"/>
                  <a:pt x="54" y="206"/>
                </a:cubicBezTo>
                <a:cubicBezTo>
                  <a:pt x="55" y="208"/>
                  <a:pt x="55" y="210"/>
                  <a:pt x="56" y="211"/>
                </a:cubicBezTo>
                <a:cubicBezTo>
                  <a:pt x="56" y="211"/>
                  <a:pt x="56" y="212"/>
                  <a:pt x="56" y="212"/>
                </a:cubicBezTo>
                <a:cubicBezTo>
                  <a:pt x="57" y="212"/>
                  <a:pt x="59" y="212"/>
                  <a:pt x="60" y="213"/>
                </a:cubicBezTo>
                <a:cubicBezTo>
                  <a:pt x="62" y="216"/>
                  <a:pt x="55" y="218"/>
                  <a:pt x="60" y="219"/>
                </a:cubicBezTo>
                <a:cubicBezTo>
                  <a:pt x="59" y="222"/>
                  <a:pt x="54" y="220"/>
                  <a:pt x="52" y="222"/>
                </a:cubicBezTo>
                <a:cubicBezTo>
                  <a:pt x="51" y="221"/>
                  <a:pt x="48" y="223"/>
                  <a:pt x="46" y="222"/>
                </a:cubicBezTo>
                <a:cubicBezTo>
                  <a:pt x="45" y="223"/>
                  <a:pt x="45" y="225"/>
                  <a:pt x="44" y="224"/>
                </a:cubicBezTo>
                <a:cubicBezTo>
                  <a:pt x="43" y="224"/>
                  <a:pt x="41" y="224"/>
                  <a:pt x="40" y="225"/>
                </a:cubicBezTo>
                <a:cubicBezTo>
                  <a:pt x="42" y="224"/>
                  <a:pt x="43" y="219"/>
                  <a:pt x="47" y="221"/>
                </a:cubicBezTo>
                <a:cubicBezTo>
                  <a:pt x="47" y="220"/>
                  <a:pt x="48" y="220"/>
                  <a:pt x="48" y="219"/>
                </a:cubicBezTo>
                <a:cubicBezTo>
                  <a:pt x="46" y="219"/>
                  <a:pt x="44" y="219"/>
                  <a:pt x="43" y="217"/>
                </a:cubicBezTo>
                <a:cubicBezTo>
                  <a:pt x="42" y="218"/>
                  <a:pt x="42" y="218"/>
                  <a:pt x="41" y="218"/>
                </a:cubicBezTo>
                <a:cubicBezTo>
                  <a:pt x="41" y="216"/>
                  <a:pt x="46" y="215"/>
                  <a:pt x="43" y="212"/>
                </a:cubicBezTo>
                <a:cubicBezTo>
                  <a:pt x="43" y="212"/>
                  <a:pt x="43" y="212"/>
                  <a:pt x="43" y="212"/>
                </a:cubicBezTo>
                <a:cubicBezTo>
                  <a:pt x="43" y="212"/>
                  <a:pt x="43" y="212"/>
                  <a:pt x="43" y="211"/>
                </a:cubicBezTo>
                <a:cubicBezTo>
                  <a:pt x="43" y="210"/>
                  <a:pt x="43" y="210"/>
                  <a:pt x="43" y="210"/>
                </a:cubicBezTo>
                <a:cubicBezTo>
                  <a:pt x="43" y="212"/>
                  <a:pt x="45" y="211"/>
                  <a:pt x="46" y="211"/>
                </a:cubicBezTo>
                <a:cubicBezTo>
                  <a:pt x="47" y="210"/>
                  <a:pt x="47" y="210"/>
                  <a:pt x="47" y="210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7" y="208"/>
                  <a:pt x="47" y="207"/>
                </a:cubicBezTo>
                <a:cubicBezTo>
                  <a:pt x="43" y="207"/>
                  <a:pt x="47" y="202"/>
                  <a:pt x="44" y="204"/>
                </a:cubicBezTo>
                <a:cubicBezTo>
                  <a:pt x="43" y="203"/>
                  <a:pt x="43" y="203"/>
                  <a:pt x="43" y="203"/>
                </a:cubicBezTo>
                <a:cubicBezTo>
                  <a:pt x="43" y="204"/>
                  <a:pt x="42" y="204"/>
                  <a:pt x="41" y="204"/>
                </a:cubicBezTo>
                <a:cubicBezTo>
                  <a:pt x="41" y="202"/>
                  <a:pt x="43" y="199"/>
                  <a:pt x="41" y="198"/>
                </a:cubicBezTo>
                <a:cubicBezTo>
                  <a:pt x="41" y="198"/>
                  <a:pt x="40" y="199"/>
                  <a:pt x="40" y="200"/>
                </a:cubicBezTo>
                <a:cubicBezTo>
                  <a:pt x="40" y="200"/>
                  <a:pt x="40" y="200"/>
                  <a:pt x="40" y="200"/>
                </a:cubicBezTo>
                <a:cubicBezTo>
                  <a:pt x="38" y="199"/>
                  <a:pt x="43" y="194"/>
                  <a:pt x="38" y="196"/>
                </a:cubicBezTo>
                <a:cubicBezTo>
                  <a:pt x="41" y="193"/>
                  <a:pt x="38" y="185"/>
                  <a:pt x="45" y="186"/>
                </a:cubicBezTo>
                <a:close/>
                <a:moveTo>
                  <a:pt x="177" y="189"/>
                </a:moveTo>
                <a:cubicBezTo>
                  <a:pt x="176" y="190"/>
                  <a:pt x="175" y="189"/>
                  <a:pt x="173" y="188"/>
                </a:cubicBezTo>
                <a:cubicBezTo>
                  <a:pt x="174" y="189"/>
                  <a:pt x="176" y="189"/>
                  <a:pt x="177" y="189"/>
                </a:cubicBezTo>
                <a:close/>
                <a:moveTo>
                  <a:pt x="108" y="190"/>
                </a:moveTo>
                <a:cubicBezTo>
                  <a:pt x="108" y="191"/>
                  <a:pt x="109" y="192"/>
                  <a:pt x="108" y="193"/>
                </a:cubicBezTo>
                <a:cubicBezTo>
                  <a:pt x="107" y="193"/>
                  <a:pt x="107" y="193"/>
                  <a:pt x="107" y="193"/>
                </a:cubicBezTo>
                <a:cubicBezTo>
                  <a:pt x="107" y="192"/>
                  <a:pt x="106" y="190"/>
                  <a:pt x="108" y="190"/>
                </a:cubicBezTo>
                <a:close/>
                <a:moveTo>
                  <a:pt x="39" y="193"/>
                </a:moveTo>
                <a:cubicBezTo>
                  <a:pt x="38" y="193"/>
                  <a:pt x="37" y="192"/>
                  <a:pt x="38" y="191"/>
                </a:cubicBezTo>
                <a:cubicBezTo>
                  <a:pt x="39" y="193"/>
                  <a:pt x="39" y="193"/>
                  <a:pt x="39" y="193"/>
                </a:cubicBezTo>
                <a:close/>
                <a:moveTo>
                  <a:pt x="284" y="194"/>
                </a:moveTo>
                <a:cubicBezTo>
                  <a:pt x="282" y="194"/>
                  <a:pt x="282" y="194"/>
                  <a:pt x="282" y="194"/>
                </a:cubicBezTo>
                <a:cubicBezTo>
                  <a:pt x="283" y="194"/>
                  <a:pt x="284" y="192"/>
                  <a:pt x="284" y="194"/>
                </a:cubicBezTo>
                <a:close/>
                <a:moveTo>
                  <a:pt x="188" y="194"/>
                </a:moveTo>
                <a:cubicBezTo>
                  <a:pt x="195" y="195"/>
                  <a:pt x="195" y="195"/>
                  <a:pt x="195" y="195"/>
                </a:cubicBezTo>
                <a:cubicBezTo>
                  <a:pt x="188" y="194"/>
                  <a:pt x="188" y="194"/>
                  <a:pt x="188" y="194"/>
                </a:cubicBezTo>
                <a:close/>
                <a:moveTo>
                  <a:pt x="91" y="199"/>
                </a:moveTo>
                <a:cubicBezTo>
                  <a:pt x="89" y="202"/>
                  <a:pt x="89" y="202"/>
                  <a:pt x="89" y="202"/>
                </a:cubicBezTo>
                <a:cubicBezTo>
                  <a:pt x="87" y="200"/>
                  <a:pt x="87" y="200"/>
                  <a:pt x="87" y="200"/>
                </a:cubicBezTo>
                <a:cubicBezTo>
                  <a:pt x="87" y="200"/>
                  <a:pt x="88" y="199"/>
                  <a:pt x="88" y="200"/>
                </a:cubicBezTo>
                <a:cubicBezTo>
                  <a:pt x="89" y="200"/>
                  <a:pt x="89" y="200"/>
                  <a:pt x="89" y="200"/>
                </a:cubicBezTo>
                <a:cubicBezTo>
                  <a:pt x="90" y="200"/>
                  <a:pt x="89" y="197"/>
                  <a:pt x="91" y="199"/>
                </a:cubicBezTo>
                <a:close/>
                <a:moveTo>
                  <a:pt x="36" y="202"/>
                </a:moveTo>
                <a:cubicBezTo>
                  <a:pt x="36" y="202"/>
                  <a:pt x="37" y="202"/>
                  <a:pt x="38" y="202"/>
                </a:cubicBezTo>
                <a:cubicBezTo>
                  <a:pt x="38" y="203"/>
                  <a:pt x="39" y="204"/>
                  <a:pt x="39" y="206"/>
                </a:cubicBezTo>
                <a:cubicBezTo>
                  <a:pt x="39" y="207"/>
                  <a:pt x="38" y="207"/>
                  <a:pt x="37" y="208"/>
                </a:cubicBezTo>
                <a:cubicBezTo>
                  <a:pt x="38" y="210"/>
                  <a:pt x="38" y="213"/>
                  <a:pt x="36" y="214"/>
                </a:cubicBezTo>
                <a:cubicBezTo>
                  <a:pt x="33" y="215"/>
                  <a:pt x="30" y="220"/>
                  <a:pt x="26" y="217"/>
                </a:cubicBezTo>
                <a:cubicBezTo>
                  <a:pt x="26" y="214"/>
                  <a:pt x="32" y="211"/>
                  <a:pt x="27" y="209"/>
                </a:cubicBezTo>
                <a:cubicBezTo>
                  <a:pt x="29" y="208"/>
                  <a:pt x="26" y="206"/>
                  <a:pt x="28" y="205"/>
                </a:cubicBezTo>
                <a:cubicBezTo>
                  <a:pt x="29" y="206"/>
                  <a:pt x="31" y="206"/>
                  <a:pt x="32" y="205"/>
                </a:cubicBezTo>
                <a:cubicBezTo>
                  <a:pt x="32" y="205"/>
                  <a:pt x="32" y="205"/>
                  <a:pt x="32" y="205"/>
                </a:cubicBezTo>
                <a:cubicBezTo>
                  <a:pt x="31" y="204"/>
                  <a:pt x="32" y="203"/>
                  <a:pt x="32" y="202"/>
                </a:cubicBezTo>
                <a:cubicBezTo>
                  <a:pt x="34" y="203"/>
                  <a:pt x="35" y="200"/>
                  <a:pt x="36" y="202"/>
                </a:cubicBezTo>
                <a:close/>
                <a:moveTo>
                  <a:pt x="200" y="204"/>
                </a:moveTo>
                <a:cubicBezTo>
                  <a:pt x="200" y="206"/>
                  <a:pt x="200" y="206"/>
                  <a:pt x="200" y="206"/>
                </a:cubicBezTo>
                <a:cubicBezTo>
                  <a:pt x="198" y="202"/>
                  <a:pt x="198" y="202"/>
                  <a:pt x="198" y="202"/>
                </a:cubicBezTo>
                <a:cubicBezTo>
                  <a:pt x="198" y="203"/>
                  <a:pt x="199" y="204"/>
                  <a:pt x="200" y="204"/>
                </a:cubicBezTo>
                <a:close/>
                <a:moveTo>
                  <a:pt x="89" y="204"/>
                </a:moveTo>
                <a:cubicBezTo>
                  <a:pt x="87" y="204"/>
                  <a:pt x="87" y="204"/>
                  <a:pt x="87" y="204"/>
                </a:cubicBezTo>
                <a:cubicBezTo>
                  <a:pt x="89" y="204"/>
                  <a:pt x="89" y="204"/>
                  <a:pt x="89" y="204"/>
                </a:cubicBezTo>
                <a:cubicBezTo>
                  <a:pt x="89" y="204"/>
                  <a:pt x="89" y="204"/>
                  <a:pt x="89" y="204"/>
                </a:cubicBezTo>
                <a:close/>
                <a:moveTo>
                  <a:pt x="358" y="209"/>
                </a:moveTo>
                <a:cubicBezTo>
                  <a:pt x="357" y="204"/>
                  <a:pt x="357" y="204"/>
                  <a:pt x="357" y="204"/>
                </a:cubicBezTo>
                <a:cubicBezTo>
                  <a:pt x="359" y="204"/>
                  <a:pt x="357" y="207"/>
                  <a:pt x="358" y="209"/>
                </a:cubicBezTo>
                <a:close/>
                <a:moveTo>
                  <a:pt x="199" y="208"/>
                </a:moveTo>
                <a:cubicBezTo>
                  <a:pt x="197" y="212"/>
                  <a:pt x="197" y="212"/>
                  <a:pt x="197" y="212"/>
                </a:cubicBezTo>
                <a:cubicBezTo>
                  <a:pt x="199" y="208"/>
                  <a:pt x="199" y="208"/>
                  <a:pt x="199" y="208"/>
                </a:cubicBezTo>
                <a:close/>
                <a:moveTo>
                  <a:pt x="413" y="209"/>
                </a:moveTo>
                <a:cubicBezTo>
                  <a:pt x="413" y="210"/>
                  <a:pt x="413" y="211"/>
                  <a:pt x="412" y="211"/>
                </a:cubicBezTo>
                <a:cubicBezTo>
                  <a:pt x="412" y="210"/>
                  <a:pt x="412" y="209"/>
                  <a:pt x="413" y="209"/>
                </a:cubicBezTo>
                <a:close/>
                <a:moveTo>
                  <a:pt x="336" y="212"/>
                </a:moveTo>
                <a:cubicBezTo>
                  <a:pt x="336" y="212"/>
                  <a:pt x="336" y="212"/>
                  <a:pt x="335" y="213"/>
                </a:cubicBezTo>
                <a:cubicBezTo>
                  <a:pt x="334" y="213"/>
                  <a:pt x="334" y="212"/>
                  <a:pt x="334" y="211"/>
                </a:cubicBezTo>
                <a:cubicBezTo>
                  <a:pt x="334" y="210"/>
                  <a:pt x="335" y="211"/>
                  <a:pt x="336" y="212"/>
                </a:cubicBezTo>
                <a:close/>
                <a:moveTo>
                  <a:pt x="518" y="216"/>
                </a:moveTo>
                <a:cubicBezTo>
                  <a:pt x="519" y="213"/>
                  <a:pt x="519" y="213"/>
                  <a:pt x="519" y="213"/>
                </a:cubicBezTo>
                <a:cubicBezTo>
                  <a:pt x="519" y="213"/>
                  <a:pt x="519" y="213"/>
                  <a:pt x="519" y="213"/>
                </a:cubicBezTo>
                <a:cubicBezTo>
                  <a:pt x="518" y="216"/>
                  <a:pt x="518" y="216"/>
                  <a:pt x="518" y="216"/>
                </a:cubicBezTo>
                <a:close/>
                <a:moveTo>
                  <a:pt x="193" y="215"/>
                </a:moveTo>
                <a:cubicBezTo>
                  <a:pt x="193" y="214"/>
                  <a:pt x="193" y="214"/>
                  <a:pt x="193" y="214"/>
                </a:cubicBezTo>
                <a:cubicBezTo>
                  <a:pt x="194" y="214"/>
                  <a:pt x="194" y="214"/>
                  <a:pt x="194" y="214"/>
                </a:cubicBezTo>
                <a:cubicBezTo>
                  <a:pt x="193" y="215"/>
                  <a:pt x="193" y="215"/>
                  <a:pt x="193" y="215"/>
                </a:cubicBezTo>
                <a:close/>
                <a:moveTo>
                  <a:pt x="309" y="221"/>
                </a:moveTo>
                <a:cubicBezTo>
                  <a:pt x="310" y="224"/>
                  <a:pt x="314" y="224"/>
                  <a:pt x="315" y="225"/>
                </a:cubicBezTo>
                <a:cubicBezTo>
                  <a:pt x="312" y="228"/>
                  <a:pt x="311" y="224"/>
                  <a:pt x="309" y="224"/>
                </a:cubicBezTo>
                <a:cubicBezTo>
                  <a:pt x="310" y="222"/>
                  <a:pt x="308" y="221"/>
                  <a:pt x="310" y="220"/>
                </a:cubicBezTo>
                <a:cubicBezTo>
                  <a:pt x="308" y="217"/>
                  <a:pt x="308" y="217"/>
                  <a:pt x="308" y="217"/>
                </a:cubicBezTo>
                <a:cubicBezTo>
                  <a:pt x="308" y="219"/>
                  <a:pt x="312" y="219"/>
                  <a:pt x="309" y="221"/>
                </a:cubicBezTo>
                <a:close/>
                <a:moveTo>
                  <a:pt x="511" y="222"/>
                </a:moveTo>
                <a:cubicBezTo>
                  <a:pt x="511" y="221"/>
                  <a:pt x="513" y="219"/>
                  <a:pt x="515" y="217"/>
                </a:cubicBezTo>
                <a:cubicBezTo>
                  <a:pt x="514" y="218"/>
                  <a:pt x="513" y="221"/>
                  <a:pt x="511" y="222"/>
                </a:cubicBezTo>
                <a:close/>
                <a:moveTo>
                  <a:pt x="146" y="218"/>
                </a:moveTo>
                <a:cubicBezTo>
                  <a:pt x="147" y="218"/>
                  <a:pt x="147" y="218"/>
                  <a:pt x="147" y="218"/>
                </a:cubicBezTo>
                <a:cubicBezTo>
                  <a:pt x="147" y="221"/>
                  <a:pt x="147" y="221"/>
                  <a:pt x="147" y="221"/>
                </a:cubicBezTo>
                <a:cubicBezTo>
                  <a:pt x="146" y="221"/>
                  <a:pt x="146" y="221"/>
                  <a:pt x="146" y="221"/>
                </a:cubicBezTo>
                <a:cubicBezTo>
                  <a:pt x="146" y="218"/>
                  <a:pt x="146" y="218"/>
                  <a:pt x="146" y="218"/>
                </a:cubicBezTo>
                <a:close/>
                <a:moveTo>
                  <a:pt x="506" y="226"/>
                </a:moveTo>
                <a:cubicBezTo>
                  <a:pt x="505" y="228"/>
                  <a:pt x="508" y="229"/>
                  <a:pt x="508" y="230"/>
                </a:cubicBezTo>
                <a:cubicBezTo>
                  <a:pt x="507" y="232"/>
                  <a:pt x="501" y="232"/>
                  <a:pt x="503" y="237"/>
                </a:cubicBezTo>
                <a:cubicBezTo>
                  <a:pt x="500" y="236"/>
                  <a:pt x="497" y="232"/>
                  <a:pt x="494" y="236"/>
                </a:cubicBezTo>
                <a:cubicBezTo>
                  <a:pt x="493" y="238"/>
                  <a:pt x="496" y="237"/>
                  <a:pt x="497" y="238"/>
                </a:cubicBezTo>
                <a:cubicBezTo>
                  <a:pt x="495" y="241"/>
                  <a:pt x="495" y="241"/>
                  <a:pt x="495" y="241"/>
                </a:cubicBezTo>
                <a:cubicBezTo>
                  <a:pt x="495" y="238"/>
                  <a:pt x="489" y="235"/>
                  <a:pt x="494" y="233"/>
                </a:cubicBezTo>
                <a:cubicBezTo>
                  <a:pt x="493" y="232"/>
                  <a:pt x="493" y="232"/>
                  <a:pt x="493" y="232"/>
                </a:cubicBezTo>
                <a:cubicBezTo>
                  <a:pt x="493" y="232"/>
                  <a:pt x="494" y="232"/>
                  <a:pt x="495" y="232"/>
                </a:cubicBezTo>
                <a:cubicBezTo>
                  <a:pt x="497" y="231"/>
                  <a:pt x="493" y="229"/>
                  <a:pt x="495" y="227"/>
                </a:cubicBezTo>
                <a:cubicBezTo>
                  <a:pt x="496" y="224"/>
                  <a:pt x="493" y="223"/>
                  <a:pt x="494" y="221"/>
                </a:cubicBezTo>
                <a:cubicBezTo>
                  <a:pt x="497" y="222"/>
                  <a:pt x="501" y="230"/>
                  <a:pt x="506" y="226"/>
                </a:cubicBezTo>
                <a:close/>
                <a:moveTo>
                  <a:pt x="337" y="224"/>
                </a:moveTo>
                <a:cubicBezTo>
                  <a:pt x="336" y="223"/>
                  <a:pt x="336" y="222"/>
                  <a:pt x="337" y="221"/>
                </a:cubicBezTo>
                <a:cubicBezTo>
                  <a:pt x="337" y="221"/>
                  <a:pt x="337" y="221"/>
                  <a:pt x="337" y="221"/>
                </a:cubicBezTo>
                <a:cubicBezTo>
                  <a:pt x="337" y="224"/>
                  <a:pt x="337" y="224"/>
                  <a:pt x="337" y="224"/>
                </a:cubicBezTo>
                <a:close/>
                <a:moveTo>
                  <a:pt x="467" y="225"/>
                </a:moveTo>
                <a:cubicBezTo>
                  <a:pt x="467" y="226"/>
                  <a:pt x="467" y="228"/>
                  <a:pt x="466" y="228"/>
                </a:cubicBezTo>
                <a:cubicBezTo>
                  <a:pt x="465" y="227"/>
                  <a:pt x="465" y="227"/>
                  <a:pt x="465" y="227"/>
                </a:cubicBezTo>
                <a:cubicBezTo>
                  <a:pt x="466" y="226"/>
                  <a:pt x="466" y="226"/>
                  <a:pt x="466" y="226"/>
                </a:cubicBezTo>
                <a:cubicBezTo>
                  <a:pt x="465" y="226"/>
                  <a:pt x="465" y="225"/>
                  <a:pt x="466" y="224"/>
                </a:cubicBezTo>
                <a:cubicBezTo>
                  <a:pt x="466" y="224"/>
                  <a:pt x="467" y="225"/>
                  <a:pt x="467" y="225"/>
                </a:cubicBezTo>
                <a:close/>
                <a:moveTo>
                  <a:pt x="508" y="227"/>
                </a:moveTo>
                <a:cubicBezTo>
                  <a:pt x="508" y="224"/>
                  <a:pt x="508" y="224"/>
                  <a:pt x="508" y="224"/>
                </a:cubicBezTo>
                <a:cubicBezTo>
                  <a:pt x="509" y="224"/>
                  <a:pt x="509" y="224"/>
                  <a:pt x="509" y="224"/>
                </a:cubicBezTo>
                <a:cubicBezTo>
                  <a:pt x="508" y="227"/>
                  <a:pt x="508" y="227"/>
                  <a:pt x="508" y="227"/>
                </a:cubicBezTo>
                <a:close/>
                <a:moveTo>
                  <a:pt x="154" y="227"/>
                </a:moveTo>
                <a:cubicBezTo>
                  <a:pt x="154" y="228"/>
                  <a:pt x="154" y="228"/>
                  <a:pt x="154" y="228"/>
                </a:cubicBezTo>
                <a:cubicBezTo>
                  <a:pt x="151" y="226"/>
                  <a:pt x="151" y="226"/>
                  <a:pt x="151" y="226"/>
                </a:cubicBezTo>
                <a:cubicBezTo>
                  <a:pt x="152" y="227"/>
                  <a:pt x="154" y="226"/>
                  <a:pt x="154" y="227"/>
                </a:cubicBezTo>
                <a:close/>
                <a:moveTo>
                  <a:pt x="183" y="233"/>
                </a:moveTo>
                <a:cubicBezTo>
                  <a:pt x="186" y="232"/>
                  <a:pt x="184" y="228"/>
                  <a:pt x="187" y="226"/>
                </a:cubicBezTo>
                <a:cubicBezTo>
                  <a:pt x="186" y="229"/>
                  <a:pt x="187" y="233"/>
                  <a:pt x="183" y="233"/>
                </a:cubicBezTo>
                <a:close/>
                <a:moveTo>
                  <a:pt x="286" y="232"/>
                </a:moveTo>
                <a:cubicBezTo>
                  <a:pt x="286" y="233"/>
                  <a:pt x="284" y="233"/>
                  <a:pt x="285" y="234"/>
                </a:cubicBezTo>
                <a:cubicBezTo>
                  <a:pt x="284" y="234"/>
                  <a:pt x="284" y="235"/>
                  <a:pt x="283" y="236"/>
                </a:cubicBezTo>
                <a:cubicBezTo>
                  <a:pt x="284" y="236"/>
                  <a:pt x="284" y="236"/>
                  <a:pt x="284" y="236"/>
                </a:cubicBezTo>
                <a:cubicBezTo>
                  <a:pt x="283" y="237"/>
                  <a:pt x="283" y="237"/>
                  <a:pt x="283" y="238"/>
                </a:cubicBezTo>
                <a:cubicBezTo>
                  <a:pt x="282" y="237"/>
                  <a:pt x="281" y="238"/>
                  <a:pt x="281" y="236"/>
                </a:cubicBezTo>
                <a:cubicBezTo>
                  <a:pt x="282" y="236"/>
                  <a:pt x="282" y="236"/>
                  <a:pt x="282" y="236"/>
                </a:cubicBezTo>
                <a:cubicBezTo>
                  <a:pt x="281" y="235"/>
                  <a:pt x="281" y="235"/>
                  <a:pt x="281" y="235"/>
                </a:cubicBezTo>
                <a:cubicBezTo>
                  <a:pt x="282" y="234"/>
                  <a:pt x="284" y="230"/>
                  <a:pt x="286" y="232"/>
                </a:cubicBezTo>
                <a:close/>
                <a:moveTo>
                  <a:pt x="217" y="236"/>
                </a:moveTo>
                <a:cubicBezTo>
                  <a:pt x="217" y="237"/>
                  <a:pt x="217" y="239"/>
                  <a:pt x="216" y="240"/>
                </a:cubicBezTo>
                <a:cubicBezTo>
                  <a:pt x="217" y="240"/>
                  <a:pt x="217" y="240"/>
                  <a:pt x="217" y="241"/>
                </a:cubicBezTo>
                <a:cubicBezTo>
                  <a:pt x="216" y="240"/>
                  <a:pt x="214" y="241"/>
                  <a:pt x="213" y="241"/>
                </a:cubicBezTo>
                <a:cubicBezTo>
                  <a:pt x="211" y="241"/>
                  <a:pt x="211" y="244"/>
                  <a:pt x="212" y="245"/>
                </a:cubicBezTo>
                <a:cubicBezTo>
                  <a:pt x="211" y="245"/>
                  <a:pt x="210" y="244"/>
                  <a:pt x="209" y="245"/>
                </a:cubicBezTo>
                <a:cubicBezTo>
                  <a:pt x="213" y="247"/>
                  <a:pt x="213" y="252"/>
                  <a:pt x="218" y="253"/>
                </a:cubicBezTo>
                <a:cubicBezTo>
                  <a:pt x="214" y="257"/>
                  <a:pt x="222" y="258"/>
                  <a:pt x="219" y="262"/>
                </a:cubicBezTo>
                <a:cubicBezTo>
                  <a:pt x="220" y="263"/>
                  <a:pt x="219" y="264"/>
                  <a:pt x="221" y="265"/>
                </a:cubicBezTo>
                <a:cubicBezTo>
                  <a:pt x="221" y="264"/>
                  <a:pt x="222" y="264"/>
                  <a:pt x="222" y="264"/>
                </a:cubicBezTo>
                <a:cubicBezTo>
                  <a:pt x="222" y="265"/>
                  <a:pt x="223" y="265"/>
                  <a:pt x="223" y="265"/>
                </a:cubicBezTo>
                <a:cubicBezTo>
                  <a:pt x="223" y="265"/>
                  <a:pt x="222" y="266"/>
                  <a:pt x="222" y="266"/>
                </a:cubicBezTo>
                <a:cubicBezTo>
                  <a:pt x="226" y="267"/>
                  <a:pt x="222" y="273"/>
                  <a:pt x="226" y="276"/>
                </a:cubicBezTo>
                <a:cubicBezTo>
                  <a:pt x="222" y="277"/>
                  <a:pt x="216" y="278"/>
                  <a:pt x="212" y="274"/>
                </a:cubicBezTo>
                <a:cubicBezTo>
                  <a:pt x="209" y="275"/>
                  <a:pt x="210" y="272"/>
                  <a:pt x="209" y="270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11" y="267"/>
                  <a:pt x="208" y="262"/>
                  <a:pt x="212" y="262"/>
                </a:cubicBezTo>
                <a:cubicBezTo>
                  <a:pt x="212" y="261"/>
                  <a:pt x="210" y="262"/>
                  <a:pt x="210" y="261"/>
                </a:cubicBezTo>
                <a:cubicBezTo>
                  <a:pt x="208" y="256"/>
                  <a:pt x="201" y="254"/>
                  <a:pt x="201" y="248"/>
                </a:cubicBezTo>
                <a:cubicBezTo>
                  <a:pt x="198" y="247"/>
                  <a:pt x="198" y="243"/>
                  <a:pt x="200" y="241"/>
                </a:cubicBezTo>
                <a:cubicBezTo>
                  <a:pt x="205" y="239"/>
                  <a:pt x="208" y="233"/>
                  <a:pt x="214" y="235"/>
                </a:cubicBezTo>
                <a:cubicBezTo>
                  <a:pt x="215" y="234"/>
                  <a:pt x="217" y="235"/>
                  <a:pt x="217" y="236"/>
                </a:cubicBezTo>
                <a:close/>
                <a:moveTo>
                  <a:pt x="170" y="238"/>
                </a:moveTo>
                <a:cubicBezTo>
                  <a:pt x="170" y="239"/>
                  <a:pt x="171" y="239"/>
                  <a:pt x="171" y="239"/>
                </a:cubicBezTo>
                <a:cubicBezTo>
                  <a:pt x="171" y="240"/>
                  <a:pt x="168" y="241"/>
                  <a:pt x="170" y="242"/>
                </a:cubicBezTo>
                <a:cubicBezTo>
                  <a:pt x="169" y="243"/>
                  <a:pt x="168" y="242"/>
                  <a:pt x="168" y="243"/>
                </a:cubicBezTo>
                <a:cubicBezTo>
                  <a:pt x="171" y="247"/>
                  <a:pt x="176" y="249"/>
                  <a:pt x="180" y="252"/>
                </a:cubicBezTo>
                <a:cubicBezTo>
                  <a:pt x="182" y="252"/>
                  <a:pt x="183" y="254"/>
                  <a:pt x="184" y="256"/>
                </a:cubicBezTo>
                <a:cubicBezTo>
                  <a:pt x="185" y="259"/>
                  <a:pt x="182" y="260"/>
                  <a:pt x="180" y="261"/>
                </a:cubicBezTo>
                <a:cubicBezTo>
                  <a:pt x="176" y="259"/>
                  <a:pt x="172" y="261"/>
                  <a:pt x="168" y="259"/>
                </a:cubicBezTo>
                <a:cubicBezTo>
                  <a:pt x="168" y="258"/>
                  <a:pt x="167" y="258"/>
                  <a:pt x="167" y="257"/>
                </a:cubicBezTo>
                <a:cubicBezTo>
                  <a:pt x="165" y="259"/>
                  <a:pt x="164" y="256"/>
                  <a:pt x="163" y="257"/>
                </a:cubicBezTo>
                <a:cubicBezTo>
                  <a:pt x="158" y="256"/>
                  <a:pt x="154" y="257"/>
                  <a:pt x="152" y="261"/>
                </a:cubicBezTo>
                <a:cubicBezTo>
                  <a:pt x="150" y="260"/>
                  <a:pt x="147" y="260"/>
                  <a:pt x="145" y="261"/>
                </a:cubicBezTo>
                <a:cubicBezTo>
                  <a:pt x="147" y="263"/>
                  <a:pt x="144" y="262"/>
                  <a:pt x="144" y="264"/>
                </a:cubicBezTo>
                <a:cubicBezTo>
                  <a:pt x="143" y="263"/>
                  <a:pt x="141" y="264"/>
                  <a:pt x="140" y="264"/>
                </a:cubicBezTo>
                <a:cubicBezTo>
                  <a:pt x="139" y="263"/>
                  <a:pt x="140" y="262"/>
                  <a:pt x="141" y="262"/>
                </a:cubicBezTo>
                <a:cubicBezTo>
                  <a:pt x="142" y="262"/>
                  <a:pt x="143" y="262"/>
                  <a:pt x="143" y="261"/>
                </a:cubicBezTo>
                <a:cubicBezTo>
                  <a:pt x="143" y="262"/>
                  <a:pt x="144" y="262"/>
                  <a:pt x="144" y="262"/>
                </a:cubicBezTo>
                <a:cubicBezTo>
                  <a:pt x="145" y="261"/>
                  <a:pt x="145" y="261"/>
                  <a:pt x="145" y="261"/>
                </a:cubicBezTo>
                <a:cubicBezTo>
                  <a:pt x="143" y="260"/>
                  <a:pt x="142" y="257"/>
                  <a:pt x="141" y="255"/>
                </a:cubicBezTo>
                <a:cubicBezTo>
                  <a:pt x="141" y="254"/>
                  <a:pt x="142" y="253"/>
                  <a:pt x="141" y="252"/>
                </a:cubicBezTo>
                <a:cubicBezTo>
                  <a:pt x="144" y="252"/>
                  <a:pt x="142" y="249"/>
                  <a:pt x="144" y="248"/>
                </a:cubicBezTo>
                <a:cubicBezTo>
                  <a:pt x="143" y="247"/>
                  <a:pt x="143" y="247"/>
                  <a:pt x="143" y="247"/>
                </a:cubicBezTo>
                <a:cubicBezTo>
                  <a:pt x="144" y="247"/>
                  <a:pt x="144" y="246"/>
                  <a:pt x="144" y="245"/>
                </a:cubicBezTo>
                <a:cubicBezTo>
                  <a:pt x="144" y="246"/>
                  <a:pt x="145" y="246"/>
                  <a:pt x="145" y="246"/>
                </a:cubicBezTo>
                <a:cubicBezTo>
                  <a:pt x="145" y="242"/>
                  <a:pt x="149" y="241"/>
                  <a:pt x="150" y="238"/>
                </a:cubicBezTo>
                <a:cubicBezTo>
                  <a:pt x="151" y="238"/>
                  <a:pt x="151" y="238"/>
                  <a:pt x="151" y="238"/>
                </a:cubicBezTo>
                <a:cubicBezTo>
                  <a:pt x="151" y="238"/>
                  <a:pt x="152" y="238"/>
                  <a:pt x="152" y="238"/>
                </a:cubicBezTo>
                <a:cubicBezTo>
                  <a:pt x="151" y="238"/>
                  <a:pt x="152" y="240"/>
                  <a:pt x="153" y="240"/>
                </a:cubicBezTo>
                <a:cubicBezTo>
                  <a:pt x="157" y="241"/>
                  <a:pt x="157" y="241"/>
                  <a:pt x="157" y="241"/>
                </a:cubicBezTo>
                <a:cubicBezTo>
                  <a:pt x="154" y="243"/>
                  <a:pt x="154" y="243"/>
                  <a:pt x="154" y="243"/>
                </a:cubicBezTo>
                <a:cubicBezTo>
                  <a:pt x="158" y="242"/>
                  <a:pt x="156" y="248"/>
                  <a:pt x="160" y="247"/>
                </a:cubicBezTo>
                <a:cubicBezTo>
                  <a:pt x="162" y="245"/>
                  <a:pt x="164" y="244"/>
                  <a:pt x="167" y="244"/>
                </a:cubicBezTo>
                <a:cubicBezTo>
                  <a:pt x="167" y="243"/>
                  <a:pt x="166" y="242"/>
                  <a:pt x="166" y="242"/>
                </a:cubicBezTo>
                <a:cubicBezTo>
                  <a:pt x="165" y="243"/>
                  <a:pt x="163" y="243"/>
                  <a:pt x="162" y="243"/>
                </a:cubicBezTo>
                <a:cubicBezTo>
                  <a:pt x="159" y="240"/>
                  <a:pt x="159" y="240"/>
                  <a:pt x="159" y="240"/>
                </a:cubicBezTo>
                <a:cubicBezTo>
                  <a:pt x="162" y="238"/>
                  <a:pt x="167" y="239"/>
                  <a:pt x="169" y="236"/>
                </a:cubicBezTo>
                <a:cubicBezTo>
                  <a:pt x="170" y="235"/>
                  <a:pt x="172" y="236"/>
                  <a:pt x="173" y="235"/>
                </a:cubicBezTo>
                <a:cubicBezTo>
                  <a:pt x="170" y="238"/>
                  <a:pt x="170" y="238"/>
                  <a:pt x="170" y="238"/>
                </a:cubicBezTo>
                <a:close/>
                <a:moveTo>
                  <a:pt x="242" y="242"/>
                </a:moveTo>
                <a:cubicBezTo>
                  <a:pt x="242" y="243"/>
                  <a:pt x="242" y="244"/>
                  <a:pt x="241" y="245"/>
                </a:cubicBezTo>
                <a:cubicBezTo>
                  <a:pt x="239" y="245"/>
                  <a:pt x="237" y="244"/>
                  <a:pt x="236" y="244"/>
                </a:cubicBezTo>
                <a:cubicBezTo>
                  <a:pt x="236" y="239"/>
                  <a:pt x="236" y="239"/>
                  <a:pt x="236" y="239"/>
                </a:cubicBezTo>
                <a:cubicBezTo>
                  <a:pt x="237" y="240"/>
                  <a:pt x="237" y="240"/>
                  <a:pt x="237" y="240"/>
                </a:cubicBezTo>
                <a:cubicBezTo>
                  <a:pt x="238" y="238"/>
                  <a:pt x="238" y="238"/>
                  <a:pt x="238" y="238"/>
                </a:cubicBezTo>
                <a:cubicBezTo>
                  <a:pt x="239" y="239"/>
                  <a:pt x="240" y="238"/>
                  <a:pt x="240" y="238"/>
                </a:cubicBezTo>
                <a:cubicBezTo>
                  <a:pt x="242" y="238"/>
                  <a:pt x="242" y="236"/>
                  <a:pt x="240" y="236"/>
                </a:cubicBezTo>
                <a:cubicBezTo>
                  <a:pt x="241" y="237"/>
                  <a:pt x="242" y="240"/>
                  <a:pt x="242" y="242"/>
                </a:cubicBezTo>
                <a:close/>
                <a:moveTo>
                  <a:pt x="497" y="244"/>
                </a:moveTo>
                <a:cubicBezTo>
                  <a:pt x="498" y="243"/>
                  <a:pt x="498" y="243"/>
                  <a:pt x="498" y="243"/>
                </a:cubicBezTo>
                <a:cubicBezTo>
                  <a:pt x="502" y="246"/>
                  <a:pt x="503" y="250"/>
                  <a:pt x="503" y="255"/>
                </a:cubicBezTo>
                <a:cubicBezTo>
                  <a:pt x="502" y="255"/>
                  <a:pt x="502" y="256"/>
                  <a:pt x="501" y="257"/>
                </a:cubicBezTo>
                <a:cubicBezTo>
                  <a:pt x="504" y="260"/>
                  <a:pt x="500" y="265"/>
                  <a:pt x="504" y="268"/>
                </a:cubicBezTo>
                <a:cubicBezTo>
                  <a:pt x="503" y="269"/>
                  <a:pt x="504" y="271"/>
                  <a:pt x="502" y="272"/>
                </a:cubicBezTo>
                <a:cubicBezTo>
                  <a:pt x="501" y="271"/>
                  <a:pt x="503" y="268"/>
                  <a:pt x="500" y="268"/>
                </a:cubicBezTo>
                <a:cubicBezTo>
                  <a:pt x="501" y="270"/>
                  <a:pt x="498" y="270"/>
                  <a:pt x="499" y="273"/>
                </a:cubicBezTo>
                <a:cubicBezTo>
                  <a:pt x="498" y="271"/>
                  <a:pt x="498" y="271"/>
                  <a:pt x="498" y="271"/>
                </a:cubicBezTo>
                <a:cubicBezTo>
                  <a:pt x="498" y="276"/>
                  <a:pt x="493" y="272"/>
                  <a:pt x="491" y="273"/>
                </a:cubicBezTo>
                <a:cubicBezTo>
                  <a:pt x="492" y="275"/>
                  <a:pt x="492" y="275"/>
                  <a:pt x="492" y="275"/>
                </a:cubicBezTo>
                <a:cubicBezTo>
                  <a:pt x="490" y="275"/>
                  <a:pt x="490" y="282"/>
                  <a:pt x="487" y="277"/>
                </a:cubicBezTo>
                <a:cubicBezTo>
                  <a:pt x="487" y="277"/>
                  <a:pt x="487" y="276"/>
                  <a:pt x="487" y="276"/>
                </a:cubicBezTo>
                <a:cubicBezTo>
                  <a:pt x="486" y="276"/>
                  <a:pt x="486" y="276"/>
                  <a:pt x="486" y="276"/>
                </a:cubicBezTo>
                <a:cubicBezTo>
                  <a:pt x="486" y="275"/>
                  <a:pt x="486" y="275"/>
                  <a:pt x="486" y="275"/>
                </a:cubicBezTo>
                <a:cubicBezTo>
                  <a:pt x="487" y="276"/>
                  <a:pt x="487" y="276"/>
                  <a:pt x="487" y="276"/>
                </a:cubicBezTo>
                <a:cubicBezTo>
                  <a:pt x="488" y="274"/>
                  <a:pt x="488" y="274"/>
                  <a:pt x="488" y="274"/>
                </a:cubicBezTo>
                <a:cubicBezTo>
                  <a:pt x="487" y="273"/>
                  <a:pt x="486" y="273"/>
                  <a:pt x="485" y="273"/>
                </a:cubicBezTo>
                <a:cubicBezTo>
                  <a:pt x="484" y="276"/>
                  <a:pt x="481" y="275"/>
                  <a:pt x="479" y="276"/>
                </a:cubicBezTo>
                <a:cubicBezTo>
                  <a:pt x="479" y="276"/>
                  <a:pt x="479" y="276"/>
                  <a:pt x="479" y="276"/>
                </a:cubicBezTo>
                <a:cubicBezTo>
                  <a:pt x="478" y="276"/>
                  <a:pt x="477" y="277"/>
                  <a:pt x="478" y="278"/>
                </a:cubicBezTo>
                <a:cubicBezTo>
                  <a:pt x="476" y="276"/>
                  <a:pt x="475" y="278"/>
                  <a:pt x="474" y="278"/>
                </a:cubicBezTo>
                <a:cubicBezTo>
                  <a:pt x="475" y="279"/>
                  <a:pt x="476" y="280"/>
                  <a:pt x="477" y="280"/>
                </a:cubicBezTo>
                <a:cubicBezTo>
                  <a:pt x="477" y="280"/>
                  <a:pt x="477" y="280"/>
                  <a:pt x="476" y="281"/>
                </a:cubicBezTo>
                <a:cubicBezTo>
                  <a:pt x="480" y="282"/>
                  <a:pt x="475" y="285"/>
                  <a:pt x="478" y="288"/>
                </a:cubicBezTo>
                <a:cubicBezTo>
                  <a:pt x="477" y="289"/>
                  <a:pt x="476" y="289"/>
                  <a:pt x="476" y="290"/>
                </a:cubicBezTo>
                <a:cubicBezTo>
                  <a:pt x="476" y="290"/>
                  <a:pt x="476" y="289"/>
                  <a:pt x="475" y="288"/>
                </a:cubicBezTo>
                <a:cubicBezTo>
                  <a:pt x="475" y="288"/>
                  <a:pt x="475" y="289"/>
                  <a:pt x="475" y="290"/>
                </a:cubicBezTo>
                <a:cubicBezTo>
                  <a:pt x="474" y="289"/>
                  <a:pt x="472" y="286"/>
                  <a:pt x="474" y="285"/>
                </a:cubicBezTo>
                <a:cubicBezTo>
                  <a:pt x="474" y="284"/>
                  <a:pt x="474" y="283"/>
                  <a:pt x="473" y="282"/>
                </a:cubicBezTo>
                <a:cubicBezTo>
                  <a:pt x="472" y="281"/>
                  <a:pt x="472" y="281"/>
                  <a:pt x="472" y="281"/>
                </a:cubicBezTo>
                <a:cubicBezTo>
                  <a:pt x="472" y="282"/>
                  <a:pt x="472" y="282"/>
                  <a:pt x="472" y="282"/>
                </a:cubicBezTo>
                <a:cubicBezTo>
                  <a:pt x="472" y="283"/>
                  <a:pt x="472" y="283"/>
                  <a:pt x="472" y="283"/>
                </a:cubicBezTo>
                <a:cubicBezTo>
                  <a:pt x="471" y="283"/>
                  <a:pt x="471" y="283"/>
                  <a:pt x="471" y="283"/>
                </a:cubicBezTo>
                <a:cubicBezTo>
                  <a:pt x="470" y="279"/>
                  <a:pt x="476" y="280"/>
                  <a:pt x="474" y="276"/>
                </a:cubicBezTo>
                <a:cubicBezTo>
                  <a:pt x="476" y="274"/>
                  <a:pt x="478" y="273"/>
                  <a:pt x="479" y="271"/>
                </a:cubicBezTo>
                <a:cubicBezTo>
                  <a:pt x="482" y="271"/>
                  <a:pt x="484" y="269"/>
                  <a:pt x="487" y="270"/>
                </a:cubicBezTo>
                <a:cubicBezTo>
                  <a:pt x="487" y="270"/>
                  <a:pt x="488" y="269"/>
                  <a:pt x="488" y="268"/>
                </a:cubicBezTo>
                <a:cubicBezTo>
                  <a:pt x="488" y="266"/>
                  <a:pt x="489" y="263"/>
                  <a:pt x="490" y="261"/>
                </a:cubicBezTo>
                <a:cubicBezTo>
                  <a:pt x="489" y="262"/>
                  <a:pt x="490" y="262"/>
                  <a:pt x="490" y="263"/>
                </a:cubicBezTo>
                <a:cubicBezTo>
                  <a:pt x="490" y="265"/>
                  <a:pt x="492" y="263"/>
                  <a:pt x="493" y="263"/>
                </a:cubicBezTo>
                <a:cubicBezTo>
                  <a:pt x="496" y="260"/>
                  <a:pt x="496" y="256"/>
                  <a:pt x="497" y="252"/>
                </a:cubicBezTo>
                <a:cubicBezTo>
                  <a:pt x="497" y="251"/>
                  <a:pt x="496" y="249"/>
                  <a:pt x="496" y="248"/>
                </a:cubicBezTo>
                <a:cubicBezTo>
                  <a:pt x="495" y="248"/>
                  <a:pt x="495" y="248"/>
                  <a:pt x="495" y="248"/>
                </a:cubicBezTo>
                <a:cubicBezTo>
                  <a:pt x="496" y="246"/>
                  <a:pt x="495" y="245"/>
                  <a:pt x="496" y="242"/>
                </a:cubicBezTo>
                <a:cubicBezTo>
                  <a:pt x="496" y="243"/>
                  <a:pt x="497" y="244"/>
                  <a:pt x="497" y="244"/>
                </a:cubicBezTo>
                <a:close/>
                <a:moveTo>
                  <a:pt x="84" y="257"/>
                </a:moveTo>
                <a:cubicBezTo>
                  <a:pt x="83" y="260"/>
                  <a:pt x="83" y="260"/>
                  <a:pt x="83" y="260"/>
                </a:cubicBezTo>
                <a:cubicBezTo>
                  <a:pt x="82" y="259"/>
                  <a:pt x="80" y="256"/>
                  <a:pt x="83" y="255"/>
                </a:cubicBezTo>
                <a:cubicBezTo>
                  <a:pt x="84" y="254"/>
                  <a:pt x="84" y="256"/>
                  <a:pt x="84" y="257"/>
                </a:cubicBezTo>
                <a:close/>
                <a:moveTo>
                  <a:pt x="266" y="257"/>
                </a:moveTo>
                <a:cubicBezTo>
                  <a:pt x="266" y="258"/>
                  <a:pt x="265" y="258"/>
                  <a:pt x="265" y="258"/>
                </a:cubicBezTo>
                <a:cubicBezTo>
                  <a:pt x="264" y="258"/>
                  <a:pt x="264" y="258"/>
                  <a:pt x="264" y="258"/>
                </a:cubicBezTo>
                <a:cubicBezTo>
                  <a:pt x="263" y="258"/>
                  <a:pt x="265" y="258"/>
                  <a:pt x="266" y="257"/>
                </a:cubicBezTo>
                <a:close/>
                <a:moveTo>
                  <a:pt x="85" y="262"/>
                </a:moveTo>
                <a:cubicBezTo>
                  <a:pt x="84" y="264"/>
                  <a:pt x="85" y="266"/>
                  <a:pt x="85" y="269"/>
                </a:cubicBezTo>
                <a:cubicBezTo>
                  <a:pt x="82" y="270"/>
                  <a:pt x="82" y="270"/>
                  <a:pt x="82" y="270"/>
                </a:cubicBezTo>
                <a:cubicBezTo>
                  <a:pt x="82" y="267"/>
                  <a:pt x="79" y="263"/>
                  <a:pt x="83" y="261"/>
                </a:cubicBezTo>
                <a:cubicBezTo>
                  <a:pt x="84" y="261"/>
                  <a:pt x="84" y="262"/>
                  <a:pt x="85" y="262"/>
                </a:cubicBezTo>
                <a:close/>
                <a:moveTo>
                  <a:pt x="124" y="273"/>
                </a:moveTo>
                <a:cubicBezTo>
                  <a:pt x="127" y="273"/>
                  <a:pt x="127" y="273"/>
                  <a:pt x="127" y="273"/>
                </a:cubicBezTo>
                <a:cubicBezTo>
                  <a:pt x="124" y="273"/>
                  <a:pt x="124" y="273"/>
                  <a:pt x="124" y="273"/>
                </a:cubicBezTo>
                <a:close/>
                <a:moveTo>
                  <a:pt x="486" y="278"/>
                </a:moveTo>
                <a:cubicBezTo>
                  <a:pt x="486" y="278"/>
                  <a:pt x="485" y="279"/>
                  <a:pt x="485" y="280"/>
                </a:cubicBezTo>
                <a:cubicBezTo>
                  <a:pt x="484" y="280"/>
                  <a:pt x="484" y="279"/>
                  <a:pt x="483" y="279"/>
                </a:cubicBezTo>
                <a:cubicBezTo>
                  <a:pt x="482" y="280"/>
                  <a:pt x="481" y="280"/>
                  <a:pt x="481" y="281"/>
                </a:cubicBezTo>
                <a:cubicBezTo>
                  <a:pt x="482" y="282"/>
                  <a:pt x="482" y="282"/>
                  <a:pt x="482" y="282"/>
                </a:cubicBezTo>
                <a:cubicBezTo>
                  <a:pt x="480" y="283"/>
                  <a:pt x="480" y="280"/>
                  <a:pt x="479" y="280"/>
                </a:cubicBezTo>
                <a:cubicBezTo>
                  <a:pt x="479" y="276"/>
                  <a:pt x="483" y="279"/>
                  <a:pt x="484" y="276"/>
                </a:cubicBezTo>
                <a:cubicBezTo>
                  <a:pt x="485" y="277"/>
                  <a:pt x="486" y="277"/>
                  <a:pt x="486" y="278"/>
                </a:cubicBezTo>
                <a:close/>
                <a:moveTo>
                  <a:pt x="138" y="284"/>
                </a:moveTo>
                <a:cubicBezTo>
                  <a:pt x="135" y="286"/>
                  <a:pt x="133" y="283"/>
                  <a:pt x="130" y="284"/>
                </a:cubicBezTo>
                <a:cubicBezTo>
                  <a:pt x="131" y="283"/>
                  <a:pt x="131" y="283"/>
                  <a:pt x="131" y="283"/>
                </a:cubicBezTo>
                <a:cubicBezTo>
                  <a:pt x="133" y="284"/>
                  <a:pt x="136" y="283"/>
                  <a:pt x="138" y="284"/>
                </a:cubicBezTo>
                <a:close/>
                <a:moveTo>
                  <a:pt x="164" y="283"/>
                </a:moveTo>
                <a:cubicBezTo>
                  <a:pt x="164" y="285"/>
                  <a:pt x="162" y="285"/>
                  <a:pt x="160" y="286"/>
                </a:cubicBezTo>
                <a:cubicBezTo>
                  <a:pt x="159" y="286"/>
                  <a:pt x="158" y="286"/>
                  <a:pt x="158" y="285"/>
                </a:cubicBezTo>
                <a:cubicBezTo>
                  <a:pt x="159" y="283"/>
                  <a:pt x="162" y="284"/>
                  <a:pt x="164" y="283"/>
                </a:cubicBezTo>
                <a:close/>
                <a:moveTo>
                  <a:pt x="438" y="285"/>
                </a:moveTo>
                <a:cubicBezTo>
                  <a:pt x="437" y="285"/>
                  <a:pt x="437" y="285"/>
                  <a:pt x="437" y="285"/>
                </a:cubicBezTo>
                <a:cubicBezTo>
                  <a:pt x="438" y="284"/>
                  <a:pt x="438" y="283"/>
                  <a:pt x="437" y="283"/>
                </a:cubicBezTo>
                <a:cubicBezTo>
                  <a:pt x="438" y="283"/>
                  <a:pt x="438" y="283"/>
                  <a:pt x="438" y="283"/>
                </a:cubicBezTo>
                <a:cubicBezTo>
                  <a:pt x="438" y="285"/>
                  <a:pt x="438" y="285"/>
                  <a:pt x="438" y="285"/>
                </a:cubicBezTo>
                <a:close/>
                <a:moveTo>
                  <a:pt x="443" y="292"/>
                </a:moveTo>
                <a:cubicBezTo>
                  <a:pt x="443" y="293"/>
                  <a:pt x="443" y="293"/>
                  <a:pt x="443" y="293"/>
                </a:cubicBezTo>
                <a:cubicBezTo>
                  <a:pt x="442" y="293"/>
                  <a:pt x="441" y="292"/>
                  <a:pt x="442" y="291"/>
                </a:cubicBezTo>
                <a:cubicBezTo>
                  <a:pt x="442" y="291"/>
                  <a:pt x="442" y="291"/>
                  <a:pt x="443" y="292"/>
                </a:cubicBezTo>
                <a:close/>
                <a:moveTo>
                  <a:pt x="432" y="300"/>
                </a:moveTo>
                <a:cubicBezTo>
                  <a:pt x="432" y="301"/>
                  <a:pt x="432" y="302"/>
                  <a:pt x="431" y="302"/>
                </a:cubicBezTo>
                <a:cubicBezTo>
                  <a:pt x="430" y="300"/>
                  <a:pt x="430" y="300"/>
                  <a:pt x="430" y="300"/>
                </a:cubicBezTo>
                <a:cubicBezTo>
                  <a:pt x="431" y="300"/>
                  <a:pt x="431" y="300"/>
                  <a:pt x="432" y="300"/>
                </a:cubicBezTo>
                <a:close/>
                <a:moveTo>
                  <a:pt x="420" y="302"/>
                </a:moveTo>
                <a:cubicBezTo>
                  <a:pt x="419" y="303"/>
                  <a:pt x="418" y="302"/>
                  <a:pt x="417" y="301"/>
                </a:cubicBezTo>
                <a:cubicBezTo>
                  <a:pt x="417" y="301"/>
                  <a:pt x="417" y="301"/>
                  <a:pt x="417" y="301"/>
                </a:cubicBezTo>
                <a:cubicBezTo>
                  <a:pt x="418" y="301"/>
                  <a:pt x="418" y="302"/>
                  <a:pt x="419" y="302"/>
                </a:cubicBezTo>
                <a:cubicBezTo>
                  <a:pt x="420" y="302"/>
                  <a:pt x="419" y="300"/>
                  <a:pt x="420" y="300"/>
                </a:cubicBezTo>
                <a:cubicBezTo>
                  <a:pt x="420" y="302"/>
                  <a:pt x="420" y="302"/>
                  <a:pt x="420" y="302"/>
                </a:cubicBezTo>
                <a:close/>
                <a:moveTo>
                  <a:pt x="418" y="336"/>
                </a:moveTo>
                <a:cubicBezTo>
                  <a:pt x="417" y="338"/>
                  <a:pt x="417" y="341"/>
                  <a:pt x="414" y="342"/>
                </a:cubicBezTo>
                <a:cubicBezTo>
                  <a:pt x="413" y="341"/>
                  <a:pt x="411" y="342"/>
                  <a:pt x="411" y="339"/>
                </a:cubicBezTo>
                <a:cubicBezTo>
                  <a:pt x="411" y="336"/>
                  <a:pt x="415" y="336"/>
                  <a:pt x="418" y="336"/>
                </a:cubicBezTo>
                <a:close/>
                <a:moveTo>
                  <a:pt x="233" y="363"/>
                </a:moveTo>
                <a:cubicBezTo>
                  <a:pt x="233" y="363"/>
                  <a:pt x="233" y="363"/>
                  <a:pt x="234" y="363"/>
                </a:cubicBezTo>
                <a:cubicBezTo>
                  <a:pt x="234" y="363"/>
                  <a:pt x="233" y="365"/>
                  <a:pt x="232" y="364"/>
                </a:cubicBezTo>
                <a:cubicBezTo>
                  <a:pt x="232" y="363"/>
                  <a:pt x="232" y="363"/>
                  <a:pt x="232" y="363"/>
                </a:cubicBezTo>
                <a:cubicBezTo>
                  <a:pt x="232" y="363"/>
                  <a:pt x="232" y="363"/>
                  <a:pt x="233" y="363"/>
                </a:cubicBezTo>
                <a:close/>
                <a:moveTo>
                  <a:pt x="72" y="372"/>
                </a:moveTo>
                <a:cubicBezTo>
                  <a:pt x="71" y="373"/>
                  <a:pt x="71" y="373"/>
                  <a:pt x="71" y="373"/>
                </a:cubicBezTo>
                <a:cubicBezTo>
                  <a:pt x="71" y="373"/>
                  <a:pt x="71" y="373"/>
                  <a:pt x="71" y="373"/>
                </a:cubicBezTo>
                <a:cubicBezTo>
                  <a:pt x="71" y="370"/>
                  <a:pt x="71" y="370"/>
                  <a:pt x="71" y="370"/>
                </a:cubicBezTo>
                <a:cubicBezTo>
                  <a:pt x="71" y="370"/>
                  <a:pt x="71" y="370"/>
                  <a:pt x="71" y="370"/>
                </a:cubicBezTo>
                <a:cubicBezTo>
                  <a:pt x="71" y="371"/>
                  <a:pt x="71" y="372"/>
                  <a:pt x="72" y="372"/>
                </a:cubicBezTo>
                <a:close/>
                <a:moveTo>
                  <a:pt x="471" y="375"/>
                </a:moveTo>
                <a:cubicBezTo>
                  <a:pt x="471" y="377"/>
                  <a:pt x="474" y="380"/>
                  <a:pt x="471" y="382"/>
                </a:cubicBezTo>
                <a:cubicBezTo>
                  <a:pt x="471" y="381"/>
                  <a:pt x="471" y="381"/>
                  <a:pt x="470" y="381"/>
                </a:cubicBezTo>
                <a:cubicBezTo>
                  <a:pt x="469" y="381"/>
                  <a:pt x="468" y="383"/>
                  <a:pt x="470" y="384"/>
                </a:cubicBezTo>
                <a:cubicBezTo>
                  <a:pt x="470" y="385"/>
                  <a:pt x="470" y="385"/>
                  <a:pt x="469" y="386"/>
                </a:cubicBezTo>
                <a:cubicBezTo>
                  <a:pt x="469" y="386"/>
                  <a:pt x="468" y="385"/>
                  <a:pt x="468" y="385"/>
                </a:cubicBezTo>
                <a:cubicBezTo>
                  <a:pt x="467" y="386"/>
                  <a:pt x="466" y="385"/>
                  <a:pt x="466" y="385"/>
                </a:cubicBezTo>
                <a:cubicBezTo>
                  <a:pt x="462" y="383"/>
                  <a:pt x="467" y="379"/>
                  <a:pt x="463" y="379"/>
                </a:cubicBezTo>
                <a:cubicBezTo>
                  <a:pt x="462" y="379"/>
                  <a:pt x="460" y="381"/>
                  <a:pt x="459" y="379"/>
                </a:cubicBezTo>
                <a:cubicBezTo>
                  <a:pt x="459" y="379"/>
                  <a:pt x="458" y="380"/>
                  <a:pt x="458" y="381"/>
                </a:cubicBezTo>
                <a:cubicBezTo>
                  <a:pt x="458" y="381"/>
                  <a:pt x="458" y="381"/>
                  <a:pt x="458" y="381"/>
                </a:cubicBezTo>
                <a:cubicBezTo>
                  <a:pt x="457" y="377"/>
                  <a:pt x="462" y="379"/>
                  <a:pt x="462" y="376"/>
                </a:cubicBezTo>
                <a:cubicBezTo>
                  <a:pt x="462" y="379"/>
                  <a:pt x="465" y="377"/>
                  <a:pt x="467" y="376"/>
                </a:cubicBezTo>
                <a:cubicBezTo>
                  <a:pt x="467" y="375"/>
                  <a:pt x="467" y="375"/>
                  <a:pt x="467" y="375"/>
                </a:cubicBezTo>
                <a:cubicBezTo>
                  <a:pt x="468" y="376"/>
                  <a:pt x="469" y="374"/>
                  <a:pt x="468" y="373"/>
                </a:cubicBezTo>
                <a:cubicBezTo>
                  <a:pt x="470" y="373"/>
                  <a:pt x="471" y="374"/>
                  <a:pt x="471" y="375"/>
                </a:cubicBezTo>
                <a:close/>
                <a:moveTo>
                  <a:pt x="448" y="388"/>
                </a:moveTo>
                <a:cubicBezTo>
                  <a:pt x="447" y="389"/>
                  <a:pt x="445" y="388"/>
                  <a:pt x="445" y="390"/>
                </a:cubicBezTo>
                <a:cubicBezTo>
                  <a:pt x="445" y="390"/>
                  <a:pt x="445" y="390"/>
                  <a:pt x="445" y="390"/>
                </a:cubicBezTo>
                <a:cubicBezTo>
                  <a:pt x="444" y="391"/>
                  <a:pt x="444" y="391"/>
                  <a:pt x="444" y="391"/>
                </a:cubicBezTo>
                <a:cubicBezTo>
                  <a:pt x="444" y="391"/>
                  <a:pt x="443" y="391"/>
                  <a:pt x="443" y="391"/>
                </a:cubicBezTo>
                <a:cubicBezTo>
                  <a:pt x="443" y="392"/>
                  <a:pt x="442" y="393"/>
                  <a:pt x="442" y="395"/>
                </a:cubicBezTo>
                <a:cubicBezTo>
                  <a:pt x="443" y="396"/>
                  <a:pt x="445" y="398"/>
                  <a:pt x="443" y="399"/>
                </a:cubicBezTo>
                <a:cubicBezTo>
                  <a:pt x="447" y="402"/>
                  <a:pt x="447" y="402"/>
                  <a:pt x="447" y="402"/>
                </a:cubicBezTo>
                <a:cubicBezTo>
                  <a:pt x="441" y="402"/>
                  <a:pt x="442" y="409"/>
                  <a:pt x="439" y="412"/>
                </a:cubicBezTo>
                <a:cubicBezTo>
                  <a:pt x="440" y="415"/>
                  <a:pt x="436" y="416"/>
                  <a:pt x="438" y="419"/>
                </a:cubicBezTo>
                <a:cubicBezTo>
                  <a:pt x="438" y="418"/>
                  <a:pt x="438" y="418"/>
                  <a:pt x="438" y="418"/>
                </a:cubicBezTo>
                <a:cubicBezTo>
                  <a:pt x="433" y="423"/>
                  <a:pt x="430" y="412"/>
                  <a:pt x="425" y="418"/>
                </a:cubicBezTo>
                <a:cubicBezTo>
                  <a:pt x="424" y="417"/>
                  <a:pt x="425" y="416"/>
                  <a:pt x="424" y="415"/>
                </a:cubicBezTo>
                <a:cubicBezTo>
                  <a:pt x="423" y="417"/>
                  <a:pt x="421" y="416"/>
                  <a:pt x="419" y="415"/>
                </a:cubicBezTo>
                <a:cubicBezTo>
                  <a:pt x="420" y="414"/>
                  <a:pt x="418" y="412"/>
                  <a:pt x="419" y="411"/>
                </a:cubicBezTo>
                <a:cubicBezTo>
                  <a:pt x="418" y="410"/>
                  <a:pt x="418" y="410"/>
                  <a:pt x="418" y="410"/>
                </a:cubicBezTo>
                <a:cubicBezTo>
                  <a:pt x="418" y="410"/>
                  <a:pt x="418" y="410"/>
                  <a:pt x="418" y="410"/>
                </a:cubicBezTo>
                <a:cubicBezTo>
                  <a:pt x="416" y="408"/>
                  <a:pt x="414" y="403"/>
                  <a:pt x="416" y="400"/>
                </a:cubicBezTo>
                <a:cubicBezTo>
                  <a:pt x="420" y="400"/>
                  <a:pt x="424" y="402"/>
                  <a:pt x="424" y="397"/>
                </a:cubicBezTo>
                <a:cubicBezTo>
                  <a:pt x="430" y="397"/>
                  <a:pt x="430" y="389"/>
                  <a:pt x="436" y="389"/>
                </a:cubicBezTo>
                <a:cubicBezTo>
                  <a:pt x="435" y="388"/>
                  <a:pt x="435" y="388"/>
                  <a:pt x="435" y="388"/>
                </a:cubicBezTo>
                <a:cubicBezTo>
                  <a:pt x="440" y="388"/>
                  <a:pt x="439" y="379"/>
                  <a:pt x="443" y="384"/>
                </a:cubicBezTo>
                <a:cubicBezTo>
                  <a:pt x="443" y="387"/>
                  <a:pt x="446" y="387"/>
                  <a:pt x="448" y="388"/>
                </a:cubicBezTo>
                <a:close/>
                <a:moveTo>
                  <a:pt x="379" y="391"/>
                </a:moveTo>
                <a:cubicBezTo>
                  <a:pt x="383" y="393"/>
                  <a:pt x="385" y="398"/>
                  <a:pt x="389" y="399"/>
                </a:cubicBezTo>
                <a:cubicBezTo>
                  <a:pt x="390" y="400"/>
                  <a:pt x="390" y="400"/>
                  <a:pt x="390" y="400"/>
                </a:cubicBezTo>
                <a:cubicBezTo>
                  <a:pt x="391" y="400"/>
                  <a:pt x="391" y="399"/>
                  <a:pt x="391" y="399"/>
                </a:cubicBezTo>
                <a:cubicBezTo>
                  <a:pt x="391" y="400"/>
                  <a:pt x="391" y="400"/>
                  <a:pt x="391" y="400"/>
                </a:cubicBezTo>
                <a:cubicBezTo>
                  <a:pt x="393" y="402"/>
                  <a:pt x="393" y="402"/>
                  <a:pt x="393" y="402"/>
                </a:cubicBezTo>
                <a:cubicBezTo>
                  <a:pt x="393" y="401"/>
                  <a:pt x="395" y="403"/>
                  <a:pt x="395" y="403"/>
                </a:cubicBezTo>
                <a:cubicBezTo>
                  <a:pt x="396" y="404"/>
                  <a:pt x="395" y="405"/>
                  <a:pt x="396" y="405"/>
                </a:cubicBezTo>
                <a:cubicBezTo>
                  <a:pt x="398" y="405"/>
                  <a:pt x="398" y="405"/>
                  <a:pt x="398" y="405"/>
                </a:cubicBezTo>
                <a:cubicBezTo>
                  <a:pt x="398" y="406"/>
                  <a:pt x="398" y="406"/>
                  <a:pt x="398" y="406"/>
                </a:cubicBezTo>
                <a:cubicBezTo>
                  <a:pt x="397" y="406"/>
                  <a:pt x="397" y="407"/>
                  <a:pt x="397" y="407"/>
                </a:cubicBezTo>
                <a:cubicBezTo>
                  <a:pt x="397" y="407"/>
                  <a:pt x="397" y="407"/>
                  <a:pt x="397" y="408"/>
                </a:cubicBezTo>
                <a:cubicBezTo>
                  <a:pt x="397" y="409"/>
                  <a:pt x="397" y="409"/>
                  <a:pt x="397" y="409"/>
                </a:cubicBezTo>
                <a:cubicBezTo>
                  <a:pt x="401" y="409"/>
                  <a:pt x="399" y="414"/>
                  <a:pt x="403" y="414"/>
                </a:cubicBezTo>
                <a:cubicBezTo>
                  <a:pt x="407" y="417"/>
                  <a:pt x="403" y="421"/>
                  <a:pt x="404" y="425"/>
                </a:cubicBezTo>
                <a:cubicBezTo>
                  <a:pt x="404" y="425"/>
                  <a:pt x="403" y="425"/>
                  <a:pt x="403" y="424"/>
                </a:cubicBezTo>
                <a:cubicBezTo>
                  <a:pt x="403" y="424"/>
                  <a:pt x="402" y="425"/>
                  <a:pt x="402" y="425"/>
                </a:cubicBezTo>
                <a:cubicBezTo>
                  <a:pt x="401" y="425"/>
                  <a:pt x="401" y="424"/>
                  <a:pt x="400" y="425"/>
                </a:cubicBezTo>
                <a:cubicBezTo>
                  <a:pt x="395" y="420"/>
                  <a:pt x="387" y="416"/>
                  <a:pt x="387" y="409"/>
                </a:cubicBezTo>
                <a:cubicBezTo>
                  <a:pt x="386" y="406"/>
                  <a:pt x="381" y="405"/>
                  <a:pt x="382" y="401"/>
                </a:cubicBezTo>
                <a:cubicBezTo>
                  <a:pt x="378" y="397"/>
                  <a:pt x="375" y="392"/>
                  <a:pt x="370" y="389"/>
                </a:cubicBezTo>
                <a:cubicBezTo>
                  <a:pt x="370" y="389"/>
                  <a:pt x="370" y="388"/>
                  <a:pt x="370" y="387"/>
                </a:cubicBezTo>
                <a:cubicBezTo>
                  <a:pt x="372" y="387"/>
                  <a:pt x="374" y="389"/>
                  <a:pt x="377" y="388"/>
                </a:cubicBezTo>
                <a:cubicBezTo>
                  <a:pt x="379" y="391"/>
                  <a:pt x="379" y="391"/>
                  <a:pt x="379" y="391"/>
                </a:cubicBezTo>
                <a:close/>
                <a:moveTo>
                  <a:pt x="480" y="401"/>
                </a:moveTo>
                <a:cubicBezTo>
                  <a:pt x="481" y="402"/>
                  <a:pt x="479" y="402"/>
                  <a:pt x="478" y="403"/>
                </a:cubicBezTo>
                <a:cubicBezTo>
                  <a:pt x="479" y="405"/>
                  <a:pt x="479" y="405"/>
                  <a:pt x="479" y="405"/>
                </a:cubicBezTo>
                <a:cubicBezTo>
                  <a:pt x="479" y="405"/>
                  <a:pt x="477" y="404"/>
                  <a:pt x="477" y="405"/>
                </a:cubicBezTo>
                <a:cubicBezTo>
                  <a:pt x="477" y="407"/>
                  <a:pt x="477" y="407"/>
                  <a:pt x="477" y="407"/>
                </a:cubicBezTo>
                <a:cubicBezTo>
                  <a:pt x="476" y="406"/>
                  <a:pt x="476" y="406"/>
                  <a:pt x="476" y="406"/>
                </a:cubicBezTo>
                <a:cubicBezTo>
                  <a:pt x="477" y="404"/>
                  <a:pt x="475" y="402"/>
                  <a:pt x="476" y="399"/>
                </a:cubicBezTo>
                <a:cubicBezTo>
                  <a:pt x="478" y="402"/>
                  <a:pt x="478" y="402"/>
                  <a:pt x="478" y="402"/>
                </a:cubicBezTo>
                <a:cubicBezTo>
                  <a:pt x="480" y="401"/>
                  <a:pt x="480" y="401"/>
                  <a:pt x="480" y="401"/>
                </a:cubicBezTo>
                <a:close/>
                <a:moveTo>
                  <a:pt x="467" y="403"/>
                </a:moveTo>
                <a:cubicBezTo>
                  <a:pt x="465" y="407"/>
                  <a:pt x="461" y="402"/>
                  <a:pt x="458" y="405"/>
                </a:cubicBezTo>
                <a:cubicBezTo>
                  <a:pt x="456" y="403"/>
                  <a:pt x="454" y="406"/>
                  <a:pt x="452" y="404"/>
                </a:cubicBezTo>
                <a:cubicBezTo>
                  <a:pt x="451" y="405"/>
                  <a:pt x="450" y="406"/>
                  <a:pt x="451" y="408"/>
                </a:cubicBezTo>
                <a:cubicBezTo>
                  <a:pt x="453" y="409"/>
                  <a:pt x="452" y="412"/>
                  <a:pt x="455" y="411"/>
                </a:cubicBezTo>
                <a:cubicBezTo>
                  <a:pt x="456" y="408"/>
                  <a:pt x="460" y="408"/>
                  <a:pt x="463" y="409"/>
                </a:cubicBezTo>
                <a:cubicBezTo>
                  <a:pt x="462" y="409"/>
                  <a:pt x="462" y="409"/>
                  <a:pt x="462" y="409"/>
                </a:cubicBezTo>
                <a:cubicBezTo>
                  <a:pt x="461" y="409"/>
                  <a:pt x="461" y="409"/>
                  <a:pt x="461" y="409"/>
                </a:cubicBezTo>
                <a:cubicBezTo>
                  <a:pt x="460" y="410"/>
                  <a:pt x="458" y="411"/>
                  <a:pt x="456" y="413"/>
                </a:cubicBezTo>
                <a:cubicBezTo>
                  <a:pt x="459" y="415"/>
                  <a:pt x="456" y="420"/>
                  <a:pt x="461" y="420"/>
                </a:cubicBezTo>
                <a:cubicBezTo>
                  <a:pt x="460" y="421"/>
                  <a:pt x="458" y="421"/>
                  <a:pt x="457" y="422"/>
                </a:cubicBezTo>
                <a:cubicBezTo>
                  <a:pt x="457" y="420"/>
                  <a:pt x="452" y="419"/>
                  <a:pt x="455" y="416"/>
                </a:cubicBezTo>
                <a:cubicBezTo>
                  <a:pt x="454" y="416"/>
                  <a:pt x="454" y="415"/>
                  <a:pt x="453" y="415"/>
                </a:cubicBezTo>
                <a:cubicBezTo>
                  <a:pt x="452" y="415"/>
                  <a:pt x="452" y="416"/>
                  <a:pt x="452" y="417"/>
                </a:cubicBezTo>
                <a:cubicBezTo>
                  <a:pt x="452" y="419"/>
                  <a:pt x="452" y="422"/>
                  <a:pt x="452" y="424"/>
                </a:cubicBezTo>
                <a:cubicBezTo>
                  <a:pt x="451" y="425"/>
                  <a:pt x="450" y="424"/>
                  <a:pt x="449" y="425"/>
                </a:cubicBezTo>
                <a:cubicBezTo>
                  <a:pt x="448" y="422"/>
                  <a:pt x="451" y="418"/>
                  <a:pt x="447" y="417"/>
                </a:cubicBezTo>
                <a:cubicBezTo>
                  <a:pt x="447" y="414"/>
                  <a:pt x="449" y="412"/>
                  <a:pt x="449" y="409"/>
                </a:cubicBezTo>
                <a:cubicBezTo>
                  <a:pt x="451" y="409"/>
                  <a:pt x="449" y="406"/>
                  <a:pt x="451" y="405"/>
                </a:cubicBezTo>
                <a:cubicBezTo>
                  <a:pt x="453" y="405"/>
                  <a:pt x="454" y="400"/>
                  <a:pt x="456" y="403"/>
                </a:cubicBezTo>
                <a:cubicBezTo>
                  <a:pt x="459" y="402"/>
                  <a:pt x="460" y="405"/>
                  <a:pt x="462" y="403"/>
                </a:cubicBezTo>
                <a:cubicBezTo>
                  <a:pt x="462" y="404"/>
                  <a:pt x="464" y="404"/>
                  <a:pt x="465" y="403"/>
                </a:cubicBezTo>
                <a:cubicBezTo>
                  <a:pt x="467" y="401"/>
                  <a:pt x="467" y="401"/>
                  <a:pt x="467" y="401"/>
                </a:cubicBezTo>
                <a:cubicBezTo>
                  <a:pt x="469" y="401"/>
                  <a:pt x="467" y="402"/>
                  <a:pt x="467" y="403"/>
                </a:cubicBezTo>
                <a:close/>
                <a:moveTo>
                  <a:pt x="378" y="403"/>
                </a:moveTo>
                <a:cubicBezTo>
                  <a:pt x="377" y="402"/>
                  <a:pt x="377" y="402"/>
                  <a:pt x="377" y="402"/>
                </a:cubicBezTo>
                <a:cubicBezTo>
                  <a:pt x="377" y="401"/>
                  <a:pt x="377" y="401"/>
                  <a:pt x="377" y="401"/>
                </a:cubicBezTo>
                <a:cubicBezTo>
                  <a:pt x="378" y="402"/>
                  <a:pt x="379" y="402"/>
                  <a:pt x="378" y="403"/>
                </a:cubicBezTo>
                <a:close/>
                <a:moveTo>
                  <a:pt x="488" y="407"/>
                </a:moveTo>
                <a:cubicBezTo>
                  <a:pt x="486" y="407"/>
                  <a:pt x="486" y="407"/>
                  <a:pt x="486" y="407"/>
                </a:cubicBezTo>
                <a:cubicBezTo>
                  <a:pt x="487" y="406"/>
                  <a:pt x="488" y="406"/>
                  <a:pt x="488" y="406"/>
                </a:cubicBezTo>
                <a:cubicBezTo>
                  <a:pt x="488" y="407"/>
                  <a:pt x="488" y="407"/>
                  <a:pt x="488" y="407"/>
                </a:cubicBezTo>
                <a:close/>
                <a:moveTo>
                  <a:pt x="498" y="409"/>
                </a:moveTo>
                <a:cubicBezTo>
                  <a:pt x="498" y="411"/>
                  <a:pt x="496" y="416"/>
                  <a:pt x="500" y="417"/>
                </a:cubicBezTo>
                <a:cubicBezTo>
                  <a:pt x="502" y="418"/>
                  <a:pt x="502" y="418"/>
                  <a:pt x="502" y="418"/>
                </a:cubicBezTo>
                <a:cubicBezTo>
                  <a:pt x="503" y="414"/>
                  <a:pt x="508" y="415"/>
                  <a:pt x="509" y="411"/>
                </a:cubicBezTo>
                <a:cubicBezTo>
                  <a:pt x="518" y="414"/>
                  <a:pt x="528" y="416"/>
                  <a:pt x="536" y="422"/>
                </a:cubicBezTo>
                <a:cubicBezTo>
                  <a:pt x="535" y="426"/>
                  <a:pt x="539" y="424"/>
                  <a:pt x="540" y="426"/>
                </a:cubicBezTo>
                <a:cubicBezTo>
                  <a:pt x="541" y="426"/>
                  <a:pt x="542" y="426"/>
                  <a:pt x="542" y="427"/>
                </a:cubicBezTo>
                <a:cubicBezTo>
                  <a:pt x="543" y="429"/>
                  <a:pt x="540" y="428"/>
                  <a:pt x="540" y="429"/>
                </a:cubicBezTo>
                <a:cubicBezTo>
                  <a:pt x="541" y="432"/>
                  <a:pt x="544" y="433"/>
                  <a:pt x="545" y="437"/>
                </a:cubicBezTo>
                <a:cubicBezTo>
                  <a:pt x="547" y="437"/>
                  <a:pt x="547" y="437"/>
                  <a:pt x="547" y="437"/>
                </a:cubicBezTo>
                <a:cubicBezTo>
                  <a:pt x="547" y="437"/>
                  <a:pt x="546" y="437"/>
                  <a:pt x="546" y="438"/>
                </a:cubicBezTo>
                <a:cubicBezTo>
                  <a:pt x="549" y="438"/>
                  <a:pt x="548" y="441"/>
                  <a:pt x="551" y="442"/>
                </a:cubicBezTo>
                <a:cubicBezTo>
                  <a:pt x="546" y="439"/>
                  <a:pt x="540" y="441"/>
                  <a:pt x="538" y="435"/>
                </a:cubicBezTo>
                <a:cubicBezTo>
                  <a:pt x="536" y="433"/>
                  <a:pt x="533" y="432"/>
                  <a:pt x="531" y="431"/>
                </a:cubicBezTo>
                <a:cubicBezTo>
                  <a:pt x="530" y="433"/>
                  <a:pt x="524" y="433"/>
                  <a:pt x="527" y="437"/>
                </a:cubicBezTo>
                <a:cubicBezTo>
                  <a:pt x="525" y="438"/>
                  <a:pt x="522" y="436"/>
                  <a:pt x="519" y="437"/>
                </a:cubicBezTo>
                <a:cubicBezTo>
                  <a:pt x="518" y="432"/>
                  <a:pt x="513" y="433"/>
                  <a:pt x="510" y="434"/>
                </a:cubicBezTo>
                <a:cubicBezTo>
                  <a:pt x="510" y="433"/>
                  <a:pt x="510" y="431"/>
                  <a:pt x="512" y="431"/>
                </a:cubicBezTo>
                <a:cubicBezTo>
                  <a:pt x="512" y="431"/>
                  <a:pt x="512" y="432"/>
                  <a:pt x="513" y="431"/>
                </a:cubicBezTo>
                <a:cubicBezTo>
                  <a:pt x="514" y="428"/>
                  <a:pt x="511" y="425"/>
                  <a:pt x="509" y="423"/>
                </a:cubicBezTo>
                <a:cubicBezTo>
                  <a:pt x="505" y="421"/>
                  <a:pt x="500" y="421"/>
                  <a:pt x="496" y="417"/>
                </a:cubicBezTo>
                <a:cubicBezTo>
                  <a:pt x="495" y="417"/>
                  <a:pt x="495" y="419"/>
                  <a:pt x="495" y="41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494" y="417"/>
                  <a:pt x="492" y="417"/>
                  <a:pt x="491" y="415"/>
                </a:cubicBezTo>
                <a:cubicBezTo>
                  <a:pt x="494" y="416"/>
                  <a:pt x="495" y="415"/>
                  <a:pt x="497" y="414"/>
                </a:cubicBezTo>
                <a:cubicBezTo>
                  <a:pt x="497" y="410"/>
                  <a:pt x="494" y="414"/>
                  <a:pt x="491" y="413"/>
                </a:cubicBezTo>
                <a:cubicBezTo>
                  <a:pt x="491" y="411"/>
                  <a:pt x="489" y="410"/>
                  <a:pt x="487" y="410"/>
                </a:cubicBezTo>
                <a:cubicBezTo>
                  <a:pt x="487" y="409"/>
                  <a:pt x="487" y="409"/>
                  <a:pt x="487" y="409"/>
                </a:cubicBezTo>
                <a:cubicBezTo>
                  <a:pt x="487" y="410"/>
                  <a:pt x="488" y="410"/>
                  <a:pt x="488" y="410"/>
                </a:cubicBezTo>
                <a:cubicBezTo>
                  <a:pt x="490" y="408"/>
                  <a:pt x="492" y="407"/>
                  <a:pt x="494" y="407"/>
                </a:cubicBezTo>
                <a:cubicBezTo>
                  <a:pt x="495" y="409"/>
                  <a:pt x="496" y="408"/>
                  <a:pt x="498" y="409"/>
                </a:cubicBezTo>
                <a:close/>
                <a:moveTo>
                  <a:pt x="383" y="411"/>
                </a:moveTo>
                <a:cubicBezTo>
                  <a:pt x="383" y="411"/>
                  <a:pt x="383" y="411"/>
                  <a:pt x="383" y="411"/>
                </a:cubicBezTo>
                <a:cubicBezTo>
                  <a:pt x="381" y="410"/>
                  <a:pt x="381" y="410"/>
                  <a:pt x="381" y="410"/>
                </a:cubicBezTo>
                <a:cubicBezTo>
                  <a:pt x="382" y="409"/>
                  <a:pt x="382" y="410"/>
                  <a:pt x="383" y="411"/>
                </a:cubicBezTo>
                <a:close/>
                <a:moveTo>
                  <a:pt x="407" y="416"/>
                </a:moveTo>
                <a:cubicBezTo>
                  <a:pt x="404" y="416"/>
                  <a:pt x="406" y="413"/>
                  <a:pt x="403" y="413"/>
                </a:cubicBezTo>
                <a:cubicBezTo>
                  <a:pt x="406" y="410"/>
                  <a:pt x="405" y="415"/>
                  <a:pt x="407" y="416"/>
                </a:cubicBezTo>
                <a:close/>
                <a:moveTo>
                  <a:pt x="412" y="416"/>
                </a:moveTo>
                <a:cubicBezTo>
                  <a:pt x="412" y="417"/>
                  <a:pt x="411" y="417"/>
                  <a:pt x="411" y="417"/>
                </a:cubicBezTo>
                <a:cubicBezTo>
                  <a:pt x="411" y="415"/>
                  <a:pt x="411" y="415"/>
                  <a:pt x="411" y="415"/>
                </a:cubicBezTo>
                <a:cubicBezTo>
                  <a:pt x="412" y="415"/>
                  <a:pt x="413" y="415"/>
                  <a:pt x="412" y="416"/>
                </a:cubicBezTo>
                <a:close/>
                <a:moveTo>
                  <a:pt x="556" y="417"/>
                </a:moveTo>
                <a:cubicBezTo>
                  <a:pt x="554" y="415"/>
                  <a:pt x="554" y="415"/>
                  <a:pt x="554" y="415"/>
                </a:cubicBezTo>
                <a:cubicBezTo>
                  <a:pt x="556" y="416"/>
                  <a:pt x="556" y="416"/>
                  <a:pt x="556" y="416"/>
                </a:cubicBezTo>
                <a:cubicBezTo>
                  <a:pt x="556" y="417"/>
                  <a:pt x="556" y="417"/>
                  <a:pt x="556" y="417"/>
                </a:cubicBezTo>
                <a:close/>
                <a:moveTo>
                  <a:pt x="486" y="417"/>
                </a:moveTo>
                <a:cubicBezTo>
                  <a:pt x="486" y="419"/>
                  <a:pt x="486" y="419"/>
                  <a:pt x="486" y="419"/>
                </a:cubicBezTo>
                <a:cubicBezTo>
                  <a:pt x="485" y="417"/>
                  <a:pt x="482" y="417"/>
                  <a:pt x="480" y="417"/>
                </a:cubicBezTo>
                <a:cubicBezTo>
                  <a:pt x="480" y="417"/>
                  <a:pt x="479" y="417"/>
                  <a:pt x="479" y="417"/>
                </a:cubicBezTo>
                <a:cubicBezTo>
                  <a:pt x="478" y="417"/>
                  <a:pt x="478" y="417"/>
                  <a:pt x="478" y="417"/>
                </a:cubicBezTo>
                <a:cubicBezTo>
                  <a:pt x="478" y="417"/>
                  <a:pt x="478" y="417"/>
                  <a:pt x="478" y="417"/>
                </a:cubicBezTo>
                <a:cubicBezTo>
                  <a:pt x="479" y="415"/>
                  <a:pt x="483" y="416"/>
                  <a:pt x="485" y="417"/>
                </a:cubicBezTo>
                <a:cubicBezTo>
                  <a:pt x="485" y="417"/>
                  <a:pt x="486" y="417"/>
                  <a:pt x="486" y="417"/>
                </a:cubicBezTo>
                <a:close/>
                <a:moveTo>
                  <a:pt x="475" y="418"/>
                </a:moveTo>
                <a:cubicBezTo>
                  <a:pt x="474" y="419"/>
                  <a:pt x="472" y="418"/>
                  <a:pt x="471" y="418"/>
                </a:cubicBezTo>
                <a:cubicBezTo>
                  <a:pt x="471" y="418"/>
                  <a:pt x="471" y="418"/>
                  <a:pt x="471" y="418"/>
                </a:cubicBezTo>
                <a:cubicBezTo>
                  <a:pt x="471" y="418"/>
                  <a:pt x="474" y="415"/>
                  <a:pt x="475" y="418"/>
                </a:cubicBezTo>
                <a:close/>
                <a:moveTo>
                  <a:pt x="560" y="421"/>
                </a:moveTo>
                <a:cubicBezTo>
                  <a:pt x="559" y="418"/>
                  <a:pt x="559" y="418"/>
                  <a:pt x="559" y="418"/>
                </a:cubicBezTo>
                <a:cubicBezTo>
                  <a:pt x="560" y="419"/>
                  <a:pt x="560" y="419"/>
                  <a:pt x="560" y="419"/>
                </a:cubicBezTo>
                <a:cubicBezTo>
                  <a:pt x="560" y="421"/>
                  <a:pt x="560" y="421"/>
                  <a:pt x="560" y="421"/>
                </a:cubicBezTo>
                <a:close/>
                <a:moveTo>
                  <a:pt x="557" y="420"/>
                </a:moveTo>
                <a:cubicBezTo>
                  <a:pt x="558" y="421"/>
                  <a:pt x="558" y="421"/>
                  <a:pt x="558" y="421"/>
                </a:cubicBezTo>
                <a:cubicBezTo>
                  <a:pt x="557" y="422"/>
                  <a:pt x="556" y="422"/>
                  <a:pt x="556" y="423"/>
                </a:cubicBezTo>
                <a:cubicBezTo>
                  <a:pt x="557" y="424"/>
                  <a:pt x="557" y="424"/>
                  <a:pt x="557" y="424"/>
                </a:cubicBezTo>
                <a:cubicBezTo>
                  <a:pt x="555" y="424"/>
                  <a:pt x="554" y="426"/>
                  <a:pt x="552" y="427"/>
                </a:cubicBezTo>
                <a:cubicBezTo>
                  <a:pt x="549" y="427"/>
                  <a:pt x="546" y="427"/>
                  <a:pt x="544" y="425"/>
                </a:cubicBezTo>
                <a:cubicBezTo>
                  <a:pt x="549" y="422"/>
                  <a:pt x="556" y="427"/>
                  <a:pt x="556" y="420"/>
                </a:cubicBezTo>
                <a:cubicBezTo>
                  <a:pt x="556" y="421"/>
                  <a:pt x="556" y="421"/>
                  <a:pt x="556" y="421"/>
                </a:cubicBezTo>
                <a:cubicBezTo>
                  <a:pt x="557" y="420"/>
                  <a:pt x="557" y="420"/>
                  <a:pt x="557" y="420"/>
                </a:cubicBezTo>
                <a:close/>
                <a:moveTo>
                  <a:pt x="498" y="429"/>
                </a:moveTo>
                <a:cubicBezTo>
                  <a:pt x="497" y="427"/>
                  <a:pt x="498" y="427"/>
                  <a:pt x="499" y="426"/>
                </a:cubicBezTo>
                <a:cubicBezTo>
                  <a:pt x="498" y="425"/>
                  <a:pt x="498" y="425"/>
                  <a:pt x="498" y="425"/>
                </a:cubicBezTo>
                <a:cubicBezTo>
                  <a:pt x="499" y="425"/>
                  <a:pt x="499" y="425"/>
                  <a:pt x="499" y="425"/>
                </a:cubicBezTo>
                <a:cubicBezTo>
                  <a:pt x="498" y="429"/>
                  <a:pt x="498" y="429"/>
                  <a:pt x="498" y="429"/>
                </a:cubicBezTo>
                <a:cubicBezTo>
                  <a:pt x="498" y="429"/>
                  <a:pt x="498" y="429"/>
                  <a:pt x="498" y="429"/>
                </a:cubicBezTo>
                <a:close/>
                <a:moveTo>
                  <a:pt x="568" y="429"/>
                </a:moveTo>
                <a:cubicBezTo>
                  <a:pt x="568" y="428"/>
                  <a:pt x="565" y="427"/>
                  <a:pt x="566" y="425"/>
                </a:cubicBezTo>
                <a:cubicBezTo>
                  <a:pt x="567" y="426"/>
                  <a:pt x="571" y="426"/>
                  <a:pt x="568" y="429"/>
                </a:cubicBezTo>
                <a:close/>
                <a:moveTo>
                  <a:pt x="408" y="427"/>
                </a:moveTo>
                <a:cubicBezTo>
                  <a:pt x="409" y="425"/>
                  <a:pt x="411" y="427"/>
                  <a:pt x="412" y="427"/>
                </a:cubicBezTo>
                <a:cubicBezTo>
                  <a:pt x="413" y="430"/>
                  <a:pt x="417" y="429"/>
                  <a:pt x="419" y="430"/>
                </a:cubicBezTo>
                <a:cubicBezTo>
                  <a:pt x="420" y="429"/>
                  <a:pt x="421" y="429"/>
                  <a:pt x="421" y="428"/>
                </a:cubicBezTo>
                <a:cubicBezTo>
                  <a:pt x="424" y="429"/>
                  <a:pt x="426" y="430"/>
                  <a:pt x="429" y="433"/>
                </a:cubicBezTo>
                <a:cubicBezTo>
                  <a:pt x="429" y="432"/>
                  <a:pt x="430" y="433"/>
                  <a:pt x="431" y="432"/>
                </a:cubicBezTo>
                <a:cubicBezTo>
                  <a:pt x="432" y="434"/>
                  <a:pt x="434" y="434"/>
                  <a:pt x="435" y="434"/>
                </a:cubicBezTo>
                <a:cubicBezTo>
                  <a:pt x="435" y="435"/>
                  <a:pt x="435" y="435"/>
                  <a:pt x="435" y="435"/>
                </a:cubicBezTo>
                <a:cubicBezTo>
                  <a:pt x="434" y="435"/>
                  <a:pt x="433" y="433"/>
                  <a:pt x="431" y="434"/>
                </a:cubicBezTo>
                <a:cubicBezTo>
                  <a:pt x="431" y="435"/>
                  <a:pt x="431" y="435"/>
                  <a:pt x="431" y="435"/>
                </a:cubicBezTo>
                <a:cubicBezTo>
                  <a:pt x="430" y="434"/>
                  <a:pt x="428" y="433"/>
                  <a:pt x="426" y="434"/>
                </a:cubicBezTo>
                <a:cubicBezTo>
                  <a:pt x="422" y="434"/>
                  <a:pt x="417" y="432"/>
                  <a:pt x="414" y="431"/>
                </a:cubicBezTo>
                <a:cubicBezTo>
                  <a:pt x="411" y="434"/>
                  <a:pt x="410" y="429"/>
                  <a:pt x="407" y="431"/>
                </a:cubicBezTo>
                <a:cubicBezTo>
                  <a:pt x="407" y="430"/>
                  <a:pt x="406" y="429"/>
                  <a:pt x="405" y="429"/>
                </a:cubicBezTo>
                <a:cubicBezTo>
                  <a:pt x="405" y="428"/>
                  <a:pt x="404" y="429"/>
                  <a:pt x="404" y="429"/>
                </a:cubicBezTo>
                <a:cubicBezTo>
                  <a:pt x="405" y="428"/>
                  <a:pt x="405" y="425"/>
                  <a:pt x="408" y="427"/>
                </a:cubicBezTo>
                <a:close/>
                <a:moveTo>
                  <a:pt x="574" y="430"/>
                </a:moveTo>
                <a:cubicBezTo>
                  <a:pt x="572" y="429"/>
                  <a:pt x="572" y="429"/>
                  <a:pt x="572" y="429"/>
                </a:cubicBezTo>
                <a:cubicBezTo>
                  <a:pt x="572" y="429"/>
                  <a:pt x="572" y="429"/>
                  <a:pt x="572" y="429"/>
                </a:cubicBezTo>
                <a:cubicBezTo>
                  <a:pt x="574" y="430"/>
                  <a:pt x="574" y="430"/>
                  <a:pt x="574" y="430"/>
                </a:cubicBezTo>
                <a:close/>
                <a:moveTo>
                  <a:pt x="430" y="430"/>
                </a:moveTo>
                <a:cubicBezTo>
                  <a:pt x="429" y="430"/>
                  <a:pt x="428" y="431"/>
                  <a:pt x="427" y="430"/>
                </a:cubicBezTo>
                <a:cubicBezTo>
                  <a:pt x="430" y="430"/>
                  <a:pt x="430" y="430"/>
                  <a:pt x="430" y="430"/>
                </a:cubicBezTo>
                <a:close/>
                <a:moveTo>
                  <a:pt x="489" y="431"/>
                </a:moveTo>
                <a:cubicBezTo>
                  <a:pt x="489" y="432"/>
                  <a:pt x="489" y="433"/>
                  <a:pt x="488" y="433"/>
                </a:cubicBezTo>
                <a:cubicBezTo>
                  <a:pt x="488" y="432"/>
                  <a:pt x="488" y="431"/>
                  <a:pt x="489" y="431"/>
                </a:cubicBezTo>
                <a:close/>
                <a:moveTo>
                  <a:pt x="472" y="432"/>
                </a:moveTo>
                <a:cubicBezTo>
                  <a:pt x="472" y="433"/>
                  <a:pt x="471" y="432"/>
                  <a:pt x="470" y="432"/>
                </a:cubicBezTo>
                <a:cubicBezTo>
                  <a:pt x="472" y="432"/>
                  <a:pt x="472" y="432"/>
                  <a:pt x="472" y="432"/>
                </a:cubicBezTo>
                <a:close/>
                <a:moveTo>
                  <a:pt x="581" y="434"/>
                </a:moveTo>
                <a:cubicBezTo>
                  <a:pt x="579" y="432"/>
                  <a:pt x="579" y="432"/>
                  <a:pt x="579" y="432"/>
                </a:cubicBezTo>
                <a:cubicBezTo>
                  <a:pt x="579" y="433"/>
                  <a:pt x="581" y="432"/>
                  <a:pt x="581" y="434"/>
                </a:cubicBezTo>
                <a:close/>
                <a:moveTo>
                  <a:pt x="447" y="435"/>
                </a:moveTo>
                <a:cubicBezTo>
                  <a:pt x="446" y="436"/>
                  <a:pt x="446" y="436"/>
                  <a:pt x="446" y="436"/>
                </a:cubicBezTo>
                <a:cubicBezTo>
                  <a:pt x="445" y="436"/>
                  <a:pt x="442" y="436"/>
                  <a:pt x="440" y="437"/>
                </a:cubicBezTo>
                <a:cubicBezTo>
                  <a:pt x="440" y="435"/>
                  <a:pt x="440" y="435"/>
                  <a:pt x="440" y="435"/>
                </a:cubicBezTo>
                <a:cubicBezTo>
                  <a:pt x="442" y="434"/>
                  <a:pt x="443" y="437"/>
                  <a:pt x="445" y="435"/>
                </a:cubicBezTo>
                <a:cubicBezTo>
                  <a:pt x="443" y="434"/>
                  <a:pt x="443" y="434"/>
                  <a:pt x="443" y="434"/>
                </a:cubicBezTo>
                <a:cubicBezTo>
                  <a:pt x="444" y="435"/>
                  <a:pt x="447" y="433"/>
                  <a:pt x="447" y="435"/>
                </a:cubicBezTo>
                <a:close/>
                <a:moveTo>
                  <a:pt x="460" y="434"/>
                </a:moveTo>
                <a:cubicBezTo>
                  <a:pt x="459" y="437"/>
                  <a:pt x="454" y="434"/>
                  <a:pt x="452" y="436"/>
                </a:cubicBezTo>
                <a:cubicBezTo>
                  <a:pt x="451" y="435"/>
                  <a:pt x="450" y="436"/>
                  <a:pt x="450" y="435"/>
                </a:cubicBezTo>
                <a:cubicBezTo>
                  <a:pt x="453" y="432"/>
                  <a:pt x="457" y="437"/>
                  <a:pt x="460" y="434"/>
                </a:cubicBezTo>
                <a:close/>
                <a:moveTo>
                  <a:pt x="439" y="435"/>
                </a:moveTo>
                <a:cubicBezTo>
                  <a:pt x="438" y="435"/>
                  <a:pt x="438" y="436"/>
                  <a:pt x="438" y="436"/>
                </a:cubicBezTo>
                <a:cubicBezTo>
                  <a:pt x="437" y="435"/>
                  <a:pt x="437" y="435"/>
                  <a:pt x="437" y="435"/>
                </a:cubicBezTo>
                <a:cubicBezTo>
                  <a:pt x="438" y="435"/>
                  <a:pt x="438" y="434"/>
                  <a:pt x="439" y="434"/>
                </a:cubicBezTo>
                <a:cubicBezTo>
                  <a:pt x="439" y="435"/>
                  <a:pt x="439" y="435"/>
                  <a:pt x="439" y="435"/>
                </a:cubicBezTo>
                <a:close/>
                <a:moveTo>
                  <a:pt x="587" y="438"/>
                </a:moveTo>
                <a:cubicBezTo>
                  <a:pt x="586" y="437"/>
                  <a:pt x="584" y="436"/>
                  <a:pt x="585" y="435"/>
                </a:cubicBezTo>
                <a:cubicBezTo>
                  <a:pt x="585" y="436"/>
                  <a:pt x="587" y="437"/>
                  <a:pt x="587" y="438"/>
                </a:cubicBezTo>
                <a:close/>
                <a:moveTo>
                  <a:pt x="474" y="435"/>
                </a:moveTo>
                <a:cubicBezTo>
                  <a:pt x="470" y="437"/>
                  <a:pt x="466" y="439"/>
                  <a:pt x="462" y="441"/>
                </a:cubicBezTo>
                <a:cubicBezTo>
                  <a:pt x="463" y="436"/>
                  <a:pt x="469" y="435"/>
                  <a:pt x="474" y="435"/>
                </a:cubicBezTo>
                <a:close/>
                <a:moveTo>
                  <a:pt x="452" y="440"/>
                </a:moveTo>
                <a:cubicBezTo>
                  <a:pt x="452" y="441"/>
                  <a:pt x="451" y="441"/>
                  <a:pt x="451" y="441"/>
                </a:cubicBezTo>
                <a:cubicBezTo>
                  <a:pt x="450" y="439"/>
                  <a:pt x="448" y="439"/>
                  <a:pt x="447" y="438"/>
                </a:cubicBezTo>
                <a:cubicBezTo>
                  <a:pt x="448" y="438"/>
                  <a:pt x="451" y="438"/>
                  <a:pt x="452" y="440"/>
                </a:cubicBezTo>
                <a:close/>
                <a:moveTo>
                  <a:pt x="584" y="439"/>
                </a:moveTo>
                <a:cubicBezTo>
                  <a:pt x="584" y="439"/>
                  <a:pt x="584" y="439"/>
                  <a:pt x="584" y="439"/>
                </a:cubicBezTo>
                <a:cubicBezTo>
                  <a:pt x="584" y="438"/>
                  <a:pt x="581" y="440"/>
                  <a:pt x="581" y="438"/>
                </a:cubicBezTo>
                <a:cubicBezTo>
                  <a:pt x="583" y="437"/>
                  <a:pt x="583" y="438"/>
                  <a:pt x="584" y="439"/>
                </a:cubicBezTo>
                <a:close/>
                <a:moveTo>
                  <a:pt x="589" y="443"/>
                </a:moveTo>
                <a:cubicBezTo>
                  <a:pt x="587" y="442"/>
                  <a:pt x="587" y="442"/>
                  <a:pt x="587" y="442"/>
                </a:cubicBezTo>
                <a:cubicBezTo>
                  <a:pt x="589" y="442"/>
                  <a:pt x="589" y="442"/>
                  <a:pt x="589" y="442"/>
                </a:cubicBezTo>
                <a:cubicBezTo>
                  <a:pt x="589" y="443"/>
                  <a:pt x="589" y="443"/>
                  <a:pt x="589" y="443"/>
                </a:cubicBezTo>
                <a:close/>
                <a:moveTo>
                  <a:pt x="525" y="444"/>
                </a:moveTo>
                <a:cubicBezTo>
                  <a:pt x="526" y="448"/>
                  <a:pt x="526" y="452"/>
                  <a:pt x="528" y="456"/>
                </a:cubicBezTo>
                <a:cubicBezTo>
                  <a:pt x="529" y="456"/>
                  <a:pt x="529" y="455"/>
                  <a:pt x="530" y="455"/>
                </a:cubicBezTo>
                <a:cubicBezTo>
                  <a:pt x="534" y="458"/>
                  <a:pt x="530" y="464"/>
                  <a:pt x="534" y="466"/>
                </a:cubicBezTo>
                <a:cubicBezTo>
                  <a:pt x="533" y="468"/>
                  <a:pt x="534" y="471"/>
                  <a:pt x="534" y="472"/>
                </a:cubicBezTo>
                <a:cubicBezTo>
                  <a:pt x="534" y="474"/>
                  <a:pt x="536" y="474"/>
                  <a:pt x="538" y="475"/>
                </a:cubicBezTo>
                <a:cubicBezTo>
                  <a:pt x="537" y="477"/>
                  <a:pt x="543" y="477"/>
                  <a:pt x="541" y="480"/>
                </a:cubicBezTo>
                <a:cubicBezTo>
                  <a:pt x="544" y="482"/>
                  <a:pt x="541" y="484"/>
                  <a:pt x="544" y="487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486"/>
                  <a:pt x="545" y="486"/>
                  <a:pt x="546" y="487"/>
                </a:cubicBezTo>
                <a:cubicBezTo>
                  <a:pt x="547" y="487"/>
                  <a:pt x="547" y="487"/>
                  <a:pt x="547" y="487"/>
                </a:cubicBezTo>
                <a:cubicBezTo>
                  <a:pt x="545" y="493"/>
                  <a:pt x="551" y="493"/>
                  <a:pt x="552" y="499"/>
                </a:cubicBezTo>
                <a:cubicBezTo>
                  <a:pt x="554" y="498"/>
                  <a:pt x="554" y="498"/>
                  <a:pt x="554" y="498"/>
                </a:cubicBezTo>
                <a:cubicBezTo>
                  <a:pt x="551" y="500"/>
                  <a:pt x="554" y="504"/>
                  <a:pt x="551" y="507"/>
                </a:cubicBezTo>
                <a:cubicBezTo>
                  <a:pt x="553" y="508"/>
                  <a:pt x="552" y="512"/>
                  <a:pt x="552" y="514"/>
                </a:cubicBezTo>
                <a:cubicBezTo>
                  <a:pt x="548" y="517"/>
                  <a:pt x="550" y="524"/>
                  <a:pt x="546" y="527"/>
                </a:cubicBezTo>
                <a:cubicBezTo>
                  <a:pt x="546" y="529"/>
                  <a:pt x="545" y="529"/>
                  <a:pt x="544" y="530"/>
                </a:cubicBezTo>
                <a:cubicBezTo>
                  <a:pt x="540" y="536"/>
                  <a:pt x="535" y="541"/>
                  <a:pt x="533" y="548"/>
                </a:cubicBezTo>
                <a:cubicBezTo>
                  <a:pt x="531" y="550"/>
                  <a:pt x="533" y="554"/>
                  <a:pt x="530" y="554"/>
                </a:cubicBezTo>
                <a:cubicBezTo>
                  <a:pt x="527" y="553"/>
                  <a:pt x="525" y="554"/>
                  <a:pt x="523" y="555"/>
                </a:cubicBezTo>
                <a:cubicBezTo>
                  <a:pt x="522" y="557"/>
                  <a:pt x="518" y="557"/>
                  <a:pt x="518" y="559"/>
                </a:cubicBezTo>
                <a:cubicBezTo>
                  <a:pt x="517" y="559"/>
                  <a:pt x="516" y="558"/>
                  <a:pt x="516" y="556"/>
                </a:cubicBezTo>
                <a:cubicBezTo>
                  <a:pt x="517" y="556"/>
                  <a:pt x="517" y="556"/>
                  <a:pt x="517" y="556"/>
                </a:cubicBezTo>
                <a:cubicBezTo>
                  <a:pt x="516" y="554"/>
                  <a:pt x="515" y="556"/>
                  <a:pt x="515" y="556"/>
                </a:cubicBezTo>
                <a:cubicBezTo>
                  <a:pt x="515" y="555"/>
                  <a:pt x="516" y="555"/>
                  <a:pt x="516" y="554"/>
                </a:cubicBezTo>
                <a:cubicBezTo>
                  <a:pt x="515" y="554"/>
                  <a:pt x="515" y="553"/>
                  <a:pt x="514" y="553"/>
                </a:cubicBezTo>
                <a:cubicBezTo>
                  <a:pt x="514" y="556"/>
                  <a:pt x="511" y="556"/>
                  <a:pt x="509" y="558"/>
                </a:cubicBezTo>
                <a:cubicBezTo>
                  <a:pt x="506" y="553"/>
                  <a:pt x="499" y="555"/>
                  <a:pt x="499" y="548"/>
                </a:cubicBezTo>
                <a:cubicBezTo>
                  <a:pt x="501" y="547"/>
                  <a:pt x="501" y="544"/>
                  <a:pt x="500" y="543"/>
                </a:cubicBezTo>
                <a:cubicBezTo>
                  <a:pt x="499" y="542"/>
                  <a:pt x="499" y="542"/>
                  <a:pt x="499" y="541"/>
                </a:cubicBezTo>
                <a:cubicBezTo>
                  <a:pt x="500" y="540"/>
                  <a:pt x="500" y="540"/>
                  <a:pt x="500" y="540"/>
                </a:cubicBezTo>
                <a:cubicBezTo>
                  <a:pt x="499" y="539"/>
                  <a:pt x="498" y="541"/>
                  <a:pt x="496" y="540"/>
                </a:cubicBezTo>
                <a:cubicBezTo>
                  <a:pt x="498" y="538"/>
                  <a:pt x="498" y="537"/>
                  <a:pt x="497" y="534"/>
                </a:cubicBezTo>
                <a:cubicBezTo>
                  <a:pt x="496" y="536"/>
                  <a:pt x="496" y="539"/>
                  <a:pt x="492" y="539"/>
                </a:cubicBezTo>
                <a:cubicBezTo>
                  <a:pt x="495" y="536"/>
                  <a:pt x="496" y="532"/>
                  <a:pt x="498" y="529"/>
                </a:cubicBezTo>
                <a:cubicBezTo>
                  <a:pt x="498" y="528"/>
                  <a:pt x="497" y="528"/>
                  <a:pt x="496" y="528"/>
                </a:cubicBezTo>
                <a:cubicBezTo>
                  <a:pt x="495" y="532"/>
                  <a:pt x="490" y="533"/>
                  <a:pt x="488" y="536"/>
                </a:cubicBezTo>
                <a:cubicBezTo>
                  <a:pt x="488" y="535"/>
                  <a:pt x="489" y="533"/>
                  <a:pt x="488" y="531"/>
                </a:cubicBezTo>
                <a:cubicBezTo>
                  <a:pt x="488" y="530"/>
                  <a:pt x="486" y="529"/>
                  <a:pt x="486" y="528"/>
                </a:cubicBezTo>
                <a:cubicBezTo>
                  <a:pt x="486" y="527"/>
                  <a:pt x="486" y="527"/>
                  <a:pt x="486" y="526"/>
                </a:cubicBezTo>
                <a:cubicBezTo>
                  <a:pt x="485" y="524"/>
                  <a:pt x="482" y="524"/>
                  <a:pt x="480" y="523"/>
                </a:cubicBezTo>
                <a:cubicBezTo>
                  <a:pt x="480" y="524"/>
                  <a:pt x="480" y="524"/>
                  <a:pt x="480" y="524"/>
                </a:cubicBezTo>
                <a:cubicBezTo>
                  <a:pt x="477" y="521"/>
                  <a:pt x="477" y="521"/>
                  <a:pt x="477" y="521"/>
                </a:cubicBezTo>
                <a:cubicBezTo>
                  <a:pt x="475" y="523"/>
                  <a:pt x="474" y="520"/>
                  <a:pt x="472" y="521"/>
                </a:cubicBezTo>
                <a:cubicBezTo>
                  <a:pt x="468" y="521"/>
                  <a:pt x="464" y="526"/>
                  <a:pt x="459" y="523"/>
                </a:cubicBezTo>
                <a:cubicBezTo>
                  <a:pt x="456" y="527"/>
                  <a:pt x="451" y="525"/>
                  <a:pt x="450" y="530"/>
                </a:cubicBezTo>
                <a:cubicBezTo>
                  <a:pt x="445" y="529"/>
                  <a:pt x="439" y="529"/>
                  <a:pt x="435" y="532"/>
                </a:cubicBezTo>
                <a:cubicBezTo>
                  <a:pt x="434" y="532"/>
                  <a:pt x="432" y="533"/>
                  <a:pt x="431" y="534"/>
                </a:cubicBezTo>
                <a:cubicBezTo>
                  <a:pt x="427" y="535"/>
                  <a:pt x="425" y="532"/>
                  <a:pt x="423" y="530"/>
                </a:cubicBezTo>
                <a:cubicBezTo>
                  <a:pt x="423" y="528"/>
                  <a:pt x="425" y="527"/>
                  <a:pt x="426" y="524"/>
                </a:cubicBezTo>
                <a:cubicBezTo>
                  <a:pt x="426" y="518"/>
                  <a:pt x="427" y="512"/>
                  <a:pt x="425" y="507"/>
                </a:cubicBezTo>
                <a:cubicBezTo>
                  <a:pt x="425" y="504"/>
                  <a:pt x="424" y="501"/>
                  <a:pt x="422" y="499"/>
                </a:cubicBezTo>
                <a:cubicBezTo>
                  <a:pt x="423" y="500"/>
                  <a:pt x="423" y="501"/>
                  <a:pt x="424" y="500"/>
                </a:cubicBezTo>
                <a:cubicBezTo>
                  <a:pt x="426" y="499"/>
                  <a:pt x="423" y="498"/>
                  <a:pt x="423" y="497"/>
                </a:cubicBezTo>
                <a:cubicBezTo>
                  <a:pt x="425" y="499"/>
                  <a:pt x="425" y="499"/>
                  <a:pt x="425" y="499"/>
                </a:cubicBezTo>
                <a:cubicBezTo>
                  <a:pt x="426" y="497"/>
                  <a:pt x="424" y="494"/>
                  <a:pt x="424" y="491"/>
                </a:cubicBezTo>
                <a:cubicBezTo>
                  <a:pt x="426" y="489"/>
                  <a:pt x="425" y="485"/>
                  <a:pt x="427" y="482"/>
                </a:cubicBezTo>
                <a:cubicBezTo>
                  <a:pt x="427" y="483"/>
                  <a:pt x="427" y="484"/>
                  <a:pt x="427" y="484"/>
                </a:cubicBezTo>
                <a:cubicBezTo>
                  <a:pt x="429" y="484"/>
                  <a:pt x="428" y="482"/>
                  <a:pt x="429" y="482"/>
                </a:cubicBezTo>
                <a:cubicBezTo>
                  <a:pt x="432" y="481"/>
                  <a:pt x="434" y="479"/>
                  <a:pt x="437" y="478"/>
                </a:cubicBezTo>
                <a:cubicBezTo>
                  <a:pt x="439" y="478"/>
                  <a:pt x="442" y="478"/>
                  <a:pt x="445" y="475"/>
                </a:cubicBezTo>
                <a:cubicBezTo>
                  <a:pt x="446" y="475"/>
                  <a:pt x="449" y="476"/>
                  <a:pt x="450" y="475"/>
                </a:cubicBezTo>
                <a:cubicBezTo>
                  <a:pt x="452" y="472"/>
                  <a:pt x="457" y="470"/>
                  <a:pt x="455" y="466"/>
                </a:cubicBezTo>
                <a:cubicBezTo>
                  <a:pt x="458" y="463"/>
                  <a:pt x="458" y="463"/>
                  <a:pt x="458" y="463"/>
                </a:cubicBezTo>
                <a:cubicBezTo>
                  <a:pt x="460" y="467"/>
                  <a:pt x="460" y="467"/>
                  <a:pt x="460" y="467"/>
                </a:cubicBezTo>
                <a:cubicBezTo>
                  <a:pt x="460" y="466"/>
                  <a:pt x="462" y="464"/>
                  <a:pt x="460" y="463"/>
                </a:cubicBezTo>
                <a:cubicBezTo>
                  <a:pt x="462" y="463"/>
                  <a:pt x="464" y="464"/>
                  <a:pt x="464" y="462"/>
                </a:cubicBezTo>
                <a:cubicBezTo>
                  <a:pt x="463" y="460"/>
                  <a:pt x="463" y="460"/>
                  <a:pt x="463" y="460"/>
                </a:cubicBezTo>
                <a:cubicBezTo>
                  <a:pt x="466" y="459"/>
                  <a:pt x="466" y="459"/>
                  <a:pt x="466" y="459"/>
                </a:cubicBezTo>
                <a:cubicBezTo>
                  <a:pt x="465" y="458"/>
                  <a:pt x="465" y="458"/>
                  <a:pt x="465" y="458"/>
                </a:cubicBezTo>
                <a:cubicBezTo>
                  <a:pt x="466" y="458"/>
                  <a:pt x="466" y="458"/>
                  <a:pt x="467" y="458"/>
                </a:cubicBezTo>
                <a:cubicBezTo>
                  <a:pt x="467" y="457"/>
                  <a:pt x="466" y="457"/>
                  <a:pt x="466" y="456"/>
                </a:cubicBezTo>
                <a:cubicBezTo>
                  <a:pt x="467" y="456"/>
                  <a:pt x="467" y="456"/>
                  <a:pt x="467" y="456"/>
                </a:cubicBezTo>
                <a:cubicBezTo>
                  <a:pt x="468" y="456"/>
                  <a:pt x="468" y="456"/>
                  <a:pt x="468" y="456"/>
                </a:cubicBezTo>
                <a:cubicBezTo>
                  <a:pt x="470" y="454"/>
                  <a:pt x="470" y="454"/>
                  <a:pt x="470" y="454"/>
                </a:cubicBezTo>
                <a:cubicBezTo>
                  <a:pt x="471" y="456"/>
                  <a:pt x="471" y="453"/>
                  <a:pt x="472" y="454"/>
                </a:cubicBezTo>
                <a:cubicBezTo>
                  <a:pt x="475" y="457"/>
                  <a:pt x="475" y="457"/>
                  <a:pt x="475" y="457"/>
                </a:cubicBezTo>
                <a:cubicBezTo>
                  <a:pt x="475" y="457"/>
                  <a:pt x="475" y="458"/>
                  <a:pt x="475" y="459"/>
                </a:cubicBezTo>
                <a:cubicBezTo>
                  <a:pt x="475" y="459"/>
                  <a:pt x="475" y="459"/>
                  <a:pt x="475" y="459"/>
                </a:cubicBezTo>
                <a:cubicBezTo>
                  <a:pt x="476" y="459"/>
                  <a:pt x="476" y="458"/>
                  <a:pt x="477" y="457"/>
                </a:cubicBezTo>
                <a:cubicBezTo>
                  <a:pt x="478" y="457"/>
                  <a:pt x="480" y="459"/>
                  <a:pt x="481" y="458"/>
                </a:cubicBezTo>
                <a:cubicBezTo>
                  <a:pt x="480" y="456"/>
                  <a:pt x="480" y="454"/>
                  <a:pt x="482" y="452"/>
                </a:cubicBezTo>
                <a:cubicBezTo>
                  <a:pt x="484" y="452"/>
                  <a:pt x="484" y="448"/>
                  <a:pt x="487" y="448"/>
                </a:cubicBezTo>
                <a:cubicBezTo>
                  <a:pt x="488" y="448"/>
                  <a:pt x="491" y="449"/>
                  <a:pt x="492" y="447"/>
                </a:cubicBezTo>
                <a:cubicBezTo>
                  <a:pt x="492" y="446"/>
                  <a:pt x="491" y="445"/>
                  <a:pt x="490" y="444"/>
                </a:cubicBezTo>
                <a:cubicBezTo>
                  <a:pt x="490" y="444"/>
                  <a:pt x="492" y="446"/>
                  <a:pt x="493" y="445"/>
                </a:cubicBezTo>
                <a:cubicBezTo>
                  <a:pt x="493" y="447"/>
                  <a:pt x="496" y="446"/>
                  <a:pt x="497" y="447"/>
                </a:cubicBezTo>
                <a:cubicBezTo>
                  <a:pt x="499" y="446"/>
                  <a:pt x="500" y="449"/>
                  <a:pt x="501" y="447"/>
                </a:cubicBezTo>
                <a:cubicBezTo>
                  <a:pt x="503" y="451"/>
                  <a:pt x="503" y="445"/>
                  <a:pt x="506" y="448"/>
                </a:cubicBezTo>
                <a:cubicBezTo>
                  <a:pt x="505" y="451"/>
                  <a:pt x="500" y="451"/>
                  <a:pt x="502" y="454"/>
                </a:cubicBezTo>
                <a:cubicBezTo>
                  <a:pt x="499" y="457"/>
                  <a:pt x="500" y="459"/>
                  <a:pt x="503" y="460"/>
                </a:cubicBezTo>
                <a:cubicBezTo>
                  <a:pt x="506" y="463"/>
                  <a:pt x="509" y="464"/>
                  <a:pt x="512" y="467"/>
                </a:cubicBezTo>
                <a:cubicBezTo>
                  <a:pt x="513" y="468"/>
                  <a:pt x="515" y="469"/>
                  <a:pt x="516" y="468"/>
                </a:cubicBezTo>
                <a:cubicBezTo>
                  <a:pt x="520" y="465"/>
                  <a:pt x="519" y="461"/>
                  <a:pt x="521" y="457"/>
                </a:cubicBezTo>
                <a:cubicBezTo>
                  <a:pt x="520" y="456"/>
                  <a:pt x="520" y="456"/>
                  <a:pt x="520" y="456"/>
                </a:cubicBezTo>
                <a:cubicBezTo>
                  <a:pt x="522" y="456"/>
                  <a:pt x="521" y="454"/>
                  <a:pt x="520" y="454"/>
                </a:cubicBezTo>
                <a:cubicBezTo>
                  <a:pt x="522" y="450"/>
                  <a:pt x="522" y="447"/>
                  <a:pt x="524" y="443"/>
                </a:cubicBezTo>
                <a:cubicBezTo>
                  <a:pt x="525" y="444"/>
                  <a:pt x="525" y="444"/>
                  <a:pt x="525" y="444"/>
                </a:cubicBezTo>
                <a:close/>
                <a:moveTo>
                  <a:pt x="487" y="444"/>
                </a:moveTo>
                <a:cubicBezTo>
                  <a:pt x="488" y="445"/>
                  <a:pt x="487" y="446"/>
                  <a:pt x="486" y="446"/>
                </a:cubicBezTo>
                <a:cubicBezTo>
                  <a:pt x="485" y="446"/>
                  <a:pt x="485" y="445"/>
                  <a:pt x="484" y="446"/>
                </a:cubicBezTo>
                <a:cubicBezTo>
                  <a:pt x="484" y="444"/>
                  <a:pt x="484" y="444"/>
                  <a:pt x="484" y="444"/>
                </a:cubicBezTo>
                <a:cubicBezTo>
                  <a:pt x="485" y="446"/>
                  <a:pt x="486" y="445"/>
                  <a:pt x="487" y="444"/>
                </a:cubicBezTo>
                <a:close/>
                <a:moveTo>
                  <a:pt x="604" y="460"/>
                </a:moveTo>
                <a:cubicBezTo>
                  <a:pt x="603" y="460"/>
                  <a:pt x="603" y="460"/>
                  <a:pt x="603" y="460"/>
                </a:cubicBezTo>
                <a:cubicBezTo>
                  <a:pt x="602" y="458"/>
                  <a:pt x="602" y="458"/>
                  <a:pt x="602" y="458"/>
                </a:cubicBezTo>
                <a:cubicBezTo>
                  <a:pt x="602" y="459"/>
                  <a:pt x="604" y="459"/>
                  <a:pt x="604" y="460"/>
                </a:cubicBezTo>
                <a:close/>
                <a:moveTo>
                  <a:pt x="604" y="464"/>
                </a:moveTo>
                <a:cubicBezTo>
                  <a:pt x="604" y="462"/>
                  <a:pt x="604" y="462"/>
                  <a:pt x="604" y="462"/>
                </a:cubicBezTo>
                <a:cubicBezTo>
                  <a:pt x="605" y="464"/>
                  <a:pt x="605" y="464"/>
                  <a:pt x="605" y="464"/>
                </a:cubicBezTo>
                <a:cubicBezTo>
                  <a:pt x="604" y="464"/>
                  <a:pt x="604" y="464"/>
                  <a:pt x="604" y="464"/>
                </a:cubicBezTo>
                <a:close/>
                <a:moveTo>
                  <a:pt x="644" y="465"/>
                </a:moveTo>
                <a:cubicBezTo>
                  <a:pt x="645" y="466"/>
                  <a:pt x="645" y="466"/>
                  <a:pt x="645" y="466"/>
                </a:cubicBezTo>
                <a:cubicBezTo>
                  <a:pt x="643" y="467"/>
                  <a:pt x="642" y="465"/>
                  <a:pt x="641" y="466"/>
                </a:cubicBezTo>
                <a:cubicBezTo>
                  <a:pt x="641" y="464"/>
                  <a:pt x="644" y="465"/>
                  <a:pt x="645" y="464"/>
                </a:cubicBezTo>
                <a:cubicBezTo>
                  <a:pt x="645" y="464"/>
                  <a:pt x="645" y="465"/>
                  <a:pt x="644" y="465"/>
                </a:cubicBezTo>
                <a:close/>
                <a:moveTo>
                  <a:pt x="640" y="471"/>
                </a:moveTo>
                <a:cubicBezTo>
                  <a:pt x="639" y="470"/>
                  <a:pt x="638" y="472"/>
                  <a:pt x="636" y="471"/>
                </a:cubicBezTo>
                <a:cubicBezTo>
                  <a:pt x="637" y="470"/>
                  <a:pt x="637" y="468"/>
                  <a:pt x="639" y="468"/>
                </a:cubicBezTo>
                <a:cubicBezTo>
                  <a:pt x="640" y="468"/>
                  <a:pt x="640" y="469"/>
                  <a:pt x="640" y="471"/>
                </a:cubicBezTo>
                <a:close/>
                <a:moveTo>
                  <a:pt x="600" y="487"/>
                </a:moveTo>
                <a:cubicBezTo>
                  <a:pt x="596" y="486"/>
                  <a:pt x="594" y="482"/>
                  <a:pt x="592" y="479"/>
                </a:cubicBezTo>
                <a:cubicBezTo>
                  <a:pt x="600" y="487"/>
                  <a:pt x="600" y="487"/>
                  <a:pt x="600" y="487"/>
                </a:cubicBezTo>
                <a:close/>
                <a:moveTo>
                  <a:pt x="494" y="542"/>
                </a:moveTo>
                <a:cubicBezTo>
                  <a:pt x="494" y="543"/>
                  <a:pt x="492" y="542"/>
                  <a:pt x="491" y="542"/>
                </a:cubicBezTo>
                <a:cubicBezTo>
                  <a:pt x="491" y="542"/>
                  <a:pt x="491" y="542"/>
                  <a:pt x="491" y="542"/>
                </a:cubicBezTo>
                <a:cubicBezTo>
                  <a:pt x="492" y="541"/>
                  <a:pt x="493" y="541"/>
                  <a:pt x="494" y="542"/>
                </a:cubicBezTo>
                <a:close/>
                <a:moveTo>
                  <a:pt x="613" y="549"/>
                </a:moveTo>
                <a:cubicBezTo>
                  <a:pt x="613" y="552"/>
                  <a:pt x="609" y="557"/>
                  <a:pt x="614" y="559"/>
                </a:cubicBezTo>
                <a:cubicBezTo>
                  <a:pt x="615" y="558"/>
                  <a:pt x="615" y="558"/>
                  <a:pt x="615" y="558"/>
                </a:cubicBezTo>
                <a:cubicBezTo>
                  <a:pt x="614" y="558"/>
                  <a:pt x="614" y="558"/>
                  <a:pt x="614" y="558"/>
                </a:cubicBezTo>
                <a:cubicBezTo>
                  <a:pt x="615" y="557"/>
                  <a:pt x="615" y="556"/>
                  <a:pt x="615" y="556"/>
                </a:cubicBezTo>
                <a:cubicBezTo>
                  <a:pt x="616" y="558"/>
                  <a:pt x="614" y="562"/>
                  <a:pt x="617" y="563"/>
                </a:cubicBezTo>
                <a:cubicBezTo>
                  <a:pt x="619" y="564"/>
                  <a:pt x="620" y="563"/>
                  <a:pt x="621" y="562"/>
                </a:cubicBezTo>
                <a:cubicBezTo>
                  <a:pt x="623" y="563"/>
                  <a:pt x="621" y="565"/>
                  <a:pt x="621" y="566"/>
                </a:cubicBezTo>
                <a:cubicBezTo>
                  <a:pt x="620" y="567"/>
                  <a:pt x="619" y="567"/>
                  <a:pt x="619" y="568"/>
                </a:cubicBezTo>
                <a:cubicBezTo>
                  <a:pt x="619" y="570"/>
                  <a:pt x="619" y="570"/>
                  <a:pt x="619" y="570"/>
                </a:cubicBezTo>
                <a:cubicBezTo>
                  <a:pt x="618" y="568"/>
                  <a:pt x="617" y="569"/>
                  <a:pt x="616" y="569"/>
                </a:cubicBezTo>
                <a:cubicBezTo>
                  <a:pt x="614" y="570"/>
                  <a:pt x="615" y="573"/>
                  <a:pt x="614" y="574"/>
                </a:cubicBezTo>
                <a:cubicBezTo>
                  <a:pt x="611" y="576"/>
                  <a:pt x="609" y="583"/>
                  <a:pt x="605" y="580"/>
                </a:cubicBezTo>
                <a:cubicBezTo>
                  <a:pt x="606" y="578"/>
                  <a:pt x="609" y="577"/>
                  <a:pt x="608" y="574"/>
                </a:cubicBezTo>
                <a:cubicBezTo>
                  <a:pt x="607" y="572"/>
                  <a:pt x="605" y="571"/>
                  <a:pt x="605" y="569"/>
                </a:cubicBezTo>
                <a:cubicBezTo>
                  <a:pt x="606" y="568"/>
                  <a:pt x="607" y="568"/>
                  <a:pt x="608" y="568"/>
                </a:cubicBezTo>
                <a:cubicBezTo>
                  <a:pt x="609" y="564"/>
                  <a:pt x="613" y="560"/>
                  <a:pt x="611" y="557"/>
                </a:cubicBezTo>
                <a:cubicBezTo>
                  <a:pt x="612" y="554"/>
                  <a:pt x="608" y="550"/>
                  <a:pt x="609" y="547"/>
                </a:cubicBezTo>
                <a:cubicBezTo>
                  <a:pt x="610" y="545"/>
                  <a:pt x="609" y="545"/>
                  <a:pt x="608" y="544"/>
                </a:cubicBezTo>
                <a:cubicBezTo>
                  <a:pt x="609" y="543"/>
                  <a:pt x="609" y="543"/>
                  <a:pt x="609" y="543"/>
                </a:cubicBezTo>
                <a:cubicBezTo>
                  <a:pt x="609" y="546"/>
                  <a:pt x="611" y="547"/>
                  <a:pt x="613" y="549"/>
                </a:cubicBezTo>
                <a:close/>
                <a:moveTo>
                  <a:pt x="509" y="564"/>
                </a:moveTo>
                <a:cubicBezTo>
                  <a:pt x="510" y="562"/>
                  <a:pt x="510" y="562"/>
                  <a:pt x="510" y="562"/>
                </a:cubicBezTo>
                <a:cubicBezTo>
                  <a:pt x="510" y="563"/>
                  <a:pt x="510" y="563"/>
                  <a:pt x="510" y="563"/>
                </a:cubicBezTo>
                <a:cubicBezTo>
                  <a:pt x="509" y="564"/>
                  <a:pt x="509" y="564"/>
                  <a:pt x="509" y="564"/>
                </a:cubicBezTo>
                <a:close/>
                <a:moveTo>
                  <a:pt x="515" y="571"/>
                </a:moveTo>
                <a:cubicBezTo>
                  <a:pt x="517" y="570"/>
                  <a:pt x="519" y="570"/>
                  <a:pt x="521" y="570"/>
                </a:cubicBezTo>
                <a:cubicBezTo>
                  <a:pt x="521" y="571"/>
                  <a:pt x="519" y="573"/>
                  <a:pt x="520" y="575"/>
                </a:cubicBezTo>
                <a:cubicBezTo>
                  <a:pt x="517" y="575"/>
                  <a:pt x="519" y="578"/>
                  <a:pt x="517" y="579"/>
                </a:cubicBezTo>
                <a:cubicBezTo>
                  <a:pt x="518" y="580"/>
                  <a:pt x="518" y="580"/>
                  <a:pt x="518" y="580"/>
                </a:cubicBezTo>
                <a:cubicBezTo>
                  <a:pt x="517" y="580"/>
                  <a:pt x="517" y="580"/>
                  <a:pt x="517" y="580"/>
                </a:cubicBezTo>
                <a:cubicBezTo>
                  <a:pt x="517" y="579"/>
                  <a:pt x="515" y="580"/>
                  <a:pt x="515" y="580"/>
                </a:cubicBezTo>
                <a:cubicBezTo>
                  <a:pt x="513" y="581"/>
                  <a:pt x="513" y="583"/>
                  <a:pt x="510" y="582"/>
                </a:cubicBezTo>
                <a:cubicBezTo>
                  <a:pt x="508" y="577"/>
                  <a:pt x="511" y="573"/>
                  <a:pt x="510" y="568"/>
                </a:cubicBezTo>
                <a:cubicBezTo>
                  <a:pt x="512" y="568"/>
                  <a:pt x="513" y="570"/>
                  <a:pt x="515" y="571"/>
                </a:cubicBezTo>
                <a:close/>
                <a:moveTo>
                  <a:pt x="603" y="579"/>
                </a:moveTo>
                <a:cubicBezTo>
                  <a:pt x="603" y="580"/>
                  <a:pt x="601" y="581"/>
                  <a:pt x="603" y="583"/>
                </a:cubicBezTo>
                <a:cubicBezTo>
                  <a:pt x="599" y="586"/>
                  <a:pt x="596" y="589"/>
                  <a:pt x="595" y="592"/>
                </a:cubicBezTo>
                <a:cubicBezTo>
                  <a:pt x="595" y="593"/>
                  <a:pt x="595" y="593"/>
                  <a:pt x="595" y="593"/>
                </a:cubicBezTo>
                <a:cubicBezTo>
                  <a:pt x="595" y="593"/>
                  <a:pt x="594" y="593"/>
                  <a:pt x="594" y="593"/>
                </a:cubicBezTo>
                <a:cubicBezTo>
                  <a:pt x="592" y="591"/>
                  <a:pt x="591" y="595"/>
                  <a:pt x="589" y="595"/>
                </a:cubicBezTo>
                <a:cubicBezTo>
                  <a:pt x="587" y="598"/>
                  <a:pt x="584" y="601"/>
                  <a:pt x="583" y="604"/>
                </a:cubicBezTo>
                <a:cubicBezTo>
                  <a:pt x="581" y="605"/>
                  <a:pt x="579" y="608"/>
                  <a:pt x="576" y="608"/>
                </a:cubicBezTo>
                <a:cubicBezTo>
                  <a:pt x="574" y="607"/>
                  <a:pt x="574" y="603"/>
                  <a:pt x="572" y="605"/>
                </a:cubicBezTo>
                <a:cubicBezTo>
                  <a:pt x="571" y="604"/>
                  <a:pt x="571" y="604"/>
                  <a:pt x="571" y="604"/>
                </a:cubicBezTo>
                <a:cubicBezTo>
                  <a:pt x="573" y="600"/>
                  <a:pt x="577" y="593"/>
                  <a:pt x="583" y="593"/>
                </a:cubicBezTo>
                <a:cubicBezTo>
                  <a:pt x="585" y="589"/>
                  <a:pt x="593" y="589"/>
                  <a:pt x="593" y="583"/>
                </a:cubicBezTo>
                <a:cubicBezTo>
                  <a:pt x="596" y="582"/>
                  <a:pt x="597" y="578"/>
                  <a:pt x="599" y="576"/>
                </a:cubicBezTo>
                <a:cubicBezTo>
                  <a:pt x="600" y="577"/>
                  <a:pt x="599" y="582"/>
                  <a:pt x="603" y="579"/>
                </a:cubicBezTo>
                <a:close/>
                <a:moveTo>
                  <a:pt x="573" y="608"/>
                </a:moveTo>
                <a:cubicBezTo>
                  <a:pt x="573" y="609"/>
                  <a:pt x="573" y="610"/>
                  <a:pt x="572" y="610"/>
                </a:cubicBezTo>
                <a:cubicBezTo>
                  <a:pt x="571" y="610"/>
                  <a:pt x="571" y="610"/>
                  <a:pt x="571" y="610"/>
                </a:cubicBezTo>
                <a:cubicBezTo>
                  <a:pt x="572" y="610"/>
                  <a:pt x="572" y="608"/>
                  <a:pt x="573" y="608"/>
                </a:cubicBezTo>
                <a:close/>
                <a:moveTo>
                  <a:pt x="450" y="322"/>
                </a:moveTo>
                <a:cubicBezTo>
                  <a:pt x="452" y="325"/>
                  <a:pt x="448" y="325"/>
                  <a:pt x="449" y="328"/>
                </a:cubicBezTo>
                <a:cubicBezTo>
                  <a:pt x="447" y="326"/>
                  <a:pt x="445" y="323"/>
                  <a:pt x="447" y="320"/>
                </a:cubicBezTo>
                <a:cubicBezTo>
                  <a:pt x="450" y="315"/>
                  <a:pt x="450" y="315"/>
                  <a:pt x="450" y="315"/>
                </a:cubicBezTo>
                <a:cubicBezTo>
                  <a:pt x="453" y="316"/>
                  <a:pt x="450" y="320"/>
                  <a:pt x="450" y="322"/>
                </a:cubicBezTo>
                <a:close/>
                <a:moveTo>
                  <a:pt x="455" y="341"/>
                </a:moveTo>
                <a:cubicBezTo>
                  <a:pt x="453" y="344"/>
                  <a:pt x="459" y="346"/>
                  <a:pt x="455" y="349"/>
                </a:cubicBezTo>
                <a:cubicBezTo>
                  <a:pt x="452" y="350"/>
                  <a:pt x="454" y="354"/>
                  <a:pt x="454" y="355"/>
                </a:cubicBezTo>
                <a:cubicBezTo>
                  <a:pt x="455" y="357"/>
                  <a:pt x="456" y="357"/>
                  <a:pt x="458" y="356"/>
                </a:cubicBezTo>
                <a:cubicBezTo>
                  <a:pt x="460" y="355"/>
                  <a:pt x="459" y="359"/>
                  <a:pt x="462" y="358"/>
                </a:cubicBezTo>
                <a:cubicBezTo>
                  <a:pt x="462" y="358"/>
                  <a:pt x="461" y="359"/>
                  <a:pt x="461" y="359"/>
                </a:cubicBezTo>
                <a:cubicBezTo>
                  <a:pt x="463" y="362"/>
                  <a:pt x="463" y="362"/>
                  <a:pt x="463" y="362"/>
                </a:cubicBezTo>
                <a:cubicBezTo>
                  <a:pt x="461" y="361"/>
                  <a:pt x="461" y="358"/>
                  <a:pt x="458" y="357"/>
                </a:cubicBezTo>
                <a:cubicBezTo>
                  <a:pt x="458" y="358"/>
                  <a:pt x="457" y="358"/>
                  <a:pt x="458" y="358"/>
                </a:cubicBezTo>
                <a:cubicBezTo>
                  <a:pt x="458" y="359"/>
                  <a:pt x="458" y="359"/>
                  <a:pt x="458" y="359"/>
                </a:cubicBezTo>
                <a:cubicBezTo>
                  <a:pt x="458" y="358"/>
                  <a:pt x="457" y="358"/>
                  <a:pt x="456" y="357"/>
                </a:cubicBezTo>
                <a:cubicBezTo>
                  <a:pt x="454" y="357"/>
                  <a:pt x="453" y="358"/>
                  <a:pt x="451" y="357"/>
                </a:cubicBezTo>
                <a:cubicBezTo>
                  <a:pt x="451" y="356"/>
                  <a:pt x="452" y="356"/>
                  <a:pt x="452" y="355"/>
                </a:cubicBezTo>
                <a:cubicBezTo>
                  <a:pt x="452" y="354"/>
                  <a:pt x="451" y="355"/>
                  <a:pt x="450" y="355"/>
                </a:cubicBezTo>
                <a:cubicBezTo>
                  <a:pt x="449" y="353"/>
                  <a:pt x="448" y="351"/>
                  <a:pt x="448" y="349"/>
                </a:cubicBezTo>
                <a:cubicBezTo>
                  <a:pt x="449" y="349"/>
                  <a:pt x="449" y="349"/>
                  <a:pt x="450" y="349"/>
                </a:cubicBezTo>
                <a:cubicBezTo>
                  <a:pt x="450" y="347"/>
                  <a:pt x="449" y="344"/>
                  <a:pt x="450" y="342"/>
                </a:cubicBezTo>
                <a:cubicBezTo>
                  <a:pt x="451" y="339"/>
                  <a:pt x="454" y="343"/>
                  <a:pt x="455" y="341"/>
                </a:cubicBezTo>
                <a:close/>
                <a:moveTo>
                  <a:pt x="454" y="361"/>
                </a:moveTo>
                <a:cubicBezTo>
                  <a:pt x="454" y="363"/>
                  <a:pt x="454" y="363"/>
                  <a:pt x="454" y="363"/>
                </a:cubicBezTo>
                <a:cubicBezTo>
                  <a:pt x="452" y="363"/>
                  <a:pt x="453" y="360"/>
                  <a:pt x="451" y="359"/>
                </a:cubicBezTo>
                <a:cubicBezTo>
                  <a:pt x="453" y="358"/>
                  <a:pt x="453" y="360"/>
                  <a:pt x="454" y="361"/>
                </a:cubicBezTo>
                <a:close/>
                <a:moveTo>
                  <a:pt x="468" y="363"/>
                </a:moveTo>
                <a:cubicBezTo>
                  <a:pt x="468" y="367"/>
                  <a:pt x="468" y="367"/>
                  <a:pt x="468" y="367"/>
                </a:cubicBezTo>
                <a:cubicBezTo>
                  <a:pt x="468" y="367"/>
                  <a:pt x="467" y="366"/>
                  <a:pt x="466" y="367"/>
                </a:cubicBezTo>
                <a:cubicBezTo>
                  <a:pt x="467" y="370"/>
                  <a:pt x="467" y="370"/>
                  <a:pt x="467" y="370"/>
                </a:cubicBezTo>
                <a:cubicBezTo>
                  <a:pt x="466" y="370"/>
                  <a:pt x="466" y="368"/>
                  <a:pt x="465" y="367"/>
                </a:cubicBezTo>
                <a:cubicBezTo>
                  <a:pt x="466" y="367"/>
                  <a:pt x="466" y="367"/>
                  <a:pt x="467" y="366"/>
                </a:cubicBezTo>
                <a:cubicBezTo>
                  <a:pt x="467" y="365"/>
                  <a:pt x="465" y="364"/>
                  <a:pt x="464" y="363"/>
                </a:cubicBezTo>
                <a:cubicBezTo>
                  <a:pt x="465" y="362"/>
                  <a:pt x="467" y="362"/>
                  <a:pt x="468" y="363"/>
                </a:cubicBezTo>
                <a:close/>
                <a:moveTo>
                  <a:pt x="463" y="364"/>
                </a:moveTo>
                <a:cubicBezTo>
                  <a:pt x="461" y="363"/>
                  <a:pt x="461" y="363"/>
                  <a:pt x="461" y="363"/>
                </a:cubicBezTo>
                <a:cubicBezTo>
                  <a:pt x="463" y="363"/>
                  <a:pt x="463" y="363"/>
                  <a:pt x="463" y="363"/>
                </a:cubicBezTo>
                <a:cubicBezTo>
                  <a:pt x="463" y="364"/>
                  <a:pt x="463" y="364"/>
                  <a:pt x="463" y="364"/>
                </a:cubicBezTo>
                <a:close/>
                <a:moveTo>
                  <a:pt x="460" y="366"/>
                </a:moveTo>
                <a:cubicBezTo>
                  <a:pt x="460" y="367"/>
                  <a:pt x="458" y="368"/>
                  <a:pt x="459" y="369"/>
                </a:cubicBezTo>
                <a:cubicBezTo>
                  <a:pt x="458" y="368"/>
                  <a:pt x="458" y="369"/>
                  <a:pt x="457" y="369"/>
                </a:cubicBezTo>
                <a:cubicBezTo>
                  <a:pt x="456" y="365"/>
                  <a:pt x="456" y="365"/>
                  <a:pt x="456" y="365"/>
                </a:cubicBezTo>
                <a:cubicBezTo>
                  <a:pt x="458" y="366"/>
                  <a:pt x="459" y="366"/>
                  <a:pt x="460" y="366"/>
                </a:cubicBezTo>
                <a:close/>
                <a:moveTo>
                  <a:pt x="448" y="369"/>
                </a:moveTo>
                <a:cubicBezTo>
                  <a:pt x="446" y="371"/>
                  <a:pt x="446" y="374"/>
                  <a:pt x="442" y="375"/>
                </a:cubicBezTo>
                <a:cubicBezTo>
                  <a:pt x="445" y="373"/>
                  <a:pt x="447" y="371"/>
                  <a:pt x="448" y="368"/>
                </a:cubicBezTo>
                <a:cubicBezTo>
                  <a:pt x="448" y="369"/>
                  <a:pt x="448" y="369"/>
                  <a:pt x="448" y="369"/>
                </a:cubicBezTo>
                <a:close/>
                <a:moveTo>
                  <a:pt x="461" y="374"/>
                </a:moveTo>
                <a:cubicBezTo>
                  <a:pt x="460" y="373"/>
                  <a:pt x="458" y="373"/>
                  <a:pt x="459" y="371"/>
                </a:cubicBezTo>
                <a:cubicBezTo>
                  <a:pt x="461" y="371"/>
                  <a:pt x="460" y="369"/>
                  <a:pt x="461" y="368"/>
                </a:cubicBezTo>
                <a:cubicBezTo>
                  <a:pt x="462" y="370"/>
                  <a:pt x="459" y="372"/>
                  <a:pt x="461" y="374"/>
                </a:cubicBezTo>
                <a:close/>
                <a:moveTo>
                  <a:pt x="463" y="368"/>
                </a:moveTo>
                <a:cubicBezTo>
                  <a:pt x="463" y="370"/>
                  <a:pt x="463" y="370"/>
                  <a:pt x="463" y="370"/>
                </a:cubicBezTo>
                <a:cubicBezTo>
                  <a:pt x="463" y="368"/>
                  <a:pt x="463" y="368"/>
                  <a:pt x="463" y="368"/>
                </a:cubicBezTo>
                <a:close/>
                <a:moveTo>
                  <a:pt x="266" y="588"/>
                </a:moveTo>
                <a:cubicBezTo>
                  <a:pt x="265" y="588"/>
                  <a:pt x="265" y="589"/>
                  <a:pt x="265" y="590"/>
                </a:cubicBezTo>
                <a:cubicBezTo>
                  <a:pt x="264" y="589"/>
                  <a:pt x="263" y="589"/>
                  <a:pt x="262" y="589"/>
                </a:cubicBezTo>
                <a:cubicBezTo>
                  <a:pt x="262" y="587"/>
                  <a:pt x="262" y="587"/>
                  <a:pt x="262" y="587"/>
                </a:cubicBezTo>
                <a:cubicBezTo>
                  <a:pt x="264" y="587"/>
                  <a:pt x="265" y="589"/>
                  <a:pt x="266" y="588"/>
                </a:cubicBezTo>
                <a:close/>
                <a:moveTo>
                  <a:pt x="325" y="382"/>
                </a:moveTo>
                <a:cubicBezTo>
                  <a:pt x="325" y="383"/>
                  <a:pt x="324" y="384"/>
                  <a:pt x="323" y="385"/>
                </a:cubicBezTo>
                <a:cubicBezTo>
                  <a:pt x="320" y="386"/>
                  <a:pt x="319" y="384"/>
                  <a:pt x="319" y="382"/>
                </a:cubicBezTo>
                <a:cubicBezTo>
                  <a:pt x="319" y="378"/>
                  <a:pt x="318" y="376"/>
                  <a:pt x="320" y="373"/>
                </a:cubicBezTo>
                <a:cubicBezTo>
                  <a:pt x="323" y="376"/>
                  <a:pt x="324" y="379"/>
                  <a:pt x="325" y="382"/>
                </a:cubicBezTo>
                <a:close/>
                <a:moveTo>
                  <a:pt x="58" y="381"/>
                </a:moveTo>
                <a:cubicBezTo>
                  <a:pt x="57" y="380"/>
                  <a:pt x="57" y="380"/>
                  <a:pt x="57" y="380"/>
                </a:cubicBezTo>
                <a:cubicBezTo>
                  <a:pt x="57" y="379"/>
                  <a:pt x="57" y="379"/>
                  <a:pt x="57" y="379"/>
                </a:cubicBezTo>
                <a:cubicBezTo>
                  <a:pt x="53" y="375"/>
                  <a:pt x="53" y="375"/>
                  <a:pt x="53" y="375"/>
                </a:cubicBezTo>
                <a:cubicBezTo>
                  <a:pt x="54" y="375"/>
                  <a:pt x="54" y="375"/>
                  <a:pt x="54" y="375"/>
                </a:cubicBezTo>
                <a:cubicBezTo>
                  <a:pt x="55" y="377"/>
                  <a:pt x="59" y="378"/>
                  <a:pt x="58" y="381"/>
                </a:cubicBezTo>
                <a:close/>
                <a:moveTo>
                  <a:pt x="157" y="401"/>
                </a:moveTo>
                <a:cubicBezTo>
                  <a:pt x="157" y="401"/>
                  <a:pt x="157" y="401"/>
                  <a:pt x="157" y="401"/>
                </a:cubicBezTo>
                <a:cubicBezTo>
                  <a:pt x="159" y="398"/>
                  <a:pt x="159" y="398"/>
                  <a:pt x="159" y="398"/>
                </a:cubicBezTo>
                <a:cubicBezTo>
                  <a:pt x="160" y="400"/>
                  <a:pt x="158" y="400"/>
                  <a:pt x="157" y="401"/>
                </a:cubicBezTo>
                <a:close/>
                <a:moveTo>
                  <a:pt x="167" y="401"/>
                </a:moveTo>
                <a:cubicBezTo>
                  <a:pt x="167" y="401"/>
                  <a:pt x="167" y="401"/>
                  <a:pt x="167" y="401"/>
                </a:cubicBezTo>
                <a:cubicBezTo>
                  <a:pt x="165" y="401"/>
                  <a:pt x="164" y="401"/>
                  <a:pt x="163" y="400"/>
                </a:cubicBezTo>
                <a:cubicBezTo>
                  <a:pt x="164" y="400"/>
                  <a:pt x="166" y="400"/>
                  <a:pt x="167" y="401"/>
                </a:cubicBezTo>
                <a:close/>
                <a:moveTo>
                  <a:pt x="170" y="406"/>
                </a:moveTo>
                <a:cubicBezTo>
                  <a:pt x="167" y="407"/>
                  <a:pt x="168" y="410"/>
                  <a:pt x="165" y="412"/>
                </a:cubicBezTo>
                <a:cubicBezTo>
                  <a:pt x="166" y="412"/>
                  <a:pt x="166" y="413"/>
                  <a:pt x="167" y="413"/>
                </a:cubicBezTo>
                <a:cubicBezTo>
                  <a:pt x="161" y="414"/>
                  <a:pt x="161" y="414"/>
                  <a:pt x="161" y="414"/>
                </a:cubicBezTo>
                <a:cubicBezTo>
                  <a:pt x="160" y="412"/>
                  <a:pt x="162" y="410"/>
                  <a:pt x="161" y="408"/>
                </a:cubicBezTo>
                <a:cubicBezTo>
                  <a:pt x="162" y="407"/>
                  <a:pt x="161" y="406"/>
                  <a:pt x="161" y="405"/>
                </a:cubicBezTo>
                <a:cubicBezTo>
                  <a:pt x="164" y="406"/>
                  <a:pt x="167" y="402"/>
                  <a:pt x="169" y="406"/>
                </a:cubicBezTo>
                <a:cubicBezTo>
                  <a:pt x="170" y="406"/>
                  <a:pt x="170" y="406"/>
                  <a:pt x="170" y="406"/>
                </a:cubicBezTo>
                <a:close/>
                <a:moveTo>
                  <a:pt x="153" y="425"/>
                </a:moveTo>
                <a:cubicBezTo>
                  <a:pt x="153" y="427"/>
                  <a:pt x="156" y="426"/>
                  <a:pt x="156" y="429"/>
                </a:cubicBezTo>
                <a:cubicBezTo>
                  <a:pt x="156" y="431"/>
                  <a:pt x="158" y="432"/>
                  <a:pt x="158" y="434"/>
                </a:cubicBezTo>
                <a:cubicBezTo>
                  <a:pt x="155" y="434"/>
                  <a:pt x="157" y="431"/>
                  <a:pt x="156" y="430"/>
                </a:cubicBezTo>
                <a:cubicBezTo>
                  <a:pt x="154" y="428"/>
                  <a:pt x="152" y="427"/>
                  <a:pt x="152" y="425"/>
                </a:cubicBezTo>
                <a:cubicBezTo>
                  <a:pt x="153" y="422"/>
                  <a:pt x="151" y="420"/>
                  <a:pt x="152" y="417"/>
                </a:cubicBezTo>
                <a:cubicBezTo>
                  <a:pt x="154" y="419"/>
                  <a:pt x="153" y="422"/>
                  <a:pt x="153" y="425"/>
                </a:cubicBezTo>
                <a:close/>
                <a:moveTo>
                  <a:pt x="151" y="434"/>
                </a:moveTo>
                <a:cubicBezTo>
                  <a:pt x="150" y="435"/>
                  <a:pt x="151" y="436"/>
                  <a:pt x="149" y="436"/>
                </a:cubicBezTo>
                <a:cubicBezTo>
                  <a:pt x="149" y="435"/>
                  <a:pt x="150" y="434"/>
                  <a:pt x="151" y="434"/>
                </a:cubicBezTo>
                <a:close/>
                <a:moveTo>
                  <a:pt x="170" y="443"/>
                </a:moveTo>
                <a:cubicBezTo>
                  <a:pt x="169" y="446"/>
                  <a:pt x="169" y="450"/>
                  <a:pt x="171" y="452"/>
                </a:cubicBezTo>
                <a:cubicBezTo>
                  <a:pt x="169" y="452"/>
                  <a:pt x="168" y="449"/>
                  <a:pt x="168" y="447"/>
                </a:cubicBezTo>
                <a:cubicBezTo>
                  <a:pt x="168" y="444"/>
                  <a:pt x="169" y="440"/>
                  <a:pt x="167" y="438"/>
                </a:cubicBezTo>
                <a:cubicBezTo>
                  <a:pt x="168" y="437"/>
                  <a:pt x="168" y="437"/>
                  <a:pt x="168" y="437"/>
                </a:cubicBezTo>
                <a:cubicBezTo>
                  <a:pt x="170" y="438"/>
                  <a:pt x="167" y="442"/>
                  <a:pt x="170" y="443"/>
                </a:cubicBezTo>
                <a:close/>
                <a:moveTo>
                  <a:pt x="219" y="458"/>
                </a:moveTo>
                <a:cubicBezTo>
                  <a:pt x="218" y="456"/>
                  <a:pt x="218" y="456"/>
                  <a:pt x="218" y="456"/>
                </a:cubicBezTo>
                <a:cubicBezTo>
                  <a:pt x="217" y="468"/>
                  <a:pt x="210" y="477"/>
                  <a:pt x="208" y="488"/>
                </a:cubicBezTo>
                <a:cubicBezTo>
                  <a:pt x="206" y="490"/>
                  <a:pt x="203" y="489"/>
                  <a:pt x="201" y="491"/>
                </a:cubicBezTo>
                <a:cubicBezTo>
                  <a:pt x="199" y="490"/>
                  <a:pt x="197" y="490"/>
                  <a:pt x="196" y="487"/>
                </a:cubicBezTo>
                <a:cubicBezTo>
                  <a:pt x="198" y="483"/>
                  <a:pt x="193" y="480"/>
                  <a:pt x="196" y="477"/>
                </a:cubicBezTo>
                <a:cubicBezTo>
                  <a:pt x="200" y="470"/>
                  <a:pt x="200" y="470"/>
                  <a:pt x="200" y="470"/>
                </a:cubicBezTo>
                <a:cubicBezTo>
                  <a:pt x="199" y="467"/>
                  <a:pt x="197" y="463"/>
                  <a:pt x="200" y="460"/>
                </a:cubicBezTo>
                <a:cubicBezTo>
                  <a:pt x="201" y="459"/>
                  <a:pt x="204" y="458"/>
                  <a:pt x="205" y="458"/>
                </a:cubicBezTo>
                <a:cubicBezTo>
                  <a:pt x="206" y="458"/>
                  <a:pt x="206" y="458"/>
                  <a:pt x="206" y="458"/>
                </a:cubicBezTo>
                <a:cubicBezTo>
                  <a:pt x="208" y="460"/>
                  <a:pt x="207" y="455"/>
                  <a:pt x="209" y="457"/>
                </a:cubicBezTo>
                <a:cubicBezTo>
                  <a:pt x="209" y="454"/>
                  <a:pt x="211" y="455"/>
                  <a:pt x="213" y="454"/>
                </a:cubicBezTo>
                <a:cubicBezTo>
                  <a:pt x="212" y="453"/>
                  <a:pt x="212" y="453"/>
                  <a:pt x="212" y="453"/>
                </a:cubicBezTo>
                <a:cubicBezTo>
                  <a:pt x="213" y="453"/>
                  <a:pt x="213" y="452"/>
                  <a:pt x="213" y="451"/>
                </a:cubicBezTo>
                <a:cubicBezTo>
                  <a:pt x="213" y="451"/>
                  <a:pt x="213" y="451"/>
                  <a:pt x="213" y="451"/>
                </a:cubicBezTo>
                <a:cubicBezTo>
                  <a:pt x="215" y="450"/>
                  <a:pt x="216" y="449"/>
                  <a:pt x="216" y="447"/>
                </a:cubicBezTo>
                <a:cubicBezTo>
                  <a:pt x="216" y="447"/>
                  <a:pt x="216" y="447"/>
                  <a:pt x="216" y="447"/>
                </a:cubicBezTo>
                <a:cubicBezTo>
                  <a:pt x="217" y="446"/>
                  <a:pt x="217" y="446"/>
                  <a:pt x="217" y="446"/>
                </a:cubicBezTo>
                <a:cubicBezTo>
                  <a:pt x="219" y="449"/>
                  <a:pt x="219" y="454"/>
                  <a:pt x="219" y="458"/>
                </a:cubicBezTo>
                <a:close/>
                <a:moveTo>
                  <a:pt x="157" y="457"/>
                </a:moveTo>
                <a:cubicBezTo>
                  <a:pt x="160" y="457"/>
                  <a:pt x="160" y="457"/>
                  <a:pt x="160" y="457"/>
                </a:cubicBezTo>
                <a:cubicBezTo>
                  <a:pt x="157" y="457"/>
                  <a:pt x="157" y="457"/>
                  <a:pt x="157" y="457"/>
                </a:cubicBezTo>
                <a:close/>
                <a:moveTo>
                  <a:pt x="145" y="463"/>
                </a:moveTo>
                <a:cubicBezTo>
                  <a:pt x="148" y="460"/>
                  <a:pt x="148" y="460"/>
                  <a:pt x="148" y="460"/>
                </a:cubicBezTo>
                <a:cubicBezTo>
                  <a:pt x="149" y="460"/>
                  <a:pt x="149" y="460"/>
                  <a:pt x="149" y="460"/>
                </a:cubicBezTo>
                <a:cubicBezTo>
                  <a:pt x="145" y="463"/>
                  <a:pt x="145" y="463"/>
                  <a:pt x="145" y="463"/>
                </a:cubicBezTo>
                <a:close/>
                <a:moveTo>
                  <a:pt x="139" y="508"/>
                </a:moveTo>
                <a:cubicBezTo>
                  <a:pt x="139" y="509"/>
                  <a:pt x="138" y="509"/>
                  <a:pt x="137" y="509"/>
                </a:cubicBezTo>
                <a:cubicBezTo>
                  <a:pt x="138" y="509"/>
                  <a:pt x="138" y="508"/>
                  <a:pt x="139" y="508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"/>
          <p:cNvSpPr/>
          <p:nvPr/>
        </p:nvSpPr>
        <p:spPr>
          <a:xfrm>
            <a:off x="934920" y="687240"/>
            <a:ext cx="3197520" cy="4187880"/>
          </a:xfrm>
          <a:custGeom>
            <a:avLst/>
            <a:gdLst>
              <a:gd name="textAreaLeft" fmla="*/ 0 w 3197520"/>
              <a:gd name="textAreaRight" fmla="*/ 3197880 w 3197520"/>
              <a:gd name="textAreaTop" fmla="*/ 0 h 4187880"/>
              <a:gd name="textAreaBottom" fmla="*/ 4187880 h 4187880"/>
            </a:gdLst>
            <a:ahLst/>
            <a:rect l="textAreaLeft" t="textAreaTop" r="textAreaRight" b="textAreaBottom"/>
            <a:pathLst>
              <a:path w="481" h="631">
                <a:moveTo>
                  <a:pt x="267" y="349"/>
                </a:moveTo>
                <a:cubicBezTo>
                  <a:pt x="266" y="349"/>
                  <a:pt x="266" y="349"/>
                  <a:pt x="266" y="349"/>
                </a:cubicBezTo>
                <a:cubicBezTo>
                  <a:pt x="264" y="348"/>
                  <a:pt x="262" y="351"/>
                  <a:pt x="260" y="349"/>
                </a:cubicBezTo>
                <a:cubicBezTo>
                  <a:pt x="259" y="350"/>
                  <a:pt x="258" y="350"/>
                  <a:pt x="257" y="350"/>
                </a:cubicBezTo>
                <a:cubicBezTo>
                  <a:pt x="258" y="347"/>
                  <a:pt x="258" y="347"/>
                  <a:pt x="258" y="347"/>
                </a:cubicBezTo>
                <a:cubicBezTo>
                  <a:pt x="257" y="345"/>
                  <a:pt x="253" y="348"/>
                  <a:pt x="254" y="345"/>
                </a:cubicBezTo>
                <a:cubicBezTo>
                  <a:pt x="252" y="343"/>
                  <a:pt x="249" y="344"/>
                  <a:pt x="248" y="342"/>
                </a:cubicBezTo>
                <a:cubicBezTo>
                  <a:pt x="246" y="342"/>
                  <a:pt x="245" y="341"/>
                  <a:pt x="243" y="341"/>
                </a:cubicBezTo>
                <a:cubicBezTo>
                  <a:pt x="243" y="341"/>
                  <a:pt x="243" y="341"/>
                  <a:pt x="243" y="340"/>
                </a:cubicBezTo>
                <a:cubicBezTo>
                  <a:pt x="242" y="339"/>
                  <a:pt x="241" y="340"/>
                  <a:pt x="240" y="340"/>
                </a:cubicBezTo>
                <a:cubicBezTo>
                  <a:pt x="239" y="343"/>
                  <a:pt x="235" y="340"/>
                  <a:pt x="234" y="342"/>
                </a:cubicBezTo>
                <a:cubicBezTo>
                  <a:pt x="235" y="339"/>
                  <a:pt x="239" y="339"/>
                  <a:pt x="241" y="338"/>
                </a:cubicBezTo>
                <a:cubicBezTo>
                  <a:pt x="250" y="340"/>
                  <a:pt x="260" y="344"/>
                  <a:pt x="267" y="349"/>
                </a:cubicBezTo>
                <a:close/>
                <a:moveTo>
                  <a:pt x="271" y="350"/>
                </a:moveTo>
                <a:cubicBezTo>
                  <a:pt x="273" y="348"/>
                  <a:pt x="275" y="353"/>
                  <a:pt x="276" y="350"/>
                </a:cubicBezTo>
                <a:cubicBezTo>
                  <a:pt x="281" y="349"/>
                  <a:pt x="282" y="354"/>
                  <a:pt x="286" y="354"/>
                </a:cubicBezTo>
                <a:cubicBezTo>
                  <a:pt x="284" y="355"/>
                  <a:pt x="281" y="354"/>
                  <a:pt x="279" y="355"/>
                </a:cubicBezTo>
                <a:cubicBezTo>
                  <a:pt x="279" y="355"/>
                  <a:pt x="278" y="355"/>
                  <a:pt x="277" y="355"/>
                </a:cubicBezTo>
                <a:cubicBezTo>
                  <a:pt x="277" y="356"/>
                  <a:pt x="276" y="356"/>
                  <a:pt x="276" y="357"/>
                </a:cubicBezTo>
                <a:cubicBezTo>
                  <a:pt x="275" y="354"/>
                  <a:pt x="271" y="356"/>
                  <a:pt x="269" y="355"/>
                </a:cubicBezTo>
                <a:cubicBezTo>
                  <a:pt x="269" y="356"/>
                  <a:pt x="268" y="355"/>
                  <a:pt x="267" y="355"/>
                </a:cubicBezTo>
                <a:cubicBezTo>
                  <a:pt x="267" y="355"/>
                  <a:pt x="266" y="355"/>
                  <a:pt x="267" y="354"/>
                </a:cubicBezTo>
                <a:cubicBezTo>
                  <a:pt x="269" y="355"/>
                  <a:pt x="271" y="355"/>
                  <a:pt x="273" y="354"/>
                </a:cubicBezTo>
                <a:cubicBezTo>
                  <a:pt x="272" y="353"/>
                  <a:pt x="272" y="350"/>
                  <a:pt x="271" y="350"/>
                </a:cubicBezTo>
                <a:cubicBezTo>
                  <a:pt x="271" y="350"/>
                  <a:pt x="271" y="350"/>
                  <a:pt x="271" y="350"/>
                </a:cubicBezTo>
                <a:close/>
                <a:moveTo>
                  <a:pt x="260" y="356"/>
                </a:moveTo>
                <a:cubicBezTo>
                  <a:pt x="259" y="356"/>
                  <a:pt x="257" y="358"/>
                  <a:pt x="255" y="357"/>
                </a:cubicBezTo>
                <a:cubicBezTo>
                  <a:pt x="254" y="355"/>
                  <a:pt x="254" y="355"/>
                  <a:pt x="254" y="355"/>
                </a:cubicBezTo>
                <a:cubicBezTo>
                  <a:pt x="256" y="355"/>
                  <a:pt x="258" y="354"/>
                  <a:pt x="260" y="356"/>
                </a:cubicBezTo>
                <a:close/>
                <a:moveTo>
                  <a:pt x="295" y="355"/>
                </a:moveTo>
                <a:cubicBezTo>
                  <a:pt x="294" y="358"/>
                  <a:pt x="292" y="356"/>
                  <a:pt x="290" y="357"/>
                </a:cubicBezTo>
                <a:cubicBezTo>
                  <a:pt x="289" y="354"/>
                  <a:pt x="293" y="355"/>
                  <a:pt x="295" y="355"/>
                </a:cubicBezTo>
                <a:close/>
                <a:moveTo>
                  <a:pt x="231" y="379"/>
                </a:moveTo>
                <a:cubicBezTo>
                  <a:pt x="231" y="380"/>
                  <a:pt x="231" y="380"/>
                  <a:pt x="231" y="380"/>
                </a:cubicBezTo>
                <a:cubicBezTo>
                  <a:pt x="228" y="378"/>
                  <a:pt x="228" y="378"/>
                  <a:pt x="228" y="378"/>
                </a:cubicBezTo>
                <a:cubicBezTo>
                  <a:pt x="230" y="377"/>
                  <a:pt x="231" y="378"/>
                  <a:pt x="231" y="379"/>
                </a:cubicBezTo>
                <a:close/>
                <a:moveTo>
                  <a:pt x="309" y="381"/>
                </a:moveTo>
                <a:cubicBezTo>
                  <a:pt x="309" y="382"/>
                  <a:pt x="308" y="383"/>
                  <a:pt x="308" y="383"/>
                </a:cubicBezTo>
                <a:cubicBezTo>
                  <a:pt x="307" y="383"/>
                  <a:pt x="307" y="383"/>
                  <a:pt x="307" y="383"/>
                </a:cubicBezTo>
                <a:cubicBezTo>
                  <a:pt x="308" y="382"/>
                  <a:pt x="308" y="382"/>
                  <a:pt x="307" y="381"/>
                </a:cubicBezTo>
                <a:cubicBezTo>
                  <a:pt x="309" y="381"/>
                  <a:pt x="309" y="381"/>
                  <a:pt x="309" y="381"/>
                </a:cubicBezTo>
                <a:close/>
                <a:moveTo>
                  <a:pt x="275" y="386"/>
                </a:moveTo>
                <a:cubicBezTo>
                  <a:pt x="273" y="387"/>
                  <a:pt x="273" y="385"/>
                  <a:pt x="273" y="385"/>
                </a:cubicBezTo>
                <a:cubicBezTo>
                  <a:pt x="275" y="382"/>
                  <a:pt x="275" y="382"/>
                  <a:pt x="275" y="382"/>
                </a:cubicBezTo>
                <a:cubicBezTo>
                  <a:pt x="274" y="384"/>
                  <a:pt x="276" y="385"/>
                  <a:pt x="275" y="386"/>
                </a:cubicBezTo>
                <a:close/>
                <a:moveTo>
                  <a:pt x="328" y="401"/>
                </a:moveTo>
                <a:cubicBezTo>
                  <a:pt x="326" y="401"/>
                  <a:pt x="326" y="401"/>
                  <a:pt x="326" y="401"/>
                </a:cubicBezTo>
                <a:cubicBezTo>
                  <a:pt x="327" y="401"/>
                  <a:pt x="327" y="400"/>
                  <a:pt x="328" y="400"/>
                </a:cubicBezTo>
                <a:cubicBezTo>
                  <a:pt x="328" y="401"/>
                  <a:pt x="328" y="401"/>
                  <a:pt x="328" y="401"/>
                </a:cubicBezTo>
                <a:close/>
                <a:moveTo>
                  <a:pt x="210" y="421"/>
                </a:moveTo>
                <a:cubicBezTo>
                  <a:pt x="210" y="421"/>
                  <a:pt x="210" y="421"/>
                  <a:pt x="210" y="421"/>
                </a:cubicBezTo>
                <a:cubicBezTo>
                  <a:pt x="211" y="420"/>
                  <a:pt x="209" y="419"/>
                  <a:pt x="209" y="418"/>
                </a:cubicBezTo>
                <a:cubicBezTo>
                  <a:pt x="209" y="419"/>
                  <a:pt x="210" y="420"/>
                  <a:pt x="210" y="421"/>
                </a:cubicBezTo>
                <a:close/>
                <a:moveTo>
                  <a:pt x="346" y="425"/>
                </a:moveTo>
                <a:cubicBezTo>
                  <a:pt x="346" y="426"/>
                  <a:pt x="347" y="423"/>
                  <a:pt x="346" y="423"/>
                </a:cubicBezTo>
                <a:cubicBezTo>
                  <a:pt x="344" y="423"/>
                  <a:pt x="344" y="423"/>
                  <a:pt x="344" y="423"/>
                </a:cubicBezTo>
                <a:cubicBezTo>
                  <a:pt x="346" y="424"/>
                  <a:pt x="346" y="422"/>
                  <a:pt x="348" y="423"/>
                </a:cubicBezTo>
                <a:cubicBezTo>
                  <a:pt x="346" y="425"/>
                  <a:pt x="346" y="425"/>
                  <a:pt x="346" y="425"/>
                </a:cubicBezTo>
                <a:close/>
                <a:moveTo>
                  <a:pt x="348" y="434"/>
                </a:moveTo>
                <a:cubicBezTo>
                  <a:pt x="348" y="433"/>
                  <a:pt x="345" y="432"/>
                  <a:pt x="346" y="430"/>
                </a:cubicBezTo>
                <a:cubicBezTo>
                  <a:pt x="347" y="431"/>
                  <a:pt x="348" y="432"/>
                  <a:pt x="348" y="434"/>
                </a:cubicBezTo>
                <a:close/>
                <a:moveTo>
                  <a:pt x="284" y="473"/>
                </a:moveTo>
                <a:cubicBezTo>
                  <a:pt x="281" y="470"/>
                  <a:pt x="281" y="470"/>
                  <a:pt x="281" y="470"/>
                </a:cubicBezTo>
                <a:cubicBezTo>
                  <a:pt x="281" y="469"/>
                  <a:pt x="281" y="469"/>
                  <a:pt x="281" y="469"/>
                </a:cubicBezTo>
                <a:cubicBezTo>
                  <a:pt x="285" y="472"/>
                  <a:pt x="285" y="472"/>
                  <a:pt x="285" y="472"/>
                </a:cubicBezTo>
                <a:cubicBezTo>
                  <a:pt x="284" y="473"/>
                  <a:pt x="284" y="473"/>
                  <a:pt x="284" y="473"/>
                </a:cubicBezTo>
                <a:close/>
                <a:moveTo>
                  <a:pt x="351" y="479"/>
                </a:moveTo>
                <a:cubicBezTo>
                  <a:pt x="348" y="479"/>
                  <a:pt x="348" y="479"/>
                  <a:pt x="348" y="479"/>
                </a:cubicBezTo>
                <a:cubicBezTo>
                  <a:pt x="349" y="479"/>
                  <a:pt x="350" y="477"/>
                  <a:pt x="351" y="479"/>
                </a:cubicBezTo>
                <a:close/>
                <a:moveTo>
                  <a:pt x="342" y="484"/>
                </a:moveTo>
                <a:cubicBezTo>
                  <a:pt x="341" y="487"/>
                  <a:pt x="341" y="487"/>
                  <a:pt x="341" y="487"/>
                </a:cubicBezTo>
                <a:cubicBezTo>
                  <a:pt x="342" y="484"/>
                  <a:pt x="342" y="484"/>
                  <a:pt x="342" y="484"/>
                </a:cubicBezTo>
                <a:close/>
                <a:moveTo>
                  <a:pt x="361" y="487"/>
                </a:moveTo>
                <a:cubicBezTo>
                  <a:pt x="361" y="487"/>
                  <a:pt x="361" y="487"/>
                  <a:pt x="361" y="487"/>
                </a:cubicBezTo>
                <a:cubicBezTo>
                  <a:pt x="360" y="486"/>
                  <a:pt x="360" y="486"/>
                  <a:pt x="360" y="486"/>
                </a:cubicBezTo>
                <a:cubicBezTo>
                  <a:pt x="360" y="487"/>
                  <a:pt x="360" y="487"/>
                  <a:pt x="360" y="487"/>
                </a:cubicBezTo>
                <a:cubicBezTo>
                  <a:pt x="359" y="486"/>
                  <a:pt x="359" y="486"/>
                  <a:pt x="359" y="486"/>
                </a:cubicBezTo>
                <a:cubicBezTo>
                  <a:pt x="360" y="486"/>
                  <a:pt x="361" y="486"/>
                  <a:pt x="361" y="487"/>
                </a:cubicBezTo>
                <a:close/>
                <a:moveTo>
                  <a:pt x="340" y="488"/>
                </a:moveTo>
                <a:cubicBezTo>
                  <a:pt x="340" y="490"/>
                  <a:pt x="339" y="491"/>
                  <a:pt x="338" y="492"/>
                </a:cubicBezTo>
                <a:cubicBezTo>
                  <a:pt x="338" y="491"/>
                  <a:pt x="341" y="490"/>
                  <a:pt x="340" y="488"/>
                </a:cubicBezTo>
                <a:cubicBezTo>
                  <a:pt x="340" y="488"/>
                  <a:pt x="340" y="488"/>
                  <a:pt x="340" y="488"/>
                </a:cubicBezTo>
                <a:close/>
                <a:moveTo>
                  <a:pt x="344" y="494"/>
                </a:moveTo>
                <a:cubicBezTo>
                  <a:pt x="342" y="494"/>
                  <a:pt x="342" y="494"/>
                  <a:pt x="342" y="494"/>
                </a:cubicBezTo>
                <a:cubicBezTo>
                  <a:pt x="344" y="494"/>
                  <a:pt x="344" y="494"/>
                  <a:pt x="344" y="494"/>
                </a:cubicBezTo>
                <a:cubicBezTo>
                  <a:pt x="344" y="494"/>
                  <a:pt x="344" y="494"/>
                  <a:pt x="344" y="494"/>
                </a:cubicBezTo>
                <a:close/>
                <a:moveTo>
                  <a:pt x="335" y="498"/>
                </a:moveTo>
                <a:cubicBezTo>
                  <a:pt x="336" y="494"/>
                  <a:pt x="336" y="494"/>
                  <a:pt x="336" y="494"/>
                </a:cubicBezTo>
                <a:cubicBezTo>
                  <a:pt x="336" y="496"/>
                  <a:pt x="336" y="496"/>
                  <a:pt x="336" y="496"/>
                </a:cubicBezTo>
                <a:cubicBezTo>
                  <a:pt x="335" y="498"/>
                  <a:pt x="335" y="498"/>
                  <a:pt x="335" y="498"/>
                </a:cubicBezTo>
                <a:close/>
                <a:moveTo>
                  <a:pt x="310" y="523"/>
                </a:moveTo>
                <a:cubicBezTo>
                  <a:pt x="309" y="523"/>
                  <a:pt x="308" y="525"/>
                  <a:pt x="308" y="523"/>
                </a:cubicBezTo>
                <a:cubicBezTo>
                  <a:pt x="308" y="522"/>
                  <a:pt x="310" y="522"/>
                  <a:pt x="310" y="523"/>
                </a:cubicBezTo>
                <a:close/>
                <a:moveTo>
                  <a:pt x="290" y="600"/>
                </a:moveTo>
                <a:cubicBezTo>
                  <a:pt x="288" y="599"/>
                  <a:pt x="288" y="599"/>
                  <a:pt x="288" y="599"/>
                </a:cubicBezTo>
                <a:cubicBezTo>
                  <a:pt x="290" y="600"/>
                  <a:pt x="290" y="600"/>
                  <a:pt x="290" y="600"/>
                </a:cubicBezTo>
                <a:cubicBezTo>
                  <a:pt x="290" y="600"/>
                  <a:pt x="290" y="600"/>
                  <a:pt x="290" y="600"/>
                </a:cubicBezTo>
                <a:close/>
                <a:moveTo>
                  <a:pt x="292" y="605"/>
                </a:moveTo>
                <a:cubicBezTo>
                  <a:pt x="291" y="606"/>
                  <a:pt x="290" y="606"/>
                  <a:pt x="289" y="607"/>
                </a:cubicBezTo>
                <a:cubicBezTo>
                  <a:pt x="289" y="606"/>
                  <a:pt x="291" y="605"/>
                  <a:pt x="292" y="605"/>
                </a:cubicBezTo>
                <a:close/>
                <a:moveTo>
                  <a:pt x="285" y="609"/>
                </a:moveTo>
                <a:cubicBezTo>
                  <a:pt x="284" y="610"/>
                  <a:pt x="284" y="610"/>
                  <a:pt x="284" y="610"/>
                </a:cubicBezTo>
                <a:cubicBezTo>
                  <a:pt x="285" y="610"/>
                  <a:pt x="285" y="611"/>
                  <a:pt x="285" y="611"/>
                </a:cubicBezTo>
                <a:cubicBezTo>
                  <a:pt x="284" y="611"/>
                  <a:pt x="284" y="611"/>
                  <a:pt x="284" y="611"/>
                </a:cubicBezTo>
                <a:cubicBezTo>
                  <a:pt x="286" y="610"/>
                  <a:pt x="282" y="609"/>
                  <a:pt x="284" y="608"/>
                </a:cubicBezTo>
                <a:cubicBezTo>
                  <a:pt x="284" y="608"/>
                  <a:pt x="284" y="609"/>
                  <a:pt x="285" y="609"/>
                </a:cubicBezTo>
                <a:close/>
                <a:moveTo>
                  <a:pt x="335" y="609"/>
                </a:moveTo>
                <a:cubicBezTo>
                  <a:pt x="331" y="612"/>
                  <a:pt x="331" y="612"/>
                  <a:pt x="331" y="612"/>
                </a:cubicBezTo>
                <a:cubicBezTo>
                  <a:pt x="331" y="610"/>
                  <a:pt x="334" y="610"/>
                  <a:pt x="332" y="608"/>
                </a:cubicBezTo>
                <a:cubicBezTo>
                  <a:pt x="333" y="608"/>
                  <a:pt x="335" y="609"/>
                  <a:pt x="335" y="609"/>
                </a:cubicBezTo>
                <a:close/>
                <a:moveTo>
                  <a:pt x="331" y="609"/>
                </a:moveTo>
                <a:cubicBezTo>
                  <a:pt x="330" y="611"/>
                  <a:pt x="328" y="610"/>
                  <a:pt x="328" y="612"/>
                </a:cubicBezTo>
                <a:cubicBezTo>
                  <a:pt x="328" y="610"/>
                  <a:pt x="328" y="608"/>
                  <a:pt x="331" y="609"/>
                </a:cubicBezTo>
                <a:close/>
                <a:moveTo>
                  <a:pt x="305" y="617"/>
                </a:moveTo>
                <a:cubicBezTo>
                  <a:pt x="304" y="620"/>
                  <a:pt x="309" y="621"/>
                  <a:pt x="310" y="623"/>
                </a:cubicBezTo>
                <a:cubicBezTo>
                  <a:pt x="312" y="624"/>
                  <a:pt x="314" y="625"/>
                  <a:pt x="316" y="625"/>
                </a:cubicBezTo>
                <a:cubicBezTo>
                  <a:pt x="315" y="626"/>
                  <a:pt x="314" y="627"/>
                  <a:pt x="313" y="627"/>
                </a:cubicBezTo>
                <a:cubicBezTo>
                  <a:pt x="313" y="626"/>
                  <a:pt x="312" y="627"/>
                  <a:pt x="311" y="627"/>
                </a:cubicBezTo>
                <a:cubicBezTo>
                  <a:pt x="311" y="627"/>
                  <a:pt x="311" y="627"/>
                  <a:pt x="311" y="627"/>
                </a:cubicBezTo>
                <a:cubicBezTo>
                  <a:pt x="311" y="628"/>
                  <a:pt x="311" y="628"/>
                  <a:pt x="311" y="628"/>
                </a:cubicBezTo>
                <a:cubicBezTo>
                  <a:pt x="309" y="629"/>
                  <a:pt x="308" y="627"/>
                  <a:pt x="307" y="628"/>
                </a:cubicBezTo>
                <a:cubicBezTo>
                  <a:pt x="308" y="630"/>
                  <a:pt x="308" y="630"/>
                  <a:pt x="308" y="630"/>
                </a:cubicBezTo>
                <a:cubicBezTo>
                  <a:pt x="307" y="628"/>
                  <a:pt x="305" y="631"/>
                  <a:pt x="304" y="629"/>
                </a:cubicBezTo>
                <a:cubicBezTo>
                  <a:pt x="304" y="628"/>
                  <a:pt x="306" y="628"/>
                  <a:pt x="304" y="627"/>
                </a:cubicBezTo>
                <a:cubicBezTo>
                  <a:pt x="303" y="626"/>
                  <a:pt x="302" y="627"/>
                  <a:pt x="301" y="628"/>
                </a:cubicBezTo>
                <a:cubicBezTo>
                  <a:pt x="301" y="628"/>
                  <a:pt x="301" y="628"/>
                  <a:pt x="301" y="628"/>
                </a:cubicBezTo>
                <a:cubicBezTo>
                  <a:pt x="300" y="628"/>
                  <a:pt x="300" y="628"/>
                  <a:pt x="300" y="628"/>
                </a:cubicBezTo>
                <a:cubicBezTo>
                  <a:pt x="301" y="627"/>
                  <a:pt x="300" y="627"/>
                  <a:pt x="299" y="626"/>
                </a:cubicBezTo>
                <a:cubicBezTo>
                  <a:pt x="299" y="626"/>
                  <a:pt x="298" y="626"/>
                  <a:pt x="298" y="627"/>
                </a:cubicBezTo>
                <a:cubicBezTo>
                  <a:pt x="299" y="625"/>
                  <a:pt x="303" y="625"/>
                  <a:pt x="305" y="624"/>
                </a:cubicBezTo>
                <a:cubicBezTo>
                  <a:pt x="301" y="623"/>
                  <a:pt x="301" y="623"/>
                  <a:pt x="301" y="623"/>
                </a:cubicBezTo>
                <a:cubicBezTo>
                  <a:pt x="304" y="620"/>
                  <a:pt x="304" y="620"/>
                  <a:pt x="304" y="620"/>
                </a:cubicBezTo>
                <a:cubicBezTo>
                  <a:pt x="303" y="619"/>
                  <a:pt x="302" y="621"/>
                  <a:pt x="300" y="620"/>
                </a:cubicBezTo>
                <a:cubicBezTo>
                  <a:pt x="300" y="618"/>
                  <a:pt x="301" y="618"/>
                  <a:pt x="302" y="616"/>
                </a:cubicBezTo>
                <a:cubicBezTo>
                  <a:pt x="303" y="616"/>
                  <a:pt x="305" y="616"/>
                  <a:pt x="305" y="617"/>
                </a:cubicBezTo>
                <a:close/>
                <a:moveTo>
                  <a:pt x="293" y="617"/>
                </a:moveTo>
                <a:cubicBezTo>
                  <a:pt x="294" y="616"/>
                  <a:pt x="294" y="616"/>
                  <a:pt x="294" y="616"/>
                </a:cubicBezTo>
                <a:cubicBezTo>
                  <a:pt x="295" y="617"/>
                  <a:pt x="295" y="617"/>
                  <a:pt x="295" y="617"/>
                </a:cubicBezTo>
                <a:cubicBezTo>
                  <a:pt x="295" y="616"/>
                  <a:pt x="293" y="618"/>
                  <a:pt x="292" y="618"/>
                </a:cubicBezTo>
                <a:cubicBezTo>
                  <a:pt x="293" y="618"/>
                  <a:pt x="292" y="617"/>
                  <a:pt x="292" y="617"/>
                </a:cubicBezTo>
                <a:cubicBezTo>
                  <a:pt x="292" y="616"/>
                  <a:pt x="292" y="616"/>
                  <a:pt x="292" y="616"/>
                </a:cubicBezTo>
                <a:cubicBezTo>
                  <a:pt x="293" y="617"/>
                  <a:pt x="293" y="617"/>
                  <a:pt x="293" y="617"/>
                </a:cubicBezTo>
                <a:close/>
                <a:moveTo>
                  <a:pt x="297" y="618"/>
                </a:moveTo>
                <a:cubicBezTo>
                  <a:pt x="296" y="619"/>
                  <a:pt x="296" y="620"/>
                  <a:pt x="296" y="620"/>
                </a:cubicBezTo>
                <a:cubicBezTo>
                  <a:pt x="295" y="620"/>
                  <a:pt x="295" y="620"/>
                  <a:pt x="295" y="620"/>
                </a:cubicBezTo>
                <a:cubicBezTo>
                  <a:pt x="295" y="620"/>
                  <a:pt x="295" y="620"/>
                  <a:pt x="295" y="620"/>
                </a:cubicBezTo>
                <a:cubicBezTo>
                  <a:pt x="294" y="619"/>
                  <a:pt x="296" y="619"/>
                  <a:pt x="297" y="618"/>
                </a:cubicBezTo>
                <a:close/>
                <a:moveTo>
                  <a:pt x="295" y="623"/>
                </a:moveTo>
                <a:cubicBezTo>
                  <a:pt x="295" y="623"/>
                  <a:pt x="295" y="624"/>
                  <a:pt x="294" y="624"/>
                </a:cubicBezTo>
                <a:cubicBezTo>
                  <a:pt x="290" y="625"/>
                  <a:pt x="292" y="619"/>
                  <a:pt x="288" y="620"/>
                </a:cubicBezTo>
                <a:cubicBezTo>
                  <a:pt x="287" y="619"/>
                  <a:pt x="287" y="619"/>
                  <a:pt x="287" y="619"/>
                </a:cubicBezTo>
                <a:cubicBezTo>
                  <a:pt x="289" y="620"/>
                  <a:pt x="292" y="622"/>
                  <a:pt x="295" y="623"/>
                </a:cubicBezTo>
                <a:close/>
                <a:moveTo>
                  <a:pt x="401" y="620"/>
                </a:moveTo>
                <a:cubicBezTo>
                  <a:pt x="398" y="619"/>
                  <a:pt x="398" y="619"/>
                  <a:pt x="398" y="619"/>
                </a:cubicBezTo>
                <a:cubicBezTo>
                  <a:pt x="399" y="619"/>
                  <a:pt x="399" y="619"/>
                  <a:pt x="399" y="619"/>
                </a:cubicBezTo>
                <a:cubicBezTo>
                  <a:pt x="401" y="620"/>
                  <a:pt x="401" y="620"/>
                  <a:pt x="401" y="620"/>
                </a:cubicBezTo>
                <a:close/>
                <a:moveTo>
                  <a:pt x="299" y="624"/>
                </a:moveTo>
                <a:cubicBezTo>
                  <a:pt x="296" y="624"/>
                  <a:pt x="296" y="624"/>
                  <a:pt x="296" y="624"/>
                </a:cubicBezTo>
                <a:cubicBezTo>
                  <a:pt x="298" y="624"/>
                  <a:pt x="298" y="624"/>
                  <a:pt x="298" y="624"/>
                </a:cubicBezTo>
                <a:cubicBezTo>
                  <a:pt x="299" y="624"/>
                  <a:pt x="299" y="624"/>
                  <a:pt x="299" y="624"/>
                </a:cubicBezTo>
                <a:close/>
                <a:moveTo>
                  <a:pt x="115" y="55"/>
                </a:moveTo>
                <a:cubicBezTo>
                  <a:pt x="114" y="57"/>
                  <a:pt x="110" y="54"/>
                  <a:pt x="111" y="58"/>
                </a:cubicBezTo>
                <a:cubicBezTo>
                  <a:pt x="111" y="58"/>
                  <a:pt x="112" y="59"/>
                  <a:pt x="113" y="59"/>
                </a:cubicBezTo>
                <a:cubicBezTo>
                  <a:pt x="114" y="58"/>
                  <a:pt x="114" y="57"/>
                  <a:pt x="116" y="56"/>
                </a:cubicBezTo>
                <a:cubicBezTo>
                  <a:pt x="116" y="57"/>
                  <a:pt x="116" y="58"/>
                  <a:pt x="115" y="59"/>
                </a:cubicBezTo>
                <a:cubicBezTo>
                  <a:pt x="116" y="60"/>
                  <a:pt x="119" y="59"/>
                  <a:pt x="120" y="60"/>
                </a:cubicBezTo>
                <a:cubicBezTo>
                  <a:pt x="118" y="62"/>
                  <a:pt x="120" y="63"/>
                  <a:pt x="121" y="65"/>
                </a:cubicBezTo>
                <a:cubicBezTo>
                  <a:pt x="121" y="66"/>
                  <a:pt x="120" y="67"/>
                  <a:pt x="121" y="67"/>
                </a:cubicBezTo>
                <a:cubicBezTo>
                  <a:pt x="122" y="66"/>
                  <a:pt x="124" y="66"/>
                  <a:pt x="126" y="66"/>
                </a:cubicBezTo>
                <a:cubicBezTo>
                  <a:pt x="126" y="67"/>
                  <a:pt x="126" y="67"/>
                  <a:pt x="126" y="67"/>
                </a:cubicBezTo>
                <a:cubicBezTo>
                  <a:pt x="126" y="67"/>
                  <a:pt x="126" y="67"/>
                  <a:pt x="126" y="67"/>
                </a:cubicBezTo>
                <a:cubicBezTo>
                  <a:pt x="128" y="71"/>
                  <a:pt x="133" y="71"/>
                  <a:pt x="135" y="75"/>
                </a:cubicBezTo>
                <a:cubicBezTo>
                  <a:pt x="136" y="74"/>
                  <a:pt x="138" y="75"/>
                  <a:pt x="138" y="74"/>
                </a:cubicBezTo>
                <a:cubicBezTo>
                  <a:pt x="140" y="81"/>
                  <a:pt x="149" y="80"/>
                  <a:pt x="149" y="88"/>
                </a:cubicBezTo>
                <a:cubicBezTo>
                  <a:pt x="151" y="89"/>
                  <a:pt x="152" y="91"/>
                  <a:pt x="153" y="92"/>
                </a:cubicBezTo>
                <a:cubicBezTo>
                  <a:pt x="153" y="91"/>
                  <a:pt x="155" y="90"/>
                  <a:pt x="154" y="89"/>
                </a:cubicBezTo>
                <a:cubicBezTo>
                  <a:pt x="153" y="89"/>
                  <a:pt x="153" y="89"/>
                  <a:pt x="153" y="89"/>
                </a:cubicBezTo>
                <a:cubicBezTo>
                  <a:pt x="155" y="87"/>
                  <a:pt x="155" y="87"/>
                  <a:pt x="155" y="87"/>
                </a:cubicBezTo>
                <a:cubicBezTo>
                  <a:pt x="155" y="88"/>
                  <a:pt x="155" y="88"/>
                  <a:pt x="156" y="88"/>
                </a:cubicBezTo>
                <a:cubicBezTo>
                  <a:pt x="157" y="87"/>
                  <a:pt x="157" y="87"/>
                  <a:pt x="157" y="87"/>
                </a:cubicBezTo>
                <a:cubicBezTo>
                  <a:pt x="158" y="87"/>
                  <a:pt x="160" y="86"/>
                  <a:pt x="160" y="86"/>
                </a:cubicBezTo>
                <a:cubicBezTo>
                  <a:pt x="160" y="87"/>
                  <a:pt x="160" y="87"/>
                  <a:pt x="160" y="87"/>
                </a:cubicBezTo>
                <a:cubicBezTo>
                  <a:pt x="159" y="87"/>
                  <a:pt x="159" y="88"/>
                  <a:pt x="158" y="88"/>
                </a:cubicBezTo>
                <a:cubicBezTo>
                  <a:pt x="159" y="89"/>
                  <a:pt x="161" y="88"/>
                  <a:pt x="163" y="88"/>
                </a:cubicBezTo>
                <a:cubicBezTo>
                  <a:pt x="164" y="85"/>
                  <a:pt x="169" y="87"/>
                  <a:pt x="171" y="85"/>
                </a:cubicBezTo>
                <a:cubicBezTo>
                  <a:pt x="173" y="84"/>
                  <a:pt x="173" y="87"/>
                  <a:pt x="174" y="85"/>
                </a:cubicBezTo>
                <a:cubicBezTo>
                  <a:pt x="175" y="86"/>
                  <a:pt x="173" y="86"/>
                  <a:pt x="172" y="87"/>
                </a:cubicBezTo>
                <a:cubicBezTo>
                  <a:pt x="172" y="86"/>
                  <a:pt x="171" y="87"/>
                  <a:pt x="171" y="88"/>
                </a:cubicBezTo>
                <a:cubicBezTo>
                  <a:pt x="172" y="90"/>
                  <a:pt x="173" y="87"/>
                  <a:pt x="175" y="88"/>
                </a:cubicBezTo>
                <a:cubicBezTo>
                  <a:pt x="174" y="88"/>
                  <a:pt x="174" y="88"/>
                  <a:pt x="174" y="88"/>
                </a:cubicBezTo>
                <a:cubicBezTo>
                  <a:pt x="176" y="90"/>
                  <a:pt x="177" y="87"/>
                  <a:pt x="179" y="87"/>
                </a:cubicBezTo>
                <a:cubicBezTo>
                  <a:pt x="180" y="83"/>
                  <a:pt x="180" y="83"/>
                  <a:pt x="180" y="83"/>
                </a:cubicBezTo>
                <a:cubicBezTo>
                  <a:pt x="182" y="87"/>
                  <a:pt x="177" y="92"/>
                  <a:pt x="182" y="95"/>
                </a:cubicBezTo>
                <a:cubicBezTo>
                  <a:pt x="182" y="95"/>
                  <a:pt x="183" y="95"/>
                  <a:pt x="183" y="94"/>
                </a:cubicBezTo>
                <a:cubicBezTo>
                  <a:pt x="182" y="93"/>
                  <a:pt x="182" y="93"/>
                  <a:pt x="182" y="93"/>
                </a:cubicBezTo>
                <a:cubicBezTo>
                  <a:pt x="184" y="92"/>
                  <a:pt x="185" y="91"/>
                  <a:pt x="187" y="90"/>
                </a:cubicBezTo>
                <a:cubicBezTo>
                  <a:pt x="187" y="91"/>
                  <a:pt x="184" y="92"/>
                  <a:pt x="186" y="93"/>
                </a:cubicBezTo>
                <a:cubicBezTo>
                  <a:pt x="184" y="95"/>
                  <a:pt x="184" y="95"/>
                  <a:pt x="184" y="95"/>
                </a:cubicBezTo>
                <a:cubicBezTo>
                  <a:pt x="185" y="96"/>
                  <a:pt x="187" y="96"/>
                  <a:pt x="188" y="95"/>
                </a:cubicBezTo>
                <a:cubicBezTo>
                  <a:pt x="189" y="92"/>
                  <a:pt x="191" y="94"/>
                  <a:pt x="193" y="95"/>
                </a:cubicBezTo>
                <a:cubicBezTo>
                  <a:pt x="194" y="100"/>
                  <a:pt x="199" y="102"/>
                  <a:pt x="203" y="105"/>
                </a:cubicBezTo>
                <a:cubicBezTo>
                  <a:pt x="205" y="103"/>
                  <a:pt x="207" y="106"/>
                  <a:pt x="207" y="107"/>
                </a:cubicBezTo>
                <a:cubicBezTo>
                  <a:pt x="207" y="110"/>
                  <a:pt x="207" y="110"/>
                  <a:pt x="207" y="110"/>
                </a:cubicBezTo>
                <a:cubicBezTo>
                  <a:pt x="206" y="109"/>
                  <a:pt x="204" y="109"/>
                  <a:pt x="203" y="110"/>
                </a:cubicBezTo>
                <a:cubicBezTo>
                  <a:pt x="202" y="110"/>
                  <a:pt x="202" y="111"/>
                  <a:pt x="201" y="112"/>
                </a:cubicBezTo>
                <a:cubicBezTo>
                  <a:pt x="204" y="116"/>
                  <a:pt x="210" y="117"/>
                  <a:pt x="215" y="115"/>
                </a:cubicBezTo>
                <a:cubicBezTo>
                  <a:pt x="215" y="115"/>
                  <a:pt x="215" y="115"/>
                  <a:pt x="215" y="115"/>
                </a:cubicBezTo>
                <a:cubicBezTo>
                  <a:pt x="215" y="116"/>
                  <a:pt x="218" y="117"/>
                  <a:pt x="216" y="119"/>
                </a:cubicBezTo>
                <a:cubicBezTo>
                  <a:pt x="218" y="125"/>
                  <a:pt x="218" y="125"/>
                  <a:pt x="218" y="125"/>
                </a:cubicBezTo>
                <a:cubicBezTo>
                  <a:pt x="219" y="125"/>
                  <a:pt x="218" y="123"/>
                  <a:pt x="220" y="124"/>
                </a:cubicBezTo>
                <a:cubicBezTo>
                  <a:pt x="222" y="122"/>
                  <a:pt x="219" y="116"/>
                  <a:pt x="224" y="116"/>
                </a:cubicBezTo>
                <a:cubicBezTo>
                  <a:pt x="227" y="116"/>
                  <a:pt x="227" y="113"/>
                  <a:pt x="230" y="113"/>
                </a:cubicBezTo>
                <a:cubicBezTo>
                  <a:pt x="229" y="109"/>
                  <a:pt x="226" y="114"/>
                  <a:pt x="223" y="113"/>
                </a:cubicBezTo>
                <a:cubicBezTo>
                  <a:pt x="223" y="114"/>
                  <a:pt x="223" y="114"/>
                  <a:pt x="223" y="114"/>
                </a:cubicBezTo>
                <a:cubicBezTo>
                  <a:pt x="223" y="114"/>
                  <a:pt x="222" y="113"/>
                  <a:pt x="222" y="112"/>
                </a:cubicBezTo>
                <a:cubicBezTo>
                  <a:pt x="225" y="112"/>
                  <a:pt x="230" y="109"/>
                  <a:pt x="231" y="112"/>
                </a:cubicBezTo>
                <a:cubicBezTo>
                  <a:pt x="230" y="113"/>
                  <a:pt x="230" y="115"/>
                  <a:pt x="231" y="116"/>
                </a:cubicBezTo>
                <a:cubicBezTo>
                  <a:pt x="231" y="116"/>
                  <a:pt x="231" y="116"/>
                  <a:pt x="231" y="116"/>
                </a:cubicBezTo>
                <a:cubicBezTo>
                  <a:pt x="231" y="117"/>
                  <a:pt x="231" y="117"/>
                  <a:pt x="231" y="117"/>
                </a:cubicBezTo>
                <a:cubicBezTo>
                  <a:pt x="235" y="117"/>
                  <a:pt x="237" y="125"/>
                  <a:pt x="241" y="121"/>
                </a:cubicBezTo>
                <a:cubicBezTo>
                  <a:pt x="243" y="122"/>
                  <a:pt x="245" y="125"/>
                  <a:pt x="247" y="123"/>
                </a:cubicBezTo>
                <a:cubicBezTo>
                  <a:pt x="247" y="121"/>
                  <a:pt x="247" y="121"/>
                  <a:pt x="247" y="121"/>
                </a:cubicBezTo>
                <a:cubicBezTo>
                  <a:pt x="248" y="121"/>
                  <a:pt x="248" y="119"/>
                  <a:pt x="249" y="119"/>
                </a:cubicBezTo>
                <a:cubicBezTo>
                  <a:pt x="249" y="119"/>
                  <a:pt x="249" y="119"/>
                  <a:pt x="249" y="119"/>
                </a:cubicBezTo>
                <a:cubicBezTo>
                  <a:pt x="251" y="118"/>
                  <a:pt x="251" y="118"/>
                  <a:pt x="251" y="118"/>
                </a:cubicBezTo>
                <a:cubicBezTo>
                  <a:pt x="252" y="119"/>
                  <a:pt x="252" y="123"/>
                  <a:pt x="254" y="121"/>
                </a:cubicBezTo>
                <a:cubicBezTo>
                  <a:pt x="253" y="122"/>
                  <a:pt x="252" y="124"/>
                  <a:pt x="251" y="125"/>
                </a:cubicBezTo>
                <a:cubicBezTo>
                  <a:pt x="251" y="127"/>
                  <a:pt x="254" y="128"/>
                  <a:pt x="252" y="129"/>
                </a:cubicBezTo>
                <a:cubicBezTo>
                  <a:pt x="252" y="130"/>
                  <a:pt x="252" y="130"/>
                  <a:pt x="253" y="130"/>
                </a:cubicBezTo>
                <a:cubicBezTo>
                  <a:pt x="255" y="128"/>
                  <a:pt x="253" y="121"/>
                  <a:pt x="257" y="123"/>
                </a:cubicBezTo>
                <a:cubicBezTo>
                  <a:pt x="260" y="121"/>
                  <a:pt x="264" y="120"/>
                  <a:pt x="262" y="116"/>
                </a:cubicBezTo>
                <a:cubicBezTo>
                  <a:pt x="261" y="117"/>
                  <a:pt x="261" y="117"/>
                  <a:pt x="261" y="117"/>
                </a:cubicBezTo>
                <a:cubicBezTo>
                  <a:pt x="260" y="117"/>
                  <a:pt x="260" y="117"/>
                  <a:pt x="260" y="117"/>
                </a:cubicBezTo>
                <a:cubicBezTo>
                  <a:pt x="263" y="114"/>
                  <a:pt x="263" y="114"/>
                  <a:pt x="263" y="114"/>
                </a:cubicBezTo>
                <a:cubicBezTo>
                  <a:pt x="264" y="115"/>
                  <a:pt x="264" y="115"/>
                  <a:pt x="264" y="115"/>
                </a:cubicBezTo>
                <a:cubicBezTo>
                  <a:pt x="264" y="115"/>
                  <a:pt x="265" y="114"/>
                  <a:pt x="265" y="113"/>
                </a:cubicBezTo>
                <a:cubicBezTo>
                  <a:pt x="262" y="113"/>
                  <a:pt x="261" y="111"/>
                  <a:pt x="259" y="109"/>
                </a:cubicBezTo>
                <a:cubicBezTo>
                  <a:pt x="257" y="105"/>
                  <a:pt x="264" y="105"/>
                  <a:pt x="261" y="102"/>
                </a:cubicBezTo>
                <a:cubicBezTo>
                  <a:pt x="262" y="101"/>
                  <a:pt x="263" y="99"/>
                  <a:pt x="264" y="97"/>
                </a:cubicBezTo>
                <a:cubicBezTo>
                  <a:pt x="265" y="99"/>
                  <a:pt x="265" y="99"/>
                  <a:pt x="265" y="99"/>
                </a:cubicBezTo>
                <a:cubicBezTo>
                  <a:pt x="267" y="99"/>
                  <a:pt x="267" y="97"/>
                  <a:pt x="266" y="96"/>
                </a:cubicBezTo>
                <a:cubicBezTo>
                  <a:pt x="268" y="95"/>
                  <a:pt x="269" y="93"/>
                  <a:pt x="271" y="96"/>
                </a:cubicBezTo>
                <a:cubicBezTo>
                  <a:pt x="273" y="99"/>
                  <a:pt x="269" y="103"/>
                  <a:pt x="271" y="106"/>
                </a:cubicBezTo>
                <a:cubicBezTo>
                  <a:pt x="270" y="106"/>
                  <a:pt x="271" y="107"/>
                  <a:pt x="271" y="108"/>
                </a:cubicBezTo>
                <a:cubicBezTo>
                  <a:pt x="272" y="109"/>
                  <a:pt x="272" y="109"/>
                  <a:pt x="272" y="109"/>
                </a:cubicBezTo>
                <a:cubicBezTo>
                  <a:pt x="272" y="109"/>
                  <a:pt x="267" y="107"/>
                  <a:pt x="269" y="111"/>
                </a:cubicBezTo>
                <a:cubicBezTo>
                  <a:pt x="268" y="111"/>
                  <a:pt x="268" y="112"/>
                  <a:pt x="267" y="112"/>
                </a:cubicBezTo>
                <a:cubicBezTo>
                  <a:pt x="267" y="113"/>
                  <a:pt x="268" y="114"/>
                  <a:pt x="269" y="115"/>
                </a:cubicBezTo>
                <a:cubicBezTo>
                  <a:pt x="269" y="115"/>
                  <a:pt x="270" y="114"/>
                  <a:pt x="270" y="114"/>
                </a:cubicBezTo>
                <a:cubicBezTo>
                  <a:pt x="271" y="115"/>
                  <a:pt x="271" y="115"/>
                  <a:pt x="271" y="115"/>
                </a:cubicBezTo>
                <a:cubicBezTo>
                  <a:pt x="270" y="115"/>
                  <a:pt x="270" y="116"/>
                  <a:pt x="269" y="116"/>
                </a:cubicBezTo>
                <a:cubicBezTo>
                  <a:pt x="271" y="118"/>
                  <a:pt x="270" y="121"/>
                  <a:pt x="269" y="123"/>
                </a:cubicBezTo>
                <a:cubicBezTo>
                  <a:pt x="270" y="124"/>
                  <a:pt x="271" y="123"/>
                  <a:pt x="271" y="122"/>
                </a:cubicBezTo>
                <a:cubicBezTo>
                  <a:pt x="274" y="121"/>
                  <a:pt x="273" y="118"/>
                  <a:pt x="275" y="117"/>
                </a:cubicBezTo>
                <a:cubicBezTo>
                  <a:pt x="275" y="119"/>
                  <a:pt x="276" y="121"/>
                  <a:pt x="276" y="123"/>
                </a:cubicBezTo>
                <a:cubicBezTo>
                  <a:pt x="274" y="122"/>
                  <a:pt x="274" y="125"/>
                  <a:pt x="273" y="125"/>
                </a:cubicBezTo>
                <a:cubicBezTo>
                  <a:pt x="273" y="128"/>
                  <a:pt x="274" y="130"/>
                  <a:pt x="275" y="132"/>
                </a:cubicBezTo>
                <a:cubicBezTo>
                  <a:pt x="277" y="130"/>
                  <a:pt x="281" y="126"/>
                  <a:pt x="283" y="123"/>
                </a:cubicBezTo>
                <a:cubicBezTo>
                  <a:pt x="283" y="122"/>
                  <a:pt x="283" y="123"/>
                  <a:pt x="284" y="123"/>
                </a:cubicBezTo>
                <a:cubicBezTo>
                  <a:pt x="286" y="120"/>
                  <a:pt x="286" y="120"/>
                  <a:pt x="286" y="120"/>
                </a:cubicBezTo>
                <a:cubicBezTo>
                  <a:pt x="285" y="119"/>
                  <a:pt x="286" y="117"/>
                  <a:pt x="287" y="116"/>
                </a:cubicBezTo>
                <a:cubicBezTo>
                  <a:pt x="288" y="115"/>
                  <a:pt x="289" y="116"/>
                  <a:pt x="290" y="116"/>
                </a:cubicBezTo>
                <a:cubicBezTo>
                  <a:pt x="291" y="117"/>
                  <a:pt x="292" y="118"/>
                  <a:pt x="293" y="117"/>
                </a:cubicBezTo>
                <a:cubicBezTo>
                  <a:pt x="292" y="119"/>
                  <a:pt x="294" y="121"/>
                  <a:pt x="295" y="121"/>
                </a:cubicBezTo>
                <a:cubicBezTo>
                  <a:pt x="295" y="123"/>
                  <a:pt x="293" y="123"/>
                  <a:pt x="295" y="124"/>
                </a:cubicBezTo>
                <a:cubicBezTo>
                  <a:pt x="294" y="126"/>
                  <a:pt x="292" y="126"/>
                  <a:pt x="291" y="125"/>
                </a:cubicBezTo>
                <a:cubicBezTo>
                  <a:pt x="289" y="128"/>
                  <a:pt x="291" y="131"/>
                  <a:pt x="291" y="134"/>
                </a:cubicBezTo>
                <a:cubicBezTo>
                  <a:pt x="288" y="135"/>
                  <a:pt x="286" y="138"/>
                  <a:pt x="283" y="139"/>
                </a:cubicBezTo>
                <a:cubicBezTo>
                  <a:pt x="282" y="137"/>
                  <a:pt x="283" y="134"/>
                  <a:pt x="280" y="134"/>
                </a:cubicBezTo>
                <a:cubicBezTo>
                  <a:pt x="280" y="135"/>
                  <a:pt x="280" y="135"/>
                  <a:pt x="280" y="135"/>
                </a:cubicBezTo>
                <a:cubicBezTo>
                  <a:pt x="281" y="136"/>
                  <a:pt x="282" y="137"/>
                  <a:pt x="281" y="139"/>
                </a:cubicBezTo>
                <a:cubicBezTo>
                  <a:pt x="281" y="139"/>
                  <a:pt x="281" y="138"/>
                  <a:pt x="280" y="138"/>
                </a:cubicBezTo>
                <a:cubicBezTo>
                  <a:pt x="279" y="139"/>
                  <a:pt x="279" y="139"/>
                  <a:pt x="279" y="139"/>
                </a:cubicBezTo>
                <a:cubicBezTo>
                  <a:pt x="279" y="136"/>
                  <a:pt x="276" y="136"/>
                  <a:pt x="275" y="136"/>
                </a:cubicBezTo>
                <a:cubicBezTo>
                  <a:pt x="274" y="137"/>
                  <a:pt x="274" y="137"/>
                  <a:pt x="274" y="138"/>
                </a:cubicBezTo>
                <a:cubicBezTo>
                  <a:pt x="274" y="138"/>
                  <a:pt x="275" y="139"/>
                  <a:pt x="275" y="139"/>
                </a:cubicBezTo>
                <a:cubicBezTo>
                  <a:pt x="274" y="140"/>
                  <a:pt x="272" y="143"/>
                  <a:pt x="270" y="144"/>
                </a:cubicBezTo>
                <a:cubicBezTo>
                  <a:pt x="267" y="144"/>
                  <a:pt x="267" y="138"/>
                  <a:pt x="264" y="140"/>
                </a:cubicBezTo>
                <a:cubicBezTo>
                  <a:pt x="264" y="141"/>
                  <a:pt x="265" y="143"/>
                  <a:pt x="266" y="144"/>
                </a:cubicBezTo>
                <a:cubicBezTo>
                  <a:pt x="268" y="144"/>
                  <a:pt x="269" y="145"/>
                  <a:pt x="270" y="145"/>
                </a:cubicBezTo>
                <a:cubicBezTo>
                  <a:pt x="267" y="148"/>
                  <a:pt x="264" y="155"/>
                  <a:pt x="260" y="150"/>
                </a:cubicBezTo>
                <a:cubicBezTo>
                  <a:pt x="258" y="151"/>
                  <a:pt x="259" y="154"/>
                  <a:pt x="256" y="153"/>
                </a:cubicBezTo>
                <a:cubicBezTo>
                  <a:pt x="256" y="152"/>
                  <a:pt x="254" y="152"/>
                  <a:pt x="253" y="151"/>
                </a:cubicBezTo>
                <a:cubicBezTo>
                  <a:pt x="253" y="151"/>
                  <a:pt x="252" y="152"/>
                  <a:pt x="252" y="152"/>
                </a:cubicBezTo>
                <a:cubicBezTo>
                  <a:pt x="254" y="153"/>
                  <a:pt x="254" y="154"/>
                  <a:pt x="255" y="155"/>
                </a:cubicBezTo>
                <a:cubicBezTo>
                  <a:pt x="256" y="157"/>
                  <a:pt x="254" y="157"/>
                  <a:pt x="253" y="157"/>
                </a:cubicBezTo>
                <a:cubicBezTo>
                  <a:pt x="252" y="157"/>
                  <a:pt x="251" y="156"/>
                  <a:pt x="249" y="155"/>
                </a:cubicBezTo>
                <a:cubicBezTo>
                  <a:pt x="249" y="156"/>
                  <a:pt x="251" y="159"/>
                  <a:pt x="248" y="160"/>
                </a:cubicBezTo>
                <a:cubicBezTo>
                  <a:pt x="243" y="161"/>
                  <a:pt x="242" y="168"/>
                  <a:pt x="238" y="171"/>
                </a:cubicBezTo>
                <a:cubicBezTo>
                  <a:pt x="237" y="174"/>
                  <a:pt x="233" y="178"/>
                  <a:pt x="236" y="182"/>
                </a:cubicBezTo>
                <a:cubicBezTo>
                  <a:pt x="237" y="182"/>
                  <a:pt x="237" y="181"/>
                  <a:pt x="237" y="181"/>
                </a:cubicBezTo>
                <a:cubicBezTo>
                  <a:pt x="239" y="181"/>
                  <a:pt x="239" y="181"/>
                  <a:pt x="239" y="181"/>
                </a:cubicBezTo>
                <a:cubicBezTo>
                  <a:pt x="239" y="181"/>
                  <a:pt x="239" y="182"/>
                  <a:pt x="239" y="183"/>
                </a:cubicBezTo>
                <a:cubicBezTo>
                  <a:pt x="240" y="183"/>
                  <a:pt x="239" y="184"/>
                  <a:pt x="239" y="185"/>
                </a:cubicBezTo>
                <a:cubicBezTo>
                  <a:pt x="239" y="186"/>
                  <a:pt x="239" y="186"/>
                  <a:pt x="239" y="186"/>
                </a:cubicBezTo>
                <a:cubicBezTo>
                  <a:pt x="240" y="187"/>
                  <a:pt x="239" y="188"/>
                  <a:pt x="239" y="189"/>
                </a:cubicBezTo>
                <a:cubicBezTo>
                  <a:pt x="237" y="191"/>
                  <a:pt x="237" y="191"/>
                  <a:pt x="237" y="191"/>
                </a:cubicBezTo>
                <a:cubicBezTo>
                  <a:pt x="239" y="192"/>
                  <a:pt x="241" y="190"/>
                  <a:pt x="243" y="190"/>
                </a:cubicBezTo>
                <a:cubicBezTo>
                  <a:pt x="250" y="190"/>
                  <a:pt x="250" y="199"/>
                  <a:pt x="256" y="200"/>
                </a:cubicBezTo>
                <a:cubicBezTo>
                  <a:pt x="257" y="205"/>
                  <a:pt x="262" y="202"/>
                  <a:pt x="265" y="203"/>
                </a:cubicBezTo>
                <a:cubicBezTo>
                  <a:pt x="266" y="206"/>
                  <a:pt x="262" y="207"/>
                  <a:pt x="264" y="210"/>
                </a:cubicBezTo>
                <a:cubicBezTo>
                  <a:pt x="261" y="213"/>
                  <a:pt x="263" y="215"/>
                  <a:pt x="264" y="218"/>
                </a:cubicBezTo>
                <a:cubicBezTo>
                  <a:pt x="268" y="219"/>
                  <a:pt x="264" y="224"/>
                  <a:pt x="268" y="224"/>
                </a:cubicBezTo>
                <a:cubicBezTo>
                  <a:pt x="268" y="222"/>
                  <a:pt x="270" y="221"/>
                  <a:pt x="271" y="222"/>
                </a:cubicBezTo>
                <a:cubicBezTo>
                  <a:pt x="271" y="220"/>
                  <a:pt x="275" y="219"/>
                  <a:pt x="272" y="217"/>
                </a:cubicBezTo>
                <a:cubicBezTo>
                  <a:pt x="273" y="216"/>
                  <a:pt x="273" y="216"/>
                  <a:pt x="273" y="215"/>
                </a:cubicBezTo>
                <a:cubicBezTo>
                  <a:pt x="272" y="212"/>
                  <a:pt x="275" y="209"/>
                  <a:pt x="273" y="206"/>
                </a:cubicBezTo>
                <a:cubicBezTo>
                  <a:pt x="277" y="204"/>
                  <a:pt x="281" y="203"/>
                  <a:pt x="284" y="200"/>
                </a:cubicBezTo>
                <a:cubicBezTo>
                  <a:pt x="284" y="200"/>
                  <a:pt x="284" y="200"/>
                  <a:pt x="284" y="200"/>
                </a:cubicBezTo>
                <a:cubicBezTo>
                  <a:pt x="285" y="199"/>
                  <a:pt x="285" y="199"/>
                  <a:pt x="285" y="199"/>
                </a:cubicBezTo>
                <a:cubicBezTo>
                  <a:pt x="283" y="197"/>
                  <a:pt x="286" y="195"/>
                  <a:pt x="285" y="193"/>
                </a:cubicBezTo>
                <a:cubicBezTo>
                  <a:pt x="287" y="189"/>
                  <a:pt x="278" y="187"/>
                  <a:pt x="284" y="184"/>
                </a:cubicBezTo>
                <a:cubicBezTo>
                  <a:pt x="284" y="183"/>
                  <a:pt x="286" y="182"/>
                  <a:pt x="285" y="181"/>
                </a:cubicBezTo>
                <a:cubicBezTo>
                  <a:pt x="287" y="181"/>
                  <a:pt x="288" y="180"/>
                  <a:pt x="288" y="179"/>
                </a:cubicBezTo>
                <a:cubicBezTo>
                  <a:pt x="287" y="177"/>
                  <a:pt x="289" y="174"/>
                  <a:pt x="287" y="173"/>
                </a:cubicBezTo>
                <a:cubicBezTo>
                  <a:pt x="292" y="171"/>
                  <a:pt x="286" y="165"/>
                  <a:pt x="291" y="164"/>
                </a:cubicBezTo>
                <a:cubicBezTo>
                  <a:pt x="294" y="164"/>
                  <a:pt x="295" y="167"/>
                  <a:pt x="297" y="166"/>
                </a:cubicBezTo>
                <a:cubicBezTo>
                  <a:pt x="300" y="168"/>
                  <a:pt x="302" y="165"/>
                  <a:pt x="304" y="168"/>
                </a:cubicBezTo>
                <a:cubicBezTo>
                  <a:pt x="302" y="170"/>
                  <a:pt x="305" y="170"/>
                  <a:pt x="305" y="172"/>
                </a:cubicBezTo>
                <a:cubicBezTo>
                  <a:pt x="305" y="172"/>
                  <a:pt x="305" y="172"/>
                  <a:pt x="305" y="172"/>
                </a:cubicBezTo>
                <a:cubicBezTo>
                  <a:pt x="305" y="175"/>
                  <a:pt x="310" y="173"/>
                  <a:pt x="310" y="176"/>
                </a:cubicBezTo>
                <a:cubicBezTo>
                  <a:pt x="310" y="176"/>
                  <a:pt x="311" y="175"/>
                  <a:pt x="311" y="176"/>
                </a:cubicBezTo>
                <a:cubicBezTo>
                  <a:pt x="309" y="176"/>
                  <a:pt x="310" y="180"/>
                  <a:pt x="308" y="181"/>
                </a:cubicBezTo>
                <a:cubicBezTo>
                  <a:pt x="309" y="182"/>
                  <a:pt x="309" y="183"/>
                  <a:pt x="308" y="184"/>
                </a:cubicBezTo>
                <a:cubicBezTo>
                  <a:pt x="308" y="185"/>
                  <a:pt x="308" y="187"/>
                  <a:pt x="309" y="188"/>
                </a:cubicBezTo>
                <a:cubicBezTo>
                  <a:pt x="311" y="188"/>
                  <a:pt x="311" y="188"/>
                  <a:pt x="311" y="188"/>
                </a:cubicBezTo>
                <a:cubicBezTo>
                  <a:pt x="309" y="190"/>
                  <a:pt x="313" y="189"/>
                  <a:pt x="312" y="192"/>
                </a:cubicBezTo>
                <a:cubicBezTo>
                  <a:pt x="314" y="190"/>
                  <a:pt x="316" y="191"/>
                  <a:pt x="317" y="188"/>
                </a:cubicBezTo>
                <a:cubicBezTo>
                  <a:pt x="317" y="189"/>
                  <a:pt x="317" y="189"/>
                  <a:pt x="317" y="189"/>
                </a:cubicBezTo>
                <a:cubicBezTo>
                  <a:pt x="320" y="186"/>
                  <a:pt x="321" y="183"/>
                  <a:pt x="324" y="180"/>
                </a:cubicBezTo>
                <a:cubicBezTo>
                  <a:pt x="324" y="181"/>
                  <a:pt x="325" y="184"/>
                  <a:pt x="324" y="186"/>
                </a:cubicBezTo>
                <a:cubicBezTo>
                  <a:pt x="326" y="186"/>
                  <a:pt x="325" y="187"/>
                  <a:pt x="326" y="188"/>
                </a:cubicBezTo>
                <a:cubicBezTo>
                  <a:pt x="326" y="190"/>
                  <a:pt x="326" y="190"/>
                  <a:pt x="326" y="190"/>
                </a:cubicBezTo>
                <a:cubicBezTo>
                  <a:pt x="325" y="190"/>
                  <a:pt x="325" y="190"/>
                  <a:pt x="324" y="191"/>
                </a:cubicBezTo>
                <a:cubicBezTo>
                  <a:pt x="324" y="191"/>
                  <a:pt x="325" y="191"/>
                  <a:pt x="325" y="192"/>
                </a:cubicBezTo>
                <a:cubicBezTo>
                  <a:pt x="325" y="192"/>
                  <a:pt x="326" y="191"/>
                  <a:pt x="326" y="191"/>
                </a:cubicBezTo>
                <a:cubicBezTo>
                  <a:pt x="327" y="192"/>
                  <a:pt x="327" y="192"/>
                  <a:pt x="327" y="192"/>
                </a:cubicBezTo>
                <a:cubicBezTo>
                  <a:pt x="326" y="191"/>
                  <a:pt x="326" y="192"/>
                  <a:pt x="325" y="192"/>
                </a:cubicBezTo>
                <a:cubicBezTo>
                  <a:pt x="325" y="193"/>
                  <a:pt x="326" y="193"/>
                  <a:pt x="326" y="193"/>
                </a:cubicBezTo>
                <a:cubicBezTo>
                  <a:pt x="327" y="193"/>
                  <a:pt x="327" y="193"/>
                  <a:pt x="327" y="193"/>
                </a:cubicBezTo>
                <a:cubicBezTo>
                  <a:pt x="327" y="193"/>
                  <a:pt x="326" y="194"/>
                  <a:pt x="327" y="195"/>
                </a:cubicBezTo>
                <a:cubicBezTo>
                  <a:pt x="328" y="195"/>
                  <a:pt x="328" y="195"/>
                  <a:pt x="328" y="195"/>
                </a:cubicBezTo>
                <a:cubicBezTo>
                  <a:pt x="328" y="196"/>
                  <a:pt x="328" y="196"/>
                  <a:pt x="328" y="196"/>
                </a:cubicBezTo>
                <a:cubicBezTo>
                  <a:pt x="327" y="195"/>
                  <a:pt x="327" y="196"/>
                  <a:pt x="327" y="196"/>
                </a:cubicBezTo>
                <a:cubicBezTo>
                  <a:pt x="328" y="196"/>
                  <a:pt x="328" y="198"/>
                  <a:pt x="329" y="199"/>
                </a:cubicBezTo>
                <a:cubicBezTo>
                  <a:pt x="328" y="201"/>
                  <a:pt x="324" y="200"/>
                  <a:pt x="327" y="202"/>
                </a:cubicBezTo>
                <a:cubicBezTo>
                  <a:pt x="331" y="206"/>
                  <a:pt x="331" y="206"/>
                  <a:pt x="331" y="206"/>
                </a:cubicBezTo>
                <a:cubicBezTo>
                  <a:pt x="330" y="207"/>
                  <a:pt x="330" y="207"/>
                  <a:pt x="330" y="208"/>
                </a:cubicBezTo>
                <a:cubicBezTo>
                  <a:pt x="331" y="208"/>
                  <a:pt x="333" y="208"/>
                  <a:pt x="334" y="209"/>
                </a:cubicBezTo>
                <a:cubicBezTo>
                  <a:pt x="334" y="209"/>
                  <a:pt x="334" y="210"/>
                  <a:pt x="335" y="210"/>
                </a:cubicBezTo>
                <a:cubicBezTo>
                  <a:pt x="335" y="210"/>
                  <a:pt x="336" y="211"/>
                  <a:pt x="337" y="210"/>
                </a:cubicBezTo>
                <a:cubicBezTo>
                  <a:pt x="337" y="211"/>
                  <a:pt x="338" y="211"/>
                  <a:pt x="338" y="212"/>
                </a:cubicBezTo>
                <a:cubicBezTo>
                  <a:pt x="335" y="214"/>
                  <a:pt x="329" y="213"/>
                  <a:pt x="329" y="218"/>
                </a:cubicBezTo>
                <a:cubicBezTo>
                  <a:pt x="332" y="217"/>
                  <a:pt x="335" y="212"/>
                  <a:pt x="339" y="214"/>
                </a:cubicBezTo>
                <a:cubicBezTo>
                  <a:pt x="338" y="215"/>
                  <a:pt x="337" y="215"/>
                  <a:pt x="337" y="216"/>
                </a:cubicBezTo>
                <a:cubicBezTo>
                  <a:pt x="338" y="216"/>
                  <a:pt x="338" y="217"/>
                  <a:pt x="339" y="217"/>
                </a:cubicBezTo>
                <a:cubicBezTo>
                  <a:pt x="340" y="216"/>
                  <a:pt x="340" y="216"/>
                  <a:pt x="340" y="216"/>
                </a:cubicBezTo>
                <a:cubicBezTo>
                  <a:pt x="344" y="217"/>
                  <a:pt x="339" y="221"/>
                  <a:pt x="341" y="222"/>
                </a:cubicBezTo>
                <a:cubicBezTo>
                  <a:pt x="338" y="228"/>
                  <a:pt x="331" y="224"/>
                  <a:pt x="328" y="230"/>
                </a:cubicBezTo>
                <a:cubicBezTo>
                  <a:pt x="322" y="231"/>
                  <a:pt x="314" y="230"/>
                  <a:pt x="308" y="229"/>
                </a:cubicBezTo>
                <a:cubicBezTo>
                  <a:pt x="306" y="230"/>
                  <a:pt x="304" y="234"/>
                  <a:pt x="302" y="234"/>
                </a:cubicBezTo>
                <a:cubicBezTo>
                  <a:pt x="298" y="236"/>
                  <a:pt x="295" y="240"/>
                  <a:pt x="291" y="244"/>
                </a:cubicBezTo>
                <a:cubicBezTo>
                  <a:pt x="292" y="244"/>
                  <a:pt x="292" y="244"/>
                  <a:pt x="292" y="244"/>
                </a:cubicBezTo>
                <a:cubicBezTo>
                  <a:pt x="297" y="239"/>
                  <a:pt x="303" y="236"/>
                  <a:pt x="311" y="236"/>
                </a:cubicBezTo>
                <a:cubicBezTo>
                  <a:pt x="312" y="237"/>
                  <a:pt x="313" y="238"/>
                  <a:pt x="312" y="239"/>
                </a:cubicBezTo>
                <a:cubicBezTo>
                  <a:pt x="310" y="240"/>
                  <a:pt x="309" y="239"/>
                  <a:pt x="307" y="240"/>
                </a:cubicBezTo>
                <a:cubicBezTo>
                  <a:pt x="308" y="241"/>
                  <a:pt x="309" y="243"/>
                  <a:pt x="310" y="241"/>
                </a:cubicBezTo>
                <a:cubicBezTo>
                  <a:pt x="308" y="243"/>
                  <a:pt x="310" y="245"/>
                  <a:pt x="310" y="248"/>
                </a:cubicBezTo>
                <a:cubicBezTo>
                  <a:pt x="311" y="250"/>
                  <a:pt x="314" y="251"/>
                  <a:pt x="317" y="251"/>
                </a:cubicBezTo>
                <a:cubicBezTo>
                  <a:pt x="317" y="250"/>
                  <a:pt x="318" y="251"/>
                  <a:pt x="319" y="252"/>
                </a:cubicBezTo>
                <a:cubicBezTo>
                  <a:pt x="318" y="254"/>
                  <a:pt x="314" y="253"/>
                  <a:pt x="312" y="255"/>
                </a:cubicBezTo>
                <a:cubicBezTo>
                  <a:pt x="311" y="254"/>
                  <a:pt x="311" y="254"/>
                  <a:pt x="311" y="254"/>
                </a:cubicBezTo>
                <a:cubicBezTo>
                  <a:pt x="309" y="256"/>
                  <a:pt x="308" y="258"/>
                  <a:pt x="305" y="259"/>
                </a:cubicBezTo>
                <a:cubicBezTo>
                  <a:pt x="304" y="259"/>
                  <a:pt x="303" y="256"/>
                  <a:pt x="304" y="255"/>
                </a:cubicBezTo>
                <a:cubicBezTo>
                  <a:pt x="305" y="253"/>
                  <a:pt x="310" y="254"/>
                  <a:pt x="308" y="251"/>
                </a:cubicBezTo>
                <a:cubicBezTo>
                  <a:pt x="306" y="252"/>
                  <a:pt x="303" y="252"/>
                  <a:pt x="301" y="253"/>
                </a:cubicBezTo>
                <a:cubicBezTo>
                  <a:pt x="302" y="254"/>
                  <a:pt x="302" y="254"/>
                  <a:pt x="302" y="254"/>
                </a:cubicBezTo>
                <a:cubicBezTo>
                  <a:pt x="297" y="255"/>
                  <a:pt x="295" y="256"/>
                  <a:pt x="291" y="258"/>
                </a:cubicBezTo>
                <a:cubicBezTo>
                  <a:pt x="287" y="264"/>
                  <a:pt x="287" y="264"/>
                  <a:pt x="287" y="264"/>
                </a:cubicBezTo>
                <a:cubicBezTo>
                  <a:pt x="288" y="265"/>
                  <a:pt x="289" y="265"/>
                  <a:pt x="289" y="266"/>
                </a:cubicBezTo>
                <a:cubicBezTo>
                  <a:pt x="290" y="266"/>
                  <a:pt x="290" y="266"/>
                  <a:pt x="290" y="266"/>
                </a:cubicBezTo>
                <a:cubicBezTo>
                  <a:pt x="289" y="267"/>
                  <a:pt x="289" y="267"/>
                  <a:pt x="289" y="267"/>
                </a:cubicBezTo>
                <a:cubicBezTo>
                  <a:pt x="288" y="265"/>
                  <a:pt x="287" y="268"/>
                  <a:pt x="286" y="266"/>
                </a:cubicBezTo>
                <a:cubicBezTo>
                  <a:pt x="286" y="268"/>
                  <a:pt x="285" y="267"/>
                  <a:pt x="284" y="268"/>
                </a:cubicBezTo>
                <a:cubicBezTo>
                  <a:pt x="282" y="267"/>
                  <a:pt x="280" y="269"/>
                  <a:pt x="279" y="269"/>
                </a:cubicBezTo>
                <a:cubicBezTo>
                  <a:pt x="278" y="269"/>
                  <a:pt x="278" y="269"/>
                  <a:pt x="278" y="269"/>
                </a:cubicBezTo>
                <a:cubicBezTo>
                  <a:pt x="279" y="270"/>
                  <a:pt x="281" y="270"/>
                  <a:pt x="282" y="269"/>
                </a:cubicBezTo>
                <a:cubicBezTo>
                  <a:pt x="280" y="270"/>
                  <a:pt x="277" y="270"/>
                  <a:pt x="276" y="271"/>
                </a:cubicBezTo>
                <a:cubicBezTo>
                  <a:pt x="277" y="272"/>
                  <a:pt x="275" y="274"/>
                  <a:pt x="275" y="275"/>
                </a:cubicBezTo>
                <a:cubicBezTo>
                  <a:pt x="274" y="277"/>
                  <a:pt x="273" y="276"/>
                  <a:pt x="271" y="277"/>
                </a:cubicBezTo>
                <a:cubicBezTo>
                  <a:pt x="273" y="279"/>
                  <a:pt x="270" y="281"/>
                  <a:pt x="269" y="284"/>
                </a:cubicBezTo>
                <a:cubicBezTo>
                  <a:pt x="271" y="281"/>
                  <a:pt x="267" y="281"/>
                  <a:pt x="269" y="278"/>
                </a:cubicBezTo>
                <a:cubicBezTo>
                  <a:pt x="269" y="278"/>
                  <a:pt x="269" y="277"/>
                  <a:pt x="268" y="276"/>
                </a:cubicBezTo>
                <a:cubicBezTo>
                  <a:pt x="267" y="280"/>
                  <a:pt x="267" y="283"/>
                  <a:pt x="267" y="286"/>
                </a:cubicBezTo>
                <a:cubicBezTo>
                  <a:pt x="268" y="286"/>
                  <a:pt x="268" y="286"/>
                  <a:pt x="268" y="286"/>
                </a:cubicBezTo>
                <a:cubicBezTo>
                  <a:pt x="268" y="288"/>
                  <a:pt x="268" y="289"/>
                  <a:pt x="266" y="289"/>
                </a:cubicBezTo>
                <a:cubicBezTo>
                  <a:pt x="266" y="289"/>
                  <a:pt x="265" y="290"/>
                  <a:pt x="265" y="290"/>
                </a:cubicBezTo>
                <a:cubicBezTo>
                  <a:pt x="266" y="291"/>
                  <a:pt x="267" y="290"/>
                  <a:pt x="268" y="291"/>
                </a:cubicBezTo>
                <a:cubicBezTo>
                  <a:pt x="268" y="293"/>
                  <a:pt x="263" y="292"/>
                  <a:pt x="265" y="294"/>
                </a:cubicBezTo>
                <a:cubicBezTo>
                  <a:pt x="262" y="296"/>
                  <a:pt x="257" y="298"/>
                  <a:pt x="255" y="302"/>
                </a:cubicBezTo>
                <a:cubicBezTo>
                  <a:pt x="251" y="302"/>
                  <a:pt x="250" y="305"/>
                  <a:pt x="247" y="308"/>
                </a:cubicBezTo>
                <a:cubicBezTo>
                  <a:pt x="246" y="314"/>
                  <a:pt x="249" y="317"/>
                  <a:pt x="249" y="322"/>
                </a:cubicBezTo>
                <a:cubicBezTo>
                  <a:pt x="251" y="324"/>
                  <a:pt x="249" y="327"/>
                  <a:pt x="249" y="329"/>
                </a:cubicBezTo>
                <a:cubicBezTo>
                  <a:pt x="248" y="330"/>
                  <a:pt x="248" y="330"/>
                  <a:pt x="248" y="330"/>
                </a:cubicBezTo>
                <a:cubicBezTo>
                  <a:pt x="245" y="330"/>
                  <a:pt x="245" y="327"/>
                  <a:pt x="244" y="325"/>
                </a:cubicBezTo>
                <a:cubicBezTo>
                  <a:pt x="244" y="325"/>
                  <a:pt x="244" y="325"/>
                  <a:pt x="244" y="325"/>
                </a:cubicBezTo>
                <a:cubicBezTo>
                  <a:pt x="241" y="325"/>
                  <a:pt x="243" y="321"/>
                  <a:pt x="243" y="320"/>
                </a:cubicBezTo>
                <a:cubicBezTo>
                  <a:pt x="242" y="320"/>
                  <a:pt x="242" y="321"/>
                  <a:pt x="241" y="321"/>
                </a:cubicBezTo>
                <a:cubicBezTo>
                  <a:pt x="245" y="317"/>
                  <a:pt x="240" y="315"/>
                  <a:pt x="239" y="312"/>
                </a:cubicBezTo>
                <a:cubicBezTo>
                  <a:pt x="237" y="311"/>
                  <a:pt x="237" y="315"/>
                  <a:pt x="235" y="313"/>
                </a:cubicBezTo>
                <a:cubicBezTo>
                  <a:pt x="234" y="311"/>
                  <a:pt x="232" y="311"/>
                  <a:pt x="231" y="310"/>
                </a:cubicBezTo>
                <a:cubicBezTo>
                  <a:pt x="230" y="311"/>
                  <a:pt x="228" y="311"/>
                  <a:pt x="227" y="311"/>
                </a:cubicBezTo>
                <a:cubicBezTo>
                  <a:pt x="226" y="309"/>
                  <a:pt x="222" y="311"/>
                  <a:pt x="220" y="312"/>
                </a:cubicBezTo>
                <a:cubicBezTo>
                  <a:pt x="220" y="312"/>
                  <a:pt x="220" y="312"/>
                  <a:pt x="220" y="313"/>
                </a:cubicBezTo>
                <a:cubicBezTo>
                  <a:pt x="220" y="313"/>
                  <a:pt x="220" y="313"/>
                  <a:pt x="220" y="313"/>
                </a:cubicBezTo>
                <a:cubicBezTo>
                  <a:pt x="220" y="314"/>
                  <a:pt x="220" y="314"/>
                  <a:pt x="220" y="314"/>
                </a:cubicBezTo>
                <a:cubicBezTo>
                  <a:pt x="221" y="316"/>
                  <a:pt x="221" y="316"/>
                  <a:pt x="221" y="316"/>
                </a:cubicBezTo>
                <a:cubicBezTo>
                  <a:pt x="220" y="315"/>
                  <a:pt x="219" y="314"/>
                  <a:pt x="219" y="315"/>
                </a:cubicBezTo>
                <a:cubicBezTo>
                  <a:pt x="219" y="316"/>
                  <a:pt x="219" y="316"/>
                  <a:pt x="219" y="316"/>
                </a:cubicBezTo>
                <a:cubicBezTo>
                  <a:pt x="218" y="316"/>
                  <a:pt x="218" y="315"/>
                  <a:pt x="218" y="315"/>
                </a:cubicBezTo>
                <a:cubicBezTo>
                  <a:pt x="215" y="317"/>
                  <a:pt x="215" y="313"/>
                  <a:pt x="213" y="313"/>
                </a:cubicBezTo>
                <a:cubicBezTo>
                  <a:pt x="210" y="315"/>
                  <a:pt x="208" y="312"/>
                  <a:pt x="204" y="314"/>
                </a:cubicBezTo>
                <a:cubicBezTo>
                  <a:pt x="205" y="313"/>
                  <a:pt x="204" y="313"/>
                  <a:pt x="204" y="313"/>
                </a:cubicBezTo>
                <a:cubicBezTo>
                  <a:pt x="203" y="315"/>
                  <a:pt x="202" y="317"/>
                  <a:pt x="199" y="317"/>
                </a:cubicBezTo>
                <a:cubicBezTo>
                  <a:pt x="198" y="315"/>
                  <a:pt x="197" y="319"/>
                  <a:pt x="196" y="318"/>
                </a:cubicBezTo>
                <a:cubicBezTo>
                  <a:pt x="195" y="319"/>
                  <a:pt x="195" y="320"/>
                  <a:pt x="194" y="321"/>
                </a:cubicBezTo>
                <a:cubicBezTo>
                  <a:pt x="194" y="323"/>
                  <a:pt x="193" y="326"/>
                  <a:pt x="194" y="329"/>
                </a:cubicBezTo>
                <a:cubicBezTo>
                  <a:pt x="192" y="330"/>
                  <a:pt x="192" y="333"/>
                  <a:pt x="191" y="336"/>
                </a:cubicBezTo>
                <a:cubicBezTo>
                  <a:pt x="191" y="341"/>
                  <a:pt x="191" y="348"/>
                  <a:pt x="196" y="353"/>
                </a:cubicBezTo>
                <a:cubicBezTo>
                  <a:pt x="200" y="357"/>
                  <a:pt x="204" y="356"/>
                  <a:pt x="209" y="354"/>
                </a:cubicBezTo>
                <a:cubicBezTo>
                  <a:pt x="209" y="355"/>
                  <a:pt x="209" y="355"/>
                  <a:pt x="210" y="355"/>
                </a:cubicBezTo>
                <a:cubicBezTo>
                  <a:pt x="212" y="355"/>
                  <a:pt x="213" y="351"/>
                  <a:pt x="215" y="349"/>
                </a:cubicBezTo>
                <a:cubicBezTo>
                  <a:pt x="215" y="348"/>
                  <a:pt x="214" y="346"/>
                  <a:pt x="216" y="346"/>
                </a:cubicBezTo>
                <a:cubicBezTo>
                  <a:pt x="219" y="345"/>
                  <a:pt x="224" y="342"/>
                  <a:pt x="227" y="344"/>
                </a:cubicBezTo>
                <a:cubicBezTo>
                  <a:pt x="226" y="347"/>
                  <a:pt x="222" y="349"/>
                  <a:pt x="224" y="353"/>
                </a:cubicBezTo>
                <a:cubicBezTo>
                  <a:pt x="223" y="353"/>
                  <a:pt x="223" y="354"/>
                  <a:pt x="223" y="355"/>
                </a:cubicBezTo>
                <a:cubicBezTo>
                  <a:pt x="222" y="355"/>
                  <a:pt x="222" y="355"/>
                  <a:pt x="222" y="355"/>
                </a:cubicBezTo>
                <a:cubicBezTo>
                  <a:pt x="222" y="354"/>
                  <a:pt x="222" y="354"/>
                  <a:pt x="222" y="354"/>
                </a:cubicBezTo>
                <a:cubicBezTo>
                  <a:pt x="220" y="355"/>
                  <a:pt x="220" y="355"/>
                  <a:pt x="220" y="355"/>
                </a:cubicBezTo>
                <a:cubicBezTo>
                  <a:pt x="221" y="357"/>
                  <a:pt x="221" y="360"/>
                  <a:pt x="220" y="362"/>
                </a:cubicBezTo>
                <a:cubicBezTo>
                  <a:pt x="219" y="362"/>
                  <a:pt x="218" y="363"/>
                  <a:pt x="219" y="363"/>
                </a:cubicBezTo>
                <a:cubicBezTo>
                  <a:pt x="223" y="366"/>
                  <a:pt x="228" y="362"/>
                  <a:pt x="232" y="365"/>
                </a:cubicBezTo>
                <a:cubicBezTo>
                  <a:pt x="233" y="364"/>
                  <a:pt x="233" y="364"/>
                  <a:pt x="233" y="364"/>
                </a:cubicBezTo>
                <a:cubicBezTo>
                  <a:pt x="234" y="365"/>
                  <a:pt x="234" y="365"/>
                  <a:pt x="234" y="365"/>
                </a:cubicBezTo>
                <a:cubicBezTo>
                  <a:pt x="233" y="365"/>
                  <a:pt x="233" y="365"/>
                  <a:pt x="233" y="365"/>
                </a:cubicBezTo>
                <a:cubicBezTo>
                  <a:pt x="234" y="368"/>
                  <a:pt x="239" y="364"/>
                  <a:pt x="236" y="368"/>
                </a:cubicBezTo>
                <a:cubicBezTo>
                  <a:pt x="237" y="370"/>
                  <a:pt x="237" y="370"/>
                  <a:pt x="236" y="371"/>
                </a:cubicBezTo>
                <a:cubicBezTo>
                  <a:pt x="235" y="372"/>
                  <a:pt x="235" y="372"/>
                  <a:pt x="235" y="372"/>
                </a:cubicBezTo>
                <a:cubicBezTo>
                  <a:pt x="237" y="374"/>
                  <a:pt x="235" y="375"/>
                  <a:pt x="235" y="377"/>
                </a:cubicBezTo>
                <a:cubicBezTo>
                  <a:pt x="234" y="377"/>
                  <a:pt x="234" y="377"/>
                  <a:pt x="234" y="378"/>
                </a:cubicBezTo>
                <a:cubicBezTo>
                  <a:pt x="235" y="378"/>
                  <a:pt x="235" y="378"/>
                  <a:pt x="235" y="378"/>
                </a:cubicBezTo>
                <a:cubicBezTo>
                  <a:pt x="233" y="382"/>
                  <a:pt x="237" y="384"/>
                  <a:pt x="240" y="387"/>
                </a:cubicBezTo>
                <a:cubicBezTo>
                  <a:pt x="244" y="390"/>
                  <a:pt x="247" y="384"/>
                  <a:pt x="251" y="386"/>
                </a:cubicBezTo>
                <a:cubicBezTo>
                  <a:pt x="253" y="386"/>
                  <a:pt x="255" y="389"/>
                  <a:pt x="257" y="391"/>
                </a:cubicBezTo>
                <a:cubicBezTo>
                  <a:pt x="258" y="390"/>
                  <a:pt x="258" y="390"/>
                  <a:pt x="258" y="390"/>
                </a:cubicBezTo>
                <a:cubicBezTo>
                  <a:pt x="257" y="389"/>
                  <a:pt x="257" y="389"/>
                  <a:pt x="257" y="388"/>
                </a:cubicBezTo>
                <a:cubicBezTo>
                  <a:pt x="258" y="386"/>
                  <a:pt x="262" y="386"/>
                  <a:pt x="261" y="383"/>
                </a:cubicBezTo>
                <a:cubicBezTo>
                  <a:pt x="261" y="382"/>
                  <a:pt x="263" y="381"/>
                  <a:pt x="264" y="380"/>
                </a:cubicBezTo>
                <a:cubicBezTo>
                  <a:pt x="265" y="381"/>
                  <a:pt x="265" y="381"/>
                  <a:pt x="265" y="381"/>
                </a:cubicBezTo>
                <a:cubicBezTo>
                  <a:pt x="266" y="381"/>
                  <a:pt x="266" y="380"/>
                  <a:pt x="266" y="379"/>
                </a:cubicBezTo>
                <a:cubicBezTo>
                  <a:pt x="271" y="381"/>
                  <a:pt x="272" y="375"/>
                  <a:pt x="276" y="376"/>
                </a:cubicBezTo>
                <a:cubicBezTo>
                  <a:pt x="276" y="378"/>
                  <a:pt x="270" y="378"/>
                  <a:pt x="274" y="381"/>
                </a:cubicBezTo>
                <a:cubicBezTo>
                  <a:pt x="276" y="381"/>
                  <a:pt x="279" y="379"/>
                  <a:pt x="281" y="379"/>
                </a:cubicBezTo>
                <a:cubicBezTo>
                  <a:pt x="280" y="378"/>
                  <a:pt x="280" y="377"/>
                  <a:pt x="279" y="378"/>
                </a:cubicBezTo>
                <a:cubicBezTo>
                  <a:pt x="280" y="377"/>
                  <a:pt x="280" y="377"/>
                  <a:pt x="280" y="377"/>
                </a:cubicBezTo>
                <a:cubicBezTo>
                  <a:pt x="279" y="379"/>
                  <a:pt x="282" y="379"/>
                  <a:pt x="284" y="379"/>
                </a:cubicBezTo>
                <a:cubicBezTo>
                  <a:pt x="286" y="379"/>
                  <a:pt x="285" y="382"/>
                  <a:pt x="286" y="382"/>
                </a:cubicBezTo>
                <a:cubicBezTo>
                  <a:pt x="289" y="384"/>
                  <a:pt x="292" y="380"/>
                  <a:pt x="295" y="383"/>
                </a:cubicBezTo>
                <a:cubicBezTo>
                  <a:pt x="298" y="383"/>
                  <a:pt x="301" y="381"/>
                  <a:pt x="305" y="381"/>
                </a:cubicBezTo>
                <a:cubicBezTo>
                  <a:pt x="303" y="382"/>
                  <a:pt x="303" y="382"/>
                  <a:pt x="303" y="382"/>
                </a:cubicBezTo>
                <a:cubicBezTo>
                  <a:pt x="303" y="385"/>
                  <a:pt x="311" y="384"/>
                  <a:pt x="308" y="388"/>
                </a:cubicBezTo>
                <a:cubicBezTo>
                  <a:pt x="312" y="388"/>
                  <a:pt x="314" y="390"/>
                  <a:pt x="317" y="393"/>
                </a:cubicBezTo>
                <a:cubicBezTo>
                  <a:pt x="317" y="393"/>
                  <a:pt x="316" y="394"/>
                  <a:pt x="317" y="395"/>
                </a:cubicBezTo>
                <a:cubicBezTo>
                  <a:pt x="318" y="395"/>
                  <a:pt x="318" y="395"/>
                  <a:pt x="319" y="394"/>
                </a:cubicBezTo>
                <a:cubicBezTo>
                  <a:pt x="322" y="398"/>
                  <a:pt x="322" y="398"/>
                  <a:pt x="322" y="398"/>
                </a:cubicBezTo>
                <a:cubicBezTo>
                  <a:pt x="327" y="396"/>
                  <a:pt x="333" y="398"/>
                  <a:pt x="337" y="401"/>
                </a:cubicBezTo>
                <a:cubicBezTo>
                  <a:pt x="341" y="403"/>
                  <a:pt x="340" y="407"/>
                  <a:pt x="344" y="410"/>
                </a:cubicBezTo>
                <a:cubicBezTo>
                  <a:pt x="343" y="411"/>
                  <a:pt x="343" y="411"/>
                  <a:pt x="343" y="411"/>
                </a:cubicBezTo>
                <a:cubicBezTo>
                  <a:pt x="343" y="412"/>
                  <a:pt x="344" y="411"/>
                  <a:pt x="345" y="411"/>
                </a:cubicBezTo>
                <a:cubicBezTo>
                  <a:pt x="346" y="416"/>
                  <a:pt x="337" y="417"/>
                  <a:pt x="341" y="421"/>
                </a:cubicBezTo>
                <a:cubicBezTo>
                  <a:pt x="343" y="421"/>
                  <a:pt x="344" y="416"/>
                  <a:pt x="346" y="419"/>
                </a:cubicBezTo>
                <a:cubicBezTo>
                  <a:pt x="347" y="418"/>
                  <a:pt x="348" y="418"/>
                  <a:pt x="349" y="418"/>
                </a:cubicBezTo>
                <a:cubicBezTo>
                  <a:pt x="350" y="419"/>
                  <a:pt x="349" y="420"/>
                  <a:pt x="349" y="421"/>
                </a:cubicBezTo>
                <a:cubicBezTo>
                  <a:pt x="348" y="422"/>
                  <a:pt x="348" y="422"/>
                  <a:pt x="348" y="422"/>
                </a:cubicBezTo>
                <a:cubicBezTo>
                  <a:pt x="348" y="424"/>
                  <a:pt x="349" y="422"/>
                  <a:pt x="350" y="422"/>
                </a:cubicBezTo>
                <a:cubicBezTo>
                  <a:pt x="350" y="419"/>
                  <a:pt x="354" y="420"/>
                  <a:pt x="356" y="421"/>
                </a:cubicBezTo>
                <a:cubicBezTo>
                  <a:pt x="358" y="424"/>
                  <a:pt x="365" y="421"/>
                  <a:pt x="363" y="427"/>
                </a:cubicBezTo>
                <a:cubicBezTo>
                  <a:pt x="365" y="425"/>
                  <a:pt x="367" y="425"/>
                  <a:pt x="369" y="426"/>
                </a:cubicBezTo>
                <a:cubicBezTo>
                  <a:pt x="373" y="426"/>
                  <a:pt x="375" y="427"/>
                  <a:pt x="379" y="427"/>
                </a:cubicBezTo>
                <a:cubicBezTo>
                  <a:pt x="383" y="429"/>
                  <a:pt x="386" y="436"/>
                  <a:pt x="392" y="435"/>
                </a:cubicBezTo>
                <a:cubicBezTo>
                  <a:pt x="393" y="438"/>
                  <a:pt x="396" y="440"/>
                  <a:pt x="394" y="443"/>
                </a:cubicBezTo>
                <a:cubicBezTo>
                  <a:pt x="394" y="445"/>
                  <a:pt x="393" y="447"/>
                  <a:pt x="392" y="449"/>
                </a:cubicBezTo>
                <a:cubicBezTo>
                  <a:pt x="389" y="452"/>
                  <a:pt x="385" y="455"/>
                  <a:pt x="384" y="459"/>
                </a:cubicBezTo>
                <a:cubicBezTo>
                  <a:pt x="383" y="459"/>
                  <a:pt x="383" y="458"/>
                  <a:pt x="382" y="459"/>
                </a:cubicBezTo>
                <a:cubicBezTo>
                  <a:pt x="382" y="459"/>
                  <a:pt x="381" y="459"/>
                  <a:pt x="381" y="460"/>
                </a:cubicBezTo>
                <a:cubicBezTo>
                  <a:pt x="382" y="461"/>
                  <a:pt x="381" y="462"/>
                  <a:pt x="381" y="463"/>
                </a:cubicBezTo>
                <a:cubicBezTo>
                  <a:pt x="382" y="468"/>
                  <a:pt x="382" y="475"/>
                  <a:pt x="379" y="480"/>
                </a:cubicBezTo>
                <a:cubicBezTo>
                  <a:pt x="381" y="483"/>
                  <a:pt x="377" y="486"/>
                  <a:pt x="376" y="489"/>
                </a:cubicBezTo>
                <a:cubicBezTo>
                  <a:pt x="376" y="489"/>
                  <a:pt x="376" y="490"/>
                  <a:pt x="376" y="491"/>
                </a:cubicBezTo>
                <a:cubicBezTo>
                  <a:pt x="373" y="492"/>
                  <a:pt x="372" y="495"/>
                  <a:pt x="369" y="493"/>
                </a:cubicBezTo>
                <a:cubicBezTo>
                  <a:pt x="368" y="495"/>
                  <a:pt x="364" y="492"/>
                  <a:pt x="364" y="495"/>
                </a:cubicBezTo>
                <a:cubicBezTo>
                  <a:pt x="360" y="497"/>
                  <a:pt x="356" y="500"/>
                  <a:pt x="352" y="504"/>
                </a:cubicBezTo>
                <a:cubicBezTo>
                  <a:pt x="351" y="506"/>
                  <a:pt x="352" y="510"/>
                  <a:pt x="353" y="512"/>
                </a:cubicBezTo>
                <a:cubicBezTo>
                  <a:pt x="349" y="517"/>
                  <a:pt x="348" y="523"/>
                  <a:pt x="343" y="527"/>
                </a:cubicBezTo>
                <a:cubicBezTo>
                  <a:pt x="345" y="526"/>
                  <a:pt x="346" y="524"/>
                  <a:pt x="347" y="522"/>
                </a:cubicBezTo>
                <a:cubicBezTo>
                  <a:pt x="345" y="520"/>
                  <a:pt x="345" y="520"/>
                  <a:pt x="345" y="520"/>
                </a:cubicBezTo>
                <a:cubicBezTo>
                  <a:pt x="345" y="523"/>
                  <a:pt x="343" y="524"/>
                  <a:pt x="341" y="527"/>
                </a:cubicBezTo>
                <a:cubicBezTo>
                  <a:pt x="342" y="527"/>
                  <a:pt x="342" y="528"/>
                  <a:pt x="342" y="529"/>
                </a:cubicBezTo>
                <a:cubicBezTo>
                  <a:pt x="341" y="530"/>
                  <a:pt x="339" y="530"/>
                  <a:pt x="339" y="531"/>
                </a:cubicBezTo>
                <a:cubicBezTo>
                  <a:pt x="339" y="532"/>
                  <a:pt x="340" y="532"/>
                  <a:pt x="340" y="532"/>
                </a:cubicBezTo>
                <a:cubicBezTo>
                  <a:pt x="341" y="531"/>
                  <a:pt x="341" y="531"/>
                  <a:pt x="341" y="531"/>
                </a:cubicBezTo>
                <a:cubicBezTo>
                  <a:pt x="340" y="533"/>
                  <a:pt x="339" y="536"/>
                  <a:pt x="337" y="538"/>
                </a:cubicBezTo>
                <a:cubicBezTo>
                  <a:pt x="333" y="540"/>
                  <a:pt x="329" y="538"/>
                  <a:pt x="325" y="538"/>
                </a:cubicBezTo>
                <a:cubicBezTo>
                  <a:pt x="324" y="536"/>
                  <a:pt x="324" y="536"/>
                  <a:pt x="324" y="536"/>
                </a:cubicBezTo>
                <a:cubicBezTo>
                  <a:pt x="323" y="536"/>
                  <a:pt x="323" y="537"/>
                  <a:pt x="323" y="538"/>
                </a:cubicBezTo>
                <a:cubicBezTo>
                  <a:pt x="324" y="539"/>
                  <a:pt x="326" y="539"/>
                  <a:pt x="328" y="540"/>
                </a:cubicBezTo>
                <a:cubicBezTo>
                  <a:pt x="328" y="542"/>
                  <a:pt x="326" y="544"/>
                  <a:pt x="329" y="546"/>
                </a:cubicBezTo>
                <a:cubicBezTo>
                  <a:pt x="330" y="546"/>
                  <a:pt x="330" y="546"/>
                  <a:pt x="330" y="546"/>
                </a:cubicBezTo>
                <a:cubicBezTo>
                  <a:pt x="328" y="548"/>
                  <a:pt x="329" y="553"/>
                  <a:pt x="325" y="554"/>
                </a:cubicBezTo>
                <a:cubicBezTo>
                  <a:pt x="322" y="558"/>
                  <a:pt x="310" y="549"/>
                  <a:pt x="314" y="559"/>
                </a:cubicBezTo>
                <a:cubicBezTo>
                  <a:pt x="312" y="560"/>
                  <a:pt x="316" y="563"/>
                  <a:pt x="313" y="564"/>
                </a:cubicBezTo>
                <a:cubicBezTo>
                  <a:pt x="309" y="566"/>
                  <a:pt x="308" y="561"/>
                  <a:pt x="305" y="564"/>
                </a:cubicBezTo>
                <a:cubicBezTo>
                  <a:pt x="307" y="566"/>
                  <a:pt x="305" y="569"/>
                  <a:pt x="309" y="570"/>
                </a:cubicBezTo>
                <a:cubicBezTo>
                  <a:pt x="310" y="570"/>
                  <a:pt x="309" y="568"/>
                  <a:pt x="311" y="568"/>
                </a:cubicBezTo>
                <a:cubicBezTo>
                  <a:pt x="311" y="569"/>
                  <a:pt x="311" y="569"/>
                  <a:pt x="311" y="569"/>
                </a:cubicBezTo>
                <a:cubicBezTo>
                  <a:pt x="311" y="570"/>
                  <a:pt x="311" y="570"/>
                  <a:pt x="311" y="570"/>
                </a:cubicBezTo>
                <a:cubicBezTo>
                  <a:pt x="311" y="570"/>
                  <a:pt x="311" y="571"/>
                  <a:pt x="311" y="571"/>
                </a:cubicBezTo>
                <a:cubicBezTo>
                  <a:pt x="311" y="572"/>
                  <a:pt x="311" y="572"/>
                  <a:pt x="311" y="572"/>
                </a:cubicBezTo>
                <a:cubicBezTo>
                  <a:pt x="308" y="570"/>
                  <a:pt x="308" y="570"/>
                  <a:pt x="308" y="570"/>
                </a:cubicBezTo>
                <a:cubicBezTo>
                  <a:pt x="306" y="571"/>
                  <a:pt x="308" y="573"/>
                  <a:pt x="308" y="573"/>
                </a:cubicBezTo>
                <a:cubicBezTo>
                  <a:pt x="307" y="573"/>
                  <a:pt x="307" y="575"/>
                  <a:pt x="306" y="576"/>
                </a:cubicBezTo>
                <a:cubicBezTo>
                  <a:pt x="306" y="577"/>
                  <a:pt x="309" y="579"/>
                  <a:pt x="306" y="580"/>
                </a:cubicBezTo>
                <a:cubicBezTo>
                  <a:pt x="307" y="581"/>
                  <a:pt x="307" y="581"/>
                  <a:pt x="307" y="581"/>
                </a:cubicBezTo>
                <a:cubicBezTo>
                  <a:pt x="304" y="581"/>
                  <a:pt x="301" y="583"/>
                  <a:pt x="301" y="586"/>
                </a:cubicBezTo>
                <a:cubicBezTo>
                  <a:pt x="301" y="588"/>
                  <a:pt x="304" y="590"/>
                  <a:pt x="305" y="591"/>
                </a:cubicBezTo>
                <a:cubicBezTo>
                  <a:pt x="308" y="591"/>
                  <a:pt x="308" y="591"/>
                  <a:pt x="308" y="591"/>
                </a:cubicBezTo>
                <a:cubicBezTo>
                  <a:pt x="308" y="592"/>
                  <a:pt x="307" y="593"/>
                  <a:pt x="308" y="594"/>
                </a:cubicBezTo>
                <a:cubicBezTo>
                  <a:pt x="307" y="597"/>
                  <a:pt x="303" y="599"/>
                  <a:pt x="304" y="602"/>
                </a:cubicBezTo>
                <a:cubicBezTo>
                  <a:pt x="302" y="603"/>
                  <a:pt x="301" y="605"/>
                  <a:pt x="300" y="607"/>
                </a:cubicBezTo>
                <a:cubicBezTo>
                  <a:pt x="302" y="609"/>
                  <a:pt x="301" y="613"/>
                  <a:pt x="304" y="614"/>
                </a:cubicBezTo>
                <a:cubicBezTo>
                  <a:pt x="301" y="613"/>
                  <a:pt x="300" y="616"/>
                  <a:pt x="298" y="617"/>
                </a:cubicBezTo>
                <a:cubicBezTo>
                  <a:pt x="298" y="623"/>
                  <a:pt x="298" y="623"/>
                  <a:pt x="298" y="623"/>
                </a:cubicBezTo>
                <a:cubicBezTo>
                  <a:pt x="295" y="621"/>
                  <a:pt x="291" y="620"/>
                  <a:pt x="289" y="617"/>
                </a:cubicBezTo>
                <a:cubicBezTo>
                  <a:pt x="289" y="617"/>
                  <a:pt x="289" y="617"/>
                  <a:pt x="289" y="617"/>
                </a:cubicBezTo>
                <a:cubicBezTo>
                  <a:pt x="288" y="617"/>
                  <a:pt x="289" y="615"/>
                  <a:pt x="289" y="615"/>
                </a:cubicBezTo>
                <a:cubicBezTo>
                  <a:pt x="291" y="615"/>
                  <a:pt x="291" y="614"/>
                  <a:pt x="292" y="613"/>
                </a:cubicBezTo>
                <a:cubicBezTo>
                  <a:pt x="292" y="609"/>
                  <a:pt x="289" y="615"/>
                  <a:pt x="287" y="613"/>
                </a:cubicBezTo>
                <a:cubicBezTo>
                  <a:pt x="290" y="611"/>
                  <a:pt x="285" y="610"/>
                  <a:pt x="287" y="608"/>
                </a:cubicBezTo>
                <a:cubicBezTo>
                  <a:pt x="283" y="607"/>
                  <a:pt x="284" y="604"/>
                  <a:pt x="281" y="603"/>
                </a:cubicBezTo>
                <a:cubicBezTo>
                  <a:pt x="281" y="602"/>
                  <a:pt x="282" y="601"/>
                  <a:pt x="281" y="600"/>
                </a:cubicBezTo>
                <a:cubicBezTo>
                  <a:pt x="280" y="600"/>
                  <a:pt x="280" y="600"/>
                  <a:pt x="280" y="600"/>
                </a:cubicBezTo>
                <a:cubicBezTo>
                  <a:pt x="281" y="599"/>
                  <a:pt x="281" y="599"/>
                  <a:pt x="281" y="599"/>
                </a:cubicBezTo>
                <a:cubicBezTo>
                  <a:pt x="281" y="598"/>
                  <a:pt x="280" y="598"/>
                  <a:pt x="279" y="598"/>
                </a:cubicBezTo>
                <a:cubicBezTo>
                  <a:pt x="280" y="598"/>
                  <a:pt x="280" y="598"/>
                  <a:pt x="280" y="598"/>
                </a:cubicBezTo>
                <a:cubicBezTo>
                  <a:pt x="278" y="596"/>
                  <a:pt x="281" y="597"/>
                  <a:pt x="280" y="595"/>
                </a:cubicBezTo>
                <a:cubicBezTo>
                  <a:pt x="281" y="596"/>
                  <a:pt x="281" y="597"/>
                  <a:pt x="282" y="598"/>
                </a:cubicBezTo>
                <a:cubicBezTo>
                  <a:pt x="281" y="598"/>
                  <a:pt x="281" y="598"/>
                  <a:pt x="281" y="598"/>
                </a:cubicBezTo>
                <a:cubicBezTo>
                  <a:pt x="281" y="598"/>
                  <a:pt x="281" y="598"/>
                  <a:pt x="281" y="599"/>
                </a:cubicBezTo>
                <a:cubicBezTo>
                  <a:pt x="281" y="600"/>
                  <a:pt x="282" y="599"/>
                  <a:pt x="283" y="599"/>
                </a:cubicBezTo>
                <a:cubicBezTo>
                  <a:pt x="285" y="598"/>
                  <a:pt x="281" y="597"/>
                  <a:pt x="283" y="595"/>
                </a:cubicBezTo>
                <a:cubicBezTo>
                  <a:pt x="282" y="594"/>
                  <a:pt x="281" y="593"/>
                  <a:pt x="283" y="592"/>
                </a:cubicBezTo>
                <a:cubicBezTo>
                  <a:pt x="283" y="591"/>
                  <a:pt x="282" y="591"/>
                  <a:pt x="281" y="590"/>
                </a:cubicBezTo>
                <a:cubicBezTo>
                  <a:pt x="280" y="590"/>
                  <a:pt x="279" y="590"/>
                  <a:pt x="279" y="589"/>
                </a:cubicBezTo>
                <a:cubicBezTo>
                  <a:pt x="277" y="590"/>
                  <a:pt x="277" y="590"/>
                  <a:pt x="277" y="590"/>
                </a:cubicBezTo>
                <a:cubicBezTo>
                  <a:pt x="278" y="591"/>
                  <a:pt x="278" y="591"/>
                  <a:pt x="278" y="591"/>
                </a:cubicBezTo>
                <a:cubicBezTo>
                  <a:pt x="277" y="591"/>
                  <a:pt x="277" y="590"/>
                  <a:pt x="277" y="590"/>
                </a:cubicBezTo>
                <a:cubicBezTo>
                  <a:pt x="278" y="589"/>
                  <a:pt x="279" y="588"/>
                  <a:pt x="279" y="586"/>
                </a:cubicBezTo>
                <a:cubicBezTo>
                  <a:pt x="279" y="586"/>
                  <a:pt x="280" y="586"/>
                  <a:pt x="280" y="586"/>
                </a:cubicBezTo>
                <a:cubicBezTo>
                  <a:pt x="280" y="586"/>
                  <a:pt x="281" y="587"/>
                  <a:pt x="282" y="588"/>
                </a:cubicBezTo>
                <a:cubicBezTo>
                  <a:pt x="284" y="586"/>
                  <a:pt x="282" y="583"/>
                  <a:pt x="285" y="582"/>
                </a:cubicBezTo>
                <a:cubicBezTo>
                  <a:pt x="285" y="581"/>
                  <a:pt x="285" y="580"/>
                  <a:pt x="284" y="580"/>
                </a:cubicBezTo>
                <a:cubicBezTo>
                  <a:pt x="283" y="580"/>
                  <a:pt x="284" y="582"/>
                  <a:pt x="283" y="582"/>
                </a:cubicBezTo>
                <a:cubicBezTo>
                  <a:pt x="283" y="580"/>
                  <a:pt x="283" y="580"/>
                  <a:pt x="283" y="580"/>
                </a:cubicBezTo>
                <a:cubicBezTo>
                  <a:pt x="283" y="580"/>
                  <a:pt x="283" y="580"/>
                  <a:pt x="284" y="579"/>
                </a:cubicBezTo>
                <a:cubicBezTo>
                  <a:pt x="283" y="578"/>
                  <a:pt x="283" y="578"/>
                  <a:pt x="283" y="578"/>
                </a:cubicBezTo>
                <a:cubicBezTo>
                  <a:pt x="283" y="575"/>
                  <a:pt x="285" y="570"/>
                  <a:pt x="283" y="567"/>
                </a:cubicBezTo>
                <a:cubicBezTo>
                  <a:pt x="281" y="567"/>
                  <a:pt x="281" y="569"/>
                  <a:pt x="280" y="569"/>
                </a:cubicBezTo>
                <a:cubicBezTo>
                  <a:pt x="281" y="571"/>
                  <a:pt x="280" y="573"/>
                  <a:pt x="279" y="575"/>
                </a:cubicBezTo>
                <a:cubicBezTo>
                  <a:pt x="279" y="573"/>
                  <a:pt x="277" y="571"/>
                  <a:pt x="279" y="570"/>
                </a:cubicBezTo>
                <a:cubicBezTo>
                  <a:pt x="280" y="568"/>
                  <a:pt x="280" y="568"/>
                  <a:pt x="280" y="568"/>
                </a:cubicBezTo>
                <a:cubicBezTo>
                  <a:pt x="278" y="567"/>
                  <a:pt x="279" y="564"/>
                  <a:pt x="278" y="562"/>
                </a:cubicBezTo>
                <a:cubicBezTo>
                  <a:pt x="280" y="561"/>
                  <a:pt x="278" y="559"/>
                  <a:pt x="280" y="558"/>
                </a:cubicBezTo>
                <a:cubicBezTo>
                  <a:pt x="277" y="556"/>
                  <a:pt x="278" y="553"/>
                  <a:pt x="277" y="550"/>
                </a:cubicBezTo>
                <a:cubicBezTo>
                  <a:pt x="278" y="550"/>
                  <a:pt x="278" y="549"/>
                  <a:pt x="279" y="549"/>
                </a:cubicBezTo>
                <a:cubicBezTo>
                  <a:pt x="278" y="548"/>
                  <a:pt x="278" y="548"/>
                  <a:pt x="278" y="548"/>
                </a:cubicBezTo>
                <a:cubicBezTo>
                  <a:pt x="280" y="545"/>
                  <a:pt x="279" y="540"/>
                  <a:pt x="281" y="536"/>
                </a:cubicBezTo>
                <a:cubicBezTo>
                  <a:pt x="281" y="531"/>
                  <a:pt x="279" y="526"/>
                  <a:pt x="280" y="521"/>
                </a:cubicBezTo>
                <a:cubicBezTo>
                  <a:pt x="280" y="516"/>
                  <a:pt x="281" y="510"/>
                  <a:pt x="281" y="505"/>
                </a:cubicBezTo>
                <a:cubicBezTo>
                  <a:pt x="280" y="496"/>
                  <a:pt x="280" y="496"/>
                  <a:pt x="280" y="496"/>
                </a:cubicBezTo>
                <a:cubicBezTo>
                  <a:pt x="283" y="496"/>
                  <a:pt x="280" y="494"/>
                  <a:pt x="281" y="492"/>
                </a:cubicBezTo>
                <a:cubicBezTo>
                  <a:pt x="280" y="488"/>
                  <a:pt x="281" y="485"/>
                  <a:pt x="280" y="481"/>
                </a:cubicBezTo>
                <a:cubicBezTo>
                  <a:pt x="276" y="472"/>
                  <a:pt x="264" y="472"/>
                  <a:pt x="260" y="464"/>
                </a:cubicBezTo>
                <a:cubicBezTo>
                  <a:pt x="260" y="462"/>
                  <a:pt x="258" y="459"/>
                  <a:pt x="256" y="457"/>
                </a:cubicBezTo>
                <a:cubicBezTo>
                  <a:pt x="253" y="453"/>
                  <a:pt x="252" y="447"/>
                  <a:pt x="248" y="443"/>
                </a:cubicBezTo>
                <a:cubicBezTo>
                  <a:pt x="248" y="441"/>
                  <a:pt x="245" y="439"/>
                  <a:pt x="243" y="438"/>
                </a:cubicBezTo>
                <a:cubicBezTo>
                  <a:pt x="244" y="437"/>
                  <a:pt x="242" y="435"/>
                  <a:pt x="242" y="433"/>
                </a:cubicBezTo>
                <a:cubicBezTo>
                  <a:pt x="243" y="430"/>
                  <a:pt x="250" y="429"/>
                  <a:pt x="246" y="425"/>
                </a:cubicBezTo>
                <a:cubicBezTo>
                  <a:pt x="246" y="425"/>
                  <a:pt x="245" y="426"/>
                  <a:pt x="245" y="426"/>
                </a:cubicBezTo>
                <a:cubicBezTo>
                  <a:pt x="244" y="427"/>
                  <a:pt x="244" y="426"/>
                  <a:pt x="243" y="425"/>
                </a:cubicBezTo>
                <a:cubicBezTo>
                  <a:pt x="244" y="425"/>
                  <a:pt x="244" y="423"/>
                  <a:pt x="244" y="422"/>
                </a:cubicBezTo>
                <a:cubicBezTo>
                  <a:pt x="243" y="422"/>
                  <a:pt x="243" y="422"/>
                  <a:pt x="243" y="422"/>
                </a:cubicBezTo>
                <a:cubicBezTo>
                  <a:pt x="246" y="420"/>
                  <a:pt x="244" y="414"/>
                  <a:pt x="249" y="414"/>
                </a:cubicBezTo>
                <a:cubicBezTo>
                  <a:pt x="249" y="409"/>
                  <a:pt x="255" y="409"/>
                  <a:pt x="256" y="405"/>
                </a:cubicBezTo>
                <a:cubicBezTo>
                  <a:pt x="254" y="403"/>
                  <a:pt x="255" y="399"/>
                  <a:pt x="256" y="397"/>
                </a:cubicBezTo>
                <a:cubicBezTo>
                  <a:pt x="255" y="395"/>
                  <a:pt x="252" y="392"/>
                  <a:pt x="253" y="389"/>
                </a:cubicBezTo>
                <a:cubicBezTo>
                  <a:pt x="252" y="388"/>
                  <a:pt x="250" y="387"/>
                  <a:pt x="248" y="386"/>
                </a:cubicBezTo>
                <a:cubicBezTo>
                  <a:pt x="248" y="388"/>
                  <a:pt x="246" y="388"/>
                  <a:pt x="245" y="390"/>
                </a:cubicBezTo>
                <a:cubicBezTo>
                  <a:pt x="246" y="391"/>
                  <a:pt x="246" y="391"/>
                  <a:pt x="246" y="391"/>
                </a:cubicBezTo>
                <a:cubicBezTo>
                  <a:pt x="245" y="393"/>
                  <a:pt x="245" y="393"/>
                  <a:pt x="245" y="393"/>
                </a:cubicBezTo>
                <a:cubicBezTo>
                  <a:pt x="243" y="391"/>
                  <a:pt x="243" y="391"/>
                  <a:pt x="243" y="391"/>
                </a:cubicBezTo>
                <a:cubicBezTo>
                  <a:pt x="243" y="391"/>
                  <a:pt x="243" y="391"/>
                  <a:pt x="243" y="391"/>
                </a:cubicBezTo>
                <a:cubicBezTo>
                  <a:pt x="242" y="391"/>
                  <a:pt x="241" y="389"/>
                  <a:pt x="239" y="389"/>
                </a:cubicBezTo>
                <a:cubicBezTo>
                  <a:pt x="238" y="390"/>
                  <a:pt x="237" y="389"/>
                  <a:pt x="235" y="389"/>
                </a:cubicBezTo>
                <a:cubicBezTo>
                  <a:pt x="236" y="386"/>
                  <a:pt x="232" y="385"/>
                  <a:pt x="231" y="383"/>
                </a:cubicBezTo>
                <a:cubicBezTo>
                  <a:pt x="231" y="384"/>
                  <a:pt x="230" y="384"/>
                  <a:pt x="231" y="385"/>
                </a:cubicBezTo>
                <a:cubicBezTo>
                  <a:pt x="230" y="384"/>
                  <a:pt x="229" y="384"/>
                  <a:pt x="228" y="383"/>
                </a:cubicBezTo>
                <a:cubicBezTo>
                  <a:pt x="229" y="379"/>
                  <a:pt x="223" y="376"/>
                  <a:pt x="222" y="372"/>
                </a:cubicBezTo>
                <a:cubicBezTo>
                  <a:pt x="219" y="374"/>
                  <a:pt x="216" y="371"/>
                  <a:pt x="212" y="370"/>
                </a:cubicBezTo>
                <a:cubicBezTo>
                  <a:pt x="212" y="372"/>
                  <a:pt x="211" y="370"/>
                  <a:pt x="210" y="370"/>
                </a:cubicBezTo>
                <a:cubicBezTo>
                  <a:pt x="206" y="367"/>
                  <a:pt x="203" y="363"/>
                  <a:pt x="199" y="362"/>
                </a:cubicBezTo>
                <a:cubicBezTo>
                  <a:pt x="195" y="365"/>
                  <a:pt x="190" y="363"/>
                  <a:pt x="187" y="362"/>
                </a:cubicBezTo>
                <a:cubicBezTo>
                  <a:pt x="183" y="360"/>
                  <a:pt x="179" y="360"/>
                  <a:pt x="176" y="356"/>
                </a:cubicBezTo>
                <a:cubicBezTo>
                  <a:pt x="171" y="357"/>
                  <a:pt x="171" y="351"/>
                  <a:pt x="167" y="351"/>
                </a:cubicBezTo>
                <a:cubicBezTo>
                  <a:pt x="162" y="347"/>
                  <a:pt x="170" y="343"/>
                  <a:pt x="165" y="339"/>
                </a:cubicBezTo>
                <a:cubicBezTo>
                  <a:pt x="162" y="334"/>
                  <a:pt x="160" y="330"/>
                  <a:pt x="155" y="327"/>
                </a:cubicBezTo>
                <a:cubicBezTo>
                  <a:pt x="159" y="323"/>
                  <a:pt x="151" y="323"/>
                  <a:pt x="152" y="319"/>
                </a:cubicBezTo>
                <a:cubicBezTo>
                  <a:pt x="148" y="316"/>
                  <a:pt x="145" y="311"/>
                  <a:pt x="146" y="305"/>
                </a:cubicBezTo>
                <a:cubicBezTo>
                  <a:pt x="141" y="303"/>
                  <a:pt x="141" y="303"/>
                  <a:pt x="141" y="303"/>
                </a:cubicBezTo>
                <a:cubicBezTo>
                  <a:pt x="139" y="305"/>
                  <a:pt x="140" y="309"/>
                  <a:pt x="140" y="311"/>
                </a:cubicBezTo>
                <a:cubicBezTo>
                  <a:pt x="144" y="314"/>
                  <a:pt x="145" y="319"/>
                  <a:pt x="147" y="323"/>
                </a:cubicBezTo>
                <a:cubicBezTo>
                  <a:pt x="149" y="325"/>
                  <a:pt x="148" y="330"/>
                  <a:pt x="150" y="333"/>
                </a:cubicBezTo>
                <a:cubicBezTo>
                  <a:pt x="152" y="333"/>
                  <a:pt x="153" y="335"/>
                  <a:pt x="153" y="337"/>
                </a:cubicBezTo>
                <a:cubicBezTo>
                  <a:pt x="151" y="336"/>
                  <a:pt x="148" y="333"/>
                  <a:pt x="146" y="330"/>
                </a:cubicBezTo>
                <a:cubicBezTo>
                  <a:pt x="148" y="326"/>
                  <a:pt x="144" y="325"/>
                  <a:pt x="142" y="322"/>
                </a:cubicBezTo>
                <a:cubicBezTo>
                  <a:pt x="140" y="322"/>
                  <a:pt x="139" y="320"/>
                  <a:pt x="138" y="319"/>
                </a:cubicBezTo>
                <a:cubicBezTo>
                  <a:pt x="139" y="319"/>
                  <a:pt x="140" y="319"/>
                  <a:pt x="140" y="320"/>
                </a:cubicBezTo>
                <a:cubicBezTo>
                  <a:pt x="141" y="318"/>
                  <a:pt x="141" y="317"/>
                  <a:pt x="141" y="316"/>
                </a:cubicBezTo>
                <a:cubicBezTo>
                  <a:pt x="140" y="313"/>
                  <a:pt x="136" y="311"/>
                  <a:pt x="136" y="308"/>
                </a:cubicBezTo>
                <a:cubicBezTo>
                  <a:pt x="136" y="308"/>
                  <a:pt x="136" y="308"/>
                  <a:pt x="136" y="308"/>
                </a:cubicBezTo>
                <a:cubicBezTo>
                  <a:pt x="134" y="304"/>
                  <a:pt x="133" y="300"/>
                  <a:pt x="133" y="296"/>
                </a:cubicBezTo>
                <a:cubicBezTo>
                  <a:pt x="131" y="295"/>
                  <a:pt x="130" y="293"/>
                  <a:pt x="128" y="293"/>
                </a:cubicBezTo>
                <a:cubicBezTo>
                  <a:pt x="128" y="291"/>
                  <a:pt x="125" y="291"/>
                  <a:pt x="124" y="290"/>
                </a:cubicBezTo>
                <a:cubicBezTo>
                  <a:pt x="125" y="287"/>
                  <a:pt x="121" y="284"/>
                  <a:pt x="122" y="280"/>
                </a:cubicBezTo>
                <a:cubicBezTo>
                  <a:pt x="118" y="278"/>
                  <a:pt x="125" y="274"/>
                  <a:pt x="121" y="275"/>
                </a:cubicBezTo>
                <a:cubicBezTo>
                  <a:pt x="120" y="273"/>
                  <a:pt x="118" y="271"/>
                  <a:pt x="119" y="269"/>
                </a:cubicBezTo>
                <a:cubicBezTo>
                  <a:pt x="118" y="268"/>
                  <a:pt x="118" y="268"/>
                  <a:pt x="118" y="268"/>
                </a:cubicBezTo>
                <a:cubicBezTo>
                  <a:pt x="119" y="267"/>
                  <a:pt x="119" y="265"/>
                  <a:pt x="118" y="264"/>
                </a:cubicBezTo>
                <a:cubicBezTo>
                  <a:pt x="117" y="264"/>
                  <a:pt x="118" y="263"/>
                  <a:pt x="118" y="262"/>
                </a:cubicBezTo>
                <a:cubicBezTo>
                  <a:pt x="120" y="261"/>
                  <a:pt x="119" y="259"/>
                  <a:pt x="120" y="258"/>
                </a:cubicBezTo>
                <a:cubicBezTo>
                  <a:pt x="117" y="251"/>
                  <a:pt x="124" y="246"/>
                  <a:pt x="125" y="239"/>
                </a:cubicBezTo>
                <a:cubicBezTo>
                  <a:pt x="129" y="235"/>
                  <a:pt x="126" y="229"/>
                  <a:pt x="127" y="224"/>
                </a:cubicBezTo>
                <a:cubicBezTo>
                  <a:pt x="129" y="226"/>
                  <a:pt x="132" y="226"/>
                  <a:pt x="133" y="228"/>
                </a:cubicBezTo>
                <a:cubicBezTo>
                  <a:pt x="135" y="226"/>
                  <a:pt x="135" y="226"/>
                  <a:pt x="135" y="226"/>
                </a:cubicBezTo>
                <a:cubicBezTo>
                  <a:pt x="133" y="224"/>
                  <a:pt x="136" y="223"/>
                  <a:pt x="133" y="221"/>
                </a:cubicBezTo>
                <a:cubicBezTo>
                  <a:pt x="133" y="220"/>
                  <a:pt x="134" y="219"/>
                  <a:pt x="133" y="218"/>
                </a:cubicBezTo>
                <a:cubicBezTo>
                  <a:pt x="131" y="218"/>
                  <a:pt x="131" y="218"/>
                  <a:pt x="131" y="218"/>
                </a:cubicBezTo>
                <a:cubicBezTo>
                  <a:pt x="132" y="218"/>
                  <a:pt x="132" y="218"/>
                  <a:pt x="132" y="218"/>
                </a:cubicBezTo>
                <a:cubicBezTo>
                  <a:pt x="130" y="216"/>
                  <a:pt x="130" y="216"/>
                  <a:pt x="130" y="216"/>
                </a:cubicBezTo>
                <a:cubicBezTo>
                  <a:pt x="131" y="215"/>
                  <a:pt x="131" y="215"/>
                  <a:pt x="131" y="214"/>
                </a:cubicBezTo>
                <a:cubicBezTo>
                  <a:pt x="129" y="213"/>
                  <a:pt x="128" y="212"/>
                  <a:pt x="127" y="212"/>
                </a:cubicBezTo>
                <a:cubicBezTo>
                  <a:pt x="127" y="212"/>
                  <a:pt x="127" y="212"/>
                  <a:pt x="127" y="212"/>
                </a:cubicBezTo>
                <a:cubicBezTo>
                  <a:pt x="126" y="211"/>
                  <a:pt x="125" y="209"/>
                  <a:pt x="124" y="210"/>
                </a:cubicBezTo>
                <a:cubicBezTo>
                  <a:pt x="124" y="210"/>
                  <a:pt x="125" y="210"/>
                  <a:pt x="125" y="209"/>
                </a:cubicBezTo>
                <a:cubicBezTo>
                  <a:pt x="125" y="209"/>
                  <a:pt x="125" y="209"/>
                  <a:pt x="125" y="208"/>
                </a:cubicBezTo>
                <a:cubicBezTo>
                  <a:pt x="123" y="208"/>
                  <a:pt x="123" y="208"/>
                  <a:pt x="123" y="208"/>
                </a:cubicBezTo>
                <a:cubicBezTo>
                  <a:pt x="125" y="206"/>
                  <a:pt x="125" y="206"/>
                  <a:pt x="125" y="206"/>
                </a:cubicBezTo>
                <a:cubicBezTo>
                  <a:pt x="125" y="205"/>
                  <a:pt x="125" y="205"/>
                  <a:pt x="125" y="205"/>
                </a:cubicBezTo>
                <a:cubicBezTo>
                  <a:pt x="124" y="206"/>
                  <a:pt x="124" y="206"/>
                  <a:pt x="124" y="206"/>
                </a:cubicBezTo>
                <a:cubicBezTo>
                  <a:pt x="123" y="205"/>
                  <a:pt x="123" y="205"/>
                  <a:pt x="123" y="205"/>
                </a:cubicBezTo>
                <a:cubicBezTo>
                  <a:pt x="124" y="204"/>
                  <a:pt x="126" y="204"/>
                  <a:pt x="125" y="202"/>
                </a:cubicBezTo>
                <a:cubicBezTo>
                  <a:pt x="123" y="201"/>
                  <a:pt x="123" y="201"/>
                  <a:pt x="123" y="201"/>
                </a:cubicBezTo>
                <a:cubicBezTo>
                  <a:pt x="124" y="200"/>
                  <a:pt x="125" y="200"/>
                  <a:pt x="125" y="199"/>
                </a:cubicBezTo>
                <a:cubicBezTo>
                  <a:pt x="124" y="198"/>
                  <a:pt x="123" y="198"/>
                  <a:pt x="122" y="198"/>
                </a:cubicBezTo>
                <a:cubicBezTo>
                  <a:pt x="122" y="197"/>
                  <a:pt x="122" y="197"/>
                  <a:pt x="122" y="197"/>
                </a:cubicBezTo>
                <a:cubicBezTo>
                  <a:pt x="123" y="197"/>
                  <a:pt x="124" y="198"/>
                  <a:pt x="124" y="197"/>
                </a:cubicBezTo>
                <a:cubicBezTo>
                  <a:pt x="124" y="196"/>
                  <a:pt x="124" y="196"/>
                  <a:pt x="124" y="196"/>
                </a:cubicBezTo>
                <a:cubicBezTo>
                  <a:pt x="124" y="196"/>
                  <a:pt x="125" y="195"/>
                  <a:pt x="125" y="195"/>
                </a:cubicBezTo>
                <a:cubicBezTo>
                  <a:pt x="125" y="195"/>
                  <a:pt x="125" y="195"/>
                  <a:pt x="125" y="195"/>
                </a:cubicBezTo>
                <a:cubicBezTo>
                  <a:pt x="125" y="194"/>
                  <a:pt x="125" y="194"/>
                  <a:pt x="125" y="193"/>
                </a:cubicBezTo>
                <a:cubicBezTo>
                  <a:pt x="123" y="192"/>
                  <a:pt x="122" y="195"/>
                  <a:pt x="120" y="196"/>
                </a:cubicBezTo>
                <a:cubicBezTo>
                  <a:pt x="120" y="195"/>
                  <a:pt x="119" y="195"/>
                  <a:pt x="119" y="194"/>
                </a:cubicBezTo>
                <a:cubicBezTo>
                  <a:pt x="120" y="195"/>
                  <a:pt x="120" y="195"/>
                  <a:pt x="120" y="195"/>
                </a:cubicBezTo>
                <a:cubicBezTo>
                  <a:pt x="123" y="193"/>
                  <a:pt x="119" y="188"/>
                  <a:pt x="123" y="187"/>
                </a:cubicBezTo>
                <a:cubicBezTo>
                  <a:pt x="124" y="187"/>
                  <a:pt x="125" y="186"/>
                  <a:pt x="125" y="185"/>
                </a:cubicBezTo>
                <a:cubicBezTo>
                  <a:pt x="123" y="183"/>
                  <a:pt x="123" y="187"/>
                  <a:pt x="121" y="187"/>
                </a:cubicBezTo>
                <a:cubicBezTo>
                  <a:pt x="121" y="185"/>
                  <a:pt x="123" y="184"/>
                  <a:pt x="122" y="183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1" y="183"/>
                  <a:pt x="120" y="181"/>
                  <a:pt x="121" y="181"/>
                </a:cubicBezTo>
                <a:cubicBezTo>
                  <a:pt x="122" y="181"/>
                  <a:pt x="122" y="181"/>
                  <a:pt x="122" y="181"/>
                </a:cubicBezTo>
                <a:cubicBezTo>
                  <a:pt x="123" y="181"/>
                  <a:pt x="123" y="181"/>
                  <a:pt x="123" y="180"/>
                </a:cubicBezTo>
                <a:cubicBezTo>
                  <a:pt x="122" y="178"/>
                  <a:pt x="121" y="180"/>
                  <a:pt x="120" y="180"/>
                </a:cubicBezTo>
                <a:cubicBezTo>
                  <a:pt x="119" y="181"/>
                  <a:pt x="119" y="181"/>
                  <a:pt x="119" y="181"/>
                </a:cubicBezTo>
                <a:cubicBezTo>
                  <a:pt x="121" y="180"/>
                  <a:pt x="122" y="175"/>
                  <a:pt x="120" y="172"/>
                </a:cubicBezTo>
                <a:cubicBezTo>
                  <a:pt x="119" y="169"/>
                  <a:pt x="123" y="165"/>
                  <a:pt x="118" y="164"/>
                </a:cubicBezTo>
                <a:cubicBezTo>
                  <a:pt x="117" y="161"/>
                  <a:pt x="120" y="159"/>
                  <a:pt x="118" y="156"/>
                </a:cubicBezTo>
                <a:cubicBezTo>
                  <a:pt x="118" y="159"/>
                  <a:pt x="117" y="161"/>
                  <a:pt x="117" y="164"/>
                </a:cubicBezTo>
                <a:cubicBezTo>
                  <a:pt x="113" y="163"/>
                  <a:pt x="116" y="157"/>
                  <a:pt x="112" y="159"/>
                </a:cubicBezTo>
                <a:cubicBezTo>
                  <a:pt x="113" y="160"/>
                  <a:pt x="113" y="161"/>
                  <a:pt x="113" y="163"/>
                </a:cubicBezTo>
                <a:cubicBezTo>
                  <a:pt x="111" y="163"/>
                  <a:pt x="111" y="160"/>
                  <a:pt x="110" y="159"/>
                </a:cubicBezTo>
                <a:cubicBezTo>
                  <a:pt x="110" y="158"/>
                  <a:pt x="109" y="157"/>
                  <a:pt x="110" y="156"/>
                </a:cubicBezTo>
                <a:cubicBezTo>
                  <a:pt x="108" y="156"/>
                  <a:pt x="108" y="155"/>
                  <a:pt x="107" y="153"/>
                </a:cubicBezTo>
                <a:cubicBezTo>
                  <a:pt x="107" y="154"/>
                  <a:pt x="108" y="153"/>
                  <a:pt x="108" y="153"/>
                </a:cubicBezTo>
                <a:cubicBezTo>
                  <a:pt x="109" y="149"/>
                  <a:pt x="104" y="153"/>
                  <a:pt x="103" y="150"/>
                </a:cubicBezTo>
                <a:cubicBezTo>
                  <a:pt x="104" y="149"/>
                  <a:pt x="104" y="149"/>
                  <a:pt x="104" y="149"/>
                </a:cubicBezTo>
                <a:cubicBezTo>
                  <a:pt x="101" y="149"/>
                  <a:pt x="99" y="146"/>
                  <a:pt x="96" y="147"/>
                </a:cubicBezTo>
                <a:cubicBezTo>
                  <a:pt x="96" y="147"/>
                  <a:pt x="96" y="146"/>
                  <a:pt x="97" y="145"/>
                </a:cubicBezTo>
                <a:cubicBezTo>
                  <a:pt x="96" y="145"/>
                  <a:pt x="95" y="145"/>
                  <a:pt x="95" y="145"/>
                </a:cubicBezTo>
                <a:cubicBezTo>
                  <a:pt x="95" y="144"/>
                  <a:pt x="95" y="143"/>
                  <a:pt x="94" y="143"/>
                </a:cubicBezTo>
                <a:cubicBezTo>
                  <a:pt x="94" y="144"/>
                  <a:pt x="94" y="144"/>
                  <a:pt x="94" y="144"/>
                </a:cubicBezTo>
                <a:cubicBezTo>
                  <a:pt x="92" y="143"/>
                  <a:pt x="89" y="141"/>
                  <a:pt x="92" y="139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2" y="137"/>
                  <a:pt x="91" y="139"/>
                  <a:pt x="90" y="139"/>
                </a:cubicBezTo>
                <a:cubicBezTo>
                  <a:pt x="89" y="139"/>
                  <a:pt x="89" y="138"/>
                  <a:pt x="88" y="139"/>
                </a:cubicBezTo>
                <a:cubicBezTo>
                  <a:pt x="88" y="139"/>
                  <a:pt x="88" y="139"/>
                  <a:pt x="88" y="139"/>
                </a:cubicBezTo>
                <a:cubicBezTo>
                  <a:pt x="88" y="138"/>
                  <a:pt x="87" y="137"/>
                  <a:pt x="87" y="137"/>
                </a:cubicBezTo>
                <a:cubicBezTo>
                  <a:pt x="86" y="138"/>
                  <a:pt x="85" y="139"/>
                  <a:pt x="84" y="140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86" y="142"/>
                  <a:pt x="83" y="143"/>
                  <a:pt x="83" y="144"/>
                </a:cubicBezTo>
                <a:cubicBezTo>
                  <a:pt x="82" y="146"/>
                  <a:pt x="82" y="144"/>
                  <a:pt x="81" y="144"/>
                </a:cubicBezTo>
                <a:cubicBezTo>
                  <a:pt x="79" y="145"/>
                  <a:pt x="77" y="147"/>
                  <a:pt x="75" y="146"/>
                </a:cubicBezTo>
                <a:cubicBezTo>
                  <a:pt x="74" y="147"/>
                  <a:pt x="73" y="148"/>
                  <a:pt x="71" y="148"/>
                </a:cubicBezTo>
                <a:cubicBezTo>
                  <a:pt x="71" y="148"/>
                  <a:pt x="71" y="148"/>
                  <a:pt x="71" y="147"/>
                </a:cubicBezTo>
                <a:cubicBezTo>
                  <a:pt x="72" y="146"/>
                  <a:pt x="74" y="147"/>
                  <a:pt x="75" y="145"/>
                </a:cubicBezTo>
                <a:cubicBezTo>
                  <a:pt x="74" y="145"/>
                  <a:pt x="74" y="144"/>
                  <a:pt x="74" y="144"/>
                </a:cubicBezTo>
                <a:cubicBezTo>
                  <a:pt x="73" y="145"/>
                  <a:pt x="73" y="145"/>
                  <a:pt x="73" y="145"/>
                </a:cubicBezTo>
                <a:cubicBezTo>
                  <a:pt x="73" y="144"/>
                  <a:pt x="73" y="144"/>
                  <a:pt x="73" y="144"/>
                </a:cubicBezTo>
                <a:cubicBezTo>
                  <a:pt x="76" y="143"/>
                  <a:pt x="75" y="137"/>
                  <a:pt x="80" y="137"/>
                </a:cubicBezTo>
                <a:cubicBezTo>
                  <a:pt x="81" y="137"/>
                  <a:pt x="81" y="138"/>
                  <a:pt x="82" y="138"/>
                </a:cubicBezTo>
                <a:cubicBezTo>
                  <a:pt x="82" y="137"/>
                  <a:pt x="84" y="134"/>
                  <a:pt x="82" y="134"/>
                </a:cubicBezTo>
                <a:cubicBezTo>
                  <a:pt x="78" y="135"/>
                  <a:pt x="74" y="138"/>
                  <a:pt x="71" y="140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70" y="142"/>
                  <a:pt x="69" y="142"/>
                  <a:pt x="69" y="143"/>
                </a:cubicBezTo>
                <a:cubicBezTo>
                  <a:pt x="68" y="143"/>
                  <a:pt x="65" y="143"/>
                  <a:pt x="63" y="145"/>
                </a:cubicBezTo>
                <a:cubicBezTo>
                  <a:pt x="64" y="146"/>
                  <a:pt x="66" y="147"/>
                  <a:pt x="65" y="148"/>
                </a:cubicBezTo>
                <a:cubicBezTo>
                  <a:pt x="64" y="150"/>
                  <a:pt x="60" y="149"/>
                  <a:pt x="61" y="152"/>
                </a:cubicBezTo>
                <a:cubicBezTo>
                  <a:pt x="57" y="153"/>
                  <a:pt x="54" y="155"/>
                  <a:pt x="51" y="157"/>
                </a:cubicBezTo>
                <a:cubicBezTo>
                  <a:pt x="51" y="157"/>
                  <a:pt x="51" y="157"/>
                  <a:pt x="51" y="157"/>
                </a:cubicBezTo>
                <a:cubicBezTo>
                  <a:pt x="50" y="158"/>
                  <a:pt x="48" y="159"/>
                  <a:pt x="46" y="160"/>
                </a:cubicBezTo>
                <a:cubicBezTo>
                  <a:pt x="46" y="160"/>
                  <a:pt x="46" y="160"/>
                  <a:pt x="46" y="160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0" y="163"/>
                  <a:pt x="39" y="164"/>
                  <a:pt x="37" y="165"/>
                </a:cubicBezTo>
                <a:cubicBezTo>
                  <a:pt x="38" y="165"/>
                  <a:pt x="38" y="165"/>
                  <a:pt x="38" y="165"/>
                </a:cubicBezTo>
                <a:cubicBezTo>
                  <a:pt x="36" y="164"/>
                  <a:pt x="34" y="166"/>
                  <a:pt x="32" y="166"/>
                </a:cubicBezTo>
                <a:cubicBezTo>
                  <a:pt x="32" y="165"/>
                  <a:pt x="32" y="165"/>
                  <a:pt x="31" y="164"/>
                </a:cubicBezTo>
                <a:cubicBezTo>
                  <a:pt x="30" y="165"/>
                  <a:pt x="30" y="168"/>
                  <a:pt x="27" y="168"/>
                </a:cubicBezTo>
                <a:cubicBezTo>
                  <a:pt x="27" y="167"/>
                  <a:pt x="27" y="167"/>
                  <a:pt x="27" y="167"/>
                </a:cubicBezTo>
                <a:cubicBezTo>
                  <a:pt x="26" y="168"/>
                  <a:pt x="25" y="167"/>
                  <a:pt x="25" y="168"/>
                </a:cubicBezTo>
                <a:cubicBezTo>
                  <a:pt x="28" y="167"/>
                  <a:pt x="30" y="162"/>
                  <a:pt x="34" y="163"/>
                </a:cubicBezTo>
                <a:cubicBezTo>
                  <a:pt x="34" y="164"/>
                  <a:pt x="34" y="164"/>
                  <a:pt x="34" y="164"/>
                </a:cubicBezTo>
                <a:cubicBezTo>
                  <a:pt x="36" y="164"/>
                  <a:pt x="35" y="162"/>
                  <a:pt x="36" y="162"/>
                </a:cubicBezTo>
                <a:cubicBezTo>
                  <a:pt x="38" y="160"/>
                  <a:pt x="41" y="159"/>
                  <a:pt x="43" y="158"/>
                </a:cubicBezTo>
                <a:cubicBezTo>
                  <a:pt x="43" y="159"/>
                  <a:pt x="43" y="159"/>
                  <a:pt x="43" y="159"/>
                </a:cubicBezTo>
                <a:cubicBezTo>
                  <a:pt x="47" y="156"/>
                  <a:pt x="50" y="153"/>
                  <a:pt x="52" y="148"/>
                </a:cubicBezTo>
                <a:cubicBezTo>
                  <a:pt x="53" y="147"/>
                  <a:pt x="55" y="147"/>
                  <a:pt x="55" y="145"/>
                </a:cubicBezTo>
                <a:cubicBezTo>
                  <a:pt x="54" y="144"/>
                  <a:pt x="50" y="148"/>
                  <a:pt x="50" y="144"/>
                </a:cubicBezTo>
                <a:cubicBezTo>
                  <a:pt x="48" y="147"/>
                  <a:pt x="48" y="147"/>
                  <a:pt x="48" y="147"/>
                </a:cubicBezTo>
                <a:cubicBezTo>
                  <a:pt x="48" y="146"/>
                  <a:pt x="48" y="144"/>
                  <a:pt x="47" y="144"/>
                </a:cubicBezTo>
                <a:cubicBezTo>
                  <a:pt x="46" y="144"/>
                  <a:pt x="46" y="144"/>
                  <a:pt x="46" y="144"/>
                </a:cubicBezTo>
                <a:cubicBezTo>
                  <a:pt x="46" y="143"/>
                  <a:pt x="46" y="143"/>
                  <a:pt x="45" y="142"/>
                </a:cubicBezTo>
                <a:cubicBezTo>
                  <a:pt x="42" y="144"/>
                  <a:pt x="42" y="144"/>
                  <a:pt x="42" y="144"/>
                </a:cubicBezTo>
                <a:cubicBezTo>
                  <a:pt x="43" y="141"/>
                  <a:pt x="43" y="141"/>
                  <a:pt x="43" y="141"/>
                </a:cubicBezTo>
                <a:cubicBezTo>
                  <a:pt x="41" y="139"/>
                  <a:pt x="45" y="137"/>
                  <a:pt x="45" y="134"/>
                </a:cubicBezTo>
                <a:cubicBezTo>
                  <a:pt x="46" y="134"/>
                  <a:pt x="45" y="133"/>
                  <a:pt x="45" y="132"/>
                </a:cubicBezTo>
                <a:cubicBezTo>
                  <a:pt x="45" y="131"/>
                  <a:pt x="45" y="131"/>
                  <a:pt x="45" y="131"/>
                </a:cubicBezTo>
                <a:cubicBezTo>
                  <a:pt x="43" y="132"/>
                  <a:pt x="44" y="135"/>
                  <a:pt x="41" y="135"/>
                </a:cubicBezTo>
                <a:cubicBezTo>
                  <a:pt x="40" y="134"/>
                  <a:pt x="39" y="135"/>
                  <a:pt x="38" y="134"/>
                </a:cubicBezTo>
                <a:cubicBezTo>
                  <a:pt x="40" y="132"/>
                  <a:pt x="36" y="128"/>
                  <a:pt x="39" y="127"/>
                </a:cubicBezTo>
                <a:cubicBezTo>
                  <a:pt x="41" y="127"/>
                  <a:pt x="43" y="131"/>
                  <a:pt x="43" y="128"/>
                </a:cubicBezTo>
                <a:cubicBezTo>
                  <a:pt x="43" y="126"/>
                  <a:pt x="41" y="127"/>
                  <a:pt x="39" y="126"/>
                </a:cubicBezTo>
                <a:cubicBezTo>
                  <a:pt x="34" y="120"/>
                  <a:pt x="44" y="120"/>
                  <a:pt x="45" y="115"/>
                </a:cubicBezTo>
                <a:cubicBezTo>
                  <a:pt x="45" y="115"/>
                  <a:pt x="46" y="115"/>
                  <a:pt x="46" y="116"/>
                </a:cubicBezTo>
                <a:cubicBezTo>
                  <a:pt x="47" y="115"/>
                  <a:pt x="47" y="115"/>
                  <a:pt x="47" y="115"/>
                </a:cubicBezTo>
                <a:cubicBezTo>
                  <a:pt x="48" y="115"/>
                  <a:pt x="48" y="114"/>
                  <a:pt x="49" y="115"/>
                </a:cubicBezTo>
                <a:cubicBezTo>
                  <a:pt x="50" y="114"/>
                  <a:pt x="50" y="113"/>
                  <a:pt x="50" y="111"/>
                </a:cubicBezTo>
                <a:cubicBezTo>
                  <a:pt x="50" y="111"/>
                  <a:pt x="50" y="111"/>
                  <a:pt x="50" y="111"/>
                </a:cubicBezTo>
                <a:cubicBezTo>
                  <a:pt x="50" y="110"/>
                  <a:pt x="50" y="110"/>
                  <a:pt x="51" y="110"/>
                </a:cubicBezTo>
                <a:cubicBezTo>
                  <a:pt x="51" y="110"/>
                  <a:pt x="52" y="111"/>
                  <a:pt x="51" y="111"/>
                </a:cubicBezTo>
                <a:cubicBezTo>
                  <a:pt x="51" y="112"/>
                  <a:pt x="51" y="112"/>
                  <a:pt x="51" y="112"/>
                </a:cubicBezTo>
                <a:cubicBezTo>
                  <a:pt x="52" y="113"/>
                  <a:pt x="54" y="113"/>
                  <a:pt x="55" y="112"/>
                </a:cubicBezTo>
                <a:cubicBezTo>
                  <a:pt x="58" y="108"/>
                  <a:pt x="61" y="113"/>
                  <a:pt x="64" y="108"/>
                </a:cubicBezTo>
                <a:cubicBezTo>
                  <a:pt x="62" y="106"/>
                  <a:pt x="67" y="105"/>
                  <a:pt x="65" y="103"/>
                </a:cubicBezTo>
                <a:cubicBezTo>
                  <a:pt x="66" y="103"/>
                  <a:pt x="67" y="102"/>
                  <a:pt x="67" y="101"/>
                </a:cubicBezTo>
                <a:cubicBezTo>
                  <a:pt x="67" y="101"/>
                  <a:pt x="68" y="100"/>
                  <a:pt x="67" y="100"/>
                </a:cubicBezTo>
                <a:cubicBezTo>
                  <a:pt x="63" y="100"/>
                  <a:pt x="60" y="105"/>
                  <a:pt x="56" y="100"/>
                </a:cubicBezTo>
                <a:cubicBezTo>
                  <a:pt x="55" y="101"/>
                  <a:pt x="53" y="101"/>
                  <a:pt x="51" y="100"/>
                </a:cubicBezTo>
                <a:cubicBezTo>
                  <a:pt x="50" y="98"/>
                  <a:pt x="53" y="96"/>
                  <a:pt x="52" y="94"/>
                </a:cubicBezTo>
                <a:cubicBezTo>
                  <a:pt x="53" y="96"/>
                  <a:pt x="54" y="94"/>
                  <a:pt x="55" y="93"/>
                </a:cubicBezTo>
                <a:cubicBezTo>
                  <a:pt x="53" y="92"/>
                  <a:pt x="52" y="91"/>
                  <a:pt x="51" y="89"/>
                </a:cubicBezTo>
                <a:cubicBezTo>
                  <a:pt x="54" y="88"/>
                  <a:pt x="57" y="85"/>
                  <a:pt x="61" y="87"/>
                </a:cubicBezTo>
                <a:cubicBezTo>
                  <a:pt x="61" y="86"/>
                  <a:pt x="61" y="85"/>
                  <a:pt x="63" y="85"/>
                </a:cubicBezTo>
                <a:cubicBezTo>
                  <a:pt x="64" y="86"/>
                  <a:pt x="66" y="84"/>
                  <a:pt x="67" y="86"/>
                </a:cubicBezTo>
                <a:cubicBezTo>
                  <a:pt x="67" y="87"/>
                  <a:pt x="64" y="87"/>
                  <a:pt x="65" y="89"/>
                </a:cubicBezTo>
                <a:cubicBezTo>
                  <a:pt x="68" y="89"/>
                  <a:pt x="70" y="94"/>
                  <a:pt x="73" y="90"/>
                </a:cubicBezTo>
                <a:cubicBezTo>
                  <a:pt x="72" y="91"/>
                  <a:pt x="73" y="91"/>
                  <a:pt x="73" y="91"/>
                </a:cubicBezTo>
                <a:cubicBezTo>
                  <a:pt x="74" y="91"/>
                  <a:pt x="75" y="90"/>
                  <a:pt x="74" y="89"/>
                </a:cubicBezTo>
                <a:cubicBezTo>
                  <a:pt x="74" y="89"/>
                  <a:pt x="73" y="88"/>
                  <a:pt x="73" y="88"/>
                </a:cubicBezTo>
                <a:cubicBezTo>
                  <a:pt x="73" y="87"/>
                  <a:pt x="73" y="87"/>
                  <a:pt x="73" y="87"/>
                </a:cubicBezTo>
                <a:cubicBezTo>
                  <a:pt x="75" y="88"/>
                  <a:pt x="75" y="90"/>
                  <a:pt x="77" y="90"/>
                </a:cubicBezTo>
                <a:cubicBezTo>
                  <a:pt x="79" y="88"/>
                  <a:pt x="79" y="88"/>
                  <a:pt x="79" y="88"/>
                </a:cubicBezTo>
                <a:cubicBezTo>
                  <a:pt x="78" y="86"/>
                  <a:pt x="76" y="88"/>
                  <a:pt x="75" y="87"/>
                </a:cubicBezTo>
                <a:cubicBezTo>
                  <a:pt x="74" y="87"/>
                  <a:pt x="74" y="87"/>
                  <a:pt x="74" y="87"/>
                </a:cubicBezTo>
                <a:cubicBezTo>
                  <a:pt x="74" y="86"/>
                  <a:pt x="75" y="85"/>
                  <a:pt x="74" y="85"/>
                </a:cubicBezTo>
                <a:cubicBezTo>
                  <a:pt x="73" y="85"/>
                  <a:pt x="73" y="85"/>
                  <a:pt x="73" y="85"/>
                </a:cubicBezTo>
                <a:cubicBezTo>
                  <a:pt x="73" y="84"/>
                  <a:pt x="73" y="84"/>
                  <a:pt x="73" y="84"/>
                </a:cubicBezTo>
                <a:cubicBezTo>
                  <a:pt x="73" y="85"/>
                  <a:pt x="74" y="85"/>
                  <a:pt x="74" y="85"/>
                </a:cubicBezTo>
                <a:cubicBezTo>
                  <a:pt x="75" y="85"/>
                  <a:pt x="75" y="84"/>
                  <a:pt x="75" y="84"/>
                </a:cubicBezTo>
                <a:cubicBezTo>
                  <a:pt x="74" y="81"/>
                  <a:pt x="70" y="83"/>
                  <a:pt x="71" y="80"/>
                </a:cubicBezTo>
                <a:cubicBezTo>
                  <a:pt x="76" y="75"/>
                  <a:pt x="65" y="68"/>
                  <a:pt x="74" y="64"/>
                </a:cubicBezTo>
                <a:cubicBezTo>
                  <a:pt x="77" y="66"/>
                  <a:pt x="80" y="66"/>
                  <a:pt x="83" y="65"/>
                </a:cubicBezTo>
                <a:cubicBezTo>
                  <a:pt x="87" y="62"/>
                  <a:pt x="91" y="57"/>
                  <a:pt x="97" y="58"/>
                </a:cubicBezTo>
                <a:cubicBezTo>
                  <a:pt x="100" y="58"/>
                  <a:pt x="101" y="56"/>
                  <a:pt x="103" y="54"/>
                </a:cubicBezTo>
                <a:cubicBezTo>
                  <a:pt x="106" y="56"/>
                  <a:pt x="110" y="56"/>
                  <a:pt x="113" y="53"/>
                </a:cubicBezTo>
                <a:cubicBezTo>
                  <a:pt x="114" y="54"/>
                  <a:pt x="115" y="54"/>
                  <a:pt x="115" y="55"/>
                </a:cubicBezTo>
                <a:close/>
                <a:moveTo>
                  <a:pt x="442" y="11"/>
                </a:moveTo>
                <a:cubicBezTo>
                  <a:pt x="445" y="10"/>
                  <a:pt x="448" y="12"/>
                  <a:pt x="450" y="13"/>
                </a:cubicBezTo>
                <a:cubicBezTo>
                  <a:pt x="453" y="14"/>
                  <a:pt x="455" y="13"/>
                  <a:pt x="457" y="16"/>
                </a:cubicBezTo>
                <a:cubicBezTo>
                  <a:pt x="453" y="20"/>
                  <a:pt x="448" y="13"/>
                  <a:pt x="444" y="17"/>
                </a:cubicBezTo>
                <a:cubicBezTo>
                  <a:pt x="444" y="16"/>
                  <a:pt x="444" y="16"/>
                  <a:pt x="444" y="16"/>
                </a:cubicBezTo>
                <a:cubicBezTo>
                  <a:pt x="444" y="16"/>
                  <a:pt x="444" y="16"/>
                  <a:pt x="444" y="15"/>
                </a:cubicBezTo>
                <a:cubicBezTo>
                  <a:pt x="444" y="15"/>
                  <a:pt x="444" y="15"/>
                  <a:pt x="444" y="15"/>
                </a:cubicBezTo>
                <a:cubicBezTo>
                  <a:pt x="442" y="17"/>
                  <a:pt x="442" y="17"/>
                  <a:pt x="440" y="18"/>
                </a:cubicBezTo>
                <a:cubicBezTo>
                  <a:pt x="438" y="17"/>
                  <a:pt x="437" y="18"/>
                  <a:pt x="436" y="19"/>
                </a:cubicBezTo>
                <a:cubicBezTo>
                  <a:pt x="436" y="20"/>
                  <a:pt x="436" y="21"/>
                  <a:pt x="437" y="21"/>
                </a:cubicBezTo>
                <a:cubicBezTo>
                  <a:pt x="439" y="21"/>
                  <a:pt x="441" y="17"/>
                  <a:pt x="444" y="20"/>
                </a:cubicBezTo>
                <a:cubicBezTo>
                  <a:pt x="446" y="18"/>
                  <a:pt x="450" y="17"/>
                  <a:pt x="453" y="19"/>
                </a:cubicBezTo>
                <a:cubicBezTo>
                  <a:pt x="456" y="21"/>
                  <a:pt x="460" y="15"/>
                  <a:pt x="459" y="21"/>
                </a:cubicBezTo>
                <a:cubicBezTo>
                  <a:pt x="458" y="21"/>
                  <a:pt x="456" y="21"/>
                  <a:pt x="456" y="22"/>
                </a:cubicBezTo>
                <a:cubicBezTo>
                  <a:pt x="457" y="25"/>
                  <a:pt x="459" y="22"/>
                  <a:pt x="461" y="22"/>
                </a:cubicBezTo>
                <a:cubicBezTo>
                  <a:pt x="463" y="23"/>
                  <a:pt x="465" y="25"/>
                  <a:pt x="467" y="26"/>
                </a:cubicBezTo>
                <a:cubicBezTo>
                  <a:pt x="463" y="31"/>
                  <a:pt x="454" y="31"/>
                  <a:pt x="448" y="29"/>
                </a:cubicBezTo>
                <a:cubicBezTo>
                  <a:pt x="445" y="30"/>
                  <a:pt x="441" y="31"/>
                  <a:pt x="438" y="33"/>
                </a:cubicBezTo>
                <a:cubicBezTo>
                  <a:pt x="439" y="34"/>
                  <a:pt x="438" y="35"/>
                  <a:pt x="439" y="35"/>
                </a:cubicBezTo>
                <a:cubicBezTo>
                  <a:pt x="443" y="31"/>
                  <a:pt x="450" y="31"/>
                  <a:pt x="456" y="32"/>
                </a:cubicBezTo>
                <a:cubicBezTo>
                  <a:pt x="456" y="33"/>
                  <a:pt x="455" y="34"/>
                  <a:pt x="454" y="35"/>
                </a:cubicBezTo>
                <a:cubicBezTo>
                  <a:pt x="453" y="35"/>
                  <a:pt x="452" y="35"/>
                  <a:pt x="452" y="36"/>
                </a:cubicBezTo>
                <a:cubicBezTo>
                  <a:pt x="451" y="36"/>
                  <a:pt x="452" y="37"/>
                  <a:pt x="452" y="37"/>
                </a:cubicBezTo>
                <a:cubicBezTo>
                  <a:pt x="455" y="35"/>
                  <a:pt x="461" y="39"/>
                  <a:pt x="460" y="33"/>
                </a:cubicBezTo>
                <a:cubicBezTo>
                  <a:pt x="461" y="33"/>
                  <a:pt x="461" y="34"/>
                  <a:pt x="462" y="34"/>
                </a:cubicBezTo>
                <a:cubicBezTo>
                  <a:pt x="463" y="33"/>
                  <a:pt x="463" y="33"/>
                  <a:pt x="463" y="33"/>
                </a:cubicBezTo>
                <a:cubicBezTo>
                  <a:pt x="465" y="35"/>
                  <a:pt x="462" y="37"/>
                  <a:pt x="461" y="39"/>
                </a:cubicBezTo>
                <a:cubicBezTo>
                  <a:pt x="456" y="40"/>
                  <a:pt x="455" y="46"/>
                  <a:pt x="451" y="48"/>
                </a:cubicBezTo>
                <a:cubicBezTo>
                  <a:pt x="452" y="49"/>
                  <a:pt x="452" y="49"/>
                  <a:pt x="452" y="49"/>
                </a:cubicBezTo>
                <a:cubicBezTo>
                  <a:pt x="455" y="43"/>
                  <a:pt x="463" y="44"/>
                  <a:pt x="466" y="38"/>
                </a:cubicBezTo>
                <a:cubicBezTo>
                  <a:pt x="466" y="39"/>
                  <a:pt x="466" y="39"/>
                  <a:pt x="467" y="40"/>
                </a:cubicBezTo>
                <a:cubicBezTo>
                  <a:pt x="467" y="40"/>
                  <a:pt x="468" y="40"/>
                  <a:pt x="468" y="39"/>
                </a:cubicBezTo>
                <a:cubicBezTo>
                  <a:pt x="469" y="40"/>
                  <a:pt x="469" y="40"/>
                  <a:pt x="469" y="40"/>
                </a:cubicBezTo>
                <a:cubicBezTo>
                  <a:pt x="471" y="38"/>
                  <a:pt x="471" y="36"/>
                  <a:pt x="475" y="36"/>
                </a:cubicBezTo>
                <a:cubicBezTo>
                  <a:pt x="478" y="36"/>
                  <a:pt x="481" y="39"/>
                  <a:pt x="481" y="42"/>
                </a:cubicBezTo>
                <a:cubicBezTo>
                  <a:pt x="480" y="42"/>
                  <a:pt x="479" y="44"/>
                  <a:pt x="478" y="45"/>
                </a:cubicBezTo>
                <a:cubicBezTo>
                  <a:pt x="477" y="44"/>
                  <a:pt x="477" y="44"/>
                  <a:pt x="476" y="44"/>
                </a:cubicBezTo>
                <a:cubicBezTo>
                  <a:pt x="475" y="46"/>
                  <a:pt x="475" y="46"/>
                  <a:pt x="475" y="46"/>
                </a:cubicBezTo>
                <a:cubicBezTo>
                  <a:pt x="476" y="46"/>
                  <a:pt x="476" y="47"/>
                  <a:pt x="476" y="47"/>
                </a:cubicBezTo>
                <a:cubicBezTo>
                  <a:pt x="473" y="50"/>
                  <a:pt x="470" y="46"/>
                  <a:pt x="468" y="49"/>
                </a:cubicBezTo>
                <a:cubicBezTo>
                  <a:pt x="469" y="51"/>
                  <a:pt x="472" y="48"/>
                  <a:pt x="472" y="51"/>
                </a:cubicBezTo>
                <a:cubicBezTo>
                  <a:pt x="471" y="53"/>
                  <a:pt x="468" y="52"/>
                  <a:pt x="466" y="52"/>
                </a:cubicBezTo>
                <a:cubicBezTo>
                  <a:pt x="466" y="51"/>
                  <a:pt x="465" y="51"/>
                  <a:pt x="465" y="51"/>
                </a:cubicBezTo>
                <a:cubicBezTo>
                  <a:pt x="464" y="52"/>
                  <a:pt x="464" y="52"/>
                  <a:pt x="464" y="52"/>
                </a:cubicBezTo>
                <a:cubicBezTo>
                  <a:pt x="464" y="52"/>
                  <a:pt x="465" y="53"/>
                  <a:pt x="465" y="52"/>
                </a:cubicBezTo>
                <a:cubicBezTo>
                  <a:pt x="465" y="53"/>
                  <a:pt x="465" y="53"/>
                  <a:pt x="465" y="53"/>
                </a:cubicBezTo>
                <a:cubicBezTo>
                  <a:pt x="464" y="52"/>
                  <a:pt x="464" y="52"/>
                  <a:pt x="464" y="52"/>
                </a:cubicBezTo>
                <a:cubicBezTo>
                  <a:pt x="462" y="54"/>
                  <a:pt x="462" y="54"/>
                  <a:pt x="462" y="54"/>
                </a:cubicBezTo>
                <a:cubicBezTo>
                  <a:pt x="463" y="54"/>
                  <a:pt x="463" y="54"/>
                  <a:pt x="463" y="54"/>
                </a:cubicBezTo>
                <a:cubicBezTo>
                  <a:pt x="463" y="54"/>
                  <a:pt x="462" y="55"/>
                  <a:pt x="462" y="55"/>
                </a:cubicBezTo>
                <a:cubicBezTo>
                  <a:pt x="464" y="56"/>
                  <a:pt x="467" y="53"/>
                  <a:pt x="469" y="55"/>
                </a:cubicBezTo>
                <a:cubicBezTo>
                  <a:pt x="464" y="59"/>
                  <a:pt x="463" y="66"/>
                  <a:pt x="461" y="72"/>
                </a:cubicBezTo>
                <a:cubicBezTo>
                  <a:pt x="460" y="71"/>
                  <a:pt x="460" y="71"/>
                  <a:pt x="460" y="71"/>
                </a:cubicBezTo>
                <a:cubicBezTo>
                  <a:pt x="458" y="71"/>
                  <a:pt x="459" y="72"/>
                  <a:pt x="459" y="73"/>
                </a:cubicBezTo>
                <a:cubicBezTo>
                  <a:pt x="462" y="76"/>
                  <a:pt x="462" y="76"/>
                  <a:pt x="462" y="76"/>
                </a:cubicBezTo>
                <a:cubicBezTo>
                  <a:pt x="462" y="77"/>
                  <a:pt x="462" y="77"/>
                  <a:pt x="462" y="77"/>
                </a:cubicBezTo>
                <a:cubicBezTo>
                  <a:pt x="461" y="77"/>
                  <a:pt x="461" y="76"/>
                  <a:pt x="460" y="76"/>
                </a:cubicBezTo>
                <a:cubicBezTo>
                  <a:pt x="459" y="76"/>
                  <a:pt x="460" y="77"/>
                  <a:pt x="460" y="78"/>
                </a:cubicBezTo>
                <a:cubicBezTo>
                  <a:pt x="462" y="80"/>
                  <a:pt x="462" y="80"/>
                  <a:pt x="462" y="80"/>
                </a:cubicBezTo>
                <a:cubicBezTo>
                  <a:pt x="462" y="79"/>
                  <a:pt x="463" y="79"/>
                  <a:pt x="464" y="79"/>
                </a:cubicBezTo>
                <a:cubicBezTo>
                  <a:pt x="465" y="81"/>
                  <a:pt x="463" y="82"/>
                  <a:pt x="463" y="84"/>
                </a:cubicBezTo>
                <a:cubicBezTo>
                  <a:pt x="460" y="81"/>
                  <a:pt x="457" y="82"/>
                  <a:pt x="455" y="84"/>
                </a:cubicBezTo>
                <a:cubicBezTo>
                  <a:pt x="455" y="85"/>
                  <a:pt x="455" y="86"/>
                  <a:pt x="454" y="86"/>
                </a:cubicBezTo>
                <a:cubicBezTo>
                  <a:pt x="455" y="89"/>
                  <a:pt x="458" y="87"/>
                  <a:pt x="460" y="88"/>
                </a:cubicBezTo>
                <a:cubicBezTo>
                  <a:pt x="457" y="90"/>
                  <a:pt x="457" y="90"/>
                  <a:pt x="457" y="90"/>
                </a:cubicBezTo>
                <a:cubicBezTo>
                  <a:pt x="460" y="90"/>
                  <a:pt x="459" y="93"/>
                  <a:pt x="460" y="95"/>
                </a:cubicBezTo>
                <a:cubicBezTo>
                  <a:pt x="458" y="96"/>
                  <a:pt x="458" y="96"/>
                  <a:pt x="458" y="96"/>
                </a:cubicBezTo>
                <a:cubicBezTo>
                  <a:pt x="459" y="95"/>
                  <a:pt x="458" y="95"/>
                  <a:pt x="457" y="95"/>
                </a:cubicBezTo>
                <a:cubicBezTo>
                  <a:pt x="455" y="96"/>
                  <a:pt x="456" y="98"/>
                  <a:pt x="457" y="100"/>
                </a:cubicBezTo>
                <a:cubicBezTo>
                  <a:pt x="458" y="100"/>
                  <a:pt x="459" y="100"/>
                  <a:pt x="460" y="101"/>
                </a:cubicBezTo>
                <a:cubicBezTo>
                  <a:pt x="459" y="102"/>
                  <a:pt x="459" y="103"/>
                  <a:pt x="458" y="103"/>
                </a:cubicBezTo>
                <a:cubicBezTo>
                  <a:pt x="457" y="102"/>
                  <a:pt x="457" y="102"/>
                  <a:pt x="457" y="102"/>
                </a:cubicBezTo>
                <a:cubicBezTo>
                  <a:pt x="456" y="104"/>
                  <a:pt x="455" y="104"/>
                  <a:pt x="454" y="103"/>
                </a:cubicBezTo>
                <a:cubicBezTo>
                  <a:pt x="454" y="102"/>
                  <a:pt x="454" y="101"/>
                  <a:pt x="453" y="101"/>
                </a:cubicBezTo>
                <a:cubicBezTo>
                  <a:pt x="452" y="104"/>
                  <a:pt x="452" y="104"/>
                  <a:pt x="452" y="104"/>
                </a:cubicBezTo>
                <a:cubicBezTo>
                  <a:pt x="453" y="105"/>
                  <a:pt x="454" y="106"/>
                  <a:pt x="456" y="105"/>
                </a:cubicBezTo>
                <a:cubicBezTo>
                  <a:pt x="457" y="110"/>
                  <a:pt x="452" y="107"/>
                  <a:pt x="451" y="110"/>
                </a:cubicBezTo>
                <a:cubicBezTo>
                  <a:pt x="450" y="110"/>
                  <a:pt x="449" y="108"/>
                  <a:pt x="448" y="107"/>
                </a:cubicBezTo>
                <a:cubicBezTo>
                  <a:pt x="448" y="107"/>
                  <a:pt x="448" y="107"/>
                  <a:pt x="448" y="106"/>
                </a:cubicBezTo>
                <a:cubicBezTo>
                  <a:pt x="447" y="105"/>
                  <a:pt x="447" y="105"/>
                  <a:pt x="447" y="105"/>
                </a:cubicBezTo>
                <a:cubicBezTo>
                  <a:pt x="447" y="107"/>
                  <a:pt x="445" y="107"/>
                  <a:pt x="444" y="108"/>
                </a:cubicBezTo>
                <a:cubicBezTo>
                  <a:pt x="445" y="110"/>
                  <a:pt x="448" y="108"/>
                  <a:pt x="448" y="110"/>
                </a:cubicBezTo>
                <a:cubicBezTo>
                  <a:pt x="447" y="111"/>
                  <a:pt x="447" y="111"/>
                  <a:pt x="447" y="111"/>
                </a:cubicBezTo>
                <a:cubicBezTo>
                  <a:pt x="448" y="112"/>
                  <a:pt x="452" y="111"/>
                  <a:pt x="452" y="113"/>
                </a:cubicBezTo>
                <a:cubicBezTo>
                  <a:pt x="451" y="114"/>
                  <a:pt x="450" y="112"/>
                  <a:pt x="449" y="113"/>
                </a:cubicBezTo>
                <a:cubicBezTo>
                  <a:pt x="451" y="115"/>
                  <a:pt x="451" y="115"/>
                  <a:pt x="451" y="115"/>
                </a:cubicBezTo>
                <a:cubicBezTo>
                  <a:pt x="450" y="115"/>
                  <a:pt x="450" y="115"/>
                  <a:pt x="450" y="115"/>
                </a:cubicBezTo>
                <a:cubicBezTo>
                  <a:pt x="448" y="115"/>
                  <a:pt x="450" y="117"/>
                  <a:pt x="450" y="117"/>
                </a:cubicBezTo>
                <a:cubicBezTo>
                  <a:pt x="449" y="117"/>
                  <a:pt x="448" y="115"/>
                  <a:pt x="446" y="115"/>
                </a:cubicBezTo>
                <a:cubicBezTo>
                  <a:pt x="446" y="113"/>
                  <a:pt x="447" y="110"/>
                  <a:pt x="445" y="110"/>
                </a:cubicBezTo>
                <a:cubicBezTo>
                  <a:pt x="445" y="112"/>
                  <a:pt x="443" y="112"/>
                  <a:pt x="442" y="112"/>
                </a:cubicBezTo>
                <a:cubicBezTo>
                  <a:pt x="443" y="113"/>
                  <a:pt x="445" y="113"/>
                  <a:pt x="444" y="115"/>
                </a:cubicBezTo>
                <a:cubicBezTo>
                  <a:pt x="444" y="115"/>
                  <a:pt x="444" y="115"/>
                  <a:pt x="444" y="115"/>
                </a:cubicBezTo>
                <a:cubicBezTo>
                  <a:pt x="446" y="116"/>
                  <a:pt x="449" y="119"/>
                  <a:pt x="450" y="121"/>
                </a:cubicBezTo>
                <a:cubicBezTo>
                  <a:pt x="450" y="122"/>
                  <a:pt x="449" y="122"/>
                  <a:pt x="449" y="123"/>
                </a:cubicBezTo>
                <a:cubicBezTo>
                  <a:pt x="450" y="124"/>
                  <a:pt x="450" y="124"/>
                  <a:pt x="450" y="124"/>
                </a:cubicBezTo>
                <a:cubicBezTo>
                  <a:pt x="450" y="123"/>
                  <a:pt x="450" y="123"/>
                  <a:pt x="450" y="123"/>
                </a:cubicBezTo>
                <a:cubicBezTo>
                  <a:pt x="451" y="125"/>
                  <a:pt x="452" y="127"/>
                  <a:pt x="450" y="129"/>
                </a:cubicBezTo>
                <a:cubicBezTo>
                  <a:pt x="451" y="129"/>
                  <a:pt x="451" y="129"/>
                  <a:pt x="451" y="129"/>
                </a:cubicBezTo>
                <a:cubicBezTo>
                  <a:pt x="449" y="130"/>
                  <a:pt x="450" y="128"/>
                  <a:pt x="449" y="127"/>
                </a:cubicBezTo>
                <a:cubicBezTo>
                  <a:pt x="448" y="128"/>
                  <a:pt x="448" y="129"/>
                  <a:pt x="448" y="129"/>
                </a:cubicBezTo>
                <a:cubicBezTo>
                  <a:pt x="445" y="130"/>
                  <a:pt x="445" y="127"/>
                  <a:pt x="444" y="125"/>
                </a:cubicBezTo>
                <a:cubicBezTo>
                  <a:pt x="445" y="123"/>
                  <a:pt x="443" y="123"/>
                  <a:pt x="442" y="123"/>
                </a:cubicBezTo>
                <a:cubicBezTo>
                  <a:pt x="439" y="124"/>
                  <a:pt x="445" y="130"/>
                  <a:pt x="438" y="129"/>
                </a:cubicBezTo>
                <a:cubicBezTo>
                  <a:pt x="438" y="129"/>
                  <a:pt x="437" y="128"/>
                  <a:pt x="436" y="129"/>
                </a:cubicBezTo>
                <a:cubicBezTo>
                  <a:pt x="439" y="133"/>
                  <a:pt x="444" y="129"/>
                  <a:pt x="448" y="132"/>
                </a:cubicBezTo>
                <a:cubicBezTo>
                  <a:pt x="449" y="132"/>
                  <a:pt x="449" y="132"/>
                  <a:pt x="449" y="132"/>
                </a:cubicBezTo>
                <a:cubicBezTo>
                  <a:pt x="444" y="134"/>
                  <a:pt x="442" y="137"/>
                  <a:pt x="438" y="139"/>
                </a:cubicBezTo>
                <a:cubicBezTo>
                  <a:pt x="436" y="141"/>
                  <a:pt x="431" y="140"/>
                  <a:pt x="429" y="143"/>
                </a:cubicBezTo>
                <a:cubicBezTo>
                  <a:pt x="428" y="141"/>
                  <a:pt x="428" y="141"/>
                  <a:pt x="428" y="141"/>
                </a:cubicBezTo>
                <a:cubicBezTo>
                  <a:pt x="427" y="143"/>
                  <a:pt x="425" y="142"/>
                  <a:pt x="423" y="143"/>
                </a:cubicBezTo>
                <a:cubicBezTo>
                  <a:pt x="423" y="142"/>
                  <a:pt x="422" y="141"/>
                  <a:pt x="422" y="141"/>
                </a:cubicBezTo>
                <a:cubicBezTo>
                  <a:pt x="422" y="143"/>
                  <a:pt x="422" y="144"/>
                  <a:pt x="419" y="145"/>
                </a:cubicBezTo>
                <a:cubicBezTo>
                  <a:pt x="417" y="148"/>
                  <a:pt x="415" y="151"/>
                  <a:pt x="413" y="153"/>
                </a:cubicBezTo>
                <a:cubicBezTo>
                  <a:pt x="412" y="152"/>
                  <a:pt x="412" y="152"/>
                  <a:pt x="412" y="152"/>
                </a:cubicBezTo>
                <a:cubicBezTo>
                  <a:pt x="411" y="153"/>
                  <a:pt x="409" y="155"/>
                  <a:pt x="408" y="155"/>
                </a:cubicBezTo>
                <a:cubicBezTo>
                  <a:pt x="407" y="154"/>
                  <a:pt x="407" y="155"/>
                  <a:pt x="406" y="155"/>
                </a:cubicBezTo>
                <a:cubicBezTo>
                  <a:pt x="405" y="155"/>
                  <a:pt x="405" y="156"/>
                  <a:pt x="405" y="156"/>
                </a:cubicBezTo>
                <a:cubicBezTo>
                  <a:pt x="405" y="156"/>
                  <a:pt x="405" y="156"/>
                  <a:pt x="405" y="156"/>
                </a:cubicBezTo>
                <a:cubicBezTo>
                  <a:pt x="405" y="155"/>
                  <a:pt x="407" y="153"/>
                  <a:pt x="405" y="152"/>
                </a:cubicBezTo>
                <a:cubicBezTo>
                  <a:pt x="404" y="153"/>
                  <a:pt x="403" y="154"/>
                  <a:pt x="403" y="156"/>
                </a:cubicBezTo>
                <a:cubicBezTo>
                  <a:pt x="402" y="156"/>
                  <a:pt x="400" y="157"/>
                  <a:pt x="399" y="156"/>
                </a:cubicBezTo>
                <a:cubicBezTo>
                  <a:pt x="397" y="156"/>
                  <a:pt x="398" y="158"/>
                  <a:pt x="397" y="159"/>
                </a:cubicBezTo>
                <a:cubicBezTo>
                  <a:pt x="397" y="158"/>
                  <a:pt x="396" y="159"/>
                  <a:pt x="396" y="159"/>
                </a:cubicBezTo>
                <a:cubicBezTo>
                  <a:pt x="394" y="160"/>
                  <a:pt x="394" y="160"/>
                  <a:pt x="394" y="160"/>
                </a:cubicBezTo>
                <a:cubicBezTo>
                  <a:pt x="395" y="160"/>
                  <a:pt x="396" y="161"/>
                  <a:pt x="396" y="162"/>
                </a:cubicBezTo>
                <a:cubicBezTo>
                  <a:pt x="395" y="163"/>
                  <a:pt x="393" y="162"/>
                  <a:pt x="393" y="163"/>
                </a:cubicBezTo>
                <a:cubicBezTo>
                  <a:pt x="393" y="164"/>
                  <a:pt x="394" y="164"/>
                  <a:pt x="395" y="164"/>
                </a:cubicBezTo>
                <a:cubicBezTo>
                  <a:pt x="395" y="168"/>
                  <a:pt x="392" y="167"/>
                  <a:pt x="390" y="171"/>
                </a:cubicBezTo>
                <a:cubicBezTo>
                  <a:pt x="391" y="171"/>
                  <a:pt x="391" y="171"/>
                  <a:pt x="391" y="171"/>
                </a:cubicBezTo>
                <a:cubicBezTo>
                  <a:pt x="390" y="173"/>
                  <a:pt x="388" y="170"/>
                  <a:pt x="388" y="172"/>
                </a:cubicBezTo>
                <a:cubicBezTo>
                  <a:pt x="388" y="173"/>
                  <a:pt x="388" y="173"/>
                  <a:pt x="389" y="173"/>
                </a:cubicBezTo>
                <a:cubicBezTo>
                  <a:pt x="389" y="173"/>
                  <a:pt x="389" y="174"/>
                  <a:pt x="388" y="175"/>
                </a:cubicBezTo>
                <a:cubicBezTo>
                  <a:pt x="390" y="177"/>
                  <a:pt x="384" y="178"/>
                  <a:pt x="386" y="181"/>
                </a:cubicBezTo>
                <a:cubicBezTo>
                  <a:pt x="385" y="182"/>
                  <a:pt x="385" y="182"/>
                  <a:pt x="385" y="182"/>
                </a:cubicBezTo>
                <a:cubicBezTo>
                  <a:pt x="385" y="182"/>
                  <a:pt x="385" y="183"/>
                  <a:pt x="385" y="184"/>
                </a:cubicBezTo>
                <a:cubicBezTo>
                  <a:pt x="385" y="184"/>
                  <a:pt x="384" y="184"/>
                  <a:pt x="384" y="184"/>
                </a:cubicBezTo>
                <a:cubicBezTo>
                  <a:pt x="384" y="185"/>
                  <a:pt x="384" y="185"/>
                  <a:pt x="384" y="185"/>
                </a:cubicBezTo>
                <a:cubicBezTo>
                  <a:pt x="383" y="185"/>
                  <a:pt x="383" y="185"/>
                  <a:pt x="383" y="185"/>
                </a:cubicBezTo>
                <a:cubicBezTo>
                  <a:pt x="383" y="185"/>
                  <a:pt x="382" y="185"/>
                  <a:pt x="382" y="184"/>
                </a:cubicBezTo>
                <a:cubicBezTo>
                  <a:pt x="380" y="185"/>
                  <a:pt x="380" y="185"/>
                  <a:pt x="380" y="185"/>
                </a:cubicBezTo>
                <a:cubicBezTo>
                  <a:pt x="381" y="183"/>
                  <a:pt x="379" y="183"/>
                  <a:pt x="378" y="183"/>
                </a:cubicBezTo>
                <a:cubicBezTo>
                  <a:pt x="379" y="182"/>
                  <a:pt x="380" y="181"/>
                  <a:pt x="380" y="180"/>
                </a:cubicBezTo>
                <a:cubicBezTo>
                  <a:pt x="380" y="179"/>
                  <a:pt x="380" y="179"/>
                  <a:pt x="380" y="179"/>
                </a:cubicBezTo>
                <a:cubicBezTo>
                  <a:pt x="379" y="180"/>
                  <a:pt x="379" y="180"/>
                  <a:pt x="379" y="180"/>
                </a:cubicBezTo>
                <a:cubicBezTo>
                  <a:pt x="379" y="180"/>
                  <a:pt x="379" y="179"/>
                  <a:pt x="378" y="179"/>
                </a:cubicBezTo>
                <a:cubicBezTo>
                  <a:pt x="377" y="180"/>
                  <a:pt x="374" y="180"/>
                  <a:pt x="372" y="181"/>
                </a:cubicBezTo>
                <a:cubicBezTo>
                  <a:pt x="373" y="180"/>
                  <a:pt x="373" y="180"/>
                  <a:pt x="373" y="180"/>
                </a:cubicBezTo>
                <a:cubicBezTo>
                  <a:pt x="371" y="178"/>
                  <a:pt x="371" y="178"/>
                  <a:pt x="371" y="178"/>
                </a:cubicBezTo>
                <a:cubicBezTo>
                  <a:pt x="371" y="177"/>
                  <a:pt x="371" y="177"/>
                  <a:pt x="371" y="177"/>
                </a:cubicBezTo>
                <a:cubicBezTo>
                  <a:pt x="371" y="177"/>
                  <a:pt x="370" y="177"/>
                  <a:pt x="369" y="177"/>
                </a:cubicBezTo>
                <a:cubicBezTo>
                  <a:pt x="370" y="176"/>
                  <a:pt x="370" y="175"/>
                  <a:pt x="371" y="174"/>
                </a:cubicBezTo>
                <a:cubicBezTo>
                  <a:pt x="367" y="173"/>
                  <a:pt x="371" y="169"/>
                  <a:pt x="367" y="168"/>
                </a:cubicBezTo>
                <a:cubicBezTo>
                  <a:pt x="367" y="168"/>
                  <a:pt x="368" y="168"/>
                  <a:pt x="368" y="167"/>
                </a:cubicBezTo>
                <a:cubicBezTo>
                  <a:pt x="367" y="167"/>
                  <a:pt x="367" y="167"/>
                  <a:pt x="367" y="167"/>
                </a:cubicBezTo>
                <a:cubicBezTo>
                  <a:pt x="367" y="167"/>
                  <a:pt x="367" y="167"/>
                  <a:pt x="367" y="167"/>
                </a:cubicBezTo>
                <a:cubicBezTo>
                  <a:pt x="366" y="166"/>
                  <a:pt x="367" y="165"/>
                  <a:pt x="368" y="165"/>
                </a:cubicBezTo>
                <a:cubicBezTo>
                  <a:pt x="367" y="165"/>
                  <a:pt x="367" y="164"/>
                  <a:pt x="367" y="164"/>
                </a:cubicBezTo>
                <a:cubicBezTo>
                  <a:pt x="366" y="165"/>
                  <a:pt x="366" y="165"/>
                  <a:pt x="366" y="165"/>
                </a:cubicBezTo>
                <a:cubicBezTo>
                  <a:pt x="366" y="163"/>
                  <a:pt x="366" y="163"/>
                  <a:pt x="366" y="163"/>
                </a:cubicBezTo>
                <a:cubicBezTo>
                  <a:pt x="368" y="162"/>
                  <a:pt x="369" y="160"/>
                  <a:pt x="370" y="159"/>
                </a:cubicBezTo>
                <a:cubicBezTo>
                  <a:pt x="369" y="157"/>
                  <a:pt x="368" y="160"/>
                  <a:pt x="367" y="159"/>
                </a:cubicBezTo>
                <a:cubicBezTo>
                  <a:pt x="365" y="161"/>
                  <a:pt x="365" y="161"/>
                  <a:pt x="365" y="161"/>
                </a:cubicBezTo>
                <a:cubicBezTo>
                  <a:pt x="364" y="159"/>
                  <a:pt x="367" y="157"/>
                  <a:pt x="365" y="155"/>
                </a:cubicBezTo>
                <a:cubicBezTo>
                  <a:pt x="366" y="154"/>
                  <a:pt x="363" y="153"/>
                  <a:pt x="365" y="152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5" y="151"/>
                  <a:pt x="365" y="151"/>
                  <a:pt x="365" y="151"/>
                </a:cubicBezTo>
                <a:cubicBezTo>
                  <a:pt x="364" y="150"/>
                  <a:pt x="364" y="150"/>
                  <a:pt x="363" y="150"/>
                </a:cubicBezTo>
                <a:cubicBezTo>
                  <a:pt x="363" y="149"/>
                  <a:pt x="363" y="149"/>
                  <a:pt x="363" y="149"/>
                </a:cubicBezTo>
                <a:cubicBezTo>
                  <a:pt x="364" y="149"/>
                  <a:pt x="364" y="149"/>
                  <a:pt x="364" y="148"/>
                </a:cubicBezTo>
                <a:cubicBezTo>
                  <a:pt x="364" y="148"/>
                  <a:pt x="364" y="148"/>
                  <a:pt x="364" y="148"/>
                </a:cubicBezTo>
                <a:cubicBezTo>
                  <a:pt x="364" y="148"/>
                  <a:pt x="364" y="148"/>
                  <a:pt x="364" y="148"/>
                </a:cubicBezTo>
                <a:cubicBezTo>
                  <a:pt x="364" y="148"/>
                  <a:pt x="364" y="148"/>
                  <a:pt x="364" y="148"/>
                </a:cubicBezTo>
                <a:cubicBezTo>
                  <a:pt x="364" y="148"/>
                  <a:pt x="365" y="149"/>
                  <a:pt x="365" y="149"/>
                </a:cubicBezTo>
                <a:cubicBezTo>
                  <a:pt x="367" y="146"/>
                  <a:pt x="367" y="146"/>
                  <a:pt x="367" y="146"/>
                </a:cubicBezTo>
                <a:cubicBezTo>
                  <a:pt x="364" y="145"/>
                  <a:pt x="364" y="145"/>
                  <a:pt x="364" y="145"/>
                </a:cubicBezTo>
                <a:cubicBezTo>
                  <a:pt x="365" y="144"/>
                  <a:pt x="365" y="144"/>
                  <a:pt x="365" y="144"/>
                </a:cubicBezTo>
                <a:cubicBezTo>
                  <a:pt x="365" y="143"/>
                  <a:pt x="365" y="143"/>
                  <a:pt x="364" y="143"/>
                </a:cubicBezTo>
                <a:cubicBezTo>
                  <a:pt x="366" y="142"/>
                  <a:pt x="366" y="140"/>
                  <a:pt x="368" y="139"/>
                </a:cubicBezTo>
                <a:cubicBezTo>
                  <a:pt x="367" y="138"/>
                  <a:pt x="367" y="138"/>
                  <a:pt x="367" y="137"/>
                </a:cubicBezTo>
                <a:cubicBezTo>
                  <a:pt x="369" y="139"/>
                  <a:pt x="372" y="139"/>
                  <a:pt x="373" y="139"/>
                </a:cubicBezTo>
                <a:cubicBezTo>
                  <a:pt x="373" y="139"/>
                  <a:pt x="372" y="138"/>
                  <a:pt x="372" y="137"/>
                </a:cubicBezTo>
                <a:cubicBezTo>
                  <a:pt x="373" y="137"/>
                  <a:pt x="373" y="137"/>
                  <a:pt x="373" y="137"/>
                </a:cubicBezTo>
                <a:cubicBezTo>
                  <a:pt x="371" y="135"/>
                  <a:pt x="370" y="139"/>
                  <a:pt x="369" y="137"/>
                </a:cubicBezTo>
                <a:cubicBezTo>
                  <a:pt x="369" y="134"/>
                  <a:pt x="375" y="137"/>
                  <a:pt x="373" y="133"/>
                </a:cubicBezTo>
                <a:cubicBezTo>
                  <a:pt x="374" y="133"/>
                  <a:pt x="375" y="134"/>
                  <a:pt x="376" y="133"/>
                </a:cubicBezTo>
                <a:cubicBezTo>
                  <a:pt x="376" y="133"/>
                  <a:pt x="376" y="133"/>
                  <a:pt x="376" y="132"/>
                </a:cubicBezTo>
                <a:cubicBezTo>
                  <a:pt x="376" y="132"/>
                  <a:pt x="375" y="131"/>
                  <a:pt x="375" y="131"/>
                </a:cubicBezTo>
                <a:cubicBezTo>
                  <a:pt x="376" y="130"/>
                  <a:pt x="377" y="128"/>
                  <a:pt x="377" y="127"/>
                </a:cubicBezTo>
                <a:cubicBezTo>
                  <a:pt x="377" y="126"/>
                  <a:pt x="377" y="126"/>
                  <a:pt x="377" y="126"/>
                </a:cubicBezTo>
                <a:cubicBezTo>
                  <a:pt x="374" y="128"/>
                  <a:pt x="371" y="124"/>
                  <a:pt x="368" y="123"/>
                </a:cubicBezTo>
                <a:cubicBezTo>
                  <a:pt x="368" y="122"/>
                  <a:pt x="367" y="121"/>
                  <a:pt x="368" y="120"/>
                </a:cubicBezTo>
                <a:cubicBezTo>
                  <a:pt x="373" y="119"/>
                  <a:pt x="373" y="126"/>
                  <a:pt x="377" y="123"/>
                </a:cubicBezTo>
                <a:cubicBezTo>
                  <a:pt x="375" y="122"/>
                  <a:pt x="375" y="120"/>
                  <a:pt x="375" y="118"/>
                </a:cubicBezTo>
                <a:cubicBezTo>
                  <a:pt x="376" y="117"/>
                  <a:pt x="376" y="117"/>
                  <a:pt x="376" y="117"/>
                </a:cubicBezTo>
                <a:cubicBezTo>
                  <a:pt x="375" y="116"/>
                  <a:pt x="375" y="116"/>
                  <a:pt x="374" y="116"/>
                </a:cubicBezTo>
                <a:cubicBezTo>
                  <a:pt x="376" y="115"/>
                  <a:pt x="376" y="115"/>
                  <a:pt x="376" y="115"/>
                </a:cubicBezTo>
                <a:cubicBezTo>
                  <a:pt x="375" y="115"/>
                  <a:pt x="374" y="113"/>
                  <a:pt x="372" y="113"/>
                </a:cubicBezTo>
                <a:cubicBezTo>
                  <a:pt x="370" y="114"/>
                  <a:pt x="371" y="116"/>
                  <a:pt x="369" y="116"/>
                </a:cubicBezTo>
                <a:cubicBezTo>
                  <a:pt x="368" y="115"/>
                  <a:pt x="366" y="115"/>
                  <a:pt x="367" y="113"/>
                </a:cubicBezTo>
                <a:cubicBezTo>
                  <a:pt x="368" y="113"/>
                  <a:pt x="369" y="113"/>
                  <a:pt x="369" y="112"/>
                </a:cubicBezTo>
                <a:cubicBezTo>
                  <a:pt x="368" y="111"/>
                  <a:pt x="368" y="111"/>
                  <a:pt x="368" y="111"/>
                </a:cubicBezTo>
                <a:cubicBezTo>
                  <a:pt x="369" y="111"/>
                  <a:pt x="370" y="110"/>
                  <a:pt x="371" y="109"/>
                </a:cubicBezTo>
                <a:cubicBezTo>
                  <a:pt x="371" y="109"/>
                  <a:pt x="370" y="109"/>
                  <a:pt x="370" y="108"/>
                </a:cubicBezTo>
                <a:cubicBezTo>
                  <a:pt x="369" y="108"/>
                  <a:pt x="369" y="108"/>
                  <a:pt x="369" y="108"/>
                </a:cubicBezTo>
                <a:cubicBezTo>
                  <a:pt x="370" y="108"/>
                  <a:pt x="371" y="108"/>
                  <a:pt x="372" y="107"/>
                </a:cubicBezTo>
                <a:cubicBezTo>
                  <a:pt x="371" y="105"/>
                  <a:pt x="373" y="104"/>
                  <a:pt x="371" y="103"/>
                </a:cubicBezTo>
                <a:cubicBezTo>
                  <a:pt x="372" y="102"/>
                  <a:pt x="372" y="102"/>
                  <a:pt x="372" y="102"/>
                </a:cubicBezTo>
                <a:cubicBezTo>
                  <a:pt x="371" y="93"/>
                  <a:pt x="371" y="93"/>
                  <a:pt x="371" y="93"/>
                </a:cubicBezTo>
                <a:cubicBezTo>
                  <a:pt x="372" y="93"/>
                  <a:pt x="372" y="92"/>
                  <a:pt x="371" y="91"/>
                </a:cubicBezTo>
                <a:cubicBezTo>
                  <a:pt x="370" y="90"/>
                  <a:pt x="370" y="90"/>
                  <a:pt x="370" y="90"/>
                </a:cubicBezTo>
                <a:cubicBezTo>
                  <a:pt x="371" y="89"/>
                  <a:pt x="370" y="88"/>
                  <a:pt x="369" y="87"/>
                </a:cubicBezTo>
                <a:cubicBezTo>
                  <a:pt x="368" y="86"/>
                  <a:pt x="370" y="84"/>
                  <a:pt x="370" y="82"/>
                </a:cubicBezTo>
                <a:cubicBezTo>
                  <a:pt x="366" y="80"/>
                  <a:pt x="364" y="75"/>
                  <a:pt x="360" y="75"/>
                </a:cubicBezTo>
                <a:cubicBezTo>
                  <a:pt x="359" y="76"/>
                  <a:pt x="359" y="76"/>
                  <a:pt x="359" y="76"/>
                </a:cubicBezTo>
                <a:cubicBezTo>
                  <a:pt x="357" y="75"/>
                  <a:pt x="357" y="75"/>
                  <a:pt x="357" y="75"/>
                </a:cubicBezTo>
                <a:cubicBezTo>
                  <a:pt x="356" y="76"/>
                  <a:pt x="356" y="76"/>
                  <a:pt x="356" y="76"/>
                </a:cubicBezTo>
                <a:cubicBezTo>
                  <a:pt x="356" y="76"/>
                  <a:pt x="356" y="75"/>
                  <a:pt x="355" y="75"/>
                </a:cubicBezTo>
                <a:cubicBezTo>
                  <a:pt x="355" y="76"/>
                  <a:pt x="355" y="76"/>
                  <a:pt x="355" y="76"/>
                </a:cubicBezTo>
                <a:cubicBezTo>
                  <a:pt x="355" y="76"/>
                  <a:pt x="353" y="74"/>
                  <a:pt x="352" y="74"/>
                </a:cubicBezTo>
                <a:cubicBezTo>
                  <a:pt x="352" y="74"/>
                  <a:pt x="352" y="74"/>
                  <a:pt x="352" y="74"/>
                </a:cubicBezTo>
                <a:cubicBezTo>
                  <a:pt x="351" y="74"/>
                  <a:pt x="350" y="75"/>
                  <a:pt x="351" y="76"/>
                </a:cubicBezTo>
                <a:cubicBezTo>
                  <a:pt x="348" y="76"/>
                  <a:pt x="347" y="73"/>
                  <a:pt x="346" y="71"/>
                </a:cubicBezTo>
                <a:cubicBezTo>
                  <a:pt x="347" y="70"/>
                  <a:pt x="349" y="71"/>
                  <a:pt x="350" y="70"/>
                </a:cubicBezTo>
                <a:cubicBezTo>
                  <a:pt x="349" y="68"/>
                  <a:pt x="345" y="69"/>
                  <a:pt x="348" y="67"/>
                </a:cubicBezTo>
                <a:cubicBezTo>
                  <a:pt x="347" y="66"/>
                  <a:pt x="347" y="66"/>
                  <a:pt x="347" y="66"/>
                </a:cubicBezTo>
                <a:cubicBezTo>
                  <a:pt x="346" y="67"/>
                  <a:pt x="346" y="67"/>
                  <a:pt x="346" y="67"/>
                </a:cubicBezTo>
                <a:cubicBezTo>
                  <a:pt x="345" y="67"/>
                  <a:pt x="346" y="66"/>
                  <a:pt x="345" y="65"/>
                </a:cubicBezTo>
                <a:cubicBezTo>
                  <a:pt x="347" y="62"/>
                  <a:pt x="350" y="66"/>
                  <a:pt x="352" y="63"/>
                </a:cubicBezTo>
                <a:cubicBezTo>
                  <a:pt x="354" y="63"/>
                  <a:pt x="356" y="66"/>
                  <a:pt x="357" y="63"/>
                </a:cubicBezTo>
                <a:cubicBezTo>
                  <a:pt x="357" y="62"/>
                  <a:pt x="356" y="62"/>
                  <a:pt x="356" y="61"/>
                </a:cubicBezTo>
                <a:cubicBezTo>
                  <a:pt x="355" y="62"/>
                  <a:pt x="354" y="61"/>
                  <a:pt x="353" y="62"/>
                </a:cubicBezTo>
                <a:cubicBezTo>
                  <a:pt x="352" y="60"/>
                  <a:pt x="352" y="60"/>
                  <a:pt x="352" y="60"/>
                </a:cubicBezTo>
                <a:cubicBezTo>
                  <a:pt x="352" y="61"/>
                  <a:pt x="351" y="61"/>
                  <a:pt x="352" y="62"/>
                </a:cubicBezTo>
                <a:cubicBezTo>
                  <a:pt x="351" y="61"/>
                  <a:pt x="350" y="62"/>
                  <a:pt x="349" y="61"/>
                </a:cubicBezTo>
                <a:cubicBezTo>
                  <a:pt x="350" y="60"/>
                  <a:pt x="350" y="60"/>
                  <a:pt x="350" y="60"/>
                </a:cubicBezTo>
                <a:cubicBezTo>
                  <a:pt x="350" y="60"/>
                  <a:pt x="349" y="60"/>
                  <a:pt x="349" y="59"/>
                </a:cubicBezTo>
                <a:cubicBezTo>
                  <a:pt x="351" y="58"/>
                  <a:pt x="351" y="58"/>
                  <a:pt x="351" y="58"/>
                </a:cubicBezTo>
                <a:cubicBezTo>
                  <a:pt x="350" y="57"/>
                  <a:pt x="349" y="58"/>
                  <a:pt x="348" y="58"/>
                </a:cubicBezTo>
                <a:cubicBezTo>
                  <a:pt x="348" y="57"/>
                  <a:pt x="345" y="55"/>
                  <a:pt x="346" y="53"/>
                </a:cubicBezTo>
                <a:cubicBezTo>
                  <a:pt x="349" y="49"/>
                  <a:pt x="355" y="52"/>
                  <a:pt x="358" y="48"/>
                </a:cubicBezTo>
                <a:cubicBezTo>
                  <a:pt x="360" y="49"/>
                  <a:pt x="363" y="47"/>
                  <a:pt x="365" y="50"/>
                </a:cubicBezTo>
                <a:cubicBezTo>
                  <a:pt x="369" y="44"/>
                  <a:pt x="369" y="44"/>
                  <a:pt x="369" y="44"/>
                </a:cubicBezTo>
                <a:cubicBezTo>
                  <a:pt x="369" y="44"/>
                  <a:pt x="369" y="44"/>
                  <a:pt x="369" y="44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1"/>
                  <a:pt x="371" y="41"/>
                  <a:pt x="371" y="41"/>
                </a:cubicBezTo>
                <a:cubicBezTo>
                  <a:pt x="371" y="41"/>
                  <a:pt x="371" y="41"/>
                  <a:pt x="372" y="40"/>
                </a:cubicBezTo>
                <a:cubicBezTo>
                  <a:pt x="371" y="39"/>
                  <a:pt x="368" y="40"/>
                  <a:pt x="367" y="40"/>
                </a:cubicBezTo>
                <a:cubicBezTo>
                  <a:pt x="366" y="39"/>
                  <a:pt x="366" y="39"/>
                  <a:pt x="366" y="39"/>
                </a:cubicBezTo>
                <a:cubicBezTo>
                  <a:pt x="367" y="34"/>
                  <a:pt x="373" y="35"/>
                  <a:pt x="375" y="31"/>
                </a:cubicBezTo>
                <a:cubicBezTo>
                  <a:pt x="376" y="31"/>
                  <a:pt x="376" y="31"/>
                  <a:pt x="377" y="31"/>
                </a:cubicBezTo>
                <a:cubicBezTo>
                  <a:pt x="377" y="31"/>
                  <a:pt x="378" y="31"/>
                  <a:pt x="377" y="30"/>
                </a:cubicBezTo>
                <a:cubicBezTo>
                  <a:pt x="379" y="30"/>
                  <a:pt x="379" y="30"/>
                  <a:pt x="379" y="30"/>
                </a:cubicBezTo>
                <a:cubicBezTo>
                  <a:pt x="378" y="31"/>
                  <a:pt x="379" y="31"/>
                  <a:pt x="380" y="32"/>
                </a:cubicBezTo>
                <a:cubicBezTo>
                  <a:pt x="382" y="31"/>
                  <a:pt x="382" y="29"/>
                  <a:pt x="384" y="28"/>
                </a:cubicBezTo>
                <a:cubicBezTo>
                  <a:pt x="383" y="27"/>
                  <a:pt x="385" y="26"/>
                  <a:pt x="384" y="24"/>
                </a:cubicBezTo>
                <a:cubicBezTo>
                  <a:pt x="384" y="24"/>
                  <a:pt x="385" y="23"/>
                  <a:pt x="386" y="23"/>
                </a:cubicBezTo>
                <a:cubicBezTo>
                  <a:pt x="388" y="25"/>
                  <a:pt x="386" y="28"/>
                  <a:pt x="389" y="29"/>
                </a:cubicBezTo>
                <a:cubicBezTo>
                  <a:pt x="389" y="27"/>
                  <a:pt x="388" y="24"/>
                  <a:pt x="389" y="22"/>
                </a:cubicBezTo>
                <a:cubicBezTo>
                  <a:pt x="392" y="23"/>
                  <a:pt x="393" y="21"/>
                  <a:pt x="396" y="22"/>
                </a:cubicBezTo>
                <a:cubicBezTo>
                  <a:pt x="395" y="22"/>
                  <a:pt x="396" y="22"/>
                  <a:pt x="396" y="23"/>
                </a:cubicBezTo>
                <a:cubicBezTo>
                  <a:pt x="397" y="22"/>
                  <a:pt x="397" y="21"/>
                  <a:pt x="398" y="21"/>
                </a:cubicBezTo>
                <a:cubicBezTo>
                  <a:pt x="398" y="22"/>
                  <a:pt x="398" y="22"/>
                  <a:pt x="398" y="22"/>
                </a:cubicBezTo>
                <a:cubicBezTo>
                  <a:pt x="399" y="20"/>
                  <a:pt x="400" y="20"/>
                  <a:pt x="401" y="20"/>
                </a:cubicBezTo>
                <a:cubicBezTo>
                  <a:pt x="402" y="23"/>
                  <a:pt x="399" y="26"/>
                  <a:pt x="399" y="28"/>
                </a:cubicBezTo>
                <a:cubicBezTo>
                  <a:pt x="398" y="29"/>
                  <a:pt x="398" y="30"/>
                  <a:pt x="398" y="31"/>
                </a:cubicBezTo>
                <a:cubicBezTo>
                  <a:pt x="398" y="31"/>
                  <a:pt x="398" y="31"/>
                  <a:pt x="398" y="31"/>
                </a:cubicBezTo>
                <a:cubicBezTo>
                  <a:pt x="400" y="30"/>
                  <a:pt x="401" y="28"/>
                  <a:pt x="402" y="26"/>
                </a:cubicBezTo>
                <a:cubicBezTo>
                  <a:pt x="403" y="27"/>
                  <a:pt x="403" y="27"/>
                  <a:pt x="403" y="27"/>
                </a:cubicBezTo>
                <a:cubicBezTo>
                  <a:pt x="405" y="25"/>
                  <a:pt x="402" y="24"/>
                  <a:pt x="403" y="22"/>
                </a:cubicBezTo>
                <a:cubicBezTo>
                  <a:pt x="404" y="22"/>
                  <a:pt x="403" y="23"/>
                  <a:pt x="404" y="24"/>
                </a:cubicBezTo>
                <a:cubicBezTo>
                  <a:pt x="403" y="25"/>
                  <a:pt x="404" y="26"/>
                  <a:pt x="404" y="27"/>
                </a:cubicBezTo>
                <a:cubicBezTo>
                  <a:pt x="404" y="27"/>
                  <a:pt x="404" y="27"/>
                  <a:pt x="404" y="27"/>
                </a:cubicBezTo>
                <a:cubicBezTo>
                  <a:pt x="402" y="28"/>
                  <a:pt x="404" y="29"/>
                  <a:pt x="404" y="30"/>
                </a:cubicBezTo>
                <a:cubicBezTo>
                  <a:pt x="405" y="30"/>
                  <a:pt x="406" y="28"/>
                  <a:pt x="408" y="30"/>
                </a:cubicBezTo>
                <a:cubicBezTo>
                  <a:pt x="411" y="27"/>
                  <a:pt x="406" y="23"/>
                  <a:pt x="409" y="20"/>
                </a:cubicBezTo>
                <a:cubicBezTo>
                  <a:pt x="413" y="21"/>
                  <a:pt x="411" y="25"/>
                  <a:pt x="413" y="27"/>
                </a:cubicBezTo>
                <a:cubicBezTo>
                  <a:pt x="412" y="28"/>
                  <a:pt x="414" y="29"/>
                  <a:pt x="413" y="31"/>
                </a:cubicBezTo>
                <a:cubicBezTo>
                  <a:pt x="414" y="32"/>
                  <a:pt x="414" y="32"/>
                  <a:pt x="414" y="32"/>
                </a:cubicBezTo>
                <a:cubicBezTo>
                  <a:pt x="415" y="32"/>
                  <a:pt x="415" y="32"/>
                  <a:pt x="415" y="31"/>
                </a:cubicBezTo>
                <a:cubicBezTo>
                  <a:pt x="414" y="31"/>
                  <a:pt x="414" y="31"/>
                  <a:pt x="414" y="31"/>
                </a:cubicBezTo>
                <a:cubicBezTo>
                  <a:pt x="415" y="30"/>
                  <a:pt x="415" y="30"/>
                  <a:pt x="415" y="30"/>
                </a:cubicBezTo>
                <a:cubicBezTo>
                  <a:pt x="417" y="31"/>
                  <a:pt x="413" y="33"/>
                  <a:pt x="416" y="33"/>
                </a:cubicBezTo>
                <a:cubicBezTo>
                  <a:pt x="417" y="32"/>
                  <a:pt x="417" y="32"/>
                  <a:pt x="417" y="32"/>
                </a:cubicBezTo>
                <a:cubicBezTo>
                  <a:pt x="418" y="32"/>
                  <a:pt x="419" y="34"/>
                  <a:pt x="420" y="34"/>
                </a:cubicBezTo>
                <a:cubicBezTo>
                  <a:pt x="420" y="32"/>
                  <a:pt x="419" y="30"/>
                  <a:pt x="418" y="29"/>
                </a:cubicBezTo>
                <a:cubicBezTo>
                  <a:pt x="416" y="20"/>
                  <a:pt x="416" y="20"/>
                  <a:pt x="416" y="20"/>
                </a:cubicBezTo>
                <a:cubicBezTo>
                  <a:pt x="418" y="19"/>
                  <a:pt x="419" y="21"/>
                  <a:pt x="420" y="22"/>
                </a:cubicBezTo>
                <a:cubicBezTo>
                  <a:pt x="419" y="19"/>
                  <a:pt x="425" y="20"/>
                  <a:pt x="422" y="18"/>
                </a:cubicBezTo>
                <a:cubicBezTo>
                  <a:pt x="424" y="17"/>
                  <a:pt x="423" y="16"/>
                  <a:pt x="422" y="15"/>
                </a:cubicBezTo>
                <a:cubicBezTo>
                  <a:pt x="423" y="15"/>
                  <a:pt x="423" y="15"/>
                  <a:pt x="424" y="15"/>
                </a:cubicBezTo>
                <a:cubicBezTo>
                  <a:pt x="425" y="14"/>
                  <a:pt x="425" y="13"/>
                  <a:pt x="427" y="14"/>
                </a:cubicBezTo>
                <a:cubicBezTo>
                  <a:pt x="428" y="15"/>
                  <a:pt x="428" y="15"/>
                  <a:pt x="428" y="15"/>
                </a:cubicBezTo>
                <a:cubicBezTo>
                  <a:pt x="429" y="15"/>
                  <a:pt x="431" y="15"/>
                  <a:pt x="432" y="17"/>
                </a:cubicBezTo>
                <a:cubicBezTo>
                  <a:pt x="433" y="16"/>
                  <a:pt x="432" y="15"/>
                  <a:pt x="433" y="14"/>
                </a:cubicBezTo>
                <a:cubicBezTo>
                  <a:pt x="434" y="15"/>
                  <a:pt x="434" y="15"/>
                  <a:pt x="434" y="15"/>
                </a:cubicBezTo>
                <a:cubicBezTo>
                  <a:pt x="437" y="14"/>
                  <a:pt x="434" y="10"/>
                  <a:pt x="437" y="11"/>
                </a:cubicBezTo>
                <a:cubicBezTo>
                  <a:pt x="438" y="12"/>
                  <a:pt x="438" y="12"/>
                  <a:pt x="438" y="12"/>
                </a:cubicBezTo>
                <a:cubicBezTo>
                  <a:pt x="438" y="10"/>
                  <a:pt x="441" y="10"/>
                  <a:pt x="442" y="11"/>
                </a:cubicBezTo>
                <a:close/>
                <a:moveTo>
                  <a:pt x="360" y="3"/>
                </a:moveTo>
                <a:cubicBezTo>
                  <a:pt x="360" y="2"/>
                  <a:pt x="360" y="2"/>
                  <a:pt x="360" y="2"/>
                </a:cubicBezTo>
                <a:cubicBezTo>
                  <a:pt x="360" y="3"/>
                  <a:pt x="360" y="4"/>
                  <a:pt x="361" y="5"/>
                </a:cubicBezTo>
                <a:cubicBezTo>
                  <a:pt x="363" y="4"/>
                  <a:pt x="362" y="2"/>
                  <a:pt x="363" y="0"/>
                </a:cubicBezTo>
                <a:cubicBezTo>
                  <a:pt x="364" y="2"/>
                  <a:pt x="369" y="0"/>
                  <a:pt x="368" y="4"/>
                </a:cubicBezTo>
                <a:cubicBezTo>
                  <a:pt x="369" y="4"/>
                  <a:pt x="372" y="1"/>
                  <a:pt x="373" y="4"/>
                </a:cubicBezTo>
                <a:cubicBezTo>
                  <a:pt x="374" y="3"/>
                  <a:pt x="376" y="3"/>
                  <a:pt x="377" y="4"/>
                </a:cubicBezTo>
                <a:cubicBezTo>
                  <a:pt x="377" y="4"/>
                  <a:pt x="377" y="5"/>
                  <a:pt x="376" y="5"/>
                </a:cubicBezTo>
                <a:cubicBezTo>
                  <a:pt x="377" y="5"/>
                  <a:pt x="378" y="7"/>
                  <a:pt x="379" y="6"/>
                </a:cubicBezTo>
                <a:cubicBezTo>
                  <a:pt x="379" y="8"/>
                  <a:pt x="382" y="5"/>
                  <a:pt x="383" y="8"/>
                </a:cubicBezTo>
                <a:cubicBezTo>
                  <a:pt x="379" y="10"/>
                  <a:pt x="379" y="10"/>
                  <a:pt x="379" y="10"/>
                </a:cubicBezTo>
                <a:cubicBezTo>
                  <a:pt x="380" y="12"/>
                  <a:pt x="382" y="10"/>
                  <a:pt x="383" y="10"/>
                </a:cubicBezTo>
                <a:cubicBezTo>
                  <a:pt x="384" y="9"/>
                  <a:pt x="384" y="9"/>
                  <a:pt x="384" y="9"/>
                </a:cubicBezTo>
                <a:cubicBezTo>
                  <a:pt x="383" y="9"/>
                  <a:pt x="384" y="10"/>
                  <a:pt x="384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1"/>
                  <a:pt x="386" y="10"/>
                  <a:pt x="387" y="10"/>
                </a:cubicBezTo>
                <a:cubicBezTo>
                  <a:pt x="386" y="12"/>
                  <a:pt x="386" y="14"/>
                  <a:pt x="386" y="15"/>
                </a:cubicBezTo>
                <a:cubicBezTo>
                  <a:pt x="387" y="15"/>
                  <a:pt x="388" y="15"/>
                  <a:pt x="388" y="15"/>
                </a:cubicBezTo>
                <a:cubicBezTo>
                  <a:pt x="389" y="16"/>
                  <a:pt x="389" y="18"/>
                  <a:pt x="388" y="19"/>
                </a:cubicBezTo>
                <a:cubicBezTo>
                  <a:pt x="385" y="20"/>
                  <a:pt x="383" y="23"/>
                  <a:pt x="380" y="23"/>
                </a:cubicBezTo>
                <a:cubicBezTo>
                  <a:pt x="379" y="24"/>
                  <a:pt x="377" y="22"/>
                  <a:pt x="376" y="23"/>
                </a:cubicBezTo>
                <a:cubicBezTo>
                  <a:pt x="375" y="22"/>
                  <a:pt x="373" y="23"/>
                  <a:pt x="372" y="22"/>
                </a:cubicBezTo>
                <a:cubicBezTo>
                  <a:pt x="372" y="23"/>
                  <a:pt x="371" y="23"/>
                  <a:pt x="372" y="23"/>
                </a:cubicBezTo>
                <a:cubicBezTo>
                  <a:pt x="372" y="24"/>
                  <a:pt x="373" y="24"/>
                  <a:pt x="374" y="24"/>
                </a:cubicBezTo>
                <a:cubicBezTo>
                  <a:pt x="373" y="26"/>
                  <a:pt x="370" y="25"/>
                  <a:pt x="368" y="27"/>
                </a:cubicBezTo>
                <a:cubicBezTo>
                  <a:pt x="371" y="29"/>
                  <a:pt x="374" y="25"/>
                  <a:pt x="377" y="26"/>
                </a:cubicBezTo>
                <a:cubicBezTo>
                  <a:pt x="376" y="29"/>
                  <a:pt x="372" y="29"/>
                  <a:pt x="370" y="30"/>
                </a:cubicBezTo>
                <a:cubicBezTo>
                  <a:pt x="367" y="32"/>
                  <a:pt x="363" y="31"/>
                  <a:pt x="362" y="35"/>
                </a:cubicBezTo>
                <a:cubicBezTo>
                  <a:pt x="361" y="34"/>
                  <a:pt x="359" y="35"/>
                  <a:pt x="359" y="36"/>
                </a:cubicBezTo>
                <a:cubicBezTo>
                  <a:pt x="358" y="35"/>
                  <a:pt x="357" y="36"/>
                  <a:pt x="356" y="36"/>
                </a:cubicBezTo>
                <a:cubicBezTo>
                  <a:pt x="355" y="36"/>
                  <a:pt x="355" y="36"/>
                  <a:pt x="355" y="36"/>
                </a:cubicBezTo>
                <a:cubicBezTo>
                  <a:pt x="358" y="38"/>
                  <a:pt x="358" y="38"/>
                  <a:pt x="358" y="38"/>
                </a:cubicBezTo>
                <a:cubicBezTo>
                  <a:pt x="356" y="39"/>
                  <a:pt x="356" y="39"/>
                  <a:pt x="356" y="39"/>
                </a:cubicBezTo>
                <a:cubicBezTo>
                  <a:pt x="356" y="39"/>
                  <a:pt x="356" y="39"/>
                  <a:pt x="356" y="39"/>
                </a:cubicBezTo>
                <a:cubicBezTo>
                  <a:pt x="356" y="41"/>
                  <a:pt x="353" y="41"/>
                  <a:pt x="352" y="40"/>
                </a:cubicBezTo>
                <a:cubicBezTo>
                  <a:pt x="352" y="39"/>
                  <a:pt x="351" y="37"/>
                  <a:pt x="349" y="37"/>
                </a:cubicBezTo>
                <a:cubicBezTo>
                  <a:pt x="349" y="38"/>
                  <a:pt x="349" y="38"/>
                  <a:pt x="349" y="38"/>
                </a:cubicBezTo>
                <a:cubicBezTo>
                  <a:pt x="349" y="38"/>
                  <a:pt x="351" y="39"/>
                  <a:pt x="351" y="40"/>
                </a:cubicBezTo>
                <a:cubicBezTo>
                  <a:pt x="350" y="41"/>
                  <a:pt x="350" y="41"/>
                  <a:pt x="350" y="41"/>
                </a:cubicBezTo>
                <a:cubicBezTo>
                  <a:pt x="349" y="40"/>
                  <a:pt x="349" y="40"/>
                  <a:pt x="349" y="40"/>
                </a:cubicBezTo>
                <a:cubicBezTo>
                  <a:pt x="349" y="41"/>
                  <a:pt x="349" y="41"/>
                  <a:pt x="348" y="41"/>
                </a:cubicBezTo>
                <a:cubicBezTo>
                  <a:pt x="348" y="40"/>
                  <a:pt x="348" y="40"/>
                  <a:pt x="348" y="40"/>
                </a:cubicBezTo>
                <a:cubicBezTo>
                  <a:pt x="347" y="42"/>
                  <a:pt x="346" y="40"/>
                  <a:pt x="345" y="40"/>
                </a:cubicBezTo>
                <a:cubicBezTo>
                  <a:pt x="344" y="40"/>
                  <a:pt x="344" y="40"/>
                  <a:pt x="344" y="41"/>
                </a:cubicBezTo>
                <a:cubicBezTo>
                  <a:pt x="342" y="41"/>
                  <a:pt x="342" y="39"/>
                  <a:pt x="340" y="41"/>
                </a:cubicBezTo>
                <a:cubicBezTo>
                  <a:pt x="341" y="42"/>
                  <a:pt x="343" y="41"/>
                  <a:pt x="342" y="43"/>
                </a:cubicBezTo>
                <a:cubicBezTo>
                  <a:pt x="342" y="43"/>
                  <a:pt x="340" y="44"/>
                  <a:pt x="340" y="43"/>
                </a:cubicBezTo>
                <a:cubicBezTo>
                  <a:pt x="339" y="43"/>
                  <a:pt x="339" y="43"/>
                  <a:pt x="339" y="44"/>
                </a:cubicBezTo>
                <a:cubicBezTo>
                  <a:pt x="342" y="44"/>
                  <a:pt x="343" y="46"/>
                  <a:pt x="344" y="47"/>
                </a:cubicBezTo>
                <a:cubicBezTo>
                  <a:pt x="342" y="49"/>
                  <a:pt x="342" y="54"/>
                  <a:pt x="337" y="52"/>
                </a:cubicBezTo>
                <a:cubicBezTo>
                  <a:pt x="337" y="52"/>
                  <a:pt x="337" y="52"/>
                  <a:pt x="337" y="52"/>
                </a:cubicBezTo>
                <a:cubicBezTo>
                  <a:pt x="337" y="53"/>
                  <a:pt x="338" y="53"/>
                  <a:pt x="339" y="54"/>
                </a:cubicBezTo>
                <a:cubicBezTo>
                  <a:pt x="339" y="54"/>
                  <a:pt x="339" y="54"/>
                  <a:pt x="339" y="55"/>
                </a:cubicBezTo>
                <a:cubicBezTo>
                  <a:pt x="337" y="53"/>
                  <a:pt x="335" y="56"/>
                  <a:pt x="334" y="54"/>
                </a:cubicBezTo>
                <a:cubicBezTo>
                  <a:pt x="333" y="54"/>
                  <a:pt x="332" y="55"/>
                  <a:pt x="332" y="56"/>
                </a:cubicBezTo>
                <a:cubicBezTo>
                  <a:pt x="333" y="56"/>
                  <a:pt x="333" y="56"/>
                  <a:pt x="333" y="56"/>
                </a:cubicBezTo>
                <a:cubicBezTo>
                  <a:pt x="332" y="58"/>
                  <a:pt x="330" y="58"/>
                  <a:pt x="328" y="60"/>
                </a:cubicBezTo>
                <a:cubicBezTo>
                  <a:pt x="328" y="60"/>
                  <a:pt x="328" y="59"/>
                  <a:pt x="327" y="59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28" y="61"/>
                  <a:pt x="324" y="63"/>
                  <a:pt x="327" y="64"/>
                </a:cubicBezTo>
                <a:cubicBezTo>
                  <a:pt x="327" y="63"/>
                  <a:pt x="328" y="63"/>
                  <a:pt x="329" y="63"/>
                </a:cubicBezTo>
                <a:cubicBezTo>
                  <a:pt x="329" y="65"/>
                  <a:pt x="327" y="66"/>
                  <a:pt x="326" y="67"/>
                </a:cubicBezTo>
                <a:cubicBezTo>
                  <a:pt x="325" y="65"/>
                  <a:pt x="323" y="69"/>
                  <a:pt x="321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7"/>
                  <a:pt x="321" y="67"/>
                </a:cubicBezTo>
                <a:cubicBezTo>
                  <a:pt x="319" y="65"/>
                  <a:pt x="319" y="65"/>
                  <a:pt x="319" y="65"/>
                </a:cubicBezTo>
                <a:cubicBezTo>
                  <a:pt x="319" y="64"/>
                  <a:pt x="319" y="64"/>
                  <a:pt x="319" y="64"/>
                </a:cubicBezTo>
                <a:cubicBezTo>
                  <a:pt x="318" y="63"/>
                  <a:pt x="318" y="63"/>
                  <a:pt x="318" y="63"/>
                </a:cubicBezTo>
                <a:cubicBezTo>
                  <a:pt x="317" y="64"/>
                  <a:pt x="318" y="65"/>
                  <a:pt x="317" y="66"/>
                </a:cubicBezTo>
                <a:cubicBezTo>
                  <a:pt x="316" y="66"/>
                  <a:pt x="316" y="65"/>
                  <a:pt x="315" y="64"/>
                </a:cubicBezTo>
                <a:cubicBezTo>
                  <a:pt x="315" y="65"/>
                  <a:pt x="315" y="65"/>
                  <a:pt x="315" y="65"/>
                </a:cubicBezTo>
                <a:cubicBezTo>
                  <a:pt x="313" y="63"/>
                  <a:pt x="313" y="63"/>
                  <a:pt x="313" y="63"/>
                </a:cubicBezTo>
                <a:cubicBezTo>
                  <a:pt x="313" y="63"/>
                  <a:pt x="313" y="63"/>
                  <a:pt x="313" y="64"/>
                </a:cubicBezTo>
                <a:cubicBezTo>
                  <a:pt x="312" y="64"/>
                  <a:pt x="312" y="64"/>
                  <a:pt x="312" y="64"/>
                </a:cubicBezTo>
                <a:cubicBezTo>
                  <a:pt x="312" y="63"/>
                  <a:pt x="311" y="63"/>
                  <a:pt x="311" y="63"/>
                </a:cubicBezTo>
                <a:cubicBezTo>
                  <a:pt x="310" y="63"/>
                  <a:pt x="311" y="65"/>
                  <a:pt x="311" y="66"/>
                </a:cubicBezTo>
                <a:cubicBezTo>
                  <a:pt x="309" y="65"/>
                  <a:pt x="308" y="64"/>
                  <a:pt x="307" y="63"/>
                </a:cubicBezTo>
                <a:cubicBezTo>
                  <a:pt x="306" y="63"/>
                  <a:pt x="306" y="63"/>
                  <a:pt x="306" y="63"/>
                </a:cubicBezTo>
                <a:cubicBezTo>
                  <a:pt x="305" y="62"/>
                  <a:pt x="305" y="62"/>
                  <a:pt x="305" y="62"/>
                </a:cubicBezTo>
                <a:cubicBezTo>
                  <a:pt x="304" y="63"/>
                  <a:pt x="304" y="63"/>
                  <a:pt x="304" y="63"/>
                </a:cubicBezTo>
                <a:cubicBezTo>
                  <a:pt x="303" y="61"/>
                  <a:pt x="303" y="61"/>
                  <a:pt x="303" y="61"/>
                </a:cubicBezTo>
                <a:cubicBezTo>
                  <a:pt x="303" y="62"/>
                  <a:pt x="303" y="62"/>
                  <a:pt x="303" y="62"/>
                </a:cubicBezTo>
                <a:cubicBezTo>
                  <a:pt x="301" y="60"/>
                  <a:pt x="301" y="60"/>
                  <a:pt x="301" y="60"/>
                </a:cubicBezTo>
                <a:cubicBezTo>
                  <a:pt x="302" y="57"/>
                  <a:pt x="305" y="58"/>
                  <a:pt x="307" y="56"/>
                </a:cubicBezTo>
                <a:cubicBezTo>
                  <a:pt x="308" y="57"/>
                  <a:pt x="310" y="56"/>
                  <a:pt x="311" y="56"/>
                </a:cubicBezTo>
                <a:cubicBezTo>
                  <a:pt x="311" y="57"/>
                  <a:pt x="311" y="57"/>
                  <a:pt x="312" y="57"/>
                </a:cubicBezTo>
                <a:cubicBezTo>
                  <a:pt x="312" y="56"/>
                  <a:pt x="312" y="55"/>
                  <a:pt x="311" y="54"/>
                </a:cubicBezTo>
                <a:cubicBezTo>
                  <a:pt x="311" y="54"/>
                  <a:pt x="311" y="54"/>
                  <a:pt x="311" y="54"/>
                </a:cubicBezTo>
                <a:cubicBezTo>
                  <a:pt x="311" y="53"/>
                  <a:pt x="311" y="53"/>
                  <a:pt x="311" y="52"/>
                </a:cubicBezTo>
                <a:cubicBezTo>
                  <a:pt x="310" y="52"/>
                  <a:pt x="311" y="50"/>
                  <a:pt x="312" y="50"/>
                </a:cubicBezTo>
                <a:cubicBezTo>
                  <a:pt x="313" y="49"/>
                  <a:pt x="314" y="50"/>
                  <a:pt x="315" y="51"/>
                </a:cubicBezTo>
                <a:cubicBezTo>
                  <a:pt x="315" y="52"/>
                  <a:pt x="314" y="55"/>
                  <a:pt x="316" y="55"/>
                </a:cubicBezTo>
                <a:cubicBezTo>
                  <a:pt x="318" y="56"/>
                  <a:pt x="319" y="57"/>
                  <a:pt x="320" y="56"/>
                </a:cubicBezTo>
                <a:cubicBezTo>
                  <a:pt x="319" y="54"/>
                  <a:pt x="318" y="54"/>
                  <a:pt x="317" y="52"/>
                </a:cubicBezTo>
                <a:cubicBezTo>
                  <a:pt x="318" y="51"/>
                  <a:pt x="318" y="51"/>
                  <a:pt x="318" y="51"/>
                </a:cubicBezTo>
                <a:cubicBezTo>
                  <a:pt x="318" y="51"/>
                  <a:pt x="317" y="50"/>
                  <a:pt x="317" y="51"/>
                </a:cubicBezTo>
                <a:cubicBezTo>
                  <a:pt x="318" y="50"/>
                  <a:pt x="320" y="50"/>
                  <a:pt x="320" y="48"/>
                </a:cubicBezTo>
                <a:cubicBezTo>
                  <a:pt x="319" y="48"/>
                  <a:pt x="319" y="48"/>
                  <a:pt x="319" y="48"/>
                </a:cubicBezTo>
                <a:cubicBezTo>
                  <a:pt x="317" y="49"/>
                  <a:pt x="317" y="49"/>
                  <a:pt x="317" y="49"/>
                </a:cubicBezTo>
                <a:cubicBezTo>
                  <a:pt x="317" y="48"/>
                  <a:pt x="316" y="46"/>
                  <a:pt x="315" y="48"/>
                </a:cubicBezTo>
                <a:cubicBezTo>
                  <a:pt x="314" y="48"/>
                  <a:pt x="314" y="48"/>
                  <a:pt x="314" y="48"/>
                </a:cubicBezTo>
                <a:cubicBezTo>
                  <a:pt x="314" y="44"/>
                  <a:pt x="318" y="44"/>
                  <a:pt x="319" y="42"/>
                </a:cubicBezTo>
                <a:cubicBezTo>
                  <a:pt x="322" y="42"/>
                  <a:pt x="323" y="41"/>
                  <a:pt x="325" y="43"/>
                </a:cubicBezTo>
                <a:cubicBezTo>
                  <a:pt x="328" y="45"/>
                  <a:pt x="328" y="45"/>
                  <a:pt x="328" y="45"/>
                </a:cubicBezTo>
                <a:cubicBezTo>
                  <a:pt x="328" y="44"/>
                  <a:pt x="328" y="44"/>
                  <a:pt x="328" y="44"/>
                </a:cubicBezTo>
                <a:cubicBezTo>
                  <a:pt x="328" y="44"/>
                  <a:pt x="327" y="44"/>
                  <a:pt x="328" y="43"/>
                </a:cubicBezTo>
                <a:cubicBezTo>
                  <a:pt x="328" y="43"/>
                  <a:pt x="328" y="43"/>
                  <a:pt x="328" y="43"/>
                </a:cubicBezTo>
                <a:cubicBezTo>
                  <a:pt x="327" y="43"/>
                  <a:pt x="326" y="41"/>
                  <a:pt x="324" y="41"/>
                </a:cubicBezTo>
                <a:cubicBezTo>
                  <a:pt x="324" y="39"/>
                  <a:pt x="324" y="39"/>
                  <a:pt x="324" y="39"/>
                </a:cubicBezTo>
                <a:cubicBezTo>
                  <a:pt x="325" y="40"/>
                  <a:pt x="325" y="40"/>
                  <a:pt x="325" y="40"/>
                </a:cubicBezTo>
                <a:cubicBezTo>
                  <a:pt x="325" y="38"/>
                  <a:pt x="326" y="36"/>
                  <a:pt x="327" y="35"/>
                </a:cubicBezTo>
                <a:cubicBezTo>
                  <a:pt x="326" y="33"/>
                  <a:pt x="326" y="32"/>
                  <a:pt x="325" y="31"/>
                </a:cubicBezTo>
                <a:cubicBezTo>
                  <a:pt x="326" y="30"/>
                  <a:pt x="326" y="31"/>
                  <a:pt x="327" y="31"/>
                </a:cubicBezTo>
                <a:cubicBezTo>
                  <a:pt x="326" y="30"/>
                  <a:pt x="325" y="28"/>
                  <a:pt x="328" y="26"/>
                </a:cubicBezTo>
                <a:cubicBezTo>
                  <a:pt x="330" y="27"/>
                  <a:pt x="333" y="28"/>
                  <a:pt x="333" y="31"/>
                </a:cubicBezTo>
                <a:cubicBezTo>
                  <a:pt x="334" y="32"/>
                  <a:pt x="333" y="34"/>
                  <a:pt x="335" y="35"/>
                </a:cubicBezTo>
                <a:cubicBezTo>
                  <a:pt x="337" y="34"/>
                  <a:pt x="334" y="32"/>
                  <a:pt x="335" y="31"/>
                </a:cubicBezTo>
                <a:cubicBezTo>
                  <a:pt x="335" y="28"/>
                  <a:pt x="335" y="28"/>
                  <a:pt x="335" y="28"/>
                </a:cubicBezTo>
                <a:cubicBezTo>
                  <a:pt x="338" y="29"/>
                  <a:pt x="344" y="30"/>
                  <a:pt x="346" y="27"/>
                </a:cubicBezTo>
                <a:cubicBezTo>
                  <a:pt x="348" y="26"/>
                  <a:pt x="350" y="30"/>
                  <a:pt x="351" y="27"/>
                </a:cubicBezTo>
                <a:cubicBezTo>
                  <a:pt x="350" y="25"/>
                  <a:pt x="348" y="26"/>
                  <a:pt x="347" y="26"/>
                </a:cubicBezTo>
                <a:cubicBezTo>
                  <a:pt x="349" y="24"/>
                  <a:pt x="349" y="24"/>
                  <a:pt x="349" y="24"/>
                </a:cubicBezTo>
                <a:cubicBezTo>
                  <a:pt x="345" y="23"/>
                  <a:pt x="345" y="28"/>
                  <a:pt x="341" y="27"/>
                </a:cubicBezTo>
                <a:cubicBezTo>
                  <a:pt x="337" y="26"/>
                  <a:pt x="337" y="26"/>
                  <a:pt x="337" y="26"/>
                </a:cubicBezTo>
                <a:cubicBezTo>
                  <a:pt x="339" y="24"/>
                  <a:pt x="339" y="24"/>
                  <a:pt x="339" y="24"/>
                </a:cubicBezTo>
                <a:cubicBezTo>
                  <a:pt x="336" y="21"/>
                  <a:pt x="332" y="29"/>
                  <a:pt x="330" y="23"/>
                </a:cubicBezTo>
                <a:cubicBezTo>
                  <a:pt x="332" y="21"/>
                  <a:pt x="332" y="21"/>
                  <a:pt x="332" y="21"/>
                </a:cubicBezTo>
                <a:cubicBezTo>
                  <a:pt x="330" y="19"/>
                  <a:pt x="328" y="25"/>
                  <a:pt x="326" y="20"/>
                </a:cubicBezTo>
                <a:cubicBezTo>
                  <a:pt x="326" y="20"/>
                  <a:pt x="326" y="19"/>
                  <a:pt x="325" y="18"/>
                </a:cubicBezTo>
                <a:cubicBezTo>
                  <a:pt x="329" y="17"/>
                  <a:pt x="332" y="20"/>
                  <a:pt x="335" y="18"/>
                </a:cubicBezTo>
                <a:cubicBezTo>
                  <a:pt x="334" y="16"/>
                  <a:pt x="333" y="18"/>
                  <a:pt x="332" y="18"/>
                </a:cubicBezTo>
                <a:cubicBezTo>
                  <a:pt x="330" y="17"/>
                  <a:pt x="328" y="17"/>
                  <a:pt x="326" y="16"/>
                </a:cubicBezTo>
                <a:cubicBezTo>
                  <a:pt x="328" y="15"/>
                  <a:pt x="328" y="15"/>
                  <a:pt x="328" y="15"/>
                </a:cubicBezTo>
                <a:cubicBezTo>
                  <a:pt x="328" y="14"/>
                  <a:pt x="328" y="14"/>
                  <a:pt x="328" y="14"/>
                </a:cubicBezTo>
                <a:cubicBezTo>
                  <a:pt x="329" y="13"/>
                  <a:pt x="329" y="13"/>
                  <a:pt x="329" y="13"/>
                </a:cubicBezTo>
                <a:cubicBezTo>
                  <a:pt x="329" y="12"/>
                  <a:pt x="328" y="13"/>
                  <a:pt x="327" y="12"/>
                </a:cubicBezTo>
                <a:cubicBezTo>
                  <a:pt x="327" y="11"/>
                  <a:pt x="331" y="11"/>
                  <a:pt x="329" y="10"/>
                </a:cubicBezTo>
                <a:cubicBezTo>
                  <a:pt x="326" y="11"/>
                  <a:pt x="326" y="11"/>
                  <a:pt x="326" y="11"/>
                </a:cubicBezTo>
                <a:cubicBezTo>
                  <a:pt x="326" y="9"/>
                  <a:pt x="329" y="8"/>
                  <a:pt x="331" y="7"/>
                </a:cubicBezTo>
                <a:cubicBezTo>
                  <a:pt x="332" y="7"/>
                  <a:pt x="332" y="7"/>
                  <a:pt x="332" y="7"/>
                </a:cubicBezTo>
                <a:cubicBezTo>
                  <a:pt x="332" y="8"/>
                  <a:pt x="332" y="9"/>
                  <a:pt x="332" y="9"/>
                </a:cubicBezTo>
                <a:cubicBezTo>
                  <a:pt x="334" y="9"/>
                  <a:pt x="334" y="7"/>
                  <a:pt x="335" y="6"/>
                </a:cubicBezTo>
                <a:cubicBezTo>
                  <a:pt x="336" y="9"/>
                  <a:pt x="336" y="9"/>
                  <a:pt x="336" y="9"/>
                </a:cubicBezTo>
                <a:cubicBezTo>
                  <a:pt x="338" y="9"/>
                  <a:pt x="337" y="7"/>
                  <a:pt x="339" y="8"/>
                </a:cubicBezTo>
                <a:cubicBezTo>
                  <a:pt x="339" y="9"/>
                  <a:pt x="338" y="9"/>
                  <a:pt x="338" y="10"/>
                </a:cubicBezTo>
                <a:cubicBezTo>
                  <a:pt x="338" y="10"/>
                  <a:pt x="339" y="10"/>
                  <a:pt x="339" y="10"/>
                </a:cubicBezTo>
                <a:cubicBezTo>
                  <a:pt x="340" y="10"/>
                  <a:pt x="340" y="10"/>
                  <a:pt x="340" y="10"/>
                </a:cubicBezTo>
                <a:cubicBezTo>
                  <a:pt x="340" y="10"/>
                  <a:pt x="340" y="10"/>
                  <a:pt x="341" y="10"/>
                </a:cubicBezTo>
                <a:cubicBezTo>
                  <a:pt x="342" y="9"/>
                  <a:pt x="339" y="8"/>
                  <a:pt x="340" y="6"/>
                </a:cubicBezTo>
                <a:cubicBezTo>
                  <a:pt x="340" y="5"/>
                  <a:pt x="343" y="6"/>
                  <a:pt x="342" y="3"/>
                </a:cubicBezTo>
                <a:cubicBezTo>
                  <a:pt x="345" y="2"/>
                  <a:pt x="344" y="12"/>
                  <a:pt x="348" y="7"/>
                </a:cubicBezTo>
                <a:cubicBezTo>
                  <a:pt x="348" y="5"/>
                  <a:pt x="348" y="5"/>
                  <a:pt x="348" y="5"/>
                </a:cubicBezTo>
                <a:cubicBezTo>
                  <a:pt x="349" y="5"/>
                  <a:pt x="349" y="5"/>
                  <a:pt x="349" y="6"/>
                </a:cubicBezTo>
                <a:cubicBezTo>
                  <a:pt x="351" y="5"/>
                  <a:pt x="348" y="4"/>
                  <a:pt x="349" y="3"/>
                </a:cubicBezTo>
                <a:cubicBezTo>
                  <a:pt x="352" y="3"/>
                  <a:pt x="350" y="6"/>
                  <a:pt x="352" y="7"/>
                </a:cubicBezTo>
                <a:cubicBezTo>
                  <a:pt x="353" y="5"/>
                  <a:pt x="353" y="3"/>
                  <a:pt x="352" y="2"/>
                </a:cubicBezTo>
                <a:cubicBezTo>
                  <a:pt x="352" y="1"/>
                  <a:pt x="352" y="1"/>
                  <a:pt x="352" y="1"/>
                </a:cubicBezTo>
                <a:cubicBezTo>
                  <a:pt x="354" y="2"/>
                  <a:pt x="353" y="5"/>
                  <a:pt x="356" y="6"/>
                </a:cubicBezTo>
                <a:cubicBezTo>
                  <a:pt x="358" y="4"/>
                  <a:pt x="353" y="2"/>
                  <a:pt x="356" y="0"/>
                </a:cubicBezTo>
                <a:cubicBezTo>
                  <a:pt x="358" y="1"/>
                  <a:pt x="358" y="3"/>
                  <a:pt x="360" y="3"/>
                </a:cubicBezTo>
                <a:close/>
                <a:moveTo>
                  <a:pt x="319" y="11"/>
                </a:moveTo>
                <a:cubicBezTo>
                  <a:pt x="319" y="11"/>
                  <a:pt x="319" y="11"/>
                  <a:pt x="319" y="11"/>
                </a:cubicBezTo>
                <a:cubicBezTo>
                  <a:pt x="326" y="13"/>
                  <a:pt x="318" y="19"/>
                  <a:pt x="322" y="23"/>
                </a:cubicBezTo>
                <a:cubicBezTo>
                  <a:pt x="322" y="22"/>
                  <a:pt x="323" y="22"/>
                  <a:pt x="323" y="22"/>
                </a:cubicBezTo>
                <a:cubicBezTo>
                  <a:pt x="324" y="24"/>
                  <a:pt x="321" y="25"/>
                  <a:pt x="323" y="27"/>
                </a:cubicBezTo>
                <a:cubicBezTo>
                  <a:pt x="324" y="26"/>
                  <a:pt x="324" y="25"/>
                  <a:pt x="324" y="24"/>
                </a:cubicBezTo>
                <a:cubicBezTo>
                  <a:pt x="325" y="24"/>
                  <a:pt x="325" y="24"/>
                  <a:pt x="325" y="24"/>
                </a:cubicBezTo>
                <a:cubicBezTo>
                  <a:pt x="323" y="26"/>
                  <a:pt x="325" y="31"/>
                  <a:pt x="321" y="32"/>
                </a:cubicBezTo>
                <a:cubicBezTo>
                  <a:pt x="321" y="32"/>
                  <a:pt x="321" y="33"/>
                  <a:pt x="322" y="32"/>
                </a:cubicBezTo>
                <a:cubicBezTo>
                  <a:pt x="323" y="32"/>
                  <a:pt x="323" y="32"/>
                  <a:pt x="323" y="32"/>
                </a:cubicBezTo>
                <a:cubicBezTo>
                  <a:pt x="324" y="33"/>
                  <a:pt x="325" y="35"/>
                  <a:pt x="324" y="36"/>
                </a:cubicBezTo>
                <a:cubicBezTo>
                  <a:pt x="324" y="38"/>
                  <a:pt x="320" y="37"/>
                  <a:pt x="321" y="40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1" y="39"/>
                  <a:pt x="321" y="39"/>
                  <a:pt x="321" y="39"/>
                </a:cubicBezTo>
                <a:cubicBezTo>
                  <a:pt x="321" y="38"/>
                  <a:pt x="320" y="38"/>
                  <a:pt x="320" y="38"/>
                </a:cubicBezTo>
                <a:cubicBezTo>
                  <a:pt x="319" y="39"/>
                  <a:pt x="319" y="39"/>
                  <a:pt x="319" y="39"/>
                </a:cubicBezTo>
                <a:cubicBezTo>
                  <a:pt x="319" y="38"/>
                  <a:pt x="319" y="38"/>
                  <a:pt x="319" y="38"/>
                </a:cubicBezTo>
                <a:cubicBezTo>
                  <a:pt x="318" y="40"/>
                  <a:pt x="316" y="40"/>
                  <a:pt x="316" y="42"/>
                </a:cubicBezTo>
                <a:cubicBezTo>
                  <a:pt x="315" y="42"/>
                  <a:pt x="315" y="41"/>
                  <a:pt x="315" y="42"/>
                </a:cubicBezTo>
                <a:cubicBezTo>
                  <a:pt x="313" y="44"/>
                  <a:pt x="313" y="44"/>
                  <a:pt x="313" y="44"/>
                </a:cubicBezTo>
                <a:cubicBezTo>
                  <a:pt x="314" y="43"/>
                  <a:pt x="313" y="43"/>
                  <a:pt x="313" y="43"/>
                </a:cubicBezTo>
                <a:cubicBezTo>
                  <a:pt x="312" y="44"/>
                  <a:pt x="311" y="44"/>
                  <a:pt x="311" y="46"/>
                </a:cubicBezTo>
                <a:cubicBezTo>
                  <a:pt x="310" y="44"/>
                  <a:pt x="310" y="44"/>
                  <a:pt x="310" y="44"/>
                </a:cubicBezTo>
                <a:cubicBezTo>
                  <a:pt x="309" y="45"/>
                  <a:pt x="309" y="45"/>
                  <a:pt x="309" y="45"/>
                </a:cubicBezTo>
                <a:cubicBezTo>
                  <a:pt x="308" y="44"/>
                  <a:pt x="308" y="44"/>
                  <a:pt x="308" y="44"/>
                </a:cubicBezTo>
                <a:cubicBezTo>
                  <a:pt x="308" y="44"/>
                  <a:pt x="308" y="44"/>
                  <a:pt x="308" y="45"/>
                </a:cubicBezTo>
                <a:cubicBezTo>
                  <a:pt x="306" y="45"/>
                  <a:pt x="305" y="43"/>
                  <a:pt x="304" y="43"/>
                </a:cubicBezTo>
                <a:cubicBezTo>
                  <a:pt x="304" y="42"/>
                  <a:pt x="304" y="41"/>
                  <a:pt x="304" y="41"/>
                </a:cubicBezTo>
                <a:cubicBezTo>
                  <a:pt x="304" y="40"/>
                  <a:pt x="304" y="40"/>
                  <a:pt x="304" y="40"/>
                </a:cubicBezTo>
                <a:cubicBezTo>
                  <a:pt x="305" y="41"/>
                  <a:pt x="305" y="41"/>
                  <a:pt x="305" y="41"/>
                </a:cubicBezTo>
                <a:cubicBezTo>
                  <a:pt x="305" y="39"/>
                  <a:pt x="305" y="39"/>
                  <a:pt x="305" y="36"/>
                </a:cubicBezTo>
                <a:cubicBezTo>
                  <a:pt x="305" y="35"/>
                  <a:pt x="307" y="36"/>
                  <a:pt x="307" y="35"/>
                </a:cubicBezTo>
                <a:cubicBezTo>
                  <a:pt x="308" y="35"/>
                  <a:pt x="309" y="37"/>
                  <a:pt x="310" y="35"/>
                </a:cubicBezTo>
                <a:cubicBezTo>
                  <a:pt x="310" y="35"/>
                  <a:pt x="310" y="35"/>
                  <a:pt x="310" y="35"/>
                </a:cubicBezTo>
                <a:cubicBezTo>
                  <a:pt x="310" y="35"/>
                  <a:pt x="311" y="35"/>
                  <a:pt x="311" y="35"/>
                </a:cubicBezTo>
                <a:cubicBezTo>
                  <a:pt x="312" y="35"/>
                  <a:pt x="312" y="35"/>
                  <a:pt x="312" y="35"/>
                </a:cubicBezTo>
                <a:cubicBezTo>
                  <a:pt x="310" y="34"/>
                  <a:pt x="310" y="31"/>
                  <a:pt x="307" y="32"/>
                </a:cubicBezTo>
                <a:cubicBezTo>
                  <a:pt x="307" y="32"/>
                  <a:pt x="307" y="32"/>
                  <a:pt x="307" y="32"/>
                </a:cubicBezTo>
                <a:cubicBezTo>
                  <a:pt x="307" y="31"/>
                  <a:pt x="306" y="31"/>
                  <a:pt x="305" y="31"/>
                </a:cubicBezTo>
                <a:cubicBezTo>
                  <a:pt x="305" y="30"/>
                  <a:pt x="306" y="29"/>
                  <a:pt x="307" y="28"/>
                </a:cubicBezTo>
                <a:cubicBezTo>
                  <a:pt x="306" y="26"/>
                  <a:pt x="308" y="25"/>
                  <a:pt x="308" y="23"/>
                </a:cubicBezTo>
                <a:cubicBezTo>
                  <a:pt x="309" y="25"/>
                  <a:pt x="311" y="24"/>
                  <a:pt x="312" y="25"/>
                </a:cubicBezTo>
                <a:cubicBezTo>
                  <a:pt x="313" y="25"/>
                  <a:pt x="313" y="24"/>
                  <a:pt x="313" y="24"/>
                </a:cubicBezTo>
                <a:cubicBezTo>
                  <a:pt x="311" y="24"/>
                  <a:pt x="310" y="22"/>
                  <a:pt x="309" y="20"/>
                </a:cubicBezTo>
                <a:cubicBezTo>
                  <a:pt x="309" y="19"/>
                  <a:pt x="309" y="19"/>
                  <a:pt x="309" y="19"/>
                </a:cubicBezTo>
                <a:cubicBezTo>
                  <a:pt x="312" y="20"/>
                  <a:pt x="313" y="19"/>
                  <a:pt x="315" y="19"/>
                </a:cubicBezTo>
                <a:cubicBezTo>
                  <a:pt x="316" y="17"/>
                  <a:pt x="312" y="16"/>
                  <a:pt x="315" y="15"/>
                </a:cubicBezTo>
                <a:cubicBezTo>
                  <a:pt x="316" y="15"/>
                  <a:pt x="316" y="15"/>
                  <a:pt x="317" y="15"/>
                </a:cubicBezTo>
                <a:cubicBezTo>
                  <a:pt x="317" y="15"/>
                  <a:pt x="318" y="15"/>
                  <a:pt x="317" y="14"/>
                </a:cubicBezTo>
                <a:cubicBezTo>
                  <a:pt x="318" y="15"/>
                  <a:pt x="318" y="15"/>
                  <a:pt x="319" y="15"/>
                </a:cubicBezTo>
                <a:cubicBezTo>
                  <a:pt x="320" y="14"/>
                  <a:pt x="320" y="14"/>
                  <a:pt x="320" y="14"/>
                </a:cubicBezTo>
                <a:cubicBezTo>
                  <a:pt x="319" y="13"/>
                  <a:pt x="319" y="11"/>
                  <a:pt x="317" y="12"/>
                </a:cubicBezTo>
                <a:cubicBezTo>
                  <a:pt x="317" y="11"/>
                  <a:pt x="317" y="11"/>
                  <a:pt x="317" y="11"/>
                </a:cubicBezTo>
                <a:cubicBezTo>
                  <a:pt x="318" y="11"/>
                  <a:pt x="318" y="11"/>
                  <a:pt x="319" y="11"/>
                </a:cubicBezTo>
                <a:close/>
                <a:moveTo>
                  <a:pt x="329" y="12"/>
                </a:moveTo>
                <a:cubicBezTo>
                  <a:pt x="332" y="12"/>
                  <a:pt x="332" y="12"/>
                  <a:pt x="332" y="12"/>
                </a:cubicBezTo>
                <a:cubicBezTo>
                  <a:pt x="329" y="12"/>
                  <a:pt x="329" y="12"/>
                  <a:pt x="329" y="12"/>
                </a:cubicBezTo>
                <a:close/>
                <a:moveTo>
                  <a:pt x="303" y="21"/>
                </a:moveTo>
                <a:cubicBezTo>
                  <a:pt x="301" y="22"/>
                  <a:pt x="301" y="23"/>
                  <a:pt x="301" y="24"/>
                </a:cubicBezTo>
                <a:cubicBezTo>
                  <a:pt x="300" y="23"/>
                  <a:pt x="299" y="22"/>
                  <a:pt x="300" y="21"/>
                </a:cubicBezTo>
                <a:cubicBezTo>
                  <a:pt x="301" y="20"/>
                  <a:pt x="302" y="20"/>
                  <a:pt x="303" y="21"/>
                </a:cubicBezTo>
                <a:close/>
                <a:moveTo>
                  <a:pt x="284" y="24"/>
                </a:moveTo>
                <a:cubicBezTo>
                  <a:pt x="285" y="23"/>
                  <a:pt x="286" y="24"/>
                  <a:pt x="287" y="24"/>
                </a:cubicBezTo>
                <a:cubicBezTo>
                  <a:pt x="288" y="25"/>
                  <a:pt x="288" y="26"/>
                  <a:pt x="288" y="27"/>
                </a:cubicBezTo>
                <a:cubicBezTo>
                  <a:pt x="287" y="28"/>
                  <a:pt x="287" y="28"/>
                  <a:pt x="287" y="28"/>
                </a:cubicBezTo>
                <a:cubicBezTo>
                  <a:pt x="288" y="30"/>
                  <a:pt x="289" y="26"/>
                  <a:pt x="291" y="28"/>
                </a:cubicBezTo>
                <a:cubicBezTo>
                  <a:pt x="287" y="32"/>
                  <a:pt x="294" y="31"/>
                  <a:pt x="291" y="35"/>
                </a:cubicBezTo>
                <a:cubicBezTo>
                  <a:pt x="287" y="36"/>
                  <a:pt x="290" y="44"/>
                  <a:pt x="284" y="42"/>
                </a:cubicBezTo>
                <a:cubicBezTo>
                  <a:pt x="287" y="39"/>
                  <a:pt x="284" y="36"/>
                  <a:pt x="282" y="34"/>
                </a:cubicBezTo>
                <a:cubicBezTo>
                  <a:pt x="279" y="34"/>
                  <a:pt x="279" y="34"/>
                  <a:pt x="279" y="34"/>
                </a:cubicBezTo>
                <a:cubicBezTo>
                  <a:pt x="278" y="33"/>
                  <a:pt x="279" y="32"/>
                  <a:pt x="280" y="31"/>
                </a:cubicBezTo>
                <a:cubicBezTo>
                  <a:pt x="281" y="32"/>
                  <a:pt x="281" y="33"/>
                  <a:pt x="282" y="33"/>
                </a:cubicBezTo>
                <a:cubicBezTo>
                  <a:pt x="283" y="33"/>
                  <a:pt x="283" y="32"/>
                  <a:pt x="283" y="31"/>
                </a:cubicBezTo>
                <a:cubicBezTo>
                  <a:pt x="283" y="31"/>
                  <a:pt x="283" y="31"/>
                  <a:pt x="284" y="31"/>
                </a:cubicBezTo>
                <a:cubicBezTo>
                  <a:pt x="283" y="30"/>
                  <a:pt x="283" y="29"/>
                  <a:pt x="284" y="28"/>
                </a:cubicBezTo>
                <a:cubicBezTo>
                  <a:pt x="284" y="27"/>
                  <a:pt x="283" y="27"/>
                  <a:pt x="283" y="27"/>
                </a:cubicBezTo>
                <a:cubicBezTo>
                  <a:pt x="281" y="28"/>
                  <a:pt x="281" y="28"/>
                  <a:pt x="281" y="28"/>
                </a:cubicBezTo>
                <a:cubicBezTo>
                  <a:pt x="283" y="27"/>
                  <a:pt x="283" y="27"/>
                  <a:pt x="283" y="27"/>
                </a:cubicBezTo>
                <a:cubicBezTo>
                  <a:pt x="283" y="26"/>
                  <a:pt x="283" y="26"/>
                  <a:pt x="282" y="26"/>
                </a:cubicBezTo>
                <a:cubicBezTo>
                  <a:pt x="282" y="25"/>
                  <a:pt x="283" y="23"/>
                  <a:pt x="284" y="24"/>
                </a:cubicBezTo>
                <a:close/>
                <a:moveTo>
                  <a:pt x="269" y="26"/>
                </a:moveTo>
                <a:cubicBezTo>
                  <a:pt x="268" y="27"/>
                  <a:pt x="269" y="30"/>
                  <a:pt x="267" y="31"/>
                </a:cubicBezTo>
                <a:cubicBezTo>
                  <a:pt x="265" y="31"/>
                  <a:pt x="265" y="30"/>
                  <a:pt x="264" y="28"/>
                </a:cubicBezTo>
                <a:cubicBezTo>
                  <a:pt x="263" y="29"/>
                  <a:pt x="263" y="29"/>
                  <a:pt x="263" y="29"/>
                </a:cubicBezTo>
                <a:cubicBezTo>
                  <a:pt x="263" y="28"/>
                  <a:pt x="261" y="27"/>
                  <a:pt x="260" y="27"/>
                </a:cubicBezTo>
                <a:cubicBezTo>
                  <a:pt x="262" y="25"/>
                  <a:pt x="267" y="26"/>
                  <a:pt x="269" y="26"/>
                </a:cubicBezTo>
                <a:close/>
                <a:moveTo>
                  <a:pt x="255" y="32"/>
                </a:moveTo>
                <a:cubicBezTo>
                  <a:pt x="254" y="32"/>
                  <a:pt x="254" y="32"/>
                  <a:pt x="253" y="32"/>
                </a:cubicBezTo>
                <a:cubicBezTo>
                  <a:pt x="253" y="32"/>
                  <a:pt x="253" y="30"/>
                  <a:pt x="253" y="30"/>
                </a:cubicBezTo>
                <a:cubicBezTo>
                  <a:pt x="255" y="30"/>
                  <a:pt x="255" y="30"/>
                  <a:pt x="255" y="30"/>
                </a:cubicBezTo>
                <a:cubicBezTo>
                  <a:pt x="255" y="32"/>
                  <a:pt x="255" y="32"/>
                  <a:pt x="255" y="32"/>
                </a:cubicBezTo>
                <a:close/>
                <a:moveTo>
                  <a:pt x="264" y="32"/>
                </a:moveTo>
                <a:cubicBezTo>
                  <a:pt x="265" y="34"/>
                  <a:pt x="259" y="33"/>
                  <a:pt x="261" y="36"/>
                </a:cubicBezTo>
                <a:cubicBezTo>
                  <a:pt x="260" y="39"/>
                  <a:pt x="258" y="38"/>
                  <a:pt x="256" y="38"/>
                </a:cubicBezTo>
                <a:cubicBezTo>
                  <a:pt x="256" y="37"/>
                  <a:pt x="255" y="36"/>
                  <a:pt x="254" y="35"/>
                </a:cubicBezTo>
                <a:cubicBezTo>
                  <a:pt x="255" y="34"/>
                  <a:pt x="256" y="31"/>
                  <a:pt x="258" y="31"/>
                </a:cubicBezTo>
                <a:cubicBezTo>
                  <a:pt x="260" y="32"/>
                  <a:pt x="262" y="32"/>
                  <a:pt x="264" y="32"/>
                </a:cubicBezTo>
                <a:close/>
                <a:moveTo>
                  <a:pt x="244" y="34"/>
                </a:moveTo>
                <a:cubicBezTo>
                  <a:pt x="245" y="34"/>
                  <a:pt x="246" y="34"/>
                  <a:pt x="246" y="33"/>
                </a:cubicBezTo>
                <a:cubicBezTo>
                  <a:pt x="246" y="32"/>
                  <a:pt x="246" y="32"/>
                  <a:pt x="246" y="32"/>
                </a:cubicBezTo>
                <a:cubicBezTo>
                  <a:pt x="247" y="32"/>
                  <a:pt x="247" y="32"/>
                  <a:pt x="247" y="32"/>
                </a:cubicBezTo>
                <a:cubicBezTo>
                  <a:pt x="249" y="36"/>
                  <a:pt x="243" y="33"/>
                  <a:pt x="244" y="38"/>
                </a:cubicBezTo>
                <a:cubicBezTo>
                  <a:pt x="244" y="42"/>
                  <a:pt x="238" y="39"/>
                  <a:pt x="237" y="44"/>
                </a:cubicBezTo>
                <a:cubicBezTo>
                  <a:pt x="234" y="41"/>
                  <a:pt x="242" y="38"/>
                  <a:pt x="237" y="37"/>
                </a:cubicBezTo>
                <a:cubicBezTo>
                  <a:pt x="232" y="43"/>
                  <a:pt x="232" y="43"/>
                  <a:pt x="232" y="43"/>
                </a:cubicBezTo>
                <a:cubicBezTo>
                  <a:pt x="233" y="42"/>
                  <a:pt x="232" y="42"/>
                  <a:pt x="232" y="42"/>
                </a:cubicBezTo>
                <a:cubicBezTo>
                  <a:pt x="230" y="42"/>
                  <a:pt x="230" y="45"/>
                  <a:pt x="228" y="44"/>
                </a:cubicBezTo>
                <a:cubicBezTo>
                  <a:pt x="228" y="43"/>
                  <a:pt x="230" y="42"/>
                  <a:pt x="228" y="41"/>
                </a:cubicBezTo>
                <a:cubicBezTo>
                  <a:pt x="226" y="43"/>
                  <a:pt x="226" y="43"/>
                  <a:pt x="226" y="43"/>
                </a:cubicBezTo>
                <a:cubicBezTo>
                  <a:pt x="226" y="42"/>
                  <a:pt x="225" y="42"/>
                  <a:pt x="225" y="41"/>
                </a:cubicBezTo>
                <a:cubicBezTo>
                  <a:pt x="225" y="42"/>
                  <a:pt x="224" y="42"/>
                  <a:pt x="223" y="42"/>
                </a:cubicBezTo>
                <a:cubicBezTo>
                  <a:pt x="223" y="39"/>
                  <a:pt x="225" y="39"/>
                  <a:pt x="227" y="38"/>
                </a:cubicBezTo>
                <a:cubicBezTo>
                  <a:pt x="229" y="39"/>
                  <a:pt x="230" y="35"/>
                  <a:pt x="233" y="36"/>
                </a:cubicBezTo>
                <a:cubicBezTo>
                  <a:pt x="235" y="34"/>
                  <a:pt x="238" y="34"/>
                  <a:pt x="239" y="32"/>
                </a:cubicBezTo>
                <a:cubicBezTo>
                  <a:pt x="241" y="32"/>
                  <a:pt x="244" y="31"/>
                  <a:pt x="244" y="34"/>
                </a:cubicBezTo>
                <a:close/>
                <a:moveTo>
                  <a:pt x="299" y="39"/>
                </a:moveTo>
                <a:cubicBezTo>
                  <a:pt x="297" y="44"/>
                  <a:pt x="297" y="44"/>
                  <a:pt x="297" y="44"/>
                </a:cubicBezTo>
                <a:cubicBezTo>
                  <a:pt x="295" y="44"/>
                  <a:pt x="291" y="44"/>
                  <a:pt x="292" y="41"/>
                </a:cubicBezTo>
                <a:cubicBezTo>
                  <a:pt x="292" y="41"/>
                  <a:pt x="293" y="41"/>
                  <a:pt x="293" y="40"/>
                </a:cubicBezTo>
                <a:cubicBezTo>
                  <a:pt x="292" y="38"/>
                  <a:pt x="294" y="36"/>
                  <a:pt x="295" y="34"/>
                </a:cubicBezTo>
                <a:cubicBezTo>
                  <a:pt x="298" y="34"/>
                  <a:pt x="296" y="38"/>
                  <a:pt x="299" y="39"/>
                </a:cubicBezTo>
                <a:close/>
                <a:moveTo>
                  <a:pt x="271" y="44"/>
                </a:moveTo>
                <a:cubicBezTo>
                  <a:pt x="271" y="44"/>
                  <a:pt x="271" y="44"/>
                  <a:pt x="271" y="44"/>
                </a:cubicBezTo>
                <a:cubicBezTo>
                  <a:pt x="270" y="42"/>
                  <a:pt x="272" y="41"/>
                  <a:pt x="272" y="39"/>
                </a:cubicBezTo>
                <a:cubicBezTo>
                  <a:pt x="272" y="40"/>
                  <a:pt x="273" y="43"/>
                  <a:pt x="271" y="44"/>
                </a:cubicBezTo>
                <a:close/>
                <a:moveTo>
                  <a:pt x="282" y="40"/>
                </a:moveTo>
                <a:cubicBezTo>
                  <a:pt x="282" y="42"/>
                  <a:pt x="282" y="42"/>
                  <a:pt x="282" y="42"/>
                </a:cubicBezTo>
                <a:cubicBezTo>
                  <a:pt x="281" y="43"/>
                  <a:pt x="280" y="41"/>
                  <a:pt x="279" y="40"/>
                </a:cubicBezTo>
                <a:cubicBezTo>
                  <a:pt x="280" y="40"/>
                  <a:pt x="281" y="40"/>
                  <a:pt x="282" y="40"/>
                </a:cubicBezTo>
                <a:close/>
                <a:moveTo>
                  <a:pt x="346" y="43"/>
                </a:moveTo>
                <a:cubicBezTo>
                  <a:pt x="346" y="45"/>
                  <a:pt x="346" y="45"/>
                  <a:pt x="346" y="45"/>
                </a:cubicBezTo>
                <a:cubicBezTo>
                  <a:pt x="346" y="45"/>
                  <a:pt x="345" y="45"/>
                  <a:pt x="344" y="44"/>
                </a:cubicBezTo>
                <a:cubicBezTo>
                  <a:pt x="345" y="43"/>
                  <a:pt x="345" y="43"/>
                  <a:pt x="345" y="43"/>
                </a:cubicBezTo>
                <a:cubicBezTo>
                  <a:pt x="345" y="43"/>
                  <a:pt x="346" y="43"/>
                  <a:pt x="346" y="43"/>
                </a:cubicBezTo>
                <a:close/>
                <a:moveTo>
                  <a:pt x="244" y="44"/>
                </a:moveTo>
                <a:cubicBezTo>
                  <a:pt x="244" y="46"/>
                  <a:pt x="244" y="46"/>
                  <a:pt x="244" y="46"/>
                </a:cubicBezTo>
                <a:cubicBezTo>
                  <a:pt x="247" y="46"/>
                  <a:pt x="247" y="48"/>
                  <a:pt x="247" y="51"/>
                </a:cubicBezTo>
                <a:cubicBezTo>
                  <a:pt x="246" y="51"/>
                  <a:pt x="246" y="51"/>
                  <a:pt x="246" y="51"/>
                </a:cubicBezTo>
                <a:cubicBezTo>
                  <a:pt x="249" y="52"/>
                  <a:pt x="244" y="54"/>
                  <a:pt x="247" y="55"/>
                </a:cubicBezTo>
                <a:cubicBezTo>
                  <a:pt x="249" y="54"/>
                  <a:pt x="251" y="57"/>
                  <a:pt x="252" y="55"/>
                </a:cubicBezTo>
                <a:cubicBezTo>
                  <a:pt x="251" y="52"/>
                  <a:pt x="253" y="52"/>
                  <a:pt x="254" y="50"/>
                </a:cubicBezTo>
                <a:cubicBezTo>
                  <a:pt x="253" y="50"/>
                  <a:pt x="254" y="48"/>
                  <a:pt x="253" y="47"/>
                </a:cubicBezTo>
                <a:cubicBezTo>
                  <a:pt x="255" y="46"/>
                  <a:pt x="256" y="46"/>
                  <a:pt x="257" y="44"/>
                </a:cubicBezTo>
                <a:cubicBezTo>
                  <a:pt x="259" y="46"/>
                  <a:pt x="256" y="48"/>
                  <a:pt x="257" y="50"/>
                </a:cubicBezTo>
                <a:cubicBezTo>
                  <a:pt x="257" y="50"/>
                  <a:pt x="256" y="51"/>
                  <a:pt x="256" y="52"/>
                </a:cubicBezTo>
                <a:cubicBezTo>
                  <a:pt x="256" y="52"/>
                  <a:pt x="256" y="53"/>
                  <a:pt x="257" y="52"/>
                </a:cubicBezTo>
                <a:cubicBezTo>
                  <a:pt x="255" y="54"/>
                  <a:pt x="255" y="54"/>
                  <a:pt x="255" y="54"/>
                </a:cubicBezTo>
                <a:cubicBezTo>
                  <a:pt x="256" y="56"/>
                  <a:pt x="257" y="53"/>
                  <a:pt x="258" y="54"/>
                </a:cubicBezTo>
                <a:cubicBezTo>
                  <a:pt x="258" y="55"/>
                  <a:pt x="258" y="55"/>
                  <a:pt x="257" y="55"/>
                </a:cubicBezTo>
                <a:cubicBezTo>
                  <a:pt x="258" y="56"/>
                  <a:pt x="258" y="56"/>
                  <a:pt x="258" y="56"/>
                </a:cubicBezTo>
                <a:cubicBezTo>
                  <a:pt x="259" y="56"/>
                  <a:pt x="259" y="54"/>
                  <a:pt x="260" y="54"/>
                </a:cubicBezTo>
                <a:cubicBezTo>
                  <a:pt x="261" y="53"/>
                  <a:pt x="261" y="54"/>
                  <a:pt x="262" y="55"/>
                </a:cubicBezTo>
                <a:cubicBezTo>
                  <a:pt x="259" y="58"/>
                  <a:pt x="258" y="64"/>
                  <a:pt x="252" y="62"/>
                </a:cubicBezTo>
                <a:cubicBezTo>
                  <a:pt x="253" y="62"/>
                  <a:pt x="252" y="61"/>
                  <a:pt x="252" y="61"/>
                </a:cubicBezTo>
                <a:cubicBezTo>
                  <a:pt x="251" y="61"/>
                  <a:pt x="251" y="61"/>
                  <a:pt x="251" y="62"/>
                </a:cubicBezTo>
                <a:cubicBezTo>
                  <a:pt x="249" y="59"/>
                  <a:pt x="247" y="62"/>
                  <a:pt x="244" y="61"/>
                </a:cubicBezTo>
                <a:cubicBezTo>
                  <a:pt x="243" y="64"/>
                  <a:pt x="239" y="62"/>
                  <a:pt x="236" y="63"/>
                </a:cubicBezTo>
                <a:cubicBezTo>
                  <a:pt x="236" y="62"/>
                  <a:pt x="234" y="61"/>
                  <a:pt x="235" y="60"/>
                </a:cubicBezTo>
                <a:cubicBezTo>
                  <a:pt x="238" y="59"/>
                  <a:pt x="242" y="60"/>
                  <a:pt x="245" y="58"/>
                </a:cubicBezTo>
                <a:cubicBezTo>
                  <a:pt x="243" y="58"/>
                  <a:pt x="241" y="56"/>
                  <a:pt x="239" y="57"/>
                </a:cubicBezTo>
                <a:cubicBezTo>
                  <a:pt x="239" y="56"/>
                  <a:pt x="239" y="56"/>
                  <a:pt x="238" y="55"/>
                </a:cubicBezTo>
                <a:cubicBezTo>
                  <a:pt x="237" y="56"/>
                  <a:pt x="236" y="57"/>
                  <a:pt x="235" y="57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3" y="56"/>
                  <a:pt x="233" y="56"/>
                  <a:pt x="233" y="56"/>
                </a:cubicBezTo>
                <a:cubicBezTo>
                  <a:pt x="233" y="54"/>
                  <a:pt x="230" y="55"/>
                  <a:pt x="231" y="52"/>
                </a:cubicBezTo>
                <a:cubicBezTo>
                  <a:pt x="233" y="50"/>
                  <a:pt x="236" y="54"/>
                  <a:pt x="237" y="51"/>
                </a:cubicBezTo>
                <a:cubicBezTo>
                  <a:pt x="237" y="50"/>
                  <a:pt x="235" y="50"/>
                  <a:pt x="234" y="50"/>
                </a:cubicBezTo>
                <a:cubicBezTo>
                  <a:pt x="234" y="49"/>
                  <a:pt x="235" y="49"/>
                  <a:pt x="235" y="48"/>
                </a:cubicBezTo>
                <a:cubicBezTo>
                  <a:pt x="237" y="48"/>
                  <a:pt x="238" y="49"/>
                  <a:pt x="239" y="48"/>
                </a:cubicBezTo>
                <a:cubicBezTo>
                  <a:pt x="237" y="47"/>
                  <a:pt x="237" y="47"/>
                  <a:pt x="237" y="47"/>
                </a:cubicBezTo>
                <a:cubicBezTo>
                  <a:pt x="237" y="45"/>
                  <a:pt x="239" y="44"/>
                  <a:pt x="240" y="46"/>
                </a:cubicBezTo>
                <a:cubicBezTo>
                  <a:pt x="240" y="43"/>
                  <a:pt x="243" y="44"/>
                  <a:pt x="244" y="44"/>
                </a:cubicBezTo>
                <a:close/>
                <a:moveTo>
                  <a:pt x="235" y="45"/>
                </a:moveTo>
                <a:cubicBezTo>
                  <a:pt x="233" y="46"/>
                  <a:pt x="231" y="50"/>
                  <a:pt x="228" y="48"/>
                </a:cubicBezTo>
                <a:cubicBezTo>
                  <a:pt x="230" y="46"/>
                  <a:pt x="232" y="46"/>
                  <a:pt x="235" y="45"/>
                </a:cubicBezTo>
                <a:close/>
                <a:moveTo>
                  <a:pt x="299" y="49"/>
                </a:moveTo>
                <a:cubicBezTo>
                  <a:pt x="297" y="52"/>
                  <a:pt x="294" y="48"/>
                  <a:pt x="292" y="48"/>
                </a:cubicBezTo>
                <a:cubicBezTo>
                  <a:pt x="293" y="44"/>
                  <a:pt x="297" y="47"/>
                  <a:pt x="299" y="49"/>
                </a:cubicBezTo>
                <a:close/>
                <a:moveTo>
                  <a:pt x="269" y="51"/>
                </a:moveTo>
                <a:cubicBezTo>
                  <a:pt x="269" y="52"/>
                  <a:pt x="269" y="52"/>
                  <a:pt x="269" y="52"/>
                </a:cubicBezTo>
                <a:cubicBezTo>
                  <a:pt x="268" y="52"/>
                  <a:pt x="268" y="51"/>
                  <a:pt x="268" y="50"/>
                </a:cubicBezTo>
                <a:cubicBezTo>
                  <a:pt x="269" y="49"/>
                  <a:pt x="269" y="51"/>
                  <a:pt x="269" y="51"/>
                </a:cubicBezTo>
                <a:close/>
                <a:moveTo>
                  <a:pt x="277" y="51"/>
                </a:moveTo>
                <a:cubicBezTo>
                  <a:pt x="276" y="51"/>
                  <a:pt x="276" y="52"/>
                  <a:pt x="275" y="51"/>
                </a:cubicBezTo>
                <a:cubicBezTo>
                  <a:pt x="275" y="50"/>
                  <a:pt x="276" y="51"/>
                  <a:pt x="277" y="51"/>
                </a:cubicBezTo>
                <a:close/>
                <a:moveTo>
                  <a:pt x="304" y="51"/>
                </a:moveTo>
                <a:cubicBezTo>
                  <a:pt x="304" y="52"/>
                  <a:pt x="304" y="52"/>
                  <a:pt x="304" y="52"/>
                </a:cubicBezTo>
                <a:cubicBezTo>
                  <a:pt x="304" y="53"/>
                  <a:pt x="304" y="53"/>
                  <a:pt x="304" y="54"/>
                </a:cubicBezTo>
                <a:cubicBezTo>
                  <a:pt x="302" y="54"/>
                  <a:pt x="302" y="54"/>
                  <a:pt x="302" y="54"/>
                </a:cubicBezTo>
                <a:cubicBezTo>
                  <a:pt x="302" y="52"/>
                  <a:pt x="302" y="51"/>
                  <a:pt x="304" y="51"/>
                </a:cubicBezTo>
                <a:close/>
                <a:moveTo>
                  <a:pt x="280" y="55"/>
                </a:moveTo>
                <a:cubicBezTo>
                  <a:pt x="280" y="54"/>
                  <a:pt x="281" y="53"/>
                  <a:pt x="282" y="54"/>
                </a:cubicBezTo>
                <a:cubicBezTo>
                  <a:pt x="283" y="57"/>
                  <a:pt x="280" y="60"/>
                  <a:pt x="278" y="62"/>
                </a:cubicBezTo>
                <a:cubicBezTo>
                  <a:pt x="279" y="63"/>
                  <a:pt x="279" y="63"/>
                  <a:pt x="279" y="63"/>
                </a:cubicBezTo>
                <a:cubicBezTo>
                  <a:pt x="278" y="64"/>
                  <a:pt x="276" y="63"/>
                  <a:pt x="276" y="64"/>
                </a:cubicBezTo>
                <a:cubicBezTo>
                  <a:pt x="276" y="66"/>
                  <a:pt x="275" y="66"/>
                  <a:pt x="274" y="67"/>
                </a:cubicBezTo>
                <a:cubicBezTo>
                  <a:pt x="273" y="66"/>
                  <a:pt x="271" y="66"/>
                  <a:pt x="269" y="66"/>
                </a:cubicBezTo>
                <a:cubicBezTo>
                  <a:pt x="270" y="65"/>
                  <a:pt x="271" y="64"/>
                  <a:pt x="270" y="63"/>
                </a:cubicBezTo>
                <a:cubicBezTo>
                  <a:pt x="275" y="62"/>
                  <a:pt x="275" y="62"/>
                  <a:pt x="275" y="62"/>
                </a:cubicBezTo>
                <a:cubicBezTo>
                  <a:pt x="273" y="60"/>
                  <a:pt x="270" y="60"/>
                  <a:pt x="268" y="60"/>
                </a:cubicBezTo>
                <a:cubicBezTo>
                  <a:pt x="269" y="58"/>
                  <a:pt x="269" y="58"/>
                  <a:pt x="269" y="58"/>
                </a:cubicBezTo>
                <a:cubicBezTo>
                  <a:pt x="269" y="57"/>
                  <a:pt x="268" y="58"/>
                  <a:pt x="268" y="58"/>
                </a:cubicBezTo>
                <a:cubicBezTo>
                  <a:pt x="267" y="58"/>
                  <a:pt x="267" y="58"/>
                  <a:pt x="267" y="58"/>
                </a:cubicBezTo>
                <a:cubicBezTo>
                  <a:pt x="269" y="56"/>
                  <a:pt x="269" y="56"/>
                  <a:pt x="269" y="56"/>
                </a:cubicBezTo>
                <a:cubicBezTo>
                  <a:pt x="267" y="54"/>
                  <a:pt x="267" y="54"/>
                  <a:pt x="267" y="54"/>
                </a:cubicBezTo>
                <a:cubicBezTo>
                  <a:pt x="267" y="53"/>
                  <a:pt x="269" y="54"/>
                  <a:pt x="269" y="54"/>
                </a:cubicBezTo>
                <a:cubicBezTo>
                  <a:pt x="271" y="55"/>
                  <a:pt x="267" y="57"/>
                  <a:pt x="270" y="59"/>
                </a:cubicBezTo>
                <a:cubicBezTo>
                  <a:pt x="271" y="57"/>
                  <a:pt x="273" y="56"/>
                  <a:pt x="272" y="54"/>
                </a:cubicBezTo>
                <a:cubicBezTo>
                  <a:pt x="274" y="55"/>
                  <a:pt x="274" y="57"/>
                  <a:pt x="275" y="59"/>
                </a:cubicBezTo>
                <a:cubicBezTo>
                  <a:pt x="277" y="57"/>
                  <a:pt x="273" y="52"/>
                  <a:pt x="278" y="52"/>
                </a:cubicBezTo>
                <a:cubicBezTo>
                  <a:pt x="280" y="55"/>
                  <a:pt x="280" y="55"/>
                  <a:pt x="280" y="55"/>
                </a:cubicBezTo>
                <a:close/>
                <a:moveTo>
                  <a:pt x="293" y="54"/>
                </a:moveTo>
                <a:cubicBezTo>
                  <a:pt x="294" y="55"/>
                  <a:pt x="293" y="59"/>
                  <a:pt x="296" y="58"/>
                </a:cubicBezTo>
                <a:cubicBezTo>
                  <a:pt x="297" y="57"/>
                  <a:pt x="298" y="57"/>
                  <a:pt x="299" y="59"/>
                </a:cubicBezTo>
                <a:cubicBezTo>
                  <a:pt x="297" y="60"/>
                  <a:pt x="297" y="60"/>
                  <a:pt x="297" y="60"/>
                </a:cubicBezTo>
                <a:cubicBezTo>
                  <a:pt x="300" y="63"/>
                  <a:pt x="300" y="63"/>
                  <a:pt x="300" y="63"/>
                </a:cubicBezTo>
                <a:cubicBezTo>
                  <a:pt x="299" y="63"/>
                  <a:pt x="298" y="62"/>
                  <a:pt x="296" y="62"/>
                </a:cubicBezTo>
                <a:cubicBezTo>
                  <a:pt x="296" y="62"/>
                  <a:pt x="296" y="62"/>
                  <a:pt x="296" y="63"/>
                </a:cubicBezTo>
                <a:cubicBezTo>
                  <a:pt x="296" y="63"/>
                  <a:pt x="296" y="63"/>
                  <a:pt x="296" y="63"/>
                </a:cubicBezTo>
                <a:cubicBezTo>
                  <a:pt x="296" y="63"/>
                  <a:pt x="295" y="63"/>
                  <a:pt x="295" y="64"/>
                </a:cubicBezTo>
                <a:cubicBezTo>
                  <a:pt x="294" y="64"/>
                  <a:pt x="295" y="65"/>
                  <a:pt x="296" y="65"/>
                </a:cubicBezTo>
                <a:cubicBezTo>
                  <a:pt x="297" y="65"/>
                  <a:pt x="297" y="65"/>
                  <a:pt x="297" y="65"/>
                </a:cubicBezTo>
                <a:cubicBezTo>
                  <a:pt x="298" y="66"/>
                  <a:pt x="297" y="68"/>
                  <a:pt x="298" y="69"/>
                </a:cubicBezTo>
                <a:cubicBezTo>
                  <a:pt x="299" y="68"/>
                  <a:pt x="299" y="68"/>
                  <a:pt x="299" y="68"/>
                </a:cubicBezTo>
                <a:cubicBezTo>
                  <a:pt x="300" y="70"/>
                  <a:pt x="303" y="69"/>
                  <a:pt x="304" y="71"/>
                </a:cubicBezTo>
                <a:cubicBezTo>
                  <a:pt x="305" y="70"/>
                  <a:pt x="305" y="70"/>
                  <a:pt x="305" y="70"/>
                </a:cubicBezTo>
                <a:cubicBezTo>
                  <a:pt x="307" y="71"/>
                  <a:pt x="309" y="70"/>
                  <a:pt x="311" y="70"/>
                </a:cubicBezTo>
                <a:cubicBezTo>
                  <a:pt x="312" y="72"/>
                  <a:pt x="314" y="70"/>
                  <a:pt x="316" y="71"/>
                </a:cubicBezTo>
                <a:cubicBezTo>
                  <a:pt x="316" y="73"/>
                  <a:pt x="319" y="73"/>
                  <a:pt x="319" y="76"/>
                </a:cubicBezTo>
                <a:cubicBezTo>
                  <a:pt x="318" y="77"/>
                  <a:pt x="317" y="76"/>
                  <a:pt x="316" y="78"/>
                </a:cubicBezTo>
                <a:cubicBezTo>
                  <a:pt x="317" y="78"/>
                  <a:pt x="317" y="78"/>
                  <a:pt x="317" y="78"/>
                </a:cubicBezTo>
                <a:cubicBezTo>
                  <a:pt x="318" y="79"/>
                  <a:pt x="317" y="79"/>
                  <a:pt x="317" y="79"/>
                </a:cubicBezTo>
                <a:cubicBezTo>
                  <a:pt x="316" y="79"/>
                  <a:pt x="316" y="79"/>
                  <a:pt x="316" y="79"/>
                </a:cubicBezTo>
                <a:cubicBezTo>
                  <a:pt x="315" y="80"/>
                  <a:pt x="314" y="82"/>
                  <a:pt x="312" y="80"/>
                </a:cubicBezTo>
                <a:cubicBezTo>
                  <a:pt x="311" y="81"/>
                  <a:pt x="310" y="81"/>
                  <a:pt x="309" y="80"/>
                </a:cubicBezTo>
                <a:cubicBezTo>
                  <a:pt x="308" y="80"/>
                  <a:pt x="308" y="80"/>
                  <a:pt x="308" y="80"/>
                </a:cubicBezTo>
                <a:cubicBezTo>
                  <a:pt x="309" y="79"/>
                  <a:pt x="309" y="78"/>
                  <a:pt x="309" y="78"/>
                </a:cubicBezTo>
                <a:cubicBezTo>
                  <a:pt x="308" y="77"/>
                  <a:pt x="308" y="77"/>
                  <a:pt x="308" y="77"/>
                </a:cubicBezTo>
                <a:cubicBezTo>
                  <a:pt x="307" y="78"/>
                  <a:pt x="308" y="79"/>
                  <a:pt x="307" y="80"/>
                </a:cubicBezTo>
                <a:cubicBezTo>
                  <a:pt x="304" y="79"/>
                  <a:pt x="301" y="78"/>
                  <a:pt x="299" y="79"/>
                </a:cubicBezTo>
                <a:cubicBezTo>
                  <a:pt x="297" y="78"/>
                  <a:pt x="297" y="78"/>
                  <a:pt x="297" y="78"/>
                </a:cubicBezTo>
                <a:cubicBezTo>
                  <a:pt x="297" y="78"/>
                  <a:pt x="297" y="78"/>
                  <a:pt x="297" y="78"/>
                </a:cubicBezTo>
                <a:cubicBezTo>
                  <a:pt x="297" y="77"/>
                  <a:pt x="296" y="78"/>
                  <a:pt x="295" y="78"/>
                </a:cubicBezTo>
                <a:cubicBezTo>
                  <a:pt x="295" y="76"/>
                  <a:pt x="296" y="76"/>
                  <a:pt x="296" y="75"/>
                </a:cubicBezTo>
                <a:cubicBezTo>
                  <a:pt x="294" y="74"/>
                  <a:pt x="290" y="77"/>
                  <a:pt x="290" y="74"/>
                </a:cubicBezTo>
                <a:cubicBezTo>
                  <a:pt x="289" y="74"/>
                  <a:pt x="289" y="74"/>
                  <a:pt x="289" y="74"/>
                </a:cubicBezTo>
                <a:cubicBezTo>
                  <a:pt x="288" y="72"/>
                  <a:pt x="290" y="70"/>
                  <a:pt x="290" y="68"/>
                </a:cubicBezTo>
                <a:cubicBezTo>
                  <a:pt x="294" y="67"/>
                  <a:pt x="293" y="63"/>
                  <a:pt x="293" y="60"/>
                </a:cubicBezTo>
                <a:cubicBezTo>
                  <a:pt x="293" y="60"/>
                  <a:pt x="292" y="59"/>
                  <a:pt x="292" y="59"/>
                </a:cubicBezTo>
                <a:cubicBezTo>
                  <a:pt x="291" y="60"/>
                  <a:pt x="291" y="60"/>
                  <a:pt x="291" y="60"/>
                </a:cubicBezTo>
                <a:cubicBezTo>
                  <a:pt x="290" y="59"/>
                  <a:pt x="289" y="58"/>
                  <a:pt x="288" y="58"/>
                </a:cubicBezTo>
                <a:cubicBezTo>
                  <a:pt x="289" y="57"/>
                  <a:pt x="287" y="56"/>
                  <a:pt x="288" y="55"/>
                </a:cubicBezTo>
                <a:cubicBezTo>
                  <a:pt x="286" y="54"/>
                  <a:pt x="287" y="53"/>
                  <a:pt x="288" y="52"/>
                </a:cubicBezTo>
                <a:cubicBezTo>
                  <a:pt x="290" y="51"/>
                  <a:pt x="292" y="52"/>
                  <a:pt x="293" y="54"/>
                </a:cubicBezTo>
                <a:close/>
                <a:moveTo>
                  <a:pt x="324" y="56"/>
                </a:moveTo>
                <a:cubicBezTo>
                  <a:pt x="322" y="57"/>
                  <a:pt x="324" y="58"/>
                  <a:pt x="325" y="60"/>
                </a:cubicBezTo>
                <a:cubicBezTo>
                  <a:pt x="323" y="58"/>
                  <a:pt x="323" y="58"/>
                  <a:pt x="323" y="58"/>
                </a:cubicBezTo>
                <a:cubicBezTo>
                  <a:pt x="322" y="59"/>
                  <a:pt x="322" y="59"/>
                  <a:pt x="322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59"/>
                  <a:pt x="322" y="56"/>
                  <a:pt x="324" y="56"/>
                </a:cubicBezTo>
                <a:close/>
                <a:moveTo>
                  <a:pt x="224" y="61"/>
                </a:moveTo>
                <a:cubicBezTo>
                  <a:pt x="224" y="62"/>
                  <a:pt x="225" y="63"/>
                  <a:pt x="226" y="64"/>
                </a:cubicBezTo>
                <a:cubicBezTo>
                  <a:pt x="225" y="65"/>
                  <a:pt x="227" y="70"/>
                  <a:pt x="224" y="70"/>
                </a:cubicBezTo>
                <a:cubicBezTo>
                  <a:pt x="219" y="72"/>
                  <a:pt x="213" y="70"/>
                  <a:pt x="210" y="76"/>
                </a:cubicBezTo>
                <a:cubicBezTo>
                  <a:pt x="209" y="76"/>
                  <a:pt x="208" y="76"/>
                  <a:pt x="208" y="75"/>
                </a:cubicBezTo>
                <a:cubicBezTo>
                  <a:pt x="205" y="76"/>
                  <a:pt x="205" y="82"/>
                  <a:pt x="201" y="81"/>
                </a:cubicBezTo>
                <a:cubicBezTo>
                  <a:pt x="202" y="80"/>
                  <a:pt x="202" y="80"/>
                  <a:pt x="202" y="80"/>
                </a:cubicBezTo>
                <a:cubicBezTo>
                  <a:pt x="200" y="80"/>
                  <a:pt x="198" y="81"/>
                  <a:pt x="196" y="82"/>
                </a:cubicBezTo>
                <a:cubicBezTo>
                  <a:pt x="196" y="81"/>
                  <a:pt x="195" y="80"/>
                  <a:pt x="196" y="79"/>
                </a:cubicBezTo>
                <a:cubicBezTo>
                  <a:pt x="196" y="79"/>
                  <a:pt x="196" y="79"/>
                  <a:pt x="196" y="79"/>
                </a:cubicBezTo>
                <a:cubicBezTo>
                  <a:pt x="197" y="77"/>
                  <a:pt x="195" y="76"/>
                  <a:pt x="195" y="74"/>
                </a:cubicBezTo>
                <a:cubicBezTo>
                  <a:pt x="194" y="74"/>
                  <a:pt x="194" y="74"/>
                  <a:pt x="194" y="74"/>
                </a:cubicBezTo>
                <a:cubicBezTo>
                  <a:pt x="196" y="72"/>
                  <a:pt x="199" y="71"/>
                  <a:pt x="200" y="68"/>
                </a:cubicBezTo>
                <a:cubicBezTo>
                  <a:pt x="201" y="69"/>
                  <a:pt x="201" y="69"/>
                  <a:pt x="201" y="69"/>
                </a:cubicBezTo>
                <a:cubicBezTo>
                  <a:pt x="202" y="68"/>
                  <a:pt x="202" y="67"/>
                  <a:pt x="202" y="66"/>
                </a:cubicBezTo>
                <a:cubicBezTo>
                  <a:pt x="210" y="65"/>
                  <a:pt x="205" y="53"/>
                  <a:pt x="215" y="57"/>
                </a:cubicBezTo>
                <a:cubicBezTo>
                  <a:pt x="218" y="58"/>
                  <a:pt x="220" y="63"/>
                  <a:pt x="224" y="61"/>
                </a:cubicBezTo>
                <a:close/>
                <a:moveTo>
                  <a:pt x="300" y="60"/>
                </a:moveTo>
                <a:cubicBezTo>
                  <a:pt x="300" y="60"/>
                  <a:pt x="301" y="59"/>
                  <a:pt x="300" y="58"/>
                </a:cubicBezTo>
                <a:cubicBezTo>
                  <a:pt x="300" y="58"/>
                  <a:pt x="300" y="58"/>
                  <a:pt x="300" y="58"/>
                </a:cubicBezTo>
                <a:cubicBezTo>
                  <a:pt x="301" y="58"/>
                  <a:pt x="301" y="60"/>
                  <a:pt x="300" y="60"/>
                </a:cubicBezTo>
                <a:close/>
                <a:moveTo>
                  <a:pt x="262" y="60"/>
                </a:moveTo>
                <a:cubicBezTo>
                  <a:pt x="262" y="61"/>
                  <a:pt x="263" y="62"/>
                  <a:pt x="261" y="63"/>
                </a:cubicBezTo>
                <a:cubicBezTo>
                  <a:pt x="261" y="63"/>
                  <a:pt x="261" y="62"/>
                  <a:pt x="260" y="62"/>
                </a:cubicBezTo>
                <a:cubicBezTo>
                  <a:pt x="260" y="61"/>
                  <a:pt x="261" y="60"/>
                  <a:pt x="262" y="60"/>
                </a:cubicBezTo>
                <a:close/>
                <a:moveTo>
                  <a:pt x="285" y="67"/>
                </a:moveTo>
                <a:cubicBezTo>
                  <a:pt x="285" y="69"/>
                  <a:pt x="284" y="71"/>
                  <a:pt x="283" y="73"/>
                </a:cubicBezTo>
                <a:cubicBezTo>
                  <a:pt x="282" y="71"/>
                  <a:pt x="279" y="71"/>
                  <a:pt x="279" y="68"/>
                </a:cubicBezTo>
                <a:cubicBezTo>
                  <a:pt x="281" y="67"/>
                  <a:pt x="284" y="62"/>
                  <a:pt x="285" y="67"/>
                </a:cubicBezTo>
                <a:close/>
                <a:moveTo>
                  <a:pt x="227" y="71"/>
                </a:moveTo>
                <a:cubicBezTo>
                  <a:pt x="227" y="73"/>
                  <a:pt x="225" y="76"/>
                  <a:pt x="223" y="76"/>
                </a:cubicBezTo>
                <a:cubicBezTo>
                  <a:pt x="226" y="78"/>
                  <a:pt x="226" y="75"/>
                  <a:pt x="228" y="75"/>
                </a:cubicBezTo>
                <a:cubicBezTo>
                  <a:pt x="232" y="78"/>
                  <a:pt x="232" y="78"/>
                  <a:pt x="232" y="78"/>
                </a:cubicBezTo>
                <a:cubicBezTo>
                  <a:pt x="231" y="81"/>
                  <a:pt x="228" y="78"/>
                  <a:pt x="228" y="80"/>
                </a:cubicBezTo>
                <a:cubicBezTo>
                  <a:pt x="230" y="82"/>
                  <a:pt x="232" y="80"/>
                  <a:pt x="234" y="82"/>
                </a:cubicBezTo>
                <a:cubicBezTo>
                  <a:pt x="234" y="80"/>
                  <a:pt x="236" y="79"/>
                  <a:pt x="235" y="77"/>
                </a:cubicBezTo>
                <a:cubicBezTo>
                  <a:pt x="237" y="78"/>
                  <a:pt x="236" y="80"/>
                  <a:pt x="237" y="80"/>
                </a:cubicBezTo>
                <a:cubicBezTo>
                  <a:pt x="237" y="81"/>
                  <a:pt x="236" y="81"/>
                  <a:pt x="236" y="82"/>
                </a:cubicBezTo>
                <a:cubicBezTo>
                  <a:pt x="237" y="82"/>
                  <a:pt x="237" y="82"/>
                  <a:pt x="237" y="82"/>
                </a:cubicBezTo>
                <a:cubicBezTo>
                  <a:pt x="236" y="85"/>
                  <a:pt x="234" y="86"/>
                  <a:pt x="235" y="90"/>
                </a:cubicBezTo>
                <a:cubicBezTo>
                  <a:pt x="235" y="91"/>
                  <a:pt x="236" y="89"/>
                  <a:pt x="237" y="90"/>
                </a:cubicBezTo>
                <a:cubicBezTo>
                  <a:pt x="237" y="85"/>
                  <a:pt x="240" y="82"/>
                  <a:pt x="241" y="78"/>
                </a:cubicBezTo>
                <a:cubicBezTo>
                  <a:pt x="241" y="77"/>
                  <a:pt x="242" y="77"/>
                  <a:pt x="242" y="76"/>
                </a:cubicBezTo>
                <a:cubicBezTo>
                  <a:pt x="243" y="75"/>
                  <a:pt x="244" y="76"/>
                  <a:pt x="244" y="77"/>
                </a:cubicBezTo>
                <a:cubicBezTo>
                  <a:pt x="245" y="76"/>
                  <a:pt x="245" y="76"/>
                  <a:pt x="245" y="76"/>
                </a:cubicBezTo>
                <a:cubicBezTo>
                  <a:pt x="249" y="82"/>
                  <a:pt x="242" y="87"/>
                  <a:pt x="243" y="92"/>
                </a:cubicBezTo>
                <a:cubicBezTo>
                  <a:pt x="240" y="94"/>
                  <a:pt x="243" y="97"/>
                  <a:pt x="243" y="99"/>
                </a:cubicBezTo>
                <a:cubicBezTo>
                  <a:pt x="243" y="99"/>
                  <a:pt x="244" y="99"/>
                  <a:pt x="244" y="99"/>
                </a:cubicBezTo>
                <a:cubicBezTo>
                  <a:pt x="243" y="103"/>
                  <a:pt x="249" y="105"/>
                  <a:pt x="245" y="108"/>
                </a:cubicBezTo>
                <a:cubicBezTo>
                  <a:pt x="244" y="107"/>
                  <a:pt x="244" y="105"/>
                  <a:pt x="242" y="105"/>
                </a:cubicBezTo>
                <a:cubicBezTo>
                  <a:pt x="240" y="107"/>
                  <a:pt x="240" y="107"/>
                  <a:pt x="240" y="107"/>
                </a:cubicBezTo>
                <a:cubicBezTo>
                  <a:pt x="239" y="106"/>
                  <a:pt x="239" y="106"/>
                  <a:pt x="239" y="106"/>
                </a:cubicBezTo>
                <a:cubicBezTo>
                  <a:pt x="238" y="106"/>
                  <a:pt x="239" y="108"/>
                  <a:pt x="239" y="108"/>
                </a:cubicBezTo>
                <a:cubicBezTo>
                  <a:pt x="239" y="109"/>
                  <a:pt x="241" y="109"/>
                  <a:pt x="241" y="108"/>
                </a:cubicBezTo>
                <a:cubicBezTo>
                  <a:pt x="242" y="109"/>
                  <a:pt x="241" y="109"/>
                  <a:pt x="241" y="109"/>
                </a:cubicBezTo>
                <a:cubicBezTo>
                  <a:pt x="242" y="110"/>
                  <a:pt x="241" y="111"/>
                  <a:pt x="241" y="112"/>
                </a:cubicBezTo>
                <a:cubicBezTo>
                  <a:pt x="238" y="113"/>
                  <a:pt x="236" y="112"/>
                  <a:pt x="233" y="111"/>
                </a:cubicBezTo>
                <a:cubicBezTo>
                  <a:pt x="233" y="111"/>
                  <a:pt x="233" y="111"/>
                  <a:pt x="233" y="111"/>
                </a:cubicBezTo>
                <a:cubicBezTo>
                  <a:pt x="233" y="111"/>
                  <a:pt x="232" y="110"/>
                  <a:pt x="232" y="111"/>
                </a:cubicBezTo>
                <a:cubicBezTo>
                  <a:pt x="232" y="110"/>
                  <a:pt x="233" y="110"/>
                  <a:pt x="232" y="109"/>
                </a:cubicBezTo>
                <a:cubicBezTo>
                  <a:pt x="230" y="108"/>
                  <a:pt x="230" y="108"/>
                  <a:pt x="230" y="108"/>
                </a:cubicBezTo>
                <a:cubicBezTo>
                  <a:pt x="231" y="107"/>
                  <a:pt x="231" y="107"/>
                  <a:pt x="231" y="106"/>
                </a:cubicBezTo>
                <a:cubicBezTo>
                  <a:pt x="229" y="105"/>
                  <a:pt x="227" y="108"/>
                  <a:pt x="226" y="108"/>
                </a:cubicBezTo>
                <a:cubicBezTo>
                  <a:pt x="223" y="108"/>
                  <a:pt x="221" y="109"/>
                  <a:pt x="219" y="110"/>
                </a:cubicBezTo>
                <a:cubicBezTo>
                  <a:pt x="216" y="109"/>
                  <a:pt x="213" y="110"/>
                  <a:pt x="210" y="109"/>
                </a:cubicBezTo>
                <a:cubicBezTo>
                  <a:pt x="207" y="106"/>
                  <a:pt x="215" y="104"/>
                  <a:pt x="210" y="102"/>
                </a:cubicBezTo>
                <a:cubicBezTo>
                  <a:pt x="208" y="102"/>
                  <a:pt x="206" y="102"/>
                  <a:pt x="205" y="100"/>
                </a:cubicBezTo>
                <a:cubicBezTo>
                  <a:pt x="204" y="98"/>
                  <a:pt x="205" y="97"/>
                  <a:pt x="206" y="95"/>
                </a:cubicBezTo>
                <a:cubicBezTo>
                  <a:pt x="211" y="93"/>
                  <a:pt x="216" y="98"/>
                  <a:pt x="222" y="97"/>
                </a:cubicBezTo>
                <a:cubicBezTo>
                  <a:pt x="219" y="90"/>
                  <a:pt x="211" y="92"/>
                  <a:pt x="207" y="90"/>
                </a:cubicBezTo>
                <a:cubicBezTo>
                  <a:pt x="206" y="88"/>
                  <a:pt x="207" y="85"/>
                  <a:pt x="209" y="86"/>
                </a:cubicBezTo>
                <a:cubicBezTo>
                  <a:pt x="211" y="86"/>
                  <a:pt x="214" y="86"/>
                  <a:pt x="216" y="86"/>
                </a:cubicBezTo>
                <a:cubicBezTo>
                  <a:pt x="216" y="85"/>
                  <a:pt x="217" y="85"/>
                  <a:pt x="216" y="84"/>
                </a:cubicBezTo>
                <a:cubicBezTo>
                  <a:pt x="214" y="83"/>
                  <a:pt x="212" y="85"/>
                  <a:pt x="209" y="83"/>
                </a:cubicBezTo>
                <a:cubicBezTo>
                  <a:pt x="209" y="83"/>
                  <a:pt x="209" y="83"/>
                  <a:pt x="209" y="83"/>
                </a:cubicBezTo>
                <a:cubicBezTo>
                  <a:pt x="210" y="83"/>
                  <a:pt x="210" y="83"/>
                  <a:pt x="210" y="83"/>
                </a:cubicBezTo>
                <a:cubicBezTo>
                  <a:pt x="211" y="82"/>
                  <a:pt x="211" y="82"/>
                  <a:pt x="211" y="82"/>
                </a:cubicBezTo>
                <a:cubicBezTo>
                  <a:pt x="208" y="81"/>
                  <a:pt x="208" y="81"/>
                  <a:pt x="208" y="81"/>
                </a:cubicBezTo>
                <a:cubicBezTo>
                  <a:pt x="212" y="78"/>
                  <a:pt x="214" y="74"/>
                  <a:pt x="220" y="72"/>
                </a:cubicBezTo>
                <a:cubicBezTo>
                  <a:pt x="222" y="72"/>
                  <a:pt x="224" y="71"/>
                  <a:pt x="227" y="71"/>
                </a:cubicBezTo>
                <a:close/>
                <a:moveTo>
                  <a:pt x="252" y="75"/>
                </a:moveTo>
                <a:cubicBezTo>
                  <a:pt x="253" y="78"/>
                  <a:pt x="250" y="78"/>
                  <a:pt x="248" y="80"/>
                </a:cubicBezTo>
                <a:cubicBezTo>
                  <a:pt x="246" y="79"/>
                  <a:pt x="249" y="76"/>
                  <a:pt x="246" y="75"/>
                </a:cubicBezTo>
                <a:cubicBezTo>
                  <a:pt x="247" y="72"/>
                  <a:pt x="250" y="73"/>
                  <a:pt x="252" y="74"/>
                </a:cubicBezTo>
                <a:cubicBezTo>
                  <a:pt x="252" y="75"/>
                  <a:pt x="252" y="75"/>
                  <a:pt x="252" y="75"/>
                </a:cubicBezTo>
                <a:close/>
                <a:moveTo>
                  <a:pt x="271" y="75"/>
                </a:moveTo>
                <a:cubicBezTo>
                  <a:pt x="271" y="76"/>
                  <a:pt x="269" y="77"/>
                  <a:pt x="268" y="76"/>
                </a:cubicBezTo>
                <a:cubicBezTo>
                  <a:pt x="267" y="76"/>
                  <a:pt x="267" y="76"/>
                  <a:pt x="267" y="76"/>
                </a:cubicBezTo>
                <a:cubicBezTo>
                  <a:pt x="268" y="75"/>
                  <a:pt x="268" y="75"/>
                  <a:pt x="268" y="75"/>
                </a:cubicBezTo>
                <a:cubicBezTo>
                  <a:pt x="269" y="77"/>
                  <a:pt x="270" y="74"/>
                  <a:pt x="271" y="75"/>
                </a:cubicBezTo>
                <a:close/>
                <a:moveTo>
                  <a:pt x="267" y="78"/>
                </a:moveTo>
                <a:cubicBezTo>
                  <a:pt x="268" y="78"/>
                  <a:pt x="270" y="77"/>
                  <a:pt x="271" y="78"/>
                </a:cubicBezTo>
                <a:cubicBezTo>
                  <a:pt x="271" y="79"/>
                  <a:pt x="271" y="79"/>
                  <a:pt x="271" y="79"/>
                </a:cubicBezTo>
                <a:cubicBezTo>
                  <a:pt x="271" y="79"/>
                  <a:pt x="270" y="79"/>
                  <a:pt x="269" y="80"/>
                </a:cubicBezTo>
                <a:cubicBezTo>
                  <a:pt x="270" y="82"/>
                  <a:pt x="266" y="82"/>
                  <a:pt x="265" y="84"/>
                </a:cubicBezTo>
                <a:cubicBezTo>
                  <a:pt x="268" y="85"/>
                  <a:pt x="268" y="85"/>
                  <a:pt x="268" y="85"/>
                </a:cubicBezTo>
                <a:cubicBezTo>
                  <a:pt x="269" y="86"/>
                  <a:pt x="266" y="87"/>
                  <a:pt x="268" y="88"/>
                </a:cubicBezTo>
                <a:cubicBezTo>
                  <a:pt x="268" y="87"/>
                  <a:pt x="268" y="87"/>
                  <a:pt x="268" y="87"/>
                </a:cubicBezTo>
                <a:cubicBezTo>
                  <a:pt x="269" y="88"/>
                  <a:pt x="269" y="88"/>
                  <a:pt x="269" y="88"/>
                </a:cubicBezTo>
                <a:cubicBezTo>
                  <a:pt x="269" y="90"/>
                  <a:pt x="266" y="90"/>
                  <a:pt x="266" y="93"/>
                </a:cubicBezTo>
                <a:cubicBezTo>
                  <a:pt x="264" y="94"/>
                  <a:pt x="263" y="96"/>
                  <a:pt x="261" y="95"/>
                </a:cubicBezTo>
                <a:cubicBezTo>
                  <a:pt x="261" y="96"/>
                  <a:pt x="259" y="97"/>
                  <a:pt x="259" y="97"/>
                </a:cubicBezTo>
                <a:cubicBezTo>
                  <a:pt x="257" y="94"/>
                  <a:pt x="258" y="89"/>
                  <a:pt x="253" y="87"/>
                </a:cubicBezTo>
                <a:cubicBezTo>
                  <a:pt x="255" y="85"/>
                  <a:pt x="253" y="81"/>
                  <a:pt x="257" y="82"/>
                </a:cubicBezTo>
                <a:cubicBezTo>
                  <a:pt x="257" y="83"/>
                  <a:pt x="258" y="85"/>
                  <a:pt x="259" y="86"/>
                </a:cubicBezTo>
                <a:cubicBezTo>
                  <a:pt x="261" y="85"/>
                  <a:pt x="261" y="84"/>
                  <a:pt x="261" y="82"/>
                </a:cubicBezTo>
                <a:cubicBezTo>
                  <a:pt x="262" y="82"/>
                  <a:pt x="262" y="82"/>
                  <a:pt x="263" y="82"/>
                </a:cubicBezTo>
                <a:cubicBezTo>
                  <a:pt x="261" y="81"/>
                  <a:pt x="260" y="80"/>
                  <a:pt x="260" y="79"/>
                </a:cubicBezTo>
                <a:cubicBezTo>
                  <a:pt x="261" y="78"/>
                  <a:pt x="262" y="80"/>
                  <a:pt x="263" y="79"/>
                </a:cubicBezTo>
                <a:cubicBezTo>
                  <a:pt x="262" y="78"/>
                  <a:pt x="262" y="76"/>
                  <a:pt x="263" y="76"/>
                </a:cubicBezTo>
                <a:cubicBezTo>
                  <a:pt x="264" y="77"/>
                  <a:pt x="266" y="75"/>
                  <a:pt x="267" y="78"/>
                </a:cubicBezTo>
                <a:close/>
                <a:moveTo>
                  <a:pt x="288" y="81"/>
                </a:moveTo>
                <a:cubicBezTo>
                  <a:pt x="284" y="84"/>
                  <a:pt x="281" y="93"/>
                  <a:pt x="276" y="88"/>
                </a:cubicBezTo>
                <a:cubicBezTo>
                  <a:pt x="275" y="88"/>
                  <a:pt x="274" y="88"/>
                  <a:pt x="274" y="88"/>
                </a:cubicBezTo>
                <a:cubicBezTo>
                  <a:pt x="275" y="89"/>
                  <a:pt x="274" y="90"/>
                  <a:pt x="275" y="91"/>
                </a:cubicBezTo>
                <a:cubicBezTo>
                  <a:pt x="273" y="92"/>
                  <a:pt x="272" y="95"/>
                  <a:pt x="269" y="93"/>
                </a:cubicBezTo>
                <a:cubicBezTo>
                  <a:pt x="272" y="89"/>
                  <a:pt x="272" y="84"/>
                  <a:pt x="275" y="80"/>
                </a:cubicBezTo>
                <a:cubicBezTo>
                  <a:pt x="276" y="81"/>
                  <a:pt x="276" y="81"/>
                  <a:pt x="276" y="81"/>
                </a:cubicBezTo>
                <a:cubicBezTo>
                  <a:pt x="275" y="77"/>
                  <a:pt x="281" y="77"/>
                  <a:pt x="283" y="78"/>
                </a:cubicBezTo>
                <a:cubicBezTo>
                  <a:pt x="283" y="81"/>
                  <a:pt x="287" y="79"/>
                  <a:pt x="288" y="81"/>
                </a:cubicBezTo>
                <a:close/>
                <a:moveTo>
                  <a:pt x="300" y="86"/>
                </a:moveTo>
                <a:cubicBezTo>
                  <a:pt x="297" y="86"/>
                  <a:pt x="295" y="90"/>
                  <a:pt x="292" y="93"/>
                </a:cubicBezTo>
                <a:cubicBezTo>
                  <a:pt x="294" y="96"/>
                  <a:pt x="288" y="98"/>
                  <a:pt x="291" y="101"/>
                </a:cubicBezTo>
                <a:cubicBezTo>
                  <a:pt x="291" y="103"/>
                  <a:pt x="293" y="104"/>
                  <a:pt x="291" y="105"/>
                </a:cubicBezTo>
                <a:cubicBezTo>
                  <a:pt x="290" y="106"/>
                  <a:pt x="291" y="106"/>
                  <a:pt x="292" y="107"/>
                </a:cubicBezTo>
                <a:cubicBezTo>
                  <a:pt x="297" y="104"/>
                  <a:pt x="288" y="97"/>
                  <a:pt x="295" y="98"/>
                </a:cubicBezTo>
                <a:cubicBezTo>
                  <a:pt x="296" y="97"/>
                  <a:pt x="297" y="97"/>
                  <a:pt x="297" y="96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96" y="95"/>
                  <a:pt x="296" y="96"/>
                  <a:pt x="295" y="96"/>
                </a:cubicBezTo>
                <a:cubicBezTo>
                  <a:pt x="295" y="92"/>
                  <a:pt x="298" y="91"/>
                  <a:pt x="299" y="89"/>
                </a:cubicBezTo>
                <a:cubicBezTo>
                  <a:pt x="300" y="89"/>
                  <a:pt x="300" y="90"/>
                  <a:pt x="300" y="90"/>
                </a:cubicBezTo>
                <a:cubicBezTo>
                  <a:pt x="301" y="89"/>
                  <a:pt x="301" y="89"/>
                  <a:pt x="301" y="89"/>
                </a:cubicBezTo>
                <a:cubicBezTo>
                  <a:pt x="302" y="90"/>
                  <a:pt x="302" y="90"/>
                  <a:pt x="302" y="90"/>
                </a:cubicBezTo>
                <a:cubicBezTo>
                  <a:pt x="303" y="90"/>
                  <a:pt x="303" y="89"/>
                  <a:pt x="303" y="88"/>
                </a:cubicBezTo>
                <a:cubicBezTo>
                  <a:pt x="304" y="89"/>
                  <a:pt x="305" y="88"/>
                  <a:pt x="307" y="87"/>
                </a:cubicBezTo>
                <a:cubicBezTo>
                  <a:pt x="307" y="88"/>
                  <a:pt x="308" y="88"/>
                  <a:pt x="309" y="88"/>
                </a:cubicBezTo>
                <a:cubicBezTo>
                  <a:pt x="307" y="90"/>
                  <a:pt x="309" y="92"/>
                  <a:pt x="307" y="95"/>
                </a:cubicBezTo>
                <a:cubicBezTo>
                  <a:pt x="307" y="96"/>
                  <a:pt x="306" y="99"/>
                  <a:pt x="304" y="100"/>
                </a:cubicBezTo>
                <a:cubicBezTo>
                  <a:pt x="305" y="101"/>
                  <a:pt x="305" y="101"/>
                  <a:pt x="305" y="101"/>
                </a:cubicBezTo>
                <a:cubicBezTo>
                  <a:pt x="307" y="99"/>
                  <a:pt x="309" y="98"/>
                  <a:pt x="311" y="100"/>
                </a:cubicBezTo>
                <a:cubicBezTo>
                  <a:pt x="312" y="100"/>
                  <a:pt x="312" y="101"/>
                  <a:pt x="313" y="101"/>
                </a:cubicBezTo>
                <a:cubicBezTo>
                  <a:pt x="314" y="101"/>
                  <a:pt x="314" y="101"/>
                  <a:pt x="314" y="101"/>
                </a:cubicBezTo>
                <a:cubicBezTo>
                  <a:pt x="312" y="99"/>
                  <a:pt x="312" y="99"/>
                  <a:pt x="312" y="99"/>
                </a:cubicBezTo>
                <a:cubicBezTo>
                  <a:pt x="313" y="98"/>
                  <a:pt x="315" y="98"/>
                  <a:pt x="316" y="98"/>
                </a:cubicBezTo>
                <a:cubicBezTo>
                  <a:pt x="317" y="100"/>
                  <a:pt x="320" y="100"/>
                  <a:pt x="320" y="102"/>
                </a:cubicBezTo>
                <a:cubicBezTo>
                  <a:pt x="319" y="103"/>
                  <a:pt x="319" y="103"/>
                  <a:pt x="319" y="103"/>
                </a:cubicBezTo>
                <a:cubicBezTo>
                  <a:pt x="321" y="104"/>
                  <a:pt x="321" y="104"/>
                  <a:pt x="321" y="104"/>
                </a:cubicBezTo>
                <a:cubicBezTo>
                  <a:pt x="321" y="107"/>
                  <a:pt x="318" y="105"/>
                  <a:pt x="318" y="107"/>
                </a:cubicBezTo>
                <a:cubicBezTo>
                  <a:pt x="319" y="109"/>
                  <a:pt x="320" y="107"/>
                  <a:pt x="321" y="107"/>
                </a:cubicBezTo>
                <a:cubicBezTo>
                  <a:pt x="322" y="107"/>
                  <a:pt x="321" y="107"/>
                  <a:pt x="321" y="108"/>
                </a:cubicBezTo>
                <a:cubicBezTo>
                  <a:pt x="321" y="108"/>
                  <a:pt x="322" y="108"/>
                  <a:pt x="321" y="109"/>
                </a:cubicBezTo>
                <a:cubicBezTo>
                  <a:pt x="321" y="109"/>
                  <a:pt x="321" y="109"/>
                  <a:pt x="321" y="109"/>
                </a:cubicBezTo>
                <a:cubicBezTo>
                  <a:pt x="323" y="111"/>
                  <a:pt x="323" y="111"/>
                  <a:pt x="323" y="111"/>
                </a:cubicBezTo>
                <a:cubicBezTo>
                  <a:pt x="325" y="108"/>
                  <a:pt x="325" y="108"/>
                  <a:pt x="325" y="108"/>
                </a:cubicBezTo>
                <a:cubicBezTo>
                  <a:pt x="326" y="109"/>
                  <a:pt x="327" y="110"/>
                  <a:pt x="327" y="112"/>
                </a:cubicBezTo>
                <a:cubicBezTo>
                  <a:pt x="326" y="112"/>
                  <a:pt x="326" y="112"/>
                  <a:pt x="325" y="112"/>
                </a:cubicBezTo>
                <a:cubicBezTo>
                  <a:pt x="325" y="113"/>
                  <a:pt x="325" y="114"/>
                  <a:pt x="326" y="114"/>
                </a:cubicBezTo>
                <a:cubicBezTo>
                  <a:pt x="327" y="114"/>
                  <a:pt x="327" y="113"/>
                  <a:pt x="328" y="113"/>
                </a:cubicBezTo>
                <a:cubicBezTo>
                  <a:pt x="328" y="114"/>
                  <a:pt x="326" y="115"/>
                  <a:pt x="328" y="115"/>
                </a:cubicBezTo>
                <a:cubicBezTo>
                  <a:pt x="328" y="115"/>
                  <a:pt x="328" y="115"/>
                  <a:pt x="328" y="115"/>
                </a:cubicBezTo>
                <a:cubicBezTo>
                  <a:pt x="328" y="115"/>
                  <a:pt x="329" y="115"/>
                  <a:pt x="329" y="116"/>
                </a:cubicBezTo>
                <a:cubicBezTo>
                  <a:pt x="329" y="115"/>
                  <a:pt x="330" y="115"/>
                  <a:pt x="331" y="115"/>
                </a:cubicBezTo>
                <a:cubicBezTo>
                  <a:pt x="332" y="117"/>
                  <a:pt x="332" y="117"/>
                  <a:pt x="332" y="117"/>
                </a:cubicBezTo>
                <a:cubicBezTo>
                  <a:pt x="329" y="119"/>
                  <a:pt x="329" y="119"/>
                  <a:pt x="329" y="119"/>
                </a:cubicBezTo>
                <a:cubicBezTo>
                  <a:pt x="329" y="119"/>
                  <a:pt x="329" y="120"/>
                  <a:pt x="330" y="120"/>
                </a:cubicBezTo>
                <a:cubicBezTo>
                  <a:pt x="330" y="120"/>
                  <a:pt x="330" y="121"/>
                  <a:pt x="329" y="121"/>
                </a:cubicBezTo>
                <a:cubicBezTo>
                  <a:pt x="330" y="121"/>
                  <a:pt x="330" y="122"/>
                  <a:pt x="331" y="121"/>
                </a:cubicBezTo>
                <a:cubicBezTo>
                  <a:pt x="331" y="121"/>
                  <a:pt x="332" y="120"/>
                  <a:pt x="332" y="119"/>
                </a:cubicBezTo>
                <a:cubicBezTo>
                  <a:pt x="333" y="120"/>
                  <a:pt x="334" y="121"/>
                  <a:pt x="333" y="123"/>
                </a:cubicBezTo>
                <a:cubicBezTo>
                  <a:pt x="332" y="122"/>
                  <a:pt x="331" y="123"/>
                  <a:pt x="329" y="124"/>
                </a:cubicBezTo>
                <a:cubicBezTo>
                  <a:pt x="331" y="125"/>
                  <a:pt x="333" y="125"/>
                  <a:pt x="334" y="127"/>
                </a:cubicBezTo>
                <a:cubicBezTo>
                  <a:pt x="333" y="127"/>
                  <a:pt x="331" y="127"/>
                  <a:pt x="331" y="125"/>
                </a:cubicBezTo>
                <a:cubicBezTo>
                  <a:pt x="329" y="127"/>
                  <a:pt x="329" y="127"/>
                  <a:pt x="329" y="127"/>
                </a:cubicBezTo>
                <a:cubicBezTo>
                  <a:pt x="331" y="127"/>
                  <a:pt x="329" y="128"/>
                  <a:pt x="329" y="129"/>
                </a:cubicBezTo>
                <a:cubicBezTo>
                  <a:pt x="328" y="129"/>
                  <a:pt x="328" y="129"/>
                  <a:pt x="327" y="130"/>
                </a:cubicBezTo>
                <a:cubicBezTo>
                  <a:pt x="328" y="132"/>
                  <a:pt x="330" y="132"/>
                  <a:pt x="331" y="132"/>
                </a:cubicBezTo>
                <a:cubicBezTo>
                  <a:pt x="330" y="132"/>
                  <a:pt x="330" y="132"/>
                  <a:pt x="329" y="133"/>
                </a:cubicBezTo>
                <a:cubicBezTo>
                  <a:pt x="332" y="133"/>
                  <a:pt x="333" y="138"/>
                  <a:pt x="335" y="136"/>
                </a:cubicBezTo>
                <a:cubicBezTo>
                  <a:pt x="335" y="136"/>
                  <a:pt x="334" y="136"/>
                  <a:pt x="335" y="137"/>
                </a:cubicBezTo>
                <a:cubicBezTo>
                  <a:pt x="335" y="138"/>
                  <a:pt x="336" y="137"/>
                  <a:pt x="336" y="137"/>
                </a:cubicBezTo>
                <a:cubicBezTo>
                  <a:pt x="336" y="138"/>
                  <a:pt x="337" y="140"/>
                  <a:pt x="336" y="140"/>
                </a:cubicBezTo>
                <a:cubicBezTo>
                  <a:pt x="336" y="141"/>
                  <a:pt x="338" y="141"/>
                  <a:pt x="339" y="141"/>
                </a:cubicBezTo>
                <a:cubicBezTo>
                  <a:pt x="337" y="141"/>
                  <a:pt x="339" y="143"/>
                  <a:pt x="339" y="143"/>
                </a:cubicBezTo>
                <a:cubicBezTo>
                  <a:pt x="341" y="142"/>
                  <a:pt x="342" y="143"/>
                  <a:pt x="342" y="145"/>
                </a:cubicBezTo>
                <a:cubicBezTo>
                  <a:pt x="342" y="145"/>
                  <a:pt x="342" y="145"/>
                  <a:pt x="342" y="145"/>
                </a:cubicBezTo>
                <a:cubicBezTo>
                  <a:pt x="342" y="145"/>
                  <a:pt x="342" y="145"/>
                  <a:pt x="342" y="145"/>
                </a:cubicBezTo>
                <a:cubicBezTo>
                  <a:pt x="341" y="145"/>
                  <a:pt x="341" y="146"/>
                  <a:pt x="341" y="147"/>
                </a:cubicBezTo>
                <a:cubicBezTo>
                  <a:pt x="341" y="147"/>
                  <a:pt x="340" y="147"/>
                  <a:pt x="340" y="146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48"/>
                  <a:pt x="339" y="148"/>
                  <a:pt x="339" y="148"/>
                </a:cubicBezTo>
                <a:cubicBezTo>
                  <a:pt x="339" y="149"/>
                  <a:pt x="337" y="149"/>
                  <a:pt x="336" y="150"/>
                </a:cubicBezTo>
                <a:cubicBezTo>
                  <a:pt x="336" y="149"/>
                  <a:pt x="336" y="149"/>
                  <a:pt x="336" y="149"/>
                </a:cubicBezTo>
                <a:cubicBezTo>
                  <a:pt x="334" y="150"/>
                  <a:pt x="335" y="153"/>
                  <a:pt x="335" y="154"/>
                </a:cubicBezTo>
                <a:cubicBezTo>
                  <a:pt x="333" y="155"/>
                  <a:pt x="333" y="152"/>
                  <a:pt x="331" y="152"/>
                </a:cubicBezTo>
                <a:cubicBezTo>
                  <a:pt x="332" y="151"/>
                  <a:pt x="328" y="148"/>
                  <a:pt x="332" y="147"/>
                </a:cubicBezTo>
                <a:cubicBezTo>
                  <a:pt x="332" y="146"/>
                  <a:pt x="331" y="147"/>
                  <a:pt x="330" y="147"/>
                </a:cubicBezTo>
                <a:cubicBezTo>
                  <a:pt x="327" y="143"/>
                  <a:pt x="327" y="143"/>
                  <a:pt x="327" y="143"/>
                </a:cubicBezTo>
                <a:cubicBezTo>
                  <a:pt x="325" y="145"/>
                  <a:pt x="325" y="145"/>
                  <a:pt x="325" y="145"/>
                </a:cubicBezTo>
                <a:cubicBezTo>
                  <a:pt x="326" y="146"/>
                  <a:pt x="325" y="147"/>
                  <a:pt x="325" y="147"/>
                </a:cubicBezTo>
                <a:cubicBezTo>
                  <a:pt x="324" y="147"/>
                  <a:pt x="324" y="147"/>
                  <a:pt x="324" y="147"/>
                </a:cubicBezTo>
                <a:cubicBezTo>
                  <a:pt x="324" y="147"/>
                  <a:pt x="324" y="146"/>
                  <a:pt x="324" y="145"/>
                </a:cubicBezTo>
                <a:cubicBezTo>
                  <a:pt x="323" y="145"/>
                  <a:pt x="323" y="146"/>
                  <a:pt x="323" y="146"/>
                </a:cubicBezTo>
                <a:cubicBezTo>
                  <a:pt x="325" y="149"/>
                  <a:pt x="323" y="154"/>
                  <a:pt x="327" y="155"/>
                </a:cubicBezTo>
                <a:cubicBezTo>
                  <a:pt x="328" y="155"/>
                  <a:pt x="328" y="155"/>
                  <a:pt x="328" y="155"/>
                </a:cubicBezTo>
                <a:cubicBezTo>
                  <a:pt x="328" y="156"/>
                  <a:pt x="327" y="156"/>
                  <a:pt x="327" y="156"/>
                </a:cubicBezTo>
                <a:cubicBezTo>
                  <a:pt x="327" y="157"/>
                  <a:pt x="328" y="157"/>
                  <a:pt x="328" y="157"/>
                </a:cubicBezTo>
                <a:cubicBezTo>
                  <a:pt x="328" y="159"/>
                  <a:pt x="329" y="161"/>
                  <a:pt x="329" y="163"/>
                </a:cubicBezTo>
                <a:cubicBezTo>
                  <a:pt x="327" y="164"/>
                  <a:pt x="327" y="166"/>
                  <a:pt x="327" y="167"/>
                </a:cubicBezTo>
                <a:cubicBezTo>
                  <a:pt x="324" y="165"/>
                  <a:pt x="321" y="161"/>
                  <a:pt x="317" y="159"/>
                </a:cubicBezTo>
                <a:cubicBezTo>
                  <a:pt x="316" y="162"/>
                  <a:pt x="320" y="164"/>
                  <a:pt x="321" y="167"/>
                </a:cubicBezTo>
                <a:cubicBezTo>
                  <a:pt x="320" y="168"/>
                  <a:pt x="324" y="169"/>
                  <a:pt x="322" y="170"/>
                </a:cubicBezTo>
                <a:cubicBezTo>
                  <a:pt x="323" y="171"/>
                  <a:pt x="323" y="171"/>
                  <a:pt x="323" y="171"/>
                </a:cubicBezTo>
                <a:cubicBezTo>
                  <a:pt x="318" y="169"/>
                  <a:pt x="314" y="166"/>
                  <a:pt x="311" y="164"/>
                </a:cubicBezTo>
                <a:cubicBezTo>
                  <a:pt x="306" y="161"/>
                  <a:pt x="313" y="159"/>
                  <a:pt x="308" y="157"/>
                </a:cubicBezTo>
                <a:cubicBezTo>
                  <a:pt x="306" y="156"/>
                  <a:pt x="308" y="153"/>
                  <a:pt x="305" y="153"/>
                </a:cubicBezTo>
                <a:cubicBezTo>
                  <a:pt x="303" y="155"/>
                  <a:pt x="306" y="153"/>
                  <a:pt x="304" y="153"/>
                </a:cubicBezTo>
                <a:cubicBezTo>
                  <a:pt x="303" y="153"/>
                  <a:pt x="301" y="154"/>
                  <a:pt x="300" y="152"/>
                </a:cubicBezTo>
                <a:cubicBezTo>
                  <a:pt x="299" y="154"/>
                  <a:pt x="298" y="154"/>
                  <a:pt x="296" y="154"/>
                </a:cubicBezTo>
                <a:cubicBezTo>
                  <a:pt x="295" y="153"/>
                  <a:pt x="292" y="152"/>
                  <a:pt x="294" y="150"/>
                </a:cubicBezTo>
                <a:cubicBezTo>
                  <a:pt x="295" y="149"/>
                  <a:pt x="297" y="149"/>
                  <a:pt x="297" y="147"/>
                </a:cubicBezTo>
                <a:cubicBezTo>
                  <a:pt x="299" y="148"/>
                  <a:pt x="302" y="151"/>
                  <a:pt x="304" y="148"/>
                </a:cubicBezTo>
                <a:cubicBezTo>
                  <a:pt x="305" y="149"/>
                  <a:pt x="305" y="149"/>
                  <a:pt x="305" y="149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7" y="149"/>
                  <a:pt x="307" y="149"/>
                  <a:pt x="307" y="149"/>
                </a:cubicBezTo>
                <a:cubicBezTo>
                  <a:pt x="310" y="147"/>
                  <a:pt x="306" y="146"/>
                  <a:pt x="307" y="144"/>
                </a:cubicBezTo>
                <a:cubicBezTo>
                  <a:pt x="310" y="142"/>
                  <a:pt x="311" y="140"/>
                  <a:pt x="315" y="139"/>
                </a:cubicBezTo>
                <a:cubicBezTo>
                  <a:pt x="316" y="136"/>
                  <a:pt x="315" y="133"/>
                  <a:pt x="316" y="131"/>
                </a:cubicBezTo>
                <a:cubicBezTo>
                  <a:pt x="314" y="130"/>
                  <a:pt x="314" y="129"/>
                  <a:pt x="313" y="127"/>
                </a:cubicBezTo>
                <a:cubicBezTo>
                  <a:pt x="312" y="128"/>
                  <a:pt x="312" y="128"/>
                  <a:pt x="312" y="128"/>
                </a:cubicBezTo>
                <a:cubicBezTo>
                  <a:pt x="312" y="128"/>
                  <a:pt x="312" y="128"/>
                  <a:pt x="312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2" y="126"/>
                  <a:pt x="312" y="126"/>
                  <a:pt x="312" y="126"/>
                </a:cubicBezTo>
                <a:cubicBezTo>
                  <a:pt x="312" y="126"/>
                  <a:pt x="312" y="125"/>
                  <a:pt x="312" y="125"/>
                </a:cubicBezTo>
                <a:cubicBezTo>
                  <a:pt x="312" y="124"/>
                  <a:pt x="312" y="124"/>
                  <a:pt x="312" y="124"/>
                </a:cubicBezTo>
                <a:cubicBezTo>
                  <a:pt x="311" y="125"/>
                  <a:pt x="311" y="125"/>
                  <a:pt x="311" y="125"/>
                </a:cubicBezTo>
                <a:cubicBezTo>
                  <a:pt x="310" y="125"/>
                  <a:pt x="308" y="125"/>
                  <a:pt x="308" y="126"/>
                </a:cubicBezTo>
                <a:cubicBezTo>
                  <a:pt x="308" y="125"/>
                  <a:pt x="308" y="125"/>
                  <a:pt x="308" y="125"/>
                </a:cubicBezTo>
                <a:cubicBezTo>
                  <a:pt x="309" y="125"/>
                  <a:pt x="310" y="125"/>
                  <a:pt x="311" y="124"/>
                </a:cubicBezTo>
                <a:cubicBezTo>
                  <a:pt x="308" y="120"/>
                  <a:pt x="308" y="120"/>
                  <a:pt x="308" y="120"/>
                </a:cubicBezTo>
                <a:cubicBezTo>
                  <a:pt x="308" y="121"/>
                  <a:pt x="308" y="120"/>
                  <a:pt x="309" y="120"/>
                </a:cubicBezTo>
                <a:cubicBezTo>
                  <a:pt x="308" y="119"/>
                  <a:pt x="308" y="118"/>
                  <a:pt x="307" y="119"/>
                </a:cubicBezTo>
                <a:cubicBezTo>
                  <a:pt x="307" y="117"/>
                  <a:pt x="308" y="116"/>
                  <a:pt x="308" y="115"/>
                </a:cubicBezTo>
                <a:cubicBezTo>
                  <a:pt x="307" y="114"/>
                  <a:pt x="307" y="114"/>
                  <a:pt x="307" y="114"/>
                </a:cubicBezTo>
                <a:cubicBezTo>
                  <a:pt x="307" y="115"/>
                  <a:pt x="307" y="115"/>
                  <a:pt x="307" y="115"/>
                </a:cubicBezTo>
                <a:cubicBezTo>
                  <a:pt x="305" y="113"/>
                  <a:pt x="305" y="113"/>
                  <a:pt x="305" y="113"/>
                </a:cubicBezTo>
                <a:cubicBezTo>
                  <a:pt x="306" y="113"/>
                  <a:pt x="305" y="112"/>
                  <a:pt x="305" y="111"/>
                </a:cubicBezTo>
                <a:cubicBezTo>
                  <a:pt x="305" y="111"/>
                  <a:pt x="305" y="111"/>
                  <a:pt x="305" y="111"/>
                </a:cubicBezTo>
                <a:cubicBezTo>
                  <a:pt x="299" y="112"/>
                  <a:pt x="309" y="118"/>
                  <a:pt x="301" y="117"/>
                </a:cubicBezTo>
                <a:cubicBezTo>
                  <a:pt x="301" y="116"/>
                  <a:pt x="300" y="116"/>
                  <a:pt x="299" y="115"/>
                </a:cubicBezTo>
                <a:cubicBezTo>
                  <a:pt x="298" y="116"/>
                  <a:pt x="298" y="116"/>
                  <a:pt x="298" y="117"/>
                </a:cubicBezTo>
                <a:cubicBezTo>
                  <a:pt x="296" y="115"/>
                  <a:pt x="296" y="115"/>
                  <a:pt x="296" y="115"/>
                </a:cubicBezTo>
                <a:cubicBezTo>
                  <a:pt x="294" y="115"/>
                  <a:pt x="290" y="115"/>
                  <a:pt x="288" y="113"/>
                </a:cubicBezTo>
                <a:cubicBezTo>
                  <a:pt x="285" y="115"/>
                  <a:pt x="285" y="109"/>
                  <a:pt x="283" y="111"/>
                </a:cubicBezTo>
                <a:cubicBezTo>
                  <a:pt x="281" y="110"/>
                  <a:pt x="281" y="109"/>
                  <a:pt x="280" y="108"/>
                </a:cubicBezTo>
                <a:cubicBezTo>
                  <a:pt x="280" y="104"/>
                  <a:pt x="280" y="104"/>
                  <a:pt x="280" y="104"/>
                </a:cubicBezTo>
                <a:cubicBezTo>
                  <a:pt x="282" y="104"/>
                  <a:pt x="283" y="107"/>
                  <a:pt x="285" y="105"/>
                </a:cubicBezTo>
                <a:cubicBezTo>
                  <a:pt x="285" y="102"/>
                  <a:pt x="281" y="103"/>
                  <a:pt x="280" y="101"/>
                </a:cubicBezTo>
                <a:cubicBezTo>
                  <a:pt x="283" y="95"/>
                  <a:pt x="287" y="88"/>
                  <a:pt x="294" y="84"/>
                </a:cubicBezTo>
                <a:cubicBezTo>
                  <a:pt x="296" y="85"/>
                  <a:pt x="299" y="83"/>
                  <a:pt x="300" y="86"/>
                </a:cubicBezTo>
                <a:close/>
                <a:moveTo>
                  <a:pt x="319" y="95"/>
                </a:moveTo>
                <a:cubicBezTo>
                  <a:pt x="319" y="96"/>
                  <a:pt x="318" y="97"/>
                  <a:pt x="319" y="97"/>
                </a:cubicBezTo>
                <a:cubicBezTo>
                  <a:pt x="317" y="93"/>
                  <a:pt x="307" y="100"/>
                  <a:pt x="311" y="92"/>
                </a:cubicBezTo>
                <a:cubicBezTo>
                  <a:pt x="307" y="91"/>
                  <a:pt x="312" y="90"/>
                  <a:pt x="311" y="88"/>
                </a:cubicBezTo>
                <a:cubicBezTo>
                  <a:pt x="314" y="90"/>
                  <a:pt x="320" y="90"/>
                  <a:pt x="319" y="95"/>
                </a:cubicBezTo>
                <a:close/>
                <a:moveTo>
                  <a:pt x="171" y="88"/>
                </a:moveTo>
                <a:cubicBezTo>
                  <a:pt x="170" y="89"/>
                  <a:pt x="168" y="90"/>
                  <a:pt x="167" y="89"/>
                </a:cubicBezTo>
                <a:cubicBezTo>
                  <a:pt x="165" y="90"/>
                  <a:pt x="162" y="91"/>
                  <a:pt x="159" y="92"/>
                </a:cubicBezTo>
                <a:cubicBezTo>
                  <a:pt x="162" y="89"/>
                  <a:pt x="167" y="89"/>
                  <a:pt x="171" y="88"/>
                </a:cubicBezTo>
                <a:close/>
                <a:moveTo>
                  <a:pt x="156" y="90"/>
                </a:moveTo>
                <a:cubicBezTo>
                  <a:pt x="155" y="91"/>
                  <a:pt x="156" y="93"/>
                  <a:pt x="155" y="94"/>
                </a:cubicBezTo>
                <a:cubicBezTo>
                  <a:pt x="155" y="94"/>
                  <a:pt x="155" y="94"/>
                  <a:pt x="155" y="94"/>
                </a:cubicBezTo>
                <a:cubicBezTo>
                  <a:pt x="155" y="93"/>
                  <a:pt x="155" y="93"/>
                  <a:pt x="155" y="92"/>
                </a:cubicBezTo>
                <a:cubicBezTo>
                  <a:pt x="154" y="92"/>
                  <a:pt x="155" y="90"/>
                  <a:pt x="156" y="90"/>
                </a:cubicBezTo>
                <a:close/>
                <a:moveTo>
                  <a:pt x="151" y="101"/>
                </a:moveTo>
                <a:cubicBezTo>
                  <a:pt x="150" y="101"/>
                  <a:pt x="150" y="100"/>
                  <a:pt x="151" y="99"/>
                </a:cubicBezTo>
                <a:cubicBezTo>
                  <a:pt x="151" y="101"/>
                  <a:pt x="151" y="101"/>
                  <a:pt x="151" y="101"/>
                </a:cubicBezTo>
                <a:close/>
                <a:moveTo>
                  <a:pt x="309" y="101"/>
                </a:moveTo>
                <a:cubicBezTo>
                  <a:pt x="310" y="100"/>
                  <a:pt x="310" y="100"/>
                  <a:pt x="310" y="100"/>
                </a:cubicBezTo>
                <a:cubicBezTo>
                  <a:pt x="311" y="100"/>
                  <a:pt x="311" y="100"/>
                  <a:pt x="311" y="100"/>
                </a:cubicBezTo>
                <a:cubicBezTo>
                  <a:pt x="309" y="101"/>
                  <a:pt x="309" y="101"/>
                  <a:pt x="309" y="101"/>
                </a:cubicBezTo>
                <a:close/>
                <a:moveTo>
                  <a:pt x="235" y="107"/>
                </a:moveTo>
                <a:cubicBezTo>
                  <a:pt x="234" y="108"/>
                  <a:pt x="232" y="107"/>
                  <a:pt x="231" y="107"/>
                </a:cubicBezTo>
                <a:cubicBezTo>
                  <a:pt x="233" y="107"/>
                  <a:pt x="234" y="108"/>
                  <a:pt x="235" y="107"/>
                </a:cubicBezTo>
                <a:close/>
                <a:moveTo>
                  <a:pt x="257" y="116"/>
                </a:moveTo>
                <a:cubicBezTo>
                  <a:pt x="257" y="117"/>
                  <a:pt x="257" y="117"/>
                  <a:pt x="257" y="117"/>
                </a:cubicBezTo>
                <a:cubicBezTo>
                  <a:pt x="257" y="118"/>
                  <a:pt x="254" y="119"/>
                  <a:pt x="252" y="118"/>
                </a:cubicBezTo>
                <a:cubicBezTo>
                  <a:pt x="249" y="114"/>
                  <a:pt x="249" y="114"/>
                  <a:pt x="249" y="114"/>
                </a:cubicBezTo>
                <a:cubicBezTo>
                  <a:pt x="248" y="115"/>
                  <a:pt x="248" y="115"/>
                  <a:pt x="248" y="115"/>
                </a:cubicBezTo>
                <a:cubicBezTo>
                  <a:pt x="248" y="114"/>
                  <a:pt x="248" y="114"/>
                  <a:pt x="248" y="114"/>
                </a:cubicBezTo>
                <a:cubicBezTo>
                  <a:pt x="248" y="113"/>
                  <a:pt x="249" y="113"/>
                  <a:pt x="251" y="113"/>
                </a:cubicBezTo>
                <a:cubicBezTo>
                  <a:pt x="255" y="108"/>
                  <a:pt x="255" y="108"/>
                  <a:pt x="255" y="108"/>
                </a:cubicBezTo>
                <a:cubicBezTo>
                  <a:pt x="256" y="110"/>
                  <a:pt x="258" y="114"/>
                  <a:pt x="257" y="116"/>
                </a:cubicBezTo>
                <a:close/>
                <a:moveTo>
                  <a:pt x="188" y="116"/>
                </a:moveTo>
                <a:cubicBezTo>
                  <a:pt x="187" y="117"/>
                  <a:pt x="183" y="117"/>
                  <a:pt x="183" y="119"/>
                </a:cubicBezTo>
                <a:cubicBezTo>
                  <a:pt x="185" y="120"/>
                  <a:pt x="186" y="121"/>
                  <a:pt x="188" y="121"/>
                </a:cubicBezTo>
                <a:cubicBezTo>
                  <a:pt x="189" y="120"/>
                  <a:pt x="190" y="120"/>
                  <a:pt x="191" y="120"/>
                </a:cubicBezTo>
                <a:cubicBezTo>
                  <a:pt x="187" y="124"/>
                  <a:pt x="187" y="124"/>
                  <a:pt x="187" y="124"/>
                </a:cubicBezTo>
                <a:cubicBezTo>
                  <a:pt x="188" y="125"/>
                  <a:pt x="188" y="125"/>
                  <a:pt x="188" y="125"/>
                </a:cubicBezTo>
                <a:cubicBezTo>
                  <a:pt x="188" y="126"/>
                  <a:pt x="187" y="125"/>
                  <a:pt x="186" y="125"/>
                </a:cubicBezTo>
                <a:cubicBezTo>
                  <a:pt x="185" y="124"/>
                  <a:pt x="183" y="123"/>
                  <a:pt x="182" y="124"/>
                </a:cubicBezTo>
                <a:cubicBezTo>
                  <a:pt x="181" y="125"/>
                  <a:pt x="181" y="125"/>
                  <a:pt x="181" y="125"/>
                </a:cubicBezTo>
                <a:cubicBezTo>
                  <a:pt x="182" y="127"/>
                  <a:pt x="182" y="127"/>
                  <a:pt x="182" y="127"/>
                </a:cubicBezTo>
                <a:cubicBezTo>
                  <a:pt x="180" y="127"/>
                  <a:pt x="178" y="129"/>
                  <a:pt x="176" y="129"/>
                </a:cubicBezTo>
                <a:cubicBezTo>
                  <a:pt x="175" y="129"/>
                  <a:pt x="175" y="129"/>
                  <a:pt x="175" y="129"/>
                </a:cubicBezTo>
                <a:cubicBezTo>
                  <a:pt x="177" y="128"/>
                  <a:pt x="180" y="127"/>
                  <a:pt x="180" y="125"/>
                </a:cubicBezTo>
                <a:cubicBezTo>
                  <a:pt x="176" y="123"/>
                  <a:pt x="174" y="131"/>
                  <a:pt x="171" y="127"/>
                </a:cubicBezTo>
                <a:cubicBezTo>
                  <a:pt x="172" y="127"/>
                  <a:pt x="173" y="123"/>
                  <a:pt x="175" y="123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176" y="122"/>
                  <a:pt x="176" y="121"/>
                  <a:pt x="176" y="121"/>
                </a:cubicBezTo>
                <a:cubicBezTo>
                  <a:pt x="177" y="121"/>
                  <a:pt x="179" y="123"/>
                  <a:pt x="180" y="121"/>
                </a:cubicBezTo>
                <a:cubicBezTo>
                  <a:pt x="180" y="119"/>
                  <a:pt x="178" y="119"/>
                  <a:pt x="177" y="119"/>
                </a:cubicBezTo>
                <a:cubicBezTo>
                  <a:pt x="175" y="121"/>
                  <a:pt x="172" y="117"/>
                  <a:pt x="170" y="119"/>
                </a:cubicBezTo>
                <a:cubicBezTo>
                  <a:pt x="170" y="118"/>
                  <a:pt x="170" y="117"/>
                  <a:pt x="171" y="117"/>
                </a:cubicBezTo>
                <a:cubicBezTo>
                  <a:pt x="175" y="118"/>
                  <a:pt x="179" y="117"/>
                  <a:pt x="183" y="116"/>
                </a:cubicBezTo>
                <a:cubicBezTo>
                  <a:pt x="185" y="116"/>
                  <a:pt x="187" y="114"/>
                  <a:pt x="188" y="116"/>
                </a:cubicBezTo>
                <a:close/>
                <a:moveTo>
                  <a:pt x="300" y="124"/>
                </a:moveTo>
                <a:cubicBezTo>
                  <a:pt x="304" y="121"/>
                  <a:pt x="304" y="121"/>
                  <a:pt x="304" y="121"/>
                </a:cubicBezTo>
                <a:cubicBezTo>
                  <a:pt x="301" y="124"/>
                  <a:pt x="301" y="124"/>
                  <a:pt x="301" y="124"/>
                </a:cubicBezTo>
                <a:cubicBezTo>
                  <a:pt x="300" y="124"/>
                  <a:pt x="300" y="124"/>
                  <a:pt x="300" y="124"/>
                </a:cubicBezTo>
                <a:close/>
                <a:moveTo>
                  <a:pt x="202" y="126"/>
                </a:moveTo>
                <a:cubicBezTo>
                  <a:pt x="201" y="125"/>
                  <a:pt x="201" y="125"/>
                  <a:pt x="201" y="125"/>
                </a:cubicBezTo>
                <a:cubicBezTo>
                  <a:pt x="203" y="123"/>
                  <a:pt x="203" y="123"/>
                  <a:pt x="203" y="123"/>
                </a:cubicBezTo>
                <a:cubicBezTo>
                  <a:pt x="204" y="124"/>
                  <a:pt x="202" y="125"/>
                  <a:pt x="202" y="126"/>
                </a:cubicBezTo>
                <a:close/>
                <a:moveTo>
                  <a:pt x="372" y="129"/>
                </a:moveTo>
                <a:cubicBezTo>
                  <a:pt x="372" y="131"/>
                  <a:pt x="369" y="129"/>
                  <a:pt x="368" y="131"/>
                </a:cubicBezTo>
                <a:cubicBezTo>
                  <a:pt x="368" y="129"/>
                  <a:pt x="365" y="128"/>
                  <a:pt x="367" y="125"/>
                </a:cubicBezTo>
                <a:cubicBezTo>
                  <a:pt x="366" y="125"/>
                  <a:pt x="366" y="124"/>
                  <a:pt x="367" y="124"/>
                </a:cubicBezTo>
                <a:cubicBezTo>
                  <a:pt x="370" y="123"/>
                  <a:pt x="370" y="128"/>
                  <a:pt x="372" y="129"/>
                </a:cubicBezTo>
                <a:close/>
                <a:moveTo>
                  <a:pt x="277" y="128"/>
                </a:moveTo>
                <a:cubicBezTo>
                  <a:pt x="278" y="125"/>
                  <a:pt x="278" y="125"/>
                  <a:pt x="278" y="125"/>
                </a:cubicBezTo>
                <a:cubicBezTo>
                  <a:pt x="279" y="126"/>
                  <a:pt x="279" y="126"/>
                  <a:pt x="279" y="126"/>
                </a:cubicBezTo>
                <a:cubicBezTo>
                  <a:pt x="277" y="128"/>
                  <a:pt x="277" y="128"/>
                  <a:pt x="277" y="128"/>
                </a:cubicBezTo>
                <a:close/>
                <a:moveTo>
                  <a:pt x="183" y="131"/>
                </a:moveTo>
                <a:cubicBezTo>
                  <a:pt x="184" y="128"/>
                  <a:pt x="184" y="128"/>
                  <a:pt x="184" y="128"/>
                </a:cubicBezTo>
                <a:cubicBezTo>
                  <a:pt x="185" y="128"/>
                  <a:pt x="185" y="128"/>
                  <a:pt x="185" y="128"/>
                </a:cubicBezTo>
                <a:cubicBezTo>
                  <a:pt x="183" y="131"/>
                  <a:pt x="183" y="131"/>
                  <a:pt x="183" y="131"/>
                </a:cubicBezTo>
                <a:close/>
                <a:moveTo>
                  <a:pt x="199" y="132"/>
                </a:moveTo>
                <a:cubicBezTo>
                  <a:pt x="196" y="133"/>
                  <a:pt x="198" y="129"/>
                  <a:pt x="196" y="129"/>
                </a:cubicBezTo>
                <a:cubicBezTo>
                  <a:pt x="197" y="128"/>
                  <a:pt x="197" y="128"/>
                  <a:pt x="197" y="128"/>
                </a:cubicBezTo>
                <a:cubicBezTo>
                  <a:pt x="196" y="130"/>
                  <a:pt x="198" y="131"/>
                  <a:pt x="199" y="132"/>
                </a:cubicBezTo>
                <a:close/>
                <a:moveTo>
                  <a:pt x="208" y="135"/>
                </a:moveTo>
                <a:cubicBezTo>
                  <a:pt x="206" y="133"/>
                  <a:pt x="208" y="131"/>
                  <a:pt x="206" y="128"/>
                </a:cubicBezTo>
                <a:cubicBezTo>
                  <a:pt x="208" y="135"/>
                  <a:pt x="208" y="135"/>
                  <a:pt x="208" y="135"/>
                </a:cubicBezTo>
                <a:close/>
                <a:moveTo>
                  <a:pt x="309" y="130"/>
                </a:moveTo>
                <a:cubicBezTo>
                  <a:pt x="308" y="132"/>
                  <a:pt x="308" y="134"/>
                  <a:pt x="305" y="135"/>
                </a:cubicBezTo>
                <a:cubicBezTo>
                  <a:pt x="303" y="135"/>
                  <a:pt x="303" y="135"/>
                  <a:pt x="303" y="135"/>
                </a:cubicBezTo>
                <a:cubicBezTo>
                  <a:pt x="301" y="132"/>
                  <a:pt x="305" y="132"/>
                  <a:pt x="305" y="129"/>
                </a:cubicBezTo>
                <a:cubicBezTo>
                  <a:pt x="307" y="130"/>
                  <a:pt x="308" y="128"/>
                  <a:pt x="309" y="130"/>
                </a:cubicBezTo>
                <a:close/>
                <a:moveTo>
                  <a:pt x="313" y="133"/>
                </a:moveTo>
                <a:cubicBezTo>
                  <a:pt x="311" y="133"/>
                  <a:pt x="311" y="133"/>
                  <a:pt x="311" y="133"/>
                </a:cubicBezTo>
                <a:cubicBezTo>
                  <a:pt x="311" y="132"/>
                  <a:pt x="311" y="132"/>
                  <a:pt x="311" y="132"/>
                </a:cubicBezTo>
                <a:cubicBezTo>
                  <a:pt x="312" y="131"/>
                  <a:pt x="312" y="132"/>
                  <a:pt x="313" y="133"/>
                </a:cubicBezTo>
                <a:close/>
                <a:moveTo>
                  <a:pt x="237" y="133"/>
                </a:moveTo>
                <a:cubicBezTo>
                  <a:pt x="237" y="133"/>
                  <a:pt x="237" y="134"/>
                  <a:pt x="237" y="134"/>
                </a:cubicBezTo>
                <a:cubicBezTo>
                  <a:pt x="241" y="133"/>
                  <a:pt x="241" y="133"/>
                  <a:pt x="241" y="133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38" y="135"/>
                  <a:pt x="235" y="134"/>
                  <a:pt x="232" y="133"/>
                </a:cubicBezTo>
                <a:cubicBezTo>
                  <a:pt x="233" y="134"/>
                  <a:pt x="236" y="134"/>
                  <a:pt x="237" y="133"/>
                </a:cubicBezTo>
                <a:close/>
                <a:moveTo>
                  <a:pt x="184" y="138"/>
                </a:moveTo>
                <a:cubicBezTo>
                  <a:pt x="183" y="138"/>
                  <a:pt x="183" y="138"/>
                  <a:pt x="183" y="138"/>
                </a:cubicBezTo>
                <a:cubicBezTo>
                  <a:pt x="184" y="137"/>
                  <a:pt x="185" y="135"/>
                  <a:pt x="184" y="133"/>
                </a:cubicBezTo>
                <a:cubicBezTo>
                  <a:pt x="186" y="135"/>
                  <a:pt x="183" y="136"/>
                  <a:pt x="184" y="138"/>
                </a:cubicBezTo>
                <a:close/>
                <a:moveTo>
                  <a:pt x="206" y="137"/>
                </a:moveTo>
                <a:cubicBezTo>
                  <a:pt x="205" y="138"/>
                  <a:pt x="204" y="137"/>
                  <a:pt x="204" y="137"/>
                </a:cubicBezTo>
                <a:cubicBezTo>
                  <a:pt x="203" y="137"/>
                  <a:pt x="203" y="137"/>
                  <a:pt x="203" y="137"/>
                </a:cubicBezTo>
                <a:cubicBezTo>
                  <a:pt x="204" y="135"/>
                  <a:pt x="205" y="137"/>
                  <a:pt x="206" y="137"/>
                </a:cubicBezTo>
                <a:close/>
                <a:moveTo>
                  <a:pt x="181" y="142"/>
                </a:moveTo>
                <a:cubicBezTo>
                  <a:pt x="180" y="142"/>
                  <a:pt x="180" y="141"/>
                  <a:pt x="179" y="140"/>
                </a:cubicBezTo>
                <a:cubicBezTo>
                  <a:pt x="180" y="137"/>
                  <a:pt x="180" y="141"/>
                  <a:pt x="181" y="142"/>
                </a:cubicBezTo>
                <a:close/>
                <a:moveTo>
                  <a:pt x="212" y="142"/>
                </a:moveTo>
                <a:cubicBezTo>
                  <a:pt x="212" y="143"/>
                  <a:pt x="212" y="143"/>
                  <a:pt x="211" y="143"/>
                </a:cubicBezTo>
                <a:cubicBezTo>
                  <a:pt x="211" y="142"/>
                  <a:pt x="209" y="141"/>
                  <a:pt x="207" y="141"/>
                </a:cubicBezTo>
                <a:cubicBezTo>
                  <a:pt x="208" y="140"/>
                  <a:pt x="208" y="140"/>
                  <a:pt x="208" y="140"/>
                </a:cubicBezTo>
                <a:cubicBezTo>
                  <a:pt x="209" y="141"/>
                  <a:pt x="210" y="142"/>
                  <a:pt x="212" y="142"/>
                </a:cubicBezTo>
                <a:close/>
                <a:moveTo>
                  <a:pt x="372" y="142"/>
                </a:moveTo>
                <a:cubicBezTo>
                  <a:pt x="370" y="141"/>
                  <a:pt x="370" y="141"/>
                  <a:pt x="370" y="141"/>
                </a:cubicBezTo>
                <a:cubicBezTo>
                  <a:pt x="371" y="142"/>
                  <a:pt x="371" y="140"/>
                  <a:pt x="372" y="140"/>
                </a:cubicBezTo>
                <a:cubicBezTo>
                  <a:pt x="372" y="142"/>
                  <a:pt x="372" y="142"/>
                  <a:pt x="372" y="142"/>
                </a:cubicBezTo>
                <a:close/>
                <a:moveTo>
                  <a:pt x="276" y="143"/>
                </a:moveTo>
                <a:cubicBezTo>
                  <a:pt x="275" y="143"/>
                  <a:pt x="276" y="144"/>
                  <a:pt x="276" y="145"/>
                </a:cubicBezTo>
                <a:cubicBezTo>
                  <a:pt x="276" y="145"/>
                  <a:pt x="276" y="145"/>
                  <a:pt x="276" y="145"/>
                </a:cubicBezTo>
                <a:cubicBezTo>
                  <a:pt x="277" y="144"/>
                  <a:pt x="277" y="144"/>
                  <a:pt x="277" y="144"/>
                </a:cubicBezTo>
                <a:cubicBezTo>
                  <a:pt x="279" y="147"/>
                  <a:pt x="284" y="150"/>
                  <a:pt x="282" y="154"/>
                </a:cubicBezTo>
                <a:cubicBezTo>
                  <a:pt x="283" y="155"/>
                  <a:pt x="284" y="154"/>
                  <a:pt x="285" y="155"/>
                </a:cubicBezTo>
                <a:cubicBezTo>
                  <a:pt x="285" y="156"/>
                  <a:pt x="284" y="156"/>
                  <a:pt x="284" y="157"/>
                </a:cubicBezTo>
                <a:cubicBezTo>
                  <a:pt x="282" y="157"/>
                  <a:pt x="281" y="156"/>
                  <a:pt x="280" y="155"/>
                </a:cubicBezTo>
                <a:cubicBezTo>
                  <a:pt x="281" y="155"/>
                  <a:pt x="281" y="155"/>
                  <a:pt x="281" y="155"/>
                </a:cubicBezTo>
                <a:cubicBezTo>
                  <a:pt x="279" y="155"/>
                  <a:pt x="280" y="152"/>
                  <a:pt x="277" y="152"/>
                </a:cubicBezTo>
                <a:cubicBezTo>
                  <a:pt x="276" y="154"/>
                  <a:pt x="274" y="158"/>
                  <a:pt x="271" y="157"/>
                </a:cubicBezTo>
                <a:cubicBezTo>
                  <a:pt x="271" y="157"/>
                  <a:pt x="270" y="156"/>
                  <a:pt x="271" y="155"/>
                </a:cubicBezTo>
                <a:cubicBezTo>
                  <a:pt x="270" y="154"/>
                  <a:pt x="269" y="155"/>
                  <a:pt x="268" y="154"/>
                </a:cubicBezTo>
                <a:cubicBezTo>
                  <a:pt x="268" y="151"/>
                  <a:pt x="272" y="153"/>
                  <a:pt x="271" y="149"/>
                </a:cubicBezTo>
                <a:cubicBezTo>
                  <a:pt x="275" y="141"/>
                  <a:pt x="275" y="141"/>
                  <a:pt x="275" y="141"/>
                </a:cubicBezTo>
                <a:cubicBezTo>
                  <a:pt x="276" y="143"/>
                  <a:pt x="276" y="143"/>
                  <a:pt x="276" y="143"/>
                </a:cubicBezTo>
                <a:close/>
                <a:moveTo>
                  <a:pt x="237" y="143"/>
                </a:moveTo>
                <a:cubicBezTo>
                  <a:pt x="237" y="146"/>
                  <a:pt x="235" y="142"/>
                  <a:pt x="233" y="143"/>
                </a:cubicBezTo>
                <a:cubicBezTo>
                  <a:pt x="234" y="143"/>
                  <a:pt x="236" y="144"/>
                  <a:pt x="237" y="143"/>
                </a:cubicBezTo>
                <a:close/>
                <a:moveTo>
                  <a:pt x="242" y="143"/>
                </a:moveTo>
                <a:cubicBezTo>
                  <a:pt x="241" y="145"/>
                  <a:pt x="241" y="142"/>
                  <a:pt x="239" y="143"/>
                </a:cubicBezTo>
                <a:cubicBezTo>
                  <a:pt x="240" y="143"/>
                  <a:pt x="241" y="142"/>
                  <a:pt x="242" y="143"/>
                </a:cubicBezTo>
                <a:close/>
                <a:moveTo>
                  <a:pt x="184" y="147"/>
                </a:moveTo>
                <a:cubicBezTo>
                  <a:pt x="188" y="148"/>
                  <a:pt x="187" y="155"/>
                  <a:pt x="192" y="152"/>
                </a:cubicBezTo>
                <a:cubicBezTo>
                  <a:pt x="196" y="151"/>
                  <a:pt x="197" y="146"/>
                  <a:pt x="202" y="148"/>
                </a:cubicBezTo>
                <a:cubicBezTo>
                  <a:pt x="203" y="149"/>
                  <a:pt x="203" y="149"/>
                  <a:pt x="203" y="149"/>
                </a:cubicBezTo>
                <a:cubicBezTo>
                  <a:pt x="202" y="150"/>
                  <a:pt x="202" y="149"/>
                  <a:pt x="201" y="148"/>
                </a:cubicBezTo>
                <a:cubicBezTo>
                  <a:pt x="200" y="149"/>
                  <a:pt x="200" y="149"/>
                  <a:pt x="200" y="150"/>
                </a:cubicBezTo>
                <a:cubicBezTo>
                  <a:pt x="200" y="150"/>
                  <a:pt x="199" y="150"/>
                  <a:pt x="199" y="151"/>
                </a:cubicBezTo>
                <a:cubicBezTo>
                  <a:pt x="195" y="152"/>
                  <a:pt x="191" y="156"/>
                  <a:pt x="187" y="155"/>
                </a:cubicBezTo>
                <a:cubicBezTo>
                  <a:pt x="186" y="158"/>
                  <a:pt x="183" y="158"/>
                  <a:pt x="180" y="159"/>
                </a:cubicBezTo>
                <a:cubicBezTo>
                  <a:pt x="178" y="157"/>
                  <a:pt x="175" y="156"/>
                  <a:pt x="174" y="153"/>
                </a:cubicBezTo>
                <a:cubicBezTo>
                  <a:pt x="176" y="156"/>
                  <a:pt x="176" y="156"/>
                  <a:pt x="176" y="156"/>
                </a:cubicBezTo>
                <a:cubicBezTo>
                  <a:pt x="177" y="154"/>
                  <a:pt x="178" y="156"/>
                  <a:pt x="179" y="156"/>
                </a:cubicBezTo>
                <a:cubicBezTo>
                  <a:pt x="182" y="155"/>
                  <a:pt x="182" y="151"/>
                  <a:pt x="184" y="153"/>
                </a:cubicBezTo>
                <a:cubicBezTo>
                  <a:pt x="186" y="152"/>
                  <a:pt x="185" y="150"/>
                  <a:pt x="184" y="148"/>
                </a:cubicBezTo>
                <a:cubicBezTo>
                  <a:pt x="185" y="147"/>
                  <a:pt x="182" y="146"/>
                  <a:pt x="184" y="145"/>
                </a:cubicBezTo>
                <a:cubicBezTo>
                  <a:pt x="183" y="144"/>
                  <a:pt x="183" y="144"/>
                  <a:pt x="183" y="144"/>
                </a:cubicBezTo>
                <a:cubicBezTo>
                  <a:pt x="186" y="144"/>
                  <a:pt x="186" y="144"/>
                  <a:pt x="186" y="144"/>
                </a:cubicBezTo>
                <a:cubicBezTo>
                  <a:pt x="184" y="144"/>
                  <a:pt x="183" y="145"/>
                  <a:pt x="184" y="147"/>
                </a:cubicBezTo>
                <a:close/>
                <a:moveTo>
                  <a:pt x="248" y="149"/>
                </a:moveTo>
                <a:cubicBezTo>
                  <a:pt x="247" y="147"/>
                  <a:pt x="243" y="149"/>
                  <a:pt x="244" y="146"/>
                </a:cubicBezTo>
                <a:cubicBezTo>
                  <a:pt x="245" y="146"/>
                  <a:pt x="248" y="147"/>
                  <a:pt x="248" y="149"/>
                </a:cubicBezTo>
                <a:close/>
                <a:moveTo>
                  <a:pt x="236" y="148"/>
                </a:moveTo>
                <a:cubicBezTo>
                  <a:pt x="236" y="148"/>
                  <a:pt x="236" y="147"/>
                  <a:pt x="235" y="148"/>
                </a:cubicBezTo>
                <a:cubicBezTo>
                  <a:pt x="234" y="149"/>
                  <a:pt x="234" y="149"/>
                  <a:pt x="234" y="149"/>
                </a:cubicBezTo>
                <a:cubicBezTo>
                  <a:pt x="233" y="147"/>
                  <a:pt x="236" y="148"/>
                  <a:pt x="236" y="147"/>
                </a:cubicBezTo>
                <a:cubicBezTo>
                  <a:pt x="236" y="148"/>
                  <a:pt x="236" y="148"/>
                  <a:pt x="236" y="148"/>
                </a:cubicBezTo>
                <a:close/>
                <a:moveTo>
                  <a:pt x="229" y="149"/>
                </a:moveTo>
                <a:cubicBezTo>
                  <a:pt x="226" y="150"/>
                  <a:pt x="228" y="153"/>
                  <a:pt x="226" y="155"/>
                </a:cubicBezTo>
                <a:cubicBezTo>
                  <a:pt x="224" y="153"/>
                  <a:pt x="223" y="151"/>
                  <a:pt x="226" y="150"/>
                </a:cubicBezTo>
                <a:cubicBezTo>
                  <a:pt x="226" y="149"/>
                  <a:pt x="228" y="149"/>
                  <a:pt x="229" y="149"/>
                </a:cubicBezTo>
                <a:close/>
                <a:moveTo>
                  <a:pt x="315" y="154"/>
                </a:moveTo>
                <a:cubicBezTo>
                  <a:pt x="314" y="153"/>
                  <a:pt x="312" y="154"/>
                  <a:pt x="311" y="153"/>
                </a:cubicBezTo>
                <a:cubicBezTo>
                  <a:pt x="312" y="152"/>
                  <a:pt x="313" y="152"/>
                  <a:pt x="313" y="150"/>
                </a:cubicBezTo>
                <a:cubicBezTo>
                  <a:pt x="314" y="151"/>
                  <a:pt x="315" y="152"/>
                  <a:pt x="315" y="154"/>
                </a:cubicBezTo>
                <a:close/>
                <a:moveTo>
                  <a:pt x="243" y="153"/>
                </a:moveTo>
                <a:cubicBezTo>
                  <a:pt x="242" y="154"/>
                  <a:pt x="243" y="155"/>
                  <a:pt x="241" y="156"/>
                </a:cubicBezTo>
                <a:cubicBezTo>
                  <a:pt x="239" y="155"/>
                  <a:pt x="239" y="155"/>
                  <a:pt x="239" y="155"/>
                </a:cubicBezTo>
                <a:cubicBezTo>
                  <a:pt x="239" y="155"/>
                  <a:pt x="240" y="155"/>
                  <a:pt x="240" y="156"/>
                </a:cubicBezTo>
                <a:cubicBezTo>
                  <a:pt x="242" y="156"/>
                  <a:pt x="243" y="154"/>
                  <a:pt x="243" y="153"/>
                </a:cubicBezTo>
                <a:close/>
                <a:moveTo>
                  <a:pt x="235" y="155"/>
                </a:moveTo>
                <a:cubicBezTo>
                  <a:pt x="235" y="156"/>
                  <a:pt x="235" y="157"/>
                  <a:pt x="236" y="157"/>
                </a:cubicBezTo>
                <a:cubicBezTo>
                  <a:pt x="233" y="155"/>
                  <a:pt x="233" y="155"/>
                  <a:pt x="233" y="155"/>
                </a:cubicBezTo>
                <a:cubicBezTo>
                  <a:pt x="235" y="155"/>
                  <a:pt x="235" y="155"/>
                  <a:pt x="235" y="155"/>
                </a:cubicBezTo>
                <a:close/>
                <a:moveTo>
                  <a:pt x="224" y="156"/>
                </a:moveTo>
                <a:cubicBezTo>
                  <a:pt x="224" y="156"/>
                  <a:pt x="223" y="156"/>
                  <a:pt x="223" y="157"/>
                </a:cubicBezTo>
                <a:cubicBezTo>
                  <a:pt x="223" y="156"/>
                  <a:pt x="223" y="156"/>
                  <a:pt x="223" y="156"/>
                </a:cubicBezTo>
                <a:cubicBezTo>
                  <a:pt x="224" y="156"/>
                  <a:pt x="224" y="156"/>
                  <a:pt x="224" y="156"/>
                </a:cubicBezTo>
                <a:close/>
                <a:moveTo>
                  <a:pt x="292" y="160"/>
                </a:moveTo>
                <a:cubicBezTo>
                  <a:pt x="292" y="160"/>
                  <a:pt x="292" y="160"/>
                  <a:pt x="292" y="160"/>
                </a:cubicBezTo>
                <a:cubicBezTo>
                  <a:pt x="290" y="159"/>
                  <a:pt x="290" y="159"/>
                  <a:pt x="290" y="159"/>
                </a:cubicBezTo>
                <a:cubicBezTo>
                  <a:pt x="291" y="158"/>
                  <a:pt x="292" y="159"/>
                  <a:pt x="292" y="160"/>
                </a:cubicBezTo>
                <a:close/>
                <a:moveTo>
                  <a:pt x="243" y="159"/>
                </a:moveTo>
                <a:cubicBezTo>
                  <a:pt x="242" y="160"/>
                  <a:pt x="241" y="159"/>
                  <a:pt x="240" y="160"/>
                </a:cubicBezTo>
                <a:cubicBezTo>
                  <a:pt x="241" y="160"/>
                  <a:pt x="242" y="159"/>
                  <a:pt x="243" y="159"/>
                </a:cubicBezTo>
                <a:close/>
                <a:moveTo>
                  <a:pt x="279" y="161"/>
                </a:moveTo>
                <a:cubicBezTo>
                  <a:pt x="278" y="162"/>
                  <a:pt x="276" y="165"/>
                  <a:pt x="273" y="164"/>
                </a:cubicBezTo>
                <a:cubicBezTo>
                  <a:pt x="273" y="162"/>
                  <a:pt x="275" y="161"/>
                  <a:pt x="276" y="160"/>
                </a:cubicBezTo>
                <a:cubicBezTo>
                  <a:pt x="277" y="162"/>
                  <a:pt x="278" y="159"/>
                  <a:pt x="279" y="161"/>
                </a:cubicBezTo>
                <a:close/>
                <a:moveTo>
                  <a:pt x="233" y="163"/>
                </a:moveTo>
                <a:cubicBezTo>
                  <a:pt x="232" y="165"/>
                  <a:pt x="235" y="162"/>
                  <a:pt x="233" y="161"/>
                </a:cubicBezTo>
                <a:cubicBezTo>
                  <a:pt x="234" y="163"/>
                  <a:pt x="234" y="163"/>
                  <a:pt x="234" y="163"/>
                </a:cubicBezTo>
                <a:cubicBezTo>
                  <a:pt x="233" y="163"/>
                  <a:pt x="233" y="163"/>
                  <a:pt x="233" y="163"/>
                </a:cubicBezTo>
                <a:close/>
                <a:moveTo>
                  <a:pt x="213" y="163"/>
                </a:moveTo>
                <a:cubicBezTo>
                  <a:pt x="213" y="164"/>
                  <a:pt x="213" y="166"/>
                  <a:pt x="212" y="167"/>
                </a:cubicBezTo>
                <a:cubicBezTo>
                  <a:pt x="213" y="166"/>
                  <a:pt x="212" y="163"/>
                  <a:pt x="213" y="163"/>
                </a:cubicBezTo>
                <a:close/>
                <a:moveTo>
                  <a:pt x="222" y="164"/>
                </a:moveTo>
                <a:cubicBezTo>
                  <a:pt x="222" y="165"/>
                  <a:pt x="221" y="165"/>
                  <a:pt x="221" y="165"/>
                </a:cubicBezTo>
                <a:cubicBezTo>
                  <a:pt x="220" y="165"/>
                  <a:pt x="220" y="165"/>
                  <a:pt x="220" y="165"/>
                </a:cubicBezTo>
                <a:cubicBezTo>
                  <a:pt x="222" y="165"/>
                  <a:pt x="220" y="163"/>
                  <a:pt x="222" y="164"/>
                </a:cubicBezTo>
                <a:close/>
                <a:moveTo>
                  <a:pt x="285" y="164"/>
                </a:moveTo>
                <a:cubicBezTo>
                  <a:pt x="285" y="166"/>
                  <a:pt x="284" y="167"/>
                  <a:pt x="283" y="168"/>
                </a:cubicBezTo>
                <a:cubicBezTo>
                  <a:pt x="282" y="167"/>
                  <a:pt x="282" y="166"/>
                  <a:pt x="283" y="165"/>
                </a:cubicBezTo>
                <a:cubicBezTo>
                  <a:pt x="284" y="164"/>
                  <a:pt x="284" y="164"/>
                  <a:pt x="284" y="164"/>
                </a:cubicBezTo>
                <a:cubicBezTo>
                  <a:pt x="285" y="164"/>
                  <a:pt x="285" y="164"/>
                  <a:pt x="285" y="164"/>
                </a:cubicBezTo>
                <a:close/>
                <a:moveTo>
                  <a:pt x="115" y="166"/>
                </a:moveTo>
                <a:cubicBezTo>
                  <a:pt x="114" y="167"/>
                  <a:pt x="114" y="167"/>
                  <a:pt x="114" y="167"/>
                </a:cubicBezTo>
                <a:cubicBezTo>
                  <a:pt x="115" y="167"/>
                  <a:pt x="115" y="168"/>
                  <a:pt x="115" y="169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3" y="168"/>
                  <a:pt x="113" y="168"/>
                  <a:pt x="113" y="169"/>
                </a:cubicBezTo>
                <a:cubicBezTo>
                  <a:pt x="112" y="168"/>
                  <a:pt x="113" y="166"/>
                  <a:pt x="113" y="164"/>
                </a:cubicBezTo>
                <a:cubicBezTo>
                  <a:pt x="115" y="163"/>
                  <a:pt x="114" y="166"/>
                  <a:pt x="115" y="166"/>
                </a:cubicBezTo>
                <a:close/>
                <a:moveTo>
                  <a:pt x="118" y="169"/>
                </a:moveTo>
                <a:cubicBezTo>
                  <a:pt x="117" y="170"/>
                  <a:pt x="116" y="171"/>
                  <a:pt x="115" y="171"/>
                </a:cubicBezTo>
                <a:cubicBezTo>
                  <a:pt x="118" y="169"/>
                  <a:pt x="116" y="167"/>
                  <a:pt x="117" y="165"/>
                </a:cubicBezTo>
                <a:cubicBezTo>
                  <a:pt x="119" y="165"/>
                  <a:pt x="118" y="168"/>
                  <a:pt x="118" y="169"/>
                </a:cubicBezTo>
                <a:close/>
                <a:moveTo>
                  <a:pt x="217" y="169"/>
                </a:moveTo>
                <a:cubicBezTo>
                  <a:pt x="218" y="167"/>
                  <a:pt x="218" y="167"/>
                  <a:pt x="218" y="167"/>
                </a:cubicBezTo>
                <a:cubicBezTo>
                  <a:pt x="218" y="169"/>
                  <a:pt x="218" y="169"/>
                  <a:pt x="218" y="169"/>
                </a:cubicBezTo>
                <a:cubicBezTo>
                  <a:pt x="217" y="169"/>
                  <a:pt x="217" y="169"/>
                  <a:pt x="217" y="169"/>
                </a:cubicBezTo>
                <a:close/>
                <a:moveTo>
                  <a:pt x="223" y="172"/>
                </a:moveTo>
                <a:cubicBezTo>
                  <a:pt x="224" y="170"/>
                  <a:pt x="225" y="168"/>
                  <a:pt x="226" y="167"/>
                </a:cubicBezTo>
                <a:cubicBezTo>
                  <a:pt x="225" y="169"/>
                  <a:pt x="224" y="170"/>
                  <a:pt x="223" y="172"/>
                </a:cubicBezTo>
                <a:close/>
                <a:moveTo>
                  <a:pt x="197" y="171"/>
                </a:moveTo>
                <a:cubicBezTo>
                  <a:pt x="197" y="171"/>
                  <a:pt x="198" y="171"/>
                  <a:pt x="198" y="171"/>
                </a:cubicBezTo>
                <a:cubicBezTo>
                  <a:pt x="196" y="175"/>
                  <a:pt x="191" y="169"/>
                  <a:pt x="190" y="174"/>
                </a:cubicBezTo>
                <a:cubicBezTo>
                  <a:pt x="189" y="174"/>
                  <a:pt x="188" y="174"/>
                  <a:pt x="187" y="173"/>
                </a:cubicBezTo>
                <a:cubicBezTo>
                  <a:pt x="191" y="173"/>
                  <a:pt x="194" y="166"/>
                  <a:pt x="196" y="171"/>
                </a:cubicBezTo>
                <a:cubicBezTo>
                  <a:pt x="197" y="171"/>
                  <a:pt x="197" y="171"/>
                  <a:pt x="197" y="171"/>
                </a:cubicBezTo>
                <a:close/>
                <a:moveTo>
                  <a:pt x="114" y="170"/>
                </a:moveTo>
                <a:cubicBezTo>
                  <a:pt x="114" y="172"/>
                  <a:pt x="113" y="174"/>
                  <a:pt x="113" y="176"/>
                </a:cubicBezTo>
                <a:cubicBezTo>
                  <a:pt x="114" y="173"/>
                  <a:pt x="112" y="171"/>
                  <a:pt x="114" y="170"/>
                </a:cubicBezTo>
                <a:close/>
                <a:moveTo>
                  <a:pt x="119" y="176"/>
                </a:moveTo>
                <a:cubicBezTo>
                  <a:pt x="118" y="175"/>
                  <a:pt x="118" y="175"/>
                  <a:pt x="118" y="175"/>
                </a:cubicBezTo>
                <a:cubicBezTo>
                  <a:pt x="118" y="175"/>
                  <a:pt x="117" y="175"/>
                  <a:pt x="118" y="176"/>
                </a:cubicBezTo>
                <a:cubicBezTo>
                  <a:pt x="117" y="176"/>
                  <a:pt x="116" y="176"/>
                  <a:pt x="116" y="175"/>
                </a:cubicBezTo>
                <a:cubicBezTo>
                  <a:pt x="115" y="176"/>
                  <a:pt x="115" y="177"/>
                  <a:pt x="114" y="177"/>
                </a:cubicBezTo>
                <a:cubicBezTo>
                  <a:pt x="114" y="176"/>
                  <a:pt x="115" y="175"/>
                  <a:pt x="115" y="173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6" y="174"/>
                  <a:pt x="116" y="174"/>
                  <a:pt x="117" y="175"/>
                </a:cubicBezTo>
                <a:cubicBezTo>
                  <a:pt x="117" y="172"/>
                  <a:pt x="117" y="172"/>
                  <a:pt x="117" y="172"/>
                </a:cubicBezTo>
                <a:cubicBezTo>
                  <a:pt x="119" y="173"/>
                  <a:pt x="119" y="174"/>
                  <a:pt x="119" y="176"/>
                </a:cubicBezTo>
                <a:close/>
                <a:moveTo>
                  <a:pt x="185" y="173"/>
                </a:moveTo>
                <a:cubicBezTo>
                  <a:pt x="185" y="174"/>
                  <a:pt x="185" y="174"/>
                  <a:pt x="184" y="175"/>
                </a:cubicBezTo>
                <a:cubicBezTo>
                  <a:pt x="184" y="173"/>
                  <a:pt x="184" y="173"/>
                  <a:pt x="184" y="173"/>
                </a:cubicBezTo>
                <a:cubicBezTo>
                  <a:pt x="184" y="173"/>
                  <a:pt x="185" y="173"/>
                  <a:pt x="185" y="173"/>
                </a:cubicBezTo>
                <a:close/>
                <a:moveTo>
                  <a:pt x="118" y="177"/>
                </a:moveTo>
                <a:cubicBezTo>
                  <a:pt x="119" y="179"/>
                  <a:pt x="119" y="179"/>
                  <a:pt x="119" y="179"/>
                </a:cubicBezTo>
                <a:cubicBezTo>
                  <a:pt x="118" y="177"/>
                  <a:pt x="118" y="177"/>
                  <a:pt x="118" y="177"/>
                </a:cubicBezTo>
                <a:close/>
                <a:moveTo>
                  <a:pt x="211" y="178"/>
                </a:moveTo>
                <a:cubicBezTo>
                  <a:pt x="211" y="180"/>
                  <a:pt x="209" y="181"/>
                  <a:pt x="208" y="182"/>
                </a:cubicBezTo>
                <a:cubicBezTo>
                  <a:pt x="207" y="181"/>
                  <a:pt x="209" y="178"/>
                  <a:pt x="211" y="178"/>
                </a:cubicBezTo>
                <a:close/>
                <a:moveTo>
                  <a:pt x="118" y="180"/>
                </a:moveTo>
                <a:cubicBezTo>
                  <a:pt x="117" y="180"/>
                  <a:pt x="118" y="182"/>
                  <a:pt x="117" y="182"/>
                </a:cubicBezTo>
                <a:cubicBezTo>
                  <a:pt x="118" y="183"/>
                  <a:pt x="117" y="185"/>
                  <a:pt x="117" y="186"/>
                </a:cubicBezTo>
                <a:cubicBezTo>
                  <a:pt x="116" y="186"/>
                  <a:pt x="118" y="183"/>
                  <a:pt x="115" y="183"/>
                </a:cubicBezTo>
                <a:cubicBezTo>
                  <a:pt x="116" y="182"/>
                  <a:pt x="116" y="178"/>
                  <a:pt x="118" y="180"/>
                </a:cubicBezTo>
                <a:close/>
                <a:moveTo>
                  <a:pt x="144" y="184"/>
                </a:moveTo>
                <a:cubicBezTo>
                  <a:pt x="143" y="184"/>
                  <a:pt x="143" y="182"/>
                  <a:pt x="143" y="181"/>
                </a:cubicBezTo>
                <a:cubicBezTo>
                  <a:pt x="144" y="182"/>
                  <a:pt x="143" y="183"/>
                  <a:pt x="144" y="184"/>
                </a:cubicBezTo>
                <a:close/>
                <a:moveTo>
                  <a:pt x="213" y="181"/>
                </a:moveTo>
                <a:cubicBezTo>
                  <a:pt x="214" y="184"/>
                  <a:pt x="209" y="185"/>
                  <a:pt x="210" y="188"/>
                </a:cubicBezTo>
                <a:cubicBezTo>
                  <a:pt x="209" y="189"/>
                  <a:pt x="207" y="189"/>
                  <a:pt x="206" y="191"/>
                </a:cubicBezTo>
                <a:cubicBezTo>
                  <a:pt x="205" y="189"/>
                  <a:pt x="208" y="189"/>
                  <a:pt x="208" y="188"/>
                </a:cubicBezTo>
                <a:cubicBezTo>
                  <a:pt x="209" y="185"/>
                  <a:pt x="210" y="182"/>
                  <a:pt x="213" y="181"/>
                </a:cubicBezTo>
                <a:close/>
                <a:moveTo>
                  <a:pt x="199" y="182"/>
                </a:moveTo>
                <a:cubicBezTo>
                  <a:pt x="200" y="184"/>
                  <a:pt x="198" y="183"/>
                  <a:pt x="198" y="184"/>
                </a:cubicBezTo>
                <a:cubicBezTo>
                  <a:pt x="196" y="184"/>
                  <a:pt x="196" y="184"/>
                  <a:pt x="196" y="184"/>
                </a:cubicBezTo>
                <a:cubicBezTo>
                  <a:pt x="197" y="183"/>
                  <a:pt x="198" y="183"/>
                  <a:pt x="199" y="182"/>
                </a:cubicBezTo>
                <a:close/>
                <a:moveTo>
                  <a:pt x="222" y="188"/>
                </a:moveTo>
                <a:cubicBezTo>
                  <a:pt x="220" y="187"/>
                  <a:pt x="220" y="191"/>
                  <a:pt x="218" y="189"/>
                </a:cubicBezTo>
                <a:cubicBezTo>
                  <a:pt x="218" y="188"/>
                  <a:pt x="222" y="189"/>
                  <a:pt x="222" y="185"/>
                </a:cubicBezTo>
                <a:cubicBezTo>
                  <a:pt x="222" y="188"/>
                  <a:pt x="222" y="188"/>
                  <a:pt x="222" y="188"/>
                </a:cubicBezTo>
                <a:close/>
                <a:moveTo>
                  <a:pt x="189" y="191"/>
                </a:moveTo>
                <a:cubicBezTo>
                  <a:pt x="189" y="190"/>
                  <a:pt x="190" y="190"/>
                  <a:pt x="190" y="190"/>
                </a:cubicBezTo>
                <a:cubicBezTo>
                  <a:pt x="189" y="191"/>
                  <a:pt x="189" y="191"/>
                  <a:pt x="189" y="191"/>
                </a:cubicBezTo>
                <a:cubicBezTo>
                  <a:pt x="188" y="189"/>
                  <a:pt x="188" y="189"/>
                  <a:pt x="188" y="189"/>
                </a:cubicBezTo>
                <a:cubicBezTo>
                  <a:pt x="189" y="191"/>
                  <a:pt x="189" y="191"/>
                  <a:pt x="189" y="191"/>
                </a:cubicBezTo>
                <a:close/>
                <a:moveTo>
                  <a:pt x="116" y="191"/>
                </a:moveTo>
                <a:cubicBezTo>
                  <a:pt x="115" y="192"/>
                  <a:pt x="114" y="195"/>
                  <a:pt x="114" y="196"/>
                </a:cubicBezTo>
                <a:cubicBezTo>
                  <a:pt x="112" y="196"/>
                  <a:pt x="113" y="199"/>
                  <a:pt x="114" y="200"/>
                </a:cubicBezTo>
                <a:cubicBezTo>
                  <a:pt x="114" y="201"/>
                  <a:pt x="114" y="201"/>
                  <a:pt x="114" y="201"/>
                </a:cubicBezTo>
                <a:cubicBezTo>
                  <a:pt x="113" y="200"/>
                  <a:pt x="113" y="198"/>
                  <a:pt x="112" y="197"/>
                </a:cubicBezTo>
                <a:cubicBezTo>
                  <a:pt x="112" y="195"/>
                  <a:pt x="111" y="192"/>
                  <a:pt x="113" y="189"/>
                </a:cubicBezTo>
                <a:cubicBezTo>
                  <a:pt x="114" y="191"/>
                  <a:pt x="115" y="191"/>
                  <a:pt x="116" y="191"/>
                </a:cubicBezTo>
                <a:close/>
                <a:moveTo>
                  <a:pt x="170" y="190"/>
                </a:moveTo>
                <a:cubicBezTo>
                  <a:pt x="170" y="191"/>
                  <a:pt x="170" y="191"/>
                  <a:pt x="170" y="191"/>
                </a:cubicBezTo>
                <a:cubicBezTo>
                  <a:pt x="167" y="189"/>
                  <a:pt x="167" y="189"/>
                  <a:pt x="167" y="189"/>
                </a:cubicBezTo>
                <a:cubicBezTo>
                  <a:pt x="168" y="190"/>
                  <a:pt x="168" y="190"/>
                  <a:pt x="170" y="190"/>
                </a:cubicBezTo>
                <a:close/>
                <a:moveTo>
                  <a:pt x="215" y="191"/>
                </a:moveTo>
                <a:cubicBezTo>
                  <a:pt x="215" y="191"/>
                  <a:pt x="214" y="192"/>
                  <a:pt x="214" y="192"/>
                </a:cubicBezTo>
                <a:cubicBezTo>
                  <a:pt x="213" y="191"/>
                  <a:pt x="213" y="191"/>
                  <a:pt x="213" y="191"/>
                </a:cubicBezTo>
                <a:cubicBezTo>
                  <a:pt x="214" y="191"/>
                  <a:pt x="214" y="190"/>
                  <a:pt x="215" y="191"/>
                </a:cubicBezTo>
                <a:close/>
                <a:moveTo>
                  <a:pt x="200" y="195"/>
                </a:moveTo>
                <a:cubicBezTo>
                  <a:pt x="200" y="196"/>
                  <a:pt x="199" y="196"/>
                  <a:pt x="199" y="197"/>
                </a:cubicBezTo>
                <a:cubicBezTo>
                  <a:pt x="198" y="197"/>
                  <a:pt x="197" y="197"/>
                  <a:pt x="197" y="196"/>
                </a:cubicBezTo>
                <a:cubicBezTo>
                  <a:pt x="198" y="195"/>
                  <a:pt x="199" y="195"/>
                  <a:pt x="200" y="195"/>
                </a:cubicBezTo>
                <a:close/>
                <a:moveTo>
                  <a:pt x="192" y="198"/>
                </a:moveTo>
                <a:cubicBezTo>
                  <a:pt x="191" y="197"/>
                  <a:pt x="191" y="197"/>
                  <a:pt x="191" y="197"/>
                </a:cubicBezTo>
                <a:cubicBezTo>
                  <a:pt x="192" y="198"/>
                  <a:pt x="192" y="198"/>
                  <a:pt x="192" y="198"/>
                </a:cubicBezTo>
                <a:cubicBezTo>
                  <a:pt x="192" y="198"/>
                  <a:pt x="192" y="198"/>
                  <a:pt x="192" y="198"/>
                </a:cubicBezTo>
                <a:close/>
                <a:moveTo>
                  <a:pt x="277" y="197"/>
                </a:moveTo>
                <a:cubicBezTo>
                  <a:pt x="277" y="198"/>
                  <a:pt x="276" y="199"/>
                  <a:pt x="275" y="200"/>
                </a:cubicBezTo>
                <a:cubicBezTo>
                  <a:pt x="275" y="200"/>
                  <a:pt x="274" y="199"/>
                  <a:pt x="274" y="199"/>
                </a:cubicBezTo>
                <a:cubicBezTo>
                  <a:pt x="275" y="198"/>
                  <a:pt x="275" y="197"/>
                  <a:pt x="277" y="197"/>
                </a:cubicBezTo>
                <a:close/>
                <a:moveTo>
                  <a:pt x="127" y="201"/>
                </a:moveTo>
                <a:cubicBezTo>
                  <a:pt x="127" y="201"/>
                  <a:pt x="127" y="201"/>
                  <a:pt x="127" y="202"/>
                </a:cubicBezTo>
                <a:cubicBezTo>
                  <a:pt x="127" y="202"/>
                  <a:pt x="127" y="202"/>
                  <a:pt x="127" y="202"/>
                </a:cubicBezTo>
                <a:cubicBezTo>
                  <a:pt x="126" y="202"/>
                  <a:pt x="126" y="202"/>
                  <a:pt x="126" y="202"/>
                </a:cubicBezTo>
                <a:cubicBezTo>
                  <a:pt x="126" y="202"/>
                  <a:pt x="126" y="201"/>
                  <a:pt x="127" y="201"/>
                </a:cubicBezTo>
                <a:close/>
                <a:moveTo>
                  <a:pt x="231" y="202"/>
                </a:moveTo>
                <a:cubicBezTo>
                  <a:pt x="230" y="203"/>
                  <a:pt x="229" y="202"/>
                  <a:pt x="228" y="202"/>
                </a:cubicBezTo>
                <a:cubicBezTo>
                  <a:pt x="229" y="202"/>
                  <a:pt x="230" y="201"/>
                  <a:pt x="231" y="202"/>
                </a:cubicBezTo>
                <a:close/>
                <a:moveTo>
                  <a:pt x="211" y="202"/>
                </a:moveTo>
                <a:cubicBezTo>
                  <a:pt x="211" y="203"/>
                  <a:pt x="211" y="203"/>
                  <a:pt x="211" y="204"/>
                </a:cubicBezTo>
                <a:cubicBezTo>
                  <a:pt x="211" y="204"/>
                  <a:pt x="212" y="204"/>
                  <a:pt x="212" y="204"/>
                </a:cubicBezTo>
                <a:cubicBezTo>
                  <a:pt x="212" y="205"/>
                  <a:pt x="211" y="206"/>
                  <a:pt x="211" y="206"/>
                </a:cubicBezTo>
                <a:cubicBezTo>
                  <a:pt x="211" y="208"/>
                  <a:pt x="212" y="208"/>
                  <a:pt x="214" y="208"/>
                </a:cubicBezTo>
                <a:cubicBezTo>
                  <a:pt x="214" y="207"/>
                  <a:pt x="214" y="206"/>
                  <a:pt x="215" y="205"/>
                </a:cubicBezTo>
                <a:cubicBezTo>
                  <a:pt x="215" y="205"/>
                  <a:pt x="216" y="207"/>
                  <a:pt x="217" y="205"/>
                </a:cubicBezTo>
                <a:cubicBezTo>
                  <a:pt x="217" y="204"/>
                  <a:pt x="217" y="203"/>
                  <a:pt x="216" y="202"/>
                </a:cubicBezTo>
                <a:cubicBezTo>
                  <a:pt x="218" y="202"/>
                  <a:pt x="218" y="202"/>
                  <a:pt x="218" y="202"/>
                </a:cubicBezTo>
                <a:cubicBezTo>
                  <a:pt x="218" y="203"/>
                  <a:pt x="217" y="204"/>
                  <a:pt x="217" y="204"/>
                </a:cubicBezTo>
                <a:cubicBezTo>
                  <a:pt x="218" y="205"/>
                  <a:pt x="218" y="205"/>
                  <a:pt x="218" y="205"/>
                </a:cubicBezTo>
                <a:cubicBezTo>
                  <a:pt x="216" y="206"/>
                  <a:pt x="216" y="206"/>
                  <a:pt x="216" y="206"/>
                </a:cubicBezTo>
                <a:cubicBezTo>
                  <a:pt x="219" y="208"/>
                  <a:pt x="217" y="213"/>
                  <a:pt x="218" y="216"/>
                </a:cubicBezTo>
                <a:cubicBezTo>
                  <a:pt x="217" y="216"/>
                  <a:pt x="217" y="216"/>
                  <a:pt x="216" y="217"/>
                </a:cubicBezTo>
                <a:cubicBezTo>
                  <a:pt x="216" y="216"/>
                  <a:pt x="217" y="216"/>
                  <a:pt x="217" y="216"/>
                </a:cubicBezTo>
                <a:cubicBezTo>
                  <a:pt x="214" y="215"/>
                  <a:pt x="215" y="212"/>
                  <a:pt x="214" y="210"/>
                </a:cubicBezTo>
                <a:cubicBezTo>
                  <a:pt x="214" y="210"/>
                  <a:pt x="214" y="210"/>
                  <a:pt x="214" y="209"/>
                </a:cubicBezTo>
                <a:cubicBezTo>
                  <a:pt x="213" y="208"/>
                  <a:pt x="212" y="208"/>
                  <a:pt x="211" y="208"/>
                </a:cubicBezTo>
                <a:cubicBezTo>
                  <a:pt x="211" y="210"/>
                  <a:pt x="210" y="212"/>
                  <a:pt x="209" y="214"/>
                </a:cubicBezTo>
                <a:cubicBezTo>
                  <a:pt x="209" y="216"/>
                  <a:pt x="209" y="216"/>
                  <a:pt x="209" y="216"/>
                </a:cubicBezTo>
                <a:cubicBezTo>
                  <a:pt x="208" y="215"/>
                  <a:pt x="209" y="214"/>
                  <a:pt x="208" y="213"/>
                </a:cubicBezTo>
                <a:cubicBezTo>
                  <a:pt x="209" y="212"/>
                  <a:pt x="210" y="211"/>
                  <a:pt x="210" y="210"/>
                </a:cubicBezTo>
                <a:cubicBezTo>
                  <a:pt x="208" y="209"/>
                  <a:pt x="208" y="209"/>
                  <a:pt x="208" y="209"/>
                </a:cubicBezTo>
                <a:cubicBezTo>
                  <a:pt x="208" y="209"/>
                  <a:pt x="208" y="210"/>
                  <a:pt x="207" y="209"/>
                </a:cubicBezTo>
                <a:cubicBezTo>
                  <a:pt x="207" y="209"/>
                  <a:pt x="207" y="209"/>
                  <a:pt x="207" y="209"/>
                </a:cubicBezTo>
                <a:cubicBezTo>
                  <a:pt x="210" y="208"/>
                  <a:pt x="210" y="208"/>
                  <a:pt x="210" y="208"/>
                </a:cubicBezTo>
                <a:cubicBezTo>
                  <a:pt x="208" y="206"/>
                  <a:pt x="208" y="202"/>
                  <a:pt x="211" y="202"/>
                </a:cubicBezTo>
                <a:close/>
                <a:moveTo>
                  <a:pt x="295" y="205"/>
                </a:moveTo>
                <a:cubicBezTo>
                  <a:pt x="295" y="206"/>
                  <a:pt x="294" y="206"/>
                  <a:pt x="293" y="206"/>
                </a:cubicBezTo>
                <a:cubicBezTo>
                  <a:pt x="294" y="206"/>
                  <a:pt x="294" y="205"/>
                  <a:pt x="295" y="205"/>
                </a:cubicBezTo>
                <a:close/>
                <a:moveTo>
                  <a:pt x="229" y="207"/>
                </a:moveTo>
                <a:cubicBezTo>
                  <a:pt x="226" y="206"/>
                  <a:pt x="226" y="206"/>
                  <a:pt x="226" y="206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29" y="207"/>
                  <a:pt x="229" y="207"/>
                  <a:pt x="229" y="207"/>
                </a:cubicBezTo>
                <a:close/>
                <a:moveTo>
                  <a:pt x="305" y="209"/>
                </a:moveTo>
                <a:cubicBezTo>
                  <a:pt x="304" y="210"/>
                  <a:pt x="304" y="210"/>
                  <a:pt x="304" y="210"/>
                </a:cubicBezTo>
                <a:cubicBezTo>
                  <a:pt x="304" y="209"/>
                  <a:pt x="304" y="209"/>
                  <a:pt x="303" y="208"/>
                </a:cubicBezTo>
                <a:cubicBezTo>
                  <a:pt x="303" y="208"/>
                  <a:pt x="302" y="208"/>
                  <a:pt x="302" y="209"/>
                </a:cubicBezTo>
                <a:cubicBezTo>
                  <a:pt x="303" y="209"/>
                  <a:pt x="303" y="209"/>
                  <a:pt x="303" y="209"/>
                </a:cubicBezTo>
                <a:cubicBezTo>
                  <a:pt x="301" y="210"/>
                  <a:pt x="303" y="211"/>
                  <a:pt x="303" y="212"/>
                </a:cubicBezTo>
                <a:cubicBezTo>
                  <a:pt x="301" y="211"/>
                  <a:pt x="301" y="211"/>
                  <a:pt x="301" y="211"/>
                </a:cubicBezTo>
                <a:cubicBezTo>
                  <a:pt x="303" y="208"/>
                  <a:pt x="303" y="208"/>
                  <a:pt x="303" y="208"/>
                </a:cubicBezTo>
                <a:cubicBezTo>
                  <a:pt x="303" y="208"/>
                  <a:pt x="304" y="208"/>
                  <a:pt x="305" y="209"/>
                </a:cubicBezTo>
                <a:close/>
                <a:moveTo>
                  <a:pt x="251" y="208"/>
                </a:moveTo>
                <a:cubicBezTo>
                  <a:pt x="251" y="210"/>
                  <a:pt x="250" y="210"/>
                  <a:pt x="249" y="211"/>
                </a:cubicBezTo>
                <a:cubicBezTo>
                  <a:pt x="249" y="211"/>
                  <a:pt x="249" y="211"/>
                  <a:pt x="249" y="211"/>
                </a:cubicBezTo>
                <a:cubicBezTo>
                  <a:pt x="249" y="210"/>
                  <a:pt x="250" y="209"/>
                  <a:pt x="251" y="208"/>
                </a:cubicBezTo>
                <a:close/>
                <a:moveTo>
                  <a:pt x="233" y="210"/>
                </a:moveTo>
                <a:cubicBezTo>
                  <a:pt x="232" y="210"/>
                  <a:pt x="230" y="212"/>
                  <a:pt x="230" y="210"/>
                </a:cubicBezTo>
                <a:cubicBezTo>
                  <a:pt x="230" y="211"/>
                  <a:pt x="232" y="210"/>
                  <a:pt x="233" y="210"/>
                </a:cubicBezTo>
                <a:close/>
                <a:moveTo>
                  <a:pt x="127" y="214"/>
                </a:moveTo>
                <a:cubicBezTo>
                  <a:pt x="128" y="218"/>
                  <a:pt x="131" y="220"/>
                  <a:pt x="131" y="224"/>
                </a:cubicBezTo>
                <a:cubicBezTo>
                  <a:pt x="129" y="224"/>
                  <a:pt x="128" y="223"/>
                  <a:pt x="127" y="222"/>
                </a:cubicBezTo>
                <a:cubicBezTo>
                  <a:pt x="127" y="221"/>
                  <a:pt x="127" y="221"/>
                  <a:pt x="127" y="221"/>
                </a:cubicBezTo>
                <a:cubicBezTo>
                  <a:pt x="125" y="221"/>
                  <a:pt x="126" y="218"/>
                  <a:pt x="123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23" y="215"/>
                  <a:pt x="119" y="214"/>
                  <a:pt x="121" y="212"/>
                </a:cubicBezTo>
                <a:cubicBezTo>
                  <a:pt x="120" y="210"/>
                  <a:pt x="120" y="210"/>
                  <a:pt x="120" y="210"/>
                </a:cubicBezTo>
                <a:cubicBezTo>
                  <a:pt x="123" y="210"/>
                  <a:pt x="124" y="215"/>
                  <a:pt x="127" y="214"/>
                </a:cubicBezTo>
                <a:close/>
                <a:moveTo>
                  <a:pt x="320" y="212"/>
                </a:move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3"/>
                  <a:pt x="321" y="213"/>
                </a:cubicBezTo>
                <a:cubicBezTo>
                  <a:pt x="319" y="214"/>
                  <a:pt x="317" y="211"/>
                  <a:pt x="316" y="214"/>
                </a:cubicBezTo>
                <a:cubicBezTo>
                  <a:pt x="314" y="214"/>
                  <a:pt x="315" y="212"/>
                  <a:pt x="314" y="212"/>
                </a:cubicBezTo>
                <a:cubicBezTo>
                  <a:pt x="316" y="214"/>
                  <a:pt x="318" y="209"/>
                  <a:pt x="320" y="212"/>
                </a:cubicBezTo>
                <a:close/>
                <a:moveTo>
                  <a:pt x="267" y="214"/>
                </a:moveTo>
                <a:cubicBezTo>
                  <a:pt x="267" y="214"/>
                  <a:pt x="267" y="215"/>
                  <a:pt x="267" y="215"/>
                </a:cubicBezTo>
                <a:cubicBezTo>
                  <a:pt x="266" y="214"/>
                  <a:pt x="265" y="215"/>
                  <a:pt x="264" y="214"/>
                </a:cubicBezTo>
                <a:cubicBezTo>
                  <a:pt x="264" y="213"/>
                  <a:pt x="267" y="213"/>
                  <a:pt x="267" y="214"/>
                </a:cubicBezTo>
                <a:close/>
                <a:moveTo>
                  <a:pt x="187" y="216"/>
                </a:moveTo>
                <a:cubicBezTo>
                  <a:pt x="186" y="216"/>
                  <a:pt x="184" y="219"/>
                  <a:pt x="182" y="218"/>
                </a:cubicBezTo>
                <a:cubicBezTo>
                  <a:pt x="184" y="219"/>
                  <a:pt x="186" y="216"/>
                  <a:pt x="187" y="216"/>
                </a:cubicBezTo>
                <a:close/>
                <a:moveTo>
                  <a:pt x="212" y="218"/>
                </a:moveTo>
                <a:cubicBezTo>
                  <a:pt x="209" y="219"/>
                  <a:pt x="214" y="222"/>
                  <a:pt x="211" y="223"/>
                </a:cubicBezTo>
                <a:cubicBezTo>
                  <a:pt x="211" y="223"/>
                  <a:pt x="210" y="222"/>
                  <a:pt x="211" y="222"/>
                </a:cubicBezTo>
                <a:cubicBezTo>
                  <a:pt x="210" y="221"/>
                  <a:pt x="211" y="217"/>
                  <a:pt x="210" y="216"/>
                </a:cubicBezTo>
                <a:cubicBezTo>
                  <a:pt x="212" y="215"/>
                  <a:pt x="211" y="217"/>
                  <a:pt x="212" y="218"/>
                </a:cubicBezTo>
                <a:close/>
                <a:moveTo>
                  <a:pt x="218" y="221"/>
                </a:moveTo>
                <a:cubicBezTo>
                  <a:pt x="217" y="222"/>
                  <a:pt x="217" y="223"/>
                  <a:pt x="216" y="222"/>
                </a:cubicBezTo>
                <a:cubicBezTo>
                  <a:pt x="218" y="217"/>
                  <a:pt x="218" y="217"/>
                  <a:pt x="218" y="217"/>
                </a:cubicBezTo>
                <a:cubicBezTo>
                  <a:pt x="218" y="218"/>
                  <a:pt x="218" y="220"/>
                  <a:pt x="218" y="221"/>
                </a:cubicBezTo>
                <a:close/>
                <a:moveTo>
                  <a:pt x="232" y="220"/>
                </a:moveTo>
                <a:cubicBezTo>
                  <a:pt x="233" y="217"/>
                  <a:pt x="233" y="217"/>
                  <a:pt x="233" y="217"/>
                </a:cubicBezTo>
                <a:cubicBezTo>
                  <a:pt x="232" y="218"/>
                  <a:pt x="232" y="218"/>
                  <a:pt x="232" y="218"/>
                </a:cubicBezTo>
                <a:cubicBezTo>
                  <a:pt x="232" y="220"/>
                  <a:pt x="232" y="220"/>
                  <a:pt x="232" y="220"/>
                </a:cubicBezTo>
                <a:close/>
                <a:moveTo>
                  <a:pt x="235" y="221"/>
                </a:moveTo>
                <a:cubicBezTo>
                  <a:pt x="235" y="220"/>
                  <a:pt x="237" y="221"/>
                  <a:pt x="237" y="221"/>
                </a:cubicBezTo>
                <a:cubicBezTo>
                  <a:pt x="237" y="222"/>
                  <a:pt x="235" y="222"/>
                  <a:pt x="233" y="221"/>
                </a:cubicBezTo>
                <a:cubicBezTo>
                  <a:pt x="234" y="221"/>
                  <a:pt x="234" y="221"/>
                  <a:pt x="235" y="221"/>
                </a:cubicBezTo>
                <a:close/>
                <a:moveTo>
                  <a:pt x="231" y="224"/>
                </a:moveTo>
                <a:cubicBezTo>
                  <a:pt x="232" y="225"/>
                  <a:pt x="231" y="225"/>
                  <a:pt x="230" y="226"/>
                </a:cubicBezTo>
                <a:cubicBezTo>
                  <a:pt x="231" y="225"/>
                  <a:pt x="231" y="225"/>
                  <a:pt x="231" y="225"/>
                </a:cubicBezTo>
                <a:cubicBezTo>
                  <a:pt x="228" y="223"/>
                  <a:pt x="228" y="223"/>
                  <a:pt x="228" y="223"/>
                </a:cubicBezTo>
                <a:cubicBezTo>
                  <a:pt x="229" y="223"/>
                  <a:pt x="230" y="225"/>
                  <a:pt x="231" y="224"/>
                </a:cubicBezTo>
                <a:close/>
                <a:moveTo>
                  <a:pt x="240" y="223"/>
                </a:moveTo>
                <a:cubicBezTo>
                  <a:pt x="239" y="223"/>
                  <a:pt x="239" y="223"/>
                  <a:pt x="239" y="224"/>
                </a:cubicBezTo>
                <a:cubicBezTo>
                  <a:pt x="239" y="224"/>
                  <a:pt x="239" y="224"/>
                  <a:pt x="239" y="224"/>
                </a:cubicBezTo>
                <a:cubicBezTo>
                  <a:pt x="237" y="224"/>
                  <a:pt x="237" y="224"/>
                  <a:pt x="237" y="224"/>
                </a:cubicBezTo>
                <a:cubicBezTo>
                  <a:pt x="238" y="223"/>
                  <a:pt x="239" y="223"/>
                  <a:pt x="240" y="223"/>
                </a:cubicBezTo>
                <a:close/>
                <a:moveTo>
                  <a:pt x="289" y="224"/>
                </a:moveTo>
                <a:cubicBezTo>
                  <a:pt x="289" y="226"/>
                  <a:pt x="287" y="226"/>
                  <a:pt x="285" y="226"/>
                </a:cubicBezTo>
                <a:cubicBezTo>
                  <a:pt x="287" y="225"/>
                  <a:pt x="287" y="225"/>
                  <a:pt x="289" y="224"/>
                </a:cubicBezTo>
                <a:close/>
                <a:moveTo>
                  <a:pt x="241" y="226"/>
                </a:moveTo>
                <a:cubicBezTo>
                  <a:pt x="241" y="228"/>
                  <a:pt x="241" y="230"/>
                  <a:pt x="240" y="229"/>
                </a:cubicBezTo>
                <a:cubicBezTo>
                  <a:pt x="238" y="228"/>
                  <a:pt x="240" y="227"/>
                  <a:pt x="240" y="226"/>
                </a:cubicBezTo>
                <a:cubicBezTo>
                  <a:pt x="241" y="226"/>
                  <a:pt x="241" y="226"/>
                  <a:pt x="241" y="226"/>
                </a:cubicBezTo>
                <a:close/>
                <a:moveTo>
                  <a:pt x="341" y="226"/>
                </a:moveTo>
                <a:cubicBezTo>
                  <a:pt x="340" y="228"/>
                  <a:pt x="337" y="231"/>
                  <a:pt x="336" y="233"/>
                </a:cubicBezTo>
                <a:cubicBezTo>
                  <a:pt x="337" y="235"/>
                  <a:pt x="337" y="232"/>
                  <a:pt x="339" y="233"/>
                </a:cubicBezTo>
                <a:cubicBezTo>
                  <a:pt x="339" y="234"/>
                  <a:pt x="338" y="234"/>
                  <a:pt x="339" y="235"/>
                </a:cubicBezTo>
                <a:cubicBezTo>
                  <a:pt x="341" y="238"/>
                  <a:pt x="343" y="234"/>
                  <a:pt x="345" y="236"/>
                </a:cubicBezTo>
                <a:cubicBezTo>
                  <a:pt x="345" y="237"/>
                  <a:pt x="343" y="238"/>
                  <a:pt x="344" y="240"/>
                </a:cubicBezTo>
                <a:cubicBezTo>
                  <a:pt x="345" y="241"/>
                  <a:pt x="345" y="239"/>
                  <a:pt x="346" y="239"/>
                </a:cubicBezTo>
                <a:cubicBezTo>
                  <a:pt x="345" y="239"/>
                  <a:pt x="345" y="240"/>
                  <a:pt x="344" y="241"/>
                </a:cubicBezTo>
                <a:cubicBezTo>
                  <a:pt x="344" y="242"/>
                  <a:pt x="343" y="243"/>
                  <a:pt x="344" y="244"/>
                </a:cubicBezTo>
                <a:cubicBezTo>
                  <a:pt x="345" y="243"/>
                  <a:pt x="345" y="242"/>
                  <a:pt x="346" y="242"/>
                </a:cubicBezTo>
                <a:cubicBezTo>
                  <a:pt x="346" y="243"/>
                  <a:pt x="345" y="243"/>
                  <a:pt x="345" y="244"/>
                </a:cubicBezTo>
                <a:cubicBezTo>
                  <a:pt x="346" y="244"/>
                  <a:pt x="346" y="244"/>
                  <a:pt x="346" y="244"/>
                </a:cubicBezTo>
                <a:cubicBezTo>
                  <a:pt x="346" y="244"/>
                  <a:pt x="347" y="243"/>
                  <a:pt x="347" y="244"/>
                </a:cubicBezTo>
                <a:cubicBezTo>
                  <a:pt x="345" y="244"/>
                  <a:pt x="347" y="248"/>
                  <a:pt x="344" y="247"/>
                </a:cubicBezTo>
                <a:cubicBezTo>
                  <a:pt x="344" y="246"/>
                  <a:pt x="344" y="246"/>
                  <a:pt x="344" y="245"/>
                </a:cubicBezTo>
                <a:cubicBezTo>
                  <a:pt x="342" y="246"/>
                  <a:pt x="342" y="246"/>
                  <a:pt x="342" y="246"/>
                </a:cubicBezTo>
                <a:cubicBezTo>
                  <a:pt x="342" y="245"/>
                  <a:pt x="345" y="243"/>
                  <a:pt x="342" y="242"/>
                </a:cubicBezTo>
                <a:cubicBezTo>
                  <a:pt x="341" y="243"/>
                  <a:pt x="339" y="246"/>
                  <a:pt x="337" y="246"/>
                </a:cubicBezTo>
                <a:cubicBezTo>
                  <a:pt x="338" y="246"/>
                  <a:pt x="339" y="244"/>
                  <a:pt x="340" y="244"/>
                </a:cubicBezTo>
                <a:cubicBezTo>
                  <a:pt x="340" y="243"/>
                  <a:pt x="339" y="243"/>
                  <a:pt x="338" y="243"/>
                </a:cubicBezTo>
                <a:cubicBezTo>
                  <a:pt x="338" y="243"/>
                  <a:pt x="338" y="242"/>
                  <a:pt x="337" y="242"/>
                </a:cubicBezTo>
                <a:cubicBezTo>
                  <a:pt x="334" y="245"/>
                  <a:pt x="331" y="241"/>
                  <a:pt x="328" y="242"/>
                </a:cubicBezTo>
                <a:cubicBezTo>
                  <a:pt x="327" y="242"/>
                  <a:pt x="327" y="242"/>
                  <a:pt x="327" y="242"/>
                </a:cubicBezTo>
                <a:cubicBezTo>
                  <a:pt x="333" y="238"/>
                  <a:pt x="333" y="229"/>
                  <a:pt x="340" y="226"/>
                </a:cubicBezTo>
                <a:cubicBezTo>
                  <a:pt x="341" y="226"/>
                  <a:pt x="341" y="226"/>
                  <a:pt x="341" y="226"/>
                </a:cubicBezTo>
                <a:close/>
                <a:moveTo>
                  <a:pt x="222" y="227"/>
                </a:moveTo>
                <a:cubicBezTo>
                  <a:pt x="222" y="228"/>
                  <a:pt x="221" y="229"/>
                  <a:pt x="222" y="229"/>
                </a:cubicBezTo>
                <a:cubicBezTo>
                  <a:pt x="221" y="230"/>
                  <a:pt x="221" y="230"/>
                  <a:pt x="221" y="230"/>
                </a:cubicBezTo>
                <a:cubicBezTo>
                  <a:pt x="221" y="230"/>
                  <a:pt x="220" y="230"/>
                  <a:pt x="220" y="230"/>
                </a:cubicBezTo>
                <a:cubicBezTo>
                  <a:pt x="221" y="229"/>
                  <a:pt x="220" y="227"/>
                  <a:pt x="222" y="227"/>
                </a:cubicBezTo>
                <a:close/>
                <a:moveTo>
                  <a:pt x="249" y="237"/>
                </a:moveTo>
                <a:cubicBezTo>
                  <a:pt x="248" y="239"/>
                  <a:pt x="249" y="242"/>
                  <a:pt x="249" y="243"/>
                </a:cubicBezTo>
                <a:cubicBezTo>
                  <a:pt x="252" y="247"/>
                  <a:pt x="261" y="244"/>
                  <a:pt x="262" y="252"/>
                </a:cubicBezTo>
                <a:cubicBezTo>
                  <a:pt x="261" y="254"/>
                  <a:pt x="258" y="252"/>
                  <a:pt x="257" y="250"/>
                </a:cubicBezTo>
                <a:cubicBezTo>
                  <a:pt x="256" y="253"/>
                  <a:pt x="256" y="257"/>
                  <a:pt x="253" y="259"/>
                </a:cubicBezTo>
                <a:cubicBezTo>
                  <a:pt x="253" y="258"/>
                  <a:pt x="253" y="256"/>
                  <a:pt x="252" y="254"/>
                </a:cubicBezTo>
                <a:cubicBezTo>
                  <a:pt x="251" y="254"/>
                  <a:pt x="250" y="256"/>
                  <a:pt x="249" y="256"/>
                </a:cubicBezTo>
                <a:cubicBezTo>
                  <a:pt x="250" y="254"/>
                  <a:pt x="252" y="253"/>
                  <a:pt x="251" y="250"/>
                </a:cubicBezTo>
                <a:cubicBezTo>
                  <a:pt x="250" y="248"/>
                  <a:pt x="248" y="247"/>
                  <a:pt x="247" y="247"/>
                </a:cubicBezTo>
                <a:cubicBezTo>
                  <a:pt x="246" y="248"/>
                  <a:pt x="245" y="249"/>
                  <a:pt x="245" y="250"/>
                </a:cubicBezTo>
                <a:cubicBezTo>
                  <a:pt x="244" y="250"/>
                  <a:pt x="244" y="250"/>
                  <a:pt x="244" y="249"/>
                </a:cubicBezTo>
                <a:cubicBezTo>
                  <a:pt x="238" y="253"/>
                  <a:pt x="244" y="262"/>
                  <a:pt x="236" y="264"/>
                </a:cubicBezTo>
                <a:cubicBezTo>
                  <a:pt x="234" y="262"/>
                  <a:pt x="236" y="258"/>
                  <a:pt x="237" y="256"/>
                </a:cubicBezTo>
                <a:cubicBezTo>
                  <a:pt x="236" y="254"/>
                  <a:pt x="239" y="253"/>
                  <a:pt x="239" y="251"/>
                </a:cubicBezTo>
                <a:cubicBezTo>
                  <a:pt x="238" y="251"/>
                  <a:pt x="238" y="250"/>
                  <a:pt x="237" y="250"/>
                </a:cubicBezTo>
                <a:cubicBezTo>
                  <a:pt x="237" y="252"/>
                  <a:pt x="238" y="249"/>
                  <a:pt x="239" y="248"/>
                </a:cubicBezTo>
                <a:cubicBezTo>
                  <a:pt x="242" y="245"/>
                  <a:pt x="247" y="246"/>
                  <a:pt x="249" y="246"/>
                </a:cubicBezTo>
                <a:cubicBezTo>
                  <a:pt x="251" y="245"/>
                  <a:pt x="251" y="245"/>
                  <a:pt x="251" y="245"/>
                </a:cubicBezTo>
                <a:cubicBezTo>
                  <a:pt x="248" y="242"/>
                  <a:pt x="244" y="242"/>
                  <a:pt x="241" y="243"/>
                </a:cubicBezTo>
                <a:cubicBezTo>
                  <a:pt x="240" y="242"/>
                  <a:pt x="240" y="241"/>
                  <a:pt x="239" y="241"/>
                </a:cubicBezTo>
                <a:cubicBezTo>
                  <a:pt x="238" y="241"/>
                  <a:pt x="238" y="241"/>
                  <a:pt x="238" y="241"/>
                </a:cubicBezTo>
                <a:cubicBezTo>
                  <a:pt x="240" y="239"/>
                  <a:pt x="240" y="239"/>
                  <a:pt x="240" y="239"/>
                </a:cubicBezTo>
                <a:cubicBezTo>
                  <a:pt x="238" y="238"/>
                  <a:pt x="237" y="241"/>
                  <a:pt x="235" y="241"/>
                </a:cubicBezTo>
                <a:cubicBezTo>
                  <a:pt x="230" y="245"/>
                  <a:pt x="230" y="237"/>
                  <a:pt x="226" y="241"/>
                </a:cubicBezTo>
                <a:cubicBezTo>
                  <a:pt x="229" y="237"/>
                  <a:pt x="234" y="238"/>
                  <a:pt x="237" y="234"/>
                </a:cubicBezTo>
                <a:cubicBezTo>
                  <a:pt x="238" y="235"/>
                  <a:pt x="239" y="234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4"/>
                  <a:pt x="240" y="234"/>
                </a:cubicBezTo>
                <a:cubicBezTo>
                  <a:pt x="240" y="232"/>
                  <a:pt x="240" y="232"/>
                  <a:pt x="240" y="232"/>
                </a:cubicBezTo>
                <a:cubicBezTo>
                  <a:pt x="245" y="232"/>
                  <a:pt x="244" y="237"/>
                  <a:pt x="249" y="237"/>
                </a:cubicBezTo>
                <a:close/>
                <a:moveTo>
                  <a:pt x="321" y="236"/>
                </a:moveTo>
                <a:cubicBezTo>
                  <a:pt x="319" y="236"/>
                  <a:pt x="318" y="235"/>
                  <a:pt x="316" y="234"/>
                </a:cubicBezTo>
                <a:cubicBezTo>
                  <a:pt x="314" y="232"/>
                  <a:pt x="314" y="232"/>
                  <a:pt x="314" y="232"/>
                </a:cubicBezTo>
                <a:cubicBezTo>
                  <a:pt x="317" y="232"/>
                  <a:pt x="319" y="234"/>
                  <a:pt x="321" y="236"/>
                </a:cubicBezTo>
                <a:close/>
                <a:moveTo>
                  <a:pt x="267" y="234"/>
                </a:moveTo>
                <a:cubicBezTo>
                  <a:pt x="267" y="234"/>
                  <a:pt x="267" y="234"/>
                  <a:pt x="267" y="234"/>
                </a:cubicBezTo>
                <a:cubicBezTo>
                  <a:pt x="265" y="234"/>
                  <a:pt x="265" y="234"/>
                  <a:pt x="265" y="234"/>
                </a:cubicBezTo>
                <a:cubicBezTo>
                  <a:pt x="265" y="233"/>
                  <a:pt x="265" y="233"/>
                  <a:pt x="265" y="233"/>
                </a:cubicBezTo>
                <a:cubicBezTo>
                  <a:pt x="266" y="234"/>
                  <a:pt x="266" y="234"/>
                  <a:pt x="267" y="234"/>
                </a:cubicBezTo>
                <a:close/>
                <a:moveTo>
                  <a:pt x="281" y="236"/>
                </a:moveTo>
                <a:cubicBezTo>
                  <a:pt x="281" y="236"/>
                  <a:pt x="282" y="236"/>
                  <a:pt x="282" y="237"/>
                </a:cubicBezTo>
                <a:cubicBezTo>
                  <a:pt x="280" y="236"/>
                  <a:pt x="280" y="236"/>
                  <a:pt x="280" y="236"/>
                </a:cubicBezTo>
                <a:cubicBezTo>
                  <a:pt x="281" y="236"/>
                  <a:pt x="281" y="236"/>
                  <a:pt x="281" y="236"/>
                </a:cubicBezTo>
                <a:close/>
                <a:moveTo>
                  <a:pt x="315" y="248"/>
                </a:moveTo>
                <a:cubicBezTo>
                  <a:pt x="316" y="248"/>
                  <a:pt x="316" y="248"/>
                  <a:pt x="316" y="248"/>
                </a:cubicBezTo>
                <a:cubicBezTo>
                  <a:pt x="316" y="248"/>
                  <a:pt x="316" y="249"/>
                  <a:pt x="316" y="249"/>
                </a:cubicBezTo>
                <a:cubicBezTo>
                  <a:pt x="314" y="248"/>
                  <a:pt x="312" y="248"/>
                  <a:pt x="312" y="245"/>
                </a:cubicBezTo>
                <a:cubicBezTo>
                  <a:pt x="312" y="247"/>
                  <a:pt x="314" y="247"/>
                  <a:pt x="315" y="248"/>
                </a:cubicBezTo>
                <a:close/>
                <a:moveTo>
                  <a:pt x="323" y="246"/>
                </a:moveTo>
                <a:cubicBezTo>
                  <a:pt x="322" y="247"/>
                  <a:pt x="323" y="248"/>
                  <a:pt x="323" y="249"/>
                </a:cubicBezTo>
                <a:cubicBezTo>
                  <a:pt x="323" y="249"/>
                  <a:pt x="324" y="249"/>
                  <a:pt x="324" y="249"/>
                </a:cubicBezTo>
                <a:cubicBezTo>
                  <a:pt x="324" y="250"/>
                  <a:pt x="322" y="252"/>
                  <a:pt x="320" y="251"/>
                </a:cubicBezTo>
                <a:cubicBezTo>
                  <a:pt x="319" y="250"/>
                  <a:pt x="321" y="249"/>
                  <a:pt x="321" y="248"/>
                </a:cubicBezTo>
                <a:cubicBezTo>
                  <a:pt x="323" y="246"/>
                  <a:pt x="323" y="246"/>
                  <a:pt x="323" y="246"/>
                </a:cubicBezTo>
                <a:cubicBezTo>
                  <a:pt x="323" y="246"/>
                  <a:pt x="323" y="246"/>
                  <a:pt x="323" y="246"/>
                </a:cubicBezTo>
                <a:close/>
                <a:moveTo>
                  <a:pt x="272" y="255"/>
                </a:moveTo>
                <a:cubicBezTo>
                  <a:pt x="273" y="257"/>
                  <a:pt x="272" y="258"/>
                  <a:pt x="271" y="259"/>
                </a:cubicBezTo>
                <a:cubicBezTo>
                  <a:pt x="268" y="260"/>
                  <a:pt x="265" y="257"/>
                  <a:pt x="262" y="259"/>
                </a:cubicBezTo>
                <a:cubicBezTo>
                  <a:pt x="262" y="256"/>
                  <a:pt x="265" y="257"/>
                  <a:pt x="266" y="256"/>
                </a:cubicBezTo>
                <a:cubicBezTo>
                  <a:pt x="267" y="256"/>
                  <a:pt x="269" y="256"/>
                  <a:pt x="269" y="257"/>
                </a:cubicBezTo>
                <a:cubicBezTo>
                  <a:pt x="270" y="256"/>
                  <a:pt x="271" y="254"/>
                  <a:pt x="272" y="255"/>
                </a:cubicBezTo>
                <a:close/>
                <a:moveTo>
                  <a:pt x="263" y="261"/>
                </a:moveTo>
                <a:cubicBezTo>
                  <a:pt x="259" y="263"/>
                  <a:pt x="254" y="268"/>
                  <a:pt x="249" y="265"/>
                </a:cubicBezTo>
                <a:cubicBezTo>
                  <a:pt x="249" y="262"/>
                  <a:pt x="254" y="264"/>
                  <a:pt x="256" y="261"/>
                </a:cubicBezTo>
                <a:cubicBezTo>
                  <a:pt x="258" y="263"/>
                  <a:pt x="260" y="260"/>
                  <a:pt x="263" y="261"/>
                </a:cubicBezTo>
                <a:close/>
                <a:moveTo>
                  <a:pt x="37" y="105"/>
                </a:moveTo>
                <a:cubicBezTo>
                  <a:pt x="38" y="106"/>
                  <a:pt x="38" y="106"/>
                  <a:pt x="38" y="106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4" y="106"/>
                  <a:pt x="35" y="104"/>
                  <a:pt x="33" y="103"/>
                </a:cubicBezTo>
                <a:cubicBezTo>
                  <a:pt x="31" y="103"/>
                  <a:pt x="31" y="103"/>
                  <a:pt x="31" y="103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3" y="104"/>
                  <a:pt x="38" y="100"/>
                  <a:pt x="37" y="105"/>
                </a:cubicBezTo>
                <a:close/>
                <a:moveTo>
                  <a:pt x="49" y="112"/>
                </a:moveTo>
                <a:cubicBezTo>
                  <a:pt x="48" y="112"/>
                  <a:pt x="49" y="113"/>
                  <a:pt x="49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9" y="111"/>
                  <a:pt x="49" y="111"/>
                  <a:pt x="49" y="111"/>
                </a:cubicBezTo>
                <a:cubicBezTo>
                  <a:pt x="49" y="112"/>
                  <a:pt x="49" y="112"/>
                  <a:pt x="49" y="112"/>
                </a:cubicBezTo>
                <a:close/>
                <a:moveTo>
                  <a:pt x="34" y="132"/>
                </a:moveTo>
                <a:cubicBezTo>
                  <a:pt x="32" y="132"/>
                  <a:pt x="31" y="133"/>
                  <a:pt x="30" y="131"/>
                </a:cubicBezTo>
                <a:cubicBezTo>
                  <a:pt x="30" y="130"/>
                  <a:pt x="30" y="130"/>
                  <a:pt x="30" y="130"/>
                </a:cubicBezTo>
                <a:cubicBezTo>
                  <a:pt x="32" y="131"/>
                  <a:pt x="36" y="129"/>
                  <a:pt x="34" y="132"/>
                </a:cubicBezTo>
                <a:close/>
                <a:moveTo>
                  <a:pt x="88" y="144"/>
                </a:moveTo>
                <a:cubicBezTo>
                  <a:pt x="87" y="145"/>
                  <a:pt x="86" y="146"/>
                  <a:pt x="84" y="146"/>
                </a:cubicBezTo>
                <a:cubicBezTo>
                  <a:pt x="86" y="146"/>
                  <a:pt x="86" y="144"/>
                  <a:pt x="88" y="144"/>
                </a:cubicBezTo>
                <a:close/>
                <a:moveTo>
                  <a:pt x="67" y="152"/>
                </a:moveTo>
                <a:cubicBezTo>
                  <a:pt x="67" y="153"/>
                  <a:pt x="67" y="153"/>
                  <a:pt x="66" y="153"/>
                </a:cubicBezTo>
                <a:cubicBezTo>
                  <a:pt x="65" y="153"/>
                  <a:pt x="64" y="154"/>
                  <a:pt x="64" y="153"/>
                </a:cubicBezTo>
                <a:cubicBezTo>
                  <a:pt x="65" y="153"/>
                  <a:pt x="66" y="151"/>
                  <a:pt x="67" y="152"/>
                </a:cubicBezTo>
                <a:close/>
                <a:moveTo>
                  <a:pt x="62" y="156"/>
                </a:moveTo>
                <a:cubicBezTo>
                  <a:pt x="63" y="155"/>
                  <a:pt x="63" y="155"/>
                  <a:pt x="63" y="155"/>
                </a:cubicBezTo>
                <a:cubicBezTo>
                  <a:pt x="64" y="154"/>
                  <a:pt x="64" y="155"/>
                  <a:pt x="65" y="155"/>
                </a:cubicBezTo>
                <a:cubicBezTo>
                  <a:pt x="64" y="155"/>
                  <a:pt x="65" y="156"/>
                  <a:pt x="65" y="157"/>
                </a:cubicBezTo>
                <a:cubicBezTo>
                  <a:pt x="64" y="157"/>
                  <a:pt x="63" y="156"/>
                  <a:pt x="62" y="157"/>
                </a:cubicBezTo>
                <a:cubicBezTo>
                  <a:pt x="63" y="158"/>
                  <a:pt x="63" y="158"/>
                  <a:pt x="63" y="158"/>
                </a:cubicBezTo>
                <a:cubicBezTo>
                  <a:pt x="60" y="158"/>
                  <a:pt x="59" y="160"/>
                  <a:pt x="57" y="161"/>
                </a:cubicBezTo>
                <a:cubicBezTo>
                  <a:pt x="58" y="160"/>
                  <a:pt x="58" y="160"/>
                  <a:pt x="58" y="160"/>
                </a:cubicBezTo>
                <a:cubicBezTo>
                  <a:pt x="57" y="159"/>
                  <a:pt x="57" y="159"/>
                  <a:pt x="57" y="159"/>
                </a:cubicBezTo>
                <a:cubicBezTo>
                  <a:pt x="57" y="159"/>
                  <a:pt x="56" y="160"/>
                  <a:pt x="56" y="160"/>
                </a:cubicBezTo>
                <a:cubicBezTo>
                  <a:pt x="57" y="158"/>
                  <a:pt x="57" y="157"/>
                  <a:pt x="59" y="156"/>
                </a:cubicBezTo>
                <a:cubicBezTo>
                  <a:pt x="60" y="157"/>
                  <a:pt x="60" y="157"/>
                  <a:pt x="60" y="157"/>
                </a:cubicBezTo>
                <a:cubicBezTo>
                  <a:pt x="61" y="156"/>
                  <a:pt x="62" y="155"/>
                  <a:pt x="61" y="155"/>
                </a:cubicBezTo>
                <a:cubicBezTo>
                  <a:pt x="61" y="154"/>
                  <a:pt x="62" y="155"/>
                  <a:pt x="62" y="156"/>
                </a:cubicBezTo>
                <a:close/>
                <a:moveTo>
                  <a:pt x="23" y="168"/>
                </a:moveTo>
                <a:cubicBezTo>
                  <a:pt x="23" y="168"/>
                  <a:pt x="24" y="168"/>
                  <a:pt x="24" y="169"/>
                </a:cubicBezTo>
                <a:cubicBezTo>
                  <a:pt x="22" y="170"/>
                  <a:pt x="20" y="170"/>
                  <a:pt x="18" y="170"/>
                </a:cubicBezTo>
                <a:cubicBezTo>
                  <a:pt x="19" y="169"/>
                  <a:pt x="21" y="167"/>
                  <a:pt x="23" y="168"/>
                </a:cubicBezTo>
                <a:close/>
                <a:moveTo>
                  <a:pt x="12" y="173"/>
                </a:moveTo>
                <a:cubicBezTo>
                  <a:pt x="12" y="175"/>
                  <a:pt x="9" y="175"/>
                  <a:pt x="7" y="176"/>
                </a:cubicBezTo>
                <a:cubicBezTo>
                  <a:pt x="10" y="176"/>
                  <a:pt x="10" y="171"/>
                  <a:pt x="12" y="173"/>
                </a:cubicBezTo>
                <a:close/>
                <a:moveTo>
                  <a:pt x="6" y="175"/>
                </a:moveTo>
                <a:cubicBezTo>
                  <a:pt x="5" y="176"/>
                  <a:pt x="4" y="177"/>
                  <a:pt x="2" y="177"/>
                </a:cubicBezTo>
                <a:cubicBezTo>
                  <a:pt x="2" y="178"/>
                  <a:pt x="4" y="175"/>
                  <a:pt x="6" y="175"/>
                </a:cubicBezTo>
                <a:close/>
                <a:moveTo>
                  <a:pt x="4" y="348"/>
                </a:moveTo>
                <a:cubicBezTo>
                  <a:pt x="5" y="350"/>
                  <a:pt x="2" y="349"/>
                  <a:pt x="2" y="351"/>
                </a:cubicBezTo>
                <a:cubicBezTo>
                  <a:pt x="3" y="349"/>
                  <a:pt x="0" y="348"/>
                  <a:pt x="2" y="347"/>
                </a:cubicBezTo>
                <a:cubicBezTo>
                  <a:pt x="3" y="347"/>
                  <a:pt x="3" y="347"/>
                  <a:pt x="4" y="348"/>
                </a:cubicBezTo>
                <a:close/>
                <a:moveTo>
                  <a:pt x="421" y="18"/>
                </a:moveTo>
                <a:cubicBezTo>
                  <a:pt x="420" y="17"/>
                  <a:pt x="420" y="17"/>
                  <a:pt x="420" y="17"/>
                </a:cubicBezTo>
                <a:cubicBezTo>
                  <a:pt x="421" y="17"/>
                  <a:pt x="420" y="15"/>
                  <a:pt x="421" y="16"/>
                </a:cubicBezTo>
                <a:cubicBezTo>
                  <a:pt x="421" y="18"/>
                  <a:pt x="421" y="18"/>
                  <a:pt x="421" y="18"/>
                </a:cubicBezTo>
                <a:close/>
                <a:moveTo>
                  <a:pt x="426" y="20"/>
                </a:moveTo>
                <a:cubicBezTo>
                  <a:pt x="426" y="22"/>
                  <a:pt x="426" y="22"/>
                  <a:pt x="426" y="22"/>
                </a:cubicBezTo>
                <a:cubicBezTo>
                  <a:pt x="424" y="19"/>
                  <a:pt x="424" y="19"/>
                  <a:pt x="424" y="19"/>
                </a:cubicBezTo>
                <a:cubicBezTo>
                  <a:pt x="425" y="18"/>
                  <a:pt x="425" y="19"/>
                  <a:pt x="426" y="20"/>
                </a:cubicBezTo>
                <a:close/>
                <a:moveTo>
                  <a:pt x="427" y="25"/>
                </a:moveTo>
                <a:cubicBezTo>
                  <a:pt x="426" y="25"/>
                  <a:pt x="426" y="24"/>
                  <a:pt x="426" y="23"/>
                </a:cubicBezTo>
                <a:cubicBezTo>
                  <a:pt x="426" y="24"/>
                  <a:pt x="426" y="24"/>
                  <a:pt x="427" y="25"/>
                </a:cubicBezTo>
                <a:close/>
                <a:moveTo>
                  <a:pt x="464" y="97"/>
                </a:moveTo>
                <a:cubicBezTo>
                  <a:pt x="463" y="97"/>
                  <a:pt x="462" y="98"/>
                  <a:pt x="461" y="97"/>
                </a:cubicBezTo>
                <a:cubicBezTo>
                  <a:pt x="461" y="96"/>
                  <a:pt x="461" y="94"/>
                  <a:pt x="463" y="95"/>
                </a:cubicBezTo>
                <a:cubicBezTo>
                  <a:pt x="464" y="97"/>
                  <a:pt x="464" y="97"/>
                  <a:pt x="464" y="97"/>
                </a:cubicBezTo>
                <a:close/>
                <a:moveTo>
                  <a:pt x="443" y="109"/>
                </a:moveTo>
                <a:cubicBezTo>
                  <a:pt x="440" y="110"/>
                  <a:pt x="440" y="110"/>
                  <a:pt x="440" y="110"/>
                </a:cubicBezTo>
                <a:cubicBezTo>
                  <a:pt x="441" y="109"/>
                  <a:pt x="441" y="109"/>
                  <a:pt x="441" y="109"/>
                </a:cubicBezTo>
                <a:cubicBezTo>
                  <a:pt x="442" y="110"/>
                  <a:pt x="442" y="109"/>
                  <a:pt x="443" y="109"/>
                </a:cubicBezTo>
                <a:close/>
                <a:moveTo>
                  <a:pt x="441" y="123"/>
                </a:moveTo>
                <a:cubicBezTo>
                  <a:pt x="440" y="121"/>
                  <a:pt x="437" y="122"/>
                  <a:pt x="436" y="119"/>
                </a:cubicBezTo>
                <a:cubicBezTo>
                  <a:pt x="437" y="121"/>
                  <a:pt x="440" y="121"/>
                  <a:pt x="441" y="123"/>
                </a:cubicBezTo>
                <a:close/>
                <a:moveTo>
                  <a:pt x="437" y="126"/>
                </a:moveTo>
                <a:cubicBezTo>
                  <a:pt x="437" y="127"/>
                  <a:pt x="434" y="128"/>
                  <a:pt x="435" y="129"/>
                </a:cubicBezTo>
                <a:cubicBezTo>
                  <a:pt x="434" y="128"/>
                  <a:pt x="433" y="129"/>
                  <a:pt x="432" y="129"/>
                </a:cubicBezTo>
                <a:cubicBezTo>
                  <a:pt x="434" y="129"/>
                  <a:pt x="435" y="128"/>
                  <a:pt x="436" y="127"/>
                </a:cubicBezTo>
                <a:cubicBezTo>
                  <a:pt x="436" y="125"/>
                  <a:pt x="436" y="125"/>
                  <a:pt x="436" y="125"/>
                </a:cubicBezTo>
                <a:cubicBezTo>
                  <a:pt x="436" y="125"/>
                  <a:pt x="436" y="126"/>
                  <a:pt x="437" y="126"/>
                </a:cubicBezTo>
                <a:close/>
                <a:moveTo>
                  <a:pt x="448" y="159"/>
                </a:moveTo>
                <a:cubicBezTo>
                  <a:pt x="448" y="159"/>
                  <a:pt x="448" y="161"/>
                  <a:pt x="449" y="161"/>
                </a:cubicBezTo>
                <a:cubicBezTo>
                  <a:pt x="450" y="160"/>
                  <a:pt x="453" y="160"/>
                  <a:pt x="452" y="157"/>
                </a:cubicBezTo>
                <a:cubicBezTo>
                  <a:pt x="453" y="159"/>
                  <a:pt x="453" y="159"/>
                  <a:pt x="453" y="159"/>
                </a:cubicBezTo>
                <a:cubicBezTo>
                  <a:pt x="455" y="156"/>
                  <a:pt x="455" y="156"/>
                  <a:pt x="455" y="156"/>
                </a:cubicBezTo>
                <a:cubicBezTo>
                  <a:pt x="457" y="159"/>
                  <a:pt x="457" y="159"/>
                  <a:pt x="457" y="159"/>
                </a:cubicBezTo>
                <a:cubicBezTo>
                  <a:pt x="457" y="158"/>
                  <a:pt x="457" y="157"/>
                  <a:pt x="457" y="157"/>
                </a:cubicBezTo>
                <a:cubicBezTo>
                  <a:pt x="459" y="158"/>
                  <a:pt x="460" y="156"/>
                  <a:pt x="462" y="156"/>
                </a:cubicBezTo>
                <a:cubicBezTo>
                  <a:pt x="462" y="156"/>
                  <a:pt x="462" y="155"/>
                  <a:pt x="462" y="155"/>
                </a:cubicBezTo>
                <a:cubicBezTo>
                  <a:pt x="464" y="157"/>
                  <a:pt x="464" y="157"/>
                  <a:pt x="464" y="157"/>
                </a:cubicBezTo>
                <a:cubicBezTo>
                  <a:pt x="465" y="156"/>
                  <a:pt x="465" y="155"/>
                  <a:pt x="466" y="156"/>
                </a:cubicBezTo>
                <a:cubicBezTo>
                  <a:pt x="463" y="157"/>
                  <a:pt x="468" y="157"/>
                  <a:pt x="466" y="159"/>
                </a:cubicBezTo>
                <a:cubicBezTo>
                  <a:pt x="467" y="159"/>
                  <a:pt x="467" y="160"/>
                  <a:pt x="468" y="160"/>
                </a:cubicBezTo>
                <a:cubicBezTo>
                  <a:pt x="468" y="161"/>
                  <a:pt x="468" y="162"/>
                  <a:pt x="467" y="163"/>
                </a:cubicBezTo>
                <a:cubicBezTo>
                  <a:pt x="469" y="165"/>
                  <a:pt x="465" y="165"/>
                  <a:pt x="465" y="166"/>
                </a:cubicBezTo>
                <a:cubicBezTo>
                  <a:pt x="463" y="167"/>
                  <a:pt x="462" y="169"/>
                  <a:pt x="460" y="169"/>
                </a:cubicBezTo>
                <a:cubicBezTo>
                  <a:pt x="458" y="170"/>
                  <a:pt x="458" y="170"/>
                  <a:pt x="458" y="170"/>
                </a:cubicBezTo>
                <a:cubicBezTo>
                  <a:pt x="458" y="169"/>
                  <a:pt x="458" y="169"/>
                  <a:pt x="458" y="169"/>
                </a:cubicBezTo>
                <a:cubicBezTo>
                  <a:pt x="456" y="170"/>
                  <a:pt x="455" y="172"/>
                  <a:pt x="453" y="172"/>
                </a:cubicBezTo>
                <a:cubicBezTo>
                  <a:pt x="453" y="170"/>
                  <a:pt x="451" y="171"/>
                  <a:pt x="450" y="171"/>
                </a:cubicBezTo>
                <a:cubicBezTo>
                  <a:pt x="450" y="169"/>
                  <a:pt x="448" y="170"/>
                  <a:pt x="448" y="169"/>
                </a:cubicBezTo>
                <a:cubicBezTo>
                  <a:pt x="447" y="170"/>
                  <a:pt x="445" y="169"/>
                  <a:pt x="444" y="169"/>
                </a:cubicBezTo>
                <a:cubicBezTo>
                  <a:pt x="444" y="168"/>
                  <a:pt x="444" y="168"/>
                  <a:pt x="444" y="168"/>
                </a:cubicBezTo>
                <a:cubicBezTo>
                  <a:pt x="445" y="167"/>
                  <a:pt x="446" y="168"/>
                  <a:pt x="446" y="167"/>
                </a:cubicBezTo>
                <a:cubicBezTo>
                  <a:pt x="446" y="164"/>
                  <a:pt x="444" y="163"/>
                  <a:pt x="441" y="163"/>
                </a:cubicBezTo>
                <a:cubicBezTo>
                  <a:pt x="447" y="162"/>
                  <a:pt x="447" y="162"/>
                  <a:pt x="447" y="162"/>
                </a:cubicBezTo>
                <a:cubicBezTo>
                  <a:pt x="447" y="162"/>
                  <a:pt x="446" y="161"/>
                  <a:pt x="446" y="161"/>
                </a:cubicBezTo>
                <a:cubicBezTo>
                  <a:pt x="447" y="160"/>
                  <a:pt x="447" y="160"/>
                  <a:pt x="447" y="160"/>
                </a:cubicBezTo>
                <a:cubicBezTo>
                  <a:pt x="445" y="158"/>
                  <a:pt x="442" y="160"/>
                  <a:pt x="441" y="159"/>
                </a:cubicBezTo>
                <a:cubicBezTo>
                  <a:pt x="443" y="159"/>
                  <a:pt x="443" y="157"/>
                  <a:pt x="444" y="156"/>
                </a:cubicBezTo>
                <a:cubicBezTo>
                  <a:pt x="444" y="156"/>
                  <a:pt x="445" y="157"/>
                  <a:pt x="446" y="157"/>
                </a:cubicBezTo>
                <a:cubicBezTo>
                  <a:pt x="447" y="156"/>
                  <a:pt x="445" y="156"/>
                  <a:pt x="446" y="155"/>
                </a:cubicBezTo>
                <a:cubicBezTo>
                  <a:pt x="447" y="156"/>
                  <a:pt x="450" y="157"/>
                  <a:pt x="448" y="159"/>
                </a:cubicBezTo>
                <a:close/>
                <a:moveTo>
                  <a:pt x="260" y="327"/>
                </a:moveTo>
                <a:cubicBezTo>
                  <a:pt x="259" y="325"/>
                  <a:pt x="259" y="325"/>
                  <a:pt x="259" y="325"/>
                </a:cubicBezTo>
                <a:cubicBezTo>
                  <a:pt x="260" y="326"/>
                  <a:pt x="260" y="326"/>
                  <a:pt x="260" y="326"/>
                </a:cubicBezTo>
                <a:cubicBezTo>
                  <a:pt x="260" y="327"/>
                  <a:pt x="260" y="327"/>
                  <a:pt x="260" y="327"/>
                </a:cubicBezTo>
                <a:close/>
              </a:path>
            </a:pathLst>
          </a:cu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50"/>
          <p:cNvGrpSpPr/>
          <p:nvPr/>
        </p:nvGrpSpPr>
        <p:grpSpPr>
          <a:xfrm>
            <a:off x="2835360" y="3303720"/>
            <a:ext cx="128520" cy="360360"/>
            <a:chOff x="2835360" y="3303720"/>
            <a:chExt cx="128520" cy="360360"/>
          </a:xfrm>
        </p:grpSpPr>
        <p:sp>
          <p:nvSpPr>
            <p:cNvPr id="531" name="Freeform 12"/>
            <p:cNvSpPr/>
            <p:nvPr/>
          </p:nvSpPr>
          <p:spPr>
            <a:xfrm>
              <a:off x="2835360" y="3303720"/>
              <a:ext cx="63720" cy="360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69" h="390">
                  <a:moveTo>
                    <a:pt x="69" y="0"/>
                  </a:moveTo>
                  <a:lnTo>
                    <a:pt x="69" y="390"/>
                  </a:lnTo>
                  <a:lnTo>
                    <a:pt x="0" y="31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2899080" y="3303720"/>
              <a:ext cx="64800" cy="360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70" h="390">
                  <a:moveTo>
                    <a:pt x="0" y="0"/>
                  </a:moveTo>
                  <a:lnTo>
                    <a:pt x="0" y="390"/>
                  </a:lnTo>
                  <a:lnTo>
                    <a:pt x="70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9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47"/>
          <p:cNvGrpSpPr/>
          <p:nvPr/>
        </p:nvGrpSpPr>
        <p:grpSpPr>
          <a:xfrm>
            <a:off x="1925640" y="2066760"/>
            <a:ext cx="130320" cy="360360"/>
            <a:chOff x="1925640" y="2066760"/>
            <a:chExt cx="130320" cy="360360"/>
          </a:xfrm>
        </p:grpSpPr>
        <p:sp>
          <p:nvSpPr>
            <p:cNvPr id="534" name="Freeform 14"/>
            <p:cNvSpPr/>
            <p:nvPr/>
          </p:nvSpPr>
          <p:spPr>
            <a:xfrm>
              <a:off x="1925640" y="2066760"/>
              <a:ext cx="65160" cy="360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71" h="389">
                  <a:moveTo>
                    <a:pt x="71" y="0"/>
                  </a:moveTo>
                  <a:lnTo>
                    <a:pt x="71" y="389"/>
                  </a:lnTo>
                  <a:lnTo>
                    <a:pt x="0" y="3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ee7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1990800" y="2066760"/>
              <a:ext cx="65160" cy="360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71" h="389">
                  <a:moveTo>
                    <a:pt x="0" y="0"/>
                  </a:moveTo>
                  <a:lnTo>
                    <a:pt x="0" y="389"/>
                  </a:lnTo>
                  <a:lnTo>
                    <a:pt x="71" y="3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51"/>
          <p:cNvGrpSpPr/>
          <p:nvPr/>
        </p:nvGrpSpPr>
        <p:grpSpPr>
          <a:xfrm>
            <a:off x="3492360" y="1276200"/>
            <a:ext cx="128880" cy="358920"/>
            <a:chOff x="3492360" y="1276200"/>
            <a:chExt cx="128880" cy="358920"/>
          </a:xfrm>
        </p:grpSpPr>
        <p:sp>
          <p:nvSpPr>
            <p:cNvPr id="537" name="Freeform 16"/>
            <p:cNvSpPr/>
            <p:nvPr/>
          </p:nvSpPr>
          <p:spPr>
            <a:xfrm>
              <a:off x="3492360" y="1276200"/>
              <a:ext cx="64800" cy="358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71" h="390">
                  <a:moveTo>
                    <a:pt x="71" y="0"/>
                  </a:moveTo>
                  <a:lnTo>
                    <a:pt x="71" y="390"/>
                  </a:lnTo>
                  <a:lnTo>
                    <a:pt x="0" y="3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dd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7"/>
            <p:cNvSpPr/>
            <p:nvPr/>
          </p:nvSpPr>
          <p:spPr>
            <a:xfrm>
              <a:off x="3557160" y="1276200"/>
              <a:ext cx="64080" cy="358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70" h="390">
                  <a:moveTo>
                    <a:pt x="0" y="0"/>
                  </a:moveTo>
                  <a:lnTo>
                    <a:pt x="0" y="390"/>
                  </a:lnTo>
                  <a:lnTo>
                    <a:pt x="70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5"/>
          <p:cNvGrpSpPr/>
          <p:nvPr/>
        </p:nvGrpSpPr>
        <p:grpSpPr>
          <a:xfrm>
            <a:off x="6372360" y="2643120"/>
            <a:ext cx="183960" cy="260280"/>
            <a:chOff x="6372360" y="2643120"/>
            <a:chExt cx="183960" cy="260280"/>
          </a:xfrm>
        </p:grpSpPr>
        <p:sp>
          <p:nvSpPr>
            <p:cNvPr id="540" name="Freeform 8"/>
            <p:cNvSpPr/>
            <p:nvPr/>
          </p:nvSpPr>
          <p:spPr>
            <a:xfrm>
              <a:off x="6372360" y="2643120"/>
              <a:ext cx="183960" cy="260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29" h="182">
                  <a:moveTo>
                    <a:pt x="65" y="0"/>
                  </a:moveTo>
                  <a:cubicBezTo>
                    <a:pt x="100" y="0"/>
                    <a:pt x="129" y="29"/>
                    <a:pt x="129" y="65"/>
                  </a:cubicBezTo>
                  <a:cubicBezTo>
                    <a:pt x="129" y="95"/>
                    <a:pt x="108" y="120"/>
                    <a:pt x="80" y="127"/>
                  </a:cubicBezTo>
                  <a:cubicBezTo>
                    <a:pt x="67" y="177"/>
                    <a:pt x="67" y="177"/>
                    <a:pt x="67" y="177"/>
                  </a:cubicBezTo>
                  <a:cubicBezTo>
                    <a:pt x="66" y="182"/>
                    <a:pt x="64" y="182"/>
                    <a:pt x="62" y="177"/>
                  </a:cubicBezTo>
                  <a:cubicBezTo>
                    <a:pt x="49" y="127"/>
                    <a:pt x="49" y="127"/>
                    <a:pt x="49" y="127"/>
                  </a:cubicBezTo>
                  <a:cubicBezTo>
                    <a:pt x="21" y="120"/>
                    <a:pt x="0" y="95"/>
                    <a:pt x="0" y="65"/>
                  </a:cubicBezTo>
                  <a:cubicBezTo>
                    <a:pt x="0" y="29"/>
                    <a:pt x="29" y="0"/>
                    <a:pt x="65" y="0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9"/>
            <p:cNvSpPr/>
            <p:nvPr/>
          </p:nvSpPr>
          <p:spPr>
            <a:xfrm>
              <a:off x="6395040" y="2665800"/>
              <a:ext cx="138240" cy="13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0"/>
            <p:cNvSpPr/>
            <p:nvPr/>
          </p:nvSpPr>
          <p:spPr>
            <a:xfrm>
              <a:off x="6409080" y="2679840"/>
              <a:ext cx="109800" cy="110160"/>
            </a:xfrm>
            <a:prstGeom prst="ellipse">
              <a:avLst/>
            </a:pr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1"/>
            <p:cNvSpPr/>
            <p:nvPr/>
          </p:nvSpPr>
          <p:spPr>
            <a:xfrm>
              <a:off x="6423480" y="2692800"/>
              <a:ext cx="81360" cy="77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5" h="128">
                  <a:moveTo>
                    <a:pt x="69" y="0"/>
                  </a:moveTo>
                  <a:lnTo>
                    <a:pt x="87" y="43"/>
                  </a:lnTo>
                  <a:lnTo>
                    <a:pt x="135" y="50"/>
                  </a:lnTo>
                  <a:lnTo>
                    <a:pt x="99" y="83"/>
                  </a:lnTo>
                  <a:lnTo>
                    <a:pt x="109" y="128"/>
                  </a:lnTo>
                  <a:lnTo>
                    <a:pt x="69" y="107"/>
                  </a:lnTo>
                  <a:lnTo>
                    <a:pt x="26" y="128"/>
                  </a:lnTo>
                  <a:lnTo>
                    <a:pt x="35" y="83"/>
                  </a:lnTo>
                  <a:lnTo>
                    <a:pt x="0" y="50"/>
                  </a:lnTo>
                  <a:lnTo>
                    <a:pt x="47" y="4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44"/>
          <p:cNvGrpSpPr/>
          <p:nvPr/>
        </p:nvGrpSpPr>
        <p:grpSpPr>
          <a:xfrm>
            <a:off x="7091280" y="3610080"/>
            <a:ext cx="184320" cy="260280"/>
            <a:chOff x="7091280" y="3610080"/>
            <a:chExt cx="184320" cy="260280"/>
          </a:xfrm>
        </p:grpSpPr>
        <p:sp>
          <p:nvSpPr>
            <p:cNvPr id="545" name="Freeform 18"/>
            <p:cNvSpPr/>
            <p:nvPr/>
          </p:nvSpPr>
          <p:spPr>
            <a:xfrm>
              <a:off x="7091280" y="3610080"/>
              <a:ext cx="184320" cy="2602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28" h="182">
                  <a:moveTo>
                    <a:pt x="64" y="0"/>
                  </a:moveTo>
                  <a:cubicBezTo>
                    <a:pt x="100" y="0"/>
                    <a:pt x="128" y="29"/>
                    <a:pt x="128" y="64"/>
                  </a:cubicBezTo>
                  <a:cubicBezTo>
                    <a:pt x="128" y="95"/>
                    <a:pt x="108" y="120"/>
                    <a:pt x="80" y="127"/>
                  </a:cubicBezTo>
                  <a:cubicBezTo>
                    <a:pt x="67" y="177"/>
                    <a:pt x="67" y="177"/>
                    <a:pt x="67" y="177"/>
                  </a:cubicBezTo>
                  <a:cubicBezTo>
                    <a:pt x="65" y="182"/>
                    <a:pt x="63" y="182"/>
                    <a:pt x="62" y="177"/>
                  </a:cubicBezTo>
                  <a:cubicBezTo>
                    <a:pt x="49" y="127"/>
                    <a:pt x="49" y="127"/>
                    <a:pt x="49" y="127"/>
                  </a:cubicBezTo>
                  <a:cubicBezTo>
                    <a:pt x="21" y="120"/>
                    <a:pt x="0" y="95"/>
                    <a:pt x="0" y="64"/>
                  </a:cubicBez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4b5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9"/>
            <p:cNvSpPr/>
            <p:nvPr/>
          </p:nvSpPr>
          <p:spPr>
            <a:xfrm>
              <a:off x="7113600" y="3632760"/>
              <a:ext cx="140400" cy="13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>
              <a:off x="7128360" y="3647520"/>
              <a:ext cx="109800" cy="110160"/>
            </a:xfrm>
            <a:prstGeom prst="ellipse">
              <a:avLst/>
            </a:pr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1"/>
            <p:cNvSpPr/>
            <p:nvPr/>
          </p:nvSpPr>
          <p:spPr>
            <a:xfrm>
              <a:off x="7143120" y="3660120"/>
              <a:ext cx="81720" cy="766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34" h="127">
                  <a:moveTo>
                    <a:pt x="66" y="0"/>
                  </a:moveTo>
                  <a:lnTo>
                    <a:pt x="87" y="42"/>
                  </a:lnTo>
                  <a:lnTo>
                    <a:pt x="134" y="49"/>
                  </a:lnTo>
                  <a:lnTo>
                    <a:pt x="99" y="80"/>
                  </a:lnTo>
                  <a:lnTo>
                    <a:pt x="108" y="127"/>
                  </a:lnTo>
                  <a:lnTo>
                    <a:pt x="66" y="106"/>
                  </a:lnTo>
                  <a:lnTo>
                    <a:pt x="26" y="127"/>
                  </a:lnTo>
                  <a:lnTo>
                    <a:pt x="33" y="80"/>
                  </a:lnTo>
                  <a:lnTo>
                    <a:pt x="0" y="49"/>
                  </a:lnTo>
                  <a:lnTo>
                    <a:pt x="47" y="4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Freeform 22"/>
          <p:cNvSpPr/>
          <p:nvPr/>
        </p:nvSpPr>
        <p:spPr>
          <a:xfrm>
            <a:off x="5715000" y="4098960"/>
            <a:ext cx="657360" cy="720720"/>
          </a:xfrm>
          <a:custGeom>
            <a:avLst/>
            <a:gdLst>
              <a:gd name="textAreaLeft" fmla="*/ 0 w 657360"/>
              <a:gd name="textAreaRight" fmla="*/ 657360 w 657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98" h="217">
                <a:moveTo>
                  <a:pt x="99" y="0"/>
                </a:moveTo>
                <a:cubicBezTo>
                  <a:pt x="89" y="0"/>
                  <a:pt x="85" y="47"/>
                  <a:pt x="85" y="54"/>
                </a:cubicBezTo>
                <a:cubicBezTo>
                  <a:pt x="85" y="62"/>
                  <a:pt x="85" y="70"/>
                  <a:pt x="85" y="78"/>
                </a:cubicBezTo>
                <a:cubicBezTo>
                  <a:pt x="70" y="89"/>
                  <a:pt x="70" y="89"/>
                  <a:pt x="70" y="89"/>
                </a:cubicBezTo>
                <a:cubicBezTo>
                  <a:pt x="69" y="87"/>
                  <a:pt x="69" y="85"/>
                  <a:pt x="69" y="84"/>
                </a:cubicBezTo>
                <a:cubicBezTo>
                  <a:pt x="59" y="84"/>
                  <a:pt x="59" y="84"/>
                  <a:pt x="59" y="84"/>
                </a:cubicBezTo>
                <a:cubicBezTo>
                  <a:pt x="59" y="88"/>
                  <a:pt x="58" y="92"/>
                  <a:pt x="58" y="97"/>
                </a:cubicBezTo>
                <a:cubicBezTo>
                  <a:pt x="5" y="127"/>
                  <a:pt x="5" y="127"/>
                  <a:pt x="5" y="127"/>
                </a:cubicBezTo>
                <a:cubicBezTo>
                  <a:pt x="2" y="129"/>
                  <a:pt x="0" y="131"/>
                  <a:pt x="0" y="133"/>
                </a:cubicBezTo>
                <a:cubicBezTo>
                  <a:pt x="0" y="138"/>
                  <a:pt x="0" y="138"/>
                  <a:pt x="0" y="138"/>
                </a:cubicBezTo>
                <a:cubicBezTo>
                  <a:pt x="0" y="139"/>
                  <a:pt x="2" y="139"/>
                  <a:pt x="4" y="139"/>
                </a:cubicBezTo>
                <a:cubicBezTo>
                  <a:pt x="35" y="129"/>
                  <a:pt x="35" y="129"/>
                  <a:pt x="35" y="129"/>
                </a:cubicBezTo>
                <a:cubicBezTo>
                  <a:pt x="36" y="131"/>
                  <a:pt x="36" y="132"/>
                  <a:pt x="36" y="132"/>
                </a:cubicBezTo>
                <a:cubicBezTo>
                  <a:pt x="37" y="132"/>
                  <a:pt x="37" y="131"/>
                  <a:pt x="38" y="129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7"/>
                  <a:pt x="50" y="129"/>
                  <a:pt x="50" y="129"/>
                </a:cubicBezTo>
                <a:cubicBezTo>
                  <a:pt x="51" y="129"/>
                  <a:pt x="51" y="127"/>
                  <a:pt x="51" y="124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9" y="123"/>
                  <a:pt x="59" y="123"/>
                  <a:pt x="59" y="124"/>
                </a:cubicBezTo>
                <a:cubicBezTo>
                  <a:pt x="59" y="125"/>
                  <a:pt x="59" y="126"/>
                  <a:pt x="59" y="128"/>
                </a:cubicBezTo>
                <a:cubicBezTo>
                  <a:pt x="59" y="132"/>
                  <a:pt x="60" y="136"/>
                  <a:pt x="60" y="136"/>
                </a:cubicBezTo>
                <a:cubicBezTo>
                  <a:pt x="61" y="136"/>
                  <a:pt x="61" y="135"/>
                  <a:pt x="61" y="133"/>
                </a:cubicBezTo>
                <a:cubicBezTo>
                  <a:pt x="67" y="133"/>
                  <a:pt x="67" y="133"/>
                  <a:pt x="67" y="133"/>
                </a:cubicBezTo>
                <a:cubicBezTo>
                  <a:pt x="67" y="135"/>
                  <a:pt x="67" y="136"/>
                  <a:pt x="68" y="136"/>
                </a:cubicBezTo>
                <a:cubicBezTo>
                  <a:pt x="69" y="136"/>
                  <a:pt x="69" y="132"/>
                  <a:pt x="69" y="128"/>
                </a:cubicBezTo>
                <a:cubicBezTo>
                  <a:pt x="69" y="126"/>
                  <a:pt x="69" y="125"/>
                  <a:pt x="69" y="124"/>
                </a:cubicBezTo>
                <a:cubicBezTo>
                  <a:pt x="69" y="123"/>
                  <a:pt x="69" y="122"/>
                  <a:pt x="69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34"/>
                  <a:pt x="86" y="146"/>
                  <a:pt x="87" y="159"/>
                </a:cubicBezTo>
                <a:cubicBezTo>
                  <a:pt x="87" y="169"/>
                  <a:pt x="89" y="179"/>
                  <a:pt x="91" y="187"/>
                </a:cubicBezTo>
                <a:cubicBezTo>
                  <a:pt x="64" y="205"/>
                  <a:pt x="64" y="205"/>
                  <a:pt x="64" y="205"/>
                </a:cubicBezTo>
                <a:cubicBezTo>
                  <a:pt x="62" y="206"/>
                  <a:pt x="61" y="208"/>
                  <a:pt x="61" y="210"/>
                </a:cubicBezTo>
                <a:cubicBezTo>
                  <a:pt x="61" y="217"/>
                  <a:pt x="61" y="217"/>
                  <a:pt x="61" y="217"/>
                </a:cubicBezTo>
                <a:cubicBezTo>
                  <a:pt x="97" y="209"/>
                  <a:pt x="97" y="209"/>
                  <a:pt x="97" y="209"/>
                </a:cubicBezTo>
                <a:cubicBezTo>
                  <a:pt x="97" y="210"/>
                  <a:pt x="98" y="212"/>
                  <a:pt x="99" y="214"/>
                </a:cubicBezTo>
                <a:cubicBezTo>
                  <a:pt x="100" y="214"/>
                  <a:pt x="100" y="214"/>
                  <a:pt x="100" y="214"/>
                </a:cubicBezTo>
                <a:cubicBezTo>
                  <a:pt x="100" y="212"/>
                  <a:pt x="101" y="210"/>
                  <a:pt x="102" y="209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37" y="210"/>
                  <a:pt x="137" y="210"/>
                  <a:pt x="137" y="210"/>
                </a:cubicBezTo>
                <a:cubicBezTo>
                  <a:pt x="137" y="208"/>
                  <a:pt x="136" y="206"/>
                  <a:pt x="134" y="205"/>
                </a:cubicBezTo>
                <a:cubicBezTo>
                  <a:pt x="108" y="187"/>
                  <a:pt x="108" y="187"/>
                  <a:pt x="108" y="187"/>
                </a:cubicBezTo>
                <a:cubicBezTo>
                  <a:pt x="110" y="179"/>
                  <a:pt x="111" y="169"/>
                  <a:pt x="112" y="159"/>
                </a:cubicBezTo>
                <a:cubicBezTo>
                  <a:pt x="113" y="146"/>
                  <a:pt x="113" y="134"/>
                  <a:pt x="114" y="121"/>
                </a:cubicBezTo>
                <a:cubicBezTo>
                  <a:pt x="129" y="121"/>
                  <a:pt x="129" y="121"/>
                  <a:pt x="129" y="121"/>
                </a:cubicBezTo>
                <a:cubicBezTo>
                  <a:pt x="129" y="122"/>
                  <a:pt x="129" y="123"/>
                  <a:pt x="129" y="124"/>
                </a:cubicBezTo>
                <a:cubicBezTo>
                  <a:pt x="129" y="125"/>
                  <a:pt x="129" y="126"/>
                  <a:pt x="129" y="128"/>
                </a:cubicBezTo>
                <a:cubicBezTo>
                  <a:pt x="129" y="132"/>
                  <a:pt x="130" y="136"/>
                  <a:pt x="131" y="136"/>
                </a:cubicBezTo>
                <a:cubicBezTo>
                  <a:pt x="131" y="136"/>
                  <a:pt x="131" y="135"/>
                  <a:pt x="132" y="133"/>
                </a:cubicBezTo>
                <a:cubicBezTo>
                  <a:pt x="137" y="133"/>
                  <a:pt x="137" y="133"/>
                  <a:pt x="137" y="133"/>
                </a:cubicBezTo>
                <a:cubicBezTo>
                  <a:pt x="137" y="135"/>
                  <a:pt x="138" y="136"/>
                  <a:pt x="138" y="136"/>
                </a:cubicBezTo>
                <a:cubicBezTo>
                  <a:pt x="139" y="136"/>
                  <a:pt x="139" y="132"/>
                  <a:pt x="139" y="128"/>
                </a:cubicBezTo>
                <a:cubicBezTo>
                  <a:pt x="139" y="126"/>
                  <a:pt x="139" y="125"/>
                  <a:pt x="139" y="124"/>
                </a:cubicBezTo>
                <a:cubicBezTo>
                  <a:pt x="139" y="123"/>
                  <a:pt x="139" y="123"/>
                  <a:pt x="139" y="122"/>
                </a:cubicBezTo>
                <a:cubicBezTo>
                  <a:pt x="147" y="124"/>
                  <a:pt x="147" y="124"/>
                  <a:pt x="147" y="124"/>
                </a:cubicBezTo>
                <a:cubicBezTo>
                  <a:pt x="147" y="127"/>
                  <a:pt x="148" y="129"/>
                  <a:pt x="148" y="129"/>
                </a:cubicBezTo>
                <a:cubicBezTo>
                  <a:pt x="149" y="129"/>
                  <a:pt x="149" y="127"/>
                  <a:pt x="149" y="125"/>
                </a:cubicBezTo>
                <a:cubicBezTo>
                  <a:pt x="161" y="129"/>
                  <a:pt x="161" y="129"/>
                  <a:pt x="161" y="129"/>
                </a:cubicBezTo>
                <a:cubicBezTo>
                  <a:pt x="161" y="131"/>
                  <a:pt x="162" y="132"/>
                  <a:pt x="162" y="132"/>
                </a:cubicBezTo>
                <a:cubicBezTo>
                  <a:pt x="162" y="132"/>
                  <a:pt x="163" y="131"/>
                  <a:pt x="163" y="129"/>
                </a:cubicBezTo>
                <a:cubicBezTo>
                  <a:pt x="195" y="139"/>
                  <a:pt x="195" y="139"/>
                  <a:pt x="195" y="139"/>
                </a:cubicBezTo>
                <a:cubicBezTo>
                  <a:pt x="196" y="139"/>
                  <a:pt x="198" y="139"/>
                  <a:pt x="198" y="138"/>
                </a:cubicBezTo>
                <a:cubicBezTo>
                  <a:pt x="198" y="133"/>
                  <a:pt x="198" y="133"/>
                  <a:pt x="198" y="133"/>
                </a:cubicBezTo>
                <a:cubicBezTo>
                  <a:pt x="198" y="131"/>
                  <a:pt x="196" y="129"/>
                  <a:pt x="193" y="127"/>
                </a:cubicBezTo>
                <a:cubicBezTo>
                  <a:pt x="140" y="97"/>
                  <a:pt x="140" y="97"/>
                  <a:pt x="140" y="97"/>
                </a:cubicBezTo>
                <a:cubicBezTo>
                  <a:pt x="140" y="92"/>
                  <a:pt x="140" y="88"/>
                  <a:pt x="13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9" y="85"/>
                  <a:pt x="129" y="87"/>
                  <a:pt x="129" y="89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4" y="70"/>
                  <a:pt x="113" y="62"/>
                  <a:pt x="113" y="54"/>
                </a:cubicBezTo>
                <a:cubicBezTo>
                  <a:pt x="113" y="47"/>
                  <a:pt x="110" y="0"/>
                  <a:pt x="99" y="0"/>
                </a:cubicBezTo>
                <a:close/>
              </a:path>
            </a:pathLst>
          </a:custGeom>
          <a:solidFill>
            <a:srgbClr val="5cb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组合 52"/>
          <p:cNvGrpSpPr/>
          <p:nvPr/>
        </p:nvGrpSpPr>
        <p:grpSpPr>
          <a:xfrm>
            <a:off x="4503600" y="2752560"/>
            <a:ext cx="130320" cy="360360"/>
            <a:chOff x="4503600" y="2752560"/>
            <a:chExt cx="130320" cy="360360"/>
          </a:xfrm>
        </p:grpSpPr>
        <p:sp>
          <p:nvSpPr>
            <p:cNvPr id="551" name="Freeform 23"/>
            <p:cNvSpPr/>
            <p:nvPr/>
          </p:nvSpPr>
          <p:spPr>
            <a:xfrm>
              <a:off x="4503600" y="2752560"/>
              <a:ext cx="65160" cy="360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71" h="390">
                  <a:moveTo>
                    <a:pt x="71" y="0"/>
                  </a:moveTo>
                  <a:lnTo>
                    <a:pt x="71" y="390"/>
                  </a:lnTo>
                  <a:lnTo>
                    <a:pt x="0" y="3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57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4"/>
            <p:cNvSpPr/>
            <p:nvPr/>
          </p:nvSpPr>
          <p:spPr>
            <a:xfrm>
              <a:off x="4568760" y="2752560"/>
              <a:ext cx="65160" cy="360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71" h="390">
                  <a:moveTo>
                    <a:pt x="0" y="0"/>
                  </a:moveTo>
                  <a:lnTo>
                    <a:pt x="0" y="390"/>
                  </a:lnTo>
                  <a:lnTo>
                    <a:pt x="71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25"/>
          <p:cNvSpPr/>
          <p:nvPr/>
        </p:nvSpPr>
        <p:spPr>
          <a:xfrm>
            <a:off x="468360" y="4344840"/>
            <a:ext cx="457200" cy="525600"/>
          </a:xfrm>
          <a:custGeom>
            <a:avLst/>
            <a:gdLst>
              <a:gd name="textAreaLeft" fmla="*/ 0 w 457200"/>
              <a:gd name="textAreaRight" fmla="*/ 457560 w 4572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69" h="79">
                <a:moveTo>
                  <a:pt x="35" y="0"/>
                </a:moveTo>
                <a:cubicBezTo>
                  <a:pt x="45" y="0"/>
                  <a:pt x="53" y="8"/>
                  <a:pt x="53" y="19"/>
                </a:cubicBezTo>
                <a:cubicBezTo>
                  <a:pt x="53" y="29"/>
                  <a:pt x="45" y="38"/>
                  <a:pt x="35" y="38"/>
                </a:cubicBezTo>
                <a:cubicBezTo>
                  <a:pt x="24" y="38"/>
                  <a:pt x="16" y="29"/>
                  <a:pt x="16" y="19"/>
                </a:cubicBezTo>
                <a:cubicBezTo>
                  <a:pt x="16" y="8"/>
                  <a:pt x="24" y="0"/>
                  <a:pt x="35" y="0"/>
                </a:cubicBezTo>
                <a:close/>
                <a:moveTo>
                  <a:pt x="14" y="42"/>
                </a:moveTo>
                <a:cubicBezTo>
                  <a:pt x="23" y="42"/>
                  <a:pt x="23" y="42"/>
                  <a:pt x="23" y="42"/>
                </a:cubicBezTo>
                <a:cubicBezTo>
                  <a:pt x="30" y="55"/>
                  <a:pt x="30" y="55"/>
                  <a:pt x="30" y="55"/>
                </a:cubicBezTo>
                <a:cubicBezTo>
                  <a:pt x="33" y="59"/>
                  <a:pt x="36" y="59"/>
                  <a:pt x="39" y="55"/>
                </a:cubicBezTo>
                <a:cubicBezTo>
                  <a:pt x="46" y="42"/>
                  <a:pt x="46" y="42"/>
                  <a:pt x="46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63" y="42"/>
                  <a:pt x="69" y="49"/>
                  <a:pt x="69" y="56"/>
                </a:cubicBezTo>
                <a:cubicBezTo>
                  <a:pt x="69" y="79"/>
                  <a:pt x="69" y="79"/>
                  <a:pt x="69" y="79"/>
                </a:cubicBezTo>
                <a:cubicBezTo>
                  <a:pt x="58" y="79"/>
                  <a:pt x="11" y="79"/>
                  <a:pt x="0" y="79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49"/>
                  <a:pt x="6" y="42"/>
                  <a:pt x="14" y="42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61"/>
          <p:cNvGrpSpPr/>
          <p:nvPr/>
        </p:nvGrpSpPr>
        <p:grpSpPr>
          <a:xfrm>
            <a:off x="760320" y="3335400"/>
            <a:ext cx="1208160" cy="1087200"/>
            <a:chOff x="760320" y="3335400"/>
            <a:chExt cx="1208160" cy="1087200"/>
          </a:xfrm>
        </p:grpSpPr>
        <p:grpSp>
          <p:nvGrpSpPr>
            <p:cNvPr id="555" name="组合 53"/>
            <p:cNvGrpSpPr/>
            <p:nvPr/>
          </p:nvGrpSpPr>
          <p:grpSpPr>
            <a:xfrm>
              <a:off x="760320" y="3335400"/>
              <a:ext cx="1208160" cy="1087200"/>
              <a:chOff x="760320" y="3335400"/>
              <a:chExt cx="1208160" cy="1087200"/>
            </a:xfrm>
          </p:grpSpPr>
          <p:sp>
            <p:nvSpPr>
              <p:cNvPr id="556" name="Freeform 26"/>
              <p:cNvSpPr/>
              <p:nvPr/>
            </p:nvSpPr>
            <p:spPr>
              <a:xfrm>
                <a:off x="760320" y="3335400"/>
                <a:ext cx="1208160" cy="783720"/>
              </a:xfrm>
              <a:custGeom>
                <a:avLst/>
                <a:gdLst>
                  <a:gd name="textAreaLeft" fmla="*/ 0 w 1208160"/>
                  <a:gd name="textAreaRight" fmla="*/ 1208520 w 12081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82" h="118">
                    <a:moveTo>
                      <a:pt x="60" y="0"/>
                    </a:moveTo>
                    <a:cubicBezTo>
                      <a:pt x="123" y="0"/>
                      <a:pt x="123" y="0"/>
                      <a:pt x="123" y="0"/>
                    </a:cubicBezTo>
                    <a:cubicBezTo>
                      <a:pt x="156" y="0"/>
                      <a:pt x="182" y="27"/>
                      <a:pt x="182" y="59"/>
                    </a:cubicBezTo>
                    <a:cubicBezTo>
                      <a:pt x="182" y="59"/>
                      <a:pt x="182" y="59"/>
                      <a:pt x="182" y="59"/>
                    </a:cubicBezTo>
                    <a:cubicBezTo>
                      <a:pt x="182" y="92"/>
                      <a:pt x="156" y="118"/>
                      <a:pt x="123" y="118"/>
                    </a:cubicBezTo>
                    <a:cubicBezTo>
                      <a:pt x="60" y="118"/>
                      <a:pt x="60" y="118"/>
                      <a:pt x="60" y="118"/>
                    </a:cubicBezTo>
                    <a:cubicBezTo>
                      <a:pt x="27" y="118"/>
                      <a:pt x="0" y="92"/>
                      <a:pt x="0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27"/>
                      <a:pt x="27" y="0"/>
                      <a:pt x="60" y="0"/>
                    </a:cubicBezTo>
                    <a:close/>
                  </a:path>
                </a:pathLst>
              </a:custGeom>
              <a:solidFill>
                <a:srgbClr val="bc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7"/>
              <p:cNvSpPr/>
              <p:nvPr/>
            </p:nvSpPr>
            <p:spPr>
              <a:xfrm>
                <a:off x="886680" y="3939480"/>
                <a:ext cx="396000" cy="483120"/>
              </a:xfrm>
              <a:custGeom>
                <a:avLst/>
                <a:gdLst>
                  <a:gd name="textAreaLeft" fmla="*/ 0 w 396000"/>
                  <a:gd name="textAreaRight" fmla="*/ 396360 w 39600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141" h="172">
                    <a:moveTo>
                      <a:pt x="54" y="0"/>
                    </a:moveTo>
                    <a:lnTo>
                      <a:pt x="141" y="21"/>
                    </a:lnTo>
                    <a:lnTo>
                      <a:pt x="0" y="17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c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Box 54"/>
            <p:cNvSpPr/>
            <p:nvPr/>
          </p:nvSpPr>
          <p:spPr>
            <a:xfrm>
              <a:off x="1037160" y="3398040"/>
              <a:ext cx="668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19"/>
          <p:cNvGrpSpPr/>
          <p:nvPr/>
        </p:nvGrpSpPr>
        <p:grpSpPr>
          <a:xfrm>
            <a:off x="822240" y="3111480"/>
            <a:ext cx="1157400" cy="1319400"/>
            <a:chOff x="822240" y="3111480"/>
            <a:chExt cx="1157400" cy="1319400"/>
          </a:xfrm>
        </p:grpSpPr>
        <p:sp>
          <p:nvSpPr>
            <p:cNvPr id="561" name="AutoShape 5"/>
            <p:cNvSpPr/>
            <p:nvPr/>
          </p:nvSpPr>
          <p:spPr>
            <a:xfrm>
              <a:off x="877680" y="3114360"/>
              <a:ext cx="1046520" cy="12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"/>
            <p:cNvSpPr/>
            <p:nvPr/>
          </p:nvSpPr>
          <p:spPr>
            <a:xfrm>
              <a:off x="822240" y="3111480"/>
              <a:ext cx="1157400" cy="131940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309" h="352">
                  <a:moveTo>
                    <a:pt x="254" y="99"/>
                  </a:moveTo>
                  <a:cubicBezTo>
                    <a:pt x="309" y="154"/>
                    <a:pt x="309" y="243"/>
                    <a:pt x="254" y="298"/>
                  </a:cubicBezTo>
                  <a:cubicBezTo>
                    <a:pt x="199" y="352"/>
                    <a:pt x="110" y="352"/>
                    <a:pt x="55" y="298"/>
                  </a:cubicBezTo>
                  <a:cubicBezTo>
                    <a:pt x="0" y="243"/>
                    <a:pt x="0" y="154"/>
                    <a:pt x="55" y="99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254" y="99"/>
                    <a:pt x="254" y="99"/>
                    <a:pt x="254" y="99"/>
                  </a:cubicBez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9"/>
            <p:cNvSpPr/>
            <p:nvPr/>
          </p:nvSpPr>
          <p:spPr>
            <a:xfrm>
              <a:off x="946080" y="3854520"/>
              <a:ext cx="909720" cy="457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3" h="122">
                  <a:moveTo>
                    <a:pt x="243" y="0"/>
                  </a:moveTo>
                  <a:cubicBezTo>
                    <a:pt x="243" y="67"/>
                    <a:pt x="189" y="122"/>
                    <a:pt x="122" y="122"/>
                  </a:cubicBezTo>
                  <a:cubicBezTo>
                    <a:pt x="55" y="122"/>
                    <a:pt x="0" y="67"/>
                    <a:pt x="0" y="0"/>
                  </a:cubicBezTo>
                  <a:cubicBezTo>
                    <a:pt x="243" y="0"/>
                    <a:pt x="243" y="0"/>
                    <a:pt x="243" y="0"/>
                  </a:cubicBezTo>
                  <a:close/>
                </a:path>
              </a:pathLst>
            </a:custGeom>
            <a:solidFill>
              <a:srgbClr val="bc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17"/>
            <p:cNvSpPr/>
            <p:nvPr/>
          </p:nvSpPr>
          <p:spPr>
            <a:xfrm>
              <a:off x="1013040" y="32191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3"/>
            <p:cNvSpPr/>
            <p:nvPr/>
          </p:nvSpPr>
          <p:spPr>
            <a:xfrm>
              <a:off x="1140120" y="38682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圆角矩形 20"/>
          <p:cNvSpPr/>
          <p:nvPr/>
        </p:nvSpPr>
        <p:spPr>
          <a:xfrm>
            <a:off x="371520" y="2629080"/>
            <a:ext cx="8271000" cy="3441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24"/>
          <p:cNvGrpSpPr/>
          <p:nvPr/>
        </p:nvGrpSpPr>
        <p:grpSpPr>
          <a:xfrm>
            <a:off x="2417760" y="2671920"/>
            <a:ext cx="4176720" cy="257040"/>
            <a:chOff x="2417760" y="2671920"/>
            <a:chExt cx="4176720" cy="257040"/>
          </a:xfrm>
        </p:grpSpPr>
        <p:sp>
          <p:nvSpPr>
            <p:cNvPr id="568" name="直接连接符 22"/>
            <p:cNvSpPr/>
            <p:nvPr/>
          </p:nvSpPr>
          <p:spPr>
            <a:xfrm>
              <a:off x="2417760" y="2671920"/>
              <a:ext cx="0" cy="257040"/>
            </a:xfrm>
            <a:prstGeom prst="line">
              <a:avLst/>
            </a:prstGeom>
            <a:ln w="324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48"/>
            <p:cNvSpPr/>
            <p:nvPr/>
          </p:nvSpPr>
          <p:spPr>
            <a:xfrm>
              <a:off x="4506840" y="2671920"/>
              <a:ext cx="0" cy="257040"/>
            </a:xfrm>
            <a:prstGeom prst="line">
              <a:avLst/>
            </a:prstGeom>
            <a:ln w="324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49"/>
            <p:cNvSpPr/>
            <p:nvPr/>
          </p:nvSpPr>
          <p:spPr>
            <a:xfrm>
              <a:off x="6594480" y="2671920"/>
              <a:ext cx="0" cy="257040"/>
            </a:xfrm>
            <a:prstGeom prst="line">
              <a:avLst/>
            </a:prstGeom>
            <a:ln w="324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56"/>
          <p:cNvGrpSpPr/>
          <p:nvPr/>
        </p:nvGrpSpPr>
        <p:grpSpPr>
          <a:xfrm>
            <a:off x="2909880" y="1015560"/>
            <a:ext cx="1301760" cy="1484280"/>
            <a:chOff x="2909880" y="1015560"/>
            <a:chExt cx="1301760" cy="1484280"/>
          </a:xfrm>
        </p:grpSpPr>
        <p:sp>
          <p:nvSpPr>
            <p:cNvPr id="572" name="AutoShape 5"/>
            <p:cNvSpPr/>
            <p:nvPr/>
          </p:nvSpPr>
          <p:spPr>
            <a:xfrm rot="10800000">
              <a:off x="2972520" y="1065600"/>
              <a:ext cx="1176840" cy="14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"/>
            <p:cNvSpPr/>
            <p:nvPr/>
          </p:nvSpPr>
          <p:spPr>
            <a:xfrm rot="10800000">
              <a:off x="2909880" y="1015560"/>
              <a:ext cx="1301760" cy="14842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09" h="352">
                  <a:moveTo>
                    <a:pt x="254" y="99"/>
                  </a:moveTo>
                  <a:cubicBezTo>
                    <a:pt x="309" y="154"/>
                    <a:pt x="309" y="243"/>
                    <a:pt x="254" y="298"/>
                  </a:cubicBezTo>
                  <a:cubicBezTo>
                    <a:pt x="199" y="352"/>
                    <a:pt x="110" y="352"/>
                    <a:pt x="55" y="298"/>
                  </a:cubicBezTo>
                  <a:cubicBezTo>
                    <a:pt x="0" y="243"/>
                    <a:pt x="0" y="154"/>
                    <a:pt x="55" y="99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254" y="99"/>
                    <a:pt x="254" y="99"/>
                    <a:pt x="254" y="99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"/>
            <p:cNvSpPr/>
            <p:nvPr/>
          </p:nvSpPr>
          <p:spPr>
            <a:xfrm rot="10800000">
              <a:off x="3049200" y="1149480"/>
              <a:ext cx="1023120" cy="514440"/>
            </a:xfrm>
            <a:custGeom>
              <a:avLst/>
              <a:gdLst>
                <a:gd name="textAreaLeft" fmla="*/ 0 w 1023120"/>
                <a:gd name="textAreaRight" fmla="*/ 1023480 w 10231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43" h="122">
                  <a:moveTo>
                    <a:pt x="243" y="0"/>
                  </a:moveTo>
                  <a:cubicBezTo>
                    <a:pt x="243" y="67"/>
                    <a:pt x="189" y="122"/>
                    <a:pt x="122" y="122"/>
                  </a:cubicBezTo>
                  <a:cubicBezTo>
                    <a:pt x="55" y="122"/>
                    <a:pt x="0" y="67"/>
                    <a:pt x="0" y="0"/>
                  </a:cubicBezTo>
                  <a:cubicBezTo>
                    <a:pt x="243" y="0"/>
                    <a:pt x="243" y="0"/>
                    <a:pt x="243" y="0"/>
                  </a:cubicBezTo>
                  <a:close/>
                </a:path>
              </a:pathLst>
            </a:custGeom>
            <a:solidFill>
              <a:srgbClr val="ffd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60"/>
            <p:cNvSpPr/>
            <p:nvPr/>
          </p:nvSpPr>
          <p:spPr>
            <a:xfrm>
              <a:off x="3186720" y="16232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62"/>
            <p:cNvSpPr/>
            <p:nvPr/>
          </p:nvSpPr>
          <p:spPr>
            <a:xfrm>
              <a:off x="3272760" y="12700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67"/>
          <p:cNvGrpSpPr/>
          <p:nvPr/>
        </p:nvGrpSpPr>
        <p:grpSpPr>
          <a:xfrm>
            <a:off x="4998960" y="3121200"/>
            <a:ext cx="1444680" cy="1645920"/>
            <a:chOff x="4998960" y="3121200"/>
            <a:chExt cx="1444680" cy="1645920"/>
          </a:xfrm>
        </p:grpSpPr>
        <p:sp>
          <p:nvSpPr>
            <p:cNvPr id="578" name="AutoShape 5"/>
            <p:cNvSpPr/>
            <p:nvPr/>
          </p:nvSpPr>
          <p:spPr>
            <a:xfrm>
              <a:off x="5068080" y="3125160"/>
              <a:ext cx="1306080" cy="15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4998960" y="3121200"/>
              <a:ext cx="1444680" cy="1645920"/>
            </a:xfrm>
            <a:custGeom>
              <a:avLst/>
              <a:gdLst>
                <a:gd name="textAreaLeft" fmla="*/ 0 w 1444680"/>
                <a:gd name="textAreaRight" fmla="*/ 1445040 w 144468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309" h="352">
                  <a:moveTo>
                    <a:pt x="254" y="99"/>
                  </a:moveTo>
                  <a:cubicBezTo>
                    <a:pt x="309" y="154"/>
                    <a:pt x="309" y="243"/>
                    <a:pt x="254" y="298"/>
                  </a:cubicBezTo>
                  <a:cubicBezTo>
                    <a:pt x="199" y="352"/>
                    <a:pt x="110" y="352"/>
                    <a:pt x="55" y="298"/>
                  </a:cubicBezTo>
                  <a:cubicBezTo>
                    <a:pt x="0" y="243"/>
                    <a:pt x="0" y="154"/>
                    <a:pt x="55" y="99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254" y="99"/>
                    <a:pt x="254" y="99"/>
                    <a:pt x="254" y="99"/>
                  </a:cubicBezTo>
                  <a:close/>
                </a:path>
              </a:pathLst>
            </a:custGeom>
            <a:solidFill>
              <a:srgbClr val="ee7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153400" y="4048200"/>
              <a:ext cx="1135800" cy="57024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243" h="122">
                  <a:moveTo>
                    <a:pt x="243" y="0"/>
                  </a:moveTo>
                  <a:cubicBezTo>
                    <a:pt x="243" y="67"/>
                    <a:pt x="189" y="122"/>
                    <a:pt x="122" y="122"/>
                  </a:cubicBezTo>
                  <a:cubicBezTo>
                    <a:pt x="55" y="122"/>
                    <a:pt x="0" y="67"/>
                    <a:pt x="0" y="0"/>
                  </a:cubicBezTo>
                  <a:cubicBezTo>
                    <a:pt x="243" y="0"/>
                    <a:pt x="243" y="0"/>
                    <a:pt x="243" y="0"/>
                  </a:cubicBezTo>
                  <a:close/>
                </a:path>
              </a:pathLst>
            </a:custGeom>
            <a:solidFill>
              <a:srgbClr val="f8c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71"/>
            <p:cNvSpPr/>
            <p:nvPr/>
          </p:nvSpPr>
          <p:spPr>
            <a:xfrm>
              <a:off x="5310720" y="33148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72"/>
            <p:cNvSpPr/>
            <p:nvPr/>
          </p:nvSpPr>
          <p:spPr>
            <a:xfrm>
              <a:off x="5405400" y="4030920"/>
              <a:ext cx="66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73"/>
          <p:cNvGrpSpPr/>
          <p:nvPr/>
        </p:nvGrpSpPr>
        <p:grpSpPr>
          <a:xfrm>
            <a:off x="6659640" y="771480"/>
            <a:ext cx="1525680" cy="1736640"/>
            <a:chOff x="6659640" y="771480"/>
            <a:chExt cx="1525680" cy="1736640"/>
          </a:xfrm>
        </p:grpSpPr>
        <p:sp>
          <p:nvSpPr>
            <p:cNvPr id="584" name="AutoShape 5"/>
            <p:cNvSpPr/>
            <p:nvPr/>
          </p:nvSpPr>
          <p:spPr>
            <a:xfrm rot="10800000">
              <a:off x="6733080" y="830160"/>
              <a:ext cx="1379160" cy="16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 rot="10800000">
              <a:off x="6659640" y="771480"/>
              <a:ext cx="1525680" cy="173664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309" h="352">
                  <a:moveTo>
                    <a:pt x="254" y="99"/>
                  </a:moveTo>
                  <a:cubicBezTo>
                    <a:pt x="309" y="154"/>
                    <a:pt x="309" y="243"/>
                    <a:pt x="254" y="298"/>
                  </a:cubicBezTo>
                  <a:cubicBezTo>
                    <a:pt x="199" y="352"/>
                    <a:pt x="110" y="352"/>
                    <a:pt x="55" y="298"/>
                  </a:cubicBezTo>
                  <a:cubicBezTo>
                    <a:pt x="0" y="243"/>
                    <a:pt x="0" y="154"/>
                    <a:pt x="55" y="99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254" y="99"/>
                    <a:pt x="254" y="99"/>
                    <a:pt x="254" y="99"/>
                  </a:cubicBezTo>
                  <a:close/>
                </a:path>
              </a:pathLst>
            </a:custGeom>
            <a:solidFill>
              <a:srgbClr val="757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"/>
            <p:cNvSpPr/>
            <p:nvPr/>
          </p:nvSpPr>
          <p:spPr>
            <a:xfrm rot="10800000">
              <a:off x="6823080" y="922320"/>
              <a:ext cx="1198800" cy="60156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243" y="0"/>
                  </a:moveTo>
                  <a:cubicBezTo>
                    <a:pt x="243" y="67"/>
                    <a:pt x="189" y="122"/>
                    <a:pt x="122" y="122"/>
                  </a:cubicBezTo>
                  <a:cubicBezTo>
                    <a:pt x="55" y="122"/>
                    <a:pt x="0" y="67"/>
                    <a:pt x="0" y="0"/>
                  </a:cubicBezTo>
                  <a:cubicBezTo>
                    <a:pt x="243" y="0"/>
                    <a:pt x="243" y="0"/>
                    <a:pt x="243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Box 77"/>
            <p:cNvSpPr/>
            <p:nvPr/>
          </p:nvSpPr>
          <p:spPr>
            <a:xfrm>
              <a:off x="6958440" y="1434240"/>
              <a:ext cx="94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78"/>
            <p:cNvSpPr/>
            <p:nvPr/>
          </p:nvSpPr>
          <p:spPr>
            <a:xfrm>
              <a:off x="7119360" y="1051920"/>
              <a:ext cx="66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7"/>
          <p:cNvSpPr/>
          <p:nvPr/>
        </p:nvSpPr>
        <p:spPr>
          <a:xfrm>
            <a:off x="2583000" y="1639800"/>
            <a:ext cx="3600360" cy="17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13" h="7">
                <a:moveTo>
                  <a:pt x="0" y="0"/>
                </a:moveTo>
                <a:lnTo>
                  <a:pt x="1313" y="0"/>
                </a:lnTo>
                <a:lnTo>
                  <a:pt x="1313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8"/>
          <p:cNvSpPr/>
          <p:nvPr/>
        </p:nvSpPr>
        <p:spPr>
          <a:xfrm>
            <a:off x="2583000" y="1968480"/>
            <a:ext cx="3600360" cy="17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86" h="2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1"/>
                  <a:pt x="186" y="1"/>
                  <a:pt x="186" y="2"/>
                </a:cubicBezTo>
                <a:cubicBezTo>
                  <a:pt x="124" y="2"/>
                  <a:pt x="62" y="2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9"/>
          <p:cNvSpPr/>
          <p:nvPr/>
        </p:nvSpPr>
        <p:spPr>
          <a:xfrm>
            <a:off x="2583000" y="2306520"/>
            <a:ext cx="3600360" cy="190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6" h="1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0"/>
                  <a:pt x="186" y="1"/>
                  <a:pt x="186" y="1"/>
                </a:cubicBezTo>
                <a:cubicBezTo>
                  <a:pt x="124" y="1"/>
                  <a:pt x="62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2583000" y="2635200"/>
            <a:ext cx="3600360" cy="190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6" h="2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1"/>
                  <a:pt x="186" y="1"/>
                  <a:pt x="186" y="2"/>
                </a:cubicBezTo>
                <a:cubicBezTo>
                  <a:pt x="124" y="2"/>
                  <a:pt x="62" y="2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1"/>
          <p:cNvSpPr/>
          <p:nvPr/>
        </p:nvSpPr>
        <p:spPr>
          <a:xfrm>
            <a:off x="2583000" y="2975040"/>
            <a:ext cx="3600360" cy="1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86" h="1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0"/>
                  <a:pt x="186" y="1"/>
                  <a:pt x="186" y="1"/>
                </a:cubicBezTo>
                <a:cubicBezTo>
                  <a:pt x="124" y="1"/>
                  <a:pt x="62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2"/>
          <p:cNvSpPr/>
          <p:nvPr/>
        </p:nvSpPr>
        <p:spPr>
          <a:xfrm>
            <a:off x="2583000" y="3303720"/>
            <a:ext cx="3600360" cy="1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86" h="2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1"/>
                  <a:pt x="186" y="1"/>
                  <a:pt x="186" y="2"/>
                </a:cubicBezTo>
                <a:cubicBezTo>
                  <a:pt x="124" y="2"/>
                  <a:pt x="62" y="2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3"/>
          <p:cNvSpPr/>
          <p:nvPr/>
        </p:nvSpPr>
        <p:spPr>
          <a:xfrm>
            <a:off x="2583000" y="3643200"/>
            <a:ext cx="3600360" cy="17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86" h="1">
                <a:moveTo>
                  <a:pt x="0" y="0"/>
                </a:moveTo>
                <a:cubicBezTo>
                  <a:pt x="62" y="0"/>
                  <a:pt x="124" y="0"/>
                  <a:pt x="186" y="0"/>
                </a:cubicBezTo>
                <a:cubicBezTo>
                  <a:pt x="186" y="0"/>
                  <a:pt x="186" y="1"/>
                  <a:pt x="186" y="1"/>
                </a:cubicBezTo>
                <a:cubicBezTo>
                  <a:pt x="124" y="1"/>
                  <a:pt x="62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4"/>
          <p:cNvSpPr/>
          <p:nvPr/>
        </p:nvSpPr>
        <p:spPr>
          <a:xfrm>
            <a:off x="2583000" y="3970440"/>
            <a:ext cx="3600360" cy="1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13" h="14">
                <a:moveTo>
                  <a:pt x="0" y="0"/>
                </a:moveTo>
                <a:lnTo>
                  <a:pt x="1313" y="0"/>
                </a:lnTo>
                <a:lnTo>
                  <a:pt x="1313" y="14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47"/>
          <p:cNvGrpSpPr/>
          <p:nvPr/>
        </p:nvGrpSpPr>
        <p:grpSpPr>
          <a:xfrm>
            <a:off x="324000" y="1276200"/>
            <a:ext cx="4055760" cy="2900520"/>
            <a:chOff x="324000" y="1276200"/>
            <a:chExt cx="4055760" cy="2900520"/>
          </a:xfrm>
        </p:grpSpPr>
        <p:sp>
          <p:nvSpPr>
            <p:cNvPr id="599" name="Freeform 15"/>
            <p:cNvSpPr/>
            <p:nvPr/>
          </p:nvSpPr>
          <p:spPr>
            <a:xfrm>
              <a:off x="1744200" y="1276200"/>
              <a:ext cx="606600" cy="594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353" h="346">
                  <a:moveTo>
                    <a:pt x="0" y="141"/>
                  </a:moveTo>
                  <a:lnTo>
                    <a:pt x="353" y="0"/>
                  </a:lnTo>
                  <a:lnTo>
                    <a:pt x="353" y="346"/>
                  </a:lnTo>
                  <a:lnTo>
                    <a:pt x="0" y="346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4a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2351160" y="1276200"/>
              <a:ext cx="606600" cy="594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353" h="346">
                  <a:moveTo>
                    <a:pt x="353" y="141"/>
                  </a:moveTo>
                  <a:lnTo>
                    <a:pt x="0" y="0"/>
                  </a:lnTo>
                  <a:lnTo>
                    <a:pt x="0" y="346"/>
                  </a:lnTo>
                  <a:lnTo>
                    <a:pt x="353" y="346"/>
                  </a:lnTo>
                  <a:lnTo>
                    <a:pt x="353" y="141"/>
                  </a:lnTo>
                  <a:close/>
                </a:path>
              </a:pathLst>
            </a:custGeom>
            <a:solidFill>
              <a:srgbClr val="ee7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7"/>
            <p:cNvSpPr/>
            <p:nvPr/>
          </p:nvSpPr>
          <p:spPr>
            <a:xfrm>
              <a:off x="1549800" y="1604520"/>
              <a:ext cx="801000" cy="5947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66" h="49">
                  <a:moveTo>
                    <a:pt x="0" y="20"/>
                  </a:moveTo>
                  <a:cubicBezTo>
                    <a:pt x="22" y="13"/>
                    <a:pt x="44" y="7"/>
                    <a:pt x="66" y="0"/>
                  </a:cubicBezTo>
                  <a:cubicBezTo>
                    <a:pt x="66" y="16"/>
                    <a:pt x="66" y="33"/>
                    <a:pt x="66" y="49"/>
                  </a:cubicBezTo>
                  <a:cubicBezTo>
                    <a:pt x="44" y="49"/>
                    <a:pt x="22" y="49"/>
                    <a:pt x="0" y="49"/>
                  </a:cubicBezTo>
                  <a:cubicBezTo>
                    <a:pt x="0" y="39"/>
                    <a:pt x="0" y="30"/>
                    <a:pt x="0" y="20"/>
                  </a:cubicBezTo>
                  <a:close/>
                </a:path>
              </a:pathLst>
            </a:custGeom>
            <a:solidFill>
              <a:srgbClr val="ee7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8"/>
            <p:cNvSpPr/>
            <p:nvPr/>
          </p:nvSpPr>
          <p:spPr>
            <a:xfrm>
              <a:off x="2351160" y="1604520"/>
              <a:ext cx="801000" cy="5947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66" h="49">
                  <a:moveTo>
                    <a:pt x="66" y="20"/>
                  </a:moveTo>
                  <a:cubicBezTo>
                    <a:pt x="44" y="13"/>
                    <a:pt x="22" y="7"/>
                    <a:pt x="0" y="0"/>
                  </a:cubicBezTo>
                  <a:cubicBezTo>
                    <a:pt x="0" y="16"/>
                    <a:pt x="0" y="33"/>
                    <a:pt x="0" y="49"/>
                  </a:cubicBezTo>
                  <a:cubicBezTo>
                    <a:pt x="22" y="49"/>
                    <a:pt x="44" y="49"/>
                    <a:pt x="66" y="49"/>
                  </a:cubicBezTo>
                  <a:cubicBezTo>
                    <a:pt x="66" y="39"/>
                    <a:pt x="66" y="30"/>
                    <a:pt x="66" y="20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9"/>
            <p:cNvSpPr/>
            <p:nvPr/>
          </p:nvSpPr>
          <p:spPr>
            <a:xfrm>
              <a:off x="1343520" y="1931040"/>
              <a:ext cx="1007280" cy="594720"/>
            </a:xfrm>
            <a:custGeom>
              <a:avLst/>
              <a:gdLst>
                <a:gd name="textAreaLeft" fmla="*/ 0 w 1007280"/>
                <a:gd name="textAreaRight" fmla="*/ 1007640 w 100728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83" h="49">
                  <a:moveTo>
                    <a:pt x="0" y="20"/>
                  </a:moveTo>
                  <a:cubicBezTo>
                    <a:pt x="28" y="13"/>
                    <a:pt x="55" y="7"/>
                    <a:pt x="83" y="0"/>
                  </a:cubicBezTo>
                  <a:cubicBezTo>
                    <a:pt x="83" y="16"/>
                    <a:pt x="83" y="33"/>
                    <a:pt x="83" y="49"/>
                  </a:cubicBezTo>
                  <a:cubicBezTo>
                    <a:pt x="55" y="49"/>
                    <a:pt x="28" y="49"/>
                    <a:pt x="0" y="49"/>
                  </a:cubicBezTo>
                  <a:cubicBezTo>
                    <a:pt x="0" y="39"/>
                    <a:pt x="0" y="30"/>
                    <a:pt x="0" y="20"/>
                  </a:cubicBezTo>
                  <a:close/>
                </a:path>
              </a:pathLst>
            </a:custGeom>
            <a:solidFill>
              <a:srgbClr val="bc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"/>
            <p:cNvSpPr/>
            <p:nvPr/>
          </p:nvSpPr>
          <p:spPr>
            <a:xfrm>
              <a:off x="2351160" y="1931040"/>
              <a:ext cx="1009080" cy="594720"/>
            </a:xfrm>
            <a:custGeom>
              <a:avLst/>
              <a:gdLst>
                <a:gd name="textAreaLeft" fmla="*/ 0 w 1009080"/>
                <a:gd name="textAreaRight" fmla="*/ 1009440 w 100908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83" h="49">
                  <a:moveTo>
                    <a:pt x="83" y="20"/>
                  </a:moveTo>
                  <a:cubicBezTo>
                    <a:pt x="55" y="13"/>
                    <a:pt x="28" y="7"/>
                    <a:pt x="0" y="0"/>
                  </a:cubicBezTo>
                  <a:cubicBezTo>
                    <a:pt x="0" y="16"/>
                    <a:pt x="0" y="33"/>
                    <a:pt x="0" y="49"/>
                  </a:cubicBezTo>
                  <a:cubicBezTo>
                    <a:pt x="28" y="49"/>
                    <a:pt x="55" y="49"/>
                    <a:pt x="83" y="49"/>
                  </a:cubicBezTo>
                  <a:cubicBezTo>
                    <a:pt x="83" y="39"/>
                    <a:pt x="83" y="30"/>
                    <a:pt x="83" y="20"/>
                  </a:cubicBez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1"/>
            <p:cNvSpPr/>
            <p:nvPr/>
          </p:nvSpPr>
          <p:spPr>
            <a:xfrm>
              <a:off x="1137240" y="2247480"/>
              <a:ext cx="1213560" cy="606960"/>
            </a:xfrm>
            <a:custGeom>
              <a:avLst/>
              <a:gdLst>
                <a:gd name="textAreaLeft" fmla="*/ 0 w 1213560"/>
                <a:gd name="textAreaRight" fmla="*/ 1213920 w 12135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00" h="50">
                  <a:moveTo>
                    <a:pt x="0" y="21"/>
                  </a:moveTo>
                  <a:cubicBezTo>
                    <a:pt x="33" y="14"/>
                    <a:pt x="67" y="7"/>
                    <a:pt x="100" y="0"/>
                  </a:cubicBezTo>
                  <a:cubicBezTo>
                    <a:pt x="100" y="17"/>
                    <a:pt x="100" y="34"/>
                    <a:pt x="100" y="50"/>
                  </a:cubicBezTo>
                  <a:cubicBezTo>
                    <a:pt x="67" y="50"/>
                    <a:pt x="33" y="50"/>
                    <a:pt x="0" y="50"/>
                  </a:cubicBezTo>
                  <a:cubicBezTo>
                    <a:pt x="0" y="40"/>
                    <a:pt x="0" y="31"/>
                    <a:pt x="0" y="21"/>
                  </a:cubicBezTo>
                  <a:close/>
                </a:path>
              </a:pathLst>
            </a:custGeom>
            <a:solidFill>
              <a:srgbClr val="5cb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2"/>
            <p:cNvSpPr/>
            <p:nvPr/>
          </p:nvSpPr>
          <p:spPr>
            <a:xfrm>
              <a:off x="2351160" y="2247480"/>
              <a:ext cx="1215360" cy="606960"/>
            </a:xfrm>
            <a:custGeom>
              <a:avLst/>
              <a:gdLst>
                <a:gd name="textAreaLeft" fmla="*/ 0 w 1215360"/>
                <a:gd name="textAreaRight" fmla="*/ 1215720 w 1215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00" h="50">
                  <a:moveTo>
                    <a:pt x="100" y="21"/>
                  </a:moveTo>
                  <a:cubicBezTo>
                    <a:pt x="66" y="14"/>
                    <a:pt x="33" y="7"/>
                    <a:pt x="0" y="0"/>
                  </a:cubicBezTo>
                  <a:cubicBezTo>
                    <a:pt x="0" y="17"/>
                    <a:pt x="0" y="34"/>
                    <a:pt x="0" y="50"/>
                  </a:cubicBezTo>
                  <a:cubicBezTo>
                    <a:pt x="33" y="50"/>
                    <a:pt x="66" y="50"/>
                    <a:pt x="100" y="50"/>
                  </a:cubicBezTo>
                  <a:cubicBezTo>
                    <a:pt x="100" y="40"/>
                    <a:pt x="100" y="31"/>
                    <a:pt x="100" y="21"/>
                  </a:cubicBezTo>
                  <a:close/>
                </a:path>
              </a:pathLst>
            </a:custGeom>
            <a:solidFill>
              <a:srgbClr val="369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3"/>
            <p:cNvSpPr/>
            <p:nvPr/>
          </p:nvSpPr>
          <p:spPr>
            <a:xfrm>
              <a:off x="930600" y="2574360"/>
              <a:ext cx="1420200" cy="606960"/>
            </a:xfrm>
            <a:custGeom>
              <a:avLst/>
              <a:gdLst>
                <a:gd name="textAreaLeft" fmla="*/ 0 w 1420200"/>
                <a:gd name="textAreaRight" fmla="*/ 1420560 w 142020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17" h="50">
                  <a:moveTo>
                    <a:pt x="0" y="21"/>
                  </a:moveTo>
                  <a:cubicBezTo>
                    <a:pt x="39" y="14"/>
                    <a:pt x="78" y="7"/>
                    <a:pt x="117" y="0"/>
                  </a:cubicBezTo>
                  <a:cubicBezTo>
                    <a:pt x="117" y="17"/>
                    <a:pt x="117" y="34"/>
                    <a:pt x="117" y="50"/>
                  </a:cubicBezTo>
                  <a:cubicBezTo>
                    <a:pt x="78" y="50"/>
                    <a:pt x="39" y="50"/>
                    <a:pt x="0" y="50"/>
                  </a:cubicBezTo>
                  <a:cubicBezTo>
                    <a:pt x="0" y="41"/>
                    <a:pt x="0" y="31"/>
                    <a:pt x="0" y="21"/>
                  </a:cubicBezTo>
                  <a:close/>
                </a:path>
              </a:pathLst>
            </a:custGeom>
            <a:solidFill>
              <a:srgbClr val="fdd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4"/>
            <p:cNvSpPr/>
            <p:nvPr/>
          </p:nvSpPr>
          <p:spPr>
            <a:xfrm>
              <a:off x="2351160" y="2574360"/>
              <a:ext cx="1409760" cy="60696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16" h="50">
                  <a:moveTo>
                    <a:pt x="116" y="21"/>
                  </a:moveTo>
                  <a:cubicBezTo>
                    <a:pt x="78" y="14"/>
                    <a:pt x="39" y="7"/>
                    <a:pt x="0" y="0"/>
                  </a:cubicBezTo>
                  <a:cubicBezTo>
                    <a:pt x="0" y="17"/>
                    <a:pt x="0" y="34"/>
                    <a:pt x="0" y="50"/>
                  </a:cubicBezTo>
                  <a:cubicBezTo>
                    <a:pt x="39" y="50"/>
                    <a:pt x="78" y="50"/>
                    <a:pt x="116" y="50"/>
                  </a:cubicBezTo>
                  <a:cubicBezTo>
                    <a:pt x="116" y="41"/>
                    <a:pt x="116" y="31"/>
                    <a:pt x="116" y="21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"/>
            <p:cNvSpPr/>
            <p:nvPr/>
          </p:nvSpPr>
          <p:spPr>
            <a:xfrm>
              <a:off x="736560" y="2902680"/>
              <a:ext cx="1614240" cy="61884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33" h="51">
                  <a:moveTo>
                    <a:pt x="0" y="21"/>
                  </a:moveTo>
                  <a:cubicBezTo>
                    <a:pt x="44" y="14"/>
                    <a:pt x="89" y="7"/>
                    <a:pt x="133" y="0"/>
                  </a:cubicBezTo>
                  <a:cubicBezTo>
                    <a:pt x="133" y="17"/>
                    <a:pt x="133" y="34"/>
                    <a:pt x="133" y="51"/>
                  </a:cubicBezTo>
                  <a:cubicBezTo>
                    <a:pt x="89" y="51"/>
                    <a:pt x="44" y="51"/>
                    <a:pt x="0" y="51"/>
                  </a:cubicBezTo>
                  <a:cubicBezTo>
                    <a:pt x="0" y="41"/>
                    <a:pt x="0" y="31"/>
                    <a:pt x="0" y="21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6"/>
            <p:cNvSpPr/>
            <p:nvPr/>
          </p:nvSpPr>
          <p:spPr>
            <a:xfrm>
              <a:off x="2351160" y="2902680"/>
              <a:ext cx="1616040" cy="61884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33" h="51">
                  <a:moveTo>
                    <a:pt x="133" y="21"/>
                  </a:moveTo>
                  <a:cubicBezTo>
                    <a:pt x="89" y="14"/>
                    <a:pt x="44" y="7"/>
                    <a:pt x="0" y="0"/>
                  </a:cubicBezTo>
                  <a:cubicBezTo>
                    <a:pt x="0" y="17"/>
                    <a:pt x="0" y="34"/>
                    <a:pt x="0" y="51"/>
                  </a:cubicBezTo>
                  <a:cubicBezTo>
                    <a:pt x="44" y="51"/>
                    <a:pt x="89" y="51"/>
                    <a:pt x="133" y="51"/>
                  </a:cubicBezTo>
                  <a:cubicBezTo>
                    <a:pt x="133" y="41"/>
                    <a:pt x="133" y="31"/>
                    <a:pt x="133" y="21"/>
                  </a:cubicBezTo>
                  <a:close/>
                </a:path>
              </a:pathLst>
            </a:custGeom>
            <a:solidFill>
              <a:srgbClr val="ee9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7"/>
            <p:cNvSpPr/>
            <p:nvPr/>
          </p:nvSpPr>
          <p:spPr>
            <a:xfrm>
              <a:off x="530280" y="3219120"/>
              <a:ext cx="1820520" cy="63072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50" h="52">
                  <a:moveTo>
                    <a:pt x="0" y="22"/>
                  </a:moveTo>
                  <a:cubicBezTo>
                    <a:pt x="50" y="15"/>
                    <a:pt x="100" y="8"/>
                    <a:pt x="150" y="0"/>
                  </a:cubicBezTo>
                  <a:cubicBezTo>
                    <a:pt x="150" y="18"/>
                    <a:pt x="150" y="35"/>
                    <a:pt x="150" y="52"/>
                  </a:cubicBezTo>
                  <a:cubicBezTo>
                    <a:pt x="100" y="52"/>
                    <a:pt x="50" y="52"/>
                    <a:pt x="0" y="52"/>
                  </a:cubicBezTo>
                  <a:cubicBezTo>
                    <a:pt x="0" y="42"/>
                    <a:pt x="0" y="32"/>
                    <a:pt x="0" y="22"/>
                  </a:cubicBezTo>
                  <a:close/>
                </a:path>
              </a:pathLst>
            </a:custGeom>
            <a:solidFill>
              <a:srgbClr val="b8b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8"/>
            <p:cNvSpPr/>
            <p:nvPr/>
          </p:nvSpPr>
          <p:spPr>
            <a:xfrm>
              <a:off x="2351160" y="3219120"/>
              <a:ext cx="1822320" cy="63072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50" h="52">
                  <a:moveTo>
                    <a:pt x="150" y="22"/>
                  </a:moveTo>
                  <a:cubicBezTo>
                    <a:pt x="100" y="15"/>
                    <a:pt x="50" y="8"/>
                    <a:pt x="0" y="0"/>
                  </a:cubicBezTo>
                  <a:cubicBezTo>
                    <a:pt x="0" y="18"/>
                    <a:pt x="0" y="35"/>
                    <a:pt x="0" y="52"/>
                  </a:cubicBezTo>
                  <a:cubicBezTo>
                    <a:pt x="50" y="52"/>
                    <a:pt x="100" y="52"/>
                    <a:pt x="150" y="52"/>
                  </a:cubicBezTo>
                  <a:cubicBezTo>
                    <a:pt x="150" y="42"/>
                    <a:pt x="150" y="32"/>
                    <a:pt x="150" y="22"/>
                  </a:cubicBezTo>
                  <a:close/>
                </a:path>
              </a:pathLst>
            </a:custGeom>
            <a:solidFill>
              <a:srgbClr val="757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9"/>
            <p:cNvSpPr/>
            <p:nvPr/>
          </p:nvSpPr>
          <p:spPr>
            <a:xfrm>
              <a:off x="324000" y="3546000"/>
              <a:ext cx="2027160" cy="630720"/>
            </a:xfrm>
            <a:custGeom>
              <a:avLst/>
              <a:gdLst>
                <a:gd name="textAreaLeft" fmla="*/ 0 w 2027160"/>
                <a:gd name="textAreaRight" fmla="*/ 2027520 w 20271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179" h="367">
                  <a:moveTo>
                    <a:pt x="0" y="155"/>
                  </a:moveTo>
                  <a:lnTo>
                    <a:pt x="1179" y="0"/>
                  </a:lnTo>
                  <a:lnTo>
                    <a:pt x="1179" y="367"/>
                  </a:lnTo>
                  <a:lnTo>
                    <a:pt x="0" y="36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757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0"/>
            <p:cNvSpPr/>
            <p:nvPr/>
          </p:nvSpPr>
          <p:spPr>
            <a:xfrm>
              <a:off x="2351160" y="3546000"/>
              <a:ext cx="2028600" cy="63072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180" h="367">
                  <a:moveTo>
                    <a:pt x="1180" y="155"/>
                  </a:moveTo>
                  <a:lnTo>
                    <a:pt x="0" y="0"/>
                  </a:lnTo>
                  <a:lnTo>
                    <a:pt x="0" y="367"/>
                  </a:lnTo>
                  <a:lnTo>
                    <a:pt x="1180" y="367"/>
                  </a:lnTo>
                  <a:lnTo>
                    <a:pt x="1180" y="155"/>
                  </a:lnTo>
                  <a:close/>
                </a:path>
              </a:pathLst>
            </a:custGeom>
            <a:solidFill>
              <a:srgbClr val="4b5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Box 46"/>
          <p:cNvSpPr/>
          <p:nvPr/>
        </p:nvSpPr>
        <p:spPr>
          <a:xfrm>
            <a:off x="6609240" y="147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9"/>
          <p:cNvSpPr/>
          <p:nvPr/>
        </p:nvSpPr>
        <p:spPr>
          <a:xfrm>
            <a:off x="6609240" y="1801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0"/>
          <p:cNvSpPr/>
          <p:nvPr/>
        </p:nvSpPr>
        <p:spPr>
          <a:xfrm>
            <a:off x="6609240" y="214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81"/>
          <p:cNvSpPr/>
          <p:nvPr/>
        </p:nvSpPr>
        <p:spPr>
          <a:xfrm>
            <a:off x="6609240" y="2470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2"/>
          <p:cNvSpPr/>
          <p:nvPr/>
        </p:nvSpPr>
        <p:spPr>
          <a:xfrm>
            <a:off x="6609240" y="2816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83"/>
          <p:cNvSpPr/>
          <p:nvPr/>
        </p:nvSpPr>
        <p:spPr>
          <a:xfrm>
            <a:off x="6609240" y="3141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4"/>
          <p:cNvSpPr/>
          <p:nvPr/>
        </p:nvSpPr>
        <p:spPr>
          <a:xfrm>
            <a:off x="6609240" y="3492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5"/>
          <p:cNvSpPr/>
          <p:nvPr/>
        </p:nvSpPr>
        <p:spPr>
          <a:xfrm>
            <a:off x="6609240" y="37591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154"/>
          <p:cNvGrpSpPr/>
          <p:nvPr/>
        </p:nvGrpSpPr>
        <p:grpSpPr>
          <a:xfrm>
            <a:off x="395280" y="1635120"/>
            <a:ext cx="5989680" cy="781200"/>
            <a:chOff x="395280" y="1635120"/>
            <a:chExt cx="5989680" cy="781200"/>
          </a:xfrm>
        </p:grpSpPr>
        <p:sp>
          <p:nvSpPr>
            <p:cNvPr id="625" name="Freeform 43"/>
            <p:cNvSpPr/>
            <p:nvPr/>
          </p:nvSpPr>
          <p:spPr>
            <a:xfrm>
              <a:off x="39528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3"/>
            <p:cNvSpPr/>
            <p:nvPr/>
          </p:nvSpPr>
          <p:spPr>
            <a:xfrm>
              <a:off x="898200" y="1635120"/>
              <a:ext cx="4809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3"/>
            <p:cNvSpPr/>
            <p:nvPr/>
          </p:nvSpPr>
          <p:spPr>
            <a:xfrm>
              <a:off x="140328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3"/>
            <p:cNvSpPr/>
            <p:nvPr/>
          </p:nvSpPr>
          <p:spPr>
            <a:xfrm>
              <a:off x="1906560" y="1635120"/>
              <a:ext cx="4809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3"/>
            <p:cNvSpPr/>
            <p:nvPr/>
          </p:nvSpPr>
          <p:spPr>
            <a:xfrm>
              <a:off x="239220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3"/>
            <p:cNvSpPr/>
            <p:nvPr/>
          </p:nvSpPr>
          <p:spPr>
            <a:xfrm>
              <a:off x="289728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3"/>
            <p:cNvSpPr/>
            <p:nvPr/>
          </p:nvSpPr>
          <p:spPr>
            <a:xfrm>
              <a:off x="340056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3"/>
            <p:cNvSpPr/>
            <p:nvPr/>
          </p:nvSpPr>
          <p:spPr>
            <a:xfrm>
              <a:off x="390528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4392720" y="1635120"/>
              <a:ext cx="4809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3"/>
            <p:cNvSpPr/>
            <p:nvPr/>
          </p:nvSpPr>
          <p:spPr>
            <a:xfrm>
              <a:off x="489744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3"/>
            <p:cNvSpPr/>
            <p:nvPr/>
          </p:nvSpPr>
          <p:spPr>
            <a:xfrm>
              <a:off x="5400720" y="1635120"/>
              <a:ext cx="4809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3"/>
            <p:cNvSpPr/>
            <p:nvPr/>
          </p:nvSpPr>
          <p:spPr>
            <a:xfrm>
              <a:off x="5905800" y="1635120"/>
              <a:ext cx="479160" cy="78120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Box 55"/>
          <p:cNvSpPr/>
          <p:nvPr/>
        </p:nvSpPr>
        <p:spPr>
          <a:xfrm>
            <a:off x="6739920" y="1646280"/>
            <a:ext cx="19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男性员工：</a:t>
            </a:r>
            <a:r>
              <a:rPr b="0" lang="en-US" sz="4400" spc="-1" strike="noStrike">
                <a:solidFill>
                  <a:srgbClr val="e84a1f"/>
                </a:solidFill>
                <a:latin typeface="Arial"/>
                <a:ea typeface="微软雅黑"/>
              </a:rPr>
              <a:t>27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组合 5156"/>
          <p:cNvGrpSpPr/>
          <p:nvPr/>
        </p:nvGrpSpPr>
        <p:grpSpPr>
          <a:xfrm>
            <a:off x="384120" y="2981160"/>
            <a:ext cx="6000840" cy="814680"/>
            <a:chOff x="384120" y="2981160"/>
            <a:chExt cx="6000840" cy="814680"/>
          </a:xfrm>
        </p:grpSpPr>
        <p:sp>
          <p:nvSpPr>
            <p:cNvPr id="639" name="Freeform 44"/>
            <p:cNvSpPr/>
            <p:nvPr/>
          </p:nvSpPr>
          <p:spPr>
            <a:xfrm>
              <a:off x="38412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4"/>
            <p:cNvSpPr/>
            <p:nvPr/>
          </p:nvSpPr>
          <p:spPr>
            <a:xfrm>
              <a:off x="87624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138564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4"/>
            <p:cNvSpPr/>
            <p:nvPr/>
          </p:nvSpPr>
          <p:spPr>
            <a:xfrm>
              <a:off x="187776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4"/>
            <p:cNvSpPr/>
            <p:nvPr/>
          </p:nvSpPr>
          <p:spPr>
            <a:xfrm>
              <a:off x="2386080" y="2981160"/>
              <a:ext cx="50292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4"/>
            <p:cNvSpPr/>
            <p:nvPr/>
          </p:nvSpPr>
          <p:spPr>
            <a:xfrm>
              <a:off x="2878200" y="2981160"/>
              <a:ext cx="50292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4"/>
            <p:cNvSpPr/>
            <p:nvPr/>
          </p:nvSpPr>
          <p:spPr>
            <a:xfrm>
              <a:off x="3387600" y="2981160"/>
              <a:ext cx="50292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"/>
            <p:cNvSpPr/>
            <p:nvPr/>
          </p:nvSpPr>
          <p:spPr>
            <a:xfrm>
              <a:off x="3879720" y="2981160"/>
              <a:ext cx="50292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438948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88160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4"/>
            <p:cNvSpPr/>
            <p:nvPr/>
          </p:nvSpPr>
          <p:spPr>
            <a:xfrm>
              <a:off x="539136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4"/>
            <p:cNvSpPr/>
            <p:nvPr/>
          </p:nvSpPr>
          <p:spPr>
            <a:xfrm>
              <a:off x="5883480" y="2981160"/>
              <a:ext cx="501480" cy="814680"/>
            </a:xfrm>
            <a:custGeom>
              <a:avLst/>
              <a:gdLst/>
              <a:ahLst/>
              <a:rect l="l" t="t" r="r" b="b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118"/>
          <p:cNvSpPr/>
          <p:nvPr/>
        </p:nvSpPr>
        <p:spPr>
          <a:xfrm>
            <a:off x="6725520" y="2954160"/>
            <a:ext cx="19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女性员工：</a:t>
            </a:r>
            <a:r>
              <a:rPr b="0" lang="en-US" sz="4400" spc="-1" strike="noStrike">
                <a:solidFill>
                  <a:srgbClr val="e84a1f"/>
                </a:solidFill>
                <a:latin typeface="Arial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组合 5153"/>
          <p:cNvGrpSpPr/>
          <p:nvPr/>
        </p:nvGrpSpPr>
        <p:grpSpPr>
          <a:xfrm>
            <a:off x="395280" y="1635120"/>
            <a:ext cx="4478400" cy="781200"/>
            <a:chOff x="395280" y="1635120"/>
            <a:chExt cx="4478400" cy="781200"/>
          </a:xfrm>
        </p:grpSpPr>
        <p:sp>
          <p:nvSpPr>
            <p:cNvPr id="653" name="Freeform 43"/>
            <p:cNvSpPr/>
            <p:nvPr/>
          </p:nvSpPr>
          <p:spPr>
            <a:xfrm>
              <a:off x="395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3"/>
            <p:cNvSpPr/>
            <p:nvPr/>
          </p:nvSpPr>
          <p:spPr>
            <a:xfrm>
              <a:off x="899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3"/>
            <p:cNvSpPr/>
            <p:nvPr/>
          </p:nvSpPr>
          <p:spPr>
            <a:xfrm>
              <a:off x="1403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3"/>
            <p:cNvSpPr/>
            <p:nvPr/>
          </p:nvSpPr>
          <p:spPr>
            <a:xfrm>
              <a:off x="1907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3"/>
            <p:cNvSpPr/>
            <p:nvPr/>
          </p:nvSpPr>
          <p:spPr>
            <a:xfrm>
              <a:off x="239292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3"/>
            <p:cNvSpPr/>
            <p:nvPr/>
          </p:nvSpPr>
          <p:spPr>
            <a:xfrm>
              <a:off x="2897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3"/>
            <p:cNvSpPr/>
            <p:nvPr/>
          </p:nvSpPr>
          <p:spPr>
            <a:xfrm>
              <a:off x="3401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3"/>
            <p:cNvSpPr/>
            <p:nvPr/>
          </p:nvSpPr>
          <p:spPr>
            <a:xfrm>
              <a:off x="390528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3"/>
            <p:cNvSpPr/>
            <p:nvPr/>
          </p:nvSpPr>
          <p:spPr>
            <a:xfrm>
              <a:off x="4393800" y="1635120"/>
              <a:ext cx="479880" cy="781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3" y="0"/>
                    <a:pt x="93" y="10"/>
                    <a:pt x="93" y="23"/>
                  </a:cubicBezTo>
                  <a:cubicBezTo>
                    <a:pt x="93" y="35"/>
                    <a:pt x="83" y="45"/>
                    <a:pt x="70" y="45"/>
                  </a:cubicBezTo>
                  <a:cubicBezTo>
                    <a:pt x="58" y="45"/>
                    <a:pt x="47" y="35"/>
                    <a:pt x="47" y="23"/>
                  </a:cubicBezTo>
                  <a:cubicBezTo>
                    <a:pt x="47" y="10"/>
                    <a:pt x="58" y="0"/>
                    <a:pt x="70" y="0"/>
                  </a:cubicBezTo>
                  <a:close/>
                  <a:moveTo>
                    <a:pt x="38" y="92"/>
                  </a:move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50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9"/>
                    <a:pt x="75" y="67"/>
                  </a:cubicBezTo>
                  <a:cubicBezTo>
                    <a:pt x="80" y="59"/>
                    <a:pt x="80" y="59"/>
                    <a:pt x="80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9" y="51"/>
                    <a:pt x="103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215"/>
                    <a:pt x="102" y="215"/>
                    <a:pt x="102" y="215"/>
                  </a:cubicBezTo>
                  <a:cubicBezTo>
                    <a:pt x="102" y="222"/>
                    <a:pt x="96" y="227"/>
                    <a:pt x="90" y="227"/>
                  </a:cubicBezTo>
                  <a:cubicBezTo>
                    <a:pt x="90" y="227"/>
                    <a:pt x="90" y="227"/>
                    <a:pt x="90" y="227"/>
                  </a:cubicBezTo>
                  <a:cubicBezTo>
                    <a:pt x="83" y="227"/>
                    <a:pt x="77" y="222"/>
                    <a:pt x="77" y="215"/>
                  </a:cubicBezTo>
                  <a:cubicBezTo>
                    <a:pt x="77" y="144"/>
                    <a:pt x="77" y="144"/>
                    <a:pt x="77" y="144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3" y="222"/>
                    <a:pt x="58" y="227"/>
                    <a:pt x="51" y="227"/>
                  </a:cubicBezTo>
                  <a:cubicBezTo>
                    <a:pt x="51" y="227"/>
                    <a:pt x="51" y="227"/>
                    <a:pt x="51" y="227"/>
                  </a:cubicBezTo>
                  <a:cubicBezTo>
                    <a:pt x="44" y="227"/>
                    <a:pt x="38" y="222"/>
                    <a:pt x="38" y="215"/>
                  </a:cubicBezTo>
                  <a:cubicBezTo>
                    <a:pt x="38" y="92"/>
                    <a:pt x="38" y="92"/>
                    <a:pt x="38" y="92"/>
                  </a:cubicBezTo>
                  <a:close/>
                </a:path>
              </a:pathLst>
            </a:custGeom>
            <a:solidFill>
              <a:srgbClr val="e84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组合 5155"/>
          <p:cNvGrpSpPr/>
          <p:nvPr/>
        </p:nvGrpSpPr>
        <p:grpSpPr>
          <a:xfrm>
            <a:off x="380880" y="2989440"/>
            <a:ext cx="3505320" cy="814320"/>
            <a:chOff x="380880" y="2989440"/>
            <a:chExt cx="3505320" cy="814320"/>
          </a:xfrm>
        </p:grpSpPr>
        <p:sp>
          <p:nvSpPr>
            <p:cNvPr id="663" name="Freeform 44"/>
            <p:cNvSpPr/>
            <p:nvPr/>
          </p:nvSpPr>
          <p:spPr>
            <a:xfrm>
              <a:off x="38088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4"/>
            <p:cNvSpPr/>
            <p:nvPr/>
          </p:nvSpPr>
          <p:spPr>
            <a:xfrm>
              <a:off x="87264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4"/>
            <p:cNvSpPr/>
            <p:nvPr/>
          </p:nvSpPr>
          <p:spPr>
            <a:xfrm>
              <a:off x="138204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4"/>
            <p:cNvSpPr/>
            <p:nvPr/>
          </p:nvSpPr>
          <p:spPr>
            <a:xfrm>
              <a:off x="187380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4"/>
            <p:cNvSpPr/>
            <p:nvPr/>
          </p:nvSpPr>
          <p:spPr>
            <a:xfrm>
              <a:off x="238320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4"/>
            <p:cNvSpPr/>
            <p:nvPr/>
          </p:nvSpPr>
          <p:spPr>
            <a:xfrm>
              <a:off x="287532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4"/>
            <p:cNvSpPr/>
            <p:nvPr/>
          </p:nvSpPr>
          <p:spPr>
            <a:xfrm>
              <a:off x="3384360" y="2989440"/>
              <a:ext cx="501840" cy="814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40" h="227">
                  <a:moveTo>
                    <a:pt x="70" y="0"/>
                  </a:moveTo>
                  <a:cubicBezTo>
                    <a:pt x="82" y="0"/>
                    <a:pt x="92" y="10"/>
                    <a:pt x="92" y="23"/>
                  </a:cubicBezTo>
                  <a:cubicBezTo>
                    <a:pt x="92" y="35"/>
                    <a:pt x="82" y="45"/>
                    <a:pt x="70" y="45"/>
                  </a:cubicBezTo>
                  <a:cubicBezTo>
                    <a:pt x="57" y="45"/>
                    <a:pt x="47" y="35"/>
                    <a:pt x="47" y="23"/>
                  </a:cubicBezTo>
                  <a:cubicBezTo>
                    <a:pt x="47" y="10"/>
                    <a:pt x="57" y="0"/>
                    <a:pt x="70" y="0"/>
                  </a:cubicBezTo>
                  <a:close/>
                  <a:moveTo>
                    <a:pt x="97" y="107"/>
                  </a:moveTo>
                  <a:cubicBezTo>
                    <a:pt x="115" y="160"/>
                    <a:pt x="115" y="160"/>
                    <a:pt x="115" y="160"/>
                  </a:cubicBezTo>
                  <a:cubicBezTo>
                    <a:pt x="96" y="160"/>
                    <a:pt x="96" y="160"/>
                    <a:pt x="96" y="160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22"/>
                    <a:pt x="91" y="227"/>
                    <a:pt x="85" y="227"/>
                  </a:cubicBezTo>
                  <a:cubicBezTo>
                    <a:pt x="85" y="227"/>
                    <a:pt x="85" y="227"/>
                    <a:pt x="85" y="227"/>
                  </a:cubicBezTo>
                  <a:cubicBezTo>
                    <a:pt x="79" y="227"/>
                    <a:pt x="74" y="222"/>
                    <a:pt x="74" y="216"/>
                  </a:cubicBezTo>
                  <a:cubicBezTo>
                    <a:pt x="74" y="160"/>
                    <a:pt x="74" y="160"/>
                    <a:pt x="74" y="16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6" y="160"/>
                    <a:pt x="66" y="160"/>
                    <a:pt x="66" y="160"/>
                  </a:cubicBezTo>
                  <a:cubicBezTo>
                    <a:pt x="66" y="216"/>
                    <a:pt x="66" y="216"/>
                    <a:pt x="66" y="216"/>
                  </a:cubicBezTo>
                  <a:cubicBezTo>
                    <a:pt x="66" y="222"/>
                    <a:pt x="61" y="227"/>
                    <a:pt x="55" y="227"/>
                  </a:cubicBezTo>
                  <a:cubicBezTo>
                    <a:pt x="55" y="227"/>
                    <a:pt x="55" y="227"/>
                    <a:pt x="55" y="227"/>
                  </a:cubicBezTo>
                  <a:cubicBezTo>
                    <a:pt x="49" y="227"/>
                    <a:pt x="44" y="222"/>
                    <a:pt x="44" y="216"/>
                  </a:cubicBezTo>
                  <a:cubicBezTo>
                    <a:pt x="44" y="160"/>
                    <a:pt x="44" y="160"/>
                    <a:pt x="44" y="160"/>
                  </a:cubicBezTo>
                  <a:cubicBezTo>
                    <a:pt x="25" y="160"/>
                    <a:pt x="25" y="160"/>
                    <a:pt x="25" y="160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1" y="120"/>
                    <a:pt x="21" y="120"/>
                    <a:pt x="21" y="120"/>
                  </a:cubicBezTo>
                  <a:cubicBezTo>
                    <a:pt x="18" y="125"/>
                    <a:pt x="12" y="127"/>
                    <a:pt x="7" y="124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2" y="121"/>
                    <a:pt x="0" y="115"/>
                    <a:pt x="3" y="110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7" y="51"/>
                    <a:pt x="41" y="51"/>
                    <a:pt x="49" y="51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60" y="59"/>
                    <a:pt x="60" y="59"/>
                    <a:pt x="60" y="59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6" y="68"/>
                    <a:pt x="68" y="70"/>
                    <a:pt x="70" y="70"/>
                  </a:cubicBezTo>
                  <a:cubicBezTo>
                    <a:pt x="72" y="70"/>
                    <a:pt x="74" y="68"/>
                    <a:pt x="75" y="67"/>
                  </a:cubicBezTo>
                  <a:cubicBezTo>
                    <a:pt x="79" y="59"/>
                    <a:pt x="79" y="59"/>
                    <a:pt x="79" y="59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9" y="51"/>
                    <a:pt x="102" y="51"/>
                    <a:pt x="107" y="58"/>
                  </a:cubicBezTo>
                  <a:cubicBezTo>
                    <a:pt x="137" y="110"/>
                    <a:pt x="137" y="110"/>
                    <a:pt x="137" y="110"/>
                  </a:cubicBezTo>
                  <a:cubicBezTo>
                    <a:pt x="140" y="115"/>
                    <a:pt x="138" y="121"/>
                    <a:pt x="133" y="124"/>
                  </a:cubicBezTo>
                  <a:cubicBezTo>
                    <a:pt x="133" y="124"/>
                    <a:pt x="133" y="124"/>
                    <a:pt x="133" y="124"/>
                  </a:cubicBezTo>
                  <a:cubicBezTo>
                    <a:pt x="128" y="127"/>
                    <a:pt x="122" y="125"/>
                    <a:pt x="119" y="120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97" y="107"/>
                    <a:pt x="97" y="107"/>
                    <a:pt x="97" y="107"/>
                  </a:cubicBezTo>
                  <a:close/>
                </a:path>
              </a:pathLst>
            </a:custGeom>
            <a:solidFill>
              <a:srgbClr val="f4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8"/>
          <p:cNvSpPr/>
          <p:nvPr/>
        </p:nvSpPr>
        <p:spPr>
          <a:xfrm>
            <a:off x="-122400" y="468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24"/>
          <p:cNvGrpSpPr/>
          <p:nvPr/>
        </p:nvGrpSpPr>
        <p:grpSpPr>
          <a:xfrm>
            <a:off x="647280" y="771480"/>
            <a:ext cx="7761600" cy="3889440"/>
            <a:chOff x="647280" y="771480"/>
            <a:chExt cx="7761600" cy="3889440"/>
          </a:xfrm>
        </p:grpSpPr>
        <p:sp>
          <p:nvSpPr>
            <p:cNvPr id="673" name="任意多边形 1"/>
            <p:cNvSpPr/>
            <p:nvPr/>
          </p:nvSpPr>
          <p:spPr>
            <a:xfrm>
              <a:off x="4951440" y="1149120"/>
              <a:ext cx="2421000" cy="315720"/>
            </a:xfrm>
            <a:custGeom>
              <a:avLst/>
              <a:gdLst/>
              <a:ahLst/>
              <a:rect l="l" t="t" r="r" b="b"/>
              <a:pathLst>
                <a:path w="2420066" h="316259">
                  <a:moveTo>
                    <a:pt x="0" y="316259"/>
                  </a:moveTo>
                  <a:lnTo>
                    <a:pt x="316259" y="0"/>
                  </a:lnTo>
                  <a:lnTo>
                    <a:pt x="2420066" y="0"/>
                  </a:ln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51"/>
            <p:cNvSpPr/>
            <p:nvPr/>
          </p:nvSpPr>
          <p:spPr>
            <a:xfrm>
              <a:off x="5824440" y="2230200"/>
              <a:ext cx="1547640" cy="315720"/>
            </a:xfrm>
            <a:custGeom>
              <a:avLst/>
              <a:gdLst/>
              <a:ahLst/>
              <a:rect l="l" t="t" r="r" b="b"/>
              <a:pathLst>
                <a:path w="1546917" h="316259">
                  <a:moveTo>
                    <a:pt x="0" y="316259"/>
                  </a:moveTo>
                  <a:lnTo>
                    <a:pt x="316259" y="0"/>
                  </a:lnTo>
                  <a:lnTo>
                    <a:pt x="1546917" y="0"/>
                  </a:ln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54"/>
            <p:cNvSpPr/>
            <p:nvPr/>
          </p:nvSpPr>
          <p:spPr>
            <a:xfrm flipV="1">
              <a:off x="5319720" y="4001400"/>
              <a:ext cx="2043000" cy="315720"/>
            </a:xfrm>
            <a:custGeom>
              <a:avLst/>
              <a:gdLst/>
              <a:ahLst/>
              <a:rect l="l" t="t" r="r" b="b"/>
              <a:pathLst>
                <a:path w="2041931" h="316259">
                  <a:moveTo>
                    <a:pt x="0" y="316259"/>
                  </a:moveTo>
                  <a:lnTo>
                    <a:pt x="316259" y="0"/>
                  </a:lnTo>
                  <a:lnTo>
                    <a:pt x="2041931" y="0"/>
                  </a:ln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6"/>
            <p:cNvSpPr/>
            <p:nvPr/>
          </p:nvSpPr>
          <p:spPr>
            <a:xfrm>
              <a:off x="7516440" y="771480"/>
              <a:ext cx="892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Arial"/>
                  <a:ea typeface="微软雅黑"/>
                </a:rPr>
                <a:t>1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6"/>
            <p:cNvGrpSpPr/>
            <p:nvPr/>
          </p:nvGrpSpPr>
          <p:grpSpPr>
            <a:xfrm>
              <a:off x="2800440" y="1222200"/>
              <a:ext cx="3311280" cy="3310920"/>
              <a:chOff x="2800440" y="1222200"/>
              <a:chExt cx="3311280" cy="3310920"/>
            </a:xfrm>
          </p:grpSpPr>
          <p:sp>
            <p:nvSpPr>
              <p:cNvPr id="678" name="AutoShape 5"/>
              <p:cNvSpPr/>
              <p:nvPr/>
            </p:nvSpPr>
            <p:spPr>
              <a:xfrm>
                <a:off x="2800440" y="1222200"/>
                <a:ext cx="3311280" cy="33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7"/>
              <p:cNvSpPr/>
              <p:nvPr/>
            </p:nvSpPr>
            <p:spPr>
              <a:xfrm>
                <a:off x="2811600" y="1233000"/>
                <a:ext cx="3288960" cy="3288600"/>
              </a:xfrm>
              <a:prstGeom prst="ellipse">
                <a:avLst/>
              </a:prstGeom>
              <a:solidFill>
                <a:srgbClr val="757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8"/>
              <p:cNvSpPr/>
              <p:nvPr/>
            </p:nvSpPr>
            <p:spPr>
              <a:xfrm>
                <a:off x="2811600" y="1233000"/>
                <a:ext cx="3288960" cy="3288600"/>
              </a:xfrm>
              <a:custGeom>
                <a:avLst/>
                <a:gdLst>
                  <a:gd name="textAreaLeft" fmla="*/ 0 w 3288960"/>
                  <a:gd name="textAreaRight" fmla="*/ 3289320 w 3288960"/>
                  <a:gd name="textAreaTop" fmla="*/ 0 h 3288600"/>
                  <a:gd name="textAreaBottom" fmla="*/ 3288960 h 328860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152"/>
                    </a:moveTo>
                    <a:cubicBezTo>
                      <a:pt x="241" y="29"/>
                      <a:pt x="241" y="29"/>
                      <a:pt x="241" y="29"/>
                    </a:cubicBezTo>
                    <a:cubicBezTo>
                      <a:pt x="281" y="58"/>
                      <a:pt x="304" y="103"/>
                      <a:pt x="304" y="152"/>
                    </a:cubicBezTo>
                    <a:cubicBezTo>
                      <a:pt x="304" y="236"/>
                      <a:pt x="236" y="304"/>
                      <a:pt x="152" y="304"/>
                    </a:cubicBezTo>
                    <a:cubicBezTo>
                      <a:pt x="69" y="304"/>
                      <a:pt x="0" y="236"/>
                      <a:pt x="0" y="152"/>
                    </a:cubicBezTo>
                    <a:cubicBezTo>
                      <a:pt x="0" y="68"/>
                      <a:pt x="69" y="0"/>
                      <a:pt x="152" y="0"/>
                    </a:cubicBezTo>
                    <a:cubicBezTo>
                      <a:pt x="152" y="152"/>
                      <a:pt x="152" y="152"/>
                      <a:pt x="152" y="152"/>
                    </a:cubicBezTo>
                    <a:close/>
                  </a:path>
                </a:pathLst>
              </a:custGeom>
              <a:solidFill>
                <a:srgbClr val="f4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9"/>
              <p:cNvSpPr/>
              <p:nvPr/>
            </p:nvSpPr>
            <p:spPr>
              <a:xfrm>
                <a:off x="2811600" y="1233000"/>
                <a:ext cx="3288960" cy="3288600"/>
              </a:xfrm>
              <a:custGeom>
                <a:avLst/>
                <a:gdLst>
                  <a:gd name="textAreaLeft" fmla="*/ 0 w 3288960"/>
                  <a:gd name="textAreaRight" fmla="*/ 3289320 w 3288960"/>
                  <a:gd name="textAreaTop" fmla="*/ 0 h 3288600"/>
                  <a:gd name="textAreaBottom" fmla="*/ 3288960 h 328860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152"/>
                    </a:moveTo>
                    <a:cubicBezTo>
                      <a:pt x="304" y="143"/>
                      <a:pt x="304" y="143"/>
                      <a:pt x="304" y="143"/>
                    </a:cubicBezTo>
                    <a:cubicBezTo>
                      <a:pt x="304" y="146"/>
                      <a:pt x="304" y="149"/>
                      <a:pt x="304" y="152"/>
                    </a:cubicBezTo>
                    <a:cubicBezTo>
                      <a:pt x="304" y="236"/>
                      <a:pt x="236" y="304"/>
                      <a:pt x="152" y="304"/>
                    </a:cubicBezTo>
                    <a:cubicBezTo>
                      <a:pt x="69" y="304"/>
                      <a:pt x="0" y="236"/>
                      <a:pt x="0" y="152"/>
                    </a:cubicBezTo>
                    <a:cubicBezTo>
                      <a:pt x="0" y="68"/>
                      <a:pt x="69" y="0"/>
                      <a:pt x="152" y="0"/>
                    </a:cubicBezTo>
                    <a:cubicBezTo>
                      <a:pt x="152" y="152"/>
                      <a:pt x="152" y="152"/>
                      <a:pt x="152" y="152"/>
                    </a:cubicBezTo>
                    <a:close/>
                  </a:path>
                </a:pathLst>
              </a:custGeom>
              <a:solidFill>
                <a:srgbClr val="e84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"/>
              <p:cNvSpPr/>
              <p:nvPr/>
            </p:nvSpPr>
            <p:spPr>
              <a:xfrm>
                <a:off x="2811600" y="1233000"/>
                <a:ext cx="2251080" cy="3288600"/>
              </a:xfrm>
              <a:custGeom>
                <a:avLst/>
                <a:gdLst>
                  <a:gd name="textAreaLeft" fmla="*/ 0 w 2251080"/>
                  <a:gd name="textAreaRight" fmla="*/ 2251440 w 2251080"/>
                  <a:gd name="textAreaTop" fmla="*/ 0 h 3288600"/>
                  <a:gd name="textAreaBottom" fmla="*/ 3288960 h 3288600"/>
                </a:gdLst>
                <a:ahLst/>
                <a:rect l="textAreaLeft" t="textAreaTop" r="textAreaRight" b="textAreaBottom"/>
                <a:pathLst>
                  <a:path w="208" h="304">
                    <a:moveTo>
                      <a:pt x="152" y="152"/>
                    </a:moveTo>
                    <a:cubicBezTo>
                      <a:pt x="208" y="293"/>
                      <a:pt x="208" y="293"/>
                      <a:pt x="208" y="293"/>
                    </a:cubicBezTo>
                    <a:cubicBezTo>
                      <a:pt x="191" y="300"/>
                      <a:pt x="171" y="304"/>
                      <a:pt x="152" y="304"/>
                    </a:cubicBezTo>
                    <a:cubicBezTo>
                      <a:pt x="69" y="304"/>
                      <a:pt x="0" y="236"/>
                      <a:pt x="0" y="152"/>
                    </a:cubicBezTo>
                    <a:cubicBezTo>
                      <a:pt x="0" y="68"/>
                      <a:pt x="69" y="0"/>
                      <a:pt x="152" y="0"/>
                    </a:cubicBezTo>
                    <a:cubicBezTo>
                      <a:pt x="152" y="152"/>
                      <a:pt x="152" y="152"/>
                      <a:pt x="152" y="152"/>
                    </a:cubicBezTo>
                    <a:close/>
                  </a:path>
                </a:pathLst>
              </a:custGeom>
              <a:solidFill>
                <a:srgbClr val="5cb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1"/>
              <p:cNvSpPr/>
              <p:nvPr/>
            </p:nvSpPr>
            <p:spPr>
              <a:xfrm>
                <a:off x="3654360" y="2077560"/>
                <a:ext cx="1612800" cy="1601280"/>
              </a:xfrm>
              <a:prstGeom prst="ellipse">
                <a:avLst/>
              </a:prstGeom>
              <a:solidFill>
                <a:srgbClr val="b8b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2"/>
              <p:cNvSpPr/>
              <p:nvPr/>
            </p:nvSpPr>
            <p:spPr>
              <a:xfrm>
                <a:off x="3654360" y="2077560"/>
                <a:ext cx="1612800" cy="1601280"/>
              </a:xfrm>
              <a:custGeom>
                <a:avLst/>
                <a:gdLst>
                  <a:gd name="textAreaLeft" fmla="*/ 0 w 1612800"/>
                  <a:gd name="textAreaRight" fmla="*/ 1613160 w 1612800"/>
                  <a:gd name="textAreaTop" fmla="*/ 0 h 1601280"/>
                  <a:gd name="textAreaBottom" fmla="*/ 1601640 h 1601280"/>
                </a:gdLst>
                <a:ahLst/>
                <a:rect l="textAreaLeft" t="textAreaTop" r="textAreaRight" b="textAreaBottom"/>
                <a:pathLst>
                  <a:path w="149" h="148">
                    <a:moveTo>
                      <a:pt x="74" y="74"/>
                    </a:moveTo>
                    <a:cubicBezTo>
                      <a:pt x="118" y="14"/>
                      <a:pt x="118" y="14"/>
                      <a:pt x="118" y="14"/>
                    </a:cubicBezTo>
                    <a:cubicBezTo>
                      <a:pt x="136" y="27"/>
                      <a:pt x="149" y="49"/>
                      <a:pt x="149" y="74"/>
                    </a:cubicBezTo>
                    <a:cubicBezTo>
                      <a:pt x="149" y="115"/>
                      <a:pt x="115" y="148"/>
                      <a:pt x="74" y="148"/>
                    </a:cubicBezTo>
                    <a:cubicBezTo>
                      <a:pt x="33" y="148"/>
                      <a:pt x="0" y="115"/>
                      <a:pt x="0" y="74"/>
                    </a:cubicBezTo>
                    <a:cubicBezTo>
                      <a:pt x="0" y="33"/>
                      <a:pt x="33" y="0"/>
                      <a:pt x="74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4" y="74"/>
                      <a:pt x="74" y="74"/>
                      <a:pt x="74" y="74"/>
                    </a:cubicBezTo>
                    <a:close/>
                  </a:path>
                </a:pathLst>
              </a:custGeom>
              <a:solidFill>
                <a:srgbClr val="fdd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3"/>
              <p:cNvSpPr/>
              <p:nvPr/>
            </p:nvSpPr>
            <p:spPr>
              <a:xfrm>
                <a:off x="3654360" y="2077560"/>
                <a:ext cx="1612800" cy="1601280"/>
              </a:xfrm>
              <a:custGeom>
                <a:avLst/>
                <a:gdLst>
                  <a:gd name="textAreaLeft" fmla="*/ 0 w 1612800"/>
                  <a:gd name="textAreaRight" fmla="*/ 1613160 w 1612800"/>
                  <a:gd name="textAreaTop" fmla="*/ 0 h 1601280"/>
                  <a:gd name="textAreaBottom" fmla="*/ 1601640 h 1601280"/>
                </a:gdLst>
                <a:ahLst/>
                <a:rect l="textAreaLeft" t="textAreaTop" r="textAreaRight" b="textAreaBottom"/>
                <a:pathLst>
                  <a:path w="149" h="148">
                    <a:moveTo>
                      <a:pt x="74" y="74"/>
                    </a:moveTo>
                    <a:cubicBezTo>
                      <a:pt x="148" y="69"/>
                      <a:pt x="148" y="69"/>
                      <a:pt x="148" y="69"/>
                    </a:cubicBezTo>
                    <a:cubicBezTo>
                      <a:pt x="149" y="71"/>
                      <a:pt x="149" y="72"/>
                      <a:pt x="149" y="74"/>
                    </a:cubicBezTo>
                    <a:cubicBezTo>
                      <a:pt x="149" y="115"/>
                      <a:pt x="115" y="148"/>
                      <a:pt x="74" y="148"/>
                    </a:cubicBezTo>
                    <a:cubicBezTo>
                      <a:pt x="33" y="148"/>
                      <a:pt x="0" y="115"/>
                      <a:pt x="0" y="74"/>
                    </a:cubicBezTo>
                    <a:cubicBezTo>
                      <a:pt x="0" y="33"/>
                      <a:pt x="33" y="0"/>
                      <a:pt x="74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4" y="74"/>
                      <a:pt x="74" y="74"/>
                      <a:pt x="74" y="74"/>
                    </a:cubicBezTo>
                    <a:close/>
                  </a:path>
                </a:pathLst>
              </a:custGeom>
              <a:solidFill>
                <a:srgbClr val="ee7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4"/>
              <p:cNvSpPr/>
              <p:nvPr/>
            </p:nvSpPr>
            <p:spPr>
              <a:xfrm>
                <a:off x="3654360" y="2077560"/>
                <a:ext cx="1104840" cy="1601280"/>
              </a:xfrm>
              <a:custGeom>
                <a:avLst/>
                <a:gdLst>
                  <a:gd name="textAreaLeft" fmla="*/ 0 w 1104840"/>
                  <a:gd name="textAreaRight" fmla="*/ 1105200 w 1104840"/>
                  <a:gd name="textAreaTop" fmla="*/ 0 h 1601280"/>
                  <a:gd name="textAreaBottom" fmla="*/ 1601640 h 1601280"/>
                </a:gdLst>
                <a:ahLst/>
                <a:rect l="textAreaLeft" t="textAreaTop" r="textAreaRight" b="textAreaBottom"/>
                <a:pathLst>
                  <a:path w="102" h="148">
                    <a:moveTo>
                      <a:pt x="74" y="74"/>
                    </a:moveTo>
                    <a:cubicBezTo>
                      <a:pt x="102" y="143"/>
                      <a:pt x="102" y="143"/>
                      <a:pt x="102" y="143"/>
                    </a:cubicBezTo>
                    <a:cubicBezTo>
                      <a:pt x="93" y="147"/>
                      <a:pt x="84" y="148"/>
                      <a:pt x="74" y="148"/>
                    </a:cubicBezTo>
                    <a:cubicBezTo>
                      <a:pt x="33" y="148"/>
                      <a:pt x="0" y="115"/>
                      <a:pt x="0" y="74"/>
                    </a:cubicBezTo>
                    <a:cubicBezTo>
                      <a:pt x="0" y="33"/>
                      <a:pt x="33" y="0"/>
                      <a:pt x="74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4" y="74"/>
                      <a:pt x="74" y="74"/>
                      <a:pt x="74" y="74"/>
                    </a:cubicBezTo>
                    <a:close/>
                  </a:path>
                </a:pathLst>
              </a:custGeom>
              <a:solidFill>
                <a:srgbClr val="90c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15"/>
              <p:cNvSpPr/>
              <p:nvPr/>
            </p:nvSpPr>
            <p:spPr>
              <a:xfrm>
                <a:off x="3957480" y="2379240"/>
                <a:ext cx="997200" cy="9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Box 74"/>
            <p:cNvSpPr/>
            <p:nvPr/>
          </p:nvSpPr>
          <p:spPr>
            <a:xfrm>
              <a:off x="7516440" y="1868400"/>
              <a:ext cx="892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Arial"/>
                  <a:ea typeface="微软雅黑"/>
                </a:rPr>
                <a:t>1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Box 75"/>
            <p:cNvSpPr/>
            <p:nvPr/>
          </p:nvSpPr>
          <p:spPr>
            <a:xfrm>
              <a:off x="7516440" y="3957840"/>
              <a:ext cx="892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84a1f"/>
                  </a:solidFill>
                  <a:latin typeface="Arial"/>
                  <a:ea typeface="微软雅黑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77"/>
            <p:cNvSpPr/>
            <p:nvPr/>
          </p:nvSpPr>
          <p:spPr>
            <a:xfrm flipH="1">
              <a:off x="1647000" y="2382840"/>
              <a:ext cx="1547640" cy="315720"/>
            </a:xfrm>
            <a:custGeom>
              <a:avLst/>
              <a:gdLst/>
              <a:ahLst/>
              <a:rect l="l" t="t" r="r" b="b"/>
              <a:pathLst>
                <a:path w="1546917" h="316259">
                  <a:moveTo>
                    <a:pt x="0" y="316259"/>
                  </a:moveTo>
                  <a:lnTo>
                    <a:pt x="316259" y="0"/>
                  </a:lnTo>
                  <a:lnTo>
                    <a:pt x="1546917" y="0"/>
                  </a:ln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78"/>
            <p:cNvSpPr/>
            <p:nvPr/>
          </p:nvSpPr>
          <p:spPr>
            <a:xfrm>
              <a:off x="647280" y="2034000"/>
              <a:ext cx="892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Arial"/>
                  <a:ea typeface="微软雅黑"/>
                </a:rPr>
                <a:t>5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1"/>
          <p:cNvGrpSpPr/>
          <p:nvPr/>
        </p:nvGrpSpPr>
        <p:grpSpPr>
          <a:xfrm>
            <a:off x="250920" y="1203480"/>
            <a:ext cx="4321080" cy="3073320"/>
            <a:chOff x="250920" y="1203480"/>
            <a:chExt cx="4321080" cy="3073320"/>
          </a:xfrm>
        </p:grpSpPr>
        <p:grpSp>
          <p:nvGrpSpPr>
            <p:cNvPr id="694" name="组合 35"/>
            <p:cNvGrpSpPr/>
            <p:nvPr/>
          </p:nvGrpSpPr>
          <p:grpSpPr>
            <a:xfrm>
              <a:off x="250920" y="1203480"/>
              <a:ext cx="4321080" cy="3073320"/>
              <a:chOff x="250920" y="1203480"/>
              <a:chExt cx="4321080" cy="3073320"/>
            </a:xfrm>
          </p:grpSpPr>
          <p:sp>
            <p:nvSpPr>
              <p:cNvPr id="695" name="AutoShape 28"/>
              <p:cNvSpPr/>
              <p:nvPr/>
            </p:nvSpPr>
            <p:spPr>
              <a:xfrm>
                <a:off x="250920" y="1203480"/>
                <a:ext cx="4321080" cy="30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0"/>
              <p:cNvSpPr/>
              <p:nvPr/>
            </p:nvSpPr>
            <p:spPr>
              <a:xfrm>
                <a:off x="250920" y="2014560"/>
                <a:ext cx="4321080" cy="637920"/>
              </a:xfrm>
              <a:custGeom>
                <a:avLst/>
                <a:gdLst>
                  <a:gd name="textAreaLeft" fmla="*/ 0 w 4321080"/>
                  <a:gd name="textAreaRight" fmla="*/ 4321440 w 43210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447" h="66">
                    <a:moveTo>
                      <a:pt x="33" y="0"/>
                    </a:moveTo>
                    <a:cubicBezTo>
                      <a:pt x="131" y="0"/>
                      <a:pt x="317" y="0"/>
                      <a:pt x="415" y="0"/>
                    </a:cubicBezTo>
                    <a:cubicBezTo>
                      <a:pt x="416" y="0"/>
                      <a:pt x="417" y="0"/>
                      <a:pt x="418" y="0"/>
                    </a:cubicBezTo>
                    <a:cubicBezTo>
                      <a:pt x="427" y="2"/>
                      <a:pt x="433" y="5"/>
                      <a:pt x="439" y="12"/>
                    </a:cubicBezTo>
                    <a:cubicBezTo>
                      <a:pt x="442" y="16"/>
                      <a:pt x="444" y="20"/>
                      <a:pt x="445" y="25"/>
                    </a:cubicBezTo>
                    <a:cubicBezTo>
                      <a:pt x="446" y="29"/>
                      <a:pt x="447" y="33"/>
                      <a:pt x="446" y="38"/>
                    </a:cubicBezTo>
                    <a:cubicBezTo>
                      <a:pt x="446" y="39"/>
                      <a:pt x="446" y="40"/>
                      <a:pt x="445" y="41"/>
                    </a:cubicBezTo>
                    <a:cubicBezTo>
                      <a:pt x="443" y="49"/>
                      <a:pt x="439" y="55"/>
                      <a:pt x="432" y="60"/>
                    </a:cubicBezTo>
                    <a:cubicBezTo>
                      <a:pt x="428" y="63"/>
                      <a:pt x="424" y="64"/>
                      <a:pt x="420" y="65"/>
                    </a:cubicBezTo>
                    <a:cubicBezTo>
                      <a:pt x="418" y="66"/>
                      <a:pt x="416" y="66"/>
                      <a:pt x="414" y="66"/>
                    </a:cubicBezTo>
                    <a:cubicBezTo>
                      <a:pt x="316" y="66"/>
                      <a:pt x="129" y="66"/>
                      <a:pt x="31" y="66"/>
                    </a:cubicBezTo>
                    <a:cubicBezTo>
                      <a:pt x="27" y="66"/>
                      <a:pt x="23" y="65"/>
                      <a:pt x="19" y="63"/>
                    </a:cubicBezTo>
                    <a:cubicBezTo>
                      <a:pt x="18" y="62"/>
                      <a:pt x="17" y="62"/>
                      <a:pt x="16" y="61"/>
                    </a:cubicBezTo>
                    <a:cubicBezTo>
                      <a:pt x="8" y="56"/>
                      <a:pt x="4" y="50"/>
                      <a:pt x="1" y="41"/>
                    </a:cubicBezTo>
                    <a:cubicBezTo>
                      <a:pt x="0" y="37"/>
                      <a:pt x="0" y="32"/>
                      <a:pt x="0" y="28"/>
                    </a:cubicBezTo>
                    <a:cubicBezTo>
                      <a:pt x="1" y="27"/>
                      <a:pt x="1" y="26"/>
                      <a:pt x="1" y="25"/>
                    </a:cubicBezTo>
                    <a:cubicBezTo>
                      <a:pt x="3" y="16"/>
                      <a:pt x="8" y="10"/>
                      <a:pt x="15" y="5"/>
                    </a:cubicBezTo>
                    <a:cubicBezTo>
                      <a:pt x="18" y="3"/>
                      <a:pt x="22" y="1"/>
                      <a:pt x="27" y="0"/>
                    </a:cubicBezTo>
                    <a:cubicBezTo>
                      <a:pt x="29" y="0"/>
                      <a:pt x="31" y="0"/>
                      <a:pt x="33" y="0"/>
                    </a:cubicBez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1"/>
              <p:cNvSpPr/>
              <p:nvPr/>
            </p:nvSpPr>
            <p:spPr>
              <a:xfrm>
                <a:off x="250920" y="1203480"/>
                <a:ext cx="4321080" cy="637920"/>
              </a:xfrm>
              <a:custGeom>
                <a:avLst/>
                <a:gdLst>
                  <a:gd name="textAreaLeft" fmla="*/ 0 w 4321080"/>
                  <a:gd name="textAreaRight" fmla="*/ 4321440 w 43210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447" h="66">
                    <a:moveTo>
                      <a:pt x="33" y="0"/>
                    </a:moveTo>
                    <a:cubicBezTo>
                      <a:pt x="131" y="0"/>
                      <a:pt x="317" y="0"/>
                      <a:pt x="415" y="0"/>
                    </a:cubicBezTo>
                    <a:cubicBezTo>
                      <a:pt x="416" y="0"/>
                      <a:pt x="417" y="0"/>
                      <a:pt x="418" y="1"/>
                    </a:cubicBezTo>
                    <a:cubicBezTo>
                      <a:pt x="427" y="2"/>
                      <a:pt x="433" y="6"/>
                      <a:pt x="439" y="12"/>
                    </a:cubicBezTo>
                    <a:cubicBezTo>
                      <a:pt x="442" y="16"/>
                      <a:pt x="444" y="20"/>
                      <a:pt x="445" y="25"/>
                    </a:cubicBezTo>
                    <a:cubicBezTo>
                      <a:pt x="446" y="30"/>
                      <a:pt x="447" y="34"/>
                      <a:pt x="446" y="38"/>
                    </a:cubicBezTo>
                    <a:cubicBezTo>
                      <a:pt x="446" y="39"/>
                      <a:pt x="446" y="40"/>
                      <a:pt x="445" y="42"/>
                    </a:cubicBezTo>
                    <a:cubicBezTo>
                      <a:pt x="443" y="50"/>
                      <a:pt x="439" y="56"/>
                      <a:pt x="432" y="61"/>
                    </a:cubicBezTo>
                    <a:cubicBezTo>
                      <a:pt x="428" y="63"/>
                      <a:pt x="424" y="65"/>
                      <a:pt x="420" y="66"/>
                    </a:cubicBezTo>
                    <a:cubicBezTo>
                      <a:pt x="418" y="66"/>
                      <a:pt x="416" y="66"/>
                      <a:pt x="414" y="66"/>
                    </a:cubicBezTo>
                    <a:cubicBezTo>
                      <a:pt x="316" y="66"/>
                      <a:pt x="129" y="66"/>
                      <a:pt x="31" y="66"/>
                    </a:cubicBezTo>
                    <a:cubicBezTo>
                      <a:pt x="27" y="66"/>
                      <a:pt x="23" y="65"/>
                      <a:pt x="19" y="63"/>
                    </a:cubicBezTo>
                    <a:cubicBezTo>
                      <a:pt x="18" y="63"/>
                      <a:pt x="17" y="62"/>
                      <a:pt x="16" y="62"/>
                    </a:cubicBezTo>
                    <a:cubicBezTo>
                      <a:pt x="8" y="57"/>
                      <a:pt x="4" y="50"/>
                      <a:pt x="1" y="42"/>
                    </a:cubicBezTo>
                    <a:cubicBezTo>
                      <a:pt x="0" y="37"/>
                      <a:pt x="0" y="33"/>
                      <a:pt x="0" y="28"/>
                    </a:cubicBezTo>
                    <a:cubicBezTo>
                      <a:pt x="1" y="27"/>
                      <a:pt x="1" y="26"/>
                      <a:pt x="1" y="25"/>
                    </a:cubicBezTo>
                    <a:cubicBezTo>
                      <a:pt x="3" y="17"/>
                      <a:pt x="8" y="11"/>
                      <a:pt x="15" y="6"/>
                    </a:cubicBezTo>
                    <a:cubicBezTo>
                      <a:pt x="18" y="3"/>
                      <a:pt x="22" y="2"/>
                      <a:pt x="27" y="1"/>
                    </a:cubicBezTo>
                    <a:cubicBezTo>
                      <a:pt x="29" y="1"/>
                      <a:pt x="31" y="0"/>
                      <a:pt x="33" y="0"/>
                    </a:cubicBez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2"/>
              <p:cNvSpPr/>
              <p:nvPr/>
            </p:nvSpPr>
            <p:spPr>
              <a:xfrm>
                <a:off x="250920" y="2818080"/>
                <a:ext cx="4321080" cy="637920"/>
              </a:xfrm>
              <a:custGeom>
                <a:avLst/>
                <a:gdLst>
                  <a:gd name="textAreaLeft" fmla="*/ 0 w 4321080"/>
                  <a:gd name="textAreaRight" fmla="*/ 4321440 w 43210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447" h="66">
                    <a:moveTo>
                      <a:pt x="33" y="0"/>
                    </a:moveTo>
                    <a:cubicBezTo>
                      <a:pt x="131" y="0"/>
                      <a:pt x="317" y="0"/>
                      <a:pt x="415" y="0"/>
                    </a:cubicBezTo>
                    <a:cubicBezTo>
                      <a:pt x="416" y="0"/>
                      <a:pt x="417" y="1"/>
                      <a:pt x="418" y="1"/>
                    </a:cubicBezTo>
                    <a:cubicBezTo>
                      <a:pt x="427" y="2"/>
                      <a:pt x="433" y="6"/>
                      <a:pt x="439" y="12"/>
                    </a:cubicBezTo>
                    <a:cubicBezTo>
                      <a:pt x="442" y="16"/>
                      <a:pt x="444" y="20"/>
                      <a:pt x="445" y="25"/>
                    </a:cubicBezTo>
                    <a:cubicBezTo>
                      <a:pt x="446" y="30"/>
                      <a:pt x="447" y="34"/>
                      <a:pt x="446" y="38"/>
                    </a:cubicBezTo>
                    <a:cubicBezTo>
                      <a:pt x="446" y="39"/>
                      <a:pt x="446" y="41"/>
                      <a:pt x="445" y="42"/>
                    </a:cubicBezTo>
                    <a:cubicBezTo>
                      <a:pt x="443" y="50"/>
                      <a:pt x="439" y="56"/>
                      <a:pt x="432" y="61"/>
                    </a:cubicBezTo>
                    <a:cubicBezTo>
                      <a:pt x="428" y="63"/>
                      <a:pt x="424" y="65"/>
                      <a:pt x="420" y="66"/>
                    </a:cubicBezTo>
                    <a:cubicBezTo>
                      <a:pt x="418" y="66"/>
                      <a:pt x="416" y="66"/>
                      <a:pt x="414" y="66"/>
                    </a:cubicBezTo>
                    <a:cubicBezTo>
                      <a:pt x="316" y="66"/>
                      <a:pt x="129" y="66"/>
                      <a:pt x="31" y="66"/>
                    </a:cubicBezTo>
                    <a:cubicBezTo>
                      <a:pt x="27" y="66"/>
                      <a:pt x="23" y="65"/>
                      <a:pt x="19" y="63"/>
                    </a:cubicBezTo>
                    <a:cubicBezTo>
                      <a:pt x="18" y="63"/>
                      <a:pt x="17" y="62"/>
                      <a:pt x="16" y="62"/>
                    </a:cubicBezTo>
                    <a:cubicBezTo>
                      <a:pt x="8" y="57"/>
                      <a:pt x="4" y="50"/>
                      <a:pt x="1" y="42"/>
                    </a:cubicBezTo>
                    <a:cubicBezTo>
                      <a:pt x="0" y="37"/>
                      <a:pt x="0" y="33"/>
                      <a:pt x="0" y="28"/>
                    </a:cubicBezTo>
                    <a:cubicBezTo>
                      <a:pt x="1" y="27"/>
                      <a:pt x="1" y="26"/>
                      <a:pt x="1" y="25"/>
                    </a:cubicBezTo>
                    <a:cubicBezTo>
                      <a:pt x="3" y="17"/>
                      <a:pt x="8" y="11"/>
                      <a:pt x="15" y="6"/>
                    </a:cubicBezTo>
                    <a:cubicBezTo>
                      <a:pt x="18" y="4"/>
                      <a:pt x="22" y="2"/>
                      <a:pt x="27" y="1"/>
                    </a:cubicBezTo>
                    <a:cubicBezTo>
                      <a:pt x="29" y="1"/>
                      <a:pt x="31" y="0"/>
                      <a:pt x="33" y="0"/>
                    </a:cubicBez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3"/>
              <p:cNvSpPr/>
              <p:nvPr/>
            </p:nvSpPr>
            <p:spPr>
              <a:xfrm>
                <a:off x="250920" y="3629160"/>
                <a:ext cx="4321080" cy="637920"/>
              </a:xfrm>
              <a:custGeom>
                <a:avLst/>
                <a:gdLst>
                  <a:gd name="textAreaLeft" fmla="*/ 0 w 4321080"/>
                  <a:gd name="textAreaRight" fmla="*/ 4321440 w 43210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447" h="66">
                    <a:moveTo>
                      <a:pt x="33" y="0"/>
                    </a:moveTo>
                    <a:cubicBezTo>
                      <a:pt x="131" y="0"/>
                      <a:pt x="317" y="0"/>
                      <a:pt x="415" y="0"/>
                    </a:cubicBezTo>
                    <a:cubicBezTo>
                      <a:pt x="416" y="0"/>
                      <a:pt x="417" y="0"/>
                      <a:pt x="418" y="0"/>
                    </a:cubicBezTo>
                    <a:cubicBezTo>
                      <a:pt x="427" y="2"/>
                      <a:pt x="433" y="5"/>
                      <a:pt x="439" y="12"/>
                    </a:cubicBezTo>
                    <a:cubicBezTo>
                      <a:pt x="442" y="16"/>
                      <a:pt x="444" y="20"/>
                      <a:pt x="445" y="25"/>
                    </a:cubicBezTo>
                    <a:cubicBezTo>
                      <a:pt x="446" y="29"/>
                      <a:pt x="447" y="33"/>
                      <a:pt x="446" y="38"/>
                    </a:cubicBezTo>
                    <a:cubicBezTo>
                      <a:pt x="446" y="39"/>
                      <a:pt x="446" y="40"/>
                      <a:pt x="445" y="41"/>
                    </a:cubicBezTo>
                    <a:cubicBezTo>
                      <a:pt x="443" y="49"/>
                      <a:pt x="439" y="55"/>
                      <a:pt x="432" y="60"/>
                    </a:cubicBezTo>
                    <a:cubicBezTo>
                      <a:pt x="428" y="63"/>
                      <a:pt x="424" y="64"/>
                      <a:pt x="420" y="65"/>
                    </a:cubicBezTo>
                    <a:cubicBezTo>
                      <a:pt x="418" y="66"/>
                      <a:pt x="416" y="66"/>
                      <a:pt x="414" y="66"/>
                    </a:cubicBezTo>
                    <a:cubicBezTo>
                      <a:pt x="316" y="66"/>
                      <a:pt x="129" y="66"/>
                      <a:pt x="31" y="66"/>
                    </a:cubicBezTo>
                    <a:cubicBezTo>
                      <a:pt x="27" y="66"/>
                      <a:pt x="23" y="65"/>
                      <a:pt x="19" y="63"/>
                    </a:cubicBezTo>
                    <a:cubicBezTo>
                      <a:pt x="18" y="62"/>
                      <a:pt x="17" y="62"/>
                      <a:pt x="16" y="61"/>
                    </a:cubicBezTo>
                    <a:cubicBezTo>
                      <a:pt x="8" y="56"/>
                      <a:pt x="4" y="50"/>
                      <a:pt x="1" y="41"/>
                    </a:cubicBezTo>
                    <a:cubicBezTo>
                      <a:pt x="0" y="37"/>
                      <a:pt x="0" y="33"/>
                      <a:pt x="0" y="28"/>
                    </a:cubicBezTo>
                    <a:cubicBezTo>
                      <a:pt x="1" y="27"/>
                      <a:pt x="1" y="26"/>
                      <a:pt x="1" y="25"/>
                    </a:cubicBezTo>
                    <a:cubicBezTo>
                      <a:pt x="3" y="17"/>
                      <a:pt x="8" y="10"/>
                      <a:pt x="15" y="6"/>
                    </a:cubicBezTo>
                    <a:cubicBezTo>
                      <a:pt x="18" y="3"/>
                      <a:pt x="22" y="2"/>
                      <a:pt x="27" y="1"/>
                    </a:cubicBezTo>
                    <a:cubicBezTo>
                      <a:pt x="29" y="0"/>
                      <a:pt x="31" y="0"/>
                      <a:pt x="33" y="0"/>
                    </a:cubicBez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7"/>
              <p:cNvSpPr/>
              <p:nvPr/>
            </p:nvSpPr>
            <p:spPr>
              <a:xfrm>
                <a:off x="1189080" y="1300320"/>
                <a:ext cx="3295800" cy="453960"/>
              </a:xfrm>
              <a:custGeom>
                <a:avLst/>
                <a:gdLst>
                  <a:gd name="textAreaLeft" fmla="*/ 0 w 3295800"/>
                  <a:gd name="textAreaRight" fmla="*/ 3296160 w 32958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41" h="47">
                    <a:moveTo>
                      <a:pt x="24" y="0"/>
                    </a:moveTo>
                    <a:cubicBezTo>
                      <a:pt x="318" y="0"/>
                      <a:pt x="318" y="0"/>
                      <a:pt x="318" y="0"/>
                    </a:cubicBezTo>
                    <a:cubicBezTo>
                      <a:pt x="325" y="0"/>
                      <a:pt x="331" y="3"/>
                      <a:pt x="335" y="9"/>
                    </a:cubicBezTo>
                    <a:cubicBezTo>
                      <a:pt x="340" y="15"/>
                      <a:pt x="341" y="22"/>
                      <a:pt x="339" y="29"/>
                    </a:cubicBezTo>
                    <a:cubicBezTo>
                      <a:pt x="337" y="37"/>
                      <a:pt x="332" y="43"/>
                      <a:pt x="324" y="45"/>
                    </a:cubicBezTo>
                    <a:cubicBezTo>
                      <a:pt x="322" y="46"/>
                      <a:pt x="319" y="47"/>
                      <a:pt x="316" y="47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16" y="46"/>
                      <a:pt x="10" y="43"/>
                      <a:pt x="5" y="37"/>
                    </a:cubicBezTo>
                    <a:cubicBezTo>
                      <a:pt x="1" y="31"/>
                      <a:pt x="0" y="25"/>
                      <a:pt x="1" y="17"/>
                    </a:cubicBezTo>
                    <a:cubicBezTo>
                      <a:pt x="4" y="10"/>
                      <a:pt x="9" y="4"/>
                      <a:pt x="16" y="1"/>
                    </a:cubicBezTo>
                    <a:cubicBezTo>
                      <a:pt x="19" y="0"/>
                      <a:pt x="21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8"/>
              <p:cNvSpPr/>
              <p:nvPr/>
            </p:nvSpPr>
            <p:spPr>
              <a:xfrm>
                <a:off x="1285920" y="1387440"/>
                <a:ext cx="3092400" cy="269640"/>
              </a:xfrm>
              <a:custGeom>
                <a:avLst/>
                <a:gdLst>
                  <a:gd name="textAreaLeft" fmla="*/ 0 w 3092400"/>
                  <a:gd name="textAreaRight" fmla="*/ 3092760 w 3092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320" h="28">
                    <a:moveTo>
                      <a:pt x="14" y="0"/>
                    </a:moveTo>
                    <a:cubicBezTo>
                      <a:pt x="306" y="0"/>
                      <a:pt x="306" y="0"/>
                      <a:pt x="306" y="0"/>
                    </a:cubicBezTo>
                    <a:cubicBezTo>
                      <a:pt x="314" y="0"/>
                      <a:pt x="320" y="7"/>
                      <a:pt x="320" y="14"/>
                    </a:cubicBezTo>
                    <a:cubicBezTo>
                      <a:pt x="320" y="14"/>
                      <a:pt x="320" y="14"/>
                      <a:pt x="320" y="14"/>
                    </a:cubicBezTo>
                    <a:cubicBezTo>
                      <a:pt x="320" y="22"/>
                      <a:pt x="314" y="28"/>
                      <a:pt x="306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9"/>
              <p:cNvSpPr/>
              <p:nvPr/>
            </p:nvSpPr>
            <p:spPr>
              <a:xfrm>
                <a:off x="1285920" y="1387440"/>
                <a:ext cx="1952640" cy="269640"/>
              </a:xfrm>
              <a:custGeom>
                <a:avLst/>
                <a:gdLst>
                  <a:gd name="textAreaLeft" fmla="*/ 0 w 1952640"/>
                  <a:gd name="textAreaRight" fmla="*/ 1953000 w 19526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202" h="28">
                    <a:moveTo>
                      <a:pt x="14" y="0"/>
                    </a:moveTo>
                    <a:cubicBezTo>
                      <a:pt x="202" y="0"/>
                      <a:pt x="202" y="0"/>
                      <a:pt x="202" y="0"/>
                    </a:cubicBezTo>
                    <a:cubicBezTo>
                      <a:pt x="202" y="28"/>
                      <a:pt x="202" y="28"/>
                      <a:pt x="202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5cb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40"/>
              <p:cNvSpPr/>
              <p:nvPr/>
            </p:nvSpPr>
            <p:spPr>
              <a:xfrm>
                <a:off x="1189080" y="2102040"/>
                <a:ext cx="3295800" cy="453960"/>
              </a:xfrm>
              <a:custGeom>
                <a:avLst/>
                <a:gdLst>
                  <a:gd name="textAreaLeft" fmla="*/ 0 w 3295800"/>
                  <a:gd name="textAreaRight" fmla="*/ 3296160 w 32958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41" h="47">
                    <a:moveTo>
                      <a:pt x="24" y="0"/>
                    </a:moveTo>
                    <a:cubicBezTo>
                      <a:pt x="122" y="0"/>
                      <a:pt x="220" y="0"/>
                      <a:pt x="318" y="0"/>
                    </a:cubicBezTo>
                    <a:cubicBezTo>
                      <a:pt x="325" y="1"/>
                      <a:pt x="331" y="4"/>
                      <a:pt x="335" y="10"/>
                    </a:cubicBezTo>
                    <a:cubicBezTo>
                      <a:pt x="340" y="16"/>
                      <a:pt x="341" y="22"/>
                      <a:pt x="339" y="30"/>
                    </a:cubicBezTo>
                    <a:cubicBezTo>
                      <a:pt x="337" y="37"/>
                      <a:pt x="332" y="43"/>
                      <a:pt x="324" y="46"/>
                    </a:cubicBezTo>
                    <a:cubicBezTo>
                      <a:pt x="322" y="47"/>
                      <a:pt x="319" y="47"/>
                      <a:pt x="316" y="47"/>
                    </a:cubicBezTo>
                    <a:cubicBezTo>
                      <a:pt x="219" y="47"/>
                      <a:pt x="121" y="47"/>
                      <a:pt x="23" y="47"/>
                    </a:cubicBezTo>
                    <a:cubicBezTo>
                      <a:pt x="16" y="47"/>
                      <a:pt x="10" y="44"/>
                      <a:pt x="5" y="38"/>
                    </a:cubicBezTo>
                    <a:cubicBezTo>
                      <a:pt x="1" y="32"/>
                      <a:pt x="0" y="25"/>
                      <a:pt x="1" y="18"/>
                    </a:cubicBezTo>
                    <a:cubicBezTo>
                      <a:pt x="4" y="10"/>
                      <a:pt x="9" y="5"/>
                      <a:pt x="16" y="2"/>
                    </a:cubicBezTo>
                    <a:cubicBezTo>
                      <a:pt x="19" y="1"/>
                      <a:pt x="21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41"/>
              <p:cNvSpPr/>
              <p:nvPr/>
            </p:nvSpPr>
            <p:spPr>
              <a:xfrm>
                <a:off x="1285920" y="2198880"/>
                <a:ext cx="3092400" cy="271440"/>
              </a:xfrm>
              <a:custGeom>
                <a:avLst/>
                <a:gdLst>
                  <a:gd name="textAreaLeft" fmla="*/ 0 w 3092400"/>
                  <a:gd name="textAreaRight" fmla="*/ 3092760 w 30924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20" h="28">
                    <a:moveTo>
                      <a:pt x="14" y="0"/>
                    </a:moveTo>
                    <a:cubicBezTo>
                      <a:pt x="112" y="0"/>
                      <a:pt x="209" y="0"/>
                      <a:pt x="306" y="0"/>
                    </a:cubicBezTo>
                    <a:cubicBezTo>
                      <a:pt x="314" y="0"/>
                      <a:pt x="320" y="6"/>
                      <a:pt x="320" y="14"/>
                    </a:cubicBezTo>
                    <a:cubicBezTo>
                      <a:pt x="320" y="14"/>
                      <a:pt x="320" y="14"/>
                      <a:pt x="320" y="14"/>
                    </a:cubicBezTo>
                    <a:cubicBezTo>
                      <a:pt x="320" y="22"/>
                      <a:pt x="314" y="28"/>
                      <a:pt x="306" y="28"/>
                    </a:cubicBezTo>
                    <a:cubicBezTo>
                      <a:pt x="209" y="28"/>
                      <a:pt x="112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42"/>
              <p:cNvSpPr/>
              <p:nvPr/>
            </p:nvSpPr>
            <p:spPr>
              <a:xfrm>
                <a:off x="1189080" y="2914920"/>
                <a:ext cx="3295800" cy="453960"/>
              </a:xfrm>
              <a:custGeom>
                <a:avLst/>
                <a:gdLst>
                  <a:gd name="textAreaLeft" fmla="*/ 0 w 3295800"/>
                  <a:gd name="textAreaRight" fmla="*/ 3296160 w 32958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41" h="47">
                    <a:moveTo>
                      <a:pt x="24" y="0"/>
                    </a:moveTo>
                    <a:cubicBezTo>
                      <a:pt x="122" y="0"/>
                      <a:pt x="220" y="0"/>
                      <a:pt x="318" y="0"/>
                    </a:cubicBezTo>
                    <a:cubicBezTo>
                      <a:pt x="325" y="0"/>
                      <a:pt x="331" y="3"/>
                      <a:pt x="335" y="9"/>
                    </a:cubicBezTo>
                    <a:cubicBezTo>
                      <a:pt x="340" y="15"/>
                      <a:pt x="341" y="22"/>
                      <a:pt x="339" y="29"/>
                    </a:cubicBezTo>
                    <a:cubicBezTo>
                      <a:pt x="337" y="37"/>
                      <a:pt x="332" y="43"/>
                      <a:pt x="324" y="46"/>
                    </a:cubicBezTo>
                    <a:cubicBezTo>
                      <a:pt x="322" y="46"/>
                      <a:pt x="319" y="47"/>
                      <a:pt x="316" y="47"/>
                    </a:cubicBezTo>
                    <a:cubicBezTo>
                      <a:pt x="219" y="47"/>
                      <a:pt x="121" y="47"/>
                      <a:pt x="23" y="47"/>
                    </a:cubicBezTo>
                    <a:cubicBezTo>
                      <a:pt x="16" y="46"/>
                      <a:pt x="10" y="43"/>
                      <a:pt x="5" y="38"/>
                    </a:cubicBezTo>
                    <a:cubicBezTo>
                      <a:pt x="1" y="31"/>
                      <a:pt x="0" y="25"/>
                      <a:pt x="1" y="17"/>
                    </a:cubicBezTo>
                    <a:cubicBezTo>
                      <a:pt x="4" y="10"/>
                      <a:pt x="9" y="4"/>
                      <a:pt x="16" y="1"/>
                    </a:cubicBezTo>
                    <a:cubicBezTo>
                      <a:pt x="19" y="0"/>
                      <a:pt x="21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43"/>
              <p:cNvSpPr/>
              <p:nvPr/>
            </p:nvSpPr>
            <p:spPr>
              <a:xfrm>
                <a:off x="1285920" y="3000600"/>
                <a:ext cx="3092400" cy="280800"/>
              </a:xfrm>
              <a:custGeom>
                <a:avLst/>
                <a:gdLst>
                  <a:gd name="textAreaLeft" fmla="*/ 0 w 3092400"/>
                  <a:gd name="textAreaRight" fmla="*/ 3092760 w 30924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320" h="29">
                    <a:moveTo>
                      <a:pt x="14" y="0"/>
                    </a:moveTo>
                    <a:cubicBezTo>
                      <a:pt x="112" y="0"/>
                      <a:pt x="209" y="0"/>
                      <a:pt x="306" y="0"/>
                    </a:cubicBezTo>
                    <a:cubicBezTo>
                      <a:pt x="314" y="0"/>
                      <a:pt x="320" y="7"/>
                      <a:pt x="320" y="14"/>
                    </a:cubicBezTo>
                    <a:cubicBezTo>
                      <a:pt x="320" y="14"/>
                      <a:pt x="320" y="14"/>
                      <a:pt x="320" y="14"/>
                    </a:cubicBezTo>
                    <a:cubicBezTo>
                      <a:pt x="320" y="22"/>
                      <a:pt x="314" y="29"/>
                      <a:pt x="306" y="29"/>
                    </a:cubicBezTo>
                    <a:cubicBezTo>
                      <a:pt x="209" y="29"/>
                      <a:pt x="112" y="29"/>
                      <a:pt x="14" y="29"/>
                    </a:cubicBezTo>
                    <a:cubicBezTo>
                      <a:pt x="6" y="29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44"/>
              <p:cNvSpPr/>
              <p:nvPr/>
            </p:nvSpPr>
            <p:spPr>
              <a:xfrm>
                <a:off x="1189080" y="3716640"/>
                <a:ext cx="3295800" cy="463320"/>
              </a:xfrm>
              <a:custGeom>
                <a:avLst/>
                <a:gdLst>
                  <a:gd name="textAreaLeft" fmla="*/ 0 w 3295800"/>
                  <a:gd name="textAreaRight" fmla="*/ 3296160 w 329580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341" h="48">
                    <a:moveTo>
                      <a:pt x="24" y="0"/>
                    </a:moveTo>
                    <a:cubicBezTo>
                      <a:pt x="318" y="0"/>
                      <a:pt x="318" y="0"/>
                      <a:pt x="318" y="0"/>
                    </a:cubicBezTo>
                    <a:cubicBezTo>
                      <a:pt x="325" y="1"/>
                      <a:pt x="331" y="4"/>
                      <a:pt x="335" y="10"/>
                    </a:cubicBezTo>
                    <a:cubicBezTo>
                      <a:pt x="340" y="16"/>
                      <a:pt x="341" y="23"/>
                      <a:pt x="339" y="30"/>
                    </a:cubicBezTo>
                    <a:cubicBezTo>
                      <a:pt x="337" y="38"/>
                      <a:pt x="332" y="43"/>
                      <a:pt x="324" y="46"/>
                    </a:cubicBezTo>
                    <a:cubicBezTo>
                      <a:pt x="322" y="47"/>
                      <a:pt x="319" y="47"/>
                      <a:pt x="316" y="48"/>
                    </a:cubicBezTo>
                    <a:cubicBezTo>
                      <a:pt x="23" y="48"/>
                      <a:pt x="23" y="48"/>
                      <a:pt x="23" y="48"/>
                    </a:cubicBezTo>
                    <a:cubicBezTo>
                      <a:pt x="16" y="47"/>
                      <a:pt x="10" y="44"/>
                      <a:pt x="5" y="38"/>
                    </a:cubicBezTo>
                    <a:cubicBezTo>
                      <a:pt x="1" y="32"/>
                      <a:pt x="0" y="25"/>
                      <a:pt x="1" y="18"/>
                    </a:cubicBezTo>
                    <a:cubicBezTo>
                      <a:pt x="4" y="10"/>
                      <a:pt x="9" y="5"/>
                      <a:pt x="16" y="2"/>
                    </a:cubicBezTo>
                    <a:cubicBezTo>
                      <a:pt x="19" y="1"/>
                      <a:pt x="21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45"/>
              <p:cNvSpPr/>
              <p:nvPr/>
            </p:nvSpPr>
            <p:spPr>
              <a:xfrm>
                <a:off x="1285920" y="3813480"/>
                <a:ext cx="3092400" cy="269640"/>
              </a:xfrm>
              <a:custGeom>
                <a:avLst/>
                <a:gdLst>
                  <a:gd name="textAreaLeft" fmla="*/ 0 w 3092400"/>
                  <a:gd name="textAreaRight" fmla="*/ 3092760 w 3092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320" h="28">
                    <a:moveTo>
                      <a:pt x="14" y="0"/>
                    </a:moveTo>
                    <a:cubicBezTo>
                      <a:pt x="306" y="0"/>
                      <a:pt x="306" y="0"/>
                      <a:pt x="306" y="0"/>
                    </a:cubicBezTo>
                    <a:cubicBezTo>
                      <a:pt x="314" y="0"/>
                      <a:pt x="320" y="6"/>
                      <a:pt x="320" y="14"/>
                    </a:cubicBezTo>
                    <a:cubicBezTo>
                      <a:pt x="320" y="14"/>
                      <a:pt x="320" y="14"/>
                      <a:pt x="320" y="14"/>
                    </a:cubicBezTo>
                    <a:cubicBezTo>
                      <a:pt x="320" y="22"/>
                      <a:pt x="314" y="28"/>
                      <a:pt x="306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46"/>
              <p:cNvSpPr/>
              <p:nvPr/>
            </p:nvSpPr>
            <p:spPr>
              <a:xfrm>
                <a:off x="1285920" y="2198880"/>
                <a:ext cx="1082520" cy="271440"/>
              </a:xfrm>
              <a:custGeom>
                <a:avLst/>
                <a:gdLst>
                  <a:gd name="textAreaLeft" fmla="*/ 0 w 1082520"/>
                  <a:gd name="textAreaRight" fmla="*/ 1082880 w 108252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12" h="28">
                    <a:moveTo>
                      <a:pt x="14" y="0"/>
                    </a:moveTo>
                    <a:cubicBezTo>
                      <a:pt x="47" y="0"/>
                      <a:pt x="80" y="0"/>
                      <a:pt x="112" y="0"/>
                    </a:cubicBezTo>
                    <a:cubicBezTo>
                      <a:pt x="112" y="28"/>
                      <a:pt x="112" y="28"/>
                      <a:pt x="112" y="28"/>
                    </a:cubicBezTo>
                    <a:cubicBezTo>
                      <a:pt x="80" y="28"/>
                      <a:pt x="47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f4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47"/>
              <p:cNvSpPr/>
              <p:nvPr/>
            </p:nvSpPr>
            <p:spPr>
              <a:xfrm>
                <a:off x="1285920" y="3000600"/>
                <a:ext cx="2628720" cy="280800"/>
              </a:xfrm>
              <a:custGeom>
                <a:avLst/>
                <a:gdLst>
                  <a:gd name="textAreaLeft" fmla="*/ 0 w 2628720"/>
                  <a:gd name="textAreaRight" fmla="*/ 2629080 w 262872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72" h="29">
                    <a:moveTo>
                      <a:pt x="14" y="0"/>
                    </a:moveTo>
                    <a:cubicBezTo>
                      <a:pt x="100" y="0"/>
                      <a:pt x="186" y="0"/>
                      <a:pt x="272" y="0"/>
                    </a:cubicBezTo>
                    <a:cubicBezTo>
                      <a:pt x="272" y="29"/>
                      <a:pt x="272" y="29"/>
                      <a:pt x="272" y="29"/>
                    </a:cubicBezTo>
                    <a:cubicBezTo>
                      <a:pt x="186" y="29"/>
                      <a:pt x="100" y="29"/>
                      <a:pt x="14" y="29"/>
                    </a:cubicBezTo>
                    <a:cubicBezTo>
                      <a:pt x="6" y="29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e84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48"/>
              <p:cNvSpPr/>
              <p:nvPr/>
            </p:nvSpPr>
            <p:spPr>
              <a:xfrm>
                <a:off x="1285920" y="3813480"/>
                <a:ext cx="2077920" cy="269640"/>
              </a:xfrm>
              <a:custGeom>
                <a:avLst/>
                <a:gdLst>
                  <a:gd name="textAreaLeft" fmla="*/ 0 w 2077920"/>
                  <a:gd name="textAreaRight" fmla="*/ 2078280 w 207792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215" h="28">
                    <a:moveTo>
                      <a:pt x="14" y="0"/>
                    </a:moveTo>
                    <a:cubicBezTo>
                      <a:pt x="215" y="0"/>
                      <a:pt x="215" y="0"/>
                      <a:pt x="215" y="0"/>
                    </a:cubicBezTo>
                    <a:cubicBezTo>
                      <a:pt x="215" y="28"/>
                      <a:pt x="215" y="28"/>
                      <a:pt x="215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6" y="28"/>
                      <a:pt x="0" y="2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lose/>
                  </a:path>
                </a:pathLst>
              </a:custGeom>
              <a:solidFill>
                <a:srgbClr val="4b5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Box 73"/>
              <p:cNvSpPr/>
              <p:nvPr/>
            </p:nvSpPr>
            <p:spPr>
              <a:xfrm>
                <a:off x="1492920" y="1380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Box 76"/>
              <p:cNvSpPr/>
              <p:nvPr/>
            </p:nvSpPr>
            <p:spPr>
              <a:xfrm>
                <a:off x="1492920" y="22118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Box 79"/>
              <p:cNvSpPr/>
              <p:nvPr/>
            </p:nvSpPr>
            <p:spPr>
              <a:xfrm>
                <a:off x="1492920" y="3015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Box 80"/>
              <p:cNvSpPr/>
              <p:nvPr/>
            </p:nvSpPr>
            <p:spPr>
              <a:xfrm>
                <a:off x="1492920" y="38167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TextBox 28"/>
            <p:cNvSpPr/>
            <p:nvPr/>
          </p:nvSpPr>
          <p:spPr>
            <a:xfrm>
              <a:off x="455760" y="1314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6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Box 29"/>
            <p:cNvSpPr/>
            <p:nvPr/>
          </p:nvSpPr>
          <p:spPr>
            <a:xfrm>
              <a:off x="464040" y="21340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3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30"/>
            <p:cNvSpPr/>
            <p:nvPr/>
          </p:nvSpPr>
          <p:spPr>
            <a:xfrm>
              <a:off x="471240" y="2936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8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Box 31"/>
            <p:cNvSpPr/>
            <p:nvPr/>
          </p:nvSpPr>
          <p:spPr>
            <a:xfrm>
              <a:off x="464040" y="37558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6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01:45:55Z</dcterms:created>
  <dc:creator>ppt宝藏</dc:creator>
  <dc:description/>
  <dc:language>en-US</dc:language>
  <cp:lastModifiedBy>王玉清</cp:lastModifiedBy>
  <dcterms:modified xsi:type="dcterms:W3CDTF">2016-03-05T09:11:44Z</dcterms:modified>
  <cp:revision>21</cp:revision>
  <dc:subject/>
  <dc:title>www.pptbz.com</dc:title>
</cp:coreProperties>
</file>