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D3B0-0C0F-4492-B51D-438E61E22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0944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9347-A7BB-486E-9117-72F5791FC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094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094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81A6-C474-4932-9661-9FC8D0B45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094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094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094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B633-BE4A-46CD-8D5C-543F2CE7D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A0D7A-D531-44D9-8D72-926E5FF89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67A1C-CA64-437C-9206-47C52809E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8D6CF-0F46-4A81-87F5-DBA85B727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DF4D1-4615-4D3E-86F5-F0933F6B4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49275-109F-46BE-BE0B-BA0FC404F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685440"/>
            <a:ext cx="8229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B9778-0723-4251-87D6-D9F0B018F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7094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519A2-5C67-4617-B1D4-5A819E29F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8060-2404-49ED-B2CD-D5687B4AC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7094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24DC7-6578-4B40-B08C-8968EE7D4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0944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A2EE0-BE82-4AB4-8D94-803C06E8F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70944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10FB5-1F97-4D3E-9687-392425E8B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7094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7094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AA96B-44FC-4AC8-BAAE-DA551E9C3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7094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7094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7094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7077D-3A20-4F9D-8BD8-34C7A4AA6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309E-DA7B-4329-93D0-8EE61C324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B2DD-4A2D-4FF4-A9D6-2A73EB69F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909E-1B1F-460E-A8C1-9BFC8F3CC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685440"/>
            <a:ext cx="8229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CD56-2656-4260-80E6-A91256602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094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5D37-723F-492A-800E-6D80B9A6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094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B798-87A3-450A-95CB-52851086A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944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33CB-16A5-4CEE-A22E-1F8C0A8AD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蓝色都市内页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2205A-2FE9-4299-94AE-8C63326133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蓝色都市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32225-F63A-45D3-9B5A-B89D684C22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蓝色都市商务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4"/>
          <p:cNvSpPr txBox="1"/>
          <p:nvPr/>
        </p:nvSpPr>
        <p:spPr>
          <a:xfrm>
            <a:off x="1981080" y="3124080"/>
            <a:ext cx="5759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99ff"/>
                    </a:gs>
                    <a:gs pos="100000">
                      <a:srgbClr val="000000"/>
                    </a:gs>
                  </a:gsLst>
                  <a:lin ang="2700000"/>
                </a:gradFill>
                <a:effectLst>
                  <a:outerShdw dist="63504" dir="221609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99ff"/>
                  </a:gs>
                  <a:gs pos="100000">
                    <a:srgbClr val="000000"/>
                  </a:gs>
                </a:gsLst>
                <a:lin ang="2700000"/>
              </a:gradFill>
              <a:effectLst>
                <a:outerShdw dist="63504" dir="221609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22:53:26Z</dcterms:created>
  <dc:creator>ppt宝藏</dc:creator>
  <dc:description/>
  <dc:language>en-US</dc:language>
  <cp:lastModifiedBy>a</cp:lastModifiedBy>
  <dcterms:modified xsi:type="dcterms:W3CDTF">2015-07-25T06:28:10Z</dcterms:modified>
  <cp:revision>3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